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D0F-25B7-4A6C-BA12-E67AFD16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53C-DB6F-49E4-824D-73A051D8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05D-B083-44E5-833E-B8CF397C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51B-1E89-4DCE-8493-77E1CC3E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3A8-A8DD-4D0C-9EC4-244769CD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8FD-BAB8-4C83-ADF7-2CBEE0BD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D28-0319-47A1-AD35-3B4A838F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293-D798-4EFD-8093-6DA607FF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20B-A1ED-4B69-999F-07AFECCB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75C-20C6-482D-8192-171D5C5D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494-175F-45ED-96FD-698D8DA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5DB-0DF4-4445-A726-BBFFDF47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2F5D-BC8C-476C-BB36-861BFF55ABA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Rockwell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Rockwell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Rockwell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Rockwell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Rockwell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Calibri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Calibri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668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Calibri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Rockwell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Rockwell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Rockwell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Rockwel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700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59080" y="6165720"/>
            <a:ext cx="3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9840" y="616572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4-09-06T14:37:55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