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D43-8DA2-4F08-9A2C-D678A6BF16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F573-B3F2-4EB5-AB74-C8E0B3A4BE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5E5-9615-4A97-82F2-85D58096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3A5-49EF-4A91-B86C-5FDDF86C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C8E-B1C4-4F89-AD87-D34F120E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031-FB2A-4B2B-81F0-9BAAAF2B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1F4-B6F2-479C-ABDE-9640A1D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DB1-B18A-4844-AA7E-34F654EB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A82-7783-4F34-804D-CE96DFD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468-DE1E-46EF-A7B2-1073A20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1C8-9CEC-4A7E-88C7-413932E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884-DAE4-49BF-90E8-9064A39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D8E-FAF4-4E42-8F0B-E5B6D0F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8B2-6DC4-4234-97E2-CD054C7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72AD-B558-409B-8A7E-24B7F5F77E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8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YlmF</dc:creator>
  <dc:description/>
  <dc:language>en-US</dc:language>
  <cp:lastModifiedBy>China</cp:lastModifiedBy>
  <dcterms:modified xsi:type="dcterms:W3CDTF">2013-10-22T15:47:40Z</dcterms:modified>
  <cp:revision>6</cp:revision>
  <dc:subject/>
  <dc:title>幻灯片 1</dc:title>
</cp:coreProperties>
</file>