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498-6983-475E-9A8F-A465CC2F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637-7BB1-43E5-9004-83E5CAC6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53E-34F6-4917-94CD-3441CEB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3A2-4307-429F-8B6A-7A09773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BF0-A128-4AD6-BFA0-E509B0B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2B1-D527-4AA4-9602-F9179CBD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966-F773-4B82-940F-DE188AA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C49-09AA-489C-8EBF-6C8B47B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797-62EB-45AF-B7D6-2999A78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406-7AF3-49DE-9E59-A05DC98A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582-2CEE-4D30-9CCB-89EDF9D2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279-4F8D-4BAC-ADFC-5DB2E674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4E7-A78A-4FF6-9476-7043F33D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-20520" y="5248440"/>
            <a:ext cx="9161280" cy="160956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-20520" y="4305240"/>
            <a:ext cx="9161280" cy="157176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-20520" y="2665440"/>
            <a:ext cx="9163080" cy="169560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-19080" y="1701720"/>
            <a:ext cx="9167760" cy="1446120"/>
          </a:xfrm>
          <a:custGeom>
            <a:avLst/>
            <a:gdLst>
              <a:gd name="textAreaLeft" fmla="*/ 0 w 9167760"/>
              <a:gd name="textAreaRight" fmla="*/ 9168120 w 916776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-12600" y="227160"/>
            <a:ext cx="9155160" cy="179208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-1440" y="-23760"/>
            <a:ext cx="9153360" cy="128916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5567400" y="4500720"/>
            <a:ext cx="904680" cy="844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95920" y="1725480"/>
            <a:ext cx="4344840" cy="513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756400" y="266544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72200" cy="5629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81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C:\Documents and Settings\Administrator\桌面\12 [转换].png"/>
          <p:cNvPicPr/>
          <p:nvPr/>
        </p:nvPicPr>
        <p:blipFill>
          <a:blip r:embed="rId1"/>
          <a:stretch/>
        </p:blipFill>
        <p:spPr>
          <a:xfrm>
            <a:off x="3446640" y="4395960"/>
            <a:ext cx="1596960" cy="1749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C:\Documents and Settings\Administrator\桌面\13 [转换].png"/>
          <p:cNvPicPr/>
          <p:nvPr/>
        </p:nvPicPr>
        <p:blipFill>
          <a:blip r:embed="rId2"/>
          <a:stretch/>
        </p:blipFill>
        <p:spPr>
          <a:xfrm>
            <a:off x="501480" y="4076640"/>
            <a:ext cx="1941840" cy="204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C:\Documents and Settings\Administrator\桌面\13 [转换].png"/>
          <p:cNvPicPr/>
          <p:nvPr/>
        </p:nvPicPr>
        <p:blipFill>
          <a:blip r:embed="rId3"/>
          <a:stretch/>
        </p:blipFill>
        <p:spPr>
          <a:xfrm>
            <a:off x="1368360" y="4076640"/>
            <a:ext cx="1514520" cy="1755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C:\Documents and Settings\Administrator\桌面\12 [转换].png"/>
          <p:cNvPicPr/>
          <p:nvPr/>
        </p:nvPicPr>
        <p:blipFill>
          <a:blip r:embed="rId4"/>
          <a:stretch/>
        </p:blipFill>
        <p:spPr>
          <a:xfrm>
            <a:off x="5708520" y="4592520"/>
            <a:ext cx="1847880" cy="164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C:\Documents and Settings\Administrator\桌面\12 [转换].png"/>
          <p:cNvPicPr/>
          <p:nvPr/>
        </p:nvPicPr>
        <p:blipFill>
          <a:blip r:embed="rId5"/>
          <a:stretch/>
        </p:blipFill>
        <p:spPr>
          <a:xfrm>
            <a:off x="4162320" y="4176720"/>
            <a:ext cx="1673280" cy="1284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C:\Documents and Settings\Administrator\桌面\12 [转换].png"/>
          <p:cNvPicPr/>
          <p:nvPr/>
        </p:nvPicPr>
        <p:blipFill>
          <a:blip r:embed="rId6"/>
          <a:stretch/>
        </p:blipFill>
        <p:spPr>
          <a:xfrm rot="2673000">
            <a:off x="6813720" y="4037040"/>
            <a:ext cx="2206440" cy="216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7"/>
          <a:stretch/>
        </p:blipFill>
        <p:spPr>
          <a:xfrm>
            <a:off x="4532400" y="6310440"/>
            <a:ext cx="2825640" cy="10936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9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93" name="Picture 2" descr=""/>
            <p:cNvPicPr/>
            <p:nvPr/>
          </p:nvPicPr>
          <p:blipFill>
            <a:blip r:embed="rId8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" descr=""/>
            <p:cNvPicPr/>
            <p:nvPr/>
          </p:nvPicPr>
          <p:blipFill>
            <a:blip r:embed="rId9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"/>
            <p:cNvPicPr/>
            <p:nvPr/>
          </p:nvPicPr>
          <p:blipFill>
            <a:blip r:embed="rId10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" descr=""/>
            <p:cNvPicPr/>
            <p:nvPr/>
          </p:nvPicPr>
          <p:blipFill>
            <a:blip r:embed="rId11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2" descr="C:\Documents and Settings\Administrator\桌面\12 [转换].png"/>
          <p:cNvPicPr/>
          <p:nvPr/>
        </p:nvPicPr>
        <p:blipFill>
          <a:blip r:embed="rId12"/>
          <a:stretch/>
        </p:blipFill>
        <p:spPr>
          <a:xfrm>
            <a:off x="4532400" y="741240"/>
            <a:ext cx="4093920" cy="3048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C:\Documents and Settings\Administrator\桌面\12 [转换].png"/>
          <p:cNvPicPr/>
          <p:nvPr/>
        </p:nvPicPr>
        <p:blipFill>
          <a:blip r:embed="rId13"/>
          <a:stretch/>
        </p:blipFill>
        <p:spPr>
          <a:xfrm>
            <a:off x="587520" y="787320"/>
            <a:ext cx="3768480" cy="3017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4532400" y="6310440"/>
            <a:ext cx="2825640" cy="10936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3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203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17" descr="C:\Documents and Settings\Administrator\桌面\15 [转换].png"/>
          <p:cNvPicPr/>
          <p:nvPr/>
        </p:nvPicPr>
        <p:blipFill>
          <a:blip r:embed="rId6"/>
          <a:srcRect l="25205" t="0" r="0" b="0"/>
          <a:stretch/>
        </p:blipFill>
        <p:spPr>
          <a:xfrm>
            <a:off x="4871880" y="1030320"/>
            <a:ext cx="3930840" cy="477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" descr="C:\Documents and Settings\Administrator\桌面\14 [转换].png"/>
          <p:cNvPicPr/>
          <p:nvPr/>
        </p:nvPicPr>
        <p:blipFill>
          <a:blip r:embed="rId7"/>
          <a:stretch/>
        </p:blipFill>
        <p:spPr>
          <a:xfrm>
            <a:off x="395280" y="898560"/>
            <a:ext cx="4521240" cy="4906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C:\Documents and Settings\Administrator\桌面\15 [转换].png"/>
          <p:cNvPicPr/>
          <p:nvPr/>
        </p:nvPicPr>
        <p:blipFill>
          <a:blip r:embed="rId8"/>
          <a:stretch/>
        </p:blipFill>
        <p:spPr>
          <a:xfrm>
            <a:off x="3879720" y="3227400"/>
            <a:ext cx="14796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93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6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6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"/>
          <p:cNvSpPr/>
          <p:nvPr/>
        </p:nvSpPr>
        <p:spPr>
          <a:xfrm>
            <a:off x="-395280" y="5516640"/>
            <a:ext cx="143820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-358920" y="-703080"/>
            <a:ext cx="1976760" cy="1875960"/>
            <a:chOff x="-358920" y="-703080"/>
            <a:chExt cx="1976760" cy="1875960"/>
          </a:xfrm>
        </p:grpSpPr>
        <p:sp>
          <p:nvSpPr>
            <p:cNvPr id="100" name="Rectangle 4"/>
            <p:cNvSpPr/>
            <p:nvPr/>
          </p:nvSpPr>
          <p:spPr>
            <a:xfrm>
              <a:off x="-14400" y="1080"/>
              <a:ext cx="970560" cy="832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 rot="19526400">
              <a:off x="-160920" y="-359640"/>
              <a:ext cx="158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104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0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2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-358920" y="-703080"/>
            <a:ext cx="1976760" cy="1875960"/>
            <a:chOff x="-358920" y="-703080"/>
            <a:chExt cx="1976760" cy="1875960"/>
          </a:xfrm>
        </p:grpSpPr>
        <p:sp>
          <p:nvSpPr>
            <p:cNvPr id="115" name="Rectangle 2"/>
            <p:cNvSpPr/>
            <p:nvPr/>
          </p:nvSpPr>
          <p:spPr>
            <a:xfrm>
              <a:off x="-14400" y="1080"/>
              <a:ext cx="970560" cy="832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"/>
            <p:cNvSpPr/>
            <p:nvPr/>
          </p:nvSpPr>
          <p:spPr>
            <a:xfrm rot="19526400">
              <a:off x="-160920" y="-359640"/>
              <a:ext cx="158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10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0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11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2141640"/>
            <a:ext cx="9142560" cy="344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C:\Documents and Settings\Administrator\桌面\6655 (1) [转换].png"/>
          <p:cNvPicPr/>
          <p:nvPr/>
        </p:nvPicPr>
        <p:blipFill>
          <a:blip r:embed="rId2"/>
          <a:stretch/>
        </p:blipFill>
        <p:spPr>
          <a:xfrm>
            <a:off x="324000" y="2924280"/>
            <a:ext cx="8297640" cy="327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"/>
          <p:cNvPicPr/>
          <p:nvPr/>
        </p:nvPicPr>
        <p:blipFill>
          <a:blip r:embed="rId3"/>
          <a:stretch/>
        </p:blipFill>
        <p:spPr>
          <a:xfrm>
            <a:off x="-17640" y="4916520"/>
            <a:ext cx="9160200" cy="1768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-358920" y="-703080"/>
            <a:ext cx="1976760" cy="1875960"/>
            <a:chOff x="-358920" y="-703080"/>
            <a:chExt cx="1976760" cy="1875960"/>
          </a:xfrm>
        </p:grpSpPr>
        <p:sp>
          <p:nvSpPr>
            <p:cNvPr id="131" name="Rectangle 2"/>
            <p:cNvSpPr/>
            <p:nvPr/>
          </p:nvSpPr>
          <p:spPr>
            <a:xfrm>
              <a:off x="-14400" y="1080"/>
              <a:ext cx="970560" cy="83232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"/>
            <p:cNvSpPr/>
            <p:nvPr/>
          </p:nvSpPr>
          <p:spPr>
            <a:xfrm rot="19526400">
              <a:off x="-160920" y="-359640"/>
              <a:ext cx="158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29" descr="C:\Documents and Settings\Administrator\桌面\6655 (1) [转换].png"/>
          <p:cNvPicPr/>
          <p:nvPr/>
        </p:nvPicPr>
        <p:blipFill>
          <a:blip r:embed="rId4"/>
          <a:stretch/>
        </p:blipFill>
        <p:spPr>
          <a:xfrm>
            <a:off x="3367080" y="4390920"/>
            <a:ext cx="1657440" cy="181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C:\Documents and Settings\Administrator\桌面\6655 (1) [转换].png"/>
          <p:cNvPicPr/>
          <p:nvPr/>
        </p:nvPicPr>
        <p:blipFill>
          <a:blip r:embed="rId5"/>
          <a:stretch/>
        </p:blipFill>
        <p:spPr>
          <a:xfrm>
            <a:off x="4897440" y="4573440"/>
            <a:ext cx="1619280" cy="163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C:\Documents and Settings\Administrator\桌面\6655 (1) [转换].png"/>
          <p:cNvPicPr/>
          <p:nvPr/>
        </p:nvPicPr>
        <p:blipFill>
          <a:blip r:embed="rId6"/>
          <a:stretch/>
        </p:blipFill>
        <p:spPr>
          <a:xfrm>
            <a:off x="6415200" y="4573440"/>
            <a:ext cx="1181160" cy="163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C:\Documents and Settings\Administrator\桌面\6655 (1) [转换].png"/>
          <p:cNvPicPr/>
          <p:nvPr/>
        </p:nvPicPr>
        <p:blipFill>
          <a:blip r:embed="rId7"/>
          <a:stretch/>
        </p:blipFill>
        <p:spPr>
          <a:xfrm>
            <a:off x="2071800" y="4194000"/>
            <a:ext cx="1365120" cy="20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9" descr="C:\Documents and Settings\Administrator\桌面\6655 (1) [转换].png"/>
          <p:cNvPicPr/>
          <p:nvPr/>
        </p:nvPicPr>
        <p:blipFill>
          <a:blip r:embed="rId8"/>
          <a:stretch/>
        </p:blipFill>
        <p:spPr>
          <a:xfrm>
            <a:off x="7505640" y="4938840"/>
            <a:ext cx="111600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C:\Documents and Settings\Administrator\桌面\6655 (1) [转换].png"/>
          <p:cNvPicPr/>
          <p:nvPr/>
        </p:nvPicPr>
        <p:blipFill>
          <a:blip r:embed="rId9"/>
          <a:stretch/>
        </p:blipFill>
        <p:spPr>
          <a:xfrm>
            <a:off x="469800" y="4059360"/>
            <a:ext cx="1551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252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3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754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6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981000"/>
            <a:ext cx="851364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2"/>
          <a:stretch/>
        </p:blipFill>
        <p:spPr>
          <a:xfrm>
            <a:off x="73080" y="2419200"/>
            <a:ext cx="9180360" cy="1798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0" y="3213000"/>
            <a:ext cx="925344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-212760" y="3860640"/>
            <a:ext cx="964404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Documents and Settings\Administrator\桌面\6655 (3) [转换].png"/>
          <p:cNvPicPr/>
          <p:nvPr/>
        </p:nvPicPr>
        <p:blipFill>
          <a:blip r:embed="rId5"/>
          <a:stretch/>
        </p:blipFill>
        <p:spPr>
          <a:xfrm>
            <a:off x="0" y="5300640"/>
            <a:ext cx="9142560" cy="1376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  <a:ea typeface="Cube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-19080" y="4305240"/>
            <a:ext cx="9161640" cy="157176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-19080" y="2665440"/>
            <a:ext cx="9163080" cy="169560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-19080" y="1701720"/>
            <a:ext cx="9167760" cy="1446120"/>
          </a:xfrm>
          <a:custGeom>
            <a:avLst/>
            <a:gdLst>
              <a:gd name="textAreaLeft" fmla="*/ 0 w 9167760"/>
              <a:gd name="textAreaRight" fmla="*/ 9168120 w 916776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-6480" y="227160"/>
            <a:ext cx="9155160" cy="179208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-1440" y="-23760"/>
            <a:ext cx="9153360" cy="128916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 rot="21435600">
            <a:off x="-2247840" y="1796760"/>
            <a:ext cx="7719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谢谢观赏</a:t>
            </a: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 rot="21420000">
            <a:off x="-97920" y="2603160"/>
            <a:ext cx="510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2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3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5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771560" y="692280"/>
            <a:ext cx="6040440" cy="6553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63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-1433520" y="3024360"/>
            <a:ext cx="12052440" cy="3860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2"/>
          <a:stretch/>
        </p:blipFill>
        <p:spPr>
          <a:xfrm>
            <a:off x="-250920" y="0"/>
            <a:ext cx="9686880" cy="74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Administrator\桌面\6655 (2) [转换].png"/>
          <p:cNvPicPr/>
          <p:nvPr/>
        </p:nvPicPr>
        <p:blipFill>
          <a:blip r:embed="rId3"/>
          <a:stretch/>
        </p:blipFill>
        <p:spPr>
          <a:xfrm>
            <a:off x="674640" y="4076640"/>
            <a:ext cx="8145360" cy="2322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73" name="Picture 2" descr=""/>
            <p:cNvPicPr/>
            <p:nvPr/>
          </p:nvPicPr>
          <p:blipFill>
            <a:blip r:embed="rId4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" descr=""/>
            <p:cNvPicPr/>
            <p:nvPr/>
          </p:nvPicPr>
          <p:blipFill>
            <a:blip r:embed="rId6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" descr=""/>
            <p:cNvPicPr/>
            <p:nvPr/>
          </p:nvPicPr>
          <p:blipFill>
            <a:blip r:embed="rId7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8:43:37Z</dcterms:created>
  <dc:creator>USER</dc:creator>
  <dc:description/>
  <cp:keywords/>
  <dc:language>en-US</dc:language>
  <cp:lastModifiedBy>angel</cp:lastModifiedBy>
  <cp:lastPrinted>1899-12-30T00:00:00Z</cp:lastPrinted>
  <dcterms:modified xsi:type="dcterms:W3CDTF">2015-12-11T01:36:23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