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7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133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140.xml.rels" ContentType="application/vnd.openxmlformats-package.relationships+xml"/>
  <Override PartName="/ppt/slideMasters/_rels/slideMaster139.xml.rels" ContentType="application/vnd.openxmlformats-package.relationships+xml"/>
  <Override PartName="/ppt/slideMasters/_rels/slideMaster14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135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41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34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2.xml.rels" ContentType="application/vnd.openxmlformats-package.relationships+xml"/>
  <Override PartName="/ppt/slideMasters/_rels/slideMaster138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4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36.xml.rels" ContentType="application/vnd.openxmlformats-package.relationships+xml"/>
  <Override PartName="/ppt/slideMasters/_rels/slideMaster145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100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134.xml" ContentType="application/vnd.openxmlformats-officedocument.presentationml.slideMaster+xml"/>
  <Override PartName="/ppt/slideMasters/slideMaster135.xml" ContentType="application/vnd.openxmlformats-officedocument.presentationml.slideMaster+xml"/>
  <Override PartName="/ppt/slideMasters/slideMaster136.xml" ContentType="application/vnd.openxmlformats-officedocument.presentationml.slideMaster+xml"/>
  <Override PartName="/ppt/slideMasters/slideMaster137.xml" ContentType="application/vnd.openxmlformats-officedocument.presentationml.slideMaster+xml"/>
  <Override PartName="/ppt/slideMasters/slideMaster138.xml" ContentType="application/vnd.openxmlformats-officedocument.presentationml.slideMaster+xml"/>
  <Override PartName="/ppt/slideMasters/slideMaster140.xml" ContentType="application/vnd.openxmlformats-officedocument.presentationml.slideMaster+xml"/>
  <Override PartName="/ppt/slideMasters/slideMaster139.xml" ContentType="application/vnd.openxmlformats-officedocument.presentationml.slideMaster+xml"/>
  <Override PartName="/ppt/slideMasters/slideMaster141.xml" ContentType="application/vnd.openxmlformats-officedocument.presentationml.slideMaster+xml"/>
  <Override PartName="/ppt/slideMasters/slideMaster142.xml" ContentType="application/vnd.openxmlformats-officedocument.presentationml.slideMaster+xml"/>
  <Override PartName="/ppt/slideMasters/slideMaster1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1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133.xml" ContentType="application/vnd.openxmlformats-officedocument.presentationml.slideMaster+xml"/>
  <Override PartName="/ppt/slideMasters/slideMaster1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9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21.xml" ContentType="application/vnd.openxmlformats-officedocument.theme+xml"/>
  <Override PartName="/ppt/theme/theme48.xml" ContentType="application/vnd.openxmlformats-officedocument.theme+xml"/>
  <Override PartName="/ppt/theme/theme120.xml" ContentType="application/vnd.openxmlformats-officedocument.theme+xml"/>
  <Override PartName="/ppt/theme/theme47.xml" ContentType="application/vnd.openxmlformats-officedocument.theme+xml"/>
  <Override PartName="/ppt/theme/theme116.xml" ContentType="application/vnd.openxmlformats-officedocument.theme+xml"/>
  <Override PartName="/ppt/theme/theme115.xml" ContentType="application/vnd.openxmlformats-officedocument.theme+xml"/>
  <Override PartName="/ppt/theme/theme114.xml" ContentType="application/vnd.openxmlformats-officedocument.theme+xml"/>
  <Override PartName="/ppt/theme/theme113.xml" ContentType="application/vnd.openxmlformats-officedocument.theme+xml"/>
  <Override PartName="/ppt/theme/theme112.xml" ContentType="application/vnd.openxmlformats-officedocument.theme+xml"/>
  <Override PartName="/ppt/theme/theme39.xml" ContentType="application/vnd.openxmlformats-officedocument.theme+xml"/>
  <Override PartName="/ppt/theme/theme111.xml" ContentType="application/vnd.openxmlformats-officedocument.theme+xml"/>
  <Override PartName="/ppt/theme/theme38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2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1.xml" ContentType="application/vnd.openxmlformats-officedocument.theme+xml"/>
  <Override PartName="/ppt/theme/theme143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3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144.xml" ContentType="application/vnd.openxmlformats-officedocument.theme+xml"/>
  <Override PartName="/ppt/theme/theme7.xml" ContentType="application/vnd.openxmlformats-officedocument.theme+xml"/>
  <Override PartName="/ppt/theme/theme4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145.xml" ContentType="application/vnd.openxmlformats-officedocument.theme+xml"/>
  <Override PartName="/ppt/theme/theme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0.xml" ContentType="application/vnd.openxmlformats-officedocument.theme+xml"/>
  <Override PartName="/ppt/theme/theme59.xml" ContentType="application/vnd.openxmlformats-officedocument.theme+xml"/>
  <Override PartName="/ppt/theme/theme132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0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46.xml" ContentType="application/vnd.openxmlformats-officedocument.theme+xml"/>
  <Override PartName="/ppt/theme/theme139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138.xml" ContentType="application/vnd.openxmlformats-officedocument.theme+xml"/>
  <Override PartName="/ppt/theme/theme56.xml" ContentType="application/vnd.openxmlformats-officedocument.theme+xml"/>
  <Override PartName="/ppt/theme/theme134.xml" ContentType="application/vnd.openxmlformats-officedocument.theme+xml"/>
  <Override PartName="/ppt/theme/theme52.xml" ContentType="application/vnd.openxmlformats-officedocument.theme+xml"/>
  <Override PartName="/ppt/theme/theme109.xml" ContentType="application/vnd.openxmlformats-officedocument.theme+xml"/>
  <Override PartName="/ppt/theme/theme135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136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54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137.xml" ContentType="application/vnd.openxmlformats-officedocument.theme+xml"/>
  <Override PartName="/ppt/theme/theme12.xml" ContentType="application/vnd.openxmlformats-officedocument.theme+xml"/>
  <Override PartName="/ppt/theme/theme80.xml" ContentType="application/vnd.openxmlformats-officedocument.theme+xml"/>
  <Override PartName="/ppt/theme/theme55.xml" ContentType="application/vnd.openxmlformats-officedocument.theme+xml"/>
  <Override PartName="/ppt/theme/theme41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6.xml" ContentType="application/vnd.openxmlformats-officedocument.theme+xml"/>
  <Override PartName="/ppt/theme/theme84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140.xml" ContentType="application/vnd.openxmlformats-officedocument.theme+xml"/>
  <Override PartName="/ppt/theme/theme67.xml" ContentType="application/vnd.openxmlformats-officedocument.theme+xml"/>
  <Override PartName="/ppt/theme/theme141.xml" ContentType="application/vnd.openxmlformats-officedocument.theme+xml"/>
  <Override PartName="/ppt/theme/theme68.xml" ContentType="application/vnd.openxmlformats-officedocument.theme+xml"/>
  <Override PartName="/ppt/theme/theme142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37.xml" ContentType="application/vnd.openxmlformats-officedocument.theme+xml"/>
  <Override PartName="/ppt/theme/theme110.xml" ContentType="application/vnd.openxmlformats-officedocument.theme+xml"/>
  <Override PartName="/ppt/theme/theme28.xml" ContentType="application/vnd.openxmlformats-officedocument.theme+xml"/>
  <Override PartName="/ppt/theme/theme96.xml" ContentType="application/vnd.openxmlformats-officedocument.theme+xml"/>
  <Override PartName="/ppt/theme/theme101.xml" ContentType="application/vnd.openxmlformats-officedocument.theme+xml"/>
  <Override PartName="/ppt/theme/theme29.xml" ContentType="application/vnd.openxmlformats-officedocument.theme+xml"/>
  <Override PartName="/ppt/theme/theme97.xml" ContentType="application/vnd.openxmlformats-officedocument.theme+xml"/>
  <Override PartName="/ppt/theme/theme102.xml" ContentType="application/vnd.openxmlformats-officedocument.theme+xml"/>
  <Override PartName="/ppt/theme/theme98.xml" ContentType="application/vnd.openxmlformats-officedocument.theme+xml"/>
  <Override PartName="/ppt/theme/theme103.xml" ContentType="application/vnd.openxmlformats-officedocument.theme+xml"/>
  <Override PartName="/ppt/theme/theme99.xml" ContentType="application/vnd.openxmlformats-officedocument.theme+xml"/>
  <Override PartName="/ppt/theme/theme104.xml" ContentType="application/vnd.openxmlformats-officedocument.theme+xml"/>
  <Override PartName="/ppt/theme/theme105.xml" ContentType="application/vnd.openxmlformats-officedocument.theme+xml"/>
  <Override PartName="/ppt/theme/theme106.xml" ContentType="application/vnd.openxmlformats-officedocument.theme+xml"/>
  <Override PartName="/ppt/_rels/presentation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680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169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69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169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648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662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68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8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2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651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69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69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706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170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64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65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58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87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649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1696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58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1659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738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667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697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1639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608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668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160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169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628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68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16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661.xml.rels" ContentType="application/vnd.openxmlformats-package.relationships+xml"/>
  <Override PartName="/ppt/slideLayouts/_rels/slideLayout160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6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6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600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674.xml.rels" ContentType="application/vnd.openxmlformats-package.relationships+xml"/>
  <Override PartName="/ppt/slideLayouts/_rels/slideLayout1721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172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643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7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7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17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163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637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169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72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634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163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626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68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62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607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616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606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619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618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171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5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5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701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7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679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734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1709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1684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62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610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61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158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613.xml.rels" ContentType="application/vnd.openxmlformats-package.relationships+xml"/>
  <Override PartName="/ppt/slideLayouts/_rels/slideLayout1671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672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614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67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615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620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621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1617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622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631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1632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633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640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641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64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653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66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65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612.xml.rels" ContentType="application/vnd.openxmlformats-package.relationships+xml"/>
  <Override PartName="/ppt/slideLayouts/_rels/slideLayout16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66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707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715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174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1716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71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1726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675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676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70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1677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6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703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678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683.xml.rels" ContentType="application/vnd.openxmlformats-package.relationships+xml"/>
  <Override PartName="/ppt/slideLayouts/_rels/slideLayout1625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1704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710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711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71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708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688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689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664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7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7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73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1729.xml.rels" ContentType="application/vnd.openxmlformats-package.relationships+xml"/>
  <Override PartName="/ppt/slideLayouts/_rels/slideLayout1693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39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592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593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159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599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96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736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63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735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158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159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605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1731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59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730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1594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1630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732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160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590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1657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65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1646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1669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72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724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64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655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165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64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1624.xml.rels" ContentType="application/vnd.openxmlformats-package.relationships+xml"/>
  <Override PartName="/ppt/slideLayouts/_rels/slideLayout1623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969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629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628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19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618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617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616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615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609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608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607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606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605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1729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586.xml" ContentType="application/vnd.openxmlformats-officedocument.presentationml.slideLayout+xml"/>
  <Override PartName="/ppt/slideLayouts/slideLayout1635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587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636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637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638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645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1596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646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1597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647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648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585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590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591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592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593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594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595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598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639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172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1728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68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68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682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683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69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691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692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693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588.xml" ContentType="application/vnd.openxmlformats-officedocument.presentationml.slideLayout+xml"/>
  <Override PartName="/ppt/slideLayouts/slideLayout1589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600.xml" ContentType="application/vnd.openxmlformats-officedocument.presentationml.slideLayout+xml"/>
  <Override PartName="/ppt/slideLayouts/slideLayout1601.xml" ContentType="application/vnd.openxmlformats-officedocument.presentationml.slideLayout+xml"/>
  <Override PartName="/ppt/slideLayouts/slideLayout1610.xml" ContentType="application/vnd.openxmlformats-officedocument.presentationml.slideLayout+xml"/>
  <Override PartName="/ppt/slideLayouts/slideLayout1611.xml" ContentType="application/vnd.openxmlformats-officedocument.presentationml.slideLayout+xml"/>
  <Override PartName="/ppt/slideLayouts/slideLayout1620.xml" ContentType="application/vnd.openxmlformats-officedocument.presentationml.slideLayout+xml"/>
  <Override PartName="/ppt/slideLayouts/slideLayout1621.xml" ContentType="application/vnd.openxmlformats-officedocument.presentationml.slideLayout+xml"/>
  <Override PartName="/ppt/slideLayouts/slideLayout1630.xml" ContentType="application/vnd.openxmlformats-officedocument.presentationml.slideLayout+xml"/>
  <Override PartName="/ppt/slideLayouts/slideLayout1631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641.xml" ContentType="application/vnd.openxmlformats-officedocument.presentationml.slideLayout+xml"/>
  <Override PartName="/ppt/slideLayouts/slideLayout1642.xml" ContentType="application/vnd.openxmlformats-officedocument.presentationml.slideLayout+xml"/>
  <Override PartName="/ppt/slideLayouts/slideLayout1643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644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599.xml" ContentType="application/vnd.openxmlformats-officedocument.presentationml.slideLayout+xml"/>
  <Override PartName="/ppt/slideLayouts/slideLayout16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710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71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712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02.xml" ContentType="application/vnd.openxmlformats-officedocument.presentationml.slideLayout+xml"/>
  <Override PartName="/ppt/slideLayouts/slideLayout1670.xml" ContentType="application/vnd.openxmlformats-officedocument.presentationml.slideLayout+xml"/>
  <Override PartName="/ppt/slideLayouts/slideLayout1660.xml" ContentType="application/vnd.openxmlformats-officedocument.presentationml.slideLayout+xml"/>
  <Override PartName="/ppt/slideLayouts/slideLayout174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603.xml" ContentType="application/vnd.openxmlformats-officedocument.presentationml.slideLayout+xml"/>
  <Override PartName="/ppt/slideLayouts/slideLayout1671.xml" ContentType="application/vnd.openxmlformats-officedocument.presentationml.slideLayout+xml"/>
  <Override PartName="/ppt/slideLayouts/slideLayout1713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661.xml" ContentType="application/vnd.openxmlformats-officedocument.presentationml.slideLayout+xml"/>
  <Override PartName="/ppt/slideLayouts/slideLayout1720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72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703.xml" ContentType="application/vnd.openxmlformats-officedocument.presentationml.slideLayout+xml"/>
  <Override PartName="/ppt/slideLayouts/slideLayout16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640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738.xml" ContentType="application/vnd.openxmlformats-officedocument.presentationml.slideLayout+xml"/>
  <Override PartName="/ppt/slideLayouts/slideLayout1701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702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737.xml" ContentType="application/vnd.openxmlformats-officedocument.presentationml.slideLayout+xml"/>
  <Override PartName="/ppt/slideLayouts/slideLayout1700.xml" ContentType="application/vnd.openxmlformats-officedocument.presentationml.slideLayout+xml"/>
  <Override PartName="/ppt/slideLayouts/slideLayout1634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624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613.xml" ContentType="application/vnd.openxmlformats-officedocument.presentationml.slideLayout+xml"/>
  <Override PartName="/ppt/slideLayouts/slideLayout1633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623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735.xml" ContentType="application/vnd.openxmlformats-officedocument.presentationml.slideLayout+xml"/>
  <Override PartName="/ppt/slideLayouts/slideLayout1614.xml" ContentType="application/vnd.openxmlformats-officedocument.presentationml.slideLayout+xml"/>
  <Override PartName="/ppt/slideLayouts/slideLayout172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723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12.xml" ContentType="application/vnd.openxmlformats-officedocument.presentationml.slideLayout+xml"/>
  <Override PartName="/ppt/slideLayouts/slideLayout1632.xml" ContentType="application/vnd.openxmlformats-officedocument.presentationml.slideLayout+xml"/>
  <Override PartName="/ppt/slideLayouts/slideLayout1622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73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72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733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3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731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1730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665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1715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672.xml" ContentType="application/vnd.openxmlformats-officedocument.presentationml.slideLayout+xml"/>
  <Override PartName="/ppt/slideLayouts/slideLayout1604.xml" ContentType="application/vnd.openxmlformats-officedocument.presentationml.slideLayout+xml"/>
  <Override PartName="/ppt/slideLayouts/slideLayout1714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27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669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668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667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658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708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657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707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656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706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16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705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662.xml" ContentType="application/vnd.openxmlformats-officedocument.presentationml.slideLayout+xml"/>
  <Override PartName="/ppt/slideLayouts/slideLayout1704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725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1649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659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6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1726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1718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17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666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1716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736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709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719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673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664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663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6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6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26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25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1699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689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67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167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1675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167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739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1677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67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684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68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68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68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68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94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69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69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69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69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  <p:sldMasterId id="2147485364" r:id="rId134"/>
    <p:sldMasterId id="2147485377" r:id="rId135"/>
    <p:sldMasterId id="2147485390" r:id="rId136"/>
    <p:sldMasterId id="2147485403" r:id="rId137"/>
    <p:sldMasterId id="2147485416" r:id="rId138"/>
    <p:sldMasterId id="2147485429" r:id="rId139"/>
    <p:sldMasterId id="2147485442" r:id="rId140"/>
    <p:sldMasterId id="2147485455" r:id="rId141"/>
    <p:sldMasterId id="2147485468" r:id="rId142"/>
    <p:sldMasterId id="2147485481" r:id="rId143"/>
    <p:sldMasterId id="2147485494" r:id="rId144"/>
    <p:sldMasterId id="2147485507" r:id="rId145"/>
    <p:sldMasterId id="2147485520" r:id="rId146"/>
  </p:sldMasterIdLst>
  <p:sldIdLst>
    <p:sldId id="256" r:id="rId147"/>
    <p:sldId id="257" r:id="rId148"/>
    <p:sldId id="258" r:id="rId149"/>
    <p:sldId id="259" r:id="rId150"/>
    <p:sldId id="260" r:id="rId1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slideMaster" Target="slideMasters/slideMaster133.xml"/><Relationship Id="rId135" Type="http://schemas.openxmlformats.org/officeDocument/2006/relationships/slideMaster" Target="slideMasters/slideMaster134.xml"/><Relationship Id="rId136" Type="http://schemas.openxmlformats.org/officeDocument/2006/relationships/slideMaster" Target="slideMasters/slideMaster135.xml"/><Relationship Id="rId137" Type="http://schemas.openxmlformats.org/officeDocument/2006/relationships/slideMaster" Target="slideMasters/slideMaster136.xml"/><Relationship Id="rId138" Type="http://schemas.openxmlformats.org/officeDocument/2006/relationships/slideMaster" Target="slideMasters/slideMaster137.xml"/><Relationship Id="rId139" Type="http://schemas.openxmlformats.org/officeDocument/2006/relationships/slideMaster" Target="slideMasters/slideMaster138.xml"/><Relationship Id="rId140" Type="http://schemas.openxmlformats.org/officeDocument/2006/relationships/slideMaster" Target="slideMasters/slideMaster139.xml"/><Relationship Id="rId141" Type="http://schemas.openxmlformats.org/officeDocument/2006/relationships/slideMaster" Target="slideMasters/slideMaster140.xml"/><Relationship Id="rId142" Type="http://schemas.openxmlformats.org/officeDocument/2006/relationships/slideMaster" Target="slideMasters/slideMaster141.xml"/><Relationship Id="rId143" Type="http://schemas.openxmlformats.org/officeDocument/2006/relationships/slideMaster" Target="slideMasters/slideMaster142.xml"/><Relationship Id="rId144" Type="http://schemas.openxmlformats.org/officeDocument/2006/relationships/slideMaster" Target="slideMasters/slideMaster143.xml"/><Relationship Id="rId145" Type="http://schemas.openxmlformats.org/officeDocument/2006/relationships/slideMaster" Target="slideMasters/slideMaster144.xml"/><Relationship Id="rId146" Type="http://schemas.openxmlformats.org/officeDocument/2006/relationships/slideMaster" Target="slideMasters/slideMaster145.xml"/><Relationship Id="rId147" Type="http://schemas.openxmlformats.org/officeDocument/2006/relationships/slide" Target="slides/slide1.xml"/><Relationship Id="rId148" Type="http://schemas.openxmlformats.org/officeDocument/2006/relationships/slide" Target="slides/slide2.xml"/><Relationship Id="rId149" Type="http://schemas.openxmlformats.org/officeDocument/2006/relationships/slide" Target="slides/slide3.xml"/><Relationship Id="rId150" Type="http://schemas.openxmlformats.org/officeDocument/2006/relationships/slide" Target="slides/slide4.xml"/><Relationship Id="rId151" Type="http://schemas.openxmlformats.org/officeDocument/2006/relationships/slide" Target="slides/slide5.xml"/><Relationship Id="rId1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A07-B0B9-42D2-AEEE-6521970A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DB1A-FC59-4297-98CC-7554762D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730B4-3408-418D-B953-725E06F6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CB1D111-7DC6-4180-9BEE-85AD38F4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B989D21-3244-43C4-A579-0C75D82A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4E5E866-B81E-45A1-A98F-F3FBE4D7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747317C-0A06-4638-A7A5-4612722F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212004C-97E0-4269-8D22-3EB519EC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4652584-E2C0-4D8F-837F-D26210FF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D82B65C-A7FE-4C53-9960-EFC2028C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84F28A8-4DAB-4264-BE62-351EE3AC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5BB2ACD-D9B5-4F1B-A125-721F7C07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5E16837-351B-4958-BCC5-AEC703AE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61258-4541-473D-A77D-DC8D60B8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56EC295C-0B0D-4C0C-8061-E5BB04AA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64081AA-0FC5-47AD-A6A4-2BF86F56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7EB705F-1D31-4AB5-A206-B97BBB21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FAEFE61-7E3D-4A84-B838-93A9D868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506A1E02-DE35-4692-A84F-AECB6D38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A900AA9-03F8-499E-8DCD-F0DE2F29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BB7C64C-C699-448F-9154-650B4C49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ABD2D2A-2EAF-43A1-B8BC-01B5A8C3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2A6C8DDA-1B0E-4740-A439-5B9AFA73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CE19A4E-F917-421A-A075-F68A5B80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FA9C2-ED70-4962-BB5A-762C569B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369267F-C3B9-442F-8A14-97A360F7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0664D36-6EAC-4A71-9498-CE4BA0D8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DE89CDAF-346B-4873-AD95-FB34EEAD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E0D8FE9-CCF6-4DAB-BFF1-9E891024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0A96951-7EBA-4B7D-8B9B-E8C57B2A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4DC9F90-6AAA-4964-B1DB-544300A9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2491744-3440-4B7B-A5C8-64CEFD37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15B9476-5E2B-4B2C-B3AE-33555A2D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EE45EB2-3C4F-44E0-9B8A-82C1888F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422AEF63-ABF9-46CF-8815-4879313C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75A7F-8309-4833-9967-8A2B0728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1F22C557-7702-4E0C-9919-B90ABB1B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4F4C239D-36BF-409A-8915-8CA7BE6E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A79134C-5E6E-4D2D-A907-066F5BCC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55ACFD9-B057-4A95-A300-2F5B802F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F5A52487-AA7E-459E-9D52-5CE827E5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94C3E5C0-5366-450D-8630-5F5EC1EA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F15535F6-3692-46AD-8459-776AEAFD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28FC95AA-14C3-47BD-84C6-3BC353B2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96B1DAD6-CE89-4DCC-99EE-04A7F08A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A7816EB4-0F89-4613-9514-521AF3F9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E6468-3A4F-4BBB-A879-35742103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7C80B847-CD72-428F-8296-F3AD58DC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633D1DC-388A-4C23-8C74-E6369B5A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154E639B-984E-44AA-B5B9-47B0AD3C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E9540077-E0FD-402A-B5CF-4C04E2F6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DFEC64EF-F203-4AB8-8F47-AF7CE5CB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32EE9994-EF7E-4DA8-B3E9-1FC40ACB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5B65816C-E1B2-4619-AD87-C2AA6B1B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5C66907F-54E6-42F8-A469-3278958B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95E2C65F-5E46-414A-A693-CDB4FC33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EC988E5F-0E86-43A2-8407-F412B8DC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B1470-C82C-4464-8EF5-D8B33E00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9F15348B-D675-493E-B3ED-69A6CECC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4331A841-5B84-4037-B7AD-8D570181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1695D258-FBE2-4EFE-9EAA-AAF43AA1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2050C42-ECF4-40EA-B229-0ED37F26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C224E54E-9ECF-48EA-9DA6-6F09E414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3F9D1689-47FD-4ACE-AF34-770A9A9D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30A846C0-DEF4-404E-8523-AC4009B0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4D08179F-C380-4933-9327-2D0479FF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FCC4FD14-0A2A-46BB-906E-6B569BF6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2F790027-45BD-41CC-BC97-095E1BBF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F787B-E042-4E3E-8AC8-A3F9C33F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C2DECE95-611E-409B-8140-67C73500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1DD4E062-65A5-4879-9C5C-36038055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459C0C14-333F-4C09-B268-5BE48824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A88350C8-4555-4308-8BF8-21B2C777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B8BE0F6E-7210-436B-AB1C-5539E7CA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D7DB7FDF-0626-49D5-8B68-21E0E5D1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86EFB498-0169-4A62-A078-470C4635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88DE7402-C82E-4F5D-BE7A-B3AA780B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37C8FE56-3B4D-4A59-8B75-B7493724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591DAB84-8872-4B85-80D7-E97AA6F1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DFD51-932E-4767-A470-A7D31682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E7ED8299-5163-443E-B153-B0E41BEA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D01AB66D-6D97-431F-A8FC-4B06E187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1BFE8F63-E417-471D-AC21-0C7C3B58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29FA150A-0617-4010-BED8-88D88600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A82E87D8-CEF3-47D9-BF9C-CD52A82E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5F559670-CE64-45EE-BFD2-6A8E412B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80846FFC-FA93-489E-ABF5-C7501F94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330B32C4-8098-49B8-B284-928E579A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62624DBB-8C63-4779-A817-54152A99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D9A79299-5838-470D-9A8A-2DB95F50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4D583-27CF-4775-8588-B9537BA0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8AF46B82-D442-4C5A-AFF5-70E2D1B2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A8BD4F50-76A8-45F6-A2C2-9FB58F26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C1E3BC1F-CFDE-4F0A-A849-33CBF83E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D111A917-AD67-490F-85FF-6D6369CF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0F9B33FD-8F3D-4022-BBCB-E720692A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064995BE-6C49-47B9-A92A-6E9C6C97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381546C-47AD-42A0-A40A-B5648AB9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919C36FE-73F4-4479-AF81-B78A1784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D58201A-B9AC-4095-9A97-F6E98D94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F245240-BB94-47DB-9A50-0DF0DC28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4AE23-60CB-4040-BCC2-57C8B8BA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475E4BB0-4C45-45E7-AF43-C526E8F7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EA0E81CB-7AB4-492C-98BA-07530227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A10B27C3-AE8E-4E45-A165-865158C9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7B7C0B13-4D71-4601-B455-97B157E7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DF6FA67E-FFBF-4F57-AD10-60E442E4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B9E9EA8F-2390-48AB-87DE-3364486C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53A402AF-8E5F-46EF-A441-7B3183D2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BC83FFBB-6BE6-4655-831D-2E94D340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D12A28BE-C665-4784-A2D9-14CFF2E5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ABA7FF19-4877-4589-A5F6-5AFCD450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E27-32DE-4B94-8300-038AE815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59327-B658-4066-ABF4-1D6DB60D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9A5EEDAD-393F-4D45-9138-93861237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5D2BD487-4EBD-4772-8D87-EC3828A9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9BC2802C-B3A2-4062-AD89-4327DC9B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381FD30A-20C7-4A33-BD8B-11023077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6D7A85E2-02D0-4D0F-A1EB-B548B9D8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F1CBB4EC-0F0C-4E30-9D6E-10FC4ECA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BFC9F72F-D070-415D-8D0B-3AB9B27F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D670CFAC-C43A-431E-AE21-A6A0D022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0A0C9B45-4220-4BA9-9DCE-0A2EB537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5B35D4F3-A059-43C7-B86F-1F0C2256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586A6-558F-4F1F-A89F-9A64E39D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D12ABDBA-797E-460F-B2D7-67009EFC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4DFF818B-878C-4F79-9F43-2C730B10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C8C3E402-9ACD-42AD-9438-85F851E8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B4F8F32B-5593-464D-84AF-E9E51542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12552832-CC94-4B70-91B3-0FE8BBA2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D85AE4B3-8EEC-4BDD-BB4C-A6E313D4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FCB75B0C-A6EE-47BB-9897-6E657113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CABB26C3-572C-4D98-BC0F-DE2F8C26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787980E7-0C47-40E6-B398-C4C72451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77047B61-E809-435F-8FFC-223F87D9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2E74E-1312-48F6-A5C6-FFAACE97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C72C2FF4-74A9-42E5-881B-0A0557A7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376498EA-92C1-4A49-BF7D-0AB9D5F9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81BA3ECD-7E76-44B2-915C-591935BA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676CBDA4-E398-4A38-8CA3-35E969B0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E2DFC551-8A96-4D61-B570-79DA66C0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404D4126-A821-490A-AA57-AD3A73F4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3B8F4F90-5B66-4753-B99A-481A2BF3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A9DE23D2-3BD6-4223-9504-949A025D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43D4D6D2-D342-437A-991F-5EDF709F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5EF161BF-FC4B-4630-9A96-B23D4B51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7A146-3150-4E29-A5EA-D374AFA3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0724857F-AED9-4EFC-8E26-B6C42E2D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8440F4D6-B41D-43B7-AD11-4FFA060E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0C636CAD-5C38-4A2B-96D3-26061691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3C6095C2-3CDD-4FF3-88B8-F757D5E9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04DA019A-1074-410F-8CE0-3C4BE638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E4741E31-157B-4B77-B526-E670B57D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9604DE3B-728A-4F9E-B63A-DD41514D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108AD8F1-1653-4235-BE72-D544447F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4EFB09F7-5B9C-4877-8705-46162917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6D78DAC2-A2CE-4EAE-9075-789E3C64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BC6DE-9C24-41A1-82C9-D8428B2B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21EAFA42-E386-4217-BA1A-BC315A61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0CC92D76-C69C-4189-9F08-DE3FDE4F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CC14FEA4-AEDA-47DF-AD10-4AF655E5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DC9FD1A3-1D75-45E6-9464-9631886A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13CF1A8A-8216-4FC7-8A89-6837347B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A693F03E-2D37-4471-A639-8B11E125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3F1BBD1C-F5BE-4CE6-9665-D6FA58CF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9FA9205B-FD05-4F29-8507-06707B9A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E60BD994-0E1D-43B9-8994-CA950F69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5A472E9A-2A9F-4858-AA9E-4336EA8A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6834B-779F-4C74-A7A5-556123C1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2C6591F6-C5D8-4F4F-8A2F-06C651E7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A5038391-E744-4FC6-A7E1-76F48671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66F69735-1486-43F5-880E-8318B22A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A9A7AD8E-6E78-4935-B2E5-A7B8DEAC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B1374EE3-A885-4272-B37D-03527BE8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11110FE2-3C3D-44AE-96E3-2808F591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DB96980C-C1EC-4D42-A94D-CDAFFA4C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E0D3A143-C3A0-4870-A88D-6F55609F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E6CD57B1-A848-473B-9B7B-82103C1D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B2502DF6-FAA2-4078-9017-02F43F49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240B9-C901-4103-A3DE-06B502B2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198B87EA-DB41-45AF-A4AE-0BBA6117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3C26DAAA-5EAA-4690-805B-3FEBCBBE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B3D08E7F-89B6-419B-AC7D-558964AF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F0F43C8E-0FF9-45DE-8C95-6129B1F6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3DA82EE9-8AEF-446A-92F7-E6D5C99B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083D89BD-1F75-42C0-B857-EF9062DB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2FF61FBC-E576-471B-A09C-40834AA4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EBBC228E-FECC-44A0-A7B7-3D77F9F5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101EA410-E650-4D01-97E7-7E91B79B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B3778632-B381-489D-877A-AE0E5694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8F37D-7269-4672-9A29-30EE71D4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B53C0643-385F-49BE-964C-CFC9CEDA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CDC9C86C-3E53-4B83-835A-95F4AC33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E6EA9975-F176-4224-8B39-AEB27537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CCCB3CAB-8178-4CAC-BD50-EE3835FB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33B1CD69-398D-40BD-8A9A-43FBD7BC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A1308E7F-68F8-46A9-BDEF-8F9124D6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1F56CCBC-5DD9-447D-BD0D-7D714AD2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8573A0E8-3115-487F-8B3D-C6F00D05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CA075F6F-DC80-46BC-B2A9-4CFB8B3A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E4DF1762-1CA1-409E-96B8-92AC1F3C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22C8B-1706-4B2F-87D1-87438D8A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31AAC9A0-D87D-4E85-8F31-D8052E9B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07DBE2DA-A263-4455-97C0-928609D1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A248A63D-28B9-43FE-9345-6804ABDE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E765E59B-C97A-4008-B9EB-F55D4A5E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FFE7EC8C-0B8B-4CD3-850E-E0968D4F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70624571-DB0F-45B9-8AF5-95C900D8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E383F3D9-F257-45A0-979C-17394C60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F1250402-0009-4603-8CD1-5297225B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D07A4741-BB56-46EA-8795-316E6FD3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DC9999DB-A799-4AD8-9474-D41370EC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5AD04-62AA-4E36-94B1-92C8DB59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8A127191-44CC-493F-A714-E0967524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6F19681C-5153-42DF-B3CC-6074AD54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7CEBDC65-AE60-47E1-8EE2-711A80AD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63EE465F-71FE-44F5-BD4D-1477CA1C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2CFF97EE-D25C-4798-9A35-BAA15D57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0C9CCD60-CDE4-4396-9BE0-B509F1F1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AFAC86A0-D073-491E-A948-CE778A75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B8DA22AA-B9F6-4899-A2EB-B0FBDF55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5AF287C1-ED1D-4ADC-9F1F-4B2DCFE2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A7C9395F-6FEF-4E8F-ADF8-111262CD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5587-22C4-4964-9A72-12E388CD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F286C-C25F-4F04-A5C5-16B2062A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C8DD8412-8604-43F5-A52D-B8D982DC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76CA57FD-785A-4F74-AF0B-765D4C9B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73A0C1D3-36C1-412F-BBD5-E745D7DB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D0285C3E-B786-4E0D-A8B7-E6657A89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6A1B64AF-D99A-4768-82D1-3E918C6C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C1C9CA98-C851-495A-9FB9-AA0C22DC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F64E0BD2-6BF3-4126-AF13-DDC51029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58878149-CC37-4B5A-BC9A-44DD1A1E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544AC4FD-DE3A-4F3C-962D-1842E833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B657EB2A-91D5-4DB9-86BB-D0317AD5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7D8F5-6245-44BD-91F9-FC127C71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94B458F4-A343-44CC-930D-5E38EAA6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9CC23341-E837-47B4-BDF2-D9ADA47D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6E24CD91-74ED-4E36-89FA-A5A80EB6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BE2BDC53-4869-4899-AB28-2F77CE43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7C3922EF-0BE1-436C-BB94-539EEBB0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F29B2142-A6DE-4593-81E2-1473082C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84299C0A-A3E5-4D1E-BBF6-D5A4CA9D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D277674D-F589-49BE-8B2E-A32D6215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779AAE84-101F-41D6-9AC5-3D891931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E423D508-02C0-4DA5-BB1E-98D01BED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15580-0F44-4B54-A7FD-D540F39E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7FBF04A0-DB2F-4F8F-A9B2-B36D0E0B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E6CB8D63-6809-4FA7-8B8C-8B6DEB13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74BA6005-9806-4420-81B6-D6BD22B4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C2E6E73E-00C0-4D27-AD56-87BD8871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F79224AB-55C8-4F53-8B44-60AB415B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5B729094-BF76-46D1-9AF5-BE017D34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E42F745E-715A-4CC0-9D15-C7D26DCF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75DCE9C5-A7C3-4F80-B72B-C963CBFF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64274B6C-BAC8-4F58-8F6B-DB592ADB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F99069E7-27F2-4DEC-9CD5-90A89C6F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0EDED-451B-4601-89AE-E0E250C1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CEAE07CF-1AE8-4D89-92E8-80EAC842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FC55EC20-85B5-4B56-AE27-2B52628F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A9734EAC-A4C6-4DFC-99C9-D17D81E8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C34BAED2-77CC-47C7-8083-4A8C456F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5BCEB3CA-555D-42E0-BB0E-D9147C00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041F2279-4D28-4366-9E8B-B50718D4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5E709FD6-D924-462D-9FA6-7EA65194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C51C1207-29D6-4E40-A45F-08FEE40A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DFE2F3C7-6661-43A0-B644-BB4D2C91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FAA7B6EA-FD22-47CA-8434-37627E2D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2FDE4-128A-478B-B642-F069D88B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248BB2D7-B5CF-47FB-898E-97387872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D996212A-AEBB-475D-988C-00DE9DDD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4535E335-4990-43A6-BBDD-A1DE1E52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9CA1B89D-4371-4EC5-A198-03D0036A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8DFF7B60-00AF-4601-8082-2DDEFEE6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784E435B-265E-4CA7-AC1A-B7199992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82D8B331-8690-48CC-A7BC-1F9C7BE7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F4A63CF9-BDD1-482D-B4B3-C1D228DB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B0C8F206-80F6-4E1F-8C73-5821B34E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4AAFC35B-4ECF-4FBC-89E9-6C15C227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7DD51-F286-4E66-A767-9BEA6975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897CC7F0-5641-49CF-8C09-F1948316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D173CF00-399D-47D4-8748-F0824793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773C8AED-E6D6-4E45-A03F-C311DBD9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1A7293FD-BC33-4033-A11C-94F4D795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E47DB756-8332-45FC-AD61-96AFD661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1813C413-CB94-42DE-ADAC-7C14C328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735B2E1E-13FD-4A43-B48E-50485533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BD4C7E6D-63FD-4EEA-8D63-DA0121A0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03E44EB3-3DEC-42AC-9909-D6BD53C9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E3C4762C-3A56-466A-9C61-8DFFA42F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0460A-0D85-4E27-9F28-8DBBB36E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5EAC0E83-B2B2-489A-B79D-D65BE6B1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28D0F32D-F6C4-4460-8A78-185BA2E9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33D3D4AE-C9CD-4E7E-BC62-48F3EDF6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2867FF0C-ACFC-4297-BA54-A766F8BD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7D40142B-81CF-4435-B043-9B0D7866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B8E703E5-F84B-40A2-BF85-07432F58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64792422-C3E6-4200-8339-42F1E4BC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D5C3D23F-8F86-45C1-9F12-F7EE7C9E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0E037071-327D-4EA8-9EE4-E8AD5881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8BEBB5F6-770F-42A0-AFE5-D07C580F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B8148-6FCE-48A9-81EA-F206B5EB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03A7A245-FE44-4ABB-86E6-EF8D9D25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F5687F79-84D4-4028-AEB3-8349551B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8545065D-D411-4EE2-86F3-9B4A19F4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EE85D4B2-C0FC-41F9-B996-98ECF25A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502A63D8-4926-4E41-8810-93986C64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74A0C6CE-9930-492D-9142-86F87359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568EB955-7E4C-4963-9BCB-397FA6EA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39EDCFBE-E3E0-4949-BCF9-C81D9831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C9BF74E3-2A21-45A1-9443-00447318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81C9C81C-B79C-423A-9888-A02E3FCF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9F034-8B3E-41DB-A169-FAB0F7CA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B7BCF73C-9B62-4F95-ADCA-33401975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0E93DBB3-69BF-46C2-AD23-FF30C149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255AD516-411B-4303-BDB7-C4D8205F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0E32341B-9F14-4EBB-9675-CE729610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EC9EBAA4-0235-4E7C-97CF-BBE4A05D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1AF09139-54E3-4360-B506-0E5468EF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DDB14ACF-8A24-46F9-9CC9-85B3B20D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EDE01D3B-4998-43E4-9D0A-10D11CB8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9153DF25-C932-4271-B012-4EC57E06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2EC0A3A4-058A-4907-A996-2D769025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1A78D-AD2B-4918-9426-C44F58DE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B786899B-A7C6-4A90-996D-508B3EFC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29CACC61-45AB-470E-8EC3-98957F61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4404075B-E411-41BE-8415-DBA13C8B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559A7B09-E079-43E1-8E8D-B84D6D57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9EB9E91D-1340-4898-B988-2E6FB744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E7DAB629-E5FB-49B9-968A-160CC27E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EDF9CA32-ED50-4EC8-A39E-CB253C3B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EC9923E8-919E-479E-8A5E-AD0B75A1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A1C16E0E-5454-4B92-BB2C-0DD824EA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D3902755-AB74-4298-9015-6CFB69B1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947F-94F2-4DEB-86A8-FBEE29AD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F60FD-49DF-460B-ACDA-A56F1D76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0D05BF4F-D264-4D7E-8C6A-150AABF5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A46D6E0F-48A0-4C28-AB89-9C723BD6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7E4ABFF3-F122-4ACE-875C-513DEF84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68DA3903-BA6F-4523-9DDE-A88D0004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FC7EF5EF-E5A1-4EF1-895E-E94FCFF3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D3314842-4414-4CCC-8E36-3D27EF80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93A55971-3FDA-4AAB-A88C-DF50FC87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B3EDE008-1335-49FB-B288-64D03253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669FA3A9-83FB-433E-9F51-67698FA7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3D12B43F-54B9-404C-9548-6656C8C9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52C8D-311C-48C6-BBBE-A7DD2211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370D14CB-54A1-4CA5-8E2C-29C8A593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5C146062-F5AB-408D-B044-D1CCD2BE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56F53433-1A0A-4352-9E74-CAFC3E32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B6AD2A1C-5814-49FA-BC97-758F5469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3E34C8F4-7655-4E23-BEEC-A8533610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404B6534-4B96-4FB4-8126-52EF01B7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62CA7E7B-2024-480A-92D7-BF47F496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3B9A513D-2181-4085-910E-AD0C48E4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F5F1412A-CE3F-4380-86CE-396DAACC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C3E41580-1035-489F-8E4E-ED6A7278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3F556-F514-4C97-B706-3D69DE13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33DACBAC-3B80-4E3B-854C-ECF06CF9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D421A615-2FC3-498F-BD80-AD0BDC7C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E7BE9934-BB06-4578-9A54-3036B807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3E33920F-A685-4469-A1F6-D7BE1133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7C748B04-E314-422A-A076-BE1FB890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9888F7D1-FC0C-447C-8B95-091DD850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6BA1493B-C89E-4B26-86DF-0DB3835A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A6525EAA-B0AE-41B6-9FB4-D8C3E421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13E4F11E-BF45-4E05-ACD3-78BF3388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EC65C923-7ADA-4EA2-9E12-04D67A49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D71B7-796A-49C1-86C6-49014D47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1F59CA3B-24DC-4EF4-A218-1C25B094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7C8FAA79-06A4-4354-9BE6-4165F0A8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9B1DB6E5-8096-47DD-9ADA-DCB61280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786021A1-A3C0-44FE-9250-BD0C190D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C4D709C5-6AF2-4183-A68F-94C49CB6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427C2502-4E60-4229-92F2-9B7FC4E5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432616E4-2A9F-4912-BC9C-93E8059C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A379A172-9674-4357-AFE6-77FCB99A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70E95FA8-F50F-43A7-9824-1F2D8C67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A5CDAD42-C557-4DDF-8E42-E57B0254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79E95-AA8A-47F8-9203-05286105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8C590658-708A-4C7A-A8CB-1BD52A94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ED084451-FE0F-4F92-AD2C-43D21B1B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F17DF0B1-39D3-4D74-874A-EB3A166B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5E90A7AC-3F2C-4B50-9D36-CE16CCA8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688EBF03-9390-497E-A5BB-330110BB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E0C04E9B-2A23-4B5F-BFE9-46505293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12B78DF9-8F08-45C2-9E38-E9A11136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1471953C-78FC-4824-84D8-82A52CF6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538B9C37-AAC9-48E0-8346-CD7FDFCA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EF58C122-BDB5-4ADB-A860-6C3868F2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C24E6-C3A4-4F04-97A9-AE3FEEB4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0A093AD0-BB75-4D6C-99AF-D73EA5CC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DA2C4638-01B2-481B-92F3-B0FD2D47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7C981A21-05B3-42D6-86D8-7ACEFEDC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58056D8D-9991-44C9-81AA-8FA100F9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77E6BFDB-08CC-44EC-9DDF-E09F95E7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B47F7371-CBB3-4A43-BCDD-FD4C8F48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FC0C89AF-578F-4830-9A82-68458768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3926CC72-6354-4F06-9121-6EE6D84E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ADF6A825-221C-4B86-8A95-9087FCAD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68FB0444-EE10-4BF9-A85D-DA2342BB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AE0DC-B19C-4A3D-9156-80CA59D6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5B112D8C-75C6-4DA1-9561-765ECD9D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0791C242-C25F-409D-B26B-601D01CD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E3364C55-7102-49DD-8A9B-F66BE64C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3C8E5CF5-E2F2-4982-A6A3-E26B0EEB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3ED935CF-37C3-49EA-93D7-C7C672F7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2651F8E2-F84D-4752-AC8F-DDDA991A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5461679C-30E8-4DE0-973B-A1AF8292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8AC2C9D8-C88B-4DD0-A7F6-03235B91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DE954381-1D29-4657-9213-D707682B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8A116B87-31FB-4E5A-8073-BB525A63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79362-A3D5-4FF0-B65F-2E222239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2DD83033-E237-4C91-998A-BB11E665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7C4DEFB3-CA59-4D6A-9576-3771135C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9917BEB5-85EB-4CD6-A0E2-BBABEA2D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29B18AFF-59CF-496F-A0B7-C6F22D90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D0A35637-E253-4B9B-9336-BDBB0150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9C44F953-8C81-4FEF-9D48-6BF7F84C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F6CDD438-C401-479D-8B26-485EA614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707E16DE-3764-4FAD-9EDB-3860B6C1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A90A5B17-6984-4C63-813B-0F7CE699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B51C5B2D-9689-463D-9FB2-82364104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0CE64-A0E7-48FE-A510-33F96D74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0AACA7D2-F645-47E4-8183-C173BD4C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CEAD4294-FB06-4802-A853-7EBE905A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2AFB016F-C585-4D2A-A09E-1A886B60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2BC0DE46-75E1-456B-ACCF-23F256F2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E84AB5BB-D891-43BA-81EA-31576B87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19DE1509-C239-4FD4-A419-F26680D2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8A339139-2AE7-47EF-B77A-682170C3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82E1603B-0C2E-48DD-A583-49CE9EB1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5F5DC659-03A3-4506-8D3F-719CC17C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2B212082-DB4F-4D54-B873-EA45EF70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02965-2FCC-4487-9F64-9C50D08E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CDB66758-A1E6-4B26-88A4-FC10F8E1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70585081-615A-4C61-B991-ED01160F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568FB41A-C8D0-42F5-9B8F-43ACF813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313AF49D-FBB7-411B-8EE8-7160E332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5D0CF6E6-7DA3-4C7B-B6E6-24982A8C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054E3B6D-1CE1-460D-A469-3E5F48CC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D1D7B852-241C-4D78-BA76-532856B0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74BD7CF0-E300-4088-B542-885F00FE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A6EBC68B-D561-4161-858E-FC734D4A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52E1C943-B029-4AF4-A16C-AF139A3C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C540-6D5C-4527-8998-33A20E46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A8098-DA75-48A1-BDDD-7624BEB0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532D9435-1002-444C-97CB-ACDFBA62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D6B22445-51D0-4C12-9EEB-45B3B921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2D87B028-F3DB-4179-9B1B-B257F6B6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BD6A84C7-3E7B-47A7-9020-8BF888CB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EB53053C-0430-4591-AB46-FF157A5C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018F5FE2-AF9F-4762-81B3-51ABBB5F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808AA179-3548-4A46-A9F8-A4446C74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9C05C789-9B1B-4E47-BA09-ED4E7F69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775FCBA0-D99F-41DC-BE66-4A2F2CB7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2A87600E-1B4F-4F18-BDE8-A8E3A751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5AA1F-C256-4CDF-ABC5-357B663E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163B8E50-91D0-4D0E-A19A-DA8DAF12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021A8971-8B6D-4E24-A62A-EAFA640F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88A9FAD6-A8C1-4BD4-92CF-4E56275E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53A89DFB-4CCB-436A-A018-E1D02D89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F80E2DDE-EFC0-49C3-9CD9-D458FABE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391D9511-0A86-4B71-ADF6-537B8232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82F22537-21D6-4AEE-8ED5-DCB04B88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8168B491-6B3D-47D6-A791-404A6BF7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8EC7C333-E808-44C7-B8FB-89839B87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6316D940-49B7-4B52-A5D8-4CC564C2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B6B90-658C-49AE-9381-16CE88A1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BE2C75F8-877F-443F-884D-8D3639F0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923BFC6C-26F4-436E-A713-ED0C70A5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0E9F1F03-53B5-4970-8B15-F83EAE23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5B87948B-CFCD-46C3-ACD0-F02D40B7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878354E6-1505-4270-9113-7B0C13BD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F6F38E00-544A-4C9F-B9AE-3863A301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AAB1768B-31C5-47B5-ABC3-13598F82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D4EDA4E6-3381-4075-8F8F-516555AF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988B879A-25E9-47C2-9F8B-5810FA3F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9A6E2DD6-2639-4878-BD5B-CFC408A6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74C72-789A-479F-8D1E-46FCA0AA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897458AD-0381-4043-8BA3-C25629F2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6A97E202-403F-4C2F-BE26-B9873841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E89C52E8-F071-4248-8459-FD77CF62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7822312D-5615-4504-BC19-E79456F8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132DC05F-57BB-4EB5-9A9E-A2F0E9E6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4C088765-E8F4-47B0-8A7E-A5646BB1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A4F6D5CB-C09B-45D4-BD5E-A29C1F22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43C1859E-8CC4-45B3-BF30-BC619220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37D89D7C-99D3-43D1-81C7-B30BB5B1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E0563AC2-B4B4-474E-8418-B64EC375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35957-1F0A-4E5D-A176-CEA52803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725FAE06-DF28-4E4D-896E-C8960580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9C558613-1206-4CDF-B44A-2EA84A0E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8D09ED53-75A3-444D-BF7B-3931AB8F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1BFF2E53-454A-4035-AE9C-7C044EDA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2CD6BF21-52DF-4A40-8548-ED23D3B2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95D5D174-143B-48C6-B0A9-59DD4BE9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3604BAFB-D6C6-45A3-A635-9DF34E16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294E088A-1BB8-4DB0-90D0-61958173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3D04A6FD-CF59-4ABF-88B0-E2B8273F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8557AA5D-0752-4243-A7FC-92A10EB3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68261D-FDEA-458E-BDC5-B3887845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FDD3D373-A189-4F01-8BA6-E6862CAA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68FCEE87-1A2E-4DFA-B78D-EDF79582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1497D2A1-CD84-45CA-A316-01A7F684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EF15E388-20D3-449F-886D-356E96B8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416CF493-0522-4EAA-A060-2ADAFD58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CB1B5386-DF06-4132-B5B9-CDD49D81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FADFEEC8-9E51-484E-947F-2E51548C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0E6FFD3A-D15C-4E3C-81B6-768EBBE3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AA55186D-5CC3-411F-8F46-BF8AEFFE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CE91F9F5-0266-45A7-B6BE-35C9D922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212F26-18A2-466F-AC11-38051F6A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E4F2752F-CE5C-490F-9101-ACEE55BA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D9E66EF3-0FA1-45F1-B379-8F5D6DE3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05C08455-D39C-4F8E-80CB-6312ADBF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DCA1E620-676A-402A-8C53-E5DD9675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2C42DD0C-952F-4351-B333-52299E16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9652D87E-FE22-4BA1-B700-0E2C01CD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CF081EE4-5B12-49B6-AB47-2E37D4CD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A06C9826-D5C9-46AA-92C2-1464BAF5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39CE302E-546F-47B9-8CF0-47144B0B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8C46B004-9A36-49DC-8256-D1CCC569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557160-AE55-43B3-BDF1-D3548A63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1EE81ADC-3C78-44BE-903E-4514C089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978DC044-17A6-4590-9D30-7FED10D2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4B05BF9B-BB8A-4F54-84A2-EC6EDD17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74BCEDC2-7F8A-444A-8E7E-FA808298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877EA767-5599-4F07-A0C3-E285DFFD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147ADF5B-32A7-4336-A0E6-9C516BE6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973F6E36-53F2-4A19-8D44-0E324D22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75B6EDA8-270D-462A-A116-CE133201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688DF5F1-B904-4B50-A675-484FC702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7906E4E3-C96A-4832-B023-05BDE660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5BF09D-1E36-461F-9D18-A783E3A5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678D88DC-1BBB-4C12-8357-9C7B59CC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4463D0BF-6338-42A7-AB9C-0BA949E1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C2A0F5D3-FB37-442D-B91F-AFAB0FFF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FEF3F622-683E-46D7-9C84-261174ED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CBEA81E4-6AF4-42E8-97B9-8A4437CF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B7CCABAF-047F-4ACD-AF44-E605361A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8005F3D2-ACE5-4247-B957-F81E4515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0DD80DE9-E8A0-4648-9B75-F7515D27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05709C02-7416-4A78-9617-53AE8DAB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9903BF5E-0485-4E69-AC4A-D18822E7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7C9961-8DCA-4849-B69B-3F4BCC26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040568C3-23D1-4231-BB3D-71EE99E2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9F60C889-ABB3-49DB-976C-FD27877C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3F47F14C-C963-4095-B080-C749BC00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CB9613FE-1E27-454C-AB93-6275BF8E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DF5980FF-56CA-47B5-AC0E-9B26EB84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C551255D-5A8E-4CF6-86CB-AC39CE69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DC52A319-748F-41D5-B7A0-94630A08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67497AAE-9294-43EE-B964-5E5E6112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387B8631-506C-4C6B-B3C0-FB29EBF2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A9A63AAD-4F45-4D3A-8868-EF9290FD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04DA-361F-4C09-AEB7-850E426B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6C60C9-FAC4-43AB-AB2B-419A255D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32B72703-CF15-499C-9DFE-ED77BBA4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3306A53D-D408-4243-BE81-452F918F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6E7FBA9F-1D28-4448-BA9E-1EBDB265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B17CE158-6BE0-48D3-A177-B5E437B1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AA748EC6-B6C5-4B24-B1E6-5D359301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5F48EECE-36DD-44D1-9CD8-C4BFC0AA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DD1DFE97-3A8C-430C-9DAD-83CE98BA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05E392FC-1F03-4C79-9516-9AD495BB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AC651034-CF6E-4CB5-B2C9-47A8ABB0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AC252CCC-C6EB-4D21-B900-76CAA6E7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59983A-7CA2-4A9F-82C2-4B154F4C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7FB846E8-1F86-4B24-9000-5144BF65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126E9A5E-4753-43C5-A250-2053C4E1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11417AB2-0E33-4258-9257-8462DEDA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939CB2F6-6EBE-44F9-8B4C-4906367B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68939624-5917-48CE-B795-85F010E1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A175CD73-0AFD-4246-98AA-E5E6B1D7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83B9510D-06C8-482E-A9AD-B39CCC46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535743A2-0CEF-410E-B550-61746178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5B9BC82A-11CD-4306-9674-8028C89A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8F45E400-1580-4FF2-8231-9C08973B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1B462-31C4-4C25-8B7A-B974512A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D9B6F062-A849-474A-86CC-24326F1F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07D70F6F-A0B8-48CA-9850-4D9524B8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E69FAC2C-59A9-4436-916A-BF8EC382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E38DECA0-8215-43B6-B59E-F99032C0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7BDFB597-31AB-445D-9C1C-98672825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6D4EBC7A-375B-43CE-A7A3-449507A0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67D5905F-A42C-4A59-95A3-D772816B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10EF556A-4FDB-4618-A473-1F3F1587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D5AA84D9-7799-4D28-AD59-A664606B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E7E8FDC0-2F74-4A30-9F5B-01E042B8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DD2A0-6BF9-42CA-932F-92B2F6C7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E5B762AC-25FD-42FE-979F-823EA950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B4E31266-D361-4DEC-9A9D-718965DA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FC4A4819-1559-4DB9-AE73-E564BEBE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919AC407-DFF2-4255-8C79-75A78174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AC51178F-F983-465B-BA00-807D1061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C8FFB763-0741-4D33-BC63-873ACD08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5806A0EA-3D45-4CFB-B192-F2AC0482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02441E06-F668-40F8-9A56-F4B935B5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257D9944-3813-4199-AA0E-4A1C4CCD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30332D29-7C02-42AD-BFE5-F07C2AF0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EEB5B-1EA2-4B53-A743-E64EC8FE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5B5E58AC-8EFF-43D4-B985-E7FBE683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DCD89F1B-655B-41F5-960F-AC651494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5CD3C94D-7808-4E29-ABD8-C4BBA692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74B98B4C-C254-44A8-9592-D9352CBF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180513A8-A8E1-413C-B82F-9E504FBF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20959102-7E61-425C-8F4F-BC63C7C5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E10C97BC-9DFC-4A1F-9BAE-5FBF49E5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3AF8B85E-5875-4DF5-BFB6-FF1765C1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67AE6E29-D6BD-4C20-9E40-4BBDF321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78B7F113-E0A6-4BBF-B5CB-CCB8A7AB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27DC0B-AA34-48E6-91BA-64DDBEA5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8C70C889-43B2-4FC9-8C73-80F3F465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D3A39D9B-3C10-4FC9-89F8-347015FD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712BDAEE-0E26-4E64-A778-1281751B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181DE49D-FFCA-4E63-952A-29642B06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106FA9EC-9EBC-4CF7-9E41-A0E42A87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5968C1D6-F156-463A-874E-60B2F843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9464CEC9-320F-4BBE-B236-BF4D8730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C5EA92DC-ACB2-4A78-B3DE-0ED476C7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F43F031B-A06F-4682-80C1-4B31A92E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4B521956-D54B-4B6C-8961-76042304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DD7B7C-7045-4326-ADFE-99D60274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5321A285-A9B7-474A-99FC-4462E21A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ACCE6DC1-CD02-45FC-8802-0A9320E0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B41F7CA9-3764-44DC-A1FE-FE27CBBC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F7C7CBE5-944B-4815-B5D5-4E461BFD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4BD4A7FF-3D2D-435E-838B-8FB6E3F2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D34E14B2-52C0-468B-81C1-B619214D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FFC539D5-8BDB-4D87-9680-A1E23AB1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0161252F-695C-4D29-8935-1A6316EA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EB753136-6FA9-4BCB-9370-015B144B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CE939FEE-8EAF-493D-A236-32ED6F75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C818CB-84B0-4BBC-8E83-E0FFE0D3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25966691-CE3B-433C-8494-D9CD1A63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A538CC09-00FB-4CF6-AAEA-97E01719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6DB14275-84BE-425F-AB14-B06F6BF1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794BCF60-850B-4133-8604-9051A705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B5AC1C5E-9D39-40C2-ACF4-B7F24154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8438C01E-3AC4-4717-B9AC-67295271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0FBEF144-5F8F-4B7F-B58B-7095F099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226F3EF1-8363-452F-92EB-56DB93C8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A4D973BE-7BE8-442F-8379-80691FA5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D6F50CEF-31F1-41C7-A7A1-E3B41BC1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600B35-4CA4-424C-B9EC-502E2D4C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05CFEE94-0291-4CF2-BC88-D743A113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4BE0D1D9-F4AC-47F7-9210-D4D40B3B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B1D48B54-776A-4F30-AB7A-25F5DCBB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CD787282-E50D-4DF6-AA00-6087FC4A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8A551883-79E9-4758-A9AD-89561430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6795A48D-DE04-4E6D-8E9D-09DE8CBD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804CA8C8-FF64-4C82-B161-0353F45F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18A2DCB4-76E8-44D3-A7F5-9D761774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99A78DB5-477C-47FE-8837-61908837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281CD63E-1834-45D3-891F-596C1BAA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25BE8-CD3A-464C-A108-4EFD1F36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DD576EEC-0318-4879-BFD5-ADBD9FB9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487DA595-2065-4B8F-B3BD-E5C223B4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928B97C7-DC03-46DA-B3D0-D2AFAA1C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F1F39F9F-08C5-40F1-8B5F-1DB9A828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3A4EBF4E-960C-44BE-AD01-A5AB44F5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19882CC1-A71A-43E6-8CD7-777BA7F1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68B198B7-A0EB-45FE-9879-BFDEC403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81C27756-6B6F-42BF-904F-7B35DDBD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DAE5AA81-46F5-40F3-8DAE-F281F903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FFE5C545-2647-43F1-8D62-9A2E0333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2CA5-5CA6-45D0-9E6D-A37E5236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B9CB1E-A533-4F6E-BB17-631279C6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AB70BF3C-AE2C-4660-A698-E5BE13C5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43BD3D5C-761E-491C-A65A-09C9D50E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DC2F9037-12EB-4FBA-87FC-EA4BB237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7C28C23C-1E4E-473E-863C-7B32F610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46294F2A-B810-479E-A499-C9F72143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CC691440-64E8-43E8-9EFF-D0AF5073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591B5CBF-1EA2-45CA-A2D7-22D07167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90BE11D9-3AF6-4893-880E-DACA02AA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3242263B-DC75-43B4-9029-0DAED129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3ED46961-D2C7-42C9-BAC1-730C8BC8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2B7E20-6427-4B3C-98D8-302DF8DA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E18F36CA-9DC9-46F9-8133-D07AD907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A7184080-1125-4D3D-BDA0-AC2C4CFD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3437D06E-81C4-4242-AC04-E661C965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715403A7-DCFC-4DA9-9349-181D5583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07085963-BDAB-4B2A-9608-4783881B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74B284EA-E049-4A44-B3D8-635C93C3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9C8AC2C1-7D64-426A-87C7-0D588707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E95DD429-8DBC-49D4-AC18-588CFA3B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563D5A95-F948-43D5-9CA2-E5F3AD58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AC804020-969A-4FE8-BA11-1E238D50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7BDA8E-A1A0-485F-B588-DB0B2528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DED9D7CD-5E73-4B3C-A78F-201B68F3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8499D452-CFBD-4674-9811-5A781FE6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65B61641-39D8-449A-90AA-12F734F9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826A2480-F973-4BFE-B0EF-F73CB2F6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BFE6256C-8069-4541-8163-EB958288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6A5FB44C-7002-4EE8-B60C-DB1BBA3E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A257B3B8-80D9-49C9-A17D-DCFF055D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C89251E3-2C72-4D59-B44D-859F7923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3DBFD4F7-D004-4993-A3FC-C25765E0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12B5D26A-7ABB-4545-88E2-4DD4F35C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FF265A-9663-410C-B0CF-8494BB0F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581B0021-E23E-45A5-8A52-7F359634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444000E2-058F-439E-B5F4-929366AC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1334761B-DED5-4FDA-956D-4747690D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47D1C0EF-C36D-4871-88A6-77A913FE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67208D9E-A1F4-4A65-A4C5-384D52DE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21435A2B-D4A5-4941-BDB3-573CA666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F3D72774-E7A2-41AE-AA34-91D4A477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E373EC26-556A-45C5-9F23-D576A856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A03EB18C-0E70-42B5-8993-CEE75033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EDC6F2D9-1B00-4F21-93F0-40FE0896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2FEC60-74CB-4A3C-878E-21AF41A8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25D4A83B-5568-4324-BB5E-CB9B07EC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F4DBC2B4-11FF-422C-916A-BA28F402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5B91149E-D1EA-416D-BF51-9D48CC76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13824960-3A14-4E98-AAB9-19370F12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EB7824CB-CD26-437B-9D96-A56136F8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A34F3410-EF49-488A-BB2D-58DF4510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5B28399C-01E3-4DCC-AEA7-8D0B3617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A59F55A9-751F-426E-B33C-E8B19A78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C63A69C9-75C7-4A84-8104-A5319A0B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9C3869E6-CF29-4DF1-97A9-E19E63FC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453D65-6F4A-4A2E-9933-69EAD603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B7A6430A-9FB1-4B70-887E-236E34C4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6C789926-C378-4910-BD2C-064E8CA2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03632978-6B82-43CA-BFDD-1275A5DA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1AF0583D-CC68-4EB6-BD2A-DA3E012D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28C17A76-FC83-42A7-AB9D-3B433EFE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8FD94735-B46E-416C-B7A9-F4E21574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9F635017-1F1E-4C0B-923D-DF9CA5E0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0F3BD33D-5547-4452-AD0B-D7FBB3F4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5E8F45D9-7CE4-49BB-8BE4-F2C50DB2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1E733D8F-9D4A-4B12-A0F3-EAF7C3D5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025135-9708-4D3E-924D-A87368E6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0E459560-858A-40CF-B7B3-EF0063DF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3236A6D5-6D72-42DF-BCFC-6DE74B21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A3FBC3FD-4CBC-4143-AC4A-85AA0652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0589E866-E4C2-4809-A110-8B8B2939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CCA7B443-A994-4BF3-97F4-D27188EC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8218363B-8971-4BB7-A2E2-F090B0C9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C8AA2523-ADE1-4D40-A06F-70EF1487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293C5E90-FCF8-41DA-A4FD-BD116BDE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D3F12A01-66D8-4127-AC62-214C7A93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7664D1DD-3FD6-4511-906A-C22049BF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03873D-DF50-4C9D-B574-FDD9DD8F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F1A3E12F-C92B-489E-A25F-BB4327F1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50BFDD3A-F770-4980-B2CD-0571F024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76EAFB00-1372-4EE2-B026-35207DD2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F71483E4-D5E0-4C64-B622-707FD780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699E70CA-B2EE-4BF6-8A90-F518B065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440EAFBE-3E2B-4C02-8F4F-9D952A0E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AAA325E6-73FD-424F-94CC-EA793ABB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59232A0A-8268-4311-B8B0-90AFD4B0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36E16409-F19E-45D9-8FDB-ACC6E036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E0E98642-5ECB-4A4D-97A5-BF563001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068D08-41B3-4385-BF0E-81481039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406ABD05-747F-48A3-803D-86901A30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F9283685-9CCA-4DA0-91A1-8D817F6C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48030FC8-C0C2-4091-8945-05C53BE0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73EC9599-1373-4EF5-A7B3-F215954D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19FF65D8-AAC0-4259-AB50-FBF8EF4E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8B5238D3-79C9-4B74-AC71-A35954B1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C233842B-3DEA-4D64-A611-7D821F13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64361052-3376-4557-84BB-7AD5EB84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9168E5B5-D3BF-45CF-AAB2-FE71998A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3FC504A8-5BD5-436B-886E-A1053752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EB1508-9686-410A-9220-FC0F35DE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291FC427-B25D-4DC7-944F-C94D8225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DC0EF59E-261F-42D8-AD8F-F773EE4B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9214CEAE-6769-471A-92EF-D0F034D7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EC056939-3571-4BE1-885F-3A03C84C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96515C60-8D1C-41D7-81CE-D4021A98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2E9895EC-9E4B-4677-BCF5-25875420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92711A62-15E0-4A87-851D-E10C2185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300DF866-2FBD-4B37-8CAD-C9145F2E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E620851F-B9F2-4A9D-B317-449CFD14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FC9C21E1-754E-494C-8AFB-CFBE2ECF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29DE-D7F2-4D35-86DE-76CB3A6A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F206AA-5445-49B2-9293-1E7909D2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E523C819-07E4-4E14-8440-01592E54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E0944349-47CD-487D-BBBC-B3F09CCF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008F7E39-13CD-4A4D-BB40-A3BE6EDE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5E35BAE5-DCEB-4740-BDF2-0C87A22C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98AD7124-B02C-4059-BE13-7BD64514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6BBAEABE-9DD1-4B2F-B898-2EDD37EC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6B243703-D090-47E5-B119-B668AF17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4AFA4196-1BC7-4E95-83A8-281293BB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D2B39EBC-99E4-4D5E-8BAD-596AE339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373664AF-34B0-4A56-9A0C-81B3D080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AF9B9B-B155-4D01-B69B-C4D0E3B4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F3804682-6CC7-4CEF-AA96-8D776179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EC1E84BB-9D3C-4F68-AB2E-B8DEF561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50FA9ED9-A226-4E82-932B-6543C7C4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9C44C1F0-BFA9-44A5-8244-E30B1C8E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B8C19B20-6DDD-45BC-8E0F-CC47AB25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1072CE25-B370-4AD8-AB77-512DC5C1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CC4013CE-17BC-4D51-9814-A2254762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45628E53-C995-4251-8C83-7EF95BB1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C2A2DD88-44EC-4FFE-A2C9-8932567D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BB9D7F63-8338-411F-94A8-B951303B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10EDA2-A039-4B64-8041-2DA83758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39F415C1-5665-4A25-804E-9DEA9322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4EA503D7-E739-4A49-9C8C-CED066A9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91868E21-7175-4AAC-8459-1905B411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C275202A-0A04-4E99-8DE1-13524704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AA7DF9DB-D182-4DD5-BD1A-CC18B1EC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5E93BC14-B155-4502-8F5A-DD8C8646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9A4D69D5-808D-4C9C-ADB4-DC738EED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BA860542-E26C-41D0-B65E-0DEC3E76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011FABFF-5F49-451B-BEF8-E01FF4AC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17A75ECA-564F-402A-B73F-CF739B2E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665B22-FA19-421D-91A9-1DBCC433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3DC30098-FED4-4F2B-BA93-16C8915E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CDB94655-3677-4478-99B5-E3242C03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66B4E897-2331-4598-A322-C5D6FD6A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F29D160E-B0FD-4E22-92E0-13147721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1BC645F3-2109-4585-9B01-8423D357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B071FE63-E2F2-4E78-A4EB-292DA5B1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AF5474DA-01BF-4AA0-AD1B-3BE2D151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6C569751-36DA-4A1C-BB32-A8147DD2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E173A8BB-5D99-4047-BE30-0814E45A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D5AC8191-1F21-474A-9B3B-5A08FDB6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BDB066-5A7E-4860-8CF4-7C526A80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FC4463F8-126A-4D9E-AADC-71CE9639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8DB7B8-F54D-4A02-BE92-6975E770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093580-A15F-419E-9454-B4937D50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ACE91E-ADBC-4D06-9B2F-D73008FA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78C67E-3404-48BB-9D21-23C17CC6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15907F-3291-4FED-81F7-4DFACA56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5445-97CD-4D7D-9738-E2B54DB7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A582A5-0C9A-4712-8E02-9BA606B2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C11AFF-4E16-45B0-8AEA-32ABFAA1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5E2869-3B57-4672-BD03-97CE916B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4ED86B-C0C0-4294-A451-EAA8E994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C64618-B6B3-4A1D-80A4-D923DC25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936E72-513F-4286-88CE-3D1BD1A1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C92119-87FF-4D4A-91A3-1CB83C93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FC87CE-9183-4F88-BB59-10F55714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2A4EBF-B67A-4E60-ADE2-07DEC017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279A0B-91B3-43AE-BCA6-FD9DA899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1229-EA84-405D-A802-17617C24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DA562E-4475-4A3A-9131-69249F8F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26F844-7417-447A-8670-5CA9BA03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5E4E83-D11B-46B1-9AFB-FC36B783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35BC6C-D257-4237-9A0A-B8942F57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5182BF-06CB-47D3-87B0-2B360913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5FB674-95CF-4F63-AEDA-843353A6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970AAE-48C3-4C00-A109-EC5D73E2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D36683-1B6B-483B-BA9B-2C806213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B3179F-754F-4957-9219-33C85C09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ADE4AC-1CB1-4A7D-8307-54EF8504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0A41-E2C8-4D6D-A0FE-B97E19C5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D0A5-1CBB-494B-86BC-52BCA080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3D6334-FDC5-44E0-8DB4-09A1AC70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825CEA-2E9A-4B1F-A8DD-D8671D77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84FB26-B4E0-4FA8-8499-E9E6CE9B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7ECF70-0B08-477A-B282-38E35738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571BF6-4E3B-4A2F-B284-C8BC237F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2121E3-0904-4D8B-A55A-0786A939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C44730-B4E4-4BD8-9D82-48FF7C57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6F0CEE-B78D-4936-9168-AF847819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153E5B-3067-4E6A-947D-2D9FEAFD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60BB47-2C57-4492-8282-7F444780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2D5D-C810-4A35-BDD0-1B0BFB8D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345043-DE70-4A6A-8770-89090D81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123BD5-5560-44F9-AD1F-5BA55105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C6611F-82D6-452A-9B23-EA0FF947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0CC400-9530-4931-B99A-D9D1F9F4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DBA26B-F9CE-4C7E-9379-9D0411E9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8B2F08-55D4-4A96-B8D1-3BBF2B4F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F13695-06F9-47BA-AA41-57A84286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A1724F-397D-4D12-A7CA-39759E93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BED1B1-3483-42FB-8A99-EB9645D0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55976B-3DA9-4C10-BAEA-4053A071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CF44-A6C4-42AB-869B-9951997D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4E2DAF-0E4E-4CDA-BD19-8D6545F1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014FD3-2E1E-4871-A561-65208AD9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9BA116-30E9-4354-A371-24A4F2DA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CC6F11-D143-4F08-B5A6-2A9550EB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619CCE-3053-4BBC-8F64-9B06D073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4F2513-BCFE-4326-B49E-CFE0412F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2ADD2D-BA83-44DB-856E-A7DC0F74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4FDCA2-09B8-4ED0-A8BC-E3AB54AD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878356-6A2E-4DC2-B2AC-8316ED42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EA022B-D002-49E2-83B8-5C24B8C4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1017-AE0C-4215-8792-1EFDD28B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20E4D7-AE99-4A13-816C-119AEA75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E29AC1-0D6E-41CC-9770-72400894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2590B1-864F-4536-AA63-BD46EA0D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DF6F73-0AF4-40BF-8F18-C3C07793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761930-9DDD-4734-AF62-9CEFDCAB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637043-95FC-4B54-B49B-FE4F26E4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22CFE7-788A-43A6-9D2B-F4ACE6C6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5AD3C7-61F6-4B3E-ABC8-3F1CA285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260BE5-C3EA-496D-BB7D-7C95E61F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EEDB96-36AC-42AA-9D91-1146FAD2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ED78-7C58-4F80-8E1A-F6C03ED0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91399B-1EC9-4898-B727-B7FB6A49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7AEAF0-E7DA-4C65-949F-E9FE9311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C98310-C84C-43CB-A319-ADE6A586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EB0BD4-5309-422A-BCBB-FA904062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C5C911-A81F-43B5-9D17-172FBCD7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407B6F-7F8A-43BC-AFCF-EDAA3F6C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7B282F-35C4-457C-BBB1-A7617DF8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ECDC31-3CA1-48BC-98D6-8060A703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9A12C9-8C09-4616-9EF5-152E699C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574FD0-FAB1-4949-97DC-CAE4CE28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E83CF-781D-4362-849D-0E1DAB31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48513D-C983-4A1F-9F1E-64412431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8BF1D0-F70B-41E8-A985-5F0C3A4D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CAC160-226D-4E65-A1D9-900EEC8B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84C919-87D2-42BE-9556-DBBFBE3E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1FD513-9C67-46C3-8852-4EBA0BD2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2641C1-CB50-43C2-A43F-DEEF084F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04839D-517E-4B9E-A552-372DA147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9445A3-5054-42AB-8DEB-08603DE6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7E6286-26B8-4C58-91BA-32152F45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67BF1F-07FE-4087-A131-17EBFEDE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22CEF-B6C7-4AAA-ACE8-06CB8B07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A9DFE1-A825-425B-8946-B4374DAE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9555ED-B81F-4EB6-9C49-0B1D969E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CBFF5E-4E8E-4032-8078-D65947C0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8A962C-D2FE-4849-BBFD-30C3B5AA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3553A9-C256-4B4B-A6D4-20E30FFB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2E3B87-B486-48BB-AC12-52978F6B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CB2374-2C7D-434A-BFAB-E278E559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0C1B3D-4767-44DF-A69A-C97CFF45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14ECB1-3D3F-4339-8511-D3780949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00CE75-CFE6-4E9E-8051-EC0A4ADD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00A2B-9272-475D-BF90-40D281C1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1EF4CA-CA93-4322-A513-D378A7FC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5139F7-2151-4888-8A5C-46D703E8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B4AA34-094D-4277-8957-AE0E8709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4A3690-F0DA-4BEC-ACC5-951D2CA3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0D238A-EF3B-489E-A9F9-257A7FCE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BA1BC0-1AD7-433C-953F-EBC43C69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901739-25AB-43A7-AC0C-6AF83346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326663-9370-48E5-861D-3751B80C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A85190-E7CF-4C0D-96B3-52D2BD45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41D7CE-66FB-4D9D-BB2C-4E453C54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49842-E841-45A9-92D2-049869D1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B33E70-DD85-44D2-A38D-451269EE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0F5364-AF73-4CE6-8557-9AA3A3B9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CA1643-408A-49DB-BCA7-1A529924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16212B-EDF6-4485-B5B3-7462491F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31A743-438F-4FD6-9112-C0995B13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BC1B5F-2C30-4574-907C-76AC85A8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B5CEB8-4AF1-4C68-9C0B-FFFB8C13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D25B7F-D8E5-4210-B874-553038D8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A847CD-B813-4E54-8A88-BCAC61D6C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E1875B-9511-47AB-9518-8242684A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EA972-B287-46A2-A825-5BD969CC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22F740-81A3-4D68-9B21-AE5E9E34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B44D2F-C88E-43B3-9618-536E7011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EE0184-DB1A-49E2-98DC-6732F81F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414DEF-AAE0-4A4B-823C-9BA4568E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F8B88B-CB9B-4D32-8C84-396D67B3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84E969-20E5-4699-AC2D-E6988DB2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2A007C-1216-43D8-AA93-864ABDC8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F6CE63-E68E-4F4B-9773-9051DB03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31F67D-7BA9-4538-AF2E-3D9946D6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E5DD55-4CA0-4870-BA90-D62E11BB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770A-EC73-4F47-BAAC-CABCDB36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2E1B6-11C0-4287-A379-45030BF0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A32E22-5761-40F5-8E13-3ADDF3D5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0CC7F6-3A95-4D9B-B23E-3782E685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F132FC-C417-45F5-9990-E17A8EF6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E37D0D-3D15-4AB8-89A0-B5320B39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D07E49-0590-4067-842D-A71CFAD6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1A6D96-76A0-4226-92AB-2CFE92F6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1C89B9-B41F-42C8-B62E-CF390B56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E0B1AA-9EC6-4767-BB9C-5E919CE1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E363F4-04DE-49E3-902C-FD19399F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C809F0-86FB-4B79-B208-5A344DC3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FB879-18C8-4627-8DD0-EC8111E6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73BFBF-FB87-4B6F-9B22-67DD26FC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4DC8BA-8A63-491C-847E-B9AE4560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27C1CA-6680-4F58-A1CA-CA7623CE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ECC332-90C6-41DA-AE02-7A9E8CDE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F2FF7E-4C65-4722-9E30-0D20C936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373167-B0AD-45BE-9B4F-AF432DD0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5A021B-23F9-4DC8-B93D-E39FFAA8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D4D70A-7ECC-4217-B261-AED9A2A5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A3AEF0-67F2-440A-8123-B61C81BA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8B201C-B0AE-4470-9B55-75E0E394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9E520-F388-4D9D-A8A7-1DFBD367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AE6CEB-0782-4888-890D-53D08ADA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699F80-F3E9-4518-B5A0-239C0068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839BEB-051D-4B8B-986A-7B9F0EC1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96DDF2-E340-408D-8ECB-E414D4B0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5A4101-575A-4B86-A6B1-C055262D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6EB4B8-BF4A-4DDD-A1AE-3DA39E1C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DFEF8D-A324-4DF8-841E-84719FD8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616C66-2528-4A85-9F97-B0C55347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9152FA-3B19-434E-A20D-C40B7ABC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55B828-81C7-4F5F-B413-97FB2DF4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03E3F-75C4-43B0-B4EE-27113032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33E3F8-F06D-4DF9-AFBE-5608D0E6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65034C-C931-4E36-8CCB-944792B7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4BA56B-6F66-4269-BC36-A501A567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433321-8124-4A71-A063-0D55CF02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2450FD-E42C-4277-B58B-96E1439C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916DBA-F6C3-4FD1-9286-D488B1F0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D599DD-8B20-4897-9819-491B4EAA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4935A9-6812-4DED-A9E9-8AFCA8E3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A17738-F9A5-4409-9DA8-AD90A479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A83CC7-BD36-479E-BD8B-0D9EBD88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462FC-94CA-4A40-ABAA-736B1945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DF2B72-B8CB-4F7D-9691-0CB4F913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35C842-3236-4247-AB59-B1FCEA0E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986C5D-F824-4FC8-8F0D-CBB445A8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77C242-96C5-48BA-92F8-09AC8EB5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A0B454-3669-4542-A593-D31726A6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2F1820-049A-4EBB-85DF-9D0E4E62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54FE8F-2E72-45B5-AB79-CF0DE082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DA6979-7179-4BCF-8F76-DCA45566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B108AA-2064-429E-A987-05F954C2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90E7F1-B931-4BBB-9AAE-35EB26EE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1E78B-EC85-4A07-B861-5592A22F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E00A94-B276-4634-81FE-946CF2F9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25EA65-427C-46B5-B8D5-0DEF0F11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D5B8C4-AB0A-4A05-A078-AFC53CB2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5FFCE5-3402-41A0-8254-E99D8E9E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546988-BAC5-4554-8B90-CC544E30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AB3182-2421-4D00-A91D-3D0F86C5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815826-34E9-441A-8850-9A4425E0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0F7932-6BF0-4406-A404-B4AF62C6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F12C0F-1720-4CAB-8629-85402540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906F408-E278-4953-8BAB-F3A0F797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A6EE6-923C-4F99-A6BF-1DF0A34E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BD4D83-ACA0-4769-B8BA-89302136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19C00A-D0EA-4BED-B685-4E888D77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306E05-2BF3-4587-8E0F-B4ABF94D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6B8194-C676-48EA-B518-2F5B77A7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6F73FFC-552A-4894-9F1D-F98D24B5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B65FF32-4897-4966-90E5-E17CA487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A160FF-77E2-48AA-BAAD-A7772B5C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21B9B9-2E32-43F4-BD94-EC3D9F35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64A642-D212-4C37-8DD5-968A0BC0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087BE1-94C6-4131-BABE-A5BD47E0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118F1-E10C-4B3E-96AD-50E433EE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C2EB5D-8942-45A4-B091-C8155265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277C51-B064-4D9B-B28A-AACBB193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DEEF50-98F5-451C-BCD5-D4FAC3F0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138C92-5CCA-44FA-85A8-E10D45F9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28FC8E-0E05-44C0-A556-D864CBFD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5F01BE3-F4B2-4B00-93FA-F897118C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9CB855-18C1-4C28-A40C-92E239C8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F9DEDE1-777D-4BEB-9691-51FA2448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549059-E2D3-45AC-9BB1-AD17EB8C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E9BCD76-B0D8-420D-A5A4-02A3B13A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71CB3-EAF0-4845-B0B8-163737C5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16341C2-8E54-4BE1-B3B6-5745FD94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EDA3AB8-283D-455A-8199-E92D7975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DA390B9-0D59-40C1-BBE6-92B73779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F8434E-66E6-416A-9740-C42E977C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89EDCF-DE1B-451D-8DE6-5791D930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8F1090-75E8-477E-8591-D01DBBCF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95F7E30-384F-47CD-A5A5-CA162052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59BDFEA-A3CE-4759-A92A-2EA7DC1E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2745B39-0884-468A-86DB-E57B921D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8CA8B7F-7274-46B9-A371-798DC429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69982-B5FC-4D91-97D1-D117BDC5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DF4C7A-FD1F-4683-B844-7F5AE940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1277178-34BA-49A1-AB92-A72F25B6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9D0AA16-E6E0-484F-B7DE-39E6C97B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29FE6D-8606-4C1D-80BE-22677649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E8B04A7-41FC-454C-B1D3-1D19990E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F8D0F3A-6A4E-44E2-96B9-B4E2FE8F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C6E458F-C2E3-4477-8E11-39CDC3C3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6D0F17F-CC67-4BB8-B309-9B9554C2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F66A39E-98D7-4B47-8741-4EB350ED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F8585BE-E6AD-4454-8E34-8DAF5D26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DFEA-EDF1-47B0-AD07-B6F4E344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12415-CEA0-4B1F-BB2F-8C0349C0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EBC28C2-6E34-4577-926E-F5F82086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D407044-CE29-4C60-A110-1D76C4A6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EC450A7-58DC-4CC7-A72B-C1907432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4B863B8-3849-41F6-B82C-B68AC521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38A977-0CA8-4EB3-AF1A-A3BEE902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7E18D39-E4A1-4DA4-ABCD-BC19BABE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BC5BA69-0C03-4623-B9D6-0F25A317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13A490F-B2E8-4366-B567-662B450E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FFB3F7B-210F-4CB7-8DCC-134647F3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0406516-491B-4166-9C7C-AD45B0CA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EF806-0FAD-4268-B895-EF87A3BC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364AFBC-7209-4F90-B332-9C788A6B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CE6D5A8-1E1C-4CEE-B77C-26AF2A20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30732B-DE8C-4C99-BA15-5E9F1402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56108D2-0C7E-4390-BC02-AED67EC0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1350A7F-866D-4E1A-8110-116DA2A2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DDD2204-3828-4B35-9058-F3BE66B5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E848CB1-7753-416B-8BFE-07615F1F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7F3AE24-E9C3-4B69-8540-4F5347B4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FBBDE31-8793-4BF7-BE1B-FDE1B678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7C061DE-FB01-4966-8429-B9AD139A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B6A67-C2BB-4024-8ED0-718699A3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DC68BE3-27C4-47CE-8089-C4AF2524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8EC55C1-780D-4D61-A007-228CD78A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3D7775C-8A98-441C-9110-3A73EFB2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C76C7D-3AEC-465B-940A-DD1776E3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F148A19-9754-4761-9400-73F6F1AA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BA4AF10-FCA9-4A0D-8295-8BC16CF8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9EEDD19-3D8D-4E0B-9719-39811359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E9E5BE8-760B-4956-B412-DE37D8BD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2E43BE-63E6-4ED4-98AB-F64D3DCD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77E7B16-9C63-4108-91A2-C65F7404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638B4-8ABC-439D-84DA-4BC28A78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7A67D2A-521B-47B0-ABE6-63251DB8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03843AB-FDA8-4681-83B9-92A8E3D4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5ED8934-6FE8-4744-8A33-64B19383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9D40062-C7D2-4234-9D28-E9A38B7A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276D99C-DCDF-4430-A1EA-53B5D7C3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363DC4E-9032-47F1-98D9-4D86EB3C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F5E54A3-E13F-4018-8D04-38F60C61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C604DCB-43AB-49F3-B457-6E6A7068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D116E10-8E62-4AA0-B138-474073F7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CAD618B-0DA1-42C5-9DB8-0444AB32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5D07D-E37D-4B1C-B3C0-03736A64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F95507B-C680-4749-BC51-DB968CC0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A0A1EFD-F5C5-4FAF-834C-35CA625B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4E1E3BD-C1F9-470B-A84F-CDFCB4E2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1A13991-2A6D-4CD5-8AA8-8E4660D2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4A871DA-445E-49D0-A3A1-5247FF5F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892B5F5-7DD3-4DD2-923C-886DA475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38AC52B-874E-4FC6-8B8D-F377024A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F173A00-BDE1-48B2-995D-C816A235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5154BC5-C2E6-4542-90A4-A8A41DCF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381A427-075E-4B6D-AFE2-E820F4BE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26156-A92A-4B1B-8CF4-DB010140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A2E9FED-0D14-42DD-B973-65B74163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6F6BBDE-890B-46B7-AB2F-AA855EFC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2C33855-F837-4FF2-A8FE-21E807E6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452D97F-15C1-4104-9E33-09C8353D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BC67107-D3FE-4E21-B154-3B42E913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8FE5EED-EB01-45BD-96D6-AE1B5B53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DC5CB42-12AA-41F3-BBB5-089A2800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BA3FB66-970C-47A5-9D31-FF3E9AF2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90D1923-5759-43AC-9CA9-10EE325D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2EEEDE9-38FF-4459-A719-C1023150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A612F-1B73-4D04-8CB5-EBA57195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2F1E8A3-DD8A-4A27-B836-E36337BC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C116CC3-EEE5-4EFE-AA2B-12587E36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688877C-D7B8-44FA-961D-265EDEED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4B71F3E-209C-440F-AF2E-72929D84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2A55C63-DB65-410F-B731-FCD31886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F86272F-AB7B-447B-8D74-BB25AA37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20C0C41-B0F6-4CDE-B232-8100E6C2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63BBE5D-3C65-4D80-AB75-0FCC88A7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8EBF790-0586-4F8C-80C8-7DB42E8A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9A09622-00A3-455F-8DB3-46AF85A5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6DD06-E9E7-4274-AF4C-7B44E2FB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4721B61-420D-4AAE-840F-572A49CC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DC723C7-8EB1-410B-947B-3C147F74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4592E35-0A87-4660-80DC-8631CD93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DFBD9EE-2C1E-469C-BD39-7A283BBA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0FC6124-4662-4994-A1F5-2B905D2A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BCB3060-BAB9-4BCF-BD37-AE5795AA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D869D50-B8A9-49BC-B920-681DF328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44A4C36-84D4-4B12-8772-30E7434E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027EA3A-F1A3-4F98-B073-6E706A62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AEB2834-E291-41DF-B78A-EC0ECA17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5AC01-4765-43CA-B7F3-441EB53F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4311F45-6030-47B2-9F92-77285369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33C4C16-E935-46EB-A4DC-4F3F8126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EBD0DE9-8E24-4CA8-9973-F430069C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7CC4A4C-B2CB-4D49-A26C-4A0C1E63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F11B1A2-F0D4-4835-87CD-8CF306E3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4449AEC-B773-43A3-AABC-8EDC07EB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4E1CA92-1F59-4712-ACCA-D57ADB0B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B5E39E0-2D84-47AF-BB77-8990559A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37254EF-AFC6-4F8B-A7ED-B09D7E07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7A7CA40-ADD3-43B1-AA1A-4243B7FF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42FCB-BFA3-462B-9061-111DB4AF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EEDD8C8-26FE-4F82-83E0-E348D575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A03E458-ABAB-4CBD-B1D0-E8ACBF58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51D43C1-15C6-43D7-A96A-FD5CD25A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6C36CD6-F100-4371-9809-CC3FEE70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090D7AE-BEC8-4CF1-9E2D-F3703346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356DBF1-0183-45C2-8B9B-95F77346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CD9AC42-82C6-4799-81C7-C00E6CE9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0F09008-38BB-4899-B18C-B670E2E5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77D998B-8388-420C-AAE0-ED177E62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A9FF0F1-33E1-40EC-9DC3-F84B6177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FF59-CC1B-43C2-AD3F-86B179C6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8258D-E69C-40DA-AB0D-4D3666CE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12D20C6-EC96-4CDD-B69B-FFF06089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E0FC917-8F12-4533-ACC8-43CFC43E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D1CD892-925E-430E-B648-BB3204A6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FB7EA07-C45F-493E-998C-1B54A857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ACCDB66-3644-4B2B-A1A4-89968146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E48934C-D352-46EF-BAFA-F74877BA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AC01AAF-15BB-4DE5-BAD1-0B58399B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97B5B5C-1780-40B9-A6AE-32B8AE7E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0DBA109-7A38-46A0-AF7A-E0019C8A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422BA72-C296-4F01-8FEC-31DBE2C6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39D8F-4249-4FD8-893C-150D310B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4961B80-F76D-413F-B1AE-084FD6F4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4054146-D1AC-487B-8B9F-70E90C9D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C9E09E2-B891-4D3F-B917-DB42167E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20C6848-01FD-4944-B6FB-9FF852F3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B5680E6-8732-4F32-9856-E614BA14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67A35F7-62C3-4956-8AF2-F94257F57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50C4450-DB50-4A4C-AFF9-240F1B29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8D56E0F-C406-472B-B382-4B3FF42E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4FA4E54-5D64-467F-9FD9-8B681B74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CCACDA6-2DBA-4FE5-B4E8-36679D56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F242A-12F9-47B3-AD1F-675C8F9D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3087958-F3F8-4156-83E2-F8AADF30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AE9E613-C486-4E6B-9E69-C5CA18B8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336D584-FFCF-4427-97B8-81E3B8C7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10CF0AC-A3F7-4F4C-A651-1060FC8D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7107ECD-ED49-4B20-BD0D-51C73D67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D6D74DA-3E5A-43E6-8721-5E75F9A8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58B734D-D2EE-4B28-A44D-C1455931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08FA9D1-9F08-4524-A992-5511A049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378B990-C067-497F-AA25-5EE51483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B8AAB6C-083C-465A-AFB8-74C5069B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57B02-F482-4AC5-AC5E-7C62AFCA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E835A7B-50D0-4ED2-A12F-B7B507A1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F8C4744-F394-4A4A-92D7-A46A38BD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A5788B1-D189-43E8-85EE-CF247746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1A09188-31BE-4E89-B421-849588C8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6F6CB52-2660-49B9-8A6E-BF981C66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4F677CA-9609-486E-83CD-72BF54CF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3DABBA7-B77F-4CC7-A85B-D4A74ED6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1000413-1A97-4410-9839-7AFB86A1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23E9855-F45D-4E12-A8E5-44E20D1F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25A5B8F-1FD4-4421-9C08-E811B1B9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C8113-C443-40A9-9CBB-28F080B2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9453E2F-635E-434E-B94B-232DD6E1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FD17855-9A84-45DF-AF3B-7AC2B293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916A5C0-63FB-4749-90E1-943758E1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6B6B690-730E-43FE-83FA-F1CC0B6F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18F4A9D-7EEB-43A6-827F-BC2D702C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8147F6F-9670-4027-A57D-3D8B4DBB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A249A1B-6B8F-4FE8-89C9-E5EE4573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25096FC-D296-4653-9590-C4242B1B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EE7EE4E-B2FF-444B-A322-60021FC6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84A359A-CB4E-4F35-955A-0A3430DE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A6210-A853-4876-961F-8C99F3BE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8724BDE-9DEE-4BE7-B8DF-2F931C46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3C3891D-6FD9-45A3-9716-D168E122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38945DF-7D06-4932-BFD3-47EAEFFB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456BF89-20FD-4F21-A573-A70ADC77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98A5DBC-92AF-4B5E-8B37-59DE82D1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68FEB13-F507-4FE9-AEC0-E1C44E32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89809A1-82F6-45BC-9D85-8BE86DF2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9452BCA-3C0B-401A-9D7E-F50507F9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B46E144-B057-477A-A340-40E1D838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5E2DFDC-7154-426A-BCC0-42D7B8EE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602A6-DED1-4BCF-B090-A07ABD5F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AB788B3-6358-4841-BEA0-8EF71265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CB9820A-5625-4182-909C-812AF2F6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E9E3AE8-62C3-45ED-91BA-F67BEF72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804EA6E-5E47-433A-A43D-5D00521D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5A1A1B0-588F-4285-9FFF-17D2E9E8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1839187-80E9-4489-85F2-9E4C1107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BEA5EA7-4A19-4774-AA50-145A2509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F91A1E4-D842-488E-A627-4D6BD83F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24DFF5B-62ED-4057-926E-24B5E0EB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1476838-CA3F-464A-8861-979DAF9E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B0CB9-C29D-4588-B854-AEC24656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E5DBD6A-5DDB-441C-A77D-5519037F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C5F0CD9-210B-414A-891A-E7E6108C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AF126A3-0584-4BF6-8DB1-1D715EDA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C0CC651-AFDF-4ECB-8788-EFFD2F9F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1AFCFCB-7F5A-4FDB-8623-A37FD6C3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F50A013-454B-4808-A7A7-E0BCF4E1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1FC2380-1645-47DD-A5FD-084140D9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1671D56-3B32-4BD6-BACB-BDC078D6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5C163F0-C4DA-4F34-A9B4-26933999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84CEB04-7850-4FE7-A83A-D00FC987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56631-A223-4F36-BF1F-3D08DD6C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CDFA11B-B77F-4B80-A877-3F270872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44427DC-38E5-4AF5-AD41-7122599E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EBD1CD1-9535-41EB-BF30-393DEFDC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0E856D0-BC0A-4052-A829-044D8ACE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5BA5C7C-D057-4E0E-BBBC-ED8B0A9C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5910E5F-9DB9-40B7-BC05-319AE50A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B2E8355-90CB-4E57-90A7-117C24FC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8B30E3E-08F7-4303-BE54-08A40393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5C63B12-86C2-4FEC-BD04-AC4902F1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13B8F10-2366-465B-9232-DAFA9AA6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BE3FB-C3F2-41BA-857E-B7495BF0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8CF387E-D38B-47E3-9190-726A0A26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743844E-4B2D-4DDA-B78B-6CBA5630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AC8C65A-8776-4D69-A93D-21D96A86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34BAE0B-DDF4-4ADF-899D-CEFE37B3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1020FA3-B00A-4AF6-A0D7-C1458C76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FA59A6B-D927-4A1A-9D64-A6CC4008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C8296C7-3CFA-4DC2-B509-E74923D6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5079394-D049-4277-837A-73080BA1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64F00CE-A6E5-4DB6-A6A0-4D1FA3D8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B2BFA77-BC83-49CE-BF4A-0F43F67D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8AA0-6951-4852-AE2D-C2235FD8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F46E4-666B-4E4C-BE36-5AF12BB6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DC09ED4-1FB5-4031-BDA7-A49CA22A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6C7CDCD-E1DE-4636-9EA6-4DD2BFBC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4419D2C-0594-4757-8608-EDB48BBB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7DAB5A3-F744-4C93-AA09-2FCEE9AC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B11BCE4-6BBD-4049-9C0B-ABDE9033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F77312E-15E1-44AC-8FC9-6B3B17A8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C6203F6-0C6D-42BA-BF0A-2C19DA87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3E29BB1-22D2-4C97-B1B0-4E42E1DD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431B74A-136F-41EC-92BB-2F6AB458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00321E9-C6E1-438D-9AD9-1249513E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E8874-7C3B-444A-9807-7808EA5F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B6E47D9-60B7-48EC-8173-C92FA064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455633F-F583-42E5-80CE-3FBEE42A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63B95CA-5ECE-4B12-A1AB-73045197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31A7F60-C838-454E-B2A3-FBE507B2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9F29ED5-79B9-478E-93E2-B8ACB26F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4D1E2A4-ADA7-4F4B-883B-239EF927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D670FED-06BE-40EF-B687-E89AC4A9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FAF2744-D6C8-4DF5-BB14-F84272B5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7175BB3-EFE8-4091-A2F6-32189C16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2F805FE-B31E-4694-93D7-07ADE0AC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DE678-F38B-46BB-BFC0-6651552B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0191037-1428-46C1-93F3-AEAEEDE6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180656D-ACFB-439D-95C9-B710E045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B090E68-C1A8-4FFE-A84C-DDBFEC30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0520E16-F970-409D-A35C-18CE2CA2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42D52E4-DB82-46E7-B1D5-80229510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F0FDE16-2B52-4EAD-ABA5-CB668E34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32FBC73-4540-4E7D-8CAD-78B9397A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C0BC9D7-39B1-49D8-80A9-E975CF8D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868800B-FD07-41A6-B9F8-1B6EACEE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B7EA0D6-6BBC-49AC-B5A9-B125574A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689C3-B182-40AF-BEA6-88320389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59EBEB3-BF21-4451-B7FC-5681A7AC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27CCB2C-5F2E-4612-8671-CF6F265F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B15B2C4-4784-497A-A470-DB50E2D7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3A194CF-763E-4E15-BA95-BE59B069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A22F03B-495B-40ED-BE73-82FD9A90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FC11A3E-7FF8-4CA0-9D27-5341537E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D999A74-3216-4AAF-8A4A-3EBFB007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6F33F40-F734-459C-B9C5-4D82A162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8E62A7C-9D2C-4F4F-9717-C883BE5E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2AF8932-C946-422E-ADC9-D0F1C774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48748-BC4A-4439-A739-5DEA7AE3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C6AF8D0-D3FC-453F-96F0-BB4F58A9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CE72BCE-BD7E-4D29-B107-AF73E1FE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2D9AD0B-1D66-442A-BA22-F9341570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024E368-7EB3-4338-9D96-C45698ED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3DA1F4C-2B00-4429-88E2-84BE48AE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940B438-6CD1-4887-8AAA-D1F95F56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8DAB04F-BDD8-4F99-87FC-2CD0A26E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D9231A8-AEF6-4807-A75B-98AAD3FB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6EC3A63-9023-4E1E-AEEB-96CDAAF9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E1D5836-3FFC-447F-9C42-06132F64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48F65-0C1F-425E-BC63-C8D35B39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774AF17-6841-4218-B418-08D3C6FD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35EFBA6-9256-4166-81D6-077590EB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9F5D78D-8443-43C9-85D7-18852297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A46B1BB-F32A-4793-A620-E6B13884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67275E8-9CC6-4C8F-AF4F-89B00507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2548328-8498-4D54-94A5-75DB804B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721EC3E-6DFB-4EF6-A438-32DCCFC1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F19A94E-FEEA-462C-98DE-B38CB54D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8B4EA4C-5C5D-4862-9826-387B3A49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864A822-B69E-43D9-AD58-85A703A3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0E290-EAF8-4A24-AB85-F265AAA0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EE492C8-81E4-4179-8F11-A56F0C77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20F8A38-3EF2-4EB3-A273-68ADC2BE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7F3F9A4-31EA-4567-B139-65B027DD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79D1C1B-4AF4-48E3-AA17-ABDDCE42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3B71B15-94BE-4287-A09C-5E03A675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9CB7A6D-1248-439D-9434-A7F49DCA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0A964A9-1130-4F49-8030-7AFF390D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7444468-F7D0-4F70-9ED6-4269658B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8F062C4-D0D0-40FD-8CFE-F85A428B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90F5EB6-690B-4582-9AF7-65E8C235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0504C-B7A7-42FD-B878-86E1E0FA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217DCF1-488D-44D4-BAB6-1726E3B1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D19B022-9989-4108-9EA9-C8B7071D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B2A790C-B826-44EF-A4FA-97649A3E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1CB2D01-795A-41C5-A12B-D20C8780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D022AA6-E0DE-4880-B1F9-C0684981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604B2C1-C205-4068-90BF-4C8026F8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1D0B6EC-70FC-4305-9999-EC2B5FC1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A048245-7873-4DBB-A8E1-C3810700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8513DFC-36F0-497A-B760-910B2B85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5610296-0EF3-45C1-B89B-DEB06380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99185-3FFD-4B02-9D5B-B85E4152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910DAD3-93F9-459F-BC7C-BABD1FE7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ADD8BA2-0402-4594-ADFE-CF6953E1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75FE22C-1247-4EAD-8867-09C28151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F334172-21C1-4A7A-B8EC-3AC1B7CB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CD30466-FA8A-4EE3-AFE5-12762B0D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A5EF603-5929-4C66-875B-C1F78B1A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6323A26-9DD2-47DA-9CCB-63765D10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C85D9B1-6869-448B-A334-D68F9890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088AB0E-FC5D-4355-92D5-82529C39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B4DA8DD-2B25-4E26-B953-989361D9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1B714-456F-4194-AA2F-97780D96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AE45652-DE16-4976-B32F-ABBCA5DC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5A2075C-36C4-4168-8CDC-0FC4AAE4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9044543-E8D4-4E71-BABB-DC8C85E2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E5D287E-B027-46D3-9919-3733C4A0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9CAEE6A-A6F8-4199-8896-D94896A8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2303892-6FAF-43EF-93CF-7B4E72BD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11AE51F-C33D-4E6B-A6C7-A9C5EBC7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0A28D7C-9BAF-4732-882C-A774CE70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1E0B351-7D01-419C-A57D-9345D6B9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2F6FDE4-52F5-4A26-AA18-4AEF2099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A037-0D28-454D-8700-6B66E4E0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35940-40BE-49C8-B770-D39BE940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2DB23B0-5815-479F-AF92-2CBF0D70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5250D31-5782-4D85-B089-F6F70CE0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0A0393D-5E5C-4FAB-8E21-64FD11DA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4B4D1DD-9A0F-42AB-8870-BE111E1D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88AA85F-2EE4-4F4E-A893-E713052D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2915F28-0DFA-487B-86D5-537DA27C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1411BF1-A572-4486-9B04-AD613058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9FC216E-C17F-44B6-AE4B-1179F700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2B02939-50DB-41F5-9A87-0D3E4BAB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94B4156-79F7-46CC-A0F1-8D6FCE78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14206-B6EC-4C8E-8E1D-D16F4B5A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A4081ED-3A3F-4D50-B8E8-FB31062E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655E627-5EE1-40DC-9D0D-C76C3B63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43C500C-4506-4B36-8546-839E7150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F1DEBE4-8604-4774-84BD-4202A33B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6BC3E37-1DA8-41BD-9E58-D60E2302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9132C69-C3BF-4335-94E9-781CC7F8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1B55932-F899-4E7A-857E-E373A61E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D87919E-CE01-466A-A89C-4DA3A256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1196305-7546-44C6-8D21-9BB7F405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4419D78-C12A-4A25-8E5F-B52CA31D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C755C-40DF-42DF-8EE5-ECA69366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477E709-1B78-4283-919E-FAD9EE8D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267FC07-BF4B-45E0-9504-CB15602B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845FDE3-D20B-433E-A305-22D20CE1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4355A1B-042B-4579-AF31-22C0F359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FECF750-8F8C-4D9B-805D-BB0E5C94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DD05E1D-B1EA-488D-AF08-7F65632F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902D914-4AEF-44AC-8DFE-15361B6D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9FF7A52-9D61-4054-99E1-4E79D5C7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DE508AA-0980-4F34-9A52-A60EAA1E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1808670-5103-4BC7-81EF-8CE090DF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4F577-5BB7-4F62-A944-7C2F4AC0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47F8328-9860-4394-A0BF-7F3EA1D9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ABE947D-A4DB-40D7-BDDE-38249E3C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6998E94-EBB2-4373-A36F-284BCDC6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905AAB9-7D6B-485F-A806-5016EA22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A01FC05-07AB-4E01-ADB0-38F7CC0B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A9ADCD5-D791-48DB-B70E-DF34E952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78DA7DA-5076-4827-AE25-78662D87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16F7501-A0F7-487D-B1DB-2FBF5490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C995F26-B4B6-47C3-94DD-926C078E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4A4C402-3059-48D2-A25A-BE0122C5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30814-E530-4103-8F86-C49F76C9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07652E8-29FE-4315-A119-CF6D9CB9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F7C14EB-EDE1-41D6-BD31-BBBFECBC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990A263-9814-4930-A37F-785B9907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129B09A-0D01-4E61-9BAE-F8F8E31C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1D66245-0F53-4D14-AC5A-0B8ED82B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28936C3-2C68-4204-BFCF-95DB2C98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E92EB66-8911-4C36-A12F-F68B2F4C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D58084C-5486-4327-9813-1F93770B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7505EFB-9D02-4C95-A3E1-EAAC2123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23804F0-5E37-46FD-8E07-12335ECA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D6F95-6CA4-41D6-A210-49F03DC4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352ED90-4765-423C-B21B-963ABEB9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4DA0CAA-932C-49B9-841B-594D9D3E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CEB9141-CE44-4F45-9165-860D4D5B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CC9B422-135A-4496-BD99-3F360D97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C855077-B80A-4385-83AC-91232965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537BD45-FF38-44A5-A75B-81B888B6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DD7E9B2-8B99-46D1-9DF7-FE389D58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A796FF7-96D6-42DD-94E5-AAC55927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F9D7058-5B3E-4CC5-AF12-8CC8E4B5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ED90C48-1FEA-4AFF-A8A1-EF4E8CB9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5849A-A38C-4F6C-AB37-24F74938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6C31310-EEA3-46A3-AA23-0E814974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75BB252-9CFA-4962-805B-2411140E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1CC1FB9-447B-40F8-B19E-CBC46234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CB66905-D6B1-47D8-A0F7-77EE1C9D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3D076FE-9125-4169-8230-9E6033E6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1B7CDB7-A172-4EDC-9BFD-DFDBEE1F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ACC293C-3D00-466D-B087-D133E755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83313E3-22C3-4320-86F9-16B3A2E0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72DF2FC-3547-40C2-8F4A-B5B9B20C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0BCAAA2-0FD9-4762-9B8F-621BD9B5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3B60F-CA04-4E1B-A1E6-CC2EC454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8EFE299-589A-4B48-85F3-4B33C20D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A009286-5B00-4682-83CB-A6535EDE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FF16796-523A-469B-BF05-37645DBB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992FDE0-9EAD-4565-BE44-F89E32B9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831501E-2D5B-4604-A85F-014D6480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374D132-1E17-49FF-8A05-815C54B0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580A94A-509D-4013-9591-5277ED64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0257842-24E7-49AF-BDAD-8C34BFD2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83351CA-0097-41AD-8A0A-CC6A50AC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CE2F5E5-0889-43AD-A1C5-50F65864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E5422-993B-4649-823C-A337D6F6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39529DE-C747-4949-968B-02FC367C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B435FC1-3D58-429A-985D-FA650C7F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613A1CD-F021-4EEE-9A7B-3E883E0E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6BEA2A7-0816-486A-BDF3-F8D0119C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BB57D65-0404-4ACD-AA4A-16298CC5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FED56D7-9DA0-439C-ABF2-EB6900CC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1757881-379A-4A2A-9FBE-C208663D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7987B37-C546-4A3E-AA46-DBC52246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76004A2-FD08-450A-8D55-2C6832FF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D5DA7E6-7F1D-4966-B494-1EAACE12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B92ED-7D70-4E46-BCE4-2F30899C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17B64AA-A11D-44E4-AB56-2C893B15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3F18B21-8F6D-403D-B912-38D3981E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32A4EC1-276A-40CE-919A-96B25235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BCB8430-F936-485D-ABB4-F99B228A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EE5B03A-6678-4A55-A9BC-7D3A4D0C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4CF6FA4-4DA1-4C70-AEFD-1EE5BD1F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BE096D5-4237-4B65-BB6E-C77C8BD9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A331BF3-45D1-48D4-AA84-5815E080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00267E3-AA25-4D18-B436-86BB8500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DDE8CFC-7ECC-4592-96E1-AD560922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B861-A727-4728-BDE4-79FA613E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EE147-0C81-4292-8B47-476E721C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215097E-9AD2-496F-8680-28CD45C9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002997E-6A87-42A5-B05E-3D80AA8E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A71BA43-61D9-4FD4-A61F-DC68DCEB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C8BA1DC-13DD-4D15-9DA1-D2856BB9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68C051E-43E8-425B-98E2-7BEA6501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B54C208-470F-4923-BE92-DB8A6D1F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A356307-025C-443C-8406-80A0B343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D7FB6C0-A976-4AAC-AAB7-3626EA4A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120E5E6-EB76-4461-A28F-B17B0EB2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9EB003E-AB39-4F0B-ADD4-A2BACA3A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8F87B-CB98-49E1-B96F-3A48AD4B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CE5D44C-F63A-4BB7-A9C2-EDF07E2A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7A2C2D1-BDBC-4A27-BDC5-775A1A57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66E8FBF-F1FD-4EBE-BF4A-FD18B618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D421000-6365-4765-80C6-F191A4F9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EA9B483-D7D9-403C-B7D7-87B63635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56DBF46-0BE4-474D-830E-7F63828A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1B50C46-474A-4528-8F4F-26A37B20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4345B1A-A671-44B1-A18D-225FC013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FAAD545-B7A4-4234-92E7-D0844693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3EBA26E-F832-446B-9493-8B8DE829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7F62E-A112-4EAC-AEB5-F14D07FE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189696D-4E77-4F80-BCEF-95FBBBD1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11AEA09-5BC5-43A6-8AE8-2A9CC8EB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8078ECC-763B-47A9-9DF0-026CA644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14FD141-D265-4911-BA29-1ACF13C9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9C9EB7F-5C7A-42D8-A781-1AE818FA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010D085-6A7B-47A5-B0D5-420E1855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B76DA05-9459-4B90-9CFF-51035C05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88C50B2-44C6-4AC9-BA67-98AA5A63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3FF0A91-DF43-4B5D-82DA-5CDE0D34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5B3D062-31B5-4CE7-971E-7712BA9B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878EA-6C54-4C9D-8F9B-EBF5558A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1AF153C-20F2-4946-A029-39278D9D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BBADC04-6A33-4F13-9B94-DA6F3869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A663672-119F-4213-8F2D-36A0E1CD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5DAC482-4F51-4E78-A1B1-60610208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ED8B618-A289-4F9D-B239-C213855D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395F9C5-2AE5-4353-A0E1-F0E4A489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12322C4-37DA-4D57-AD55-40AC17C4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3871B06-0E90-4CE2-A75B-8B651720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7DDD3B5-BC2E-48E4-8FFB-C1F03C84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7381B62-2649-46D1-85E0-592967DE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6FE71-43E3-41CB-AA54-8683F729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69C2926-4AC4-4E1E-B31C-838A0CA5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23931BD-5265-453C-B0E1-EFEF418F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4423667-733C-4891-857B-62457FD8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0603D50-C019-4A53-AB83-31C5C2E1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B9F84FE-2145-407B-BEF8-179E2D1B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C1D2938-251F-4677-AF58-9F0323AA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56D6CD2-6074-4A0C-B4FD-C7472DFC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95A59CE-617C-47F0-BC0B-9BDB3A04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5043CC2-98AE-4262-97EE-6BB5C4C7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7C13166-79F0-4866-9688-13809C85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39B3C-DD3E-41E6-B8BB-DB940E12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24AF1D2-BF4D-4C92-820C-30672EAF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9C9E355-9269-4A2B-A29D-92E400C1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4C39825-93AB-48FF-BCE1-1529C735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7492269-4147-42CB-A9DB-363DB3FA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96D9A5E-DFE6-4571-80F3-D3342167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4AAEFC4-BB8F-4FCF-BADC-2807F0F6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0792EE4-7F5F-426E-9988-7D7CF2FB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4EE6604-0782-46E4-9EB6-F56EC0D2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3ACC02F-FFF9-41B1-8966-D1C033B1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97633B0-7A9C-4347-B58F-E3453255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BABF4-5954-41C5-AB6C-675D4B7E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A691C23-638A-47DB-9DA7-986C771F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A40FF04-6BCC-48F4-AC06-86743E3A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70FE029-8D4B-4037-B998-11DFBF5B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ADCB4FE-F776-4F6B-96EE-A7D147BB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3A07E17-6CBA-4D5F-8C60-644069F5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77C2B49-A4E8-4971-98A2-BD2CCD62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7529DB1-E95C-4CCA-B9D4-A10CF9AE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CEA4446-02A3-4A6B-8090-B5F65D26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44D2B7E-E292-49CF-8C0A-D1150FCA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FFB58F5-3EE8-46CD-B900-B596AB42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52E2F-15FB-49C7-BB2D-89E39FD8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EA5C6C6-2021-4222-B262-7B69B9FF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3364224-68B8-455F-A371-3DC2BD47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202F16A-B1A7-4B99-B282-789A0B2E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580C813-585E-4C40-9851-F37F54B4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A17CFDB-5FA9-4EC0-9C6F-C8C00580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247E035-97E2-499B-B2AB-7BC33051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A1926BA-FE50-4289-8DE6-172BBF7D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5A28DFB-222E-4099-8B8E-85BB5BDE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A2D386C-CEB5-4236-A267-B2D7DB5E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2163542-AA32-4083-946A-A261C101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44DA4-EA64-45BC-ABF4-AEA0D5D8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35AB585-EBAF-47AF-A1F5-6E69E42B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6BF14D4-71D7-4C8F-9506-B5761E5A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4366170-6415-4B8F-BCE5-297C266A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710F530-4BA7-4BDD-B673-0D854CAA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BE8D3E2-94AF-4E5C-B755-9B7C16C7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4D7A7C5-6147-4C6C-AE52-92878D6C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6EE806B-C39C-4FA9-93B2-200A1C4B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4717CFC-82FC-44C0-893B-2FFB6B50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66CA183-C80A-4935-A9C4-3E0CA13C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A8A2F4C-3B65-4088-AB95-81CB62FC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19FDF-D60C-4AF4-B2A3-B96D411D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12E7654-6CAC-467E-907A-30485F55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C10949B-C888-42C3-A9EF-7EC15C9F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5F03E07-958C-4E0D-AEEA-34DAE906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52A01D1-8585-47A9-B67D-B30AACA8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EB5AAAE-E81E-4CF5-ABBA-B19CAD12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FB83AF6-51EC-4F31-B584-6458DAD1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058C9BF-5E87-4B56-A862-CE3ECAF9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E7F5888-3503-440A-A3A2-EB03C7F4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6A23054-0CE2-4756-BCA7-F2B50A2E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82E6B69-8575-443B-B562-38815C15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F4D-A8A2-43B2-BED6-355F53A8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AF633-D923-42A0-A63D-E3F034C5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2BC94F6-6272-4506-8E34-8093C056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4483FA7-FC04-4742-A735-FBD99A9E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BCEB483-AE32-47DE-896F-B851AAB1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6645BD8-D423-4B52-8101-7A827CF1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C1C9B6A-1382-4841-B6E3-1D14B79C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C7D9544-1803-4338-946B-A78E2277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ADF7165-D606-4D0F-8E4A-241F2DFC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5E46A84-7BBC-4CFA-9E43-443C3B91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9AC0DB9-EF7B-41F6-8C2D-FC8A6730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87E0118-665C-4540-ABDC-6B034514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FF435-B43A-4A0F-BE6E-E5ED15D4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876C12B-E6B9-489C-9475-9BA509B1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7388573-E666-4EF8-BC14-FA688657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2C48A09-B2FE-4CD6-AAA9-AA9BABF6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79FB161-A540-451E-9383-B353B41B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4CDFE05-FFEF-425E-A2C4-951801B4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436C803-2395-4BB7-9CA1-2B87D5CA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3E88963-FAFC-4820-B8AC-53E64AD0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33E5E58-E596-465A-8BA8-FAF03155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F164806-AD95-4D73-9A5E-37F25949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2D4BE15-A4DB-4C19-A981-794CA293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C86D7-CA29-4F96-BC75-9A3F1347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7D075A7-B324-46E8-97A5-9B642274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528474F-5319-4264-A4D8-49686388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FD71CB0-3C61-4F53-8E5B-DA3C17A3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FE97C94-5FB7-4EC4-B2E1-D3EC3AF1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90578F6-20C4-4C35-99DE-B8DCC776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C66764D-5081-49AE-98E6-EB8B1FFC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A527087-EE7F-4E4C-8D7A-2562E5C1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2D028F8-42FD-4843-B30A-03D549D3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E644E8F-0217-43D2-B32C-FC5D06D1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307E56E-DBD2-441E-93C2-56C73CFC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D6228-48F3-45A9-9651-37DB075F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987E28C-5F1E-4664-AE04-0C44CF9F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900243C-66B9-4163-A916-35F68332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7CF85C7-DD80-474A-88D8-F4584DDC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F774E28-AA71-4753-B6B8-31A4CA91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9FA3B40-831D-4E65-A692-65B2AEB4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55EEDD1-B159-4ED5-9C40-1D6C4EFB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BEFAAF4-2A71-44BA-9246-9978C45F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25E3D38-E64F-4DD2-8271-24C0DB8C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0F4AB5B-F8FE-4730-9F58-3C1AD0C1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B72E24E-67FB-4568-A4D9-41B2512D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C9DC9-8654-4D04-BF68-75FF1C12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BCF283F-745E-4A2B-B0A8-55D4E674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D70F7CA-CBF8-44BB-BA06-05FD3AB2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C7D81A7-9C4C-4E0A-ACD8-5EC6CC98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4062584-9780-465C-8794-83ADE0FC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29F71FE-DC72-4BB5-B196-3B42F305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70FF064-E0C6-40D6-8E94-3CF13734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B9589B5-6744-4386-A882-A8CBD38B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44E1FBA-19AC-44C1-A9A1-E4C0105F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A159EA6-6780-40F9-99C6-A51189A59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6714C8AE-A4AE-41EA-9BB1-BE08108F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E363E-3367-457A-A76C-B230F3BB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B351E99-8573-4D2B-B3BE-B81EDD6A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610EE28-765D-4BD3-8E7C-78D345AD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9DBB997-844E-4936-BC6B-C4892362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51DA449-7D3F-4C42-BA3C-7922142E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3C6F613-BE6A-4625-849B-3ED7BB3E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8E9E688-4CBC-438A-885D-F1FA54E5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1AD34E9-7576-4CC7-9BE7-2F6779A0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A6E07EE-3CE6-42BE-8BB4-683A7178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AA1FB09-86E9-471B-A78E-C70B8E4D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4D0C302-05F5-4F32-A8DF-0D712D0A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9B91C-18EE-4AE9-9A64-72FCA8E4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E664212-A049-46BA-A281-619BB6A7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5345ACE-4022-477F-9C70-41A02778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D4A2786-6924-4A42-A1C7-CBD1C28D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7ACADD2-E2F2-4837-A83C-A5ABFB44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31F2D79-0D0A-4794-93FC-6F486FA7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AA7C35B-A502-4F9C-8399-A6D32365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4FFF8E7-C5EE-4594-A6EE-E308D523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7018EBD-4959-469F-91D1-1E48C28D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E1766D2-AD76-42F0-88F8-628C67AA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DDBD519-4AF5-48D2-AAF4-85E970F7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9B707-9965-48AF-9490-4E8DBD87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B2B5BED-7E40-4EE8-B32E-E88146D4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62C1BBB-1D34-4BCC-9141-78E744DF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EDD2C21-06A6-493D-ABF8-0F497D1F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0BD6EEB-972D-4C4A-B87D-2A695FB0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6E06005-CE0B-4C87-9892-9267BD25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093AF8E-A5C2-487E-9B51-3262F3EC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AE0B96A-32B2-41D0-9FFA-BBFF3A2B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A042A01-D007-48BB-A0C7-658B447F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0344F9D-82B4-47BB-8C04-6EBD7020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EEF86C4-8AB2-41E0-9F43-D71145E7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1F39B-9578-4094-BCD9-76C2DBD6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9D4F8D6-5F72-41A4-B78C-411ADBAC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9A85FCE-3046-4850-AF70-01074574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C884957-B129-4A03-A7E1-6DBE7FED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A2780D1-C1E6-4349-929A-7CFBAB0E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3B3A449-CABD-49AE-A414-F963F6A5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183777A-CD3F-4BCE-9EBF-B1AC4751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3F0244D-DB74-4AF5-A10E-58AA0543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ECB4599-A08E-480B-A342-5466FAD8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80E1D24-1D2B-43C7-B480-8269F52B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0379C688-8704-4BFF-A3D0-5A5C8DEA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58535-4136-4547-A0D2-143E3872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56F8C7A-F95B-4184-A7E1-00CC319E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6809BB8-F314-4977-B145-E5FBF99C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15D43B8-8EC8-417B-9912-6AEF220F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FF1F5EE-89BA-4AB1-872D-22C0E53E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ADC5FAE-7F0A-4F40-9462-D9A75417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B600EDD-7D76-4045-893E-AC00814C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117555A-AF7F-45CB-94F5-173C48F5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BBD6A64-D301-4AA2-BCC6-A31B29ED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6578D8B-F978-4E76-9778-0CAAA8A3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E530F94-2B9B-42A1-9D71-F0CF65AD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slideLayout" Target="../slideLayouts/slideLayout1477.xml"/><Relationship Id="rId3" Type="http://schemas.openxmlformats.org/officeDocument/2006/relationships/slideLayout" Target="../slideLayouts/slideLayout1478.xml"/><Relationship Id="rId4" Type="http://schemas.openxmlformats.org/officeDocument/2006/relationships/slideLayout" Target="../slideLayouts/slideLayout1479.xml"/><Relationship Id="rId5" Type="http://schemas.openxmlformats.org/officeDocument/2006/relationships/slideLayout" Target="../slideLayouts/slideLayout1480.xml"/><Relationship Id="rId6" Type="http://schemas.openxmlformats.org/officeDocument/2006/relationships/slideLayout" Target="../slideLayouts/slideLayout1481.xml"/><Relationship Id="rId7" Type="http://schemas.openxmlformats.org/officeDocument/2006/relationships/slideLayout" Target="../slideLayouts/slideLayout1482.xml"/><Relationship Id="rId8" Type="http://schemas.openxmlformats.org/officeDocument/2006/relationships/slideLayout" Target="../slideLayouts/slideLayout1483.xml"/><Relationship Id="rId9" Type="http://schemas.openxmlformats.org/officeDocument/2006/relationships/slideLayout" Target="../slideLayouts/slideLayout1484.xml"/><Relationship Id="rId10" Type="http://schemas.openxmlformats.org/officeDocument/2006/relationships/slideLayout" Target="../slideLayouts/slideLayout1485.xml"/><Relationship Id="rId11" Type="http://schemas.openxmlformats.org/officeDocument/2006/relationships/slideLayout" Target="../slideLayouts/slideLayout1486.xml"/><Relationship Id="rId12" Type="http://schemas.openxmlformats.org/officeDocument/2006/relationships/slideLayout" Target="../slideLayouts/slideLayout1487.xml"/><Relationship Id="rId13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33.xml.rels><?xml version="1.0" encoding="UTF-8"?>
<Relationships xmlns="http://schemas.openxmlformats.org/package/2006/relationships"><Relationship Id="rId1" Type="http://schemas.openxmlformats.org/officeDocument/2006/relationships/theme" Target="../theme/theme133.xml"/><Relationship Id="rId2" Type="http://schemas.openxmlformats.org/officeDocument/2006/relationships/slideLayout" Target="../slideLayouts/slideLayout1585.xml"/><Relationship Id="rId3" Type="http://schemas.openxmlformats.org/officeDocument/2006/relationships/slideLayout" Target="../slideLayouts/slideLayout1586.xml"/><Relationship Id="rId4" Type="http://schemas.openxmlformats.org/officeDocument/2006/relationships/slideLayout" Target="../slideLayouts/slideLayout1587.xml"/><Relationship Id="rId5" Type="http://schemas.openxmlformats.org/officeDocument/2006/relationships/slideLayout" Target="../slideLayouts/slideLayout1588.xml"/><Relationship Id="rId6" Type="http://schemas.openxmlformats.org/officeDocument/2006/relationships/slideLayout" Target="../slideLayouts/slideLayout1589.xml"/><Relationship Id="rId7" Type="http://schemas.openxmlformats.org/officeDocument/2006/relationships/slideLayout" Target="../slideLayouts/slideLayout1590.xml"/><Relationship Id="rId8" Type="http://schemas.openxmlformats.org/officeDocument/2006/relationships/slideLayout" Target="../slideLayouts/slideLayout1591.xml"/><Relationship Id="rId9" Type="http://schemas.openxmlformats.org/officeDocument/2006/relationships/slideLayout" Target="../slideLayouts/slideLayout1592.xml"/><Relationship Id="rId10" Type="http://schemas.openxmlformats.org/officeDocument/2006/relationships/slideLayout" Target="../slideLayouts/slideLayout1593.xml"/><Relationship Id="rId11" Type="http://schemas.openxmlformats.org/officeDocument/2006/relationships/slideLayout" Target="../slideLayouts/slideLayout1594.xml"/><Relationship Id="rId12" Type="http://schemas.openxmlformats.org/officeDocument/2006/relationships/slideLayout" Target="../slideLayouts/slideLayout1595.xml"/><Relationship Id="rId13" Type="http://schemas.openxmlformats.org/officeDocument/2006/relationships/slideLayout" Target="../slideLayouts/slideLayout1596.xml"/>
</Relationships>
</file>

<file path=ppt/slideMasters/_rels/slideMaster134.xml.rels><?xml version="1.0" encoding="UTF-8"?>
<Relationships xmlns="http://schemas.openxmlformats.org/package/2006/relationships"><Relationship Id="rId1" Type="http://schemas.openxmlformats.org/officeDocument/2006/relationships/theme" Target="../theme/theme134.xml"/><Relationship Id="rId2" Type="http://schemas.openxmlformats.org/officeDocument/2006/relationships/slideLayout" Target="../slideLayouts/slideLayout1597.xml"/><Relationship Id="rId3" Type="http://schemas.openxmlformats.org/officeDocument/2006/relationships/slideLayout" Target="../slideLayouts/slideLayout1598.xml"/><Relationship Id="rId4" Type="http://schemas.openxmlformats.org/officeDocument/2006/relationships/slideLayout" Target="../slideLayouts/slideLayout1599.xml"/><Relationship Id="rId5" Type="http://schemas.openxmlformats.org/officeDocument/2006/relationships/slideLayout" Target="../slideLayouts/slideLayout1600.xml"/><Relationship Id="rId6" Type="http://schemas.openxmlformats.org/officeDocument/2006/relationships/slideLayout" Target="../slideLayouts/slideLayout1601.xml"/><Relationship Id="rId7" Type="http://schemas.openxmlformats.org/officeDocument/2006/relationships/slideLayout" Target="../slideLayouts/slideLayout1602.xml"/><Relationship Id="rId8" Type="http://schemas.openxmlformats.org/officeDocument/2006/relationships/slideLayout" Target="../slideLayouts/slideLayout1603.xml"/><Relationship Id="rId9" Type="http://schemas.openxmlformats.org/officeDocument/2006/relationships/slideLayout" Target="../slideLayouts/slideLayout1604.xml"/><Relationship Id="rId10" Type="http://schemas.openxmlformats.org/officeDocument/2006/relationships/slideLayout" Target="../slideLayouts/slideLayout1605.xml"/><Relationship Id="rId11" Type="http://schemas.openxmlformats.org/officeDocument/2006/relationships/slideLayout" Target="../slideLayouts/slideLayout1606.xml"/><Relationship Id="rId12" Type="http://schemas.openxmlformats.org/officeDocument/2006/relationships/slideLayout" Target="../slideLayouts/slideLayout1607.xml"/><Relationship Id="rId13" Type="http://schemas.openxmlformats.org/officeDocument/2006/relationships/slideLayout" Target="../slideLayouts/slideLayout1608.xml"/>
</Relationships>
</file>

<file path=ppt/slideMasters/_rels/slideMaster135.xml.rels><?xml version="1.0" encoding="UTF-8"?>
<Relationships xmlns="http://schemas.openxmlformats.org/package/2006/relationships"><Relationship Id="rId1" Type="http://schemas.openxmlformats.org/officeDocument/2006/relationships/theme" Target="../theme/theme135.xml"/><Relationship Id="rId2" Type="http://schemas.openxmlformats.org/officeDocument/2006/relationships/slideLayout" Target="../slideLayouts/slideLayout1609.xml"/><Relationship Id="rId3" Type="http://schemas.openxmlformats.org/officeDocument/2006/relationships/slideLayout" Target="../slideLayouts/slideLayout1610.xml"/><Relationship Id="rId4" Type="http://schemas.openxmlformats.org/officeDocument/2006/relationships/slideLayout" Target="../slideLayouts/slideLayout1611.xml"/><Relationship Id="rId5" Type="http://schemas.openxmlformats.org/officeDocument/2006/relationships/slideLayout" Target="../slideLayouts/slideLayout1612.xml"/><Relationship Id="rId6" Type="http://schemas.openxmlformats.org/officeDocument/2006/relationships/slideLayout" Target="../slideLayouts/slideLayout1613.xml"/><Relationship Id="rId7" Type="http://schemas.openxmlformats.org/officeDocument/2006/relationships/slideLayout" Target="../slideLayouts/slideLayout1614.xml"/><Relationship Id="rId8" Type="http://schemas.openxmlformats.org/officeDocument/2006/relationships/slideLayout" Target="../slideLayouts/slideLayout1615.xml"/><Relationship Id="rId9" Type="http://schemas.openxmlformats.org/officeDocument/2006/relationships/slideLayout" Target="../slideLayouts/slideLayout1616.xml"/><Relationship Id="rId10" Type="http://schemas.openxmlformats.org/officeDocument/2006/relationships/slideLayout" Target="../slideLayouts/slideLayout1617.xml"/><Relationship Id="rId11" Type="http://schemas.openxmlformats.org/officeDocument/2006/relationships/slideLayout" Target="../slideLayouts/slideLayout1618.xml"/><Relationship Id="rId12" Type="http://schemas.openxmlformats.org/officeDocument/2006/relationships/slideLayout" Target="../slideLayouts/slideLayout1619.xml"/><Relationship Id="rId13" Type="http://schemas.openxmlformats.org/officeDocument/2006/relationships/slideLayout" Target="../slideLayouts/slideLayout1620.xml"/>
</Relationships>
</file>

<file path=ppt/slideMasters/_rels/slideMaster136.xml.rels><?xml version="1.0" encoding="UTF-8"?>
<Relationships xmlns="http://schemas.openxmlformats.org/package/2006/relationships"><Relationship Id="rId1" Type="http://schemas.openxmlformats.org/officeDocument/2006/relationships/theme" Target="../theme/theme136.xml"/><Relationship Id="rId2" Type="http://schemas.openxmlformats.org/officeDocument/2006/relationships/slideLayout" Target="../slideLayouts/slideLayout1621.xml"/><Relationship Id="rId3" Type="http://schemas.openxmlformats.org/officeDocument/2006/relationships/slideLayout" Target="../slideLayouts/slideLayout1622.xml"/><Relationship Id="rId4" Type="http://schemas.openxmlformats.org/officeDocument/2006/relationships/slideLayout" Target="../slideLayouts/slideLayout1623.xml"/><Relationship Id="rId5" Type="http://schemas.openxmlformats.org/officeDocument/2006/relationships/slideLayout" Target="../slideLayouts/slideLayout1624.xml"/><Relationship Id="rId6" Type="http://schemas.openxmlformats.org/officeDocument/2006/relationships/slideLayout" Target="../slideLayouts/slideLayout1625.xml"/><Relationship Id="rId7" Type="http://schemas.openxmlformats.org/officeDocument/2006/relationships/slideLayout" Target="../slideLayouts/slideLayout1626.xml"/><Relationship Id="rId8" Type="http://schemas.openxmlformats.org/officeDocument/2006/relationships/slideLayout" Target="../slideLayouts/slideLayout1627.xml"/><Relationship Id="rId9" Type="http://schemas.openxmlformats.org/officeDocument/2006/relationships/slideLayout" Target="../slideLayouts/slideLayout1628.xml"/><Relationship Id="rId10" Type="http://schemas.openxmlformats.org/officeDocument/2006/relationships/slideLayout" Target="../slideLayouts/slideLayout1629.xml"/><Relationship Id="rId11" Type="http://schemas.openxmlformats.org/officeDocument/2006/relationships/slideLayout" Target="../slideLayouts/slideLayout1630.xml"/><Relationship Id="rId12" Type="http://schemas.openxmlformats.org/officeDocument/2006/relationships/slideLayout" Target="../slideLayouts/slideLayout1631.xml"/><Relationship Id="rId13" Type="http://schemas.openxmlformats.org/officeDocument/2006/relationships/slideLayout" Target="../slideLayouts/slideLayout1632.xml"/>
</Relationships>
</file>

<file path=ppt/slideMasters/_rels/slideMaster137.xml.rels><?xml version="1.0" encoding="UTF-8"?>
<Relationships xmlns="http://schemas.openxmlformats.org/package/2006/relationships"><Relationship Id="rId1" Type="http://schemas.openxmlformats.org/officeDocument/2006/relationships/theme" Target="../theme/theme137.xml"/><Relationship Id="rId2" Type="http://schemas.openxmlformats.org/officeDocument/2006/relationships/slideLayout" Target="../slideLayouts/slideLayout1633.xml"/><Relationship Id="rId3" Type="http://schemas.openxmlformats.org/officeDocument/2006/relationships/slideLayout" Target="../slideLayouts/slideLayout1634.xml"/><Relationship Id="rId4" Type="http://schemas.openxmlformats.org/officeDocument/2006/relationships/slideLayout" Target="../slideLayouts/slideLayout1635.xml"/><Relationship Id="rId5" Type="http://schemas.openxmlformats.org/officeDocument/2006/relationships/slideLayout" Target="../slideLayouts/slideLayout1636.xml"/><Relationship Id="rId6" Type="http://schemas.openxmlformats.org/officeDocument/2006/relationships/slideLayout" Target="../slideLayouts/slideLayout1637.xml"/><Relationship Id="rId7" Type="http://schemas.openxmlformats.org/officeDocument/2006/relationships/slideLayout" Target="../slideLayouts/slideLayout1638.xml"/><Relationship Id="rId8" Type="http://schemas.openxmlformats.org/officeDocument/2006/relationships/slideLayout" Target="../slideLayouts/slideLayout1639.xml"/><Relationship Id="rId9" Type="http://schemas.openxmlformats.org/officeDocument/2006/relationships/slideLayout" Target="../slideLayouts/slideLayout1640.xml"/><Relationship Id="rId10" Type="http://schemas.openxmlformats.org/officeDocument/2006/relationships/slideLayout" Target="../slideLayouts/slideLayout1641.xml"/><Relationship Id="rId11" Type="http://schemas.openxmlformats.org/officeDocument/2006/relationships/slideLayout" Target="../slideLayouts/slideLayout1642.xml"/><Relationship Id="rId12" Type="http://schemas.openxmlformats.org/officeDocument/2006/relationships/slideLayout" Target="../slideLayouts/slideLayout1643.xml"/><Relationship Id="rId13" Type="http://schemas.openxmlformats.org/officeDocument/2006/relationships/slideLayout" Target="../slideLayouts/slideLayout1644.xml"/>
</Relationships>
</file>

<file path=ppt/slideMasters/_rels/slideMaster138.xml.rels><?xml version="1.0" encoding="UTF-8"?>
<Relationships xmlns="http://schemas.openxmlformats.org/package/2006/relationships"><Relationship Id="rId1" Type="http://schemas.openxmlformats.org/officeDocument/2006/relationships/theme" Target="../theme/theme138.xml"/><Relationship Id="rId2" Type="http://schemas.openxmlformats.org/officeDocument/2006/relationships/slideLayout" Target="../slideLayouts/slideLayout1645.xml"/><Relationship Id="rId3" Type="http://schemas.openxmlformats.org/officeDocument/2006/relationships/slideLayout" Target="../slideLayouts/slideLayout1646.xml"/><Relationship Id="rId4" Type="http://schemas.openxmlformats.org/officeDocument/2006/relationships/slideLayout" Target="../slideLayouts/slideLayout1647.xml"/><Relationship Id="rId5" Type="http://schemas.openxmlformats.org/officeDocument/2006/relationships/slideLayout" Target="../slideLayouts/slideLayout1648.xml"/><Relationship Id="rId6" Type="http://schemas.openxmlformats.org/officeDocument/2006/relationships/slideLayout" Target="../slideLayouts/slideLayout1649.xml"/><Relationship Id="rId7" Type="http://schemas.openxmlformats.org/officeDocument/2006/relationships/slideLayout" Target="../slideLayouts/slideLayout1650.xml"/><Relationship Id="rId8" Type="http://schemas.openxmlformats.org/officeDocument/2006/relationships/slideLayout" Target="../slideLayouts/slideLayout1651.xml"/><Relationship Id="rId9" Type="http://schemas.openxmlformats.org/officeDocument/2006/relationships/slideLayout" Target="../slideLayouts/slideLayout1652.xml"/><Relationship Id="rId10" Type="http://schemas.openxmlformats.org/officeDocument/2006/relationships/slideLayout" Target="../slideLayouts/slideLayout1653.xml"/><Relationship Id="rId11" Type="http://schemas.openxmlformats.org/officeDocument/2006/relationships/slideLayout" Target="../slideLayouts/slideLayout1654.xml"/><Relationship Id="rId12" Type="http://schemas.openxmlformats.org/officeDocument/2006/relationships/slideLayout" Target="../slideLayouts/slideLayout1655.xml"/><Relationship Id="rId13" Type="http://schemas.openxmlformats.org/officeDocument/2006/relationships/slideLayout" Target="../slideLayouts/slideLayout1656.xml"/>
</Relationships>
</file>

<file path=ppt/slideMasters/_rels/slideMaster139.xml.rels><?xml version="1.0" encoding="UTF-8"?>
<Relationships xmlns="http://schemas.openxmlformats.org/package/2006/relationships"><Relationship Id="rId1" Type="http://schemas.openxmlformats.org/officeDocument/2006/relationships/theme" Target="../theme/theme139.xml"/><Relationship Id="rId2" Type="http://schemas.openxmlformats.org/officeDocument/2006/relationships/slideLayout" Target="../slideLayouts/slideLayout1657.xml"/><Relationship Id="rId3" Type="http://schemas.openxmlformats.org/officeDocument/2006/relationships/slideLayout" Target="../slideLayouts/slideLayout1658.xml"/><Relationship Id="rId4" Type="http://schemas.openxmlformats.org/officeDocument/2006/relationships/slideLayout" Target="../slideLayouts/slideLayout1659.xml"/><Relationship Id="rId5" Type="http://schemas.openxmlformats.org/officeDocument/2006/relationships/slideLayout" Target="../slideLayouts/slideLayout1660.xml"/><Relationship Id="rId6" Type="http://schemas.openxmlformats.org/officeDocument/2006/relationships/slideLayout" Target="../slideLayouts/slideLayout1661.xml"/><Relationship Id="rId7" Type="http://schemas.openxmlformats.org/officeDocument/2006/relationships/slideLayout" Target="../slideLayouts/slideLayout1662.xml"/><Relationship Id="rId8" Type="http://schemas.openxmlformats.org/officeDocument/2006/relationships/slideLayout" Target="../slideLayouts/slideLayout1663.xml"/><Relationship Id="rId9" Type="http://schemas.openxmlformats.org/officeDocument/2006/relationships/slideLayout" Target="../slideLayouts/slideLayout1664.xml"/><Relationship Id="rId10" Type="http://schemas.openxmlformats.org/officeDocument/2006/relationships/slideLayout" Target="../slideLayouts/slideLayout1665.xml"/><Relationship Id="rId11" Type="http://schemas.openxmlformats.org/officeDocument/2006/relationships/slideLayout" Target="../slideLayouts/slideLayout1666.xml"/><Relationship Id="rId12" Type="http://schemas.openxmlformats.org/officeDocument/2006/relationships/slideLayout" Target="../slideLayouts/slideLayout1667.xml"/><Relationship Id="rId13" Type="http://schemas.openxmlformats.org/officeDocument/2006/relationships/slideLayout" Target="../slideLayouts/slideLayout1668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40.xml.rels><?xml version="1.0" encoding="UTF-8"?>
<Relationships xmlns="http://schemas.openxmlformats.org/package/2006/relationships"><Relationship Id="rId1" Type="http://schemas.openxmlformats.org/officeDocument/2006/relationships/theme" Target="../theme/theme140.xml"/><Relationship Id="rId2" Type="http://schemas.openxmlformats.org/officeDocument/2006/relationships/slideLayout" Target="../slideLayouts/slideLayout1669.xml"/><Relationship Id="rId3" Type="http://schemas.openxmlformats.org/officeDocument/2006/relationships/slideLayout" Target="../slideLayouts/slideLayout1670.xml"/><Relationship Id="rId4" Type="http://schemas.openxmlformats.org/officeDocument/2006/relationships/slideLayout" Target="../slideLayouts/slideLayout1671.xml"/><Relationship Id="rId5" Type="http://schemas.openxmlformats.org/officeDocument/2006/relationships/slideLayout" Target="../slideLayouts/slideLayout1672.xml"/><Relationship Id="rId6" Type="http://schemas.openxmlformats.org/officeDocument/2006/relationships/slideLayout" Target="../slideLayouts/slideLayout1673.xml"/><Relationship Id="rId7" Type="http://schemas.openxmlformats.org/officeDocument/2006/relationships/slideLayout" Target="../slideLayouts/slideLayout1674.xml"/><Relationship Id="rId8" Type="http://schemas.openxmlformats.org/officeDocument/2006/relationships/slideLayout" Target="../slideLayouts/slideLayout1675.xml"/><Relationship Id="rId9" Type="http://schemas.openxmlformats.org/officeDocument/2006/relationships/slideLayout" Target="../slideLayouts/slideLayout1676.xml"/><Relationship Id="rId10" Type="http://schemas.openxmlformats.org/officeDocument/2006/relationships/slideLayout" Target="../slideLayouts/slideLayout1677.xml"/><Relationship Id="rId11" Type="http://schemas.openxmlformats.org/officeDocument/2006/relationships/slideLayout" Target="../slideLayouts/slideLayout1678.xml"/><Relationship Id="rId12" Type="http://schemas.openxmlformats.org/officeDocument/2006/relationships/slideLayout" Target="../slideLayouts/slideLayout1679.xml"/><Relationship Id="rId13" Type="http://schemas.openxmlformats.org/officeDocument/2006/relationships/slideLayout" Target="../slideLayouts/slideLayout1680.xml"/>
</Relationships>
</file>

<file path=ppt/slideMasters/_rels/slideMaster141.xml.rels><?xml version="1.0" encoding="UTF-8"?>
<Relationships xmlns="http://schemas.openxmlformats.org/package/2006/relationships"><Relationship Id="rId1" Type="http://schemas.openxmlformats.org/officeDocument/2006/relationships/theme" Target="../theme/theme141.xml"/><Relationship Id="rId2" Type="http://schemas.openxmlformats.org/officeDocument/2006/relationships/slideLayout" Target="../slideLayouts/slideLayout1681.xml"/><Relationship Id="rId3" Type="http://schemas.openxmlformats.org/officeDocument/2006/relationships/slideLayout" Target="../slideLayouts/slideLayout1682.xml"/><Relationship Id="rId4" Type="http://schemas.openxmlformats.org/officeDocument/2006/relationships/slideLayout" Target="../slideLayouts/slideLayout1683.xml"/><Relationship Id="rId5" Type="http://schemas.openxmlformats.org/officeDocument/2006/relationships/slideLayout" Target="../slideLayouts/slideLayout1684.xml"/><Relationship Id="rId6" Type="http://schemas.openxmlformats.org/officeDocument/2006/relationships/slideLayout" Target="../slideLayouts/slideLayout1685.xml"/><Relationship Id="rId7" Type="http://schemas.openxmlformats.org/officeDocument/2006/relationships/slideLayout" Target="../slideLayouts/slideLayout1686.xml"/><Relationship Id="rId8" Type="http://schemas.openxmlformats.org/officeDocument/2006/relationships/slideLayout" Target="../slideLayouts/slideLayout1687.xml"/><Relationship Id="rId9" Type="http://schemas.openxmlformats.org/officeDocument/2006/relationships/slideLayout" Target="../slideLayouts/slideLayout1688.xml"/><Relationship Id="rId10" Type="http://schemas.openxmlformats.org/officeDocument/2006/relationships/slideLayout" Target="../slideLayouts/slideLayout1689.xml"/><Relationship Id="rId11" Type="http://schemas.openxmlformats.org/officeDocument/2006/relationships/slideLayout" Target="../slideLayouts/slideLayout1690.xml"/><Relationship Id="rId12" Type="http://schemas.openxmlformats.org/officeDocument/2006/relationships/slideLayout" Target="../slideLayouts/slideLayout1691.xml"/><Relationship Id="rId13" Type="http://schemas.openxmlformats.org/officeDocument/2006/relationships/slideLayout" Target="../slideLayouts/slideLayout1692.xml"/>
</Relationships>
</file>

<file path=ppt/slideMasters/_rels/slideMaster142.xml.rels><?xml version="1.0" encoding="UTF-8"?>
<Relationships xmlns="http://schemas.openxmlformats.org/package/2006/relationships"><Relationship Id="rId1" Type="http://schemas.openxmlformats.org/officeDocument/2006/relationships/theme" Target="../theme/theme142.xml"/><Relationship Id="rId2" Type="http://schemas.openxmlformats.org/officeDocument/2006/relationships/slideLayout" Target="../slideLayouts/slideLayout1693.xml"/><Relationship Id="rId3" Type="http://schemas.openxmlformats.org/officeDocument/2006/relationships/slideLayout" Target="../slideLayouts/slideLayout1694.xml"/><Relationship Id="rId4" Type="http://schemas.openxmlformats.org/officeDocument/2006/relationships/slideLayout" Target="../slideLayouts/slideLayout1695.xml"/><Relationship Id="rId5" Type="http://schemas.openxmlformats.org/officeDocument/2006/relationships/slideLayout" Target="../slideLayouts/slideLayout1696.xml"/><Relationship Id="rId6" Type="http://schemas.openxmlformats.org/officeDocument/2006/relationships/slideLayout" Target="../slideLayouts/slideLayout1697.xml"/><Relationship Id="rId7" Type="http://schemas.openxmlformats.org/officeDocument/2006/relationships/slideLayout" Target="../slideLayouts/slideLayout1698.xml"/><Relationship Id="rId8" Type="http://schemas.openxmlformats.org/officeDocument/2006/relationships/slideLayout" Target="../slideLayouts/slideLayout1699.xml"/><Relationship Id="rId9" Type="http://schemas.openxmlformats.org/officeDocument/2006/relationships/slideLayout" Target="../slideLayouts/slideLayout1700.xml"/><Relationship Id="rId10" Type="http://schemas.openxmlformats.org/officeDocument/2006/relationships/slideLayout" Target="../slideLayouts/slideLayout1701.xml"/><Relationship Id="rId11" Type="http://schemas.openxmlformats.org/officeDocument/2006/relationships/slideLayout" Target="../slideLayouts/slideLayout1702.xml"/><Relationship Id="rId12" Type="http://schemas.openxmlformats.org/officeDocument/2006/relationships/slideLayout" Target="../slideLayouts/slideLayout1703.xml"/><Relationship Id="rId13" Type="http://schemas.openxmlformats.org/officeDocument/2006/relationships/slideLayout" Target="../slideLayouts/slideLayout1704.xml"/>
</Relationships>
</file>

<file path=ppt/slideMasters/_rels/slideMaster143.xml.rels><?xml version="1.0" encoding="UTF-8"?>
<Relationships xmlns="http://schemas.openxmlformats.org/package/2006/relationships"><Relationship Id="rId1" Type="http://schemas.openxmlformats.org/officeDocument/2006/relationships/theme" Target="../theme/theme143.xml"/><Relationship Id="rId2" Type="http://schemas.openxmlformats.org/officeDocument/2006/relationships/slideLayout" Target="../slideLayouts/slideLayout1705.xml"/><Relationship Id="rId3" Type="http://schemas.openxmlformats.org/officeDocument/2006/relationships/slideLayout" Target="../slideLayouts/slideLayout1706.xml"/><Relationship Id="rId4" Type="http://schemas.openxmlformats.org/officeDocument/2006/relationships/slideLayout" Target="../slideLayouts/slideLayout1707.xml"/><Relationship Id="rId5" Type="http://schemas.openxmlformats.org/officeDocument/2006/relationships/slideLayout" Target="../slideLayouts/slideLayout1708.xml"/><Relationship Id="rId6" Type="http://schemas.openxmlformats.org/officeDocument/2006/relationships/slideLayout" Target="../slideLayouts/slideLayout1709.xml"/><Relationship Id="rId7" Type="http://schemas.openxmlformats.org/officeDocument/2006/relationships/slideLayout" Target="../slideLayouts/slideLayout1710.xml"/><Relationship Id="rId8" Type="http://schemas.openxmlformats.org/officeDocument/2006/relationships/slideLayout" Target="../slideLayouts/slideLayout1711.xml"/><Relationship Id="rId9" Type="http://schemas.openxmlformats.org/officeDocument/2006/relationships/slideLayout" Target="../slideLayouts/slideLayout1712.xml"/><Relationship Id="rId10" Type="http://schemas.openxmlformats.org/officeDocument/2006/relationships/slideLayout" Target="../slideLayouts/slideLayout1713.xml"/><Relationship Id="rId11" Type="http://schemas.openxmlformats.org/officeDocument/2006/relationships/slideLayout" Target="../slideLayouts/slideLayout1714.xml"/><Relationship Id="rId12" Type="http://schemas.openxmlformats.org/officeDocument/2006/relationships/slideLayout" Target="../slideLayouts/slideLayout1715.xml"/><Relationship Id="rId13" Type="http://schemas.openxmlformats.org/officeDocument/2006/relationships/slideLayout" Target="../slideLayouts/slideLayout1716.xml"/>
</Relationships>
</file>

<file path=ppt/slideMasters/_rels/slideMaster144.xml.rels><?xml version="1.0" encoding="UTF-8"?>
<Relationships xmlns="http://schemas.openxmlformats.org/package/2006/relationships"><Relationship Id="rId1" Type="http://schemas.openxmlformats.org/officeDocument/2006/relationships/theme" Target="../theme/theme144.xml"/><Relationship Id="rId2" Type="http://schemas.openxmlformats.org/officeDocument/2006/relationships/slideLayout" Target="../slideLayouts/slideLayout1717.xml"/><Relationship Id="rId3" Type="http://schemas.openxmlformats.org/officeDocument/2006/relationships/slideLayout" Target="../slideLayouts/slideLayout1718.xml"/><Relationship Id="rId4" Type="http://schemas.openxmlformats.org/officeDocument/2006/relationships/slideLayout" Target="../slideLayouts/slideLayout1719.xml"/><Relationship Id="rId5" Type="http://schemas.openxmlformats.org/officeDocument/2006/relationships/slideLayout" Target="../slideLayouts/slideLayout1720.xml"/><Relationship Id="rId6" Type="http://schemas.openxmlformats.org/officeDocument/2006/relationships/slideLayout" Target="../slideLayouts/slideLayout1721.xml"/><Relationship Id="rId7" Type="http://schemas.openxmlformats.org/officeDocument/2006/relationships/slideLayout" Target="../slideLayouts/slideLayout1722.xml"/><Relationship Id="rId8" Type="http://schemas.openxmlformats.org/officeDocument/2006/relationships/slideLayout" Target="../slideLayouts/slideLayout1723.xml"/><Relationship Id="rId9" Type="http://schemas.openxmlformats.org/officeDocument/2006/relationships/slideLayout" Target="../slideLayouts/slideLayout1724.xml"/><Relationship Id="rId10" Type="http://schemas.openxmlformats.org/officeDocument/2006/relationships/slideLayout" Target="../slideLayouts/slideLayout1725.xml"/><Relationship Id="rId11" Type="http://schemas.openxmlformats.org/officeDocument/2006/relationships/slideLayout" Target="../slideLayouts/slideLayout1726.xml"/><Relationship Id="rId12" Type="http://schemas.openxmlformats.org/officeDocument/2006/relationships/slideLayout" Target="../slideLayouts/slideLayout1727.xml"/><Relationship Id="rId13" Type="http://schemas.openxmlformats.org/officeDocument/2006/relationships/slideLayout" Target="../slideLayouts/slideLayout1728.xml"/>
</Relationships>
</file>

<file path=ppt/slideMasters/_rels/slideMaster145.xml.rels><?xml version="1.0" encoding="UTF-8"?>
<Relationships xmlns="http://schemas.openxmlformats.org/package/2006/relationships"><Relationship Id="rId1" Type="http://schemas.openxmlformats.org/officeDocument/2006/relationships/theme" Target="../theme/theme145.xml"/><Relationship Id="rId2" Type="http://schemas.openxmlformats.org/officeDocument/2006/relationships/slideLayout" Target="../slideLayouts/slideLayout1729.xml"/><Relationship Id="rId3" Type="http://schemas.openxmlformats.org/officeDocument/2006/relationships/slideLayout" Target="../slideLayouts/slideLayout1730.xml"/><Relationship Id="rId4" Type="http://schemas.openxmlformats.org/officeDocument/2006/relationships/slideLayout" Target="../slideLayouts/slideLayout1731.xml"/><Relationship Id="rId5" Type="http://schemas.openxmlformats.org/officeDocument/2006/relationships/slideLayout" Target="../slideLayouts/slideLayout1732.xml"/><Relationship Id="rId6" Type="http://schemas.openxmlformats.org/officeDocument/2006/relationships/slideLayout" Target="../slideLayouts/slideLayout1733.xml"/><Relationship Id="rId7" Type="http://schemas.openxmlformats.org/officeDocument/2006/relationships/slideLayout" Target="../slideLayouts/slideLayout1734.xml"/><Relationship Id="rId8" Type="http://schemas.openxmlformats.org/officeDocument/2006/relationships/slideLayout" Target="../slideLayouts/slideLayout1735.xml"/><Relationship Id="rId9" Type="http://schemas.openxmlformats.org/officeDocument/2006/relationships/slideLayout" Target="../slideLayouts/slideLayout1736.xml"/><Relationship Id="rId10" Type="http://schemas.openxmlformats.org/officeDocument/2006/relationships/slideLayout" Target="../slideLayouts/slideLayout1737.xml"/><Relationship Id="rId11" Type="http://schemas.openxmlformats.org/officeDocument/2006/relationships/slideLayout" Target="../slideLayouts/slideLayout1738.xml"/><Relationship Id="rId12" Type="http://schemas.openxmlformats.org/officeDocument/2006/relationships/slideLayout" Target="../slideLayouts/slideLayout1739.xml"/><Relationship Id="rId13" Type="http://schemas.openxmlformats.org/officeDocument/2006/relationships/slideLayout" Target="../slideLayouts/slideLayout1740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9AA6-0916-43E8-AB07-EE8098706AC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9A10-980C-4DA2-83FA-6E5ED0B6FFF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0252-1368-4F33-BA74-47C51531F80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10FA-2D9F-4622-BD33-F42A7C1E29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1" name="PlaceHolder 3"/>
          <p:cNvSpPr>
            <a:spLocks noGrp="1"/>
          </p:cNvSpPr>
          <p:nvPr>
            <p:ph type="dt" idx="2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8F0C-76B8-477B-90FB-724E7F0C183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PlaceHolder 4"/>
          <p:cNvSpPr>
            <a:spLocks noGrp="1"/>
          </p:cNvSpPr>
          <p:nvPr>
            <p:ph type="ftr" idx="2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PlaceHolder 5"/>
          <p:cNvSpPr>
            <a:spLocks noGrp="1"/>
          </p:cNvSpPr>
          <p:nvPr>
            <p:ph type="sldNum" idx="30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8BB9-FC0E-4EC6-A0C6-FCAD43BFF7E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 type="dt" idx="3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5EA9-EC53-4816-985B-A75596E4BA4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PlaceHolder 4"/>
          <p:cNvSpPr>
            <a:spLocks noGrp="1"/>
          </p:cNvSpPr>
          <p:nvPr>
            <p:ph type="ftr" idx="3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PlaceHolder 5"/>
          <p:cNvSpPr>
            <a:spLocks noGrp="1"/>
          </p:cNvSpPr>
          <p:nvPr>
            <p:ph type="sldNum" idx="30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7A35-26C1-4CB3-B81D-B73998E0CAD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3" name="PlaceHolder 3"/>
          <p:cNvSpPr>
            <a:spLocks noGrp="1"/>
          </p:cNvSpPr>
          <p:nvPr>
            <p:ph type="dt" idx="30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B4B1-A0C9-430C-A79E-50D8A0E2A30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PlaceHolder 4"/>
          <p:cNvSpPr>
            <a:spLocks noGrp="1"/>
          </p:cNvSpPr>
          <p:nvPr>
            <p:ph type="ftr" idx="30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PlaceHolder 5"/>
          <p:cNvSpPr>
            <a:spLocks noGrp="1"/>
          </p:cNvSpPr>
          <p:nvPr>
            <p:ph type="sldNum" idx="30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0F30-2747-4E51-BCDD-FE3DCAEF4B3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4" name="PlaceHolder 3"/>
          <p:cNvSpPr>
            <a:spLocks noGrp="1"/>
          </p:cNvSpPr>
          <p:nvPr>
            <p:ph type="dt" idx="30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7B26-D2AF-4C8A-AB91-8AA23158DBF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PlaceHolder 4"/>
          <p:cNvSpPr>
            <a:spLocks noGrp="1"/>
          </p:cNvSpPr>
          <p:nvPr>
            <p:ph type="ftr" idx="30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PlaceHolder 5"/>
          <p:cNvSpPr>
            <a:spLocks noGrp="1"/>
          </p:cNvSpPr>
          <p:nvPr>
            <p:ph type="sldNum" idx="30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F4F6-4E3C-427C-8060-96E677A482D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5" name="PlaceHolder 3"/>
          <p:cNvSpPr>
            <a:spLocks noGrp="1"/>
          </p:cNvSpPr>
          <p:nvPr>
            <p:ph type="dt" idx="3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00AB-F0BF-4DFD-AC4B-955F764E7BE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PlaceHolder 4"/>
          <p:cNvSpPr>
            <a:spLocks noGrp="1"/>
          </p:cNvSpPr>
          <p:nvPr>
            <p:ph type="ftr" idx="3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PlaceHolder 5"/>
          <p:cNvSpPr>
            <a:spLocks noGrp="1"/>
          </p:cNvSpPr>
          <p:nvPr>
            <p:ph type="sldNum" idx="3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E18C-E46D-4932-8217-EDD0C82912F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6" name="PlaceHolder 3"/>
          <p:cNvSpPr>
            <a:spLocks noGrp="1"/>
          </p:cNvSpPr>
          <p:nvPr>
            <p:ph type="dt" idx="3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C11F-9F3A-42D2-9152-D4AC8DFF3EB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PlaceHolder 4"/>
          <p:cNvSpPr>
            <a:spLocks noGrp="1"/>
          </p:cNvSpPr>
          <p:nvPr>
            <p:ph type="ftr" idx="3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PlaceHolder 5"/>
          <p:cNvSpPr>
            <a:spLocks noGrp="1"/>
          </p:cNvSpPr>
          <p:nvPr>
            <p:ph type="sldNum" idx="3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6873-C26D-40A1-85BE-B20B72E1DA8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 type="dt" idx="3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60CA-E4BE-4A6B-84CB-15F5BD9E032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 type="ftr" idx="3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PlaceHolder 5"/>
          <p:cNvSpPr>
            <a:spLocks noGrp="1"/>
          </p:cNvSpPr>
          <p:nvPr>
            <p:ph type="sldNum" idx="3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D52E-656E-4E0C-81E4-14538E23AD3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8" name="PlaceHolder 3"/>
          <p:cNvSpPr>
            <a:spLocks noGrp="1"/>
          </p:cNvSpPr>
          <p:nvPr>
            <p:ph type="dt" idx="3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B4B4-DE74-40BE-8D32-00B9CE01F75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PlaceHolder 4"/>
          <p:cNvSpPr>
            <a:spLocks noGrp="1"/>
          </p:cNvSpPr>
          <p:nvPr>
            <p:ph type="ftr" idx="3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PlaceHolder 5"/>
          <p:cNvSpPr>
            <a:spLocks noGrp="1"/>
          </p:cNvSpPr>
          <p:nvPr>
            <p:ph type="sldNum" idx="3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1324-026F-43F8-990A-C088740D73D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9" name="PlaceHolder 3"/>
          <p:cNvSpPr>
            <a:spLocks noGrp="1"/>
          </p:cNvSpPr>
          <p:nvPr>
            <p:ph type="dt" idx="3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64AF-9683-41A9-82EE-2E32684E430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PlaceHolder 4"/>
          <p:cNvSpPr>
            <a:spLocks noGrp="1"/>
          </p:cNvSpPr>
          <p:nvPr>
            <p:ph type="ftr" idx="3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PlaceHolder 5"/>
          <p:cNvSpPr>
            <a:spLocks noGrp="1"/>
          </p:cNvSpPr>
          <p:nvPr>
            <p:ph type="sldNum" idx="3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4BFB-617F-4E68-9153-CFECCF5A0D2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0" name="PlaceHolder 3"/>
          <p:cNvSpPr>
            <a:spLocks noGrp="1"/>
          </p:cNvSpPr>
          <p:nvPr>
            <p:ph type="dt" idx="3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1FAF-FC1D-4704-B1E1-460A7D63598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PlaceHolder 4"/>
          <p:cNvSpPr>
            <a:spLocks noGrp="1"/>
          </p:cNvSpPr>
          <p:nvPr>
            <p:ph type="ftr" idx="3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PlaceHolder 5"/>
          <p:cNvSpPr>
            <a:spLocks noGrp="1"/>
          </p:cNvSpPr>
          <p:nvPr>
            <p:ph type="sldNum" idx="3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8397-72DA-4FDF-B9C3-F7A4C19354F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4791-DC53-4E5C-9E4F-33F78E15457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26F3-2247-409A-B7C6-2F913ADE96D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1" name="PlaceHolder 3"/>
          <p:cNvSpPr>
            <a:spLocks noGrp="1"/>
          </p:cNvSpPr>
          <p:nvPr>
            <p:ph type="dt" idx="3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F244-19DD-456F-9214-CAEF54D0D5D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PlaceHolder 4"/>
          <p:cNvSpPr>
            <a:spLocks noGrp="1"/>
          </p:cNvSpPr>
          <p:nvPr>
            <p:ph type="ftr" idx="3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PlaceHolder 5"/>
          <p:cNvSpPr>
            <a:spLocks noGrp="1"/>
          </p:cNvSpPr>
          <p:nvPr>
            <p:ph type="sldNum" idx="3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F7FA-539A-4752-AE17-A70F93C947D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 type="dt" idx="3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74EE-C374-4EB9-BA9E-566640F73E8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PlaceHolder 4"/>
          <p:cNvSpPr>
            <a:spLocks noGrp="1"/>
          </p:cNvSpPr>
          <p:nvPr>
            <p:ph type="ftr" idx="3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PlaceHolder 5"/>
          <p:cNvSpPr>
            <a:spLocks noGrp="1"/>
          </p:cNvSpPr>
          <p:nvPr>
            <p:ph type="sldNum" idx="3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BE98-5AE5-4A6F-A6D7-BA29F6819E4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3" name="PlaceHolder 3"/>
          <p:cNvSpPr>
            <a:spLocks noGrp="1"/>
          </p:cNvSpPr>
          <p:nvPr>
            <p:ph type="dt" idx="3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435B-5DDC-4949-BD03-E1A60F10735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PlaceHolder 4"/>
          <p:cNvSpPr>
            <a:spLocks noGrp="1"/>
          </p:cNvSpPr>
          <p:nvPr>
            <p:ph type="ftr" idx="3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PlaceHolder 5"/>
          <p:cNvSpPr>
            <a:spLocks noGrp="1"/>
          </p:cNvSpPr>
          <p:nvPr>
            <p:ph type="sldNum" idx="3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C8CA-CC55-445F-9088-986508E38C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4" name="PlaceHolder 3"/>
          <p:cNvSpPr>
            <a:spLocks noGrp="1"/>
          </p:cNvSpPr>
          <p:nvPr>
            <p:ph type="dt" idx="3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0723-D0DD-46DB-ABBB-208C7F10699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PlaceHolder 4"/>
          <p:cNvSpPr>
            <a:spLocks noGrp="1"/>
          </p:cNvSpPr>
          <p:nvPr>
            <p:ph type="ftr" idx="3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PlaceHolder 5"/>
          <p:cNvSpPr>
            <a:spLocks noGrp="1"/>
          </p:cNvSpPr>
          <p:nvPr>
            <p:ph type="sldNum" idx="3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65D8-CCA6-41EF-9629-2715C85DBE1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5" name="PlaceHolder 3"/>
          <p:cNvSpPr>
            <a:spLocks noGrp="1"/>
          </p:cNvSpPr>
          <p:nvPr>
            <p:ph type="dt" idx="3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0C3D-065D-4C38-93A2-836B09808B7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PlaceHolder 4"/>
          <p:cNvSpPr>
            <a:spLocks noGrp="1"/>
          </p:cNvSpPr>
          <p:nvPr>
            <p:ph type="ftr" idx="3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PlaceHolder 5"/>
          <p:cNvSpPr>
            <a:spLocks noGrp="1"/>
          </p:cNvSpPr>
          <p:nvPr>
            <p:ph type="sldNum" idx="3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7A5B-7092-460E-B764-1E230979F4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6" name="PlaceHolder 3"/>
          <p:cNvSpPr>
            <a:spLocks noGrp="1"/>
          </p:cNvSpPr>
          <p:nvPr>
            <p:ph type="dt" idx="3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0C9C-6004-42E5-8F5E-6E2E72FF65D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PlaceHolder 4"/>
          <p:cNvSpPr>
            <a:spLocks noGrp="1"/>
          </p:cNvSpPr>
          <p:nvPr>
            <p:ph type="ftr" idx="3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PlaceHolder 5"/>
          <p:cNvSpPr>
            <a:spLocks noGrp="1"/>
          </p:cNvSpPr>
          <p:nvPr>
            <p:ph type="sldNum" idx="3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06D8-AFCC-4E06-B8EF-6A0BA23B169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7" name="PlaceHolder 3"/>
          <p:cNvSpPr>
            <a:spLocks noGrp="1"/>
          </p:cNvSpPr>
          <p:nvPr>
            <p:ph type="dt" idx="3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8076-7B14-479C-B3B0-16FC2A54962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PlaceHolder 4"/>
          <p:cNvSpPr>
            <a:spLocks noGrp="1"/>
          </p:cNvSpPr>
          <p:nvPr>
            <p:ph type="ftr" idx="3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PlaceHolder 5"/>
          <p:cNvSpPr>
            <a:spLocks noGrp="1"/>
          </p:cNvSpPr>
          <p:nvPr>
            <p:ph type="sldNum" idx="3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C867-D0AB-4D07-81E1-F170C8267E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8" name="PlaceHolder 3"/>
          <p:cNvSpPr>
            <a:spLocks noGrp="1"/>
          </p:cNvSpPr>
          <p:nvPr>
            <p:ph type="dt" idx="3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BFCD-2234-41D5-8BBE-12AE23B2255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PlaceHolder 4"/>
          <p:cNvSpPr>
            <a:spLocks noGrp="1"/>
          </p:cNvSpPr>
          <p:nvPr>
            <p:ph type="ftr" idx="3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PlaceHolder 5"/>
          <p:cNvSpPr>
            <a:spLocks noGrp="1"/>
          </p:cNvSpPr>
          <p:nvPr>
            <p:ph type="sldNum" idx="3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74F9-0FD9-4175-B80A-A7346FA8583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9" name="PlaceHolder 3"/>
          <p:cNvSpPr>
            <a:spLocks noGrp="1"/>
          </p:cNvSpPr>
          <p:nvPr>
            <p:ph type="dt" idx="3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F76A-71FD-410F-9C1F-640AB731604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0" name="PlaceHolder 4"/>
          <p:cNvSpPr>
            <a:spLocks noGrp="1"/>
          </p:cNvSpPr>
          <p:nvPr>
            <p:ph type="ftr" idx="3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PlaceHolder 5"/>
          <p:cNvSpPr>
            <a:spLocks noGrp="1"/>
          </p:cNvSpPr>
          <p:nvPr>
            <p:ph type="sldNum" idx="3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A532-8CA7-4FB9-9024-53753D9CF58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0" name="PlaceHolder 3"/>
          <p:cNvSpPr>
            <a:spLocks noGrp="1"/>
          </p:cNvSpPr>
          <p:nvPr>
            <p:ph type="dt" idx="3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B33D-6BC4-464D-8B6F-9E950652408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PlaceHolder 4"/>
          <p:cNvSpPr>
            <a:spLocks noGrp="1"/>
          </p:cNvSpPr>
          <p:nvPr>
            <p:ph type="ftr" idx="3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PlaceHolder 5"/>
          <p:cNvSpPr>
            <a:spLocks noGrp="1"/>
          </p:cNvSpPr>
          <p:nvPr>
            <p:ph type="sldNum" idx="3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1EB4-C144-43B7-9C8C-3498C4A0A0C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840E-7148-4AD8-BC96-E0D50D624E8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1F6F-C8F5-4461-9395-DF429EEB820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 type="dt" idx="3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16D5-D0FA-4AEC-8A37-576895810B0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PlaceHolder 4"/>
          <p:cNvSpPr>
            <a:spLocks noGrp="1"/>
          </p:cNvSpPr>
          <p:nvPr>
            <p:ph type="ftr" idx="3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PlaceHolder 5"/>
          <p:cNvSpPr>
            <a:spLocks noGrp="1"/>
          </p:cNvSpPr>
          <p:nvPr>
            <p:ph type="sldNum" idx="3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092E-F817-4069-8055-EAC474B9578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2" name="PlaceHolder 3"/>
          <p:cNvSpPr>
            <a:spLocks noGrp="1"/>
          </p:cNvSpPr>
          <p:nvPr>
            <p:ph type="dt" idx="3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ACD1-CAA2-4985-80B3-2595D0943A0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3" name="PlaceHolder 4"/>
          <p:cNvSpPr>
            <a:spLocks noGrp="1"/>
          </p:cNvSpPr>
          <p:nvPr>
            <p:ph type="ftr" idx="3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PlaceHolder 5"/>
          <p:cNvSpPr>
            <a:spLocks noGrp="1"/>
          </p:cNvSpPr>
          <p:nvPr>
            <p:ph type="sldNum" idx="3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A0B0-EB1E-4B02-AAD2-35EFF9696D1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3" name="PlaceHolder 3"/>
          <p:cNvSpPr>
            <a:spLocks noGrp="1"/>
          </p:cNvSpPr>
          <p:nvPr>
            <p:ph type="dt" idx="3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FD38-FCCE-430F-A62B-A4F244A654C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PlaceHolder 4"/>
          <p:cNvSpPr>
            <a:spLocks noGrp="1"/>
          </p:cNvSpPr>
          <p:nvPr>
            <p:ph type="ftr" idx="3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5" name="PlaceHolder 5"/>
          <p:cNvSpPr>
            <a:spLocks noGrp="1"/>
          </p:cNvSpPr>
          <p:nvPr>
            <p:ph type="sldNum" idx="3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BCCA-6987-41B4-8418-60ABD2E9BC1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4" name="PlaceHolder 3"/>
          <p:cNvSpPr>
            <a:spLocks noGrp="1"/>
          </p:cNvSpPr>
          <p:nvPr>
            <p:ph type="dt" idx="3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00DD-91CA-48B7-9364-3D4EB053C58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PlaceHolder 4"/>
          <p:cNvSpPr>
            <a:spLocks noGrp="1"/>
          </p:cNvSpPr>
          <p:nvPr>
            <p:ph type="ftr" idx="3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6" name="PlaceHolder 5"/>
          <p:cNvSpPr>
            <a:spLocks noGrp="1"/>
          </p:cNvSpPr>
          <p:nvPr>
            <p:ph type="sldNum" idx="3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2872-C49F-4493-A88E-8579E396002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5" name="PlaceHolder 3"/>
          <p:cNvSpPr>
            <a:spLocks noGrp="1"/>
          </p:cNvSpPr>
          <p:nvPr>
            <p:ph type="dt" idx="3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EDCC-B81C-4088-91BE-F5746CB7B24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PlaceHolder 4"/>
          <p:cNvSpPr>
            <a:spLocks noGrp="1"/>
          </p:cNvSpPr>
          <p:nvPr>
            <p:ph type="ftr" idx="3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PlaceHolder 5"/>
          <p:cNvSpPr>
            <a:spLocks noGrp="1"/>
          </p:cNvSpPr>
          <p:nvPr>
            <p:ph type="sldNum" idx="3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2D5A-AF6F-49FC-AE83-B0DE48D24DC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2"/>
    <p:sldLayoutId id="2147485249" r:id="rId3"/>
    <p:sldLayoutId id="2147485250" r:id="rId4"/>
    <p:sldLayoutId id="2147485251" r:id="rId5"/>
    <p:sldLayoutId id="2147485252" r:id="rId6"/>
    <p:sldLayoutId id="2147485253" r:id="rId7"/>
    <p:sldLayoutId id="2147485254" r:id="rId8"/>
    <p:sldLayoutId id="2147485255" r:id="rId9"/>
    <p:sldLayoutId id="2147485256" r:id="rId10"/>
    <p:sldLayoutId id="2147485257" r:id="rId11"/>
    <p:sldLayoutId id="2147485258" r:id="rId12"/>
    <p:sldLayoutId id="2147485259" r:id="rId13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6" name="PlaceHolder 3"/>
          <p:cNvSpPr>
            <a:spLocks noGrp="1"/>
          </p:cNvSpPr>
          <p:nvPr>
            <p:ph type="dt" idx="3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1AAC-8734-4885-9FFE-F5444B7046D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7" name="PlaceHolder 4"/>
          <p:cNvSpPr>
            <a:spLocks noGrp="1"/>
          </p:cNvSpPr>
          <p:nvPr>
            <p:ph type="ftr" idx="3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8" name="PlaceHolder 5"/>
          <p:cNvSpPr>
            <a:spLocks noGrp="1"/>
          </p:cNvSpPr>
          <p:nvPr>
            <p:ph type="sldNum" idx="3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0341-6106-46D6-A9EC-C001928F03F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7" name="PlaceHolder 3"/>
          <p:cNvSpPr>
            <a:spLocks noGrp="1"/>
          </p:cNvSpPr>
          <p:nvPr>
            <p:ph type="dt" idx="3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8A94-1FD4-4032-97BB-E211B732FEC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PlaceHolder 4"/>
          <p:cNvSpPr>
            <a:spLocks noGrp="1"/>
          </p:cNvSpPr>
          <p:nvPr>
            <p:ph type="ftr" idx="3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PlaceHolder 5"/>
          <p:cNvSpPr>
            <a:spLocks noGrp="1"/>
          </p:cNvSpPr>
          <p:nvPr>
            <p:ph type="sldNum" idx="3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2A46-F46A-43BA-A2C8-6A68062FCDC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8" name="PlaceHolder 3"/>
          <p:cNvSpPr>
            <a:spLocks noGrp="1"/>
          </p:cNvSpPr>
          <p:nvPr>
            <p:ph type="dt" idx="3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4A9C-8217-4F56-962C-FAC37D5BFEC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PlaceHolder 4"/>
          <p:cNvSpPr>
            <a:spLocks noGrp="1"/>
          </p:cNvSpPr>
          <p:nvPr>
            <p:ph type="ftr" idx="3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0" name="PlaceHolder 5"/>
          <p:cNvSpPr>
            <a:spLocks noGrp="1"/>
          </p:cNvSpPr>
          <p:nvPr>
            <p:ph type="sldNum" idx="3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9B83-6DF3-4829-B025-1986E4C1033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9" name="PlaceHolder 3"/>
          <p:cNvSpPr>
            <a:spLocks noGrp="1"/>
          </p:cNvSpPr>
          <p:nvPr>
            <p:ph type="dt" idx="3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FDCB-D4DB-4505-9803-BAF05A925DF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PlaceHolder 4"/>
          <p:cNvSpPr>
            <a:spLocks noGrp="1"/>
          </p:cNvSpPr>
          <p:nvPr>
            <p:ph type="ftr" idx="3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PlaceHolder 5"/>
          <p:cNvSpPr>
            <a:spLocks noGrp="1"/>
          </p:cNvSpPr>
          <p:nvPr>
            <p:ph type="sldNum" idx="3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7996-244B-451B-88C5-ECBDD65E9FD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0" name="PlaceHolder 3"/>
          <p:cNvSpPr>
            <a:spLocks noGrp="1"/>
          </p:cNvSpPr>
          <p:nvPr>
            <p:ph type="dt" idx="3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5DEC-1D2D-418F-841F-C6099BA04DB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PlaceHolder 4"/>
          <p:cNvSpPr>
            <a:spLocks noGrp="1"/>
          </p:cNvSpPr>
          <p:nvPr>
            <p:ph type="ftr" idx="3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2" name="PlaceHolder 5"/>
          <p:cNvSpPr>
            <a:spLocks noGrp="1"/>
          </p:cNvSpPr>
          <p:nvPr>
            <p:ph type="sldNum" idx="3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AF82-AE5B-4954-A67F-77660A289D2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F82E-584D-45FD-BC41-E33C7132D12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D568-5527-4F0F-AC15-04142B8BB22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1" name="PlaceHolder 3"/>
          <p:cNvSpPr>
            <a:spLocks noGrp="1"/>
          </p:cNvSpPr>
          <p:nvPr>
            <p:ph type="dt" idx="3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D9DE-7C3C-4DF2-BD79-096B941DF9A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PlaceHolder 4"/>
          <p:cNvSpPr>
            <a:spLocks noGrp="1"/>
          </p:cNvSpPr>
          <p:nvPr>
            <p:ph type="ftr" idx="3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PlaceHolder 5"/>
          <p:cNvSpPr>
            <a:spLocks noGrp="1"/>
          </p:cNvSpPr>
          <p:nvPr>
            <p:ph type="sldNum" idx="3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A5C4-E7ED-4BA3-ADFF-594FF199348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2" name="PlaceHolder 3"/>
          <p:cNvSpPr>
            <a:spLocks noGrp="1"/>
          </p:cNvSpPr>
          <p:nvPr>
            <p:ph type="dt" idx="3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7124-443E-4225-9A3D-DC9FA99269E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PlaceHolder 4"/>
          <p:cNvSpPr>
            <a:spLocks noGrp="1"/>
          </p:cNvSpPr>
          <p:nvPr>
            <p:ph type="ftr" idx="3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PlaceHolder 5"/>
          <p:cNvSpPr>
            <a:spLocks noGrp="1"/>
          </p:cNvSpPr>
          <p:nvPr>
            <p:ph type="sldNum" idx="3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AAE9-8D45-4FF8-AE39-18D3444AA14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3" name="PlaceHolder 3"/>
          <p:cNvSpPr>
            <a:spLocks noGrp="1"/>
          </p:cNvSpPr>
          <p:nvPr>
            <p:ph type="dt" idx="3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8441-DD3E-42CF-8C23-F4029EB571A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4" name="PlaceHolder 4"/>
          <p:cNvSpPr>
            <a:spLocks noGrp="1"/>
          </p:cNvSpPr>
          <p:nvPr>
            <p:ph type="ftr" idx="3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5" name="PlaceHolder 5"/>
          <p:cNvSpPr>
            <a:spLocks noGrp="1"/>
          </p:cNvSpPr>
          <p:nvPr>
            <p:ph type="sldNum" idx="3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5B0D-3574-4592-A8FD-3B6362E9AE7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4" name="PlaceHolder 3"/>
          <p:cNvSpPr>
            <a:spLocks noGrp="1"/>
          </p:cNvSpPr>
          <p:nvPr>
            <p:ph type="dt" idx="3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C1E8-2992-495E-BAC4-3469646C08E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PlaceHolder 4"/>
          <p:cNvSpPr>
            <a:spLocks noGrp="1"/>
          </p:cNvSpPr>
          <p:nvPr>
            <p:ph type="ftr" idx="3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6" name="PlaceHolder 5"/>
          <p:cNvSpPr>
            <a:spLocks noGrp="1"/>
          </p:cNvSpPr>
          <p:nvPr>
            <p:ph type="sldNum" idx="3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4FD2-0539-436C-AF8A-E643BAE90F7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65" r:id="rId2"/>
    <p:sldLayoutId id="2147485366" r:id="rId3"/>
    <p:sldLayoutId id="2147485367" r:id="rId4"/>
    <p:sldLayoutId id="2147485368" r:id="rId5"/>
    <p:sldLayoutId id="2147485369" r:id="rId6"/>
    <p:sldLayoutId id="2147485370" r:id="rId7"/>
    <p:sldLayoutId id="2147485371" r:id="rId8"/>
    <p:sldLayoutId id="2147485372" r:id="rId9"/>
    <p:sldLayoutId id="2147485373" r:id="rId10"/>
    <p:sldLayoutId id="2147485374" r:id="rId11"/>
    <p:sldLayoutId id="2147485375" r:id="rId12"/>
    <p:sldLayoutId id="2147485376" r:id="rId13"/>
  </p:sldLayoutIdLst>
</p:sldMaster>
</file>

<file path=ppt/slideMasters/slideMaster1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5" name="PlaceHolder 3"/>
          <p:cNvSpPr>
            <a:spLocks noGrp="1"/>
          </p:cNvSpPr>
          <p:nvPr>
            <p:ph type="dt" idx="4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E3D4-8FBE-49B5-9CCE-EE5A8DADD75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PlaceHolder 4"/>
          <p:cNvSpPr>
            <a:spLocks noGrp="1"/>
          </p:cNvSpPr>
          <p:nvPr>
            <p:ph type="ftr" idx="4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7" name="PlaceHolder 5"/>
          <p:cNvSpPr>
            <a:spLocks noGrp="1"/>
          </p:cNvSpPr>
          <p:nvPr>
            <p:ph type="sldNum" idx="4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FBA5-0929-4871-A8C8-0549EF7A9CC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78" r:id="rId2"/>
    <p:sldLayoutId id="2147485379" r:id="rId3"/>
    <p:sldLayoutId id="2147485380" r:id="rId4"/>
    <p:sldLayoutId id="2147485381" r:id="rId5"/>
    <p:sldLayoutId id="2147485382" r:id="rId6"/>
    <p:sldLayoutId id="2147485383" r:id="rId7"/>
    <p:sldLayoutId id="2147485384" r:id="rId8"/>
    <p:sldLayoutId id="2147485385" r:id="rId9"/>
    <p:sldLayoutId id="2147485386" r:id="rId10"/>
    <p:sldLayoutId id="2147485387" r:id="rId11"/>
    <p:sldLayoutId id="2147485388" r:id="rId12"/>
    <p:sldLayoutId id="2147485389" r:id="rId13"/>
  </p:sldLayoutIdLst>
</p:sldMaster>
</file>

<file path=ppt/slideMasters/slideMaster1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6" name="PlaceHolder 3"/>
          <p:cNvSpPr>
            <a:spLocks noGrp="1"/>
          </p:cNvSpPr>
          <p:nvPr>
            <p:ph type="dt" idx="4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BCF8-3F13-4387-8A3F-28FCAA3D4D6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PlaceHolder 4"/>
          <p:cNvSpPr>
            <a:spLocks noGrp="1"/>
          </p:cNvSpPr>
          <p:nvPr>
            <p:ph type="ftr" idx="4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8" name="PlaceHolder 5"/>
          <p:cNvSpPr>
            <a:spLocks noGrp="1"/>
          </p:cNvSpPr>
          <p:nvPr>
            <p:ph type="sldNum" idx="4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A4C1-B90C-4DCF-9548-E2C0F71C1B8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91" r:id="rId2"/>
    <p:sldLayoutId id="2147485392" r:id="rId3"/>
    <p:sldLayoutId id="2147485393" r:id="rId4"/>
    <p:sldLayoutId id="2147485394" r:id="rId5"/>
    <p:sldLayoutId id="2147485395" r:id="rId6"/>
    <p:sldLayoutId id="2147485396" r:id="rId7"/>
    <p:sldLayoutId id="2147485397" r:id="rId8"/>
    <p:sldLayoutId id="2147485398" r:id="rId9"/>
    <p:sldLayoutId id="2147485399" r:id="rId10"/>
    <p:sldLayoutId id="2147485400" r:id="rId11"/>
    <p:sldLayoutId id="2147485401" r:id="rId12"/>
    <p:sldLayoutId id="2147485402" r:id="rId13"/>
  </p:sldLayoutIdLst>
</p:sldMaster>
</file>

<file path=ppt/slideMasters/slideMaster1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7" name="PlaceHolder 3"/>
          <p:cNvSpPr>
            <a:spLocks noGrp="1"/>
          </p:cNvSpPr>
          <p:nvPr>
            <p:ph type="dt" idx="4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9959-868B-45DF-AD71-0445F8EBBE1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PlaceHolder 4"/>
          <p:cNvSpPr>
            <a:spLocks noGrp="1"/>
          </p:cNvSpPr>
          <p:nvPr>
            <p:ph type="ftr" idx="4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9" name="PlaceHolder 5"/>
          <p:cNvSpPr>
            <a:spLocks noGrp="1"/>
          </p:cNvSpPr>
          <p:nvPr>
            <p:ph type="sldNum" idx="4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0F78-C875-4121-A411-7A77E298074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04" r:id="rId2"/>
    <p:sldLayoutId id="2147485405" r:id="rId3"/>
    <p:sldLayoutId id="2147485406" r:id="rId4"/>
    <p:sldLayoutId id="2147485407" r:id="rId5"/>
    <p:sldLayoutId id="2147485408" r:id="rId6"/>
    <p:sldLayoutId id="2147485409" r:id="rId7"/>
    <p:sldLayoutId id="2147485410" r:id="rId8"/>
    <p:sldLayoutId id="2147485411" r:id="rId9"/>
    <p:sldLayoutId id="2147485412" r:id="rId10"/>
    <p:sldLayoutId id="2147485413" r:id="rId11"/>
    <p:sldLayoutId id="2147485414" r:id="rId12"/>
    <p:sldLayoutId id="2147485415" r:id="rId13"/>
  </p:sldLayoutIdLst>
</p:sldMaster>
</file>

<file path=ppt/slideMasters/slideMaster1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8" name="PlaceHolder 3"/>
          <p:cNvSpPr>
            <a:spLocks noGrp="1"/>
          </p:cNvSpPr>
          <p:nvPr>
            <p:ph type="dt" idx="4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B67F-2B5D-4C48-9B2D-8F96FC193A3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9" name="PlaceHolder 4"/>
          <p:cNvSpPr>
            <a:spLocks noGrp="1"/>
          </p:cNvSpPr>
          <p:nvPr>
            <p:ph type="ftr" idx="4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0" name="PlaceHolder 5"/>
          <p:cNvSpPr>
            <a:spLocks noGrp="1"/>
          </p:cNvSpPr>
          <p:nvPr>
            <p:ph type="sldNum" idx="4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60E7-64D0-4AFC-B33C-2730044766D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17" r:id="rId2"/>
    <p:sldLayoutId id="2147485418" r:id="rId3"/>
    <p:sldLayoutId id="2147485419" r:id="rId4"/>
    <p:sldLayoutId id="2147485420" r:id="rId5"/>
    <p:sldLayoutId id="2147485421" r:id="rId6"/>
    <p:sldLayoutId id="2147485422" r:id="rId7"/>
    <p:sldLayoutId id="2147485423" r:id="rId8"/>
    <p:sldLayoutId id="2147485424" r:id="rId9"/>
    <p:sldLayoutId id="2147485425" r:id="rId10"/>
    <p:sldLayoutId id="2147485426" r:id="rId11"/>
    <p:sldLayoutId id="2147485427" r:id="rId12"/>
    <p:sldLayoutId id="2147485428" r:id="rId13"/>
  </p:sldLayoutIdLst>
</p:sldMaster>
</file>

<file path=ppt/slideMasters/slideMaster1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9" name="PlaceHolder 3"/>
          <p:cNvSpPr>
            <a:spLocks noGrp="1"/>
          </p:cNvSpPr>
          <p:nvPr>
            <p:ph type="dt" idx="4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3B5B-03CF-4DE8-94C0-0A6FEAC4BC4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PlaceHolder 4"/>
          <p:cNvSpPr>
            <a:spLocks noGrp="1"/>
          </p:cNvSpPr>
          <p:nvPr>
            <p:ph type="ftr" idx="4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1" name="PlaceHolder 5"/>
          <p:cNvSpPr>
            <a:spLocks noGrp="1"/>
          </p:cNvSpPr>
          <p:nvPr>
            <p:ph type="sldNum" idx="4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D981-FB8E-4118-B324-71033F79E14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30" r:id="rId2"/>
    <p:sldLayoutId id="2147485431" r:id="rId3"/>
    <p:sldLayoutId id="2147485432" r:id="rId4"/>
    <p:sldLayoutId id="2147485433" r:id="rId5"/>
    <p:sldLayoutId id="2147485434" r:id="rId6"/>
    <p:sldLayoutId id="2147485435" r:id="rId7"/>
    <p:sldLayoutId id="2147485436" r:id="rId8"/>
    <p:sldLayoutId id="2147485437" r:id="rId9"/>
    <p:sldLayoutId id="2147485438" r:id="rId10"/>
    <p:sldLayoutId id="2147485439" r:id="rId11"/>
    <p:sldLayoutId id="2147485440" r:id="rId12"/>
    <p:sldLayoutId id="2147485441" r:id="rId13"/>
  </p:sldLayoutIdLst>
</p:sldMaster>
</file>

<file path=ppt/slideMasters/slideMaster1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0" name="PlaceHolder 3"/>
          <p:cNvSpPr>
            <a:spLocks noGrp="1"/>
          </p:cNvSpPr>
          <p:nvPr>
            <p:ph type="dt" idx="4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36D7-FE54-4C49-8868-B9E350696AE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PlaceHolder 4"/>
          <p:cNvSpPr>
            <a:spLocks noGrp="1"/>
          </p:cNvSpPr>
          <p:nvPr>
            <p:ph type="ftr" idx="4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2" name="PlaceHolder 5"/>
          <p:cNvSpPr>
            <a:spLocks noGrp="1"/>
          </p:cNvSpPr>
          <p:nvPr>
            <p:ph type="sldNum" idx="4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8AD3-1E5C-40D6-8B45-C1CFDA0EC37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43" r:id="rId2"/>
    <p:sldLayoutId id="2147485444" r:id="rId3"/>
    <p:sldLayoutId id="2147485445" r:id="rId4"/>
    <p:sldLayoutId id="2147485446" r:id="rId5"/>
    <p:sldLayoutId id="2147485447" r:id="rId6"/>
    <p:sldLayoutId id="2147485448" r:id="rId7"/>
    <p:sldLayoutId id="2147485449" r:id="rId8"/>
    <p:sldLayoutId id="2147485450" r:id="rId9"/>
    <p:sldLayoutId id="2147485451" r:id="rId10"/>
    <p:sldLayoutId id="2147485452" r:id="rId11"/>
    <p:sldLayoutId id="2147485453" r:id="rId12"/>
    <p:sldLayoutId id="2147485454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2DC3-E4D7-46C9-84FC-094396BE975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FAB1-224E-4097-BE2E-46BCF0F8F02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1" name="PlaceHolder 3"/>
          <p:cNvSpPr>
            <a:spLocks noGrp="1"/>
          </p:cNvSpPr>
          <p:nvPr>
            <p:ph type="dt" idx="4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E636-4F81-4591-A1E5-DBFC9174038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PlaceHolder 4"/>
          <p:cNvSpPr>
            <a:spLocks noGrp="1"/>
          </p:cNvSpPr>
          <p:nvPr>
            <p:ph type="ftr" idx="4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PlaceHolder 5"/>
          <p:cNvSpPr>
            <a:spLocks noGrp="1"/>
          </p:cNvSpPr>
          <p:nvPr>
            <p:ph type="sldNum" idx="4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FF3D-9B51-4A85-A46B-55C2340825A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56" r:id="rId2"/>
    <p:sldLayoutId id="2147485457" r:id="rId3"/>
    <p:sldLayoutId id="2147485458" r:id="rId4"/>
    <p:sldLayoutId id="2147485459" r:id="rId5"/>
    <p:sldLayoutId id="2147485460" r:id="rId6"/>
    <p:sldLayoutId id="2147485461" r:id="rId7"/>
    <p:sldLayoutId id="2147485462" r:id="rId8"/>
    <p:sldLayoutId id="2147485463" r:id="rId9"/>
    <p:sldLayoutId id="2147485464" r:id="rId10"/>
    <p:sldLayoutId id="2147485465" r:id="rId11"/>
    <p:sldLayoutId id="2147485466" r:id="rId12"/>
    <p:sldLayoutId id="2147485467" r:id="rId13"/>
  </p:sldLayoutIdLst>
</p:sldMaster>
</file>

<file path=ppt/slideMasters/slideMaster1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2" name="PlaceHolder 3"/>
          <p:cNvSpPr>
            <a:spLocks noGrp="1"/>
          </p:cNvSpPr>
          <p:nvPr>
            <p:ph type="dt" idx="4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86B4-AE00-4F11-B583-BC01FB745E9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PlaceHolder 4"/>
          <p:cNvSpPr>
            <a:spLocks noGrp="1"/>
          </p:cNvSpPr>
          <p:nvPr>
            <p:ph type="ftr" idx="4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PlaceHolder 5"/>
          <p:cNvSpPr>
            <a:spLocks noGrp="1"/>
          </p:cNvSpPr>
          <p:nvPr>
            <p:ph type="sldNum" idx="4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85AB-39E9-403D-951F-5125EE8CD6F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69" r:id="rId2"/>
    <p:sldLayoutId id="2147485470" r:id="rId3"/>
    <p:sldLayoutId id="2147485471" r:id="rId4"/>
    <p:sldLayoutId id="2147485472" r:id="rId5"/>
    <p:sldLayoutId id="2147485473" r:id="rId6"/>
    <p:sldLayoutId id="2147485474" r:id="rId7"/>
    <p:sldLayoutId id="2147485475" r:id="rId8"/>
    <p:sldLayoutId id="2147485476" r:id="rId9"/>
    <p:sldLayoutId id="2147485477" r:id="rId10"/>
    <p:sldLayoutId id="2147485478" r:id="rId11"/>
    <p:sldLayoutId id="2147485479" r:id="rId12"/>
    <p:sldLayoutId id="2147485480" r:id="rId13"/>
  </p:sldLayoutIdLst>
</p:sldMaster>
</file>

<file path=ppt/slideMasters/slideMaster1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3" name="PlaceHolder 3"/>
          <p:cNvSpPr>
            <a:spLocks noGrp="1"/>
          </p:cNvSpPr>
          <p:nvPr>
            <p:ph type="dt" idx="4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7880-320F-4D1A-A7F4-B9980038D96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PlaceHolder 4"/>
          <p:cNvSpPr>
            <a:spLocks noGrp="1"/>
          </p:cNvSpPr>
          <p:nvPr>
            <p:ph type="ftr" idx="4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5" name="PlaceHolder 5"/>
          <p:cNvSpPr>
            <a:spLocks noGrp="1"/>
          </p:cNvSpPr>
          <p:nvPr>
            <p:ph type="sldNum" idx="4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6445-126F-4106-89D8-1DE5041AAB6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82" r:id="rId2"/>
    <p:sldLayoutId id="2147485483" r:id="rId3"/>
    <p:sldLayoutId id="2147485484" r:id="rId4"/>
    <p:sldLayoutId id="2147485485" r:id="rId5"/>
    <p:sldLayoutId id="2147485486" r:id="rId6"/>
    <p:sldLayoutId id="2147485487" r:id="rId7"/>
    <p:sldLayoutId id="2147485488" r:id="rId8"/>
    <p:sldLayoutId id="2147485489" r:id="rId9"/>
    <p:sldLayoutId id="2147485490" r:id="rId10"/>
    <p:sldLayoutId id="2147485491" r:id="rId11"/>
    <p:sldLayoutId id="2147485492" r:id="rId12"/>
    <p:sldLayoutId id="2147485493" r:id="rId13"/>
  </p:sldLayoutIdLst>
</p:sldMaster>
</file>

<file path=ppt/slideMasters/slideMaster1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4" name="PlaceHolder 3"/>
          <p:cNvSpPr>
            <a:spLocks noGrp="1"/>
          </p:cNvSpPr>
          <p:nvPr>
            <p:ph type="dt" idx="4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E0AA-9AED-48A1-A81C-C2A35C41279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PlaceHolder 4"/>
          <p:cNvSpPr>
            <a:spLocks noGrp="1"/>
          </p:cNvSpPr>
          <p:nvPr>
            <p:ph type="ftr" idx="4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6" name="PlaceHolder 5"/>
          <p:cNvSpPr>
            <a:spLocks noGrp="1"/>
          </p:cNvSpPr>
          <p:nvPr>
            <p:ph type="sldNum" idx="4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C56A-8CC0-40FB-BA03-61FC77BABBC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95" r:id="rId2"/>
    <p:sldLayoutId id="2147485496" r:id="rId3"/>
    <p:sldLayoutId id="2147485497" r:id="rId4"/>
    <p:sldLayoutId id="2147485498" r:id="rId5"/>
    <p:sldLayoutId id="2147485499" r:id="rId6"/>
    <p:sldLayoutId id="2147485500" r:id="rId7"/>
    <p:sldLayoutId id="2147485501" r:id="rId8"/>
    <p:sldLayoutId id="2147485502" r:id="rId9"/>
    <p:sldLayoutId id="2147485503" r:id="rId10"/>
    <p:sldLayoutId id="2147485504" r:id="rId11"/>
    <p:sldLayoutId id="2147485505" r:id="rId12"/>
    <p:sldLayoutId id="2147485506" r:id="rId13"/>
  </p:sldLayoutIdLst>
</p:sldMaster>
</file>

<file path=ppt/slideMasters/slideMaster1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5" name="PlaceHolder 3"/>
          <p:cNvSpPr>
            <a:spLocks noGrp="1"/>
          </p:cNvSpPr>
          <p:nvPr>
            <p:ph type="dt" idx="4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ED6D-B659-47C6-AA53-001128AAA59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PlaceHolder 4"/>
          <p:cNvSpPr>
            <a:spLocks noGrp="1"/>
          </p:cNvSpPr>
          <p:nvPr>
            <p:ph type="ftr" idx="4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7" name="PlaceHolder 5"/>
          <p:cNvSpPr>
            <a:spLocks noGrp="1"/>
          </p:cNvSpPr>
          <p:nvPr>
            <p:ph type="sldNum" idx="4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44FD-9534-419D-A2EE-7760FCFF97A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08" r:id="rId2"/>
    <p:sldLayoutId id="2147485509" r:id="rId3"/>
    <p:sldLayoutId id="2147485510" r:id="rId4"/>
    <p:sldLayoutId id="2147485511" r:id="rId5"/>
    <p:sldLayoutId id="2147485512" r:id="rId6"/>
    <p:sldLayoutId id="2147485513" r:id="rId7"/>
    <p:sldLayoutId id="2147485514" r:id="rId8"/>
    <p:sldLayoutId id="2147485515" r:id="rId9"/>
    <p:sldLayoutId id="2147485516" r:id="rId10"/>
    <p:sldLayoutId id="2147485517" r:id="rId11"/>
    <p:sldLayoutId id="2147485518" r:id="rId12"/>
    <p:sldLayoutId id="2147485519" r:id="rId13"/>
  </p:sldLayoutIdLst>
</p:sldMaster>
</file>

<file path=ppt/slideMasters/slideMaster1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6" name="PlaceHolder 3"/>
          <p:cNvSpPr>
            <a:spLocks noGrp="1"/>
          </p:cNvSpPr>
          <p:nvPr>
            <p:ph type="dt" idx="4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54E0-9913-400E-8FAA-963E5AFD561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7" name="PlaceHolder 4"/>
          <p:cNvSpPr>
            <a:spLocks noGrp="1"/>
          </p:cNvSpPr>
          <p:nvPr>
            <p:ph type="ftr" idx="4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8" name="PlaceHolder 5"/>
          <p:cNvSpPr>
            <a:spLocks noGrp="1"/>
          </p:cNvSpPr>
          <p:nvPr>
            <p:ph type="sldNum" idx="4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2D22-F14D-405C-B1BE-EAA7AA6D44C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21" r:id="rId2"/>
    <p:sldLayoutId id="2147485522" r:id="rId3"/>
    <p:sldLayoutId id="2147485523" r:id="rId4"/>
    <p:sldLayoutId id="2147485524" r:id="rId5"/>
    <p:sldLayoutId id="2147485525" r:id="rId6"/>
    <p:sldLayoutId id="2147485526" r:id="rId7"/>
    <p:sldLayoutId id="2147485527" r:id="rId8"/>
    <p:sldLayoutId id="2147485528" r:id="rId9"/>
    <p:sldLayoutId id="2147485529" r:id="rId10"/>
    <p:sldLayoutId id="2147485530" r:id="rId11"/>
    <p:sldLayoutId id="2147485531" r:id="rId12"/>
    <p:sldLayoutId id="2147485532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0E19-64A2-4CBF-BF8B-921F6374044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AA8C-8347-4975-AFA0-D82CFCDABC9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7C06-C5B0-4C1C-A3CB-5D6DA3BEC49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8F13-90D8-44B1-AA62-187AE3DAFDE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8C8F-D24D-4001-A40A-4679EC1EBFD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F905-D590-4FF0-A159-B52C58FFFE0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B6E7-11B8-46B7-AC35-3C81B69CC90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88D1-8AC2-4EB4-9354-B2F9C57E57A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BC18-03A3-4E91-9A76-198777D37AA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5973-2D82-4EFC-90A9-F058A4BF884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3891-57E3-4A6E-A7B5-94DBA3F1373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80A5-4010-4BC1-86DD-A650010D49B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9640-1995-47BF-A6C0-4ACD384A942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F08E-3501-46C9-A8E0-1F4F3DC3C36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1CAA-8EAE-4BB3-A4DF-2D31819057C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172C-15D0-4BC8-97F6-558CA817E99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9776-B4D6-46A5-A437-F35CC636040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A9C1-CD65-4119-9A30-8FD87643190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B23B-8F6E-4153-B512-52F2EF22BFE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61CE-F750-45A3-A5FC-910929328A6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6F98-1E81-4B1B-8A67-A80DBA82DBD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D847-1028-4646-BF81-71D873E7859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7E2C-A8DE-401B-A5ED-98F01B5A91F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EE03-E048-4581-A0F5-B4F8ED16A45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001C-45C2-4385-AC54-10D1BF9FC63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1AF3-060F-4126-B545-D63E7922E8F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1778-FC3C-411D-81B5-CE5EA9161B1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2C2C-7372-4924-9749-D46DA316E06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7276-27B0-4358-B67B-FD39B1E90A5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443D-0D99-4364-A07E-7F87ACAF0A2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742E-E18B-479A-A2D5-B4BA0013BCA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6437-DEA7-406E-92FF-19D54B8FAEF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A8E5-298B-4AAA-9017-2FA67FCCD63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DD3D-D1B4-4F3C-96DC-D1232555184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0A26-36A7-45D4-AEC7-8A56C5B5894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1B23-37CB-4351-99BF-FF079BBF622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7F6C-526F-4D74-813C-FA22E850285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F363-9C20-4635-878A-2D780AC39B6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F7D6-F0B2-47F6-AC4A-DDFD072D28C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8EE2-6CB5-4DC6-81E7-11F4D145AE8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1C9C-8890-443F-A4CA-DEA77875551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0BE7-C27E-4422-92B0-6A82CE48397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24A3-443E-433A-9590-5D5147767DD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18E8-86D2-4392-B5BC-B5299FBF2F7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E25C-D744-408C-887B-DE382293B74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FBC8-2463-4076-B1FF-04D624AFF2E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0B7B-5075-4394-8EC2-0E7E18143D0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5F8A-19FF-4444-9309-505D3E77DF8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8DC2-6C1A-4E7E-9994-5B054EB5AD5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90BB-4AAB-4ACE-B3FA-7DD9CF6AB3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1C8F-B465-44BC-A821-9D87BBEE435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3799-47A3-4416-A4B4-66555BE1781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0DF4-31E2-4360-8931-CC840967C0A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7A2D-E33A-4D0E-8AE7-048E419D42B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3039-5E69-443D-B232-308B2B7D267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D473-3E68-4792-9FBA-FCD35C2C70B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8076-8547-4FEC-B04C-3CDC3D8FC36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432E-5E22-4662-9A6E-882D41A76D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4FE1-447F-43CE-8D2D-1EF7748954E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73A2-3582-40ED-9F0D-CC93A894062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5471-5985-4236-BE5E-8D379BB587D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83B2-3AF1-46D1-B5CD-BB6CD44655F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1ED0-397B-4865-8C8F-2DA21131515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ABBB-C9BC-4491-AF41-B45BF562CBD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D51B-510A-4D15-9006-F8E2E9A4B85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4E70-8EB0-4BD1-8AA0-3786341E488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FAFB-403A-466F-9847-95A167BE4F7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4B68-67EC-4A3F-99CE-E491A6C998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3ADF-16C0-4DCD-B042-F3E9C5DED5E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2685-F301-428D-AD27-D5843AC496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112D-FC58-4AD6-B06A-E19DD026148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0C1E-5163-4085-AD39-87134AB6F99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27B7-C5F3-4165-9E0B-54B0AC6599B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AAEE-24C1-4BDA-94B3-D726E465389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743F-A6F1-498A-AD43-92347E6FDB6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E1FB-4DDF-4F6F-A369-B0AA11B87E4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19F5-C4B4-4559-90D7-0A5A42525D4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D77D-4088-4ECB-9783-26CBB59B43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2058-C8D9-4C5D-92AD-940FA72ABBF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26DB-380B-484F-83A3-F1B2ADF4D1C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5712-A42E-47B6-A550-88CB4490488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96A1-B175-4BDE-B0F1-A59AA9EFE1E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2C52-FD31-416A-BDEB-6DB6529FDCE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2992-09A5-421E-8C75-9051298ED8F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9448-686B-4ECB-AB86-5F035EA8A44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97E4-22F0-4719-8F3C-44300E53EA9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4944-985C-4643-BDEB-F62CF1B50A8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C449-71DD-4A53-9703-88C3F4B9451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93B3-9569-4597-9E7C-7F9A4D58B07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32CA-F00C-4456-82DE-274DD4311CC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F7D5-517E-40C6-98B1-855D0C1E16D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369E-459F-4C1C-A69D-21A0DF859F9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729C-B9D3-4D32-91F8-960258956CF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9C00-85A3-4F7C-A871-1D9594852B7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2121-D015-4A68-963C-B45586AC8E9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55B0-5C4B-4467-942C-5990FC14776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6EDF-41DB-4BA7-B6E7-607EC5978A8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9C41-E02C-44B9-802C-91C30387BC7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AB04-7186-4D3E-B517-643A419F816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1499-30CA-4306-B394-BA3A7080838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EF96-352D-4457-80AE-E27F2394491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980D-D5F4-4C30-877B-E390B7CF2D9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54A0-DDB2-42DC-8806-42812528B56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F279-67A6-4F6B-B7EF-6BCBDDFFE4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478E-C667-42F6-90C4-2769A100795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87F5-8941-4E16-A106-BB08B3E9D90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9A31-F218-45AE-A840-092F2069C0A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BD1C-44E5-4805-9B6B-BE6DB91994A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 type="dt" idx="1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2DD2-B249-48F4-990C-A0764F2C5DB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 type="ftr" idx="1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 type="sldNum" idx="1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1FC5-CEA8-44A0-8B54-BDD08FB24A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F6E2-2079-44B0-B5B8-FEEB0527759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3646-B19C-45B8-A244-D4C79C58431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B4AB-C820-4874-99D6-4707149C7A6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8A5D-4AB9-43C7-977D-86343139D08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B067-6CB5-4432-9B74-EC713AB27F1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C8E2-5D0B-452C-950E-E6B5EB6D331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03DE-5DE9-4C51-973F-0B889BDBDA3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5CDE-E54E-4348-8F5D-E47C376DF2A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2ED1-2CE7-43B7-BBCA-72B9D5FEAFC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74D9-DC06-4185-BAD4-D8F4F1EC922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1B23-C22F-47BD-9169-2829E3DCD3C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8357-396F-43C9-8E4D-852D6DC60FC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A77C-0FA4-42D1-BF74-0788D7F3922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53CF-18D9-4670-A622-B95CA9C46F9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A331-467C-4965-9D5E-BADE2C31AAC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E3A0-B19D-438F-9800-B176A090D29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EF79-74A7-46D9-9DC8-05CDB779B45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987D-872C-4E45-B81C-BAAF83D29FE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F22F-9376-49D9-8194-F1408A5AF6B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BE52-CF75-4A8B-A578-755BB67F624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5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6858-B4C7-4C4D-AC8E-77CBEBF9731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8D81-D5E6-4176-9FE8-DD8568DA2F3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FE61-5D22-4EF8-BE98-8356E55D236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1489-022E-4B0E-9E42-66BB526FE81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7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1019-E24D-448C-B168-CBCB2330550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01F7-0903-4DD2-AA14-22CDC504833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B28C-8DBA-41D6-A7F5-AF1D6DD90BC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BEE0-6F03-48FD-BAE2-B664F87DC14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9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7DF3-96B4-42DD-99D0-164CF52FF03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F109-9E8E-4428-B28C-AF54FAB7E9F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1871-8555-483B-B6CC-052DAA6A838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7637-809F-4890-A72D-D934B02EAD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6C51-394B-4534-A6EA-DE4BDFA6FA4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C50B-DBE9-484A-A4F4-7CB7D87A638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1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2832-F0AC-48BA-8389-7E3956D4B0C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5787-9A7C-46F4-B48E-EDFE3FA2F7C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786E-F988-4D5B-A58E-9C916E314BA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332E-3EA9-4517-A9E2-B8AA8EB38E1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C5B7-2092-4B42-8879-9EE817B8A0D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0BF7-A0C0-4C33-9A09-BBB982E3387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AAE5-8AD8-4CF3-BE7A-659D859A38E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FB3E-5834-4CF4-A41D-14FE7947733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15D9-E541-4458-B60C-30DE7E3C9B7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3F42-9B93-49F8-A14F-88ADDE166EA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56D5-2D32-4954-B67B-CF5DF091969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9AFC-37B6-4F3E-BA7C-FA4759F7740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C099-6C4E-426F-BA46-75E1705A960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445F-A9D5-4979-BC14-BBDCDF55291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 type="dt" idx="2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07AF-6C5E-4EDA-9044-80B57F345E7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PlaceHolder 4"/>
          <p:cNvSpPr>
            <a:spLocks noGrp="1"/>
          </p:cNvSpPr>
          <p:nvPr>
            <p:ph type="ftr" idx="26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PlaceHolder 5"/>
          <p:cNvSpPr>
            <a:spLocks noGrp="1"/>
          </p:cNvSpPr>
          <p:nvPr>
            <p:ph type="sldNum" idx="2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8249-7F8E-48B4-A8B3-85C6699177C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9" name="PlaceHolder 3"/>
          <p:cNvSpPr>
            <a:spLocks noGrp="1"/>
          </p:cNvSpPr>
          <p:nvPr>
            <p:ph type="dt" idx="2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7A80-B70A-42E4-A01E-A49D4A9957D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PlaceHolder 4"/>
          <p:cNvSpPr>
            <a:spLocks noGrp="1"/>
          </p:cNvSpPr>
          <p:nvPr>
            <p:ph type="ftr" idx="26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PlaceHolder 5"/>
          <p:cNvSpPr>
            <a:spLocks noGrp="1"/>
          </p:cNvSpPr>
          <p:nvPr>
            <p:ph type="sldNum" idx="26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CA7B-8670-4816-8775-E4B93D0EC97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 type="dt" idx="2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DDBC-A95A-4FE7-8AB2-555ABA0F42B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PlaceHolder 4"/>
          <p:cNvSpPr>
            <a:spLocks noGrp="1"/>
          </p:cNvSpPr>
          <p:nvPr>
            <p:ph type="ftr" idx="2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PlaceHolder 5"/>
          <p:cNvSpPr>
            <a:spLocks noGrp="1"/>
          </p:cNvSpPr>
          <p:nvPr>
            <p:ph type="sldNum" idx="2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9761-091A-4A2E-B9C0-F54ED69FDF6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49E6-5884-46DA-9440-81F6DF520EB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B247-DF5B-41A1-81D5-AEE5140EE03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 type="dt" idx="2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77FC-8F37-4B52-9183-F39001DCFA3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 type="ftr" idx="2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PlaceHolder 5"/>
          <p:cNvSpPr>
            <a:spLocks noGrp="1"/>
          </p:cNvSpPr>
          <p:nvPr>
            <p:ph type="sldNum" idx="2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2D50-207A-4814-A45A-CFB75432EA5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2" name="PlaceHolder 3"/>
          <p:cNvSpPr>
            <a:spLocks noGrp="1"/>
          </p:cNvSpPr>
          <p:nvPr>
            <p:ph type="dt" idx="2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3025-E360-4708-AA4F-F42431F4646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PlaceHolder 4"/>
          <p:cNvSpPr>
            <a:spLocks noGrp="1"/>
          </p:cNvSpPr>
          <p:nvPr>
            <p:ph type="ftr" idx="2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PlaceHolder 5"/>
          <p:cNvSpPr>
            <a:spLocks noGrp="1"/>
          </p:cNvSpPr>
          <p:nvPr>
            <p:ph type="sldNum" idx="2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4DDD-A245-4232-85D7-BCAD7D2A4FD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 type="dt" idx="27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4E87-259C-4A3E-8DD9-BFB2AEC9898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 type="ftr" idx="27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PlaceHolder 5"/>
          <p:cNvSpPr>
            <a:spLocks noGrp="1"/>
          </p:cNvSpPr>
          <p:nvPr>
            <p:ph type="sldNum" idx="27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3FBC-FC2C-4EEF-B128-75304A3FF1C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 type="dt" idx="27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4A5F-AEB6-4E93-8775-E74F73AC798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PlaceHolder 4"/>
          <p:cNvSpPr>
            <a:spLocks noGrp="1"/>
          </p:cNvSpPr>
          <p:nvPr>
            <p:ph type="ftr" idx="27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PlaceHolder 5"/>
          <p:cNvSpPr>
            <a:spLocks noGrp="1"/>
          </p:cNvSpPr>
          <p:nvPr>
            <p:ph type="sldNum" idx="27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B499-7973-42DD-A174-5725D8F084B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 type="dt" idx="28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A022-5443-47A7-88A3-8AF1B08692F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PlaceHolder 4"/>
          <p:cNvSpPr>
            <a:spLocks noGrp="1"/>
          </p:cNvSpPr>
          <p:nvPr>
            <p:ph type="ftr" idx="28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PlaceHolder 5"/>
          <p:cNvSpPr>
            <a:spLocks noGrp="1"/>
          </p:cNvSpPr>
          <p:nvPr>
            <p:ph type="sldNum" idx="28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8C82-426E-47C4-BCE1-5A7BE228C44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 type="dt" idx="28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6D74-1D68-44E9-B645-7DDA80819A8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PlaceHolder 4"/>
          <p:cNvSpPr>
            <a:spLocks noGrp="1"/>
          </p:cNvSpPr>
          <p:nvPr>
            <p:ph type="ftr" idx="28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PlaceHolder 5"/>
          <p:cNvSpPr>
            <a:spLocks noGrp="1"/>
          </p:cNvSpPr>
          <p:nvPr>
            <p:ph type="sldNum" idx="28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A340-ED55-48C3-B058-4E87BF09375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 type="dt" idx="28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2066-E9EB-4435-A222-F0BF3A86CAB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PlaceHolder 4"/>
          <p:cNvSpPr>
            <a:spLocks noGrp="1"/>
          </p:cNvSpPr>
          <p:nvPr>
            <p:ph type="ftr" idx="28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PlaceHolder 5"/>
          <p:cNvSpPr>
            <a:spLocks noGrp="1"/>
          </p:cNvSpPr>
          <p:nvPr>
            <p:ph type="sldNum" idx="28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330E-B116-4DC5-808F-3062D2CDAA6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 type="dt" idx="28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5E4E-6422-4CBE-B4AB-E9787EE622D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PlaceHolder 4"/>
          <p:cNvSpPr>
            <a:spLocks noGrp="1"/>
          </p:cNvSpPr>
          <p:nvPr>
            <p:ph type="ftr" idx="29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PlaceHolder 5"/>
          <p:cNvSpPr>
            <a:spLocks noGrp="1"/>
          </p:cNvSpPr>
          <p:nvPr>
            <p:ph type="sldNum" idx="2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C4C4-52CB-45EB-BA6F-23167AC9094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9" name="PlaceHolder 3"/>
          <p:cNvSpPr>
            <a:spLocks noGrp="1"/>
          </p:cNvSpPr>
          <p:nvPr>
            <p:ph type="dt" idx="2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2DE1-6973-474A-95A4-E9337DE15F2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PlaceHolder 4"/>
          <p:cNvSpPr>
            <a:spLocks noGrp="1"/>
          </p:cNvSpPr>
          <p:nvPr>
            <p:ph type="ftr" idx="2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PlaceHolder 5"/>
          <p:cNvSpPr>
            <a:spLocks noGrp="1"/>
          </p:cNvSpPr>
          <p:nvPr>
            <p:ph type="sldNum" idx="29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A1A0-342D-4FAF-924E-6F9DFB8049D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0" name="PlaceHolder 3"/>
          <p:cNvSpPr>
            <a:spLocks noGrp="1"/>
          </p:cNvSpPr>
          <p:nvPr>
            <p:ph type="dt" idx="2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35C8-7050-47B7-88D9-633B37905D1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PlaceHolder 4"/>
          <p:cNvSpPr>
            <a:spLocks noGrp="1"/>
          </p:cNvSpPr>
          <p:nvPr>
            <p:ph type="ftr" idx="2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PlaceHolder 5"/>
          <p:cNvSpPr>
            <a:spLocks noGrp="1"/>
          </p:cNvSpPr>
          <p:nvPr>
            <p:ph type="sldNum" idx="29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B022-8175-4711-A6E0-7FED86E8E11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6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6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5" name="矩形 6"/>
          <p:cNvSpPr/>
          <p:nvPr/>
        </p:nvSpPr>
        <p:spPr>
          <a:xfrm>
            <a:off x="0" y="0"/>
            <a:ext cx="9153360" cy="3598920"/>
          </a:xfrm>
          <a:prstGeom prst="rect">
            <a:avLst/>
          </a:prstGeom>
          <a:solidFill>
            <a:srgbClr val="fdd6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6" name="矩形 7"/>
          <p:cNvSpPr/>
          <p:nvPr/>
        </p:nvSpPr>
        <p:spPr>
          <a:xfrm>
            <a:off x="-6480" y="4311720"/>
            <a:ext cx="9150480" cy="2546280"/>
          </a:xfrm>
          <a:prstGeom prst="rect">
            <a:avLst/>
          </a:prstGeom>
          <a:solidFill>
            <a:srgbClr val="aac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7" name="Group 4"/>
          <p:cNvGrpSpPr/>
          <p:nvPr/>
        </p:nvGrpSpPr>
        <p:grpSpPr>
          <a:xfrm>
            <a:off x="3419640" y="3598920"/>
            <a:ext cx="2304720" cy="3259080"/>
            <a:chOff x="3419640" y="3598920"/>
            <a:chExt cx="2304720" cy="3259080"/>
          </a:xfrm>
        </p:grpSpPr>
        <p:sp>
          <p:nvSpPr>
            <p:cNvPr id="5948" name="圆角矩形 4"/>
            <p:cNvSpPr/>
            <p:nvPr/>
          </p:nvSpPr>
          <p:spPr>
            <a:xfrm>
              <a:off x="3419640" y="3598920"/>
              <a:ext cx="2304720" cy="3259080"/>
            </a:xfrm>
            <a:custGeom>
              <a:avLst/>
              <a:gdLst>
                <a:gd name="textAreaLeft" fmla="*/ 65880 w 2304720"/>
                <a:gd name="textAreaRight" fmla="*/ 2238840 w 230472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43">
                  <a:moveTo>
                    <a:pt x="2118" y="0"/>
                  </a:moveTo>
                  <a:arcTo wR="2118" hR="2118" stAng="16200000" swAng="-5400000"/>
                  <a:lnTo>
                    <a:pt x="0" y="28425"/>
                  </a:lnTo>
                  <a:arcTo wR="2118" hR="2118" stAng="10800000" swAng="-5400000"/>
                  <a:lnTo>
                    <a:pt x="19482" y="30543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019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9" name="Group 6"/>
          <p:cNvGrpSpPr/>
          <p:nvPr/>
        </p:nvGrpSpPr>
        <p:grpSpPr>
          <a:xfrm>
            <a:off x="5894280" y="3598920"/>
            <a:ext cx="2305080" cy="3259080"/>
            <a:chOff x="5894280" y="3598920"/>
            <a:chExt cx="2305080" cy="3259080"/>
          </a:xfrm>
        </p:grpSpPr>
        <p:sp>
          <p:nvSpPr>
            <p:cNvPr id="5950" name="圆角矩形 5"/>
            <p:cNvSpPr/>
            <p:nvPr/>
          </p:nvSpPr>
          <p:spPr>
            <a:xfrm>
              <a:off x="5894280" y="3598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fff2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1" name="Group 8"/>
          <p:cNvGrpSpPr/>
          <p:nvPr/>
        </p:nvGrpSpPr>
        <p:grpSpPr>
          <a:xfrm>
            <a:off x="944640" y="3598920"/>
            <a:ext cx="2305080" cy="3259080"/>
            <a:chOff x="944640" y="3598920"/>
            <a:chExt cx="2305080" cy="3259080"/>
          </a:xfrm>
        </p:grpSpPr>
        <p:sp>
          <p:nvSpPr>
            <p:cNvPr id="5952" name="圆角矩形 13"/>
            <p:cNvSpPr/>
            <p:nvPr/>
          </p:nvSpPr>
          <p:spPr>
            <a:xfrm>
              <a:off x="944640" y="3598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277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53" name="Picture 2" descr=""/>
          <p:cNvPicPr/>
          <p:nvPr/>
        </p:nvPicPr>
        <p:blipFill>
          <a:blip r:embed="rId1"/>
          <a:stretch/>
        </p:blipFill>
        <p:spPr>
          <a:xfrm>
            <a:off x="-158760" y="1049400"/>
            <a:ext cx="4154400" cy="2546280"/>
          </a:xfrm>
          <a:prstGeom prst="rect">
            <a:avLst/>
          </a:prstGeom>
          <a:ln w="0">
            <a:noFill/>
          </a:ln>
        </p:spPr>
      </p:pic>
      <p:sp>
        <p:nvSpPr>
          <p:cNvPr id="5954" name="矩形 14"/>
          <p:cNvSpPr/>
          <p:nvPr/>
        </p:nvSpPr>
        <p:spPr>
          <a:xfrm>
            <a:off x="2892600" y="2662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9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5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9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5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9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5" name="矩形 14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6" name="矩形 12"/>
          <p:cNvSpPr/>
          <p:nvPr/>
        </p:nvSpPr>
        <p:spPr>
          <a:xfrm>
            <a:off x="-6480" y="0"/>
            <a:ext cx="9150480" cy="4311720"/>
          </a:xfrm>
          <a:prstGeom prst="rect">
            <a:avLst/>
          </a:prstGeom>
          <a:solidFill>
            <a:srgbClr val="fdd6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7" name="Group 4"/>
          <p:cNvGrpSpPr/>
          <p:nvPr/>
        </p:nvGrpSpPr>
        <p:grpSpPr>
          <a:xfrm>
            <a:off x="1285920" y="1165320"/>
            <a:ext cx="6353280" cy="3259080"/>
            <a:chOff x="1285920" y="1165320"/>
            <a:chExt cx="6353280" cy="3259080"/>
          </a:xfrm>
        </p:grpSpPr>
        <p:sp>
          <p:nvSpPr>
            <p:cNvPr id="5958" name="圆角矩形 9"/>
            <p:cNvSpPr/>
            <p:nvPr/>
          </p:nvSpPr>
          <p:spPr>
            <a:xfrm>
              <a:off x="1285920" y="1165320"/>
              <a:ext cx="6353280" cy="3259080"/>
            </a:xfrm>
            <a:prstGeom prst="roundRect">
              <a:avLst>
                <a:gd name="adj" fmla="val 9806"/>
              </a:avLst>
            </a:prstGeom>
            <a:solidFill>
              <a:srgbClr val="019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9" name="直接连接符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0" name="Picture 2" descr=""/>
          <p:cNvPicPr/>
          <p:nvPr/>
        </p:nvPicPr>
        <p:blipFill>
          <a:blip r:embed="rId1"/>
          <a:stretch/>
        </p:blipFill>
        <p:spPr>
          <a:xfrm>
            <a:off x="7238880" y="470700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1" name="矩形 12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aac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2" name="矩形 13"/>
          <p:cNvSpPr/>
          <p:nvPr/>
        </p:nvSpPr>
        <p:spPr>
          <a:xfrm>
            <a:off x="-6480" y="3598920"/>
            <a:ext cx="915048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3" name="Group 4"/>
          <p:cNvGrpSpPr/>
          <p:nvPr/>
        </p:nvGrpSpPr>
        <p:grpSpPr>
          <a:xfrm>
            <a:off x="1906560" y="1822320"/>
            <a:ext cx="4892760" cy="3259440"/>
            <a:chOff x="1906560" y="1822320"/>
            <a:chExt cx="4892760" cy="3259440"/>
          </a:xfrm>
        </p:grpSpPr>
        <p:sp>
          <p:nvSpPr>
            <p:cNvPr id="5964" name="圆角矩形 9"/>
            <p:cNvSpPr/>
            <p:nvPr/>
          </p:nvSpPr>
          <p:spPr>
            <a:xfrm>
              <a:off x="1906560" y="1822320"/>
              <a:ext cx="4892760" cy="3259440"/>
            </a:xfrm>
            <a:prstGeom prst="roundRect">
              <a:avLst>
                <a:gd name="adj" fmla="val 9806"/>
              </a:avLst>
            </a:prstGeom>
            <a:solidFill>
              <a:srgbClr val="fff2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65" name="Picture 8" descr=""/>
          <p:cNvPicPr/>
          <p:nvPr/>
        </p:nvPicPr>
        <p:blipFill>
          <a:blip r:embed="rId1"/>
          <a:stretch/>
        </p:blipFill>
        <p:spPr>
          <a:xfrm>
            <a:off x="7199280" y="491328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5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9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5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9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6" name="矩形 12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2774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7" name="Group 3"/>
          <p:cNvGrpSpPr/>
          <p:nvPr/>
        </p:nvGrpSpPr>
        <p:grpSpPr>
          <a:xfrm>
            <a:off x="2344680" y="1676520"/>
            <a:ext cx="4125960" cy="3259080"/>
            <a:chOff x="2344680" y="1676520"/>
            <a:chExt cx="4125960" cy="3259080"/>
          </a:xfrm>
        </p:grpSpPr>
        <p:sp>
          <p:nvSpPr>
            <p:cNvPr id="5968" name="圆角矩形 10"/>
            <p:cNvSpPr/>
            <p:nvPr/>
          </p:nvSpPr>
          <p:spPr>
            <a:xfrm>
              <a:off x="2344680" y="1676520"/>
              <a:ext cx="4125960" cy="3259080"/>
            </a:xfrm>
            <a:prstGeom prst="roundRect">
              <a:avLst>
                <a:gd name="adj" fmla="val 9806"/>
              </a:avLst>
            </a:prstGeom>
            <a:solidFill>
              <a:srgbClr val="dc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69" name="Picture 2" descr=""/>
          <p:cNvPicPr/>
          <p:nvPr/>
        </p:nvPicPr>
        <p:blipFill>
          <a:blip r:embed="rId1"/>
          <a:stretch/>
        </p:blipFill>
        <p:spPr>
          <a:xfrm>
            <a:off x="7210440" y="4924440"/>
            <a:ext cx="1933560" cy="1933560"/>
          </a:xfrm>
          <a:prstGeom prst="rect">
            <a:avLst/>
          </a:prstGeom>
          <a:ln w="0">
            <a:noFill/>
          </a:ln>
        </p:spPr>
      </p:pic>
      <p:pic>
        <p:nvPicPr>
          <p:cNvPr id="5970" name="Picture 2" descr="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AA41-4410-489A-95DF-D03FE43B8A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2" name="矩形 6"/>
          <p:cNvSpPr/>
          <p:nvPr/>
        </p:nvSpPr>
        <p:spPr>
          <a:xfrm>
            <a:off x="0" y="0"/>
            <a:ext cx="9153360" cy="3598920"/>
          </a:xfrm>
          <a:prstGeom prst="rect">
            <a:avLst/>
          </a:prstGeom>
          <a:solidFill>
            <a:srgbClr val="fff2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3" name="矩形 7"/>
          <p:cNvSpPr/>
          <p:nvPr/>
        </p:nvSpPr>
        <p:spPr>
          <a:xfrm>
            <a:off x="-6480" y="3598920"/>
            <a:ext cx="9150480" cy="3259080"/>
          </a:xfrm>
          <a:prstGeom prst="rect">
            <a:avLst/>
          </a:prstGeom>
          <a:solidFill>
            <a:srgbClr val="019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4" name="Group 5"/>
          <p:cNvGrpSpPr/>
          <p:nvPr/>
        </p:nvGrpSpPr>
        <p:grpSpPr>
          <a:xfrm>
            <a:off x="3419640" y="3598920"/>
            <a:ext cx="2304720" cy="3259080"/>
            <a:chOff x="3419640" y="3598920"/>
            <a:chExt cx="2304720" cy="3259080"/>
          </a:xfrm>
        </p:grpSpPr>
        <p:sp>
          <p:nvSpPr>
            <p:cNvPr id="5975" name="圆角矩形 4"/>
            <p:cNvSpPr/>
            <p:nvPr/>
          </p:nvSpPr>
          <p:spPr>
            <a:xfrm>
              <a:off x="3419640" y="3598920"/>
              <a:ext cx="2304720" cy="3259080"/>
            </a:xfrm>
            <a:custGeom>
              <a:avLst/>
              <a:gdLst>
                <a:gd name="textAreaLeft" fmla="*/ 65880 w 2304720"/>
                <a:gd name="textAreaRight" fmla="*/ 2238840 w 230472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43">
                  <a:moveTo>
                    <a:pt x="2118" y="0"/>
                  </a:moveTo>
                  <a:arcTo wR="2118" hR="2118" stAng="16200000" swAng="-5400000"/>
                  <a:lnTo>
                    <a:pt x="0" y="28425"/>
                  </a:lnTo>
                  <a:arcTo wR="2118" hR="2118" stAng="10800000" swAng="-5400000"/>
                  <a:lnTo>
                    <a:pt x="19482" y="30543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dc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6" name="Group 7"/>
          <p:cNvGrpSpPr/>
          <p:nvPr/>
        </p:nvGrpSpPr>
        <p:grpSpPr>
          <a:xfrm>
            <a:off x="5894280" y="3598920"/>
            <a:ext cx="2305080" cy="3259080"/>
            <a:chOff x="5894280" y="3598920"/>
            <a:chExt cx="2305080" cy="3259080"/>
          </a:xfrm>
        </p:grpSpPr>
        <p:sp>
          <p:nvSpPr>
            <p:cNvPr id="5977" name="圆角矩形 5"/>
            <p:cNvSpPr/>
            <p:nvPr/>
          </p:nvSpPr>
          <p:spPr>
            <a:xfrm>
              <a:off x="5894280" y="3598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dc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8" name="Group 9"/>
          <p:cNvGrpSpPr/>
          <p:nvPr/>
        </p:nvGrpSpPr>
        <p:grpSpPr>
          <a:xfrm>
            <a:off x="944640" y="3598920"/>
            <a:ext cx="2305080" cy="3259080"/>
            <a:chOff x="944640" y="3598920"/>
            <a:chExt cx="2305080" cy="3259080"/>
          </a:xfrm>
        </p:grpSpPr>
        <p:sp>
          <p:nvSpPr>
            <p:cNvPr id="5979" name="圆角矩形 13"/>
            <p:cNvSpPr/>
            <p:nvPr/>
          </p:nvSpPr>
          <p:spPr>
            <a:xfrm>
              <a:off x="944640" y="3598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dc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0" name="矩形 1"/>
          <p:cNvSpPr/>
          <p:nvPr/>
        </p:nvSpPr>
        <p:spPr>
          <a:xfrm>
            <a:off x="3871800" y="2649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谢谢大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1" name="Picture 2" descr=""/>
          <p:cNvPicPr/>
          <p:nvPr/>
        </p:nvPicPr>
        <p:blipFill>
          <a:blip r:embed="rId1"/>
          <a:srcRect l="0" t="0" r="-2021" b="0"/>
          <a:stretch/>
        </p:blipFill>
        <p:spPr>
          <a:xfrm>
            <a:off x="2646360" y="720720"/>
            <a:ext cx="4157640" cy="1916280"/>
          </a:xfrm>
          <a:prstGeom prst="rect">
            <a:avLst/>
          </a:prstGeom>
          <a:ln w="0">
            <a:noFill/>
          </a:ln>
        </p:spPr>
      </p:pic>
      <p:sp>
        <p:nvSpPr>
          <p:cNvPr id="5982" name="矩形 12"/>
          <p:cNvSpPr/>
          <p:nvPr/>
        </p:nvSpPr>
        <p:spPr>
          <a:xfrm>
            <a:off x="3260880" y="324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5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5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5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5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5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9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5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3:12:00Z</dcterms:created>
  <dc:creator>Windows 用户</dc:creator>
  <dc:description/>
  <dc:language>en-US</dc:language>
  <cp:lastModifiedBy>nana</cp:lastModifiedBy>
  <cp:lastPrinted>1899-12-30T00:00:00Z</cp:lastPrinted>
  <dcterms:modified xsi:type="dcterms:W3CDTF">2016-03-05T12:44:45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