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7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133.xml.rels" ContentType="application/vnd.openxmlformats-package.relationships+xml"/>
  <Override PartName="/ppt/slideMasters/_rels/slideMaster129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140.xml.rels" ContentType="application/vnd.openxmlformats-package.relationships+xml"/>
  <Override PartName="/ppt/slideMasters/_rels/slideMaster139.xml.rels" ContentType="application/vnd.openxmlformats-package.relationships+xml"/>
  <Override PartName="/ppt/slideMasters/_rels/slideMaster14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124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27.xml.rels" ContentType="application/vnd.openxmlformats-package.relationships+xml"/>
  <Override PartName="/ppt/slideMasters/_rels/slideMaster131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135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26.xml.rels" ContentType="application/vnd.openxmlformats-package.relationships+xml"/>
  <Override PartName="/ppt/slideMasters/_rels/slideMaster130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41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34.xml.rels" ContentType="application/vnd.openxmlformats-package.relationships+xml"/>
  <Override PartName="/ppt/slideMasters/_rels/slideMaster125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2.xml.rels" ContentType="application/vnd.openxmlformats-package.relationships+xml"/>
  <Override PartName="/ppt/slideMasters/_rels/slideMaster138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14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36.xml.rels" ContentType="application/vnd.openxmlformats-package.relationships+xml"/>
  <Override PartName="/ppt/slideMasters/_rels/slideMaster145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32.xml.rels" ContentType="application/vnd.openxmlformats-package.relationships+xml"/>
  <Override PartName="/ppt/slideMasters/_rels/slideMaster128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100.xml.rels" ContentType="application/vnd.openxmlformats-package.relationships+xml"/>
  <Override PartName="/ppt/slideMasters/slideMaster127.xml" ContentType="application/vnd.openxmlformats-officedocument.presentationml.slideMaster+xml"/>
  <Override PartName="/ppt/slideMasters/slideMaster126.xml" ContentType="application/vnd.openxmlformats-officedocument.presentationml.slideMaster+xml"/>
  <Override PartName="/ppt/slideMasters/slideMaster125.xml" ContentType="application/vnd.openxmlformats-officedocument.presentationml.slideMaster+xml"/>
  <Override PartName="/ppt/slideMasters/slideMaster124.xml" ContentType="application/vnd.openxmlformats-officedocument.presentationml.slideMaster+xml"/>
  <Override PartName="/ppt/slideMasters/slideMaster123.xml" ContentType="application/vnd.openxmlformats-officedocument.presentationml.slideMaster+xml"/>
  <Override PartName="/ppt/slideMasters/slideMaster122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28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134.xml" ContentType="application/vnd.openxmlformats-officedocument.presentationml.slideMaster+xml"/>
  <Override PartName="/ppt/slideMasters/slideMaster135.xml" ContentType="application/vnd.openxmlformats-officedocument.presentationml.slideMaster+xml"/>
  <Override PartName="/ppt/slideMasters/slideMaster136.xml" ContentType="application/vnd.openxmlformats-officedocument.presentationml.slideMaster+xml"/>
  <Override PartName="/ppt/slideMasters/slideMaster137.xml" ContentType="application/vnd.openxmlformats-officedocument.presentationml.slideMaster+xml"/>
  <Override PartName="/ppt/slideMasters/slideMaster138.xml" ContentType="application/vnd.openxmlformats-officedocument.presentationml.slideMaster+xml"/>
  <Override PartName="/ppt/slideMasters/slideMaster140.xml" ContentType="application/vnd.openxmlformats-officedocument.presentationml.slideMaster+xml"/>
  <Override PartName="/ppt/slideMasters/slideMaster139.xml" ContentType="application/vnd.openxmlformats-officedocument.presentationml.slideMaster+xml"/>
  <Override PartName="/ppt/slideMasters/slideMaster141.xml" ContentType="application/vnd.openxmlformats-officedocument.presentationml.slideMaster+xml"/>
  <Override PartName="/ppt/slideMasters/slideMaster142.xml" ContentType="application/vnd.openxmlformats-officedocument.presentationml.slideMaster+xml"/>
  <Override PartName="/ppt/slideMasters/slideMaster1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1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133.xml" ContentType="application/vnd.openxmlformats-officedocument.presentationml.slideMaster+xml"/>
  <Override PartName="/ppt/slideMasters/slideMaster1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132.xml" ContentType="application/vnd.openxmlformats-officedocument.presentationml.slideMaster+xml"/>
  <Override PartName="/ppt/slideMasters/slideMaster129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31.xml" ContentType="application/vnd.openxmlformats-officedocument.presentationml.slideMaster+xml"/>
  <Override PartName="/ppt/slideMasters/slideMaster130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99.xml" ContentType="application/vnd.openxmlformats-officedocument.presentationml.slideMaster+xml"/>
  <Override PartName="/ppt/theme/theme126.xml" ContentType="application/vnd.openxmlformats-officedocument.theme+xml"/>
  <Override PartName="/ppt/theme/theme125.xml" ContentType="application/vnd.openxmlformats-officedocument.theme+xml"/>
  <Override PartName="/ppt/theme/theme124.xml" ContentType="application/vnd.openxmlformats-officedocument.theme+xml"/>
  <Override PartName="/ppt/theme/theme123.xml" ContentType="application/vnd.openxmlformats-officedocument.theme+xml"/>
  <Override PartName="/ppt/theme/theme122.xml" ContentType="application/vnd.openxmlformats-officedocument.theme+xml"/>
  <Override PartName="/ppt/theme/theme49.xml" ContentType="application/vnd.openxmlformats-officedocument.theme+xml"/>
  <Override PartName="/ppt/theme/theme121.xml" ContentType="application/vnd.openxmlformats-officedocument.theme+xml"/>
  <Override PartName="/ppt/theme/theme48.xml" ContentType="application/vnd.openxmlformats-officedocument.theme+xml"/>
  <Override PartName="/ppt/theme/theme120.xml" ContentType="application/vnd.openxmlformats-officedocument.theme+xml"/>
  <Override PartName="/ppt/theme/theme47.xml" ContentType="application/vnd.openxmlformats-officedocument.theme+xml"/>
  <Override PartName="/ppt/theme/theme116.xml" ContentType="application/vnd.openxmlformats-officedocument.theme+xml"/>
  <Override PartName="/ppt/theme/theme115.xml" ContentType="application/vnd.openxmlformats-officedocument.theme+xml"/>
  <Override PartName="/ppt/theme/theme114.xml" ContentType="application/vnd.openxmlformats-officedocument.theme+xml"/>
  <Override PartName="/ppt/theme/theme113.xml" ContentType="application/vnd.openxmlformats-officedocument.theme+xml"/>
  <Override PartName="/ppt/theme/theme112.xml" ContentType="application/vnd.openxmlformats-officedocument.theme+xml"/>
  <Override PartName="/ppt/theme/theme39.xml" ContentType="application/vnd.openxmlformats-officedocument.theme+xml"/>
  <Override PartName="/ppt/theme/theme111.xml" ContentType="application/vnd.openxmlformats-officedocument.theme+xml"/>
  <Override PartName="/ppt/theme/theme38.xml" ContentType="application/vnd.openxmlformats-officedocument.theme+xml"/>
  <Override PartName="/ppt/theme/theme9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24.xml" ContentType="application/vnd.openxmlformats-officedocument.theme+xml"/>
  <Override PartName="/ppt/theme/theme92.xml" ContentType="application/vnd.openxmlformats-officedocument.theme+xml"/>
  <Override PartName="/ppt/theme/theme2.xml" ContentType="application/vnd.openxmlformats-officedocument.theme+xml"/>
  <Override PartName="/ppt/theme/theme131.xml" ContentType="application/vnd.openxmlformats-officedocument.theme+xml"/>
  <Override PartName="/ppt/theme/theme58.xml" ContentType="application/vnd.openxmlformats-officedocument.theme+xml"/>
  <Override PartName="/ppt/theme/theme21.xml" ContentType="application/vnd.openxmlformats-officedocument.theme+xml"/>
  <Override PartName="/ppt/theme/theme143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33.xml" ContentType="application/vnd.openxmlformats-officedocument.theme+xml"/>
  <Override PartName="/ppt/theme/theme3.xml" ContentType="application/vnd.openxmlformats-officedocument.theme+xml"/>
  <Override PartName="/ppt/theme/theme90.xml" ContentType="application/vnd.openxmlformats-officedocument.theme+xml"/>
  <Override PartName="/ppt/theme/theme22.xml" ContentType="application/vnd.openxmlformats-officedocument.theme+xml"/>
  <Override PartName="/ppt/theme/theme144.xml" ContentType="application/vnd.openxmlformats-officedocument.theme+xml"/>
  <Override PartName="/ppt/theme/theme7.xml" ContentType="application/vnd.openxmlformats-officedocument.theme+xml"/>
  <Override PartName="/ppt/theme/theme4.xml" ContentType="application/vnd.openxmlformats-officedocument.theme+xml"/>
  <Override PartName="/ppt/theme/theme91.xml" ContentType="application/vnd.openxmlformats-officedocument.theme+xml"/>
  <Override PartName="/ppt/theme/theme23.xml" ContentType="application/vnd.openxmlformats-officedocument.theme+xml"/>
  <Override PartName="/ppt/theme/theme145.xml" ContentType="application/vnd.openxmlformats-officedocument.theme+xml"/>
  <Override PartName="/ppt/theme/theme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0.xml" ContentType="application/vnd.openxmlformats-officedocument.theme+xml"/>
  <Override PartName="/ppt/theme/theme59.xml" ContentType="application/vnd.openxmlformats-officedocument.theme+xml"/>
  <Override PartName="/ppt/theme/theme132.xml" ContentType="application/vnd.openxmlformats-officedocument.theme+xml"/>
  <Override PartName="/ppt/theme/theme129.xml" ContentType="application/vnd.openxmlformats-officedocument.theme+xml"/>
  <Override PartName="/ppt/theme/theme72.xml" ContentType="application/vnd.openxmlformats-officedocument.theme+xml"/>
  <Override PartName="/ppt/theme/theme40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128.xml" ContentType="application/vnd.openxmlformats-officedocument.theme+xml"/>
  <Override PartName="/ppt/theme/theme71.xml" ContentType="application/vnd.openxmlformats-officedocument.theme+xml"/>
  <Override PartName="/ppt/theme/theme46.xml" ContentType="application/vnd.openxmlformats-officedocument.theme+xml"/>
  <Override PartName="/ppt/theme/theme139.xml" ContentType="application/vnd.openxmlformats-officedocument.theme+xml"/>
  <Override PartName="/ppt/theme/theme50.xml" ContentType="application/vnd.openxmlformats-officedocument.theme+xml"/>
  <Override PartName="/ppt/theme/theme107.xml" ContentType="application/vnd.openxmlformats-officedocument.theme+xml"/>
  <Override PartName="/ppt/theme/theme138.xml" ContentType="application/vnd.openxmlformats-officedocument.theme+xml"/>
  <Override PartName="/ppt/theme/theme56.xml" ContentType="application/vnd.openxmlformats-officedocument.theme+xml"/>
  <Override PartName="/ppt/theme/theme134.xml" ContentType="application/vnd.openxmlformats-officedocument.theme+xml"/>
  <Override PartName="/ppt/theme/theme52.xml" ContentType="application/vnd.openxmlformats-officedocument.theme+xml"/>
  <Override PartName="/ppt/theme/theme109.xml" ContentType="application/vnd.openxmlformats-officedocument.theme+xml"/>
  <Override PartName="/ppt/theme/theme135.xml" ContentType="application/vnd.openxmlformats-officedocument.theme+xml"/>
  <Override PartName="/ppt/theme/theme81.xml" ContentType="application/vnd.openxmlformats-officedocument.theme+xml"/>
  <Override PartName="/ppt/theme/theme13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136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54.xml" ContentType="application/vnd.openxmlformats-officedocument.theme+xml"/>
  <Override PartName="/ppt/theme/theme108.xml" ContentType="application/vnd.openxmlformats-officedocument.theme+xml"/>
  <Override PartName="/ppt/theme/theme51.xml" ContentType="application/vnd.openxmlformats-officedocument.theme+xml"/>
  <Override PartName="/ppt/theme/theme137.xml" ContentType="application/vnd.openxmlformats-officedocument.theme+xml"/>
  <Override PartName="/ppt/theme/theme12.xml" ContentType="application/vnd.openxmlformats-officedocument.theme+xml"/>
  <Override PartName="/ppt/theme/theme80.xml" ContentType="application/vnd.openxmlformats-officedocument.theme+xml"/>
  <Override PartName="/ppt/theme/theme55.xml" ContentType="application/vnd.openxmlformats-officedocument.theme+xml"/>
  <Override PartName="/ppt/theme/theme41.xml" ContentType="application/vnd.openxmlformats-officedocument.theme+xml"/>
  <Override PartName="/ppt/theme/theme13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5.xml" ContentType="application/vnd.openxmlformats-officedocument.theme+xml"/>
  <Override PartName="/ppt/theme/theme83.xml" ContentType="application/vnd.openxmlformats-officedocument.theme+xml"/>
  <Override PartName="/ppt/theme/theme16.xml" ContentType="application/vnd.openxmlformats-officedocument.theme+xml"/>
  <Override PartName="/ppt/theme/theme84.xml" ContentType="application/vnd.openxmlformats-officedocument.theme+xml"/>
  <Override PartName="/ppt/theme/theme25.xml" ContentType="application/vnd.openxmlformats-officedocument.theme+xml"/>
  <Override PartName="/ppt/theme/theme93.xml" ContentType="application/vnd.openxmlformats-officedocument.theme+xml"/>
  <Override PartName="/ppt/theme/theme26.xml" ContentType="application/vnd.openxmlformats-officedocument.theme+xml"/>
  <Override PartName="/ppt/theme/theme94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140.xml" ContentType="application/vnd.openxmlformats-officedocument.theme+xml"/>
  <Override PartName="/ppt/theme/theme67.xml" ContentType="application/vnd.openxmlformats-officedocument.theme+xml"/>
  <Override PartName="/ppt/theme/theme141.xml" ContentType="application/vnd.openxmlformats-officedocument.theme+xml"/>
  <Override PartName="/ppt/theme/theme68.xml" ContentType="application/vnd.openxmlformats-officedocument.theme+xml"/>
  <Override PartName="/ppt/theme/theme142.xml" ContentType="application/vnd.openxmlformats-officedocument.theme+xml"/>
  <Override PartName="/ppt/theme/theme69.xml" ContentType="application/vnd.openxmlformats-officedocument.theme+xml"/>
  <Override PartName="/ppt/theme/theme70.xml" ContentType="application/vnd.openxmlformats-officedocument.theme+xml"/>
  <Override PartName="/ppt/theme/theme127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79.xml" ContentType="application/vnd.openxmlformats-officedocument.theme+xml"/>
  <Override PartName="/ppt/theme/theme17.xml" ContentType="application/vnd.openxmlformats-officedocument.theme+xml"/>
  <Override PartName="/ppt/theme/theme85.xml" ContentType="application/vnd.openxmlformats-officedocument.theme+xml"/>
  <Override PartName="/ppt/theme/theme18.xml" ContentType="application/vnd.openxmlformats-officedocument.theme+xml"/>
  <Override PartName="/ppt/theme/theme86.xml" ContentType="application/vnd.openxmlformats-officedocument.theme+xml"/>
  <Override PartName="/ppt/theme/theme19.xml" ContentType="application/vnd.openxmlformats-officedocument.theme+xml"/>
  <Override PartName="/ppt/theme/theme87.xml" ContentType="application/vnd.openxmlformats-officedocument.theme+xml"/>
  <Override PartName="/ppt/theme/theme88.xml" ContentType="application/vnd.openxmlformats-officedocument.theme+xml"/>
  <Override PartName="/ppt/theme/theme89.xml" ContentType="application/vnd.openxmlformats-officedocument.theme+xml"/>
  <Override PartName="/ppt/theme/theme27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37.xml" ContentType="application/vnd.openxmlformats-officedocument.theme+xml"/>
  <Override PartName="/ppt/theme/theme110.xml" ContentType="application/vnd.openxmlformats-officedocument.theme+xml"/>
  <Override PartName="/ppt/theme/theme28.xml" ContentType="application/vnd.openxmlformats-officedocument.theme+xml"/>
  <Override PartName="/ppt/theme/theme96.xml" ContentType="application/vnd.openxmlformats-officedocument.theme+xml"/>
  <Override PartName="/ppt/theme/theme101.xml" ContentType="application/vnd.openxmlformats-officedocument.theme+xml"/>
  <Override PartName="/ppt/theme/theme29.xml" ContentType="application/vnd.openxmlformats-officedocument.theme+xml"/>
  <Override PartName="/ppt/theme/theme97.xml" ContentType="application/vnd.openxmlformats-officedocument.theme+xml"/>
  <Override PartName="/ppt/theme/theme102.xml" ContentType="application/vnd.openxmlformats-officedocument.theme+xml"/>
  <Override PartName="/ppt/theme/theme98.xml" ContentType="application/vnd.openxmlformats-officedocument.theme+xml"/>
  <Override PartName="/ppt/theme/theme103.xml" ContentType="application/vnd.openxmlformats-officedocument.theme+xml"/>
  <Override PartName="/ppt/theme/theme99.xml" ContentType="application/vnd.openxmlformats-officedocument.theme+xml"/>
  <Override PartName="/ppt/theme/theme104.xml" ContentType="application/vnd.openxmlformats-officedocument.theme+xml"/>
  <Override PartName="/ppt/theme/theme105.xml" ContentType="application/vnd.openxmlformats-officedocument.theme+xml"/>
  <Override PartName="/ppt/theme/theme106.xml" ContentType="application/vnd.openxmlformats-officedocument.theme+xml"/>
  <Override PartName="/ppt/_rels/presentation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53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680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35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534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169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8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69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14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48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169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648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662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168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556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52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8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151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477.xml.rels" ContentType="application/vnd.openxmlformats-package.relationships+xml"/>
  <Override PartName="/ppt/slideLayouts/_rels/slideLayout1555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151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51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548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2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651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69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69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706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170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567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64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65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52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58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152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87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54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568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579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49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558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5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52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484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649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53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1696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1537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58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1659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738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667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697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1639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608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668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160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496.xml.rels" ContentType="application/vnd.openxmlformats-package.relationships+xml"/>
  <Override PartName="/ppt/slideLayouts/_rels/slideLayout1574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5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542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543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51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569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169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545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1628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68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16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661.xml.rels" ContentType="application/vnd.openxmlformats-package.relationships+xml"/>
  <Override PartName="/ppt/slideLayouts/_rels/slideLayout1602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660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6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1600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1674.xml.rels" ContentType="application/vnd.openxmlformats-package.relationships+xml"/>
  <Override PartName="/ppt/slideLayouts/_rels/slideLayout1721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573.xml.rels" ContentType="application/vnd.openxmlformats-package.relationships+xml"/>
  <Override PartName="/ppt/slideLayouts/_rels/slideLayout149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172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572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643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17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1523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51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1521.xml.rels" ContentType="application/vnd.openxmlformats-package.relationships+xml"/>
  <Override PartName="/ppt/slideLayouts/_rels/slideLayout1520.xml.rels" ContentType="application/vnd.openxmlformats-package.relationships+xml"/>
  <Override PartName="/ppt/slideLayouts/_rels/slideLayout1517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57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513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7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50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156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51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49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07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506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56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51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505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563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1510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50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1576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17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163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637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169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72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634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163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478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626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68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627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9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485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5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486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570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5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550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607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616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57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606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493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619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618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581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583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541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171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5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591.xml.rels" ContentType="application/vnd.openxmlformats-package.relationships+xml"/>
  <Override PartName="/ppt/slideLayouts/_rels/slideLayout1533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701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700.xml.rels" ContentType="application/vnd.openxmlformats-package.relationships+xml"/>
  <Override PartName="/ppt/slideLayouts/_rels/slideLayout1552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551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540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1557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546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679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734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492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481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480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1709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1684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498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62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50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610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61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158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613.xml.rels" ContentType="application/vnd.openxmlformats-package.relationships+xml"/>
  <Override PartName="/ppt/slideLayouts/_rels/slideLayout1671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672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614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67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615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620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621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1617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622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2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482.xml.rels" ContentType="application/vnd.openxmlformats-package.relationships+xml"/>
  <Override PartName="/ppt/slideLayouts/_rels/slideLayout1503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631.xml.rels" ContentType="application/vnd.openxmlformats-package.relationships+xml"/>
  <Override PartName="/ppt/slideLayouts/_rels/slideLayout1483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1632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633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640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641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644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522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653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499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663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65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612.xml.rels" ContentType="application/vnd.openxmlformats-package.relationships+xml"/>
  <Override PartName="/ppt/slideLayouts/_rels/slideLayout16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666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707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715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1509.xml.rels" ContentType="application/vnd.openxmlformats-package.relationships+xml"/>
  <Override PartName="/ppt/slideLayouts/_rels/slideLayout1740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1716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71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1726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675.xml.rels" ContentType="application/vnd.openxmlformats-package.relationships+xml"/>
  <Override PartName="/ppt/slideLayouts/_rels/slideLayout154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676.xml.rels" ContentType="application/vnd.openxmlformats-package.relationships+xml"/>
  <Override PartName="/ppt/slideLayouts/_rels/slideLayout1553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170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1677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554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6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703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678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683.xml.rels" ContentType="application/vnd.openxmlformats-package.relationships+xml"/>
  <Override PartName="/ppt/slideLayouts/_rels/slideLayout1625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1704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710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711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71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559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1708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688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5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689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664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722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7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73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1729.xml.rels" ContentType="application/vnd.openxmlformats-package.relationships+xml"/>
  <Override PartName="/ppt/slideLayouts/_rels/slideLayout1693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39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491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592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1593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159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599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96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736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163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735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158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159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31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1733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605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582.xml.rels" ContentType="application/vnd.openxmlformats-package.relationships+xml"/>
  <Override PartName="/ppt/slideLayouts/_rels/slideLayout1731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598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730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1594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1630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1530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1732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160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8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590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53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1561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1657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65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1646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1669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463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90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504.xml.rels" ContentType="application/vnd.openxmlformats-package.relationships+xml"/>
  <Override PartName="/ppt/slideLayouts/_rels/slideLayout156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172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724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164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49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655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165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1642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1624.xml.rels" ContentType="application/vnd.openxmlformats-package.relationships+xml"/>
  <Override PartName="/ppt/slideLayouts/_rels/slideLayout1623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969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629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628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19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618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617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616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615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609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608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607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606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605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499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498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497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496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95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494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489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488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487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486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48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484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79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478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477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1729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6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77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586.xml" ContentType="application/vnd.openxmlformats-officedocument.presentationml.slideLayout+xml"/>
  <Override PartName="/ppt/slideLayouts/slideLayout1635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587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1636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1637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1638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645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1596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646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1597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647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648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5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15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5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5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15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15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15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7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7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580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581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582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583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584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585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590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591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592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593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594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595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598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57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639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172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1728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68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68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682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683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69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691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692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693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155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1588.xml" ContentType="application/vnd.openxmlformats-officedocument.presentationml.slideLayout+xml"/>
  <Override PartName="/ppt/slideLayouts/slideLayout1589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1600.xml" ContentType="application/vnd.openxmlformats-officedocument.presentationml.slideLayout+xml"/>
  <Override PartName="/ppt/slideLayouts/slideLayout1601.xml" ContentType="application/vnd.openxmlformats-officedocument.presentationml.slideLayout+xml"/>
  <Override PartName="/ppt/slideLayouts/slideLayout1610.xml" ContentType="application/vnd.openxmlformats-officedocument.presentationml.slideLayout+xml"/>
  <Override PartName="/ppt/slideLayouts/slideLayout1611.xml" ContentType="application/vnd.openxmlformats-officedocument.presentationml.slideLayout+xml"/>
  <Override PartName="/ppt/slideLayouts/slideLayout1620.xml" ContentType="application/vnd.openxmlformats-officedocument.presentationml.slideLayout+xml"/>
  <Override PartName="/ppt/slideLayouts/slideLayout1621.xml" ContentType="application/vnd.openxmlformats-officedocument.presentationml.slideLayout+xml"/>
  <Override PartName="/ppt/slideLayouts/slideLayout1630.xml" ContentType="application/vnd.openxmlformats-officedocument.presentationml.slideLayout+xml"/>
  <Override PartName="/ppt/slideLayouts/slideLayout1631.xml" ContentType="application/vnd.openxmlformats-officedocument.presentationml.slideLayout+xml"/>
  <Override PartName="/ppt/slideLayouts/slideLayout1493.xml" ContentType="application/vnd.openxmlformats-officedocument.presentationml.slideLayout+xml"/>
  <Override PartName="/ppt/slideLayouts/slideLayout1531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641.xml" ContentType="application/vnd.openxmlformats-officedocument.presentationml.slideLayout+xml"/>
  <Override PartName="/ppt/slideLayouts/slideLayout1642.xml" ContentType="application/vnd.openxmlformats-officedocument.presentationml.slideLayout+xml"/>
  <Override PartName="/ppt/slideLayouts/slideLayout1643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644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541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1599.xml" ContentType="application/vnd.openxmlformats-officedocument.presentationml.slideLayout+xml"/>
  <Override PartName="/ppt/slideLayouts/slideLayout16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710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71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712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02.xml" ContentType="application/vnd.openxmlformats-officedocument.presentationml.slideLayout+xml"/>
  <Override PartName="/ppt/slideLayouts/slideLayout1670.xml" ContentType="application/vnd.openxmlformats-officedocument.presentationml.slideLayout+xml"/>
  <Override PartName="/ppt/slideLayouts/slideLayout1660.xml" ContentType="application/vnd.openxmlformats-officedocument.presentationml.slideLayout+xml"/>
  <Override PartName="/ppt/slideLayouts/slideLayout174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603.xml" ContentType="application/vnd.openxmlformats-officedocument.presentationml.slideLayout+xml"/>
  <Override PartName="/ppt/slideLayouts/slideLayout1671.xml" ContentType="application/vnd.openxmlformats-officedocument.presentationml.slideLayout+xml"/>
  <Override PartName="/ppt/slideLayouts/slideLayout1713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661.xml" ContentType="application/vnd.openxmlformats-officedocument.presentationml.slideLayout+xml"/>
  <Override PartName="/ppt/slideLayouts/slideLayout1720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72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703.xml" ContentType="application/vnd.openxmlformats-officedocument.presentationml.slideLayout+xml"/>
  <Override PartName="/ppt/slideLayouts/slideLayout16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640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738.xml" ContentType="application/vnd.openxmlformats-officedocument.presentationml.slideLayout+xml"/>
  <Override PartName="/ppt/slideLayouts/slideLayout1701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1702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737.xml" ContentType="application/vnd.openxmlformats-officedocument.presentationml.slideLayout+xml"/>
  <Override PartName="/ppt/slideLayouts/slideLayout1700.xml" ContentType="application/vnd.openxmlformats-officedocument.presentationml.slideLayout+xml"/>
  <Override PartName="/ppt/slideLayouts/slideLayout1634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624.xml" ContentType="application/vnd.openxmlformats-officedocument.presentationml.slideLayout+xml"/>
  <Override PartName="/ppt/slideLayouts/slideLayout1490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613.xml" ContentType="application/vnd.openxmlformats-officedocument.presentationml.slideLayout+xml"/>
  <Override PartName="/ppt/slideLayouts/slideLayout1633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623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735.xml" ContentType="application/vnd.openxmlformats-officedocument.presentationml.slideLayout+xml"/>
  <Override PartName="/ppt/slideLayouts/slideLayout1614.xml" ContentType="application/vnd.openxmlformats-officedocument.presentationml.slideLayout+xml"/>
  <Override PartName="/ppt/slideLayouts/slideLayout172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723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12.xml" ContentType="application/vnd.openxmlformats-officedocument.presentationml.slideLayout+xml"/>
  <Override PartName="/ppt/slideLayouts/slideLayout1632.xml" ContentType="application/vnd.openxmlformats-officedocument.presentationml.slideLayout+xml"/>
  <Override PartName="/ppt/slideLayouts/slideLayout1622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73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72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733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3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731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1730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1480.xml" ContentType="application/vnd.openxmlformats-officedocument.presentationml.slideLayout+xml"/>
  <Override PartName="/ppt/slideLayouts/slideLayout1665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1715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672.xml" ContentType="application/vnd.openxmlformats-officedocument.presentationml.slideLayout+xml"/>
  <Override PartName="/ppt/slideLayouts/slideLayout1604.xml" ContentType="application/vnd.openxmlformats-officedocument.presentationml.slideLayout+xml"/>
  <Override PartName="/ppt/slideLayouts/slideLayout1714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27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57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669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1668.xml" ContentType="application/vnd.openxmlformats-officedocument.presentationml.slideLayout+xml"/>
  <Override PartName="/ppt/slideLayouts/slideLayout1483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1667.xml" ContentType="application/vnd.openxmlformats-officedocument.presentationml.slideLayout+xml"/>
  <Override PartName="/ppt/slideLayouts/slideLayout1482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511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1658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708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657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707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656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706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16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705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662.xml" ContentType="application/vnd.openxmlformats-officedocument.presentationml.slideLayout+xml"/>
  <Override PartName="/ppt/slideLayouts/slideLayout1704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56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725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1649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659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150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150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6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2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491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1726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52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1718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1717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1481.xml" ContentType="application/vnd.openxmlformats-officedocument.presentationml.slideLayout+xml"/>
  <Override PartName="/ppt/slideLayouts/slideLayout1666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1716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736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709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507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1504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06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1719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505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673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1664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1663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16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16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26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25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79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1699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569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689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5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5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543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534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542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67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57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51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52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515.xml" ContentType="application/vnd.openxmlformats-officedocument.presentationml.slideLayout+xml"/>
  <Override PartName="/ppt/slideLayouts/slideLayout152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514.xml" ContentType="application/vnd.openxmlformats-officedocument.presentationml.slideLayout+xml"/>
  <Override PartName="/ppt/slideLayouts/slideLayout152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56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564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1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51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555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554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503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1502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52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517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52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545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54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54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536.xml" ContentType="application/vnd.openxmlformats-officedocument.presentationml.slideLayout+xml"/>
  <Override PartName="/ppt/slideLayouts/slideLayout1674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537.xml" ContentType="application/vnd.openxmlformats-officedocument.presentationml.slideLayout+xml"/>
  <Override PartName="/ppt/slideLayouts/slideLayout1675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1676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546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532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153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527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152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52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739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1677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47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678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548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1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684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68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68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556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68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557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68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558.xml" ContentType="application/vnd.openxmlformats-officedocument.presentationml.slideLayout+xml"/>
  <Override PartName="/ppt/slideLayouts/slideLayout156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56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94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69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69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56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69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567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69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56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7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150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509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51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1519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538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539.xml" ContentType="application/vnd.openxmlformats-officedocument.presentationml.slideLayout+xml"/>
  <Override PartName="/ppt/slideLayouts/slideLayout2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  <p:sldMasterId id="2147485247" r:id="rId125"/>
    <p:sldMasterId id="2147485260" r:id="rId126"/>
    <p:sldMasterId id="2147485273" r:id="rId127"/>
    <p:sldMasterId id="2147485286" r:id="rId128"/>
    <p:sldMasterId id="2147485299" r:id="rId129"/>
    <p:sldMasterId id="2147485312" r:id="rId130"/>
    <p:sldMasterId id="2147485325" r:id="rId131"/>
    <p:sldMasterId id="2147485338" r:id="rId132"/>
    <p:sldMasterId id="2147485351" r:id="rId133"/>
    <p:sldMasterId id="2147485364" r:id="rId134"/>
    <p:sldMasterId id="2147485377" r:id="rId135"/>
    <p:sldMasterId id="2147485390" r:id="rId136"/>
    <p:sldMasterId id="2147485403" r:id="rId137"/>
    <p:sldMasterId id="2147485416" r:id="rId138"/>
    <p:sldMasterId id="2147485429" r:id="rId139"/>
    <p:sldMasterId id="2147485442" r:id="rId140"/>
    <p:sldMasterId id="2147485455" r:id="rId141"/>
    <p:sldMasterId id="2147485468" r:id="rId142"/>
    <p:sldMasterId id="2147485481" r:id="rId143"/>
    <p:sldMasterId id="2147485494" r:id="rId144"/>
    <p:sldMasterId id="2147485507" r:id="rId145"/>
    <p:sldMasterId id="2147485520" r:id="rId146"/>
  </p:sldMasterIdLst>
  <p:sldIdLst>
    <p:sldId id="256" r:id="rId147"/>
    <p:sldId id="257" r:id="rId148"/>
    <p:sldId id="258" r:id="rId149"/>
    <p:sldId id="259" r:id="rId150"/>
    <p:sldId id="260" r:id="rId1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slideMaster" Target="slideMasters/slideMaster124.xml"/><Relationship Id="rId126" Type="http://schemas.openxmlformats.org/officeDocument/2006/relationships/slideMaster" Target="slideMasters/slideMaster125.xml"/><Relationship Id="rId127" Type="http://schemas.openxmlformats.org/officeDocument/2006/relationships/slideMaster" Target="slideMasters/slideMaster126.xml"/><Relationship Id="rId128" Type="http://schemas.openxmlformats.org/officeDocument/2006/relationships/slideMaster" Target="slideMasters/slideMaster127.xml"/><Relationship Id="rId129" Type="http://schemas.openxmlformats.org/officeDocument/2006/relationships/slideMaster" Target="slideMasters/slideMaster128.xml"/><Relationship Id="rId130" Type="http://schemas.openxmlformats.org/officeDocument/2006/relationships/slideMaster" Target="slideMasters/slideMaster129.xml"/><Relationship Id="rId131" Type="http://schemas.openxmlformats.org/officeDocument/2006/relationships/slideMaster" Target="slideMasters/slideMaster130.xml"/><Relationship Id="rId132" Type="http://schemas.openxmlformats.org/officeDocument/2006/relationships/slideMaster" Target="slideMasters/slideMaster131.xml"/><Relationship Id="rId133" Type="http://schemas.openxmlformats.org/officeDocument/2006/relationships/slideMaster" Target="slideMasters/slideMaster132.xml"/><Relationship Id="rId134" Type="http://schemas.openxmlformats.org/officeDocument/2006/relationships/slideMaster" Target="slideMasters/slideMaster133.xml"/><Relationship Id="rId135" Type="http://schemas.openxmlformats.org/officeDocument/2006/relationships/slideMaster" Target="slideMasters/slideMaster134.xml"/><Relationship Id="rId136" Type="http://schemas.openxmlformats.org/officeDocument/2006/relationships/slideMaster" Target="slideMasters/slideMaster135.xml"/><Relationship Id="rId137" Type="http://schemas.openxmlformats.org/officeDocument/2006/relationships/slideMaster" Target="slideMasters/slideMaster136.xml"/><Relationship Id="rId138" Type="http://schemas.openxmlformats.org/officeDocument/2006/relationships/slideMaster" Target="slideMasters/slideMaster137.xml"/><Relationship Id="rId139" Type="http://schemas.openxmlformats.org/officeDocument/2006/relationships/slideMaster" Target="slideMasters/slideMaster138.xml"/><Relationship Id="rId140" Type="http://schemas.openxmlformats.org/officeDocument/2006/relationships/slideMaster" Target="slideMasters/slideMaster139.xml"/><Relationship Id="rId141" Type="http://schemas.openxmlformats.org/officeDocument/2006/relationships/slideMaster" Target="slideMasters/slideMaster140.xml"/><Relationship Id="rId142" Type="http://schemas.openxmlformats.org/officeDocument/2006/relationships/slideMaster" Target="slideMasters/slideMaster141.xml"/><Relationship Id="rId143" Type="http://schemas.openxmlformats.org/officeDocument/2006/relationships/slideMaster" Target="slideMasters/slideMaster142.xml"/><Relationship Id="rId144" Type="http://schemas.openxmlformats.org/officeDocument/2006/relationships/slideMaster" Target="slideMasters/slideMaster143.xml"/><Relationship Id="rId145" Type="http://schemas.openxmlformats.org/officeDocument/2006/relationships/slideMaster" Target="slideMasters/slideMaster144.xml"/><Relationship Id="rId146" Type="http://schemas.openxmlformats.org/officeDocument/2006/relationships/slideMaster" Target="slideMasters/slideMaster145.xml"/><Relationship Id="rId147" Type="http://schemas.openxmlformats.org/officeDocument/2006/relationships/slide" Target="slides/slide1.xml"/><Relationship Id="rId148" Type="http://schemas.openxmlformats.org/officeDocument/2006/relationships/slide" Target="slides/slide2.xml"/><Relationship Id="rId149" Type="http://schemas.openxmlformats.org/officeDocument/2006/relationships/slide" Target="slides/slide3.xml"/><Relationship Id="rId150" Type="http://schemas.openxmlformats.org/officeDocument/2006/relationships/slide" Target="slides/slide4.xml"/><Relationship Id="rId151" Type="http://schemas.openxmlformats.org/officeDocument/2006/relationships/slide" Target="slides/slide5.xml"/><Relationship Id="rId1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C2C2-0720-44C6-97F2-8C584C25B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E488-D232-48AB-BAE0-38E100D8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3EAAA-781F-4912-AF0F-A7BF4371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FDF97326-4BBA-41C2-BB27-45E7AB4F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ECF67A0-4794-43FC-8B3D-22E05660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444CEB0-BA35-4424-AFF8-2E519473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3000B0E-546A-44E8-B3C1-B0F162CC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1A71954-A97A-4003-BA2C-2029103F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24788153-D86C-453D-94C0-EABB1F3C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2CC5858-0257-4C3E-8A75-ACD79043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C9EDE544-8290-4466-A78D-C395CD1D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92C12DD-B7A1-4839-8C75-C91C49B8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4B4ED2B-DD76-4778-B851-5F6F86E2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BB4D7-109A-4967-B29A-B51DDD9C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E2D2B98-38EC-4075-8C06-A88BDE1C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8233C06-239B-49D6-B965-39D8E447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28342630-B1E2-4BDD-BC5F-A465E111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A049C07-27BC-4DF4-B2EE-9C5FE3FB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EC4FC69-66A8-423F-BA5D-E007CB24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B03F7C7-E0A9-4D3F-9313-C54E0664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66617E7-1AAC-400B-B147-0361251D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ABA0C14-47F3-4135-B131-AB22513E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132028DE-1949-4B3D-B915-94775BAC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4FB0DCB-FE36-4C4B-9D0F-3AADBE94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5E8A8-53E1-4E24-B99A-D0B04254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951C810-0E11-4577-BABB-D1896A24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2F88CFB-2708-4F56-BAC0-87BB4A4F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0925AB4-DFDC-4592-BAB0-4F043A57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B22316A-C9A7-48E5-97FA-9C012F1B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AA0CD62-413A-45FC-A334-FF80AC71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4A2C564-53E2-4C36-9227-47DA1E92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8ED224A-C151-410F-9C83-C3D2298E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A7BF097-45B1-435E-8437-D085D973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55E70F1-A422-43B2-BB5E-792D632E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9916DB4-2C3F-4C42-B105-898484DC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6194B-01C6-4C87-B3D4-4CE6C540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5AC5247-74CC-43C2-BAEF-59C4ADFE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122D6ABC-4410-45F8-A656-C00801CA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DDBE5B46-6844-4256-B1C3-A557BC8F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F21B1173-178C-4495-8046-5F48CDD3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EA2715D1-1502-4776-9127-9AD309FE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EB1DCF14-0D1E-4854-910D-6D28DDCF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ED6A2137-8AA4-4AF8-BF20-F22C91EB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E42F43D1-0CC1-4491-9629-6066E22E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CA223C80-9EBC-438B-B9A8-2A578A62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168DF32C-2AB6-423D-87CB-094BEF41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29A5D-22CD-40F5-B0E6-4FA0E555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856FDAEA-1BD3-49D9-A4AF-95F6E283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26A439B4-95E7-4F78-BF59-13E14AF3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1666EF26-EF36-452F-8D87-DD366759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2CCAC5C5-90A6-45ED-8FBA-6496F73F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BC9F1E0D-C7A9-4876-9B94-1B513ED9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A5B39E3B-231F-449C-BB39-A27F272A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5A8F718C-7F97-42E6-88DC-856D0887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7355DF9E-98CF-4F18-BEDB-A2C0C185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A25F3877-1606-4CDE-ACD1-225ABC0A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CA0AAECC-B248-4908-85DD-1AE47A91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3553B-1260-4E1A-9E5E-615AA218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0F7C54CF-9FCA-48F0-B2D2-58519B12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2C334C3A-233E-46CF-AF51-06BEA98E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8648F30C-7E9A-4D42-A823-A880D3A9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618CE7F4-DEDF-4405-94A0-B83AE8EF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BBB00D68-902E-4A84-B278-F64FED0F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BD7F65C1-230B-4C85-A2C3-DA2FFE2A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E2F7A0F5-D5D9-4C83-BAF5-A3252819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997A9C42-6523-415B-93AB-1995CABB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36144A1D-7DD6-4D26-AACF-58017468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D93C3A31-43E2-4D6F-9CA7-7976B594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AFFD1-4905-43C9-88FF-881F06A0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9E00B1E0-6029-41F3-A33D-A70C26CC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E4572594-534F-4ED5-A92A-EF602651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B3EF33A2-F15E-4DAE-B744-A54EBE15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563D8B66-61C4-460B-8C07-A65F5FCD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FDF659A0-8104-4BC7-A18C-6176A48D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2D64AE96-02C8-4B4F-B32F-7578313A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3FBA49C4-646B-44DD-9EA5-9FF5FE36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BDAFCF97-FF10-45F4-9403-0FB207BC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CD996174-EE94-472F-AAD7-DB95C322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516A7D76-641F-47CB-B393-25AFFC7B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1AFA6-C690-48A8-B9AA-B39B0952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F57FE54C-2291-40AF-8575-513C01A1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1E82491C-D452-43D2-8325-454A9745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73709836-C109-4DF8-AB54-BEB37F2B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44A4F3FE-DA5A-4232-BC61-77E64151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AF410F8C-5080-4991-B30E-E44D3F74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8E9006B3-5836-49B2-B608-0E1F7744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B880049C-6F30-447F-B7DC-4C25041D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EA302D55-C713-44B1-A097-40FB7961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EA977A81-A568-4502-A39D-0E81200A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09FCD8B7-8859-4E33-9FD2-C10FBB55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39B44-BE5A-4766-9EFC-D823A85B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73134FF1-224B-4D50-ADEA-4425FB4C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0634197C-388F-40C5-8DEE-448F9677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994F099D-0E4F-4613-8BF1-D15AFCC0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97D91E5E-4910-4086-8BD0-7E0DF0A2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A9A12556-0B44-49A9-A0EB-EB5A7BA3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7801A309-2B38-4E59-8418-68E6539A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D886CE2F-6EF1-4C32-9239-D165B4FC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009F80CD-B636-4F1C-B878-F7341A88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2B67A1FB-F773-4E67-9BFE-719EC996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62DDA344-EDDF-4E23-AB7E-6774E3BA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F54A6-A61B-43A6-908A-44A3FBD5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3C083E27-A0BD-48C0-BCEE-4091FE33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54CD8CB4-A4AE-40A4-8C59-3263296C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37AF7C1C-39A9-4F9D-88A5-F3B78646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C702BD72-F228-4B2B-A3BC-B0B5E40F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43BE7D7F-98BB-4245-855D-578E9951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3D7265EA-62DE-48F2-8BD3-674B6A84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7672A8CD-D751-48C3-BF96-7749BEE3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117A0EC7-ED4E-41F1-8030-399B27C6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95C0677E-34A2-464F-8CE9-CAF734B7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2482BD04-1A05-4F06-AC0D-F8D9038E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5055-E961-4AA3-84CB-488808C1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DDF3B-0314-4358-9A0B-839C3E5E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0C4E3BAA-CCBC-419D-B949-62135FFA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18572DCA-2F74-4136-A2D9-0BBB478A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38948A02-B57C-4DDD-BEA0-B8B71EBC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471C9F52-BB84-4B27-8957-5F4E41E1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DC775840-F0EC-4190-BC80-8F3AEBC7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9766BE92-3AFF-413F-936F-1F6C3373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8A937F3D-C251-421B-99D5-5B98A5A1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F06D4A3E-3751-4631-A6AC-FA1D7A6E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6520544F-B89E-40D0-BA1A-42ED41AF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0D6038AE-198F-45FC-B18A-04E1BF4A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30495-2FDD-4F75-9663-5FC7C980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2A2F9F02-1729-4E53-B449-E666E5B0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47D35148-EEE6-4336-AD90-DE77AA02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326EB33D-4D13-4627-9D0E-A888F27D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5191D2CD-4D85-49B2-BD5D-2DC78C02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7AACB55C-072A-4793-B9DE-897177C1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26097312-E098-4A3A-885E-14625BAE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40BDCC0E-010C-48D4-8465-67725AB4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06CFCEFB-29C3-484D-AEB4-C6D4E2F7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5A693359-B7D7-4A14-910E-AD1DA852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EE659F44-26A2-4C2C-90C7-16831A54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B8C90-2164-4922-AB6C-988020D6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51CE2B75-2C20-48BD-8AC9-BC3D8DBD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A719BEEE-768E-4B12-B949-190B42E4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2EA8ADF9-C760-4510-937D-B19FC7FB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CE5F53AF-9D58-4B29-9299-601A9DF3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7F2B335F-5423-427B-9D91-528202D9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FEAFBECB-62D3-4B7E-8772-91A5417C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DC8A2DE7-5059-4A15-B075-1AF5A0B6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2E359624-BF7D-42AA-B01E-2F60A9D3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314A0363-B2B4-48F9-9F2C-B4C40A03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7AC78BC3-2BE9-4FAD-8591-921DEEB9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FC13A-B392-4EF5-848B-7BD7B64A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131ABAF3-FCC0-421C-81FB-FBE0EBE7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B6BF044E-16F3-40C3-A111-ECC574A8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F8B418D5-65F0-4A3D-AA4D-ACB8D96F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BAE17C68-9C16-4234-9E0E-8A00ABC3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6EDC9073-BEB3-4756-AE4E-D37010B0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495DB4D5-20B6-43EB-ACC5-F93EB21E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3547C45A-43A9-4E67-9AC8-579EF3BC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33E4B598-90EB-4A13-AD7A-111F293E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1F15F4E4-B51A-4B29-A529-9C121C04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1F39D390-67C4-4A58-AC29-AFEA25AD1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B7B75-899D-47B2-A0F1-199CAA27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0031A817-CB97-46DF-A3B9-9DBA06E1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65DEFDC3-1712-4CEE-807F-B8D13619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A699A700-C43E-4D69-929A-B7B6123E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61AA6FAA-3562-4E5A-9CE1-224E192F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A16AF5CE-443E-471C-AEA7-736661B0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32BCBEEF-FE30-487F-893B-0FE5B1B3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B65411CF-4635-48CF-99C9-50244247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424D9F13-A56A-4C3E-876A-5366BD86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0AB69C12-96C6-47B4-B7A5-EA97F7DC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BD9EF205-DE7A-4334-8210-9328DF10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34C23-9695-4E11-990A-DAF82F9F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6C10ECD6-3E23-4346-8DA6-9FED1BAB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79BC8F9D-6369-4060-9406-3BE1C0AD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69AED67A-EA6A-4ADF-8185-61D33FB7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95DFE11E-2D63-486D-BA2E-5BD82232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40BB9D18-2CCA-41EB-8A18-E328EF57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B279FBBF-5B1F-469A-8F98-50B36CC2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AC57CEA3-F444-4281-B84C-B84CFEDB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3FC7F6FB-4B4A-4F58-9C4C-85298493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ED564E34-FE7C-48CC-954F-F37F3F59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4C66B16D-F323-463D-AA09-509839A8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95828-7C92-4B45-9B4B-372F6929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0ED95C02-2B11-4865-B3FD-3EF654AA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5010CCFA-2A9A-4F7E-913B-C9138FBF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0F3D8432-358F-41C0-B288-79BB05CD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9EE6C7E9-F894-47A7-B786-F8E47E32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91053268-830F-43AD-B951-50522B0E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1089095C-8AB8-4212-A4EE-0031B982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75AD1436-6793-44C4-ABB6-18AC67CB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25AD554D-44F4-4F68-BBA0-22385654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ECC9141B-1C96-45B1-8998-46F0F378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5A66156D-58EE-48AD-AA51-D2F5A95E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FAAA5-007F-484C-BA58-3AFECC49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87C2D91A-0AFE-41BB-BF11-4D378FAD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A5293D89-D553-4023-B95F-C13E45CD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1C5841E4-4EA4-4A69-BBA6-03F44EC9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40F3E4DF-82A2-4E5F-ABD1-FE495AEA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7B4E7850-5DA6-4A29-9E44-7D1E449A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0429BC99-5F23-4C28-A308-63A44327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35312C57-4278-4730-B126-B376EB18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605AD73C-68B0-45CC-A575-D136E03A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7D99BB75-06BD-415C-8240-8B30A308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D2206878-D946-4D21-9175-BAF792FC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85BC2-00C0-4983-8258-8FC4C32C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B4850FD1-6BAE-4138-A406-E448600F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39C5051F-5378-4EC1-8436-680808C2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ECA1B09B-499A-4323-8FC2-F7E5B64F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6591B514-A760-4396-B270-5F8B8328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434E585F-CE78-4951-9D28-20103272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14F75311-5D46-45FD-9B68-CE9B4D60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610E7CE6-ABA6-4846-8C13-495B0A96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6646BB28-8ED6-4CCA-98FF-66F24A07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584E3F3D-D688-45C1-A8CD-8F7C9813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07717F1A-8DF7-4155-86BF-2DEE88D9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D3081-8711-4F9E-B121-D09CFAD8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D3A3F1CE-09CD-4B9C-9490-F0F5FA2F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CC60CEB0-D9C6-4F48-A82B-57746741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9B47A2BC-5DFD-49E0-AA76-ED166ADA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F87D2A21-AE98-464A-833C-C9DE3CF8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D86C77E8-5F36-479E-B01F-7AF66A05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0886E337-74F8-46F8-9981-85ACD86B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F9FBC4B9-E625-4638-8AE6-2440B967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4F13378F-1623-443D-BBFD-CB77FD17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40F67FCC-2D93-47A6-A022-AB7E18F6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08D1E17C-DC86-4147-9425-F6C6579F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378D-362E-4BC0-A316-945117BB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8DDDF-4B72-41A4-8097-79F88364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95667922-14BE-4FA4-8F1F-8CE90005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438FA327-A505-4B22-9D19-02E3A8BC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661635A2-B8AF-477E-B67B-492214A0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198ECF0E-3075-4399-9008-187F670C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7781DBCA-8B1F-4332-8B1D-103D2FE5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1F165350-285E-4A09-A647-49E4063C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FF61463E-11BA-4D11-882A-72F3C08F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32DAAA7F-53CB-4C32-AEFA-9D799AFF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7ED3D47E-C44F-42F9-9550-63A5A186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7E08BD9D-C9EB-4C9F-8A6B-1E008588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C74C7-E9B8-450E-88AC-D49DED79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62B88F92-5B3F-4DF0-BC2A-67920AE8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5C9AF19C-3CFE-46B3-AC91-0D1A5604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451E17D7-DDFC-4AB6-917B-9D413DCD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A55636E3-A578-4E1C-86E5-8BBBC5FE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F169CB36-1A06-4EEE-A8F1-D2182506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49E759A7-E3DA-40D8-949D-C8B349B3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C59724E2-FE16-4326-B97B-691C90B2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F2E59F6C-C6B9-4C42-826E-A84C7B63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E74D27D3-92D2-44C3-A6FB-5BF3D16F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B40AD412-02D9-45BF-8FF9-FA75EBEA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28B08-C5E7-43E7-AB57-38E5D8B5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87B695A0-56EA-4A5A-94AC-59484A4A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F659B18A-020C-4417-B5F7-F7B589DF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FE509F51-429E-46B2-BC09-D5CB8865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F594D052-4882-4D79-88FA-C8F269B9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9A200CD6-D65E-4AB7-B36F-30BBBE12E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F34A4970-342B-4E56-A922-502E8407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18145A9B-01B0-45E3-B643-C6C5393C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1A03A407-CD56-443F-8AE1-4678581F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0AF1284B-A430-4768-ACA2-6364D699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69DFCADA-7790-45E1-9BEC-8D2FEE5A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70FEB-7760-4E05-92EA-FD713331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747A0BEE-888A-4868-95B1-52D987B1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6DA7280C-474D-49E1-B79A-98090627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F6B45E43-2A68-4CC1-B810-2AF4DD85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453B414F-7E14-49CF-BC82-D5CF1304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BDBD4BBB-5E05-4D22-ABB3-F6B4EC99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8E8B421B-6820-4A9F-A1EC-7C482552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D77F60D4-E372-486F-A6E9-2BD00850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F482C43D-B1E7-496F-9381-8F10ACE7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7493A149-6181-4B81-8210-436BA9EB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AAFC29AD-E447-45D5-BA20-ADEAB564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E69DA-113E-4AEF-B99E-D41E96AE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B9190B0F-718F-40D7-B125-7E0EBBD6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A9D0AB29-6711-49D8-85A4-362FD83D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EEAEEFB4-E218-48B9-8BD3-C2BEDC91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1BB6CBD1-8E8C-4F55-82F4-683AC810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8091459A-05B0-4DA5-A38A-905A5C6F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2029586E-E2AD-43B7-A8F2-E45F7276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B3826F03-A68D-4EF2-A9F8-02CAB990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8B14F40A-610A-41B9-8D63-368D2A42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D181CA6C-0B82-4B9D-93B2-485FEBA8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36589299-27B7-4A17-92F8-09A2C12A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3E0FA-862B-470C-BC0B-595E7DC6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91374574-CE19-4FB9-ACC4-155EE062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6D69C789-5834-4EC2-8BEF-6E21F7C4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D6652E10-4E15-4827-BA68-C4E66A73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B05D8C93-DE76-4210-9C37-037A4FCE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765B7ADA-F26A-4DC5-B6E5-EDE40FF0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34F4935F-EF70-4A12-9AA3-2416E448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F4986919-E8C5-4648-8490-E41747EA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E685231F-EA71-472F-9506-106796A0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0CEEE9B8-0FA5-4CA5-B4B2-CD825356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5858C8F0-39F8-409A-BC93-0C2431D9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7B0D5-4A4C-4EFE-BAC8-F0BA8437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B4CBA542-6583-4B2C-8BFF-7E443810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8CC642CB-49A4-4B78-A281-09015925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6D152C97-383E-492E-9C87-DB69A33E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19E57499-B0D6-4726-BEFE-C27F8F45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1FD1A55F-B8BC-4F67-961E-2E160BA9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893E2B20-77A2-4CA5-89B0-47512668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5352E219-607D-45D0-857A-6667F262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AD7A9E98-3383-48E6-91CA-2557D3F3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F6500306-28D6-4DA3-BC78-264A6DAA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91CC6B7D-B181-4A49-BC04-D78AD559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F5EC4-2B65-4840-B97D-B3464D30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6910725F-5D77-4EB6-A8BE-42C9D97B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5FCAF47F-EE32-401D-9F0B-18640760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4A16660C-F6F9-4722-923A-208942CA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07D5BA07-07EE-4474-94FF-1D886BCE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A5F83996-87D1-41DA-899A-B0591502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078DD1FA-581A-4ECF-AE70-ECC706B4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12D1C30B-6C9D-443D-BD07-DE8B5AA2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03CF707C-8A08-4F7E-8930-DB0CE908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290262BD-EAE5-4EBB-BA30-67CA2E76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11C1247D-559B-44A9-9694-D8D4CEE1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9A0E0-D445-4133-93A8-46492E28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555B0441-3F47-4A75-8ED4-6CD8B426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08E4539C-7A75-4495-BE34-35671CF4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F048FC69-2BDF-47CF-B474-91452AEC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248E20CE-5DFD-4096-B1E9-79B88D25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622F4164-E35D-4726-9125-942B794D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4F5F83E3-F3C5-42D9-8090-6FBB9D04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8DDF6DB7-A782-49A4-8EAB-17AC31B2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BA9050F2-60E4-4BFB-97E1-D04B8A36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9015832A-7DB5-4764-A4B2-65D17E9F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136B2149-342E-4B7B-A6E9-6DCC1DC6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F8926-1639-4143-A1B0-5295DAFC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1CBF504E-E6B7-4F6C-A156-ED467AC6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D9704D6F-EB45-4A96-8709-22BB0D8A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0CF6D21F-93D4-4F6E-A939-39172316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ACB22D78-C85F-4AFF-AD49-22F86147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3F8AC94D-6C79-4F77-872A-4D2409FA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DA8EBD00-B44C-4CE4-9079-E3F93AF7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B58A7F19-7B07-4F23-A664-1358196E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D6599A45-7074-40F4-BF50-767CF527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F642A5C4-828F-44E4-970E-8CA53F99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5683B130-4E07-4B44-9EAD-109C4B55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30A0-E315-4A87-92D2-C10DE041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12BDD-8E24-4E35-8F79-410B76DD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20FBD0BA-BDF0-47A5-AEFE-1D43C848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ACAE4276-7FF7-4EFA-BD79-E6AC3FBE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03130EE7-CFAD-4717-9F57-387AFDB7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EBB7B568-B537-4CFA-A0EE-1A1F92A0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2B709EB7-50FF-47BD-8B63-99A2D966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75C51919-5DB4-4BA2-A2FF-9407F91A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617458B0-8B3E-4B0F-A37A-B3BC8981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CE94BB3E-A4F4-45FB-B9CE-9CA65F06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D13EE481-B60D-4AD2-8345-5DCABA1C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6DA89D04-4D8F-4954-8800-70D560C4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E2FD4-0512-4D68-825B-9D1D7D05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F825364D-9B6B-4FB2-A1FA-CCAFBFD0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17D6EC8C-F8C3-414E-BEAE-7AA145FF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A98AB957-169F-4398-AE11-5C03CE27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FE4E894A-EFE0-4F4D-983C-C05C724E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EBC4B992-F024-4B1B-9482-500ACFF2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3570E53C-9A94-4E0E-9B3A-FDDA4C34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A32F9361-8707-4FB6-919D-2EC04C2C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EF7208E1-E878-42EC-98BE-111C1BA2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CA659781-E800-449D-A324-FF82D264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3C9DBE3C-BAA3-4461-920A-3FEA4C1B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39347-EABE-4CBD-A68D-59B6361F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461A6EC5-412D-4ECC-9464-B860817A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97EA3477-BF71-47E1-B0D7-8D487302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6A0A765F-E869-40CE-B20F-D4354B67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2832CCA0-AFDD-46BE-91DC-5D469343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64096B31-7D31-4B71-AA22-3CFFEAB8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3AD3D905-ACB3-4E83-B507-98ABD740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F6EAAAAD-6318-4B63-82E9-92759010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34C2A0BD-BDF5-4434-A086-1B96B9B4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01CBBEF4-3A49-4E3D-8C49-799D4E87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32E88E68-8DEB-4B9D-B4EA-B981139A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F6D27-5A08-49A0-93A9-1D33D275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3B77AD0D-16EE-4E6D-A8B2-0753151D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19FB7117-6DD6-4B2A-8BBE-01A1A31B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F69D7F70-D5C6-4F76-864D-B8226926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00EBB12A-F67D-451F-A9D9-ACED2A3A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347E3B23-F5B5-47C0-BF70-EFDB4A91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B29B356B-FC3E-4F15-B53D-12142D6B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8BEDEBD2-3747-4C9C-B611-A0DB9054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83001B72-AF5D-4284-9FEC-3E43F60B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5EA07050-5D37-4E12-BB64-284F293F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FD3B32EA-5689-4981-B34C-0300CBC6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3A254-3420-41F2-BC4A-05ECA45E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3FC2F81B-2069-4A89-86FD-D5EFF173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48AD0EAB-7400-4040-AD97-67E9F0C7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748AE081-A4D8-4C78-9D68-6FBAF5FA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85F4D1B1-F830-436D-B50B-895B88F4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05D84A8F-DC6D-4812-A0D2-66A7EFD2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69B818DC-EEA5-4489-816E-664A66FC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83C62259-74CF-4A6C-89C9-ED930246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24AEC483-2E91-4253-A4FD-30830588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C4BA8BBA-31C1-4283-A213-EE9FCC2C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4B6C0661-2EED-4DBC-9168-1F66A5DE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CA45B-3C28-43E4-B23A-B665A55B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9516712E-D8C2-49DD-8119-6713F715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6F2B5196-6D22-418B-8CAA-C3E94C27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C29BBC9C-24C0-4BE8-A822-1BC02D28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24BCB22B-444B-4508-9C36-A738B4DB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088D48BC-817A-41A8-A5BD-55614F70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09E6EF2A-0F73-4286-A030-BA944808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86601E95-9ADC-4A12-8C74-9445DD0B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89E534F8-2054-4DC3-8A38-715C20849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5225AD46-A40A-4CF6-A305-09B157A3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C8201A6F-66B0-4EB9-8469-26E14201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CD44A-D7FF-4017-AF53-42E37E35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ACED8A5C-51EC-4C71-AE75-C3F22BDD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E4DD5F67-E00E-450C-80A2-4E6F3063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E83A4D03-F0FC-4C06-B586-CA0F232C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BDD7EEA1-B66E-4B6C-B33A-D966CDB6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8152B152-1F04-4D6C-B071-A0979E47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913A31AD-7504-4D80-BBE9-1F17C292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7B5D52D0-1510-4EF5-B1E6-5FD32D9B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221CAF71-925C-4F65-A126-EA4946C6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D9FE339A-A055-4D91-80AE-4F4BCF83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31F2812D-B0B5-41B7-B18B-DE654936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429BB-A65F-4E94-B1FC-11DFC737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B7457567-00F0-41D8-9BA9-EB29F3D7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29B69B90-9EBE-465D-A818-84FE645F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5006D6D0-8BD8-4473-AF78-3562FDEC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687B863F-8651-4224-B7B8-8B23B779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371181D9-F32D-4B78-B7FC-BD103D64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70C4DC91-4D35-486E-8174-02177A52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D4A7822F-0826-4904-99C6-83AF7818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95D5A09B-4F8F-45A4-B46F-F117B84E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47B4975E-BA42-4F16-B587-BF9B5658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1B525D04-2A12-44C5-ADE7-A74105CB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2D0E6-ABA9-4735-A40C-97359D69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71D2FE57-665C-4BE4-BCDF-6464E1EB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D5B79B36-477F-4E45-94FD-F72DD137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48B7B179-D409-4DC3-AFAA-15584EDE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5A051D08-5157-4CB1-B60B-6578C0CA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3D565A78-2DD5-49C3-B1F7-6B21B4BA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F56CA1C6-6722-4BE8-829B-EDA1B79F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117CE064-A7F9-4C97-8680-BE7E43E1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F52B626E-83AE-404B-9F5D-117DCCBB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FED5DC37-DF71-479B-AB95-3275BB3D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23835E6E-DBFD-40D1-B3D9-46BDD42F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A4FF1-5177-4DDC-A424-703C2B79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CBF60E26-C60F-4606-960B-5131945B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2D4CB68A-EB17-4CDA-9851-DF44BAA8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FAAE35F4-14FC-416E-B2BB-F5E3852F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EDB875BB-2D83-4F55-B29D-2E524961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93C5A757-37D7-4C37-9E3B-844A2497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D2477B4A-981E-4B74-9FAC-585A3001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61072B5B-EB0D-4822-AEE6-43FC95CF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7609D833-87A1-47DC-A045-E78DCD05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8BEAB172-822B-43A9-8DDE-098EE711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54E17EE2-87C8-462F-8CAC-E07C1DE2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738B-0279-4B38-8189-CBB48AF2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E66A7-C07A-4013-873D-AA8FE51E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1F0AEA99-7CD7-4C8C-9A24-40F615F0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86593899-2092-47C3-A46D-D0EE0C7A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2DF3B723-91C3-43FC-84DD-8942A424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B4E0EDDD-C026-43E2-8741-5E57FC38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E1F6A96E-36F5-4ACA-897A-85149C76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1FD6C095-DB65-4C7B-BBA3-7D0BBFEA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3CC697E4-9198-47A6-A5CE-ACCAF2FB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B2D7BD06-8C8E-4D93-854F-DC992FBE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A1E37E5C-4D34-47D4-A3B1-4BC1682A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1C6F3877-A398-40D4-8CA6-0429CA6E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0B3EB-D638-44C3-B8FF-B63D53AF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FBC341AB-6D1A-43C1-88DE-CD2A5FDE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20900DC5-54BD-4758-8B07-9F27A5B0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E46DBB65-B73C-42B2-AE41-4A4B73A0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F18AD8C6-BAE7-4720-AB49-040EC39F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17E0AAB8-5ACF-4F75-ABB5-ADF82EB6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B2548BC7-1784-4219-B7B0-104A871C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8449D050-680A-4282-9F74-EFC90522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8942AFA1-2FED-4B61-A49F-D8EFD834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42BE6525-CEB6-41A2-952C-5BFC8201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F88F9741-5920-433B-9658-7F998E93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A0D8B-F117-4D7F-9804-D7D3109F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106B69FB-9051-4B04-869B-43F8702B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A36ED467-C03A-42F8-8DE4-A6E5578E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A7BDE8CB-9772-44E8-B2CE-42DE7802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7AAD8947-08BF-49CD-941A-2C36095F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A9B94F7A-76D5-491A-B93B-0B2A45E9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B4187896-5058-4E70-8622-046FEA79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1152AF30-BDF2-4A7C-A146-4F5490B8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3F5D11C7-1E07-4E88-88E8-9CBAC2FC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9F9256CE-B559-4C57-9540-AE7E4C6C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0033C47A-EDE8-489A-B9A4-EE01BA4A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8D2C1-F947-4B82-990F-7BA10229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A7EA0695-2370-4895-ADD6-4033B9F1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CA28A02A-F034-473F-B00F-8D72625E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EEA6579B-0C40-40F8-A63C-AA79CAEE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AC27F371-F9D3-46F0-A682-2B9145E6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D2152046-7F82-49CC-83B0-2AEB7A1C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A4C97114-160C-4D2A-9DEB-61BAEA87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EFAA24E3-ADF9-47F0-A9C7-57498BDC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32A77B18-AFBD-40D6-A3E4-697E4D22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B2AC7DA7-101C-4C5C-A29E-72FB68C1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97EDBD4B-A00E-43FE-A841-0A33016F3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6964E-8E8E-49A2-9222-0FD6F60F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0C255628-2FFC-4725-9C75-81FA046A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92797837-D0B6-4C7B-AD03-9C482735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EFCE7099-5717-49FA-B512-AC32CFDA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615FB184-90DA-40E6-BC84-65CFF927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67FA5C9A-26A8-4384-AF81-D8DBB734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03E2CCC9-371D-4369-8435-22903696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9294E8D1-0EAD-4231-90CD-0AEB5FBD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D1170BD3-FA84-4915-A5B0-D867761B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4F9B081B-888E-4434-B836-E6CB2BA3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C987E23B-8930-4FAD-890B-4DCC5FF2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D51933-CCA4-4E86-8041-E7BDE30C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BC78A7E3-DD51-4E76-AE0E-13237321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F4C6A51B-242A-474B-B13C-313A645C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1AB13EDD-AFC5-4EAC-9A4F-CD66B57E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07D37233-92D1-4952-9FA9-4FBA50BD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01D4336F-9AAA-4B62-B79A-20FA05C9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979364A4-65DF-47A8-A72A-467BFDD6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1B18BB7B-E88A-4644-8BC2-AB529424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1B0CCA9F-92BE-4D6E-9A2C-CB35F034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A3FC9AA2-25BE-4589-AF23-2A2F3016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4C999BAC-E0DE-4CD8-9AB5-1A2B58BB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4FA39A-6144-4026-B95A-FC1AF7EE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8251640E-9492-4118-8F9A-6D7F56FC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B67BFB87-B5C1-4E3F-8F42-41EB9BE0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B96B0E7C-D4B0-4713-B1D1-8F88A1BC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389E3F43-83C9-4FE6-B854-CDEE249A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72D98D87-7EB7-4C14-8B19-96B683D0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5756B5D6-B7B2-4CA3-B183-8BEA2068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D8D16E60-CDE7-428F-B95F-12544DF6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4BC6EDD3-19BC-4460-9AC6-429FEBF2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E8AFD920-B106-4D84-AD0C-717F4E47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03C0E1BB-5E0F-4831-A591-EBE80219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497ADB-114E-4032-AB7C-A66BF590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B9038E00-C45E-459F-B432-EB9DE4A0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27EE51CD-BD82-44C7-8BD9-2D9DB6E0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8E4B91C8-5AAD-4D0E-A98E-0EBF7245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34DC64D5-A120-4810-AC16-EBF2A5AF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A9E6D725-DA7E-4140-A0B1-6EACBB9C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4B3815E6-B59A-4361-84C2-8EB27700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231212BC-82AA-43D3-8306-D0537CD9C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816F8F17-5354-49DE-AADB-D9E96DA8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BA5556A2-9F4A-4D86-964C-D0150383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949888A7-0361-4929-9F23-DC40D382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437F90-BF2C-47E6-964E-3643329B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63D6E7D6-2C48-4F7D-979A-E46271F6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A325E02E-D251-489F-AE4D-2734F15D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3136A82B-8BF8-4A0E-AD34-5441F272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4C67F318-55CB-4A33-AA1E-16B526FD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8C041A2F-CF02-4C85-AB9E-6066381E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DFA1CF05-6A5A-4F82-9410-F7591830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23503935-2C2E-4F9E-9A1A-69D7748C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F6BC52C8-70AC-4142-B8E4-A525A8E4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8D5046FC-3C6A-49AF-9DB3-D2FA0BC4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E64A74F5-AF1D-499E-9E85-D0DA05F2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2E2FCC-DA53-4280-93C7-258E7FFE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7F9EB432-3127-4A01-8567-E7BA0314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0CE41A2D-5BF1-4435-8EC2-037D1450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A66C26CA-42BD-43DF-9F10-196F0B4E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3A223EAF-9316-4C57-986C-C3B53555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F37FF051-C525-4385-8CC1-197B6016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75913612-B7E0-47EF-BCC6-9E1C16AF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1AB42D78-3E2F-4B40-BCAB-ED1D8831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6D8A4857-47C7-432A-98CF-601C4B29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D9C85BE5-14C2-4D6F-9F8A-AB721608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325A7A4B-FE8A-46DB-B39F-DC5DA524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5A01-3747-469B-B246-23967D53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AB7AD8-A710-4A89-A658-4046F9B5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DA1F1EF8-2955-4045-9DD4-63826F8A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31D75815-C041-40CE-9F7F-22031A96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46836C8D-1186-4394-8F58-3301D71B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BEE93107-E4AA-4F8A-AA7C-B287385F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83C6812E-29FE-4835-A3EB-07DC7C54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A6172602-A879-4DDF-B375-9834E9E9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BF23C533-C232-41AE-9C45-6C1C6933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9BBF00BA-223C-4950-B154-D563FC48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AA3FF73E-6141-4BF3-BF31-515BFC25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BF41FD39-29DD-4233-9AA7-41DAC070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68A909-D026-43AD-A450-358D3073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B11C38E4-D5AB-4468-AC1E-F0D6BCE8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7C4B0773-A8C4-4D40-A4E1-15D52750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04F49A07-D0F3-4CB6-9DD0-4A030093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6DDA91FF-F173-4B3F-BAE1-4A442A35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2DFAB67E-81C6-436A-A8DE-BE062FB5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15340F53-6B17-4254-9EB1-D8FEF965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DFCC6928-CB5B-4666-9429-55BE9D22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87601B62-3402-4EF0-B6F9-FAB44730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FD5B9014-B413-4559-AA40-49BB121E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F9B98177-346C-4CF7-891D-0D15B9CD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33885-7DBE-4582-A8C4-8CC96771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C2E5D3AF-AFA9-4734-AB7F-A0F8A710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587F9D7B-52D3-4412-A516-7275DE85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478B2857-9FCC-48C5-BF9A-82E4DDFB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6C7EA76D-0E4F-439E-8538-ADE780F4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71090CD3-2D43-41A6-AA4C-B27561B8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BEF2BE6F-8F86-488D-9C76-2E05F112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9B8EE8FA-D857-433D-A6E5-06026230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062EDE42-0C31-42BB-BB1B-7C24CA50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7DE65436-87FA-4553-B63C-AEDEEE44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3A7C9C77-07A5-4A18-8C05-7D40FBF9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B2FD54-6FF1-4B41-AEAA-AADEF9CE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C32B7349-4156-4D55-A2FE-D11A92D8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225C001A-B520-4100-8FF7-7ACA59FD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AD643790-04A0-4B52-9273-EB3A525D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406361EF-C6EA-445A-8E6A-0FFD5528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148D65DF-4D2D-4A0E-9F9E-2722C17B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1546C8FB-E982-4CE9-93DF-DBC9BFCA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5281DDC5-B723-4508-BC61-DC3B8457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F5E3E45D-A893-45AC-A79A-1C2D1B06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9E5EC847-1D3E-4413-BA0B-02A13406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A4E3C14B-847E-4CB3-A2BB-30E8CBD1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32AF84-8773-4382-AD07-D90E468A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629230D4-08A9-422E-BCCF-2B0793F9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DD2444DA-EC74-4266-BC2B-E931692D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C22B60BE-A7E0-4C18-83D3-5F5E7DFC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657609E1-357A-437E-8D09-D6841799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15ADD85C-BEB6-4816-A39E-2339FD01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EAA29482-0733-4A28-86A8-F6AA6A58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B5814C16-3CB2-4091-A29C-C7AC378B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FB335DEC-4DDC-49C5-91B9-98C6BB89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1FA13CF7-C9C9-4D1D-AE2D-45648DAB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8C6C0923-AE0F-4D6D-BCF2-4E967594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958A80-05F2-4BC2-96D2-EBA08A23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A11AF1CE-4AE8-41DE-BEF0-92BC397B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08A0CFBA-FB39-4B5E-8BE7-8478328E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961824C1-519C-4FDE-BA3A-2B7790C6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135CDAC2-FE2C-4620-A54B-880C7A57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B0BAB3AD-6894-4FBC-B064-51E1C2C9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721BE5EB-90B9-45AB-A83F-D24D9ABF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0DD85367-DC5E-4799-A803-8DCECC4A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A4F43DDF-2526-41A7-AF69-6DC43A46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67F8EA9A-04C0-436F-9E74-10FF9CEF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FDE9972E-B3DC-4CB0-94D7-1A36D7FD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726BCE-FBFD-4B66-AC6B-E074E1DC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14DEAB1A-495A-4CC8-BA60-3C6D3420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67A85D80-5F09-4540-A5CE-BE62EC8F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794CC065-0B77-4589-BAB1-D9656624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536AF398-324C-4FA2-8922-FBA8D53E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F2905D41-9AC3-463F-BAA1-CA29E565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3B4BF61E-38F4-4317-BFED-8489CE02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6356EADA-7B6C-4062-9578-C46062B2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2FBE6831-3846-4310-8C3B-1110A7AF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74303C75-D499-49D7-8B92-56B3C529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702FD084-DE28-474C-82F8-DBDA204D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D30F78-06BF-43C7-892B-94B44037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10A50B41-F4B3-4B9E-9F89-4301DB0A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2A6DCDC3-DA98-4148-9489-CDC5DAE5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3D56AEE1-6422-4973-82BB-E7014A29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BD6521A2-446B-4C9F-BFBE-3B7993CC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64601338-C69D-4C34-B9A3-B62A6F17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80E9E25C-1573-40E6-82A2-34259C35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E4B4AF08-C5BA-4F88-953E-C335340B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8429AE07-BE14-4824-A29D-41E213D2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4E0828E5-72CD-4F6C-A8EA-DBF83584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23FFE4E8-CC52-4834-AB5F-F6AFCD8B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835340-08DC-40B0-A0B0-3638C825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C42304DB-E756-4B1F-9872-AD4925F0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63D897AC-B0D3-452C-BB8F-540B7E08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948C5E4D-2599-46AF-A39A-052C79B3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4B5EB943-1232-4D22-8C3A-465ABF11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F2A98474-809A-4786-A042-95EB0AEA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C3F5B46A-89F9-4B01-A36D-A7309D6D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A417BAE1-A07B-4710-A135-77845258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6FD20DFF-2B2F-4B03-8FFC-BC9A0019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17FB8C60-A365-4A2B-B286-6BF11232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B84C6DEC-0319-48DE-A2A6-7EA84F56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32B313-7CA7-4C78-9CF9-94CB1B04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101860E2-9A44-461B-ADA0-C71FB84A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C22A8691-CBB3-4105-82AF-02510BC7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AF112020-1A10-426B-BA0F-6DE13278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609C6075-1B2E-437A-9CDA-5B1263A6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9A71CCAF-F1BB-47F5-BAE7-91BE5665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D45310A8-2250-4C55-A9BF-5966EE71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87012E34-CA3C-416F-9C0E-2655D7DA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BA6A8198-2997-46D2-9D0B-B11E8FB1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3BD8EEF2-A4DB-4990-89E9-BF076A90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8E395667-8F20-4467-A3E6-6A3A4DEF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D8B9-2151-4638-B852-E926A6A3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0403F1-B782-4669-905B-74C1838D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34B13BA4-34A1-4A7E-815F-B4A07E98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2A9169D9-877B-4E69-A26B-38BE67C0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5DBD9ADA-D617-4A97-A784-35D28E5E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6DDE9BC9-E5DD-4BE5-BF75-9DC9CF0E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B551C893-DCC6-4B02-B15A-8DE064FC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639AE881-0E63-458C-878D-9EEA7663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C1D6972C-0759-4BB0-A348-E7C542E6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7DEA87FF-EEB3-4FEA-97CB-63477770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9E933110-F8E2-476D-963F-E45BC3ED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05828C23-0715-45EF-8B34-4E9E7FCA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C0833C-3061-4E32-86D5-D4C6DB9E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BA024901-1B9F-4442-B57F-34A889D8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043FF453-78C4-44D3-9C30-77DF5F63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8349ED4F-5B68-4EE4-BAFE-C2B5E9A4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A7DA4E56-FF57-40AE-B7E7-1F5B2A6F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6EFF04EF-74F3-40B0-97FD-67C017C7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D5905D0C-B28D-452B-A032-7D9E8BC0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F8627F99-FBF6-4B43-B189-C9F3DCC7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5EB0F506-87BC-4E92-89ED-2318CA93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AE1B5EF6-F607-4120-BB11-0258CE95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00397A31-A67C-49EC-A055-F157ECCA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DAACF4-CD26-4B30-8D05-208E35E2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C06D9223-96E2-421F-B662-564A68F4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F892BFA1-24B6-4227-8871-C7170036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8DBE7B3D-5B5B-487B-A980-430A1567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A61EAE16-B172-4BF8-BE10-DDB081D6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8FB83873-088F-42D4-A3B4-15D059B7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06D0721F-89A0-4A96-A19C-E1C8CC2F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2894C6FA-7233-4FC6-9116-2A06E76A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19A149E9-E222-49A7-B1D6-A200399C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FD1438BD-DF78-4AAE-A22C-3FBA649C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D6C40A21-AFC8-49C6-A0FA-BADDEBF5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C1489C-164D-4292-9F8C-5D74EBAD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1FE44284-0521-4DB9-89B2-93CE89A7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7A909883-9158-4C50-9FF2-AC88802F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1EE0754A-9242-4FAA-BA46-8D083F29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C4A4B080-8BDF-4EAF-B395-03482810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4655C8DC-ED1D-4AC4-B16C-DA7A4C66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1EAE7A86-7373-42AE-9B8A-99B6334C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CCA9126D-07A9-4270-AE13-5F07E113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49FE3147-3929-4090-8FEF-7C4AB624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D766D5BC-744F-4739-9369-8D38CBD3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D622C1EC-DAAB-4DFD-A951-33EB5CE2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F7764D-0D78-47CD-BE71-CCA0D52F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3F7668BD-4005-491E-9EEA-8AF2D495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3E5FE475-8B3D-4826-9E35-C24DA10B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7610ED3E-3529-4782-952E-54710CB7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5940F6CC-12C7-4EC1-AB65-974B3319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6446A247-A55F-482C-8FC9-725BB65B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E692C8D3-FDB4-4FCA-9E60-ADF90024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D7EB51EA-5DA5-4501-8480-234561CC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F2989A92-CA2C-4A0A-AC27-9D968882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FAE27723-5DE7-4F68-9A1F-B8351BDA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E1FDF5A3-5698-4AE6-AB89-345FC89D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7D381D-CC62-4F5B-A9BF-158A7B1F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BB5BA3FF-85D3-4DBE-A374-2B4D8CDD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334A7875-4F72-4184-ADC4-71C9A261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A0534A35-ED67-40EB-9729-BA9DDD7A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02730115-E6BA-405A-ACD1-A7A9060D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94C11737-4392-46FD-B1B4-CDD58F61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8E336C2D-2FB7-4534-ADBB-18C519D6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61E423CD-2058-4854-B336-F526543A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BA548514-D88B-437D-975A-4460819E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E65E667E-B883-4452-9E42-54AFD781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FBA54E42-256C-4754-B632-27BE3162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6A6BCE-FFA8-4985-991D-8D81C576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32887E5D-8427-42E9-B239-666B8371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FA2FE9E9-AED0-44B2-BE9F-496E145F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1125B9E7-3928-41D6-BCC8-8DF61D01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BE14A9A2-241E-43DE-A72B-A6AB85F5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CF9217D8-DC7C-44BC-9959-439488D8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93ABBCC5-B50B-4C35-9DFF-85B33D12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E9789C90-CFB7-45DB-BBC7-9145AF7E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4A52EDFB-82BF-4285-B36D-95630018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6ADBDE59-2613-4FE2-87FB-3EB6A708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F15211CA-182C-413B-B589-A3D4BE45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1513A7-BDDF-47F7-BBD8-61BB9967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CACCB933-3BA0-414C-857E-5A9E1F79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B9D197F5-FF2C-4659-9431-0DE86578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F44DA7E6-5529-46DF-91A7-DB6DD3A5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C1F828C7-85B3-488F-9EA1-14D9C551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AE9BFFBD-1D7F-40AA-B5FA-CE17A55A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1E0A0B42-8E65-4248-B336-8A20C56D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140E8D72-49B9-4B8B-8F0B-A7EBA386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39E7C86C-93C3-4495-B31B-390216BA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526B3078-3A4C-4D76-AE1F-706A891E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1B5FDD43-E0E1-4E5D-85C3-84CB9474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E8E189-8E68-4B06-BEFC-2FB7A04A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96B6DDFA-DC77-40DB-B193-33B25787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DFEB5E27-1D2D-4D46-B9A3-121883E1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7ED0CC57-6215-4E66-BBF6-7DBAF65F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84634B1E-4317-4818-B4DD-F2202177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D63C22D7-DC77-4FFC-82C0-7F21241C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43FA2D2C-FC89-4925-9E3F-DBDE8192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1077EA6D-286E-4EDF-BE73-B7A36F60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50180BD8-A5C7-4262-8340-7E30982B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3DEE8446-68BE-4A7F-BDFF-DA3F6955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2C81E3F0-9175-4205-8CFC-B9B845F2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3299DE-C2C4-4248-9054-44A90545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7AF0B84C-E42E-4265-864B-AAE87230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C56E1458-81E3-4B72-B107-D9F7C475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763B1AB1-AC0A-4BB4-B4A1-CDCEC47F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A8175847-75E9-428A-A1EA-49B24D95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CA7B78B4-69E8-4047-A954-E6A706F1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3B4814C8-0A62-4EE0-873F-E18139CF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FD30C2D5-40CD-47FC-905C-FF2E3FAF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739CC6DB-AAA3-473E-8561-9A5FED68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13ADF3FB-8927-4944-A1E1-54BF18DE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C125639D-30DA-4048-9B95-52566B99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6611-B025-4329-B95D-7F4FF84B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9633B6-048F-45AC-BE67-4228A232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A3425000-32A9-42DA-8940-B5BACC7D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63A614B3-C8C0-4EC6-BC1C-F5C5B4FE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8884EBE5-43B9-4463-85E7-B177DB50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A2976804-8494-45A9-A5C8-76B00DB1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E6FE9E2F-2A0A-4A6A-9D72-D70B9CB6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C4EBA3B3-37B6-49E9-A46C-63ED21E5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B7D42414-8B19-4A85-BCEB-3A196332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7D822A38-1B7A-4D0F-AD41-7CE69F39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CD0C24D1-2A75-4B2C-B7AC-5033D0F4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FDFE74EE-1500-44FF-837C-52907E5F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0858E3-47E7-4B6E-9A3E-C72E60EB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7825B1AB-C864-411C-9529-3620C800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317954D6-9BC3-4E94-9C6F-5207DD7C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C85333E9-585B-4A5C-B18E-B62F9106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EA913B3D-9D76-415D-B63B-7DBB71A6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26E3BA3D-06A4-4F95-A9AA-8844CBC1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33886E8C-6800-4F8A-8209-256642DC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7D15E8B0-89C3-45E9-8D1C-E3105E40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B81C2D7D-F365-43DD-9F4C-668F0B1C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87357ABD-4364-4CC1-A255-8D51F5AB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BD15DE6C-75B9-4DDB-B820-71F0F9D4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D1A7BE-72EB-47A3-97F6-444B05FC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2F17F082-FD38-4FCF-8B81-C52BD1C7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10963CA9-404E-4D5B-B331-135A94D9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B5C3962C-C6CF-4B10-A889-70EA9FFA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CDF31953-663B-4070-9092-A098DFB1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3EE6138E-62C1-45F2-8F0F-5D7F759D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494139ED-1DA0-4A48-843F-14969096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911292EF-1D2A-41A1-9B0A-D501175D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2496B53A-DF3C-44DF-9122-8354872B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FA014D40-3CA0-45C6-B589-B2CF434C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444B90E8-4FB5-45AB-BB5F-20D8E602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534167-6944-41BD-885A-EF19C702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5BBEF3C4-A0F9-4008-BFD4-C7F7E71E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70400785-B8C7-4D91-A381-3FF7CED7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C9541372-5C62-4EE3-9AEE-77E978A5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3683F940-2762-4A73-8C31-C816219C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E2E0F74A-DC73-4A9D-82C3-A26E3081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C0CEFE12-7657-43DC-B2CF-B894984C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C016BB99-9AAF-4AB0-84B6-996463D6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1EBA33F8-8C0A-4CE1-B250-1AFB537C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D20AD649-0805-4218-A2F8-6EC0AE3E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B2CF2373-C56D-444B-9FE1-818821B0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4570C7-5187-47C4-BFDF-0820317C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34E7499E-8FF1-4AF1-8501-97258F3A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8C073C-EBDF-4B11-9850-42A9B65E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C0873D-E74F-4AC6-A753-A401FB3A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37C395-4595-41A0-B718-EB396898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EDCEF0-499C-49DD-9031-064CC392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1AA196-24A1-4A18-A27C-FD443EBC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E811-0B32-4765-B322-26FDE793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18251E-4169-4ADB-B618-9299587C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9B850A-D1DE-4CB1-AA0B-ACCA2019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ED6AB3-C7A8-4C05-905E-E26EC20A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A1116C-227B-41BF-829B-6B4829F1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18A264-1542-42A1-B17B-A91B58E6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E77941-437A-49D1-B921-AD89834C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84BA28-867A-4F3A-B518-26FCBE47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E12D14-F5B9-4911-A7B4-9A5ADA7A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C6ED2B-1AE6-45B4-922F-3F7CCEFF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718505-7985-4EED-A131-223A0D3F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054F-DCAD-4B0C-B946-F0BA57A5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F3ED16-9831-434E-965D-DD47CD31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D57A0F-C6DE-4406-997C-E2F96838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D5C522-E3ED-4177-8F66-F591B5B4A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B5C27F-EA2A-472A-AEDF-C9CF4904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AA5DA3-338C-475B-B69D-3427881D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B3F3C7-497D-4892-B2B2-2D202ED9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3A4E1F-E63F-4BCF-B6A0-FF44AB11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2A6F68-EBAF-4906-A706-7EE6C6D6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A6ACA3-EA93-427E-A49F-D2CB1544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8640D0-EF5A-4AF3-8A06-66A4CD44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C070-FF03-4389-95BF-79AD02AE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2E22-3C8E-4560-847C-8E936133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3E7EBD-2E77-40E2-B74B-05CDA023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34FC7A-A61F-478C-A4A5-7B4C58C4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A0E64D-E720-43F0-820D-557834D8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2FB913-AE0B-416C-8BC1-4ABF7812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7A6B04-21C8-41AE-A4B9-5F49637E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35AF7C-24AE-4D33-8864-BC60498F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CADCC6-B2CA-4825-9E98-6E46DC81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F7C46A-ABA8-4C16-99A1-DB46D2E0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C2EA57-AC81-4D4C-81B3-5C42AB05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B8917C-FEAA-4890-8E96-D4D11952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1191-CB49-4B83-B1A6-05FC4A72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D39456-26FA-4948-8B3F-2B002FD4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B94A94-DF57-45E4-8725-FDDD5A46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1C0491-C078-4D8B-8215-6D2A86D4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E7B6FD-823C-4844-A8DF-A1006232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00407C-2F47-4654-8841-171DA6DD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5A673E-8C78-4E9B-B819-4377582A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20D06C-CDBE-4A9B-84C7-895F63B8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CE00EE-975A-44A9-8E4F-D0EA1666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EA8E1A-00E5-4C9D-81E0-CDC78FF6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E87F09-339E-41C1-96F1-6A222E1E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226C-ACDC-4B53-BCAF-8D7C8A72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2C01C2-5E6A-46F2-ACEB-C7422A10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C6A8EE-E257-4943-AF54-A7C67E6D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B42725-390B-4BD2-97D2-7A249E7D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0D65DF-E1AB-4096-A104-405F4F28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8C0B73-E072-4A83-82B7-42A92DFD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AC4933-5800-4F30-9C0F-46BD33D9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1C05A9-3CA2-40FD-81E3-5F756842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CE4A67-52C5-4108-BE8B-34F50006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780257-A1B1-461C-BFA0-AAC2FA51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C4F4C7-BE96-482A-80ED-C1DF404E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900D-BF9D-40C9-8B77-9E21C79B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72F60C-17BE-4B13-B767-ED577D9D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F39A71-1212-4AAF-AE16-45D13BED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D6EFC0-0911-4221-A4C0-55D989AD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3B405B-9345-4594-AE71-12AC44F2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2673E3-FFE3-43BD-9977-DC31E9D8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C0F62F-C761-42CB-8CBF-A8660756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8208CC-E376-4AC2-940A-581CBF5D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49B428-B4C1-499C-AB77-2D830323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63E183-B56E-4693-BD73-84677B7C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9141AD-2939-4496-8487-2718F8FD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73B2-19A6-4335-8716-84D87143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8181FE-94CA-42D7-B386-5E9CAC52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296F1E-F0BD-45FE-9432-D8354220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BDFD1A-D223-4867-B1AE-1779EF23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E526C4-913A-4943-A914-66AFBB11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9438FA-54F4-4603-BA42-C473347C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AE0CC7-A1F3-48DE-B712-324693BD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52C019-CA40-4EBA-90CF-5BE9B9F3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1DE41C-A9AF-4003-8FD8-8CD58256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3DE8F8-9B2E-4A12-BA20-CA63FCFB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9D0DF5-5C6C-4A34-B640-9D7641F6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E77D8-13DA-4B12-B481-8D1EF068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56198B-F1A7-48DD-AA91-BA8DD5D0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EB4281-EBB4-484A-B72F-9D42FB45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C8873B-E582-421D-ABCD-D1ECB8E8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85E5CC-E220-406A-A451-241FD1E2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6385D3-31EA-4816-9929-CFF4C6C8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7E62C7-083A-4112-B5F6-0921BBDF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A68ACF-2F36-4C5A-92C4-51F69A28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E5195D-CE4A-459A-9F45-38F0DBE1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3A7993-AC53-416D-AA64-9DF4681E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928F92-90E7-4EEF-854D-2C6BD925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77E2D-1717-4793-94A7-5AB096F1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00D97A-EC8C-4576-A3A5-CC29C8AC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817124-9F0D-4566-B672-B0A61BDD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D06D03-E532-4BFB-9C43-1C3E2306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ECA091-A31F-4D86-B8EB-430C63C1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C0A7BA-74EF-42A9-B5E8-3B51EB83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CF5792-3935-418B-950F-E9401F11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3FE95B-405D-42B6-AB8B-43D676E9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07CB8F-5177-40BC-8F12-B0A0F71D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F941B8-64A8-4735-829C-2ECE350D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634003-3D0B-4FC7-8F01-203ED945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A3B13-F3B5-4770-9BC1-F57CA447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6AD637-8D8E-4775-A929-F39CC4CE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AAD60F-6F9E-4AA7-820B-171264A3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44ED00-246B-4CE8-B7D8-EB713142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E2224A-011B-4FD0-AEE9-E7609C63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DD0538-E0AD-4C9C-9766-EA3828F3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77D7C4-7902-4EEF-8E5F-B00C3E31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AAE7E2-2C2A-4596-B292-26516E4B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B11EED-6464-4BC8-BE40-D8516252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C6E28A-0DED-4A69-A5B4-F73737FD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AFC2F1-9AD4-47B9-8FE4-15F14EFD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24216-6F79-4ACA-8A67-6AEE055B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44131A-71AD-4AA8-9B9E-E33EEF07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2430D0-98C1-4147-9050-22D6CD93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504B6C-D316-40B0-B2BF-D148C154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B2DC21-D1D6-4BED-A315-5DC9CB84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16F2AA-C941-4E06-8D8B-908A2591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99CDDF-6205-42F7-B668-96C69363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FB8966-498D-43A3-A67E-9FD495D5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2668C5-E8B5-42A0-8CCA-DE3316DA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302CB6-E66B-4EE2-B769-9B6BEDF8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0EF225-515A-48F6-9A35-8DA18BBF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CD1F4-7CB3-49C4-B348-B546936A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E78436-F17F-4D59-AEFC-DE3F6810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B41D35-EC8D-4682-8A38-D21B7D5D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4F1C6F-C78C-468A-867D-7A4EADF7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C41845-C501-417B-9059-00734779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3D73B8-6E0E-46F5-8BCF-8355F198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9E3FD8-9D2B-47A4-B59B-CB16A112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C046C0-36AF-42D3-984D-FD0921D0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5108C1-2914-4C4E-95EA-041B0D54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D50715-070F-436A-A187-C148102E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F69699-D0B7-4780-991F-74DE8A74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DAAB-BD86-4DC2-B4A1-84725C66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ED45A-A87E-45C2-9172-993DD3F7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10D990-6058-4EB1-8BBC-FF85DC61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1BB2EE-7587-490C-AD60-78BCC6B3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AF075B-8992-4792-BD71-13896417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E47250-C24E-4716-9DF1-39FB8F76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38385A-2BE1-4BC0-A5E2-7B9F5CE5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987FF6-9B04-44FB-B96E-6CD59410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C452AA-7CC5-48F0-989A-F7488823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C7B289-2E63-4459-B90E-FF5BDCEB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651327-F5FC-417A-AE15-C8AB3C0E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A87E13-004C-4BD0-8F1A-5FFAE29C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B25B1-7A5D-438F-8209-38B63516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F93EEE-695C-4FAD-A036-9F61763C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B63069-0F2E-43C3-B8F5-0FF007CC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052EFA-D57A-428C-9AED-8C2D159B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1386D5-BE67-4FC9-A7EC-5DA923A4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D490A7-4745-408A-8FFF-9CF88A83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C2F20E-8F33-4343-8102-60C89020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6AB3DA0-F79A-42ED-B674-99329E81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EFA584-639C-49E3-8361-D95A4AA6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B0BAC5-E1A3-4777-B889-D720D91C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DBFEFC-E35B-4209-A61A-CCD5B516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84594-D5F0-4FC9-9BC3-55A496A5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66F3F0-6FBD-4735-A25F-D7708CAF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5209E2-2020-4388-8C99-23448079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34C1AD-35DD-476E-BFA8-25398539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4BED20-368A-4749-92A7-CD113B67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0CCF16-C081-469E-B4C2-7F7F3196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D02239-A08C-4A48-940C-C0B4C978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753AFA-4997-455D-A692-7B373843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505F64-F6ED-4A09-A92E-60B4E14C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325615-35F7-4358-AF25-B57B877C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EF5445-E79A-4CDC-896C-9EB098F6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060CC-9DE8-40A2-9837-8A29F695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B14129-CCF2-4BDD-A4F5-303B0806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DCB8CB-638F-4C18-A486-A77B4A98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F787F5-755F-4EE4-B3F4-852AD883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31730E-83C7-4288-97D3-D657E7B9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E0BBDD-6FBE-46CE-BFC8-6D16B912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D51C99-0580-43C2-B38F-E7DF5DB8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7D5EE2-7961-479B-8D0A-D2DC0490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1EE59B-7BF7-4FCB-B245-64A86823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D0B6FE7-3725-41EF-A4FC-F150273D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343FF7D-BCF5-414F-884A-77B669F0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0759F-9CAE-49BD-81B7-1BC88828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96E227-A00C-476E-992D-C54EC74F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EAFF855-96A8-46A6-A528-D8E7B766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A88BF6-B698-4601-BB62-E9786A1A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E0035F-7A2E-48B9-BB44-BC1F0B8D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93B4AE-6A1C-4345-9403-9618938A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C8804F-CE43-4C80-AD36-423C022C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15F877-5968-49E9-9739-4403A8AC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E38CC6-1BF5-4610-8BE7-22B19715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93A43C-98BC-4F5B-BCDB-A9A66B7B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EF5E0AB-0AD1-4177-A05E-CEF2BCD2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2D182-E91E-482F-878A-DA0EDE3A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EBB149-F721-4F2B-800A-63FE1544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20B76F-2A60-428D-9E3F-ACBFB991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ADB009-23CA-4044-A9E3-45722DCF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73DB65-0A77-422D-B2C6-4AD359E9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FD6340-EDD5-40A4-8451-9E3EC951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16B791-10AD-44B8-ACB2-BD9D6DCF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7D10EF-18D2-4B18-A376-1D6837A7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061257-0C0B-4D4A-99A8-02BD2C1D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27720B-CCE7-47EC-B31A-7F9CD186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223B9E-8D53-4C1C-94E4-B6614DAE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3C4F9-6505-4FB2-9656-E0239407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A9B7E2-69F2-4303-8BBC-93208437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6D332C-9CA1-41FF-81C2-3B8F8DC0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5375678-5D36-49F9-AAE4-0FA1CB6A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A561EF-DB9F-45D8-96BC-9C44E72D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364F69-0D64-42E7-88D7-502F9CB7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0162E4-0D29-454A-B1A1-10D37C19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EA70FC-F70F-4579-8A4F-70180031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0992B3-0B64-421B-AE38-7AC3F11C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B2FB41-7ADA-4940-ACA5-605C1000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5E03D28-793C-4D94-B3DD-785E5BA1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CBE95-0C7C-4DAC-9B36-6D7665AD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953B7E4-2160-480A-A0D6-F0F01812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AF77C56-AADC-4A89-A433-9FE1ED05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8B7DA7-FFA1-4DE9-91D0-32681229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557A28A-1F27-48D7-BED1-7E2BEE2A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04FCF46-84BC-44F5-8D21-34A17B69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45611A3-2F3B-45E4-AC37-7A40257B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7C9D0D-F9A2-41FA-AB74-6BB4A870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B81FD49-BE39-4679-9A0A-0F9BF724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2F1CD57-A7D4-41A9-A9D1-75B0B45A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5E93CA8-07F0-4FD3-84CB-D66250C2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56DE8-F5CF-47B4-BB46-4FE55D4C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CF021A0-3EDF-4AD1-B8F1-9485B670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DEFB516-6318-42F9-A236-B1DD23FD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E4BD712-99BC-4A16-B66F-CFC9F56C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B4F3539-6AC0-4B58-B8B3-5EF127E3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2EA8A9F-4993-410F-91C7-858911B5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7B9C311-FBEF-4184-98C3-F6C2E07D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8407BE8-AFEB-4B86-9286-7C804B09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240C2D6-90C9-4CB0-8DAF-98398BEC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176C396-4496-4AA5-B9FF-0B1DB3C3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E57187B-6769-42BF-9DEE-0C856B05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31BB8-5537-40A7-BE31-CB850A7B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C20975F-11A1-4F34-9F07-B7659F30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4ADB673-47E8-47BB-8CA0-D0E43B98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C3DE325-CF5B-42F9-9D97-FAF5CC29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D471533-C185-4347-B832-48CB4FC5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FBE5967-B339-41EB-A3B6-C12640F7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A6C84C5-2508-4ED7-ACEC-68F4A2EF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E99AC26-88E5-4800-995F-790F7370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4024C5-BED1-4C3C-A68A-2390DDDE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A548986-D670-4CE1-AD36-D4C9508F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0EF238F-A959-45A2-ACCB-A63752C0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CB56-525D-4254-9953-640C5C43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1481F-690C-408E-A75E-8AE70DB1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8854996-DD7C-4881-8A84-ADE9B4C9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2CA3A06-B361-48C0-9706-2250AA18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A5968E8-DCA4-4FD8-A87A-02DFA65D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95DF7B6-780A-4733-880B-AC8593EF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F73224C-A83B-487A-893A-B06F99A1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2854A31-F2F0-4794-8CBB-C2111703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247CDDE-75E8-4410-A53F-4BCD190C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BC745B-D2A8-44A6-B2A1-82EF14F1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6E99BD0-B395-41DE-BA9E-D10C3878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317B1B9-7051-42FB-8BFE-2861B246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DA56B-7F17-4501-8B73-8A9A6E61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75FBD17-9F38-40D4-B5B6-7DD66C4D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90D9C69-14EE-42DC-83F1-78F1C9CB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9BA96CD-C39D-44F9-B52A-13FB24EA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83672E7-0173-49AE-A71E-CE5BD7A2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EFD7C12-D66D-4344-A804-61AA2F8D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FA2B09B-2B81-433E-9968-98625486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191A969-4329-471C-ACE3-A674A05E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233A575-6785-4A0A-85ED-CE04A1BA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4EABD2B-F866-486B-8F28-51E0F63B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C7E0341-C514-4BE2-9A09-26477479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E3EF7-9F92-4302-B7DF-0DAF73BF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EDF3110-A80A-401D-8554-4AA3F662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B726B6-528C-4DB5-8413-C399E133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8767121-106A-44CB-8B76-8EB5C37F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1F71DA4-16D0-4E5B-9DF8-0FBD47B0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EC226D5-8290-4BF0-9CB5-F79D458A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E29824D-3E28-4750-A6B7-F7BA4638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E3AB9C2-79B5-4461-BD1C-2E86F69A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934B6D4-9DD0-46DD-BC19-8545A0A5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3A3634D-D9F9-4D39-891E-DACE7E20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28CD515-7D12-43A8-85B5-23CECB74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7CB7E-E005-4555-86B9-9F592B0A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33C9AB3-15F5-4FE4-811F-2CD99E30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9D6B739-16AC-4336-86B5-44D334A7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07B5735-81E8-411A-B971-C9917AF7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676AC6F-A9C8-42AC-9755-BF0EDB4F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F98DA32-F27F-4A11-9ABE-7F1B8327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5B7A729-D842-4BB3-A845-07C11C17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5DF47F6-C88D-40D9-BDB1-24771584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14B75AC-E275-4B84-ABC3-942E0E47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97BECF7-85AC-4D36-A920-92659175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3E213FA-8EAE-4801-9074-E05AE3BB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C7E53-04A6-46A6-B7F2-6225B06D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C1DAA5E-FB5C-4823-AB1B-EBF755F0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F7B6A76-F949-4966-82F2-27D56EE9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6A8FC4F-1046-4CD6-8729-B3C2A5C4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5774DEC-A556-4DAD-8C3D-0A861F5A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3467724-0A38-41FB-80B2-A4836021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9A74BD4-7960-4458-B944-8B981D89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EABBD23-92FA-4E38-A994-C6E80C08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925026F-944A-42B3-AAA1-0AE82341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44EB6E2-D06C-4896-97E8-C0F3E8F4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8D3543A-3989-40E1-86AE-3394869E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97878-4086-4E51-AD70-B6D31C90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45EC63C-E86B-4186-BB12-65BE3C0C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DDB4E16-D0CD-4C60-BC02-32D502C3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B0D9CDF-D434-4536-A72F-431130C4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337C253-4AE2-471C-A8EE-A0ACDA55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7D49687-ACC8-4981-A3C7-266F0E17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DEAF56E-47C6-42FE-80F9-CE208419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67AA0BB-0D18-4CDB-AE1D-62F940AF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97E46E3-8583-482B-B7AE-9372F16F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A30AAFE-C1DA-4A5B-881B-1D0D263D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8B032FC-B285-459A-9922-8E1B82EF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CCCCF-18C5-413D-A2F2-A26F8D8D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3796C91-0C46-4CBE-9C62-39ECE0A6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54BB2F6-7E09-4712-B095-25CB0AF2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7259647-6FA2-4E3C-825D-E1B903DF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066E695-A338-4114-95F9-50EF408D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AA9A975-A682-4B0A-836F-D380A0C2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FAEF1DE-EF22-4D03-A10A-8DEB4DCA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8624943-78F0-4F6E-B518-FBA15AE0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A548CB2-B9C5-4298-8167-E9DE9969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A1DD1C0-D152-4864-BEBC-B531BCB3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C6F8778-721A-4C56-BD27-1891BFF2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B45F9-F13A-43F6-9F8E-B6A0E618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634EC92-AD28-4505-8B25-0899BF89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ACFCC19-6942-49A5-960B-8A543028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B0BDE44-F8A3-4B06-BA8D-285993B4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DA6D0A0-DE9C-4410-BA6E-F05A0384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B3D0F75-23DF-4CA1-AEEC-A29B1C68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EA5AFA9-9569-4DE6-953E-6028CD17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D05254A-E1D4-4192-9139-2061EFD8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63E1CFB-49AD-46AD-9970-23F663A8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89A0BCE-33C0-4442-91C6-08DC15A9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4155CE9-1AAF-45EF-9C9E-6D2F2232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06E2B-5F3F-42A5-8475-A47F5C13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12CC231-D7B3-4D7D-84A1-7B8B5AA9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4FF03A5-4F80-41A3-9D85-11251693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9C237AE-3A9C-4AB9-B66E-3E88B9AE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36BABA0-E349-41A2-B37B-87150202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9B57321-5AE4-4385-9DD5-EB6A0981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44AFD92-A03F-47D8-BEA5-204C7F46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D26C1B0-E5DF-45FD-A858-F30080FB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FDE3C09-0271-4CEF-B8C6-C1E29399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96D310A-C97D-4734-9446-D265B496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1FA7F5A-9766-45CD-A8B2-3CBB84CB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37F82-12D7-4907-879F-EA993C76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0346973-F1CA-4117-AAB6-C1627BA3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AA773F8-A35E-4472-A5A9-C1BC4E7E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7199426-FCC2-42B8-B9C3-FCBA8BCF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96DFBA3-DF2C-439B-8637-74F0642F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BEC3AC4-7DF8-4245-9219-A866CF98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9F2D39D-5835-4759-8412-04B3ED8E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F051F82-056B-4D11-85F3-2B0B6155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C8DE16F-06B0-4000-9774-EFEB10C5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EABF358-B31E-4243-9FF5-CDCECAE7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9F7C028-5A6E-424A-95BE-1F9B4D20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F553-5675-48B3-A992-0C0830AA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99736-66C8-480A-B16C-2D0347B4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EE922A9-B56E-4892-85D5-4EE0BBCF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1FFCA00-CA6F-4AF4-97F3-68BE65E1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0A71ACC-E86C-4080-86D5-9AE3E985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F4EA9A5-E222-4832-8371-18999E0D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3FF6BDF-E162-47A0-8854-95B31371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25906E2-C1CF-4894-804D-2A64E85D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24CCB78-847A-4C82-A59A-38A08CE8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C8B0C02-0061-49B1-B055-C9F93649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26F94AD-E634-428C-BE69-5C4F48E2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E482C4A-0A79-448D-9F59-5F7CFC8A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C4EA4-2E02-4CD7-BBF0-13DE12E3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A0C06BB-601B-4580-B5C6-4D8B7FBD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9043D9C-1F32-4F09-8A13-7402EAD3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70530C6-0421-4A8E-A633-E96E3459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82BDD6D-3CF7-4E4A-9730-26541353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2C49879-1D12-4EF7-A53D-E9157BCF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D603D2F-546B-4DA4-9F95-3AC86E77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B123FB3-BB8E-4A22-BAAE-FBEB6FFF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9E76089-6766-4B5B-AEE3-CBEC74D4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B902C8E-73DD-4110-AE6A-BFA13899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90A5719-EDD8-4555-BDC9-DB37002E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319AA-5CD2-477A-9E69-E14DB769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9F53CB5-2A2A-4832-A206-AF18ECB3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B1ADA6B-AB54-4BB7-B868-4B47B7B9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CA7DE25-1ADA-4EBC-9588-17E23E34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1EF90F2-741E-4FA2-A061-8EFF1ADF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12EB8B1-9B02-4EC8-A511-A1953C46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5AC71CF-89B2-4025-BFA7-E06F2DC2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194E9DD-4023-4BC7-BA26-5E0B6B08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496BEA1-75C5-4DF8-9F9E-B553486E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A92E4FC-B49F-4C4E-861F-4A5B404E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34D1C6C-0472-40EB-8A94-E75A9EDC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F1BC0-7B95-46D6-81ED-4D57A86C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90B5835-E6B6-4F43-B714-BA06EF4E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FAB4F7D-E3D0-4E89-9C13-4D1F7262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350E5AC-06A8-43FE-B13E-990324CA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5DAF0DE-B991-4809-B75F-6697A2BC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6914B21-20ED-4E27-8F11-039BFDF0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DDB1793-F831-40E1-837A-6BDB7574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CF1A16F-1D38-41B9-9438-CD5A9BFE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EE2E6BD-4917-416C-8572-DE97EE74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45F3867-FA22-4A42-9097-EDF91AA4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6CE6FB2-8534-4A34-AF6A-3274AFAD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B9F97-1C54-4C5F-833F-7DB3F982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C885C33-D01D-4A4D-8781-FB3D12B0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020A030-6033-4D5F-A6E9-D7434B41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B947882-18FE-4A74-B055-07717B27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165A8AD-4D92-46D3-955C-F2119B5D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6C77F00-8B57-448D-B075-4CC643D1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EA283B2-5299-41C1-BC90-5B3D114F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4270D4B-C5FF-4989-BEF0-F21C4C1E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444C875-5913-417C-A902-76D9B521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4846A87-1EDB-4D39-A0CF-22F71EF4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BB0CB93-3B47-4219-9B2A-E6024BC9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1BAE8-CD57-4F6C-96FC-04EDF77C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B982617-6FDA-4FBD-A0D0-8C6A9224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C0F48E2-2F2F-4767-9E4A-1C1C254B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AAFD6CD-92BB-42C3-B878-207F58CA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30E5925-454D-4857-A4EA-0FBF0ED8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D208B1E-9A6C-48A7-8C2A-557C340C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3947246-D199-41B7-8932-B3A0F1FD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D471D55-ED9D-46D5-9B1A-4CFEBEF4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4C91205-51C6-4915-94A1-0D408F82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7EFCF8D-24CB-4B7F-AB16-4F8F5650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585A624-3DC5-42BF-8745-E1D25B5F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2FAA0-0FEF-4AF7-B254-D81A1B19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4CFDBB9-F136-45E5-AD42-538AB9D6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3DFB186-478F-4801-BFE1-BFB1747B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6603D90-7282-4A85-9476-E406AFD1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F1E5EB9-A421-4B15-BBEB-D3993718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C73DFE6-19B5-4C6A-A0C1-72CB2D01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72A873B-ABC2-47E1-B923-3F3200A9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D5CFA46-4FEE-4412-8E92-EEF59ED4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E14A0E4-6A8D-4B80-894E-2935073E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FDABDA3-2B03-495E-8E6A-D8FB6A4E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48E5966-A758-428F-9C59-DA6FB923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B7249-88FB-428A-B473-231AF304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6122D18-85C8-4F37-A3BC-E12551AA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FBF4839-527B-47E9-8F6B-D22C02F1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51FB7C0-DD99-4802-B937-5244F0E9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75E8FFC-0B50-4804-A2E4-02D01D74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A5EC05B-6009-444E-95A0-1B0BA49E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921A693-C5EA-4EA8-A77C-F3952CEC5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56AA26F-A4B6-4C59-8396-5208FC91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695DCD5-4B1D-461F-96C1-4AD9EBEC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7EFBA63-5F15-4FCB-8395-DE79BFD5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827678A-2F24-4010-A36E-FAA2D41B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A6E44-9EFA-4C5B-9297-01CDD2BF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1CC064B-F24B-4F64-830D-ABF4E7F3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B976598-15F8-45BE-BA78-CB8BCBEE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BD8C073-1CD8-4655-B35A-4CC66D75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88724C8-4669-46D7-91EC-C40AFF33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872FB10-F9E3-48E5-A003-2F0E24AC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CA09B31-68D8-4F46-B875-66214CFC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BABCBBA-148E-42E6-9233-094749F9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A1F8299-F3BE-4AA0-9C48-4C3360CC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A77B3C4-A855-4BB0-937E-FF0DCB25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77FD5D0-ED01-4686-9CA0-A36BA797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2E457-9780-471E-8C5F-21D6EC55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2CB9127-7562-49B7-B84A-29426EE5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5BF0D7E-6CF1-41E4-8B83-A311AA1D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E551819-6543-4C9D-B237-402A54CE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1769FD0-E2E8-443F-9EA2-E98B174E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CC9F428-3B3A-45BD-91A5-EEC7B16B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9D4D7DD-C042-408D-8A8A-E6F9EF3B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C0C700D-081F-4E3F-9E5C-335F1775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DE45C8D-D3E0-4C7A-B6A8-4142A08C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61701EE-F48A-4B05-9183-AE82D609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6FB41D5-280E-4612-847D-10A2580E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9741-8E0C-4ACF-906A-E71B01BD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A936C-3E67-4E96-BDFB-C51914F0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5F3E55C-1AE7-4C0D-A892-9289CDF0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8686F84-3C99-4096-9466-6DC34C09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A1DCA71-19B1-4A5D-904C-24A5CF12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6C5D7AF-5FA2-4972-91EB-F48FF6DE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C66ACB2-24B9-428D-9E4E-7B6DCC0F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F1F3E6A-5E14-4531-8450-E73FDB17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3146B23-A5D5-4E9E-9564-73F8D6C9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07217F7-D333-4A0F-9395-A97E6AC9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214CC25-F1F2-4258-BAFA-EFF14996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0AF1699-341A-47D4-AFBD-0E478B26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E0381-1441-437B-8C4E-22B24AC7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EA2637B-4FF6-43A6-B806-B5CD6AB4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056CBF0-47BA-4903-B6AD-D6A8C419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EDFA2A4-490B-450E-9777-46EA79B6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1016825-DB11-43E6-947C-A564BF66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295537F-B170-4572-8146-55C85A47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0CA3A1E-77E4-49DA-8639-EFF28DD9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53E1087-22C0-498D-9C20-5FD6DFB2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3E829DE-46E7-4D56-9D55-FF417A92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94CE279-605F-4FC8-A568-0CEE345B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BFF85CE-CBA1-4C6F-83B9-C28E3ABF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6555C-1ADB-45E0-8C27-74247098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053855F-FC5C-46EE-9D0F-F5C4A3A9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7C0604F-D6B6-4CC4-B87E-2069D9E4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607C5F1-C9DC-48F1-B196-DAF04661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B27579C-0793-4D5B-9204-51F39FD1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768C449-A4F0-476C-984B-C6651960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7FE30B7-53A8-4E53-A91A-A44670EA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08BF7BE-E1C4-49DE-AC69-7F4EA204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4B4F9FE-67B2-4D78-A4FD-327F9D52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761CFB0-60CE-4670-B27C-4AB50DE6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189ED4D-0F6B-4464-90C6-DE2E4EA2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6B98D-06D3-4F61-B550-DF6CAD3D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18700A0-FB17-4D1A-9F37-237C9E5D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BBBAFB1-4F91-4518-8AF2-D3354524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B5C7E63-8DF8-46AE-9327-02F5F987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20A2591-F680-4C9F-A2A4-CF8E8515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2C33862-7D9B-4027-94A6-3AE1ADF4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0263E14-04E0-4C63-BB14-FFAE1375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749F567-10A4-4BD1-82EC-D55FEBDB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9B410B8-DD8D-40D4-BA83-2DBA4CBF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0EF704A-BA98-42F9-A68B-5C3AB476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6E2ABC6-7F4D-4032-B90E-A59E43F9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5A523-C2B3-4E63-8899-8A43696E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8CD5026-8F6E-4774-8894-084E6164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98AFF6F-7465-4D84-88BC-8740AE3F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7A44E91-AB21-40E0-A80C-414D9800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E52BA5B-089E-400E-98A2-743C5FE2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30AFE33-4CBE-474A-9FE7-9D3408DF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8272CA8-A82D-442F-848B-C0A1434F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9D4EB63-68EB-48A3-9376-C74F3713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28857FB-D605-41FA-B667-B401695A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8307348-72F4-432B-977A-56492378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194C307-1C84-46F6-91BA-42F9E10C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AD242-4916-40D4-994E-FCD69F7A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ECC43E7-9648-47A4-A3F5-E714C3E3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DB878CE-AEFD-4F71-8688-E3EE5B69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807E020-0C5B-4A6E-A230-A3425936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889CFE4-76A3-4DE5-A582-31D41716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B19E850-87C1-4F8C-9622-2058D3D2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8ADD6E7-F60E-4369-8745-4E06CECD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901203D-8469-4226-B0BF-0A9B7B09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9A63E8C-D25F-43A5-8C7D-5E606E3D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FED879A-8A35-480F-A199-F157705F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FC4BB8E-9302-4CE1-89EA-914A94FD0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F575E-662A-4CC8-9A81-14F29981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4A144ED-40E2-4EEB-847D-626A9F4D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5099583-91F1-4CF5-865F-93E1A779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C1ABB8C-9A63-476D-AC8D-59E549B6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BD6A08A-1D64-4839-A582-98A420BE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8C252B8-1387-4708-8394-7EC05AE6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851AD2F-A091-44C2-AAE8-D1EFDAB6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7981FBE-4D13-4A2F-8FAB-BDA9DC38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CE27B5B-074C-4D00-9D3D-04231A23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3D83F57-2C8A-4062-87FD-4E987BA9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08FE6D8-1F8D-4AA9-8E5F-485EE313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CFBA9-B517-4597-B8D3-C059D792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CC2396D-95D4-498D-8D32-6D83DCF2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22DABCF-B4F7-47A0-B47B-F3E9D909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8E8AE31-A01D-4B82-AACD-451A121E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F573FD9-A974-46AF-9126-9DC16677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3615DD9-B492-4690-A685-25B4E1A5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0F1D069-F721-4298-960D-741D0C60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2870DD6-CDC1-4D87-B81E-4708D01C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8DC6BD7-4C93-4815-BCB3-7D04671A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A48563B-0F9C-4C80-9482-E90386A2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F1D1B2F-460A-423E-A980-E5294779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496B8-1F9E-442E-9E54-51682AFA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F4A4560-75B1-4CDF-8799-A5732418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DA1A1E7-846C-4E86-B518-F8074678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969782C-D908-4240-BA49-4BC462F0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6057FE1-414A-4592-B110-F90D6418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1CCD458-FE98-4601-8A9F-66A3F22B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947E2FE-4097-4BDC-971E-910B0797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295C9C9-EA4A-4F9D-8C04-568C0F25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8A47942-41FA-46AD-9836-E2CE4E09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3D0742E-9828-49D4-80D4-8AB3DE6D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E068BF4-FF76-4F20-B731-07E24C03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B0E9F-CDAE-4819-8DAD-A54697C2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E755235-BFDB-4AD3-9D35-FEE530BB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C2FD4FC-06F3-4EE8-BF92-068A2BB0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23FD921-1AF3-4D61-9FA2-32817A03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B0DC8A9-2D56-450E-8DFC-8D07002F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078AE58-22BF-4399-801B-F373845F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949A7C5-96AE-4DFA-9935-91B6590E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9B75322-70C4-4E2B-833B-C711FF1A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AB15829-B745-4021-9BD7-968FED05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DB96614-C816-48E1-BA1F-2BD44E51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0C34F02-3E1F-4FAF-A279-60E03C86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A71D-CB21-4B33-87B7-57ABEB9F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5F4DF-B04D-4D8A-9F07-7415DE9F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9A9E7F9-7F0E-4F2A-B0D7-F2C80688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D43A7B8-AE5A-442F-BEBB-67C032F0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36B46EC-C49A-4234-9039-5BAD32B3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E58770E-CAC8-4115-A993-0535B6E2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23AF5DD-57B5-4A15-860B-B1A2DB6A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6C9C5B0-F7CB-4EAF-A4AF-B7CE3F93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D73622B-2F99-4087-9B9A-3CFD27AF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A0E6062-7E12-4286-9FB3-0D879DE5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42265DF-9187-4AB8-AC7C-6FE7FD07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E875A4E-EF30-47AF-A979-C9113249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2A566-7C31-49E3-952D-82D7FEA9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533BF5F-31DA-482A-A826-117D02CD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8E63FB8-6C3C-49F0-9751-F37CEC88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FC29CE7-B458-4C4F-9899-67C4C626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DAEA1E9-CF5A-4260-ACBC-BE82476F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75BE91E-5231-43A5-8615-E05AF576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1BAD46E-68E7-4FD7-BA58-986AFA1D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D07B523-08DA-4837-AB9F-45F2C3E3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CA433C3-67EC-4079-B1FD-27F01001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297A663-0B21-47DA-A0C9-DC33E559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F74030D-EB6F-4437-AADF-7B4CD316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C1E10-A767-4747-9C0C-C53DCE64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9A767B0-A16E-459A-9470-B016D774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3EA7DAF-7CBB-43AB-8C87-34EEAC33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95F31EC-D441-46A1-B9BA-4FEB4787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2696C06-FBCB-4E13-B3CC-0FB12C5B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3CCD6D0-96DB-45BA-A758-7005F6E0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8C56CD2-252E-4059-8746-57F39343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B7BF7DA-FD9F-4B00-B32E-6567F678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5A3FDAA-6F79-4C8A-AA05-EBB1E321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CF247D6-F0B3-4C0F-9ACF-5B8EE631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CFC594E-2032-4BE6-985A-E1831E9F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49830-7ED8-4A71-8B83-62B38125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DFFE80E-1A14-4B1D-8244-433C48D8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0D7A0B3-1D32-400F-9373-D4652017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DC4C629-A9E4-45BB-B293-EFF00D63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F34509C-23D0-4C32-B733-CFA6E7D52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00BC76C-7DA3-4AE7-9727-E4107EA6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251BD1C-0791-4E8B-BCFC-8841455B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90B51E8-AF6B-4CA0-8204-93D95839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74405AF-682C-43FB-AC21-1D846817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512040B-D3C0-45A0-9CD9-7B458507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7CEECAD-FBB8-4F25-9547-50897CFB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09F68-A863-4F74-8184-6A6B5B2F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34EF0A1-6CAA-41D8-A5DE-E4236CBC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A1610E4-32AA-414C-AE92-F5831D5F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FEB1149-2143-43EE-8DD3-7C40A36A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01DC31E-4590-45D6-80DE-4D462BEA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79B67A4-F6A2-484F-A311-A9F03D81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C2EABDA-ED05-404C-A6D7-99F9F8BA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F952657-003F-45AB-B88D-1890A052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DD81680-D4F8-48B5-8EDC-C7FC6170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73B14F9-E1C6-4DD6-AA87-45165843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55D934B-805A-4F7A-B1E4-2EDD738D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4B196-A227-428B-9CB8-CC54296F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01030BC-07EF-47DE-8ACF-857ACE06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E285CFF-5408-48F6-A905-D9AE92D7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6B8756B-74A1-4E96-9640-CC2FF8B1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80AEFD9-E626-41C7-9D7D-2F1C90A4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79C9B7D-5030-4F64-BF89-34434A5C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60386D3-A2FA-46F9-857B-B8A948A5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1053E5B-81DE-49F9-BD54-7E9B8C48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1435A26-CF5B-44C1-BCB8-86418B9E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C8C133C-D022-4E7C-A29B-6C442BC5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13C5754-9E0B-46A0-BA13-2CB3D69E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E6089-AA42-4837-8668-D918B6DF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52869C4-3F1E-4AC3-9670-BB97201B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CFC935C-F516-4436-B5D6-D5AA1A2E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8448F5E-4743-49BC-AC1F-75C85402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94EB7FE-AE41-4394-AE6B-776BC1AF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55EAB3E-C38D-4590-BC13-5210843D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7C48831-DD40-4AEA-9748-D749BA64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3B4ECA0-D08D-45BC-A8AF-E54CBE94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6932475-805D-4D80-98A7-0ABAAF1C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DD6C025-EF30-4AEB-A7E9-DAF9D103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D66F82E-8626-40EA-BBD2-99A6453A5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78B25-7821-47BF-95CF-C52B8468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A5A1A90-6B68-4CB4-A90A-A0DA5401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7747C5A-5537-4085-9078-F845BCBC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9D9AE9A-5B47-4588-9A94-CF676E12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84B0DDC-89F6-4CA7-9BE2-5AA82CF0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A6BA9F5-7682-4BFE-9997-83268F43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0BDA4FB-6774-4622-9C90-CFA9BE67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DB82429-C724-403B-A68F-F099BF94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FA17EDD-406C-4C1D-AAD2-258C3028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54BAA24-B524-4A10-BC52-E7ADDCC1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6BB3341-1977-479B-943B-C375D0D8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453BC-1F97-4585-AAB1-7A7741BA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303522C-BD10-4262-AF04-B0589628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ACC1C02-AAF8-4A80-B225-5EEED879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DF22FDF-CD50-4F8B-A5AD-6D77FCA5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ECB842E-4226-42F2-9B71-2B244E04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F37B488-418A-4D33-BC0C-0CE89069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0CAF979-12F2-4275-9FC7-65C5E3A9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0E4A03E-FC17-4223-B38C-214112AC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FCCB44D-AF6A-4C59-9846-888A09B7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82C0481-B2D3-477E-9C96-C05EDF18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ABC56D9-FD6C-4FEF-9174-5BF88C27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AED56-EF29-4EA3-8A37-2515F6FB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B527FDE-5F9B-4FEC-92A1-48131F42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ACA1F3B-6646-4472-9526-78DC2F2F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C52A865-EFFA-44B2-928C-1DF3C1C3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94D9A9F-E485-43D1-BDBE-492A5C6B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80C7AD7-1D8F-452B-86D8-ADAD9BBC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01C1060-C822-4D55-9369-249B8E8F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AF505E9-B7C0-4C6A-851D-9DE748FF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054CBFA-9A62-4AE8-92D5-AA7C65B4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A768890-0C37-4284-A80C-0B6DA232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729CAED-C5DC-40C4-B385-68A5C7CB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A8BA-31A4-40C1-9BBA-43A5264F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6050D-1639-4D09-964F-8A21B6FE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42A11C1-B4A9-4845-863C-9F29C364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93356AD-FDC4-4D07-90CC-2A9E085A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88BF120-C16A-4B7B-808C-66BE6477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7647C12-20F4-4713-BC02-6BE4855D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03F5331-27DF-41A2-B01C-F13BA013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0EA10BB-4153-4C89-887D-8DE22A99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4A5DF28-CA69-4441-A120-EC1D51A2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9076E66-BE04-4A42-8AD5-5522CD75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40FBB79-839F-4EB7-A3B9-B1F650A3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767EB45-4700-4FBE-840E-ADDC6977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9F1DC-A7E3-462E-B914-95A25173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1FFE743-2F6A-4BC8-8A85-412A140E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267A387-42BB-4929-8F3F-8CD3E220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EA88D3B-D7F4-4AE3-A132-FEB9D288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E42D415-DD69-4B7C-9187-9AC0A03B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FD01E1C-24D7-4BB2-892D-0C3706A3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CD64804-4F49-4CC3-BC7B-CD9E3E31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231B9BF-84DE-4B9E-84C1-09C8C49D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F7763BC-FD06-4F1E-997B-F6485C5C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1D25B35-FDBC-401B-BEE6-626AD303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57EFC5D-76D2-44EC-BC7E-31000C7E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7C03D-EBAD-4C81-BEB4-CDEE7BCF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58E9E93-AE34-4484-8685-8F35317A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63E54D4-E2BB-4508-900C-4D90D344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FCD680B-198D-43A8-A6F5-92CE9971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B0DE745-BEEA-46CD-A1E6-573B7C7D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1487941-307B-4715-A134-14BCD364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7967960-D7AB-4466-98F8-67123F56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E50DAF8-A048-491E-AF4D-6B965991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51E863E-7844-4090-ADEE-FD9459BC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633C3D7-3B5D-42DE-A3D9-FD759215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244860F-42FB-4FB1-BA6C-F3AE1D1C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5F611-17F2-42F7-AF13-64D7CDA8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B3BF70C-D82C-4147-9C33-4C452A7B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5EF244F-6513-4503-8FE7-021B6C1C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89D6ECE-8CD1-4877-9AB7-B3BBB377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B4B71A8-D821-4EBD-99D7-9D1F647F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0BF3F51-9A8C-4996-9F12-B2B127CF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B97583A-81A2-4B79-A195-DD33D6F0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ADC8CB5-543D-4829-94A1-1FEC3BB9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56147C6-E05D-4E16-B497-D718DBD6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AEEDD8C-48EB-4F27-A68B-9CE6F571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C5D06A4-E5D9-45B7-A156-670A918E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5538C-8A31-4D83-8A91-EE62C176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90B1A1B-0BD2-43EB-8F8C-15D494DA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413496E-BB66-4DDF-A4BE-708D8FF6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71A433C-5C40-4226-89DD-813A45D8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286D569-FCE0-4386-BE24-E30E6FBE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DE7053F-5BCC-4274-9BAC-56106AEE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246AE59-6021-4C28-BEAF-97DBB965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AD90DFD-38EC-41E4-8219-3CB3EE4F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C143F17-C917-4020-BE4E-71BD6542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B4D9087-A766-4F98-B164-D02C111D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F04D5AE-EC94-4159-9B4F-CF15CE0C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787A5-900E-432F-97CD-6084A035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9950B45-5B6A-4640-BE2C-BEB35392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5131F93-37B9-4E29-AE3B-4453032B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6741A35-63C2-42AB-9C86-D2FD7BD1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B2AF09E-C48B-4CC1-A504-49FB0AA4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E430345-F716-4D3B-BA8B-F3F9C954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8FA31A5-AE7B-4A25-9B20-E35FF5CC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700EFDC-DC35-4EBC-A5F5-61A1862C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D2D2387-F4B6-4064-B3A7-4054D0A8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A100773-12B4-4A4A-9528-C23BB78E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9E8399F-8AC2-44D0-9BEA-69D4C780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DB262-330A-4E9E-B6A0-FDB6189F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F6AE884-7418-4A5A-83FE-E8C438B3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E0A0E0E-0A83-47CC-9113-F3C0FBBA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A603C2D-FE08-44F8-87C2-EE1CB0D0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AFF0310-8165-463B-B165-D233E3C8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CFE9FBE-83E4-49F9-BBFC-2BAA3332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B1B90C2-2B40-4B19-9AE9-8940A885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5450073-8D87-41A9-8CE8-6B67878C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5432E69-B44D-49D6-AAED-78874B81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21A4994-8861-40AB-B71D-8393C11A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4E42B3D-597D-4D01-AAC7-41C8A5FE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A65DF-B2C8-4F80-A83B-B5E11F2B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518F7B2-9B4B-4CBC-8340-923D9AA8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1415F7E-792F-4BFC-B46F-53BE6983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B0ABEB3-887A-4366-9D66-DAEC97DA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CBB8440-B47A-4286-A128-9762D7FD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F6A731A-D73D-46FB-89BB-0664E447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317E3DC-30FE-4451-AFBA-2347BF99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CE2240A-6B0C-4A3D-9FBB-D020B1F5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0DC1843-47C9-49AB-90E5-7A7F18E1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4BB1783-8083-4D4C-86E4-8B81A678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4F5D08E-2580-46CF-B93D-9F11B000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95C9D-E789-484D-9D82-0CE73E6A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263333E-5D0C-40C0-B8BF-FCC99DCD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92CA458-FA7C-4A70-BC2E-67CDD967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A38AB54-8074-4547-B924-AEF47A70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DA4837D-7C7E-4D3B-9A90-4EA9C29C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BBF06C1-BA13-4C53-BF6C-47688D38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8922820-DC8A-436F-9AE0-EA9A98B0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E71D824-3093-4630-B1FC-FB713CC9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262582A-9383-4349-8BAD-1BF416DC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2FE99C5-079C-40EC-9358-E473909D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95AED7E-5D86-4156-A320-0FDFFD61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D16B6-D32A-4F3D-A642-5F34D6D2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D9AFF34-5572-4ED4-A657-B1C71499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81199B8-141F-4ABB-BB1B-DB59FB48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160CEEA-10F7-4470-9D45-7B74F1D0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61A258C-30AD-47C9-8DD2-51CDA0D3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0FFC46A-D2A3-408A-A4B8-089CA5C1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ADEE55D-9DA1-43BC-B957-3441840B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4D1A485-2D8B-4408-9C80-437BEA0E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5A31FED-6979-4869-A907-37846C3D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FA9E279-529D-4649-B964-1F4E587A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E14070E-DA00-4936-A39D-435C70B9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559C-0D51-49CB-B0DF-84E47F52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21C99-E434-4150-8045-87DDDB47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8D0BBC3-D205-4368-8292-C6A18504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5BCC39B-A83E-4A49-8ACB-11EFDF1A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0FEFD80-3DF2-4EF7-A19F-B6472F5A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86D5201-8544-492E-92EB-BD07C63A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28A89D4-1C6F-423F-BA2D-A3705AB3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32A82A4-DB70-41CF-8ED6-ED64CF15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2D12603-44CC-477C-94C6-53AF9D71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661D6F8-4B90-44DA-A6C4-E453592E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0FC04D3-073A-423A-8AD2-C539B625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F24A981-AD2F-45B6-A613-5F3CC03A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14CF8-B9A1-4AC7-9B53-CD6C6F93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BA0D963-DC83-4123-AC04-30BFB7B6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1FD4060-C8C5-4BCE-875F-CA080EEE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B67B94C-9148-4DB7-953E-2EC61A95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7E61F07-B9FC-41E5-9B00-FA00CF46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A91619D-2A7D-4C34-A03D-8BE3B9D2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D3CA2AB-4A51-45EA-910E-22CA55D6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3E16F68-2BF3-43FA-A351-474364DB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9141C60-5F03-40DC-89A8-BFD324EB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53F659B-5545-4AFF-8769-60BFA339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3FC029B-EEAC-4C8E-B840-2B382C89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006A6-D2E2-46B3-9AFB-48C1BFD0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D42A858-6B50-481B-AB48-CB9A23A3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C117868-9B0A-4BF1-A4F0-4404AEC2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47E7DA0-4D3F-4F56-A0FB-AE30A557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4F8ADF2-E3D7-4CF1-93C5-456D0C89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026EB53-0102-48ED-B4CE-65779E6F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FF73215-CF1D-45DD-A7C3-B879B3A7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55284BB-AECE-43D2-8C13-505655E4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E31EE42-ABF0-4891-B38F-CC14C1EC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73F3E3F-BB9D-4EFF-A408-4FD51A1E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CBFB507-DECE-4799-A9C9-73FD0DD0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DEC75-A042-49C2-8E7F-D3A82C66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829D7A1-2A56-4491-B870-72A23FC4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55A3E60-1E87-490C-AE87-702642A3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2BA0D00B-4E93-4823-89A7-8E3C57C3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EAF9162-5D4D-4193-AE5B-2125E35E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39C2185-500D-4F5F-BDE2-CA09ABD1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A78CEF9-046B-46A1-BE05-5F509F63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CF4349E-164C-488E-868A-CE663558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3763522-50A6-4DCA-84BF-9CC08E69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2A94F41-FAC8-4899-94F8-CBC8B85E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3FC0692-4ED4-45B0-803E-C356970B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64948-AF14-4E11-B07F-76C798E1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E7F3D70-CDBE-46DF-8615-3BF5410B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EA0ECFF-8574-405E-8A43-9242435B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2C1BC8A-3F4A-49BC-ABD0-7A575AB4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59AC166-FC0F-489D-955C-B62F7543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70507046-1DB4-4711-A2A2-14BD98BA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3D1C51D-A41F-4F11-9395-60027774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A070E7B-3E07-46EE-B224-6CF30247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76341F7-8511-431B-898F-364D1AE8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2E1D888-37DC-4124-9C0C-6F3291DA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AE8A29D-EDEE-429F-92E8-EB88CC33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5CD30-F28D-496E-BB13-8B22568F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2CDA54F-908C-4F01-90DC-6ACC4CF0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849D0FE-F26B-4195-B805-D88690F3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34F309F8-E0C7-489D-AB82-ECE7942A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CE3D641-9260-4A7F-B3FE-9D49589E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F6212A5-5EBC-41E4-9BE2-15AA1E97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BCBBF5A-B9D4-439E-8CAC-DEE668BC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FA79825-70CF-46D7-99E2-671CAA6F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8C1E31D-4735-40C5-8EE3-54B2442C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8397F8C-E6A1-45C0-B40C-6DA4C5D1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68415E7C-CC63-4EA7-AB55-65671CC9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B2A3D-6566-4FB6-B23A-8E2CCF2E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8953BD2-E232-4BE8-BAF1-E49B3247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B175CA8-5F7A-4B6F-BC2F-E48791A3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6A3690F-C677-405D-A4F4-E3C2F63F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63D04F8-0B7B-484D-A068-CD89D3EC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6EA8BDE-08FE-4AE0-9146-12B71188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892880A-AB0B-4D58-B448-CA959B7A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EDC81D1-08CD-4411-8587-02BD97A5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5486178-E076-4F42-B19F-5915AEE7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072A273-6DA6-49A7-9794-84B48A17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4A5C154-82C5-4956-9739-BA6DD895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DDC78-62C0-40BB-A226-058A8EEE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666CB82-DCC0-435A-8B3C-D0AC3175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0619B7E4-910F-4ED2-893F-67B24DF1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FACF5DB-E7A1-4B8E-A5B4-17EB54F0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450992D-B6DC-4634-BEBE-6C437D60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AD5B0AB-6886-4093-9CBA-3ADC6BB2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29645C3-854C-41EB-BB2E-B0528F83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7D99668-504D-4157-8340-D00BC02A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E6E2A06-9BBF-41B2-ADEE-57347F62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D115E3C-0F70-4CB1-90AD-7A17BEEA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A8311D6-F1C1-42C8-B549-BB55E8F6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4A165-C5FE-4BD3-825F-5A08889C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FAF40E1E-19EC-4D69-9CA6-14613402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42DF4B4-2FD2-4275-8CF3-2DBC95A4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9F833E7-7DAE-44B2-8725-AF953EB1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150A242-CDB9-46FA-8E1C-758CECDB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479D90E-BF56-40A4-BEDA-36EB9D87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072A865A-103E-4BCD-AF40-65A276B9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A51C2B6-43CA-4EDE-9AB6-76860867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633888A-2F6A-4746-B8FA-85C042FE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754D47A-67C4-48F5-B53F-C3CF21CE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ED9346D-B3ED-4576-8D4A-7CCA1E2A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1C83E-B509-4009-90DF-772AAC27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6207F3F-6CD8-4019-8CDD-1F6DD122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044ED701-1FB8-4613-AE8B-D7B6EA3C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5D78E50-9A1B-4259-B553-406166B7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02E13ED3-040A-4380-A33D-B731D18B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BF0302E-AC07-44BD-86BA-4A3FC788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FE1DC0B-4840-45CF-AC24-3FEE11F6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9A27441-9A69-45D2-A06B-C1536BDB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6B875CE-F87D-4CE0-B957-C962839B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8AD8B95-0546-414B-BA06-A2B60B5C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46F7E91-AA90-4396-9F11-BA6A1FB8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slideLayout" Target="../slideLayouts/slideLayout1309.xml"/><Relationship Id="rId3" Type="http://schemas.openxmlformats.org/officeDocument/2006/relationships/slideLayout" Target="../slideLayouts/slideLayout1310.xml"/><Relationship Id="rId4" Type="http://schemas.openxmlformats.org/officeDocument/2006/relationships/slideLayout" Target="../slideLayouts/slideLayout1311.xml"/><Relationship Id="rId5" Type="http://schemas.openxmlformats.org/officeDocument/2006/relationships/slideLayout" Target="../slideLayouts/slideLayout1312.xml"/><Relationship Id="rId6" Type="http://schemas.openxmlformats.org/officeDocument/2006/relationships/slideLayout" Target="../slideLayouts/slideLayout1313.xml"/><Relationship Id="rId7" Type="http://schemas.openxmlformats.org/officeDocument/2006/relationships/slideLayout" Target="../slideLayouts/slideLayout1314.xml"/><Relationship Id="rId8" Type="http://schemas.openxmlformats.org/officeDocument/2006/relationships/slideLayout" Target="../slideLayouts/slideLayout1315.xml"/><Relationship Id="rId9" Type="http://schemas.openxmlformats.org/officeDocument/2006/relationships/slideLayout" Target="../slideLayouts/slideLayout1316.xml"/><Relationship Id="rId10" Type="http://schemas.openxmlformats.org/officeDocument/2006/relationships/slideLayout" Target="../slideLayouts/slideLayout1317.xml"/><Relationship Id="rId11" Type="http://schemas.openxmlformats.org/officeDocument/2006/relationships/slideLayout" Target="../slideLayouts/slideLayout1318.xml"/><Relationship Id="rId12" Type="http://schemas.openxmlformats.org/officeDocument/2006/relationships/slideLayout" Target="../slideLayouts/slideLayout1319.xml"/><Relationship Id="rId13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slideLayout" Target="../slideLayouts/slideLayout1321.xml"/><Relationship Id="rId3" Type="http://schemas.openxmlformats.org/officeDocument/2006/relationships/slideLayout" Target="../slideLayouts/slideLayout1322.xml"/><Relationship Id="rId4" Type="http://schemas.openxmlformats.org/officeDocument/2006/relationships/slideLayout" Target="../slideLayouts/slideLayout1323.xml"/><Relationship Id="rId5" Type="http://schemas.openxmlformats.org/officeDocument/2006/relationships/slideLayout" Target="../slideLayouts/slideLayout1324.xml"/><Relationship Id="rId6" Type="http://schemas.openxmlformats.org/officeDocument/2006/relationships/slideLayout" Target="../slideLayouts/slideLayout1325.xml"/><Relationship Id="rId7" Type="http://schemas.openxmlformats.org/officeDocument/2006/relationships/slideLayout" Target="../slideLayouts/slideLayout1326.xml"/><Relationship Id="rId8" Type="http://schemas.openxmlformats.org/officeDocument/2006/relationships/slideLayout" Target="../slideLayouts/slideLayout1327.xml"/><Relationship Id="rId9" Type="http://schemas.openxmlformats.org/officeDocument/2006/relationships/slideLayout" Target="../slideLayouts/slideLayout1328.xml"/><Relationship Id="rId10" Type="http://schemas.openxmlformats.org/officeDocument/2006/relationships/slideLayout" Target="../slideLayouts/slideLayout1329.xml"/><Relationship Id="rId11" Type="http://schemas.openxmlformats.org/officeDocument/2006/relationships/slideLayout" Target="../slideLayouts/slideLayout1330.xml"/><Relationship Id="rId12" Type="http://schemas.openxmlformats.org/officeDocument/2006/relationships/slideLayout" Target="../slideLayouts/slideLayout1331.xml"/><Relationship Id="rId13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slideLayout" Target="../slideLayouts/slideLayout1333.xml"/><Relationship Id="rId3" Type="http://schemas.openxmlformats.org/officeDocument/2006/relationships/slideLayout" Target="../slideLayouts/slideLayout1334.xml"/><Relationship Id="rId4" Type="http://schemas.openxmlformats.org/officeDocument/2006/relationships/slideLayout" Target="../slideLayouts/slideLayout1335.xml"/><Relationship Id="rId5" Type="http://schemas.openxmlformats.org/officeDocument/2006/relationships/slideLayout" Target="../slideLayouts/slideLayout1336.xml"/><Relationship Id="rId6" Type="http://schemas.openxmlformats.org/officeDocument/2006/relationships/slideLayout" Target="../slideLayouts/slideLayout1337.xml"/><Relationship Id="rId7" Type="http://schemas.openxmlformats.org/officeDocument/2006/relationships/slideLayout" Target="../slideLayouts/slideLayout1338.xml"/><Relationship Id="rId8" Type="http://schemas.openxmlformats.org/officeDocument/2006/relationships/slideLayout" Target="../slideLayouts/slideLayout1339.xml"/><Relationship Id="rId9" Type="http://schemas.openxmlformats.org/officeDocument/2006/relationships/slideLayout" Target="../slideLayouts/slideLayout1340.xml"/><Relationship Id="rId10" Type="http://schemas.openxmlformats.org/officeDocument/2006/relationships/slideLayout" Target="../slideLayouts/slideLayout1341.xml"/><Relationship Id="rId11" Type="http://schemas.openxmlformats.org/officeDocument/2006/relationships/slideLayout" Target="../slideLayouts/slideLayout1342.xml"/><Relationship Id="rId12" Type="http://schemas.openxmlformats.org/officeDocument/2006/relationships/slideLayout" Target="../slideLayouts/slideLayout1343.xml"/><Relationship Id="rId13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slideLayout" Target="../slideLayouts/slideLayout1345.xml"/><Relationship Id="rId3" Type="http://schemas.openxmlformats.org/officeDocument/2006/relationships/slideLayout" Target="../slideLayouts/slideLayout1346.xml"/><Relationship Id="rId4" Type="http://schemas.openxmlformats.org/officeDocument/2006/relationships/slideLayout" Target="../slideLayouts/slideLayout1347.xml"/><Relationship Id="rId5" Type="http://schemas.openxmlformats.org/officeDocument/2006/relationships/slideLayout" Target="../slideLayouts/slideLayout1348.xml"/><Relationship Id="rId6" Type="http://schemas.openxmlformats.org/officeDocument/2006/relationships/slideLayout" Target="../slideLayouts/slideLayout1349.xml"/><Relationship Id="rId7" Type="http://schemas.openxmlformats.org/officeDocument/2006/relationships/slideLayout" Target="../slideLayouts/slideLayout1350.xml"/><Relationship Id="rId8" Type="http://schemas.openxmlformats.org/officeDocument/2006/relationships/slideLayout" Target="../slideLayouts/slideLayout1351.xml"/><Relationship Id="rId9" Type="http://schemas.openxmlformats.org/officeDocument/2006/relationships/slideLayout" Target="../slideLayouts/slideLayout1352.xml"/><Relationship Id="rId10" Type="http://schemas.openxmlformats.org/officeDocument/2006/relationships/slideLayout" Target="../slideLayouts/slideLayout1353.xml"/><Relationship Id="rId11" Type="http://schemas.openxmlformats.org/officeDocument/2006/relationships/slideLayout" Target="../slideLayouts/slideLayout1354.xml"/><Relationship Id="rId12" Type="http://schemas.openxmlformats.org/officeDocument/2006/relationships/slideLayout" Target="../slideLayouts/slideLayout1355.xml"/><Relationship Id="rId13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slideLayout" Target="../slideLayouts/slideLayout1369.xml"/><Relationship Id="rId3" Type="http://schemas.openxmlformats.org/officeDocument/2006/relationships/slideLayout" Target="../slideLayouts/slideLayout1370.xml"/><Relationship Id="rId4" Type="http://schemas.openxmlformats.org/officeDocument/2006/relationships/slideLayout" Target="../slideLayouts/slideLayout1371.xml"/><Relationship Id="rId5" Type="http://schemas.openxmlformats.org/officeDocument/2006/relationships/slideLayout" Target="../slideLayouts/slideLayout1372.xml"/><Relationship Id="rId6" Type="http://schemas.openxmlformats.org/officeDocument/2006/relationships/slideLayout" Target="../slideLayouts/slideLayout1373.xml"/><Relationship Id="rId7" Type="http://schemas.openxmlformats.org/officeDocument/2006/relationships/slideLayout" Target="../slideLayouts/slideLayout1374.xml"/><Relationship Id="rId8" Type="http://schemas.openxmlformats.org/officeDocument/2006/relationships/slideLayout" Target="../slideLayouts/slideLayout1375.xml"/><Relationship Id="rId9" Type="http://schemas.openxmlformats.org/officeDocument/2006/relationships/slideLayout" Target="../slideLayouts/slideLayout1376.xml"/><Relationship Id="rId10" Type="http://schemas.openxmlformats.org/officeDocument/2006/relationships/slideLayout" Target="../slideLayouts/slideLayout1377.xml"/><Relationship Id="rId11" Type="http://schemas.openxmlformats.org/officeDocument/2006/relationships/slideLayout" Target="../slideLayouts/slideLayout1378.xml"/><Relationship Id="rId12" Type="http://schemas.openxmlformats.org/officeDocument/2006/relationships/slideLayout" Target="../slideLayouts/slideLayout1379.xml"/><Relationship Id="rId13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slideLayout" Target="../slideLayouts/slideLayout1381.xml"/><Relationship Id="rId3" Type="http://schemas.openxmlformats.org/officeDocument/2006/relationships/slideLayout" Target="../slideLayouts/slideLayout1382.xml"/><Relationship Id="rId4" Type="http://schemas.openxmlformats.org/officeDocument/2006/relationships/slideLayout" Target="../slideLayouts/slideLayout1383.xml"/><Relationship Id="rId5" Type="http://schemas.openxmlformats.org/officeDocument/2006/relationships/slideLayout" Target="../slideLayouts/slideLayout1384.xml"/><Relationship Id="rId6" Type="http://schemas.openxmlformats.org/officeDocument/2006/relationships/slideLayout" Target="../slideLayouts/slideLayout1385.xml"/><Relationship Id="rId7" Type="http://schemas.openxmlformats.org/officeDocument/2006/relationships/slideLayout" Target="../slideLayouts/slideLayout1386.xml"/><Relationship Id="rId8" Type="http://schemas.openxmlformats.org/officeDocument/2006/relationships/slideLayout" Target="../slideLayouts/slideLayout1387.xml"/><Relationship Id="rId9" Type="http://schemas.openxmlformats.org/officeDocument/2006/relationships/slideLayout" Target="../slideLayouts/slideLayout1388.xml"/><Relationship Id="rId10" Type="http://schemas.openxmlformats.org/officeDocument/2006/relationships/slideLayout" Target="../slideLayouts/slideLayout1389.xml"/><Relationship Id="rId11" Type="http://schemas.openxmlformats.org/officeDocument/2006/relationships/slideLayout" Target="../slideLayouts/slideLayout1390.xml"/><Relationship Id="rId12" Type="http://schemas.openxmlformats.org/officeDocument/2006/relationships/slideLayout" Target="../slideLayouts/slideLayout1391.xml"/><Relationship Id="rId13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slideLayout" Target="../slideLayouts/slideLayout1393.xml"/><Relationship Id="rId3" Type="http://schemas.openxmlformats.org/officeDocument/2006/relationships/slideLayout" Target="../slideLayouts/slideLayout1394.xml"/><Relationship Id="rId4" Type="http://schemas.openxmlformats.org/officeDocument/2006/relationships/slideLayout" Target="../slideLayouts/slideLayout1395.xml"/><Relationship Id="rId5" Type="http://schemas.openxmlformats.org/officeDocument/2006/relationships/slideLayout" Target="../slideLayouts/slideLayout1396.xml"/><Relationship Id="rId6" Type="http://schemas.openxmlformats.org/officeDocument/2006/relationships/slideLayout" Target="../slideLayouts/slideLayout1397.xml"/><Relationship Id="rId7" Type="http://schemas.openxmlformats.org/officeDocument/2006/relationships/slideLayout" Target="../slideLayouts/slideLayout1398.xml"/><Relationship Id="rId8" Type="http://schemas.openxmlformats.org/officeDocument/2006/relationships/slideLayout" Target="../slideLayouts/slideLayout1399.xml"/><Relationship Id="rId9" Type="http://schemas.openxmlformats.org/officeDocument/2006/relationships/slideLayout" Target="../slideLayouts/slideLayout1400.xml"/><Relationship Id="rId10" Type="http://schemas.openxmlformats.org/officeDocument/2006/relationships/slideLayout" Target="../slideLayouts/slideLayout1401.xml"/><Relationship Id="rId11" Type="http://schemas.openxmlformats.org/officeDocument/2006/relationships/slideLayout" Target="../slideLayouts/slideLayout1402.xml"/><Relationship Id="rId12" Type="http://schemas.openxmlformats.org/officeDocument/2006/relationships/slideLayout" Target="../slideLayouts/slideLayout1403.xml"/><Relationship Id="rId13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slideLayout" Target="../slideLayouts/slideLayout1405.xml"/><Relationship Id="rId3" Type="http://schemas.openxmlformats.org/officeDocument/2006/relationships/slideLayout" Target="../slideLayouts/slideLayout1406.xml"/><Relationship Id="rId4" Type="http://schemas.openxmlformats.org/officeDocument/2006/relationships/slideLayout" Target="../slideLayouts/slideLayout1407.xml"/><Relationship Id="rId5" Type="http://schemas.openxmlformats.org/officeDocument/2006/relationships/slideLayout" Target="../slideLayouts/slideLayout1408.xml"/><Relationship Id="rId6" Type="http://schemas.openxmlformats.org/officeDocument/2006/relationships/slideLayout" Target="../slideLayouts/slideLayout1409.xml"/><Relationship Id="rId7" Type="http://schemas.openxmlformats.org/officeDocument/2006/relationships/slideLayout" Target="../slideLayouts/slideLayout1410.xml"/><Relationship Id="rId8" Type="http://schemas.openxmlformats.org/officeDocument/2006/relationships/slideLayout" Target="../slideLayouts/slideLayout1411.xml"/><Relationship Id="rId9" Type="http://schemas.openxmlformats.org/officeDocument/2006/relationships/slideLayout" Target="../slideLayouts/slideLayout1412.xml"/><Relationship Id="rId10" Type="http://schemas.openxmlformats.org/officeDocument/2006/relationships/slideLayout" Target="../slideLayouts/slideLayout1413.xml"/><Relationship Id="rId11" Type="http://schemas.openxmlformats.org/officeDocument/2006/relationships/slideLayout" Target="../slideLayouts/slideLayout1414.xml"/><Relationship Id="rId12" Type="http://schemas.openxmlformats.org/officeDocument/2006/relationships/slideLayout" Target="../slideLayouts/slideLayout1415.xml"/><Relationship Id="rId13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slideLayout" Target="../slideLayouts/slideLayout1417.xml"/><Relationship Id="rId3" Type="http://schemas.openxmlformats.org/officeDocument/2006/relationships/slideLayout" Target="../slideLayouts/slideLayout1418.xml"/><Relationship Id="rId4" Type="http://schemas.openxmlformats.org/officeDocument/2006/relationships/slideLayout" Target="../slideLayouts/slideLayout1419.xml"/><Relationship Id="rId5" Type="http://schemas.openxmlformats.org/officeDocument/2006/relationships/slideLayout" Target="../slideLayouts/slideLayout1420.xml"/><Relationship Id="rId6" Type="http://schemas.openxmlformats.org/officeDocument/2006/relationships/slideLayout" Target="../slideLayouts/slideLayout1421.xml"/><Relationship Id="rId7" Type="http://schemas.openxmlformats.org/officeDocument/2006/relationships/slideLayout" Target="../slideLayouts/slideLayout1422.xml"/><Relationship Id="rId8" Type="http://schemas.openxmlformats.org/officeDocument/2006/relationships/slideLayout" Target="../slideLayouts/slideLayout1423.xml"/><Relationship Id="rId9" Type="http://schemas.openxmlformats.org/officeDocument/2006/relationships/slideLayout" Target="../slideLayouts/slideLayout1424.xml"/><Relationship Id="rId10" Type="http://schemas.openxmlformats.org/officeDocument/2006/relationships/slideLayout" Target="../slideLayouts/slideLayout1425.xml"/><Relationship Id="rId11" Type="http://schemas.openxmlformats.org/officeDocument/2006/relationships/slideLayout" Target="../slideLayouts/slideLayout1426.xml"/><Relationship Id="rId12" Type="http://schemas.openxmlformats.org/officeDocument/2006/relationships/slideLayout" Target="../slideLayouts/slideLayout1427.xml"/><Relationship Id="rId13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slideLayout" Target="../slideLayouts/slideLayout1429.xml"/><Relationship Id="rId3" Type="http://schemas.openxmlformats.org/officeDocument/2006/relationships/slideLayout" Target="../slideLayouts/slideLayout1430.xml"/><Relationship Id="rId4" Type="http://schemas.openxmlformats.org/officeDocument/2006/relationships/slideLayout" Target="../slideLayouts/slideLayout1431.xml"/><Relationship Id="rId5" Type="http://schemas.openxmlformats.org/officeDocument/2006/relationships/slideLayout" Target="../slideLayouts/slideLayout1432.xml"/><Relationship Id="rId6" Type="http://schemas.openxmlformats.org/officeDocument/2006/relationships/slideLayout" Target="../slideLayouts/slideLayout1433.xml"/><Relationship Id="rId7" Type="http://schemas.openxmlformats.org/officeDocument/2006/relationships/slideLayout" Target="../slideLayouts/slideLayout1434.xml"/><Relationship Id="rId8" Type="http://schemas.openxmlformats.org/officeDocument/2006/relationships/slideLayout" Target="../slideLayouts/slideLayout1435.xml"/><Relationship Id="rId9" Type="http://schemas.openxmlformats.org/officeDocument/2006/relationships/slideLayout" Target="../slideLayouts/slideLayout1436.xml"/><Relationship Id="rId10" Type="http://schemas.openxmlformats.org/officeDocument/2006/relationships/slideLayout" Target="../slideLayouts/slideLayout1437.xml"/><Relationship Id="rId11" Type="http://schemas.openxmlformats.org/officeDocument/2006/relationships/slideLayout" Target="../slideLayouts/slideLayout1438.xml"/><Relationship Id="rId12" Type="http://schemas.openxmlformats.org/officeDocument/2006/relationships/slideLayout" Target="../slideLayouts/slideLayout1439.xml"/><Relationship Id="rId13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slideLayout" Target="../slideLayouts/slideLayout1441.xml"/><Relationship Id="rId3" Type="http://schemas.openxmlformats.org/officeDocument/2006/relationships/slideLayout" Target="../slideLayouts/slideLayout1442.xml"/><Relationship Id="rId4" Type="http://schemas.openxmlformats.org/officeDocument/2006/relationships/slideLayout" Target="../slideLayouts/slideLayout1443.xml"/><Relationship Id="rId5" Type="http://schemas.openxmlformats.org/officeDocument/2006/relationships/slideLayout" Target="../slideLayouts/slideLayout1444.xml"/><Relationship Id="rId6" Type="http://schemas.openxmlformats.org/officeDocument/2006/relationships/slideLayout" Target="../slideLayouts/slideLayout1445.xml"/><Relationship Id="rId7" Type="http://schemas.openxmlformats.org/officeDocument/2006/relationships/slideLayout" Target="../slideLayouts/slideLayout1446.xml"/><Relationship Id="rId8" Type="http://schemas.openxmlformats.org/officeDocument/2006/relationships/slideLayout" Target="../slideLayouts/slideLayout1447.xml"/><Relationship Id="rId9" Type="http://schemas.openxmlformats.org/officeDocument/2006/relationships/slideLayout" Target="../slideLayouts/slideLayout1448.xml"/><Relationship Id="rId10" Type="http://schemas.openxmlformats.org/officeDocument/2006/relationships/slideLayout" Target="../slideLayouts/slideLayout1449.xml"/><Relationship Id="rId11" Type="http://schemas.openxmlformats.org/officeDocument/2006/relationships/slideLayout" Target="../slideLayouts/slideLayout1450.xml"/><Relationship Id="rId12" Type="http://schemas.openxmlformats.org/officeDocument/2006/relationships/slideLayout" Target="../slideLayouts/slideLayout1451.xml"/><Relationship Id="rId13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slideLayout" Target="../slideLayouts/slideLayout1453.xml"/><Relationship Id="rId3" Type="http://schemas.openxmlformats.org/officeDocument/2006/relationships/slideLayout" Target="../slideLayouts/slideLayout1454.xml"/><Relationship Id="rId4" Type="http://schemas.openxmlformats.org/officeDocument/2006/relationships/slideLayout" Target="../slideLayouts/slideLayout1455.xml"/><Relationship Id="rId5" Type="http://schemas.openxmlformats.org/officeDocument/2006/relationships/slideLayout" Target="../slideLayouts/slideLayout1456.xml"/><Relationship Id="rId6" Type="http://schemas.openxmlformats.org/officeDocument/2006/relationships/slideLayout" Target="../slideLayouts/slideLayout1457.xml"/><Relationship Id="rId7" Type="http://schemas.openxmlformats.org/officeDocument/2006/relationships/slideLayout" Target="../slideLayouts/slideLayout1458.xml"/><Relationship Id="rId8" Type="http://schemas.openxmlformats.org/officeDocument/2006/relationships/slideLayout" Target="../slideLayouts/slideLayout1459.xml"/><Relationship Id="rId9" Type="http://schemas.openxmlformats.org/officeDocument/2006/relationships/slideLayout" Target="../slideLayouts/slideLayout1460.xml"/><Relationship Id="rId10" Type="http://schemas.openxmlformats.org/officeDocument/2006/relationships/slideLayout" Target="../slideLayouts/slideLayout1461.xml"/><Relationship Id="rId11" Type="http://schemas.openxmlformats.org/officeDocument/2006/relationships/slideLayout" Target="../slideLayouts/slideLayout1462.xml"/><Relationship Id="rId12" Type="http://schemas.openxmlformats.org/officeDocument/2006/relationships/slideLayout" Target="../slideLayouts/slideLayout1463.xml"/><Relationship Id="rId13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slideLayout" Target="../slideLayouts/slideLayout1465.xml"/><Relationship Id="rId3" Type="http://schemas.openxmlformats.org/officeDocument/2006/relationships/slideLayout" Target="../slideLayouts/slideLayout1466.xml"/><Relationship Id="rId4" Type="http://schemas.openxmlformats.org/officeDocument/2006/relationships/slideLayout" Target="../slideLayouts/slideLayout1467.xml"/><Relationship Id="rId5" Type="http://schemas.openxmlformats.org/officeDocument/2006/relationships/slideLayout" Target="../slideLayouts/slideLayout1468.xml"/><Relationship Id="rId6" Type="http://schemas.openxmlformats.org/officeDocument/2006/relationships/slideLayout" Target="../slideLayouts/slideLayout1469.xml"/><Relationship Id="rId7" Type="http://schemas.openxmlformats.org/officeDocument/2006/relationships/slideLayout" Target="../slideLayouts/slideLayout1470.xml"/><Relationship Id="rId8" Type="http://schemas.openxmlformats.org/officeDocument/2006/relationships/slideLayout" Target="../slideLayouts/slideLayout1471.xml"/><Relationship Id="rId9" Type="http://schemas.openxmlformats.org/officeDocument/2006/relationships/slideLayout" Target="../slideLayouts/slideLayout1472.xml"/><Relationship Id="rId10" Type="http://schemas.openxmlformats.org/officeDocument/2006/relationships/slideLayout" Target="../slideLayouts/slideLayout1473.xml"/><Relationship Id="rId11" Type="http://schemas.openxmlformats.org/officeDocument/2006/relationships/slideLayout" Target="../slideLayouts/slideLayout1474.xml"/><Relationship Id="rId12" Type="http://schemas.openxmlformats.org/officeDocument/2006/relationships/slideLayout" Target="../slideLayouts/slideLayout1475.xml"/><Relationship Id="rId13" Type="http://schemas.openxmlformats.org/officeDocument/2006/relationships/slideLayout" Target="../slideLayouts/slideLayout1476.xml"/>
</Relationships>
</file>

<file path=ppt/slideMasters/_rels/slideMaster124.xml.rels><?xml version="1.0" encoding="UTF-8"?>
<Relationships xmlns="http://schemas.openxmlformats.org/package/2006/relationships"><Relationship Id="rId1" Type="http://schemas.openxmlformats.org/officeDocument/2006/relationships/theme" Target="../theme/theme124.xml"/><Relationship Id="rId2" Type="http://schemas.openxmlformats.org/officeDocument/2006/relationships/slideLayout" Target="../slideLayouts/slideLayout1477.xml"/><Relationship Id="rId3" Type="http://schemas.openxmlformats.org/officeDocument/2006/relationships/slideLayout" Target="../slideLayouts/slideLayout1478.xml"/><Relationship Id="rId4" Type="http://schemas.openxmlformats.org/officeDocument/2006/relationships/slideLayout" Target="../slideLayouts/slideLayout1479.xml"/><Relationship Id="rId5" Type="http://schemas.openxmlformats.org/officeDocument/2006/relationships/slideLayout" Target="../slideLayouts/slideLayout1480.xml"/><Relationship Id="rId6" Type="http://schemas.openxmlformats.org/officeDocument/2006/relationships/slideLayout" Target="../slideLayouts/slideLayout1481.xml"/><Relationship Id="rId7" Type="http://schemas.openxmlformats.org/officeDocument/2006/relationships/slideLayout" Target="../slideLayouts/slideLayout1482.xml"/><Relationship Id="rId8" Type="http://schemas.openxmlformats.org/officeDocument/2006/relationships/slideLayout" Target="../slideLayouts/slideLayout1483.xml"/><Relationship Id="rId9" Type="http://schemas.openxmlformats.org/officeDocument/2006/relationships/slideLayout" Target="../slideLayouts/slideLayout1484.xml"/><Relationship Id="rId10" Type="http://schemas.openxmlformats.org/officeDocument/2006/relationships/slideLayout" Target="../slideLayouts/slideLayout1485.xml"/><Relationship Id="rId11" Type="http://schemas.openxmlformats.org/officeDocument/2006/relationships/slideLayout" Target="../slideLayouts/slideLayout1486.xml"/><Relationship Id="rId12" Type="http://schemas.openxmlformats.org/officeDocument/2006/relationships/slideLayout" Target="../slideLayouts/slideLayout1487.xml"/><Relationship Id="rId13" Type="http://schemas.openxmlformats.org/officeDocument/2006/relationships/slideLayout" Target="../slideLayouts/slideLayout1488.xml"/>
</Relationships>
</file>

<file path=ppt/slideMasters/_rels/slideMaster125.xml.rels><?xml version="1.0" encoding="UTF-8"?>
<Relationships xmlns="http://schemas.openxmlformats.org/package/2006/relationships"><Relationship Id="rId1" Type="http://schemas.openxmlformats.org/officeDocument/2006/relationships/theme" Target="../theme/theme125.xml"/><Relationship Id="rId2" Type="http://schemas.openxmlformats.org/officeDocument/2006/relationships/slideLayout" Target="../slideLayouts/slideLayout1489.xml"/><Relationship Id="rId3" Type="http://schemas.openxmlformats.org/officeDocument/2006/relationships/slideLayout" Target="../slideLayouts/slideLayout1490.xml"/><Relationship Id="rId4" Type="http://schemas.openxmlformats.org/officeDocument/2006/relationships/slideLayout" Target="../slideLayouts/slideLayout1491.xml"/><Relationship Id="rId5" Type="http://schemas.openxmlformats.org/officeDocument/2006/relationships/slideLayout" Target="../slideLayouts/slideLayout1492.xml"/><Relationship Id="rId6" Type="http://schemas.openxmlformats.org/officeDocument/2006/relationships/slideLayout" Target="../slideLayouts/slideLayout1493.xml"/><Relationship Id="rId7" Type="http://schemas.openxmlformats.org/officeDocument/2006/relationships/slideLayout" Target="../slideLayouts/slideLayout1494.xml"/><Relationship Id="rId8" Type="http://schemas.openxmlformats.org/officeDocument/2006/relationships/slideLayout" Target="../slideLayouts/slideLayout1495.xml"/><Relationship Id="rId9" Type="http://schemas.openxmlformats.org/officeDocument/2006/relationships/slideLayout" Target="../slideLayouts/slideLayout1496.xml"/><Relationship Id="rId10" Type="http://schemas.openxmlformats.org/officeDocument/2006/relationships/slideLayout" Target="../slideLayouts/slideLayout1497.xml"/><Relationship Id="rId11" Type="http://schemas.openxmlformats.org/officeDocument/2006/relationships/slideLayout" Target="../slideLayouts/slideLayout1498.xml"/><Relationship Id="rId12" Type="http://schemas.openxmlformats.org/officeDocument/2006/relationships/slideLayout" Target="../slideLayouts/slideLayout1499.xml"/><Relationship Id="rId13" Type="http://schemas.openxmlformats.org/officeDocument/2006/relationships/slideLayout" Target="../slideLayouts/slideLayout1500.xml"/>
</Relationships>
</file>

<file path=ppt/slideMasters/_rels/slideMaster126.xml.rels><?xml version="1.0" encoding="UTF-8"?>
<Relationships xmlns="http://schemas.openxmlformats.org/package/2006/relationships"><Relationship Id="rId1" Type="http://schemas.openxmlformats.org/officeDocument/2006/relationships/theme" Target="../theme/theme126.xml"/><Relationship Id="rId2" Type="http://schemas.openxmlformats.org/officeDocument/2006/relationships/slideLayout" Target="../slideLayouts/slideLayout1501.xml"/><Relationship Id="rId3" Type="http://schemas.openxmlformats.org/officeDocument/2006/relationships/slideLayout" Target="../slideLayouts/slideLayout1502.xml"/><Relationship Id="rId4" Type="http://schemas.openxmlformats.org/officeDocument/2006/relationships/slideLayout" Target="../slideLayouts/slideLayout1503.xml"/><Relationship Id="rId5" Type="http://schemas.openxmlformats.org/officeDocument/2006/relationships/slideLayout" Target="../slideLayouts/slideLayout1504.xml"/><Relationship Id="rId6" Type="http://schemas.openxmlformats.org/officeDocument/2006/relationships/slideLayout" Target="../slideLayouts/slideLayout1505.xml"/><Relationship Id="rId7" Type="http://schemas.openxmlformats.org/officeDocument/2006/relationships/slideLayout" Target="../slideLayouts/slideLayout1506.xml"/><Relationship Id="rId8" Type="http://schemas.openxmlformats.org/officeDocument/2006/relationships/slideLayout" Target="../slideLayouts/slideLayout1507.xml"/><Relationship Id="rId9" Type="http://schemas.openxmlformats.org/officeDocument/2006/relationships/slideLayout" Target="../slideLayouts/slideLayout1508.xml"/><Relationship Id="rId10" Type="http://schemas.openxmlformats.org/officeDocument/2006/relationships/slideLayout" Target="../slideLayouts/slideLayout1509.xml"/><Relationship Id="rId11" Type="http://schemas.openxmlformats.org/officeDocument/2006/relationships/slideLayout" Target="../slideLayouts/slideLayout1510.xml"/><Relationship Id="rId12" Type="http://schemas.openxmlformats.org/officeDocument/2006/relationships/slideLayout" Target="../slideLayouts/slideLayout1511.xml"/><Relationship Id="rId13" Type="http://schemas.openxmlformats.org/officeDocument/2006/relationships/slideLayout" Target="../slideLayouts/slideLayout1512.xml"/>
</Relationships>
</file>

<file path=ppt/slideMasters/_rels/slideMaster127.xml.rels><?xml version="1.0" encoding="UTF-8"?>
<Relationships xmlns="http://schemas.openxmlformats.org/package/2006/relationships"><Relationship Id="rId1" Type="http://schemas.openxmlformats.org/officeDocument/2006/relationships/theme" Target="../theme/theme127.xml"/><Relationship Id="rId2" Type="http://schemas.openxmlformats.org/officeDocument/2006/relationships/slideLayout" Target="../slideLayouts/slideLayout1513.xml"/><Relationship Id="rId3" Type="http://schemas.openxmlformats.org/officeDocument/2006/relationships/slideLayout" Target="../slideLayouts/slideLayout1514.xml"/><Relationship Id="rId4" Type="http://schemas.openxmlformats.org/officeDocument/2006/relationships/slideLayout" Target="../slideLayouts/slideLayout1515.xml"/><Relationship Id="rId5" Type="http://schemas.openxmlformats.org/officeDocument/2006/relationships/slideLayout" Target="../slideLayouts/slideLayout1516.xml"/><Relationship Id="rId6" Type="http://schemas.openxmlformats.org/officeDocument/2006/relationships/slideLayout" Target="../slideLayouts/slideLayout1517.xml"/><Relationship Id="rId7" Type="http://schemas.openxmlformats.org/officeDocument/2006/relationships/slideLayout" Target="../slideLayouts/slideLayout1518.xml"/><Relationship Id="rId8" Type="http://schemas.openxmlformats.org/officeDocument/2006/relationships/slideLayout" Target="../slideLayouts/slideLayout1519.xml"/><Relationship Id="rId9" Type="http://schemas.openxmlformats.org/officeDocument/2006/relationships/slideLayout" Target="../slideLayouts/slideLayout1520.xml"/><Relationship Id="rId10" Type="http://schemas.openxmlformats.org/officeDocument/2006/relationships/slideLayout" Target="../slideLayouts/slideLayout1521.xml"/><Relationship Id="rId11" Type="http://schemas.openxmlformats.org/officeDocument/2006/relationships/slideLayout" Target="../slideLayouts/slideLayout1522.xml"/><Relationship Id="rId12" Type="http://schemas.openxmlformats.org/officeDocument/2006/relationships/slideLayout" Target="../slideLayouts/slideLayout1523.xml"/><Relationship Id="rId13" Type="http://schemas.openxmlformats.org/officeDocument/2006/relationships/slideLayout" Target="../slideLayouts/slideLayout1524.xml"/>
</Relationships>
</file>

<file path=ppt/slideMasters/_rels/slideMaster128.xml.rels><?xml version="1.0" encoding="UTF-8"?>
<Relationships xmlns="http://schemas.openxmlformats.org/package/2006/relationships"><Relationship Id="rId1" Type="http://schemas.openxmlformats.org/officeDocument/2006/relationships/theme" Target="../theme/theme128.xml"/><Relationship Id="rId2" Type="http://schemas.openxmlformats.org/officeDocument/2006/relationships/slideLayout" Target="../slideLayouts/slideLayout1525.xml"/><Relationship Id="rId3" Type="http://schemas.openxmlformats.org/officeDocument/2006/relationships/slideLayout" Target="../slideLayouts/slideLayout1526.xml"/><Relationship Id="rId4" Type="http://schemas.openxmlformats.org/officeDocument/2006/relationships/slideLayout" Target="../slideLayouts/slideLayout1527.xml"/><Relationship Id="rId5" Type="http://schemas.openxmlformats.org/officeDocument/2006/relationships/slideLayout" Target="../slideLayouts/slideLayout1528.xml"/><Relationship Id="rId6" Type="http://schemas.openxmlformats.org/officeDocument/2006/relationships/slideLayout" Target="../slideLayouts/slideLayout1529.xml"/><Relationship Id="rId7" Type="http://schemas.openxmlformats.org/officeDocument/2006/relationships/slideLayout" Target="../slideLayouts/slideLayout1530.xml"/><Relationship Id="rId8" Type="http://schemas.openxmlformats.org/officeDocument/2006/relationships/slideLayout" Target="../slideLayouts/slideLayout1531.xml"/><Relationship Id="rId9" Type="http://schemas.openxmlformats.org/officeDocument/2006/relationships/slideLayout" Target="../slideLayouts/slideLayout1532.xml"/><Relationship Id="rId10" Type="http://schemas.openxmlformats.org/officeDocument/2006/relationships/slideLayout" Target="../slideLayouts/slideLayout1533.xml"/><Relationship Id="rId11" Type="http://schemas.openxmlformats.org/officeDocument/2006/relationships/slideLayout" Target="../slideLayouts/slideLayout1534.xml"/><Relationship Id="rId12" Type="http://schemas.openxmlformats.org/officeDocument/2006/relationships/slideLayout" Target="../slideLayouts/slideLayout1535.xml"/><Relationship Id="rId13" Type="http://schemas.openxmlformats.org/officeDocument/2006/relationships/slideLayout" Target="../slideLayouts/slideLayout1536.xml"/>
</Relationships>
</file>

<file path=ppt/slideMasters/_rels/slideMaster129.xml.rels><?xml version="1.0" encoding="UTF-8"?>
<Relationships xmlns="http://schemas.openxmlformats.org/package/2006/relationships"><Relationship Id="rId1" Type="http://schemas.openxmlformats.org/officeDocument/2006/relationships/theme" Target="../theme/theme129.xml"/><Relationship Id="rId2" Type="http://schemas.openxmlformats.org/officeDocument/2006/relationships/slideLayout" Target="../slideLayouts/slideLayout1537.xml"/><Relationship Id="rId3" Type="http://schemas.openxmlformats.org/officeDocument/2006/relationships/slideLayout" Target="../slideLayouts/slideLayout1538.xml"/><Relationship Id="rId4" Type="http://schemas.openxmlformats.org/officeDocument/2006/relationships/slideLayout" Target="../slideLayouts/slideLayout1539.xml"/><Relationship Id="rId5" Type="http://schemas.openxmlformats.org/officeDocument/2006/relationships/slideLayout" Target="../slideLayouts/slideLayout1540.xml"/><Relationship Id="rId6" Type="http://schemas.openxmlformats.org/officeDocument/2006/relationships/slideLayout" Target="../slideLayouts/slideLayout1541.xml"/><Relationship Id="rId7" Type="http://schemas.openxmlformats.org/officeDocument/2006/relationships/slideLayout" Target="../slideLayouts/slideLayout1542.xml"/><Relationship Id="rId8" Type="http://schemas.openxmlformats.org/officeDocument/2006/relationships/slideLayout" Target="../slideLayouts/slideLayout1543.xml"/><Relationship Id="rId9" Type="http://schemas.openxmlformats.org/officeDocument/2006/relationships/slideLayout" Target="../slideLayouts/slideLayout1544.xml"/><Relationship Id="rId10" Type="http://schemas.openxmlformats.org/officeDocument/2006/relationships/slideLayout" Target="../slideLayouts/slideLayout1545.xml"/><Relationship Id="rId11" Type="http://schemas.openxmlformats.org/officeDocument/2006/relationships/slideLayout" Target="../slideLayouts/slideLayout1546.xml"/><Relationship Id="rId12" Type="http://schemas.openxmlformats.org/officeDocument/2006/relationships/slideLayout" Target="../slideLayouts/slideLayout1547.xml"/><Relationship Id="rId13" Type="http://schemas.openxmlformats.org/officeDocument/2006/relationships/slideLayout" Target="../slideLayouts/slideLayout1548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30.xml.rels><?xml version="1.0" encoding="UTF-8"?>
<Relationships xmlns="http://schemas.openxmlformats.org/package/2006/relationships"><Relationship Id="rId1" Type="http://schemas.openxmlformats.org/officeDocument/2006/relationships/theme" Target="../theme/theme130.xml"/><Relationship Id="rId2" Type="http://schemas.openxmlformats.org/officeDocument/2006/relationships/slideLayout" Target="../slideLayouts/slideLayout1549.xml"/><Relationship Id="rId3" Type="http://schemas.openxmlformats.org/officeDocument/2006/relationships/slideLayout" Target="../slideLayouts/slideLayout1550.xml"/><Relationship Id="rId4" Type="http://schemas.openxmlformats.org/officeDocument/2006/relationships/slideLayout" Target="../slideLayouts/slideLayout1551.xml"/><Relationship Id="rId5" Type="http://schemas.openxmlformats.org/officeDocument/2006/relationships/slideLayout" Target="../slideLayouts/slideLayout1552.xml"/><Relationship Id="rId6" Type="http://schemas.openxmlformats.org/officeDocument/2006/relationships/slideLayout" Target="../slideLayouts/slideLayout1553.xml"/><Relationship Id="rId7" Type="http://schemas.openxmlformats.org/officeDocument/2006/relationships/slideLayout" Target="../slideLayouts/slideLayout1554.xml"/><Relationship Id="rId8" Type="http://schemas.openxmlformats.org/officeDocument/2006/relationships/slideLayout" Target="../slideLayouts/slideLayout1555.xml"/><Relationship Id="rId9" Type="http://schemas.openxmlformats.org/officeDocument/2006/relationships/slideLayout" Target="../slideLayouts/slideLayout1556.xml"/><Relationship Id="rId10" Type="http://schemas.openxmlformats.org/officeDocument/2006/relationships/slideLayout" Target="../slideLayouts/slideLayout1557.xml"/><Relationship Id="rId11" Type="http://schemas.openxmlformats.org/officeDocument/2006/relationships/slideLayout" Target="../slideLayouts/slideLayout1558.xml"/><Relationship Id="rId12" Type="http://schemas.openxmlformats.org/officeDocument/2006/relationships/slideLayout" Target="../slideLayouts/slideLayout1559.xml"/><Relationship Id="rId13" Type="http://schemas.openxmlformats.org/officeDocument/2006/relationships/slideLayout" Target="../slideLayouts/slideLayout1560.xml"/>
</Relationships>
</file>

<file path=ppt/slideMasters/_rels/slideMaster131.xml.rels><?xml version="1.0" encoding="UTF-8"?>
<Relationships xmlns="http://schemas.openxmlformats.org/package/2006/relationships"><Relationship Id="rId1" Type="http://schemas.openxmlformats.org/officeDocument/2006/relationships/theme" Target="../theme/theme131.xml"/><Relationship Id="rId2" Type="http://schemas.openxmlformats.org/officeDocument/2006/relationships/slideLayout" Target="../slideLayouts/slideLayout1561.xml"/><Relationship Id="rId3" Type="http://schemas.openxmlformats.org/officeDocument/2006/relationships/slideLayout" Target="../slideLayouts/slideLayout1562.xml"/><Relationship Id="rId4" Type="http://schemas.openxmlformats.org/officeDocument/2006/relationships/slideLayout" Target="../slideLayouts/slideLayout1563.xml"/><Relationship Id="rId5" Type="http://schemas.openxmlformats.org/officeDocument/2006/relationships/slideLayout" Target="../slideLayouts/slideLayout1564.xml"/><Relationship Id="rId6" Type="http://schemas.openxmlformats.org/officeDocument/2006/relationships/slideLayout" Target="../slideLayouts/slideLayout1565.xml"/><Relationship Id="rId7" Type="http://schemas.openxmlformats.org/officeDocument/2006/relationships/slideLayout" Target="../slideLayouts/slideLayout1566.xml"/><Relationship Id="rId8" Type="http://schemas.openxmlformats.org/officeDocument/2006/relationships/slideLayout" Target="../slideLayouts/slideLayout1567.xml"/><Relationship Id="rId9" Type="http://schemas.openxmlformats.org/officeDocument/2006/relationships/slideLayout" Target="../slideLayouts/slideLayout1568.xml"/><Relationship Id="rId10" Type="http://schemas.openxmlformats.org/officeDocument/2006/relationships/slideLayout" Target="../slideLayouts/slideLayout1569.xml"/><Relationship Id="rId11" Type="http://schemas.openxmlformats.org/officeDocument/2006/relationships/slideLayout" Target="../slideLayouts/slideLayout1570.xml"/><Relationship Id="rId12" Type="http://schemas.openxmlformats.org/officeDocument/2006/relationships/slideLayout" Target="../slideLayouts/slideLayout1571.xml"/><Relationship Id="rId13" Type="http://schemas.openxmlformats.org/officeDocument/2006/relationships/slideLayout" Target="../slideLayouts/slideLayout1572.xml"/>
</Relationships>
</file>

<file path=ppt/slideMasters/_rels/slideMaster132.xml.rels><?xml version="1.0" encoding="UTF-8"?>
<Relationships xmlns="http://schemas.openxmlformats.org/package/2006/relationships"><Relationship Id="rId1" Type="http://schemas.openxmlformats.org/officeDocument/2006/relationships/theme" Target="../theme/theme132.xml"/><Relationship Id="rId2" Type="http://schemas.openxmlformats.org/officeDocument/2006/relationships/slideLayout" Target="../slideLayouts/slideLayout1573.xml"/><Relationship Id="rId3" Type="http://schemas.openxmlformats.org/officeDocument/2006/relationships/slideLayout" Target="../slideLayouts/slideLayout1574.xml"/><Relationship Id="rId4" Type="http://schemas.openxmlformats.org/officeDocument/2006/relationships/slideLayout" Target="../slideLayouts/slideLayout1575.xml"/><Relationship Id="rId5" Type="http://schemas.openxmlformats.org/officeDocument/2006/relationships/slideLayout" Target="../slideLayouts/slideLayout1576.xml"/><Relationship Id="rId6" Type="http://schemas.openxmlformats.org/officeDocument/2006/relationships/slideLayout" Target="../slideLayouts/slideLayout1577.xml"/><Relationship Id="rId7" Type="http://schemas.openxmlformats.org/officeDocument/2006/relationships/slideLayout" Target="../slideLayouts/slideLayout1578.xml"/><Relationship Id="rId8" Type="http://schemas.openxmlformats.org/officeDocument/2006/relationships/slideLayout" Target="../slideLayouts/slideLayout1579.xml"/><Relationship Id="rId9" Type="http://schemas.openxmlformats.org/officeDocument/2006/relationships/slideLayout" Target="../slideLayouts/slideLayout1580.xml"/><Relationship Id="rId10" Type="http://schemas.openxmlformats.org/officeDocument/2006/relationships/slideLayout" Target="../slideLayouts/slideLayout1581.xml"/><Relationship Id="rId11" Type="http://schemas.openxmlformats.org/officeDocument/2006/relationships/slideLayout" Target="../slideLayouts/slideLayout1582.xml"/><Relationship Id="rId12" Type="http://schemas.openxmlformats.org/officeDocument/2006/relationships/slideLayout" Target="../slideLayouts/slideLayout1583.xml"/><Relationship Id="rId13" Type="http://schemas.openxmlformats.org/officeDocument/2006/relationships/slideLayout" Target="../slideLayouts/slideLayout1584.xml"/>
</Relationships>
</file>

<file path=ppt/slideMasters/_rels/slideMaster133.xml.rels><?xml version="1.0" encoding="UTF-8"?>
<Relationships xmlns="http://schemas.openxmlformats.org/package/2006/relationships"><Relationship Id="rId1" Type="http://schemas.openxmlformats.org/officeDocument/2006/relationships/theme" Target="../theme/theme133.xml"/><Relationship Id="rId2" Type="http://schemas.openxmlformats.org/officeDocument/2006/relationships/slideLayout" Target="../slideLayouts/slideLayout1585.xml"/><Relationship Id="rId3" Type="http://schemas.openxmlformats.org/officeDocument/2006/relationships/slideLayout" Target="../slideLayouts/slideLayout1586.xml"/><Relationship Id="rId4" Type="http://schemas.openxmlformats.org/officeDocument/2006/relationships/slideLayout" Target="../slideLayouts/slideLayout1587.xml"/><Relationship Id="rId5" Type="http://schemas.openxmlformats.org/officeDocument/2006/relationships/slideLayout" Target="../slideLayouts/slideLayout1588.xml"/><Relationship Id="rId6" Type="http://schemas.openxmlformats.org/officeDocument/2006/relationships/slideLayout" Target="../slideLayouts/slideLayout1589.xml"/><Relationship Id="rId7" Type="http://schemas.openxmlformats.org/officeDocument/2006/relationships/slideLayout" Target="../slideLayouts/slideLayout1590.xml"/><Relationship Id="rId8" Type="http://schemas.openxmlformats.org/officeDocument/2006/relationships/slideLayout" Target="../slideLayouts/slideLayout1591.xml"/><Relationship Id="rId9" Type="http://schemas.openxmlformats.org/officeDocument/2006/relationships/slideLayout" Target="../slideLayouts/slideLayout1592.xml"/><Relationship Id="rId10" Type="http://schemas.openxmlformats.org/officeDocument/2006/relationships/slideLayout" Target="../slideLayouts/slideLayout1593.xml"/><Relationship Id="rId11" Type="http://schemas.openxmlformats.org/officeDocument/2006/relationships/slideLayout" Target="../slideLayouts/slideLayout1594.xml"/><Relationship Id="rId12" Type="http://schemas.openxmlformats.org/officeDocument/2006/relationships/slideLayout" Target="../slideLayouts/slideLayout1595.xml"/><Relationship Id="rId13" Type="http://schemas.openxmlformats.org/officeDocument/2006/relationships/slideLayout" Target="../slideLayouts/slideLayout1596.xml"/>
</Relationships>
</file>

<file path=ppt/slideMasters/_rels/slideMaster134.xml.rels><?xml version="1.0" encoding="UTF-8"?>
<Relationships xmlns="http://schemas.openxmlformats.org/package/2006/relationships"><Relationship Id="rId1" Type="http://schemas.openxmlformats.org/officeDocument/2006/relationships/theme" Target="../theme/theme134.xml"/><Relationship Id="rId2" Type="http://schemas.openxmlformats.org/officeDocument/2006/relationships/slideLayout" Target="../slideLayouts/slideLayout1597.xml"/><Relationship Id="rId3" Type="http://schemas.openxmlformats.org/officeDocument/2006/relationships/slideLayout" Target="../slideLayouts/slideLayout1598.xml"/><Relationship Id="rId4" Type="http://schemas.openxmlformats.org/officeDocument/2006/relationships/slideLayout" Target="../slideLayouts/slideLayout1599.xml"/><Relationship Id="rId5" Type="http://schemas.openxmlformats.org/officeDocument/2006/relationships/slideLayout" Target="../slideLayouts/slideLayout1600.xml"/><Relationship Id="rId6" Type="http://schemas.openxmlformats.org/officeDocument/2006/relationships/slideLayout" Target="../slideLayouts/slideLayout1601.xml"/><Relationship Id="rId7" Type="http://schemas.openxmlformats.org/officeDocument/2006/relationships/slideLayout" Target="../slideLayouts/slideLayout1602.xml"/><Relationship Id="rId8" Type="http://schemas.openxmlformats.org/officeDocument/2006/relationships/slideLayout" Target="../slideLayouts/slideLayout1603.xml"/><Relationship Id="rId9" Type="http://schemas.openxmlformats.org/officeDocument/2006/relationships/slideLayout" Target="../slideLayouts/slideLayout1604.xml"/><Relationship Id="rId10" Type="http://schemas.openxmlformats.org/officeDocument/2006/relationships/slideLayout" Target="../slideLayouts/slideLayout1605.xml"/><Relationship Id="rId11" Type="http://schemas.openxmlformats.org/officeDocument/2006/relationships/slideLayout" Target="../slideLayouts/slideLayout1606.xml"/><Relationship Id="rId12" Type="http://schemas.openxmlformats.org/officeDocument/2006/relationships/slideLayout" Target="../slideLayouts/slideLayout1607.xml"/><Relationship Id="rId13" Type="http://schemas.openxmlformats.org/officeDocument/2006/relationships/slideLayout" Target="../slideLayouts/slideLayout1608.xml"/>
</Relationships>
</file>

<file path=ppt/slideMasters/_rels/slideMaster135.xml.rels><?xml version="1.0" encoding="UTF-8"?>
<Relationships xmlns="http://schemas.openxmlformats.org/package/2006/relationships"><Relationship Id="rId1" Type="http://schemas.openxmlformats.org/officeDocument/2006/relationships/theme" Target="../theme/theme135.xml"/><Relationship Id="rId2" Type="http://schemas.openxmlformats.org/officeDocument/2006/relationships/slideLayout" Target="../slideLayouts/slideLayout1609.xml"/><Relationship Id="rId3" Type="http://schemas.openxmlformats.org/officeDocument/2006/relationships/slideLayout" Target="../slideLayouts/slideLayout1610.xml"/><Relationship Id="rId4" Type="http://schemas.openxmlformats.org/officeDocument/2006/relationships/slideLayout" Target="../slideLayouts/slideLayout1611.xml"/><Relationship Id="rId5" Type="http://schemas.openxmlformats.org/officeDocument/2006/relationships/slideLayout" Target="../slideLayouts/slideLayout1612.xml"/><Relationship Id="rId6" Type="http://schemas.openxmlformats.org/officeDocument/2006/relationships/slideLayout" Target="../slideLayouts/slideLayout1613.xml"/><Relationship Id="rId7" Type="http://schemas.openxmlformats.org/officeDocument/2006/relationships/slideLayout" Target="../slideLayouts/slideLayout1614.xml"/><Relationship Id="rId8" Type="http://schemas.openxmlformats.org/officeDocument/2006/relationships/slideLayout" Target="../slideLayouts/slideLayout1615.xml"/><Relationship Id="rId9" Type="http://schemas.openxmlformats.org/officeDocument/2006/relationships/slideLayout" Target="../slideLayouts/slideLayout1616.xml"/><Relationship Id="rId10" Type="http://schemas.openxmlformats.org/officeDocument/2006/relationships/slideLayout" Target="../slideLayouts/slideLayout1617.xml"/><Relationship Id="rId11" Type="http://schemas.openxmlformats.org/officeDocument/2006/relationships/slideLayout" Target="../slideLayouts/slideLayout1618.xml"/><Relationship Id="rId12" Type="http://schemas.openxmlformats.org/officeDocument/2006/relationships/slideLayout" Target="../slideLayouts/slideLayout1619.xml"/><Relationship Id="rId13" Type="http://schemas.openxmlformats.org/officeDocument/2006/relationships/slideLayout" Target="../slideLayouts/slideLayout1620.xml"/>
</Relationships>
</file>

<file path=ppt/slideMasters/_rels/slideMaster136.xml.rels><?xml version="1.0" encoding="UTF-8"?>
<Relationships xmlns="http://schemas.openxmlformats.org/package/2006/relationships"><Relationship Id="rId1" Type="http://schemas.openxmlformats.org/officeDocument/2006/relationships/theme" Target="../theme/theme136.xml"/><Relationship Id="rId2" Type="http://schemas.openxmlformats.org/officeDocument/2006/relationships/slideLayout" Target="../slideLayouts/slideLayout1621.xml"/><Relationship Id="rId3" Type="http://schemas.openxmlformats.org/officeDocument/2006/relationships/slideLayout" Target="../slideLayouts/slideLayout1622.xml"/><Relationship Id="rId4" Type="http://schemas.openxmlformats.org/officeDocument/2006/relationships/slideLayout" Target="../slideLayouts/slideLayout1623.xml"/><Relationship Id="rId5" Type="http://schemas.openxmlformats.org/officeDocument/2006/relationships/slideLayout" Target="../slideLayouts/slideLayout1624.xml"/><Relationship Id="rId6" Type="http://schemas.openxmlformats.org/officeDocument/2006/relationships/slideLayout" Target="../slideLayouts/slideLayout1625.xml"/><Relationship Id="rId7" Type="http://schemas.openxmlformats.org/officeDocument/2006/relationships/slideLayout" Target="../slideLayouts/slideLayout1626.xml"/><Relationship Id="rId8" Type="http://schemas.openxmlformats.org/officeDocument/2006/relationships/slideLayout" Target="../slideLayouts/slideLayout1627.xml"/><Relationship Id="rId9" Type="http://schemas.openxmlformats.org/officeDocument/2006/relationships/slideLayout" Target="../slideLayouts/slideLayout1628.xml"/><Relationship Id="rId10" Type="http://schemas.openxmlformats.org/officeDocument/2006/relationships/slideLayout" Target="../slideLayouts/slideLayout1629.xml"/><Relationship Id="rId11" Type="http://schemas.openxmlformats.org/officeDocument/2006/relationships/slideLayout" Target="../slideLayouts/slideLayout1630.xml"/><Relationship Id="rId12" Type="http://schemas.openxmlformats.org/officeDocument/2006/relationships/slideLayout" Target="../slideLayouts/slideLayout1631.xml"/><Relationship Id="rId13" Type="http://schemas.openxmlformats.org/officeDocument/2006/relationships/slideLayout" Target="../slideLayouts/slideLayout1632.xml"/>
</Relationships>
</file>

<file path=ppt/slideMasters/_rels/slideMaster137.xml.rels><?xml version="1.0" encoding="UTF-8"?>
<Relationships xmlns="http://schemas.openxmlformats.org/package/2006/relationships"><Relationship Id="rId1" Type="http://schemas.openxmlformats.org/officeDocument/2006/relationships/theme" Target="../theme/theme137.xml"/><Relationship Id="rId2" Type="http://schemas.openxmlformats.org/officeDocument/2006/relationships/slideLayout" Target="../slideLayouts/slideLayout1633.xml"/><Relationship Id="rId3" Type="http://schemas.openxmlformats.org/officeDocument/2006/relationships/slideLayout" Target="../slideLayouts/slideLayout1634.xml"/><Relationship Id="rId4" Type="http://schemas.openxmlformats.org/officeDocument/2006/relationships/slideLayout" Target="../slideLayouts/slideLayout1635.xml"/><Relationship Id="rId5" Type="http://schemas.openxmlformats.org/officeDocument/2006/relationships/slideLayout" Target="../slideLayouts/slideLayout1636.xml"/><Relationship Id="rId6" Type="http://schemas.openxmlformats.org/officeDocument/2006/relationships/slideLayout" Target="../slideLayouts/slideLayout1637.xml"/><Relationship Id="rId7" Type="http://schemas.openxmlformats.org/officeDocument/2006/relationships/slideLayout" Target="../slideLayouts/slideLayout1638.xml"/><Relationship Id="rId8" Type="http://schemas.openxmlformats.org/officeDocument/2006/relationships/slideLayout" Target="../slideLayouts/slideLayout1639.xml"/><Relationship Id="rId9" Type="http://schemas.openxmlformats.org/officeDocument/2006/relationships/slideLayout" Target="../slideLayouts/slideLayout1640.xml"/><Relationship Id="rId10" Type="http://schemas.openxmlformats.org/officeDocument/2006/relationships/slideLayout" Target="../slideLayouts/slideLayout1641.xml"/><Relationship Id="rId11" Type="http://schemas.openxmlformats.org/officeDocument/2006/relationships/slideLayout" Target="../slideLayouts/slideLayout1642.xml"/><Relationship Id="rId12" Type="http://schemas.openxmlformats.org/officeDocument/2006/relationships/slideLayout" Target="../slideLayouts/slideLayout1643.xml"/><Relationship Id="rId13" Type="http://schemas.openxmlformats.org/officeDocument/2006/relationships/slideLayout" Target="../slideLayouts/slideLayout1644.xml"/>
</Relationships>
</file>

<file path=ppt/slideMasters/_rels/slideMaster138.xml.rels><?xml version="1.0" encoding="UTF-8"?>
<Relationships xmlns="http://schemas.openxmlformats.org/package/2006/relationships"><Relationship Id="rId1" Type="http://schemas.openxmlformats.org/officeDocument/2006/relationships/theme" Target="../theme/theme138.xml"/><Relationship Id="rId2" Type="http://schemas.openxmlformats.org/officeDocument/2006/relationships/slideLayout" Target="../slideLayouts/slideLayout1645.xml"/><Relationship Id="rId3" Type="http://schemas.openxmlformats.org/officeDocument/2006/relationships/slideLayout" Target="../slideLayouts/slideLayout1646.xml"/><Relationship Id="rId4" Type="http://schemas.openxmlformats.org/officeDocument/2006/relationships/slideLayout" Target="../slideLayouts/slideLayout1647.xml"/><Relationship Id="rId5" Type="http://schemas.openxmlformats.org/officeDocument/2006/relationships/slideLayout" Target="../slideLayouts/slideLayout1648.xml"/><Relationship Id="rId6" Type="http://schemas.openxmlformats.org/officeDocument/2006/relationships/slideLayout" Target="../slideLayouts/slideLayout1649.xml"/><Relationship Id="rId7" Type="http://schemas.openxmlformats.org/officeDocument/2006/relationships/slideLayout" Target="../slideLayouts/slideLayout1650.xml"/><Relationship Id="rId8" Type="http://schemas.openxmlformats.org/officeDocument/2006/relationships/slideLayout" Target="../slideLayouts/slideLayout1651.xml"/><Relationship Id="rId9" Type="http://schemas.openxmlformats.org/officeDocument/2006/relationships/slideLayout" Target="../slideLayouts/slideLayout1652.xml"/><Relationship Id="rId10" Type="http://schemas.openxmlformats.org/officeDocument/2006/relationships/slideLayout" Target="../slideLayouts/slideLayout1653.xml"/><Relationship Id="rId11" Type="http://schemas.openxmlformats.org/officeDocument/2006/relationships/slideLayout" Target="../slideLayouts/slideLayout1654.xml"/><Relationship Id="rId12" Type="http://schemas.openxmlformats.org/officeDocument/2006/relationships/slideLayout" Target="../slideLayouts/slideLayout1655.xml"/><Relationship Id="rId13" Type="http://schemas.openxmlformats.org/officeDocument/2006/relationships/slideLayout" Target="../slideLayouts/slideLayout1656.xml"/>
</Relationships>
</file>

<file path=ppt/slideMasters/_rels/slideMaster139.xml.rels><?xml version="1.0" encoding="UTF-8"?>
<Relationships xmlns="http://schemas.openxmlformats.org/package/2006/relationships"><Relationship Id="rId1" Type="http://schemas.openxmlformats.org/officeDocument/2006/relationships/theme" Target="../theme/theme139.xml"/><Relationship Id="rId2" Type="http://schemas.openxmlformats.org/officeDocument/2006/relationships/slideLayout" Target="../slideLayouts/slideLayout1657.xml"/><Relationship Id="rId3" Type="http://schemas.openxmlformats.org/officeDocument/2006/relationships/slideLayout" Target="../slideLayouts/slideLayout1658.xml"/><Relationship Id="rId4" Type="http://schemas.openxmlformats.org/officeDocument/2006/relationships/slideLayout" Target="../slideLayouts/slideLayout1659.xml"/><Relationship Id="rId5" Type="http://schemas.openxmlformats.org/officeDocument/2006/relationships/slideLayout" Target="../slideLayouts/slideLayout1660.xml"/><Relationship Id="rId6" Type="http://schemas.openxmlformats.org/officeDocument/2006/relationships/slideLayout" Target="../slideLayouts/slideLayout1661.xml"/><Relationship Id="rId7" Type="http://schemas.openxmlformats.org/officeDocument/2006/relationships/slideLayout" Target="../slideLayouts/slideLayout1662.xml"/><Relationship Id="rId8" Type="http://schemas.openxmlformats.org/officeDocument/2006/relationships/slideLayout" Target="../slideLayouts/slideLayout1663.xml"/><Relationship Id="rId9" Type="http://schemas.openxmlformats.org/officeDocument/2006/relationships/slideLayout" Target="../slideLayouts/slideLayout1664.xml"/><Relationship Id="rId10" Type="http://schemas.openxmlformats.org/officeDocument/2006/relationships/slideLayout" Target="../slideLayouts/slideLayout1665.xml"/><Relationship Id="rId11" Type="http://schemas.openxmlformats.org/officeDocument/2006/relationships/slideLayout" Target="../slideLayouts/slideLayout1666.xml"/><Relationship Id="rId12" Type="http://schemas.openxmlformats.org/officeDocument/2006/relationships/slideLayout" Target="../slideLayouts/slideLayout1667.xml"/><Relationship Id="rId13" Type="http://schemas.openxmlformats.org/officeDocument/2006/relationships/slideLayout" Target="../slideLayouts/slideLayout1668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40.xml.rels><?xml version="1.0" encoding="UTF-8"?>
<Relationships xmlns="http://schemas.openxmlformats.org/package/2006/relationships"><Relationship Id="rId1" Type="http://schemas.openxmlformats.org/officeDocument/2006/relationships/theme" Target="../theme/theme140.xml"/><Relationship Id="rId2" Type="http://schemas.openxmlformats.org/officeDocument/2006/relationships/slideLayout" Target="../slideLayouts/slideLayout1669.xml"/><Relationship Id="rId3" Type="http://schemas.openxmlformats.org/officeDocument/2006/relationships/slideLayout" Target="../slideLayouts/slideLayout1670.xml"/><Relationship Id="rId4" Type="http://schemas.openxmlformats.org/officeDocument/2006/relationships/slideLayout" Target="../slideLayouts/slideLayout1671.xml"/><Relationship Id="rId5" Type="http://schemas.openxmlformats.org/officeDocument/2006/relationships/slideLayout" Target="../slideLayouts/slideLayout1672.xml"/><Relationship Id="rId6" Type="http://schemas.openxmlformats.org/officeDocument/2006/relationships/slideLayout" Target="../slideLayouts/slideLayout1673.xml"/><Relationship Id="rId7" Type="http://schemas.openxmlformats.org/officeDocument/2006/relationships/slideLayout" Target="../slideLayouts/slideLayout1674.xml"/><Relationship Id="rId8" Type="http://schemas.openxmlformats.org/officeDocument/2006/relationships/slideLayout" Target="../slideLayouts/slideLayout1675.xml"/><Relationship Id="rId9" Type="http://schemas.openxmlformats.org/officeDocument/2006/relationships/slideLayout" Target="../slideLayouts/slideLayout1676.xml"/><Relationship Id="rId10" Type="http://schemas.openxmlformats.org/officeDocument/2006/relationships/slideLayout" Target="../slideLayouts/slideLayout1677.xml"/><Relationship Id="rId11" Type="http://schemas.openxmlformats.org/officeDocument/2006/relationships/slideLayout" Target="../slideLayouts/slideLayout1678.xml"/><Relationship Id="rId12" Type="http://schemas.openxmlformats.org/officeDocument/2006/relationships/slideLayout" Target="../slideLayouts/slideLayout1679.xml"/><Relationship Id="rId13" Type="http://schemas.openxmlformats.org/officeDocument/2006/relationships/slideLayout" Target="../slideLayouts/slideLayout1680.xml"/>
</Relationships>
</file>

<file path=ppt/slideMasters/_rels/slideMaster141.xml.rels><?xml version="1.0" encoding="UTF-8"?>
<Relationships xmlns="http://schemas.openxmlformats.org/package/2006/relationships"><Relationship Id="rId1" Type="http://schemas.openxmlformats.org/officeDocument/2006/relationships/theme" Target="../theme/theme141.xml"/><Relationship Id="rId2" Type="http://schemas.openxmlformats.org/officeDocument/2006/relationships/slideLayout" Target="../slideLayouts/slideLayout1681.xml"/><Relationship Id="rId3" Type="http://schemas.openxmlformats.org/officeDocument/2006/relationships/slideLayout" Target="../slideLayouts/slideLayout1682.xml"/><Relationship Id="rId4" Type="http://schemas.openxmlformats.org/officeDocument/2006/relationships/slideLayout" Target="../slideLayouts/slideLayout1683.xml"/><Relationship Id="rId5" Type="http://schemas.openxmlformats.org/officeDocument/2006/relationships/slideLayout" Target="../slideLayouts/slideLayout1684.xml"/><Relationship Id="rId6" Type="http://schemas.openxmlformats.org/officeDocument/2006/relationships/slideLayout" Target="../slideLayouts/slideLayout1685.xml"/><Relationship Id="rId7" Type="http://schemas.openxmlformats.org/officeDocument/2006/relationships/slideLayout" Target="../slideLayouts/slideLayout1686.xml"/><Relationship Id="rId8" Type="http://schemas.openxmlformats.org/officeDocument/2006/relationships/slideLayout" Target="../slideLayouts/slideLayout1687.xml"/><Relationship Id="rId9" Type="http://schemas.openxmlformats.org/officeDocument/2006/relationships/slideLayout" Target="../slideLayouts/slideLayout1688.xml"/><Relationship Id="rId10" Type="http://schemas.openxmlformats.org/officeDocument/2006/relationships/slideLayout" Target="../slideLayouts/slideLayout1689.xml"/><Relationship Id="rId11" Type="http://schemas.openxmlformats.org/officeDocument/2006/relationships/slideLayout" Target="../slideLayouts/slideLayout1690.xml"/><Relationship Id="rId12" Type="http://schemas.openxmlformats.org/officeDocument/2006/relationships/slideLayout" Target="../slideLayouts/slideLayout1691.xml"/><Relationship Id="rId13" Type="http://schemas.openxmlformats.org/officeDocument/2006/relationships/slideLayout" Target="../slideLayouts/slideLayout1692.xml"/>
</Relationships>
</file>

<file path=ppt/slideMasters/_rels/slideMaster142.xml.rels><?xml version="1.0" encoding="UTF-8"?>
<Relationships xmlns="http://schemas.openxmlformats.org/package/2006/relationships"><Relationship Id="rId1" Type="http://schemas.openxmlformats.org/officeDocument/2006/relationships/theme" Target="../theme/theme142.xml"/><Relationship Id="rId2" Type="http://schemas.openxmlformats.org/officeDocument/2006/relationships/slideLayout" Target="../slideLayouts/slideLayout1693.xml"/><Relationship Id="rId3" Type="http://schemas.openxmlformats.org/officeDocument/2006/relationships/slideLayout" Target="../slideLayouts/slideLayout1694.xml"/><Relationship Id="rId4" Type="http://schemas.openxmlformats.org/officeDocument/2006/relationships/slideLayout" Target="../slideLayouts/slideLayout1695.xml"/><Relationship Id="rId5" Type="http://schemas.openxmlformats.org/officeDocument/2006/relationships/slideLayout" Target="../slideLayouts/slideLayout1696.xml"/><Relationship Id="rId6" Type="http://schemas.openxmlformats.org/officeDocument/2006/relationships/slideLayout" Target="../slideLayouts/slideLayout1697.xml"/><Relationship Id="rId7" Type="http://schemas.openxmlformats.org/officeDocument/2006/relationships/slideLayout" Target="../slideLayouts/slideLayout1698.xml"/><Relationship Id="rId8" Type="http://schemas.openxmlformats.org/officeDocument/2006/relationships/slideLayout" Target="../slideLayouts/slideLayout1699.xml"/><Relationship Id="rId9" Type="http://schemas.openxmlformats.org/officeDocument/2006/relationships/slideLayout" Target="../slideLayouts/slideLayout1700.xml"/><Relationship Id="rId10" Type="http://schemas.openxmlformats.org/officeDocument/2006/relationships/slideLayout" Target="../slideLayouts/slideLayout1701.xml"/><Relationship Id="rId11" Type="http://schemas.openxmlformats.org/officeDocument/2006/relationships/slideLayout" Target="../slideLayouts/slideLayout1702.xml"/><Relationship Id="rId12" Type="http://schemas.openxmlformats.org/officeDocument/2006/relationships/slideLayout" Target="../slideLayouts/slideLayout1703.xml"/><Relationship Id="rId13" Type="http://schemas.openxmlformats.org/officeDocument/2006/relationships/slideLayout" Target="../slideLayouts/slideLayout1704.xml"/>
</Relationships>
</file>

<file path=ppt/slideMasters/_rels/slideMaster143.xml.rels><?xml version="1.0" encoding="UTF-8"?>
<Relationships xmlns="http://schemas.openxmlformats.org/package/2006/relationships"><Relationship Id="rId1" Type="http://schemas.openxmlformats.org/officeDocument/2006/relationships/theme" Target="../theme/theme143.xml"/><Relationship Id="rId2" Type="http://schemas.openxmlformats.org/officeDocument/2006/relationships/slideLayout" Target="../slideLayouts/slideLayout1705.xml"/><Relationship Id="rId3" Type="http://schemas.openxmlformats.org/officeDocument/2006/relationships/slideLayout" Target="../slideLayouts/slideLayout1706.xml"/><Relationship Id="rId4" Type="http://schemas.openxmlformats.org/officeDocument/2006/relationships/slideLayout" Target="../slideLayouts/slideLayout1707.xml"/><Relationship Id="rId5" Type="http://schemas.openxmlformats.org/officeDocument/2006/relationships/slideLayout" Target="../slideLayouts/slideLayout1708.xml"/><Relationship Id="rId6" Type="http://schemas.openxmlformats.org/officeDocument/2006/relationships/slideLayout" Target="../slideLayouts/slideLayout1709.xml"/><Relationship Id="rId7" Type="http://schemas.openxmlformats.org/officeDocument/2006/relationships/slideLayout" Target="../slideLayouts/slideLayout1710.xml"/><Relationship Id="rId8" Type="http://schemas.openxmlformats.org/officeDocument/2006/relationships/slideLayout" Target="../slideLayouts/slideLayout1711.xml"/><Relationship Id="rId9" Type="http://schemas.openxmlformats.org/officeDocument/2006/relationships/slideLayout" Target="../slideLayouts/slideLayout1712.xml"/><Relationship Id="rId10" Type="http://schemas.openxmlformats.org/officeDocument/2006/relationships/slideLayout" Target="../slideLayouts/slideLayout1713.xml"/><Relationship Id="rId11" Type="http://schemas.openxmlformats.org/officeDocument/2006/relationships/slideLayout" Target="../slideLayouts/slideLayout1714.xml"/><Relationship Id="rId12" Type="http://schemas.openxmlformats.org/officeDocument/2006/relationships/slideLayout" Target="../slideLayouts/slideLayout1715.xml"/><Relationship Id="rId13" Type="http://schemas.openxmlformats.org/officeDocument/2006/relationships/slideLayout" Target="../slideLayouts/slideLayout1716.xml"/>
</Relationships>
</file>

<file path=ppt/slideMasters/_rels/slideMaster144.xml.rels><?xml version="1.0" encoding="UTF-8"?>
<Relationships xmlns="http://schemas.openxmlformats.org/package/2006/relationships"><Relationship Id="rId1" Type="http://schemas.openxmlformats.org/officeDocument/2006/relationships/theme" Target="../theme/theme144.xml"/><Relationship Id="rId2" Type="http://schemas.openxmlformats.org/officeDocument/2006/relationships/slideLayout" Target="../slideLayouts/slideLayout1717.xml"/><Relationship Id="rId3" Type="http://schemas.openxmlformats.org/officeDocument/2006/relationships/slideLayout" Target="../slideLayouts/slideLayout1718.xml"/><Relationship Id="rId4" Type="http://schemas.openxmlformats.org/officeDocument/2006/relationships/slideLayout" Target="../slideLayouts/slideLayout1719.xml"/><Relationship Id="rId5" Type="http://schemas.openxmlformats.org/officeDocument/2006/relationships/slideLayout" Target="../slideLayouts/slideLayout1720.xml"/><Relationship Id="rId6" Type="http://schemas.openxmlformats.org/officeDocument/2006/relationships/slideLayout" Target="../slideLayouts/slideLayout1721.xml"/><Relationship Id="rId7" Type="http://schemas.openxmlformats.org/officeDocument/2006/relationships/slideLayout" Target="../slideLayouts/slideLayout1722.xml"/><Relationship Id="rId8" Type="http://schemas.openxmlformats.org/officeDocument/2006/relationships/slideLayout" Target="../slideLayouts/slideLayout1723.xml"/><Relationship Id="rId9" Type="http://schemas.openxmlformats.org/officeDocument/2006/relationships/slideLayout" Target="../slideLayouts/slideLayout1724.xml"/><Relationship Id="rId10" Type="http://schemas.openxmlformats.org/officeDocument/2006/relationships/slideLayout" Target="../slideLayouts/slideLayout1725.xml"/><Relationship Id="rId11" Type="http://schemas.openxmlformats.org/officeDocument/2006/relationships/slideLayout" Target="../slideLayouts/slideLayout1726.xml"/><Relationship Id="rId12" Type="http://schemas.openxmlformats.org/officeDocument/2006/relationships/slideLayout" Target="../slideLayouts/slideLayout1727.xml"/><Relationship Id="rId13" Type="http://schemas.openxmlformats.org/officeDocument/2006/relationships/slideLayout" Target="../slideLayouts/slideLayout1728.xml"/>
</Relationships>
</file>

<file path=ppt/slideMasters/_rels/slideMaster145.xml.rels><?xml version="1.0" encoding="UTF-8"?>
<Relationships xmlns="http://schemas.openxmlformats.org/package/2006/relationships"><Relationship Id="rId1" Type="http://schemas.openxmlformats.org/officeDocument/2006/relationships/theme" Target="../theme/theme145.xml"/><Relationship Id="rId2" Type="http://schemas.openxmlformats.org/officeDocument/2006/relationships/slideLayout" Target="../slideLayouts/slideLayout1729.xml"/><Relationship Id="rId3" Type="http://schemas.openxmlformats.org/officeDocument/2006/relationships/slideLayout" Target="../slideLayouts/slideLayout1730.xml"/><Relationship Id="rId4" Type="http://schemas.openxmlformats.org/officeDocument/2006/relationships/slideLayout" Target="../slideLayouts/slideLayout1731.xml"/><Relationship Id="rId5" Type="http://schemas.openxmlformats.org/officeDocument/2006/relationships/slideLayout" Target="../slideLayouts/slideLayout1732.xml"/><Relationship Id="rId6" Type="http://schemas.openxmlformats.org/officeDocument/2006/relationships/slideLayout" Target="../slideLayouts/slideLayout1733.xml"/><Relationship Id="rId7" Type="http://schemas.openxmlformats.org/officeDocument/2006/relationships/slideLayout" Target="../slideLayouts/slideLayout1734.xml"/><Relationship Id="rId8" Type="http://schemas.openxmlformats.org/officeDocument/2006/relationships/slideLayout" Target="../slideLayouts/slideLayout1735.xml"/><Relationship Id="rId9" Type="http://schemas.openxmlformats.org/officeDocument/2006/relationships/slideLayout" Target="../slideLayouts/slideLayout1736.xml"/><Relationship Id="rId10" Type="http://schemas.openxmlformats.org/officeDocument/2006/relationships/slideLayout" Target="../slideLayouts/slideLayout1737.xml"/><Relationship Id="rId11" Type="http://schemas.openxmlformats.org/officeDocument/2006/relationships/slideLayout" Target="../slideLayouts/slideLayout1738.xml"/><Relationship Id="rId12" Type="http://schemas.openxmlformats.org/officeDocument/2006/relationships/slideLayout" Target="../slideLayouts/slideLayout1739.xml"/><Relationship Id="rId13" Type="http://schemas.openxmlformats.org/officeDocument/2006/relationships/slideLayout" Target="../slideLayouts/slideLayout1740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9B7D-007D-48F5-A5D4-978B7A98A0B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2AD3-EA35-4964-B2DC-7F5B00D330D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4026-B2A0-4299-88B2-7D257085C7E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5407-A9CC-4EFA-B743-EE153756461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1" name="PlaceHolder 3"/>
          <p:cNvSpPr>
            <a:spLocks noGrp="1"/>
          </p:cNvSpPr>
          <p:nvPr>
            <p:ph type="dt" idx="2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85B9-4076-4314-9C78-8CAE12E06E8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PlaceHolder 4"/>
          <p:cNvSpPr>
            <a:spLocks noGrp="1"/>
          </p:cNvSpPr>
          <p:nvPr>
            <p:ph type="ftr" idx="2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PlaceHolder 5"/>
          <p:cNvSpPr>
            <a:spLocks noGrp="1"/>
          </p:cNvSpPr>
          <p:nvPr>
            <p:ph type="sldNum" idx="30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EAD6-AA3C-41C5-A208-8D65B7D6311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2" name="PlaceHolder 3"/>
          <p:cNvSpPr>
            <a:spLocks noGrp="1"/>
          </p:cNvSpPr>
          <p:nvPr>
            <p:ph type="dt" idx="3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553D-4209-4922-B305-3B03F41139F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PlaceHolder 4"/>
          <p:cNvSpPr>
            <a:spLocks noGrp="1"/>
          </p:cNvSpPr>
          <p:nvPr>
            <p:ph type="ftr" idx="3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PlaceHolder 5"/>
          <p:cNvSpPr>
            <a:spLocks noGrp="1"/>
          </p:cNvSpPr>
          <p:nvPr>
            <p:ph type="sldNum" idx="30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B901-A1D0-483C-8850-81F4E28DCC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3" name="PlaceHolder 3"/>
          <p:cNvSpPr>
            <a:spLocks noGrp="1"/>
          </p:cNvSpPr>
          <p:nvPr>
            <p:ph type="dt" idx="30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DADC-7FD2-48D0-860F-491A39E94EE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PlaceHolder 4"/>
          <p:cNvSpPr>
            <a:spLocks noGrp="1"/>
          </p:cNvSpPr>
          <p:nvPr>
            <p:ph type="ftr" idx="30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PlaceHolder 5"/>
          <p:cNvSpPr>
            <a:spLocks noGrp="1"/>
          </p:cNvSpPr>
          <p:nvPr>
            <p:ph type="sldNum" idx="30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710D-1B35-4D07-AD72-7851D693794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4" name="PlaceHolder 3"/>
          <p:cNvSpPr>
            <a:spLocks noGrp="1"/>
          </p:cNvSpPr>
          <p:nvPr>
            <p:ph type="dt" idx="30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D870-4B8F-4C96-BCB8-D39F4B78F0E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PlaceHolder 4"/>
          <p:cNvSpPr>
            <a:spLocks noGrp="1"/>
          </p:cNvSpPr>
          <p:nvPr>
            <p:ph type="ftr" idx="30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PlaceHolder 5"/>
          <p:cNvSpPr>
            <a:spLocks noGrp="1"/>
          </p:cNvSpPr>
          <p:nvPr>
            <p:ph type="sldNum" idx="30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6E48-AFB1-4063-999B-930F07B1C29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5" name="PlaceHolder 3"/>
          <p:cNvSpPr>
            <a:spLocks noGrp="1"/>
          </p:cNvSpPr>
          <p:nvPr>
            <p:ph type="dt" idx="3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9EF9-F362-4F8E-85EC-BCBDA03FA71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PlaceHolder 4"/>
          <p:cNvSpPr>
            <a:spLocks noGrp="1"/>
          </p:cNvSpPr>
          <p:nvPr>
            <p:ph type="ftr" idx="3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PlaceHolder 5"/>
          <p:cNvSpPr>
            <a:spLocks noGrp="1"/>
          </p:cNvSpPr>
          <p:nvPr>
            <p:ph type="sldNum" idx="3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9168-A540-42DF-9D20-EF56C70E2A2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6" name="PlaceHolder 3"/>
          <p:cNvSpPr>
            <a:spLocks noGrp="1"/>
          </p:cNvSpPr>
          <p:nvPr>
            <p:ph type="dt" idx="3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A99C-B736-4586-8CE4-3DD10FC3DFF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PlaceHolder 4"/>
          <p:cNvSpPr>
            <a:spLocks noGrp="1"/>
          </p:cNvSpPr>
          <p:nvPr>
            <p:ph type="ftr" idx="3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PlaceHolder 5"/>
          <p:cNvSpPr>
            <a:spLocks noGrp="1"/>
          </p:cNvSpPr>
          <p:nvPr>
            <p:ph type="sldNum" idx="3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CE13-4CD0-4F62-AE2D-153C739A83D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 type="dt" idx="3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9F45-08BD-4136-805A-351E1A06470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PlaceHolder 4"/>
          <p:cNvSpPr>
            <a:spLocks noGrp="1"/>
          </p:cNvSpPr>
          <p:nvPr>
            <p:ph type="ftr" idx="3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PlaceHolder 5"/>
          <p:cNvSpPr>
            <a:spLocks noGrp="1"/>
          </p:cNvSpPr>
          <p:nvPr>
            <p:ph type="sldNum" idx="3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1BDF-4F5A-4DCF-B91A-8394E3789F4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8" name="PlaceHolder 3"/>
          <p:cNvSpPr>
            <a:spLocks noGrp="1"/>
          </p:cNvSpPr>
          <p:nvPr>
            <p:ph type="dt" idx="3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D380-A9DC-48F5-ABAA-0C64178AC55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PlaceHolder 4"/>
          <p:cNvSpPr>
            <a:spLocks noGrp="1"/>
          </p:cNvSpPr>
          <p:nvPr>
            <p:ph type="ftr" idx="3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PlaceHolder 5"/>
          <p:cNvSpPr>
            <a:spLocks noGrp="1"/>
          </p:cNvSpPr>
          <p:nvPr>
            <p:ph type="sldNum" idx="3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24D2-B9E4-4931-B41C-3AC65CA8830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9" name="PlaceHolder 3"/>
          <p:cNvSpPr>
            <a:spLocks noGrp="1"/>
          </p:cNvSpPr>
          <p:nvPr>
            <p:ph type="dt" idx="3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7F0F-7A41-4954-B081-B80A6759AE2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PlaceHolder 4"/>
          <p:cNvSpPr>
            <a:spLocks noGrp="1"/>
          </p:cNvSpPr>
          <p:nvPr>
            <p:ph type="ftr" idx="3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PlaceHolder 5"/>
          <p:cNvSpPr>
            <a:spLocks noGrp="1"/>
          </p:cNvSpPr>
          <p:nvPr>
            <p:ph type="sldNum" idx="3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03AC-4FBD-4F14-BDE2-F606C9DDF8B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0" name="PlaceHolder 3"/>
          <p:cNvSpPr>
            <a:spLocks noGrp="1"/>
          </p:cNvSpPr>
          <p:nvPr>
            <p:ph type="dt" idx="3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E234-6FEC-4355-B416-AFF15DE9ACC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1" name="PlaceHolder 4"/>
          <p:cNvSpPr>
            <a:spLocks noGrp="1"/>
          </p:cNvSpPr>
          <p:nvPr>
            <p:ph type="ftr" idx="3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PlaceHolder 5"/>
          <p:cNvSpPr>
            <a:spLocks noGrp="1"/>
          </p:cNvSpPr>
          <p:nvPr>
            <p:ph type="sldNum" idx="3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7F77-D6DA-419F-895F-09EAF856992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C200-4F03-4109-890B-24D933EB274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E9A7-C726-49A2-81C0-8E0A3AF7FDA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1" name="PlaceHolder 3"/>
          <p:cNvSpPr>
            <a:spLocks noGrp="1"/>
          </p:cNvSpPr>
          <p:nvPr>
            <p:ph type="dt" idx="3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57FE-D069-4959-A07C-C4B6C8B939E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PlaceHolder 4"/>
          <p:cNvSpPr>
            <a:spLocks noGrp="1"/>
          </p:cNvSpPr>
          <p:nvPr>
            <p:ph type="ftr" idx="3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PlaceHolder 5"/>
          <p:cNvSpPr>
            <a:spLocks noGrp="1"/>
          </p:cNvSpPr>
          <p:nvPr>
            <p:ph type="sldNum" idx="3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63D7-FF76-43CA-B51D-52155CAAAD0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2"/>
    <p:sldLayoutId id="2147485067" r:id="rId3"/>
    <p:sldLayoutId id="2147485068" r:id="rId4"/>
    <p:sldLayoutId id="2147485069" r:id="rId5"/>
    <p:sldLayoutId id="2147485070" r:id="rId6"/>
    <p:sldLayoutId id="2147485071" r:id="rId7"/>
    <p:sldLayoutId id="2147485072" r:id="rId8"/>
    <p:sldLayoutId id="2147485073" r:id="rId9"/>
    <p:sldLayoutId id="2147485074" r:id="rId10"/>
    <p:sldLayoutId id="2147485075" r:id="rId11"/>
    <p:sldLayoutId id="2147485076" r:id="rId12"/>
    <p:sldLayoutId id="2147485077" r:id="rId13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2" name="PlaceHolder 3"/>
          <p:cNvSpPr>
            <a:spLocks noGrp="1"/>
          </p:cNvSpPr>
          <p:nvPr>
            <p:ph type="dt" idx="3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49F6-61C1-4175-AC27-AFE6003E031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PlaceHolder 4"/>
          <p:cNvSpPr>
            <a:spLocks noGrp="1"/>
          </p:cNvSpPr>
          <p:nvPr>
            <p:ph type="ftr" idx="3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PlaceHolder 5"/>
          <p:cNvSpPr>
            <a:spLocks noGrp="1"/>
          </p:cNvSpPr>
          <p:nvPr>
            <p:ph type="sldNum" idx="3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9E35-71AD-4A03-9141-8BAA955B805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2"/>
    <p:sldLayoutId id="2147485080" r:id="rId3"/>
    <p:sldLayoutId id="2147485081" r:id="rId4"/>
    <p:sldLayoutId id="2147485082" r:id="rId5"/>
    <p:sldLayoutId id="2147485083" r:id="rId6"/>
    <p:sldLayoutId id="2147485084" r:id="rId7"/>
    <p:sldLayoutId id="2147485085" r:id="rId8"/>
    <p:sldLayoutId id="2147485086" r:id="rId9"/>
    <p:sldLayoutId id="2147485087" r:id="rId10"/>
    <p:sldLayoutId id="2147485088" r:id="rId11"/>
    <p:sldLayoutId id="2147485089" r:id="rId12"/>
    <p:sldLayoutId id="2147485090" r:id="rId13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3" name="PlaceHolder 3"/>
          <p:cNvSpPr>
            <a:spLocks noGrp="1"/>
          </p:cNvSpPr>
          <p:nvPr>
            <p:ph type="dt" idx="3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9BD0-800D-4951-9F0F-1EA5747CCAA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PlaceHolder 4"/>
          <p:cNvSpPr>
            <a:spLocks noGrp="1"/>
          </p:cNvSpPr>
          <p:nvPr>
            <p:ph type="ftr" idx="3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PlaceHolder 5"/>
          <p:cNvSpPr>
            <a:spLocks noGrp="1"/>
          </p:cNvSpPr>
          <p:nvPr>
            <p:ph type="sldNum" idx="3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922A-CC57-418F-B6CD-82140514885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2"/>
    <p:sldLayoutId id="2147485093" r:id="rId3"/>
    <p:sldLayoutId id="2147485094" r:id="rId4"/>
    <p:sldLayoutId id="2147485095" r:id="rId5"/>
    <p:sldLayoutId id="2147485096" r:id="rId6"/>
    <p:sldLayoutId id="2147485097" r:id="rId7"/>
    <p:sldLayoutId id="2147485098" r:id="rId8"/>
    <p:sldLayoutId id="2147485099" r:id="rId9"/>
    <p:sldLayoutId id="2147485100" r:id="rId10"/>
    <p:sldLayoutId id="2147485101" r:id="rId11"/>
    <p:sldLayoutId id="2147485102" r:id="rId12"/>
    <p:sldLayoutId id="2147485103" r:id="rId13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4" name="PlaceHolder 3"/>
          <p:cNvSpPr>
            <a:spLocks noGrp="1"/>
          </p:cNvSpPr>
          <p:nvPr>
            <p:ph type="dt" idx="3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2CAC-F24F-428F-B780-C53A650981A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PlaceHolder 4"/>
          <p:cNvSpPr>
            <a:spLocks noGrp="1"/>
          </p:cNvSpPr>
          <p:nvPr>
            <p:ph type="ftr" idx="3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PlaceHolder 5"/>
          <p:cNvSpPr>
            <a:spLocks noGrp="1"/>
          </p:cNvSpPr>
          <p:nvPr>
            <p:ph type="sldNum" idx="3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E57A-307C-406B-B192-81585B3A0C7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2"/>
    <p:sldLayoutId id="2147485106" r:id="rId3"/>
    <p:sldLayoutId id="2147485107" r:id="rId4"/>
    <p:sldLayoutId id="2147485108" r:id="rId5"/>
    <p:sldLayoutId id="2147485109" r:id="rId6"/>
    <p:sldLayoutId id="2147485110" r:id="rId7"/>
    <p:sldLayoutId id="2147485111" r:id="rId8"/>
    <p:sldLayoutId id="2147485112" r:id="rId9"/>
    <p:sldLayoutId id="2147485113" r:id="rId10"/>
    <p:sldLayoutId id="2147485114" r:id="rId11"/>
    <p:sldLayoutId id="2147485115" r:id="rId12"/>
    <p:sldLayoutId id="2147485116" r:id="rId13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5" name="PlaceHolder 3"/>
          <p:cNvSpPr>
            <a:spLocks noGrp="1"/>
          </p:cNvSpPr>
          <p:nvPr>
            <p:ph type="dt" idx="3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7DE0-57C2-47F8-9A87-99F1042084D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PlaceHolder 4"/>
          <p:cNvSpPr>
            <a:spLocks noGrp="1"/>
          </p:cNvSpPr>
          <p:nvPr>
            <p:ph type="ftr" idx="3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PlaceHolder 5"/>
          <p:cNvSpPr>
            <a:spLocks noGrp="1"/>
          </p:cNvSpPr>
          <p:nvPr>
            <p:ph type="sldNum" idx="3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A2BE-1478-4730-8A6C-9ED04162719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6" name="PlaceHolder 3"/>
          <p:cNvSpPr>
            <a:spLocks noGrp="1"/>
          </p:cNvSpPr>
          <p:nvPr>
            <p:ph type="dt" idx="3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0E96-A1B1-4CF3-B890-699440FA37A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PlaceHolder 4"/>
          <p:cNvSpPr>
            <a:spLocks noGrp="1"/>
          </p:cNvSpPr>
          <p:nvPr>
            <p:ph type="ftr" idx="3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PlaceHolder 5"/>
          <p:cNvSpPr>
            <a:spLocks noGrp="1"/>
          </p:cNvSpPr>
          <p:nvPr>
            <p:ph type="sldNum" idx="3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7BA9-0AE8-4991-A73B-8D9CB18AD0C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2"/>
    <p:sldLayoutId id="2147485132" r:id="rId3"/>
    <p:sldLayoutId id="2147485133" r:id="rId4"/>
    <p:sldLayoutId id="2147485134" r:id="rId5"/>
    <p:sldLayoutId id="2147485135" r:id="rId6"/>
    <p:sldLayoutId id="2147485136" r:id="rId7"/>
    <p:sldLayoutId id="2147485137" r:id="rId8"/>
    <p:sldLayoutId id="2147485138" r:id="rId9"/>
    <p:sldLayoutId id="2147485139" r:id="rId10"/>
    <p:sldLayoutId id="2147485140" r:id="rId11"/>
    <p:sldLayoutId id="2147485141" r:id="rId12"/>
    <p:sldLayoutId id="2147485142" r:id="rId13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7" name="PlaceHolder 3"/>
          <p:cNvSpPr>
            <a:spLocks noGrp="1"/>
          </p:cNvSpPr>
          <p:nvPr>
            <p:ph type="dt" idx="3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3DDC-E81F-46BF-8B95-5FDDFB2033B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8" name="PlaceHolder 4"/>
          <p:cNvSpPr>
            <a:spLocks noGrp="1"/>
          </p:cNvSpPr>
          <p:nvPr>
            <p:ph type="ftr" idx="3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PlaceHolder 5"/>
          <p:cNvSpPr>
            <a:spLocks noGrp="1"/>
          </p:cNvSpPr>
          <p:nvPr>
            <p:ph type="sldNum" idx="3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9893-46A9-4EAB-A8FB-D56AD4E011C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2"/>
    <p:sldLayoutId id="2147485145" r:id="rId3"/>
    <p:sldLayoutId id="2147485146" r:id="rId4"/>
    <p:sldLayoutId id="2147485147" r:id="rId5"/>
    <p:sldLayoutId id="2147485148" r:id="rId6"/>
    <p:sldLayoutId id="2147485149" r:id="rId7"/>
    <p:sldLayoutId id="2147485150" r:id="rId8"/>
    <p:sldLayoutId id="2147485151" r:id="rId9"/>
    <p:sldLayoutId id="2147485152" r:id="rId10"/>
    <p:sldLayoutId id="2147485153" r:id="rId11"/>
    <p:sldLayoutId id="2147485154" r:id="rId12"/>
    <p:sldLayoutId id="2147485155" r:id="rId13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8" name="PlaceHolder 3"/>
          <p:cNvSpPr>
            <a:spLocks noGrp="1"/>
          </p:cNvSpPr>
          <p:nvPr>
            <p:ph type="dt" idx="3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A3A1-C406-4309-9203-89E5D31ACC4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PlaceHolder 4"/>
          <p:cNvSpPr>
            <a:spLocks noGrp="1"/>
          </p:cNvSpPr>
          <p:nvPr>
            <p:ph type="ftr" idx="3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PlaceHolder 5"/>
          <p:cNvSpPr>
            <a:spLocks noGrp="1"/>
          </p:cNvSpPr>
          <p:nvPr>
            <p:ph type="sldNum" idx="3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C95A-2194-45C8-AF4F-2692296893B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2"/>
    <p:sldLayoutId id="2147485158" r:id="rId3"/>
    <p:sldLayoutId id="2147485159" r:id="rId4"/>
    <p:sldLayoutId id="2147485160" r:id="rId5"/>
    <p:sldLayoutId id="2147485161" r:id="rId6"/>
    <p:sldLayoutId id="2147485162" r:id="rId7"/>
    <p:sldLayoutId id="2147485163" r:id="rId8"/>
    <p:sldLayoutId id="2147485164" r:id="rId9"/>
    <p:sldLayoutId id="2147485165" r:id="rId10"/>
    <p:sldLayoutId id="2147485166" r:id="rId11"/>
    <p:sldLayoutId id="2147485167" r:id="rId12"/>
    <p:sldLayoutId id="2147485168" r:id="rId13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9" name="PlaceHolder 3"/>
          <p:cNvSpPr>
            <a:spLocks noGrp="1"/>
          </p:cNvSpPr>
          <p:nvPr>
            <p:ph type="dt" idx="3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B037-BC5D-46F3-B562-A333414F2F8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0" name="PlaceHolder 4"/>
          <p:cNvSpPr>
            <a:spLocks noGrp="1"/>
          </p:cNvSpPr>
          <p:nvPr>
            <p:ph type="ftr" idx="3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PlaceHolder 5"/>
          <p:cNvSpPr>
            <a:spLocks noGrp="1"/>
          </p:cNvSpPr>
          <p:nvPr>
            <p:ph type="sldNum" idx="3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D4B2-43A9-4E06-8E23-44AA1435C94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2"/>
    <p:sldLayoutId id="2147485171" r:id="rId3"/>
    <p:sldLayoutId id="2147485172" r:id="rId4"/>
    <p:sldLayoutId id="2147485173" r:id="rId5"/>
    <p:sldLayoutId id="2147485174" r:id="rId6"/>
    <p:sldLayoutId id="2147485175" r:id="rId7"/>
    <p:sldLayoutId id="2147485176" r:id="rId8"/>
    <p:sldLayoutId id="2147485177" r:id="rId9"/>
    <p:sldLayoutId id="2147485178" r:id="rId10"/>
    <p:sldLayoutId id="2147485179" r:id="rId11"/>
    <p:sldLayoutId id="2147485180" r:id="rId12"/>
    <p:sldLayoutId id="2147485181" r:id="rId13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0" name="PlaceHolder 3"/>
          <p:cNvSpPr>
            <a:spLocks noGrp="1"/>
          </p:cNvSpPr>
          <p:nvPr>
            <p:ph type="dt" idx="3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D2EE-7DBA-4578-B1D0-880702A3054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1" name="PlaceHolder 4"/>
          <p:cNvSpPr>
            <a:spLocks noGrp="1"/>
          </p:cNvSpPr>
          <p:nvPr>
            <p:ph type="ftr" idx="3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PlaceHolder 5"/>
          <p:cNvSpPr>
            <a:spLocks noGrp="1"/>
          </p:cNvSpPr>
          <p:nvPr>
            <p:ph type="sldNum" idx="3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6F0C-CE5A-4D75-BBEB-4272C2EBFA5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2"/>
    <p:sldLayoutId id="2147485184" r:id="rId3"/>
    <p:sldLayoutId id="2147485185" r:id="rId4"/>
    <p:sldLayoutId id="2147485186" r:id="rId5"/>
    <p:sldLayoutId id="2147485187" r:id="rId6"/>
    <p:sldLayoutId id="2147485188" r:id="rId7"/>
    <p:sldLayoutId id="2147485189" r:id="rId8"/>
    <p:sldLayoutId id="2147485190" r:id="rId9"/>
    <p:sldLayoutId id="2147485191" r:id="rId10"/>
    <p:sldLayoutId id="2147485192" r:id="rId11"/>
    <p:sldLayoutId id="2147485193" r:id="rId12"/>
    <p:sldLayoutId id="2147485194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F7F8-33C6-4127-9E0D-28AA20C171B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4724-C627-4700-BCA8-FD3D16C7A1F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1" name="PlaceHolder 3"/>
          <p:cNvSpPr>
            <a:spLocks noGrp="1"/>
          </p:cNvSpPr>
          <p:nvPr>
            <p:ph type="dt" idx="3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68E4-8250-45EF-BAE7-D4E013F277B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PlaceHolder 4"/>
          <p:cNvSpPr>
            <a:spLocks noGrp="1"/>
          </p:cNvSpPr>
          <p:nvPr>
            <p:ph type="ftr" idx="3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3" name="PlaceHolder 5"/>
          <p:cNvSpPr>
            <a:spLocks noGrp="1"/>
          </p:cNvSpPr>
          <p:nvPr>
            <p:ph type="sldNum" idx="3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046B-5BAF-4C9E-8139-F21EE7FC0E5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2"/>
    <p:sldLayoutId id="2147485197" r:id="rId3"/>
    <p:sldLayoutId id="2147485198" r:id="rId4"/>
    <p:sldLayoutId id="2147485199" r:id="rId5"/>
    <p:sldLayoutId id="2147485200" r:id="rId6"/>
    <p:sldLayoutId id="2147485201" r:id="rId7"/>
    <p:sldLayoutId id="2147485202" r:id="rId8"/>
    <p:sldLayoutId id="2147485203" r:id="rId9"/>
    <p:sldLayoutId id="2147485204" r:id="rId10"/>
    <p:sldLayoutId id="2147485205" r:id="rId11"/>
    <p:sldLayoutId id="2147485206" r:id="rId12"/>
    <p:sldLayoutId id="2147485207" r:id="rId13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2" name="PlaceHolder 3"/>
          <p:cNvSpPr>
            <a:spLocks noGrp="1"/>
          </p:cNvSpPr>
          <p:nvPr>
            <p:ph type="dt" idx="3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9CF8-CB08-4BBA-9714-B0F630A9853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3" name="PlaceHolder 4"/>
          <p:cNvSpPr>
            <a:spLocks noGrp="1"/>
          </p:cNvSpPr>
          <p:nvPr>
            <p:ph type="ftr" idx="3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4" name="PlaceHolder 5"/>
          <p:cNvSpPr>
            <a:spLocks noGrp="1"/>
          </p:cNvSpPr>
          <p:nvPr>
            <p:ph type="sldNum" idx="3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F7EC-BE88-411D-B2C4-7CECF3C2F00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2"/>
    <p:sldLayoutId id="2147485210" r:id="rId3"/>
    <p:sldLayoutId id="2147485211" r:id="rId4"/>
    <p:sldLayoutId id="2147485212" r:id="rId5"/>
    <p:sldLayoutId id="2147485213" r:id="rId6"/>
    <p:sldLayoutId id="2147485214" r:id="rId7"/>
    <p:sldLayoutId id="2147485215" r:id="rId8"/>
    <p:sldLayoutId id="2147485216" r:id="rId9"/>
    <p:sldLayoutId id="2147485217" r:id="rId10"/>
    <p:sldLayoutId id="2147485218" r:id="rId11"/>
    <p:sldLayoutId id="2147485219" r:id="rId12"/>
    <p:sldLayoutId id="2147485220" r:id="rId13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3" name="PlaceHolder 3"/>
          <p:cNvSpPr>
            <a:spLocks noGrp="1"/>
          </p:cNvSpPr>
          <p:nvPr>
            <p:ph type="dt" idx="3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C6BC-707D-4584-912A-61163B41C91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4" name="PlaceHolder 4"/>
          <p:cNvSpPr>
            <a:spLocks noGrp="1"/>
          </p:cNvSpPr>
          <p:nvPr>
            <p:ph type="ftr" idx="3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5" name="PlaceHolder 5"/>
          <p:cNvSpPr>
            <a:spLocks noGrp="1"/>
          </p:cNvSpPr>
          <p:nvPr>
            <p:ph type="sldNum" idx="3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F5C4-AA45-4D03-8AC8-11651359DFE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2"/>
    <p:sldLayoutId id="2147485223" r:id="rId3"/>
    <p:sldLayoutId id="2147485224" r:id="rId4"/>
    <p:sldLayoutId id="2147485225" r:id="rId5"/>
    <p:sldLayoutId id="2147485226" r:id="rId6"/>
    <p:sldLayoutId id="2147485227" r:id="rId7"/>
    <p:sldLayoutId id="2147485228" r:id="rId8"/>
    <p:sldLayoutId id="2147485229" r:id="rId9"/>
    <p:sldLayoutId id="2147485230" r:id="rId10"/>
    <p:sldLayoutId id="2147485231" r:id="rId11"/>
    <p:sldLayoutId id="2147485232" r:id="rId12"/>
    <p:sldLayoutId id="2147485233" r:id="rId13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4" name="PlaceHolder 3"/>
          <p:cNvSpPr>
            <a:spLocks noGrp="1"/>
          </p:cNvSpPr>
          <p:nvPr>
            <p:ph type="dt" idx="3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CFB9-8746-46CC-B362-90CB218F508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5" name="PlaceHolder 4"/>
          <p:cNvSpPr>
            <a:spLocks noGrp="1"/>
          </p:cNvSpPr>
          <p:nvPr>
            <p:ph type="ftr" idx="3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6" name="PlaceHolder 5"/>
          <p:cNvSpPr>
            <a:spLocks noGrp="1"/>
          </p:cNvSpPr>
          <p:nvPr>
            <p:ph type="sldNum" idx="3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3521-2C01-4716-9930-7E8F94572D0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2"/>
    <p:sldLayoutId id="2147485236" r:id="rId3"/>
    <p:sldLayoutId id="2147485237" r:id="rId4"/>
    <p:sldLayoutId id="2147485238" r:id="rId5"/>
    <p:sldLayoutId id="2147485239" r:id="rId6"/>
    <p:sldLayoutId id="2147485240" r:id="rId7"/>
    <p:sldLayoutId id="2147485241" r:id="rId8"/>
    <p:sldLayoutId id="2147485242" r:id="rId9"/>
    <p:sldLayoutId id="2147485243" r:id="rId10"/>
    <p:sldLayoutId id="2147485244" r:id="rId11"/>
    <p:sldLayoutId id="2147485245" r:id="rId12"/>
    <p:sldLayoutId id="2147485246" r:id="rId13"/>
  </p:sldLayoutIdLst>
</p:sldMaster>
</file>

<file path=ppt/slideMasters/slideMaster1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5" name="PlaceHolder 3"/>
          <p:cNvSpPr>
            <a:spLocks noGrp="1"/>
          </p:cNvSpPr>
          <p:nvPr>
            <p:ph type="dt" idx="3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0EA4-5961-4C98-8737-1FE7EA95C17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6" name="PlaceHolder 4"/>
          <p:cNvSpPr>
            <a:spLocks noGrp="1"/>
          </p:cNvSpPr>
          <p:nvPr>
            <p:ph type="ftr" idx="3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7" name="PlaceHolder 5"/>
          <p:cNvSpPr>
            <a:spLocks noGrp="1"/>
          </p:cNvSpPr>
          <p:nvPr>
            <p:ph type="sldNum" idx="3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7E9A-62AD-4F47-80E5-82171C1B649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48" r:id="rId2"/>
    <p:sldLayoutId id="2147485249" r:id="rId3"/>
    <p:sldLayoutId id="2147485250" r:id="rId4"/>
    <p:sldLayoutId id="2147485251" r:id="rId5"/>
    <p:sldLayoutId id="2147485252" r:id="rId6"/>
    <p:sldLayoutId id="2147485253" r:id="rId7"/>
    <p:sldLayoutId id="2147485254" r:id="rId8"/>
    <p:sldLayoutId id="2147485255" r:id="rId9"/>
    <p:sldLayoutId id="2147485256" r:id="rId10"/>
    <p:sldLayoutId id="2147485257" r:id="rId11"/>
    <p:sldLayoutId id="2147485258" r:id="rId12"/>
    <p:sldLayoutId id="2147485259" r:id="rId13"/>
  </p:sldLayoutIdLst>
</p:sldMaster>
</file>

<file path=ppt/slideMasters/slideMaster1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6" name="PlaceHolder 3"/>
          <p:cNvSpPr>
            <a:spLocks noGrp="1"/>
          </p:cNvSpPr>
          <p:nvPr>
            <p:ph type="dt" idx="3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8C51-3A8D-42B3-99F7-D69D82DF021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7" name="PlaceHolder 4"/>
          <p:cNvSpPr>
            <a:spLocks noGrp="1"/>
          </p:cNvSpPr>
          <p:nvPr>
            <p:ph type="ftr" idx="3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8" name="PlaceHolder 5"/>
          <p:cNvSpPr>
            <a:spLocks noGrp="1"/>
          </p:cNvSpPr>
          <p:nvPr>
            <p:ph type="sldNum" idx="3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8AD9-AA54-400D-8EAC-AEC5D33E804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61" r:id="rId2"/>
    <p:sldLayoutId id="2147485262" r:id="rId3"/>
    <p:sldLayoutId id="2147485263" r:id="rId4"/>
    <p:sldLayoutId id="2147485264" r:id="rId5"/>
    <p:sldLayoutId id="2147485265" r:id="rId6"/>
    <p:sldLayoutId id="2147485266" r:id="rId7"/>
    <p:sldLayoutId id="2147485267" r:id="rId8"/>
    <p:sldLayoutId id="2147485268" r:id="rId9"/>
    <p:sldLayoutId id="2147485269" r:id="rId10"/>
    <p:sldLayoutId id="2147485270" r:id="rId11"/>
    <p:sldLayoutId id="2147485271" r:id="rId12"/>
    <p:sldLayoutId id="2147485272" r:id="rId13"/>
  </p:sldLayoutIdLst>
</p:sldMaster>
</file>

<file path=ppt/slideMasters/slideMaster1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7" name="PlaceHolder 3"/>
          <p:cNvSpPr>
            <a:spLocks noGrp="1"/>
          </p:cNvSpPr>
          <p:nvPr>
            <p:ph type="dt" idx="3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0388-6B4A-42D5-92B5-CD0146EAFE5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8" name="PlaceHolder 4"/>
          <p:cNvSpPr>
            <a:spLocks noGrp="1"/>
          </p:cNvSpPr>
          <p:nvPr>
            <p:ph type="ftr" idx="3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PlaceHolder 5"/>
          <p:cNvSpPr>
            <a:spLocks noGrp="1"/>
          </p:cNvSpPr>
          <p:nvPr>
            <p:ph type="sldNum" idx="3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E51C-60D7-47A4-9324-22656F21668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74" r:id="rId2"/>
    <p:sldLayoutId id="2147485275" r:id="rId3"/>
    <p:sldLayoutId id="2147485276" r:id="rId4"/>
    <p:sldLayoutId id="2147485277" r:id="rId5"/>
    <p:sldLayoutId id="2147485278" r:id="rId6"/>
    <p:sldLayoutId id="2147485279" r:id="rId7"/>
    <p:sldLayoutId id="2147485280" r:id="rId8"/>
    <p:sldLayoutId id="2147485281" r:id="rId9"/>
    <p:sldLayoutId id="2147485282" r:id="rId10"/>
    <p:sldLayoutId id="2147485283" r:id="rId11"/>
    <p:sldLayoutId id="2147485284" r:id="rId12"/>
    <p:sldLayoutId id="2147485285" r:id="rId13"/>
  </p:sldLayoutIdLst>
</p:sldMaster>
</file>

<file path=ppt/slideMasters/slideMaster1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8" name="PlaceHolder 3"/>
          <p:cNvSpPr>
            <a:spLocks noGrp="1"/>
          </p:cNvSpPr>
          <p:nvPr>
            <p:ph type="dt" idx="3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E644-D30C-458D-AA59-9B99B859DD7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9" name="PlaceHolder 4"/>
          <p:cNvSpPr>
            <a:spLocks noGrp="1"/>
          </p:cNvSpPr>
          <p:nvPr>
            <p:ph type="ftr" idx="3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0" name="PlaceHolder 5"/>
          <p:cNvSpPr>
            <a:spLocks noGrp="1"/>
          </p:cNvSpPr>
          <p:nvPr>
            <p:ph type="sldNum" idx="3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CC62-5AAB-45DF-8A41-94510DF7794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87" r:id="rId2"/>
    <p:sldLayoutId id="2147485288" r:id="rId3"/>
    <p:sldLayoutId id="2147485289" r:id="rId4"/>
    <p:sldLayoutId id="2147485290" r:id="rId5"/>
    <p:sldLayoutId id="2147485291" r:id="rId6"/>
    <p:sldLayoutId id="2147485292" r:id="rId7"/>
    <p:sldLayoutId id="2147485293" r:id="rId8"/>
    <p:sldLayoutId id="2147485294" r:id="rId9"/>
    <p:sldLayoutId id="2147485295" r:id="rId10"/>
    <p:sldLayoutId id="2147485296" r:id="rId11"/>
    <p:sldLayoutId id="2147485297" r:id="rId12"/>
    <p:sldLayoutId id="2147485298" r:id="rId13"/>
  </p:sldLayoutIdLst>
</p:sldMaster>
</file>

<file path=ppt/slideMasters/slideMaster1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9" name="PlaceHolder 3"/>
          <p:cNvSpPr>
            <a:spLocks noGrp="1"/>
          </p:cNvSpPr>
          <p:nvPr>
            <p:ph type="dt" idx="3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885F-C1FC-4442-8046-EAB72310922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PlaceHolder 4"/>
          <p:cNvSpPr>
            <a:spLocks noGrp="1"/>
          </p:cNvSpPr>
          <p:nvPr>
            <p:ph type="ftr" idx="3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1" name="PlaceHolder 5"/>
          <p:cNvSpPr>
            <a:spLocks noGrp="1"/>
          </p:cNvSpPr>
          <p:nvPr>
            <p:ph type="sldNum" idx="3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B680-4BE5-4710-905A-62134644A7B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00" r:id="rId2"/>
    <p:sldLayoutId id="2147485301" r:id="rId3"/>
    <p:sldLayoutId id="2147485302" r:id="rId4"/>
    <p:sldLayoutId id="2147485303" r:id="rId5"/>
    <p:sldLayoutId id="2147485304" r:id="rId6"/>
    <p:sldLayoutId id="2147485305" r:id="rId7"/>
    <p:sldLayoutId id="2147485306" r:id="rId8"/>
    <p:sldLayoutId id="2147485307" r:id="rId9"/>
    <p:sldLayoutId id="2147485308" r:id="rId10"/>
    <p:sldLayoutId id="2147485309" r:id="rId11"/>
    <p:sldLayoutId id="2147485310" r:id="rId12"/>
    <p:sldLayoutId id="2147485311" r:id="rId13"/>
  </p:sldLayoutIdLst>
</p:sldMaster>
</file>

<file path=ppt/slideMasters/slideMaster1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0" name="PlaceHolder 3"/>
          <p:cNvSpPr>
            <a:spLocks noGrp="1"/>
          </p:cNvSpPr>
          <p:nvPr>
            <p:ph type="dt" idx="3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F184-D18C-4380-BCF1-8CCF27AF2CC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1" name="PlaceHolder 4"/>
          <p:cNvSpPr>
            <a:spLocks noGrp="1"/>
          </p:cNvSpPr>
          <p:nvPr>
            <p:ph type="ftr" idx="3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2" name="PlaceHolder 5"/>
          <p:cNvSpPr>
            <a:spLocks noGrp="1"/>
          </p:cNvSpPr>
          <p:nvPr>
            <p:ph type="sldNum" idx="3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AB0D-AF12-4209-BAB6-060FF9C8F04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13" r:id="rId2"/>
    <p:sldLayoutId id="2147485314" r:id="rId3"/>
    <p:sldLayoutId id="2147485315" r:id="rId4"/>
    <p:sldLayoutId id="2147485316" r:id="rId5"/>
    <p:sldLayoutId id="2147485317" r:id="rId6"/>
    <p:sldLayoutId id="2147485318" r:id="rId7"/>
    <p:sldLayoutId id="2147485319" r:id="rId8"/>
    <p:sldLayoutId id="2147485320" r:id="rId9"/>
    <p:sldLayoutId id="2147485321" r:id="rId10"/>
    <p:sldLayoutId id="2147485322" r:id="rId11"/>
    <p:sldLayoutId id="2147485323" r:id="rId12"/>
    <p:sldLayoutId id="2147485324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E151-49AF-4F12-B9AB-56D1C2960C5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A0D4-4F69-44A3-ABBF-FF161C29D9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1" name="PlaceHolder 3"/>
          <p:cNvSpPr>
            <a:spLocks noGrp="1"/>
          </p:cNvSpPr>
          <p:nvPr>
            <p:ph type="dt" idx="3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5F7B-1CD2-47B7-9F01-A44089CA79F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2" name="PlaceHolder 4"/>
          <p:cNvSpPr>
            <a:spLocks noGrp="1"/>
          </p:cNvSpPr>
          <p:nvPr>
            <p:ph type="ftr" idx="3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PlaceHolder 5"/>
          <p:cNvSpPr>
            <a:spLocks noGrp="1"/>
          </p:cNvSpPr>
          <p:nvPr>
            <p:ph type="sldNum" idx="3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E069-8471-4379-AA9D-FDB51328448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26" r:id="rId2"/>
    <p:sldLayoutId id="2147485327" r:id="rId3"/>
    <p:sldLayoutId id="2147485328" r:id="rId4"/>
    <p:sldLayoutId id="2147485329" r:id="rId5"/>
    <p:sldLayoutId id="2147485330" r:id="rId6"/>
    <p:sldLayoutId id="2147485331" r:id="rId7"/>
    <p:sldLayoutId id="2147485332" r:id="rId8"/>
    <p:sldLayoutId id="2147485333" r:id="rId9"/>
    <p:sldLayoutId id="2147485334" r:id="rId10"/>
    <p:sldLayoutId id="2147485335" r:id="rId11"/>
    <p:sldLayoutId id="2147485336" r:id="rId12"/>
    <p:sldLayoutId id="2147485337" r:id="rId13"/>
  </p:sldLayoutIdLst>
</p:sldMaster>
</file>

<file path=ppt/slideMasters/slideMaster1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2" name="PlaceHolder 3"/>
          <p:cNvSpPr>
            <a:spLocks noGrp="1"/>
          </p:cNvSpPr>
          <p:nvPr>
            <p:ph type="dt" idx="3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44CA-C41C-4E26-B536-04A8F84470D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PlaceHolder 4"/>
          <p:cNvSpPr>
            <a:spLocks noGrp="1"/>
          </p:cNvSpPr>
          <p:nvPr>
            <p:ph type="ftr" idx="3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PlaceHolder 5"/>
          <p:cNvSpPr>
            <a:spLocks noGrp="1"/>
          </p:cNvSpPr>
          <p:nvPr>
            <p:ph type="sldNum" idx="3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0901-7436-4103-8B05-4E463A49220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39" r:id="rId2"/>
    <p:sldLayoutId id="2147485340" r:id="rId3"/>
    <p:sldLayoutId id="2147485341" r:id="rId4"/>
    <p:sldLayoutId id="2147485342" r:id="rId5"/>
    <p:sldLayoutId id="2147485343" r:id="rId6"/>
    <p:sldLayoutId id="2147485344" r:id="rId7"/>
    <p:sldLayoutId id="2147485345" r:id="rId8"/>
    <p:sldLayoutId id="2147485346" r:id="rId9"/>
    <p:sldLayoutId id="2147485347" r:id="rId10"/>
    <p:sldLayoutId id="2147485348" r:id="rId11"/>
    <p:sldLayoutId id="2147485349" r:id="rId12"/>
    <p:sldLayoutId id="2147485350" r:id="rId13"/>
  </p:sldLayoutIdLst>
</p:sldMaster>
</file>

<file path=ppt/slideMasters/slideMaster1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3" name="PlaceHolder 3"/>
          <p:cNvSpPr>
            <a:spLocks noGrp="1"/>
          </p:cNvSpPr>
          <p:nvPr>
            <p:ph type="dt" idx="3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D3F9-49A5-4BCD-98A0-DAE7A9DD7EB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4" name="PlaceHolder 4"/>
          <p:cNvSpPr>
            <a:spLocks noGrp="1"/>
          </p:cNvSpPr>
          <p:nvPr>
            <p:ph type="ftr" idx="3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5" name="PlaceHolder 5"/>
          <p:cNvSpPr>
            <a:spLocks noGrp="1"/>
          </p:cNvSpPr>
          <p:nvPr>
            <p:ph type="sldNum" idx="3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5C14-F1F5-4FDF-B855-006F1CA995E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52" r:id="rId2"/>
    <p:sldLayoutId id="2147485353" r:id="rId3"/>
    <p:sldLayoutId id="2147485354" r:id="rId4"/>
    <p:sldLayoutId id="2147485355" r:id="rId5"/>
    <p:sldLayoutId id="2147485356" r:id="rId6"/>
    <p:sldLayoutId id="2147485357" r:id="rId7"/>
    <p:sldLayoutId id="2147485358" r:id="rId8"/>
    <p:sldLayoutId id="2147485359" r:id="rId9"/>
    <p:sldLayoutId id="2147485360" r:id="rId10"/>
    <p:sldLayoutId id="2147485361" r:id="rId11"/>
    <p:sldLayoutId id="2147485362" r:id="rId12"/>
    <p:sldLayoutId id="2147485363" r:id="rId13"/>
  </p:sldLayoutIdLst>
</p:sldMaster>
</file>

<file path=ppt/slideMasters/slideMaster1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4" name="PlaceHolder 3"/>
          <p:cNvSpPr>
            <a:spLocks noGrp="1"/>
          </p:cNvSpPr>
          <p:nvPr>
            <p:ph type="dt" idx="3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8660-42EE-4ED2-AFE5-22858424086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PlaceHolder 4"/>
          <p:cNvSpPr>
            <a:spLocks noGrp="1"/>
          </p:cNvSpPr>
          <p:nvPr>
            <p:ph type="ftr" idx="3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6" name="PlaceHolder 5"/>
          <p:cNvSpPr>
            <a:spLocks noGrp="1"/>
          </p:cNvSpPr>
          <p:nvPr>
            <p:ph type="sldNum" idx="3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121B-C1AE-4BFF-98B6-2390EF4D5E5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65" r:id="rId2"/>
    <p:sldLayoutId id="2147485366" r:id="rId3"/>
    <p:sldLayoutId id="2147485367" r:id="rId4"/>
    <p:sldLayoutId id="2147485368" r:id="rId5"/>
    <p:sldLayoutId id="2147485369" r:id="rId6"/>
    <p:sldLayoutId id="2147485370" r:id="rId7"/>
    <p:sldLayoutId id="2147485371" r:id="rId8"/>
    <p:sldLayoutId id="2147485372" r:id="rId9"/>
    <p:sldLayoutId id="2147485373" r:id="rId10"/>
    <p:sldLayoutId id="2147485374" r:id="rId11"/>
    <p:sldLayoutId id="2147485375" r:id="rId12"/>
    <p:sldLayoutId id="2147485376" r:id="rId13"/>
  </p:sldLayoutIdLst>
</p:sldMaster>
</file>

<file path=ppt/slideMasters/slideMaster1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5" name="PlaceHolder 3"/>
          <p:cNvSpPr>
            <a:spLocks noGrp="1"/>
          </p:cNvSpPr>
          <p:nvPr>
            <p:ph type="dt" idx="4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2794-6985-4C19-A893-BE29A878980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PlaceHolder 4"/>
          <p:cNvSpPr>
            <a:spLocks noGrp="1"/>
          </p:cNvSpPr>
          <p:nvPr>
            <p:ph type="ftr" idx="4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7" name="PlaceHolder 5"/>
          <p:cNvSpPr>
            <a:spLocks noGrp="1"/>
          </p:cNvSpPr>
          <p:nvPr>
            <p:ph type="sldNum" idx="4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EDB4-3B4C-4EA9-99E8-A3BCC853CE7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78" r:id="rId2"/>
    <p:sldLayoutId id="2147485379" r:id="rId3"/>
    <p:sldLayoutId id="2147485380" r:id="rId4"/>
    <p:sldLayoutId id="2147485381" r:id="rId5"/>
    <p:sldLayoutId id="2147485382" r:id="rId6"/>
    <p:sldLayoutId id="2147485383" r:id="rId7"/>
    <p:sldLayoutId id="2147485384" r:id="rId8"/>
    <p:sldLayoutId id="2147485385" r:id="rId9"/>
    <p:sldLayoutId id="2147485386" r:id="rId10"/>
    <p:sldLayoutId id="2147485387" r:id="rId11"/>
    <p:sldLayoutId id="2147485388" r:id="rId12"/>
    <p:sldLayoutId id="2147485389" r:id="rId13"/>
  </p:sldLayoutIdLst>
</p:sldMaster>
</file>

<file path=ppt/slideMasters/slideMaster1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6" name="PlaceHolder 3"/>
          <p:cNvSpPr>
            <a:spLocks noGrp="1"/>
          </p:cNvSpPr>
          <p:nvPr>
            <p:ph type="dt" idx="4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D656-F6AC-46B0-AE0F-406E97FB0A4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7" name="PlaceHolder 4"/>
          <p:cNvSpPr>
            <a:spLocks noGrp="1"/>
          </p:cNvSpPr>
          <p:nvPr>
            <p:ph type="ftr" idx="4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8" name="PlaceHolder 5"/>
          <p:cNvSpPr>
            <a:spLocks noGrp="1"/>
          </p:cNvSpPr>
          <p:nvPr>
            <p:ph type="sldNum" idx="4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CF06-5B30-4DEF-A7D3-67851A9734A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91" r:id="rId2"/>
    <p:sldLayoutId id="2147485392" r:id="rId3"/>
    <p:sldLayoutId id="2147485393" r:id="rId4"/>
    <p:sldLayoutId id="2147485394" r:id="rId5"/>
    <p:sldLayoutId id="2147485395" r:id="rId6"/>
    <p:sldLayoutId id="2147485396" r:id="rId7"/>
    <p:sldLayoutId id="2147485397" r:id="rId8"/>
    <p:sldLayoutId id="2147485398" r:id="rId9"/>
    <p:sldLayoutId id="2147485399" r:id="rId10"/>
    <p:sldLayoutId id="2147485400" r:id="rId11"/>
    <p:sldLayoutId id="2147485401" r:id="rId12"/>
    <p:sldLayoutId id="2147485402" r:id="rId13"/>
  </p:sldLayoutIdLst>
</p:sldMaster>
</file>

<file path=ppt/slideMasters/slideMaster1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7" name="PlaceHolder 3"/>
          <p:cNvSpPr>
            <a:spLocks noGrp="1"/>
          </p:cNvSpPr>
          <p:nvPr>
            <p:ph type="dt" idx="4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63EC-BF09-449C-B8F1-92634F83896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8" name="PlaceHolder 4"/>
          <p:cNvSpPr>
            <a:spLocks noGrp="1"/>
          </p:cNvSpPr>
          <p:nvPr>
            <p:ph type="ftr" idx="4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9" name="PlaceHolder 5"/>
          <p:cNvSpPr>
            <a:spLocks noGrp="1"/>
          </p:cNvSpPr>
          <p:nvPr>
            <p:ph type="sldNum" idx="4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9F48-F9EA-4609-A4A4-B31071A7D3E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04" r:id="rId2"/>
    <p:sldLayoutId id="2147485405" r:id="rId3"/>
    <p:sldLayoutId id="2147485406" r:id="rId4"/>
    <p:sldLayoutId id="2147485407" r:id="rId5"/>
    <p:sldLayoutId id="2147485408" r:id="rId6"/>
    <p:sldLayoutId id="2147485409" r:id="rId7"/>
    <p:sldLayoutId id="2147485410" r:id="rId8"/>
    <p:sldLayoutId id="2147485411" r:id="rId9"/>
    <p:sldLayoutId id="2147485412" r:id="rId10"/>
    <p:sldLayoutId id="2147485413" r:id="rId11"/>
    <p:sldLayoutId id="2147485414" r:id="rId12"/>
    <p:sldLayoutId id="2147485415" r:id="rId13"/>
  </p:sldLayoutIdLst>
</p:sldMaster>
</file>

<file path=ppt/slideMasters/slideMaster1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8" name="PlaceHolder 3"/>
          <p:cNvSpPr>
            <a:spLocks noGrp="1"/>
          </p:cNvSpPr>
          <p:nvPr>
            <p:ph type="dt" idx="4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7756-5B33-4D5C-8F67-770BC4DCA00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9" name="PlaceHolder 4"/>
          <p:cNvSpPr>
            <a:spLocks noGrp="1"/>
          </p:cNvSpPr>
          <p:nvPr>
            <p:ph type="ftr" idx="4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0" name="PlaceHolder 5"/>
          <p:cNvSpPr>
            <a:spLocks noGrp="1"/>
          </p:cNvSpPr>
          <p:nvPr>
            <p:ph type="sldNum" idx="4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1B7B-6F89-496D-8573-EE96191CE9A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17" r:id="rId2"/>
    <p:sldLayoutId id="2147485418" r:id="rId3"/>
    <p:sldLayoutId id="2147485419" r:id="rId4"/>
    <p:sldLayoutId id="2147485420" r:id="rId5"/>
    <p:sldLayoutId id="2147485421" r:id="rId6"/>
    <p:sldLayoutId id="2147485422" r:id="rId7"/>
    <p:sldLayoutId id="2147485423" r:id="rId8"/>
    <p:sldLayoutId id="2147485424" r:id="rId9"/>
    <p:sldLayoutId id="2147485425" r:id="rId10"/>
    <p:sldLayoutId id="2147485426" r:id="rId11"/>
    <p:sldLayoutId id="2147485427" r:id="rId12"/>
    <p:sldLayoutId id="2147485428" r:id="rId13"/>
  </p:sldLayoutIdLst>
</p:sldMaster>
</file>

<file path=ppt/slideMasters/slideMaster1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9" name="PlaceHolder 3"/>
          <p:cNvSpPr>
            <a:spLocks noGrp="1"/>
          </p:cNvSpPr>
          <p:nvPr>
            <p:ph type="dt" idx="4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917D-5056-4980-B3A8-7D1F487A95A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PlaceHolder 4"/>
          <p:cNvSpPr>
            <a:spLocks noGrp="1"/>
          </p:cNvSpPr>
          <p:nvPr>
            <p:ph type="ftr" idx="4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1" name="PlaceHolder 5"/>
          <p:cNvSpPr>
            <a:spLocks noGrp="1"/>
          </p:cNvSpPr>
          <p:nvPr>
            <p:ph type="sldNum" idx="4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3B19-F5E8-47AE-9E08-ABC401ED594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30" r:id="rId2"/>
    <p:sldLayoutId id="2147485431" r:id="rId3"/>
    <p:sldLayoutId id="2147485432" r:id="rId4"/>
    <p:sldLayoutId id="2147485433" r:id="rId5"/>
    <p:sldLayoutId id="2147485434" r:id="rId6"/>
    <p:sldLayoutId id="2147485435" r:id="rId7"/>
    <p:sldLayoutId id="2147485436" r:id="rId8"/>
    <p:sldLayoutId id="2147485437" r:id="rId9"/>
    <p:sldLayoutId id="2147485438" r:id="rId10"/>
    <p:sldLayoutId id="2147485439" r:id="rId11"/>
    <p:sldLayoutId id="2147485440" r:id="rId12"/>
    <p:sldLayoutId id="2147485441" r:id="rId13"/>
  </p:sldLayoutIdLst>
</p:sldMaster>
</file>

<file path=ppt/slideMasters/slideMaster1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0" name="PlaceHolder 3"/>
          <p:cNvSpPr>
            <a:spLocks noGrp="1"/>
          </p:cNvSpPr>
          <p:nvPr>
            <p:ph type="dt" idx="4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7F33-858A-465B-9B54-71EDC0AA4C6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PlaceHolder 4"/>
          <p:cNvSpPr>
            <a:spLocks noGrp="1"/>
          </p:cNvSpPr>
          <p:nvPr>
            <p:ph type="ftr" idx="4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2" name="PlaceHolder 5"/>
          <p:cNvSpPr>
            <a:spLocks noGrp="1"/>
          </p:cNvSpPr>
          <p:nvPr>
            <p:ph type="sldNum" idx="4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A43E-8408-4390-AE7C-4D24922B74C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43" r:id="rId2"/>
    <p:sldLayoutId id="2147485444" r:id="rId3"/>
    <p:sldLayoutId id="2147485445" r:id="rId4"/>
    <p:sldLayoutId id="2147485446" r:id="rId5"/>
    <p:sldLayoutId id="2147485447" r:id="rId6"/>
    <p:sldLayoutId id="2147485448" r:id="rId7"/>
    <p:sldLayoutId id="2147485449" r:id="rId8"/>
    <p:sldLayoutId id="2147485450" r:id="rId9"/>
    <p:sldLayoutId id="2147485451" r:id="rId10"/>
    <p:sldLayoutId id="2147485452" r:id="rId11"/>
    <p:sldLayoutId id="2147485453" r:id="rId12"/>
    <p:sldLayoutId id="2147485454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CF68-FA41-461B-B3A3-D1971C49B85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F386-6FED-4D0A-BF63-C90009988EC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1" name="PlaceHolder 3"/>
          <p:cNvSpPr>
            <a:spLocks noGrp="1"/>
          </p:cNvSpPr>
          <p:nvPr>
            <p:ph type="dt" idx="4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3DA5-71DB-46A5-8C46-ECF72ABDB94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2" name="PlaceHolder 4"/>
          <p:cNvSpPr>
            <a:spLocks noGrp="1"/>
          </p:cNvSpPr>
          <p:nvPr>
            <p:ph type="ftr" idx="4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PlaceHolder 5"/>
          <p:cNvSpPr>
            <a:spLocks noGrp="1"/>
          </p:cNvSpPr>
          <p:nvPr>
            <p:ph type="sldNum" idx="4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C143-9B62-434A-8D48-B852A8DD442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56" r:id="rId2"/>
    <p:sldLayoutId id="2147485457" r:id="rId3"/>
    <p:sldLayoutId id="2147485458" r:id="rId4"/>
    <p:sldLayoutId id="2147485459" r:id="rId5"/>
    <p:sldLayoutId id="2147485460" r:id="rId6"/>
    <p:sldLayoutId id="2147485461" r:id="rId7"/>
    <p:sldLayoutId id="2147485462" r:id="rId8"/>
    <p:sldLayoutId id="2147485463" r:id="rId9"/>
    <p:sldLayoutId id="2147485464" r:id="rId10"/>
    <p:sldLayoutId id="2147485465" r:id="rId11"/>
    <p:sldLayoutId id="2147485466" r:id="rId12"/>
    <p:sldLayoutId id="2147485467" r:id="rId13"/>
  </p:sldLayoutIdLst>
</p:sldMaster>
</file>

<file path=ppt/slideMasters/slideMaster1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2" name="PlaceHolder 3"/>
          <p:cNvSpPr>
            <a:spLocks noGrp="1"/>
          </p:cNvSpPr>
          <p:nvPr>
            <p:ph type="dt" idx="4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C6A5-8ECD-4EB9-8246-1FE72E7BF9E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PlaceHolder 4"/>
          <p:cNvSpPr>
            <a:spLocks noGrp="1"/>
          </p:cNvSpPr>
          <p:nvPr>
            <p:ph type="ftr" idx="4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PlaceHolder 5"/>
          <p:cNvSpPr>
            <a:spLocks noGrp="1"/>
          </p:cNvSpPr>
          <p:nvPr>
            <p:ph type="sldNum" idx="4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A8BE-FC02-45D3-9878-46A1F80AD29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69" r:id="rId2"/>
    <p:sldLayoutId id="2147485470" r:id="rId3"/>
    <p:sldLayoutId id="2147485471" r:id="rId4"/>
    <p:sldLayoutId id="2147485472" r:id="rId5"/>
    <p:sldLayoutId id="2147485473" r:id="rId6"/>
    <p:sldLayoutId id="2147485474" r:id="rId7"/>
    <p:sldLayoutId id="2147485475" r:id="rId8"/>
    <p:sldLayoutId id="2147485476" r:id="rId9"/>
    <p:sldLayoutId id="2147485477" r:id="rId10"/>
    <p:sldLayoutId id="2147485478" r:id="rId11"/>
    <p:sldLayoutId id="2147485479" r:id="rId12"/>
    <p:sldLayoutId id="2147485480" r:id="rId13"/>
  </p:sldLayoutIdLst>
</p:sldMaster>
</file>

<file path=ppt/slideMasters/slideMaster1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3" name="PlaceHolder 3"/>
          <p:cNvSpPr>
            <a:spLocks noGrp="1"/>
          </p:cNvSpPr>
          <p:nvPr>
            <p:ph type="dt" idx="4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172B-E119-43F6-8C05-76525E0AB83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PlaceHolder 4"/>
          <p:cNvSpPr>
            <a:spLocks noGrp="1"/>
          </p:cNvSpPr>
          <p:nvPr>
            <p:ph type="ftr" idx="4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5" name="PlaceHolder 5"/>
          <p:cNvSpPr>
            <a:spLocks noGrp="1"/>
          </p:cNvSpPr>
          <p:nvPr>
            <p:ph type="sldNum" idx="4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CB8D-84E0-4F47-8D5A-09D7649BA4E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82" r:id="rId2"/>
    <p:sldLayoutId id="2147485483" r:id="rId3"/>
    <p:sldLayoutId id="2147485484" r:id="rId4"/>
    <p:sldLayoutId id="2147485485" r:id="rId5"/>
    <p:sldLayoutId id="2147485486" r:id="rId6"/>
    <p:sldLayoutId id="2147485487" r:id="rId7"/>
    <p:sldLayoutId id="2147485488" r:id="rId8"/>
    <p:sldLayoutId id="2147485489" r:id="rId9"/>
    <p:sldLayoutId id="2147485490" r:id="rId10"/>
    <p:sldLayoutId id="2147485491" r:id="rId11"/>
    <p:sldLayoutId id="2147485492" r:id="rId12"/>
    <p:sldLayoutId id="2147485493" r:id="rId13"/>
  </p:sldLayoutIdLst>
</p:sldMaster>
</file>

<file path=ppt/slideMasters/slideMaster1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4" name="PlaceHolder 3"/>
          <p:cNvSpPr>
            <a:spLocks noGrp="1"/>
          </p:cNvSpPr>
          <p:nvPr>
            <p:ph type="dt" idx="4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0B24-2FA1-4D47-8DE9-2953345C1EE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5" name="PlaceHolder 4"/>
          <p:cNvSpPr>
            <a:spLocks noGrp="1"/>
          </p:cNvSpPr>
          <p:nvPr>
            <p:ph type="ftr" idx="4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6" name="PlaceHolder 5"/>
          <p:cNvSpPr>
            <a:spLocks noGrp="1"/>
          </p:cNvSpPr>
          <p:nvPr>
            <p:ph type="sldNum" idx="4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20C4-3E6A-4AF4-B4A5-5661CF81D57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95" r:id="rId2"/>
    <p:sldLayoutId id="2147485496" r:id="rId3"/>
    <p:sldLayoutId id="2147485497" r:id="rId4"/>
    <p:sldLayoutId id="2147485498" r:id="rId5"/>
    <p:sldLayoutId id="2147485499" r:id="rId6"/>
    <p:sldLayoutId id="2147485500" r:id="rId7"/>
    <p:sldLayoutId id="2147485501" r:id="rId8"/>
    <p:sldLayoutId id="2147485502" r:id="rId9"/>
    <p:sldLayoutId id="2147485503" r:id="rId10"/>
    <p:sldLayoutId id="2147485504" r:id="rId11"/>
    <p:sldLayoutId id="2147485505" r:id="rId12"/>
    <p:sldLayoutId id="2147485506" r:id="rId13"/>
  </p:sldLayoutIdLst>
</p:sldMaster>
</file>

<file path=ppt/slideMasters/slideMaster1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5" name="PlaceHolder 3"/>
          <p:cNvSpPr>
            <a:spLocks noGrp="1"/>
          </p:cNvSpPr>
          <p:nvPr>
            <p:ph type="dt" idx="4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F835-4E9C-418A-B83F-5C63843EE52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6" name="PlaceHolder 4"/>
          <p:cNvSpPr>
            <a:spLocks noGrp="1"/>
          </p:cNvSpPr>
          <p:nvPr>
            <p:ph type="ftr" idx="4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7" name="PlaceHolder 5"/>
          <p:cNvSpPr>
            <a:spLocks noGrp="1"/>
          </p:cNvSpPr>
          <p:nvPr>
            <p:ph type="sldNum" idx="4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FB09-6022-4E68-99AA-A3F24A010FB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08" r:id="rId2"/>
    <p:sldLayoutId id="2147485509" r:id="rId3"/>
    <p:sldLayoutId id="2147485510" r:id="rId4"/>
    <p:sldLayoutId id="2147485511" r:id="rId5"/>
    <p:sldLayoutId id="2147485512" r:id="rId6"/>
    <p:sldLayoutId id="2147485513" r:id="rId7"/>
    <p:sldLayoutId id="2147485514" r:id="rId8"/>
    <p:sldLayoutId id="2147485515" r:id="rId9"/>
    <p:sldLayoutId id="2147485516" r:id="rId10"/>
    <p:sldLayoutId id="2147485517" r:id="rId11"/>
    <p:sldLayoutId id="2147485518" r:id="rId12"/>
    <p:sldLayoutId id="2147485519" r:id="rId13"/>
  </p:sldLayoutIdLst>
</p:sldMaster>
</file>

<file path=ppt/slideMasters/slideMaster1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6" name="PlaceHolder 3"/>
          <p:cNvSpPr>
            <a:spLocks noGrp="1"/>
          </p:cNvSpPr>
          <p:nvPr>
            <p:ph type="dt" idx="4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CE83-7C62-4B29-8798-160B3281147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7" name="PlaceHolder 4"/>
          <p:cNvSpPr>
            <a:spLocks noGrp="1"/>
          </p:cNvSpPr>
          <p:nvPr>
            <p:ph type="ftr" idx="4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8" name="PlaceHolder 5"/>
          <p:cNvSpPr>
            <a:spLocks noGrp="1"/>
          </p:cNvSpPr>
          <p:nvPr>
            <p:ph type="sldNum" idx="4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F3DC-5C08-401E-B66A-226A69C5C61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21" r:id="rId2"/>
    <p:sldLayoutId id="2147485522" r:id="rId3"/>
    <p:sldLayoutId id="2147485523" r:id="rId4"/>
    <p:sldLayoutId id="2147485524" r:id="rId5"/>
    <p:sldLayoutId id="2147485525" r:id="rId6"/>
    <p:sldLayoutId id="2147485526" r:id="rId7"/>
    <p:sldLayoutId id="2147485527" r:id="rId8"/>
    <p:sldLayoutId id="2147485528" r:id="rId9"/>
    <p:sldLayoutId id="2147485529" r:id="rId10"/>
    <p:sldLayoutId id="2147485530" r:id="rId11"/>
    <p:sldLayoutId id="2147485531" r:id="rId12"/>
    <p:sldLayoutId id="2147485532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43DD-1C3A-4B7F-8951-DF668615B60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FB34-A604-4270-B88B-5224782B49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B569-52E1-4A6A-B43B-DC800146B89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1F1B-A502-49FE-9E1A-07E03E46413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8522-9129-489A-AD41-0EBED85DA9C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A86A-1BD3-4D61-A297-81BC16DFE6F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A337-3F6F-4A65-B29E-3E9F28E3B01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D5B6-0FD0-461A-B332-A21B26416BD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ABFE-34E0-4764-BD97-02896EB5C5A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609F-5AA9-4F13-89AC-A40201EA19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8DD1-07D9-459B-9254-BC3034B8F5D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8C71-9FD5-452A-B1B6-CDA10830E72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3CA0-3DF1-439E-87F1-CE6F50A4757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547E-AFB8-4A09-AE16-49A1D30515C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B473-3097-42A5-BBE2-6AA3EA2F1B3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AEFD-0EDF-4792-9A70-FA2A27F0457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DDA7-8AC9-48AA-A9D0-624AE231155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E619-035D-483E-8BF8-CD85A182D74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C1FB-BB41-4D73-8DDB-C4B6AA7412A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6A0E-A3AC-4D6A-8B03-92983466BE1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82BF-AF26-4AAC-B6B4-C88854401E5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FA65-F087-467F-AC82-07753195CF3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841C-6E92-4EB2-A5F6-384BE269C9A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B63C-215D-4188-BA20-85CFF85BA32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A4B5-077C-4E8A-84CC-03B03A6E845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7259-444F-429F-BC5E-458FD1403FD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21A9-83CC-43CF-9C01-C5A4A5034C2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41AA-D33F-4383-8B8B-489F6DE7722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9DF7-F08F-4CD9-89A7-CC7AF3B3A04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A1B5-828D-4C22-B816-506EAF9638E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806C-AA34-4D3C-B6A6-60774A6C704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545E-35BD-436D-83D6-B9768BAA72A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3B8A-892D-4541-8428-9C69E58E3F2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4490-3C21-42FE-B3A8-440ADB18EF2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2250-2CD4-4689-9B0F-3E52C9A210B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98D6-1027-4DBE-816E-C4D6ABB256B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1A19-2D5D-499D-9795-F4821DEFD4F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4B39-87AE-4C85-971C-16B7D2826F9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207F-06F4-4917-AE98-298E836C8A5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D0BC-FDF5-4CF1-A3F8-985931D77F1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CD8D-3D7E-495A-9300-FD058D2CD31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DFE4-6583-471C-8CFA-9E98591C1AF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2290-C532-4DA0-B7FF-EA4B9F6692A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B0DE-3600-441C-AD9C-32F560CCD31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53BF-DCA5-4126-9FB0-83BF31409B4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553B-3EEE-42EA-A7D9-EF37CD95859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174F-C38F-49FE-8286-EB9D120DD22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B34D-FC6E-4B72-A12E-F93246054DF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7E88-CF21-4AFE-A8C5-2F088B5E560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9B91-D154-4394-8E42-B0BEE211FC3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1B92-E6D8-4745-B974-CCEE0EBF75A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AC3A-27D2-4628-9573-E286EC30886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C469-F50E-466D-B1AF-80D0BEBB673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2975-F0E2-41E9-B42F-2C3ED2B46FA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4F26-F3EB-484F-ACF1-714293CA571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9279-91CA-48CA-9C18-AC2A5573C28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C626-5548-4075-9FB8-9F3361F4978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F4F3-C1C3-4D5F-BB60-EC9B1D95222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4C61-9216-4CAE-89D8-DA6F3BC276B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56A2-97AD-441F-9D7B-91E5EA65246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BD59-C911-4F18-83F0-D22B2F9042E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05C2-25A7-4190-855C-A3978A1ED55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2140-B3CC-4996-B3C1-07662A7ADB5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4EB1-35E3-4C88-BA99-7F1A937770A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3384-BEAD-4E84-921C-1A3AE39DF1E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4EE8-8022-42D3-97EB-1DF5306180D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BF6C-A882-4AFB-873C-2EBCDA7A374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1D9C-A7F3-4B22-A11F-3C1886E2E09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5396-D125-4292-8501-4953816FBDD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8330-A065-4AF4-B1EC-84268A70E83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101E-5FD1-4357-A9E1-FC7D04FFAE6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05CF-2743-4248-B040-2CDF5683666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D2F8-9684-4D2C-A120-72EC46937AF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8018-EB2D-4B8F-839A-A7393B4502A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7AB3-AA22-431F-9040-3E244C89CFC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9817-2F6D-48BB-BD41-F3B75AF2E99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8DF8-6ABE-491E-A331-63C9605781C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7404-8ACA-4146-A22C-E63E2C1B534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EA89-D4CC-400F-B5B4-04F2B4702B0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EA97-079D-494F-A693-DB034A907CD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5231-99C3-4F98-AC0A-E4CCC16EBEC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9B42-EB9F-45CD-B979-45AFD2EBDCD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D627-6735-438E-B746-65D79C056E5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B51B-330A-43E4-91CB-A4CF94D2C73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DDFC-CC0A-4025-9D66-398C39BF8F4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36B3-33BD-4965-B837-DCD457EAF43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279E-CB58-44B0-8165-9CE3DA437DE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7169-411D-4AF9-A403-C80ACEA2FC4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D88A-C16F-4C0A-A398-EA61986E009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BE2C-2176-44E9-A298-BF14FBC47F2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5163-F1A5-4768-A891-5D30EC67AAA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6DB2-EDC7-4A18-99EA-07990FE1497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dt" idx="1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4977-4C08-4BBE-99EC-405381BFDFA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4E9F-6A46-4D37-A989-70110FF7C31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B085-93B7-4CE0-B8B3-CFC03F9834E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 type="ftr" idx="1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 type="sldNum" idx="1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8481-7A1A-4994-AFB8-0FC432F1ACD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FD48-141C-45F5-841F-21688BEA133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BCF5-50DC-4427-9BDF-535A838EF77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5B0E-69F7-4B99-9123-16AE3D2689B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EA26-F4E7-4A6B-90D3-96B8495B3FB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EBC6-3D34-42CA-8430-EE0BD4C2E61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F6DA-E6E0-4C84-934F-527555DE15E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 type="dt" idx="1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2DAE-2C19-4EE8-A0EA-DF866E56C79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 type="ftr" idx="1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 type="sldNum" idx="1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ED35-ADB3-42E3-BB46-FCF420285B7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 type="dt" idx="1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ECB9-7020-4575-A440-79009B52804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 type="ftr" idx="1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 type="sldNum" idx="1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B337-534A-4828-A8EC-C67678C50B3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 type="dt" idx="1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B11F-94CC-490D-B9D7-0FED2474D08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 type="ftr" idx="1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 type="sldNum" idx="1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D08C-EF28-4FC3-B2BF-B5B3CBADF02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 type="dt" idx="1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38CB-A09E-4E32-9B19-A2342D37F37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 type="ftr" idx="1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 type="sldNum" idx="1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50D8-0D75-4941-BD85-953543F5B55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5577-7E4F-43DD-8E85-F4F2AA40DC6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8083-E687-46CF-8BCE-10A59395FDD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07D5-993F-4314-A66C-C487C6EA47B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49CB-3062-4EC7-A1EC-96B83AC7B62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891B-5115-4EBD-A5A4-C3D8F35E88C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A46F-AE75-42C2-933A-CB2C516F465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0C9F-922F-41AD-BB06-02EE460C873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C9E9-32CE-49EB-AE0E-2EE91AC8AEA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0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6EE2-7A5C-4F83-B2C6-B91DF9B193B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3A50-9673-41CB-830C-10D81A39631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ED67-6186-420A-B5E0-8C72BA091E3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3839-C7AB-4BED-BD02-8BEC48AE0D7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F59D-FB6A-413A-A36A-0A7DE81FB5F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B770-B8DF-4934-9C26-8CF8ADAD821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7B85-2292-4D9A-9599-B1360566228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5448-F6FA-444B-9B6D-7C4D74585E6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DA18-163D-40E8-9A82-6E25A0EFE31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1DE8-D694-4EBF-A495-593C0005907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 type="dt" idx="2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52AD-56F2-4E40-BBF3-464A9C0AD21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 type="ftr" idx="2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PlaceHolder 5"/>
          <p:cNvSpPr>
            <a:spLocks noGrp="1"/>
          </p:cNvSpPr>
          <p:nvPr>
            <p:ph type="sldNum" idx="2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62D4-AA4C-4E83-B78D-EAA6F14B431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5" name="PlaceHolder 3"/>
          <p:cNvSpPr>
            <a:spLocks noGrp="1"/>
          </p:cNvSpPr>
          <p:nvPr>
            <p:ph type="dt" idx="2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D0E0-B079-4BCA-9211-D174E8CB5FF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PlaceHolder 4"/>
          <p:cNvSpPr>
            <a:spLocks noGrp="1"/>
          </p:cNvSpPr>
          <p:nvPr>
            <p:ph type="ftr" idx="2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PlaceHolder 5"/>
          <p:cNvSpPr>
            <a:spLocks noGrp="1"/>
          </p:cNvSpPr>
          <p:nvPr>
            <p:ph type="sldNum" idx="2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3F20-AD26-40E4-8849-5B0DE879F9E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 type="dt" idx="2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BA1B-CA25-4F45-9FF0-D1FBE331952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PlaceHolder 4"/>
          <p:cNvSpPr>
            <a:spLocks noGrp="1"/>
          </p:cNvSpPr>
          <p:nvPr>
            <p:ph type="ftr" idx="2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PlaceHolder 5"/>
          <p:cNvSpPr>
            <a:spLocks noGrp="1"/>
          </p:cNvSpPr>
          <p:nvPr>
            <p:ph type="sldNum" idx="2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9B63-6835-48E6-99EB-F8102144A3F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7" name="PlaceHolder 3"/>
          <p:cNvSpPr>
            <a:spLocks noGrp="1"/>
          </p:cNvSpPr>
          <p:nvPr>
            <p:ph type="dt" idx="2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2717-3CE6-48E7-BA96-9F4D7BDAB55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PlaceHolder 4"/>
          <p:cNvSpPr>
            <a:spLocks noGrp="1"/>
          </p:cNvSpPr>
          <p:nvPr>
            <p:ph type="ftr" idx="2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PlaceHolder 5"/>
          <p:cNvSpPr>
            <a:spLocks noGrp="1"/>
          </p:cNvSpPr>
          <p:nvPr>
            <p:ph type="sldNum" idx="2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80A7-4CC2-490D-84A0-D5058F35FD2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PlaceHolder 3"/>
          <p:cNvSpPr>
            <a:spLocks noGrp="1"/>
          </p:cNvSpPr>
          <p:nvPr>
            <p:ph type="dt" idx="2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3B05-336C-4F57-A33A-8E1402B805C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PlaceHolder 4"/>
          <p:cNvSpPr>
            <a:spLocks noGrp="1"/>
          </p:cNvSpPr>
          <p:nvPr>
            <p:ph type="ftr" idx="2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PlaceHolder 5"/>
          <p:cNvSpPr>
            <a:spLocks noGrp="1"/>
          </p:cNvSpPr>
          <p:nvPr>
            <p:ph type="sldNum" idx="2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3E08-8AA3-4161-98C3-5800F50CEF7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9" name="PlaceHolder 3"/>
          <p:cNvSpPr>
            <a:spLocks noGrp="1"/>
          </p:cNvSpPr>
          <p:nvPr>
            <p:ph type="dt" idx="2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D6EF-65AC-4817-8D2A-3F692F43CA6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PlaceHolder 4"/>
          <p:cNvSpPr>
            <a:spLocks noGrp="1"/>
          </p:cNvSpPr>
          <p:nvPr>
            <p:ph type="ftr" idx="2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PlaceHolder 5"/>
          <p:cNvSpPr>
            <a:spLocks noGrp="1"/>
          </p:cNvSpPr>
          <p:nvPr>
            <p:ph type="sldNum" idx="2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D758-14E9-498E-AE90-A66734A3842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 type="dt" idx="2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E1E7-6E47-4618-AADC-17006EC5310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 type="ftr" idx="2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PlaceHolder 5"/>
          <p:cNvSpPr>
            <a:spLocks noGrp="1"/>
          </p:cNvSpPr>
          <p:nvPr>
            <p:ph type="sldNum" idx="2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E652-8E96-4A1B-A5F6-F682F2BB027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75C8-93DD-419F-8388-1C7D7BD69DE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074E-CBC2-4AFD-BAD3-04C6A730AE2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1" name="PlaceHolder 3"/>
          <p:cNvSpPr>
            <a:spLocks noGrp="1"/>
          </p:cNvSpPr>
          <p:nvPr>
            <p:ph type="dt" idx="2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36FD-3277-481E-B477-47DAEB9F8FB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PlaceHolder 4"/>
          <p:cNvSpPr>
            <a:spLocks noGrp="1"/>
          </p:cNvSpPr>
          <p:nvPr>
            <p:ph type="ftr" idx="2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PlaceHolder 5"/>
          <p:cNvSpPr>
            <a:spLocks noGrp="1"/>
          </p:cNvSpPr>
          <p:nvPr>
            <p:ph type="sldNum" idx="2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43D7-62F3-44C4-9F03-0C9E1F10614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 type="dt" idx="2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CE36-4FDD-4900-9B70-C0958DCCF14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 type="ftr" idx="2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PlaceHolder 5"/>
          <p:cNvSpPr>
            <a:spLocks noGrp="1"/>
          </p:cNvSpPr>
          <p:nvPr>
            <p:ph type="sldNum" idx="2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C442-214A-4A1C-BFBE-56F2993767A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 type="dt" idx="2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EFE1-0B18-4F05-935E-FDF8073EF9B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PlaceHolder 4"/>
          <p:cNvSpPr>
            <a:spLocks noGrp="1"/>
          </p:cNvSpPr>
          <p:nvPr>
            <p:ph type="ftr" idx="2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PlaceHolder 5"/>
          <p:cNvSpPr>
            <a:spLocks noGrp="1"/>
          </p:cNvSpPr>
          <p:nvPr>
            <p:ph type="sldNum" idx="2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CFFE-1F70-415B-8347-ADAF52B9E64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 type="dt" idx="2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E84E-1394-4E72-A8FC-FA2811D3E14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 type="ftr" idx="2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PlaceHolder 5"/>
          <p:cNvSpPr>
            <a:spLocks noGrp="1"/>
          </p:cNvSpPr>
          <p:nvPr>
            <p:ph type="sldNum" idx="2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256A-20F8-4E51-9305-EB1761BE6E8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5" name="PlaceHolder 3"/>
          <p:cNvSpPr>
            <a:spLocks noGrp="1"/>
          </p:cNvSpPr>
          <p:nvPr>
            <p:ph type="dt" idx="2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9917-3809-4E6B-AFF3-A13FA36BFE8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PlaceHolder 4"/>
          <p:cNvSpPr>
            <a:spLocks noGrp="1"/>
          </p:cNvSpPr>
          <p:nvPr>
            <p:ph type="ftr" idx="2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PlaceHolder 5"/>
          <p:cNvSpPr>
            <a:spLocks noGrp="1"/>
          </p:cNvSpPr>
          <p:nvPr>
            <p:ph type="sldNum" idx="2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375A-160B-4D2C-AE56-0E445E5E3C0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 type="dt" idx="2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108A-D4A2-4F2F-9276-AD8C5FF2F92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 type="ftr" idx="2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 type="sldNum" idx="2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4847-66CD-4F18-894F-CAC49D0DC6F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 type="dt" idx="2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1FDC-7C7C-421D-8354-BD61162972A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PlaceHolder 4"/>
          <p:cNvSpPr>
            <a:spLocks noGrp="1"/>
          </p:cNvSpPr>
          <p:nvPr>
            <p:ph type="ftr" idx="2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PlaceHolder 5"/>
          <p:cNvSpPr>
            <a:spLocks noGrp="1"/>
          </p:cNvSpPr>
          <p:nvPr>
            <p:ph type="sldNum" idx="2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4082-8D65-4EC9-8421-0EB91D1DF40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8" name="PlaceHolder 3"/>
          <p:cNvSpPr>
            <a:spLocks noGrp="1"/>
          </p:cNvSpPr>
          <p:nvPr>
            <p:ph type="dt" idx="25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36F0-930D-459A-BCBB-BBBDA0486A1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PlaceHolder 4"/>
          <p:cNvSpPr>
            <a:spLocks noGrp="1"/>
          </p:cNvSpPr>
          <p:nvPr>
            <p:ph type="ftr" idx="26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PlaceHolder 5"/>
          <p:cNvSpPr>
            <a:spLocks noGrp="1"/>
          </p:cNvSpPr>
          <p:nvPr>
            <p:ph type="sldNum" idx="26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BB17-6634-4C9E-81C2-ED93B1681ED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9" name="PlaceHolder 3"/>
          <p:cNvSpPr>
            <a:spLocks noGrp="1"/>
          </p:cNvSpPr>
          <p:nvPr>
            <p:ph type="dt" idx="26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8B42-1947-4CA3-8D9D-71A7CA76FD1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PlaceHolder 4"/>
          <p:cNvSpPr>
            <a:spLocks noGrp="1"/>
          </p:cNvSpPr>
          <p:nvPr>
            <p:ph type="ftr" idx="26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PlaceHolder 5"/>
          <p:cNvSpPr>
            <a:spLocks noGrp="1"/>
          </p:cNvSpPr>
          <p:nvPr>
            <p:ph type="sldNum" idx="26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F1CA-FAB4-44A7-88F0-B6428346D5B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0" name="PlaceHolder 3"/>
          <p:cNvSpPr>
            <a:spLocks noGrp="1"/>
          </p:cNvSpPr>
          <p:nvPr>
            <p:ph type="dt" idx="2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00F3-3B3E-4BB0-8392-159BDE82643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PlaceHolder 4"/>
          <p:cNvSpPr>
            <a:spLocks noGrp="1"/>
          </p:cNvSpPr>
          <p:nvPr>
            <p:ph type="ftr" idx="26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PlaceHolder 5"/>
          <p:cNvSpPr>
            <a:spLocks noGrp="1"/>
          </p:cNvSpPr>
          <p:nvPr>
            <p:ph type="sldNum" idx="26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2C7E-47AB-45F3-B354-8B503D1E729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75E1-909E-4110-B404-1BD0FB79880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4E71-397B-4028-BCD7-E2F3BDCB8EE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 type="dt" idx="2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510B-5EE9-41CB-BABF-4A2F7C22690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 type="ftr" idx="26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PlaceHolder 5"/>
          <p:cNvSpPr>
            <a:spLocks noGrp="1"/>
          </p:cNvSpPr>
          <p:nvPr>
            <p:ph type="sldNum" idx="27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DA17-1705-442F-9497-565A28BB31D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2" name="PlaceHolder 3"/>
          <p:cNvSpPr>
            <a:spLocks noGrp="1"/>
          </p:cNvSpPr>
          <p:nvPr>
            <p:ph type="dt" idx="2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A872-7BC4-42ED-865A-00CCDB95856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PlaceHolder 4"/>
          <p:cNvSpPr>
            <a:spLocks noGrp="1"/>
          </p:cNvSpPr>
          <p:nvPr>
            <p:ph type="ftr" idx="2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PlaceHolder 5"/>
          <p:cNvSpPr>
            <a:spLocks noGrp="1"/>
          </p:cNvSpPr>
          <p:nvPr>
            <p:ph type="sldNum" idx="27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06A8-28B6-4452-986D-D9A0DE4BB30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 type="dt" idx="27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9CE6-9BCD-4EA8-8136-070A3CCBE9C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PlaceHolder 4"/>
          <p:cNvSpPr>
            <a:spLocks noGrp="1"/>
          </p:cNvSpPr>
          <p:nvPr>
            <p:ph type="ftr" idx="27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PlaceHolder 5"/>
          <p:cNvSpPr>
            <a:spLocks noGrp="1"/>
          </p:cNvSpPr>
          <p:nvPr>
            <p:ph type="sldNum" idx="27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8F23-CE53-471C-A593-91ED86C53DB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 type="dt" idx="27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A520-FC2C-4173-9EB4-FB24F05FE9C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PlaceHolder 4"/>
          <p:cNvSpPr>
            <a:spLocks noGrp="1"/>
          </p:cNvSpPr>
          <p:nvPr>
            <p:ph type="ftr" idx="27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PlaceHolder 5"/>
          <p:cNvSpPr>
            <a:spLocks noGrp="1"/>
          </p:cNvSpPr>
          <p:nvPr>
            <p:ph type="sldNum" idx="27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E422-5F8F-44A6-ABE7-94336C5DAFD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 type="dt" idx="28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8631-DED6-4474-9B4E-5F5C668A697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PlaceHolder 4"/>
          <p:cNvSpPr>
            <a:spLocks noGrp="1"/>
          </p:cNvSpPr>
          <p:nvPr>
            <p:ph type="ftr" idx="28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PlaceHolder 5"/>
          <p:cNvSpPr>
            <a:spLocks noGrp="1"/>
          </p:cNvSpPr>
          <p:nvPr>
            <p:ph type="sldNum" idx="28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338F-991F-4A91-A471-53D5A5AFE36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6" name="PlaceHolder 3"/>
          <p:cNvSpPr>
            <a:spLocks noGrp="1"/>
          </p:cNvSpPr>
          <p:nvPr>
            <p:ph type="dt" idx="28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0C07-1A3A-4C96-B35F-CDAE682E75E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PlaceHolder 4"/>
          <p:cNvSpPr>
            <a:spLocks noGrp="1"/>
          </p:cNvSpPr>
          <p:nvPr>
            <p:ph type="ftr" idx="28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PlaceHolder 5"/>
          <p:cNvSpPr>
            <a:spLocks noGrp="1"/>
          </p:cNvSpPr>
          <p:nvPr>
            <p:ph type="sldNum" idx="28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2312-E47B-4862-B964-5117DBABD72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7" name="PlaceHolder 3"/>
          <p:cNvSpPr>
            <a:spLocks noGrp="1"/>
          </p:cNvSpPr>
          <p:nvPr>
            <p:ph type="dt" idx="28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93A6-CAE7-4FBE-85B9-806615652BD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PlaceHolder 4"/>
          <p:cNvSpPr>
            <a:spLocks noGrp="1"/>
          </p:cNvSpPr>
          <p:nvPr>
            <p:ph type="ftr" idx="28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PlaceHolder 5"/>
          <p:cNvSpPr>
            <a:spLocks noGrp="1"/>
          </p:cNvSpPr>
          <p:nvPr>
            <p:ph type="sldNum" idx="28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FD44-346F-4C61-834B-282C46A2FFF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 type="dt" idx="28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E48F-087A-4E6B-88F2-2F618BBB831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PlaceHolder 4"/>
          <p:cNvSpPr>
            <a:spLocks noGrp="1"/>
          </p:cNvSpPr>
          <p:nvPr>
            <p:ph type="ftr" idx="29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PlaceHolder 5"/>
          <p:cNvSpPr>
            <a:spLocks noGrp="1"/>
          </p:cNvSpPr>
          <p:nvPr>
            <p:ph type="sldNum" idx="29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1E0E-60CB-4D46-940A-9FA5EEC5238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9" name="PlaceHolder 3"/>
          <p:cNvSpPr>
            <a:spLocks noGrp="1"/>
          </p:cNvSpPr>
          <p:nvPr>
            <p:ph type="dt" idx="29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86F3-F157-4FB3-8740-DEB566BC40C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PlaceHolder 4"/>
          <p:cNvSpPr>
            <a:spLocks noGrp="1"/>
          </p:cNvSpPr>
          <p:nvPr>
            <p:ph type="ftr" idx="29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PlaceHolder 5"/>
          <p:cNvSpPr>
            <a:spLocks noGrp="1"/>
          </p:cNvSpPr>
          <p:nvPr>
            <p:ph type="sldNum" idx="29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AB0F-3183-4E62-AFB6-21EFD69990C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0" name="PlaceHolder 3"/>
          <p:cNvSpPr>
            <a:spLocks noGrp="1"/>
          </p:cNvSpPr>
          <p:nvPr>
            <p:ph type="dt" idx="29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7071-DDCD-4202-982F-050BDC2D070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PlaceHolder 4"/>
          <p:cNvSpPr>
            <a:spLocks noGrp="1"/>
          </p:cNvSpPr>
          <p:nvPr>
            <p:ph type="ftr" idx="29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PlaceHolder 5"/>
          <p:cNvSpPr>
            <a:spLocks noGrp="1"/>
          </p:cNvSpPr>
          <p:nvPr>
            <p:ph type="sldNum" idx="29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AF9C-BB33-4EE9-8F38-DBF7DF50F31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6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6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5" name="矩形 6"/>
          <p:cNvSpPr/>
          <p:nvPr/>
        </p:nvSpPr>
        <p:spPr>
          <a:xfrm>
            <a:off x="0" y="0"/>
            <a:ext cx="9153360" cy="3598920"/>
          </a:xfrm>
          <a:prstGeom prst="rect">
            <a:avLst/>
          </a:prstGeom>
          <a:solidFill>
            <a:srgbClr val="fdd6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6" name="矩形 7"/>
          <p:cNvSpPr/>
          <p:nvPr/>
        </p:nvSpPr>
        <p:spPr>
          <a:xfrm>
            <a:off x="-6480" y="4311720"/>
            <a:ext cx="9150480" cy="2546280"/>
          </a:xfrm>
          <a:prstGeom prst="rect">
            <a:avLst/>
          </a:prstGeom>
          <a:solidFill>
            <a:srgbClr val="aac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7" name="Group 4"/>
          <p:cNvGrpSpPr/>
          <p:nvPr/>
        </p:nvGrpSpPr>
        <p:grpSpPr>
          <a:xfrm>
            <a:off x="3419640" y="3598920"/>
            <a:ext cx="2304720" cy="3259080"/>
            <a:chOff x="3419640" y="3598920"/>
            <a:chExt cx="2304720" cy="3259080"/>
          </a:xfrm>
        </p:grpSpPr>
        <p:sp>
          <p:nvSpPr>
            <p:cNvPr id="5948" name="圆角矩形 4"/>
            <p:cNvSpPr/>
            <p:nvPr/>
          </p:nvSpPr>
          <p:spPr>
            <a:xfrm>
              <a:off x="3419640" y="3598920"/>
              <a:ext cx="2304720" cy="3259080"/>
            </a:xfrm>
            <a:custGeom>
              <a:avLst/>
              <a:gdLst>
                <a:gd name="textAreaLeft" fmla="*/ 65880 w 2304720"/>
                <a:gd name="textAreaRight" fmla="*/ 2238840 w 230472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43">
                  <a:moveTo>
                    <a:pt x="2118" y="0"/>
                  </a:moveTo>
                  <a:arcTo wR="2118" hR="2118" stAng="16200000" swAng="-5400000"/>
                  <a:lnTo>
                    <a:pt x="0" y="28425"/>
                  </a:lnTo>
                  <a:arcTo wR="2118" hR="2118" stAng="10800000" swAng="-5400000"/>
                  <a:lnTo>
                    <a:pt x="19482" y="30543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019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9" name="Group 6"/>
          <p:cNvGrpSpPr/>
          <p:nvPr/>
        </p:nvGrpSpPr>
        <p:grpSpPr>
          <a:xfrm>
            <a:off x="5894280" y="3598920"/>
            <a:ext cx="2305080" cy="3259080"/>
            <a:chOff x="5894280" y="3598920"/>
            <a:chExt cx="2305080" cy="3259080"/>
          </a:xfrm>
        </p:grpSpPr>
        <p:sp>
          <p:nvSpPr>
            <p:cNvPr id="5950" name="圆角矩形 5"/>
            <p:cNvSpPr/>
            <p:nvPr/>
          </p:nvSpPr>
          <p:spPr>
            <a:xfrm>
              <a:off x="5894280" y="3598920"/>
              <a:ext cx="2305080" cy="3259080"/>
            </a:xfrm>
            <a:custGeom>
              <a:avLst/>
              <a:gdLst>
                <a:gd name="textAreaLeft" fmla="*/ 65880 w 2305080"/>
                <a:gd name="textAreaRight" fmla="*/ 2239200 w 230508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38">
                  <a:moveTo>
                    <a:pt x="2118" y="0"/>
                  </a:moveTo>
                  <a:arcTo wR="2118" hR="2118" stAng="16200000" swAng="-5400000"/>
                  <a:lnTo>
                    <a:pt x="0" y="28420"/>
                  </a:lnTo>
                  <a:arcTo wR="2118" hR="2118" stAng="10800000" swAng="-5400000"/>
                  <a:lnTo>
                    <a:pt x="19482" y="30538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fff2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1" name="Group 8"/>
          <p:cNvGrpSpPr/>
          <p:nvPr/>
        </p:nvGrpSpPr>
        <p:grpSpPr>
          <a:xfrm>
            <a:off x="944640" y="3598920"/>
            <a:ext cx="2305080" cy="3259080"/>
            <a:chOff x="944640" y="3598920"/>
            <a:chExt cx="2305080" cy="3259080"/>
          </a:xfrm>
        </p:grpSpPr>
        <p:sp>
          <p:nvSpPr>
            <p:cNvPr id="5952" name="圆角矩形 13"/>
            <p:cNvSpPr/>
            <p:nvPr/>
          </p:nvSpPr>
          <p:spPr>
            <a:xfrm>
              <a:off x="944640" y="3598920"/>
              <a:ext cx="2305080" cy="3259080"/>
            </a:xfrm>
            <a:custGeom>
              <a:avLst/>
              <a:gdLst>
                <a:gd name="textAreaLeft" fmla="*/ 65880 w 2305080"/>
                <a:gd name="textAreaRight" fmla="*/ 2239200 w 230508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38">
                  <a:moveTo>
                    <a:pt x="2118" y="0"/>
                  </a:moveTo>
                  <a:arcTo wR="2118" hR="2118" stAng="16200000" swAng="-5400000"/>
                  <a:lnTo>
                    <a:pt x="0" y="28420"/>
                  </a:lnTo>
                  <a:arcTo wR="2118" hR="2118" stAng="10800000" swAng="-5400000"/>
                  <a:lnTo>
                    <a:pt x="19482" y="30538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277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53" name="Picture 2" descr=""/>
          <p:cNvPicPr/>
          <p:nvPr/>
        </p:nvPicPr>
        <p:blipFill>
          <a:blip r:embed="rId1"/>
          <a:stretch/>
        </p:blipFill>
        <p:spPr>
          <a:xfrm>
            <a:off x="-158760" y="1049400"/>
            <a:ext cx="4154400" cy="2546280"/>
          </a:xfrm>
          <a:prstGeom prst="rect">
            <a:avLst/>
          </a:prstGeom>
          <a:ln w="0">
            <a:noFill/>
          </a:ln>
        </p:spPr>
      </p:pic>
      <p:sp>
        <p:nvSpPr>
          <p:cNvPr id="5954" name="矩形 14"/>
          <p:cNvSpPr/>
          <p:nvPr/>
        </p:nvSpPr>
        <p:spPr>
          <a:xfrm>
            <a:off x="2892600" y="2662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9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59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59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5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59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5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5" name="矩形 14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6" name="矩形 12"/>
          <p:cNvSpPr/>
          <p:nvPr/>
        </p:nvSpPr>
        <p:spPr>
          <a:xfrm>
            <a:off x="-6480" y="0"/>
            <a:ext cx="9150480" cy="4311720"/>
          </a:xfrm>
          <a:prstGeom prst="rect">
            <a:avLst/>
          </a:prstGeom>
          <a:solidFill>
            <a:srgbClr val="fdd6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7" name="Group 4"/>
          <p:cNvGrpSpPr/>
          <p:nvPr/>
        </p:nvGrpSpPr>
        <p:grpSpPr>
          <a:xfrm>
            <a:off x="1285920" y="1165320"/>
            <a:ext cx="6353280" cy="3259080"/>
            <a:chOff x="1285920" y="1165320"/>
            <a:chExt cx="6353280" cy="3259080"/>
          </a:xfrm>
        </p:grpSpPr>
        <p:sp>
          <p:nvSpPr>
            <p:cNvPr id="5958" name="圆角矩形 9"/>
            <p:cNvSpPr/>
            <p:nvPr/>
          </p:nvSpPr>
          <p:spPr>
            <a:xfrm>
              <a:off x="1285920" y="1165320"/>
              <a:ext cx="6353280" cy="3259080"/>
            </a:xfrm>
            <a:prstGeom prst="roundRect">
              <a:avLst>
                <a:gd name="adj" fmla="val 9806"/>
              </a:avLst>
            </a:prstGeom>
            <a:solidFill>
              <a:srgbClr val="019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9" name="直接连接符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0" name="Picture 2" descr=""/>
          <p:cNvPicPr/>
          <p:nvPr/>
        </p:nvPicPr>
        <p:blipFill>
          <a:blip r:embed="rId1"/>
          <a:stretch/>
        </p:blipFill>
        <p:spPr>
          <a:xfrm>
            <a:off x="7238880" y="470700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1" name="矩形 12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aac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2" name="矩形 13"/>
          <p:cNvSpPr/>
          <p:nvPr/>
        </p:nvSpPr>
        <p:spPr>
          <a:xfrm>
            <a:off x="-6480" y="3598920"/>
            <a:ext cx="915048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3" name="Group 4"/>
          <p:cNvGrpSpPr/>
          <p:nvPr/>
        </p:nvGrpSpPr>
        <p:grpSpPr>
          <a:xfrm>
            <a:off x="1906560" y="1822320"/>
            <a:ext cx="4892760" cy="3259440"/>
            <a:chOff x="1906560" y="1822320"/>
            <a:chExt cx="4892760" cy="3259440"/>
          </a:xfrm>
        </p:grpSpPr>
        <p:sp>
          <p:nvSpPr>
            <p:cNvPr id="5964" name="圆角矩形 9"/>
            <p:cNvSpPr/>
            <p:nvPr/>
          </p:nvSpPr>
          <p:spPr>
            <a:xfrm>
              <a:off x="1906560" y="1822320"/>
              <a:ext cx="4892760" cy="3259440"/>
            </a:xfrm>
            <a:prstGeom prst="roundRect">
              <a:avLst>
                <a:gd name="adj" fmla="val 9806"/>
              </a:avLst>
            </a:prstGeom>
            <a:solidFill>
              <a:srgbClr val="fff2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65" name="Picture 8" descr=""/>
          <p:cNvPicPr/>
          <p:nvPr/>
        </p:nvPicPr>
        <p:blipFill>
          <a:blip r:embed="rId1"/>
          <a:stretch/>
        </p:blipFill>
        <p:spPr>
          <a:xfrm>
            <a:off x="7199280" y="491328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5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9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5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9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6" name="矩形 12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2774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7" name="Group 3"/>
          <p:cNvGrpSpPr/>
          <p:nvPr/>
        </p:nvGrpSpPr>
        <p:grpSpPr>
          <a:xfrm>
            <a:off x="2344680" y="1676520"/>
            <a:ext cx="4125960" cy="3259080"/>
            <a:chOff x="2344680" y="1676520"/>
            <a:chExt cx="4125960" cy="3259080"/>
          </a:xfrm>
        </p:grpSpPr>
        <p:sp>
          <p:nvSpPr>
            <p:cNvPr id="5968" name="圆角矩形 10"/>
            <p:cNvSpPr/>
            <p:nvPr/>
          </p:nvSpPr>
          <p:spPr>
            <a:xfrm>
              <a:off x="2344680" y="1676520"/>
              <a:ext cx="4125960" cy="3259080"/>
            </a:xfrm>
            <a:prstGeom prst="roundRect">
              <a:avLst>
                <a:gd name="adj" fmla="val 9806"/>
              </a:avLst>
            </a:prstGeom>
            <a:solidFill>
              <a:srgbClr val="dc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69" name="Picture 2" descr=""/>
          <p:cNvPicPr/>
          <p:nvPr/>
        </p:nvPicPr>
        <p:blipFill>
          <a:blip r:embed="rId1"/>
          <a:stretch/>
        </p:blipFill>
        <p:spPr>
          <a:xfrm>
            <a:off x="7210440" y="4924440"/>
            <a:ext cx="1933560" cy="1933560"/>
          </a:xfrm>
          <a:prstGeom prst="rect">
            <a:avLst/>
          </a:prstGeom>
          <a:ln w="0">
            <a:noFill/>
          </a:ln>
        </p:spPr>
      </p:pic>
      <p:pic>
        <p:nvPicPr>
          <p:cNvPr id="5970" name="Picture 2" descr=""/>
          <p:cNvPicPr/>
          <p:nvPr/>
        </p:nvPicPr>
        <p:blipFill>
          <a:blip r:embed="rId2"/>
          <a:stretch/>
        </p:blipFill>
        <p:spPr>
          <a:xfrm>
            <a:off x="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4C54-37FF-423F-B3AB-2205AA67F71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2" name="矩形 6"/>
          <p:cNvSpPr/>
          <p:nvPr/>
        </p:nvSpPr>
        <p:spPr>
          <a:xfrm>
            <a:off x="0" y="0"/>
            <a:ext cx="9153360" cy="3598920"/>
          </a:xfrm>
          <a:prstGeom prst="rect">
            <a:avLst/>
          </a:prstGeom>
          <a:solidFill>
            <a:srgbClr val="fff2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3" name="矩形 7"/>
          <p:cNvSpPr/>
          <p:nvPr/>
        </p:nvSpPr>
        <p:spPr>
          <a:xfrm>
            <a:off x="-6480" y="3598920"/>
            <a:ext cx="9150480" cy="3259080"/>
          </a:xfrm>
          <a:prstGeom prst="rect">
            <a:avLst/>
          </a:prstGeom>
          <a:solidFill>
            <a:srgbClr val="019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4" name="Group 5"/>
          <p:cNvGrpSpPr/>
          <p:nvPr/>
        </p:nvGrpSpPr>
        <p:grpSpPr>
          <a:xfrm>
            <a:off x="3419640" y="3598920"/>
            <a:ext cx="2304720" cy="3259080"/>
            <a:chOff x="3419640" y="3598920"/>
            <a:chExt cx="2304720" cy="3259080"/>
          </a:xfrm>
        </p:grpSpPr>
        <p:sp>
          <p:nvSpPr>
            <p:cNvPr id="5975" name="圆角矩形 4"/>
            <p:cNvSpPr/>
            <p:nvPr/>
          </p:nvSpPr>
          <p:spPr>
            <a:xfrm>
              <a:off x="3419640" y="3598920"/>
              <a:ext cx="2304720" cy="3259080"/>
            </a:xfrm>
            <a:custGeom>
              <a:avLst/>
              <a:gdLst>
                <a:gd name="textAreaLeft" fmla="*/ 65880 w 2304720"/>
                <a:gd name="textAreaRight" fmla="*/ 2238840 w 230472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43">
                  <a:moveTo>
                    <a:pt x="2118" y="0"/>
                  </a:moveTo>
                  <a:arcTo wR="2118" hR="2118" stAng="16200000" swAng="-5400000"/>
                  <a:lnTo>
                    <a:pt x="0" y="28425"/>
                  </a:lnTo>
                  <a:arcTo wR="2118" hR="2118" stAng="10800000" swAng="-5400000"/>
                  <a:lnTo>
                    <a:pt x="19482" y="30543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dc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6" name="Group 7"/>
          <p:cNvGrpSpPr/>
          <p:nvPr/>
        </p:nvGrpSpPr>
        <p:grpSpPr>
          <a:xfrm>
            <a:off x="5894280" y="3598920"/>
            <a:ext cx="2305080" cy="3259080"/>
            <a:chOff x="5894280" y="3598920"/>
            <a:chExt cx="2305080" cy="3259080"/>
          </a:xfrm>
        </p:grpSpPr>
        <p:sp>
          <p:nvSpPr>
            <p:cNvPr id="5977" name="圆角矩形 5"/>
            <p:cNvSpPr/>
            <p:nvPr/>
          </p:nvSpPr>
          <p:spPr>
            <a:xfrm>
              <a:off x="5894280" y="3598920"/>
              <a:ext cx="2305080" cy="3259080"/>
            </a:xfrm>
            <a:custGeom>
              <a:avLst/>
              <a:gdLst>
                <a:gd name="textAreaLeft" fmla="*/ 65880 w 2305080"/>
                <a:gd name="textAreaRight" fmla="*/ 2239200 w 230508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38">
                  <a:moveTo>
                    <a:pt x="2118" y="0"/>
                  </a:moveTo>
                  <a:arcTo wR="2118" hR="2118" stAng="16200000" swAng="-5400000"/>
                  <a:lnTo>
                    <a:pt x="0" y="28420"/>
                  </a:lnTo>
                  <a:arcTo wR="2118" hR="2118" stAng="10800000" swAng="-5400000"/>
                  <a:lnTo>
                    <a:pt x="19482" y="30538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dc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8" name="Group 9"/>
          <p:cNvGrpSpPr/>
          <p:nvPr/>
        </p:nvGrpSpPr>
        <p:grpSpPr>
          <a:xfrm>
            <a:off x="944640" y="3598920"/>
            <a:ext cx="2305080" cy="3259080"/>
            <a:chOff x="944640" y="3598920"/>
            <a:chExt cx="2305080" cy="3259080"/>
          </a:xfrm>
        </p:grpSpPr>
        <p:sp>
          <p:nvSpPr>
            <p:cNvPr id="5979" name="圆角矩形 13"/>
            <p:cNvSpPr/>
            <p:nvPr/>
          </p:nvSpPr>
          <p:spPr>
            <a:xfrm>
              <a:off x="944640" y="3598920"/>
              <a:ext cx="2305080" cy="3259080"/>
            </a:xfrm>
            <a:custGeom>
              <a:avLst/>
              <a:gdLst>
                <a:gd name="textAreaLeft" fmla="*/ 65880 w 2305080"/>
                <a:gd name="textAreaRight" fmla="*/ 2239200 w 230508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38">
                  <a:moveTo>
                    <a:pt x="2118" y="0"/>
                  </a:moveTo>
                  <a:arcTo wR="2118" hR="2118" stAng="16200000" swAng="-5400000"/>
                  <a:lnTo>
                    <a:pt x="0" y="28420"/>
                  </a:lnTo>
                  <a:arcTo wR="2118" hR="2118" stAng="10800000" swAng="-5400000"/>
                  <a:lnTo>
                    <a:pt x="19482" y="30538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dc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0" name="矩形 1"/>
          <p:cNvSpPr/>
          <p:nvPr/>
        </p:nvSpPr>
        <p:spPr>
          <a:xfrm>
            <a:off x="3871800" y="2649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谢谢大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1" name="Picture 2" descr=""/>
          <p:cNvPicPr/>
          <p:nvPr/>
        </p:nvPicPr>
        <p:blipFill>
          <a:blip r:embed="rId1"/>
          <a:srcRect l="0" t="0" r="-2021" b="0"/>
          <a:stretch/>
        </p:blipFill>
        <p:spPr>
          <a:xfrm>
            <a:off x="2646360" y="720720"/>
            <a:ext cx="4157640" cy="1916280"/>
          </a:xfrm>
          <a:prstGeom prst="rect">
            <a:avLst/>
          </a:prstGeom>
          <a:ln w="0">
            <a:noFill/>
          </a:ln>
        </p:spPr>
      </p:pic>
      <p:sp>
        <p:nvSpPr>
          <p:cNvPr id="5982" name="矩形 12"/>
          <p:cNvSpPr/>
          <p:nvPr/>
        </p:nvSpPr>
        <p:spPr>
          <a:xfrm>
            <a:off x="3260880" y="324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5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5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5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5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59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9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5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5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3:12:00Z</dcterms:created>
  <dc:creator>Windows 用户</dc:creator>
  <dc:description/>
  <dc:language>en-US</dc:language>
  <cp:lastModifiedBy>nana</cp:lastModifiedBy>
  <cp:lastPrinted>1899-12-30T00:00:00Z</cp:lastPrinted>
  <dcterms:modified xsi:type="dcterms:W3CDTF">2016-03-05T12:44:45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