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CF0-7B40-4CB7-8509-7D0874FD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FA4-9072-438F-81E8-98DDFEEC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9D0-B7DA-4F45-9C8D-02493CAF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1ED-FB10-4C3C-AAD2-C1B3919E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CB99-06BB-4011-B26D-236F0B3A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17E9-A24C-42FA-961D-690E871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32A1-F3A1-48D6-9844-29366EF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E14-86C1-449F-8012-FA50E3F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6A6-C0EE-4325-98F1-3D7C1266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7BCF-8963-469E-BBB1-9DCEE91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BEEC-C94C-438B-BEFC-1DE1381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C5D-8DAE-4A3E-A754-76914E0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5DC5-7E20-4D24-BDA0-4A632FA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487E-C6D1-4701-BAA7-3E7FD41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3D62-1B5D-4FB8-9493-C15D842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5138-6E08-4265-B93A-5D6A17FC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2FF-03DC-42E7-AFB6-AF7AC5CA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2ED-C8C6-456F-B142-FE7B206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399-BD48-4E90-9E10-A1B64D2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53A-16E7-4EA6-A4D2-9608127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776-CE09-4A6A-AD57-0833817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338-3F73-4793-9F24-8DD4976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458-86A5-4125-9878-CAFFF5A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97B-D81E-44C9-80B4-D90DF78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E843-DCC5-4FC4-82BD-630608B17554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510-2CF6-48EB-8F7B-8C75135658AC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Impact"/>
                <a:ea typeface="宋体"/>
              </a:rPr>
              <a:t>AGRICULTURE FARMER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838080" y="14479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Impact"/>
                <a:ea typeface="宋体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2" descr="farmer_and_his_wife_hg_clr"/>
          <p:cNvPicPr/>
          <p:nvPr/>
        </p:nvPicPr>
        <p:blipFill>
          <a:blip r:embed="rId1"/>
          <a:stretch/>
        </p:blipFill>
        <p:spPr>
          <a:xfrm>
            <a:off x="6539040" y="3905280"/>
            <a:ext cx="26049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" descr="farmer"/>
          <p:cNvPicPr/>
          <p:nvPr/>
        </p:nvPicPr>
        <p:blipFill>
          <a:blip r:embed="rId2"/>
          <a:stretch/>
        </p:blipFill>
        <p:spPr>
          <a:xfrm>
            <a:off x="6624720" y="4403880"/>
            <a:ext cx="23670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8:34Z</dcterms:created>
  <dc:creator>Billgates</dc:creator>
  <dc:description/>
  <dc:language>en-US</dc:language>
  <cp:lastModifiedBy>nana</cp:lastModifiedBy>
  <dcterms:modified xsi:type="dcterms:W3CDTF">2016-04-13T04:16:24Z</dcterms:modified>
  <cp:revision>5</cp:revision>
  <dc:subject/>
  <dc:title> </dc:title>
</cp:coreProperties>
</file>