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DD0F-3BB0-4408-9FEE-711D38F5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7D2-E494-440D-9926-118340A0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FD6FA-7B89-4665-BCDE-83434091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D3155-903B-49C5-92CF-5BC5E516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B6626-4C92-4464-9562-507CC750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F5D33-02A9-4AAD-B3AC-A83F3311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BEBFF-C410-492A-9DD8-00F60173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D2380-2FEC-4983-A673-6B1DD78C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59F4D-10BF-41D8-83A7-39777253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3BDE3-E9BB-4197-A072-CD9EDCF8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A38C0-19D6-4B6A-A9F7-D1E05C4C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49445-053B-4ECE-90D0-D3B5AEEB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995F-57E0-4717-B342-6690A3D6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FD790-7F65-42D2-B9EB-ECC3B6D0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A7A2F-A3E5-4CDB-B51B-9DC02C90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3FC87-E81D-4398-A14B-35B47F3C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BE07C-0BD5-479D-8615-45C88AB0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23FDD-DBA4-42EC-8393-8831CBF2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2F2BA-6D50-4FC1-8188-B7D65037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4178B-BBB5-43C3-AA4C-676761BB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2C340-B764-4AAF-B04A-A685F10E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5586D-9C91-41D5-9194-8EBC9E1A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E0779-F14B-4959-8098-8932486A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AE70-88D2-4A68-AC79-7A7A5809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FE424-FA82-4149-AEBE-AEFB8C9B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7C082-59E7-4919-8FA7-F9438BE6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7D273-90C5-4424-9A0A-CA7E28DA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39526-8337-4B4F-8F7A-0FE15130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3B3B1-7703-402C-93EB-7E4ED425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5C174-22F3-4369-895D-32716FF7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4F7F4-7071-450B-AF12-34D8CE06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7DBD6-26FB-42FF-A4EB-1F53722B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7252B-43C6-43EA-B67A-4915C100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D714C-7C0A-474A-9D75-53524C74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FF16-53C4-4D84-8C10-09F66D86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5F590-E515-4C57-9F69-93E50E74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35E85-5D72-4D8E-98AD-45242FB1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944C1-D9A2-4A42-9507-51E3C5ED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65AE6-3256-4980-B6F9-9BFD95E2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F4355-8D6F-48D7-B6AB-AA21C671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105E5-701B-4103-BA2D-B14F1374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B4BBD-3B56-405A-A388-517CF13B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DDF22-7071-485D-927F-C3DAFC24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9CD75-381C-40AA-96F2-560A808B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F76EF-3B09-4B0F-9795-53910219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1D72-D5ED-45C9-BBD8-504E35AD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05B7D-4CE7-4E8D-AC45-3B740F0D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41DB5-021F-4782-B216-C6FDEF19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193A0-226C-442E-862E-3097BB4D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70515-901D-45DA-B347-8BE3DBEF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01A88-BBA7-4F1F-9EA2-3A84E4D5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53F35D-1CC1-4868-BF86-3B71866C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2D9C1-ECA1-4DA0-99DF-821229D8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7A58D8-850D-4F7A-90D3-13C82C3D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8B82A4-06F2-4176-857C-E5665FBF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59CD5-50B5-4820-916E-1A4C76AA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6EC8-B9C8-4146-857A-4EDB7ECC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43C276-0962-482A-9941-005BA846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5CC621-4BEC-499A-BFB5-53BF15A8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4909C4-A4BA-4457-B159-71F11144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4ABD5B-FC83-4399-A7BF-FF8E16AE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323599-4798-4A5B-8C17-8A90538A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0452FE-D4E1-425A-8285-16280488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B6401-ED7E-4872-9031-D299FCA4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023D-6884-4EF9-AE09-C58739EA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076F-B161-4EBC-B5B7-0DF19874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DE21-4900-4D35-B885-020ECD0D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1689-5AFB-4806-9B72-99D03BD0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4DBD-792C-4CFF-ADA7-EB19352B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74D2-1936-4E50-B565-55707C0B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0BE8-DA3E-420A-AD31-84CD613A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6EC1-3757-46D7-ADD4-862CFACB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0BBC-619D-43CF-B380-A1548BD9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7DE3-0954-4974-80FE-105AEBE79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012D6-9222-4B36-B6BC-0D32D907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5D00E-9AFA-4BCB-832D-85B40C80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79A1B-239C-4542-A82A-2E12DB49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2A447-1B20-40C8-B68A-FC825F53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E67CE-33A6-49D6-B2B7-008881AE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1738-0130-43D8-B824-CF5069B5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75F9E-2D47-4561-924E-A672D154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BA04F-2CDC-4B1B-8CF6-7E539151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B12E9-3A98-4940-9765-F3FB6CE7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FB7B6-B19A-4259-BAB1-C5D83994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929A9-8048-4726-8EE7-1C4DE35E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ED4E6-6716-408E-BCBA-6682DD6A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51518-A43D-4721-BCEF-0F42AF2C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41FB1-8DBD-4238-8B0B-3C6802F0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9D3FA-CE01-4E72-B9AA-9E2DC523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22B10-BDA4-4B8C-998D-E45BE8CF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79F-1248-4D04-8173-2A4AC4E5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01993-E591-4BEC-9EE3-6E0E485C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F23C9-607E-48B2-9AA1-EC124AB6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53045-2393-4F7E-8F38-C239B5FF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B6F1A-82FB-451F-A6B9-D609EF32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674DA-25FC-438B-B75E-4F25F12D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7F8D1-B88F-4084-8075-7C020F7C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056F8-895D-4D11-BE61-42526B69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1A415-9F68-4F92-AEA3-0E89BFC0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B4DF2-E173-4208-8C57-245FB25F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AEBB4-3FA5-444C-9C22-05394E1F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D7DC-CD80-498B-90E4-5F3AF4B4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6A613-3ECB-48DE-8E3E-2CA27464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A8F64-419F-4216-97B0-88AD47AC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7213A-9310-44EC-99C0-440ADE00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39538-943A-43B8-9329-1A5B4265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4A2B1-C003-471A-9D62-C116D4FA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5CEAE-5C2A-40FC-BFC7-9EDA4A9C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E1C4A-3EC5-4A13-8445-C309CC76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E4824-D0DD-4ACC-AB51-9EF622F0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705DE-8220-4180-879A-98AE6383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B929E-3E7F-4F54-B5D3-CD26C361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4FA8-FFAD-4897-8047-A083A986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BEBC9-A838-446B-BD68-2EFA282A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503F8-51C4-4F55-9BA9-73929DB9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3CA2F-F340-41F9-AB3E-FFA89539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FE40F-948E-4AC2-9136-B2F67738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BB55D-15D0-4268-A5B0-C4C0F336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986C9-A018-4556-B977-1D833514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99743-DF30-4FD2-8617-6F709C9A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EB4B4-0FD9-48DD-8E78-CA4E9C58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B6741-AD76-4818-92AC-D7BCF37E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D0851-0942-46A3-8D37-367A55C3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789A-6510-4EB7-A6CD-5ECB3440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5C2F1-6C06-46F2-ABA9-76F07A99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217B9-7A20-480B-821E-44C239E8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B6F1D-CEC2-481D-AEF0-5492A86C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7D058-BAE9-489D-B7E6-D4A3D36A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80322-75FE-4513-8231-5F30BD53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5A3C1-45D6-405C-9273-CB074C35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D2E9D-DEF2-4286-9516-A9BD03FE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7999B-BD36-459A-809F-26E55F20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CF2C1-E4DD-4FEA-921C-0CCD31EC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1535E-5005-4228-809D-C16C67C6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8BB1-1626-4F83-A91D-A1C631DB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C41BA-FDBC-4EAE-8366-9082A351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3AD26-DE12-4E2E-85EB-5EC83456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DF3F7-5587-468B-A98B-06827F59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CF14C-81B6-4CBF-B969-3E79EF8C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3FB36-819F-46DE-BD5C-CB610110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54876-5B8C-494B-B55C-846E710E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D09D7-64CF-4A7E-BD5F-7C4CAA1D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2F925-85B1-4A59-AA4A-2586AEC3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81D41-F51F-413F-984C-A7B692C2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81C8A-991C-4385-9D9F-603CC497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4635-9C47-467B-B784-00A437C6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C2DB4-9CA1-43E4-8973-23D53FA2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EBAEA-4818-468B-8343-915276B7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FCBF0-BAA7-4498-B91B-6FE93A45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8914E-C517-4F93-B1B9-8F989A6D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6449A-C9E4-4DEB-A006-FE45B042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E6A3F-9538-4C21-A4EB-B676203F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8ECD5-5638-4B3D-85C4-D66931EB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63B62-F090-45D9-AB14-D7FA2C85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C9A0F-C5EC-4319-AC1F-FF88AFDC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18FBF-CF07-458D-B3E8-9B43F5F1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6963-D160-4B3E-98E2-D6D42F75444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3ECF-B21D-476B-A1A2-6626DCB83BF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0A67-2FF2-487B-8A48-B6BB006AD5B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0007-FB37-4ED7-A14F-D6B16D94773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7754-FF3B-4328-BA45-E1B95A3021E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6DBB-1841-468D-B405-A1154B9BA74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AAF0-66DD-4D39-AB20-1E995144A92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44E9-764D-4DB7-919D-60DAE6941B1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3243-59C6-495F-8448-2C96DAD680B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4DC6-E069-4CBB-AA00-08988443A42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97C0-EB68-41FA-83AB-668A792120B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5D69-DE30-43EA-B2AD-77DB54F3EDB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FA2A-A6A8-4CDD-984C-E97713E3B8A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6C14-D1AB-4CF2-9E96-F58B5A633A2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AC1D-D16D-4E40-B12F-BB8BD82115C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C2A2-F660-42BD-A5D6-754F9B1911F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C06B-EE12-404C-A34A-8D2496D998F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1911-2D42-4E0D-B124-9C7D4531EC9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3A80-CE42-48BC-9AC9-2EE5ED969EA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DAF9-F565-4463-AC88-8A8E12C975B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96E2-E9DC-444A-85CD-67EBA2E0EF9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1A05-929A-454D-AB3D-4B87AA7A3C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A5A3-194B-4009-B9C2-BC1B06B74B3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EF3F-0F7C-441B-AB80-ABFCF88FEB1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9A49-36E4-47F2-B119-4764830E2B9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23CA-CE6A-4124-8927-D2BC4D518B1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-106200" y="-92160"/>
            <a:ext cx="9358200" cy="5867640"/>
            <a:chOff x="-106200" y="-92160"/>
            <a:chExt cx="9358200" cy="5867640"/>
          </a:xfrm>
        </p:grpSpPr>
        <p:pic>
          <p:nvPicPr>
            <p:cNvPr id="534" name="Picture 3" descr=""/>
            <p:cNvPicPr/>
            <p:nvPr/>
          </p:nvPicPr>
          <p:blipFill>
            <a:blip r:embed="rId1"/>
            <a:srcRect l="0" t="2547" r="1365" b="5946"/>
            <a:stretch/>
          </p:blipFill>
          <p:spPr>
            <a:xfrm>
              <a:off x="-106200" y="-92160"/>
              <a:ext cx="9358200" cy="586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矩形 8"/>
            <p:cNvSpPr/>
            <p:nvPr/>
          </p:nvSpPr>
          <p:spPr>
            <a:xfrm>
              <a:off x="613440" y="2355480"/>
              <a:ext cx="518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矩形 9"/>
          <p:cNvSpPr/>
          <p:nvPr/>
        </p:nvSpPr>
        <p:spPr>
          <a:xfrm>
            <a:off x="611280" y="1725480"/>
            <a:ext cx="4032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7" descr=""/>
          <p:cNvPicPr/>
          <p:nvPr/>
        </p:nvPicPr>
        <p:blipFill>
          <a:blip r:embed="rId1"/>
          <a:stretch/>
        </p:blipFill>
        <p:spPr>
          <a:xfrm rot="13873800">
            <a:off x="1628640" y="2509920"/>
            <a:ext cx="3152880" cy="1838160"/>
          </a:xfrm>
          <a:prstGeom prst="rect">
            <a:avLst/>
          </a:prstGeom>
          <a:ln w="0">
            <a:noFill/>
          </a:ln>
        </p:spPr>
      </p:pic>
      <p:sp>
        <p:nvSpPr>
          <p:cNvPr id="538" name="矩形 20"/>
          <p:cNvSpPr/>
          <p:nvPr/>
        </p:nvSpPr>
        <p:spPr>
          <a:xfrm>
            <a:off x="1835280" y="1994040"/>
            <a:ext cx="3313080" cy="26287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1"/>
          <p:cNvSpPr/>
          <p:nvPr/>
        </p:nvSpPr>
        <p:spPr>
          <a:xfrm>
            <a:off x="2916360" y="24462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Calibri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直接连接符 13"/>
          <p:cNvSpPr/>
          <p:nvPr/>
        </p:nvSpPr>
        <p:spPr>
          <a:xfrm>
            <a:off x="3708360" y="1501920"/>
            <a:ext cx="0" cy="22795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4"/>
          <p:cNvSpPr/>
          <p:nvPr/>
        </p:nvSpPr>
        <p:spPr>
          <a:xfrm>
            <a:off x="4356000" y="150192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、单击此处添加文本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19"/>
          <p:cNvSpPr/>
          <p:nvPr/>
        </p:nvSpPr>
        <p:spPr>
          <a:xfrm>
            <a:off x="4356000" y="206064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、单击此处添加文本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21"/>
          <p:cNvSpPr/>
          <p:nvPr/>
        </p:nvSpPr>
        <p:spPr>
          <a:xfrm>
            <a:off x="4356000" y="261936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、单击此处添加文本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22"/>
          <p:cNvSpPr/>
          <p:nvPr/>
        </p:nvSpPr>
        <p:spPr>
          <a:xfrm>
            <a:off x="4356000" y="317808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、单击此处添加文本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椭圆 18"/>
          <p:cNvSpPr/>
          <p:nvPr/>
        </p:nvSpPr>
        <p:spPr>
          <a:xfrm>
            <a:off x="1547640" y="4622760"/>
            <a:ext cx="4319640" cy="360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3" descr=""/>
          <p:cNvPicPr/>
          <p:nvPr/>
        </p:nvPicPr>
        <p:blipFill>
          <a:blip r:embed="rId1"/>
          <a:srcRect l="0" t="0" r="20902" b="21843"/>
          <a:stretch/>
        </p:blipFill>
        <p:spPr>
          <a:xfrm>
            <a:off x="5651640" y="3865680"/>
            <a:ext cx="3492360" cy="1849320"/>
          </a:xfrm>
          <a:prstGeom prst="rect">
            <a:avLst/>
          </a:prstGeom>
          <a:ln w="0">
            <a:noFill/>
          </a:ln>
        </p:spPr>
      </p:pic>
      <p:grpSp>
        <p:nvGrpSpPr>
          <p:cNvPr id="547" name="Group 3"/>
          <p:cNvGrpSpPr/>
          <p:nvPr/>
        </p:nvGrpSpPr>
        <p:grpSpPr>
          <a:xfrm>
            <a:off x="-33480" y="-20520"/>
            <a:ext cx="5902560" cy="3093840"/>
            <a:chOff x="-33480" y="-20520"/>
            <a:chExt cx="5902560" cy="3093840"/>
          </a:xfrm>
        </p:grpSpPr>
        <p:grpSp>
          <p:nvGrpSpPr>
            <p:cNvPr id="548" name="Group 4"/>
            <p:cNvGrpSpPr/>
            <p:nvPr/>
          </p:nvGrpSpPr>
          <p:grpSpPr>
            <a:xfrm>
              <a:off x="-33480" y="-20520"/>
              <a:ext cx="5902560" cy="3093840"/>
              <a:chOff x="-33480" y="-20520"/>
              <a:chExt cx="5902560" cy="3093840"/>
            </a:xfrm>
          </p:grpSpPr>
          <p:pic>
            <p:nvPicPr>
              <p:cNvPr id="549" name="Picture 3" descr=""/>
              <p:cNvPicPr/>
              <p:nvPr/>
            </p:nvPicPr>
            <p:blipFill>
              <a:blip r:embed="rId2"/>
              <a:srcRect l="0" t="2547" r="63994" b="51860"/>
              <a:stretch/>
            </p:blipFill>
            <p:spPr>
              <a:xfrm>
                <a:off x="-33480" y="-20520"/>
                <a:ext cx="3416040" cy="292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矩形 7"/>
              <p:cNvSpPr/>
              <p:nvPr/>
            </p:nvSpPr>
            <p:spPr>
              <a:xfrm>
                <a:off x="686160" y="2426040"/>
                <a:ext cx="5182920" cy="64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" name="矩形 5"/>
            <p:cNvSpPr/>
            <p:nvPr/>
          </p:nvSpPr>
          <p:spPr>
            <a:xfrm>
              <a:off x="686160" y="1886040"/>
              <a:ext cx="23752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2" name="Picture 6" descr=""/>
          <p:cNvPicPr/>
          <p:nvPr/>
        </p:nvPicPr>
        <p:blipFill>
          <a:blip r:embed="rId3"/>
          <a:stretch/>
        </p:blipFill>
        <p:spPr>
          <a:xfrm>
            <a:off x="6948360" y="3936960"/>
            <a:ext cx="1354320" cy="1346400"/>
          </a:xfrm>
          <a:prstGeom prst="rect">
            <a:avLst/>
          </a:prstGeom>
          <a:ln w="0">
            <a:noFill/>
          </a:ln>
        </p:spPr>
      </p:pic>
      <p:sp>
        <p:nvSpPr>
          <p:cNvPr id="553" name="TextBox 9"/>
          <p:cNvSpPr/>
          <p:nvPr/>
        </p:nvSpPr>
        <p:spPr>
          <a:xfrm>
            <a:off x="1671480" y="1665360"/>
            <a:ext cx="61930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50"/>
                </a:solidFill>
                <a:latin typeface="Calibri"/>
                <a:ea typeface="微软雅黑"/>
              </a:rPr>
              <a:t>第一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添加文本内容添加文本内容添加文本内容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添加文本内容添加文本内容添加文本内容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添加文本内容添加文本内容添加文本内容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添加文本内容添加文本内容添加文本内容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添加文本内容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5" descr=""/>
          <p:cNvPicPr/>
          <p:nvPr/>
        </p:nvPicPr>
        <p:blipFill>
          <a:blip r:embed="rId1"/>
          <a:stretch/>
        </p:blipFill>
        <p:spPr>
          <a:xfrm>
            <a:off x="0" y="3297240"/>
            <a:ext cx="9145440" cy="2560680"/>
          </a:xfrm>
          <a:prstGeom prst="rect">
            <a:avLst/>
          </a:prstGeom>
          <a:ln w="0">
            <a:noFill/>
          </a:ln>
        </p:spPr>
      </p:pic>
      <p:sp>
        <p:nvSpPr>
          <p:cNvPr id="556" name="矩形 4"/>
          <p:cNvSpPr/>
          <p:nvPr/>
        </p:nvSpPr>
        <p:spPr>
          <a:xfrm>
            <a:off x="0" y="3443400"/>
            <a:ext cx="9145440" cy="227160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5" descr=""/>
          <p:cNvPicPr/>
          <p:nvPr/>
        </p:nvPicPr>
        <p:blipFill>
          <a:blip r:embed="rId1"/>
          <a:stretch/>
        </p:blipFill>
        <p:spPr>
          <a:xfrm>
            <a:off x="0" y="3297240"/>
            <a:ext cx="914544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08:19:00Z</dcterms:created>
  <dc:creator>王琳</dc:creator>
  <dc:description/>
  <cp:keywords/>
  <dc:language>en-US</dc:language>
  <cp:lastModifiedBy>nana</cp:lastModifiedBy>
  <cp:lastPrinted>1899-12-30T00:00:00Z</cp:lastPrinted>
  <dcterms:modified xsi:type="dcterms:W3CDTF">2016-03-05T15:45:22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