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7EE2-7E58-406A-A782-503AC365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7A2-2A17-4F6B-8BF4-FA5FD76B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9F0E-79E1-43B4-9E2B-9B531892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F53F-4190-421D-B90C-9AB98B09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53E-0DD3-4E21-9DAE-797A979D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959-21E6-4A67-B0A0-422A2C33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AAE2-2A47-4592-8023-A5D7CF07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679-3621-46C7-9B5B-A5A95AC3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CEB8-0434-4853-BBF6-06C3BBDE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51AA-AF68-43A7-90A0-2556AD34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76F9-D2EA-475C-A25E-CDC7BE93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8C8A-93DE-40E1-A0CE-F7056D43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445B0-4314-4699-95B5-9AB45313A1B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7E07F-3F12-47AD-9424-7532B0710E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0" y="2185920"/>
            <a:ext cx="9144000" cy="5907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1" descr=""/>
          <p:cNvPicPr/>
          <p:nvPr/>
        </p:nvPicPr>
        <p:blipFill>
          <a:blip r:embed="rId3"/>
          <a:stretch/>
        </p:blipFill>
        <p:spPr>
          <a:xfrm>
            <a:off x="5759280" y="1492200"/>
            <a:ext cx="3021120" cy="119556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12"/>
          <p:cNvSpPr/>
          <p:nvPr/>
        </p:nvSpPr>
        <p:spPr>
          <a:xfrm>
            <a:off x="1281600" y="149400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mple , Powerful and f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6"/>
          <p:cNvSpPr/>
          <p:nvPr/>
        </p:nvSpPr>
        <p:spPr>
          <a:xfrm>
            <a:off x="1467720" y="182736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  <a:ea typeface="微软雅黑"/>
              </a:rPr>
              <a:t>WPS office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让办公更轻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7"/>
          <p:cNvSpPr/>
          <p:nvPr/>
        </p:nvSpPr>
        <p:spPr>
          <a:xfrm>
            <a:off x="1292400" y="2173320"/>
            <a:ext cx="4233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40M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轻巧体积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分钟下载安装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indows\Linux\Mac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多平台支持，全面兼容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icrosoft Office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文档格式，并提供营养丰富的海量文档资源。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为您带来轻松愉悦的办公体验，每天已有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850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万人在使用它，你还不快试试？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8"/>
          <p:cNvSpPr/>
          <p:nvPr/>
        </p:nvSpPr>
        <p:spPr>
          <a:xfrm>
            <a:off x="428400" y="455940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Kingsoft Office Corporation © 2008-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9" descr=""/>
          <p:cNvPicPr/>
          <p:nvPr/>
        </p:nvPicPr>
        <p:blipFill>
          <a:blip r:embed="rId4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4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6" descr=""/>
          <p:cNvPicPr/>
          <p:nvPr/>
        </p:nvPicPr>
        <p:blipFill>
          <a:blip r:embed="rId2"/>
          <a:stretch/>
        </p:blipFill>
        <p:spPr>
          <a:xfrm>
            <a:off x="2101680" y="1373040"/>
            <a:ext cx="6537600" cy="100080"/>
          </a:xfrm>
          <a:prstGeom prst="rect">
            <a:avLst/>
          </a:prstGeom>
          <a:ln w="0">
            <a:noFill/>
          </a:ln>
        </p:spPr>
      </p:pic>
      <p:sp>
        <p:nvSpPr>
          <p:cNvPr id="52" name="矩形 8"/>
          <p:cNvSpPr/>
          <p:nvPr/>
        </p:nvSpPr>
        <p:spPr>
          <a:xfrm>
            <a:off x="3036960" y="1562040"/>
            <a:ext cx="357120" cy="36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3036960" y="2006640"/>
            <a:ext cx="357120" cy="365040"/>
          </a:xfrm>
          <a:prstGeom prst="rect">
            <a:avLst/>
          </a:prstGeom>
          <a:solidFill>
            <a:srgbClr val="093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3036960" y="2444760"/>
            <a:ext cx="357120" cy="3650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3036960" y="2897280"/>
            <a:ext cx="357120" cy="365040"/>
          </a:xfrm>
          <a:prstGeom prst="rect">
            <a:avLst/>
          </a:prstGeom>
          <a:solidFill>
            <a:srgbClr val="20d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5"/>
          <p:cNvSpPr/>
          <p:nvPr/>
        </p:nvSpPr>
        <p:spPr>
          <a:xfrm>
            <a:off x="5663880" y="9936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Catalog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6" descr=""/>
          <p:cNvPicPr/>
          <p:nvPr/>
        </p:nvPicPr>
        <p:blipFill>
          <a:blip r:embed="rId3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58" name="五角星 17"/>
          <p:cNvSpPr/>
          <p:nvPr/>
        </p:nvSpPr>
        <p:spPr>
          <a:xfrm>
            <a:off x="3116160" y="1649520"/>
            <a:ext cx="190440" cy="190440"/>
          </a:xfrm>
          <a:custGeom>
            <a:avLst/>
            <a:gdLst/>
            <a:ahLst/>
            <a:rect l="l" t="t" r="r" b="b"/>
            <a:pathLst>
              <a:path w="190500" h="190500">
                <a:moveTo>
                  <a:pt x="0" y="72764"/>
                </a:moveTo>
                <a:lnTo>
                  <a:pt x="72765" y="72765"/>
                </a:lnTo>
                <a:lnTo>
                  <a:pt x="95250" y="0"/>
                </a:lnTo>
                <a:lnTo>
                  <a:pt x="117735" y="72765"/>
                </a:lnTo>
                <a:lnTo>
                  <a:pt x="190500" y="72764"/>
                </a:lnTo>
                <a:lnTo>
                  <a:pt x="131632" y="117735"/>
                </a:lnTo>
                <a:lnTo>
                  <a:pt x="154118" y="190500"/>
                </a:lnTo>
                <a:lnTo>
                  <a:pt x="95250" y="145528"/>
                </a:lnTo>
                <a:lnTo>
                  <a:pt x="36382" y="190500"/>
                </a:lnTo>
                <a:lnTo>
                  <a:pt x="58868" y="117735"/>
                </a:lnTo>
                <a:lnTo>
                  <a:pt x="0" y="727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1"/>
          <p:cNvSpPr/>
          <p:nvPr/>
        </p:nvSpPr>
        <p:spPr>
          <a:xfrm>
            <a:off x="2800080" y="1488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2"/>
          <p:cNvSpPr/>
          <p:nvPr/>
        </p:nvSpPr>
        <p:spPr>
          <a:xfrm>
            <a:off x="2800080" y="1927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3"/>
          <p:cNvSpPr/>
          <p:nvPr/>
        </p:nvSpPr>
        <p:spPr>
          <a:xfrm>
            <a:off x="2800080" y="2379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4"/>
          <p:cNvSpPr/>
          <p:nvPr/>
        </p:nvSpPr>
        <p:spPr>
          <a:xfrm>
            <a:off x="2800080" y="281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5"/>
          <p:cNvSpPr/>
          <p:nvPr/>
        </p:nvSpPr>
        <p:spPr>
          <a:xfrm>
            <a:off x="3594960" y="1612800"/>
            <a:ext cx="192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6"/>
          <p:cNvSpPr/>
          <p:nvPr/>
        </p:nvSpPr>
        <p:spPr>
          <a:xfrm>
            <a:off x="3565800" y="2035080"/>
            <a:ext cx="88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riter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7"/>
          <p:cNvSpPr/>
          <p:nvPr/>
        </p:nvSpPr>
        <p:spPr>
          <a:xfrm>
            <a:off x="3526920" y="2487600"/>
            <a:ext cx="13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resentation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8"/>
          <p:cNvSpPr/>
          <p:nvPr/>
        </p:nvSpPr>
        <p:spPr>
          <a:xfrm>
            <a:off x="3518280" y="2924280"/>
            <a:ext cx="136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Spreadsheet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表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1"/>
          <p:cNvSpPr/>
          <p:nvPr/>
        </p:nvSpPr>
        <p:spPr>
          <a:xfrm>
            <a:off x="5073480" y="1219320"/>
            <a:ext cx="879480" cy="896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五角星 15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6" descr=""/>
          <p:cNvPicPr/>
          <p:nvPr/>
        </p:nvPicPr>
        <p:blipFill>
          <a:blip r:embed="rId3"/>
          <a:stretch/>
        </p:blipFill>
        <p:spPr>
          <a:xfrm>
            <a:off x="2008080" y="1219320"/>
            <a:ext cx="2871720" cy="280980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7"/>
          <p:cNvSpPr/>
          <p:nvPr/>
        </p:nvSpPr>
        <p:spPr>
          <a:xfrm>
            <a:off x="2206080" y="1335240"/>
            <a:ext cx="235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8"/>
          <p:cNvSpPr/>
          <p:nvPr/>
        </p:nvSpPr>
        <p:spPr>
          <a:xfrm>
            <a:off x="2100600" y="1596960"/>
            <a:ext cx="1213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bfbfbf"/>
                </a:solidFill>
                <a:latin typeface="Arial"/>
                <a:ea typeface="微软雅黑"/>
              </a:rPr>
              <a:t>New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9"/>
          <p:cNvSpPr/>
          <p:nvPr/>
        </p:nvSpPr>
        <p:spPr>
          <a:xfrm>
            <a:off x="2448360" y="2065320"/>
            <a:ext cx="125604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表格新引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文件保险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直接转换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DOC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格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高亮显示引用单元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在线设计模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多种界面配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支持文档并排窗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自定义快速访问工具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1"/>
          <p:cNvSpPr/>
          <p:nvPr/>
        </p:nvSpPr>
        <p:spPr>
          <a:xfrm>
            <a:off x="2266920" y="2228760"/>
            <a:ext cx="4464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2"/>
          <p:cNvSpPr/>
          <p:nvPr/>
        </p:nvSpPr>
        <p:spPr>
          <a:xfrm>
            <a:off x="2266920" y="244152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3"/>
          <p:cNvSpPr/>
          <p:nvPr/>
        </p:nvSpPr>
        <p:spPr>
          <a:xfrm>
            <a:off x="2266920" y="26542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4"/>
          <p:cNvSpPr/>
          <p:nvPr/>
        </p:nvSpPr>
        <p:spPr>
          <a:xfrm>
            <a:off x="2266920" y="28684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5"/>
          <p:cNvSpPr/>
          <p:nvPr/>
        </p:nvSpPr>
        <p:spPr>
          <a:xfrm>
            <a:off x="2266920" y="308124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6"/>
          <p:cNvSpPr/>
          <p:nvPr/>
        </p:nvSpPr>
        <p:spPr>
          <a:xfrm>
            <a:off x="2266920" y="3295800"/>
            <a:ext cx="44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7"/>
          <p:cNvSpPr/>
          <p:nvPr/>
        </p:nvSpPr>
        <p:spPr>
          <a:xfrm>
            <a:off x="2266920" y="350820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8"/>
          <p:cNvSpPr/>
          <p:nvPr/>
        </p:nvSpPr>
        <p:spPr>
          <a:xfrm>
            <a:off x="2266920" y="372276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6"/>
          <p:cNvGrpSpPr/>
          <p:nvPr/>
        </p:nvGrpSpPr>
        <p:grpSpPr>
          <a:xfrm>
            <a:off x="1125360" y="1219320"/>
            <a:ext cx="3754440" cy="2880360"/>
            <a:chOff x="1125360" y="1219320"/>
            <a:chExt cx="3754440" cy="2880360"/>
          </a:xfrm>
        </p:grpSpPr>
        <p:sp>
          <p:nvSpPr>
            <p:cNvPr id="97" name="矩形 7"/>
            <p:cNvSpPr/>
            <p:nvPr/>
          </p:nvSpPr>
          <p:spPr>
            <a:xfrm>
              <a:off x="1125360" y="1219320"/>
              <a:ext cx="883080" cy="90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五角星 8"/>
            <p:cNvSpPr/>
            <p:nvPr/>
          </p:nvSpPr>
          <p:spPr>
            <a:xfrm>
              <a:off x="1245960" y="1314360"/>
              <a:ext cx="642960" cy="641160"/>
            </a:xfrm>
            <a:custGeom>
              <a:avLst/>
              <a:gdLst/>
              <a:ahLst/>
              <a:rect l="l" t="t" r="r" b="b"/>
              <a:pathLst>
                <a:path w="642841" h="641452">
                  <a:moveTo>
                    <a:pt x="1" y="245012"/>
                  </a:moveTo>
                  <a:lnTo>
                    <a:pt x="245545" y="245014"/>
                  </a:lnTo>
                  <a:lnTo>
                    <a:pt x="321421" y="0"/>
                  </a:lnTo>
                  <a:lnTo>
                    <a:pt x="397296" y="245014"/>
                  </a:lnTo>
                  <a:lnTo>
                    <a:pt x="642840" y="245012"/>
                  </a:lnTo>
                  <a:lnTo>
                    <a:pt x="444190" y="396437"/>
                  </a:lnTo>
                  <a:lnTo>
                    <a:pt x="520069" y="641450"/>
                  </a:lnTo>
                  <a:lnTo>
                    <a:pt x="321421" y="490022"/>
                  </a:lnTo>
                  <a:lnTo>
                    <a:pt x="122772" y="641450"/>
                  </a:lnTo>
                  <a:lnTo>
                    <a:pt x="198651" y="396437"/>
                  </a:lnTo>
                  <a:lnTo>
                    <a:pt x="1" y="245012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图片 9" descr=""/>
            <p:cNvPicPr/>
            <p:nvPr/>
          </p:nvPicPr>
          <p:blipFill>
            <a:blip r:embed="rId3"/>
            <a:stretch/>
          </p:blipFill>
          <p:spPr>
            <a:xfrm>
              <a:off x="2008440" y="1219320"/>
              <a:ext cx="28713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文本框 10"/>
            <p:cNvSpPr/>
            <p:nvPr/>
          </p:nvSpPr>
          <p:spPr>
            <a:xfrm>
              <a:off x="2206800" y="1335240"/>
              <a:ext cx="235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 Office 2012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新功能介绍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11"/>
            <p:cNvSpPr/>
            <p:nvPr/>
          </p:nvSpPr>
          <p:spPr>
            <a:xfrm>
              <a:off x="2100600" y="1598040"/>
              <a:ext cx="1213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New fun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12"/>
            <p:cNvSpPr/>
            <p:nvPr/>
          </p:nvSpPr>
          <p:spPr>
            <a:xfrm>
              <a:off x="2448360" y="2064960"/>
              <a:ext cx="1256040" cy="20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表格新引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件保险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高亮显示引用单元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多种界面配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支持文档并排窗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自定义快速访问工具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3"/>
            <p:cNvSpPr/>
            <p:nvPr/>
          </p:nvSpPr>
          <p:spPr>
            <a:xfrm>
              <a:off x="2266200" y="22280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14"/>
            <p:cNvSpPr/>
            <p:nvPr/>
          </p:nvSpPr>
          <p:spPr>
            <a:xfrm>
              <a:off x="2266200" y="24415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5"/>
            <p:cNvSpPr/>
            <p:nvPr/>
          </p:nvSpPr>
          <p:spPr>
            <a:xfrm>
              <a:off x="2266200" y="26550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16"/>
            <p:cNvSpPr/>
            <p:nvPr/>
          </p:nvSpPr>
          <p:spPr>
            <a:xfrm>
              <a:off x="2266200" y="286848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17"/>
            <p:cNvSpPr/>
            <p:nvPr/>
          </p:nvSpPr>
          <p:spPr>
            <a:xfrm>
              <a:off x="2266200" y="308196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18"/>
            <p:cNvSpPr/>
            <p:nvPr/>
          </p:nvSpPr>
          <p:spPr>
            <a:xfrm>
              <a:off x="2266200" y="32954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19"/>
            <p:cNvSpPr/>
            <p:nvPr/>
          </p:nvSpPr>
          <p:spPr>
            <a:xfrm>
              <a:off x="2266200" y="35089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20"/>
            <p:cNvSpPr/>
            <p:nvPr/>
          </p:nvSpPr>
          <p:spPr>
            <a:xfrm>
              <a:off x="2266200" y="37224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23"/>
          <p:cNvSpPr/>
          <p:nvPr/>
        </p:nvSpPr>
        <p:spPr>
          <a:xfrm>
            <a:off x="930240" y="9968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22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pic>
          <p:nvPicPr>
            <p:cNvPr id="113" name="图片 24" descr=""/>
            <p:cNvPicPr/>
            <p:nvPr/>
          </p:nvPicPr>
          <p:blipFill>
            <a:blip r:embed="rId4"/>
            <a:stretch/>
          </p:blipFill>
          <p:spPr>
            <a:xfrm>
              <a:off x="4006800" y="0"/>
              <a:ext cx="477216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图片 25" descr=""/>
            <p:cNvPicPr/>
            <p:nvPr/>
          </p:nvPicPr>
          <p:blipFill>
            <a:blip r:embed="rId5"/>
            <a:stretch/>
          </p:blipFill>
          <p:spPr>
            <a:xfrm>
              <a:off x="4792320" y="1792080"/>
              <a:ext cx="3405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文本框 26"/>
            <p:cNvSpPr/>
            <p:nvPr/>
          </p:nvSpPr>
          <p:spPr>
            <a:xfrm>
              <a:off x="4437720" y="234720"/>
              <a:ext cx="866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5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27"/>
            <p:cNvSpPr/>
            <p:nvPr/>
          </p:nvSpPr>
          <p:spPr>
            <a:xfrm>
              <a:off x="5451840" y="5630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海量设计模板，喜欢它，一键替换吧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8271E-006 -1.43783E-006 L -0.12416 0.00648 E">
                                      <p:cBhvr>
                                        <p:cTn id="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4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8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五角星 11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0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27" name="矩形 3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图片 13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文本框 14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15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16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17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18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19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0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6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42" name="矩形 8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图片 9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文本框 10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11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12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3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14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15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6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6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grpSp>
          <p:nvGrpSpPr>
            <p:cNvPr id="152" name="Group 17"/>
            <p:cNvGrpSpPr/>
            <p:nvPr/>
          </p:nvGrpSpPr>
          <p:grpSpPr>
            <a:xfrm>
              <a:off x="4006800" y="0"/>
              <a:ext cx="4772160" cy="5143680"/>
              <a:chOff x="4006800" y="0"/>
              <a:chExt cx="4772160" cy="5143680"/>
            </a:xfrm>
          </p:grpSpPr>
          <p:pic>
            <p:nvPicPr>
              <p:cNvPr id="153" name="图片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4006800" y="0"/>
                <a:ext cx="47721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文本框 20"/>
              <p:cNvSpPr/>
              <p:nvPr/>
            </p:nvSpPr>
            <p:spPr>
              <a:xfrm>
                <a:off x="4301280" y="234720"/>
                <a:ext cx="17935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直接转换</a:t>
                </a: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格式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文本框 21"/>
              <p:cNvSpPr/>
              <p:nvPr/>
            </p:nvSpPr>
            <p:spPr>
              <a:xfrm>
                <a:off x="4753440" y="563040"/>
                <a:ext cx="3260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WPS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演示支持将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幻灯片直接转换为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格式，进行文档资料保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6" name="图片 22" descr=""/>
            <p:cNvPicPr/>
            <p:nvPr/>
          </p:nvPicPr>
          <p:blipFill>
            <a:blip r:embed="rId6"/>
            <a:stretch/>
          </p:blipFill>
          <p:spPr>
            <a:xfrm>
              <a:off x="4243320" y="1401480"/>
              <a:ext cx="3985200" cy="357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2679E-006 -2.19068E-007 L -0.23302 -2.19068E-007 E">
                                      <p:cBhvr>
                                        <p:cTn id="1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3" descr=""/>
          <p:cNvPicPr/>
          <p:nvPr/>
        </p:nvPicPr>
        <p:blipFill>
          <a:blip r:embed="rId1"/>
          <a:stretch/>
        </p:blipFill>
        <p:spPr>
          <a:xfrm>
            <a:off x="3208320" y="1971720"/>
            <a:ext cx="2703600" cy="11746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4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5"/>
          <p:cNvSpPr/>
          <p:nvPr/>
        </p:nvSpPr>
        <p:spPr>
          <a:xfrm>
            <a:off x="428400" y="455940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Kingsoft Office Corporation © 2008-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6" descr=""/>
          <p:cNvPicPr/>
          <p:nvPr/>
        </p:nvPicPr>
        <p:blipFill>
          <a:blip r:embed="rId3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5:12:00Z</dcterms:created>
  <dc:creator>Diana</dc:creator>
  <dc:description/>
  <cp:keywords/>
  <dc:language>en-US</dc:language>
  <cp:lastModifiedBy>姜天宝</cp:lastModifiedBy>
  <dcterms:modified xsi:type="dcterms:W3CDTF">2014-11-15T01:50:30Z</dcterms:modified>
  <cp:revision>72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KSOProductBuildVer">
    <vt:lpwstr>2052-9.1.0.4856</vt:lpwstr>
  </property>
</Properties>
</file>