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AA4E1-A7D3-4FA3-879E-180D5AED4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EBC7D-ED8F-41CF-A257-FF55634CB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D7708-F9F7-4F2A-B91D-43D83B97F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00771-F811-4606-A4D1-7338CC9D7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C7FA7-A552-4B58-B9B5-BDCA5C8E4A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F0AA1-0D20-4912-80FE-DCCCEE77D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5EDAA-828A-4C9C-87C0-07BDD56BB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67993-D176-4C1B-B958-03FC950D3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9B0E1-F9CF-4886-AC9B-CE9E0D48B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53F23-4170-416C-B390-BF053CF6D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69F1F-4838-47E6-80D9-314AD8516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01A8A-DEBC-447B-BEA9-438BEAA34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9D58D-EF88-4E69-9653-D37C3961B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82111-972E-4302-A4DC-099FF5A25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0568D-0FA8-4631-A86A-12C68C81C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AB676-422F-44D6-926E-75A0AB8108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2A17D2-795F-4BCE-A8FC-DE0915763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63D8C-C399-41F5-B549-9A3972351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A8A8D-2C6E-4153-853C-8F93383A8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0F3A5-9611-4DFE-B9D8-974430FB8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D6DA0-EC67-4170-A6EC-BF58CE608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150BA-C24F-496D-874A-D3A2AE102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75FC2-66E7-4208-9017-F3CFB5201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F00D6-CFA5-4A21-81B2-D9977CB50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72E97-D18F-49E4-A013-FF8F993F8B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96F69-99C6-426D-8E9F-0206CC19A7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4267080" y="838080"/>
            <a:ext cx="5029200" cy="60984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ation Subtitle</a:t>
            </a:r>
            <a:endParaRPr b="0" lang="en-US" sz="2400" spc="-1" strike="noStrike">
              <a:solidFill>
                <a:srgbClr val="000000"/>
              </a:solidFill>
              <a:latin typeface="Calibri"/>
            </a:endParaRPr>
          </a:p>
        </p:txBody>
      </p:sp>
      <p:sp>
        <p:nvSpPr>
          <p:cNvPr id="83" name="PlaceHolder 2"/>
          <p:cNvSpPr>
            <a:spLocks noGrp="1"/>
          </p:cNvSpPr>
          <p:nvPr>
            <p:ph type="title"/>
          </p:nvPr>
        </p:nvSpPr>
        <p:spPr>
          <a:xfrm>
            <a:off x="4038480" y="228240"/>
            <a:ext cx="5486400" cy="6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esentation Title</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0520" y="990360"/>
            <a:ext cx="6782040" cy="5135400"/>
          </a:xfrm>
          <a:prstGeom prst="rect">
            <a:avLst/>
          </a:prstGeom>
          <a:noFill/>
          <a:ln w="0">
            <a:noFill/>
          </a:ln>
        </p:spPr>
        <p:txBody>
          <a:bodyPr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1"/>
          <p:cNvSpPr>
            <a:spLocks noGrp="1"/>
          </p:cNvSpPr>
          <p:nvPr>
            <p:ph type="title"/>
          </p:nvPr>
        </p:nvSpPr>
        <p:spPr>
          <a:xfrm>
            <a:off x="380520" y="147240"/>
            <a:ext cx="67820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lide Master</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int Master</a:t>
            </a:r>
            <a:endParaRPr b="1" lang="en-US" sz="3200" spc="-1" strike="noStrike">
              <a:solidFill>
                <a:srgbClr val="000000"/>
              </a:solidFill>
              <a:latin typeface="Tahoma"/>
            </a:endParaRPr>
          </a:p>
        </p:txBody>
      </p:sp>
      <p:sp>
        <p:nvSpPr>
          <p:cNvPr id="87" name=""/>
          <p:cNvSpPr txBox="1"/>
          <p:nvPr/>
        </p:nvSpPr>
        <p:spPr>
          <a:xfrm>
            <a:off x="1980720" y="1600200"/>
            <a:ext cx="67057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user51</dc:creator>
  <dc:description/>
  <dc:language>en-US</dc:language>
  <cp:lastModifiedBy>Administrator</cp:lastModifiedBy>
  <dcterms:modified xsi:type="dcterms:W3CDTF">2016-03-25T21:42:08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