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245AC-255F-4404-97A7-B9919C4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F00C1-1544-4F83-9B85-CF12EB1C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6773-24BF-44D0-8E23-32EF121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52785-427A-41D7-8B25-193869FA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A223D-8606-41E0-8860-C2B8548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D601-F4F3-4F3A-833A-F6951DA2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10286-C5DE-462E-AFA5-FD0219A5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28F7-F984-4046-A1D0-D7C96BD9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2B7C5-88FF-4F82-947E-7158A968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A3AE-B580-4BC9-8D0D-5ED97345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8A79-5233-427F-A665-9E34BC78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5BACC-B6D1-47B2-9925-700B5C7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53F1A-769D-4B56-9FA9-7B7475B4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095D3-CACC-4B7E-A047-753FE085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1C93E-C433-4FA5-BFAF-B6BF99A8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56E87-474D-4B99-B719-ABA3436E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0BBFA-1AED-4E23-97A2-E96EDF2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21110-F3EF-4F6D-92EF-58F108B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7C914-F86D-4A60-BBAB-F6F6F33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FC080-EA34-4B4A-A052-68A884CF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A28BD-3432-473A-AD7D-FD492D4A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56AEB-6579-42E6-8AA1-F02FF076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73F6F-710E-4E72-9DAD-778C336C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9E6F9-60C7-4773-BDD7-5C459B44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A44B0-BEFD-4410-8EA4-0DCFFEA6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86FAF-8691-44B3-AA5F-897E00E0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5F585-65CD-4EEE-B774-678B38FC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55561-3569-48C9-8041-A1E6C6C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F49A2-7BA0-4054-8ABB-C5CC8C9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D961D-BADC-44D1-B0CE-1279388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A66-B42A-4D27-BC16-E14E953C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B1D2D-D518-4BBB-9576-256797A5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A443F-7E81-42AB-AC6C-D146B9AD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6902A-3669-4739-BE68-18EFF9E5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BD2D4-CBD9-4F8A-83A1-0DED463E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B060D-5C8C-4EC1-80E7-F9D49586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3E534-6BCD-427D-BB38-A855425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400AD-E0B6-44AA-93DF-2BC9CCF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769BC-04E6-4816-AE7A-44C476A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01A61-B549-44A1-9FDB-A528E2F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59B41-89EA-48BE-871D-F47CF8C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129-012C-4B43-B247-BC7A8E35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D5ED1-F8EE-46E6-958F-BC2EAEA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599A-DF19-4C29-8FA3-D97C80E4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2E6E7-6571-4F89-8F3A-2FECAD1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4F26-B4B0-4FAE-9817-555C7195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58B2C-D367-4F29-B60E-D39C3731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0E7-46EE-4270-AE06-78E09933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AD0-4669-439F-97D2-4376E433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F8E-720F-46F8-8B5B-14A39483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EDF-B445-4B22-947A-5BF77F48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431-7902-4AEF-A4AB-35D2235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89F-4454-4EAD-A2B4-D04F6C5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6E4-AF65-460E-BD4E-C4989D4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938-832B-46CA-9CC1-5D8C243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35F-ABC2-4CFD-B7D8-B158C24A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298-0C39-4CD5-91D8-1EE2E63C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567B-B649-44DC-8672-40C1BD57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1DA-5F02-4EDD-9482-A2C0CDF2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55CA-038C-4786-A6DD-15E2A18D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8772-79DB-4F25-BF73-3A33CE7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318C-E23D-4472-9CB5-3F6D8A8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B106-E509-4D77-95F4-FCE79AD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BE76-BE0C-486D-ABFE-3082B31C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913-8A09-4981-A70E-8FBE930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411-9B47-4551-887F-8586F9E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FB3D-565E-4174-AA79-A34484EC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6E49-891F-4C41-90B9-B3BD56E4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F62A-221B-46E3-98C9-13463655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5D07-F741-4ABC-8912-52AEB27B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008A-5279-489E-B125-F413D7DA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BC68-C833-43B3-AF5D-641A5B8E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35F4-A4A4-4626-8DC0-3799B1F4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C538-0EF3-471C-9DCE-9E78162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E372-C2E1-4F7B-817D-419C3B6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71F4-2C30-4DBE-975C-7EE1582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8CEB-EA7F-489A-BB93-E97D0CE3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15AA-038A-48D3-ADE4-7642457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F164-901F-4347-BCAE-77A62559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99A3-4059-4792-B4C1-CA08FD1F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F8163-3135-4A9C-BE48-F3F6E1F4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D451-E1A5-4F89-BBC2-8E15F27C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92817-6D96-44F1-9797-A1B0E14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7A93-1273-4B3F-8D3C-D9BB4DEB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CE29-4DF3-46D0-9C9F-C1B6677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207C-D4D2-4CE1-B05A-29641FC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35D3-E918-40BB-8429-9B28C915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D1F8-8837-4335-881D-4464AE8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06C2-0105-4CEB-8F18-1E3AC7D2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A9BD-93C6-4E46-9E81-DD33D0EA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58B1-7D35-46DC-98EB-3062B3B1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A5CD-D555-4669-9089-6866639E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3E8F-020D-44EF-8E40-B172F220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C05D2-5D3E-454B-AE21-281F49A6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D41F-ACD7-4335-97C3-B360042C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2AA4-559E-4662-965B-72B86E83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7687B-EDEC-4DC4-90D2-BC95B482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6A70-7238-4F00-8107-D851FECA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04DAD-F901-4955-8D65-6412141A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B6F1-5096-4E39-97D1-505D378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A6C74-6CA9-4DE4-8926-943073D9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53A5-F4C8-4A17-AA57-6EA7F71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B031-CE2B-43CC-BD04-5C10E73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4410-1C2B-446E-832F-47A65A0B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8922A-3886-4898-866D-DE442794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55B5-F1C5-41C2-A77A-CC68F0CD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0C24-D96B-4F38-9D22-0B8BC4FA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B75B5-2A48-4AF1-8B1D-B81FDAAF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601F-0E73-45D5-9600-695B994D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B1FBB-F5F6-4FCE-961C-0A2AE054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24BCC-1D7E-4F01-B87B-EA5F439D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1AE5-6A14-4ECD-B389-DA48603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4D58D-6652-4424-8074-E747889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5835-B657-4827-906B-E683DEF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528F-0613-4798-A4A4-8CE8D1AB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81BF-7A42-499F-9DBC-3C90AC39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69435-8817-4801-98C0-315E8BE2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61D4-72AF-4F5A-9786-2CCEB6F5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2DB5-A8CD-42FA-B2B4-50738E37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91AB-1D80-4F5C-B878-129ACBE0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C3882-62F2-4CB0-A0C2-15E9CC8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FA554-57FD-4F7F-B052-7900B310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F216C-BA20-4223-82A4-A721BC80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8AB8-E121-436A-8E49-213BF77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39FA3-0E15-4A55-955E-04AE6BD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04D0F-9B10-4126-959F-1CFDB5C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893C-28C6-4B82-B948-FC09A30A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D0FF-EEAD-438E-A96A-80A7FFB1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2E52D-3782-4F34-8C96-E71E5AF3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5AA8-FA55-4A36-83EB-91C3AA9E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CD113-5DF9-4AEB-BBCF-E59D68F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CF43A-9E58-4929-9AB9-1989A553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52E2-F809-4022-9688-88D207C374D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BD87-BEB7-433D-9950-3D8B720C2E7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C71-9B44-41AC-ADBB-F4DDA0A371B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F678-ADAA-42AC-9CC7-658CD55EE24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765-A244-4DD3-9C72-FA84F53F491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EBED-5074-4E36-8F5B-3A0F9F52491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A387-77C1-4B28-AEC8-60AF5C65AA5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BF20-60C7-4A13-BAF8-9DAB35BAF2E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959-998A-4D91-85CF-512C57E9A3F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AF4B-6B98-4E32-BD71-E4554CFFDF8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1B07-521E-4BEF-8268-34D778AF5CE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Cameron Scott</dc:creator>
  <dc:description/>
  <dc:language>en-US</dc:language>
  <cp:lastModifiedBy>YANGS2015</cp:lastModifiedBy>
  <dcterms:modified xsi:type="dcterms:W3CDTF">2015-03-05T12:45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</Properties>
</file>