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DC3-EB1C-4648-BF3C-7F4CA773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586-54D3-44F1-B190-8E26E85A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A6A-5369-4A87-807A-4798B39D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606-9F59-44EE-9C94-BF21C287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DF88-601E-45BF-AEED-589509F3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8FEF-BD5A-4B99-91D6-0B76A13C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E7AD-6259-40D3-A93F-002746F8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6C17-05E9-4D04-A51D-051C2CF2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F3A2-2593-4A44-B100-966095AE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A8B6-A082-4843-8D47-7BA34E69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D898-A78F-4069-9970-D12D9556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ACA-0396-4AE0-AEA3-571D7150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7954-1C1F-4CF6-BC04-2D5A0A5D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2C1E-C712-4BAC-9531-B97DAC08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118F-8AA3-478A-AEFE-CC129BB1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9267-3EE3-459C-AB6B-93C06823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0F5E-A896-4B93-8DD5-91D20AB6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B5B2D-6495-40D1-8598-A0E5DB13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00D9-650F-44B0-899D-2A69C468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FDAE-3ED1-4A47-99CC-9165D9D0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4FC62-99A8-4B2F-BD98-F53E6A68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DD6B-F129-436D-A230-AB3EB9F6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B38-493F-4764-8971-FD934FFD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5E71-C88F-4C48-A7F7-7611C82F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5D8D-2309-4AB8-B9CD-DFFAC48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206E-94E0-4778-A550-0F7EAB89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B3FC-6D35-4FCE-A3D0-9A5538E5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6269A-16F9-4433-A944-31E04679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2A79-D03E-48E8-BE59-A6492E9D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F373-1D2F-43EF-9EB2-36ED22A4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0ABC7-1615-449F-9E56-03A82AD8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68E8D-A3C2-4719-90A1-F37653F2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23501-E24F-4CBF-A981-086D718F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92C-4A15-4FAA-9A42-C0B30A13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4A0AA-AE17-4859-92B1-87BE8DE8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E6A0-ADA6-44E5-B3A4-8AAC6473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67879-B1A4-468A-B25D-9E9AEC88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A080-8866-4674-AD6D-D2DF8DEF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2796-B803-42F1-AA8F-E35B2D69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A7C16-D2C1-45A9-9640-B90605AD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91186-E93C-48C0-8E29-5FE37998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63AEB-61C9-4391-BB5D-A856C273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85B01-6A21-4E53-98F7-B7F2A603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58C-F89A-4EE2-84B4-0D4B2758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310-0EC3-4E47-A9C0-2E3A748D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3FD-5AF4-4713-8CA3-47E4C82F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D7A-A189-4810-B00E-CA10CCE8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7D6-E798-49B6-924E-1810CDDB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ACF4-02FB-4A88-92ED-2EC27B3D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2536-D4BF-4570-B9B5-8C9AD6D5A9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1D83-2F38-4BD1-A660-35DE85071B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7CEA-2126-4EB0-969D-D5B3F435D2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6145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69" name="WordArt 29"/>
            <p:cNvSpPr txBox="1"/>
            <p:nvPr/>
          </p:nvSpPr>
          <p:spPr>
            <a:xfrm>
              <a:off x="4682880" y="1390680"/>
              <a:ext cx="346248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Gulim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Gulim"/>
                <a:ea typeface="Gulim"/>
              </a:endParaRPr>
            </a:p>
          </p:txBody>
        </p:sp>
        <p:sp>
          <p:nvSpPr>
            <p:cNvPr id="170" name="WordArt 30"/>
            <p:cNvSpPr txBox="1"/>
            <p:nvPr/>
          </p:nvSpPr>
          <p:spPr>
            <a:xfrm>
              <a:off x="826920" y="1811520"/>
              <a:ext cx="7410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79000"/>
                      </a:srgbClr>
                    </a:outerShdw>
                  </a:effectLst>
                  <a:latin typeface="Gulim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Gulim"/>
                <a:ea typeface="Gulim"/>
              </a:endParaRPr>
            </a:p>
          </p:txBody>
        </p:sp>
      </p:grpSp>
      <p:pic>
        <p:nvPicPr>
          <p:cNvPr id="17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169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4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81" name="组合 7177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2" name="组合 7178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3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4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5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7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8" name="组合 7184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9" name="组合 7185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90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1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2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4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5" name="组合 7191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6" name="组合 7192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7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8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9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1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2" name="组合 7198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3" name="组合 7199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4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5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6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8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组合 7205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10" name="组合 7206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11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2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3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5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6" name="组合 7212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7" name="组合 7213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8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9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20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2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3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8193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6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7" name="组合 8195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8" name="组合 8196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9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30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31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3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4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7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dc:language>en-US</dc:language>
  <cp:lastModifiedBy>Administrator</cp:lastModifiedBy>
  <dcterms:modified xsi:type="dcterms:W3CDTF">2016-03-25T22:59:19Z</dcterms:modified>
  <cp:revision>19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