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1514-BB9D-4786-9765-FE3B7D50F3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04C-07A8-4DFD-A2EA-6341DF91FE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C7B2-2769-4574-9E87-F89938FA3D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25B2-0473-4B9A-AF99-9717352907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521C-0D18-47F9-88ED-CABABBB308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F40-43C9-42A3-BC61-8EE7A3C9C9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CB09-0A8A-4EFB-B885-DABB253A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6A25-9426-400E-87C0-272784E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CFA6-6B46-405E-BDB6-0A37E380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10234-743D-4FD8-B90E-3EE58EE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161E-C11C-4DE2-A0C2-283387D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42A1-FCF7-4F98-8BEA-A83B6F4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8040-8515-4816-9CE2-1408DF64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318B-F3C5-4A25-A030-9F2A1778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B7EC-F87D-4CD1-BC6B-34903845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C5CD-F9DA-4D34-96BF-4E991E86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11B11-CC21-4C1B-850D-3CD9A37B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B6FBF-C173-4628-A9B3-A5077C94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7FD5F-052E-41E3-BB98-7570D823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B0628-03EC-43FA-B32E-0E311C8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C318-27F3-48ED-AFE5-45E8FA82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1E06-AD05-48D9-95B5-705A80B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B2B93-FEEC-40CB-93C5-C74901BA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8C408-A974-4527-BBA3-9D4E989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8C66D-91B7-418C-9D84-BD94FAB8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CC06-429A-4DF5-85E1-8C041261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9AD61-666F-4DB3-B9A2-98C2086F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B6A00-8E0E-4403-A2DA-90042E82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D45D-3B05-4023-B9E6-A50B4AA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67827-BA51-4857-B9FE-FEC98A48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C7EB2-1C5B-4F4F-90E1-1C90AE60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AC752-A81D-412D-ABD0-EC25DBB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E7A8E-DDE6-4AE9-8D63-4E03C353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43530-9CCD-47B0-B881-544DC79D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FDDD4-9F8F-4D3A-AE87-73F9DD6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18A53-8A94-4D0E-9DCC-7BD8832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741-F2DE-44F0-A181-19B8EF8F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389B9-4790-45BA-96E7-8916F47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75F22-486B-4208-AAA3-A720C13B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D5407-54A4-48DD-A815-1705006E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670D7-EA4C-486C-A33C-8F5D2470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597A0-7538-4272-8211-7F4B0DBC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74BEF-7B85-4683-ADB8-6CFBF89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7FBDD-9027-45CE-9866-FE403133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59EAD-7FC4-47B1-9DBC-39AF5EF7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B1CC7-F839-4BF7-BD08-D5E240F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20A4F-6281-4101-9742-AB9015A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788-58BC-4CEF-A07D-F4BB040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0D3E5-8339-4747-9B92-6EF8D7E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126C7-1FAF-4147-BAC6-BDF4D32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E72A4-7BDD-44DA-9072-3150F68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D066E-A242-4B06-9314-A811C3AA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3D90E-E4BA-496B-986F-12D64EF0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FA331-004F-4231-B33E-53B9110B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8762D-C2E6-42F8-8D66-D095332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9A5F9-B92D-4B48-A8F1-78ABE0F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B1829-496B-4A8F-9658-A40D7F2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EEC07-839A-4AF3-92DD-9CFDCFFD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C03-83A7-49F8-A095-F35B8F3D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0418F-1A7D-47C0-A852-AE35F543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2351-BC6E-4DD8-99C9-BDBF84C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C738-A67B-478E-A152-0FBB16F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2B118-4598-420C-9D80-79E3ABA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38EB-08A6-42A8-9BA9-BC2DF77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120E4-880C-43B1-8C05-7E0F5758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918CB-2D8E-4BF0-85C3-F97471A8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34056-7DCD-4047-9D51-79ACEA79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5B0A5-7C8A-4850-AC80-99927ED7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9040D-5DBD-48A2-B9C1-2A7A21F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0EC-8F0C-4980-B8FB-DD0B0419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C39F9-8B47-484E-9BF3-8FD8594D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F8316-30DF-4E8D-87AB-2944988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FC5B0-D9AA-4A03-8842-5D31F53C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D8E9-F633-408B-91DC-ECED87F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B748A-A3AD-49FF-84F6-C1BE952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14B0B-15E7-4C25-B230-EB069E0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7041D-496C-44A9-86BD-9AB0DD14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9B5A3-3237-4CD7-B371-B4877167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FA2B1-C408-4F4B-8DE0-AD48E487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85D50-F8D3-4E96-BE4C-8C71773D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C83-1E9F-4C2D-923F-C335D21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5C953-B88A-4234-B31D-7AFEA27F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34FF6-7F9B-4C25-AD99-A9110272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9E9A8-34CA-4C48-A65C-733909C6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09502-F2AA-40E8-A92D-8548869E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15566-AF25-4845-825F-C2A793EE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9115B-F612-4348-BD6F-CBD6231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B50CD-C6E6-4EE2-AD34-E0CC5BB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5A394-72A3-4F85-8D82-8E540433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D3663-DF39-4BEB-9A54-1DBBA2A9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2825F-CBD7-4E3A-9AAB-626B50F0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53B-A94E-42BC-8801-B49D95E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35732-F105-4881-A86D-342FB528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1DBF6-C1C1-4B93-B5E1-A5ED7709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AB7C0-141C-4635-95E0-A6123045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E780C-7453-4A96-B10B-E3FE082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D22AB-FD73-4F76-8C4E-C3FDFF72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3D452-682D-4B2D-B942-C0986ADC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98135-0EFB-4C7C-A571-8933396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717D6-D55C-4FC0-B230-EEC05404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2BCB9-1154-4153-98D9-4527709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9065D-1B68-47B5-994F-0064FE3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5B8-033E-414D-9D08-60C68E1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E91C0-981E-4A0B-8982-D694F96F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34A2B-BFD2-410D-99EE-A3708A64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D6CDB-4D54-4A76-BE40-CCCA4886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5F5-1338-4FC5-885F-175E230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D87-E365-4554-9DA8-B18A8779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C02-7E4F-41CB-B5A2-B2B205BA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1C0-199C-4FCE-B38D-B7E318EB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4AE-DB04-4136-B149-D24AF88C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FC55-B005-41A6-A70D-DEEE32CE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6AB-D9F5-42EC-AA9B-4FDBCC24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8F89-7C78-4A72-86B7-E145AC0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23A-9ED3-49DC-A05E-DCFA830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C79-2D20-40BF-973D-D1A40AC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7DF7-F832-4DB2-B49B-701236F2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9B08-637A-4DFC-B754-2C89A4E0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00A-4743-4201-9E6B-879BDC46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AE5-11C4-4C5F-9E23-7463C48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D3CA-9F4D-47D5-8F1D-D90A8DAE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ADDA-094A-4344-8E58-298B2909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6A0-3902-48DE-928D-6538A525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2903-C82B-4246-8F72-BFEDA924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8B71-6F30-4929-866D-679AACAC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3664-D6CC-45FD-9D53-335D2579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C478-F5B2-4782-A89D-8851040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C93E-7940-4A4B-AE4F-50E9B6E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0D1C-30FE-4EAD-97EC-AD194D6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F116-EFA6-476E-A0B1-F429800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3DFB-8A14-4EF8-B811-28D5298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35D2-A099-4447-9FD1-2F511F8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B1E0-EE9F-4C7D-9BA8-44C3C3DD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6389-D9B6-49EF-B3B7-E86AA8AF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7395-DDA4-47DB-8B08-9B71F0FE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C5BC-ACD0-43D1-9A24-230536FC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2D64-DD41-47C1-A760-E961E61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482B-C762-4F7A-8082-D95370BC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E919-7BBB-46B3-B2ED-EA32216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91F6-7E79-46C4-AC96-58D7016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920A-03CD-4047-BF29-8A8D53E7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85B3-D642-4FC5-8976-2B8149D6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4DD8-74E0-4E98-B1B2-3FDF13A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F380-6FAC-4A66-B0FF-11CA42B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043A1-ED4F-4052-8EE5-76A2E1E4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B02D-5B8E-4CED-82EC-04CD67C6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7900-B782-407F-A714-30AC1A2B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B344-3347-46F0-95DB-F99B6D13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BDA2-C380-4DCB-B790-B9B2E70A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1181-219E-4C62-BB6C-F7D9417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CDB8-2A97-4975-A04B-D2D4FAE6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09408-564D-441F-9F32-3EB9584F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D5B1-2783-4A16-A650-790BA2CB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9861-99B0-457F-9E4B-70A3CF2D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840A4-7378-48E9-9E91-97B55D2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FA8A-30A8-4CE0-A73C-899F23D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0F89-3157-4AF3-B1FB-1C6ED9B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5EC43-5124-46DD-888B-048A0AF4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E872-42A9-42D6-BB07-D28F5D3F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C63F-8013-413A-84ED-9DE78574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A789-3A4B-4DAE-BD3F-AA435A05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642D-8DAB-4312-A6D9-2050552B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A032-7D9A-4873-8E04-9AC8368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F6A06-97FD-444C-944B-961347F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69B58-03DC-445F-A718-9880CB1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B05C2-85EF-40DE-8AFE-A1886DC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0353-B857-48D1-83C2-33E201A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A8B91-CEC6-4794-BBCE-C4CBB95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AF0E-7E7D-4962-884C-DACA6C85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4760-FF5D-446F-B1CD-A55A6CD6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4FFD8-E237-4575-9107-B93D77BA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FAFFB-0CF6-42E8-A8C7-716EFA68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2353-6391-43F1-A983-BC132D3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7452E-7260-48EB-8D93-03F1168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029E-C60E-4058-9E0A-A4F5846A8A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CAB5-C7D0-4509-B383-14B3CE7BF6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BD5-9FBE-480B-B696-49EFC4C348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3A2-9C40-4892-9F72-76D79DBF64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33B8-3488-49CA-AD14-9FB904E7FC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334-D543-4707-BDFD-4D247CC202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9941-5F9D-405D-AAE6-FC69B6023E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F933-C3B2-40D9-BD3B-F8F8E39253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8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DE41-D619-4C97-A4DB-61089CFB83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08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70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5E53-36EB-4D1C-9A38-B75991A19E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25A9-E254-41C5-80F4-EE1F9C9D82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A16-A0A6-499A-B81B-1FC7D065A1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C954-7C75-4979-816D-9649400C6F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8CFA-EE85-493B-A237-23428C0D30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1560" y="245808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"/>
          <p:cNvSpPr/>
          <p:nvPr/>
        </p:nvSpPr>
        <p:spPr>
          <a:xfrm>
            <a:off x="2144880" y="2517840"/>
            <a:ext cx="767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>Administrator</dc:creator>
  <dc:description/>
  <dc:language>en-US</dc:language>
  <cp:lastModifiedBy>Administrator</cp:lastModifiedBy>
  <dcterms:modified xsi:type="dcterms:W3CDTF">2015-05-22T05:50:12Z</dcterms:modified>
  <cp:revision>10</cp:revision>
  <dc:subject/>
  <dc:title>PowerPoint 演示文稿</dc:title>
</cp:coreProperties>
</file>