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807C-2D2D-423F-87A8-5D7DFF7D2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2390-865A-41EB-A1E6-D083594B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92D9-155B-4C4B-8573-23B3FC1AD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A451-B5B2-4012-B71C-8CCE9725A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6EC2-A3B8-4E5B-ABEC-7C92FFA1A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42F8-EC7C-4601-9AD3-14F86B90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6192-84D1-4120-916D-F47F2E0E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6187-31D4-4F9B-9EC4-09B00A11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3359-AD0E-4064-BF6B-4407F284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DF8C-E900-4ED9-A240-50059D49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994D-F39C-4237-ADA5-8E158756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AD3D-D8B7-451C-8C03-27BCD2B6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4915-296D-4711-AAC9-032B0BDF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419F-3310-41E5-BB6D-E2A0F816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F72B-CB9A-4E09-9A74-81EA6582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FCF5-0357-474D-BDC9-F0B6B6634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599E-D2BC-45F1-8D59-E06103D8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C7FB-E912-42AA-A6B8-2AB5228A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04DE-CF15-4146-A74B-7D61D130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E121-13E0-43B1-AE4F-609BA01F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3D27-3E1F-4F4E-B58B-FF823D1F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5A7D-62AF-4B56-9853-B06AD6B1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1CF5-E7ED-414D-8E12-61AA59A8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E8F6-390E-46E8-8239-670043A1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3F81-6D70-4F0B-8587-475ED3EFC42F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D2F5-6284-4BA6-864B-54FCA3DFD7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目录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84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84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584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结束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微软用户</cp:lastModifiedBy>
  <dcterms:modified xsi:type="dcterms:W3CDTF">2013-09-30T03:39:36Z</dcterms:modified>
  <cp:revision>3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