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7E7-E966-4386-902A-C1862584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90A-0A07-45A6-B0E9-7AE9A066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1810A-B0B4-4582-9EC3-56355670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CDBE2-0137-40E9-A677-AC8DC854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54F04-48C8-493A-A453-30A696BA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A7295-95D1-4ED5-B772-1F86E034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B18AD-BE73-45D2-B89E-68C1266D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2757E-6F6A-49B7-BEAF-78D08661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875CF-5414-4522-918D-3B4DEB4A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5F22B-0D3E-4BA0-A79B-AF1D8FFA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AD4B0-1426-404D-BB70-0D37C2D7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2CBF6-DA7B-4AD9-A59A-496D3AB9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6E3-4FA2-4BAE-91AB-5781A5BF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93B7C-06F2-4691-A8A6-83EE3E8C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731B1-D98C-4158-8214-51758484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90C84-DFF4-4F20-A8E1-89EDFC89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89742-1815-4790-B411-D60C1A7B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FC784-BBDC-4CB4-9215-0AC6D02C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6B9E6-6FC8-413D-B133-7BF50E52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01FD5-1F2B-4610-B278-46180239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5CA0E-5F72-428D-9488-533087D3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BDDBA-D161-4960-8C41-D3AE4B50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83103-EA4C-4037-ACF0-4843F3ED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AEF-F4FD-4048-BB80-46B5CCA2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3EDFD-B36F-4CD4-AC5E-449E5ACE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4EADB-210D-46C4-BBF6-DFECD3BD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01035-0347-4B2E-8685-54ABED79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47BD4-64F8-416A-B224-B450D696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C8F07-C69D-4ECC-8F5C-0819AEA4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FAB27-6EC1-457A-85E2-2D13D4E6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66AD2-9310-469E-97D9-C59FEB17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3073A-B841-493A-8797-D6241DFE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58019-4A9C-48A2-87B5-7156C2D5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AEB61-5A4B-4959-BFB3-741FFF71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E31A-4CB7-478A-A856-D4499A51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FE756-50C1-4A37-8034-85AA62E2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1E3B5-0028-491D-B00F-74B8669D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04B4A-CD29-427A-9976-C94EF879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F33C0-E6FA-495C-95E2-E770B7BF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04148-051B-414D-B20E-144155D1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5A16D-51C4-450C-916A-F3BF8168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216B4-D0B9-458A-9275-81301DB1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C187C-6FF8-4259-BFEF-E4E0A329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E705B-9D10-4F5B-AE09-C8FFCB92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4B597-C996-4583-9F32-B5713C87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EB2B-8B3A-41B5-B0D7-59D78EE2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77C1C-6470-4E16-B85F-EC0E0253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76805-DFD1-442C-A963-2AEF9A56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50179-49B8-4715-B706-6F9C6330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47B4D-2559-4971-98BB-7A980477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BE1BF-4506-4378-9AAA-7325851F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10557-DB74-4356-9B55-5804B24F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BFC5C-1E65-4AEC-8B20-9FBF6BBF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B3D28-FE0F-48AE-9750-72D02096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9D1B4-22E0-49A5-A06B-AB9654E5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DEED8-8409-4175-BD08-B3406869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5813-4F41-4163-AF00-27BEA4A8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4A831-51A0-4633-9283-A6B0D3AE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C02EC-D32E-486E-B0EF-6661B3D8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1F199-079B-41DD-B074-1F4C6DAE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51CD0-D3E9-4BCF-BBAB-EAB94D8F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45F5A-88E4-45B9-9E96-65DF0547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3584D-969E-4896-A04F-22F4A782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56F77-8DAC-45DE-9D44-EB694B01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5F09-2C1B-4FA8-9ED7-8D90686F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3200-B219-4E6E-8C1C-5B510EB7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B6FD-31DB-47C8-8A4A-0DA55FF1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6FCF-E718-4ACE-B1F2-1A684D64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907-E253-4342-9A7C-90EBC426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BEDA-E49E-4BCC-85ED-ECC69921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BD7E-AF91-4932-A3C4-D13C2A77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61E9-9FCA-4615-B06C-62465C07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161D-4363-44BB-8169-0D2DE6C1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D6A1-169C-4443-A75B-3023820E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828D-2A03-4C11-ACDE-2E81B7D2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D6298-E024-4730-AA87-1911911E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4A9A-DF39-45BC-8F6F-E2466208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CD953-43BC-4B42-8999-10845129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B80D2-670D-4309-AC91-8A9D125E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588-5135-40F8-8410-1D115F76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EFD1-2F66-47D9-B2B4-C698F161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0DDDC-7F51-42EA-A3DE-FEE5654C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7D432-D73D-4AC1-8057-B9C503F6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E30C-D304-45F4-8E18-444341A4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6936D-D89B-4EE1-B0C6-C37C493A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76E92-A1AF-4158-8631-288A90AE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EC366-B037-48B1-AE65-52B63A0F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833D3-4C3D-4039-A106-5E5EF094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5BFFB-6D65-4E28-8963-51EAC858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6E060-9CE4-4CF2-BC84-12690842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43D-5AFC-4083-9F0C-8FFA9279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4D2F1-15E5-4763-9C52-302D6542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57821-17F2-4A7B-8DBF-EFE76A74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63B40-408C-4A76-BC5F-3FE66663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E6DAB-BBA0-4602-826B-09C62824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B2FE0-7A8C-4C6E-B883-33D69376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46479-F8BB-4251-A73F-512B7926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4AB53-B744-4728-A811-0C638B34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C0B3-3A85-412C-B130-9F93F631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E81E9-30D4-4A6E-A6E9-A434AACF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97B27-7FE2-496B-B3F8-6BCF26AE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A76-743C-41D8-B2AA-369E1ADC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E5BD2-D9C3-4C27-9B9C-9342897B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B3C5E-30F3-4AF9-8364-E0EF54A7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3AAE6-C061-4344-B058-C86B9ADB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CB7F1-E57F-49AD-8745-561CB834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5A288-2391-497D-8870-4F028477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A3059-7159-4662-8427-6846678A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6E986-970D-494B-A07E-1C49DDBD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0B09D-BBBA-4FBE-88E0-7CBAD7C2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252D8-6DCE-4518-ADE4-3076AC23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5D971-30D4-484A-904E-38CB471C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606-7D6E-4288-AA28-2E9DA383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DB04B-6128-4EE2-92B4-122D61F0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88752-B1DD-4B4A-91EC-0771214B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7C414-F0FC-40AE-B384-28BAE956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A398B-6A93-47C5-95FF-DC4F045B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BA310-ABB4-4DBE-90EA-07BD7333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D8F13-80BA-4DF6-A960-62AE392A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4E1D5-E33A-4C7B-A04B-5F0A94D4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06EA4-7E83-4785-A33A-388CC375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9B509-BCC6-44B5-8FCC-B89D2AE3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59389-D813-4FC5-A5F4-68BCB62F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733-C503-41C5-A316-1292EFF0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757DC-2962-43E7-8DCC-E2B7FCCC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41A9E-9723-44AD-BA36-D5967F64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985AA-DC34-4C9A-B1F6-4541D90B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C2A70-9501-423A-AB4E-3B85DB40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94F9B-E7CC-47AA-B1F8-B0BB7D1D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BCCA0-4C35-4CBE-B637-CEF78C97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B1E26-F376-4F38-97A9-173B392C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AE7E3-9E8B-406A-B981-8A20925B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297F7-AEAF-455A-95B2-20793070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A27BB-EFA6-443C-A9C7-E75539F3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741-9405-48DF-B6FF-24C6FDC5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21655-9607-4F39-AF21-F3A99237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759C5-E9DA-4834-9896-CEF215BF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AF4D7-9429-4AE8-8B50-F3A5B5F7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BA848-1F2B-44A0-9FD9-182F0F36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4CD3A-E087-43E6-A721-BF51060D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2D12A-5CEC-4B38-9E4D-6BACC977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07971-09FD-4C45-B370-8ACF0BF7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B9E5C-5D49-4A43-94E1-DBF11654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49421-1D60-45BD-9632-35A39365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DC4E4-CD8A-4A8D-BEF8-6BBABD98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2C9-FDC3-4CCF-8DF4-4D72CC99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6A807-DBE0-492F-A9FE-5CFFA58E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82257-C94D-4B90-9110-F06541F9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CA809-F9A6-4C82-A51A-4CF3B4D9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0FFAA-A633-43F8-A054-801BD6EA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543EC-3A74-4AD5-B4BA-A218D4B6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6FD3F-DD2D-4B4A-87C9-C194F69E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1CD29-6E00-4152-A725-27247B8C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5811B-217E-49FA-8C15-4CB7EE70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08DC2-0ED8-4157-9B8E-5905A532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82613-F6F6-4FEE-9207-F66036F0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0901-09E3-4B7F-89FC-8CBE211F47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8630-6E48-4576-8C72-FEF21AE70B0B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9331-7264-4615-B65C-3E3E818C67B0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0D99-08B6-4890-BC92-1B618E26A2EA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01B5-9323-4159-AE65-0C75B0449E23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4079-34D4-4933-AEB2-6D2148AB0A8F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3651-2EE0-4EF5-A1CB-DE4A3DCD9807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1C6A-A8EA-42A0-A47D-CA1167AA91DE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909F-B673-423D-95E4-5FC7A9051309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26C2-63B3-4AD9-877C-FA53B6DFE6EA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B22C-E64E-41EE-8B99-E3F1AC534FF7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2848-2679-49EF-B5B6-4227F0B573CF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6F49-4ABF-42D6-AEF0-6F9ADCA6A699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4" name="组合 4098"/>
          <p:cNvGrpSpPr/>
          <p:nvPr/>
        </p:nvGrpSpPr>
        <p:grpSpPr>
          <a:xfrm>
            <a:off x="1601640" y="1473120"/>
            <a:ext cx="755640" cy="755640"/>
            <a:chOff x="1601640" y="1473120"/>
            <a:chExt cx="755640" cy="755640"/>
          </a:xfrm>
        </p:grpSpPr>
        <p:sp>
          <p:nvSpPr>
            <p:cNvPr id="535" name="Rectangle 3"/>
            <p:cNvSpPr/>
            <p:nvPr/>
          </p:nvSpPr>
          <p:spPr>
            <a:xfrm>
              <a:off x="1601640" y="1473120"/>
              <a:ext cx="755640" cy="755640"/>
            </a:xfrm>
            <a:prstGeom prst="rect">
              <a:avLst/>
            </a:prstGeom>
            <a:noFill/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4"/>
            <p:cNvSpPr/>
            <p:nvPr/>
          </p:nvSpPr>
          <p:spPr>
            <a:xfrm>
              <a:off x="1601640" y="1473120"/>
              <a:ext cx="400320" cy="400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Rectangle 5"/>
          <p:cNvSpPr/>
          <p:nvPr/>
        </p:nvSpPr>
        <p:spPr>
          <a:xfrm>
            <a:off x="1979640" y="1855800"/>
            <a:ext cx="7845480" cy="136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3014640" y="2030400"/>
            <a:ext cx="60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键入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4103"/>
          <p:cNvGrpSpPr/>
          <p:nvPr/>
        </p:nvGrpSpPr>
        <p:grpSpPr>
          <a:xfrm>
            <a:off x="9837720" y="3219480"/>
            <a:ext cx="793800" cy="577800"/>
            <a:chOff x="9837720" y="3219480"/>
            <a:chExt cx="793800" cy="577800"/>
          </a:xfrm>
        </p:grpSpPr>
        <p:sp>
          <p:nvSpPr>
            <p:cNvPr id="540" name="Rectangle 8"/>
            <p:cNvSpPr/>
            <p:nvPr/>
          </p:nvSpPr>
          <p:spPr>
            <a:xfrm>
              <a:off x="10198440" y="3580560"/>
              <a:ext cx="216360" cy="216720"/>
            </a:xfrm>
            <a:prstGeom prst="rect">
              <a:avLst/>
            </a:prstGeom>
            <a:solidFill>
              <a:srgbClr val="66cc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"/>
            <p:cNvSpPr/>
            <p:nvPr/>
          </p:nvSpPr>
          <p:spPr>
            <a:xfrm>
              <a:off x="10415160" y="3363840"/>
              <a:ext cx="216360" cy="216720"/>
            </a:xfrm>
            <a:prstGeom prst="rect">
              <a:avLst/>
            </a:prstGeom>
            <a:solidFill>
              <a:srgbClr val="66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0"/>
            <p:cNvSpPr/>
            <p:nvPr/>
          </p:nvSpPr>
          <p:spPr>
            <a:xfrm>
              <a:off x="9837720" y="3219480"/>
              <a:ext cx="360720" cy="361080"/>
            </a:xfrm>
            <a:prstGeom prst="rect">
              <a:avLst/>
            </a:prstGeom>
            <a:solidFill>
              <a:srgbClr val="33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11"/>
          <p:cNvSpPr/>
          <p:nvPr/>
        </p:nvSpPr>
        <p:spPr>
          <a:xfrm>
            <a:off x="2128680" y="1944720"/>
            <a:ext cx="7548840" cy="1187280"/>
          </a:xfrm>
          <a:prstGeom prst="rect">
            <a:avLst/>
          </a:prstGeom>
          <a:noFill/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pic>
        <p:nvPicPr>
          <p:cNvPr id="545" name="云层" descr=""/>
          <p:cNvPicPr/>
          <p:nvPr/>
        </p:nvPicPr>
        <p:blipFill>
          <a:blip r:embed="rId2"/>
          <a:srcRect l="13813" t="9223" r="29255" b="5969"/>
          <a:stretch/>
        </p:blipFill>
        <p:spPr>
          <a:xfrm rot="238800">
            <a:off x="14245920" y="592200"/>
            <a:ext cx="3968640" cy="1817640"/>
          </a:xfrm>
          <a:prstGeom prst="rect">
            <a:avLst/>
          </a:prstGeom>
          <a:ln w="0">
            <a:noFill/>
          </a:ln>
        </p:spPr>
      </p:pic>
      <p:sp>
        <p:nvSpPr>
          <p:cNvPr id="546" name="文本框 23"/>
          <p:cNvSpPr/>
          <p:nvPr/>
        </p:nvSpPr>
        <p:spPr>
          <a:xfrm>
            <a:off x="5388120" y="1133640"/>
            <a:ext cx="145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组合 5124"/>
          <p:cNvGrpSpPr/>
          <p:nvPr/>
        </p:nvGrpSpPr>
        <p:grpSpPr>
          <a:xfrm>
            <a:off x="5832360" y="2651040"/>
            <a:ext cx="561960" cy="560520"/>
            <a:chOff x="5832360" y="2651040"/>
            <a:chExt cx="561960" cy="560520"/>
          </a:xfrm>
        </p:grpSpPr>
        <p:sp>
          <p:nvSpPr>
            <p:cNvPr id="548" name="椭圆 25"/>
            <p:cNvSpPr/>
            <p:nvPr/>
          </p:nvSpPr>
          <p:spPr>
            <a:xfrm>
              <a:off x="5832360" y="2651040"/>
              <a:ext cx="56196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椭圆 26"/>
            <p:cNvSpPr/>
            <p:nvPr/>
          </p:nvSpPr>
          <p:spPr>
            <a:xfrm>
              <a:off x="5857560" y="2676240"/>
              <a:ext cx="51156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文本框 28"/>
            <p:cNvSpPr/>
            <p:nvPr/>
          </p:nvSpPr>
          <p:spPr>
            <a:xfrm>
              <a:off x="5946120" y="2731320"/>
              <a:ext cx="33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5128"/>
          <p:cNvGrpSpPr/>
          <p:nvPr/>
        </p:nvGrpSpPr>
        <p:grpSpPr>
          <a:xfrm>
            <a:off x="5857920" y="3522600"/>
            <a:ext cx="560520" cy="560520"/>
            <a:chOff x="5857920" y="3522600"/>
            <a:chExt cx="560520" cy="560520"/>
          </a:xfrm>
        </p:grpSpPr>
        <p:sp>
          <p:nvSpPr>
            <p:cNvPr id="552" name="椭圆 33"/>
            <p:cNvSpPr/>
            <p:nvPr/>
          </p:nvSpPr>
          <p:spPr>
            <a:xfrm>
              <a:off x="5857920" y="35226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椭圆 34"/>
            <p:cNvSpPr/>
            <p:nvPr/>
          </p:nvSpPr>
          <p:spPr>
            <a:xfrm>
              <a:off x="5883120" y="35478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35"/>
            <p:cNvSpPr/>
            <p:nvPr/>
          </p:nvSpPr>
          <p:spPr>
            <a:xfrm>
              <a:off x="5971320" y="36028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5132"/>
          <p:cNvGrpSpPr/>
          <p:nvPr/>
        </p:nvGrpSpPr>
        <p:grpSpPr>
          <a:xfrm>
            <a:off x="5857920" y="4370400"/>
            <a:ext cx="560520" cy="560520"/>
            <a:chOff x="5857920" y="4370400"/>
            <a:chExt cx="560520" cy="560520"/>
          </a:xfrm>
        </p:grpSpPr>
        <p:sp>
          <p:nvSpPr>
            <p:cNvPr id="556" name="椭圆 37"/>
            <p:cNvSpPr/>
            <p:nvPr/>
          </p:nvSpPr>
          <p:spPr>
            <a:xfrm>
              <a:off x="5857920" y="43704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38"/>
            <p:cNvSpPr/>
            <p:nvPr/>
          </p:nvSpPr>
          <p:spPr>
            <a:xfrm>
              <a:off x="5883120" y="43956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文本框 39"/>
            <p:cNvSpPr/>
            <p:nvPr/>
          </p:nvSpPr>
          <p:spPr>
            <a:xfrm>
              <a:off x="5971320" y="44506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Text Box 16"/>
          <p:cNvSpPr/>
          <p:nvPr/>
        </p:nvSpPr>
        <p:spPr>
          <a:xfrm>
            <a:off x="6483240" y="26766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6"/>
          <p:cNvSpPr/>
          <p:nvPr/>
        </p:nvSpPr>
        <p:spPr>
          <a:xfrm>
            <a:off x="6483240" y="352908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6483240" y="43830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77556E-017 L -0.83099 2.77556E-017 E">
                                      <p:cBhvr>
                                        <p:cTn id="6" dur="3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29167E-006 -4.81481E-006 L -0.15065 -4.81481E-006 E">
                                      <p:cBhvr>
                                        <p:cTn id="34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3.7037E-007 L -0.15157 3.7037E-007 E">
                                      <p:cBhvr>
                                        <p:cTn id="36" dur="1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7.40741E-007 L -0.15261 7.40741E-007 E">
                                      <p:cBhvr>
                                        <p:cTn id="38" dur="1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1.11111E-006 L -0.15703 -0.00533 E">
                                      <p:cBhvr>
                                        <p:cTn id="58" dur="75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4.07407E-006 L -0.15507 -0.00254 E">
                                      <p:cBhvr>
                                        <p:cTn id="60" dur="75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-2.96296E-006 L -0.15508 -0.00371 E">
                                      <p:cBhvr>
                                        <p:cTn id="62" dur="75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grpSp>
        <p:nvGrpSpPr>
          <p:cNvPr id="563" name="组合 6146"/>
          <p:cNvGrpSpPr/>
          <p:nvPr/>
        </p:nvGrpSpPr>
        <p:grpSpPr>
          <a:xfrm>
            <a:off x="660600" y="-1409760"/>
            <a:ext cx="1533240" cy="1591920"/>
            <a:chOff x="660600" y="-1409760"/>
            <a:chExt cx="1533240" cy="1591920"/>
          </a:xfrm>
        </p:grpSpPr>
        <p:grpSp>
          <p:nvGrpSpPr>
            <p:cNvPr id="564" name="组合 6147"/>
            <p:cNvGrpSpPr/>
            <p:nvPr/>
          </p:nvGrpSpPr>
          <p:grpSpPr>
            <a:xfrm>
              <a:off x="660600" y="-1409760"/>
              <a:ext cx="1533240" cy="1591920"/>
              <a:chOff x="660600" y="-1409760"/>
              <a:chExt cx="1533240" cy="1591920"/>
            </a:xfrm>
          </p:grpSpPr>
          <p:sp>
            <p:nvSpPr>
              <p:cNvPr id="565" name="任意多边形 4"/>
              <p:cNvSpPr/>
              <p:nvPr/>
            </p:nvSpPr>
            <p:spPr>
              <a:xfrm flipH="1" rot="12492600">
                <a:off x="889560" y="-1270080"/>
                <a:ext cx="589680" cy="1119240"/>
              </a:xfrm>
              <a:custGeom>
                <a:avLst/>
                <a:gdLst/>
                <a:ahLst/>
                <a:rect l="l" t="t" r="r" b="b"/>
                <a:pathLst>
                  <a:path w="2199932" h="4183459">
                    <a:moveTo>
                      <a:pt x="2050823" y="309459"/>
                    </a:moveTo>
                    <a:cubicBezTo>
                      <a:pt x="2021688" y="401347"/>
                      <a:pt x="2030652" y="609777"/>
                      <a:pt x="1970140" y="766659"/>
                    </a:cubicBezTo>
                    <a:cubicBezTo>
                      <a:pt x="1909628" y="923541"/>
                      <a:pt x="1752746" y="1075941"/>
                      <a:pt x="1687752" y="1250753"/>
                    </a:cubicBezTo>
                    <a:cubicBezTo>
                      <a:pt x="1622758" y="1425565"/>
                      <a:pt x="1591382" y="1640718"/>
                      <a:pt x="1580176" y="1815530"/>
                    </a:cubicBezTo>
                    <a:cubicBezTo>
                      <a:pt x="1568970" y="1990342"/>
                      <a:pt x="1674305" y="2299624"/>
                      <a:pt x="1620517" y="2299624"/>
                    </a:cubicBezTo>
                    <a:cubicBezTo>
                      <a:pt x="1566729" y="2299624"/>
                      <a:pt x="1430017" y="1900695"/>
                      <a:pt x="1257446" y="1815530"/>
                    </a:cubicBezTo>
                    <a:cubicBezTo>
                      <a:pt x="1084875" y="1730365"/>
                      <a:pt x="757663" y="1811048"/>
                      <a:pt x="585093" y="1788636"/>
                    </a:cubicBezTo>
                    <a:cubicBezTo>
                      <a:pt x="412523" y="1766224"/>
                      <a:pt x="233229" y="1649683"/>
                      <a:pt x="222023" y="1681059"/>
                    </a:cubicBezTo>
                    <a:cubicBezTo>
                      <a:pt x="210817" y="1712435"/>
                      <a:pt x="455105" y="1860354"/>
                      <a:pt x="517858" y="1976895"/>
                    </a:cubicBezTo>
                    <a:cubicBezTo>
                      <a:pt x="580611" y="2093436"/>
                      <a:pt x="477517" y="2250318"/>
                      <a:pt x="598540" y="2380306"/>
                    </a:cubicBezTo>
                    <a:cubicBezTo>
                      <a:pt x="719563" y="2510294"/>
                      <a:pt x="1196934" y="2676142"/>
                      <a:pt x="1243999" y="2756824"/>
                    </a:cubicBezTo>
                    <a:cubicBezTo>
                      <a:pt x="1291064" y="2837506"/>
                      <a:pt x="1001952" y="2826300"/>
                      <a:pt x="880929" y="2864400"/>
                    </a:cubicBezTo>
                    <a:cubicBezTo>
                      <a:pt x="759906" y="2902500"/>
                      <a:pt x="636641" y="2895777"/>
                      <a:pt x="517858" y="2985424"/>
                    </a:cubicBezTo>
                    <a:cubicBezTo>
                      <a:pt x="399075" y="3075071"/>
                      <a:pt x="253399" y="3310395"/>
                      <a:pt x="168234" y="3402283"/>
                    </a:cubicBezTo>
                    <a:cubicBezTo>
                      <a:pt x="83069" y="3494171"/>
                      <a:pt x="-28989" y="3521065"/>
                      <a:pt x="6870" y="3536753"/>
                    </a:cubicBezTo>
                    <a:cubicBezTo>
                      <a:pt x="42729" y="3552441"/>
                      <a:pt x="239952" y="3509859"/>
                      <a:pt x="383387" y="3496412"/>
                    </a:cubicBezTo>
                    <a:cubicBezTo>
                      <a:pt x="526822" y="3482965"/>
                      <a:pt x="703875" y="3496412"/>
                      <a:pt x="867481" y="3456071"/>
                    </a:cubicBezTo>
                    <a:cubicBezTo>
                      <a:pt x="1031087" y="3415730"/>
                      <a:pt x="1338129" y="3236436"/>
                      <a:pt x="1365023" y="3254365"/>
                    </a:cubicBezTo>
                    <a:cubicBezTo>
                      <a:pt x="1391917" y="3272294"/>
                      <a:pt x="1131940" y="3451588"/>
                      <a:pt x="1028846" y="3563647"/>
                    </a:cubicBezTo>
                    <a:cubicBezTo>
                      <a:pt x="925752" y="3675706"/>
                      <a:pt x="847311" y="3823624"/>
                      <a:pt x="746458" y="3926718"/>
                    </a:cubicBezTo>
                    <a:cubicBezTo>
                      <a:pt x="645605" y="4029812"/>
                      <a:pt x="396835" y="4166524"/>
                      <a:pt x="423729" y="4182212"/>
                    </a:cubicBezTo>
                    <a:cubicBezTo>
                      <a:pt x="450623" y="4197900"/>
                      <a:pt x="726288" y="4061188"/>
                      <a:pt x="907823" y="4020847"/>
                    </a:cubicBezTo>
                    <a:cubicBezTo>
                      <a:pt x="1089358" y="3980506"/>
                      <a:pt x="1356058" y="3969300"/>
                      <a:pt x="1512940" y="3940165"/>
                    </a:cubicBezTo>
                    <a:cubicBezTo>
                      <a:pt x="1669822" y="3911030"/>
                      <a:pt x="1741541" y="3881895"/>
                      <a:pt x="1849117" y="3846036"/>
                    </a:cubicBezTo>
                    <a:cubicBezTo>
                      <a:pt x="1956693" y="3810177"/>
                      <a:pt x="2100129" y="3745183"/>
                      <a:pt x="2158399" y="3725012"/>
                    </a:cubicBezTo>
                    <a:cubicBezTo>
                      <a:pt x="2216670" y="3704841"/>
                      <a:pt x="2194258" y="3796730"/>
                      <a:pt x="2198740" y="3725012"/>
                    </a:cubicBezTo>
                    <a:cubicBezTo>
                      <a:pt x="2203222" y="3653294"/>
                      <a:pt x="2194258" y="3879653"/>
                      <a:pt x="2185293" y="3294706"/>
                    </a:cubicBezTo>
                    <a:cubicBezTo>
                      <a:pt x="2176328" y="2709759"/>
                      <a:pt x="2165122" y="708389"/>
                      <a:pt x="2144952" y="215330"/>
                    </a:cubicBezTo>
                    <a:cubicBezTo>
                      <a:pt x="2124782" y="-277729"/>
                      <a:pt x="2079958" y="217571"/>
                      <a:pt x="2050823" y="3094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任意多边形 5"/>
              <p:cNvSpPr/>
              <p:nvPr/>
            </p:nvSpPr>
            <p:spPr>
              <a:xfrm rot="12492600">
                <a:off x="1374480" y="-1009800"/>
                <a:ext cx="589680" cy="1119240"/>
              </a:xfrm>
              <a:custGeom>
                <a:avLst/>
                <a:gdLst/>
                <a:ahLst/>
                <a:rect l="l" t="t" r="r" b="b"/>
                <a:pathLst>
                  <a:path w="2199932" h="4183459">
                    <a:moveTo>
                      <a:pt x="2050823" y="309459"/>
                    </a:moveTo>
                    <a:cubicBezTo>
                      <a:pt x="2021688" y="401347"/>
                      <a:pt x="2030652" y="609777"/>
                      <a:pt x="1970140" y="766659"/>
                    </a:cubicBezTo>
                    <a:cubicBezTo>
                      <a:pt x="1909628" y="923541"/>
                      <a:pt x="1752746" y="1075941"/>
                      <a:pt x="1687752" y="1250753"/>
                    </a:cubicBezTo>
                    <a:cubicBezTo>
                      <a:pt x="1622758" y="1425565"/>
                      <a:pt x="1591382" y="1640718"/>
                      <a:pt x="1580176" y="1815530"/>
                    </a:cubicBezTo>
                    <a:cubicBezTo>
                      <a:pt x="1568970" y="1990342"/>
                      <a:pt x="1674305" y="2299624"/>
                      <a:pt x="1620517" y="2299624"/>
                    </a:cubicBezTo>
                    <a:cubicBezTo>
                      <a:pt x="1566729" y="2299624"/>
                      <a:pt x="1430017" y="1900695"/>
                      <a:pt x="1257446" y="1815530"/>
                    </a:cubicBezTo>
                    <a:cubicBezTo>
                      <a:pt x="1084875" y="1730365"/>
                      <a:pt x="757663" y="1811048"/>
                      <a:pt x="585093" y="1788636"/>
                    </a:cubicBezTo>
                    <a:cubicBezTo>
                      <a:pt x="412523" y="1766224"/>
                      <a:pt x="233229" y="1649683"/>
                      <a:pt x="222023" y="1681059"/>
                    </a:cubicBezTo>
                    <a:cubicBezTo>
                      <a:pt x="210817" y="1712435"/>
                      <a:pt x="455105" y="1860354"/>
                      <a:pt x="517858" y="1976895"/>
                    </a:cubicBezTo>
                    <a:cubicBezTo>
                      <a:pt x="580611" y="2093436"/>
                      <a:pt x="477517" y="2250318"/>
                      <a:pt x="598540" y="2380306"/>
                    </a:cubicBezTo>
                    <a:cubicBezTo>
                      <a:pt x="719563" y="2510294"/>
                      <a:pt x="1196934" y="2676142"/>
                      <a:pt x="1243999" y="2756824"/>
                    </a:cubicBezTo>
                    <a:cubicBezTo>
                      <a:pt x="1291064" y="2837506"/>
                      <a:pt x="1001952" y="2826300"/>
                      <a:pt x="880929" y="2864400"/>
                    </a:cubicBezTo>
                    <a:cubicBezTo>
                      <a:pt x="759906" y="2902500"/>
                      <a:pt x="636641" y="2895777"/>
                      <a:pt x="517858" y="2985424"/>
                    </a:cubicBezTo>
                    <a:cubicBezTo>
                      <a:pt x="399075" y="3075071"/>
                      <a:pt x="253399" y="3310395"/>
                      <a:pt x="168234" y="3402283"/>
                    </a:cubicBezTo>
                    <a:cubicBezTo>
                      <a:pt x="83069" y="3494171"/>
                      <a:pt x="-28989" y="3521065"/>
                      <a:pt x="6870" y="3536753"/>
                    </a:cubicBezTo>
                    <a:cubicBezTo>
                      <a:pt x="42729" y="3552441"/>
                      <a:pt x="239952" y="3509859"/>
                      <a:pt x="383387" y="3496412"/>
                    </a:cubicBezTo>
                    <a:cubicBezTo>
                      <a:pt x="526822" y="3482965"/>
                      <a:pt x="703875" y="3496412"/>
                      <a:pt x="867481" y="3456071"/>
                    </a:cubicBezTo>
                    <a:cubicBezTo>
                      <a:pt x="1031087" y="3415730"/>
                      <a:pt x="1338129" y="3236436"/>
                      <a:pt x="1365023" y="3254365"/>
                    </a:cubicBezTo>
                    <a:cubicBezTo>
                      <a:pt x="1391917" y="3272294"/>
                      <a:pt x="1131940" y="3451588"/>
                      <a:pt x="1028846" y="3563647"/>
                    </a:cubicBezTo>
                    <a:cubicBezTo>
                      <a:pt x="925752" y="3675706"/>
                      <a:pt x="847311" y="3823624"/>
                      <a:pt x="746458" y="3926718"/>
                    </a:cubicBezTo>
                    <a:cubicBezTo>
                      <a:pt x="645605" y="4029812"/>
                      <a:pt x="396835" y="4166524"/>
                      <a:pt x="423729" y="4182212"/>
                    </a:cubicBezTo>
                    <a:cubicBezTo>
                      <a:pt x="450623" y="4197900"/>
                      <a:pt x="726288" y="4061188"/>
                      <a:pt x="907823" y="4020847"/>
                    </a:cubicBezTo>
                    <a:cubicBezTo>
                      <a:pt x="1089358" y="3980506"/>
                      <a:pt x="1356058" y="3969300"/>
                      <a:pt x="1512940" y="3940165"/>
                    </a:cubicBezTo>
                    <a:cubicBezTo>
                      <a:pt x="1669822" y="3911030"/>
                      <a:pt x="1741541" y="3881895"/>
                      <a:pt x="1849117" y="3846036"/>
                    </a:cubicBezTo>
                    <a:cubicBezTo>
                      <a:pt x="1956693" y="3810177"/>
                      <a:pt x="2100129" y="3745183"/>
                      <a:pt x="2158399" y="3725012"/>
                    </a:cubicBezTo>
                    <a:cubicBezTo>
                      <a:pt x="2216670" y="3704841"/>
                      <a:pt x="2194258" y="3796730"/>
                      <a:pt x="2198740" y="3725012"/>
                    </a:cubicBezTo>
                    <a:cubicBezTo>
                      <a:pt x="2203222" y="3653294"/>
                      <a:pt x="2194258" y="3879653"/>
                      <a:pt x="2185293" y="3294706"/>
                    </a:cubicBezTo>
                    <a:cubicBezTo>
                      <a:pt x="2176328" y="2709759"/>
                      <a:pt x="2165122" y="708389"/>
                      <a:pt x="2144952" y="215330"/>
                    </a:cubicBezTo>
                    <a:cubicBezTo>
                      <a:pt x="2124782" y="-277729"/>
                      <a:pt x="2079958" y="217571"/>
                      <a:pt x="2050823" y="3094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任意多边形 6"/>
              <p:cNvSpPr/>
              <p:nvPr/>
            </p:nvSpPr>
            <p:spPr>
              <a:xfrm rot="12492600">
                <a:off x="1681560" y="-1426320"/>
                <a:ext cx="70920" cy="559800"/>
              </a:xfrm>
              <a:custGeom>
                <a:avLst/>
                <a:gdLst/>
                <a:ahLst/>
                <a:rect l="l" t="t" r="r" b="b"/>
                <a:pathLst>
                  <a:path w="264569" h="2092698">
                    <a:moveTo>
                      <a:pt x="121267" y="49632"/>
                    </a:moveTo>
                    <a:cubicBezTo>
                      <a:pt x="92132" y="139279"/>
                      <a:pt x="4725" y="291679"/>
                      <a:pt x="243" y="560620"/>
                    </a:cubicBezTo>
                    <a:cubicBezTo>
                      <a:pt x="-4239" y="829561"/>
                      <a:pt x="54032" y="1410026"/>
                      <a:pt x="94373" y="1663279"/>
                    </a:cubicBezTo>
                    <a:cubicBezTo>
                      <a:pt x="134714" y="1916532"/>
                      <a:pt x="215396" y="2033073"/>
                      <a:pt x="242290" y="2080138"/>
                    </a:cubicBezTo>
                    <a:cubicBezTo>
                      <a:pt x="269184" y="2127203"/>
                      <a:pt x="269184" y="2033073"/>
                      <a:pt x="255737" y="1945667"/>
                    </a:cubicBezTo>
                    <a:cubicBezTo>
                      <a:pt x="242290" y="1858261"/>
                      <a:pt x="190743" y="1748444"/>
                      <a:pt x="161608" y="1555703"/>
                    </a:cubicBezTo>
                    <a:cubicBezTo>
                      <a:pt x="132473" y="1362962"/>
                      <a:pt x="92132" y="990926"/>
                      <a:pt x="80926" y="789220"/>
                    </a:cubicBezTo>
                    <a:cubicBezTo>
                      <a:pt x="69720" y="587514"/>
                      <a:pt x="78685" y="457526"/>
                      <a:pt x="94373" y="345467"/>
                    </a:cubicBezTo>
                    <a:cubicBezTo>
                      <a:pt x="110061" y="233408"/>
                      <a:pt x="161608" y="170655"/>
                      <a:pt x="175055" y="116867"/>
                    </a:cubicBezTo>
                    <a:cubicBezTo>
                      <a:pt x="188502" y="63079"/>
                      <a:pt x="186261" y="27220"/>
                      <a:pt x="175055" y="22738"/>
                    </a:cubicBezTo>
                    <a:cubicBezTo>
                      <a:pt x="163849" y="18256"/>
                      <a:pt x="150402" y="-40015"/>
                      <a:pt x="121267" y="496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椭圆 7"/>
              <p:cNvSpPr/>
              <p:nvPr/>
            </p:nvSpPr>
            <p:spPr>
              <a:xfrm rot="12492600">
                <a:off x="1606320" y="-983520"/>
                <a:ext cx="70920" cy="23400"/>
              </a:xfrm>
              <a:custGeom>
                <a:avLst/>
                <a:gdLst/>
                <a:ahLst/>
                <a:rect l="l" t="t" r="r" b="b"/>
                <a:pathLst>
                  <a:path w="264821" h="88460">
                    <a:moveTo>
                      <a:pt x="794" y="85388"/>
                    </a:moveTo>
                    <a:cubicBezTo>
                      <a:pt x="8638" y="75395"/>
                      <a:pt x="74108" y="3128"/>
                      <a:pt x="117849" y="123"/>
                    </a:cubicBezTo>
                    <a:cubicBezTo>
                      <a:pt x="161590" y="-2882"/>
                      <a:pt x="249189" y="49636"/>
                      <a:pt x="263238" y="67357"/>
                    </a:cubicBezTo>
                    <a:cubicBezTo>
                      <a:pt x="277287" y="85078"/>
                      <a:pt x="193750" y="33853"/>
                      <a:pt x="173812" y="44630"/>
                    </a:cubicBezTo>
                    <a:cubicBezTo>
                      <a:pt x="153874" y="55407"/>
                      <a:pt x="135021" y="85653"/>
                      <a:pt x="117849" y="88229"/>
                    </a:cubicBezTo>
                    <a:cubicBezTo>
                      <a:pt x="100677" y="90805"/>
                      <a:pt x="96301" y="71290"/>
                      <a:pt x="70782" y="60084"/>
                    </a:cubicBezTo>
                    <a:cubicBezTo>
                      <a:pt x="45263" y="48878"/>
                      <a:pt x="-7050" y="95381"/>
                      <a:pt x="794" y="85388"/>
                    </a:cubicBez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文本框 9"/>
            <p:cNvSpPr/>
            <p:nvPr/>
          </p:nvSpPr>
          <p:spPr>
            <a:xfrm>
              <a:off x="1336680" y="-1017360"/>
              <a:ext cx="54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任意多边形 13"/>
          <p:cNvSpPr/>
          <p:nvPr/>
        </p:nvSpPr>
        <p:spPr>
          <a:xfrm>
            <a:off x="2063880" y="1008000"/>
            <a:ext cx="8534160" cy="4772160"/>
          </a:xfrm>
          <a:custGeom>
            <a:avLst/>
            <a:gdLst/>
            <a:ahLst/>
            <a:rect l="l" t="t" r="r" b="b"/>
            <a:pathLst>
              <a:path w="8533201" h="4771292">
                <a:moveTo>
                  <a:pt x="7500929" y="1337629"/>
                </a:moveTo>
                <a:lnTo>
                  <a:pt x="7642247" y="1594339"/>
                </a:lnTo>
                <a:lnTo>
                  <a:pt x="7783564" y="1337629"/>
                </a:lnTo>
                <a:lnTo>
                  <a:pt x="7500929" y="1337629"/>
                </a:lnTo>
                <a:close/>
                <a:moveTo>
                  <a:pt x="8124321" y="1079394"/>
                </a:moveTo>
                <a:lnTo>
                  <a:pt x="7924471" y="1279244"/>
                </a:lnTo>
                <a:lnTo>
                  <a:pt x="8205875" y="1360798"/>
                </a:lnTo>
                <a:lnTo>
                  <a:pt x="8124321" y="1079394"/>
                </a:lnTo>
                <a:close/>
                <a:moveTo>
                  <a:pt x="7160172" y="1079394"/>
                </a:moveTo>
                <a:lnTo>
                  <a:pt x="7078544" y="1360798"/>
                </a:lnTo>
                <a:lnTo>
                  <a:pt x="7360022" y="1279244"/>
                </a:lnTo>
                <a:lnTo>
                  <a:pt x="7160172" y="1079394"/>
                </a:lnTo>
                <a:close/>
                <a:moveTo>
                  <a:pt x="0" y="949569"/>
                </a:moveTo>
                <a:lnTo>
                  <a:pt x="7176391" y="949569"/>
                </a:lnTo>
                <a:lnTo>
                  <a:pt x="7188575" y="988820"/>
                </a:lnTo>
                <a:cubicBezTo>
                  <a:pt x="7263320" y="1165537"/>
                  <a:pt x="7438303" y="1289534"/>
                  <a:pt x="7642247" y="1289534"/>
                </a:cubicBezTo>
                <a:cubicBezTo>
                  <a:pt x="7846191" y="1289534"/>
                  <a:pt x="8021174" y="1165537"/>
                  <a:pt x="8095919" y="988820"/>
                </a:cubicBezTo>
                <a:lnTo>
                  <a:pt x="8108103" y="949569"/>
                </a:lnTo>
                <a:lnTo>
                  <a:pt x="8533201" y="949569"/>
                </a:lnTo>
                <a:lnTo>
                  <a:pt x="8533201" y="4771292"/>
                </a:lnTo>
                <a:lnTo>
                  <a:pt x="0" y="4771292"/>
                </a:lnTo>
                <a:lnTo>
                  <a:pt x="0" y="949569"/>
                </a:lnTo>
                <a:close/>
                <a:moveTo>
                  <a:pt x="8182706" y="655852"/>
                </a:moveTo>
                <a:lnTo>
                  <a:pt x="8439416" y="797170"/>
                </a:lnTo>
                <a:lnTo>
                  <a:pt x="8182706" y="938487"/>
                </a:lnTo>
                <a:lnTo>
                  <a:pt x="8182706" y="655852"/>
                </a:lnTo>
                <a:close/>
                <a:moveTo>
                  <a:pt x="7101787" y="655852"/>
                </a:moveTo>
                <a:lnTo>
                  <a:pt x="7101787" y="938487"/>
                </a:lnTo>
                <a:lnTo>
                  <a:pt x="6845077" y="797170"/>
                </a:lnTo>
                <a:lnTo>
                  <a:pt x="7101787" y="655852"/>
                </a:lnTo>
                <a:close/>
                <a:moveTo>
                  <a:pt x="7642247" y="304806"/>
                </a:moveTo>
                <a:cubicBezTo>
                  <a:pt x="7914172" y="304806"/>
                  <a:pt x="8134611" y="525245"/>
                  <a:pt x="8134611" y="797170"/>
                </a:cubicBezTo>
                <a:cubicBezTo>
                  <a:pt x="8134611" y="831161"/>
                  <a:pt x="8131167" y="864347"/>
                  <a:pt x="8124608" y="896398"/>
                </a:cubicBezTo>
                <a:lnTo>
                  <a:pt x="8108103" y="949569"/>
                </a:lnTo>
                <a:lnTo>
                  <a:pt x="7176391" y="949569"/>
                </a:lnTo>
                <a:lnTo>
                  <a:pt x="7159886" y="896398"/>
                </a:lnTo>
                <a:cubicBezTo>
                  <a:pt x="7153327" y="864347"/>
                  <a:pt x="7149883" y="831161"/>
                  <a:pt x="7149883" y="797170"/>
                </a:cubicBezTo>
                <a:cubicBezTo>
                  <a:pt x="7149883" y="525245"/>
                  <a:pt x="7370322" y="304806"/>
                  <a:pt x="7642247" y="304806"/>
                </a:cubicBezTo>
                <a:close/>
                <a:moveTo>
                  <a:pt x="8205875" y="233467"/>
                </a:moveTo>
                <a:lnTo>
                  <a:pt x="8124321" y="514945"/>
                </a:lnTo>
                <a:lnTo>
                  <a:pt x="7924471" y="315095"/>
                </a:lnTo>
                <a:lnTo>
                  <a:pt x="8205875" y="233467"/>
                </a:lnTo>
                <a:close/>
                <a:moveTo>
                  <a:pt x="7078544" y="233467"/>
                </a:moveTo>
                <a:lnTo>
                  <a:pt x="7360022" y="315095"/>
                </a:lnTo>
                <a:lnTo>
                  <a:pt x="7160172" y="514945"/>
                </a:lnTo>
                <a:lnTo>
                  <a:pt x="7078544" y="233467"/>
                </a:lnTo>
                <a:close/>
                <a:moveTo>
                  <a:pt x="7642247" y="0"/>
                </a:moveTo>
                <a:lnTo>
                  <a:pt x="7783564" y="256710"/>
                </a:lnTo>
                <a:lnTo>
                  <a:pt x="7500929" y="256710"/>
                </a:lnTo>
                <a:lnTo>
                  <a:pt x="7642247" y="0"/>
                </a:ln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1927080" y="1128600"/>
            <a:ext cx="42055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[</a:t>
            </a:r>
            <a:r>
              <a:rPr b="0" lang="zh-CN" sz="3600" spc="-1" strike="noStrike">
                <a:solidFill>
                  <a:srgbClr val="01c1ff"/>
                </a:solidFill>
                <a:latin typeface="微软雅黑"/>
                <a:ea typeface="微软雅黑"/>
              </a:rPr>
              <a:t>单击此处添加标题</a:t>
            </a: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]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15"/>
          <p:cNvSpPr/>
          <p:nvPr/>
        </p:nvSpPr>
        <p:spPr>
          <a:xfrm>
            <a:off x="2193840" y="2309760"/>
            <a:ext cx="8180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875E-006 -1.11111E-006 L 0.00013 0.32986 E">
                                      <p:cBhvr>
                                        <p:cTn id="68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7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文本框 3"/>
          <p:cNvSpPr/>
          <p:nvPr/>
        </p:nvSpPr>
        <p:spPr>
          <a:xfrm>
            <a:off x="4603680" y="261612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5"/>
          <p:cNvSpPr/>
          <p:nvPr/>
        </p:nvSpPr>
        <p:spPr>
          <a:xfrm>
            <a:off x="5491080" y="4046400"/>
            <a:ext cx="84240" cy="209520"/>
          </a:xfrm>
          <a:prstGeom prst="line">
            <a:avLst/>
          </a:prstGeom>
          <a:ln w="12600">
            <a:solidFill>
              <a:srgbClr val="ffffff">
                <a:alpha val="4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6"/>
          <p:cNvSpPr/>
          <p:nvPr/>
        </p:nvSpPr>
        <p:spPr>
          <a:xfrm flipH="1">
            <a:off x="6480000" y="4046400"/>
            <a:ext cx="82800" cy="20952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直接连接符 7"/>
          <p:cNvSpPr/>
          <p:nvPr/>
        </p:nvSpPr>
        <p:spPr>
          <a:xfrm>
            <a:off x="6015600" y="3799080"/>
            <a:ext cx="2160" cy="22680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图片 9" descr=""/>
          <p:cNvPicPr/>
          <p:nvPr/>
        </p:nvPicPr>
        <p:blipFill>
          <a:blip r:embed="rId2"/>
          <a:srcRect l="55276" t="24643" r="37567" b="57364"/>
          <a:stretch/>
        </p:blipFill>
        <p:spPr>
          <a:xfrm>
            <a:off x="4019400" y="2138400"/>
            <a:ext cx="400320" cy="95724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10" descr=""/>
          <p:cNvPicPr/>
          <p:nvPr/>
        </p:nvPicPr>
        <p:blipFill>
          <a:blip r:embed="rId3"/>
          <a:srcRect l="37568" t="57369" r="55280" b="24648"/>
          <a:stretch/>
        </p:blipFill>
        <p:spPr>
          <a:xfrm>
            <a:off x="7400880" y="2955960"/>
            <a:ext cx="399960" cy="955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6" dur="35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175" autoRev="1" fill="hold"/>
                                        <p:tgtEl>
                                          <p:spTgt spid="5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" dur="35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175" autoRev="1" fill="hold"/>
                                        <p:tgtEl>
                                          <p:spTgt spid="5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2" dur="35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75" autoRev="1" fill="hold"/>
                                        <p:tgtEl>
                                          <p:spTgt spid="5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3T19:48:00Z</dcterms:created>
  <dc:creator>D13001</dc:creator>
  <dc:description/>
  <cp:keywords/>
  <dc:language>en-US</dc:language>
  <cp:lastModifiedBy>Bee Little</cp:lastModifiedBy>
  <dcterms:modified xsi:type="dcterms:W3CDTF">2017-08-06T07:36:07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