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468360" y="900000"/>
            <a:ext cx="8207280" cy="5388120"/>
          </a:xfrm>
          <a:prstGeom prst="roundRect">
            <a:avLst>
              <a:gd name="adj" fmla="val 3213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7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39711467-29DC-4A65-A27D-CC911B94D08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8ee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7316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83ba2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c8b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96e44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345a0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8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223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5c8b17"/>
                </a:gs>
                <a:gs pos="100000">
                  <a:srgbClr val="83ba20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1042920" y="2658960"/>
            <a:ext cx="7169040" cy="528840"/>
            <a:chOff x="1042920" y="2658960"/>
            <a:chExt cx="7169040" cy="528840"/>
          </a:xfrm>
        </p:grpSpPr>
        <p:sp>
          <p:nvSpPr>
            <p:cNvPr id="226" name="AutoShape 7"/>
            <p:cNvSpPr/>
            <p:nvPr/>
          </p:nvSpPr>
          <p:spPr>
            <a:xfrm>
              <a:off x="1042920" y="265896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2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042920" y="3619440"/>
            <a:ext cx="7169040" cy="528840"/>
            <a:chOff x="1042920" y="3619440"/>
            <a:chExt cx="7169040" cy="528840"/>
          </a:xfrm>
        </p:grpSpPr>
        <p:sp>
          <p:nvSpPr>
            <p:cNvPr id="229" name="AutoShape 10"/>
            <p:cNvSpPr/>
            <p:nvPr/>
          </p:nvSpPr>
          <p:spPr>
            <a:xfrm>
              <a:off x="1042920" y="361944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3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232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4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247" name="Line 6"/>
            <p:cNvSpPr/>
            <p:nvPr/>
          </p:nvSpPr>
          <p:spPr>
            <a:xfrm flipH="1">
              <a:off x="618840" y="4953240"/>
              <a:ext cx="239292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256" name="Line 15"/>
            <p:cNvSpPr/>
            <p:nvPr/>
          </p:nvSpPr>
          <p:spPr>
            <a:xfrm flipH="1">
              <a:off x="335592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261" name="Line 20"/>
            <p:cNvSpPr/>
            <p:nvPr/>
          </p:nvSpPr>
          <p:spPr>
            <a:xfrm flipH="1">
              <a:off x="609120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6e448"/>
              </a:gs>
              <a:gs pos="100000">
                <a:srgbClr val="83ba2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7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4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3639960" y="1982880"/>
            <a:ext cx="1726200" cy="1747440"/>
            <a:chOff x="3639960" y="1982880"/>
            <a:chExt cx="1726200" cy="1747440"/>
          </a:xfrm>
        </p:grpSpPr>
        <p:grpSp>
          <p:nvGrpSpPr>
            <p:cNvPr id="299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300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301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67b1"/>
                    </a:gs>
                    <a:gs pos="100000">
                      <a:srgbClr val="153b8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04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12"/>
            <p:cNvGrpSpPr/>
            <p:nvPr/>
          </p:nvGrpSpPr>
          <p:grpSpPr>
            <a:xfrm>
              <a:off x="3744720" y="3132360"/>
              <a:ext cx="1497240" cy="597960"/>
              <a:chOff x="3744720" y="3132360"/>
              <a:chExt cx="1497240" cy="59796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4006080" y="3132360"/>
                <a:ext cx="1235880" cy="562320"/>
                <a:chOff x="4006080" y="3132360"/>
                <a:chExt cx="1235880" cy="562320"/>
              </a:xfrm>
            </p:grpSpPr>
            <p:sp>
              <p:nvSpPr>
                <p:cNvPr id="306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15"/>
                <p:cNvSpPr/>
                <p:nvPr/>
              </p:nvSpPr>
              <p:spPr>
                <a:xfrm flipH="1" flipV="1" rot="4780200">
                  <a:off x="453960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6"/>
                <p:cNvSpPr/>
                <p:nvPr/>
              </p:nvSpPr>
              <p:spPr>
                <a:xfrm flipH="1" flipV="1" rot="5076000">
                  <a:off x="445500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7"/>
                <p:cNvSpPr/>
                <p:nvPr/>
              </p:nvSpPr>
              <p:spPr>
                <a:xfrm flipH="1" flipV="1" rot="5608200">
                  <a:off x="435240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8"/>
              <p:cNvGrpSpPr/>
              <p:nvPr/>
            </p:nvGrpSpPr>
            <p:grpSpPr>
              <a:xfrm>
                <a:off x="3744720" y="3141000"/>
                <a:ext cx="1233720" cy="589320"/>
                <a:chOff x="3744720" y="3141000"/>
                <a:chExt cx="1233720" cy="589320"/>
              </a:xfrm>
            </p:grpSpPr>
            <p:sp>
              <p:nvSpPr>
                <p:cNvPr id="311" name="AutoShape 19"/>
                <p:cNvSpPr/>
                <p:nvPr/>
              </p:nvSpPr>
              <p:spPr>
                <a:xfrm flipH="1" flipV="1" rot="5317800">
                  <a:off x="441792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20"/>
                <p:cNvSpPr/>
                <p:nvPr/>
              </p:nvSpPr>
              <p:spPr>
                <a:xfrm flipH="1" flipV="1" rot="6133800">
                  <a:off x="4268520" y="303912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21"/>
                <p:cNvSpPr/>
                <p:nvPr/>
              </p:nvSpPr>
              <p:spPr>
                <a:xfrm flipH="1" flipV="1" rot="6429000">
                  <a:off x="418464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2"/>
                <p:cNvSpPr/>
                <p:nvPr/>
              </p:nvSpPr>
              <p:spPr>
                <a:xfrm flipH="1" flipV="1" rot="6961200">
                  <a:off x="4086720" y="298584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Freeform 23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4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7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8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9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0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1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33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32000" y="105264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09880" y="4313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b5d9fd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搜集整理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2-05-30T05:35:14Z</dcterms:modified>
  <cp:revision>250</cp:revision>
  <dc:subject/>
  <dc:title>PowerPoint Template</dc:title>
</cp:coreProperties>
</file>