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FC3-1C15-446B-BEAC-182030B9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3D5-3B41-4584-ABC8-E430C6B2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5EC-64D1-41C1-805F-523FA261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259-523A-446E-86BE-1E8D3F21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6DA2-B240-4297-BE8F-A4CCFD8E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83F6-DB6A-4B0A-A27A-766078E4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1545-9358-4713-94BB-94869BDC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F438-09D1-410C-A787-31E7E137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3B54-71BE-460F-8993-AD69EFF9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AF8C-8E1E-46C5-89DB-395890D5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3BCA-D4A5-4E72-B88B-51B5EA59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AAB-9B12-4596-93DA-E76CA6D4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9CE7-349E-46E7-869E-E14A6BE8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288E-17DA-4274-9F65-C7CAEF97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9D18-E259-42D5-A01D-F437D63E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8643-30F8-46E4-B0D3-C9B760E4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CF6C-C588-453B-AAA5-4B5F8DEB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A5068-B1FA-4CA9-819F-0DF55747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326B-3037-4AA0-A685-0635E6E0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596E-4961-4ABF-8EF8-EC3FA3D2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EB204-2E95-4A14-996C-EDF52B27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F9B21-AFCA-43A6-AB1C-E7C7C5AA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D79-5DC6-41FB-A1ED-6BF552C7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E262-174F-49C9-AB75-EC2C8E36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4C83-4E35-4B29-BA14-15D8BD38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F29BC-193F-4E86-BB71-495FE9F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DE70B-9631-44DF-AC74-188124E1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CD28-17D5-4F40-9F9D-BD331885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6346-A158-412E-9692-B6F40BEF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91A9-41E8-471C-89E3-82707916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815-D5B0-49CF-809A-F2AE5E15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315-787A-47CC-A51F-5A5733B2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4CB-EE5B-4F82-BAB5-8ABDA6A5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3EB-59C7-4E2F-8B36-67E6DE0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97F-E21B-456A-8CE7-E089B9F3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438-FEA7-4109-B7E6-D518C13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BB68-9D1B-4C9A-A844-066FEB4F5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9B0E-6E8D-40A7-8195-F07CAA789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0DF7-D2BA-4523-8757-12FA27EFC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wheel spokes="3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393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394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uzzle2"/>
              <p:cNvSpPr/>
              <p:nvPr/>
            </p:nvSpPr>
            <p:spPr>
              <a:xfrm>
                <a:off x="4043880" y="3446640"/>
                <a:ext cx="2772360" cy="21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Puzzle4"/>
              <p:cNvSpPr/>
              <p:nvPr/>
            </p:nvSpPr>
            <p:spPr>
              <a:xfrm>
                <a:off x="2972880" y="3420360"/>
                <a:ext cx="1674720" cy="270828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406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411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 rot="14400000">
              <a:off x="492192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415" name="Freeform 15"/>
            <p:cNvSpPr/>
            <p:nvPr/>
          </p:nvSpPr>
          <p:spPr>
            <a:xfrm>
              <a:off x="262728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6"/>
            <p:cNvSpPr/>
            <p:nvPr/>
          </p:nvSpPr>
          <p:spPr>
            <a:xfrm rot="5400000">
              <a:off x="410832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315144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42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42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44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44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44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481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487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490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493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137200" y="4929120"/>
            <a:ext cx="3182760" cy="1800"/>
            <a:chOff x="5137200" y="4929120"/>
            <a:chExt cx="3182760" cy="1800"/>
          </a:xfrm>
        </p:grpSpPr>
        <p:sp>
          <p:nvSpPr>
            <p:cNvPr id="497" name="Line 44"/>
            <p:cNvSpPr/>
            <p:nvPr/>
          </p:nvSpPr>
          <p:spPr>
            <a:xfrm>
              <a:off x="5137200" y="4929120"/>
              <a:ext cx="3182760" cy="180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round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137200" y="4929120"/>
              <a:ext cx="3182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1273320" y="1981080"/>
            <a:ext cx="4061880" cy="3858480"/>
            <a:chOff x="1273320" y="1981080"/>
            <a:chExt cx="4061880" cy="3858480"/>
          </a:xfrm>
        </p:grpSpPr>
        <p:sp>
          <p:nvSpPr>
            <p:cNvPr id="504" name="AutoShape 5"/>
            <p:cNvSpPr/>
            <p:nvPr/>
          </p:nvSpPr>
          <p:spPr>
            <a:xfrm rot="16200000">
              <a:off x="3878640" y="32522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6"/>
            <p:cNvSpPr/>
            <p:nvPr/>
          </p:nvSpPr>
          <p:spPr>
            <a:xfrm rot="16200000">
              <a:off x="3193560" y="208332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7"/>
            <p:cNvSpPr/>
            <p:nvPr/>
          </p:nvSpPr>
          <p:spPr>
            <a:xfrm rot="16200000">
              <a:off x="32389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8"/>
            <p:cNvSpPr/>
            <p:nvPr/>
          </p:nvSpPr>
          <p:spPr>
            <a:xfrm rot="16200000">
              <a:off x="2520720" y="3255120"/>
              <a:ext cx="1556280" cy="1353960"/>
            </a:xfrm>
            <a:prstGeom prst="hexagon">
              <a:avLst>
                <a:gd name="adj" fmla="val 28767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9"/>
            <p:cNvSpPr/>
            <p:nvPr/>
          </p:nvSpPr>
          <p:spPr>
            <a:xfrm rot="16200000">
              <a:off x="1842120" y="2084400"/>
              <a:ext cx="1558800" cy="1351800"/>
            </a:xfrm>
            <a:prstGeom prst="hexagon">
              <a:avLst>
                <a:gd name="adj" fmla="val 28828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0"/>
            <p:cNvSpPr/>
            <p:nvPr/>
          </p:nvSpPr>
          <p:spPr>
            <a:xfrm rot="16200000">
              <a:off x="184248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1"/>
            <p:cNvSpPr/>
            <p:nvPr/>
          </p:nvSpPr>
          <p:spPr>
            <a:xfrm rot="16200000">
              <a:off x="1168920" y="32526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516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51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521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52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52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39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3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5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8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0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3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5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8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0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168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16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174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17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180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181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185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186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190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191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3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196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197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03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06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/>
            <a:ahLst/>
            <a:rect l="l" t="t" r="r" b="b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22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1111320" y="473976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1140120" y="303768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1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32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25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Oval 5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7"/>
            <p:cNvGrpSpPr/>
            <p:nvPr/>
          </p:nvGrpSpPr>
          <p:grpSpPr>
            <a:xfrm>
              <a:off x="1233360" y="3166200"/>
              <a:ext cx="1648080" cy="656640"/>
              <a:chOff x="1233360" y="3166200"/>
              <a:chExt cx="1648080" cy="656640"/>
            </a:xfrm>
          </p:grpSpPr>
          <p:grpSp>
            <p:nvGrpSpPr>
              <p:cNvPr id="262" name="Group 8"/>
              <p:cNvGrpSpPr/>
              <p:nvPr/>
            </p:nvGrpSpPr>
            <p:grpSpPr>
              <a:xfrm>
                <a:off x="1521000" y="3166200"/>
                <a:ext cx="1360440" cy="616680"/>
                <a:chOff x="1521000" y="3166200"/>
                <a:chExt cx="1360440" cy="616680"/>
              </a:xfrm>
            </p:grpSpPr>
            <p:sp>
              <p:nvSpPr>
                <p:cNvPr id="263" name="AutoShape 9"/>
                <p:cNvSpPr/>
                <p:nvPr/>
              </p:nvSpPr>
              <p:spPr>
                <a:xfrm flipH="1" flipV="1" rot="3964800">
                  <a:off x="2262960" y="2979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AutoShape 10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11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12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3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268" name="AutoShape 14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15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16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7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" name="Group 18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273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Oval 20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1280880" y="5522040"/>
              <a:ext cx="1648080" cy="656640"/>
              <a:chOff x="1280880" y="5522040"/>
              <a:chExt cx="1648080" cy="656640"/>
            </a:xfrm>
          </p:grpSpPr>
          <p:grpSp>
            <p:nvGrpSpPr>
              <p:cNvPr id="277" name="Group 23"/>
              <p:cNvGrpSpPr/>
              <p:nvPr/>
            </p:nvGrpSpPr>
            <p:grpSpPr>
              <a:xfrm>
                <a:off x="1568520" y="5522040"/>
                <a:ext cx="1360440" cy="616680"/>
                <a:chOff x="1568520" y="5522040"/>
                <a:chExt cx="1360440" cy="616680"/>
              </a:xfrm>
            </p:grpSpPr>
            <p:sp>
              <p:nvSpPr>
                <p:cNvPr id="278" name="AutoShape 24"/>
                <p:cNvSpPr/>
                <p:nvPr/>
              </p:nvSpPr>
              <p:spPr>
                <a:xfrm flipH="1" flipV="1" rot="3964800">
                  <a:off x="2310480" y="533556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25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26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27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28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283" name="AutoShape 29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30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31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32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7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288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292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296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 rot="16200000">
            <a:off x="2903400" y="4801680"/>
            <a:ext cx="162252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 rot="16200000">
            <a:off x="3469320" y="345276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 flipH="1" rot="16200000">
            <a:off x="2862000" y="2237760"/>
            <a:ext cx="1623960" cy="9680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6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4160" y="5862600"/>
            <a:ext cx="1854000" cy="1800"/>
            <a:chOff x="1154160" y="5862600"/>
            <a:chExt cx="1854000" cy="1800"/>
          </a:xfrm>
        </p:grpSpPr>
        <p:sp>
          <p:nvSpPr>
            <p:cNvPr id="313" name="Line 52"/>
            <p:cNvSpPr/>
            <p:nvPr/>
          </p:nvSpPr>
          <p:spPr>
            <a:xfrm flipH="1">
              <a:off x="1154160" y="5862600"/>
              <a:ext cx="18540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154160" y="5862600"/>
              <a:ext cx="185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153800" y="5051520"/>
            <a:ext cx="2392560" cy="1440"/>
            <a:chOff x="1153800" y="5051520"/>
            <a:chExt cx="2392560" cy="1440"/>
          </a:xfrm>
        </p:grpSpPr>
        <p:sp>
          <p:nvSpPr>
            <p:cNvPr id="316" name="Line 53"/>
            <p:cNvSpPr/>
            <p:nvPr/>
          </p:nvSpPr>
          <p:spPr>
            <a:xfrm flipH="1">
              <a:off x="1153800" y="5051520"/>
              <a:ext cx="23922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154160" y="5051520"/>
              <a:ext cx="2392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153800" y="4210200"/>
            <a:ext cx="2810160" cy="1440"/>
            <a:chOff x="1153800" y="4210200"/>
            <a:chExt cx="2810160" cy="1440"/>
          </a:xfrm>
        </p:grpSpPr>
        <p:sp>
          <p:nvSpPr>
            <p:cNvPr id="319" name="Line 54"/>
            <p:cNvSpPr/>
            <p:nvPr/>
          </p:nvSpPr>
          <p:spPr>
            <a:xfrm flipH="1">
              <a:off x="1153800" y="4210200"/>
              <a:ext cx="2809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154160" y="4210200"/>
              <a:ext cx="280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54160" y="3381480"/>
            <a:ext cx="3287520" cy="1440"/>
            <a:chOff x="1154160" y="3381480"/>
            <a:chExt cx="3287520" cy="1440"/>
          </a:xfrm>
        </p:grpSpPr>
        <p:sp>
          <p:nvSpPr>
            <p:cNvPr id="322" name="Line 55"/>
            <p:cNvSpPr/>
            <p:nvPr/>
          </p:nvSpPr>
          <p:spPr>
            <a:xfrm flipH="1">
              <a:off x="1154160" y="3381480"/>
              <a:ext cx="32875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154160" y="3381480"/>
              <a:ext cx="32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154160" y="2548080"/>
            <a:ext cx="3765600" cy="1440"/>
            <a:chOff x="1154160" y="2548080"/>
            <a:chExt cx="3765600" cy="1440"/>
          </a:xfrm>
        </p:grpSpPr>
        <p:sp>
          <p:nvSpPr>
            <p:cNvPr id="325" name="Line 56"/>
            <p:cNvSpPr/>
            <p:nvPr/>
          </p:nvSpPr>
          <p:spPr>
            <a:xfrm flipH="1">
              <a:off x="1154160" y="2548080"/>
              <a:ext cx="37656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154160" y="254808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154160" y="1836720"/>
            <a:ext cx="4184640" cy="1440"/>
            <a:chOff x="1154160" y="1836720"/>
            <a:chExt cx="4184640" cy="1440"/>
          </a:xfrm>
        </p:grpSpPr>
        <p:sp>
          <p:nvSpPr>
            <p:cNvPr id="328" name="Line 57"/>
            <p:cNvSpPr/>
            <p:nvPr/>
          </p:nvSpPr>
          <p:spPr>
            <a:xfrm flipH="1">
              <a:off x="1154160" y="1836720"/>
              <a:ext cx="41846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1154160" y="1836720"/>
              <a:ext cx="4184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92120" y="1836720"/>
            <a:ext cx="1800" cy="711360"/>
            <a:chOff x="1392120" y="1836720"/>
            <a:chExt cx="1800" cy="711360"/>
          </a:xfrm>
        </p:grpSpPr>
        <p:sp>
          <p:nvSpPr>
            <p:cNvPr id="331" name="Line 58"/>
            <p:cNvSpPr/>
            <p:nvPr/>
          </p:nvSpPr>
          <p:spPr>
            <a:xfrm>
              <a:off x="1392120" y="1836720"/>
              <a:ext cx="1800" cy="711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392120" y="1836720"/>
              <a:ext cx="180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392120" y="2548080"/>
            <a:ext cx="1800" cy="841320"/>
            <a:chOff x="1392120" y="2548080"/>
            <a:chExt cx="1800" cy="841320"/>
          </a:xfrm>
        </p:grpSpPr>
        <p:sp>
          <p:nvSpPr>
            <p:cNvPr id="334" name="Line 59"/>
            <p:cNvSpPr/>
            <p:nvPr/>
          </p:nvSpPr>
          <p:spPr>
            <a:xfrm>
              <a:off x="1392120" y="254808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392120" y="254808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92120" y="3389400"/>
            <a:ext cx="1800" cy="841320"/>
            <a:chOff x="1392120" y="3389400"/>
            <a:chExt cx="1800" cy="841320"/>
          </a:xfrm>
        </p:grpSpPr>
        <p:sp>
          <p:nvSpPr>
            <p:cNvPr id="337" name="Line 60"/>
            <p:cNvSpPr/>
            <p:nvPr/>
          </p:nvSpPr>
          <p:spPr>
            <a:xfrm>
              <a:off x="1392120" y="338940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1392120" y="338940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92120" y="4230720"/>
            <a:ext cx="1800" cy="841320"/>
            <a:chOff x="1392120" y="4230720"/>
            <a:chExt cx="1800" cy="841320"/>
          </a:xfrm>
        </p:grpSpPr>
        <p:sp>
          <p:nvSpPr>
            <p:cNvPr id="340" name="Line 61"/>
            <p:cNvSpPr/>
            <p:nvPr/>
          </p:nvSpPr>
          <p:spPr>
            <a:xfrm>
              <a:off x="1392120" y="4230720"/>
              <a:ext cx="1800" cy="841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392120" y="4230720"/>
              <a:ext cx="180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92120" y="5072040"/>
            <a:ext cx="1800" cy="776160"/>
            <a:chOff x="1392120" y="5072040"/>
            <a:chExt cx="1800" cy="776160"/>
          </a:xfrm>
        </p:grpSpPr>
        <p:sp>
          <p:nvSpPr>
            <p:cNvPr id="343" name="Line 62"/>
            <p:cNvSpPr/>
            <p:nvPr/>
          </p:nvSpPr>
          <p:spPr>
            <a:xfrm>
              <a:off x="1392120" y="5072040"/>
              <a:ext cx="1800" cy="7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1392120" y="5072040"/>
              <a:ext cx="1800" cy="7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/>
            <a:ahLst/>
            <a:rect l="l" t="t" r="r" b="b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/>
            <a:ahLst/>
            <a:rect l="l" t="t" r="r" b="b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3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/>
            <a:ahLst/>
            <a:rect l="l" t="t" r="r" b="b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76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80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83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 spokes="3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53:50Z</dcterms:created>
  <dc:creator/>
  <dc:description/>
  <dc:language>en-US</dc:language>
  <cp:lastModifiedBy>Administrator</cp:lastModifiedBy>
  <dcterms:modified xsi:type="dcterms:W3CDTF">2016-03-25T04:54:0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