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8DF-CEC6-4736-B924-987B822C7C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23DC-5E06-4F60-A952-57F67E55B2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7A3-D94F-4A59-AB3F-ED7B143D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3FF-177B-4F55-B398-4A601CC0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A54-26D7-450D-9CC2-2C98A052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FC7-F70E-43C6-9BE6-7AB1D859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E96-9BBE-4429-94A2-1F22BDB7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07F-67D3-474C-813F-FA614AF8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01C-4B27-46B7-8BD1-3D8D5583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A2A-B91C-4A61-A449-FD79CB45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101-5F67-4F2B-B839-BADBD12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2E5-29A3-48C6-91B6-CC04D392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D9B-5491-4E78-BD87-526B4CAC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84F-77C9-4825-8507-602765D0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6D73-A1E6-4F76-8128-CE3B9C0890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096640" y="6093000"/>
            <a:ext cx="44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YANGS-PC</cp:lastModifiedBy>
  <dcterms:modified xsi:type="dcterms:W3CDTF">2015-06-24T13:49:21Z</dcterms:modified>
  <cp:revision>74</cp:revision>
  <dc:subject/>
  <dc:title>幻灯片 1</dc:title>
</cp:coreProperties>
</file>