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45C3-CFDB-4AF0-BF12-A196F41399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7418-4D85-495F-AEDD-212FD7B7DA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BB4-709F-4253-B861-BEF1FC70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8DA-B191-4867-804C-A3A4C219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651-5AB1-406E-9513-A17074CA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BCB-E473-45DD-8CF7-77DCC850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C46-B43D-451E-8169-0687F4E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FCD-59F4-4FAC-8249-7159D68F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C90-6CA3-4082-9A65-483AEC9A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A89-ADFA-4A9A-A638-B79950E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7C4-35B0-4C7A-BAF6-39677272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D47-809A-4905-8903-60D7022A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B04-E7BC-4D9B-95BB-3445E39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4D9-1A55-4638-811D-D45D1B86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5EFA-12A8-4E1F-8D46-20716C9F0E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096640" y="6093000"/>
            <a:ext cx="44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YANGS-PC</cp:lastModifiedBy>
  <dcterms:modified xsi:type="dcterms:W3CDTF">2015-06-24T13:49:21Z</dcterms:modified>
  <cp:revision>74</cp:revision>
  <dc:subject/>
  <dc:title>幻灯片 1</dc:title>
</cp:coreProperties>
</file>