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5B7-B19E-4E0A-A74E-D650385D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251-0B1E-4951-BDFB-41C8B365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DA6-167D-42FC-B645-5E5D63EA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55F-E837-4299-8BAB-9E700B7D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C9A-5AFC-47B6-8EEB-BD070DDF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9A1-ED9D-4837-B593-CEA66F9F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C78-782F-4C01-9246-73F3AB80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AFD-D079-413D-AAA1-987E0C23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3F2-1521-4152-8133-EB7A6985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F4C-590E-46AE-BD71-33C257DE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923-F0ED-4106-8FA5-A6D612BB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CFF-4003-45BE-A51E-4B32CDFE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841B-C24A-4959-9548-3695D70B00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B9B2-C99D-4AA2-8BD3-86AE562C4B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6" descr=""/>
          <p:cNvPicPr/>
          <p:nvPr/>
        </p:nvPicPr>
        <p:blipFill>
          <a:blip r:embed="rId1"/>
          <a:stretch/>
        </p:blipFill>
        <p:spPr>
          <a:xfrm>
            <a:off x="-1440" y="0"/>
            <a:ext cx="3573360" cy="574524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44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64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Point Template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艺术抽象类应用模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1"/>
          <a:stretch/>
        </p:blipFill>
        <p:spPr>
          <a:xfrm>
            <a:off x="-1440" y="0"/>
            <a:ext cx="2485800" cy="5745240"/>
          </a:xfrm>
          <a:prstGeom prst="rect">
            <a:avLst/>
          </a:prstGeom>
          <a:ln w="0">
            <a:noFill/>
          </a:ln>
        </p:spPr>
      </p:pic>
      <p:sp>
        <p:nvSpPr>
          <p:cNvPr id="76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79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74920" y="1778040"/>
            <a:ext cx="5400720" cy="504720"/>
            <a:chOff x="2374920" y="1778040"/>
            <a:chExt cx="5400720" cy="504720"/>
          </a:xfrm>
        </p:grpSpPr>
        <p:sp>
          <p:nvSpPr>
            <p:cNvPr id="90" name="矩形 3"/>
            <p:cNvSpPr/>
            <p:nvPr/>
          </p:nvSpPr>
          <p:spPr>
            <a:xfrm>
              <a:off x="2482920" y="1778040"/>
              <a:ext cx="5184720" cy="43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2374920" y="2237400"/>
              <a:ext cx="5400720" cy="45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6"/>
            <p:cNvSpPr/>
            <p:nvPr/>
          </p:nvSpPr>
          <p:spPr>
            <a:xfrm>
              <a:off x="3886920" y="186732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74920" y="3218040"/>
            <a:ext cx="5400720" cy="506160"/>
            <a:chOff x="2374920" y="3218040"/>
            <a:chExt cx="5400720" cy="506160"/>
          </a:xfrm>
        </p:grpSpPr>
        <p:sp>
          <p:nvSpPr>
            <p:cNvPr id="94" name="矩形 9"/>
            <p:cNvSpPr/>
            <p:nvPr/>
          </p:nvSpPr>
          <p:spPr>
            <a:xfrm>
              <a:off x="2482920" y="3218040"/>
              <a:ext cx="5184720" cy="4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>
              <a:off x="2374920" y="367848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1"/>
            <p:cNvSpPr/>
            <p:nvPr/>
          </p:nvSpPr>
          <p:spPr>
            <a:xfrm>
              <a:off x="3886920" y="33076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374920" y="2496960"/>
            <a:ext cx="5400720" cy="506520"/>
            <a:chOff x="2374920" y="2496960"/>
            <a:chExt cx="5400720" cy="506520"/>
          </a:xfrm>
        </p:grpSpPr>
        <p:sp>
          <p:nvSpPr>
            <p:cNvPr id="98" name="矩形 13"/>
            <p:cNvSpPr/>
            <p:nvPr/>
          </p:nvSpPr>
          <p:spPr>
            <a:xfrm>
              <a:off x="2482920" y="249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2374920" y="295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5"/>
            <p:cNvSpPr/>
            <p:nvPr/>
          </p:nvSpPr>
          <p:spPr>
            <a:xfrm>
              <a:off x="3886920" y="258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74920" y="3936960"/>
            <a:ext cx="5400720" cy="506520"/>
            <a:chOff x="2374920" y="3936960"/>
            <a:chExt cx="5400720" cy="506520"/>
          </a:xfrm>
        </p:grpSpPr>
        <p:sp>
          <p:nvSpPr>
            <p:cNvPr id="102" name="矩形 17"/>
            <p:cNvSpPr/>
            <p:nvPr/>
          </p:nvSpPr>
          <p:spPr>
            <a:xfrm>
              <a:off x="2482920" y="393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2374920" y="439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9"/>
            <p:cNvSpPr/>
            <p:nvPr/>
          </p:nvSpPr>
          <p:spPr>
            <a:xfrm>
              <a:off x="3886920" y="402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dc:language>en-US</dc:language>
  <cp:lastModifiedBy>微软用户</cp:lastModifiedBy>
  <dcterms:modified xsi:type="dcterms:W3CDTF">2014-09-06T14:37:13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