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72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1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7764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72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1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309600"/>
            <a:ext cx="8420400" cy="64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72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81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764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72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81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309600"/>
            <a:ext cx="8420400" cy="64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9600"/>
            <a:ext cx="8420400" cy="139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c7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efc7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7680" indent="-396000">
              <a:lnSpc>
                <a:spcPct val="90000"/>
              </a:lnSpc>
              <a:spcBef>
                <a:spcPts val="1199"/>
              </a:spcBef>
              <a:buClr>
                <a:srgbClr val="efc7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6400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CIS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技术交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6400" y="6361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Logo"/>
              </a:rPr>
              <a:t>Microso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c7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31960" indent="106560" algn="ctr">
              <a:lnSpc>
                <a:spcPct val="90000"/>
              </a:lnSpc>
              <a:spcBef>
                <a:spcPts val="1049"/>
              </a:spcBef>
              <a:buClr>
                <a:srgbClr val="efc733"/>
              </a:buClr>
              <a:buSzPct val="7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441720" algn="ctr">
              <a:lnSpc>
                <a:spcPct val="89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3920" indent="129960" algn="ctr">
              <a:lnSpc>
                <a:spcPct val="89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3920" indent="1299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3920" indent="1299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0.png"/><Relationship Id="rId8" Type="http://schemas.openxmlformats.org/officeDocument/2006/relationships/image" Target="../media/image34.png"/><Relationship Id="rId9" Type="http://schemas.openxmlformats.org/officeDocument/2006/relationships/image" Target="../media/image28.png"/><Relationship Id="rId10" Type="http://schemas.openxmlformats.org/officeDocument/2006/relationships/image" Target="../media/image3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8458200" cy="906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fc733"/>
                </a:solidFill>
                <a:latin typeface="Arial Narrow"/>
              </a:rPr>
              <a:t>微软电子商务解决方案</a:t>
            </a:r>
            <a:endParaRPr b="1" lang="en-US" sz="60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微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限公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wheel" descr=""/>
          <p:cNvPicPr/>
          <p:nvPr/>
        </p:nvPicPr>
        <p:blipFill>
          <a:blip r:embed="rId2"/>
          <a:stretch/>
        </p:blipFill>
        <p:spPr>
          <a:xfrm>
            <a:off x="304920" y="1631880"/>
            <a:ext cx="8481960" cy="484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84280" y="871560"/>
            <a:ext cx="44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增加收入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&amp;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减少费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4600" y="228600"/>
            <a:ext cx="81658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Intern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的发展对服务的需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16160" y="1560600"/>
            <a:ext cx="1051200" cy="568080"/>
          </a:xfrm>
          <a:prstGeom prst="wedgeRectCallout">
            <a:avLst>
              <a:gd name="adj1" fmla="val 37009"/>
              <a:gd name="adj2" fmla="val 93856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0080" y="2303640"/>
            <a:ext cx="1568520" cy="568080"/>
          </a:xfrm>
          <a:prstGeom prst="wedgeRectCallout">
            <a:avLst>
              <a:gd name="adj1" fmla="val 68115"/>
              <a:gd name="adj2" fmla="val 9217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net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服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6080" y="1473120"/>
            <a:ext cx="1544400" cy="679680"/>
          </a:xfrm>
          <a:prstGeom prst="wedgeRectCallout">
            <a:avLst>
              <a:gd name="adj1" fmla="val 4263"/>
              <a:gd name="adj2" fmla="val 103037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虚拟专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远程办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51680" y="1992240"/>
            <a:ext cx="1247760" cy="816120"/>
          </a:xfrm>
          <a:prstGeom prst="wedgeRectCallout">
            <a:avLst>
              <a:gd name="adj1" fmla="val -40074"/>
              <a:gd name="adj2" fmla="val 80546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教育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远程学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8640" y="5308560"/>
            <a:ext cx="1051200" cy="568440"/>
          </a:xfrm>
          <a:prstGeom prst="wedgeRectCallout">
            <a:avLst>
              <a:gd name="adj1" fmla="val 65254"/>
              <a:gd name="adj2" fmla="val -158657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增强电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35120" y="5951520"/>
            <a:ext cx="1051200" cy="568440"/>
          </a:xfrm>
          <a:prstGeom prst="wedgeRectCallout">
            <a:avLst>
              <a:gd name="adj1" fmla="val 21601"/>
              <a:gd name="adj2" fmla="val -150000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商务服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32240" y="5927760"/>
            <a:ext cx="1125720" cy="568440"/>
          </a:xfrm>
          <a:prstGeom prst="wedgeRectCallout">
            <a:avLst>
              <a:gd name="adj1" fmla="val -42523"/>
              <a:gd name="adj2" fmla="val -145532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电子商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9640" y="5221440"/>
            <a:ext cx="1100160" cy="606240"/>
          </a:xfrm>
          <a:prstGeom prst="wedgeRectCallout">
            <a:avLst>
              <a:gd name="adj1" fmla="val -86074"/>
              <a:gd name="adj2" fmla="val -123037"/>
            </a:avLst>
          </a:prstGeom>
          <a:gradFill rotWithShape="0">
            <a:gsLst>
              <a:gs pos="0">
                <a:srgbClr val="6f5239"/>
              </a:gs>
              <a:gs pos="100000">
                <a:srgbClr val="f1b47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家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数据服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95280"/>
            <a:ext cx="9144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c733"/>
                </a:solidFill>
                <a:latin typeface="Arial"/>
                <a:ea typeface="黑体"/>
              </a:rPr>
              <a:t>微软在</a:t>
            </a:r>
            <a:r>
              <a:rPr b="1" lang="en-US" sz="4800" spc="-1" strike="noStrike">
                <a:solidFill>
                  <a:srgbClr val="efc733"/>
                </a:solidFill>
                <a:latin typeface="Arial"/>
                <a:ea typeface="黑体"/>
              </a:rPr>
              <a:t>Internet</a:t>
            </a:r>
            <a:r>
              <a:rPr b="1" lang="zh-CN" sz="4800" spc="-1" strike="noStrike">
                <a:solidFill>
                  <a:srgbClr val="efc733"/>
                </a:solidFill>
                <a:latin typeface="Arial"/>
                <a:ea typeface="黑体"/>
              </a:rPr>
              <a:t>上的经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MSFDClogo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630440" y="2192400"/>
            <a:ext cx="858600" cy="85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93" name="Expedia" descr=""/>
          <p:cNvPicPr/>
          <p:nvPr/>
        </p:nvPicPr>
        <p:blipFill>
          <a:blip r:embed="rId3"/>
          <a:stretch/>
        </p:blipFill>
        <p:spPr>
          <a:xfrm>
            <a:off x="1073160" y="4489560"/>
            <a:ext cx="1193760" cy="849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94" name="logo" descr=""/>
          <p:cNvPicPr/>
          <p:nvPr/>
        </p:nvPicPr>
        <p:blipFill>
          <a:blip r:embed="rId4"/>
          <a:stretch/>
        </p:blipFill>
        <p:spPr>
          <a:xfrm>
            <a:off x="3809880" y="1374840"/>
            <a:ext cx="1495440" cy="60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95" name=""/>
          <p:cNvGrpSpPr/>
          <p:nvPr/>
        </p:nvGrpSpPr>
        <p:grpSpPr>
          <a:xfrm>
            <a:off x="6194160" y="5460840"/>
            <a:ext cx="1551960" cy="433080"/>
            <a:chOff x="6194160" y="5460840"/>
            <a:chExt cx="1551960" cy="433080"/>
          </a:xfrm>
        </p:grpSpPr>
        <p:graphicFrame>
          <p:nvGraphicFramePr>
            <p:cNvPr id="96" name=""/>
            <p:cNvGraphicFramePr/>
            <p:nvPr/>
          </p:nvGraphicFramePr>
          <p:xfrm>
            <a:off x="6194160" y="5460840"/>
            <a:ext cx="1551960" cy="43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94160" y="5460840"/>
                      <a:ext cx="1551960" cy="4330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7744680" y="5460840"/>
              <a:ext cx="0" cy="428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sw_logo" descr=""/>
          <p:cNvPicPr/>
          <p:nvPr/>
        </p:nvPicPr>
        <p:blipFill>
          <a:blip r:embed="rId7"/>
          <a:stretch/>
        </p:blipFill>
        <p:spPr>
          <a:xfrm>
            <a:off x="1316160" y="1612800"/>
            <a:ext cx="2082600" cy="3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658880" y="5557680"/>
            <a:ext cx="1503360" cy="1130400"/>
          </a:xfrm>
          <a:prstGeom prst="rect">
            <a:avLst/>
          </a:prstGeom>
          <a:ln w="9360">
            <a:solidFill>
              <a:srgbClr val="f1b47d"/>
            </a:solidFill>
            <a:miter/>
          </a:ln>
        </p:spPr>
      </p:pic>
      <p:pic>
        <p:nvPicPr>
          <p:cNvPr id="101" name="MSNlogo" descr=""/>
          <p:cNvPicPr/>
          <p:nvPr/>
        </p:nvPicPr>
        <p:blipFill>
          <a:blip r:embed="rId9"/>
          <a:stretch/>
        </p:blipFill>
        <p:spPr>
          <a:xfrm>
            <a:off x="6883560" y="2330280"/>
            <a:ext cx="1164960" cy="1368720"/>
          </a:xfrm>
          <a:prstGeom prst="rect">
            <a:avLst/>
          </a:prstGeom>
          <a:ln w="9360">
            <a:solidFill>
              <a:srgbClr val="f1b47d"/>
            </a:solidFill>
            <a:miter/>
          </a:ln>
        </p:spPr>
      </p:pic>
      <p:graphicFrame>
        <p:nvGraphicFramePr>
          <p:cNvPr id="102" name=""/>
          <p:cNvGraphicFramePr/>
          <p:nvPr/>
        </p:nvGraphicFramePr>
        <p:xfrm>
          <a:off x="4103640" y="6059520"/>
          <a:ext cx="1709640" cy="57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03640" y="6059520"/>
                    <a:ext cx="1709640" cy="579240"/>
                  </a:xfrm>
                  <a:prstGeom prst="rect">
                    <a:avLst/>
                  </a:prstGeom>
                  <a:ln w="9360">
                    <a:solidFill>
                      <a:srgbClr val="efc733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6727680" y="4172040"/>
            <a:ext cx="1619280" cy="831240"/>
            <a:chOff x="6727680" y="4172040"/>
            <a:chExt cx="1619280" cy="831240"/>
          </a:xfrm>
        </p:grpSpPr>
        <p:graphicFrame>
          <p:nvGraphicFramePr>
            <p:cNvPr id="105" name=""/>
            <p:cNvGraphicFramePr/>
            <p:nvPr/>
          </p:nvGraphicFramePr>
          <p:xfrm>
            <a:off x="6727680" y="4172040"/>
            <a:ext cx="1619280" cy="231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727680" y="4172040"/>
                      <a:ext cx="1619280" cy="2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7" name="tinyhouse" descr=""/>
            <p:cNvPicPr/>
            <p:nvPr/>
          </p:nvPicPr>
          <p:blipFill>
            <a:blip r:embed="rId14"/>
            <a:stretch/>
          </p:blipFill>
          <p:spPr>
            <a:xfrm>
              <a:off x="7814520" y="4412160"/>
              <a:ext cx="529920" cy="59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627120" y="3516480"/>
            <a:ext cx="1479600" cy="672840"/>
          </a:xfrm>
          <a:prstGeom prst="rect">
            <a:avLst/>
          </a:prstGeom>
          <a:ln w="9360">
            <a:solidFill>
              <a:srgbClr val="f1b47d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590920" y="2112840"/>
            <a:ext cx="4105080" cy="3767400"/>
          </a:xfrm>
          <a:prstGeom prst="ellipse">
            <a:avLst/>
          </a:prstGeom>
          <a:gradFill rotWithShape="0">
            <a:gsLst>
              <a:gs pos="0">
                <a:srgbClr val="69bb67"/>
              </a:gs>
              <a:gs pos="100000">
                <a:srgbClr val="3056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765520"/>
            <a:ext cx="364500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52440" indent="-352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亿次点击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每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7240" indent="-33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百万次页面访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7240" indent="-33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百万不同的客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大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T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下载的容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条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S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线路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, 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条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B FDDI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环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与德国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日本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法国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英国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澳大利亚镜像站点复制同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6880" y="1600200"/>
            <a:ext cx="2961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689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c733"/>
                </a:solidFill>
                <a:latin typeface="Arial"/>
              </a:rPr>
              <a:t>Microsoft</a:t>
            </a:r>
            <a:r>
              <a:rPr b="1" lang="zh-CN" sz="4400" spc="-1" strike="noStrike">
                <a:solidFill>
                  <a:srgbClr val="efc733"/>
                </a:solidFill>
                <a:latin typeface="Arial"/>
              </a:rPr>
              <a:t>平台支持不同的服务</a:t>
            </a:r>
            <a:endParaRPr b="1" lang="en-US" sz="44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760" y="3048120"/>
            <a:ext cx="4114800" cy="27432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760" y="1676520"/>
            <a:ext cx="4114800" cy="1143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4572000"/>
            <a:ext cx="3733920" cy="106668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核心平台服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89120" y="3200400"/>
            <a:ext cx="1752840" cy="121932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业务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应用服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1218960" cy="83808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电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3320" y="1828800"/>
            <a:ext cx="1219320" cy="83808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电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4920" y="1828800"/>
            <a:ext cx="1179720" cy="83808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无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040" y="3200400"/>
            <a:ext cx="1752480" cy="1219320"/>
          </a:xfrm>
          <a:prstGeom prst="rect">
            <a:avLst/>
          </a:prstGeom>
          <a:solidFill>
            <a:srgbClr val="df835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消费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应用服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00600" y="3048120"/>
            <a:ext cx="3811320" cy="1523880"/>
            <a:chOff x="4800600" y="3048120"/>
            <a:chExt cx="3811320" cy="1523880"/>
          </a:xfrm>
        </p:grpSpPr>
        <p:sp>
          <p:nvSpPr>
            <p:cNvPr id="122" name=""/>
            <p:cNvSpPr/>
            <p:nvPr/>
          </p:nvSpPr>
          <p:spPr>
            <a:xfrm>
              <a:off x="4800600" y="3048120"/>
              <a:ext cx="3811320" cy="1523880"/>
            </a:xfrm>
            <a:prstGeom prst="rect">
              <a:avLst/>
            </a:prstGeom>
            <a:gradFill rotWithShape="0">
              <a:gsLst>
                <a:gs pos="0">
                  <a:srgbClr val="005b59"/>
                </a:gs>
                <a:gs pos="100000">
                  <a:srgbClr val="00c7c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935760" y="3243240"/>
              <a:ext cx="1371600" cy="1176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aphicFrame>
          <p:nvGraphicFramePr>
            <p:cNvPr id="124" name=""/>
            <p:cNvGraphicFramePr/>
            <p:nvPr/>
          </p:nvGraphicFramePr>
          <p:xfrm>
            <a:off x="5106960" y="3243240"/>
            <a:ext cx="1371600" cy="11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6960" y="3243240"/>
                      <a:ext cx="1371600" cy="1176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4802040" y="4648320"/>
            <a:ext cx="3807000" cy="1143000"/>
            <a:chOff x="4802040" y="4648320"/>
            <a:chExt cx="3807000" cy="1143000"/>
          </a:xfrm>
        </p:grpSpPr>
        <p:sp>
          <p:nvSpPr>
            <p:cNvPr id="127" name=""/>
            <p:cNvSpPr/>
            <p:nvPr/>
          </p:nvSpPr>
          <p:spPr>
            <a:xfrm>
              <a:off x="4802040" y="4648320"/>
              <a:ext cx="3807000" cy="1143000"/>
            </a:xfrm>
            <a:prstGeom prst="rect">
              <a:avLst/>
            </a:prstGeom>
            <a:gradFill rotWithShape="0">
              <a:gsLst>
                <a:gs pos="0">
                  <a:srgbClr val="005b59"/>
                </a:gs>
                <a:gs pos="100000">
                  <a:srgbClr val="00c7c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5206680" y="4726080"/>
            <a:ext cx="814680" cy="98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06680" y="4726080"/>
                      <a:ext cx="814680" cy="98892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6325920" y="4724280"/>
            <a:ext cx="8128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5920" y="4724280"/>
                      <a:ext cx="812880" cy="99072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453080" y="4724280"/>
            <a:ext cx="81288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53080" y="4724280"/>
                      <a:ext cx="812880" cy="99072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34" name=""/>
          <p:cNvGrpSpPr/>
          <p:nvPr/>
        </p:nvGrpSpPr>
        <p:grpSpPr>
          <a:xfrm>
            <a:off x="4800600" y="1600200"/>
            <a:ext cx="3811320" cy="1211400"/>
            <a:chOff x="4800600" y="1600200"/>
            <a:chExt cx="3811320" cy="1211400"/>
          </a:xfrm>
        </p:grpSpPr>
        <p:sp>
          <p:nvSpPr>
            <p:cNvPr id="135" name=""/>
            <p:cNvSpPr/>
            <p:nvPr/>
          </p:nvSpPr>
          <p:spPr>
            <a:xfrm>
              <a:off x="4800600" y="1676520"/>
              <a:ext cx="3811320" cy="1135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4878360" y="2104920"/>
            <a:ext cx="1371600" cy="63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8360" y="2104920"/>
                      <a:ext cx="1371600" cy="6382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53966" dir="2700000" blurRad="0" rotWithShape="0">
                        <a:srgbClr val="000000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6783120" y="1752480"/>
            <a:ext cx="812880" cy="990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83120" y="1752480"/>
                      <a:ext cx="812880" cy="9907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140" name="WebTV%20gif" descr=""/>
            <p:cNvPicPr/>
            <p:nvPr/>
          </p:nvPicPr>
          <p:blipFill>
            <a:blip r:embed="rId15"/>
            <a:stretch/>
          </p:blipFill>
          <p:spPr>
            <a:xfrm>
              <a:off x="5792760" y="1600200"/>
              <a:ext cx="990360" cy="871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1" name=""/>
            <p:cNvGraphicFramePr/>
            <p:nvPr/>
          </p:nvGraphicFramePr>
          <p:xfrm>
            <a:off x="7697520" y="1752480"/>
            <a:ext cx="811440" cy="990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697520" y="1752480"/>
                      <a:ext cx="811440" cy="99072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3486600">
            <a:off x="3941280" y="-2220840"/>
            <a:ext cx="1219320" cy="9829800"/>
          </a:xfrm>
          <a:prstGeom prst="upDownArrow">
            <a:avLst>
              <a:gd name="adj1" fmla="val 50000"/>
              <a:gd name="adj2" fmla="val 160488"/>
            </a:avLst>
          </a:prstGeom>
          <a:gradFill rotWithShape="0">
            <a:gsLst>
              <a:gs pos="0">
                <a:srgbClr val="663c27"/>
              </a:gs>
              <a:gs pos="50000">
                <a:srgbClr val="df8355"/>
              </a:gs>
              <a:gs pos="100000">
                <a:srgbClr val="663c2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19720" y="380880"/>
            <a:ext cx="4724280" cy="1746720"/>
            <a:chOff x="4419720" y="380880"/>
            <a:chExt cx="4724280" cy="1746720"/>
          </a:xfrm>
        </p:grpSpPr>
        <p:sp>
          <p:nvSpPr>
            <p:cNvPr id="145" name=""/>
            <p:cNvSpPr/>
            <p:nvPr/>
          </p:nvSpPr>
          <p:spPr>
            <a:xfrm>
              <a:off x="4419720" y="1201680"/>
              <a:ext cx="4117680" cy="6508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253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289480" y="380880"/>
              <a:ext cx="3854520" cy="1746720"/>
              <a:chOff x="5289480" y="380880"/>
              <a:chExt cx="3854520" cy="17467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5289480" y="380880"/>
                <a:ext cx="2130480" cy="1589040"/>
                <a:chOff x="5289480" y="380880"/>
                <a:chExt cx="2130480" cy="158904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5289480" y="380880"/>
                  <a:ext cx="2130480" cy="1589040"/>
                  <a:chOff x="5289480" y="380880"/>
                  <a:chExt cx="2130480" cy="15890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842440" y="987840"/>
                    <a:ext cx="10008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7">
                        <a:moveTo>
                          <a:pt x="0" y="26"/>
                        </a:moveTo>
                        <a:lnTo>
                          <a:pt x="0" y="0"/>
                        </a:lnTo>
                        <a:lnTo>
                          <a:pt x="28" y="0"/>
                        </a:lnTo>
                        <a:lnTo>
                          <a:pt x="28" y="26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91480" y="987840"/>
                    <a:ext cx="9324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0" y="26"/>
                        </a:moveTo>
                        <a:lnTo>
                          <a:pt x="0" y="0"/>
                        </a:lnTo>
                        <a:lnTo>
                          <a:pt x="26" y="0"/>
                        </a:lnTo>
                        <a:lnTo>
                          <a:pt x="26" y="26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808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129360" y="987840"/>
                    <a:ext cx="1033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7">
                        <a:moveTo>
                          <a:pt x="0" y="26"/>
                        </a:move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29" y="26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e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188400" y="1207800"/>
                    <a:ext cx="76068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66">
                        <a:moveTo>
                          <a:pt x="10" y="0"/>
                        </a:moveTo>
                        <a:lnTo>
                          <a:pt x="197" y="1"/>
                        </a:lnTo>
                        <a:lnTo>
                          <a:pt x="219" y="65"/>
                        </a:lnTo>
                        <a:lnTo>
                          <a:pt x="0" y="65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188400" y="1438200"/>
                    <a:ext cx="760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17">
                        <a:moveTo>
                          <a:pt x="219" y="0"/>
                        </a:moveTo>
                        <a:lnTo>
                          <a:pt x="219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219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389280" y="1197720"/>
                    <a:ext cx="342000" cy="1389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080760" y="543600"/>
                    <a:ext cx="58680" cy="73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16">
                        <a:moveTo>
                          <a:pt x="12" y="0"/>
                        </a:moveTo>
                        <a:lnTo>
                          <a:pt x="0" y="6"/>
                        </a:lnTo>
                        <a:lnTo>
                          <a:pt x="0" y="181"/>
                        </a:lnTo>
                        <a:lnTo>
                          <a:pt x="16" y="21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163920" y="536760"/>
                    <a:ext cx="895680" cy="80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237">
                        <a:moveTo>
                          <a:pt x="258" y="211"/>
                        </a:moveTo>
                        <a:lnTo>
                          <a:pt x="0" y="236"/>
                        </a:lnTo>
                        <a:lnTo>
                          <a:pt x="0" y="12"/>
                        </a:lnTo>
                        <a:lnTo>
                          <a:pt x="258" y="0"/>
                        </a:lnTo>
                        <a:lnTo>
                          <a:pt x="258" y="211"/>
                        </a:lnTo>
                      </a:path>
                    </a:pathLst>
                  </a:custGeom>
                  <a:solidFill>
                    <a:srgbClr val="50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237000" y="570600"/>
                    <a:ext cx="719280" cy="64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89">
                        <a:moveTo>
                          <a:pt x="200" y="0"/>
                        </a:moveTo>
                        <a:lnTo>
                          <a:pt x="201" y="1"/>
                        </a:lnTo>
                        <a:lnTo>
                          <a:pt x="201" y="2"/>
                        </a:lnTo>
                        <a:lnTo>
                          <a:pt x="202" y="4"/>
                        </a:lnTo>
                        <a:lnTo>
                          <a:pt x="202" y="6"/>
                        </a:lnTo>
                        <a:lnTo>
                          <a:pt x="203" y="7"/>
                        </a:lnTo>
                        <a:lnTo>
                          <a:pt x="203" y="12"/>
                        </a:lnTo>
                        <a:lnTo>
                          <a:pt x="204" y="16"/>
                        </a:lnTo>
                        <a:lnTo>
                          <a:pt x="204" y="19"/>
                        </a:lnTo>
                        <a:lnTo>
                          <a:pt x="205" y="25"/>
                        </a:lnTo>
                        <a:lnTo>
                          <a:pt x="205" y="30"/>
                        </a:lnTo>
                        <a:lnTo>
                          <a:pt x="205" y="35"/>
                        </a:lnTo>
                        <a:lnTo>
                          <a:pt x="206" y="41"/>
                        </a:lnTo>
                        <a:lnTo>
                          <a:pt x="206" y="47"/>
                        </a:lnTo>
                        <a:lnTo>
                          <a:pt x="206" y="53"/>
                        </a:lnTo>
                        <a:lnTo>
                          <a:pt x="206" y="59"/>
                        </a:lnTo>
                        <a:lnTo>
                          <a:pt x="206" y="66"/>
                        </a:lnTo>
                        <a:lnTo>
                          <a:pt x="207" y="73"/>
                        </a:lnTo>
                        <a:lnTo>
                          <a:pt x="207" y="80"/>
                        </a:lnTo>
                        <a:lnTo>
                          <a:pt x="207" y="88"/>
                        </a:lnTo>
                        <a:lnTo>
                          <a:pt x="207" y="93"/>
                        </a:lnTo>
                        <a:lnTo>
                          <a:pt x="207" y="100"/>
                        </a:lnTo>
                        <a:lnTo>
                          <a:pt x="206" y="108"/>
                        </a:lnTo>
                        <a:lnTo>
                          <a:pt x="206" y="114"/>
                        </a:lnTo>
                        <a:lnTo>
                          <a:pt x="206" y="120"/>
                        </a:lnTo>
                        <a:lnTo>
                          <a:pt x="206" y="127"/>
                        </a:lnTo>
                        <a:lnTo>
                          <a:pt x="206" y="134"/>
                        </a:lnTo>
                        <a:lnTo>
                          <a:pt x="205" y="139"/>
                        </a:lnTo>
                        <a:lnTo>
                          <a:pt x="205" y="144"/>
                        </a:lnTo>
                        <a:lnTo>
                          <a:pt x="205" y="150"/>
                        </a:lnTo>
                        <a:lnTo>
                          <a:pt x="204" y="154"/>
                        </a:lnTo>
                        <a:lnTo>
                          <a:pt x="204" y="158"/>
                        </a:lnTo>
                        <a:lnTo>
                          <a:pt x="203" y="161"/>
                        </a:lnTo>
                        <a:lnTo>
                          <a:pt x="203" y="166"/>
                        </a:lnTo>
                        <a:lnTo>
                          <a:pt x="202" y="169"/>
                        </a:lnTo>
                        <a:lnTo>
                          <a:pt x="201" y="170"/>
                        </a:lnTo>
                        <a:lnTo>
                          <a:pt x="201" y="172"/>
                        </a:lnTo>
                        <a:lnTo>
                          <a:pt x="196" y="173"/>
                        </a:lnTo>
                        <a:lnTo>
                          <a:pt x="193" y="174"/>
                        </a:lnTo>
                        <a:lnTo>
                          <a:pt x="188" y="175"/>
                        </a:lnTo>
                        <a:lnTo>
                          <a:pt x="185" y="175"/>
                        </a:lnTo>
                        <a:lnTo>
                          <a:pt x="182" y="176"/>
                        </a:lnTo>
                        <a:lnTo>
                          <a:pt x="176" y="177"/>
                        </a:lnTo>
                        <a:lnTo>
                          <a:pt x="174" y="177"/>
                        </a:lnTo>
                        <a:lnTo>
                          <a:pt x="169" y="178"/>
                        </a:lnTo>
                        <a:lnTo>
                          <a:pt x="165" y="179"/>
                        </a:lnTo>
                        <a:lnTo>
                          <a:pt x="159" y="179"/>
                        </a:lnTo>
                        <a:lnTo>
                          <a:pt x="154" y="181"/>
                        </a:lnTo>
                        <a:lnTo>
                          <a:pt x="148" y="181"/>
                        </a:lnTo>
                        <a:lnTo>
                          <a:pt x="143" y="182"/>
                        </a:lnTo>
                        <a:lnTo>
                          <a:pt x="138" y="182"/>
                        </a:lnTo>
                        <a:lnTo>
                          <a:pt x="133" y="183"/>
                        </a:lnTo>
                        <a:lnTo>
                          <a:pt x="126" y="183"/>
                        </a:lnTo>
                        <a:lnTo>
                          <a:pt x="121" y="184"/>
                        </a:lnTo>
                        <a:lnTo>
                          <a:pt x="115" y="184"/>
                        </a:lnTo>
                        <a:lnTo>
                          <a:pt x="110" y="185"/>
                        </a:lnTo>
                        <a:lnTo>
                          <a:pt x="105" y="185"/>
                        </a:lnTo>
                        <a:lnTo>
                          <a:pt x="100" y="185"/>
                        </a:lnTo>
                        <a:lnTo>
                          <a:pt x="94" y="185"/>
                        </a:lnTo>
                        <a:lnTo>
                          <a:pt x="89" y="186"/>
                        </a:lnTo>
                        <a:lnTo>
                          <a:pt x="84" y="186"/>
                        </a:lnTo>
                        <a:lnTo>
                          <a:pt x="78" y="186"/>
                        </a:lnTo>
                        <a:lnTo>
                          <a:pt x="72" y="186"/>
                        </a:lnTo>
                        <a:lnTo>
                          <a:pt x="66" y="186"/>
                        </a:lnTo>
                        <a:lnTo>
                          <a:pt x="61" y="187"/>
                        </a:lnTo>
                        <a:lnTo>
                          <a:pt x="56" y="187"/>
                        </a:lnTo>
                        <a:lnTo>
                          <a:pt x="51" y="187"/>
                        </a:lnTo>
                        <a:lnTo>
                          <a:pt x="45" y="187"/>
                        </a:lnTo>
                        <a:lnTo>
                          <a:pt x="39" y="188"/>
                        </a:lnTo>
                        <a:lnTo>
                          <a:pt x="33" y="187"/>
                        </a:lnTo>
                        <a:lnTo>
                          <a:pt x="28" y="187"/>
                        </a:lnTo>
                        <a:lnTo>
                          <a:pt x="23" y="187"/>
                        </a:lnTo>
                        <a:lnTo>
                          <a:pt x="18" y="186"/>
                        </a:lnTo>
                        <a:lnTo>
                          <a:pt x="11" y="186"/>
                        </a:lnTo>
                        <a:lnTo>
                          <a:pt x="6" y="186"/>
                        </a:lnTo>
                        <a:lnTo>
                          <a:pt x="5" y="184"/>
                        </a:lnTo>
                        <a:lnTo>
                          <a:pt x="5" y="183"/>
                        </a:lnTo>
                        <a:lnTo>
                          <a:pt x="4" y="182"/>
                        </a:lnTo>
                        <a:lnTo>
                          <a:pt x="3" y="179"/>
                        </a:lnTo>
                        <a:lnTo>
                          <a:pt x="3" y="177"/>
                        </a:lnTo>
                        <a:lnTo>
                          <a:pt x="2" y="174"/>
                        </a:lnTo>
                        <a:lnTo>
                          <a:pt x="2" y="171"/>
                        </a:lnTo>
                        <a:lnTo>
                          <a:pt x="0" y="169"/>
                        </a:lnTo>
                        <a:lnTo>
                          <a:pt x="0" y="163"/>
                        </a:lnTo>
                        <a:lnTo>
                          <a:pt x="0" y="158"/>
                        </a:lnTo>
                        <a:lnTo>
                          <a:pt x="0" y="153"/>
                        </a:lnTo>
                        <a:lnTo>
                          <a:pt x="0" y="147"/>
                        </a:lnTo>
                        <a:lnTo>
                          <a:pt x="0" y="142"/>
                        </a:lnTo>
                        <a:lnTo>
                          <a:pt x="0" y="137"/>
                        </a:lnTo>
                        <a:lnTo>
                          <a:pt x="0" y="130"/>
                        </a:lnTo>
                        <a:lnTo>
                          <a:pt x="0" y="124"/>
                        </a:lnTo>
                        <a:lnTo>
                          <a:pt x="0" y="116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0" y="96"/>
                        </a:lnTo>
                        <a:lnTo>
                          <a:pt x="0" y="89"/>
                        </a:lnTo>
                        <a:lnTo>
                          <a:pt x="0" y="82"/>
                        </a:lnTo>
                        <a:lnTo>
                          <a:pt x="0" y="76"/>
                        </a:lnTo>
                        <a:lnTo>
                          <a:pt x="0" y="68"/>
                        </a:lnTo>
                        <a:lnTo>
                          <a:pt x="0" y="62"/>
                        </a:lnTo>
                        <a:lnTo>
                          <a:pt x="0" y="57"/>
                        </a:lnTo>
                        <a:lnTo>
                          <a:pt x="0" y="51"/>
                        </a:lnTo>
                        <a:lnTo>
                          <a:pt x="0" y="45"/>
                        </a:lnTo>
                        <a:lnTo>
                          <a:pt x="0" y="40"/>
                        </a:lnTo>
                        <a:lnTo>
                          <a:pt x="0" y="34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2" y="21"/>
                        </a:lnTo>
                        <a:lnTo>
                          <a:pt x="2" y="18"/>
                        </a:lnTo>
                        <a:lnTo>
                          <a:pt x="3" y="15"/>
                        </a:lnTo>
                        <a:lnTo>
                          <a:pt x="3" y="13"/>
                        </a:lnTo>
                        <a:lnTo>
                          <a:pt x="4" y="11"/>
                        </a:lnTo>
                        <a:lnTo>
                          <a:pt x="5" y="10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200" y="0"/>
                        </a:lnTo>
                      </a:path>
                    </a:pathLst>
                  </a:custGeom>
                  <a:solidFill>
                    <a:srgbClr val="80a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126480" y="489240"/>
                    <a:ext cx="93348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4">
                        <a:moveTo>
                          <a:pt x="269" y="12"/>
                        </a:moveTo>
                        <a:lnTo>
                          <a:pt x="251" y="0"/>
                        </a:lnTo>
                        <a:lnTo>
                          <a:pt x="0" y="9"/>
                        </a:lnTo>
                        <a:lnTo>
                          <a:pt x="10" y="23"/>
                        </a:lnTo>
                        <a:lnTo>
                          <a:pt x="269" y="12"/>
                        </a:lnTo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126480" y="523800"/>
                    <a:ext cx="58680" cy="81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1">
                        <a:moveTo>
                          <a:pt x="0" y="0"/>
                        </a:moveTo>
                        <a:lnTo>
                          <a:pt x="16" y="16"/>
                        </a:lnTo>
                        <a:lnTo>
                          <a:pt x="16" y="240"/>
                        </a:lnTo>
                        <a:lnTo>
                          <a:pt x="0" y="2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6998040" y="536760"/>
                    <a:ext cx="61920" cy="72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13">
                        <a:moveTo>
                          <a:pt x="17" y="0"/>
                        </a:moveTo>
                        <a:lnTo>
                          <a:pt x="0" y="12"/>
                        </a:lnTo>
                        <a:lnTo>
                          <a:pt x="0" y="190"/>
                        </a:lnTo>
                        <a:lnTo>
                          <a:pt x="17" y="212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163920" y="1187640"/>
                    <a:ext cx="8956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45">
                        <a:moveTo>
                          <a:pt x="258" y="20"/>
                        </a:moveTo>
                        <a:lnTo>
                          <a:pt x="237" y="0"/>
                        </a:lnTo>
                        <a:lnTo>
                          <a:pt x="20" y="20"/>
                        </a:lnTo>
                        <a:lnTo>
                          <a:pt x="0" y="44"/>
                        </a:lnTo>
                        <a:lnTo>
                          <a:pt x="258" y="2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163920" y="577440"/>
                    <a:ext cx="626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25">
                        <a:moveTo>
                          <a:pt x="0" y="224"/>
                        </a:moveTo>
                        <a:lnTo>
                          <a:pt x="17" y="199"/>
                        </a:lnTo>
                        <a:lnTo>
                          <a:pt x="17" y="10"/>
                        </a:lnTo>
                        <a:lnTo>
                          <a:pt x="0" y="0"/>
                        </a:lnTo>
                        <a:lnTo>
                          <a:pt x="0" y="2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150600" y="536760"/>
                    <a:ext cx="9129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20">
                        <a:moveTo>
                          <a:pt x="0" y="10"/>
                        </a:moveTo>
                        <a:lnTo>
                          <a:pt x="19" y="19"/>
                        </a:lnTo>
                        <a:lnTo>
                          <a:pt x="242" y="11"/>
                        </a:lnTo>
                        <a:lnTo>
                          <a:pt x="263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704200" y="526680"/>
                    <a:ext cx="356040" cy="11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345">
                        <a:moveTo>
                          <a:pt x="102" y="0"/>
                        </a:moveTo>
                        <a:lnTo>
                          <a:pt x="102" y="307"/>
                        </a:lnTo>
                        <a:lnTo>
                          <a:pt x="0" y="344"/>
                        </a:lnTo>
                        <a:lnTo>
                          <a:pt x="0" y="14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289480" y="380880"/>
                    <a:ext cx="77112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55">
                        <a:moveTo>
                          <a:pt x="222" y="40"/>
                        </a:moveTo>
                        <a:lnTo>
                          <a:pt x="104" y="0"/>
                        </a:lnTo>
                        <a:lnTo>
                          <a:pt x="0" y="13"/>
                        </a:lnTo>
                        <a:lnTo>
                          <a:pt x="117" y="54"/>
                        </a:lnTo>
                        <a:lnTo>
                          <a:pt x="222" y="4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289480" y="428400"/>
                    <a:ext cx="403920" cy="126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74">
                        <a:moveTo>
                          <a:pt x="116" y="42"/>
                        </a:moveTo>
                        <a:lnTo>
                          <a:pt x="0" y="0"/>
                        </a:lnTo>
                        <a:lnTo>
                          <a:pt x="0" y="308"/>
                        </a:lnTo>
                        <a:lnTo>
                          <a:pt x="116" y="373"/>
                        </a:lnTo>
                        <a:lnTo>
                          <a:pt x="116" y="42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742000" y="1055520"/>
                    <a:ext cx="29088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2">
                        <a:moveTo>
                          <a:pt x="83" y="0"/>
                        </a:moveTo>
                        <a:lnTo>
                          <a:pt x="83" y="48"/>
                        </a:lnTo>
                        <a:lnTo>
                          <a:pt x="0" y="71"/>
                        </a:lnTo>
                        <a:lnTo>
                          <a:pt x="0" y="19"/>
                        </a:lnTo>
                        <a:lnTo>
                          <a:pt x="8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742000" y="798120"/>
                    <a:ext cx="29088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2">
                        <a:moveTo>
                          <a:pt x="83" y="0"/>
                        </a:moveTo>
                        <a:lnTo>
                          <a:pt x="83" y="51"/>
                        </a:lnTo>
                        <a:lnTo>
                          <a:pt x="0" y="71"/>
                        </a:lnTo>
                        <a:lnTo>
                          <a:pt x="0" y="16"/>
                        </a:lnTo>
                        <a:lnTo>
                          <a:pt x="8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043320" y="791280"/>
                    <a:ext cx="288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742000" y="977040"/>
                    <a:ext cx="30420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4">
                        <a:moveTo>
                          <a:pt x="87" y="2"/>
                        </a:moveTo>
                        <a:lnTo>
                          <a:pt x="83" y="0"/>
                        </a:lnTo>
                        <a:lnTo>
                          <a:pt x="0" y="19"/>
                        </a:lnTo>
                        <a:lnTo>
                          <a:pt x="0" y="23"/>
                        </a:lnTo>
                        <a:lnTo>
                          <a:pt x="87" y="2"/>
                        </a:lnTo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759280" y="987840"/>
                    <a:ext cx="3182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9">
                        <a:moveTo>
                          <a:pt x="86" y="0"/>
                        </a:moveTo>
                        <a:lnTo>
                          <a:pt x="91" y="8"/>
                        </a:lnTo>
                        <a:lnTo>
                          <a:pt x="4" y="28"/>
                        </a:lnTo>
                        <a:lnTo>
                          <a:pt x="0" y="19"/>
                        </a:lnTo>
                        <a:lnTo>
                          <a:pt x="86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59280" y="1021680"/>
                    <a:ext cx="31824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7">
                        <a:moveTo>
                          <a:pt x="91" y="0"/>
                        </a:moveTo>
                        <a:lnTo>
                          <a:pt x="86" y="7"/>
                        </a:lnTo>
                        <a:lnTo>
                          <a:pt x="0" y="26"/>
                        </a:lnTo>
                        <a:lnTo>
                          <a:pt x="4" y="20"/>
                        </a:lnTo>
                        <a:lnTo>
                          <a:pt x="91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759280" y="105840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8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43320" y="1051560"/>
                    <a:ext cx="288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54"/>
                        </a:lnTo>
                        <a:lnTo>
                          <a:pt x="0" y="49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742000" y="1235160"/>
                    <a:ext cx="3042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">
                        <a:moveTo>
                          <a:pt x="83" y="0"/>
                        </a:moveTo>
                        <a:lnTo>
                          <a:pt x="87" y="3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83" y="0"/>
                        </a:lnTo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797800" y="604440"/>
                    <a:ext cx="1652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2">
                        <a:moveTo>
                          <a:pt x="47" y="0"/>
                        </a:moveTo>
                        <a:lnTo>
                          <a:pt x="43" y="7"/>
                        </a:lnTo>
                        <a:lnTo>
                          <a:pt x="47" y="13"/>
                        </a:lnTo>
                        <a:lnTo>
                          <a:pt x="0" y="21"/>
                        </a:lnTo>
                        <a:lnTo>
                          <a:pt x="0" y="6"/>
                        </a:lnTo>
                        <a:lnTo>
                          <a:pt x="4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734800" y="615240"/>
                    <a:ext cx="311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9">
                        <a:moveTo>
                          <a:pt x="89" y="0"/>
                        </a:move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89" y="4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956920" y="60444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745960" y="618120"/>
                    <a:ext cx="2869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7">
                        <a:moveTo>
                          <a:pt x="82" y="0"/>
                        </a:move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82" y="2"/>
                        </a:lnTo>
                        <a:lnTo>
                          <a:pt x="82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535000" y="1574280"/>
                    <a:ext cx="586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1">
                        <a:moveTo>
                          <a:pt x="16" y="15"/>
                        </a:moveTo>
                        <a:lnTo>
                          <a:pt x="0" y="20"/>
                        </a:lnTo>
                        <a:lnTo>
                          <a:pt x="16" y="0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475960" y="1543680"/>
                    <a:ext cx="86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6"/>
                        </a:moveTo>
                        <a:lnTo>
                          <a:pt x="15" y="29"/>
                        </a:lnTo>
                        <a:lnTo>
                          <a:pt x="0" y="19"/>
                        </a:lnTo>
                        <a:lnTo>
                          <a:pt x="8" y="0"/>
                        </a:lnTo>
                        <a:lnTo>
                          <a:pt x="24" y="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365440" y="1485720"/>
                    <a:ext cx="5868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6" y="14"/>
                        </a:moveTo>
                        <a:lnTo>
                          <a:pt x="0" y="18"/>
                        </a:lnTo>
                        <a:lnTo>
                          <a:pt x="16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319720" y="1459080"/>
                    <a:ext cx="727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7"/>
                        </a:moveTo>
                        <a:lnTo>
                          <a:pt x="11" y="26"/>
                        </a:lnTo>
                        <a:lnTo>
                          <a:pt x="0" y="17"/>
                        </a:lnTo>
                        <a:lnTo>
                          <a:pt x="8" y="0"/>
                        </a:lnTo>
                        <a:lnTo>
                          <a:pt x="20" y="7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697360" y="1329840"/>
                    <a:ext cx="3628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8">
                        <a:moveTo>
                          <a:pt x="104" y="6"/>
                        </a:moveTo>
                        <a:lnTo>
                          <a:pt x="1" y="37"/>
                        </a:lnTo>
                        <a:lnTo>
                          <a:pt x="0" y="29"/>
                        </a:lnTo>
                        <a:lnTo>
                          <a:pt x="102" y="0"/>
                        </a:lnTo>
                        <a:lnTo>
                          <a:pt x="104" y="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697360" y="1306080"/>
                    <a:ext cx="3628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102" y="6"/>
                        </a:move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104" y="0"/>
                        </a:lnTo>
                        <a:lnTo>
                          <a:pt x="102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697360" y="1380600"/>
                    <a:ext cx="36288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2">
                        <a:moveTo>
                          <a:pt x="104" y="9"/>
                        </a:moveTo>
                        <a:lnTo>
                          <a:pt x="1" y="41"/>
                        </a:lnTo>
                        <a:lnTo>
                          <a:pt x="0" y="31"/>
                        </a:lnTo>
                        <a:lnTo>
                          <a:pt x="102" y="0"/>
                        </a:lnTo>
                        <a:lnTo>
                          <a:pt x="104" y="9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697360" y="1356840"/>
                    <a:ext cx="3628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102" y="6"/>
                        </a:moveTo>
                        <a:lnTo>
                          <a:pt x="0" y="36"/>
                        </a:lnTo>
                        <a:lnTo>
                          <a:pt x="1" y="30"/>
                        </a:lnTo>
                        <a:lnTo>
                          <a:pt x="104" y="0"/>
                        </a:lnTo>
                        <a:lnTo>
                          <a:pt x="102" y="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697360" y="1438200"/>
                    <a:ext cx="3628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8">
                        <a:moveTo>
                          <a:pt x="104" y="6"/>
                        </a:moveTo>
                        <a:lnTo>
                          <a:pt x="1" y="37"/>
                        </a:lnTo>
                        <a:lnTo>
                          <a:pt x="0" y="29"/>
                        </a:lnTo>
                        <a:lnTo>
                          <a:pt x="102" y="0"/>
                        </a:lnTo>
                        <a:lnTo>
                          <a:pt x="104" y="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697360" y="1404360"/>
                    <a:ext cx="3628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1">
                        <a:moveTo>
                          <a:pt x="102" y="6"/>
                        </a:moveTo>
                        <a:lnTo>
                          <a:pt x="0" y="40"/>
                        </a:lnTo>
                        <a:lnTo>
                          <a:pt x="1" y="32"/>
                        </a:lnTo>
                        <a:lnTo>
                          <a:pt x="104" y="0"/>
                        </a:lnTo>
                        <a:lnTo>
                          <a:pt x="102" y="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697360" y="1492920"/>
                    <a:ext cx="362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0">
                        <a:moveTo>
                          <a:pt x="104" y="7"/>
                        </a:moveTo>
                        <a:lnTo>
                          <a:pt x="1" y="39"/>
                        </a:lnTo>
                        <a:lnTo>
                          <a:pt x="0" y="30"/>
                        </a:lnTo>
                        <a:lnTo>
                          <a:pt x="102" y="0"/>
                        </a:lnTo>
                        <a:lnTo>
                          <a:pt x="104" y="7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697360" y="1468800"/>
                    <a:ext cx="36288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8">
                        <a:moveTo>
                          <a:pt x="102" y="5"/>
                        </a:moveTo>
                        <a:lnTo>
                          <a:pt x="0" y="37"/>
                        </a:lnTo>
                        <a:lnTo>
                          <a:pt x="1" y="30"/>
                        </a:lnTo>
                        <a:lnTo>
                          <a:pt x="104" y="0"/>
                        </a:lnTo>
                        <a:lnTo>
                          <a:pt x="102" y="5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59280" y="730440"/>
                    <a:ext cx="3182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3">
                        <a:moveTo>
                          <a:pt x="86" y="0"/>
                        </a:moveTo>
                        <a:lnTo>
                          <a:pt x="91" y="9"/>
                        </a:lnTo>
                        <a:lnTo>
                          <a:pt x="4" y="22"/>
                        </a:lnTo>
                        <a:lnTo>
                          <a:pt x="0" y="14"/>
                        </a:lnTo>
                        <a:lnTo>
                          <a:pt x="86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759280" y="767160"/>
                    <a:ext cx="3182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0">
                        <a:moveTo>
                          <a:pt x="91" y="0"/>
                        </a:moveTo>
                        <a:lnTo>
                          <a:pt x="86" y="6"/>
                        </a:lnTo>
                        <a:lnTo>
                          <a:pt x="0" y="19"/>
                        </a:lnTo>
                        <a:lnTo>
                          <a:pt x="4" y="12"/>
                        </a:lnTo>
                        <a:lnTo>
                          <a:pt x="91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759280" y="78408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9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289480" y="1197720"/>
                    <a:ext cx="78516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65">
                        <a:moveTo>
                          <a:pt x="226" y="32"/>
                        </a:moveTo>
                        <a:lnTo>
                          <a:pt x="118" y="6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289480" y="618120"/>
                    <a:ext cx="78516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54">
                        <a:moveTo>
                          <a:pt x="226" y="33"/>
                        </a:moveTo>
                        <a:lnTo>
                          <a:pt x="119" y="5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894280" y="1476000"/>
                    <a:ext cx="152244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134">
                        <a:moveTo>
                          <a:pt x="386" y="0"/>
                        </a:moveTo>
                        <a:lnTo>
                          <a:pt x="0" y="26"/>
                        </a:lnTo>
                        <a:lnTo>
                          <a:pt x="30" y="133"/>
                        </a:lnTo>
                        <a:lnTo>
                          <a:pt x="439" y="96"/>
                        </a:lnTo>
                        <a:lnTo>
                          <a:pt x="386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894360" y="1743480"/>
                    <a:ext cx="1065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7">
                        <a:moveTo>
                          <a:pt x="30" y="0"/>
                        </a:moveTo>
                        <a:lnTo>
                          <a:pt x="27" y="9"/>
                        </a:lnTo>
                        <a:lnTo>
                          <a:pt x="0" y="16"/>
                        </a:lnTo>
                        <a:lnTo>
                          <a:pt x="2" y="5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080760" y="1635120"/>
                    <a:ext cx="92016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69">
                        <a:moveTo>
                          <a:pt x="247" y="0"/>
                        </a:moveTo>
                        <a:lnTo>
                          <a:pt x="0" y="18"/>
                        </a:lnTo>
                        <a:lnTo>
                          <a:pt x="11" y="55"/>
                        </a:lnTo>
                        <a:lnTo>
                          <a:pt x="45" y="54"/>
                        </a:lnTo>
                        <a:lnTo>
                          <a:pt x="49" y="68"/>
                        </a:lnTo>
                        <a:lnTo>
                          <a:pt x="245" y="50"/>
                        </a:lnTo>
                        <a:lnTo>
                          <a:pt x="239" y="36"/>
                        </a:lnTo>
                        <a:lnTo>
                          <a:pt x="265" y="32"/>
                        </a:lnTo>
                        <a:lnTo>
                          <a:pt x="247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244200" y="1810800"/>
                    <a:ext cx="68796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4">
                        <a:moveTo>
                          <a:pt x="198" y="0"/>
                        </a:moveTo>
                        <a:lnTo>
                          <a:pt x="195" y="5"/>
                        </a:lnTo>
                        <a:lnTo>
                          <a:pt x="0" y="23"/>
                        </a:lnTo>
                        <a:lnTo>
                          <a:pt x="1" y="15"/>
                        </a:lnTo>
                        <a:lnTo>
                          <a:pt x="19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219720" y="1818000"/>
                    <a:ext cx="586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">
                        <a:moveTo>
                          <a:pt x="4" y="0"/>
                        </a:moveTo>
                        <a:lnTo>
                          <a:pt x="16" y="13"/>
                        </a:lnTo>
                        <a:lnTo>
                          <a:pt x="9" y="21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115320" y="1818000"/>
                    <a:ext cx="1245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7">
                        <a:moveTo>
                          <a:pt x="35" y="0"/>
                        </a:moveTo>
                        <a:lnTo>
                          <a:pt x="31" y="10"/>
                        </a:lnTo>
                        <a:lnTo>
                          <a:pt x="0" y="16"/>
                        </a:lnTo>
                        <a:lnTo>
                          <a:pt x="2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074640" y="1699560"/>
                    <a:ext cx="586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16" y="36"/>
                        </a:moveTo>
                        <a:lnTo>
                          <a:pt x="13" y="44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16" y="3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025400" y="1604160"/>
                    <a:ext cx="3668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7">
                        <a:moveTo>
                          <a:pt x="79" y="0"/>
                        </a:moveTo>
                        <a:lnTo>
                          <a:pt x="105" y="48"/>
                        </a:lnTo>
                        <a:lnTo>
                          <a:pt x="22" y="56"/>
                        </a:lnTo>
                        <a:lnTo>
                          <a:pt x="0" y="8"/>
                        </a:lnTo>
                        <a:lnTo>
                          <a:pt x="79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098480" y="1763280"/>
                    <a:ext cx="2941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7">
                        <a:moveTo>
                          <a:pt x="84" y="0"/>
                        </a:moveTo>
                        <a:lnTo>
                          <a:pt x="82" y="4"/>
                        </a:lnTo>
                        <a:lnTo>
                          <a:pt x="0" y="16"/>
                        </a:lnTo>
                        <a:lnTo>
                          <a:pt x="1" y="11"/>
                        </a:lnTo>
                        <a:lnTo>
                          <a:pt x="8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22160" y="1631160"/>
                    <a:ext cx="8280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4">
                        <a:moveTo>
                          <a:pt x="23" y="49"/>
                        </a:moveTo>
                        <a:lnTo>
                          <a:pt x="21" y="5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3" y="49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008760" y="1810800"/>
                    <a:ext cx="14112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7">
                        <a:moveTo>
                          <a:pt x="407" y="0"/>
                        </a:moveTo>
                        <a:lnTo>
                          <a:pt x="407" y="10"/>
                        </a:lnTo>
                        <a:lnTo>
                          <a:pt x="0" y="46"/>
                        </a:lnTo>
                        <a:lnTo>
                          <a:pt x="0" y="34"/>
                        </a:lnTo>
                        <a:lnTo>
                          <a:pt x="40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904360" y="1563480"/>
                    <a:ext cx="97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20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27" y="119"/>
                        </a:lnTo>
                        <a:lnTo>
                          <a:pt x="27" y="10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63920" y="1627920"/>
                    <a:ext cx="96480" cy="18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15760" y="1625040"/>
                    <a:ext cx="96480" cy="18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60400" y="1611000"/>
                    <a:ext cx="97200" cy="19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212240" y="1611000"/>
                    <a:ext cx="93240" cy="19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257600" y="1604160"/>
                    <a:ext cx="96480" cy="19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7046280" y="1625040"/>
                    <a:ext cx="2970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7059960" y="1661760"/>
                    <a:ext cx="300960" cy="3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7076880" y="1702440"/>
                    <a:ext cx="304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7094520" y="1733400"/>
                    <a:ext cx="30096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87960" y="1516680"/>
                    <a:ext cx="290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7">
                        <a:moveTo>
                          <a:pt x="79" y="0"/>
                        </a:moveTo>
                        <a:lnTo>
                          <a:pt x="83" y="9"/>
                        </a:lnTo>
                        <a:lnTo>
                          <a:pt x="3" y="16"/>
                        </a:lnTo>
                        <a:lnTo>
                          <a:pt x="0" y="6"/>
                        </a:lnTo>
                        <a:lnTo>
                          <a:pt x="79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984000" y="153648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9"/>
                        </a:move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12" y="16"/>
                        </a:lnTo>
                        <a:lnTo>
                          <a:pt x="16" y="9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998040" y="1543680"/>
                    <a:ext cx="279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7">
                        <a:moveTo>
                          <a:pt x="80" y="0"/>
                        </a:moveTo>
                        <a:lnTo>
                          <a:pt x="0" y="5"/>
                        </a:lnTo>
                        <a:lnTo>
                          <a:pt x="0" y="16"/>
                        </a:lnTo>
                        <a:lnTo>
                          <a:pt x="78" y="4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39440" y="1533600"/>
                    <a:ext cx="3132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77240" y="1529640"/>
                    <a:ext cx="2088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122600" y="1529640"/>
                    <a:ext cx="3024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167600" y="1519560"/>
                    <a:ext cx="2736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212240" y="1519560"/>
                    <a:ext cx="3420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032880" y="1580400"/>
                    <a:ext cx="2869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7">
                        <a:moveTo>
                          <a:pt x="77" y="0"/>
                        </a:moveTo>
                        <a:lnTo>
                          <a:pt x="82" y="10"/>
                        </a:lnTo>
                        <a:lnTo>
                          <a:pt x="3" y="16"/>
                        </a:lnTo>
                        <a:lnTo>
                          <a:pt x="0" y="6"/>
                        </a:lnTo>
                        <a:lnTo>
                          <a:pt x="77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026040" y="159732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4" y="0"/>
                        </a:lnTo>
                        <a:lnTo>
                          <a:pt x="0" y="4"/>
                        </a:lnTo>
                        <a:lnTo>
                          <a:pt x="11" y="16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043320" y="1611000"/>
                    <a:ext cx="2768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7">
                        <a:moveTo>
                          <a:pt x="79" y="0"/>
                        </a:moveTo>
                        <a:lnTo>
                          <a:pt x="0" y="6"/>
                        </a:lnTo>
                        <a:lnTo>
                          <a:pt x="0" y="16"/>
                        </a:lnTo>
                        <a:lnTo>
                          <a:pt x="77" y="4"/>
                        </a:lnTo>
                        <a:lnTo>
                          <a:pt x="79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080760" y="1594080"/>
                    <a:ext cx="1692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26480" y="1594080"/>
                    <a:ext cx="2016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167880" y="1587240"/>
                    <a:ext cx="16920" cy="64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212520" y="1587240"/>
                    <a:ext cx="20160" cy="54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257520" y="1580400"/>
                    <a:ext cx="2412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676200" y="1536480"/>
                    <a:ext cx="290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7">
                        <a:moveTo>
                          <a:pt x="79" y="0"/>
                        </a:moveTo>
                        <a:lnTo>
                          <a:pt x="83" y="9"/>
                        </a:lnTo>
                        <a:lnTo>
                          <a:pt x="3" y="16"/>
                        </a:lnTo>
                        <a:lnTo>
                          <a:pt x="0" y="6"/>
                        </a:lnTo>
                        <a:lnTo>
                          <a:pt x="79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666120" y="155340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9"/>
                        </a:move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11" y="16"/>
                        </a:lnTo>
                        <a:lnTo>
                          <a:pt x="16" y="9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686640" y="1563480"/>
                    <a:ext cx="279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7">
                        <a:moveTo>
                          <a:pt x="80" y="0"/>
                        </a:moveTo>
                        <a:lnTo>
                          <a:pt x="0" y="6"/>
                        </a:lnTo>
                        <a:lnTo>
                          <a:pt x="0" y="16"/>
                        </a:lnTo>
                        <a:lnTo>
                          <a:pt x="78" y="4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721200" y="1553400"/>
                    <a:ext cx="27360" cy="54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762600" y="1550520"/>
                    <a:ext cx="2736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807240" y="1543680"/>
                    <a:ext cx="3420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6852960" y="1543680"/>
                    <a:ext cx="2412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900840" y="1536480"/>
                    <a:ext cx="208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357960" y="1553400"/>
                    <a:ext cx="2869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7">
                        <a:moveTo>
                          <a:pt x="78" y="0"/>
                        </a:moveTo>
                        <a:lnTo>
                          <a:pt x="82" y="10"/>
                        </a:lnTo>
                        <a:lnTo>
                          <a:pt x="2" y="16"/>
                        </a:lnTo>
                        <a:lnTo>
                          <a:pt x="0" y="6"/>
                        </a:lnTo>
                        <a:lnTo>
                          <a:pt x="78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343560" y="1580400"/>
                    <a:ext cx="586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9"/>
                        </a:move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11" y="16"/>
                        </a:lnTo>
                        <a:lnTo>
                          <a:pt x="16" y="9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361920" y="1587240"/>
                    <a:ext cx="2829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7">
                        <a:moveTo>
                          <a:pt x="81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78" y="5"/>
                        </a:lnTo>
                        <a:lnTo>
                          <a:pt x="8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396120" y="1577160"/>
                    <a:ext cx="2736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441120" y="1563480"/>
                    <a:ext cx="20160" cy="64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485760" y="1563480"/>
                    <a:ext cx="381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531120" y="1560240"/>
                    <a:ext cx="30240" cy="64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579000" y="1560240"/>
                    <a:ext cx="34200" cy="57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>
                    <a:off x="6136200" y="1699560"/>
                    <a:ext cx="51480" cy="149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>
                    <a:off x="6240240" y="1688400"/>
                    <a:ext cx="72720" cy="20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>
                    <a:off x="6288480" y="1688400"/>
                    <a:ext cx="75960" cy="19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>
                    <a:off x="6337080" y="1682280"/>
                    <a:ext cx="68760" cy="19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>
                    <a:off x="6381720" y="1682280"/>
                    <a:ext cx="75960" cy="19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433560" y="1675440"/>
                    <a:ext cx="75960" cy="19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>
                    <a:off x="6468480" y="1665360"/>
                    <a:ext cx="90000" cy="19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flipV="1">
                    <a:off x="6524280" y="1665360"/>
                    <a:ext cx="82800" cy="19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568560" y="1665360"/>
                    <a:ext cx="86040" cy="19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6609960" y="1658520"/>
                    <a:ext cx="93240" cy="19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flipV="1">
                    <a:off x="6658920" y="1661760"/>
                    <a:ext cx="89280" cy="18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6703560" y="1658880"/>
                    <a:ext cx="93240" cy="18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752520" y="1654920"/>
                    <a:ext cx="96480" cy="18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6797160" y="1648440"/>
                    <a:ext cx="100080" cy="19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flipV="1">
                    <a:off x="6894000" y="1648440"/>
                    <a:ext cx="75960" cy="135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191280" y="1692360"/>
                    <a:ext cx="75960" cy="20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flipV="1">
                    <a:off x="6845760" y="1644480"/>
                    <a:ext cx="107280" cy="18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6094800" y="1661760"/>
                    <a:ext cx="89244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>
                    <a:off x="6104880" y="1702440"/>
                    <a:ext cx="89964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6237000" y="1757160"/>
                    <a:ext cx="70200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375600" y="635040"/>
                  <a:ext cx="452880" cy="439560"/>
                  <a:chOff x="6375600" y="635040"/>
                  <a:chExt cx="452880" cy="4395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6375600" y="635040"/>
                    <a:ext cx="452880" cy="43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9640" y="651600"/>
                    <a:ext cx="424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07400" y="514080"/>
                <a:ext cx="13716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7423200" y="1517400"/>
                <a:ext cx="17208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台式电脑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笔记本电脑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c733"/>
                </a:solidFill>
                <a:latin typeface="Arial"/>
              </a:rPr>
              <a:t>支持</a:t>
            </a:r>
            <a:r>
              <a:rPr b="1" lang="en-US" sz="4000" spc="-1" strike="noStrike">
                <a:solidFill>
                  <a:srgbClr val="efc733"/>
                </a:solidFill>
                <a:latin typeface="Arial"/>
              </a:rPr>
              <a:t>ISP/ICP</a:t>
            </a:r>
            <a:r>
              <a:rPr b="1" lang="zh-CN" sz="4000" spc="-1" strike="noStrike">
                <a:solidFill>
                  <a:srgbClr val="efc733"/>
                </a:solidFill>
                <a:latin typeface="Arial"/>
              </a:rPr>
              <a:t>的业务</a:t>
            </a:r>
            <a:endParaRPr b="1" lang="en-US" sz="4000" spc="-1" strike="noStrike">
              <a:solidFill>
                <a:srgbClr val="efc733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00400" y="1905120"/>
            <a:ext cx="5489640" cy="1898640"/>
            <a:chOff x="3200400" y="1905120"/>
            <a:chExt cx="5489640" cy="1898640"/>
          </a:xfrm>
        </p:grpSpPr>
        <p:sp>
          <p:nvSpPr>
            <p:cNvPr id="277" name=""/>
            <p:cNvSpPr/>
            <p:nvPr/>
          </p:nvSpPr>
          <p:spPr>
            <a:xfrm>
              <a:off x="3200400" y="2884680"/>
              <a:ext cx="3886200" cy="73512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253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8" name="Untitled-1" descr=""/>
            <p:cNvPicPr/>
            <p:nvPr/>
          </p:nvPicPr>
          <p:blipFill>
            <a:blip r:embed="rId4"/>
            <a:stretch/>
          </p:blipFill>
          <p:spPr>
            <a:xfrm>
              <a:off x="5264280" y="2225880"/>
              <a:ext cx="131436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556320" y="2698920"/>
              <a:ext cx="213372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电视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游戏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0" name="webtv" descr=""/>
            <p:cNvPicPr/>
            <p:nvPr/>
          </p:nvPicPr>
          <p:blipFill>
            <a:blip r:embed="rId5"/>
            <a:stretch/>
          </p:blipFill>
          <p:spPr>
            <a:xfrm>
              <a:off x="3589200" y="1905120"/>
              <a:ext cx="1676520" cy="16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"/>
          <p:cNvGrpSpPr/>
          <p:nvPr/>
        </p:nvGrpSpPr>
        <p:grpSpPr>
          <a:xfrm>
            <a:off x="304920" y="4940280"/>
            <a:ext cx="7848000" cy="1547640"/>
            <a:chOff x="304920" y="4940280"/>
            <a:chExt cx="7848000" cy="1547640"/>
          </a:xfrm>
        </p:grpSpPr>
        <p:sp>
          <p:nvSpPr>
            <p:cNvPr id="282" name=""/>
            <p:cNvSpPr/>
            <p:nvPr/>
          </p:nvSpPr>
          <p:spPr>
            <a:xfrm>
              <a:off x="311040" y="5665680"/>
              <a:ext cx="4704840" cy="722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253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Auto%20front" descr=""/>
            <p:cNvPicPr/>
            <p:nvPr/>
          </p:nvPicPr>
          <p:blipFill>
            <a:blip r:embed="rId6"/>
            <a:stretch/>
          </p:blipFill>
          <p:spPr>
            <a:xfrm>
              <a:off x="3047760" y="5725800"/>
              <a:ext cx="17380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1752480" y="5192640"/>
              <a:ext cx="15678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800240" y="534024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电话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,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寻呼机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C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伴侣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838080" y="4940280"/>
              <a:ext cx="111564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MOTOROLA%20PAGER-INFOADVISOR" descr=""/>
            <p:cNvPicPr/>
            <p:nvPr/>
          </p:nvPicPr>
          <p:blipFill>
            <a:blip r:embed="rId9"/>
            <a:stretch/>
          </p:blipFill>
          <p:spPr>
            <a:xfrm>
              <a:off x="304920" y="5533920"/>
              <a:ext cx="755280" cy="6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任何时间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任何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任何设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00200" y="3505320"/>
            <a:ext cx="7543800" cy="1585800"/>
            <a:chOff x="1600200" y="3505320"/>
            <a:chExt cx="7543800" cy="1585800"/>
          </a:xfrm>
        </p:grpSpPr>
        <p:sp>
          <p:nvSpPr>
            <p:cNvPr id="290" name=""/>
            <p:cNvSpPr/>
            <p:nvPr/>
          </p:nvSpPr>
          <p:spPr>
            <a:xfrm>
              <a:off x="1600200" y="4318200"/>
              <a:ext cx="4648320" cy="6508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2537"/>
                </a:gs>
                <a:gs pos="100000">
                  <a:srgbClr val="00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1" name="electronic%20book" descr=""/>
            <p:cNvPicPr/>
            <p:nvPr/>
          </p:nvPicPr>
          <p:blipFill>
            <a:blip r:embed="rId10"/>
            <a:stretch/>
          </p:blipFill>
          <p:spPr>
            <a:xfrm>
              <a:off x="1828800" y="3505320"/>
              <a:ext cx="100332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ablet3" descr=""/>
            <p:cNvPicPr/>
            <p:nvPr/>
          </p:nvPicPr>
          <p:blipFill>
            <a:blip r:embed="rId11">
              <a:lum bright="12000"/>
            </a:blip>
            <a:stretch/>
          </p:blipFill>
          <p:spPr>
            <a:xfrm>
              <a:off x="2438280" y="3505320"/>
              <a:ext cx="20098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095880" y="4038840"/>
              <a:ext cx="304812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电子书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,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写字板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,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手持电脑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2"/>
            <a:stretch/>
          </p:blipFill>
          <p:spPr>
            <a:xfrm>
              <a:off x="4853160" y="3886200"/>
              <a:ext cx="139536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Sony%20Jupiter%20with%20receiver%20SMALL" descr=""/>
            <p:cNvPicPr/>
            <p:nvPr/>
          </p:nvPicPr>
          <p:blipFill>
            <a:blip r:embed="rId13"/>
            <a:stretch/>
          </p:blipFill>
          <p:spPr>
            <a:xfrm>
              <a:off x="3657600" y="3581640"/>
              <a:ext cx="1523880" cy="15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484200"/>
            <a:ext cx="84312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c733"/>
                </a:solidFill>
                <a:latin typeface="Arial"/>
              </a:rPr>
              <a:t>微软无线设备体系结构</a:t>
            </a:r>
            <a:endParaRPr b="1" lang="en-US" sz="4800" spc="-1" strike="noStrike">
              <a:solidFill>
                <a:srgbClr val="efc7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2880" y="4343040"/>
            <a:ext cx="4191120" cy="215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700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升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700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700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共同的开发工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700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共同的服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700"/>
              </a:spcBef>
              <a:buClr>
                <a:srgbClr val="efc7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最优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9784400">
            <a:off x="4983480" y="1126440"/>
            <a:ext cx="28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3ffff"/>
                </a:solidFill>
                <a:latin typeface="Arial"/>
              </a:rPr>
              <a:t>Windows 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9734000">
            <a:off x="646200" y="353484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8355"/>
                </a:solidFill>
                <a:latin typeface="Arial"/>
              </a:rPr>
              <a:t>微型浏览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3540000">
            <a:off x="4128480" y="-1461960"/>
            <a:ext cx="657360" cy="10287000"/>
          </a:xfrm>
          <a:prstGeom prst="upDownArrow">
            <a:avLst>
              <a:gd name="adj1" fmla="val 54167"/>
              <a:gd name="adj2" fmla="val 123525"/>
            </a:avLst>
          </a:prstGeom>
          <a:gradFill rotWithShape="0">
            <a:gsLst>
              <a:gs pos="0">
                <a:srgbClr val="a3ffff"/>
              </a:gs>
              <a:gs pos="100000">
                <a:srgbClr val="df835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Untitled-1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33400" y="4648320"/>
            <a:ext cx="98892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867280" y="2303640"/>
            <a:ext cx="914400" cy="668160"/>
          </a:xfrm>
          <a:prstGeom prst="rect">
            <a:avLst/>
          </a:prstGeom>
          <a:ln w="0">
            <a:noFill/>
          </a:ln>
        </p:spPr>
      </p:pic>
      <p:pic>
        <p:nvPicPr>
          <p:cNvPr id="304" name="Down2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305" name="handheld%20device" descr=""/>
          <p:cNvPicPr/>
          <p:nvPr/>
        </p:nvPicPr>
        <p:blipFill>
          <a:blip r:embed="rId6"/>
          <a:stretch/>
        </p:blipFill>
        <p:spPr>
          <a:xfrm>
            <a:off x="1676520" y="4343400"/>
            <a:ext cx="637920" cy="1447920"/>
          </a:xfrm>
          <a:prstGeom prst="rect">
            <a:avLst/>
          </a:prstGeom>
          <a:ln w="0">
            <a:noFill/>
          </a:ln>
        </p:spPr>
      </p:pic>
      <p:pic>
        <p:nvPicPr>
          <p:cNvPr id="306" name="MOTOROLA%20PAGER-INFOADVISOR" descr=""/>
          <p:cNvPicPr/>
          <p:nvPr/>
        </p:nvPicPr>
        <p:blipFill>
          <a:blip r:embed="rId7"/>
          <a:stretch/>
        </p:blipFill>
        <p:spPr>
          <a:xfrm>
            <a:off x="457200" y="5486400"/>
            <a:ext cx="755640" cy="625320"/>
          </a:xfrm>
          <a:prstGeom prst="rect">
            <a:avLst/>
          </a:prstGeom>
          <a:ln w="0">
            <a:noFill/>
          </a:ln>
        </p:spPr>
      </p:pic>
      <p:pic>
        <p:nvPicPr>
          <p:cNvPr id="307" name="Sony%20Jupiter%20with%20receiver%20SMALL" descr=""/>
          <p:cNvPicPr/>
          <p:nvPr/>
        </p:nvPicPr>
        <p:blipFill>
          <a:blip r:embed="rId8"/>
          <a:stretch/>
        </p:blipFill>
        <p:spPr>
          <a:xfrm>
            <a:off x="7238880" y="990720"/>
            <a:ext cx="1143000" cy="11318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2209680" y="4248000"/>
            <a:ext cx="1143000" cy="933480"/>
          </a:xfrm>
          <a:prstGeom prst="rect">
            <a:avLst/>
          </a:prstGeom>
          <a:ln w="0">
            <a:noFill/>
          </a:ln>
        </p:spPr>
      </p:pic>
      <p:pic>
        <p:nvPicPr>
          <p:cNvPr id="309" name="Sony%20WebTV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127656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Auto%20front" descr=""/>
          <p:cNvPicPr/>
          <p:nvPr/>
        </p:nvPicPr>
        <p:blipFill>
          <a:blip r:embed="rId11"/>
          <a:stretch/>
        </p:blipFill>
        <p:spPr>
          <a:xfrm>
            <a:off x="4876920" y="2971800"/>
            <a:ext cx="12189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u"/>
      </p:transition>
    </mc:Choice>
    <mc:Fallback>
      <p:transition spd="slow">
        <p:strips dir="ru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6T20:17:36Z</dcterms:created>
  <dc:creator>Peter Zhang</dc:creator>
  <dc:description/>
  <dc:language>en-US</dc:language>
  <cp:lastModifiedBy>肖美霖</cp:lastModifiedBy>
  <cp:lastPrinted>1998-10-06T01:32:23Z</cp:lastPrinted>
  <dcterms:modified xsi:type="dcterms:W3CDTF">2001-04-04T08:55:14Z</dcterms:modified>
  <cp:revision>67</cp:revision>
  <dc:subject/>
  <dc:title>Application and Demo</dc:title>
</cp:coreProperties>
</file>