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4CCF-5ABE-45F0-A796-5AF6811677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uild the two points with corresponding graphic… screen shot or other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2A6-5DB6-4811-B875-9456E496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D1C-58F4-4501-8E74-F78D2F1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2F8-90BD-428E-BF93-60D4BF4A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798-8CCC-495B-B5A1-9A1EA5B8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0697-FCCA-4D78-A5AE-CD35FA6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F6A0-7F56-4074-B6D0-B0102412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1C1F-0F35-4C67-9A60-EF4D0723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4956-AB02-46EB-A706-B6F8F53B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AA15-0A14-405D-AAC7-FB087119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25EE-1275-424F-AB83-133AA14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EF3-6B7E-4F44-8031-185AD9B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A33-4D42-439F-8C8F-4BCC653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18FD-587B-4944-AE1B-4CC26D6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7CD9-3003-4E47-ABEA-DE6164B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1672-3F8A-4D3E-BA3B-04CC00DC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349C-18CF-4592-9457-9988FF01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CF49-10FD-4129-A7D5-40FDF78F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42C-8DBC-44C1-BBA5-7C29F4C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059-5F36-4316-BB2B-0FBD4B4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457-14E2-434E-96E6-AAB8572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5E4-0544-4855-9DA1-71217511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30A-58F0-4B88-AF3B-B53AC41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338-3FCB-460C-99F2-728DC7C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03C-D146-4F6C-9381-4F6E70D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871C-6A8C-4152-97ED-D483E72572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backgroun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7268-B85D-47B0-9E9E-F6B3E0DAB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package" Target="../embeddings/oleObject2.docx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hyperlink" Target="file:///tmp/home/.config/libreoffice/4/user/gallery/MOUSED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-169920"/>
          <a:ext cx="93726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992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280"/>
          <a:ext cx="1376280" cy="16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280"/>
                    <a:ext cx="13762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跟我学</a:t>
            </a:r>
            <a:br>
              <a:rPr sz="80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owerPoint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9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最流行的多媒体制作软件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ox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480" y="1585800"/>
          <a:ext cx="1376640" cy="16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585800"/>
                    <a:ext cx="13766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 Narrow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ox" descr=""/>
          <p:cNvPicPr/>
          <p:nvPr/>
        </p:nvPicPr>
        <p:blipFill>
          <a:blip r:embed="rId5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  <a:hlinkClick r:id="rId6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" y="3276720"/>
          <a:ext cx="750600" cy="35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240" y="3276720"/>
                    <a:ext cx="75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JUMP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TOUR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RESOR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3200400"/>
          <a:ext cx="768240" cy="365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600" y="3200400"/>
                    <a:ext cx="76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JUMP2" descr="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BO" descr="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743200"/>
          <a:ext cx="10666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743200"/>
                    <a:ext cx="106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JUMP2" descr="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86000"/>
          <a:ext cx="901800" cy="429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286000"/>
                    <a:ext cx="901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2362320"/>
          <a:ext cx="942840" cy="449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62320"/>
                    <a:ext cx="942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3276720"/>
          <a:ext cx="990720" cy="35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276720"/>
                    <a:ext cx="990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70120" cy="414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438280"/>
                    <a:ext cx="870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SJUMP2" descr="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209680"/>
          <a:ext cx="917640" cy="437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209680"/>
                    <a:ext cx="9176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 </dc:creator>
  <dc:description/>
  <dc:language>en-US</dc:language>
  <cp:lastModifiedBy>ft</cp:lastModifiedBy>
  <dcterms:modified xsi:type="dcterms:W3CDTF">1999-07-12T00:10:02Z</dcterms:modified>
  <cp:revision>103</cp:revision>
  <dc:subject/>
  <dc:title>Microsoft   PowerPoint97   Quick Start</dc:title>
</cp:coreProperties>
</file>