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F08-4191-4BBF-A02D-AEEF8F99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29B-E649-4559-8BF8-F5782429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263-F7B2-4C6F-9B2B-D0374926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F70-C7D5-4E1F-8F39-CFB0E666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C25-29C9-4AC7-8BBF-2CD2B527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3C4-B0F5-4CE5-AF09-01FD7154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1AC-7B12-47AD-A782-02C63236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1E4-83AC-4EB8-8E1B-C2451759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3C2-D6A2-4CC3-BD1F-144F2FA3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88B-56D9-414D-8863-BC7F63F3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ED3-AF90-44E2-9BB2-DED25E3C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9D2-DF1B-4E7D-9227-AA8676C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D753-5FA0-440C-826D-FEC7C6CD42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38400" y="2428920"/>
            <a:ext cx="1277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344960" y="464076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762560" y="235728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爽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335772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640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3711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78612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71400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640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380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640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426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140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571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926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712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28600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391716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283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26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402012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4980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2211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14976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164304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355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3069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3-07T06:07:50Z</dcterms:modified>
  <cp:revision>35</cp:revision>
  <dc:subject/>
  <dc:title>幻灯片 1</dc:title>
</cp:coreProperties>
</file>