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8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7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38.jpeg" ContentType="image/jpeg"/>
  <Override PartName="/ppt/media/image72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83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0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805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E2C-97DA-4A88-9961-5530C6DA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E86-E9A2-4789-88E6-BB7DAB7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485-07E7-4A92-8313-FD9AA1EC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C50-9D9A-4037-A827-1DC92EAC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9AD-80AC-4127-90EB-CE3F0A7D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EE4-5611-4E02-85BD-5C7D8EAC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1CF-814D-46CD-B31B-CAA720A8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C27-FD3F-483F-8344-0C6EF3E0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06280"/>
            <a:ext cx="82630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DBD-7E15-46D5-BCBC-3E503708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105-7E29-4FB7-89B4-8CAA492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C70-C148-4568-BBFF-CCC052B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C3D-5F37-4E92-BB0A-9DBDC53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4684680"/>
            <a:ext cx="21434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4684680"/>
            <a:ext cx="29066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4684680"/>
            <a:ext cx="2143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EC3-EDA1-4B6F-BC1B-78E0FDFD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2.png"/><Relationship Id="rId41" Type="http://schemas.openxmlformats.org/officeDocument/2006/relationships/image" Target="../media/image53.wmf"/><Relationship Id="rId42" Type="http://schemas.openxmlformats.org/officeDocument/2006/relationships/image" Target="../media/image54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58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80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6.png"/><Relationship Id="rId36" Type="http://schemas.openxmlformats.org/officeDocument/2006/relationships/image" Target="../media/image8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png"/><Relationship Id="rId32" Type="http://schemas.openxmlformats.org/officeDocument/2006/relationships/image" Target="../media/image79.png"/><Relationship Id="rId33" Type="http://schemas.openxmlformats.org/officeDocument/2006/relationships/image" Target="../media/image80.png"/><Relationship Id="rId34" Type="http://schemas.openxmlformats.org/officeDocument/2006/relationships/image" Target="../media/image91.png"/><Relationship Id="rId35" Type="http://schemas.openxmlformats.org/officeDocument/2006/relationships/image" Target="../media/image92.png"/><Relationship Id="rId36" Type="http://schemas.openxmlformats.org/officeDocument/2006/relationships/image" Target="../media/image93.png"/><Relationship Id="rId37" Type="http://schemas.openxmlformats.org/officeDocument/2006/relationships/image" Target="../media/image94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2"/>
          <p:cNvSpPr txBox="1"/>
          <p:nvPr/>
        </p:nvSpPr>
        <p:spPr>
          <a:xfrm>
            <a:off x="3524400" y="-322200"/>
            <a:ext cx="618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000160" y="0"/>
            <a:ext cx="44100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Rectangle 35"/>
          <p:cNvSpPr/>
          <p:nvPr/>
        </p:nvSpPr>
        <p:spPr>
          <a:xfrm>
            <a:off x="2000160" y="603360"/>
            <a:ext cx="4410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WordArt 36"/>
          <p:cNvSpPr txBox="1"/>
          <p:nvPr/>
        </p:nvSpPr>
        <p:spPr>
          <a:xfrm rot="20794800">
            <a:off x="7105680" y="515880"/>
            <a:ext cx="507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" name="Line 37"/>
          <p:cNvSpPr/>
          <p:nvPr/>
        </p:nvSpPr>
        <p:spPr>
          <a:xfrm>
            <a:off x="-592200" y="2789280"/>
            <a:ext cx="7336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" name="WordArt 38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39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8" name="Oval 40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Oval 41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2685960" y="2816280"/>
            <a:ext cx="221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Freeform 48"/>
          <p:cNvSpPr/>
          <p:nvPr/>
        </p:nvSpPr>
        <p:spPr>
          <a:xfrm>
            <a:off x="-3819600" y="644400"/>
            <a:ext cx="3354480" cy="286884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2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-807840" y="1009800"/>
            <a:ext cx="573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105680" y="896760"/>
            <a:ext cx="4857840" cy="10983960"/>
            <a:chOff x="7105680" y="896760"/>
            <a:chExt cx="4857840" cy="10983960"/>
          </a:xfrm>
        </p:grpSpPr>
        <p:sp>
          <p:nvSpPr>
            <p:cNvPr id="54" name="Freeform 53"/>
            <p:cNvSpPr/>
            <p:nvPr/>
          </p:nvSpPr>
          <p:spPr>
            <a:xfrm>
              <a:off x="7105680" y="896760"/>
              <a:ext cx="241920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5" name="Freeform 54"/>
            <p:cNvSpPr/>
            <p:nvPr/>
          </p:nvSpPr>
          <p:spPr>
            <a:xfrm>
              <a:off x="9543960" y="6383160"/>
              <a:ext cx="241956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56" name="生日快乐歌" descr=""/>
          <p:cNvPicPr/>
          <p:nvPr/>
        </p:nvPicPr>
        <p:blipFill>
          <a:blip r:embed="rId2"/>
          <a:stretch/>
        </p:blipFill>
        <p:spPr>
          <a:xfrm>
            <a:off x="95400" y="4745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61111E-006 -8.67052E-007 L 0.00017 0.46428 L 3.61111E-006 -8.67052E-007 Z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5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3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>
                                  <p:stCondLst>
                                    <p:cond delay="9200"/>
                                  </p:stCondLst>
                                  <p:childTnLst>
                                    <p:animRot by="300000">
                                      <p:cBhvr>
                                        <p:cTn id="41" dur="1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6.25173E-006 -4.44444E-006 L 0.25727 -0.23734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9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1"/>
          <p:cNvSpPr/>
          <p:nvPr/>
        </p:nvSpPr>
        <p:spPr>
          <a:xfrm>
            <a:off x="4464000" y="2268360"/>
            <a:ext cx="152280" cy="144720"/>
          </a:xfrm>
          <a:custGeom>
            <a:avLst/>
            <a:gdLst/>
            <a:ahLst/>
            <a:rect l="l" t="t" r="r" b="b"/>
            <a:pathLst>
              <a:path w="152400" h="144462">
                <a:moveTo>
                  <a:pt x="0" y="55179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79"/>
                </a:lnTo>
                <a:lnTo>
                  <a:pt x="105305" y="89282"/>
                </a:lnTo>
                <a:lnTo>
                  <a:pt x="123294" y="144462"/>
                </a:lnTo>
                <a:lnTo>
                  <a:pt x="76200" y="110358"/>
                </a:lnTo>
                <a:lnTo>
                  <a:pt x="29106" y="144462"/>
                </a:lnTo>
                <a:lnTo>
                  <a:pt x="47095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AutoShape 56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AutoShape 57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AutoShape 58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AutoShape 60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63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AutoShape 6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210200" y="22654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76876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720880" y="2779560"/>
            <a:ext cx="1951200" cy="97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46248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54640" y="2795760"/>
            <a:ext cx="174600" cy="15372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711520" y="2717640"/>
            <a:ext cx="2097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1770120" y="178128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284560" y="1778040"/>
            <a:ext cx="215640" cy="9856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58920" y="738360"/>
            <a:ext cx="306000" cy="2067840"/>
            <a:chOff x="2158920" y="738360"/>
            <a:chExt cx="306000" cy="2067840"/>
          </a:xfrm>
        </p:grpSpPr>
        <p:sp>
          <p:nvSpPr>
            <p:cNvPr id="79" name="Rectangle 17"/>
            <p:cNvSpPr/>
            <p:nvPr/>
          </p:nvSpPr>
          <p:spPr>
            <a:xfrm>
              <a:off x="2309400" y="1771920"/>
              <a:ext cx="15408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2158920" y="738360"/>
              <a:ext cx="30600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16240" y="738360"/>
            <a:ext cx="307440" cy="2067840"/>
            <a:chOff x="2316240" y="738360"/>
            <a:chExt cx="307440" cy="2067840"/>
          </a:xfrm>
        </p:grpSpPr>
        <p:sp>
          <p:nvSpPr>
            <p:cNvPr id="82" name="Rectangle 20"/>
            <p:cNvSpPr/>
            <p:nvPr/>
          </p:nvSpPr>
          <p:spPr>
            <a:xfrm flipH="1">
              <a:off x="2318040" y="1771920"/>
              <a:ext cx="15480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 flipH="1">
              <a:off x="2316240" y="738360"/>
              <a:ext cx="30744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4" name="Rectangle 22"/>
          <p:cNvSpPr/>
          <p:nvPr/>
        </p:nvSpPr>
        <p:spPr>
          <a:xfrm>
            <a:off x="1987560" y="2762280"/>
            <a:ext cx="7714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2308320" y="1770120"/>
            <a:ext cx="16200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244600" y="2357280"/>
            <a:ext cx="295560" cy="1749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8" name="WordArt 28"/>
          <p:cNvSpPr txBox="1"/>
          <p:nvPr/>
        </p:nvSpPr>
        <p:spPr>
          <a:xfrm>
            <a:off x="4141800" y="1917720"/>
            <a:ext cx="795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WordArt 29"/>
          <p:cNvSpPr txBox="1"/>
          <p:nvPr/>
        </p:nvSpPr>
        <p:spPr>
          <a:xfrm>
            <a:off x="2058840" y="1771560"/>
            <a:ext cx="666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" name="WordArt 30"/>
          <p:cNvSpPr txBox="1"/>
          <p:nvPr/>
        </p:nvSpPr>
        <p:spPr>
          <a:xfrm>
            <a:off x="4141800" y="1782720"/>
            <a:ext cx="7952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247760" y="2789280"/>
            <a:ext cx="16031880" cy="0"/>
            <a:chOff x="-1247760" y="2789280"/>
            <a:chExt cx="16031880" cy="0"/>
          </a:xfrm>
        </p:grpSpPr>
        <p:sp>
          <p:nvSpPr>
            <p:cNvPr id="92" name="Line 32"/>
            <p:cNvSpPr/>
            <p:nvPr/>
          </p:nvSpPr>
          <p:spPr>
            <a:xfrm>
              <a:off x="6747840" y="2789280"/>
              <a:ext cx="803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-1247760" y="2789280"/>
              <a:ext cx="79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94" name="Oval 34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09240" y="1257840"/>
            <a:ext cx="2123640" cy="3015000"/>
            <a:chOff x="5709240" y="1257840"/>
            <a:chExt cx="2123640" cy="3015000"/>
          </a:xfrm>
        </p:grpSpPr>
        <p:grpSp>
          <p:nvGrpSpPr>
            <p:cNvPr id="96" name=""/>
            <p:cNvGrpSpPr/>
            <p:nvPr/>
          </p:nvGrpSpPr>
          <p:grpSpPr>
            <a:xfrm>
              <a:off x="5709240" y="2648880"/>
              <a:ext cx="1692360" cy="1623960"/>
              <a:chOff x="5709240" y="2648880"/>
              <a:chExt cx="1692360" cy="1623960"/>
            </a:xfrm>
          </p:grpSpPr>
          <p:sp>
            <p:nvSpPr>
              <p:cNvPr id="97" name="Freeform 37"/>
              <p:cNvSpPr/>
              <p:nvPr/>
            </p:nvSpPr>
            <p:spPr>
              <a:xfrm rot="654600">
                <a:off x="6036120" y="275652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654600">
                <a:off x="5749200" y="355284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9" name="AutoShape 39"/>
              <p:cNvSpPr/>
              <p:nvPr/>
            </p:nvSpPr>
            <p:spPr>
              <a:xfrm rot="654600">
                <a:off x="5786640" y="359100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00" name="Text Box 40"/>
              <p:cNvSpPr/>
              <p:nvPr/>
            </p:nvSpPr>
            <p:spPr>
              <a:xfrm rot="654600">
                <a:off x="5861160" y="366444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01" name="Rectangle 41"/>
            <p:cNvSpPr/>
            <p:nvPr/>
          </p:nvSpPr>
          <p:spPr>
            <a:xfrm rot="654600">
              <a:off x="6083280" y="139968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02" name="Oval 42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WordArt 43"/>
          <p:cNvSpPr txBox="1"/>
          <p:nvPr/>
        </p:nvSpPr>
        <p:spPr>
          <a:xfrm rot="20467200">
            <a:off x="1085760" y="37587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4" name="WordArt 44"/>
          <p:cNvSpPr txBox="1"/>
          <p:nvPr/>
        </p:nvSpPr>
        <p:spPr>
          <a:xfrm rot="20398800">
            <a:off x="1796760" y="3484080"/>
            <a:ext cx="664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5" name="WordArt 45"/>
          <p:cNvSpPr txBox="1"/>
          <p:nvPr/>
        </p:nvSpPr>
        <p:spPr>
          <a:xfrm>
            <a:off x="4479840" y="-1187280"/>
            <a:ext cx="62064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06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2479680" y="1157400"/>
            <a:ext cx="57312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-1799940">
                                      <p:cBhvr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25 -1.48148E-006 L -0.02014 -1.48148E-006 E">
                                      <p:cBhvr>
                                        <p:cTn id="71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839939">
                                      <p:cBhvr>
                                        <p:cTn id="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8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361 -1.48148E-006 L -0.04149 -1.48148E-006 E">
                                      <p:cBhvr>
                                        <p:cTn id="88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199940">
                                      <p:cBhvr>
                                        <p:cTn id="10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149 -1.48148E-006 L -0.04149 0.25347 E">
                                      <p:cBhvr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-2.59259E-006 L -3.88889E-006 0.21852 E">
                                      <p:cBhvr>
                                        <p:cTn id="11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5.55556E-007 2.22222E-006 L -0.07882 0.04305 E">
                                      <p:cBhvr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1.11111E-006 L -0.06476 0.0338 E">
                                      <p:cBhvr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1500000">
                                      <p:cBhvr>
                                        <p:cTn id="13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5600"/>
                                  </p:stCondLst>
                                  <p:childTnLst>
                                    <p:animRot by="-299940">
                                      <p:cBhvr>
                                        <p:cTn id="13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9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5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4.81481E-006 C -3.88889E-006 0.2625 -3.88889E-006 0.525 -3.88889E-006 0.52523 C -0.00833 0.59837 -0.03211 0.42291 -0.05052 0.44189 C -0.07066 0.44814 -0.11128 0.59745 -0.11076 0.63912 C -0.10972 0.60439 -0.11007 0.58819 -0.10989 0.57731 E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99939">
                                      <p:cBhvr>
                                        <p:cTn id="15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600000">
                                      <p:cBhvr>
                                        <p:cTn id="159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00087 -0.00062 C 0.00087 0.06753 0.00087 0.13567 0.00087 0.13598 C -0.02145 0.11933 -0.09773 0.07369 -0.15447 0.06598 C -0.21086 0.05828 -0.35755 0.08634 -0.3982 0.1144 E"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6200"/>
                                  </p:stCondLst>
                                  <p:childTnLst>
                                    <p:animRot by="-21599939">
                                      <p:cBhvr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0346E-006 1.7284E-006 C -0.01332 -0.04506 -0.02386 -0.08766 -0.04582 -0.12901 C -0.06778 -0.17006 -0.11411 -0.22377 -0.13209 -0.24815 E">
                                      <p:cBhvr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L -0.00086 -0.36883 E">
                                      <p:cBhvr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4.60581E-006 -0.00031 C -0.00207 -0.02438 -0.00518 -0.08642 -0.01002 -0.14444 C -0.01521 -0.20216 -0.0261 -0.30586 -0.03008 -0.34815 E">
                                      <p:cBhvr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18 3.7037E-007 C 0.00104 -0.01574 -0.00017 -0.04228 0.0064 -0.09198 C 0.01332 -0.14198 0.03476 -0.25525 0.04236 -0.29784 E">
                                      <p:cBhvr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622 -0.02222 -0.01988 -0.08796 -0.03699 -0.13148 C -0.05394 -0.175 -0.08955 -0.23549 -0.10304 -0.26265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034 3.7037E-007 C 0.00606 -0.04846 0.01384 -0.09815 0.02836 -0.14599 C 0.04271 -0.19352 0.07452 -0.25648 0.08714 -0.28549 E">
                                      <p:cBhvr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536 -0.0429 0.00951 -0.0821 0.02836 -0.12901 C 0.04686 -0.17593 0.09458 -0.25031 0.11238 -0.28148 E">
                                      <p:cBhvr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60581E-006 3.7037E-007 C -0.00363 -0.01698 -0.01071 -0.06358 -0.02213 -0.10278 C -0.03336 -0.14198 -0.0593 -0.20864 -0.06881 -0.23611 E">
                                      <p:cBhvr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7 0.00062 C 0.00346 -0.02438 0.00744 -0.09599 0.0185 -0.14907 C 0.02957 -0.20123 0.05706 -0.28025 0.06709 -0.31451 E">
                                      <p:cBhvr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328 -0.01975 -0.00605 -0.06265 -0.01884 -0.11512 C -0.03181 -0.16759 -0.06552 -0.27438 -0.07728 -0.31605 E">
                                      <p:cBhvr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60581E-006 3.7037E-007 C -0.00224 -0.0284 -0.00484 -0.04938 -0.01244 -0.09938 C -0.02005 -0.14907 -0.0389 -0.25864 -0.04564 -0.30031 E">
                                      <p:cBhvr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035 -0.02346 -4.60580999999977E-006 -0.08241 0.00485 -0.14043 C 0.00986 -0.19753 0.02352 -0.30247 0.0287 -0.34444 E">
                                      <p:cBhvr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图片3"/>
          <p:cNvPicPr/>
          <p:nvPr/>
        </p:nvPicPr>
        <p:blipFill>
          <a:blip r:embed="rId1"/>
          <a:stretch/>
        </p:blipFill>
        <p:spPr>
          <a:xfrm flipH="1" rot="10800000">
            <a:off x="2905200" y="2733480"/>
            <a:ext cx="1084320" cy="11538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22520" y="3758040"/>
            <a:ext cx="597960" cy="596520"/>
            <a:chOff x="1622520" y="3758040"/>
            <a:chExt cx="597960" cy="596520"/>
          </a:xfrm>
        </p:grpSpPr>
        <p:sp>
          <p:nvSpPr>
            <p:cNvPr id="109" name="Freeform 88"/>
            <p:cNvSpPr/>
            <p:nvPr/>
          </p:nvSpPr>
          <p:spPr>
            <a:xfrm flipH="1" rot="10800000">
              <a:off x="1622160" y="3758040"/>
              <a:ext cx="585720" cy="59652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 flipH="1" rot="10800000">
              <a:off x="1781280" y="3996360"/>
              <a:ext cx="438840" cy="34704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8360" y="3856320"/>
            <a:ext cx="344160" cy="604440"/>
            <a:chOff x="1368360" y="3856320"/>
            <a:chExt cx="344160" cy="604440"/>
          </a:xfrm>
        </p:grpSpPr>
        <p:sp>
          <p:nvSpPr>
            <p:cNvPr id="112" name="Freeform 91"/>
            <p:cNvSpPr/>
            <p:nvPr/>
          </p:nvSpPr>
          <p:spPr>
            <a:xfrm flipH="1" rot="10800000">
              <a:off x="1368360" y="3856320"/>
              <a:ext cx="344160" cy="60444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 flipH="1" rot="10800000">
              <a:off x="1422000" y="3866040"/>
              <a:ext cx="288360" cy="29484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14" name="Freeform 93"/>
          <p:cNvSpPr/>
          <p:nvPr/>
        </p:nvSpPr>
        <p:spPr>
          <a:xfrm flipH="1" rot="10800000">
            <a:off x="1116000" y="277812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04120" y="351252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1667880" y="369396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2403360" y="2798280"/>
            <a:ext cx="0" cy="909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Line 97"/>
          <p:cNvSpPr/>
          <p:nvPr/>
        </p:nvSpPr>
        <p:spPr>
          <a:xfrm flipV="1">
            <a:off x="1677960" y="2787480"/>
            <a:ext cx="0" cy="10749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Freeform 98"/>
          <p:cNvSpPr/>
          <p:nvPr/>
        </p:nvSpPr>
        <p:spPr>
          <a:xfrm flipH="1" rot="10800000">
            <a:off x="1338120" y="2782440"/>
            <a:ext cx="98640" cy="92556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0" name="Freeform 99"/>
          <p:cNvSpPr/>
          <p:nvPr/>
        </p:nvSpPr>
        <p:spPr>
          <a:xfrm flipH="1" rot="10800000">
            <a:off x="2017800" y="2795400"/>
            <a:ext cx="92160" cy="99684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3120" y="3302280"/>
            <a:ext cx="858240" cy="733320"/>
            <a:chOff x="843120" y="3302280"/>
            <a:chExt cx="858240" cy="733320"/>
          </a:xfrm>
        </p:grpSpPr>
        <p:sp>
          <p:nvSpPr>
            <p:cNvPr id="122" name="Freeform 101"/>
            <p:cNvSpPr/>
            <p:nvPr/>
          </p:nvSpPr>
          <p:spPr>
            <a:xfrm flipH="1" rot="10800000">
              <a:off x="843120" y="3302280"/>
              <a:ext cx="85824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 flipH="1" rot="10800000">
              <a:off x="1043640" y="388332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92280" y="3846600"/>
            <a:ext cx="426600" cy="614160"/>
            <a:chOff x="1592280" y="3846600"/>
            <a:chExt cx="426600" cy="614160"/>
          </a:xfrm>
        </p:grpSpPr>
        <p:sp>
          <p:nvSpPr>
            <p:cNvPr id="125" name="Freeform 104"/>
            <p:cNvSpPr/>
            <p:nvPr/>
          </p:nvSpPr>
          <p:spPr>
            <a:xfrm flipH="1" rot="10800000">
              <a:off x="1591920" y="3846600"/>
              <a:ext cx="426600" cy="61416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 flipH="1" rot="10800000">
              <a:off x="1623600" y="4013640"/>
              <a:ext cx="340920" cy="39204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127" name="Picture 106" descr="图片6"/>
          <p:cNvPicPr/>
          <p:nvPr/>
        </p:nvPicPr>
        <p:blipFill>
          <a:blip r:embed="rId2"/>
          <a:stretch/>
        </p:blipFill>
        <p:spPr>
          <a:xfrm flipH="1" rot="10800000">
            <a:off x="5494320" y="2776680"/>
            <a:ext cx="255600" cy="31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7" descr="图片1"/>
          <p:cNvPicPr/>
          <p:nvPr/>
        </p:nvPicPr>
        <p:blipFill>
          <a:blip r:embed="rId3"/>
          <a:stretch/>
        </p:blipFill>
        <p:spPr>
          <a:xfrm flipH="1" rot="10800000">
            <a:off x="2598840" y="269388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8" descr="图片5"/>
          <p:cNvPicPr/>
          <p:nvPr/>
        </p:nvPicPr>
        <p:blipFill>
          <a:blip r:embed="rId4"/>
          <a:stretch/>
        </p:blipFill>
        <p:spPr>
          <a:xfrm flipH="1" rot="10800000">
            <a:off x="4483080" y="2760480"/>
            <a:ext cx="582480" cy="42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图片4"/>
          <p:cNvPicPr/>
          <p:nvPr/>
        </p:nvPicPr>
        <p:blipFill>
          <a:blip r:embed="rId5"/>
          <a:stretch/>
        </p:blipFill>
        <p:spPr>
          <a:xfrm flipH="1" rot="10800000">
            <a:off x="3986280" y="2746080"/>
            <a:ext cx="306360" cy="28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0" descr="图片2"/>
          <p:cNvPicPr/>
          <p:nvPr/>
        </p:nvPicPr>
        <p:blipFill>
          <a:blip r:embed="rId6"/>
          <a:stretch/>
        </p:blipFill>
        <p:spPr>
          <a:xfrm flipH="1" rot="10800000">
            <a:off x="2982960" y="2731680"/>
            <a:ext cx="368280" cy="3826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38960" y="2787480"/>
            <a:ext cx="941400" cy="0"/>
            <a:chOff x="8238960" y="2787480"/>
            <a:chExt cx="941400" cy="0"/>
          </a:xfrm>
        </p:grpSpPr>
        <p:sp>
          <p:nvSpPr>
            <p:cNvPr id="133" name="Line 174"/>
            <p:cNvSpPr/>
            <p:nvPr/>
          </p:nvSpPr>
          <p:spPr>
            <a:xfrm>
              <a:off x="8708400" y="278748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>
              <a:off x="8238960" y="278748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35" name="Rectangle 4443"/>
          <p:cNvSpPr/>
          <p:nvPr/>
        </p:nvSpPr>
        <p:spPr>
          <a:xfrm>
            <a:off x="-285840" y="0"/>
            <a:ext cx="9982440" cy="27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25760" y="1217520"/>
            <a:ext cx="597960" cy="596880"/>
            <a:chOff x="1625760" y="1217520"/>
            <a:chExt cx="597960" cy="596880"/>
          </a:xfrm>
        </p:grpSpPr>
        <p:sp>
          <p:nvSpPr>
            <p:cNvPr id="137" name="Freeform 27"/>
            <p:cNvSpPr/>
            <p:nvPr/>
          </p:nvSpPr>
          <p:spPr>
            <a:xfrm>
              <a:off x="1625760" y="1222200"/>
              <a:ext cx="597960" cy="59220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1773720" y="1217520"/>
              <a:ext cx="450000" cy="34452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0160" y="1109520"/>
            <a:ext cx="344160" cy="604800"/>
            <a:chOff x="1370160" y="1109520"/>
            <a:chExt cx="344160" cy="604800"/>
          </a:xfrm>
        </p:grpSpPr>
        <p:sp>
          <p:nvSpPr>
            <p:cNvPr id="140" name="Freeform 30"/>
            <p:cNvSpPr/>
            <p:nvPr/>
          </p:nvSpPr>
          <p:spPr>
            <a:xfrm>
              <a:off x="1370160" y="1109520"/>
              <a:ext cx="344160" cy="59832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1424160" y="1422360"/>
              <a:ext cx="288360" cy="29196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42" name="Freeform 36"/>
          <p:cNvSpPr/>
          <p:nvPr/>
        </p:nvSpPr>
        <p:spPr>
          <a:xfrm>
            <a:off x="1114560" y="204156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1108080" y="169668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1670040" y="170028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403360" y="1862280"/>
            <a:ext cx="0" cy="909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1677960" y="1708200"/>
            <a:ext cx="0" cy="1074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1341360" y="1862280"/>
            <a:ext cx="98640" cy="92520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8" name="Freeform 42"/>
          <p:cNvSpPr/>
          <p:nvPr/>
        </p:nvSpPr>
        <p:spPr>
          <a:xfrm>
            <a:off x="2017800" y="1779480"/>
            <a:ext cx="92160" cy="99720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000" y="1536840"/>
            <a:ext cx="858600" cy="733320"/>
            <a:chOff x="846000" y="1536840"/>
            <a:chExt cx="858600" cy="733320"/>
          </a:xfrm>
        </p:grpSpPr>
        <p:sp>
          <p:nvSpPr>
            <p:cNvPr id="150" name="Freeform 44"/>
            <p:cNvSpPr/>
            <p:nvPr/>
          </p:nvSpPr>
          <p:spPr>
            <a:xfrm>
              <a:off x="846000" y="1538280"/>
              <a:ext cx="85860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1046880" y="153684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93720" y="1109520"/>
            <a:ext cx="426960" cy="614520"/>
            <a:chOff x="1593720" y="1109520"/>
            <a:chExt cx="426960" cy="614520"/>
          </a:xfrm>
        </p:grpSpPr>
        <p:sp>
          <p:nvSpPr>
            <p:cNvPr id="153" name="Freeform 47"/>
            <p:cNvSpPr/>
            <p:nvPr/>
          </p:nvSpPr>
          <p:spPr>
            <a:xfrm>
              <a:off x="1593720" y="1109520"/>
              <a:ext cx="426960" cy="61452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1625400" y="1164960"/>
              <a:ext cx="340920" cy="39240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0640" y="-443520"/>
            <a:ext cx="255960" cy="311400"/>
            <a:chOff x="5480640" y="-443520"/>
            <a:chExt cx="255960" cy="311400"/>
          </a:xfrm>
        </p:grpSpPr>
        <p:sp>
          <p:nvSpPr>
            <p:cNvPr id="156" name="Oval 7"/>
            <p:cNvSpPr/>
            <p:nvPr/>
          </p:nvSpPr>
          <p:spPr>
            <a:xfrm rot="11436600">
              <a:off x="5515200" y="-353880"/>
              <a:ext cx="204120" cy="204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 rot="11436600">
              <a:off x="5556240" y="-305280"/>
              <a:ext cx="122040" cy="116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24" y="3798"/>
                  </a:lnTo>
                  <a:lnTo>
                    <a:pt x="5000" y="0"/>
                  </a:lnTo>
                  <a:lnTo>
                    <a:pt x="6176" y="3798"/>
                  </a:lnTo>
                  <a:lnTo>
                    <a:pt x="10000" y="3798"/>
                  </a:lnTo>
                  <a:lnTo>
                    <a:pt x="6912" y="6202"/>
                  </a:lnTo>
                  <a:lnTo>
                    <a:pt x="8088" y="10000"/>
                  </a:lnTo>
                  <a:lnTo>
                    <a:pt x="5000" y="7674"/>
                  </a:lnTo>
                  <a:lnTo>
                    <a:pt x="1912" y="10000"/>
                  </a:lnTo>
                  <a:lnTo>
                    <a:pt x="3088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4686800">
              <a:off x="5541120" y="-362520"/>
              <a:ext cx="59400" cy="3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1436600">
              <a:off x="5486400" y="-435600"/>
              <a:ext cx="88920" cy="7380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01960" y="-1282680"/>
            <a:ext cx="1068120" cy="1162080"/>
            <a:chOff x="2901960" y="-1282680"/>
            <a:chExt cx="1068120" cy="1162080"/>
          </a:xfrm>
        </p:grpSpPr>
        <p:grpSp>
          <p:nvGrpSpPr>
            <p:cNvPr id="161" name=""/>
            <p:cNvGrpSpPr/>
            <p:nvPr/>
          </p:nvGrpSpPr>
          <p:grpSpPr>
            <a:xfrm>
              <a:off x="3499920" y="-1197360"/>
              <a:ext cx="297360" cy="296640"/>
              <a:chOff x="3499920" y="-1197360"/>
              <a:chExt cx="297360" cy="296640"/>
            </a:xfrm>
          </p:grpSpPr>
          <p:sp>
            <p:nvSpPr>
              <p:cNvPr id="162" name="Freeform 13"/>
              <p:cNvSpPr/>
              <p:nvPr/>
            </p:nvSpPr>
            <p:spPr>
              <a:xfrm>
                <a:off x="3499920" y="-1197360"/>
                <a:ext cx="297360" cy="29016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6" y="130"/>
                    </a:moveTo>
                    <a:cubicBezTo>
                      <a:pt x="7" y="91"/>
                      <a:pt x="56" y="18"/>
                      <a:pt x="102" y="9"/>
                    </a:cubicBezTo>
                    <a:cubicBezTo>
                      <a:pt x="148" y="0"/>
                      <a:pt x="185" y="40"/>
                      <a:pt x="186" y="79"/>
                    </a:cubicBezTo>
                    <a:cubicBezTo>
                      <a:pt x="187" y="118"/>
                      <a:pt x="156" y="150"/>
                      <a:pt x="135" y="163"/>
                    </a:cubicBezTo>
                    <a:cubicBezTo>
                      <a:pt x="127" y="157"/>
                      <a:pt x="120" y="151"/>
                      <a:pt x="120" y="151"/>
                    </a:cubicBezTo>
                    <a:cubicBezTo>
                      <a:pt x="142" y="124"/>
                      <a:pt x="170" y="71"/>
                      <a:pt x="127" y="57"/>
                    </a:cubicBezTo>
                    <a:cubicBezTo>
                      <a:pt x="84" y="43"/>
                      <a:pt x="27" y="114"/>
                      <a:pt x="22" y="168"/>
                    </a:cubicBezTo>
                    <a:cubicBezTo>
                      <a:pt x="0" y="177"/>
                      <a:pt x="6" y="130"/>
                      <a:pt x="6" y="130"/>
                    </a:cubicBez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3579120" y="-1134720"/>
                <a:ext cx="192600" cy="146880"/>
              </a:xfrm>
              <a:custGeom>
                <a:avLst/>
                <a:gdLst/>
                <a:ahLst/>
                <a:rect l="l" t="t" r="r" b="b"/>
                <a:pathLst>
                  <a:path w="121" h="90">
                    <a:moveTo>
                      <a:pt x="1" y="56"/>
                    </a:moveTo>
                    <a:cubicBezTo>
                      <a:pt x="0" y="55"/>
                      <a:pt x="37" y="0"/>
                      <a:pt x="79" y="11"/>
                    </a:cubicBezTo>
                    <a:cubicBezTo>
                      <a:pt x="121" y="22"/>
                      <a:pt x="91" y="88"/>
                      <a:pt x="92" y="89"/>
                    </a:cubicBezTo>
                    <a:cubicBezTo>
                      <a:pt x="92" y="90"/>
                      <a:pt x="117" y="38"/>
                      <a:pt x="82" y="20"/>
                    </a:cubicBezTo>
                    <a:cubicBezTo>
                      <a:pt x="47" y="2"/>
                      <a:pt x="20" y="40"/>
                      <a:pt x="1" y="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3515760" y="-1093680"/>
                <a:ext cx="85680" cy="1929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84"/>
                    </a:moveTo>
                    <a:cubicBezTo>
                      <a:pt x="0" y="70"/>
                      <a:pt x="0" y="50"/>
                      <a:pt x="5" y="36"/>
                    </a:cubicBezTo>
                    <a:cubicBezTo>
                      <a:pt x="10" y="22"/>
                      <a:pt x="20" y="4"/>
                      <a:pt x="29" y="0"/>
                    </a:cubicBezTo>
                    <a:lnTo>
                      <a:pt x="54" y="7"/>
                    </a:lnTo>
                    <a:cubicBezTo>
                      <a:pt x="54" y="16"/>
                      <a:pt x="38" y="34"/>
                      <a:pt x="26" y="54"/>
                    </a:cubicBezTo>
                    <a:cubicBezTo>
                      <a:pt x="14" y="74"/>
                      <a:pt x="10" y="113"/>
                      <a:pt x="6" y="118"/>
                    </a:cubicBezTo>
                    <a:lnTo>
                      <a:pt x="0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65" name="Freeform 16"/>
            <p:cNvSpPr/>
            <p:nvPr/>
          </p:nvSpPr>
          <p:spPr>
            <a:xfrm>
              <a:off x="2901960" y="-808920"/>
              <a:ext cx="331560" cy="12456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205" y="0"/>
                  </a:moveTo>
                  <a:cubicBezTo>
                    <a:pt x="195" y="19"/>
                    <a:pt x="151" y="55"/>
                    <a:pt x="121" y="52"/>
                  </a:cubicBezTo>
                  <a:cubicBezTo>
                    <a:pt x="91" y="49"/>
                    <a:pt x="50" y="21"/>
                    <a:pt x="33" y="9"/>
                  </a:cubicBezTo>
                  <a:cubicBezTo>
                    <a:pt x="33" y="9"/>
                    <a:pt x="14" y="16"/>
                    <a:pt x="0" y="22"/>
                  </a:cubicBezTo>
                  <a:cubicBezTo>
                    <a:pt x="15" y="37"/>
                    <a:pt x="66" y="76"/>
                    <a:pt x="117" y="73"/>
                  </a:cubicBezTo>
                  <a:cubicBezTo>
                    <a:pt x="168" y="70"/>
                    <a:pt x="199" y="37"/>
                    <a:pt x="208" y="18"/>
                  </a:cubicBezTo>
                  <a:cubicBezTo>
                    <a:pt x="208" y="18"/>
                    <a:pt x="205" y="0"/>
                    <a:pt x="205" y="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3113640" y="-1200600"/>
              <a:ext cx="443160" cy="383400"/>
            </a:xfrm>
            <a:custGeom>
              <a:avLst/>
              <a:gdLst/>
              <a:ahLst/>
              <a:rect l="l" t="t" r="r" b="b"/>
              <a:pathLst>
                <a:path w="278" h="234">
                  <a:moveTo>
                    <a:pt x="253" y="194"/>
                  </a:moveTo>
                  <a:cubicBezTo>
                    <a:pt x="278" y="149"/>
                    <a:pt x="250" y="0"/>
                    <a:pt x="125" y="24"/>
                  </a:cubicBezTo>
                  <a:cubicBezTo>
                    <a:pt x="0" y="48"/>
                    <a:pt x="24" y="195"/>
                    <a:pt x="83" y="234"/>
                  </a:cubicBezTo>
                  <a:cubicBezTo>
                    <a:pt x="30" y="131"/>
                    <a:pt x="87" y="63"/>
                    <a:pt x="149" y="62"/>
                  </a:cubicBezTo>
                  <a:cubicBezTo>
                    <a:pt x="211" y="61"/>
                    <a:pt x="249" y="158"/>
                    <a:pt x="253" y="19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192120" y="-1182600"/>
              <a:ext cx="320040" cy="137520"/>
            </a:xfrm>
            <a:custGeom>
              <a:avLst/>
              <a:gdLst/>
              <a:ahLst/>
              <a:rect l="l" t="t" r="r" b="b"/>
              <a:pathLst>
                <a:path w="201" h="84">
                  <a:moveTo>
                    <a:pt x="0" y="84"/>
                  </a:moveTo>
                  <a:cubicBezTo>
                    <a:pt x="0" y="80"/>
                    <a:pt x="6" y="24"/>
                    <a:pt x="84" y="12"/>
                  </a:cubicBezTo>
                  <a:cubicBezTo>
                    <a:pt x="162" y="0"/>
                    <a:pt x="200" y="74"/>
                    <a:pt x="200" y="78"/>
                  </a:cubicBezTo>
                  <a:cubicBezTo>
                    <a:pt x="201" y="79"/>
                    <a:pt x="166" y="8"/>
                    <a:pt x="92" y="18"/>
                  </a:cubicBezTo>
                  <a:cubicBezTo>
                    <a:pt x="18" y="28"/>
                    <a:pt x="8" y="72"/>
                    <a:pt x="0" y="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3378600" y="-1133280"/>
              <a:ext cx="178200" cy="24912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87" y="152"/>
                  </a:moveTo>
                  <a:cubicBezTo>
                    <a:pt x="110" y="100"/>
                    <a:pt x="70" y="0"/>
                    <a:pt x="38" y="0"/>
                  </a:cubicBezTo>
                  <a:cubicBezTo>
                    <a:pt x="44" y="6"/>
                    <a:pt x="0" y="5"/>
                    <a:pt x="5" y="27"/>
                  </a:cubicBezTo>
                  <a:cubicBezTo>
                    <a:pt x="55" y="36"/>
                    <a:pt x="83" y="116"/>
                    <a:pt x="87" y="152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3228480" y="-957960"/>
              <a:ext cx="698040" cy="817920"/>
            </a:xfrm>
            <a:custGeom>
              <a:avLst/>
              <a:gdLst/>
              <a:ahLst/>
              <a:rect l="l" t="t" r="r" b="b"/>
              <a:pathLst>
                <a:path w="438" h="499">
                  <a:moveTo>
                    <a:pt x="0" y="499"/>
                  </a:moveTo>
                  <a:lnTo>
                    <a:pt x="272" y="499"/>
                  </a:lnTo>
                  <a:lnTo>
                    <a:pt x="272" y="0"/>
                  </a:lnTo>
                  <a:lnTo>
                    <a:pt x="438" y="106"/>
                  </a:lnTo>
                  <a:lnTo>
                    <a:pt x="438" y="499"/>
                  </a:lnTo>
                  <a:lnTo>
                    <a:pt x="272" y="499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3238200" y="-959400"/>
              <a:ext cx="430560" cy="838800"/>
            </a:xfrm>
            <a:custGeom>
              <a:avLst/>
              <a:gdLst/>
              <a:ahLst/>
              <a:rect l="l" t="t" r="r" b="b"/>
              <a:pathLst>
                <a:path w="270" h="498">
                  <a:moveTo>
                    <a:pt x="0" y="498"/>
                  </a:moveTo>
                  <a:lnTo>
                    <a:pt x="0" y="90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3372120" y="-885960"/>
              <a:ext cx="109800" cy="745920"/>
            </a:xfrm>
            <a:custGeom>
              <a:avLst/>
              <a:gdLst/>
              <a:ahLst/>
              <a:rect l="l" t="t" r="r" b="b"/>
              <a:pathLst>
                <a:path w="69" h="464">
                  <a:moveTo>
                    <a:pt x="0" y="11"/>
                  </a:moveTo>
                  <a:lnTo>
                    <a:pt x="69" y="0"/>
                  </a:lnTo>
                  <a:lnTo>
                    <a:pt x="69" y="464"/>
                  </a:lnTo>
                  <a:lnTo>
                    <a:pt x="0" y="46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3759480" y="-895680"/>
              <a:ext cx="79560" cy="760320"/>
            </a:xfrm>
            <a:custGeom>
              <a:avLst/>
              <a:gdLst/>
              <a:ahLst/>
              <a:rect l="l" t="t" r="r" b="b"/>
              <a:pathLst>
                <a:path w="50" h="464">
                  <a:moveTo>
                    <a:pt x="0" y="0"/>
                  </a:moveTo>
                  <a:lnTo>
                    <a:pt x="50" y="29"/>
                  </a:lnTo>
                  <a:lnTo>
                    <a:pt x="5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3735720" y="-1280880"/>
              <a:ext cx="231120" cy="3949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234"/>
                  </a:moveTo>
                  <a:cubicBezTo>
                    <a:pt x="47" y="217"/>
                    <a:pt x="95" y="170"/>
                    <a:pt x="104" y="138"/>
                  </a:cubicBezTo>
                  <a:cubicBezTo>
                    <a:pt x="113" y="104"/>
                    <a:pt x="75" y="57"/>
                    <a:pt x="54" y="39"/>
                  </a:cubicBezTo>
                  <a:cubicBezTo>
                    <a:pt x="60" y="25"/>
                    <a:pt x="75" y="0"/>
                    <a:pt x="75" y="0"/>
                  </a:cubicBezTo>
                  <a:cubicBezTo>
                    <a:pt x="110" y="18"/>
                    <a:pt x="145" y="76"/>
                    <a:pt x="137" y="130"/>
                  </a:cubicBezTo>
                  <a:cubicBezTo>
                    <a:pt x="129" y="184"/>
                    <a:pt x="48" y="234"/>
                    <a:pt x="17" y="241"/>
                  </a:cubicBezTo>
                  <a:cubicBezTo>
                    <a:pt x="8" y="237"/>
                    <a:pt x="0" y="234"/>
                    <a:pt x="0" y="23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3748680" y="-1282680"/>
              <a:ext cx="221400" cy="3949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9" y="238"/>
                  </a:moveTo>
                  <a:cubicBezTo>
                    <a:pt x="56" y="221"/>
                    <a:pt x="97" y="194"/>
                    <a:pt x="118" y="140"/>
                  </a:cubicBezTo>
                  <a:cubicBezTo>
                    <a:pt x="139" y="86"/>
                    <a:pt x="96" y="23"/>
                    <a:pt x="67" y="0"/>
                  </a:cubicBezTo>
                  <a:cubicBezTo>
                    <a:pt x="100" y="25"/>
                    <a:pt x="137" y="76"/>
                    <a:pt x="129" y="130"/>
                  </a:cubicBezTo>
                  <a:cubicBezTo>
                    <a:pt x="121" y="184"/>
                    <a:pt x="40" y="234"/>
                    <a:pt x="9" y="241"/>
                  </a:cubicBezTo>
                  <a:cubicBezTo>
                    <a:pt x="0" y="237"/>
                    <a:pt x="9" y="238"/>
                    <a:pt x="9" y="2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92360" y="-662760"/>
            <a:ext cx="691920" cy="682920"/>
            <a:chOff x="2592360" y="-662760"/>
            <a:chExt cx="691920" cy="682920"/>
          </a:xfrm>
        </p:grpSpPr>
        <p:sp>
          <p:nvSpPr>
            <p:cNvPr id="176" name="Freeform 50"/>
            <p:cNvSpPr/>
            <p:nvPr/>
          </p:nvSpPr>
          <p:spPr>
            <a:xfrm>
              <a:off x="2592360" y="-588960"/>
              <a:ext cx="500760" cy="4777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2842560" y="-522360"/>
              <a:ext cx="11952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8" name="Oval 52"/>
            <p:cNvSpPr/>
            <p:nvPr/>
          </p:nvSpPr>
          <p:spPr>
            <a:xfrm>
              <a:off x="2788200" y="-536400"/>
              <a:ext cx="1116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9" name="Oval 53"/>
            <p:cNvSpPr/>
            <p:nvPr/>
          </p:nvSpPr>
          <p:spPr>
            <a:xfrm>
              <a:off x="2782080" y="-425880"/>
              <a:ext cx="11160" cy="10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0" name="Oval 54"/>
            <p:cNvSpPr/>
            <p:nvPr/>
          </p:nvSpPr>
          <p:spPr>
            <a:xfrm>
              <a:off x="2735640" y="-300600"/>
              <a:ext cx="11160" cy="10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1" name="Oval 55"/>
            <p:cNvSpPr/>
            <p:nvPr/>
          </p:nvSpPr>
          <p:spPr>
            <a:xfrm>
              <a:off x="2853720" y="-4258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2" name="Oval 56"/>
            <p:cNvSpPr/>
            <p:nvPr/>
          </p:nvSpPr>
          <p:spPr>
            <a:xfrm>
              <a:off x="2700720" y="-47196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3" name="Oval 57"/>
            <p:cNvSpPr/>
            <p:nvPr/>
          </p:nvSpPr>
          <p:spPr>
            <a:xfrm>
              <a:off x="2782080" y="-48312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4" name="Oval 58"/>
            <p:cNvSpPr/>
            <p:nvPr/>
          </p:nvSpPr>
          <p:spPr>
            <a:xfrm>
              <a:off x="2686320" y="-395640"/>
              <a:ext cx="11160" cy="108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5" name="Oval 59"/>
            <p:cNvSpPr/>
            <p:nvPr/>
          </p:nvSpPr>
          <p:spPr>
            <a:xfrm rot="2513400">
              <a:off x="2725560" y="-582120"/>
              <a:ext cx="440640" cy="52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7120" y="-520920"/>
            <a:ext cx="451800" cy="449280"/>
            <a:chOff x="2967120" y="-520920"/>
            <a:chExt cx="451800" cy="449280"/>
          </a:xfrm>
        </p:grpSpPr>
        <p:sp>
          <p:nvSpPr>
            <p:cNvPr id="187" name="Freeform 61"/>
            <p:cNvSpPr/>
            <p:nvPr/>
          </p:nvSpPr>
          <p:spPr>
            <a:xfrm flipH="1" rot="18514200">
              <a:off x="3035880" y="-460080"/>
              <a:ext cx="313200" cy="3283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 flipH="1" rot="18514200">
              <a:off x="3061440" y="-351360"/>
              <a:ext cx="74880" cy="5652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 flipH="1" rot="18514200">
              <a:off x="3110400" y="-401400"/>
              <a:ext cx="684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 flipH="1" rot="18514200">
              <a:off x="3173040" y="-357120"/>
              <a:ext cx="6840" cy="75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 flipH="1" rot="18514200">
              <a:off x="3257640" y="-325800"/>
              <a:ext cx="6840" cy="72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 flipH="1" rot="18514200">
              <a:off x="3144960" y="-32184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3" name="Oval 67"/>
            <p:cNvSpPr/>
            <p:nvPr/>
          </p:nvSpPr>
          <p:spPr>
            <a:xfrm flipH="1" rot="18514200">
              <a:off x="3179880" y="-41652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4" name="Oval 68"/>
            <p:cNvSpPr/>
            <p:nvPr/>
          </p:nvSpPr>
          <p:spPr>
            <a:xfrm flipH="1" rot="18514200">
              <a:off x="3142440" y="-38160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 flipH="1" rot="18514200">
              <a:off x="3226680" y="-390600"/>
              <a:ext cx="6840" cy="756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 flipH="1" rot="16000800">
              <a:off x="3026160" y="-418680"/>
              <a:ext cx="276480" cy="36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46720" y="-560880"/>
            <a:ext cx="600840" cy="469080"/>
            <a:chOff x="4446720" y="-560880"/>
            <a:chExt cx="600840" cy="469080"/>
          </a:xfrm>
        </p:grpSpPr>
        <p:sp>
          <p:nvSpPr>
            <p:cNvPr id="198" name="Oval 72"/>
            <p:cNvSpPr/>
            <p:nvPr/>
          </p:nvSpPr>
          <p:spPr>
            <a:xfrm rot="20285400">
              <a:off x="4500720" y="-506160"/>
              <a:ext cx="361440" cy="360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9" name="AutoShape 73"/>
            <p:cNvSpPr/>
            <p:nvPr/>
          </p:nvSpPr>
          <p:spPr>
            <a:xfrm rot="20285400">
              <a:off x="4558320" y="-447120"/>
              <a:ext cx="228960" cy="204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19" y="3798"/>
                  </a:lnTo>
                  <a:lnTo>
                    <a:pt x="5000" y="0"/>
                  </a:lnTo>
                  <a:lnTo>
                    <a:pt x="6181" y="3798"/>
                  </a:lnTo>
                  <a:lnTo>
                    <a:pt x="10000" y="3798"/>
                  </a:lnTo>
                  <a:lnTo>
                    <a:pt x="6944" y="6202"/>
                  </a:lnTo>
                  <a:lnTo>
                    <a:pt x="8056" y="10000"/>
                  </a:lnTo>
                  <a:lnTo>
                    <a:pt x="5000" y="7674"/>
                  </a:lnTo>
                  <a:lnTo>
                    <a:pt x="1944" y="10000"/>
                  </a:lnTo>
                  <a:lnTo>
                    <a:pt x="3056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 rot="1935000">
              <a:off x="4784760" y="-270360"/>
              <a:ext cx="104400" cy="69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1" name="Freeform 75"/>
            <p:cNvSpPr/>
            <p:nvPr/>
          </p:nvSpPr>
          <p:spPr>
            <a:xfrm rot="20285400">
              <a:off x="4871160" y="-255240"/>
              <a:ext cx="157680" cy="12996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7480" y="-396360"/>
            <a:ext cx="351000" cy="324720"/>
            <a:chOff x="3957480" y="-396360"/>
            <a:chExt cx="351000" cy="324720"/>
          </a:xfrm>
        </p:grpSpPr>
        <p:sp>
          <p:nvSpPr>
            <p:cNvPr id="203" name="Freeform 77"/>
            <p:cNvSpPr/>
            <p:nvPr/>
          </p:nvSpPr>
          <p:spPr>
            <a:xfrm flipH="1" rot="20697000">
              <a:off x="4053600" y="-370800"/>
              <a:ext cx="227520" cy="24048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 flipH="1" rot="20697000">
              <a:off x="4096800" y="-328320"/>
              <a:ext cx="54360" cy="414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 flipH="1" rot="20697000">
              <a:off x="4162320" y="-3470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 flipH="1" rot="20697000">
              <a:off x="4179600" y="-294120"/>
              <a:ext cx="5400" cy="5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 flipH="1" rot="20697000">
              <a:off x="4215960" y="-238680"/>
              <a:ext cx="5400" cy="54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 flipH="1" rot="20697000">
              <a:off x="4148280" y="-285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 flipH="1" rot="20697000">
              <a:off x="4209480" y="-32616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 flipH="1" rot="20697000">
              <a:off x="4172040" y="-321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 flipH="1" rot="20697000">
              <a:off x="4225680" y="-290880"/>
              <a:ext cx="5400" cy="54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 flipH="1" rot="18183000">
              <a:off x="4022280" y="-356760"/>
              <a:ext cx="197640" cy="26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43120" y="1104840"/>
            <a:ext cx="4903200" cy="3362400"/>
            <a:chOff x="843120" y="1104840"/>
            <a:chExt cx="4903200" cy="3362400"/>
          </a:xfrm>
        </p:grpSpPr>
        <p:grpSp>
          <p:nvGrpSpPr>
            <p:cNvPr id="214" name=""/>
            <p:cNvGrpSpPr/>
            <p:nvPr/>
          </p:nvGrpSpPr>
          <p:grpSpPr>
            <a:xfrm>
              <a:off x="843120" y="1104840"/>
              <a:ext cx="1573200" cy="1669680"/>
              <a:chOff x="843120" y="1104840"/>
              <a:chExt cx="1573200" cy="16696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622520" y="1212840"/>
                <a:ext cx="598320" cy="597600"/>
                <a:chOff x="1622520" y="1212840"/>
                <a:chExt cx="598320" cy="597600"/>
              </a:xfrm>
            </p:grpSpPr>
            <p:sp>
              <p:nvSpPr>
                <p:cNvPr id="216" name="Freeform 4536"/>
                <p:cNvSpPr/>
                <p:nvPr/>
              </p:nvSpPr>
              <p:spPr>
                <a:xfrm>
                  <a:off x="1622520" y="1217520"/>
                  <a:ext cx="598320" cy="59292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17" name="Freeform 4537"/>
                <p:cNvSpPr/>
                <p:nvPr/>
              </p:nvSpPr>
              <p:spPr>
                <a:xfrm>
                  <a:off x="1770840" y="1212840"/>
                  <a:ext cx="450000" cy="3607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66920" y="1104840"/>
                <a:ext cx="344160" cy="605520"/>
                <a:chOff x="1366920" y="1104840"/>
                <a:chExt cx="344160" cy="605520"/>
              </a:xfrm>
            </p:grpSpPr>
            <p:sp>
              <p:nvSpPr>
                <p:cNvPr id="219" name="Freeform 4539"/>
                <p:cNvSpPr/>
                <p:nvPr/>
              </p:nvSpPr>
              <p:spPr>
                <a:xfrm>
                  <a:off x="1366920" y="1104840"/>
                  <a:ext cx="344160" cy="59904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0" name="Freeform 4540"/>
                <p:cNvSpPr/>
                <p:nvPr/>
              </p:nvSpPr>
              <p:spPr>
                <a:xfrm>
                  <a:off x="1420920" y="1418040"/>
                  <a:ext cx="288360" cy="29232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1" name="Freeform 4541"/>
              <p:cNvSpPr/>
              <p:nvPr/>
            </p:nvSpPr>
            <p:spPr>
              <a:xfrm>
                <a:off x="1111320" y="2038680"/>
                <a:ext cx="1800" cy="73116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2" name="Line 4544"/>
              <p:cNvSpPr/>
              <p:nvPr/>
            </p:nvSpPr>
            <p:spPr>
              <a:xfrm>
                <a:off x="2400480" y="1858680"/>
                <a:ext cx="0" cy="911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3" name="Freeform 4545"/>
              <p:cNvSpPr/>
              <p:nvPr/>
            </p:nvSpPr>
            <p:spPr>
              <a:xfrm>
                <a:off x="1671840" y="1704240"/>
                <a:ext cx="3240" cy="10576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43120" y="1532520"/>
                <a:ext cx="858600" cy="734400"/>
                <a:chOff x="843120" y="1532520"/>
                <a:chExt cx="858600" cy="734400"/>
              </a:xfrm>
            </p:grpSpPr>
            <p:sp>
              <p:nvSpPr>
                <p:cNvPr id="225" name="Freeform 4549"/>
                <p:cNvSpPr/>
                <p:nvPr/>
              </p:nvSpPr>
              <p:spPr>
                <a:xfrm>
                  <a:off x="843120" y="1533960"/>
                  <a:ext cx="858600" cy="73296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6" name="Freeform 4550"/>
                <p:cNvSpPr/>
                <p:nvPr/>
              </p:nvSpPr>
              <p:spPr>
                <a:xfrm>
                  <a:off x="1044000" y="153252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7" name="Freeform 4552"/>
              <p:cNvSpPr/>
              <p:nvPr/>
            </p:nvSpPr>
            <p:spPr>
              <a:xfrm>
                <a:off x="1590840" y="1104840"/>
                <a:ext cx="426960" cy="61560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8" name="Freeform 4553"/>
              <p:cNvSpPr/>
              <p:nvPr/>
            </p:nvSpPr>
            <p:spPr>
              <a:xfrm>
                <a:off x="1622520" y="1160280"/>
                <a:ext cx="341280" cy="40896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9" name="Line 4543"/>
              <p:cNvSpPr/>
              <p:nvPr/>
            </p:nvSpPr>
            <p:spPr>
              <a:xfrm>
                <a:off x="1667160" y="169632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0" name="Line 4542"/>
              <p:cNvSpPr/>
              <p:nvPr/>
            </p:nvSpPr>
            <p:spPr>
              <a:xfrm flipV="1">
                <a:off x="1105200" y="1693440"/>
                <a:ext cx="577800" cy="360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1" name="Freeform 4554"/>
              <p:cNvSpPr/>
              <p:nvPr/>
            </p:nvSpPr>
            <p:spPr>
              <a:xfrm>
                <a:off x="1094040" y="1680480"/>
                <a:ext cx="1322280" cy="10908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2" name="Freeform 4546"/>
              <p:cNvSpPr/>
              <p:nvPr/>
            </p:nvSpPr>
            <p:spPr>
              <a:xfrm>
                <a:off x="1339920" y="1839240"/>
                <a:ext cx="93600" cy="9320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3" name="Freeform 4556"/>
              <p:cNvSpPr/>
              <p:nvPr/>
            </p:nvSpPr>
            <p:spPr>
              <a:xfrm>
                <a:off x="1648080" y="1671120"/>
                <a:ext cx="41040" cy="10972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4" name="Freeform 4547"/>
              <p:cNvSpPr/>
              <p:nvPr/>
            </p:nvSpPr>
            <p:spPr>
              <a:xfrm>
                <a:off x="2013120" y="1760040"/>
                <a:ext cx="93600" cy="10144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44560" y="2800440"/>
              <a:ext cx="1573200" cy="1666800"/>
              <a:chOff x="844560" y="2800440"/>
              <a:chExt cx="1573200" cy="166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623960" y="3762360"/>
                <a:ext cx="598320" cy="596880"/>
                <a:chOff x="1623960" y="3762360"/>
                <a:chExt cx="598320" cy="596880"/>
              </a:xfrm>
            </p:grpSpPr>
            <p:sp>
              <p:nvSpPr>
                <p:cNvPr id="237" name="Freeform 4564"/>
                <p:cNvSpPr/>
                <p:nvPr/>
              </p:nvSpPr>
              <p:spPr>
                <a:xfrm flipV="1">
                  <a:off x="1623960" y="3762000"/>
                  <a:ext cx="598320" cy="59220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38" name="Freeform 4565"/>
                <p:cNvSpPr/>
                <p:nvPr/>
              </p:nvSpPr>
              <p:spPr>
                <a:xfrm flipV="1">
                  <a:off x="1772280" y="4014360"/>
                  <a:ext cx="450000" cy="3445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68360" y="3862440"/>
                <a:ext cx="344160" cy="604800"/>
                <a:chOff x="1368360" y="3862440"/>
                <a:chExt cx="344160" cy="604800"/>
              </a:xfrm>
            </p:grpSpPr>
            <p:sp>
              <p:nvSpPr>
                <p:cNvPr id="240" name="Freeform 4567"/>
                <p:cNvSpPr/>
                <p:nvPr/>
              </p:nvSpPr>
              <p:spPr>
                <a:xfrm flipV="1">
                  <a:off x="1368360" y="3868920"/>
                  <a:ext cx="344160" cy="59832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1" name="Freeform 4568"/>
                <p:cNvSpPr/>
                <p:nvPr/>
              </p:nvSpPr>
              <p:spPr>
                <a:xfrm flipV="1">
                  <a:off x="1422360" y="3862080"/>
                  <a:ext cx="288360" cy="29196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2" name="Freeform 4569"/>
              <p:cNvSpPr/>
              <p:nvPr/>
            </p:nvSpPr>
            <p:spPr>
              <a:xfrm flipV="1">
                <a:off x="1112760" y="2805120"/>
                <a:ext cx="1800" cy="73008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3" name="Line 4570"/>
              <p:cNvSpPr/>
              <p:nvPr/>
            </p:nvSpPr>
            <p:spPr>
              <a:xfrm flipV="1">
                <a:off x="2401920" y="2805120"/>
                <a:ext cx="0" cy="909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4" name="Freeform 4571"/>
              <p:cNvSpPr/>
              <p:nvPr/>
            </p:nvSpPr>
            <p:spPr>
              <a:xfrm flipV="1">
                <a:off x="1673280" y="2812680"/>
                <a:ext cx="3240" cy="10558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44560" y="3306960"/>
                <a:ext cx="858600" cy="733320"/>
                <a:chOff x="844560" y="3306960"/>
                <a:chExt cx="858600" cy="733320"/>
              </a:xfrm>
            </p:grpSpPr>
            <p:sp>
              <p:nvSpPr>
                <p:cNvPr id="246" name="Freeform 4573"/>
                <p:cNvSpPr/>
                <p:nvPr/>
              </p:nvSpPr>
              <p:spPr>
                <a:xfrm flipV="1">
                  <a:off x="844560" y="3306600"/>
                  <a:ext cx="858600" cy="73188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7" name="Freeform 4574"/>
                <p:cNvSpPr/>
                <p:nvPr/>
              </p:nvSpPr>
              <p:spPr>
                <a:xfrm flipV="1">
                  <a:off x="1045440" y="388764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8" name="Freeform 4575"/>
              <p:cNvSpPr/>
              <p:nvPr/>
            </p:nvSpPr>
            <p:spPr>
              <a:xfrm flipV="1">
                <a:off x="1592280" y="3852360"/>
                <a:ext cx="426960" cy="61452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9" name="Freeform 4576"/>
              <p:cNvSpPr/>
              <p:nvPr/>
            </p:nvSpPr>
            <p:spPr>
              <a:xfrm flipV="1">
                <a:off x="1623960" y="4019400"/>
                <a:ext cx="341280" cy="39240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0" name="Line 4577"/>
              <p:cNvSpPr/>
              <p:nvPr/>
            </p:nvSpPr>
            <p:spPr>
              <a:xfrm flipV="1">
                <a:off x="1668600" y="369900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1" name="Line 4578"/>
              <p:cNvSpPr/>
              <p:nvPr/>
            </p:nvSpPr>
            <p:spPr>
              <a:xfrm>
                <a:off x="1106640" y="3519720"/>
                <a:ext cx="57780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2" name="Freeform 4579"/>
              <p:cNvSpPr/>
              <p:nvPr/>
            </p:nvSpPr>
            <p:spPr>
              <a:xfrm flipV="1">
                <a:off x="1095480" y="2803320"/>
                <a:ext cx="1322280" cy="10890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3" name="Freeform 4580"/>
              <p:cNvSpPr/>
              <p:nvPr/>
            </p:nvSpPr>
            <p:spPr>
              <a:xfrm flipV="1">
                <a:off x="1341360" y="2803680"/>
                <a:ext cx="93600" cy="9302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4" name="Freeform 4581"/>
              <p:cNvSpPr/>
              <p:nvPr/>
            </p:nvSpPr>
            <p:spPr>
              <a:xfrm flipV="1">
                <a:off x="1649520" y="2806200"/>
                <a:ext cx="41040" cy="10954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5" name="Freeform 4582"/>
              <p:cNvSpPr/>
              <p:nvPr/>
            </p:nvSpPr>
            <p:spPr>
              <a:xfrm flipV="1">
                <a:off x="2014560" y="2800080"/>
                <a:ext cx="93600" cy="10126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905200" y="2765520"/>
              <a:ext cx="1068480" cy="1125360"/>
              <a:chOff x="2905200" y="2765520"/>
              <a:chExt cx="1068480" cy="1125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03520" y="3521160"/>
                <a:ext cx="298080" cy="287280"/>
                <a:chOff x="3503520" y="3521160"/>
                <a:chExt cx="298080" cy="287280"/>
              </a:xfrm>
            </p:grpSpPr>
            <p:sp>
              <p:nvSpPr>
                <p:cNvPr id="258" name="Freeform 4586"/>
                <p:cNvSpPr/>
                <p:nvPr/>
              </p:nvSpPr>
              <p:spPr>
                <a:xfrm flipV="1">
                  <a:off x="3503520" y="352692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59" name="Freeform 4587"/>
                <p:cNvSpPr/>
                <p:nvPr/>
              </p:nvSpPr>
              <p:spPr>
                <a:xfrm flipV="1">
                  <a:off x="3583080" y="360540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60" name="Freeform 4588"/>
                <p:cNvSpPr/>
                <p:nvPr/>
              </p:nvSpPr>
              <p:spPr>
                <a:xfrm flipV="1">
                  <a:off x="3519360" y="35211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61" name="Freeform 4589"/>
              <p:cNvSpPr/>
              <p:nvPr/>
            </p:nvSpPr>
            <p:spPr>
              <a:xfrm flipV="1">
                <a:off x="2905200" y="33112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2" name="Freeform 4590"/>
              <p:cNvSpPr/>
              <p:nvPr/>
            </p:nvSpPr>
            <p:spPr>
              <a:xfrm flipV="1">
                <a:off x="3117960" y="344016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3" name="Freeform 4591"/>
              <p:cNvSpPr/>
              <p:nvPr/>
            </p:nvSpPr>
            <p:spPr>
              <a:xfrm flipV="1">
                <a:off x="3195720" y="366084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4" name="Freeform 4592"/>
              <p:cNvSpPr/>
              <p:nvPr/>
            </p:nvSpPr>
            <p:spPr>
              <a:xfrm flipV="1">
                <a:off x="3381480" y="3504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5" name="Freeform 4593"/>
              <p:cNvSpPr/>
              <p:nvPr/>
            </p:nvSpPr>
            <p:spPr>
              <a:xfrm flipV="1">
                <a:off x="3738600" y="350640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6" name="Freeform 4594"/>
              <p:cNvSpPr/>
              <p:nvPr/>
            </p:nvSpPr>
            <p:spPr>
              <a:xfrm flipV="1">
                <a:off x="3751200" y="35078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7" name="Freeform 4595"/>
              <p:cNvSpPr/>
              <p:nvPr/>
            </p:nvSpPr>
            <p:spPr>
              <a:xfrm flipV="1">
                <a:off x="3232080" y="278388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8" name="Freeform 4596"/>
              <p:cNvSpPr/>
              <p:nvPr/>
            </p:nvSpPr>
            <p:spPr>
              <a:xfrm flipV="1">
                <a:off x="3241800" y="276516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9" name="Freeform 4597"/>
              <p:cNvSpPr/>
              <p:nvPr/>
            </p:nvSpPr>
            <p:spPr>
              <a:xfrm flipV="1">
                <a:off x="3225960" y="276660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0" name="Freeform 4598"/>
              <p:cNvSpPr/>
              <p:nvPr/>
            </p:nvSpPr>
            <p:spPr>
              <a:xfrm flipV="1">
                <a:off x="3375000" y="276840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1" name="Freeform 4599"/>
              <p:cNvSpPr/>
              <p:nvPr/>
            </p:nvSpPr>
            <p:spPr>
              <a:xfrm flipV="1">
                <a:off x="3764160" y="27669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94160" y="2644920"/>
              <a:ext cx="693000" cy="684720"/>
              <a:chOff x="2594160" y="2644920"/>
              <a:chExt cx="693000" cy="684720"/>
            </a:xfrm>
          </p:grpSpPr>
          <p:sp>
            <p:nvSpPr>
              <p:cNvPr id="273" name="Freeform 4601"/>
              <p:cNvSpPr/>
              <p:nvPr/>
            </p:nvSpPr>
            <p:spPr>
              <a:xfrm flipV="1">
                <a:off x="2594160" y="277596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4" name="Freeform 4602"/>
              <p:cNvSpPr/>
              <p:nvPr/>
            </p:nvSpPr>
            <p:spPr>
              <a:xfrm flipV="1">
                <a:off x="2845080" y="310608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5" name="Oval 4603"/>
              <p:cNvSpPr/>
              <p:nvPr/>
            </p:nvSpPr>
            <p:spPr>
              <a:xfrm flipV="1">
                <a:off x="2791080" y="319212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6" name="Oval 4604"/>
              <p:cNvSpPr/>
              <p:nvPr/>
            </p:nvSpPr>
            <p:spPr>
              <a:xfrm flipV="1">
                <a:off x="2784600" y="308052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7" name="Oval 4605"/>
              <p:cNvSpPr/>
              <p:nvPr/>
            </p:nvSpPr>
            <p:spPr>
              <a:xfrm flipV="1">
                <a:off x="2738520" y="295560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8" name="Oval 4606"/>
              <p:cNvSpPr/>
              <p:nvPr/>
            </p:nvSpPr>
            <p:spPr>
              <a:xfrm flipV="1">
                <a:off x="2856240" y="308052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9" name="Oval 4607"/>
              <p:cNvSpPr/>
              <p:nvPr/>
            </p:nvSpPr>
            <p:spPr>
              <a:xfrm flipV="1">
                <a:off x="2702160" y="31266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0" name="Oval 4608"/>
              <p:cNvSpPr/>
              <p:nvPr/>
            </p:nvSpPr>
            <p:spPr>
              <a:xfrm flipV="1">
                <a:off x="2784600" y="31377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1" name="Oval 4609"/>
              <p:cNvSpPr/>
              <p:nvPr/>
            </p:nvSpPr>
            <p:spPr>
              <a:xfrm flipV="1">
                <a:off x="2687760" y="3050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2" name="Oval 4610"/>
              <p:cNvSpPr/>
              <p:nvPr/>
            </p:nvSpPr>
            <p:spPr>
              <a:xfrm flipV="1" rot="19086600">
                <a:off x="2727000" y="2725200"/>
                <a:ext cx="44172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57400" y="2724840"/>
              <a:ext cx="452520" cy="451440"/>
              <a:chOff x="2957400" y="2724840"/>
              <a:chExt cx="452520" cy="451440"/>
            </a:xfrm>
          </p:grpSpPr>
          <p:sp>
            <p:nvSpPr>
              <p:cNvPr id="284" name="Freeform 4612"/>
              <p:cNvSpPr/>
              <p:nvPr/>
            </p:nvSpPr>
            <p:spPr>
              <a:xfrm flipH="1" flipV="1" rot="3085800">
                <a:off x="3024000" y="2787840"/>
                <a:ext cx="31788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5" name="Freeform 4613"/>
              <p:cNvSpPr/>
              <p:nvPr/>
            </p:nvSpPr>
            <p:spPr>
              <a:xfrm flipH="1" flipV="1" rot="3085800">
                <a:off x="3053160" y="295092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6" name="Oval 4614"/>
              <p:cNvSpPr/>
              <p:nvPr/>
            </p:nvSpPr>
            <p:spPr>
              <a:xfrm flipH="1" flipV="1" rot="3085800">
                <a:off x="3102840" y="3050280"/>
                <a:ext cx="6480" cy="7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7" name="Oval 4615"/>
              <p:cNvSpPr/>
              <p:nvPr/>
            </p:nvSpPr>
            <p:spPr>
              <a:xfrm flipH="1" flipV="1" rot="3085800">
                <a:off x="3163320" y="300528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8" name="Oval 4616"/>
              <p:cNvSpPr/>
              <p:nvPr/>
            </p:nvSpPr>
            <p:spPr>
              <a:xfrm flipH="1" flipV="1" rot="3085800">
                <a:off x="3248280" y="297576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9" name="Oval 4617"/>
              <p:cNvSpPr/>
              <p:nvPr/>
            </p:nvSpPr>
            <p:spPr>
              <a:xfrm flipH="1" flipV="1" rot="3085800">
                <a:off x="3134520" y="29692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0" name="Oval 4618"/>
              <p:cNvSpPr/>
              <p:nvPr/>
            </p:nvSpPr>
            <p:spPr>
              <a:xfrm flipH="1" flipV="1" rot="3085800">
                <a:off x="3169440" y="30664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1" name="Oval 4619"/>
              <p:cNvSpPr/>
              <p:nvPr/>
            </p:nvSpPr>
            <p:spPr>
              <a:xfrm flipH="1" flipV="1" rot="3085800">
                <a:off x="3133080" y="30322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2" name="Oval 4620"/>
              <p:cNvSpPr/>
              <p:nvPr/>
            </p:nvSpPr>
            <p:spPr>
              <a:xfrm flipH="1" flipV="1" rot="3085800">
                <a:off x="3218760" y="3039120"/>
                <a:ext cx="6480" cy="7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3" name="Oval 4621"/>
              <p:cNvSpPr/>
              <p:nvPr/>
            </p:nvSpPr>
            <p:spPr>
              <a:xfrm flipH="1" flipV="1" rot="5599800">
                <a:off x="3017520" y="2718000"/>
                <a:ext cx="28080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60000" y="2734200"/>
              <a:ext cx="350640" cy="326520"/>
              <a:chOff x="3960000" y="2734200"/>
              <a:chExt cx="350640" cy="326520"/>
            </a:xfrm>
          </p:grpSpPr>
          <p:sp>
            <p:nvSpPr>
              <p:cNvPr id="295" name="Freeform 4623"/>
              <p:cNvSpPr/>
              <p:nvPr/>
            </p:nvSpPr>
            <p:spPr>
              <a:xfrm flipH="1" flipV="1" rot="903000">
                <a:off x="4052880" y="2793960"/>
                <a:ext cx="230400" cy="2408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6" name="Freeform 4624"/>
              <p:cNvSpPr/>
              <p:nvPr/>
            </p:nvSpPr>
            <p:spPr>
              <a:xfrm flipH="1" flipV="1" rot="903000">
                <a:off x="4096440" y="29502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7" name="Oval 4625"/>
              <p:cNvSpPr/>
              <p:nvPr/>
            </p:nvSpPr>
            <p:spPr>
              <a:xfrm flipH="1" flipV="1" rot="903000">
                <a:off x="4164120" y="300528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8" name="Oval 4626"/>
              <p:cNvSpPr/>
              <p:nvPr/>
            </p:nvSpPr>
            <p:spPr>
              <a:xfrm flipH="1" flipV="1" rot="903000">
                <a:off x="4181040" y="295128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9" name="Oval 4627"/>
              <p:cNvSpPr/>
              <p:nvPr/>
            </p:nvSpPr>
            <p:spPr>
              <a:xfrm flipH="1" flipV="1" rot="903000">
                <a:off x="4217400" y="289548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0" name="Oval 4628"/>
              <p:cNvSpPr/>
              <p:nvPr/>
            </p:nvSpPr>
            <p:spPr>
              <a:xfrm flipH="1" flipV="1" rot="903000">
                <a:off x="4149720" y="294300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1" name="Oval 4629"/>
              <p:cNvSpPr/>
              <p:nvPr/>
            </p:nvSpPr>
            <p:spPr>
              <a:xfrm flipH="1" flipV="1" rot="903000">
                <a:off x="4209480" y="298368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2" name="Oval 4630"/>
              <p:cNvSpPr/>
              <p:nvPr/>
            </p:nvSpPr>
            <p:spPr>
              <a:xfrm flipH="1" flipV="1" rot="903000">
                <a:off x="4173120" y="298008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3" name="Oval 4631"/>
              <p:cNvSpPr/>
              <p:nvPr/>
            </p:nvSpPr>
            <p:spPr>
              <a:xfrm flipH="1" flipV="1" rot="903000">
                <a:off x="4226760" y="294804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4" name="Oval 4632"/>
              <p:cNvSpPr/>
              <p:nvPr/>
            </p:nvSpPr>
            <p:spPr>
              <a:xfrm flipH="1" flipV="1" rot="3417000">
                <a:off x="4023000" y="2759040"/>
                <a:ext cx="202680" cy="262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489640" y="2784600"/>
              <a:ext cx="256680" cy="309240"/>
              <a:chOff x="5489640" y="2784600"/>
              <a:chExt cx="256680" cy="309240"/>
            </a:xfrm>
          </p:grpSpPr>
          <p:sp>
            <p:nvSpPr>
              <p:cNvPr id="306" name="Oval 4634"/>
              <p:cNvSpPr/>
              <p:nvPr/>
            </p:nvSpPr>
            <p:spPr>
              <a:xfrm flipV="1" rot="10163400">
                <a:off x="5526000" y="2800800"/>
                <a:ext cx="203040" cy="202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7" name="AutoShape 4635"/>
              <p:cNvSpPr/>
              <p:nvPr/>
            </p:nvSpPr>
            <p:spPr>
              <a:xfrm flipV="1" rot="6913800">
                <a:off x="5546520" y="297216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8" name="Freeform 4636"/>
              <p:cNvSpPr/>
              <p:nvPr/>
            </p:nvSpPr>
            <p:spPr>
              <a:xfrm flipV="1" rot="10163400">
                <a:off x="5495400" y="3012840"/>
                <a:ext cx="88920" cy="73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9" name="Oval 4637"/>
              <p:cNvSpPr/>
              <p:nvPr/>
            </p:nvSpPr>
            <p:spPr>
              <a:xfrm flipV="1">
                <a:off x="5577120" y="285516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0" name="AutoShape 4638"/>
              <p:cNvSpPr/>
              <p:nvPr/>
            </p:nvSpPr>
            <p:spPr>
              <a:xfrm flipV="1" rot="10163400">
                <a:off x="5563800" y="283896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53200" y="2747520"/>
              <a:ext cx="601200" cy="469440"/>
              <a:chOff x="4453200" y="2747520"/>
              <a:chExt cx="601200" cy="469440"/>
            </a:xfrm>
          </p:grpSpPr>
          <p:sp>
            <p:nvSpPr>
              <p:cNvPr id="312" name="Oval 4640"/>
              <p:cNvSpPr/>
              <p:nvPr/>
            </p:nvSpPr>
            <p:spPr>
              <a:xfrm flipV="1" rot="1314600">
                <a:off x="4507200" y="280188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3" name="AutoShape 4641"/>
              <p:cNvSpPr/>
              <p:nvPr/>
            </p:nvSpPr>
            <p:spPr>
              <a:xfrm flipV="1" rot="19664400">
                <a:off x="4790880" y="285660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4" name="Freeform 4642"/>
              <p:cNvSpPr/>
              <p:nvPr/>
            </p:nvSpPr>
            <p:spPr>
              <a:xfrm flipV="1" rot="1314600">
                <a:off x="4878360" y="2782440"/>
                <a:ext cx="15732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5" name="Oval 4643"/>
              <p:cNvSpPr/>
              <p:nvPr/>
            </p:nvSpPr>
            <p:spPr>
              <a:xfrm flipV="1">
                <a:off x="4496040" y="276516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6" name="AutoShape 4644"/>
              <p:cNvSpPr/>
              <p:nvPr/>
            </p:nvSpPr>
            <p:spPr>
              <a:xfrm flipV="1" rot="1314600">
                <a:off x="4575240" y="28861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905200" y="1641240"/>
              <a:ext cx="1068480" cy="1125360"/>
              <a:chOff x="2905200" y="1641240"/>
              <a:chExt cx="1068480" cy="11253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503520" y="1723680"/>
                <a:ext cx="298080" cy="287280"/>
                <a:chOff x="3503520" y="1723680"/>
                <a:chExt cx="298080" cy="287280"/>
              </a:xfrm>
            </p:grpSpPr>
            <p:sp>
              <p:nvSpPr>
                <p:cNvPr id="319" name="Freeform 4647"/>
                <p:cNvSpPr/>
                <p:nvPr/>
              </p:nvSpPr>
              <p:spPr>
                <a:xfrm>
                  <a:off x="3503520" y="172368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0" name="Freeform 4648"/>
                <p:cNvSpPr/>
                <p:nvPr/>
              </p:nvSpPr>
              <p:spPr>
                <a:xfrm>
                  <a:off x="3583080" y="178416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1" name="Freeform 4649"/>
                <p:cNvSpPr/>
                <p:nvPr/>
              </p:nvSpPr>
              <p:spPr>
                <a:xfrm>
                  <a:off x="3519360" y="18237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322" name="Freeform 4650"/>
              <p:cNvSpPr/>
              <p:nvPr/>
            </p:nvSpPr>
            <p:spPr>
              <a:xfrm>
                <a:off x="2905200" y="20998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3" name="Freeform 4651"/>
              <p:cNvSpPr/>
              <p:nvPr/>
            </p:nvSpPr>
            <p:spPr>
              <a:xfrm>
                <a:off x="3117960" y="172044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4" name="Freeform 4652"/>
              <p:cNvSpPr/>
              <p:nvPr/>
            </p:nvSpPr>
            <p:spPr>
              <a:xfrm>
                <a:off x="3195720" y="173808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5" name="Freeform 4653"/>
              <p:cNvSpPr/>
              <p:nvPr/>
            </p:nvSpPr>
            <p:spPr>
              <a:xfrm>
                <a:off x="3381480" y="1785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6" name="Freeform 4654"/>
              <p:cNvSpPr/>
              <p:nvPr/>
            </p:nvSpPr>
            <p:spPr>
              <a:xfrm>
                <a:off x="3738600" y="164268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7" name="Freeform 4655"/>
              <p:cNvSpPr/>
              <p:nvPr/>
            </p:nvSpPr>
            <p:spPr>
              <a:xfrm>
                <a:off x="3751200" y="16412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8" name="Freeform 4656"/>
              <p:cNvSpPr/>
              <p:nvPr/>
            </p:nvSpPr>
            <p:spPr>
              <a:xfrm>
                <a:off x="3232080" y="195552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9" name="Freeform 4657"/>
              <p:cNvSpPr/>
              <p:nvPr/>
            </p:nvSpPr>
            <p:spPr>
              <a:xfrm>
                <a:off x="3241800" y="195408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0" name="Freeform 4658"/>
              <p:cNvSpPr/>
              <p:nvPr/>
            </p:nvSpPr>
            <p:spPr>
              <a:xfrm>
                <a:off x="3225960" y="194904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1" name="Freeform 4659"/>
              <p:cNvSpPr/>
              <p:nvPr/>
            </p:nvSpPr>
            <p:spPr>
              <a:xfrm>
                <a:off x="3375000" y="199836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2" name="Freeform 4660"/>
              <p:cNvSpPr/>
              <p:nvPr/>
            </p:nvSpPr>
            <p:spPr>
              <a:xfrm>
                <a:off x="3764160" y="19983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94160" y="2251440"/>
              <a:ext cx="693000" cy="684720"/>
              <a:chOff x="2594160" y="2251440"/>
              <a:chExt cx="693000" cy="684720"/>
            </a:xfrm>
          </p:grpSpPr>
          <p:sp>
            <p:nvSpPr>
              <p:cNvPr id="334" name="Freeform 4662"/>
              <p:cNvSpPr/>
              <p:nvPr/>
            </p:nvSpPr>
            <p:spPr>
              <a:xfrm>
                <a:off x="2594160" y="232560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5" name="Freeform 4663"/>
              <p:cNvSpPr/>
              <p:nvPr/>
            </p:nvSpPr>
            <p:spPr>
              <a:xfrm>
                <a:off x="2845080" y="23922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6" name="Oval 4664"/>
              <p:cNvSpPr/>
              <p:nvPr/>
            </p:nvSpPr>
            <p:spPr>
              <a:xfrm>
                <a:off x="2791080" y="237816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7" name="Oval 4665"/>
              <p:cNvSpPr/>
              <p:nvPr/>
            </p:nvSpPr>
            <p:spPr>
              <a:xfrm>
                <a:off x="2784600" y="248904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8" name="Oval 4666"/>
              <p:cNvSpPr/>
              <p:nvPr/>
            </p:nvSpPr>
            <p:spPr>
              <a:xfrm>
                <a:off x="2738520" y="261468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9" name="Oval 4667"/>
              <p:cNvSpPr/>
              <p:nvPr/>
            </p:nvSpPr>
            <p:spPr>
              <a:xfrm>
                <a:off x="2856240" y="248904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0" name="Oval 4668"/>
              <p:cNvSpPr/>
              <p:nvPr/>
            </p:nvSpPr>
            <p:spPr>
              <a:xfrm>
                <a:off x="2702160" y="24429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1" name="Oval 4669"/>
              <p:cNvSpPr/>
              <p:nvPr/>
            </p:nvSpPr>
            <p:spPr>
              <a:xfrm>
                <a:off x="2784600" y="24318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2" name="Oval 4670"/>
              <p:cNvSpPr/>
              <p:nvPr/>
            </p:nvSpPr>
            <p:spPr>
              <a:xfrm>
                <a:off x="2687760" y="2519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3" name="Oval 4671"/>
              <p:cNvSpPr/>
              <p:nvPr/>
            </p:nvSpPr>
            <p:spPr>
              <a:xfrm rot="2513400">
                <a:off x="2727000" y="2331720"/>
                <a:ext cx="44136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66760" y="2395440"/>
              <a:ext cx="452880" cy="451800"/>
              <a:chOff x="2966760" y="2395440"/>
              <a:chExt cx="452880" cy="451800"/>
            </a:xfrm>
          </p:grpSpPr>
          <p:sp>
            <p:nvSpPr>
              <p:cNvPr id="345" name="Freeform 4673"/>
              <p:cNvSpPr/>
              <p:nvPr/>
            </p:nvSpPr>
            <p:spPr>
              <a:xfrm flipH="1" rot="18514200">
                <a:off x="3034080" y="2458440"/>
                <a:ext cx="31824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6" name="Freeform 4674"/>
              <p:cNvSpPr/>
              <p:nvPr/>
            </p:nvSpPr>
            <p:spPr>
              <a:xfrm flipH="1" rot="18514200">
                <a:off x="3062520" y="256464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7" name="Oval 4675"/>
              <p:cNvSpPr/>
              <p:nvPr/>
            </p:nvSpPr>
            <p:spPr>
              <a:xfrm flipH="1" rot="18514200">
                <a:off x="3111840" y="2512800"/>
                <a:ext cx="648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8" name="Oval 4676"/>
              <p:cNvSpPr/>
              <p:nvPr/>
            </p:nvSpPr>
            <p:spPr>
              <a:xfrm flipH="1" rot="18514200">
                <a:off x="3172680" y="255780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9" name="Oval 4677"/>
              <p:cNvSpPr/>
              <p:nvPr/>
            </p:nvSpPr>
            <p:spPr>
              <a:xfrm flipH="1" rot="18514200">
                <a:off x="3257640" y="258948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0" name="Oval 4678"/>
              <p:cNvSpPr/>
              <p:nvPr/>
            </p:nvSpPr>
            <p:spPr>
              <a:xfrm flipH="1" rot="18514200">
                <a:off x="3143880" y="25934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1" name="Oval 4679"/>
              <p:cNvSpPr/>
              <p:nvPr/>
            </p:nvSpPr>
            <p:spPr>
              <a:xfrm flipH="1" rot="18514200">
                <a:off x="3178800" y="24962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2" name="Oval 4680"/>
              <p:cNvSpPr/>
              <p:nvPr/>
            </p:nvSpPr>
            <p:spPr>
              <a:xfrm flipH="1" rot="18514200">
                <a:off x="3142440" y="25326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3" name="Oval 4681"/>
              <p:cNvSpPr/>
              <p:nvPr/>
            </p:nvSpPr>
            <p:spPr>
              <a:xfrm flipH="1" rot="18514200">
                <a:off x="3227760" y="2524320"/>
                <a:ext cx="6480" cy="792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4" name="Oval 4682"/>
              <p:cNvSpPr/>
              <p:nvPr/>
            </p:nvSpPr>
            <p:spPr>
              <a:xfrm flipH="1" rot="16000200">
                <a:off x="3026520" y="2497320"/>
                <a:ext cx="28116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6760" y="2513880"/>
              <a:ext cx="350640" cy="327240"/>
              <a:chOff x="3956760" y="2513880"/>
              <a:chExt cx="350640" cy="327240"/>
            </a:xfrm>
          </p:grpSpPr>
          <p:sp>
            <p:nvSpPr>
              <p:cNvPr id="356" name="Freeform 4684"/>
              <p:cNvSpPr/>
              <p:nvPr/>
            </p:nvSpPr>
            <p:spPr>
              <a:xfrm flipH="1" rot="20697000">
                <a:off x="4049640" y="2539440"/>
                <a:ext cx="230400" cy="24120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7" name="Freeform 4685"/>
              <p:cNvSpPr/>
              <p:nvPr/>
            </p:nvSpPr>
            <p:spPr>
              <a:xfrm flipH="1" rot="20697000">
                <a:off x="4093200" y="258264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8" name="Oval 4686"/>
              <p:cNvSpPr/>
              <p:nvPr/>
            </p:nvSpPr>
            <p:spPr>
              <a:xfrm flipH="1" rot="20697000">
                <a:off x="4160880" y="256356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9" name="Oval 4687"/>
              <p:cNvSpPr/>
              <p:nvPr/>
            </p:nvSpPr>
            <p:spPr>
              <a:xfrm flipH="1" rot="20697000">
                <a:off x="4177800" y="261756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0" name="Oval 4688"/>
              <p:cNvSpPr/>
              <p:nvPr/>
            </p:nvSpPr>
            <p:spPr>
              <a:xfrm flipH="1" rot="20697000">
                <a:off x="4214160" y="267192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1" name="Oval 4689"/>
              <p:cNvSpPr/>
              <p:nvPr/>
            </p:nvSpPr>
            <p:spPr>
              <a:xfrm flipH="1" rot="20697000">
                <a:off x="4146480" y="262584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2" name="Oval 4690"/>
              <p:cNvSpPr/>
              <p:nvPr/>
            </p:nvSpPr>
            <p:spPr>
              <a:xfrm flipH="1" rot="20697000">
                <a:off x="4206240" y="258372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3" name="Oval 4691"/>
              <p:cNvSpPr/>
              <p:nvPr/>
            </p:nvSpPr>
            <p:spPr>
              <a:xfrm flipH="1" rot="20697000">
                <a:off x="4169880" y="25891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4" name="Oval 4692"/>
              <p:cNvSpPr/>
              <p:nvPr/>
            </p:nvSpPr>
            <p:spPr>
              <a:xfrm flipH="1" rot="20697000">
                <a:off x="4223520" y="261936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5" name="Oval 4693"/>
              <p:cNvSpPr/>
              <p:nvPr/>
            </p:nvSpPr>
            <p:spPr>
              <a:xfrm flipH="1" rot="18183000">
                <a:off x="4020120" y="2552760"/>
                <a:ext cx="203040" cy="262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489640" y="2476440"/>
              <a:ext cx="256680" cy="308880"/>
              <a:chOff x="5489640" y="2476440"/>
              <a:chExt cx="256680" cy="308880"/>
            </a:xfrm>
          </p:grpSpPr>
          <p:sp>
            <p:nvSpPr>
              <p:cNvPr id="367" name="Oval 4695"/>
              <p:cNvSpPr/>
              <p:nvPr/>
            </p:nvSpPr>
            <p:spPr>
              <a:xfrm rot="11436600">
                <a:off x="5526000" y="2565000"/>
                <a:ext cx="203040" cy="203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8" name="AutoShape 4696"/>
              <p:cNvSpPr/>
              <p:nvPr/>
            </p:nvSpPr>
            <p:spPr>
              <a:xfrm rot="14686200">
                <a:off x="5546520" y="255744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9" name="Freeform 4697"/>
              <p:cNvSpPr/>
              <p:nvPr/>
            </p:nvSpPr>
            <p:spPr>
              <a:xfrm rot="11436600">
                <a:off x="5495400" y="24836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0" name="Oval 4698"/>
              <p:cNvSpPr/>
              <p:nvPr/>
            </p:nvSpPr>
            <p:spPr>
              <a:xfrm>
                <a:off x="5577120" y="256212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1" name="AutoShape 4699"/>
              <p:cNvSpPr/>
              <p:nvPr/>
            </p:nvSpPr>
            <p:spPr>
              <a:xfrm rot="11436600">
                <a:off x="5563800" y="261432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46720" y="2351880"/>
              <a:ext cx="601200" cy="469440"/>
              <a:chOff x="4446720" y="2351880"/>
              <a:chExt cx="601200" cy="469440"/>
            </a:xfrm>
          </p:grpSpPr>
          <p:sp>
            <p:nvSpPr>
              <p:cNvPr id="373" name="Oval 4701"/>
              <p:cNvSpPr/>
              <p:nvPr/>
            </p:nvSpPr>
            <p:spPr>
              <a:xfrm rot="20285400">
                <a:off x="4500720" y="240624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4" name="AutoShape 4702"/>
              <p:cNvSpPr/>
              <p:nvPr/>
            </p:nvSpPr>
            <p:spPr>
              <a:xfrm rot="1935600">
                <a:off x="4784400" y="264168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5" name="Freeform 4703"/>
              <p:cNvSpPr/>
              <p:nvPr/>
            </p:nvSpPr>
            <p:spPr>
              <a:xfrm rot="20285400">
                <a:off x="4871880" y="2655360"/>
                <a:ext cx="15696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6" name="Oval 4704"/>
              <p:cNvSpPr/>
              <p:nvPr/>
            </p:nvSpPr>
            <p:spPr>
              <a:xfrm>
                <a:off x="4489560" y="257184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7" name="AutoShape 4705"/>
              <p:cNvSpPr/>
              <p:nvPr/>
            </p:nvSpPr>
            <p:spPr>
              <a:xfrm rot="20285400">
                <a:off x="4568760" y="24775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76280" y="2781360"/>
            <a:ext cx="5420880" cy="1727280"/>
            <a:chOff x="476280" y="2781360"/>
            <a:chExt cx="5420880" cy="1727280"/>
          </a:xfrm>
        </p:grpSpPr>
        <p:sp>
          <p:nvSpPr>
            <p:cNvPr id="379" name="Rectangle 112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0" name="Rectangle 113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404640" y="2787480"/>
            <a:ext cx="7144920" cy="0"/>
            <a:chOff x="-404640" y="2787480"/>
            <a:chExt cx="7144920" cy="0"/>
          </a:xfrm>
        </p:grpSpPr>
        <p:sp>
          <p:nvSpPr>
            <p:cNvPr id="382" name="Line 33"/>
            <p:cNvSpPr/>
            <p:nvPr/>
          </p:nvSpPr>
          <p:spPr>
            <a:xfrm>
              <a:off x="3158640" y="2787480"/>
              <a:ext cx="3581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3" name="Line 34"/>
            <p:cNvSpPr/>
            <p:nvPr/>
          </p:nvSpPr>
          <p:spPr>
            <a:xfrm>
              <a:off x="-404640" y="2787480"/>
              <a:ext cx="3563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84" name="WordArt 123"/>
          <p:cNvSpPr txBox="1"/>
          <p:nvPr/>
        </p:nvSpPr>
        <p:spPr>
          <a:xfrm>
            <a:off x="4444920" y="3898800"/>
            <a:ext cx="1652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f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5" name="WordArt 124"/>
          <p:cNvSpPr txBox="1"/>
          <p:nvPr/>
        </p:nvSpPr>
        <p:spPr>
          <a:xfrm>
            <a:off x="4595760" y="3963960"/>
            <a:ext cx="1396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r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6" name="WordArt 125"/>
          <p:cNvSpPr txBox="1"/>
          <p:nvPr/>
        </p:nvSpPr>
        <p:spPr>
          <a:xfrm>
            <a:off x="4489560" y="3973680"/>
            <a:ext cx="201600" cy="18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7" name="WordArt 126"/>
          <p:cNvSpPr txBox="1"/>
          <p:nvPr/>
        </p:nvSpPr>
        <p:spPr>
          <a:xfrm>
            <a:off x="5019840" y="4195800"/>
            <a:ext cx="160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o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09240" y="1256400"/>
            <a:ext cx="2123640" cy="3015000"/>
            <a:chOff x="5709240" y="1256400"/>
            <a:chExt cx="2123640" cy="3015000"/>
          </a:xfrm>
        </p:grpSpPr>
        <p:grpSp>
          <p:nvGrpSpPr>
            <p:cNvPr id="389" name=""/>
            <p:cNvGrpSpPr/>
            <p:nvPr/>
          </p:nvGrpSpPr>
          <p:grpSpPr>
            <a:xfrm>
              <a:off x="5709240" y="2647440"/>
              <a:ext cx="1692360" cy="1623960"/>
              <a:chOff x="5709240" y="2647440"/>
              <a:chExt cx="1692360" cy="1623960"/>
            </a:xfrm>
          </p:grpSpPr>
          <p:sp>
            <p:nvSpPr>
              <p:cNvPr id="390" name="Freeform 116"/>
              <p:cNvSpPr/>
              <p:nvPr/>
            </p:nvSpPr>
            <p:spPr>
              <a:xfrm rot="654600">
                <a:off x="6036120" y="275508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1" name="AutoShape 117"/>
              <p:cNvSpPr/>
              <p:nvPr/>
            </p:nvSpPr>
            <p:spPr>
              <a:xfrm rot="654600">
                <a:off x="5749200" y="355140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2" name="AutoShape 118"/>
              <p:cNvSpPr/>
              <p:nvPr/>
            </p:nvSpPr>
            <p:spPr>
              <a:xfrm rot="654600">
                <a:off x="5786640" y="358956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3" name="Text Box 119"/>
              <p:cNvSpPr/>
              <p:nvPr/>
            </p:nvSpPr>
            <p:spPr>
              <a:xfrm rot="654600">
                <a:off x="5861160" y="366300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394" name="Rectangle 120"/>
            <p:cNvSpPr/>
            <p:nvPr/>
          </p:nvSpPr>
          <p:spPr>
            <a:xfrm rot="654600">
              <a:off x="6083280" y="139824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95" name="Oval 35"/>
          <p:cNvSpPr/>
          <p:nvPr/>
        </p:nvSpPr>
        <p:spPr>
          <a:xfrm>
            <a:off x="6576840" y="2643120"/>
            <a:ext cx="28764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6" name="Oval 121"/>
          <p:cNvSpPr/>
          <p:nvPr/>
        </p:nvSpPr>
        <p:spPr>
          <a:xfrm>
            <a:off x="6673680" y="273672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30920" y="1303560"/>
            <a:ext cx="678240" cy="748440"/>
            <a:chOff x="1330920" y="1303560"/>
            <a:chExt cx="678240" cy="748440"/>
          </a:xfrm>
        </p:grpSpPr>
        <p:sp>
          <p:nvSpPr>
            <p:cNvPr id="398" name="AutoShape 4708"/>
            <p:cNvSpPr/>
            <p:nvPr/>
          </p:nvSpPr>
          <p:spPr>
            <a:xfrm rot="1422600">
              <a:off x="1433160" y="1372680"/>
              <a:ext cx="473040" cy="609840"/>
            </a:xfrm>
            <a:custGeom>
              <a:avLst/>
              <a:gdLst>
                <a:gd name="textAreaLeft" fmla="*/ 194760 w 473040"/>
                <a:gd name="textAreaRight" fmla="*/ 278280 w 473040"/>
                <a:gd name="textAreaTop" fmla="*/ 251280 h 609840"/>
                <a:gd name="textAreaBottom" fmla="*/ 358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99" name="AutoShape 4709"/>
            <p:cNvSpPr/>
            <p:nvPr/>
          </p:nvSpPr>
          <p:spPr>
            <a:xfrm rot="3817800">
              <a:off x="1505160" y="1452600"/>
              <a:ext cx="328320" cy="426960"/>
            </a:xfrm>
            <a:custGeom>
              <a:avLst/>
              <a:gdLst>
                <a:gd name="textAreaLeft" fmla="*/ 135360 w 328320"/>
                <a:gd name="textAreaRight" fmla="*/ 192960 w 328320"/>
                <a:gd name="textAreaTop" fmla="*/ 176040 h 426960"/>
                <a:gd name="textAreaBottom" fmla="*/ 25092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55600" y="1850040"/>
            <a:ext cx="570240" cy="540360"/>
            <a:chOff x="2955600" y="1850040"/>
            <a:chExt cx="570240" cy="540360"/>
          </a:xfrm>
        </p:grpSpPr>
        <p:sp>
          <p:nvSpPr>
            <p:cNvPr id="401" name="AutoShape 4712"/>
            <p:cNvSpPr/>
            <p:nvPr/>
          </p:nvSpPr>
          <p:spPr>
            <a:xfrm rot="18173400">
              <a:off x="3065400" y="1893600"/>
              <a:ext cx="350640" cy="452520"/>
            </a:xfrm>
            <a:custGeom>
              <a:avLst/>
              <a:gdLst>
                <a:gd name="textAreaLeft" fmla="*/ 144360 w 350640"/>
                <a:gd name="textAreaRight" fmla="*/ 206280 w 350640"/>
                <a:gd name="textAreaTop" fmla="*/ 186480 h 452520"/>
                <a:gd name="textAreaBottom" fmla="*/ 26604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2" name="AutoShape 4713"/>
            <p:cNvSpPr/>
            <p:nvPr/>
          </p:nvSpPr>
          <p:spPr>
            <a:xfrm rot="20569200">
              <a:off x="3111120" y="1956600"/>
              <a:ext cx="244080" cy="320400"/>
            </a:xfrm>
            <a:custGeom>
              <a:avLst/>
              <a:gdLst>
                <a:gd name="textAreaLeft" fmla="*/ 100440 w 244080"/>
                <a:gd name="textAreaRight" fmla="*/ 143640 w 244080"/>
                <a:gd name="textAreaTop" fmla="*/ 132120 h 320400"/>
                <a:gd name="textAreaBottom" fmla="*/ 18828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36280" y="2459160"/>
            <a:ext cx="499680" cy="466920"/>
            <a:chOff x="4436280" y="2459160"/>
            <a:chExt cx="499680" cy="466920"/>
          </a:xfrm>
        </p:grpSpPr>
        <p:sp>
          <p:nvSpPr>
            <p:cNvPr id="404" name="AutoShape 4715"/>
            <p:cNvSpPr/>
            <p:nvPr/>
          </p:nvSpPr>
          <p:spPr>
            <a:xfrm rot="3717000">
              <a:off x="4527000" y="2494080"/>
              <a:ext cx="317520" cy="397080"/>
            </a:xfrm>
            <a:custGeom>
              <a:avLst/>
              <a:gdLst>
                <a:gd name="textAreaLeft" fmla="*/ 130680 w 317520"/>
                <a:gd name="textAreaRight" fmla="*/ 186840 w 317520"/>
                <a:gd name="textAreaTop" fmla="*/ 163440 h 397080"/>
                <a:gd name="textAreaBottom" fmla="*/ 2336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5" name="AutoShape 4716"/>
            <p:cNvSpPr/>
            <p:nvPr/>
          </p:nvSpPr>
          <p:spPr>
            <a:xfrm rot="6112200">
              <a:off x="4573800" y="2549520"/>
              <a:ext cx="222120" cy="277920"/>
            </a:xfrm>
            <a:custGeom>
              <a:avLst/>
              <a:gdLst>
                <a:gd name="textAreaLeft" fmla="*/ 91440 w 222120"/>
                <a:gd name="textAreaRight" fmla="*/ 130680 w 222120"/>
                <a:gd name="textAreaTop" fmla="*/ 114480 h 277920"/>
                <a:gd name="textAreaBottom" fmla="*/ 1634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60120" y="2442240"/>
            <a:ext cx="387720" cy="327600"/>
            <a:chOff x="5460120" y="2442240"/>
            <a:chExt cx="387720" cy="327600"/>
          </a:xfrm>
        </p:grpSpPr>
        <p:sp>
          <p:nvSpPr>
            <p:cNvPr id="407" name="AutoShape 4718"/>
            <p:cNvSpPr/>
            <p:nvPr/>
          </p:nvSpPr>
          <p:spPr>
            <a:xfrm rot="5616600">
              <a:off x="5506920" y="2420640"/>
              <a:ext cx="293400" cy="370080"/>
            </a:xfrm>
            <a:custGeom>
              <a:avLst/>
              <a:gdLst>
                <a:gd name="textAreaLeft" fmla="*/ 120960 w 293400"/>
                <a:gd name="textAreaRight" fmla="*/ 172440 w 293400"/>
                <a:gd name="textAreaTop" fmla="*/ 152280 h 370080"/>
                <a:gd name="textAreaBottom" fmla="*/ 21780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8" name="AutoShape 4719"/>
            <p:cNvSpPr/>
            <p:nvPr/>
          </p:nvSpPr>
          <p:spPr>
            <a:xfrm rot="8011200">
              <a:off x="5550840" y="2476440"/>
              <a:ext cx="205920" cy="258840"/>
            </a:xfrm>
            <a:custGeom>
              <a:avLst/>
              <a:gdLst>
                <a:gd name="textAreaLeft" fmla="*/ 84960 w 205920"/>
                <a:gd name="textAreaRight" fmla="*/ 120960 w 205920"/>
                <a:gd name="textAreaTop" fmla="*/ 106560 h 258840"/>
                <a:gd name="textAreaBottom" fmla="*/ 152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820520" y="2553840"/>
            <a:ext cx="335520" cy="377280"/>
            <a:chOff x="1820520" y="2553840"/>
            <a:chExt cx="335520" cy="377280"/>
          </a:xfrm>
        </p:grpSpPr>
        <p:sp>
          <p:nvSpPr>
            <p:cNvPr id="410" name="AutoShape 4721"/>
            <p:cNvSpPr/>
            <p:nvPr/>
          </p:nvSpPr>
          <p:spPr>
            <a:xfrm rot="1201800">
              <a:off x="1866600" y="258588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1" name="AutoShape 4722"/>
            <p:cNvSpPr/>
            <p:nvPr/>
          </p:nvSpPr>
          <p:spPr>
            <a:xfrm rot="3597600">
              <a:off x="1907280" y="262116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91960" y="2236320"/>
            <a:ext cx="335160" cy="376920"/>
            <a:chOff x="1191960" y="2236320"/>
            <a:chExt cx="335160" cy="376920"/>
          </a:xfrm>
        </p:grpSpPr>
        <p:sp>
          <p:nvSpPr>
            <p:cNvPr id="413" name="AutoShape 4724"/>
            <p:cNvSpPr/>
            <p:nvPr/>
          </p:nvSpPr>
          <p:spPr>
            <a:xfrm rot="1201800">
              <a:off x="1238040" y="2268360"/>
              <a:ext cx="242640" cy="312840"/>
            </a:xfrm>
            <a:custGeom>
              <a:avLst/>
              <a:gdLst>
                <a:gd name="textAreaLeft" fmla="*/ 100080 w 242640"/>
                <a:gd name="textAreaRight" fmla="*/ 142560 w 24264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4" name="AutoShape 4725"/>
            <p:cNvSpPr/>
            <p:nvPr/>
          </p:nvSpPr>
          <p:spPr>
            <a:xfrm rot="3597600">
              <a:off x="1278720" y="230364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70920" y="1873440"/>
            <a:ext cx="568440" cy="640800"/>
            <a:chOff x="1870920" y="1873440"/>
            <a:chExt cx="568440" cy="640800"/>
          </a:xfrm>
        </p:grpSpPr>
        <p:sp>
          <p:nvSpPr>
            <p:cNvPr id="416" name="AutoShape 4727"/>
            <p:cNvSpPr/>
            <p:nvPr/>
          </p:nvSpPr>
          <p:spPr>
            <a:xfrm rot="20432400">
              <a:off x="1947600" y="1926720"/>
              <a:ext cx="414360" cy="533520"/>
            </a:xfrm>
            <a:custGeom>
              <a:avLst/>
              <a:gdLst>
                <a:gd name="textAreaLeft" fmla="*/ 170640 w 414360"/>
                <a:gd name="textAreaRight" fmla="*/ 243720 w 4143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7" name="AutoShape 4728"/>
            <p:cNvSpPr/>
            <p:nvPr/>
          </p:nvSpPr>
          <p:spPr>
            <a:xfrm rot="1227600">
              <a:off x="2003760" y="1995480"/>
              <a:ext cx="293040" cy="374400"/>
            </a:xfrm>
            <a:custGeom>
              <a:avLst/>
              <a:gdLst>
                <a:gd name="textAreaLeft" fmla="*/ 120600 w 293040"/>
                <a:gd name="textAreaRight" fmla="*/ 172440 w 293040"/>
                <a:gd name="textAreaTop" fmla="*/ 154080 h 374400"/>
                <a:gd name="textAreaBottom" fmla="*/ 22032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12880" y="2414520"/>
            <a:ext cx="389160" cy="395280"/>
            <a:chOff x="2612880" y="2414520"/>
            <a:chExt cx="389160" cy="395280"/>
          </a:xfrm>
        </p:grpSpPr>
        <p:sp>
          <p:nvSpPr>
            <p:cNvPr id="419" name="AutoShape 4730"/>
            <p:cNvSpPr/>
            <p:nvPr/>
          </p:nvSpPr>
          <p:spPr>
            <a:xfrm rot="19122600">
              <a:off x="2685600" y="245556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0" name="AutoShape 4731"/>
            <p:cNvSpPr/>
            <p:nvPr/>
          </p:nvSpPr>
          <p:spPr>
            <a:xfrm rot="21517800">
              <a:off x="2707920" y="249228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83360" y="2544480"/>
            <a:ext cx="249120" cy="254880"/>
            <a:chOff x="3483360" y="2544480"/>
            <a:chExt cx="249120" cy="254880"/>
          </a:xfrm>
        </p:grpSpPr>
        <p:sp>
          <p:nvSpPr>
            <p:cNvPr id="422" name="AutoShape 4733"/>
            <p:cNvSpPr/>
            <p:nvPr/>
          </p:nvSpPr>
          <p:spPr>
            <a:xfrm rot="2182800">
              <a:off x="3524400" y="2574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3" name="AutoShape 4734"/>
            <p:cNvSpPr/>
            <p:nvPr/>
          </p:nvSpPr>
          <p:spPr>
            <a:xfrm rot="4578000">
              <a:off x="3546360" y="2598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110840" y="2477880"/>
            <a:ext cx="212760" cy="231480"/>
            <a:chOff x="4110840" y="2477880"/>
            <a:chExt cx="212760" cy="231480"/>
          </a:xfrm>
        </p:grpSpPr>
        <p:sp>
          <p:nvSpPr>
            <p:cNvPr id="425" name="AutoShape 4736"/>
            <p:cNvSpPr/>
            <p:nvPr/>
          </p:nvSpPr>
          <p:spPr>
            <a:xfrm rot="20662800">
              <a:off x="4133520" y="249660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6" name="AutoShape 4737"/>
            <p:cNvSpPr/>
            <p:nvPr/>
          </p:nvSpPr>
          <p:spPr>
            <a:xfrm rot="1458000">
              <a:off x="4155840" y="2522160"/>
              <a:ext cx="118800" cy="136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6160 h 136440"/>
                <a:gd name="textAreaBottom" fmla="*/ 802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1960" y="2085480"/>
            <a:ext cx="249120" cy="254880"/>
            <a:chOff x="3711960" y="2085480"/>
            <a:chExt cx="249120" cy="254880"/>
          </a:xfrm>
        </p:grpSpPr>
        <p:sp>
          <p:nvSpPr>
            <p:cNvPr id="428" name="AutoShape 4739"/>
            <p:cNvSpPr/>
            <p:nvPr/>
          </p:nvSpPr>
          <p:spPr>
            <a:xfrm rot="2182800">
              <a:off x="3753000" y="2115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9" name="AutoShape 4740"/>
            <p:cNvSpPr/>
            <p:nvPr/>
          </p:nvSpPr>
          <p:spPr>
            <a:xfrm rot="4578000">
              <a:off x="3774960" y="2139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30" name="Freeform 4742"/>
          <p:cNvSpPr/>
          <p:nvPr/>
        </p:nvSpPr>
        <p:spPr>
          <a:xfrm rot="1333800">
            <a:off x="535284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1" name="Freeform 14"/>
          <p:cNvSpPr/>
          <p:nvPr/>
        </p:nvSpPr>
        <p:spPr>
          <a:xfrm flipH="1" rot="6300000">
            <a:off x="7003800" y="-22140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2" name="Freeform 4752"/>
          <p:cNvSpPr/>
          <p:nvPr/>
        </p:nvSpPr>
        <p:spPr>
          <a:xfrm rot="2700000">
            <a:off x="78084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3" name="Freeform 4753"/>
          <p:cNvSpPr/>
          <p:nvPr/>
        </p:nvSpPr>
        <p:spPr>
          <a:xfrm flipV="1" rot="2700000">
            <a:off x="933480" y="417312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4" name="Freeform 4754"/>
          <p:cNvSpPr/>
          <p:nvPr/>
        </p:nvSpPr>
        <p:spPr>
          <a:xfrm flipH="1" flipV="1" rot="2700000">
            <a:off x="108540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5" name="Freeform 4755"/>
          <p:cNvSpPr/>
          <p:nvPr/>
        </p:nvSpPr>
        <p:spPr>
          <a:xfrm flipH="1" rot="2700000">
            <a:off x="933480" y="447804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6" name="Text Box 4757"/>
          <p:cNvSpPr/>
          <p:nvPr/>
        </p:nvSpPr>
        <p:spPr>
          <a:xfrm>
            <a:off x="2687760" y="3763800"/>
            <a:ext cx="1466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repaid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7" name="Line 4758"/>
          <p:cNvSpPr/>
          <p:nvPr/>
        </p:nvSpPr>
        <p:spPr>
          <a:xfrm flipV="1">
            <a:off x="1162080" y="3792600"/>
            <a:ext cx="270000" cy="4572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8" name="Line 4761"/>
          <p:cNvSpPr/>
          <p:nvPr/>
        </p:nvSpPr>
        <p:spPr>
          <a:xfrm flipV="1">
            <a:off x="1170000" y="3787560"/>
            <a:ext cx="301680" cy="918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9" name="Line 4762"/>
          <p:cNvSpPr/>
          <p:nvPr/>
        </p:nvSpPr>
        <p:spPr>
          <a:xfrm flipH="1" flipV="1">
            <a:off x="1417680" y="3787560"/>
            <a:ext cx="79200" cy="2523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0" name="Line 4764"/>
          <p:cNvSpPr/>
          <p:nvPr/>
        </p:nvSpPr>
        <p:spPr>
          <a:xfrm>
            <a:off x="5892840" y="4649760"/>
            <a:ext cx="222120" cy="6159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1" name="Line 4765"/>
          <p:cNvSpPr/>
          <p:nvPr/>
        </p:nvSpPr>
        <p:spPr>
          <a:xfrm flipV="1">
            <a:off x="5797440" y="4830480"/>
            <a:ext cx="381240" cy="15228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2" name="WordArt 122"/>
          <p:cNvSpPr txBox="1"/>
          <p:nvPr/>
        </p:nvSpPr>
        <p:spPr>
          <a:xfrm>
            <a:off x="7182000" y="744480"/>
            <a:ext cx="1620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Gifts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0.16441 1.85185E-006 E">
                                      <p:cBhvr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16389 -7.40741E-007 E">
                                      <p:cBhvr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6545 0 E">
                                      <p:cBhvr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16493 -1.48148E-006 E">
                                      <p:cBhvr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3.78779E-006 L -0.01354 0.0003 E">
                                      <p:cBhvr>
                                        <p:cTn id="38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5.22517E-006 L 0.01441 0.00031 E">
                                      <p:cBhvr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26" repeatCount="indefinite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50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50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50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1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54374 -0.18889 C -0.5529 -0.20741 -0.55152 -0.23519 -0.54218 -0.24938 C -0.53094 -0.26821 -0.51504 -0.26605 -0.50605 -0.24722 C -0.49688 -0.2284 -0.49827 -0.20031 -0.50847 -0.18457 C -0.51901 -0.16852 -0.53457 -0.17037 -0.54374 -0.18889 Z">
                                      <p:cBhvr>
                                        <p:cTn id="484" dur="8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54418 -0.18877 L -0.5153 -0.25417 E">
                                      <p:cBhvr>
                                        <p:cTn id="498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51478 -0.25509 L -0.48642 -0.3356 E">
                                      <p:cBhvr>
                                        <p:cTn id="50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4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5089 -0.32449 L -0.4859 -0.33837 E">
                                      <p:cBhvr>
                                        <p:cTn id="505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48573 -0.33806 L -0.47812 -0.29488 E">
                                      <p:cBhvr>
                                        <p:cTn id="51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0.47847 -0.2955 L -0.47933 0.03115 E">
                                      <p:cBhvr>
                                        <p:cTn id="515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1000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0881 -0.11543 L 0.0313 -0.14444 E">
                                      <p:cBhvr>
                                        <p:cTn id="522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00605 -0.16965 L 0.02611 -0.07403 E">
                                      <p:cBhvr>
                                        <p:cTn id="527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1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2"/>
          <p:cNvSpPr/>
          <p:nvPr/>
        </p:nvSpPr>
        <p:spPr>
          <a:xfrm>
            <a:off x="-38160" y="2768760"/>
            <a:ext cx="8433000" cy="14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272280" y="2730600"/>
            <a:ext cx="21524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5" name="WordArt 103"/>
          <p:cNvSpPr txBox="1"/>
          <p:nvPr/>
        </p:nvSpPr>
        <p:spPr>
          <a:xfrm rot="21264000">
            <a:off x="3246120" y="3036960"/>
            <a:ext cx="2152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Swee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6" name="WordArt 104"/>
          <p:cNvSpPr txBox="1"/>
          <p:nvPr/>
        </p:nvSpPr>
        <p:spPr>
          <a:xfrm>
            <a:off x="6572160" y="253512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7" name="WordArt 105"/>
          <p:cNvSpPr txBox="1"/>
          <p:nvPr/>
        </p:nvSpPr>
        <p:spPr>
          <a:xfrm>
            <a:off x="661356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8" name="WordArt 106"/>
          <p:cNvSpPr txBox="1"/>
          <p:nvPr/>
        </p:nvSpPr>
        <p:spPr>
          <a:xfrm>
            <a:off x="6877080" y="2467080"/>
            <a:ext cx="228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k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9" name="WordArt 107"/>
          <p:cNvSpPr txBox="1"/>
          <p:nvPr/>
        </p:nvSpPr>
        <p:spPr>
          <a:xfrm>
            <a:off x="8020080" y="2541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0" name="WordArt 108"/>
          <p:cNvSpPr txBox="1"/>
          <p:nvPr/>
        </p:nvSpPr>
        <p:spPr>
          <a:xfrm>
            <a:off x="656892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1" name="WordArt 109"/>
          <p:cNvSpPr txBox="1"/>
          <p:nvPr/>
        </p:nvSpPr>
        <p:spPr>
          <a:xfrm rot="21118200">
            <a:off x="3816360" y="2997000"/>
            <a:ext cx="156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t's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2" name="WordArt 110"/>
          <p:cNvSpPr txBox="1"/>
          <p:nvPr/>
        </p:nvSpPr>
        <p:spPr>
          <a:xfrm>
            <a:off x="6397560" y="136044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Rectangle 111"/>
          <p:cNvSpPr/>
          <p:nvPr/>
        </p:nvSpPr>
        <p:spPr>
          <a:xfrm>
            <a:off x="6419880" y="280188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272280" y="2778120"/>
            <a:ext cx="4309920" cy="0"/>
            <a:chOff x="6272280" y="2778120"/>
            <a:chExt cx="4309920" cy="0"/>
          </a:xfrm>
        </p:grpSpPr>
        <p:sp>
          <p:nvSpPr>
            <p:cNvPr id="455" name="Line 113"/>
            <p:cNvSpPr/>
            <p:nvPr/>
          </p:nvSpPr>
          <p:spPr>
            <a:xfrm>
              <a:off x="6272280" y="2778120"/>
              <a:ext cx="215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6" name="Line 114"/>
            <p:cNvSpPr/>
            <p:nvPr/>
          </p:nvSpPr>
          <p:spPr>
            <a:xfrm>
              <a:off x="8429760" y="2778120"/>
              <a:ext cx="2152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38960" y="2778120"/>
            <a:ext cx="941400" cy="0"/>
            <a:chOff x="8238960" y="2778120"/>
            <a:chExt cx="941400" cy="0"/>
          </a:xfrm>
        </p:grpSpPr>
        <p:sp>
          <p:nvSpPr>
            <p:cNvPr id="458" name="Line 116"/>
            <p:cNvSpPr/>
            <p:nvPr/>
          </p:nvSpPr>
          <p:spPr>
            <a:xfrm>
              <a:off x="8708400" y="277812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9" name="Line 117"/>
            <p:cNvSpPr/>
            <p:nvPr/>
          </p:nvSpPr>
          <p:spPr>
            <a:xfrm>
              <a:off x="8238960" y="277812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0" name="Oval 118"/>
          <p:cNvSpPr/>
          <p:nvPr/>
        </p:nvSpPr>
        <p:spPr>
          <a:xfrm>
            <a:off x="-1378080" y="2643120"/>
            <a:ext cx="2890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2281680" y="1256040"/>
            <a:ext cx="2124720" cy="3015720"/>
            <a:chOff x="-2281680" y="1256040"/>
            <a:chExt cx="2124720" cy="3015720"/>
          </a:xfrm>
        </p:grpSpPr>
        <p:grpSp>
          <p:nvGrpSpPr>
            <p:cNvPr id="462" name=""/>
            <p:cNvGrpSpPr/>
            <p:nvPr/>
          </p:nvGrpSpPr>
          <p:grpSpPr>
            <a:xfrm>
              <a:off x="-2281680" y="2647440"/>
              <a:ext cx="1694160" cy="1624320"/>
              <a:chOff x="-2281680" y="2647440"/>
              <a:chExt cx="1694160" cy="1624320"/>
            </a:xfrm>
          </p:grpSpPr>
          <p:sp>
            <p:nvSpPr>
              <p:cNvPr id="463" name="Freeform 121"/>
              <p:cNvSpPr/>
              <p:nvPr/>
            </p:nvSpPr>
            <p:spPr>
              <a:xfrm rot="654600">
                <a:off x="-1953720" y="27550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4" name="AutoShape 122"/>
              <p:cNvSpPr/>
              <p:nvPr/>
            </p:nvSpPr>
            <p:spPr>
              <a:xfrm rot="654600">
                <a:off x="-2241360" y="3551400"/>
                <a:ext cx="159120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5" name="AutoShape 123"/>
              <p:cNvSpPr/>
              <p:nvPr/>
            </p:nvSpPr>
            <p:spPr>
              <a:xfrm rot="654600">
                <a:off x="-2203560" y="3589920"/>
                <a:ext cx="151776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6" name="Text Box 124"/>
              <p:cNvSpPr/>
              <p:nvPr/>
            </p:nvSpPr>
            <p:spPr>
              <a:xfrm rot="654600">
                <a:off x="-2129040" y="3663360"/>
                <a:ext cx="15177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467" name="Rectangle 125"/>
            <p:cNvSpPr/>
            <p:nvPr/>
          </p:nvSpPr>
          <p:spPr>
            <a:xfrm rot="654600">
              <a:off x="-1907640" y="1398240"/>
              <a:ext cx="1634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8" name="Oval 126"/>
          <p:cNvSpPr/>
          <p:nvPr/>
        </p:nvSpPr>
        <p:spPr>
          <a:xfrm>
            <a:off x="-1281240" y="2736720"/>
            <a:ext cx="10332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9" name="Rectangle 132"/>
          <p:cNvSpPr/>
          <p:nvPr/>
        </p:nvSpPr>
        <p:spPr>
          <a:xfrm rot="20376600">
            <a:off x="736200" y="2658600"/>
            <a:ext cx="152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0" name="Rectangle 133"/>
          <p:cNvSpPr/>
          <p:nvPr/>
        </p:nvSpPr>
        <p:spPr>
          <a:xfrm rot="20376600">
            <a:off x="875880" y="2626920"/>
            <a:ext cx="152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75440" y="2517120"/>
            <a:ext cx="3743640" cy="5406120"/>
            <a:chOff x="775440" y="2517120"/>
            <a:chExt cx="3743640" cy="5406120"/>
          </a:xfrm>
        </p:grpSpPr>
        <p:sp>
          <p:nvSpPr>
            <p:cNvPr id="472" name="Freeform 128"/>
            <p:cNvSpPr/>
            <p:nvPr/>
          </p:nvSpPr>
          <p:spPr>
            <a:xfrm>
              <a:off x="941040" y="2554200"/>
              <a:ext cx="3578040" cy="5369040"/>
            </a:xfrm>
            <a:custGeom>
              <a:avLst/>
              <a:gdLst/>
              <a:ahLst/>
              <a:rect l="l" t="t" r="r" b="b"/>
              <a:pathLst>
                <a:path w="2254" h="3382">
                  <a:moveTo>
                    <a:pt x="1356" y="3288"/>
                  </a:moveTo>
                  <a:cubicBezTo>
                    <a:pt x="1302" y="3035"/>
                    <a:pt x="1149" y="2618"/>
                    <a:pt x="1098" y="2489"/>
                  </a:cubicBezTo>
                  <a:cubicBezTo>
                    <a:pt x="1047" y="2360"/>
                    <a:pt x="1034" y="2356"/>
                    <a:pt x="987" y="2285"/>
                  </a:cubicBezTo>
                  <a:cubicBezTo>
                    <a:pt x="940" y="2214"/>
                    <a:pt x="871" y="2155"/>
                    <a:pt x="816" y="2063"/>
                  </a:cubicBezTo>
                  <a:cubicBezTo>
                    <a:pt x="765" y="1970"/>
                    <a:pt x="727" y="1854"/>
                    <a:pt x="657" y="1730"/>
                  </a:cubicBezTo>
                  <a:cubicBezTo>
                    <a:pt x="591" y="1620"/>
                    <a:pt x="476" y="1483"/>
                    <a:pt x="420" y="1403"/>
                  </a:cubicBezTo>
                  <a:cubicBezTo>
                    <a:pt x="364" y="1323"/>
                    <a:pt x="345" y="1299"/>
                    <a:pt x="318" y="1253"/>
                  </a:cubicBezTo>
                  <a:cubicBezTo>
                    <a:pt x="291" y="1207"/>
                    <a:pt x="297" y="1199"/>
                    <a:pt x="258" y="1127"/>
                  </a:cubicBezTo>
                  <a:cubicBezTo>
                    <a:pt x="219" y="1055"/>
                    <a:pt x="123" y="921"/>
                    <a:pt x="90" y="839"/>
                  </a:cubicBezTo>
                  <a:cubicBezTo>
                    <a:pt x="57" y="757"/>
                    <a:pt x="60" y="698"/>
                    <a:pt x="60" y="635"/>
                  </a:cubicBezTo>
                  <a:cubicBezTo>
                    <a:pt x="12" y="518"/>
                    <a:pt x="0" y="401"/>
                    <a:pt x="0" y="401"/>
                  </a:cubicBezTo>
                  <a:cubicBezTo>
                    <a:pt x="0" y="401"/>
                    <a:pt x="48" y="401"/>
                    <a:pt x="96" y="401"/>
                  </a:cubicBezTo>
                  <a:cubicBezTo>
                    <a:pt x="195" y="410"/>
                    <a:pt x="255" y="500"/>
                    <a:pt x="288" y="557"/>
                  </a:cubicBezTo>
                  <a:cubicBezTo>
                    <a:pt x="321" y="614"/>
                    <a:pt x="354" y="713"/>
                    <a:pt x="360" y="761"/>
                  </a:cubicBezTo>
                  <a:cubicBezTo>
                    <a:pt x="417" y="845"/>
                    <a:pt x="426" y="875"/>
                    <a:pt x="507" y="938"/>
                  </a:cubicBezTo>
                  <a:cubicBezTo>
                    <a:pt x="576" y="962"/>
                    <a:pt x="588" y="968"/>
                    <a:pt x="642" y="977"/>
                  </a:cubicBezTo>
                  <a:cubicBezTo>
                    <a:pt x="702" y="968"/>
                    <a:pt x="717" y="959"/>
                    <a:pt x="735" y="941"/>
                  </a:cubicBezTo>
                  <a:cubicBezTo>
                    <a:pt x="723" y="923"/>
                    <a:pt x="705" y="898"/>
                    <a:pt x="699" y="851"/>
                  </a:cubicBezTo>
                  <a:cubicBezTo>
                    <a:pt x="680" y="824"/>
                    <a:pt x="639" y="836"/>
                    <a:pt x="612" y="746"/>
                  </a:cubicBezTo>
                  <a:cubicBezTo>
                    <a:pt x="585" y="656"/>
                    <a:pt x="700" y="450"/>
                    <a:pt x="696" y="362"/>
                  </a:cubicBezTo>
                  <a:cubicBezTo>
                    <a:pt x="606" y="329"/>
                    <a:pt x="594" y="299"/>
                    <a:pt x="549" y="254"/>
                  </a:cubicBezTo>
                  <a:cubicBezTo>
                    <a:pt x="489" y="251"/>
                    <a:pt x="396" y="260"/>
                    <a:pt x="345" y="227"/>
                  </a:cubicBezTo>
                  <a:cubicBezTo>
                    <a:pt x="294" y="194"/>
                    <a:pt x="208" y="104"/>
                    <a:pt x="225" y="29"/>
                  </a:cubicBezTo>
                  <a:cubicBezTo>
                    <a:pt x="234" y="0"/>
                    <a:pt x="347" y="34"/>
                    <a:pt x="404" y="39"/>
                  </a:cubicBezTo>
                  <a:cubicBezTo>
                    <a:pt x="470" y="36"/>
                    <a:pt x="513" y="39"/>
                    <a:pt x="580" y="55"/>
                  </a:cubicBezTo>
                  <a:cubicBezTo>
                    <a:pt x="647" y="71"/>
                    <a:pt x="748" y="117"/>
                    <a:pt x="808" y="139"/>
                  </a:cubicBezTo>
                  <a:cubicBezTo>
                    <a:pt x="868" y="161"/>
                    <a:pt x="889" y="159"/>
                    <a:pt x="945" y="218"/>
                  </a:cubicBezTo>
                  <a:cubicBezTo>
                    <a:pt x="1001" y="277"/>
                    <a:pt x="1092" y="426"/>
                    <a:pt x="1146" y="491"/>
                  </a:cubicBezTo>
                  <a:cubicBezTo>
                    <a:pt x="1200" y="555"/>
                    <a:pt x="1218" y="564"/>
                    <a:pt x="1272" y="611"/>
                  </a:cubicBezTo>
                  <a:cubicBezTo>
                    <a:pt x="1326" y="657"/>
                    <a:pt x="1451" y="687"/>
                    <a:pt x="1473" y="767"/>
                  </a:cubicBezTo>
                  <a:cubicBezTo>
                    <a:pt x="1495" y="847"/>
                    <a:pt x="1434" y="974"/>
                    <a:pt x="1404" y="1091"/>
                  </a:cubicBezTo>
                  <a:cubicBezTo>
                    <a:pt x="1374" y="1208"/>
                    <a:pt x="1326" y="1478"/>
                    <a:pt x="1332" y="1598"/>
                  </a:cubicBezTo>
                  <a:cubicBezTo>
                    <a:pt x="1338" y="1718"/>
                    <a:pt x="1393" y="1703"/>
                    <a:pt x="1440" y="1811"/>
                  </a:cubicBezTo>
                  <a:cubicBezTo>
                    <a:pt x="1487" y="1919"/>
                    <a:pt x="1480" y="2020"/>
                    <a:pt x="1614" y="2249"/>
                  </a:cubicBezTo>
                  <a:cubicBezTo>
                    <a:pt x="1748" y="2478"/>
                    <a:pt x="2254" y="3036"/>
                    <a:pt x="2211" y="3209"/>
                  </a:cubicBezTo>
                  <a:cubicBezTo>
                    <a:pt x="2168" y="3382"/>
                    <a:pt x="1534" y="3272"/>
                    <a:pt x="1356" y="328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73" name="AutoShape 129"/>
            <p:cNvSpPr/>
            <p:nvPr/>
          </p:nvSpPr>
          <p:spPr>
            <a:xfrm rot="2475000">
              <a:off x="807840" y="2806560"/>
              <a:ext cx="1066320" cy="500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74" name="Freeform 134"/>
          <p:cNvSpPr/>
          <p:nvPr/>
        </p:nvSpPr>
        <p:spPr>
          <a:xfrm rot="1333800">
            <a:off x="1684080" y="5544720"/>
            <a:ext cx="397332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5" name="Freeform 153"/>
          <p:cNvSpPr/>
          <p:nvPr/>
        </p:nvSpPr>
        <p:spPr>
          <a:xfrm>
            <a:off x="-204840" y="4294080"/>
            <a:ext cx="5769000" cy="676440"/>
          </a:xfrm>
          <a:custGeom>
            <a:avLst/>
            <a:gdLst/>
            <a:ahLst/>
            <a:rect l="l" t="t" r="r" b="b"/>
            <a:pathLst>
              <a:path w="3635" h="426">
                <a:moveTo>
                  <a:pt x="3635" y="290"/>
                </a:moveTo>
                <a:cubicBezTo>
                  <a:pt x="3592" y="426"/>
                  <a:pt x="3198" y="5"/>
                  <a:pt x="2815" y="22"/>
                </a:cubicBezTo>
                <a:cubicBezTo>
                  <a:pt x="2432" y="39"/>
                  <a:pt x="2166" y="389"/>
                  <a:pt x="1842" y="395"/>
                </a:cubicBezTo>
                <a:cubicBezTo>
                  <a:pt x="1518" y="401"/>
                  <a:pt x="1285" y="32"/>
                  <a:pt x="933" y="16"/>
                </a:cubicBezTo>
                <a:cubicBezTo>
                  <a:pt x="581" y="0"/>
                  <a:pt x="206" y="300"/>
                  <a:pt x="0" y="32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6" name="Freeform 155"/>
          <p:cNvSpPr/>
          <p:nvPr/>
        </p:nvSpPr>
        <p:spPr>
          <a:xfrm>
            <a:off x="-196920" y="3967200"/>
            <a:ext cx="5769000" cy="630360"/>
          </a:xfrm>
          <a:custGeom>
            <a:avLst/>
            <a:gdLst/>
            <a:ahLst/>
            <a:rect l="l" t="t" r="r" b="b"/>
            <a:pathLst>
              <a:path w="3635" h="397">
                <a:moveTo>
                  <a:pt x="3635" y="339"/>
                </a:moveTo>
                <a:cubicBezTo>
                  <a:pt x="3608" y="360"/>
                  <a:pt x="3183" y="31"/>
                  <a:pt x="2799" y="31"/>
                </a:cubicBezTo>
                <a:cubicBezTo>
                  <a:pt x="2415" y="31"/>
                  <a:pt x="2163" y="385"/>
                  <a:pt x="1839" y="391"/>
                </a:cubicBezTo>
                <a:cubicBezTo>
                  <a:pt x="1515" y="397"/>
                  <a:pt x="1269" y="32"/>
                  <a:pt x="917" y="16"/>
                </a:cubicBezTo>
                <a:cubicBezTo>
                  <a:pt x="565" y="0"/>
                  <a:pt x="227" y="233"/>
                  <a:pt x="0" y="328"/>
                </a:cubicBezTo>
              </a:path>
            </a:pathLst>
          </a:custGeom>
          <a:noFill/>
          <a:ln w="127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7" name="Freeform 158"/>
          <p:cNvSpPr/>
          <p:nvPr/>
        </p:nvSpPr>
        <p:spPr>
          <a:xfrm rot="1333800">
            <a:off x="504792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8" name="Rectangle 171"/>
          <p:cNvSpPr/>
          <p:nvPr/>
        </p:nvSpPr>
        <p:spPr>
          <a:xfrm>
            <a:off x="0" y="2725560"/>
            <a:ext cx="5418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9" name="Freeform 152"/>
          <p:cNvSpPr/>
          <p:nvPr/>
        </p:nvSpPr>
        <p:spPr>
          <a:xfrm>
            <a:off x="5410080" y="2786040"/>
            <a:ext cx="209520" cy="1976400"/>
          </a:xfrm>
          <a:custGeom>
            <a:avLst/>
            <a:gdLst/>
            <a:ahLst/>
            <a:rect l="l" t="t" r="r" b="b"/>
            <a:pathLst>
              <a:path w="132" h="1245">
                <a:moveTo>
                  <a:pt x="0" y="0"/>
                </a:moveTo>
                <a:cubicBezTo>
                  <a:pt x="21" y="111"/>
                  <a:pt x="132" y="1047"/>
                  <a:pt x="96" y="1245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0" name="Freeform 173"/>
          <p:cNvSpPr/>
          <p:nvPr/>
        </p:nvSpPr>
        <p:spPr>
          <a:xfrm rot="748800">
            <a:off x="1085400" y="7525800"/>
            <a:ext cx="2419560" cy="549756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90840" y="1411200"/>
            <a:ext cx="90000" cy="526680"/>
            <a:chOff x="2490840" y="1411200"/>
            <a:chExt cx="90000" cy="526680"/>
          </a:xfrm>
        </p:grpSpPr>
        <p:pic>
          <p:nvPicPr>
            <p:cNvPr id="482" name="Picture 176" descr="未标题-2"/>
            <p:cNvPicPr/>
            <p:nvPr/>
          </p:nvPicPr>
          <p:blipFill>
            <a:blip r:embed="rId1"/>
            <a:stretch/>
          </p:blipFill>
          <p:spPr>
            <a:xfrm>
              <a:off x="2493720" y="1411200"/>
              <a:ext cx="8712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77"/>
            <p:cNvSpPr/>
            <p:nvPr/>
          </p:nvSpPr>
          <p:spPr>
            <a:xfrm>
              <a:off x="2490840" y="1674720"/>
              <a:ext cx="88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54160" y="1349280"/>
            <a:ext cx="88560" cy="526680"/>
            <a:chOff x="2954160" y="1349280"/>
            <a:chExt cx="88560" cy="526680"/>
          </a:xfrm>
        </p:grpSpPr>
        <p:pic>
          <p:nvPicPr>
            <p:cNvPr id="485" name="Picture 180" descr="未标题-2"/>
            <p:cNvPicPr/>
            <p:nvPr/>
          </p:nvPicPr>
          <p:blipFill>
            <a:blip r:embed="rId2"/>
            <a:stretch/>
          </p:blipFill>
          <p:spPr>
            <a:xfrm>
              <a:off x="2957040" y="1349280"/>
              <a:ext cx="8568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181"/>
            <p:cNvSpPr/>
            <p:nvPr/>
          </p:nvSpPr>
          <p:spPr>
            <a:xfrm>
              <a:off x="2954160" y="1612800"/>
              <a:ext cx="87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382920" y="1397160"/>
            <a:ext cx="83880" cy="526680"/>
            <a:chOff x="3382920" y="1397160"/>
            <a:chExt cx="83880" cy="526680"/>
          </a:xfrm>
        </p:grpSpPr>
        <p:pic>
          <p:nvPicPr>
            <p:cNvPr id="488" name="Picture 183" descr="未标题-2"/>
            <p:cNvPicPr/>
            <p:nvPr/>
          </p:nvPicPr>
          <p:blipFill>
            <a:blip r:embed="rId3"/>
            <a:stretch/>
          </p:blipFill>
          <p:spPr>
            <a:xfrm>
              <a:off x="3385440" y="1397160"/>
              <a:ext cx="8136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84"/>
            <p:cNvSpPr/>
            <p:nvPr/>
          </p:nvSpPr>
          <p:spPr>
            <a:xfrm>
              <a:off x="3382920" y="1660680"/>
              <a:ext cx="824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0" name="Freeform 225"/>
          <p:cNvSpPr/>
          <p:nvPr/>
        </p:nvSpPr>
        <p:spPr>
          <a:xfrm>
            <a:off x="-480960" y="2308320"/>
            <a:ext cx="6102360" cy="676080"/>
          </a:xfrm>
          <a:custGeom>
            <a:avLst/>
            <a:gdLst/>
            <a:ahLst/>
            <a:rect l="l" t="t" r="r" b="b"/>
            <a:pathLst>
              <a:path w="3845" h="426">
                <a:moveTo>
                  <a:pt x="112" y="246"/>
                </a:moveTo>
                <a:cubicBezTo>
                  <a:pt x="224" y="319"/>
                  <a:pt x="1239" y="418"/>
                  <a:pt x="1871" y="422"/>
                </a:cubicBezTo>
                <a:cubicBezTo>
                  <a:pt x="2503" y="426"/>
                  <a:pt x="3593" y="362"/>
                  <a:pt x="3719" y="298"/>
                </a:cubicBezTo>
                <a:cubicBezTo>
                  <a:pt x="3845" y="234"/>
                  <a:pt x="3416" y="164"/>
                  <a:pt x="2924" y="82"/>
                </a:cubicBezTo>
                <a:cubicBezTo>
                  <a:pt x="2432" y="0"/>
                  <a:pt x="1260" y="26"/>
                  <a:pt x="756" y="62"/>
                </a:cubicBezTo>
                <a:cubicBezTo>
                  <a:pt x="252" y="98"/>
                  <a:pt x="0" y="173"/>
                  <a:pt x="112" y="246"/>
                </a:cubicBezTo>
                <a:close/>
              </a:path>
            </a:pathLst>
          </a:custGeom>
          <a:gradFill rotWithShape="0">
            <a:gsLst>
              <a:gs pos="0">
                <a:srgbClr val="182f76">
                  <a:alpha val="0"/>
                </a:srgbClr>
              </a:gs>
              <a:gs pos="100000">
                <a:srgbClr val="3366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1" name="Freeform 226"/>
          <p:cNvSpPr/>
          <p:nvPr/>
        </p:nvSpPr>
        <p:spPr>
          <a:xfrm>
            <a:off x="636480" y="1582560"/>
            <a:ext cx="524160" cy="1238400"/>
          </a:xfrm>
          <a:custGeom>
            <a:avLst/>
            <a:gdLst/>
            <a:ahLst/>
            <a:rect l="l" t="t" r="r" b="b"/>
            <a:pathLst>
              <a:path w="330" h="780">
                <a:moveTo>
                  <a:pt x="61" y="754"/>
                </a:moveTo>
                <a:cubicBezTo>
                  <a:pt x="77" y="650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1"/>
                  <a:pt x="316" y="11"/>
                  <a:pt x="330" y="31"/>
                </a:cubicBezTo>
                <a:cubicBezTo>
                  <a:pt x="281" y="293"/>
                  <a:pt x="245" y="434"/>
                  <a:pt x="235" y="554"/>
                </a:cubicBezTo>
                <a:lnTo>
                  <a:pt x="270" y="743"/>
                </a:lnTo>
                <a:cubicBezTo>
                  <a:pt x="258" y="780"/>
                  <a:pt x="200" y="774"/>
                  <a:pt x="165" y="776"/>
                </a:cubicBezTo>
                <a:cubicBezTo>
                  <a:pt x="125" y="774"/>
                  <a:pt x="103" y="775"/>
                  <a:pt x="61" y="7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2" name="Freeform 170"/>
          <p:cNvSpPr/>
          <p:nvPr/>
        </p:nvSpPr>
        <p:spPr>
          <a:xfrm>
            <a:off x="0" y="2768760"/>
            <a:ext cx="5423040" cy="203040"/>
          </a:xfrm>
          <a:custGeom>
            <a:avLst/>
            <a:gdLst/>
            <a:ahLst/>
            <a:rect l="l" t="t" r="r" b="b"/>
            <a:pathLst>
              <a:path w="3416" h="128">
                <a:moveTo>
                  <a:pt x="0" y="0"/>
                </a:moveTo>
                <a:cubicBezTo>
                  <a:pt x="268" y="58"/>
                  <a:pt x="1045" y="128"/>
                  <a:pt x="1613" y="128"/>
                </a:cubicBezTo>
                <a:cubicBezTo>
                  <a:pt x="2181" y="128"/>
                  <a:pt x="3064" y="72"/>
                  <a:pt x="3416" y="8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3" name="Freeform 167"/>
          <p:cNvSpPr/>
          <p:nvPr/>
        </p:nvSpPr>
        <p:spPr>
          <a:xfrm>
            <a:off x="9696600" y="-477720"/>
            <a:ext cx="9718560" cy="4324320"/>
          </a:xfrm>
          <a:custGeom>
            <a:avLst/>
            <a:gdLst/>
            <a:ahLst/>
            <a:rect l="l" t="t" r="r" b="b"/>
            <a:pathLst>
              <a:path w="6122" h="2725">
                <a:moveTo>
                  <a:pt x="5670" y="0"/>
                </a:moveTo>
                <a:cubicBezTo>
                  <a:pt x="5382" y="156"/>
                  <a:pt x="2620" y="1717"/>
                  <a:pt x="2506" y="1754"/>
                </a:cubicBezTo>
                <a:cubicBezTo>
                  <a:pt x="2392" y="1792"/>
                  <a:pt x="2172" y="1867"/>
                  <a:pt x="2055" y="1875"/>
                </a:cubicBezTo>
                <a:cubicBezTo>
                  <a:pt x="1937" y="1884"/>
                  <a:pt x="1894" y="1841"/>
                  <a:pt x="1783" y="1842"/>
                </a:cubicBezTo>
                <a:cubicBezTo>
                  <a:pt x="1671" y="1844"/>
                  <a:pt x="1441" y="1894"/>
                  <a:pt x="1290" y="1967"/>
                </a:cubicBezTo>
                <a:cubicBezTo>
                  <a:pt x="1138" y="2041"/>
                  <a:pt x="1007" y="2013"/>
                  <a:pt x="916" y="2036"/>
                </a:cubicBezTo>
                <a:cubicBezTo>
                  <a:pt x="820" y="2049"/>
                  <a:pt x="768" y="1995"/>
                  <a:pt x="714" y="2043"/>
                </a:cubicBezTo>
                <a:cubicBezTo>
                  <a:pt x="613" y="2027"/>
                  <a:pt x="498" y="2019"/>
                  <a:pt x="281" y="1968"/>
                </a:cubicBezTo>
                <a:cubicBezTo>
                  <a:pt x="64" y="1917"/>
                  <a:pt x="13" y="2066"/>
                  <a:pt x="7" y="2100"/>
                </a:cubicBezTo>
                <a:cubicBezTo>
                  <a:pt x="0" y="2134"/>
                  <a:pt x="174" y="2148"/>
                  <a:pt x="241" y="2169"/>
                </a:cubicBezTo>
                <a:cubicBezTo>
                  <a:pt x="293" y="2200"/>
                  <a:pt x="354" y="2214"/>
                  <a:pt x="411" y="2226"/>
                </a:cubicBezTo>
                <a:cubicBezTo>
                  <a:pt x="474" y="2251"/>
                  <a:pt x="508" y="2295"/>
                  <a:pt x="618" y="2324"/>
                </a:cubicBezTo>
                <a:cubicBezTo>
                  <a:pt x="749" y="2456"/>
                  <a:pt x="987" y="2555"/>
                  <a:pt x="987" y="2555"/>
                </a:cubicBezTo>
                <a:cubicBezTo>
                  <a:pt x="1081" y="2619"/>
                  <a:pt x="1114" y="2694"/>
                  <a:pt x="1178" y="2710"/>
                </a:cubicBezTo>
                <a:cubicBezTo>
                  <a:pt x="1231" y="2725"/>
                  <a:pt x="1269" y="2675"/>
                  <a:pt x="1366" y="2647"/>
                </a:cubicBezTo>
                <a:cubicBezTo>
                  <a:pt x="1462" y="2619"/>
                  <a:pt x="1567" y="2602"/>
                  <a:pt x="1737" y="2549"/>
                </a:cubicBezTo>
                <a:cubicBezTo>
                  <a:pt x="1918" y="2512"/>
                  <a:pt x="2159" y="2457"/>
                  <a:pt x="2331" y="2402"/>
                </a:cubicBezTo>
                <a:cubicBezTo>
                  <a:pt x="2503" y="2347"/>
                  <a:pt x="2165" y="2427"/>
                  <a:pt x="2768" y="2222"/>
                </a:cubicBezTo>
                <a:cubicBezTo>
                  <a:pt x="3059" y="2131"/>
                  <a:pt x="5734" y="1249"/>
                  <a:pt x="5952" y="1170"/>
                </a:cubicBezTo>
                <a:cubicBezTo>
                  <a:pt x="6122" y="974"/>
                  <a:pt x="5670" y="0"/>
                  <a:pt x="5670" y="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494" name="Picture 169" descr="未标题-1"/>
          <p:cNvPicPr/>
          <p:nvPr/>
        </p:nvPicPr>
        <p:blipFill>
          <a:blip r:embed="rId4"/>
          <a:stretch/>
        </p:blipFill>
        <p:spPr>
          <a:xfrm>
            <a:off x="10382400" y="1490760"/>
            <a:ext cx="1828800" cy="12589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-1025280" y="-203760"/>
            <a:ext cx="800280" cy="1767960"/>
            <a:chOff x="-1025280" y="-203760"/>
            <a:chExt cx="800280" cy="1767960"/>
          </a:xfrm>
        </p:grpSpPr>
        <p:pic>
          <p:nvPicPr>
            <p:cNvPr id="496" name="Picture 138" descr="未标题-1"/>
            <p:cNvPicPr/>
            <p:nvPr/>
          </p:nvPicPr>
          <p:blipFill>
            <a:blip r:embed="rId5"/>
            <a:stretch/>
          </p:blipFill>
          <p:spPr>
            <a:xfrm flipH="1" rot="442200">
              <a:off x="-972360" y="-169200"/>
              <a:ext cx="59184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Freeform 139"/>
            <p:cNvSpPr/>
            <p:nvPr/>
          </p:nvSpPr>
          <p:spPr>
            <a:xfrm rot="21288000">
              <a:off x="-483840" y="417240"/>
              <a:ext cx="207720" cy="1139760"/>
            </a:xfrm>
            <a:custGeom>
              <a:avLst/>
              <a:gdLst/>
              <a:ahLst/>
              <a:rect l="l" t="t" r="r" b="b"/>
              <a:pathLst>
                <a:path w="146" h="802">
                  <a:moveTo>
                    <a:pt x="0" y="0"/>
                  </a:moveTo>
                  <a:cubicBezTo>
                    <a:pt x="21" y="75"/>
                    <a:pt x="92" y="427"/>
                    <a:pt x="119" y="580"/>
                  </a:cubicBezTo>
                  <a:cubicBezTo>
                    <a:pt x="146" y="733"/>
                    <a:pt x="143" y="769"/>
                    <a:pt x="146" y="802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8" name="Freeform 147"/>
          <p:cNvSpPr/>
          <p:nvPr/>
        </p:nvSpPr>
        <p:spPr>
          <a:xfrm>
            <a:off x="-3421080" y="316080"/>
            <a:ext cx="3354480" cy="286848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9" name="Freeform 227"/>
          <p:cNvSpPr/>
          <p:nvPr/>
        </p:nvSpPr>
        <p:spPr>
          <a:xfrm>
            <a:off x="628560" y="1582560"/>
            <a:ext cx="522360" cy="1235160"/>
          </a:xfrm>
          <a:custGeom>
            <a:avLst/>
            <a:gdLst/>
            <a:ahLst/>
            <a:rect l="l" t="t" r="r" b="b"/>
            <a:pathLst>
              <a:path w="329" h="778">
                <a:moveTo>
                  <a:pt x="60" y="750"/>
                </a:moveTo>
                <a:cubicBezTo>
                  <a:pt x="76" y="646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7" y="741"/>
                </a:lnTo>
                <a:cubicBezTo>
                  <a:pt x="256" y="778"/>
                  <a:pt x="199" y="774"/>
                  <a:pt x="165" y="775"/>
                </a:cubicBezTo>
                <a:cubicBezTo>
                  <a:pt x="125" y="773"/>
                  <a:pt x="102" y="771"/>
                  <a:pt x="60" y="7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0" name="Freeform 143"/>
          <p:cNvSpPr/>
          <p:nvPr/>
        </p:nvSpPr>
        <p:spPr>
          <a:xfrm>
            <a:off x="638280" y="1608120"/>
            <a:ext cx="522360" cy="1158840"/>
          </a:xfrm>
          <a:custGeom>
            <a:avLst/>
            <a:gdLst/>
            <a:ahLst/>
            <a:rect l="l" t="t" r="r" b="b"/>
            <a:pathLst>
              <a:path w="329" h="730">
                <a:moveTo>
                  <a:pt x="67" y="708"/>
                </a:moveTo>
                <a:cubicBezTo>
                  <a:pt x="83" y="604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1" y="699"/>
                </a:lnTo>
                <a:cubicBezTo>
                  <a:pt x="251" y="729"/>
                  <a:pt x="200" y="728"/>
                  <a:pt x="168" y="730"/>
                </a:cubicBezTo>
                <a:cubicBezTo>
                  <a:pt x="128" y="728"/>
                  <a:pt x="109" y="729"/>
                  <a:pt x="67" y="708"/>
                </a:cubicBezTo>
                <a:close/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182f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1" name="Freeform 185"/>
          <p:cNvSpPr/>
          <p:nvPr/>
        </p:nvSpPr>
        <p:spPr>
          <a:xfrm>
            <a:off x="876240" y="1608120"/>
            <a:ext cx="206280" cy="533520"/>
          </a:xfrm>
          <a:custGeom>
            <a:avLst/>
            <a:gdLst/>
            <a:ahLst/>
            <a:rect l="l" t="t" r="r" b="b"/>
            <a:pathLst>
              <a:path w="130" h="336">
                <a:moveTo>
                  <a:pt x="92" y="0"/>
                </a:moveTo>
                <a:cubicBezTo>
                  <a:pt x="92" y="27"/>
                  <a:pt x="76" y="115"/>
                  <a:pt x="58" y="168"/>
                </a:cubicBezTo>
                <a:cubicBezTo>
                  <a:pt x="41" y="222"/>
                  <a:pt x="17" y="298"/>
                  <a:pt x="0" y="326"/>
                </a:cubicBezTo>
                <a:cubicBezTo>
                  <a:pt x="19" y="334"/>
                  <a:pt x="19" y="336"/>
                  <a:pt x="23" y="336"/>
                </a:cubicBezTo>
                <a:cubicBezTo>
                  <a:pt x="44" y="315"/>
                  <a:pt x="84" y="198"/>
                  <a:pt x="91" y="183"/>
                </a:cubicBezTo>
                <a:cubicBezTo>
                  <a:pt x="98" y="169"/>
                  <a:pt x="121" y="95"/>
                  <a:pt x="130" y="15"/>
                </a:cubicBezTo>
                <a:cubicBezTo>
                  <a:pt x="130" y="15"/>
                  <a:pt x="111" y="7"/>
                  <a:pt x="9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2" name="Freeform 186"/>
          <p:cNvSpPr/>
          <p:nvPr/>
        </p:nvSpPr>
        <p:spPr>
          <a:xfrm>
            <a:off x="923760" y="1763640"/>
            <a:ext cx="182880" cy="515880"/>
          </a:xfrm>
          <a:custGeom>
            <a:avLst/>
            <a:gdLst/>
            <a:ahLst/>
            <a:rect l="l" t="t" r="r" b="b"/>
            <a:pathLst>
              <a:path w="115" h="325">
                <a:moveTo>
                  <a:pt x="101" y="0"/>
                </a:moveTo>
                <a:cubicBezTo>
                  <a:pt x="96" y="27"/>
                  <a:pt x="73" y="112"/>
                  <a:pt x="55" y="163"/>
                </a:cubicBezTo>
                <a:cubicBezTo>
                  <a:pt x="38" y="215"/>
                  <a:pt x="13" y="281"/>
                  <a:pt x="0" y="307"/>
                </a:cubicBezTo>
                <a:cubicBezTo>
                  <a:pt x="8" y="316"/>
                  <a:pt x="6" y="324"/>
                  <a:pt x="7" y="325"/>
                </a:cubicBezTo>
                <a:cubicBezTo>
                  <a:pt x="21" y="306"/>
                  <a:pt x="61" y="194"/>
                  <a:pt x="66" y="180"/>
                </a:cubicBezTo>
                <a:cubicBezTo>
                  <a:pt x="72" y="167"/>
                  <a:pt x="96" y="96"/>
                  <a:pt x="115" y="18"/>
                </a:cubicBezTo>
                <a:cubicBezTo>
                  <a:pt x="115" y="18"/>
                  <a:pt x="108" y="9"/>
                  <a:pt x="10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3" name="Freeform 137"/>
          <p:cNvSpPr/>
          <p:nvPr/>
        </p:nvSpPr>
        <p:spPr>
          <a:xfrm>
            <a:off x="639720" y="1582560"/>
            <a:ext cx="520920" cy="49320"/>
          </a:xfrm>
          <a:custGeom>
            <a:avLst/>
            <a:gdLst/>
            <a:ahLst/>
            <a:rect l="l" t="t" r="r" b="b"/>
            <a:pathLst>
              <a:path w="328" h="31">
                <a:moveTo>
                  <a:pt x="0" y="29"/>
                </a:moveTo>
                <a:cubicBezTo>
                  <a:pt x="25" y="18"/>
                  <a:pt x="82" y="2"/>
                  <a:pt x="162" y="1"/>
                </a:cubicBezTo>
                <a:cubicBezTo>
                  <a:pt x="242" y="0"/>
                  <a:pt x="299" y="16"/>
                  <a:pt x="328" y="31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4" name="Freeform 135"/>
          <p:cNvSpPr/>
          <p:nvPr/>
        </p:nvSpPr>
        <p:spPr>
          <a:xfrm>
            <a:off x="63648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5" name="Freeform 136"/>
          <p:cNvSpPr/>
          <p:nvPr/>
        </p:nvSpPr>
        <p:spPr>
          <a:xfrm flipH="1">
            <a:off x="100476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6" name="Freeform 175"/>
          <p:cNvSpPr/>
          <p:nvPr/>
        </p:nvSpPr>
        <p:spPr>
          <a:xfrm>
            <a:off x="731880" y="2771640"/>
            <a:ext cx="338040" cy="47880"/>
          </a:xfrm>
          <a:custGeom>
            <a:avLst/>
            <a:gdLst/>
            <a:ahLst/>
            <a:rect l="l" t="t" r="r" b="b"/>
            <a:pathLst>
              <a:path w="213" h="30">
                <a:moveTo>
                  <a:pt x="0" y="3"/>
                </a:moveTo>
                <a:cubicBezTo>
                  <a:pt x="30" y="24"/>
                  <a:pt x="72" y="30"/>
                  <a:pt x="120" y="27"/>
                </a:cubicBezTo>
                <a:cubicBezTo>
                  <a:pt x="168" y="24"/>
                  <a:pt x="192" y="17"/>
                  <a:pt x="213" y="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497E-006 -2.5108E-006 L 1.04963 -2.5108E-006 E">
                                      <p:cBhvr>
                                        <p:cTn id="546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03597E-006 -2.64035E-006 L 1.04808 0.00062 E">
                                      <p:cBhvr>
                                        <p:cTn id="548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48781E-006 -9.62369E-007 L 1.04911 -0.0037 E">
                                      <p:cBhvr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799940">
                                      <p:cBhvr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7.8506E-007 -1.61012E-006 L -0.01037 -0.03578 L 0.00381 -0.02159 L 0.00363 -0.0364 L 0.01418 -0.02128 E">
                                      <p:cBhvr>
                                        <p:cTn id="560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4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4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16296 -0.60735 L -0.15708 -0.66666 C -0.15881 -0.70497 -0.17056 -0.80136 -0.17367 -0.83627 C -0.16036 -0.84214 -0.15328 -0.84461 -0.14291 -0.84553 C -0.13254 -0.84646 -0.1277 -0.84214 -0.11543 -0.83472 C -0.12373 -0.75193 -0.13272 -0.66388 -0.13272 -0.66358 L -0.12546 -0.6055 E">
                                      <p:cBhvr>
                                        <p:cTn id="572" dur="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8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546 0.04414 L 0.12828 0.22716 E">
                                      <p:cBhvr>
                                        <p:cTn id="591" dur="3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autoRev="1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93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0.02542 -0.55556 C -0.02334 -0.48858 0.00484 -0.17068 -0.0128 -0.15401 C -0.0306 -0.13735 -0.08852 -0.24105 -0.15387 -0.2429 C -0.20315 -0.23858 -0.26487 -0.12778 -0.32089 -0.12809 C -0.3769 -0.1284 -0.42255 -0.25401 -0.49015 -0.24444 C -0.55775 -0.23488 -0.6084 -0.16235 -0.63952 -0.14074 E">
                                      <p:cBhvr>
                                        <p:cTn id="595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0.00571 -0.20679 C -0.03043 -0.22253 -0.10166 -0.30586 -0.15405 -0.30154 C -0.20643 -0.29722 -0.26712 -0.18056 -0.32054 -0.18117 C -0.37379 -0.18179 -0.42168 -0.30123 -0.47372 -0.30525 C -0.52559 -0.30926 -0.59838 -0.22593 -0.63123 -0.20525 E">
                                      <p:cBhvr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7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232 -0.875 L 0.09232 -0.85371 E">
                                      <p:cBhvr>
                                        <p:cTn id="612" dur="1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8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6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639" dur="150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7.52378E-006 -1.54843E-006 C -0.0358 -1.54843E-006 -0.10739 -0.00031 -0.10739 -0.00031 L -0.0965 -0.00031 E">
                                      <p:cBhvr>
                                        <p:cTn id="650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5.74615E-006 1.54843E-006 L -0.02491 1.54843E-006 E">
                                      <p:cBhvr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9.51063E-008 -0.11876 L 9.51063E-008 0.0145 L 9.51063E-008 -0.00031 E">
                                      <p:cBhvr>
                                        <p:cTn id="660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78627E-006 -0.11197 L -1.78627E-006 0.01264 L -1.78627E-006 0.00062 E">
                                      <p:cBhvr>
                                        <p:cTn id="664" dur="3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7" presetSubtype="1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9.51063E-008 7.09439E-007 L -9.51063E-008 0.14805 E">
                                      <p:cBhvr>
                                        <p:cTn id="676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11600"/>
                                  </p:stCondLst>
                                  <p:childTnLst>
                                    <p:animRot by="-599939">
                                      <p:cBhvr>
                                        <p:cTn id="678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4.73803E-006 0.14806 L 0.00035 0.2079 E">
                                      <p:cBhvr>
                                        <p:cTn id="692" dur="2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600000">
                                      <p:cBhvr>
                                        <p:cTn id="694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8" dur="1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9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.03735 0.21883 C 0.04876 0.1216 0.06017 0.02438 0.12033 -0.02932 C 0.1805 -0.08303 0.28942 -0.09321 0.39834 -0.1034 E">
                                      <p:cBhvr>
                                        <p:cTn id="716" dur="3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-299940">
                                      <p:cBhvr>
                                        <p:cTn id="727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600000">
                                      <p:cBhvr>
                                        <p:cTn id="729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8">
                                  <p:stCondLst>
                                    <p:cond delay="12300"/>
                                  </p:stCondLst>
                                  <p:childTnLst>
                                    <p:animRot by="-299940">
                                      <p:cBhvr>
                                        <p:cTn id="73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-1184400" y="2768760"/>
            <a:ext cx="2800440" cy="46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-2523960" y="2643120"/>
            <a:ext cx="28872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-3427560" y="1254240"/>
            <a:ext cx="2125080" cy="3015720"/>
            <a:chOff x="-3427560" y="1254240"/>
            <a:chExt cx="2125080" cy="3015720"/>
          </a:xfrm>
        </p:grpSpPr>
        <p:grpSp>
          <p:nvGrpSpPr>
            <p:cNvPr id="510" name=""/>
            <p:cNvGrpSpPr/>
            <p:nvPr/>
          </p:nvGrpSpPr>
          <p:grpSpPr>
            <a:xfrm>
              <a:off x="-3427560" y="2645640"/>
              <a:ext cx="1694160" cy="1624320"/>
              <a:chOff x="-3427560" y="2645640"/>
              <a:chExt cx="1694160" cy="1624320"/>
            </a:xfrm>
          </p:grpSpPr>
          <p:sp>
            <p:nvSpPr>
              <p:cNvPr id="511" name="Freeform 8"/>
              <p:cNvSpPr/>
              <p:nvPr/>
            </p:nvSpPr>
            <p:spPr>
              <a:xfrm rot="654600">
                <a:off x="-3099960" y="27532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2" name="AutoShape 9"/>
              <p:cNvSpPr/>
              <p:nvPr/>
            </p:nvSpPr>
            <p:spPr>
              <a:xfrm rot="654600">
                <a:off x="-3387240" y="3549600"/>
                <a:ext cx="15915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3" name="AutoShape 10"/>
              <p:cNvSpPr/>
              <p:nvPr/>
            </p:nvSpPr>
            <p:spPr>
              <a:xfrm rot="654600">
                <a:off x="-3349440" y="3588120"/>
                <a:ext cx="15181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4" name="Text Box 11"/>
              <p:cNvSpPr/>
              <p:nvPr/>
            </p:nvSpPr>
            <p:spPr>
              <a:xfrm rot="654600">
                <a:off x="-3275280" y="3661560"/>
                <a:ext cx="1518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515" name="Rectangle 12"/>
            <p:cNvSpPr/>
            <p:nvPr/>
          </p:nvSpPr>
          <p:spPr>
            <a:xfrm rot="654600">
              <a:off x="-3053520" y="1396440"/>
              <a:ext cx="1635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16" name="Oval 13"/>
          <p:cNvSpPr/>
          <p:nvPr/>
        </p:nvSpPr>
        <p:spPr>
          <a:xfrm>
            <a:off x="-2427120" y="2736720"/>
            <a:ext cx="10296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7" name="WordArt 14"/>
          <p:cNvSpPr txBox="1"/>
          <p:nvPr/>
        </p:nvSpPr>
        <p:spPr>
          <a:xfrm>
            <a:off x="-2603520" y="36360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8" name="WordArt 15"/>
          <p:cNvSpPr txBox="1"/>
          <p:nvPr/>
        </p:nvSpPr>
        <p:spPr>
          <a:xfrm>
            <a:off x="1305000" y="2522520"/>
            <a:ext cx="558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9" name="WordArt 18"/>
          <p:cNvSpPr txBox="1"/>
          <p:nvPr/>
        </p:nvSpPr>
        <p:spPr>
          <a:xfrm>
            <a:off x="1305000" y="2529000"/>
            <a:ext cx="55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0" name="WordArt 19"/>
          <p:cNvSpPr txBox="1"/>
          <p:nvPr/>
        </p:nvSpPr>
        <p:spPr>
          <a:xfrm>
            <a:off x="1305000" y="2522520"/>
            <a:ext cx="6793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1" name="WordArt 31"/>
          <p:cNvSpPr txBox="1"/>
          <p:nvPr/>
        </p:nvSpPr>
        <p:spPr>
          <a:xfrm>
            <a:off x="1305000" y="2579760"/>
            <a:ext cx="67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2" name="WordArt 33"/>
          <p:cNvSpPr txBox="1"/>
          <p:nvPr/>
        </p:nvSpPr>
        <p:spPr>
          <a:xfrm>
            <a:off x="1305000" y="2671920"/>
            <a:ext cx="679320" cy="83880"/>
          </a:xfrm>
          <a:prstGeom prst="rect">
            <a:avLst/>
          </a:prstGeom>
        </p:spPr>
        <p:txBody>
          <a:bodyPr wrap="none" lIns="90000" rIns="90000" tIns="37440" bIns="374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79440" y="817560"/>
            <a:ext cx="450720" cy="442440"/>
            <a:chOff x="1279440" y="817560"/>
            <a:chExt cx="450720" cy="442440"/>
          </a:xfrm>
        </p:grpSpPr>
        <p:sp>
          <p:nvSpPr>
            <p:cNvPr id="524" name="Rectangle 21"/>
            <p:cNvSpPr/>
            <p:nvPr/>
          </p:nvSpPr>
          <p:spPr>
            <a:xfrm>
              <a:off x="1279440" y="91584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>
              <a:off x="1279440" y="81756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1585800" y="82224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1279440" y="89388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53960" y="515880"/>
            <a:ext cx="450720" cy="442440"/>
            <a:chOff x="1353960" y="515880"/>
            <a:chExt cx="450720" cy="442440"/>
          </a:xfrm>
        </p:grpSpPr>
        <p:sp>
          <p:nvSpPr>
            <p:cNvPr id="529" name="Rectangle 38"/>
            <p:cNvSpPr/>
            <p:nvPr/>
          </p:nvSpPr>
          <p:spPr>
            <a:xfrm>
              <a:off x="1353960" y="6141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0" name="AutoShape 39"/>
            <p:cNvSpPr/>
            <p:nvPr/>
          </p:nvSpPr>
          <p:spPr>
            <a:xfrm>
              <a:off x="1353960" y="5158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1660320" y="5205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2" name="Text Box 41"/>
            <p:cNvSpPr/>
            <p:nvPr/>
          </p:nvSpPr>
          <p:spPr>
            <a:xfrm>
              <a:off x="1353960" y="5922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5000" y="208080"/>
            <a:ext cx="450720" cy="442440"/>
            <a:chOff x="1305000" y="208080"/>
            <a:chExt cx="450720" cy="442440"/>
          </a:xfrm>
        </p:grpSpPr>
        <p:sp>
          <p:nvSpPr>
            <p:cNvPr id="534" name="Rectangle 43"/>
            <p:cNvSpPr/>
            <p:nvPr/>
          </p:nvSpPr>
          <p:spPr>
            <a:xfrm>
              <a:off x="1305000" y="3063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5" name="AutoShape 44"/>
            <p:cNvSpPr/>
            <p:nvPr/>
          </p:nvSpPr>
          <p:spPr>
            <a:xfrm>
              <a:off x="1305000" y="2080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1611360" y="2127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1305000" y="2844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38" name="AutoShape 608"/>
          <p:cNvSpPr/>
          <p:nvPr/>
        </p:nvSpPr>
        <p:spPr>
          <a:xfrm>
            <a:off x="3430440" y="147600"/>
            <a:ext cx="550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44920" y="2208240"/>
            <a:ext cx="689040" cy="687240"/>
            <a:chOff x="4444920" y="2208240"/>
            <a:chExt cx="689040" cy="687240"/>
          </a:xfrm>
        </p:grpSpPr>
        <p:pic>
          <p:nvPicPr>
            <p:cNvPr id="540" name="Picture 625" descr=""/>
            <p:cNvPicPr/>
            <p:nvPr/>
          </p:nvPicPr>
          <p:blipFill>
            <a:blip r:embed="rId1"/>
            <a:stretch/>
          </p:blipFill>
          <p:spPr>
            <a:xfrm>
              <a:off x="44449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626"/>
            <p:cNvSpPr/>
            <p:nvPr/>
          </p:nvSpPr>
          <p:spPr>
            <a:xfrm>
              <a:off x="44481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30720" y="2208240"/>
            <a:ext cx="689040" cy="687240"/>
            <a:chOff x="5130720" y="2208240"/>
            <a:chExt cx="689040" cy="687240"/>
          </a:xfrm>
        </p:grpSpPr>
        <p:pic>
          <p:nvPicPr>
            <p:cNvPr id="543" name="Picture 628" descr=""/>
            <p:cNvPicPr/>
            <p:nvPr/>
          </p:nvPicPr>
          <p:blipFill>
            <a:blip r:embed="rId2"/>
            <a:stretch/>
          </p:blipFill>
          <p:spPr>
            <a:xfrm>
              <a:off x="51307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629"/>
            <p:cNvSpPr/>
            <p:nvPr/>
          </p:nvSpPr>
          <p:spPr>
            <a:xfrm>
              <a:off x="51339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16520" y="1522440"/>
            <a:ext cx="689040" cy="687240"/>
            <a:chOff x="5816520" y="1522440"/>
            <a:chExt cx="689040" cy="687240"/>
          </a:xfrm>
        </p:grpSpPr>
        <p:pic>
          <p:nvPicPr>
            <p:cNvPr id="546" name="Picture 649" descr=""/>
            <p:cNvPicPr/>
            <p:nvPr/>
          </p:nvPicPr>
          <p:blipFill>
            <a:blip r:embed="rId3"/>
            <a:stretch/>
          </p:blipFill>
          <p:spPr>
            <a:xfrm>
              <a:off x="58165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650"/>
            <p:cNvSpPr/>
            <p:nvPr/>
          </p:nvSpPr>
          <p:spPr>
            <a:xfrm>
              <a:off x="58197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502320" y="1522440"/>
            <a:ext cx="689040" cy="687240"/>
            <a:chOff x="6502320" y="1522440"/>
            <a:chExt cx="689040" cy="687240"/>
          </a:xfrm>
        </p:grpSpPr>
        <p:pic>
          <p:nvPicPr>
            <p:cNvPr id="549" name="Picture 652" descr=""/>
            <p:cNvPicPr/>
            <p:nvPr/>
          </p:nvPicPr>
          <p:blipFill>
            <a:blip r:embed="rId4"/>
            <a:stretch/>
          </p:blipFill>
          <p:spPr>
            <a:xfrm>
              <a:off x="65023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653"/>
            <p:cNvSpPr/>
            <p:nvPr/>
          </p:nvSpPr>
          <p:spPr>
            <a:xfrm>
              <a:off x="65055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16520" y="2208240"/>
            <a:ext cx="689040" cy="687240"/>
            <a:chOff x="5816520" y="2208240"/>
            <a:chExt cx="689040" cy="687240"/>
          </a:xfrm>
        </p:grpSpPr>
        <p:pic>
          <p:nvPicPr>
            <p:cNvPr id="552" name="Picture 661" descr=""/>
            <p:cNvPicPr/>
            <p:nvPr/>
          </p:nvPicPr>
          <p:blipFill>
            <a:blip r:embed="rId5"/>
            <a:stretch/>
          </p:blipFill>
          <p:spPr>
            <a:xfrm>
              <a:off x="58165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662"/>
            <p:cNvSpPr/>
            <p:nvPr/>
          </p:nvSpPr>
          <p:spPr>
            <a:xfrm>
              <a:off x="58197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88120" y="2208240"/>
            <a:ext cx="689040" cy="687240"/>
            <a:chOff x="7188120" y="2208240"/>
            <a:chExt cx="689040" cy="687240"/>
          </a:xfrm>
        </p:grpSpPr>
        <p:pic>
          <p:nvPicPr>
            <p:cNvPr id="555" name="Picture 664" descr=""/>
            <p:cNvPicPr/>
            <p:nvPr/>
          </p:nvPicPr>
          <p:blipFill>
            <a:blip r:embed="rId6"/>
            <a:stretch/>
          </p:blipFill>
          <p:spPr>
            <a:xfrm>
              <a:off x="71881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665"/>
            <p:cNvSpPr/>
            <p:nvPr/>
          </p:nvSpPr>
          <p:spPr>
            <a:xfrm>
              <a:off x="71913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02320" y="2208240"/>
            <a:ext cx="689040" cy="687240"/>
            <a:chOff x="6502320" y="2208240"/>
            <a:chExt cx="689040" cy="687240"/>
          </a:xfrm>
        </p:grpSpPr>
        <p:pic>
          <p:nvPicPr>
            <p:cNvPr id="558" name="Picture 667" descr=""/>
            <p:cNvPicPr/>
            <p:nvPr/>
          </p:nvPicPr>
          <p:blipFill>
            <a:blip r:embed="rId7"/>
            <a:stretch/>
          </p:blipFill>
          <p:spPr>
            <a:xfrm>
              <a:off x="65023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668"/>
            <p:cNvSpPr/>
            <p:nvPr/>
          </p:nvSpPr>
          <p:spPr>
            <a:xfrm>
              <a:off x="65055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759120" y="2894040"/>
            <a:ext cx="689040" cy="687240"/>
            <a:chOff x="3759120" y="2894040"/>
            <a:chExt cx="689040" cy="687240"/>
          </a:xfrm>
        </p:grpSpPr>
        <p:pic>
          <p:nvPicPr>
            <p:cNvPr id="561" name="Picture 673" descr=""/>
            <p:cNvPicPr/>
            <p:nvPr/>
          </p:nvPicPr>
          <p:blipFill>
            <a:blip r:embed="rId8"/>
            <a:stretch/>
          </p:blipFill>
          <p:spPr>
            <a:xfrm>
              <a:off x="3759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674"/>
            <p:cNvSpPr/>
            <p:nvPr/>
          </p:nvSpPr>
          <p:spPr>
            <a:xfrm>
              <a:off x="3762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444920" y="2894040"/>
            <a:ext cx="689040" cy="687240"/>
            <a:chOff x="4444920" y="2894040"/>
            <a:chExt cx="689040" cy="687240"/>
          </a:xfrm>
        </p:grpSpPr>
        <p:pic>
          <p:nvPicPr>
            <p:cNvPr id="564" name="Picture 676" descr=""/>
            <p:cNvPicPr/>
            <p:nvPr/>
          </p:nvPicPr>
          <p:blipFill>
            <a:blip r:embed="rId9"/>
            <a:stretch/>
          </p:blipFill>
          <p:spPr>
            <a:xfrm>
              <a:off x="44449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677"/>
            <p:cNvSpPr/>
            <p:nvPr/>
          </p:nvSpPr>
          <p:spPr>
            <a:xfrm>
              <a:off x="44481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130720" y="2894040"/>
            <a:ext cx="689040" cy="687240"/>
            <a:chOff x="5130720" y="2894040"/>
            <a:chExt cx="689040" cy="687240"/>
          </a:xfrm>
        </p:grpSpPr>
        <p:pic>
          <p:nvPicPr>
            <p:cNvPr id="567" name="Picture 679" descr=""/>
            <p:cNvPicPr/>
            <p:nvPr/>
          </p:nvPicPr>
          <p:blipFill>
            <a:blip r:embed="rId10"/>
            <a:stretch/>
          </p:blipFill>
          <p:spPr>
            <a:xfrm>
              <a:off x="51307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Rectangle 680"/>
            <p:cNvSpPr/>
            <p:nvPr/>
          </p:nvSpPr>
          <p:spPr>
            <a:xfrm>
              <a:off x="51339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3320" y="3579840"/>
            <a:ext cx="689040" cy="687240"/>
            <a:chOff x="3073320" y="3579840"/>
            <a:chExt cx="689040" cy="687240"/>
          </a:xfrm>
        </p:grpSpPr>
        <p:pic>
          <p:nvPicPr>
            <p:cNvPr id="570" name="Picture 682" descr=""/>
            <p:cNvPicPr/>
            <p:nvPr/>
          </p:nvPicPr>
          <p:blipFill>
            <a:blip r:embed="rId11"/>
            <a:stretch/>
          </p:blipFill>
          <p:spPr>
            <a:xfrm>
              <a:off x="3073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683"/>
            <p:cNvSpPr/>
            <p:nvPr/>
          </p:nvSpPr>
          <p:spPr>
            <a:xfrm>
              <a:off x="3076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44920" y="3579840"/>
            <a:ext cx="689040" cy="687240"/>
            <a:chOff x="4444920" y="3579840"/>
            <a:chExt cx="689040" cy="687240"/>
          </a:xfrm>
        </p:grpSpPr>
        <p:pic>
          <p:nvPicPr>
            <p:cNvPr id="573" name="Picture 685" descr=""/>
            <p:cNvPicPr/>
            <p:nvPr/>
          </p:nvPicPr>
          <p:blipFill>
            <a:blip r:embed="rId12"/>
            <a:stretch/>
          </p:blipFill>
          <p:spPr>
            <a:xfrm>
              <a:off x="44449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686"/>
            <p:cNvSpPr/>
            <p:nvPr/>
          </p:nvSpPr>
          <p:spPr>
            <a:xfrm>
              <a:off x="44481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59120" y="3579840"/>
            <a:ext cx="689040" cy="687240"/>
            <a:chOff x="3759120" y="3579840"/>
            <a:chExt cx="689040" cy="687240"/>
          </a:xfrm>
        </p:grpSpPr>
        <p:pic>
          <p:nvPicPr>
            <p:cNvPr id="576" name="Picture 688" descr=""/>
            <p:cNvPicPr/>
            <p:nvPr/>
          </p:nvPicPr>
          <p:blipFill>
            <a:blip r:embed="rId13"/>
            <a:stretch/>
          </p:blipFill>
          <p:spPr>
            <a:xfrm>
              <a:off x="37591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689"/>
            <p:cNvSpPr/>
            <p:nvPr/>
          </p:nvSpPr>
          <p:spPr>
            <a:xfrm>
              <a:off x="37623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30720" y="3579840"/>
            <a:ext cx="689040" cy="687240"/>
            <a:chOff x="5130720" y="3579840"/>
            <a:chExt cx="689040" cy="687240"/>
          </a:xfrm>
        </p:grpSpPr>
        <p:pic>
          <p:nvPicPr>
            <p:cNvPr id="579" name="Picture 691" descr=""/>
            <p:cNvPicPr/>
            <p:nvPr/>
          </p:nvPicPr>
          <p:blipFill>
            <a:blip r:embed="rId14"/>
            <a:stretch/>
          </p:blipFill>
          <p:spPr>
            <a:xfrm>
              <a:off x="51307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692"/>
            <p:cNvSpPr/>
            <p:nvPr/>
          </p:nvSpPr>
          <p:spPr>
            <a:xfrm>
              <a:off x="51339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44920" y="4265640"/>
            <a:ext cx="689040" cy="687240"/>
            <a:chOff x="4444920" y="4265640"/>
            <a:chExt cx="689040" cy="687240"/>
          </a:xfrm>
        </p:grpSpPr>
        <p:pic>
          <p:nvPicPr>
            <p:cNvPr id="582" name="Picture 697" descr=""/>
            <p:cNvPicPr/>
            <p:nvPr/>
          </p:nvPicPr>
          <p:blipFill>
            <a:blip r:embed="rId15"/>
            <a:stretch/>
          </p:blipFill>
          <p:spPr>
            <a:xfrm>
              <a:off x="44449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698"/>
            <p:cNvSpPr/>
            <p:nvPr/>
          </p:nvSpPr>
          <p:spPr>
            <a:xfrm>
              <a:off x="44481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30720" y="4265640"/>
            <a:ext cx="689040" cy="687240"/>
            <a:chOff x="5130720" y="4265640"/>
            <a:chExt cx="689040" cy="687240"/>
          </a:xfrm>
        </p:grpSpPr>
        <p:pic>
          <p:nvPicPr>
            <p:cNvPr id="585" name="Picture 700" descr=""/>
            <p:cNvPicPr/>
            <p:nvPr/>
          </p:nvPicPr>
          <p:blipFill>
            <a:blip r:embed="rId16"/>
            <a:stretch/>
          </p:blipFill>
          <p:spPr>
            <a:xfrm>
              <a:off x="51307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701"/>
            <p:cNvSpPr/>
            <p:nvPr/>
          </p:nvSpPr>
          <p:spPr>
            <a:xfrm>
              <a:off x="51339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16520" y="2894040"/>
            <a:ext cx="689040" cy="687240"/>
            <a:chOff x="5816520" y="2894040"/>
            <a:chExt cx="689040" cy="687240"/>
          </a:xfrm>
        </p:grpSpPr>
        <p:pic>
          <p:nvPicPr>
            <p:cNvPr id="588" name="Picture 703" descr=""/>
            <p:cNvPicPr/>
            <p:nvPr/>
          </p:nvPicPr>
          <p:blipFill>
            <a:blip r:embed="rId17"/>
            <a:stretch/>
          </p:blipFill>
          <p:spPr>
            <a:xfrm>
              <a:off x="58165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704"/>
            <p:cNvSpPr/>
            <p:nvPr/>
          </p:nvSpPr>
          <p:spPr>
            <a:xfrm>
              <a:off x="58197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02320" y="2894040"/>
            <a:ext cx="689040" cy="687240"/>
            <a:chOff x="6502320" y="2894040"/>
            <a:chExt cx="689040" cy="687240"/>
          </a:xfrm>
        </p:grpSpPr>
        <p:pic>
          <p:nvPicPr>
            <p:cNvPr id="591" name="Picture 706" descr=""/>
            <p:cNvPicPr/>
            <p:nvPr/>
          </p:nvPicPr>
          <p:blipFill>
            <a:blip r:embed="rId18"/>
            <a:stretch/>
          </p:blipFill>
          <p:spPr>
            <a:xfrm>
              <a:off x="65023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07"/>
            <p:cNvSpPr/>
            <p:nvPr/>
          </p:nvSpPr>
          <p:spPr>
            <a:xfrm>
              <a:off x="65055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88120" y="2894040"/>
            <a:ext cx="689040" cy="687240"/>
            <a:chOff x="7188120" y="2894040"/>
            <a:chExt cx="689040" cy="687240"/>
          </a:xfrm>
        </p:grpSpPr>
        <p:pic>
          <p:nvPicPr>
            <p:cNvPr id="594" name="Picture 709" descr=""/>
            <p:cNvPicPr/>
            <p:nvPr/>
          </p:nvPicPr>
          <p:blipFill>
            <a:blip r:embed="rId19"/>
            <a:stretch/>
          </p:blipFill>
          <p:spPr>
            <a:xfrm>
              <a:off x="7188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Rectangle 710"/>
            <p:cNvSpPr/>
            <p:nvPr/>
          </p:nvSpPr>
          <p:spPr>
            <a:xfrm>
              <a:off x="7191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16520" y="3579840"/>
            <a:ext cx="689040" cy="687240"/>
            <a:chOff x="5816520" y="3579840"/>
            <a:chExt cx="689040" cy="687240"/>
          </a:xfrm>
        </p:grpSpPr>
        <p:pic>
          <p:nvPicPr>
            <p:cNvPr id="597" name="Picture 712" descr=""/>
            <p:cNvPicPr/>
            <p:nvPr/>
          </p:nvPicPr>
          <p:blipFill>
            <a:blip r:embed="rId20"/>
            <a:stretch/>
          </p:blipFill>
          <p:spPr>
            <a:xfrm>
              <a:off x="58165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3"/>
            <p:cNvSpPr/>
            <p:nvPr/>
          </p:nvSpPr>
          <p:spPr>
            <a:xfrm>
              <a:off x="58197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502320" y="3579840"/>
            <a:ext cx="689040" cy="687240"/>
            <a:chOff x="6502320" y="3579840"/>
            <a:chExt cx="689040" cy="687240"/>
          </a:xfrm>
        </p:grpSpPr>
        <p:pic>
          <p:nvPicPr>
            <p:cNvPr id="600" name="Picture 715" descr=""/>
            <p:cNvPicPr/>
            <p:nvPr/>
          </p:nvPicPr>
          <p:blipFill>
            <a:blip r:embed="rId21"/>
            <a:stretch/>
          </p:blipFill>
          <p:spPr>
            <a:xfrm>
              <a:off x="6502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716"/>
            <p:cNvSpPr/>
            <p:nvPr/>
          </p:nvSpPr>
          <p:spPr>
            <a:xfrm>
              <a:off x="6505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816520" y="4265640"/>
            <a:ext cx="689040" cy="687240"/>
            <a:chOff x="5816520" y="4265640"/>
            <a:chExt cx="689040" cy="687240"/>
          </a:xfrm>
        </p:grpSpPr>
        <p:pic>
          <p:nvPicPr>
            <p:cNvPr id="603" name="Picture 718" descr=""/>
            <p:cNvPicPr/>
            <p:nvPr/>
          </p:nvPicPr>
          <p:blipFill>
            <a:blip r:embed="rId22"/>
            <a:stretch/>
          </p:blipFill>
          <p:spPr>
            <a:xfrm>
              <a:off x="58165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Rectangle 719"/>
            <p:cNvSpPr/>
            <p:nvPr/>
          </p:nvSpPr>
          <p:spPr>
            <a:xfrm>
              <a:off x="58197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05" name="Rectangle 724"/>
          <p:cNvSpPr/>
          <p:nvPr/>
        </p:nvSpPr>
        <p:spPr>
          <a:xfrm>
            <a:off x="2773440" y="1359000"/>
            <a:ext cx="5508720" cy="37591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6" name="Rectangle 725"/>
          <p:cNvSpPr/>
          <p:nvPr/>
        </p:nvSpPr>
        <p:spPr>
          <a:xfrm rot="10800000">
            <a:off x="3268800" y="12240"/>
            <a:ext cx="5906880" cy="44784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7" name="Rectangle 238"/>
          <p:cNvSpPr/>
          <p:nvPr/>
        </p:nvSpPr>
        <p:spPr>
          <a:xfrm rot="1344000">
            <a:off x="6829560" y="382680"/>
            <a:ext cx="120600" cy="60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8" name="Rectangle 220"/>
          <p:cNvSpPr/>
          <p:nvPr/>
        </p:nvSpPr>
        <p:spPr>
          <a:xfrm rot="1630200">
            <a:off x="4835160" y="21096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9" name="Rectangle 222"/>
          <p:cNvSpPr/>
          <p:nvPr/>
        </p:nvSpPr>
        <p:spPr>
          <a:xfrm rot="1881600">
            <a:off x="4987440" y="134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0" name="Rectangle 223"/>
          <p:cNvSpPr/>
          <p:nvPr/>
        </p:nvSpPr>
        <p:spPr>
          <a:xfrm rot="1582200">
            <a:off x="5021280" y="2952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1" name="Rectangle 224"/>
          <p:cNvSpPr/>
          <p:nvPr/>
        </p:nvSpPr>
        <p:spPr>
          <a:xfrm rot="1582200">
            <a:off x="5254200" y="35892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2" name="Rectangle 225"/>
          <p:cNvSpPr/>
          <p:nvPr/>
        </p:nvSpPr>
        <p:spPr>
          <a:xfrm rot="2013000">
            <a:off x="5106600" y="414360"/>
            <a:ext cx="120600" cy="641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3" name="Rectangle 226"/>
          <p:cNvSpPr/>
          <p:nvPr/>
        </p:nvSpPr>
        <p:spPr>
          <a:xfrm rot="2274000">
            <a:off x="5336640" y="320760"/>
            <a:ext cx="12096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4" name="Rectangle 227"/>
          <p:cNvSpPr/>
          <p:nvPr/>
        </p:nvSpPr>
        <p:spPr>
          <a:xfrm rot="1785600">
            <a:off x="5601960" y="2440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5" name="Rectangle 228"/>
          <p:cNvSpPr/>
          <p:nvPr/>
        </p:nvSpPr>
        <p:spPr>
          <a:xfrm rot="1393800">
            <a:off x="5478120" y="23472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6" name="Rectangle 229"/>
          <p:cNvSpPr/>
          <p:nvPr/>
        </p:nvSpPr>
        <p:spPr>
          <a:xfrm rot="1313400">
            <a:off x="572256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7" name="Rectangle 230"/>
          <p:cNvSpPr/>
          <p:nvPr/>
        </p:nvSpPr>
        <p:spPr>
          <a:xfrm rot="1582200">
            <a:off x="585144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8" name="Rectangle 231"/>
          <p:cNvSpPr/>
          <p:nvPr/>
        </p:nvSpPr>
        <p:spPr>
          <a:xfrm rot="1582200">
            <a:off x="6093000" y="257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9" name="Rectangle 232"/>
          <p:cNvSpPr/>
          <p:nvPr/>
        </p:nvSpPr>
        <p:spPr>
          <a:xfrm rot="1245000">
            <a:off x="5982840" y="243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0" name="Rectangle 233"/>
          <p:cNvSpPr/>
          <p:nvPr/>
        </p:nvSpPr>
        <p:spPr>
          <a:xfrm rot="1950000">
            <a:off x="6205320" y="361800"/>
            <a:ext cx="120600" cy="6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1" name="Rectangle 234"/>
          <p:cNvSpPr/>
          <p:nvPr/>
        </p:nvSpPr>
        <p:spPr>
          <a:xfrm rot="1582200">
            <a:off x="6388200" y="176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2" name="Rectangle 235"/>
          <p:cNvSpPr/>
          <p:nvPr/>
        </p:nvSpPr>
        <p:spPr>
          <a:xfrm rot="1630200">
            <a:off x="6622560" y="299520"/>
            <a:ext cx="12096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3" name="Rectangle 236"/>
          <p:cNvSpPr/>
          <p:nvPr/>
        </p:nvSpPr>
        <p:spPr>
          <a:xfrm rot="1302000">
            <a:off x="6508440" y="2048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4" name="Rectangle 237"/>
          <p:cNvSpPr/>
          <p:nvPr/>
        </p:nvSpPr>
        <p:spPr>
          <a:xfrm rot="1881600">
            <a:off x="6765480" y="215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5" name="WordArt 171"/>
          <p:cNvSpPr txBox="1"/>
          <p:nvPr/>
        </p:nvSpPr>
        <p:spPr>
          <a:xfrm rot="360000">
            <a:off x="5438520" y="463680"/>
            <a:ext cx="1490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beautiful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Rectangle 219"/>
          <p:cNvSpPr/>
          <p:nvPr/>
        </p:nvSpPr>
        <p:spPr>
          <a:xfrm rot="1582200">
            <a:off x="4621320" y="58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7" name="Rectangle 221"/>
          <p:cNvSpPr/>
          <p:nvPr/>
        </p:nvSpPr>
        <p:spPr>
          <a:xfrm rot="1302000">
            <a:off x="4741560" y="1112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8" name="Rectangle 194"/>
          <p:cNvSpPr/>
          <p:nvPr/>
        </p:nvSpPr>
        <p:spPr>
          <a:xfrm rot="1366800">
            <a:off x="3219120" y="173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9" name="Rectangle 209"/>
          <p:cNvSpPr/>
          <p:nvPr/>
        </p:nvSpPr>
        <p:spPr>
          <a:xfrm rot="1582200">
            <a:off x="3463560" y="28728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0" name="Rectangle 210"/>
          <p:cNvSpPr/>
          <p:nvPr/>
        </p:nvSpPr>
        <p:spPr>
          <a:xfrm rot="2220600">
            <a:off x="331128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1" name="Rectangle 211"/>
          <p:cNvSpPr/>
          <p:nvPr/>
        </p:nvSpPr>
        <p:spPr>
          <a:xfrm rot="2274000">
            <a:off x="3551040" y="2314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2" name="Rectangle 212"/>
          <p:cNvSpPr/>
          <p:nvPr/>
        </p:nvSpPr>
        <p:spPr>
          <a:xfrm rot="1785600">
            <a:off x="3839760" y="1648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3" name="Rectangle 213"/>
          <p:cNvSpPr/>
          <p:nvPr/>
        </p:nvSpPr>
        <p:spPr>
          <a:xfrm rot="1393800">
            <a:off x="3725640" y="155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4" name="Rectangle 214"/>
          <p:cNvSpPr/>
          <p:nvPr/>
        </p:nvSpPr>
        <p:spPr>
          <a:xfrm rot="1313400">
            <a:off x="39970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5" name="Rectangle 215"/>
          <p:cNvSpPr/>
          <p:nvPr/>
        </p:nvSpPr>
        <p:spPr>
          <a:xfrm rot="1582200">
            <a:off x="407340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6" name="Rectangle 216"/>
          <p:cNvSpPr/>
          <p:nvPr/>
        </p:nvSpPr>
        <p:spPr>
          <a:xfrm rot="1582200">
            <a:off x="430200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7" name="Rectangle 217"/>
          <p:cNvSpPr/>
          <p:nvPr/>
        </p:nvSpPr>
        <p:spPr>
          <a:xfrm rot="1245000">
            <a:off x="42256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8" name="Rectangle 218"/>
          <p:cNvSpPr/>
          <p:nvPr/>
        </p:nvSpPr>
        <p:spPr>
          <a:xfrm rot="1950000">
            <a:off x="4433400" y="282600"/>
            <a:ext cx="120600" cy="65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9" name="WordArt 170"/>
          <p:cNvSpPr txBox="1"/>
          <p:nvPr/>
        </p:nvSpPr>
        <p:spPr>
          <a:xfrm rot="360000">
            <a:off x="3266640" y="471240"/>
            <a:ext cx="18334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o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0" name="WordArt 16"/>
          <p:cNvSpPr txBox="1"/>
          <p:nvPr/>
        </p:nvSpPr>
        <p:spPr>
          <a:xfrm>
            <a:off x="1949400" y="2021040"/>
            <a:ext cx="2565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bes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1" name="WordArt 17"/>
          <p:cNvSpPr txBox="1"/>
          <p:nvPr/>
        </p:nvSpPr>
        <p:spPr>
          <a:xfrm rot="5400000">
            <a:off x="1770840" y="2847240"/>
            <a:ext cx="52560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wishes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2" name="Freeform 729"/>
          <p:cNvSpPr/>
          <p:nvPr/>
        </p:nvSpPr>
        <p:spPr>
          <a:xfrm>
            <a:off x="5745240" y="2894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3" name="Freeform 730"/>
          <p:cNvSpPr/>
          <p:nvPr/>
        </p:nvSpPr>
        <p:spPr>
          <a:xfrm flipV="1">
            <a:off x="5757840" y="3492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4" name="Freeform 731"/>
          <p:cNvSpPr/>
          <p:nvPr/>
        </p:nvSpPr>
        <p:spPr>
          <a:xfrm flipH="1" flipV="1">
            <a:off x="5141880" y="3500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5" name="Freeform 732"/>
          <p:cNvSpPr/>
          <p:nvPr/>
        </p:nvSpPr>
        <p:spPr>
          <a:xfrm flipH="1">
            <a:off x="5139720" y="28926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6" name="Rectangle 752"/>
          <p:cNvSpPr/>
          <p:nvPr/>
        </p:nvSpPr>
        <p:spPr>
          <a:xfrm rot="20063400">
            <a:off x="4241520" y="1855800"/>
            <a:ext cx="2357280" cy="2717640"/>
          </a:xfrm>
          <a:prstGeom prst="rect">
            <a:avLst/>
          </a:prstGeom>
          <a:blipFill rotWithShape="0">
            <a:blip r:embed="rId23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7" name="Rectangle 753"/>
          <p:cNvSpPr/>
          <p:nvPr/>
        </p:nvSpPr>
        <p:spPr>
          <a:xfrm rot="20674800">
            <a:off x="5346720" y="1833480"/>
            <a:ext cx="2004840" cy="2311560"/>
          </a:xfrm>
          <a:prstGeom prst="rect">
            <a:avLst/>
          </a:prstGeom>
          <a:blipFill rotWithShape="0">
            <a:blip r:embed="rId24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8" name="Rectangle 754"/>
          <p:cNvSpPr/>
          <p:nvPr/>
        </p:nvSpPr>
        <p:spPr>
          <a:xfrm>
            <a:off x="6558120" y="1922400"/>
            <a:ext cx="1809720" cy="2086200"/>
          </a:xfrm>
          <a:prstGeom prst="rect">
            <a:avLst/>
          </a:prstGeom>
          <a:blipFill rotWithShape="0">
            <a:blip r:embed="rId25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9" name="Rectangle 755"/>
          <p:cNvSpPr/>
          <p:nvPr/>
        </p:nvSpPr>
        <p:spPr>
          <a:xfrm rot="889200">
            <a:off x="7584840" y="2252520"/>
            <a:ext cx="1563480" cy="1801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0" name="WordArt 772"/>
          <p:cNvSpPr txBox="1"/>
          <p:nvPr/>
        </p:nvSpPr>
        <p:spPr>
          <a:xfrm rot="360000">
            <a:off x="3332160" y="404280"/>
            <a:ext cx="17575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happ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1" name="WordArt 773"/>
          <p:cNvSpPr txBox="1"/>
          <p:nvPr/>
        </p:nvSpPr>
        <p:spPr>
          <a:xfrm rot="360000">
            <a:off x="5436720" y="484200"/>
            <a:ext cx="14907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veryda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2" name="Picture 1534" descr="7"/>
          <p:cNvPicPr/>
          <p:nvPr/>
        </p:nvPicPr>
        <p:blipFill>
          <a:blip r:embed="rId27"/>
          <a:stretch/>
        </p:blipFill>
        <p:spPr>
          <a:xfrm>
            <a:off x="5972040" y="2871720"/>
            <a:ext cx="3527640" cy="352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535" descr="未标题-2"/>
          <p:cNvPicPr/>
          <p:nvPr/>
        </p:nvPicPr>
        <p:blipFill>
          <a:blip r:embed="rId28"/>
          <a:stretch/>
        </p:blipFill>
        <p:spPr>
          <a:xfrm>
            <a:off x="3562200" y="2792520"/>
            <a:ext cx="8391600" cy="2442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40" descr="未标题-2"/>
          <p:cNvPicPr/>
          <p:nvPr/>
        </p:nvPicPr>
        <p:blipFill>
          <a:blip r:embed="rId29"/>
          <a:stretch/>
        </p:blipFill>
        <p:spPr>
          <a:xfrm>
            <a:off x="5135400" y="461016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41" descr="7"/>
          <p:cNvPicPr/>
          <p:nvPr/>
        </p:nvPicPr>
        <p:blipFill>
          <a:blip r:embed="rId30"/>
          <a:stretch/>
        </p:blipFill>
        <p:spPr>
          <a:xfrm>
            <a:off x="8440560" y="203976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42" descr="1"/>
          <p:cNvPicPr/>
          <p:nvPr/>
        </p:nvPicPr>
        <p:blipFill>
          <a:blip r:embed="rId31"/>
          <a:stretch/>
        </p:blipFill>
        <p:spPr>
          <a:xfrm>
            <a:off x="3451320" y="268596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43" descr="2"/>
          <p:cNvPicPr/>
          <p:nvPr/>
        </p:nvPicPr>
        <p:blipFill>
          <a:blip r:embed="rId32"/>
          <a:stretch/>
        </p:blipFill>
        <p:spPr>
          <a:xfrm>
            <a:off x="7386480" y="23256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44" descr="6"/>
          <p:cNvPicPr/>
          <p:nvPr/>
        </p:nvPicPr>
        <p:blipFill>
          <a:blip r:embed="rId33"/>
          <a:stretch/>
        </p:blipFill>
        <p:spPr>
          <a:xfrm>
            <a:off x="4948200" y="321624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659" name="Oval 1545"/>
          <p:cNvSpPr/>
          <p:nvPr/>
        </p:nvSpPr>
        <p:spPr>
          <a:xfrm rot="9136200">
            <a:off x="2456640" y="3519000"/>
            <a:ext cx="1854360" cy="1854360"/>
          </a:xfrm>
          <a:prstGeom prst="ellipse">
            <a:avLst/>
          </a:prstGeom>
          <a:gradFill rotWithShape="0">
            <a:gsLst>
              <a:gs pos="0">
                <a:srgbClr val="800080">
                  <a:alpha val="20000"/>
                </a:srgbClr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0" name="Oval 1546"/>
          <p:cNvSpPr/>
          <p:nvPr/>
        </p:nvSpPr>
        <p:spPr>
          <a:xfrm rot="9136200">
            <a:off x="2642400" y="3657240"/>
            <a:ext cx="1668600" cy="16700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1" name="Oval 1547"/>
          <p:cNvSpPr/>
          <p:nvPr/>
        </p:nvSpPr>
        <p:spPr>
          <a:xfrm rot="9136200">
            <a:off x="2799720" y="3803400"/>
            <a:ext cx="1492200" cy="1492200"/>
          </a:xfrm>
          <a:prstGeom prst="ellipse">
            <a:avLst/>
          </a:prstGeom>
          <a:gradFill rotWithShape="0">
            <a:gsLst>
              <a:gs pos="0">
                <a:srgbClr val="ff3b8a"/>
              </a:gs>
              <a:gs pos="100000">
                <a:srgbClr val="de005a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2" name="Oval 1548"/>
          <p:cNvSpPr/>
          <p:nvPr/>
        </p:nvSpPr>
        <p:spPr>
          <a:xfrm rot="9136200">
            <a:off x="3025800" y="3973320"/>
            <a:ext cx="1257120" cy="1257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b3b3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3" name="Oval 1549"/>
          <p:cNvSpPr/>
          <p:nvPr/>
        </p:nvSpPr>
        <p:spPr>
          <a:xfrm rot="9136200">
            <a:off x="3238200" y="4120920"/>
            <a:ext cx="1039680" cy="1039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d28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4" name="Oval 1550"/>
          <p:cNvSpPr/>
          <p:nvPr/>
        </p:nvSpPr>
        <p:spPr>
          <a:xfrm rot="9136200">
            <a:off x="3387240" y="4217760"/>
            <a:ext cx="889200" cy="885600"/>
          </a:xfrm>
          <a:prstGeom prst="ellipse">
            <a:avLst/>
          </a:prstGeom>
          <a:gradFill rotWithShape="0">
            <a:gsLst>
              <a:gs pos="0">
                <a:srgbClr val="ffd28f"/>
              </a:gs>
              <a:gs pos="100000">
                <a:srgbClr val="ff99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5" name="Oval 1551"/>
          <p:cNvSpPr/>
          <p:nvPr/>
        </p:nvSpPr>
        <p:spPr>
          <a:xfrm rot="9136200">
            <a:off x="3497040" y="429732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666" name="Picture 1552" descr="未标题-1"/>
          <p:cNvPicPr/>
          <p:nvPr/>
        </p:nvPicPr>
        <p:blipFill>
          <a:blip r:embed="rId34"/>
          <a:stretch/>
        </p:blipFill>
        <p:spPr>
          <a:xfrm>
            <a:off x="4056120" y="1398600"/>
            <a:ext cx="5656320" cy="4070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53" descr="未标题-2"/>
          <p:cNvPicPr/>
          <p:nvPr/>
        </p:nvPicPr>
        <p:blipFill>
          <a:blip r:embed="rId35"/>
          <a:stretch/>
        </p:blipFill>
        <p:spPr>
          <a:xfrm>
            <a:off x="6500880" y="3944880"/>
            <a:ext cx="712800" cy="716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554" descr="4"/>
          <p:cNvPicPr/>
          <p:nvPr/>
        </p:nvPicPr>
        <p:blipFill>
          <a:blip r:embed="rId36"/>
          <a:stretch/>
        </p:blipFill>
        <p:spPr>
          <a:xfrm>
            <a:off x="6075360" y="4248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55" descr="未标题-2"/>
          <p:cNvPicPr/>
          <p:nvPr/>
        </p:nvPicPr>
        <p:blipFill>
          <a:blip r:embed="rId37"/>
          <a:stretch/>
        </p:blipFill>
        <p:spPr>
          <a:xfrm>
            <a:off x="7632720" y="3973680"/>
            <a:ext cx="1643040" cy="166032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137120" y="2168640"/>
            <a:ext cx="857160" cy="825480"/>
            <a:chOff x="4137120" y="2168640"/>
            <a:chExt cx="857160" cy="825480"/>
          </a:xfrm>
        </p:grpSpPr>
        <p:sp>
          <p:nvSpPr>
            <p:cNvPr id="671" name="Freeform 1557"/>
            <p:cNvSpPr/>
            <p:nvPr/>
          </p:nvSpPr>
          <p:spPr>
            <a:xfrm>
              <a:off x="4137120" y="2168640"/>
              <a:ext cx="857160" cy="825480"/>
            </a:xfrm>
            <a:custGeom>
              <a:avLst/>
              <a:gdLst/>
              <a:ahLst/>
              <a:rect l="l" t="t" r="r" b="b"/>
              <a:pathLst>
                <a:path w="744" h="716">
                  <a:moveTo>
                    <a:pt x="156" y="0"/>
                  </a:moveTo>
                  <a:lnTo>
                    <a:pt x="184" y="255"/>
                  </a:lnTo>
                  <a:lnTo>
                    <a:pt x="0" y="435"/>
                  </a:lnTo>
                  <a:lnTo>
                    <a:pt x="253" y="485"/>
                  </a:lnTo>
                  <a:lnTo>
                    <a:pt x="366" y="716"/>
                  </a:lnTo>
                  <a:lnTo>
                    <a:pt x="491" y="492"/>
                  </a:lnTo>
                  <a:lnTo>
                    <a:pt x="744" y="456"/>
                  </a:lnTo>
                  <a:lnTo>
                    <a:pt x="572" y="267"/>
                  </a:lnTo>
                  <a:lnTo>
                    <a:pt x="614" y="15"/>
                  </a:lnTo>
                  <a:lnTo>
                    <a:pt x="383" y="12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2" name="Freeform 1558"/>
            <p:cNvSpPr/>
            <p:nvPr/>
          </p:nvSpPr>
          <p:spPr>
            <a:xfrm>
              <a:off x="4196880" y="2218320"/>
              <a:ext cx="735120" cy="705240"/>
            </a:xfrm>
            <a:custGeom>
              <a:avLst/>
              <a:gdLst/>
              <a:ahLst/>
              <a:rect l="l" t="t" r="r" b="b"/>
              <a:pathLst>
                <a:path w="638" h="612">
                  <a:moveTo>
                    <a:pt x="132" y="0"/>
                  </a:moveTo>
                  <a:lnTo>
                    <a:pt x="158" y="220"/>
                  </a:lnTo>
                  <a:lnTo>
                    <a:pt x="0" y="373"/>
                  </a:lnTo>
                  <a:lnTo>
                    <a:pt x="215" y="416"/>
                  </a:lnTo>
                  <a:lnTo>
                    <a:pt x="312" y="612"/>
                  </a:lnTo>
                  <a:lnTo>
                    <a:pt x="418" y="420"/>
                  </a:lnTo>
                  <a:lnTo>
                    <a:pt x="638" y="390"/>
                  </a:lnTo>
                  <a:lnTo>
                    <a:pt x="486" y="229"/>
                  </a:lnTo>
                  <a:lnTo>
                    <a:pt x="527" y="12"/>
                  </a:lnTo>
                  <a:lnTo>
                    <a:pt x="326" y="1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3" name="Freeform 1559"/>
            <p:cNvSpPr/>
            <p:nvPr/>
          </p:nvSpPr>
          <p:spPr>
            <a:xfrm>
              <a:off x="4311000" y="2315880"/>
              <a:ext cx="497520" cy="47628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90" y="0"/>
                  </a:moveTo>
                  <a:lnTo>
                    <a:pt x="109" y="146"/>
                  </a:lnTo>
                  <a:lnTo>
                    <a:pt x="0" y="250"/>
                  </a:lnTo>
                  <a:lnTo>
                    <a:pt x="147" y="281"/>
                  </a:lnTo>
                  <a:lnTo>
                    <a:pt x="213" y="413"/>
                  </a:lnTo>
                  <a:lnTo>
                    <a:pt x="284" y="283"/>
                  </a:lnTo>
                  <a:lnTo>
                    <a:pt x="432" y="262"/>
                  </a:lnTo>
                  <a:lnTo>
                    <a:pt x="331" y="153"/>
                  </a:lnTo>
                  <a:lnTo>
                    <a:pt x="357" y="7"/>
                  </a:lnTo>
                  <a:lnTo>
                    <a:pt x="222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38440" y="1757520"/>
            <a:ext cx="327240" cy="323640"/>
            <a:chOff x="3538440" y="1757520"/>
            <a:chExt cx="327240" cy="323640"/>
          </a:xfrm>
        </p:grpSpPr>
        <p:sp>
          <p:nvSpPr>
            <p:cNvPr id="675" name="Freeform 1561"/>
            <p:cNvSpPr/>
            <p:nvPr/>
          </p:nvSpPr>
          <p:spPr>
            <a:xfrm>
              <a:off x="3538440" y="1757520"/>
              <a:ext cx="327240" cy="323640"/>
            </a:xfrm>
            <a:custGeom>
              <a:avLst/>
              <a:gdLst/>
              <a:ahLst/>
              <a:rect l="l" t="t" r="r" b="b"/>
              <a:pathLst>
                <a:path w="435" h="430">
                  <a:moveTo>
                    <a:pt x="316" y="0"/>
                  </a:moveTo>
                  <a:lnTo>
                    <a:pt x="191" y="83"/>
                  </a:lnTo>
                  <a:lnTo>
                    <a:pt x="47" y="36"/>
                  </a:lnTo>
                  <a:lnTo>
                    <a:pt x="90" y="180"/>
                  </a:lnTo>
                  <a:lnTo>
                    <a:pt x="0" y="303"/>
                  </a:lnTo>
                  <a:lnTo>
                    <a:pt x="151" y="307"/>
                  </a:lnTo>
                  <a:lnTo>
                    <a:pt x="239" y="430"/>
                  </a:lnTo>
                  <a:lnTo>
                    <a:pt x="290" y="289"/>
                  </a:lnTo>
                  <a:lnTo>
                    <a:pt x="435" y="244"/>
                  </a:lnTo>
                  <a:lnTo>
                    <a:pt x="314" y="15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6" name="Freeform 1562"/>
            <p:cNvSpPr/>
            <p:nvPr/>
          </p:nvSpPr>
          <p:spPr>
            <a:xfrm>
              <a:off x="3561480" y="1776960"/>
              <a:ext cx="278280" cy="277560"/>
            </a:xfrm>
            <a:custGeom>
              <a:avLst/>
              <a:gdLst/>
              <a:ahLst/>
              <a:rect l="l" t="t" r="r" b="b"/>
              <a:pathLst>
                <a:path w="370" h="369">
                  <a:moveTo>
                    <a:pt x="271" y="0"/>
                  </a:moveTo>
                  <a:lnTo>
                    <a:pt x="165" y="71"/>
                  </a:lnTo>
                  <a:lnTo>
                    <a:pt x="42" y="31"/>
                  </a:lnTo>
                  <a:lnTo>
                    <a:pt x="78" y="154"/>
                  </a:lnTo>
                  <a:lnTo>
                    <a:pt x="0" y="258"/>
                  </a:lnTo>
                  <a:lnTo>
                    <a:pt x="130" y="263"/>
                  </a:lnTo>
                  <a:lnTo>
                    <a:pt x="203" y="369"/>
                  </a:lnTo>
                  <a:lnTo>
                    <a:pt x="248" y="248"/>
                  </a:lnTo>
                  <a:lnTo>
                    <a:pt x="370" y="208"/>
                  </a:lnTo>
                  <a:lnTo>
                    <a:pt x="269" y="13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7" name="Freeform 1563"/>
            <p:cNvSpPr/>
            <p:nvPr/>
          </p:nvSpPr>
          <p:spPr>
            <a:xfrm>
              <a:off x="3606120" y="1816200"/>
              <a:ext cx="189360" cy="189000"/>
            </a:xfrm>
            <a:custGeom>
              <a:avLst/>
              <a:gdLst/>
              <a:ahLst/>
              <a:rect l="l" t="t" r="r" b="b"/>
              <a:pathLst>
                <a:path w="252" h="251">
                  <a:moveTo>
                    <a:pt x="184" y="0"/>
                  </a:moveTo>
                  <a:lnTo>
                    <a:pt x="111" y="50"/>
                  </a:lnTo>
                  <a:lnTo>
                    <a:pt x="28" y="22"/>
                  </a:lnTo>
                  <a:lnTo>
                    <a:pt x="52" y="107"/>
                  </a:lnTo>
                  <a:lnTo>
                    <a:pt x="0" y="175"/>
                  </a:lnTo>
                  <a:lnTo>
                    <a:pt x="87" y="180"/>
                  </a:lnTo>
                  <a:lnTo>
                    <a:pt x="137" y="251"/>
                  </a:lnTo>
                  <a:lnTo>
                    <a:pt x="167" y="168"/>
                  </a:lnTo>
                  <a:lnTo>
                    <a:pt x="252" y="142"/>
                  </a:lnTo>
                  <a:lnTo>
                    <a:pt x="182" y="8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55880" y="3330720"/>
            <a:ext cx="531720" cy="512640"/>
            <a:chOff x="2855880" y="3330720"/>
            <a:chExt cx="531720" cy="512640"/>
          </a:xfrm>
        </p:grpSpPr>
        <p:sp>
          <p:nvSpPr>
            <p:cNvPr id="679" name="Freeform 1537"/>
            <p:cNvSpPr/>
            <p:nvPr/>
          </p:nvSpPr>
          <p:spPr>
            <a:xfrm>
              <a:off x="2855880" y="3330720"/>
              <a:ext cx="531720" cy="512640"/>
            </a:xfrm>
            <a:custGeom>
              <a:avLst/>
              <a:gdLst/>
              <a:ahLst/>
              <a:rect l="l" t="t" r="r" b="b"/>
              <a:pathLst>
                <a:path w="335" h="323">
                  <a:moveTo>
                    <a:pt x="68" y="0"/>
                  </a:moveTo>
                  <a:lnTo>
                    <a:pt x="82" y="115"/>
                  </a:lnTo>
                  <a:lnTo>
                    <a:pt x="0" y="196"/>
                  </a:lnTo>
                  <a:lnTo>
                    <a:pt x="113" y="219"/>
                  </a:lnTo>
                  <a:lnTo>
                    <a:pt x="163" y="323"/>
                  </a:lnTo>
                  <a:lnTo>
                    <a:pt x="219" y="222"/>
                  </a:lnTo>
                  <a:lnTo>
                    <a:pt x="335" y="205"/>
                  </a:lnTo>
                  <a:lnTo>
                    <a:pt x="257" y="120"/>
                  </a:lnTo>
                  <a:lnTo>
                    <a:pt x="276" y="7"/>
                  </a:lnTo>
                  <a:lnTo>
                    <a:pt x="172" y="5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0" name="Freeform 1538"/>
            <p:cNvSpPr/>
            <p:nvPr/>
          </p:nvSpPr>
          <p:spPr>
            <a:xfrm>
              <a:off x="2889360" y="3360960"/>
              <a:ext cx="457200" cy="441360"/>
            </a:xfrm>
            <a:custGeom>
              <a:avLst/>
              <a:gdLst/>
              <a:ahLst/>
              <a:rect l="l" t="t" r="r" b="b"/>
              <a:pathLst>
                <a:path w="288" h="278">
                  <a:moveTo>
                    <a:pt x="61" y="0"/>
                  </a:moveTo>
                  <a:lnTo>
                    <a:pt x="73" y="99"/>
                  </a:lnTo>
                  <a:lnTo>
                    <a:pt x="0" y="167"/>
                  </a:lnTo>
                  <a:lnTo>
                    <a:pt x="99" y="188"/>
                  </a:lnTo>
                  <a:lnTo>
                    <a:pt x="142" y="278"/>
                  </a:lnTo>
                  <a:lnTo>
                    <a:pt x="191" y="191"/>
                  </a:lnTo>
                  <a:lnTo>
                    <a:pt x="288" y="177"/>
                  </a:lnTo>
                  <a:lnTo>
                    <a:pt x="222" y="103"/>
                  </a:lnTo>
                  <a:lnTo>
                    <a:pt x="238" y="7"/>
                  </a:lnTo>
                  <a:lnTo>
                    <a:pt x="149" y="4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1" name="Freeform 1539"/>
            <p:cNvSpPr/>
            <p:nvPr/>
          </p:nvSpPr>
          <p:spPr>
            <a:xfrm>
              <a:off x="2963880" y="3424320"/>
              <a:ext cx="307800" cy="29520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40" y="0"/>
                  </a:moveTo>
                  <a:lnTo>
                    <a:pt x="47" y="66"/>
                  </a:lnTo>
                  <a:lnTo>
                    <a:pt x="0" y="113"/>
                  </a:lnTo>
                  <a:lnTo>
                    <a:pt x="66" y="125"/>
                  </a:lnTo>
                  <a:lnTo>
                    <a:pt x="95" y="186"/>
                  </a:lnTo>
                  <a:lnTo>
                    <a:pt x="128" y="127"/>
                  </a:lnTo>
                  <a:lnTo>
                    <a:pt x="194" y="118"/>
                  </a:lnTo>
                  <a:lnTo>
                    <a:pt x="149" y="68"/>
                  </a:lnTo>
                  <a:lnTo>
                    <a:pt x="161" y="2"/>
                  </a:lnTo>
                  <a:lnTo>
                    <a:pt x="99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82" name="Freeform 1565"/>
          <p:cNvSpPr/>
          <p:nvPr/>
        </p:nvSpPr>
        <p:spPr>
          <a:xfrm>
            <a:off x="-8264520" y="1811160"/>
            <a:ext cx="6781680" cy="1962360"/>
          </a:xfrm>
          <a:custGeom>
            <a:avLst/>
            <a:gdLst/>
            <a:ahLst/>
            <a:rect l="l" t="t" r="r" b="b"/>
            <a:pathLst>
              <a:path w="4445" h="1286">
                <a:moveTo>
                  <a:pt x="1757" y="267"/>
                </a:moveTo>
                <a:cubicBezTo>
                  <a:pt x="2169" y="118"/>
                  <a:pt x="2269" y="84"/>
                  <a:pt x="2511" y="42"/>
                </a:cubicBezTo>
                <a:cubicBezTo>
                  <a:pt x="2754" y="0"/>
                  <a:pt x="3026" y="24"/>
                  <a:pt x="3212" y="17"/>
                </a:cubicBezTo>
                <a:cubicBezTo>
                  <a:pt x="3399" y="15"/>
                  <a:pt x="3510" y="21"/>
                  <a:pt x="3636" y="27"/>
                </a:cubicBezTo>
                <a:cubicBezTo>
                  <a:pt x="3678" y="25"/>
                  <a:pt x="3850" y="38"/>
                  <a:pt x="3970" y="53"/>
                </a:cubicBezTo>
                <a:cubicBezTo>
                  <a:pt x="4073" y="62"/>
                  <a:pt x="4162" y="73"/>
                  <a:pt x="4237" y="87"/>
                </a:cubicBezTo>
                <a:cubicBezTo>
                  <a:pt x="4333" y="87"/>
                  <a:pt x="4445" y="115"/>
                  <a:pt x="4417" y="163"/>
                </a:cubicBezTo>
                <a:cubicBezTo>
                  <a:pt x="4389" y="211"/>
                  <a:pt x="4383" y="226"/>
                  <a:pt x="4265" y="251"/>
                </a:cubicBezTo>
                <a:cubicBezTo>
                  <a:pt x="4147" y="276"/>
                  <a:pt x="3864" y="300"/>
                  <a:pt x="3708" y="311"/>
                </a:cubicBezTo>
                <a:cubicBezTo>
                  <a:pt x="3579" y="322"/>
                  <a:pt x="3507" y="323"/>
                  <a:pt x="3326" y="323"/>
                </a:cubicBezTo>
                <a:cubicBezTo>
                  <a:pt x="3379" y="355"/>
                  <a:pt x="3434" y="413"/>
                  <a:pt x="3454" y="476"/>
                </a:cubicBezTo>
                <a:cubicBezTo>
                  <a:pt x="3474" y="540"/>
                  <a:pt x="3512" y="677"/>
                  <a:pt x="3238" y="732"/>
                </a:cubicBezTo>
                <a:cubicBezTo>
                  <a:pt x="3286" y="789"/>
                  <a:pt x="3291" y="897"/>
                  <a:pt x="3262" y="945"/>
                </a:cubicBezTo>
                <a:cubicBezTo>
                  <a:pt x="3233" y="993"/>
                  <a:pt x="3153" y="1025"/>
                  <a:pt x="3092" y="1020"/>
                </a:cubicBezTo>
                <a:cubicBezTo>
                  <a:pt x="3101" y="1050"/>
                  <a:pt x="3120" y="1143"/>
                  <a:pt x="3097" y="1186"/>
                </a:cubicBezTo>
                <a:cubicBezTo>
                  <a:pt x="3073" y="1229"/>
                  <a:pt x="3002" y="1263"/>
                  <a:pt x="2949" y="1275"/>
                </a:cubicBezTo>
                <a:cubicBezTo>
                  <a:pt x="2896" y="1286"/>
                  <a:pt x="2856" y="1250"/>
                  <a:pt x="2781" y="1254"/>
                </a:cubicBezTo>
                <a:cubicBezTo>
                  <a:pt x="2704" y="1258"/>
                  <a:pt x="2684" y="1270"/>
                  <a:pt x="2640" y="1262"/>
                </a:cubicBezTo>
                <a:cubicBezTo>
                  <a:pt x="2566" y="1266"/>
                  <a:pt x="2429" y="1283"/>
                  <a:pt x="2339" y="1278"/>
                </a:cubicBezTo>
                <a:cubicBezTo>
                  <a:pt x="2240" y="1275"/>
                  <a:pt x="2174" y="1262"/>
                  <a:pt x="2098" y="1238"/>
                </a:cubicBezTo>
                <a:cubicBezTo>
                  <a:pt x="2058" y="1238"/>
                  <a:pt x="1993" y="1242"/>
                  <a:pt x="1927" y="1221"/>
                </a:cubicBezTo>
                <a:cubicBezTo>
                  <a:pt x="1860" y="1200"/>
                  <a:pt x="1805" y="1198"/>
                  <a:pt x="1726" y="1141"/>
                </a:cubicBezTo>
                <a:cubicBezTo>
                  <a:pt x="863" y="1141"/>
                  <a:pt x="0" y="1141"/>
                  <a:pt x="0" y="1141"/>
                </a:cubicBezTo>
                <a:lnTo>
                  <a:pt x="66" y="156"/>
                </a:lnTo>
                <a:cubicBezTo>
                  <a:pt x="359" y="11"/>
                  <a:pt x="1405" y="244"/>
                  <a:pt x="1757" y="26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3" name="Freeform 242"/>
          <p:cNvSpPr/>
          <p:nvPr/>
        </p:nvSpPr>
        <p:spPr>
          <a:xfrm>
            <a:off x="9391680" y="668160"/>
            <a:ext cx="7367400" cy="4038840"/>
          </a:xfrm>
          <a:custGeom>
            <a:avLst/>
            <a:gdLst/>
            <a:ahLst/>
            <a:rect l="l" t="t" r="r" b="b"/>
            <a:pathLst>
              <a:path w="4641" h="2544">
                <a:moveTo>
                  <a:pt x="702" y="400"/>
                </a:moveTo>
                <a:cubicBezTo>
                  <a:pt x="606" y="349"/>
                  <a:pt x="205" y="189"/>
                  <a:pt x="84" y="124"/>
                </a:cubicBezTo>
                <a:cubicBezTo>
                  <a:pt x="81" y="106"/>
                  <a:pt x="82" y="108"/>
                  <a:pt x="74" y="90"/>
                </a:cubicBezTo>
                <a:cubicBezTo>
                  <a:pt x="62" y="74"/>
                  <a:pt x="9" y="54"/>
                  <a:pt x="0" y="40"/>
                </a:cubicBezTo>
                <a:lnTo>
                  <a:pt x="22" y="4"/>
                </a:lnTo>
                <a:cubicBezTo>
                  <a:pt x="39" y="0"/>
                  <a:pt x="83" y="16"/>
                  <a:pt x="102" y="16"/>
                </a:cubicBezTo>
                <a:cubicBezTo>
                  <a:pt x="122" y="14"/>
                  <a:pt x="114" y="16"/>
                  <a:pt x="138" y="4"/>
                </a:cubicBezTo>
                <a:cubicBezTo>
                  <a:pt x="245" y="34"/>
                  <a:pt x="624" y="175"/>
                  <a:pt x="738" y="203"/>
                </a:cubicBezTo>
                <a:cubicBezTo>
                  <a:pt x="720" y="121"/>
                  <a:pt x="855" y="67"/>
                  <a:pt x="900" y="61"/>
                </a:cubicBezTo>
                <a:cubicBezTo>
                  <a:pt x="945" y="55"/>
                  <a:pt x="1013" y="122"/>
                  <a:pt x="1035" y="160"/>
                </a:cubicBezTo>
                <a:cubicBezTo>
                  <a:pt x="1044" y="115"/>
                  <a:pt x="1059" y="52"/>
                  <a:pt x="1149" y="31"/>
                </a:cubicBezTo>
                <a:cubicBezTo>
                  <a:pt x="1239" y="10"/>
                  <a:pt x="1332" y="130"/>
                  <a:pt x="1365" y="184"/>
                </a:cubicBezTo>
                <a:cubicBezTo>
                  <a:pt x="1383" y="151"/>
                  <a:pt x="1389" y="127"/>
                  <a:pt x="1476" y="103"/>
                </a:cubicBezTo>
                <a:cubicBezTo>
                  <a:pt x="1563" y="79"/>
                  <a:pt x="1605" y="136"/>
                  <a:pt x="1654" y="162"/>
                </a:cubicBezTo>
                <a:cubicBezTo>
                  <a:pt x="1746" y="136"/>
                  <a:pt x="1792" y="125"/>
                  <a:pt x="1862" y="138"/>
                </a:cubicBezTo>
                <a:cubicBezTo>
                  <a:pt x="1932" y="151"/>
                  <a:pt x="1971" y="187"/>
                  <a:pt x="2014" y="226"/>
                </a:cubicBezTo>
                <a:cubicBezTo>
                  <a:pt x="2038" y="230"/>
                  <a:pt x="2062" y="234"/>
                  <a:pt x="2062" y="234"/>
                </a:cubicBezTo>
                <a:cubicBezTo>
                  <a:pt x="2078" y="245"/>
                  <a:pt x="2068" y="247"/>
                  <a:pt x="2110" y="294"/>
                </a:cubicBezTo>
                <a:cubicBezTo>
                  <a:pt x="2153" y="343"/>
                  <a:pt x="2248" y="422"/>
                  <a:pt x="2313" y="517"/>
                </a:cubicBezTo>
                <a:cubicBezTo>
                  <a:pt x="2378" y="612"/>
                  <a:pt x="2394" y="732"/>
                  <a:pt x="2598" y="955"/>
                </a:cubicBezTo>
                <a:cubicBezTo>
                  <a:pt x="2802" y="1178"/>
                  <a:pt x="4209" y="1674"/>
                  <a:pt x="4425" y="1927"/>
                </a:cubicBezTo>
                <a:cubicBezTo>
                  <a:pt x="4641" y="2180"/>
                  <a:pt x="4230" y="2544"/>
                  <a:pt x="3895" y="2476"/>
                </a:cubicBezTo>
                <a:cubicBezTo>
                  <a:pt x="3704" y="2398"/>
                  <a:pt x="2633" y="1662"/>
                  <a:pt x="2413" y="1516"/>
                </a:cubicBezTo>
                <a:cubicBezTo>
                  <a:pt x="2193" y="1370"/>
                  <a:pt x="2019" y="1351"/>
                  <a:pt x="1815" y="1300"/>
                </a:cubicBezTo>
                <a:cubicBezTo>
                  <a:pt x="1611" y="1249"/>
                  <a:pt x="1554" y="1225"/>
                  <a:pt x="1377" y="1123"/>
                </a:cubicBezTo>
                <a:cubicBezTo>
                  <a:pt x="1200" y="1021"/>
                  <a:pt x="1223" y="965"/>
                  <a:pt x="1146" y="877"/>
                </a:cubicBezTo>
                <a:cubicBezTo>
                  <a:pt x="1069" y="789"/>
                  <a:pt x="939" y="667"/>
                  <a:pt x="878" y="594"/>
                </a:cubicBezTo>
                <a:cubicBezTo>
                  <a:pt x="777" y="571"/>
                  <a:pt x="646" y="498"/>
                  <a:pt x="646" y="498"/>
                </a:cubicBezTo>
                <a:cubicBezTo>
                  <a:pt x="651" y="457"/>
                  <a:pt x="669" y="430"/>
                  <a:pt x="702" y="40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03480" y="1735200"/>
            <a:ext cx="660240" cy="223920"/>
            <a:chOff x="1203480" y="1735200"/>
            <a:chExt cx="660240" cy="223920"/>
          </a:xfrm>
        </p:grpSpPr>
        <p:sp>
          <p:nvSpPr>
            <p:cNvPr id="685" name="Freeform 1567"/>
            <p:cNvSpPr/>
            <p:nvPr/>
          </p:nvSpPr>
          <p:spPr>
            <a:xfrm>
              <a:off x="1621080" y="1747800"/>
              <a:ext cx="242640" cy="160560"/>
            </a:xfrm>
            <a:custGeom>
              <a:avLst/>
              <a:gdLst/>
              <a:ahLst/>
              <a:rect l="l" t="t" r="r" b="b"/>
              <a:pathLst>
                <a:path w="153" h="101">
                  <a:moveTo>
                    <a:pt x="91" y="0"/>
                  </a:moveTo>
                  <a:lnTo>
                    <a:pt x="153" y="38"/>
                  </a:lnTo>
                  <a:lnTo>
                    <a:pt x="69" y="101"/>
                  </a:lnTo>
                  <a:lnTo>
                    <a:pt x="0" y="6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6" name="Freeform 1568"/>
            <p:cNvSpPr/>
            <p:nvPr/>
          </p:nvSpPr>
          <p:spPr>
            <a:xfrm>
              <a:off x="1203480" y="1735200"/>
              <a:ext cx="264960" cy="146160"/>
            </a:xfrm>
            <a:custGeom>
              <a:avLst/>
              <a:gdLst/>
              <a:ahLst/>
              <a:rect l="l" t="t" r="r" b="b"/>
              <a:pathLst>
                <a:path w="167" h="92">
                  <a:moveTo>
                    <a:pt x="89" y="27"/>
                  </a:moveTo>
                  <a:lnTo>
                    <a:pt x="167" y="0"/>
                  </a:lnTo>
                  <a:lnTo>
                    <a:pt x="70" y="68"/>
                  </a:lnTo>
                  <a:lnTo>
                    <a:pt x="0" y="92"/>
                  </a:lnTo>
                  <a:lnTo>
                    <a:pt x="89" y="27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7" name="Freeform 1569"/>
            <p:cNvSpPr/>
            <p:nvPr/>
          </p:nvSpPr>
          <p:spPr>
            <a:xfrm>
              <a:off x="1278000" y="1843200"/>
              <a:ext cx="338400" cy="115920"/>
            </a:xfrm>
            <a:custGeom>
              <a:avLst/>
              <a:gdLst/>
              <a:ahLst/>
              <a:rect l="l" t="t" r="r" b="b"/>
              <a:pathLst>
                <a:path w="213" h="73">
                  <a:moveTo>
                    <a:pt x="213" y="0"/>
                  </a:moveTo>
                  <a:lnTo>
                    <a:pt x="195" y="73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13720" y="215640"/>
            <a:ext cx="1869840" cy="3246480"/>
            <a:chOff x="513720" y="215640"/>
            <a:chExt cx="1869840" cy="3246480"/>
          </a:xfrm>
        </p:grpSpPr>
        <p:sp>
          <p:nvSpPr>
            <p:cNvPr id="689" name="Freeform 1575"/>
            <p:cNvSpPr/>
            <p:nvPr/>
          </p:nvSpPr>
          <p:spPr>
            <a:xfrm rot="325200">
              <a:off x="1091160" y="1184040"/>
              <a:ext cx="564840" cy="649080"/>
            </a:xfrm>
            <a:custGeom>
              <a:avLst/>
              <a:gdLst/>
              <a:ahLst/>
              <a:rect l="l" t="t" r="r" b="b"/>
              <a:pathLst>
                <a:path w="356" h="409">
                  <a:moveTo>
                    <a:pt x="0" y="57"/>
                  </a:moveTo>
                  <a:cubicBezTo>
                    <a:pt x="32" y="49"/>
                    <a:pt x="180" y="0"/>
                    <a:pt x="191" y="11"/>
                  </a:cubicBezTo>
                  <a:cubicBezTo>
                    <a:pt x="202" y="22"/>
                    <a:pt x="61" y="114"/>
                    <a:pt x="69" y="124"/>
                  </a:cubicBezTo>
                  <a:cubicBezTo>
                    <a:pt x="77" y="134"/>
                    <a:pt x="231" y="65"/>
                    <a:pt x="237" y="74"/>
                  </a:cubicBezTo>
                  <a:cubicBezTo>
                    <a:pt x="243" y="83"/>
                    <a:pt x="99" y="168"/>
                    <a:pt x="105" y="179"/>
                  </a:cubicBezTo>
                  <a:cubicBezTo>
                    <a:pt x="111" y="190"/>
                    <a:pt x="268" y="133"/>
                    <a:pt x="273" y="142"/>
                  </a:cubicBezTo>
                  <a:cubicBezTo>
                    <a:pt x="278" y="151"/>
                    <a:pt x="133" y="224"/>
                    <a:pt x="138" y="235"/>
                  </a:cubicBezTo>
                  <a:cubicBezTo>
                    <a:pt x="143" y="246"/>
                    <a:pt x="299" y="198"/>
                    <a:pt x="303" y="208"/>
                  </a:cubicBezTo>
                  <a:cubicBezTo>
                    <a:pt x="307" y="218"/>
                    <a:pt x="160" y="286"/>
                    <a:pt x="164" y="298"/>
                  </a:cubicBezTo>
                  <a:cubicBezTo>
                    <a:pt x="168" y="310"/>
                    <a:pt x="327" y="271"/>
                    <a:pt x="330" y="280"/>
                  </a:cubicBezTo>
                  <a:cubicBezTo>
                    <a:pt x="333" y="289"/>
                    <a:pt x="179" y="342"/>
                    <a:pt x="183" y="355"/>
                  </a:cubicBezTo>
                  <a:cubicBezTo>
                    <a:pt x="187" y="368"/>
                    <a:pt x="352" y="350"/>
                    <a:pt x="354" y="359"/>
                  </a:cubicBezTo>
                  <a:cubicBezTo>
                    <a:pt x="356" y="368"/>
                    <a:pt x="190" y="384"/>
                    <a:pt x="195" y="40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pic>
          <p:nvPicPr>
            <p:cNvPr id="690" name="Picture 1576" descr="未标题-1"/>
            <p:cNvPicPr/>
            <p:nvPr/>
          </p:nvPicPr>
          <p:blipFill>
            <a:blip r:embed="rId38"/>
            <a:stretch/>
          </p:blipFill>
          <p:spPr>
            <a:xfrm rot="20544600">
              <a:off x="634680" y="364320"/>
              <a:ext cx="1136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Rectangle 1577"/>
            <p:cNvSpPr/>
            <p:nvPr/>
          </p:nvSpPr>
          <p:spPr>
            <a:xfrm rot="325200">
              <a:off x="1178640" y="1917720"/>
              <a:ext cx="11365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92" name="Line 1583"/>
          <p:cNvSpPr/>
          <p:nvPr/>
        </p:nvSpPr>
        <p:spPr>
          <a:xfrm>
            <a:off x="1387440" y="183672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30960" y="897480"/>
            <a:ext cx="1333440" cy="964080"/>
            <a:chOff x="930960" y="897480"/>
            <a:chExt cx="1333440" cy="964080"/>
          </a:xfrm>
        </p:grpSpPr>
        <p:grpSp>
          <p:nvGrpSpPr>
            <p:cNvPr id="694" name=""/>
            <p:cNvGrpSpPr/>
            <p:nvPr/>
          </p:nvGrpSpPr>
          <p:grpSpPr>
            <a:xfrm>
              <a:off x="1612080" y="897480"/>
              <a:ext cx="652320" cy="547200"/>
              <a:chOff x="1612080" y="897480"/>
              <a:chExt cx="652320" cy="547200"/>
            </a:xfrm>
          </p:grpSpPr>
          <p:sp>
            <p:nvSpPr>
              <p:cNvPr id="695" name="Line 1590"/>
              <p:cNvSpPr/>
              <p:nvPr/>
            </p:nvSpPr>
            <p:spPr>
              <a:xfrm flipV="1">
                <a:off x="1612080" y="1215000"/>
                <a:ext cx="375120" cy="2001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696" name="Picture 1591" descr="未标题-1"/>
              <p:cNvPicPr/>
              <p:nvPr/>
            </p:nvPicPr>
            <p:blipFill>
              <a:blip r:embed="rId39"/>
              <a:stretch/>
            </p:blipFill>
            <p:spPr>
              <a:xfrm flipH="1" rot="3286800">
                <a:off x="1794240" y="975240"/>
                <a:ext cx="39348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Rectangle 1592"/>
            <p:cNvSpPr/>
            <p:nvPr/>
          </p:nvSpPr>
          <p:spPr>
            <a:xfrm rot="19911000">
              <a:off x="984960" y="1339920"/>
              <a:ext cx="647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00560" y="1172880"/>
            <a:ext cx="1314360" cy="479520"/>
            <a:chOff x="700560" y="1172880"/>
            <a:chExt cx="1314360" cy="479520"/>
          </a:xfrm>
        </p:grpSpPr>
        <p:grpSp>
          <p:nvGrpSpPr>
            <p:cNvPr id="699" name=""/>
            <p:cNvGrpSpPr/>
            <p:nvPr/>
          </p:nvGrpSpPr>
          <p:grpSpPr>
            <a:xfrm>
              <a:off x="700560" y="1238400"/>
              <a:ext cx="657720" cy="414000"/>
              <a:chOff x="700560" y="1238400"/>
              <a:chExt cx="657720" cy="414000"/>
            </a:xfrm>
          </p:grpSpPr>
          <p:sp>
            <p:nvSpPr>
              <p:cNvPr id="700" name="Line 1596"/>
              <p:cNvSpPr/>
              <p:nvPr/>
            </p:nvSpPr>
            <p:spPr>
              <a:xfrm flipH="1">
                <a:off x="933840" y="1450080"/>
                <a:ext cx="424440" cy="302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01" name="Picture 1597" descr="未标题-1"/>
              <p:cNvPicPr/>
              <p:nvPr/>
            </p:nvPicPr>
            <p:blipFill>
              <a:blip r:embed="rId40"/>
              <a:stretch/>
            </p:blipFill>
            <p:spPr>
              <a:xfrm rot="16386000">
                <a:off x="710280" y="1248840"/>
                <a:ext cx="39348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Rectangle 1598"/>
            <p:cNvSpPr/>
            <p:nvPr/>
          </p:nvSpPr>
          <p:spPr>
            <a:xfrm flipH="1" rot="21360000">
              <a:off x="1354320" y="1194840"/>
              <a:ext cx="6476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03" name="Rectangle 1599"/>
          <p:cNvSpPr/>
          <p:nvPr/>
        </p:nvSpPr>
        <p:spPr>
          <a:xfrm rot="21132600">
            <a:off x="2316240" y="-237960"/>
            <a:ext cx="662472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4" name="Rectangle 1600"/>
          <p:cNvSpPr/>
          <p:nvPr/>
        </p:nvSpPr>
        <p:spPr>
          <a:xfrm rot="21361200">
            <a:off x="2387520" y="728280"/>
            <a:ext cx="68468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5" name="Rectangle 1601"/>
          <p:cNvSpPr/>
          <p:nvPr/>
        </p:nvSpPr>
        <p:spPr>
          <a:xfrm rot="21132600">
            <a:off x="2287080" y="1568520"/>
            <a:ext cx="68598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6" name="Rectangle 1602"/>
          <p:cNvSpPr/>
          <p:nvPr/>
        </p:nvSpPr>
        <p:spPr>
          <a:xfrm rot="21371400">
            <a:off x="2212920" y="2436480"/>
            <a:ext cx="7102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7" name="Rectangle 1603"/>
          <p:cNvSpPr/>
          <p:nvPr/>
        </p:nvSpPr>
        <p:spPr>
          <a:xfrm rot="21371400">
            <a:off x="2216160" y="3525840"/>
            <a:ext cx="751032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8" name="Rectangle 1604"/>
          <p:cNvSpPr/>
          <p:nvPr/>
        </p:nvSpPr>
        <p:spPr>
          <a:xfrm rot="21333600">
            <a:off x="2058840" y="4363560"/>
            <a:ext cx="76662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790120" y="6106680"/>
            <a:ext cx="872640" cy="999360"/>
            <a:chOff x="8790120" y="6106680"/>
            <a:chExt cx="872640" cy="999360"/>
          </a:xfrm>
        </p:grpSpPr>
        <p:sp>
          <p:nvSpPr>
            <p:cNvPr id="710" name="Rectangle 1618"/>
            <p:cNvSpPr/>
            <p:nvPr/>
          </p:nvSpPr>
          <p:spPr>
            <a:xfrm rot="21142200">
              <a:off x="8846640" y="6152760"/>
              <a:ext cx="758880" cy="9064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8820720" y="6149520"/>
              <a:ext cx="795600" cy="871560"/>
              <a:chOff x="8820720" y="6149520"/>
              <a:chExt cx="795600" cy="871560"/>
            </a:xfrm>
          </p:grpSpPr>
          <p:sp>
            <p:nvSpPr>
              <p:cNvPr id="712" name="Rectangle 1616"/>
              <p:cNvSpPr/>
              <p:nvPr/>
            </p:nvSpPr>
            <p:spPr>
              <a:xfrm rot="21142200">
                <a:off x="8865360" y="6193080"/>
                <a:ext cx="706320" cy="720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13" name="Picture 1617" descr="图片1"/>
              <p:cNvPicPr/>
              <p:nvPr/>
            </p:nvPicPr>
            <p:blipFill>
              <a:blip r:embed="rId41"/>
              <a:stretch/>
            </p:blipFill>
            <p:spPr>
              <a:xfrm rot="21142200">
                <a:off x="8961840" y="6258240"/>
                <a:ext cx="542880" cy="6858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658aff">
                    <a:alpha val="50000"/>
                  </a:srgbClr>
                </a:outerShdw>
              </a:effectLst>
            </p:spPr>
          </p:pic>
          <p:sp>
            <p:nvSpPr>
              <p:cNvPr id="714" name="Rectangle 1619"/>
              <p:cNvSpPr/>
              <p:nvPr/>
            </p:nvSpPr>
            <p:spPr>
              <a:xfrm rot="21142200">
                <a:off x="8986320" y="6905520"/>
                <a:ext cx="500040" cy="82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sp>
        <p:nvSpPr>
          <p:cNvPr id="715" name="Line 1625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6" name="Line 1626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7" name="Freeform 1627"/>
          <p:cNvSpPr/>
          <p:nvPr/>
        </p:nvSpPr>
        <p:spPr>
          <a:xfrm>
            <a:off x="8940960" y="5402160"/>
            <a:ext cx="7461000" cy="6620040"/>
          </a:xfrm>
          <a:custGeom>
            <a:avLst/>
            <a:gdLst/>
            <a:ahLst/>
            <a:rect l="l" t="t" r="r" b="b"/>
            <a:pathLst>
              <a:path w="4700" h="4170">
                <a:moveTo>
                  <a:pt x="1009" y="1380"/>
                </a:moveTo>
                <a:cubicBezTo>
                  <a:pt x="1054" y="1408"/>
                  <a:pt x="1106" y="1474"/>
                  <a:pt x="1160" y="1487"/>
                </a:cubicBezTo>
                <a:cubicBezTo>
                  <a:pt x="1190" y="1494"/>
                  <a:pt x="1224" y="1515"/>
                  <a:pt x="1253" y="1524"/>
                </a:cubicBezTo>
                <a:cubicBezTo>
                  <a:pt x="1299" y="1536"/>
                  <a:pt x="1349" y="1544"/>
                  <a:pt x="1392" y="1558"/>
                </a:cubicBezTo>
                <a:cubicBezTo>
                  <a:pt x="1437" y="1573"/>
                  <a:pt x="1473" y="1582"/>
                  <a:pt x="1508" y="1610"/>
                </a:cubicBezTo>
                <a:cubicBezTo>
                  <a:pt x="1561" y="1642"/>
                  <a:pt x="1807" y="1958"/>
                  <a:pt x="1938" y="2143"/>
                </a:cubicBezTo>
                <a:cubicBezTo>
                  <a:pt x="2069" y="2328"/>
                  <a:pt x="3231" y="3757"/>
                  <a:pt x="3658" y="4170"/>
                </a:cubicBezTo>
                <a:cubicBezTo>
                  <a:pt x="3776" y="4122"/>
                  <a:pt x="4700" y="3739"/>
                  <a:pt x="4582" y="3375"/>
                </a:cubicBezTo>
                <a:cubicBezTo>
                  <a:pt x="4559" y="3364"/>
                  <a:pt x="2304" y="1425"/>
                  <a:pt x="2285" y="1410"/>
                </a:cubicBezTo>
                <a:cubicBezTo>
                  <a:pt x="2260" y="1394"/>
                  <a:pt x="2227" y="1369"/>
                  <a:pt x="2203" y="1345"/>
                </a:cubicBezTo>
                <a:cubicBezTo>
                  <a:pt x="2186" y="1327"/>
                  <a:pt x="2163" y="1311"/>
                  <a:pt x="2145" y="1292"/>
                </a:cubicBezTo>
                <a:cubicBezTo>
                  <a:pt x="2122" y="1269"/>
                  <a:pt x="2112" y="1243"/>
                  <a:pt x="2082" y="1224"/>
                </a:cubicBezTo>
                <a:cubicBezTo>
                  <a:pt x="2062" y="1211"/>
                  <a:pt x="2048" y="1175"/>
                  <a:pt x="2030" y="1161"/>
                </a:cubicBezTo>
                <a:cubicBezTo>
                  <a:pt x="1994" y="1131"/>
                  <a:pt x="1974" y="1064"/>
                  <a:pt x="1952" y="1022"/>
                </a:cubicBezTo>
                <a:cubicBezTo>
                  <a:pt x="1907" y="932"/>
                  <a:pt x="1861" y="842"/>
                  <a:pt x="1807" y="756"/>
                </a:cubicBezTo>
                <a:cubicBezTo>
                  <a:pt x="1749" y="667"/>
                  <a:pt x="1663" y="586"/>
                  <a:pt x="1623" y="491"/>
                </a:cubicBezTo>
                <a:cubicBezTo>
                  <a:pt x="1594" y="423"/>
                  <a:pt x="1572" y="339"/>
                  <a:pt x="1525" y="280"/>
                </a:cubicBezTo>
                <a:cubicBezTo>
                  <a:pt x="1493" y="243"/>
                  <a:pt x="1445" y="224"/>
                  <a:pt x="1401" y="214"/>
                </a:cubicBezTo>
                <a:cubicBezTo>
                  <a:pt x="1385" y="210"/>
                  <a:pt x="1368" y="210"/>
                  <a:pt x="1352" y="208"/>
                </a:cubicBezTo>
                <a:cubicBezTo>
                  <a:pt x="1343" y="203"/>
                  <a:pt x="1300" y="194"/>
                  <a:pt x="1287" y="195"/>
                </a:cubicBezTo>
                <a:cubicBezTo>
                  <a:pt x="1234" y="198"/>
                  <a:pt x="1107" y="160"/>
                  <a:pt x="1107" y="162"/>
                </a:cubicBezTo>
                <a:cubicBezTo>
                  <a:pt x="1032" y="147"/>
                  <a:pt x="969" y="101"/>
                  <a:pt x="894" y="85"/>
                </a:cubicBezTo>
                <a:cubicBezTo>
                  <a:pt x="868" y="80"/>
                  <a:pt x="835" y="56"/>
                  <a:pt x="811" y="46"/>
                </a:cubicBezTo>
                <a:cubicBezTo>
                  <a:pt x="733" y="9"/>
                  <a:pt x="650" y="0"/>
                  <a:pt x="564" y="39"/>
                </a:cubicBezTo>
                <a:cubicBezTo>
                  <a:pt x="527" y="57"/>
                  <a:pt x="486" y="77"/>
                  <a:pt x="450" y="91"/>
                </a:cubicBezTo>
                <a:cubicBezTo>
                  <a:pt x="377" y="116"/>
                  <a:pt x="288" y="130"/>
                  <a:pt x="221" y="166"/>
                </a:cubicBezTo>
                <a:cubicBezTo>
                  <a:pt x="186" y="183"/>
                  <a:pt x="168" y="203"/>
                  <a:pt x="143" y="235"/>
                </a:cubicBezTo>
                <a:cubicBezTo>
                  <a:pt x="121" y="277"/>
                  <a:pt x="74" y="310"/>
                  <a:pt x="44" y="342"/>
                </a:cubicBezTo>
                <a:cubicBezTo>
                  <a:pt x="0" y="388"/>
                  <a:pt x="34" y="458"/>
                  <a:pt x="95" y="471"/>
                </a:cubicBezTo>
                <a:cubicBezTo>
                  <a:pt x="147" y="484"/>
                  <a:pt x="208" y="452"/>
                  <a:pt x="259" y="437"/>
                </a:cubicBezTo>
                <a:cubicBezTo>
                  <a:pt x="293" y="428"/>
                  <a:pt x="319" y="419"/>
                  <a:pt x="355" y="426"/>
                </a:cubicBezTo>
                <a:cubicBezTo>
                  <a:pt x="374" y="430"/>
                  <a:pt x="396" y="446"/>
                  <a:pt x="416" y="447"/>
                </a:cubicBezTo>
                <a:cubicBezTo>
                  <a:pt x="495" y="451"/>
                  <a:pt x="555" y="504"/>
                  <a:pt x="627" y="534"/>
                </a:cubicBezTo>
                <a:cubicBezTo>
                  <a:pt x="667" y="549"/>
                  <a:pt x="710" y="562"/>
                  <a:pt x="752" y="575"/>
                </a:cubicBezTo>
                <a:cubicBezTo>
                  <a:pt x="817" y="596"/>
                  <a:pt x="872" y="658"/>
                  <a:pt x="912" y="711"/>
                </a:cubicBezTo>
                <a:cubicBezTo>
                  <a:pt x="978" y="798"/>
                  <a:pt x="1020" y="917"/>
                  <a:pt x="928" y="1007"/>
                </a:cubicBezTo>
                <a:cubicBezTo>
                  <a:pt x="879" y="1054"/>
                  <a:pt x="802" y="1070"/>
                  <a:pt x="738" y="1044"/>
                </a:cubicBezTo>
                <a:cubicBezTo>
                  <a:pt x="673" y="1035"/>
                  <a:pt x="606" y="1036"/>
                  <a:pt x="540" y="1025"/>
                </a:cubicBezTo>
                <a:cubicBezTo>
                  <a:pt x="449" y="1006"/>
                  <a:pt x="312" y="993"/>
                  <a:pt x="273" y="1106"/>
                </a:cubicBezTo>
                <a:cubicBezTo>
                  <a:pt x="260" y="1144"/>
                  <a:pt x="267" y="1209"/>
                  <a:pt x="318" y="1211"/>
                </a:cubicBezTo>
                <a:cubicBezTo>
                  <a:pt x="361" y="1213"/>
                  <a:pt x="393" y="1220"/>
                  <a:pt x="433" y="1229"/>
                </a:cubicBezTo>
                <a:cubicBezTo>
                  <a:pt x="522" y="1249"/>
                  <a:pt x="604" y="1300"/>
                  <a:pt x="693" y="1310"/>
                </a:cubicBezTo>
                <a:cubicBezTo>
                  <a:pt x="741" y="1315"/>
                  <a:pt x="786" y="1329"/>
                  <a:pt x="835" y="1335"/>
                </a:cubicBezTo>
                <a:cubicBezTo>
                  <a:pt x="883" y="1338"/>
                  <a:pt x="931" y="1352"/>
                  <a:pt x="977" y="13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52600" y="515880"/>
            <a:ext cx="4998960" cy="1933560"/>
            <a:chOff x="2352600" y="515880"/>
            <a:chExt cx="4998960" cy="1933560"/>
          </a:xfrm>
        </p:grpSpPr>
        <p:pic>
          <p:nvPicPr>
            <p:cNvPr id="719" name="Picture 1641" descr="未标题-1"/>
            <p:cNvPicPr/>
            <p:nvPr/>
          </p:nvPicPr>
          <p:blipFill>
            <a:blip r:embed="rId42"/>
            <a:stretch/>
          </p:blipFill>
          <p:spPr>
            <a:xfrm>
              <a:off x="4620960" y="515880"/>
              <a:ext cx="2730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Rectangle 1642"/>
            <p:cNvSpPr/>
            <p:nvPr/>
          </p:nvSpPr>
          <p:spPr>
            <a:xfrm>
              <a:off x="2352600" y="1484280"/>
              <a:ext cx="27320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21" name="WordArt 1644"/>
          <p:cNvSpPr txBox="1"/>
          <p:nvPr/>
        </p:nvSpPr>
        <p:spPr>
          <a:xfrm>
            <a:off x="4894200" y="826920"/>
            <a:ext cx="185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WordArt 1645"/>
          <p:cNvSpPr txBox="1"/>
          <p:nvPr/>
        </p:nvSpPr>
        <p:spPr>
          <a:xfrm>
            <a:off x="5121360" y="890640"/>
            <a:ext cx="15696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WordArt 1646"/>
          <p:cNvSpPr txBox="1"/>
          <p:nvPr/>
        </p:nvSpPr>
        <p:spPr>
          <a:xfrm>
            <a:off x="5340240" y="890640"/>
            <a:ext cx="1018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4" name="WordArt 1648"/>
          <p:cNvSpPr txBox="1"/>
          <p:nvPr/>
        </p:nvSpPr>
        <p:spPr>
          <a:xfrm>
            <a:off x="5586480" y="892080"/>
            <a:ext cx="16668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5" name="WordArt 1649"/>
          <p:cNvSpPr txBox="1"/>
          <p:nvPr/>
        </p:nvSpPr>
        <p:spPr>
          <a:xfrm>
            <a:off x="5908680" y="828720"/>
            <a:ext cx="1666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6" name="WordArt 1650"/>
          <p:cNvSpPr txBox="1"/>
          <p:nvPr/>
        </p:nvSpPr>
        <p:spPr>
          <a:xfrm>
            <a:off x="6108840" y="828720"/>
            <a:ext cx="36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7" name="WordArt 1651"/>
          <p:cNvSpPr txBox="1"/>
          <p:nvPr/>
        </p:nvSpPr>
        <p:spPr>
          <a:xfrm>
            <a:off x="6203880" y="888840"/>
            <a:ext cx="24948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8" name="WordArt 1652"/>
          <p:cNvSpPr txBox="1"/>
          <p:nvPr/>
        </p:nvSpPr>
        <p:spPr>
          <a:xfrm>
            <a:off x="6502320" y="887400"/>
            <a:ext cx="1634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WordArt 1653"/>
          <p:cNvSpPr txBox="1"/>
          <p:nvPr/>
        </p:nvSpPr>
        <p:spPr>
          <a:xfrm>
            <a:off x="6711840" y="825480"/>
            <a:ext cx="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0" name="WordArt 1647"/>
          <p:cNvSpPr txBox="1"/>
          <p:nvPr/>
        </p:nvSpPr>
        <p:spPr>
          <a:xfrm>
            <a:off x="5465880" y="838080"/>
            <a:ext cx="968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1" name="Line 1656"/>
          <p:cNvSpPr/>
          <p:nvPr/>
        </p:nvSpPr>
        <p:spPr>
          <a:xfrm>
            <a:off x="579420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2" name="Line 1657"/>
          <p:cNvSpPr/>
          <p:nvPr/>
        </p:nvSpPr>
        <p:spPr>
          <a:xfrm>
            <a:off x="58928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3" name="Line 1658"/>
          <p:cNvSpPr/>
          <p:nvPr/>
        </p:nvSpPr>
        <p:spPr>
          <a:xfrm>
            <a:off x="68324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4" name="Freeform 1659"/>
          <p:cNvSpPr/>
          <p:nvPr/>
        </p:nvSpPr>
        <p:spPr>
          <a:xfrm rot="1333800">
            <a:off x="1037880" y="66114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5" name="Rectangle 1668"/>
          <p:cNvSpPr/>
          <p:nvPr/>
        </p:nvSpPr>
        <p:spPr>
          <a:xfrm>
            <a:off x="4632480" y="2378160"/>
            <a:ext cx="974376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6" name="Freeform 1672"/>
          <p:cNvSpPr/>
          <p:nvPr/>
        </p:nvSpPr>
        <p:spPr>
          <a:xfrm>
            <a:off x="-4653000" y="523080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7" name="Line 1660"/>
          <p:cNvSpPr/>
          <p:nvPr/>
        </p:nvSpPr>
        <p:spPr>
          <a:xfrm>
            <a:off x="5089680" y="352440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8" name="Line 1661"/>
          <p:cNvSpPr/>
          <p:nvPr/>
        </p:nvSpPr>
        <p:spPr>
          <a:xfrm>
            <a:off x="5087880" y="384336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9" name="Line 1662"/>
          <p:cNvSpPr/>
          <p:nvPr/>
        </p:nvSpPr>
        <p:spPr>
          <a:xfrm>
            <a:off x="5099040" y="352440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0" name="Line 1663"/>
          <p:cNvSpPr/>
          <p:nvPr/>
        </p:nvSpPr>
        <p:spPr>
          <a:xfrm>
            <a:off x="6940440" y="352116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1" name="WordArt 1664"/>
          <p:cNvSpPr txBox="1"/>
          <p:nvPr/>
        </p:nvSpPr>
        <p:spPr>
          <a:xfrm>
            <a:off x="5089680" y="3274920"/>
            <a:ext cx="849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oading...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42" name="Rectangle 1665"/>
          <p:cNvSpPr/>
          <p:nvPr/>
        </p:nvSpPr>
        <p:spPr>
          <a:xfrm>
            <a:off x="5106960" y="3525840"/>
            <a:ext cx="10382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3" name="Rectangle 1666"/>
          <p:cNvSpPr/>
          <p:nvPr/>
        </p:nvSpPr>
        <p:spPr>
          <a:xfrm>
            <a:off x="6108840" y="3529080"/>
            <a:ext cx="55692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4" name="Rectangle 1667"/>
          <p:cNvSpPr/>
          <p:nvPr/>
        </p:nvSpPr>
        <p:spPr>
          <a:xfrm>
            <a:off x="6629400" y="3529080"/>
            <a:ext cx="3110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5" name="Rectangle 1673"/>
          <p:cNvSpPr/>
          <p:nvPr/>
        </p:nvSpPr>
        <p:spPr>
          <a:xfrm>
            <a:off x="1609560" y="1495440"/>
            <a:ext cx="548964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6" name="Freeform 728"/>
          <p:cNvSpPr/>
          <p:nvPr/>
        </p:nvSpPr>
        <p:spPr>
          <a:xfrm>
            <a:off x="5464080" y="5316480"/>
            <a:ext cx="4065840" cy="7237440"/>
          </a:xfrm>
          <a:custGeom>
            <a:avLst/>
            <a:gdLst/>
            <a:ahLst/>
            <a:rect l="l" t="t" r="r" b="b"/>
            <a:pathLst>
              <a:path w="2561" h="4559">
                <a:moveTo>
                  <a:pt x="920" y="865"/>
                </a:moveTo>
                <a:cubicBezTo>
                  <a:pt x="826" y="873"/>
                  <a:pt x="826" y="873"/>
                  <a:pt x="826" y="873"/>
                </a:cubicBezTo>
                <a:cubicBezTo>
                  <a:pt x="799" y="831"/>
                  <a:pt x="765" y="800"/>
                  <a:pt x="722" y="777"/>
                </a:cubicBezTo>
                <a:cubicBezTo>
                  <a:pt x="707" y="770"/>
                  <a:pt x="689" y="763"/>
                  <a:pt x="672" y="761"/>
                </a:cubicBezTo>
                <a:cubicBezTo>
                  <a:pt x="625" y="750"/>
                  <a:pt x="578" y="754"/>
                  <a:pt x="534" y="774"/>
                </a:cubicBezTo>
                <a:cubicBezTo>
                  <a:pt x="525" y="777"/>
                  <a:pt x="520" y="780"/>
                  <a:pt x="513" y="782"/>
                </a:cubicBezTo>
                <a:cubicBezTo>
                  <a:pt x="510" y="778"/>
                  <a:pt x="510" y="778"/>
                  <a:pt x="510" y="778"/>
                </a:cubicBezTo>
                <a:cubicBezTo>
                  <a:pt x="508" y="777"/>
                  <a:pt x="508" y="777"/>
                  <a:pt x="508" y="777"/>
                </a:cubicBezTo>
                <a:cubicBezTo>
                  <a:pt x="508" y="775"/>
                  <a:pt x="508" y="775"/>
                  <a:pt x="508" y="775"/>
                </a:cubicBezTo>
                <a:cubicBezTo>
                  <a:pt x="487" y="730"/>
                  <a:pt x="437" y="627"/>
                  <a:pt x="386" y="513"/>
                </a:cubicBezTo>
                <a:cubicBezTo>
                  <a:pt x="328" y="404"/>
                  <a:pt x="254" y="210"/>
                  <a:pt x="204" y="120"/>
                </a:cubicBezTo>
                <a:cubicBezTo>
                  <a:pt x="151" y="43"/>
                  <a:pt x="103" y="0"/>
                  <a:pt x="56" y="17"/>
                </a:cubicBezTo>
                <a:cubicBezTo>
                  <a:pt x="10" y="34"/>
                  <a:pt x="0" y="86"/>
                  <a:pt x="18" y="185"/>
                </a:cubicBezTo>
                <a:cubicBezTo>
                  <a:pt x="63" y="308"/>
                  <a:pt x="129" y="469"/>
                  <a:pt x="175" y="622"/>
                </a:cubicBezTo>
                <a:cubicBezTo>
                  <a:pt x="233" y="776"/>
                  <a:pt x="332" y="1018"/>
                  <a:pt x="364" y="1110"/>
                </a:cubicBezTo>
                <a:cubicBezTo>
                  <a:pt x="374" y="1141"/>
                  <a:pt x="387" y="1149"/>
                  <a:pt x="367" y="1172"/>
                </a:cubicBezTo>
                <a:cubicBezTo>
                  <a:pt x="350" y="1188"/>
                  <a:pt x="334" y="1206"/>
                  <a:pt x="317" y="1223"/>
                </a:cubicBezTo>
                <a:cubicBezTo>
                  <a:pt x="243" y="1299"/>
                  <a:pt x="171" y="1355"/>
                  <a:pt x="201" y="1473"/>
                </a:cubicBezTo>
                <a:cubicBezTo>
                  <a:pt x="569" y="2034"/>
                  <a:pt x="569" y="2034"/>
                  <a:pt x="569" y="2034"/>
                </a:cubicBezTo>
                <a:cubicBezTo>
                  <a:pt x="607" y="2061"/>
                  <a:pt x="655" y="2074"/>
                  <a:pt x="693" y="2098"/>
                </a:cubicBezTo>
                <a:cubicBezTo>
                  <a:pt x="768" y="2145"/>
                  <a:pt x="684" y="1922"/>
                  <a:pt x="883" y="2290"/>
                </a:cubicBezTo>
                <a:cubicBezTo>
                  <a:pt x="1082" y="2658"/>
                  <a:pt x="1611" y="4055"/>
                  <a:pt x="1886" y="4307"/>
                </a:cubicBezTo>
                <a:cubicBezTo>
                  <a:pt x="2161" y="4559"/>
                  <a:pt x="2561" y="4149"/>
                  <a:pt x="2534" y="3803"/>
                </a:cubicBezTo>
                <a:cubicBezTo>
                  <a:pt x="2507" y="3457"/>
                  <a:pt x="1901" y="2566"/>
                  <a:pt x="1726" y="2231"/>
                </a:cubicBezTo>
                <a:cubicBezTo>
                  <a:pt x="1551" y="1896"/>
                  <a:pt x="1529" y="1916"/>
                  <a:pt x="1486" y="1791"/>
                </a:cubicBezTo>
                <a:cubicBezTo>
                  <a:pt x="1443" y="1666"/>
                  <a:pt x="1487" y="1590"/>
                  <a:pt x="1469" y="1480"/>
                </a:cubicBezTo>
                <a:cubicBezTo>
                  <a:pt x="1451" y="1370"/>
                  <a:pt x="1464" y="1210"/>
                  <a:pt x="1376" y="1133"/>
                </a:cubicBezTo>
                <a:cubicBezTo>
                  <a:pt x="1347" y="1109"/>
                  <a:pt x="1321" y="1105"/>
                  <a:pt x="1288" y="1095"/>
                </a:cubicBezTo>
                <a:cubicBezTo>
                  <a:pt x="1212" y="1074"/>
                  <a:pt x="1170" y="976"/>
                  <a:pt x="1106" y="933"/>
                </a:cubicBezTo>
                <a:cubicBezTo>
                  <a:pt x="1049" y="895"/>
                  <a:pt x="991" y="876"/>
                  <a:pt x="923" y="8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7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159 0.0074 C 0.02974 0.0179 0.1409 -0.02933 0.23634 0.07067 C 0.33178 0.17067 0.3259 0.33302 0.3501 0.40216 E">
                                      <p:cBhvr>
                                        <p:cTn id="748" dur="3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4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600000">
                                      <p:cBhvr>
                                        <p:cTn id="75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939">
                                      <p:cBhvr>
                                        <p:cTn id="754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6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8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60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7" presetSubtype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42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5.78147E-006 -3.20988E-006 L -5.78147E-006 0.28148 L -5.78147E-006 0.26667 E">
                                      <p:cBhvr>
                                        <p:cTn id="79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69227 0.04598 L -0.65181 -0.09044 L -0.66893 -0.00062 L -0.63522 -0.0747 L -0.65648 0.02901 L -0.60202 -0.09229 L -0.63003 0.03179 L -0.57661 -0.09414 L -0.59839 0.0253 L -0.55741 -0.09599 L -0.57194 0.02716 L -0.53667 -0.0821 L -0.55275 0.01975 L -0.49777 -0.11266 L -0.51851 0.0179 L -0.47961 -0.0821 L -0.49984 0.01327 L -0.4625 -0.0784 L -0.49051 0.04938 L -0.43864 -0.05247 L -0.46457 0.04567 L -0.41426 -0.06451 L -0.43345 0.03642 L -0.38781 -0.0784 L -0.40492 0.04753 L -0.36551 -0.07284 L -0.38107 0.04938 L -0.34424 -0.06821 L -0.36084 0.03642 L -0.31156 -0.08396 L -0.34217 0.02901 L -0.29912 -0.08025 L -0.32557 0.04012 L -0.2877 -0.06451 L -0.30845 0.03549 L -0.26748 -0.07562 L -0.28615 0.03642 E">
                                      <p:cBhvr>
                                        <p:cTn id="805" dur="32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 repeatCount="400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6">
                                  <p:stCondLst>
                                    <p:cond delay="6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0.01451 -0.40625 L -0.01831 -0.41953 L -0.01451 -0.40625 Z">
                                      <p:cBhvr>
                                        <p:cTn id="973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-0.03787 -0.05583 E">
                                      <p:cBhvr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0536E-006 -5.55213E-008 L -0.03649 0.05953 E">
                                      <p:cBhvr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08024E-006 1.49291E-006 L 0.03078 0.06323 E">
                                      <p:cBhvr>
                                        <p:cTn id="991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39564E-006 -9.43862E-007 L 0.03631 -0.06477 E">
                                      <p:cBhvr>
                                        <p:cTn id="99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0.01453 -0.40587 C 0.01556 -0.45834 0.08973 -0.51976 0.18931 -0.50494 C 0.2889 -0.49013 0.40508 -0.39013 0.42998 -0.30865 E">
                                      <p:cBhvr>
                                        <p:cTn id="1002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autoRev="1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1009" dur="5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autoRev="1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1016" dur="5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8100"/>
                                  </p:stCondLst>
                                  <p:childTnLst>
                                    <p:animScale>
                                      <p:cBhvr>
                                        <p:cTn id="1023" dur="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4" autoRev="1" nodeType="withEffect" fill="hold" presetClass="emph" presetID="6">
                                  <p:stCondLst>
                                    <p:cond delay="8300"/>
                                  </p:stCondLst>
                                  <p:childTnLst>
                                    <p:animScale>
                                      <p:cBhvr>
                                        <p:cTn id="1025" dur="1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6" autoRev="1" nodeType="withEffect" fill="hold" presetClass="emph" presetID="6">
                                  <p:stCondLst>
                                    <p:cond delay="8400"/>
                                  </p:stCondLst>
                                  <p:childTnLst>
                                    <p:animScale>
                                      <p:cBhvr>
                                        <p:cTn id="1027" dur="1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029" dur="1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031" dur="1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4.57815E-006 -2.46914E-007 C 0.04167 0.00802 0.08109 0.01821 0.11826 0.04074 C 0.15543 0.06327 0.20142 0.11636 0.22338 0.13611 E">
                                      <p:cBhvr>
                                        <p:cTn id="1041" dur="5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2.48963E-007 -4.93827E-007 C 0.02334 0.00617 0.08662 0.00895 0.14004 0.03765 C 0.19346 0.06636 0.28268 0.14444 0.32019 0.17253 E">
                                      <p:cBhvr>
                                        <p:cTn id="1048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56432E-007 -1.23457E-007 C 0.04011 0.0034 0.16701 -0.00648 0.24066 0.0213 C 0.31432 0.04907 0.40024 0.13611 0.44225 0.16636 E">
                                      <p:cBhvr>
                                        <p:cTn id="1055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6.22407E-007 2.71605E-006 C 0.0472 -0.00463 0.19364 -0.04846 0.28371 -0.02871 C 0.37379 -0.00895 0.48738 0.08765 0.54097 0.11821 E">
                                      <p:cBhvr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2" presetSubtype="2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9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7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5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1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7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4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2" presetSubtype="2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1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3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0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3.03822E-006 -1.52992E-006 L -3.03822E-006 0.29735 L -3.03822E-006 0.28223 E">
                                      <p:cBhvr>
                                        <p:cTn id="1269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4.23137E-006 0.26774 L -0.00052 0.28471 E">
                                      <p:cBhvr>
                                        <p:cTn id="1275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7" presetSubtype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>
                                  <p:stCondLst>
                                    <p:cond delay="10100"/>
                                  </p:stCondLst>
                                  <p:childTnLst>
                                    <p:animRot by="-359940">
                                      <p:cBhvr>
                                        <p:cTn id="1287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3.91425E-006 3.05367E-006 L -3.91425E-006 0.10549 E">
                                      <p:cBhvr>
                                        <p:cTn id="1289" dur="2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>
                                  <p:stCondLst>
                                    <p:cond delay="10300"/>
                                  </p:stCondLst>
                                  <p:childTnLst>
                                    <p:animRot by="360000">
                                      <p:cBhvr>
                                        <p:cTn id="1291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1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7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6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autoRev="1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16183 -0.10679 L -0.16667 -0.13303 E">
                                      <p:cBhvr>
                                        <p:cTn id="1303" dur="5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2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autoRev="1" nodeType="withEffect" fill="hold" presetClass="emph" presetID="6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1310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2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autoRev="1" nodeType="withEffect" fill="hold" presetClass="emph" presetID="6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317" dur="1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autoRev="1" nodeType="withEffect" fill="hold" presetClass="emph" presetID="6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1324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2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autoRev="1" nodeType="withEffect" fill="hold" presetClass="emph" presetID="6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1331" dur="1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autoRev="1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1338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autoRev="1" nodeType="withEffect" fill="hold" presetClass="emph" presetID="6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1345" dur="1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autoRev="1" nodeType="withEffect" fill="hold" presetClass="emph" presetID="6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1352" dur="1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0.16192 -0.1072 C -0.15138 -0.11183 -0.15068 -0.08279 -0.09919 -0.13408 C -0.06791 -0.16682 0.06445 -0.38801 0.14705 -0.41489 C 0.22965 -0.44177 0.32625 -0.31851 0.39675 -0.29626 C 0.46725 -0.27402 0.53395 -0.28452 0.57007 -0.28143 E">
                                      <p:cBhvr>
                                        <p:cTn id="1354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3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autoRev="1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364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5" autoRev="1" nodeType="withEffect" fill="hold" presetClass="emph" presetID="6" repeatCount="20000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66" dur="3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autoRev="1" nodeType="withEffect" fill="hold" presetClass="emph" presetID="6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1373" dur="15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4" autoRev="1" nodeType="withEffect" fill="hold" presetClass="emph" presetID="6" repeatCount="20000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75" dur="3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autoRev="1" nodeType="withEffect" fill="hold" presetClass="emph" presetID="6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82" dur="15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3" autoRev="1" nodeType="withEffect" fill="hold" presetClass="emph" presetID="6" repeatCount="20000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384" dur="3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autoRev="1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91" dur="15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autoRev="1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98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autoRev="1" nodeType="withEffect" fill="hold" presetClass="emph" presetID="6" repeatCount="20000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400" dur="3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3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autoRev="1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407" dur="15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8" autoRev="1" nodeType="withEffect" fill="hold" presetClass="emph" presetID="6" repeatCount="20000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09" dur="3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16" dur="15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7" autoRev="1" nodeType="withEffect" fill="hold" presetClass="emph" presetID="6" repeatCount="20000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1418" dur="3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425" dur="15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6" autoRev="1" nodeType="withEffect" fill="hold" presetClass="emph" presetID="6" repeatCount="20000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27" dur="3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34" dur="15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autoRev="1" nodeType="withEffect" fill="hold" presetClass="emph" presetID="6" repeatCount="20000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1436" dur="3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3.77052E-006 3.03985E-006 C -0.00985 0.03027 -0.04735 0.11214 -0.05876 0.18134 C -0.07016 0.25054 -0.06636 0.36669 -0.06826 0.41551 E">
                                      <p:cBhvr>
                                        <p:cTn id="1443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8">
                                  <p:stCondLst>
                                    <p:cond delay="12000"/>
                                  </p:stCondLst>
                                  <p:childTnLst>
                                    <p:animRot by="21600000">
                                      <p:cBhvr>
                                        <p:cTn id="1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6" autoRev="1" nodeType="withEffect" fill="hold" presetClass="emph" presetID="8" repeatCount="indefinite">
                                  <p:stCondLst>
                                    <p:cond delay="12000"/>
                                  </p:stCondLst>
                                  <p:childTnLst>
                                    <p:animRot by="3600000">
                                      <p:cBhvr>
                                        <p:cTn id="1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-0.00415 0.09051 -0.00829 0.18134 -0.00328 0.27371 C 0.00173 0.36608 0.01573 0.45968 0.0299 0.55359 E">
                                      <p:cBhvr>
                                        <p:cTn id="1454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21600000">
                                      <p:cBhvr>
                                        <p:cTn id="14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autoRev="1" nodeType="withEffect" fill="hold" presetClass="emph" presetID="8" repeatCount="indefinite">
                                  <p:stCondLst>
                                    <p:cond delay="12100"/>
                                  </p:stCondLst>
                                  <p:childTnLst>
                                    <p:animRot by="3600000">
                                      <p:cBhvr>
                                        <p:cTn id="145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2.77691E-006 1.60334E-006 C 0.00587 0.02008 0.01987 0.0831 0.03525 0.1211 C 0.05063 0.1591 0.08035 0.20636 0.09227 0.22861 E"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14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autoRev="1" nodeType="withEffect" fill="hold" presetClass="emph" presetID="8" repeatCount="indefinite">
                                  <p:stCondLst>
                                    <p:cond delay="12200"/>
                                  </p:stCondLst>
                                  <p:childTnLst>
                                    <p:animRot by="3600000">
                                      <p:cBhvr>
                                        <p:cTn id="14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15300"/>
                                  </p:stCondLst>
                                  <p:childTnLst>
                                    <p:animMotion origin="layout" path="M -2.4987E-006 -1.92474E-006 L -2.4987E-006 0.32295 L -2.4987E-006 0.29889 E">
                                      <p:cBhvr>
                                        <p:cTn id="147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17 0.2847 L -0.00017 0.29827 E">
                                      <p:cBhvr>
                                        <p:cTn id="1475" dur="1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35 0.2847 L -0.00052 0.30197 E">
                                      <p:cBhvr>
                                        <p:cTn id="1477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15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3.361E-006 -4.19753E-006 L 0.31535 -4.19753E-006 L 0.29876 -4.19753E-006 E">
                                      <p:cBhvr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5.14523E-006 0.29877 L 0.00831 0.29877 E">
                                      <p:cBhvr>
                                        <p:cTn id="148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6.98599E-007 -5.61382E-006 L 0.0083 -5.61382E-006 E">
                                      <p:cBhvr>
                                        <p:cTn id="1490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8">
                                  <p:stCondLst>
                                    <p:cond delay="16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4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1.23811E-006 -4.32449E-006 L 0.00865 -4.32449E-006 E">
                                      <p:cBhvr>
                                        <p:cTn id="1502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6">
                                  <p:stCondLst>
                                    <p:cond delay="16700"/>
                                  </p:stCondLst>
                                  <p:childTnLst>
                                    <p:animScale>
                                      <p:cBhvr>
                                        <p:cTn id="1504" dur="15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 repeatCount="indefinite">
                                  <p:stCondLst>
                                    <p:cond delay="16600"/>
                                  </p:stCondLst>
                                  <p:childTnLst>
                                    <p:animRot by="1200000">
                                      <p:cBhvr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 repeatCount="indefinite">
                                  <p:stCondLst>
                                    <p:cond delay="16700"/>
                                  </p:stCondLst>
                                  <p:childTnLst>
                                    <p:animRot by="-1199940">
                                      <p:cBhvr>
                                        <p:cTn id="151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20400"/>
                                  </p:stCondLst>
                                  <p:childTnLst>
                                    <p:animMotion origin="layout" path="M -0.01538 -0.00895 L -0.35546 -0.96513 E">
                                      <p:cBhvr>
                                        <p:cTn id="1514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2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0" dur="2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2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6" dur="2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2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2">
                                  <p:stCondLst>
                                    <p:cond delay="217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2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0">
                                  <p:stCondLst>
                                    <p:cond delay="20700"/>
                                  </p:stCondLst>
                                  <p:childTnLst>
                                    <p:animMotion origin="layout" path="M -0.35547 -0.96513 L 0.43153 -1.05402 L -0.37345 -0.72562 L 0.47026 -0.69846 L -0.39973 -0.39753 L 0.49083 -0.31358 L -0.3757 0.00247 E">
                                      <p:cBhvr>
                                        <p:cTn id="1534" dur="12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6" dur="5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autoRev="1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8" dur="5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autoRev="1" nodeType="withEffect" fill="hold" presetClass="emph" presetID="6">
                                  <p:stCondLst>
                                    <p:cond delay="23300"/>
                                  </p:stCondLst>
                                  <p:childTnLst>
                                    <p:animScale>
                                      <p:cBhvr>
                                        <p:cTn id="1545" dur="15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239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35" repeatCount="2000">
                                  <p:stCondLst>
                                    <p:cond delay="2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2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25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35" repeatCount="indefinite">
                                  <p:stCondLst>
                                    <p:cond delay="2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path" presetID="0">
                                  <p:stCondLst>
                                    <p:cond delay="26200"/>
                                  </p:stCondLst>
                                  <p:childTnLst>
                                    <p:animMotion origin="layout" path="M 0.38295 -0.60401 L 0.38295 -0.66605 L 0.58368 -0.66574 L 0.58368 -0.6037 L 0.38295 -0.60401 Z">
                                      <p:cBhvr>
                                        <p:cTn id="1586" dur="8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4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264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1">
                                  <p:stCondLst>
                                    <p:cond delay="266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2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2" presetSubtype="6">
                                  <p:stCondLst>
                                    <p:cond delay="2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0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0">
                                  <p:stCondLst>
                                    <p:cond delay="273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5" repeatCount="3000">
                                  <p:stCondLst>
                                    <p:cond delay="2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27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28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.38728 -0.88086 L -0.27265 -1.49321 E">
                                      <p:cBhvr>
                                        <p:cTn id="1618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286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-0.00228 0.05247 L -0.6622 -0.55986 E">
                                      <p:cBhvr>
                                        <p:cTn id="1622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6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8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0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2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4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6" dur="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8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2" dur="1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4" dur="1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6" descr="图片1"/>
          <p:cNvPicPr/>
          <p:nvPr/>
        </p:nvPicPr>
        <p:blipFill>
          <a:blip r:embed="rId2"/>
          <a:stretch/>
        </p:blipFill>
        <p:spPr>
          <a:xfrm rot="547800">
            <a:off x="1279080" y="1849320"/>
            <a:ext cx="3705480" cy="349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5" descr="未标题-1"/>
          <p:cNvPicPr/>
          <p:nvPr/>
        </p:nvPicPr>
        <p:blipFill>
          <a:blip r:embed="rId3"/>
          <a:stretch/>
        </p:blipFill>
        <p:spPr>
          <a:xfrm>
            <a:off x="4238640" y="1527120"/>
            <a:ext cx="5340240" cy="3816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6" descr="8"/>
          <p:cNvPicPr/>
          <p:nvPr/>
        </p:nvPicPr>
        <p:blipFill>
          <a:blip r:embed="rId4"/>
          <a:stretch/>
        </p:blipFill>
        <p:spPr>
          <a:xfrm>
            <a:off x="2252520" y="591984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98" descr="4"/>
          <p:cNvPicPr/>
          <p:nvPr/>
        </p:nvPicPr>
        <p:blipFill>
          <a:blip r:embed="rId5"/>
          <a:stretch/>
        </p:blipFill>
        <p:spPr>
          <a:xfrm>
            <a:off x="270828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9" descr="5"/>
          <p:cNvPicPr/>
          <p:nvPr/>
        </p:nvPicPr>
        <p:blipFill>
          <a:blip r:embed="rId6"/>
          <a:stretch/>
        </p:blipFill>
        <p:spPr>
          <a:xfrm>
            <a:off x="5324400" y="5781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7" descr="2"/>
          <p:cNvPicPr/>
          <p:nvPr/>
        </p:nvPicPr>
        <p:blipFill>
          <a:blip r:embed="rId7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8" descr="3"/>
          <p:cNvPicPr/>
          <p:nvPr/>
        </p:nvPicPr>
        <p:blipFill>
          <a:blip r:embed="rId8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9" descr="4"/>
          <p:cNvPicPr/>
          <p:nvPr/>
        </p:nvPicPr>
        <p:blipFill>
          <a:blip r:embed="rId9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0" descr="5"/>
          <p:cNvPicPr/>
          <p:nvPr/>
        </p:nvPicPr>
        <p:blipFill>
          <a:blip r:embed="rId10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8" descr="1"/>
          <p:cNvPicPr/>
          <p:nvPr/>
        </p:nvPicPr>
        <p:blipFill>
          <a:blip r:embed="rId11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-12838680" y="-989640"/>
            <a:ext cx="10468080" cy="1163880"/>
            <a:chOff x="-12838680" y="-989640"/>
            <a:chExt cx="10468080" cy="1163880"/>
          </a:xfrm>
        </p:grpSpPr>
        <p:sp>
          <p:nvSpPr>
            <p:cNvPr id="759" name="Line 70"/>
            <p:cNvSpPr/>
            <p:nvPr/>
          </p:nvSpPr>
          <p:spPr>
            <a:xfrm flipV="1">
              <a:off x="-12597480" y="-989640"/>
              <a:ext cx="10226880" cy="76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0" name="AutoShape 71"/>
            <p:cNvSpPr/>
            <p:nvPr/>
          </p:nvSpPr>
          <p:spPr>
            <a:xfrm flipV="1" rot="21376200">
              <a:off x="-12164040" y="-298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1" name="AutoShape 72"/>
            <p:cNvSpPr/>
            <p:nvPr/>
          </p:nvSpPr>
          <p:spPr>
            <a:xfrm flipV="1" rot="21376200">
              <a:off x="-11500560" y="-34776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2" name="AutoShape 73"/>
            <p:cNvSpPr/>
            <p:nvPr/>
          </p:nvSpPr>
          <p:spPr>
            <a:xfrm flipV="1" rot="21376200">
              <a:off x="-6474960" y="-7203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3" name="AutoShape 74"/>
            <p:cNvSpPr/>
            <p:nvPr/>
          </p:nvSpPr>
          <p:spPr>
            <a:xfrm flipV="1" rot="21376200">
              <a:off x="-9397080" y="-501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4" name="AutoShape 75"/>
            <p:cNvSpPr/>
            <p:nvPr/>
          </p:nvSpPr>
          <p:spPr>
            <a:xfrm flipV="1" rot="21376200">
              <a:off x="-8671320" y="-5558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5" name="AutoShape 76"/>
            <p:cNvSpPr/>
            <p:nvPr/>
          </p:nvSpPr>
          <p:spPr>
            <a:xfrm flipV="1" rot="21376200">
              <a:off x="-7931160" y="-613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6" name="AutoShape 77"/>
            <p:cNvSpPr/>
            <p:nvPr/>
          </p:nvSpPr>
          <p:spPr>
            <a:xfrm flipV="1" rot="21376200">
              <a:off x="-7193160" y="-6670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7" name="AutoShape 78"/>
            <p:cNvSpPr/>
            <p:nvPr/>
          </p:nvSpPr>
          <p:spPr>
            <a:xfrm flipV="1" rot="21376200">
              <a:off x="-10108440" y="-4460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8" name="AutoShape 79"/>
            <p:cNvSpPr/>
            <p:nvPr/>
          </p:nvSpPr>
          <p:spPr>
            <a:xfrm flipV="1" rot="21376200">
              <a:off x="-10830600" y="-393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9" name="AutoShape 80"/>
            <p:cNvSpPr/>
            <p:nvPr/>
          </p:nvSpPr>
          <p:spPr>
            <a:xfrm flipV="1" rot="21376200">
              <a:off x="-5758560" y="-7786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0" name="AutoShape 81"/>
            <p:cNvSpPr/>
            <p:nvPr/>
          </p:nvSpPr>
          <p:spPr>
            <a:xfrm flipV="1" rot="21376200">
              <a:off x="-5028120" y="-83232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1" name="AutoShape 82"/>
            <p:cNvSpPr/>
            <p:nvPr/>
          </p:nvSpPr>
          <p:spPr>
            <a:xfrm flipV="1" rot="21376200">
              <a:off x="-3608280" y="-94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2" name="AutoShape 83"/>
            <p:cNvSpPr/>
            <p:nvPr/>
          </p:nvSpPr>
          <p:spPr>
            <a:xfrm flipV="1" rot="21376200">
              <a:off x="-12826080" y="-249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3" name="AutoShape 84"/>
            <p:cNvSpPr/>
            <p:nvPr/>
          </p:nvSpPr>
          <p:spPr>
            <a:xfrm flipV="1" rot="21376200">
              <a:off x="-4323600" y="-8820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774" name="Picture 88" descr="8"/>
          <p:cNvPicPr/>
          <p:nvPr/>
        </p:nvPicPr>
        <p:blipFill>
          <a:blip r:embed="rId12"/>
          <a:stretch/>
        </p:blipFill>
        <p:spPr>
          <a:xfrm>
            <a:off x="639720" y="573876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9" descr="1"/>
          <p:cNvPicPr/>
          <p:nvPr/>
        </p:nvPicPr>
        <p:blipFill>
          <a:blip r:embed="rId13"/>
          <a:stretch/>
        </p:blipFill>
        <p:spPr>
          <a:xfrm>
            <a:off x="1459080" y="635796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0" descr="2"/>
          <p:cNvPicPr/>
          <p:nvPr/>
        </p:nvPicPr>
        <p:blipFill>
          <a:blip r:embed="rId14"/>
          <a:stretch/>
        </p:blipFill>
        <p:spPr>
          <a:xfrm>
            <a:off x="120600" y="5781600"/>
            <a:ext cx="700200" cy="1946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1" descr="3"/>
          <p:cNvPicPr/>
          <p:nvPr/>
        </p:nvPicPr>
        <p:blipFill>
          <a:blip r:embed="rId15"/>
          <a:stretch/>
        </p:blipFill>
        <p:spPr>
          <a:xfrm>
            <a:off x="525600" y="6456240"/>
            <a:ext cx="693720" cy="226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2" descr="4"/>
          <p:cNvPicPr/>
          <p:nvPr/>
        </p:nvPicPr>
        <p:blipFill>
          <a:blip r:embed="rId16"/>
          <a:stretch/>
        </p:blipFill>
        <p:spPr>
          <a:xfrm>
            <a:off x="165276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3" descr="5"/>
          <p:cNvPicPr/>
          <p:nvPr/>
        </p:nvPicPr>
        <p:blipFill>
          <a:blip r:embed="rId17"/>
          <a:stretch/>
        </p:blipFill>
        <p:spPr>
          <a:xfrm>
            <a:off x="1219320" y="6186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4" descr="6"/>
          <p:cNvPicPr/>
          <p:nvPr/>
        </p:nvPicPr>
        <p:blipFill>
          <a:blip r:embed="rId18"/>
          <a:stretch/>
        </p:blipFill>
        <p:spPr>
          <a:xfrm>
            <a:off x="952560" y="588636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7" descr="2"/>
          <p:cNvPicPr/>
          <p:nvPr/>
        </p:nvPicPr>
        <p:blipFill>
          <a:blip r:embed="rId19"/>
          <a:stretch/>
        </p:blipFill>
        <p:spPr>
          <a:xfrm>
            <a:off x="4054320" y="5678640"/>
            <a:ext cx="584280" cy="1625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0" descr="8"/>
          <p:cNvPicPr/>
          <p:nvPr/>
        </p:nvPicPr>
        <p:blipFill>
          <a:blip r:embed="rId20"/>
          <a:stretch/>
        </p:blipFill>
        <p:spPr>
          <a:xfrm>
            <a:off x="7954920" y="5807160"/>
            <a:ext cx="565200" cy="182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1" descr="2"/>
          <p:cNvPicPr/>
          <p:nvPr/>
        </p:nvPicPr>
        <p:blipFill>
          <a:blip r:embed="rId21"/>
          <a:stretch/>
        </p:blipFill>
        <p:spPr>
          <a:xfrm>
            <a:off x="5954760" y="5684760"/>
            <a:ext cx="588960" cy="163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2" descr="7"/>
          <p:cNvPicPr/>
          <p:nvPr/>
        </p:nvPicPr>
        <p:blipFill>
          <a:blip r:embed="rId22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3" descr="8"/>
          <p:cNvPicPr/>
          <p:nvPr/>
        </p:nvPicPr>
        <p:blipFill>
          <a:blip r:embed="rId23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6" descr="13"/>
          <p:cNvPicPr/>
          <p:nvPr/>
        </p:nvPicPr>
        <p:blipFill>
          <a:blip r:embed="rId24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4" descr="9"/>
          <p:cNvPicPr/>
          <p:nvPr/>
        </p:nvPicPr>
        <p:blipFill>
          <a:blip r:embed="rId25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5" descr="10"/>
          <p:cNvPicPr/>
          <p:nvPr/>
        </p:nvPicPr>
        <p:blipFill>
          <a:blip r:embed="rId26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6" descr="11"/>
          <p:cNvPicPr/>
          <p:nvPr/>
        </p:nvPicPr>
        <p:blipFill>
          <a:blip r:embed="rId27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7" descr="12"/>
          <p:cNvPicPr/>
          <p:nvPr/>
        </p:nvPicPr>
        <p:blipFill>
          <a:blip r:embed="rId28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1" descr="6"/>
          <p:cNvPicPr/>
          <p:nvPr/>
        </p:nvPicPr>
        <p:blipFill>
          <a:blip r:embed="rId29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3" descr="4"/>
          <p:cNvPicPr/>
          <p:nvPr/>
        </p:nvPicPr>
        <p:blipFill>
          <a:blip r:embed="rId30"/>
          <a:stretch/>
        </p:blipFill>
        <p:spPr>
          <a:xfrm>
            <a:off x="7558200" y="578160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2" descr="3"/>
          <p:cNvPicPr/>
          <p:nvPr/>
        </p:nvPicPr>
        <p:blipFill>
          <a:blip r:embed="rId31"/>
          <a:stretch/>
        </p:blipFill>
        <p:spPr>
          <a:xfrm>
            <a:off x="7116840" y="5703840"/>
            <a:ext cx="498240" cy="1627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5" descr="7"/>
          <p:cNvPicPr/>
          <p:nvPr/>
        </p:nvPicPr>
        <p:blipFill>
          <a:blip r:embed="rId32"/>
          <a:stretch/>
        </p:blipFill>
        <p:spPr>
          <a:xfrm>
            <a:off x="8412120" y="5678640"/>
            <a:ext cx="768240" cy="23000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106"/>
          <p:cNvSpPr/>
          <p:nvPr/>
        </p:nvSpPr>
        <p:spPr>
          <a:xfrm>
            <a:off x="-2806560" y="-2805120"/>
            <a:ext cx="4922640" cy="2855880"/>
          </a:xfrm>
          <a:custGeom>
            <a:avLst/>
            <a:gdLst/>
            <a:ahLst/>
            <a:rect l="l" t="t" r="r" b="b"/>
            <a:pathLst>
              <a:path w="3102" h="1800">
                <a:moveTo>
                  <a:pt x="164" y="1171"/>
                </a:moveTo>
                <a:cubicBezTo>
                  <a:pt x="117" y="1151"/>
                  <a:pt x="41" y="1062"/>
                  <a:pt x="78" y="1027"/>
                </a:cubicBezTo>
                <a:cubicBezTo>
                  <a:pt x="115" y="992"/>
                  <a:pt x="177" y="1010"/>
                  <a:pt x="270" y="1000"/>
                </a:cubicBezTo>
                <a:cubicBezTo>
                  <a:pt x="425" y="940"/>
                  <a:pt x="516" y="921"/>
                  <a:pt x="601" y="892"/>
                </a:cubicBezTo>
                <a:cubicBezTo>
                  <a:pt x="689" y="861"/>
                  <a:pt x="730" y="834"/>
                  <a:pt x="800" y="811"/>
                </a:cubicBezTo>
                <a:cubicBezTo>
                  <a:pt x="870" y="788"/>
                  <a:pt x="963" y="761"/>
                  <a:pt x="1027" y="753"/>
                </a:cubicBezTo>
                <a:cubicBezTo>
                  <a:pt x="1091" y="745"/>
                  <a:pt x="1152" y="756"/>
                  <a:pt x="1201" y="753"/>
                </a:cubicBezTo>
                <a:cubicBezTo>
                  <a:pt x="1250" y="750"/>
                  <a:pt x="1252" y="762"/>
                  <a:pt x="1480" y="636"/>
                </a:cubicBezTo>
                <a:cubicBezTo>
                  <a:pt x="1708" y="511"/>
                  <a:pt x="2348" y="30"/>
                  <a:pt x="2568" y="0"/>
                </a:cubicBezTo>
                <a:cubicBezTo>
                  <a:pt x="2835" y="276"/>
                  <a:pt x="3102" y="552"/>
                  <a:pt x="3102" y="552"/>
                </a:cubicBezTo>
                <a:cubicBezTo>
                  <a:pt x="2984" y="729"/>
                  <a:pt x="2132" y="1070"/>
                  <a:pt x="1867" y="1228"/>
                </a:cubicBezTo>
                <a:cubicBezTo>
                  <a:pt x="1689" y="1330"/>
                  <a:pt x="1585" y="1412"/>
                  <a:pt x="1514" y="1501"/>
                </a:cubicBezTo>
                <a:cubicBezTo>
                  <a:pt x="1443" y="1591"/>
                  <a:pt x="1404" y="1673"/>
                  <a:pt x="1297" y="1703"/>
                </a:cubicBezTo>
                <a:cubicBezTo>
                  <a:pt x="1190" y="1734"/>
                  <a:pt x="889" y="1800"/>
                  <a:pt x="794" y="1734"/>
                </a:cubicBezTo>
                <a:cubicBezTo>
                  <a:pt x="757" y="1717"/>
                  <a:pt x="747" y="1668"/>
                  <a:pt x="746" y="1639"/>
                </a:cubicBezTo>
                <a:cubicBezTo>
                  <a:pt x="707" y="1627"/>
                  <a:pt x="686" y="1603"/>
                  <a:pt x="670" y="1590"/>
                </a:cubicBezTo>
                <a:cubicBezTo>
                  <a:pt x="654" y="1578"/>
                  <a:pt x="623" y="1507"/>
                  <a:pt x="645" y="1458"/>
                </a:cubicBezTo>
                <a:cubicBezTo>
                  <a:pt x="617" y="1409"/>
                  <a:pt x="575" y="1337"/>
                  <a:pt x="580" y="1270"/>
                </a:cubicBezTo>
                <a:cubicBezTo>
                  <a:pt x="531" y="1264"/>
                  <a:pt x="423" y="1314"/>
                  <a:pt x="342" y="1332"/>
                </a:cubicBezTo>
                <a:cubicBezTo>
                  <a:pt x="260" y="1349"/>
                  <a:pt x="148" y="1375"/>
                  <a:pt x="95" y="1376"/>
                </a:cubicBezTo>
                <a:cubicBezTo>
                  <a:pt x="41" y="1377"/>
                  <a:pt x="17" y="1380"/>
                  <a:pt x="8" y="1333"/>
                </a:cubicBezTo>
                <a:cubicBezTo>
                  <a:pt x="0" y="1287"/>
                  <a:pt x="78" y="1223"/>
                  <a:pt x="164" y="1171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796" name="Picture 62" descr="coolmusic5_zcool"/>
          <p:cNvPicPr/>
          <p:nvPr/>
        </p:nvPicPr>
        <p:blipFill>
          <a:blip r:embed="rId33"/>
          <a:stretch/>
        </p:blipFill>
        <p:spPr>
          <a:xfrm>
            <a:off x="3876840" y="1623960"/>
            <a:ext cx="3865320" cy="4427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9" descr="DJ vector (3) [转换]"/>
          <p:cNvPicPr/>
          <p:nvPr/>
        </p:nvPicPr>
        <p:blipFill>
          <a:blip r:embed="rId34"/>
          <a:stretch/>
        </p:blipFill>
        <p:spPr>
          <a:xfrm>
            <a:off x="-341280" y="5235480"/>
            <a:ext cx="9920160" cy="1594080"/>
          </a:xfrm>
          <a:prstGeom prst="rect">
            <a:avLst/>
          </a:prstGeom>
          <a:ln w="0">
            <a:noFill/>
          </a:ln>
        </p:spPr>
      </p:pic>
      <p:sp>
        <p:nvSpPr>
          <p:cNvPr id="798" name="Freeform 117"/>
          <p:cNvSpPr/>
          <p:nvPr/>
        </p:nvSpPr>
        <p:spPr>
          <a:xfrm rot="18954000">
            <a:off x="172800" y="4519440"/>
            <a:ext cx="133164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9" name="Freeform 121"/>
          <p:cNvSpPr/>
          <p:nvPr/>
        </p:nvSpPr>
        <p:spPr>
          <a:xfrm flipH="1" rot="18958200">
            <a:off x="1126080" y="3597120"/>
            <a:ext cx="133020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0" name="Freeform 122"/>
          <p:cNvSpPr/>
          <p:nvPr/>
        </p:nvSpPr>
        <p:spPr>
          <a:xfrm flipV="1" rot="18960600">
            <a:off x="-743040" y="3563280"/>
            <a:ext cx="1330560" cy="13320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1" name="Freeform 123"/>
          <p:cNvSpPr/>
          <p:nvPr/>
        </p:nvSpPr>
        <p:spPr>
          <a:xfrm flipH="1" flipV="1" rot="18951600">
            <a:off x="205920" y="2646000"/>
            <a:ext cx="1330560" cy="13316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02" name="Picture 114" descr="DJ vector (3) [转换]"/>
          <p:cNvPicPr/>
          <p:nvPr/>
        </p:nvPicPr>
        <p:blipFill>
          <a:blip r:embed="rId35"/>
          <a:stretch/>
        </p:blipFill>
        <p:spPr>
          <a:xfrm>
            <a:off x="-520560" y="2884320"/>
            <a:ext cx="2754000" cy="2756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1" descr="coolmusic5_zcool"/>
          <p:cNvPicPr/>
          <p:nvPr/>
        </p:nvPicPr>
        <p:blipFill>
          <a:blip r:embed="rId36"/>
          <a:stretch/>
        </p:blipFill>
        <p:spPr>
          <a:xfrm rot="376800">
            <a:off x="4064040" y="4009680"/>
            <a:ext cx="5157720" cy="1546200"/>
          </a:xfrm>
          <a:prstGeom prst="rect">
            <a:avLst/>
          </a:prstGeom>
          <a:ln w="0">
            <a:noFill/>
          </a:ln>
        </p:spPr>
      </p:pic>
      <p:sp>
        <p:nvSpPr>
          <p:cNvPr id="804" name="Freeform 116"/>
          <p:cNvSpPr/>
          <p:nvPr/>
        </p:nvSpPr>
        <p:spPr>
          <a:xfrm rot="1333800">
            <a:off x="-333360" y="8121600"/>
            <a:ext cx="397188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5" name="Freeform 115"/>
          <p:cNvSpPr/>
          <p:nvPr/>
        </p:nvSpPr>
        <p:spPr>
          <a:xfrm rot="748800">
            <a:off x="3720600" y="5976720"/>
            <a:ext cx="2419560" cy="549720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6" name="Freeform 125"/>
          <p:cNvSpPr/>
          <p:nvPr/>
        </p:nvSpPr>
        <p:spPr>
          <a:xfrm>
            <a:off x="8826480" y="5456160"/>
            <a:ext cx="4070520" cy="8272440"/>
          </a:xfrm>
          <a:custGeom>
            <a:avLst/>
            <a:gdLst/>
            <a:ahLst/>
            <a:rect l="l" t="t" r="r" b="b"/>
            <a:pathLst>
              <a:path w="2564" h="5211">
                <a:moveTo>
                  <a:pt x="645" y="1317"/>
                </a:moveTo>
                <a:cubicBezTo>
                  <a:pt x="603" y="1217"/>
                  <a:pt x="392" y="816"/>
                  <a:pt x="336" y="712"/>
                </a:cubicBezTo>
                <a:cubicBezTo>
                  <a:pt x="280" y="608"/>
                  <a:pt x="0" y="64"/>
                  <a:pt x="28" y="20"/>
                </a:cubicBezTo>
                <a:cubicBezTo>
                  <a:pt x="100" y="0"/>
                  <a:pt x="389" y="515"/>
                  <a:pt x="472" y="652"/>
                </a:cubicBezTo>
                <a:cubicBezTo>
                  <a:pt x="555" y="789"/>
                  <a:pt x="732" y="1092"/>
                  <a:pt x="797" y="1187"/>
                </a:cubicBezTo>
                <a:cubicBezTo>
                  <a:pt x="835" y="1113"/>
                  <a:pt x="974" y="1156"/>
                  <a:pt x="1013" y="1180"/>
                </a:cubicBezTo>
                <a:cubicBezTo>
                  <a:pt x="1051" y="1204"/>
                  <a:pt x="1061" y="1299"/>
                  <a:pt x="1054" y="1342"/>
                </a:cubicBezTo>
                <a:cubicBezTo>
                  <a:pt x="1090" y="1313"/>
                  <a:pt x="1141" y="1274"/>
                  <a:pt x="1224" y="1315"/>
                </a:cubicBezTo>
                <a:cubicBezTo>
                  <a:pt x="1307" y="1356"/>
                  <a:pt x="1303" y="1507"/>
                  <a:pt x="1294" y="1570"/>
                </a:cubicBezTo>
                <a:cubicBezTo>
                  <a:pt x="1329" y="1556"/>
                  <a:pt x="1349" y="1541"/>
                  <a:pt x="1432" y="1578"/>
                </a:cubicBezTo>
                <a:cubicBezTo>
                  <a:pt x="1514" y="1614"/>
                  <a:pt x="1510" y="1685"/>
                  <a:pt x="1532" y="1736"/>
                </a:cubicBezTo>
                <a:cubicBezTo>
                  <a:pt x="1619" y="1774"/>
                  <a:pt x="1662" y="1795"/>
                  <a:pt x="1708" y="1849"/>
                </a:cubicBezTo>
                <a:cubicBezTo>
                  <a:pt x="1754" y="1904"/>
                  <a:pt x="1761" y="1956"/>
                  <a:pt x="1770" y="2014"/>
                </a:cubicBezTo>
                <a:cubicBezTo>
                  <a:pt x="1786" y="2032"/>
                  <a:pt x="1802" y="2050"/>
                  <a:pt x="1802" y="2050"/>
                </a:cubicBezTo>
                <a:cubicBezTo>
                  <a:pt x="1807" y="2069"/>
                  <a:pt x="1798" y="2064"/>
                  <a:pt x="1801" y="2127"/>
                </a:cubicBezTo>
                <a:cubicBezTo>
                  <a:pt x="1803" y="2192"/>
                  <a:pt x="1827" y="2314"/>
                  <a:pt x="1817" y="2428"/>
                </a:cubicBezTo>
                <a:cubicBezTo>
                  <a:pt x="1807" y="2543"/>
                  <a:pt x="1743" y="2646"/>
                  <a:pt x="1760" y="2948"/>
                </a:cubicBezTo>
                <a:cubicBezTo>
                  <a:pt x="1776" y="3250"/>
                  <a:pt x="2550" y="4525"/>
                  <a:pt x="2557" y="4857"/>
                </a:cubicBezTo>
                <a:cubicBezTo>
                  <a:pt x="2564" y="5190"/>
                  <a:pt x="2015" y="5211"/>
                  <a:pt x="1799" y="4946"/>
                </a:cubicBezTo>
                <a:cubicBezTo>
                  <a:pt x="1701" y="4765"/>
                  <a:pt x="1339" y="3517"/>
                  <a:pt x="1261" y="3265"/>
                </a:cubicBezTo>
                <a:cubicBezTo>
                  <a:pt x="1183" y="3012"/>
                  <a:pt x="1061" y="2887"/>
                  <a:pt x="935" y="2719"/>
                </a:cubicBezTo>
                <a:cubicBezTo>
                  <a:pt x="810" y="2550"/>
                  <a:pt x="781" y="2495"/>
                  <a:pt x="709" y="2304"/>
                </a:cubicBezTo>
                <a:cubicBezTo>
                  <a:pt x="636" y="2113"/>
                  <a:pt x="690" y="2084"/>
                  <a:pt x="686" y="1967"/>
                </a:cubicBezTo>
                <a:cubicBezTo>
                  <a:pt x="682" y="1851"/>
                  <a:pt x="659" y="1674"/>
                  <a:pt x="658" y="1579"/>
                </a:cubicBezTo>
                <a:cubicBezTo>
                  <a:pt x="594" y="1497"/>
                  <a:pt x="539" y="1357"/>
                  <a:pt x="539" y="1357"/>
                </a:cubicBezTo>
                <a:cubicBezTo>
                  <a:pt x="569" y="1329"/>
                  <a:pt x="600" y="1319"/>
                  <a:pt x="645" y="131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7" name="Rectangle 70"/>
          <p:cNvSpPr/>
          <p:nvPr/>
        </p:nvSpPr>
        <p:spPr>
          <a:xfrm>
            <a:off x="9578880" y="-81000"/>
            <a:ext cx="69692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8" name="Freeform 1672"/>
          <p:cNvSpPr/>
          <p:nvPr/>
        </p:nvSpPr>
        <p:spPr>
          <a:xfrm flipH="1">
            <a:off x="9964080" y="798480"/>
            <a:ext cx="711180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9" name="矩形 5"/>
          <p:cNvSpPr/>
          <p:nvPr/>
        </p:nvSpPr>
        <p:spPr>
          <a:xfrm>
            <a:off x="-7299360" y="-76320"/>
            <a:ext cx="696924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0" name="Freeform 1672"/>
          <p:cNvSpPr/>
          <p:nvPr/>
        </p:nvSpPr>
        <p:spPr>
          <a:xfrm>
            <a:off x="-783756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43 L 1.3541 0.19228 E">
                                      <p:cBhvr>
                                        <p:cTn id="1655" dur="1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74 L 1.3541 0.19259 E">
                                      <p:cBhvr>
                                        <p:cTn id="166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2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95 -1.11886 L -0.00761 -0.03677 E">
                                      <p:cBhvr>
                                        <p:cTn id="1664" dur="3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812 -1.14386 L -0.00761 -0.03676 E">
                                      <p:cBhvr>
                                        <p:cTn id="166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8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1384 -1.10339 L -0.01384 -1.14012 L -0.01384 -0.03673 E">
                                      <p:cBhvr>
                                        <p:cTn id="1670" dur="3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2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813 -1.12812 L -0.00761 -0.03677 E">
                                      <p:cBhvr>
                                        <p:cTn id="1674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6" dur="3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95 -1.14047 L -0.00761 -0.03677 E">
                                      <p:cBhvr>
                                        <p:cTn id="1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761 -1.11485 L -0.00761 -0.03707 E">
                                      <p:cBhvr>
                                        <p:cTn id="1680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761 -1.10344 L -0.00795 -1.12133 L -0.00761 -0.03676 E">
                                      <p:cBhvr>
                                        <p:cTn id="168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83 -1.11177 L -0.00761 -0.03677 E">
                                      <p:cBhvr>
                                        <p:cTn id="1684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 -1.10343 L -0.0076 -1.11609 L -0.0076 -0.03677 E">
                                      <p:cBhvr>
                                        <p:cTn id="1686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4 L -0.0083 -1.12596 L -0.00761 -0.03676 E">
                                      <p:cBhvr>
                                        <p:cTn id="1688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4 L -0.00709 -1.12565 L -0.00761 -0.03676 E">
                                      <p:cBhvr>
                                        <p:cTn id="1690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61 -1.10343 L -0.00778 -1.11362 L -0.00761 -0.03676 E">
                                      <p:cBhvr>
                                        <p:cTn id="1692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autoRev="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4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6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8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1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02023 -0.62654 C -0.08334 -0.7145 -0.09475 -0.87623 -0.04582 -0.98734 C 0.00311 -1.09938 0.09388 -1.11913 0.15698 -1.03117 C 0.21939 -0.94351 0.23063 -0.7824 0.18153 -0.67037 C 0.13278 -0.55864 0.04253 -0.53888 -0.02023 -0.62654 Z">
                                      <p:cBhvr>
                                        <p:cTn id="1710" dur="11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6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0712 -0.30627 L -0.40695 -0.3322 E">
                                      <p:cBhvr>
                                        <p:cTn id="1716" dur="1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723" dur="1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2" presetSubtype="4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5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-0.57266 -0.83565 C -0.52566 -0.85264 -0.385 -0.8894 -0.31709 -0.79919 C -0.22222 -0.83317 0.09763 -0.71918 0.20425 -0.68334 E">
                                      <p:cBhvr>
                                        <p:cTn id="172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3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3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736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3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3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743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autoRev="1" nodeType="withEffect" fill="hold" presetClass="emph" presetID="6">
                                  <p:stCondLst>
                                    <p:cond delay="8700"/>
                                  </p:stCondLst>
                                  <p:childTnLst>
                                    <p:animScale>
                                      <p:cBhvr>
                                        <p:cTn id="175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5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autoRev="1" nodeType="withEffect" fill="hold" presetClass="emph" presetID="6">
                                  <p:stCondLst>
                                    <p:cond delay="8800"/>
                                  </p:stCondLst>
                                  <p:childTnLst>
                                    <p:animScale>
                                      <p:cBhvr>
                                        <p:cTn id="1757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3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autoRev="1" nodeType="withEffect" fill="hold" presetClass="emph" presetID="6">
                                  <p:stCondLst>
                                    <p:cond delay="8900"/>
                                  </p:stCondLst>
                                  <p:childTnLst>
                                    <p:animScale>
                                      <p:cBhvr>
                                        <p:cTn id="1764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autoRev="1" nodeType="withEffect" fill="hold" presetClass="emph" presetID="6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1771" dur="150" fill="hold"/>
                                        <p:tgtEl>
                                          <p:spTgt spid="7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3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autoRev="1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1778" dur="150" fill="hold"/>
                                        <p:tgtEl>
                                          <p:spTgt spid="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2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1792" dur="150" fill="hold"/>
                                        <p:tgtEl>
                                          <p:spTgt spid="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3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autoRev="1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1799" dur="1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autoRev="1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1806" dur="150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1813" dur="1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1820" dur="150" fill="hold"/>
                                        <p:tgtEl>
                                          <p:spTgt spid="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7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4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7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45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7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844" dur="3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53613 -6.17284E-007 L -0.16216 0.00031 E">
                                      <p:cBhvr>
                                        <p:cTn id="1846" dur="3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48" dur="3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50" dur="3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42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16217 -0.0037 L 0.53613 -0.0037 E">
                                      <p:cBhvr>
                                        <p:cTn id="1852" dur="3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5" descr="1"/>
          <p:cNvPicPr/>
          <p:nvPr/>
        </p:nvPicPr>
        <p:blipFill>
          <a:blip r:embed="rId2"/>
          <a:stretch/>
        </p:blipFill>
        <p:spPr>
          <a:xfrm>
            <a:off x="4505400" y="2254320"/>
            <a:ext cx="1146240" cy="277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6" descr="2"/>
          <p:cNvPicPr/>
          <p:nvPr/>
        </p:nvPicPr>
        <p:blipFill>
          <a:blip r:embed="rId3"/>
          <a:stretch/>
        </p:blipFill>
        <p:spPr>
          <a:xfrm>
            <a:off x="3379680" y="2824200"/>
            <a:ext cx="1422360" cy="283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98" descr="4"/>
          <p:cNvPicPr/>
          <p:nvPr/>
        </p:nvPicPr>
        <p:blipFill>
          <a:blip r:embed="rId4"/>
          <a:stretch/>
        </p:blipFill>
        <p:spPr>
          <a:xfrm>
            <a:off x="6532560" y="2443320"/>
            <a:ext cx="2901960" cy="2520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6" descr="8"/>
          <p:cNvPicPr/>
          <p:nvPr/>
        </p:nvPicPr>
        <p:blipFill>
          <a:blip r:embed="rId5"/>
          <a:stretch/>
        </p:blipFill>
        <p:spPr>
          <a:xfrm>
            <a:off x="2133720" y="24120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8" descr="4"/>
          <p:cNvPicPr/>
          <p:nvPr/>
        </p:nvPicPr>
        <p:blipFill>
          <a:blip r:embed="rId6"/>
          <a:stretch/>
        </p:blipFill>
        <p:spPr>
          <a:xfrm>
            <a:off x="258912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99" descr="5"/>
          <p:cNvPicPr/>
          <p:nvPr/>
        </p:nvPicPr>
        <p:blipFill>
          <a:blip r:embed="rId7"/>
          <a:stretch/>
        </p:blipFill>
        <p:spPr>
          <a:xfrm>
            <a:off x="5205240" y="103320"/>
            <a:ext cx="698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-400680" y="12240"/>
            <a:ext cx="10466640" cy="1163880"/>
            <a:chOff x="-400680" y="12240"/>
            <a:chExt cx="10466640" cy="1163880"/>
          </a:xfrm>
        </p:grpSpPr>
        <p:sp>
          <p:nvSpPr>
            <p:cNvPr id="819" name="Line 70"/>
            <p:cNvSpPr/>
            <p:nvPr/>
          </p:nvSpPr>
          <p:spPr>
            <a:xfrm flipV="1">
              <a:off x="-159480" y="12240"/>
              <a:ext cx="10225440" cy="76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0" name="AutoShape 71"/>
            <p:cNvSpPr/>
            <p:nvPr/>
          </p:nvSpPr>
          <p:spPr>
            <a:xfrm flipV="1" rot="21376200">
              <a:off x="273240" y="702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1" name="AutoShape 72"/>
            <p:cNvSpPr/>
            <p:nvPr/>
          </p:nvSpPr>
          <p:spPr>
            <a:xfrm flipV="1" rot="21376200">
              <a:off x="936360" y="6534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2" name="AutoShape 73"/>
            <p:cNvSpPr/>
            <p:nvPr/>
          </p:nvSpPr>
          <p:spPr>
            <a:xfrm flipV="1" rot="21376200">
              <a:off x="5961240" y="28080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3" name="AutoShape 74"/>
            <p:cNvSpPr/>
            <p:nvPr/>
          </p:nvSpPr>
          <p:spPr>
            <a:xfrm flipV="1" rot="21376200">
              <a:off x="3039480" y="4993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4" name="AutoShape 75"/>
            <p:cNvSpPr/>
            <p:nvPr/>
          </p:nvSpPr>
          <p:spPr>
            <a:xfrm flipV="1" rot="21376200">
              <a:off x="3765240" y="4449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5" name="AutoShape 76"/>
            <p:cNvSpPr/>
            <p:nvPr/>
          </p:nvSpPr>
          <p:spPr>
            <a:xfrm flipV="1" rot="21376200">
              <a:off x="4505400" y="3870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6" name="AutoShape 77"/>
            <p:cNvSpPr/>
            <p:nvPr/>
          </p:nvSpPr>
          <p:spPr>
            <a:xfrm flipV="1" rot="21376200">
              <a:off x="5243400" y="333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7" name="AutoShape 78"/>
            <p:cNvSpPr/>
            <p:nvPr/>
          </p:nvSpPr>
          <p:spPr>
            <a:xfrm flipV="1" rot="21376200">
              <a:off x="2328480" y="5547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8" name="AutoShape 79"/>
            <p:cNvSpPr/>
            <p:nvPr/>
          </p:nvSpPr>
          <p:spPr>
            <a:xfrm flipV="1" rot="21376200">
              <a:off x="1606320" y="608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9" name="AutoShape 80"/>
            <p:cNvSpPr/>
            <p:nvPr/>
          </p:nvSpPr>
          <p:spPr>
            <a:xfrm flipV="1" rot="21376200">
              <a:off x="6677640" y="22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0" name="AutoShape 81"/>
            <p:cNvSpPr/>
            <p:nvPr/>
          </p:nvSpPr>
          <p:spPr>
            <a:xfrm flipV="1" rot="21376200">
              <a:off x="7408080" y="1688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1" name="AutoShape 82"/>
            <p:cNvSpPr/>
            <p:nvPr/>
          </p:nvSpPr>
          <p:spPr>
            <a:xfrm flipV="1" rot="21376200">
              <a:off x="8827560" y="59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2" name="AutoShape 83"/>
            <p:cNvSpPr/>
            <p:nvPr/>
          </p:nvSpPr>
          <p:spPr>
            <a:xfrm flipV="1" rot="21376200">
              <a:off x="-388080" y="7520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3" name="AutoShape 84"/>
            <p:cNvSpPr/>
            <p:nvPr/>
          </p:nvSpPr>
          <p:spPr>
            <a:xfrm flipV="1" rot="21376200">
              <a:off x="8112600" y="1191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834" name="Picture 88" descr="8"/>
          <p:cNvPicPr/>
          <p:nvPr/>
        </p:nvPicPr>
        <p:blipFill>
          <a:blip r:embed="rId8"/>
          <a:stretch/>
        </p:blipFill>
        <p:spPr>
          <a:xfrm>
            <a:off x="520560" y="6048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9" descr="1"/>
          <p:cNvPicPr/>
          <p:nvPr/>
        </p:nvPicPr>
        <p:blipFill>
          <a:blip r:embed="rId9"/>
          <a:stretch/>
        </p:blipFill>
        <p:spPr>
          <a:xfrm>
            <a:off x="1339920" y="67932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0" descr="2"/>
          <p:cNvPicPr/>
          <p:nvPr/>
        </p:nvPicPr>
        <p:blipFill>
          <a:blip r:embed="rId10"/>
          <a:stretch/>
        </p:blipFill>
        <p:spPr>
          <a:xfrm>
            <a:off x="1440" y="103320"/>
            <a:ext cx="700200" cy="1946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1" descr="3"/>
          <p:cNvPicPr/>
          <p:nvPr/>
        </p:nvPicPr>
        <p:blipFill>
          <a:blip r:embed="rId11"/>
          <a:stretch/>
        </p:blipFill>
        <p:spPr>
          <a:xfrm>
            <a:off x="406440" y="777960"/>
            <a:ext cx="693720" cy="2265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2" descr="4"/>
          <p:cNvPicPr/>
          <p:nvPr/>
        </p:nvPicPr>
        <p:blipFill>
          <a:blip r:embed="rId12"/>
          <a:stretch/>
        </p:blipFill>
        <p:spPr>
          <a:xfrm>
            <a:off x="153360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93" descr="5"/>
          <p:cNvPicPr/>
          <p:nvPr/>
        </p:nvPicPr>
        <p:blipFill>
          <a:blip r:embed="rId13"/>
          <a:stretch/>
        </p:blipFill>
        <p:spPr>
          <a:xfrm>
            <a:off x="1100160" y="50796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94" descr="6"/>
          <p:cNvPicPr/>
          <p:nvPr/>
        </p:nvPicPr>
        <p:blipFill>
          <a:blip r:embed="rId14"/>
          <a:stretch/>
        </p:blipFill>
        <p:spPr>
          <a:xfrm>
            <a:off x="833400" y="20808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7" descr="2"/>
          <p:cNvPicPr/>
          <p:nvPr/>
        </p:nvPicPr>
        <p:blipFill>
          <a:blip r:embed="rId15"/>
          <a:stretch/>
        </p:blipFill>
        <p:spPr>
          <a:xfrm>
            <a:off x="3935520" y="0"/>
            <a:ext cx="583920" cy="1625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0" descr="8"/>
          <p:cNvPicPr/>
          <p:nvPr/>
        </p:nvPicPr>
        <p:blipFill>
          <a:blip r:embed="rId16"/>
          <a:stretch/>
        </p:blipFill>
        <p:spPr>
          <a:xfrm>
            <a:off x="7835760" y="128520"/>
            <a:ext cx="565200" cy="18226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1" descr="2"/>
          <p:cNvPicPr/>
          <p:nvPr/>
        </p:nvPicPr>
        <p:blipFill>
          <a:blip r:embed="rId17"/>
          <a:stretch/>
        </p:blipFill>
        <p:spPr>
          <a:xfrm>
            <a:off x="5835600" y="6480"/>
            <a:ext cx="588960" cy="1638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" descr="4"/>
          <p:cNvPicPr/>
          <p:nvPr/>
        </p:nvPicPr>
        <p:blipFill>
          <a:blip r:embed="rId18"/>
          <a:stretch/>
        </p:blipFill>
        <p:spPr>
          <a:xfrm>
            <a:off x="7439040" y="10332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2" descr="3"/>
          <p:cNvPicPr/>
          <p:nvPr/>
        </p:nvPicPr>
        <p:blipFill>
          <a:blip r:embed="rId19"/>
          <a:stretch/>
        </p:blipFill>
        <p:spPr>
          <a:xfrm>
            <a:off x="6997680" y="25560"/>
            <a:ext cx="498600" cy="1627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95" descr="7"/>
          <p:cNvPicPr/>
          <p:nvPr/>
        </p:nvPicPr>
        <p:blipFill>
          <a:blip r:embed="rId20"/>
          <a:stretch/>
        </p:blipFill>
        <p:spPr>
          <a:xfrm>
            <a:off x="8292960" y="0"/>
            <a:ext cx="768600" cy="230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57" descr="2"/>
          <p:cNvPicPr/>
          <p:nvPr/>
        </p:nvPicPr>
        <p:blipFill>
          <a:blip r:embed="rId21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8" descr="3"/>
          <p:cNvPicPr/>
          <p:nvPr/>
        </p:nvPicPr>
        <p:blipFill>
          <a:blip r:embed="rId22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9" descr="4"/>
          <p:cNvPicPr/>
          <p:nvPr/>
        </p:nvPicPr>
        <p:blipFill>
          <a:blip r:embed="rId23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0" descr="5"/>
          <p:cNvPicPr/>
          <p:nvPr/>
        </p:nvPicPr>
        <p:blipFill>
          <a:blip r:embed="rId24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68" descr="1"/>
          <p:cNvPicPr/>
          <p:nvPr/>
        </p:nvPicPr>
        <p:blipFill>
          <a:blip r:embed="rId25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2" descr="7"/>
          <p:cNvPicPr/>
          <p:nvPr/>
        </p:nvPicPr>
        <p:blipFill>
          <a:blip r:embed="rId26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3" descr="8"/>
          <p:cNvPicPr/>
          <p:nvPr/>
        </p:nvPicPr>
        <p:blipFill>
          <a:blip r:embed="rId27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6" descr="13"/>
          <p:cNvPicPr/>
          <p:nvPr/>
        </p:nvPicPr>
        <p:blipFill>
          <a:blip r:embed="rId28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4" descr="9"/>
          <p:cNvPicPr/>
          <p:nvPr/>
        </p:nvPicPr>
        <p:blipFill>
          <a:blip r:embed="rId29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5" descr="10"/>
          <p:cNvPicPr/>
          <p:nvPr/>
        </p:nvPicPr>
        <p:blipFill>
          <a:blip r:embed="rId30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6" descr="11"/>
          <p:cNvPicPr/>
          <p:nvPr/>
        </p:nvPicPr>
        <p:blipFill>
          <a:blip r:embed="rId31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7" descr="12"/>
          <p:cNvPicPr/>
          <p:nvPr/>
        </p:nvPicPr>
        <p:blipFill>
          <a:blip r:embed="rId32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1" descr="6"/>
          <p:cNvPicPr/>
          <p:nvPr/>
        </p:nvPicPr>
        <p:blipFill>
          <a:blip r:embed="rId33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9" descr="5"/>
          <p:cNvPicPr/>
          <p:nvPr/>
        </p:nvPicPr>
        <p:blipFill>
          <a:blip r:embed="rId34"/>
          <a:stretch/>
        </p:blipFill>
        <p:spPr>
          <a:xfrm>
            <a:off x="5651640" y="1652760"/>
            <a:ext cx="1722240" cy="2441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dj04181 [转换]"/>
          <p:cNvPicPr/>
          <p:nvPr/>
        </p:nvPicPr>
        <p:blipFill>
          <a:blip r:embed="rId35"/>
          <a:stretch/>
        </p:blipFill>
        <p:spPr>
          <a:xfrm>
            <a:off x="6480" y="1652760"/>
            <a:ext cx="9180360" cy="4052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555" descr="未标题-2"/>
          <p:cNvPicPr/>
          <p:nvPr/>
        </p:nvPicPr>
        <p:blipFill>
          <a:blip r:embed="rId36"/>
          <a:stretch/>
        </p:blipFill>
        <p:spPr>
          <a:xfrm>
            <a:off x="385920" y="1771560"/>
            <a:ext cx="954000" cy="963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00" descr="dj04181 [转换]"/>
          <p:cNvPicPr/>
          <p:nvPr/>
        </p:nvPicPr>
        <p:blipFill>
          <a:blip r:embed="rId37"/>
          <a:stretch/>
        </p:blipFill>
        <p:spPr>
          <a:xfrm>
            <a:off x="123840" y="2333520"/>
            <a:ext cx="709560" cy="70956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4116960" y="4296600"/>
            <a:ext cx="493920" cy="493920"/>
            <a:chOff x="4116960" y="4296600"/>
            <a:chExt cx="493920" cy="493920"/>
          </a:xfrm>
        </p:grpSpPr>
        <p:sp>
          <p:nvSpPr>
            <p:cNvPr id="865" name="AutoShape 102"/>
            <p:cNvSpPr/>
            <p:nvPr/>
          </p:nvSpPr>
          <p:spPr>
            <a:xfrm rot="3976200">
              <a:off x="4176360" y="43560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6" name="AutoShape 103"/>
            <p:cNvSpPr/>
            <p:nvPr/>
          </p:nvSpPr>
          <p:spPr>
            <a:xfrm rot="6256800">
              <a:off x="4244760" y="44247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726640" y="3589200"/>
            <a:ext cx="370440" cy="370080"/>
            <a:chOff x="2726640" y="3589200"/>
            <a:chExt cx="370440" cy="370080"/>
          </a:xfrm>
        </p:grpSpPr>
        <p:sp>
          <p:nvSpPr>
            <p:cNvPr id="868" name="AutoShape 106"/>
            <p:cNvSpPr/>
            <p:nvPr/>
          </p:nvSpPr>
          <p:spPr>
            <a:xfrm rot="3976200">
              <a:off x="2771280" y="3633480"/>
              <a:ext cx="280800" cy="281160"/>
            </a:xfrm>
            <a:custGeom>
              <a:avLst/>
              <a:gdLst>
                <a:gd name="textAreaLeft" fmla="*/ 128160 w 280800"/>
                <a:gd name="textAreaRight" fmla="*/ 152640 w 280800"/>
                <a:gd name="textAreaTop" fmla="*/ 128160 h 281160"/>
                <a:gd name="textAreaBottom" fmla="*/ 15300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9" name="AutoShape 107"/>
            <p:cNvSpPr/>
            <p:nvPr/>
          </p:nvSpPr>
          <p:spPr>
            <a:xfrm rot="6256800">
              <a:off x="2822760" y="3684960"/>
              <a:ext cx="175320" cy="175680"/>
            </a:xfrm>
            <a:custGeom>
              <a:avLst/>
              <a:gdLst>
                <a:gd name="textAreaLeft" fmla="*/ 80280 w 175320"/>
                <a:gd name="textAreaRight" fmla="*/ 95040 w 175320"/>
                <a:gd name="textAreaTop" fmla="*/ 80640 h 175680"/>
                <a:gd name="textAreaBottom" fmla="*/ 95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420600" y="4201560"/>
            <a:ext cx="445680" cy="445320"/>
            <a:chOff x="6420600" y="4201560"/>
            <a:chExt cx="445680" cy="445320"/>
          </a:xfrm>
        </p:grpSpPr>
        <p:sp>
          <p:nvSpPr>
            <p:cNvPr id="871" name="AutoShape 109"/>
            <p:cNvSpPr/>
            <p:nvPr/>
          </p:nvSpPr>
          <p:spPr>
            <a:xfrm rot="6135600">
              <a:off x="6455880" y="4236840"/>
              <a:ext cx="374400" cy="374760"/>
            </a:xfrm>
            <a:custGeom>
              <a:avLst/>
              <a:gdLst>
                <a:gd name="textAreaLeft" fmla="*/ 170640 w 374400"/>
                <a:gd name="textAreaRight" fmla="*/ 203760 w 37440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2" name="AutoShape 110"/>
            <p:cNvSpPr/>
            <p:nvPr/>
          </p:nvSpPr>
          <p:spPr>
            <a:xfrm rot="8416200">
              <a:off x="6525720" y="43048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162880" y="4666320"/>
            <a:ext cx="503280" cy="503280"/>
            <a:chOff x="2162880" y="4666320"/>
            <a:chExt cx="503280" cy="503280"/>
          </a:xfrm>
        </p:grpSpPr>
        <p:sp>
          <p:nvSpPr>
            <p:cNvPr id="874" name="AutoShape 112"/>
            <p:cNvSpPr/>
            <p:nvPr/>
          </p:nvSpPr>
          <p:spPr>
            <a:xfrm rot="1606800">
              <a:off x="2226960" y="47304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5" name="AutoShape 113"/>
            <p:cNvSpPr/>
            <p:nvPr/>
          </p:nvSpPr>
          <p:spPr>
            <a:xfrm rot="3887400">
              <a:off x="2295360" y="48009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31680" y="4734720"/>
            <a:ext cx="398520" cy="398520"/>
            <a:chOff x="5431680" y="4734720"/>
            <a:chExt cx="398520" cy="398520"/>
          </a:xfrm>
        </p:grpSpPr>
        <p:sp>
          <p:nvSpPr>
            <p:cNvPr id="877" name="AutoShape 115"/>
            <p:cNvSpPr/>
            <p:nvPr/>
          </p:nvSpPr>
          <p:spPr>
            <a:xfrm rot="1276200">
              <a:off x="5476680" y="4779720"/>
              <a:ext cx="307800" cy="307800"/>
            </a:xfrm>
            <a:custGeom>
              <a:avLst/>
              <a:gdLst>
                <a:gd name="textAreaLeft" fmla="*/ 140400 w 307800"/>
                <a:gd name="textAreaRight" fmla="*/ 167400 w 307800"/>
                <a:gd name="textAreaTop" fmla="*/ 140400 h 307800"/>
                <a:gd name="textAreaBottom" fmla="*/ 16740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8" name="AutoShape 116"/>
            <p:cNvSpPr/>
            <p:nvPr/>
          </p:nvSpPr>
          <p:spPr>
            <a:xfrm rot="3556800">
              <a:off x="5532840" y="4837320"/>
              <a:ext cx="192240" cy="192240"/>
            </a:xfrm>
            <a:custGeom>
              <a:avLst/>
              <a:gdLst>
                <a:gd name="textAreaLeft" fmla="*/ 88200 w 192240"/>
                <a:gd name="textAreaRight" fmla="*/ 104040 w 192240"/>
                <a:gd name="textAreaTop" fmla="*/ 88200 h 192240"/>
                <a:gd name="textAreaBottom" fmla="*/ 104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718400" y="4615200"/>
            <a:ext cx="529920" cy="529560"/>
            <a:chOff x="7718400" y="4615200"/>
            <a:chExt cx="529920" cy="529560"/>
          </a:xfrm>
        </p:grpSpPr>
        <p:sp>
          <p:nvSpPr>
            <p:cNvPr id="880" name="AutoShape 118"/>
            <p:cNvSpPr/>
            <p:nvPr/>
          </p:nvSpPr>
          <p:spPr>
            <a:xfrm rot="2592000">
              <a:off x="7795800" y="46926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81" name="AutoShape 119"/>
            <p:cNvSpPr/>
            <p:nvPr/>
          </p:nvSpPr>
          <p:spPr>
            <a:xfrm rot="4873200">
              <a:off x="7864200" y="47620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82" name="Rectangle 124"/>
          <p:cNvSpPr/>
          <p:nvPr/>
        </p:nvSpPr>
        <p:spPr>
          <a:xfrm>
            <a:off x="-2355840" y="-81000"/>
            <a:ext cx="69674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3" name="Freeform 1672"/>
          <p:cNvSpPr/>
          <p:nvPr/>
        </p:nvSpPr>
        <p:spPr>
          <a:xfrm>
            <a:off x="-2914560" y="79848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4" name="Rectangle 125"/>
          <p:cNvSpPr/>
          <p:nvPr/>
        </p:nvSpPr>
        <p:spPr>
          <a:xfrm>
            <a:off x="4470480" y="-81000"/>
            <a:ext cx="69688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5" name="Freeform 1672"/>
          <p:cNvSpPr/>
          <p:nvPr/>
        </p:nvSpPr>
        <p:spPr>
          <a:xfrm flipH="1">
            <a:off x="485604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58" dur="3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60" dur="3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2" dur="3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4" dur="3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6" dur="3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7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68" dur="3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1" dur="250" autoRev="1" fill="hold"/>
                                        <p:tgtEl>
                                          <p:spTgt spid="8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4" dur="250" autoRev="1" fill="hold"/>
                                        <p:tgtEl>
                                          <p:spTgt spid="8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7" dur="250" autoRev="1" fill="hold"/>
                                        <p:tgtEl>
                                          <p:spTgt spid="8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0" dur="250" autoRev="1" fill="hold"/>
                                        <p:tgtEl>
                                          <p:spTgt spid="8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8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6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5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4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4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5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80360" cy="51451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887" name="Picture 8" descr="未标题-1"/>
          <p:cNvPicPr/>
          <p:nvPr/>
        </p:nvPicPr>
        <p:blipFill>
          <a:blip r:embed="rId2"/>
          <a:stretch/>
        </p:blipFill>
        <p:spPr>
          <a:xfrm>
            <a:off x="2847960" y="1173240"/>
            <a:ext cx="3510000" cy="2361960"/>
          </a:xfrm>
          <a:prstGeom prst="rect">
            <a:avLst/>
          </a:prstGeom>
          <a:ln w="0">
            <a:noFill/>
          </a:ln>
        </p:spPr>
      </p:pic>
      <p:sp>
        <p:nvSpPr>
          <p:cNvPr id="888" name="Freeform 115"/>
          <p:cNvSpPr/>
          <p:nvPr/>
        </p:nvSpPr>
        <p:spPr>
          <a:xfrm flipV="1" rot="14420400">
            <a:off x="16920" y="367920"/>
            <a:ext cx="2162160" cy="760428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9" name="Freeform 115"/>
          <p:cNvSpPr/>
          <p:nvPr/>
        </p:nvSpPr>
        <p:spPr>
          <a:xfrm rot="14507400">
            <a:off x="6679800" y="-3363840"/>
            <a:ext cx="2160720" cy="760572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90" name="WordArt 28"/>
          <p:cNvSpPr txBox="1"/>
          <p:nvPr/>
        </p:nvSpPr>
        <p:spPr>
          <a:xfrm>
            <a:off x="1824120" y="4176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1" name="WordArt 29"/>
          <p:cNvSpPr txBox="1"/>
          <p:nvPr/>
        </p:nvSpPr>
        <p:spPr>
          <a:xfrm>
            <a:off x="2128680" y="57636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2" name="WordArt 30"/>
          <p:cNvSpPr txBox="1"/>
          <p:nvPr/>
        </p:nvSpPr>
        <p:spPr>
          <a:xfrm>
            <a:off x="2624040" y="576360"/>
            <a:ext cx="276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3" name="WordArt 31"/>
          <p:cNvSpPr txBox="1"/>
          <p:nvPr/>
        </p:nvSpPr>
        <p:spPr>
          <a:xfrm>
            <a:off x="3324240" y="581040"/>
            <a:ext cx="2761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4" name="WordArt 32"/>
          <p:cNvSpPr txBox="1"/>
          <p:nvPr/>
        </p:nvSpPr>
        <p:spPr>
          <a:xfrm>
            <a:off x="3975120" y="1504800"/>
            <a:ext cx="3999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w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5" name="WordArt 33"/>
          <p:cNvSpPr txBox="1"/>
          <p:nvPr/>
        </p:nvSpPr>
        <p:spPr>
          <a:xfrm>
            <a:off x="4432320" y="1424160"/>
            <a:ext cx="745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6" name="WordArt 34"/>
          <p:cNvSpPr txBox="1"/>
          <p:nvPr/>
        </p:nvSpPr>
        <p:spPr>
          <a:xfrm>
            <a:off x="4549680" y="1428840"/>
            <a:ext cx="152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7" name="WordArt 35"/>
          <p:cNvSpPr txBox="1"/>
          <p:nvPr/>
        </p:nvSpPr>
        <p:spPr>
          <a:xfrm>
            <a:off x="4765680" y="1424160"/>
            <a:ext cx="249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8" name="WordArt 36"/>
          <p:cNvSpPr txBox="1"/>
          <p:nvPr/>
        </p:nvSpPr>
        <p:spPr>
          <a:xfrm>
            <a:off x="5288040" y="1504800"/>
            <a:ext cx="2761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9" name="WordArt 37"/>
          <p:cNvSpPr txBox="1"/>
          <p:nvPr/>
        </p:nvSpPr>
        <p:spPr>
          <a:xfrm>
            <a:off x="563256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6111720" y="1533600"/>
            <a:ext cx="422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1" name="WordArt 39"/>
          <p:cNvSpPr txBox="1"/>
          <p:nvPr/>
        </p:nvSpPr>
        <p:spPr>
          <a:xfrm>
            <a:off x="6603840" y="1533600"/>
            <a:ext cx="276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2" name="WordArt 40"/>
          <p:cNvSpPr txBox="1"/>
          <p:nvPr/>
        </p:nvSpPr>
        <p:spPr>
          <a:xfrm>
            <a:off x="7574040" y="1501920"/>
            <a:ext cx="2761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v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3" name="WordArt 41"/>
          <p:cNvSpPr txBox="1"/>
          <p:nvPr/>
        </p:nvSpPr>
        <p:spPr>
          <a:xfrm>
            <a:off x="7899480" y="1492200"/>
            <a:ext cx="276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4" name="WordArt 42"/>
          <p:cNvSpPr txBox="1"/>
          <p:nvPr/>
        </p:nvSpPr>
        <p:spPr>
          <a:xfrm>
            <a:off x="2971800" y="576360"/>
            <a:ext cx="2761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5" name="WordArt 43"/>
          <p:cNvSpPr txBox="1"/>
          <p:nvPr/>
        </p:nvSpPr>
        <p:spPr>
          <a:xfrm>
            <a:off x="577224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6" name="WordArt 44"/>
          <p:cNvSpPr txBox="1"/>
          <p:nvPr/>
        </p:nvSpPr>
        <p:spPr>
          <a:xfrm>
            <a:off x="712152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7" name="WordArt 45"/>
          <p:cNvSpPr txBox="1"/>
          <p:nvPr/>
        </p:nvSpPr>
        <p:spPr>
          <a:xfrm>
            <a:off x="7257960" y="150192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8" name="Rectangle 46"/>
          <p:cNvSpPr/>
          <p:nvPr/>
        </p:nvSpPr>
        <p:spPr>
          <a:xfrm>
            <a:off x="3610080" y="2872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09" name="Rectangle 47"/>
          <p:cNvSpPr/>
          <p:nvPr/>
        </p:nvSpPr>
        <p:spPr>
          <a:xfrm>
            <a:off x="8185320" y="12160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10" name="Picture 48" descr="18447595 [转换]"/>
          <p:cNvPicPr/>
          <p:nvPr/>
        </p:nvPicPr>
        <p:blipFill>
          <a:blip r:embed="rId3"/>
          <a:stretch/>
        </p:blipFill>
        <p:spPr>
          <a:xfrm>
            <a:off x="7182000" y="1460520"/>
            <a:ext cx="50004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80577E-006 -4.13346E-006 L 0.15466 -0.16311 E">
                                      <p:cBhvr>
                                        <p:cTn id="1928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358E-006 -3.90794E-006 L -0.1557 0.14891 E">
                                      <p:cBhvr>
                                        <p:cTn id="1930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7" dur="100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9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1601 0.15185 L -0.05809 0.05432 L -0.44312 0.42284 E">
                                      <p:cBhvr>
                                        <p:cTn id="1943" dur="9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35131E-007 3.95062E-006 L -0.33523 0.33642 E">
                                      <p:cBhvr>
                                        <p:cTn id="1945" dur="7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7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35" repeatCount="2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35" repeatCount="indefinite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autoRev="1" nodeType="withEffect" fill="hold" presetClass="emph" presetID="6">
                                  <p:stCondLst>
                                    <p:cond delay="6300"/>
                                  </p:stCondLst>
                                  <p:childTnLst>
                                    <p:animScale>
                                      <p:cBhvr>
                                        <p:cTn id="2004" dur="150" fill="hold"/>
                                        <p:tgtEl>
                                          <p:spTgt spid="9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3:11:22Z</dcterms:created>
  <dc:creator/>
  <dc:description/>
  <dc:language>en-US</dc:language>
  <cp:lastModifiedBy>番茄花园</cp:lastModifiedBy>
  <dcterms:modified xsi:type="dcterms:W3CDTF">2013-06-10T04:44:32Z</dcterms:modified>
  <cp:revision>59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