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44EF-4097-47B3-88A1-E90879F0EA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75B9-005F-49DA-B833-34365A4A96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57E-EB91-44C5-9290-91D9EE1E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9BA-380B-4FA2-85B8-63E4A6D5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ABC9B-90AD-43BD-AC89-66D9B46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377AA-DD91-41A2-AC06-42F37588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4B4AF-09FF-4D30-8BA4-20093A9D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C2754-673C-4E97-B3DF-BE2E8D8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968A6-E607-413E-9C85-00C4AE53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FD9C2-AD69-4C42-A2A4-B656FD33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FAF48-B021-4345-A87C-B6DA502A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175CE-5C56-439C-B591-F066CF94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EF596-440B-4B31-B157-07236322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273FB-E444-472E-AE52-94615794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0A7-81B8-46E3-B7D4-84B44B0A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E3B15-B880-41AB-B322-3A295585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C603E-B197-4389-AC67-42E4A125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4647B-F466-4A2A-B66F-4639FCDC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C6338-7C48-4A32-9987-6F880ECD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2D92A-3206-4EF5-B436-A850BDCE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29975-06AF-49E1-A347-5112091F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E6E9E-422F-49E5-8BF8-1AD10EF7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0E904-0ECB-4AEF-969F-C4541D2F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5A5DF-61A9-48B5-B227-60E85D52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BC78D-1B7B-41B3-B397-4248B7B6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E6B-E285-4541-902C-FFE26C16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425F9-9AF3-4519-A82C-FB987CE1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6D220-FE2B-44A0-9722-0A66104B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EF19B-D962-4308-990F-25007314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08560-0938-4774-BFDB-F62A77CC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EB91C-FC40-431A-9287-9DC0D929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69D55-F967-4A19-8FCF-33D2659B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1025B-5CE5-4C62-918C-682FCABF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BDE83-709F-4E79-9FF2-FBEC81D4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D8F4E-BE45-4608-A548-CE7D3DD3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C404E-2401-4C70-89E9-BA78A121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8878-19C0-4F5E-A02B-3DAC75DF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2CE1-CC0B-405A-B430-BB2EBE7C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EDB2C-4D0E-45D2-8B30-2C4322A3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C53DF-7BD6-42B5-9CA7-694A7553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E5895-CA88-454D-9FB0-25DDCAB2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ADAD5-1B78-432A-BC29-B44CE302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A079D-CB9C-4DD4-A38F-874244FC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EF68B-51BF-40CF-A360-57DAC7FF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45E89-E428-4697-878A-BFD00D21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83225-2175-4CE6-9207-6A7F3EE8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A282F-8194-4E35-940D-BE1437D3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962F-1234-4CED-9FC8-157BC516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56AC8-C3A4-4BCE-8ED2-8B4248F8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1463D-ADD7-4116-9FA3-988333B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6C497-F43A-487D-9D02-A1D4FC43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20939-C7D6-4B6D-99B4-E5154545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71F6E-30D1-4979-BC8E-664C51B4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11E92-62E3-4A62-8D2A-2942056A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39072-BACB-4176-AAF9-15AEE6EE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02F52-5ED2-4CAB-9C44-D9E8A051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27C31-3F41-4ADA-A5A9-032CF206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639FE-BB71-4602-8B05-8145E402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0F0D-D0E1-4FF8-9B8F-E29CC762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131E8-8B7E-4211-9548-9F2E6F1A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195B9-FFBE-4A0C-9CA9-A608D99E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8CF89-2317-4D8D-890C-AA3D0E3A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9946E-4E7A-4B37-A2D5-3E073F8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2347E-97B9-40E7-B43B-F38F22CC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6B190-9317-4991-AB0F-B26E6551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3DABC-8F97-4DC8-A674-3C3441D5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3140-2C53-4363-9DA4-981EA220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2945-BE48-417B-8A41-22B5DA93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83EE-E5F2-49AF-AEFD-52E8D28C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7444-76E4-4DDA-B1F7-6BF6ED3F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4D7-82A8-4B70-8CE9-D59D19E2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B026-68B5-42DC-92F4-09E88C0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03A4-5989-4406-BA2F-876E9FDA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E9FE-8FA4-4626-9A63-E5BA4359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A65E-EAB1-4F54-BF7A-67AF2DCE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BBAE-BBCB-4FED-B345-D386BACD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94A5-EC88-4226-9ABF-1F542D52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AB27-6F11-4FD8-9B80-56FE294E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8A047-5B9C-4202-8F11-8B7182F7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E90B-3E50-49DB-BE93-3E824DFE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D391-1F89-4EAF-A946-85B6E6AB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CCE-AFA1-479A-912E-F9374A1C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B7233-D4C4-414F-B9EE-AFE02D86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7C10-CA06-43A6-8924-3C42837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6470-8099-49CA-928F-133947D1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E8784-1CEB-4299-AF2D-6584F6F0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B8C1-2C41-426A-9BC0-19E19600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7139-0EF3-41B8-8EFF-E3AB96E4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F01D-FEBA-4DEC-8EBB-79FA8876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52A2C-CE86-436B-8A0F-E4AC1537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3D096-D09C-424A-82D8-444BBD5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5C4C-AB9A-4AD8-837D-63FA2503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B6A-E7AF-4C09-B433-82C888D9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C609-AC1B-4E7A-8F36-CDA7621C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376A-AC57-4089-BB1D-69CA6F57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8821-A44D-4DB3-948B-A13F5197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19FA3-4B0E-43AF-858A-8159969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80F1B-E241-460A-ADF1-6B1D3EEC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F842F-4FDE-4D8C-89D6-10E6CAA3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B5BFA-4EEA-4945-A276-E3AF8CAF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41F1-61A1-4933-98D2-ABB6121C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34804-A542-4D38-801D-5E43E7DA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45C03-FEE5-4898-8958-19EAF99A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4CF-8137-486A-981B-9E4830C4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8075-465D-43A9-A410-97ED01EA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B6877-E36E-4DF8-9FD4-25BA6ECD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FA8B3-CB96-4DCC-A120-F69A5C92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69F2C-2D2A-4746-9C44-1C14AE66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BC88A-84A0-4564-B974-A7D2ADC7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95985-CA10-4AE1-8797-F3ED6C44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8E40-7864-4FC9-982E-D557255D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9E1F2-3368-4CEB-8D95-5BD012E2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25A2-C698-4A23-A852-ED7016B1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97315-A3DB-48D1-98F4-9009FF5F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BFD-D179-41CF-ADC2-F057C76C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07107-944C-49FE-8C38-B71F236F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D2AC5-D4D5-4FE2-914A-5F9BFC93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92C7A-1BA9-4807-9FEE-46B94C66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208F6-EDCF-4CBC-B4C0-9ECB6AEC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D889C-C52F-494F-927A-2FF91D5C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294CF-8BC3-4DAB-8EBE-290BA08E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728F9-5FF2-4CE4-896C-92C1086C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FA851-6D34-44E2-9252-5F4E8B3C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F5631-B0E4-45B2-842C-93BC52AF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57904-AE76-4A51-920C-D0BBD4DE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A11-1396-4A3F-9179-33C93F5F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6F2B-CD3B-438B-854E-12003CBA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32D31-3FC3-4208-B0B1-EC94DE72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5D14B-964E-4594-806F-6BB90F6A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8A37-D645-4EA9-B747-EE6CA2FB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59D14-C3CB-4E36-BFEE-F168853E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1E701-AD58-43F6-95B9-1320CB2F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2F1F3-E579-4A53-84CD-65556834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CED17-467F-4A36-8CE0-199D87BB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54AC6-0BCD-43C7-8F55-09B4D365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6BF65-8435-4DDB-BCA7-F89C5714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AEB-9FFC-4ED5-AB8F-37A599B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81A6A-20C6-4A5F-8EDB-188673E7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EBCDD-A25A-46B1-8C90-5E72FE9F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0D583-CB38-44D2-ABB5-7A82E4F3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4CDD3-2D70-4A4E-83D9-FA41249A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21F6C-DDA8-4E6B-ACB2-262AF02E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E45EE-041E-4894-ADE1-87650CEF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BB65F-4FA2-4092-AE72-ABB79842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F8D5C-4A13-4F47-8419-DDD4E47A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2CA06-7730-424A-8B11-A2123A0E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B3D33-4C40-4E5B-B4AC-D3155959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7DA-6C2B-455F-B65A-2D19C653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61509-45D3-45A1-ACE8-55F0B768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9BBDA-C888-4956-81D1-34E7181E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DB9AB-77EF-4DB5-B33A-905F846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B3377-0AD1-4F97-A269-BE7A4B0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7EF6C-2D42-41C9-BF4E-7CC31D94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39E46-EB63-4FA4-8775-EB9D833C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935C8-B48B-448B-809A-C7DC47B3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9A34F-4010-49BE-9458-44A14A1A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639F3-AF55-471D-98DF-D49CBF5E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068F0-C461-44FC-B86B-691C803D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CBBB-9381-471B-AC7D-1F5163D47A3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B86F-CA44-4AAF-B44F-CB23563442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FCCF-758E-4BE1-BD4F-DC26C8F78E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EFCA-33E3-4263-8315-F3DA41F934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DFE1-AF90-4709-AA6F-039D782C1F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6D10-9A4A-4E2E-AFA6-1C4F56A48E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27AB-5B5D-407D-8505-7EFEAB6D6E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1CA-C45D-4004-98B1-3ED7CACD7D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B86B-B12D-46AB-8F6B-416622A1D7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0533-4FCF-4022-B39B-705FE2AFFF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3A4F-4977-4CEF-90E7-C3119558DE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408A-4138-4DA7-8953-B2B3796FA8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AFDC-8ADC-496D-B955-2E86AF7A05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4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52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56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6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573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4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576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7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8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589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1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593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5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596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8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99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608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1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任意多边形 2"/>
          <p:cNvSpPr/>
          <p:nvPr/>
        </p:nvSpPr>
        <p:spPr>
          <a:xfrm>
            <a:off x="2243160" y="2946240"/>
            <a:ext cx="596880" cy="65736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2832120" y="2949480"/>
            <a:ext cx="9360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   </a:t>
            </a:r>
            <a:r>
              <a:rPr b="0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0" lang="en-US" sz="28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6"/>
          <p:cNvSpPr/>
          <p:nvPr/>
        </p:nvSpPr>
        <p:spPr>
          <a:xfrm>
            <a:off x="0" y="2182680"/>
            <a:ext cx="931212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角三角形 5"/>
          <p:cNvSpPr/>
          <p:nvPr/>
        </p:nvSpPr>
        <p:spPr>
          <a:xfrm>
            <a:off x="9312120" y="2178000"/>
            <a:ext cx="85428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11"/>
          <p:cNvSpPr/>
          <p:nvPr/>
        </p:nvSpPr>
        <p:spPr>
          <a:xfrm>
            <a:off x="2581200" y="3921120"/>
            <a:ext cx="69073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5-05-25T10:21:5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