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ooppaLogoMarkOnlyBlack.png"/>
          <p:cNvPicPr/>
          <p:nvPr/>
        </p:nvPicPr>
        <p:blipFill>
          <a:blip r:embed="rId2"/>
          <a:stretch/>
        </p:blipFill>
        <p:spPr>
          <a:xfrm>
            <a:off x="6480" y="3240"/>
            <a:ext cx="6843600" cy="6557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ooter.jpg"/>
          <p:cNvPicPr/>
          <p:nvPr/>
        </p:nvPicPr>
        <p:blipFill>
          <a:blip r:embed="rId3"/>
          <a:stretch/>
        </p:blipFill>
        <p:spPr>
          <a:xfrm>
            <a:off x="0" y="627552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8427960" y="6394320"/>
            <a:ext cx="363600" cy="36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8410680" y="6394320"/>
            <a:ext cx="393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5A05E-E86D-4A9B-988F-B10F9714A890}" type="slidenum">
              <a:rPr b="1" lang="en-US" sz="1000" spc="-1" strike="noStrike">
                <a:solidFill>
                  <a:srgbClr val="00aee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10" descr="LooppaLogoRGB.png"/>
          <p:cNvPicPr/>
          <p:nvPr/>
        </p:nvPicPr>
        <p:blipFill>
          <a:blip r:embed="rId2"/>
          <a:stretch/>
        </p:blipFill>
        <p:spPr>
          <a:xfrm>
            <a:off x="449280" y="5972040"/>
            <a:ext cx="4102200" cy="758880"/>
          </a:xfrm>
          <a:prstGeom prst="rect">
            <a:avLst/>
          </a:prstGeom>
          <a:ln w="0">
            <a:noFill/>
          </a:ln>
        </p:spPr>
      </p:pic>
      <p:sp>
        <p:nvSpPr>
          <p:cNvPr id="44" name="Oval 10"/>
          <p:cNvSpPr/>
          <p:nvPr/>
        </p:nvSpPr>
        <p:spPr>
          <a:xfrm>
            <a:off x="7607160" y="2349360"/>
            <a:ext cx="939960" cy="939960"/>
          </a:xfrm>
          <a:prstGeom prst="ellipse">
            <a:avLst/>
          </a:prstGeom>
          <a:solidFill>
            <a:srgbClr val="20b6f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6413400" y="3022560"/>
            <a:ext cx="1231920" cy="1231920"/>
          </a:xfrm>
          <a:prstGeom prst="ellipse">
            <a:avLst/>
          </a:prstGeom>
          <a:solidFill>
            <a:srgbClr val="20b6f0"/>
          </a:solidFill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6908760" y="4724280"/>
            <a:ext cx="622440" cy="622440"/>
          </a:xfrm>
          <a:prstGeom prst="ellipse">
            <a:avLst/>
          </a:prstGeom>
          <a:solidFill>
            <a:srgbClr val="20b6f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003320" y="1527120"/>
            <a:ext cx="71690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宋体"/>
              </a:rPr>
              <a:t>Social Journal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best platform for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nline newspaper’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9" descr="social_journal_home_short_02"/>
          <p:cNvPicPr/>
          <p:nvPr/>
        </p:nvPicPr>
        <p:blipFill>
          <a:blip r:embed="rId1"/>
          <a:stretch/>
        </p:blipFill>
        <p:spPr>
          <a:xfrm>
            <a:off x="2149560" y="0"/>
            <a:ext cx="4771800" cy="62881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6783480" y="4024440"/>
            <a:ext cx="100656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6783480" y="4029120"/>
            <a:ext cx="1147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Rectangle 36"/>
          <p:cNvSpPr/>
          <p:nvPr/>
        </p:nvSpPr>
        <p:spPr>
          <a:xfrm>
            <a:off x="457200" y="1276200"/>
            <a:ext cx="181116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457200" y="1276200"/>
            <a:ext cx="1811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t the home page, all the journalists are listed with their latest headlin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2044800" y="156672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Line 39"/>
          <p:cNvSpPr/>
          <p:nvPr/>
        </p:nvSpPr>
        <p:spPr>
          <a:xfrm flipH="1">
            <a:off x="6710400" y="42418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6859440" y="30240"/>
            <a:ext cx="1006560" cy="77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6869160" y="44280"/>
            <a:ext cx="94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login via Facebook and Twitter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Line 39"/>
          <p:cNvSpPr/>
          <p:nvPr/>
        </p:nvSpPr>
        <p:spPr>
          <a:xfrm flipH="1">
            <a:off x="6786720" y="247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Rectangle 25"/>
          <p:cNvSpPr/>
          <p:nvPr/>
        </p:nvSpPr>
        <p:spPr>
          <a:xfrm>
            <a:off x="6792840" y="2701800"/>
            <a:ext cx="1660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6792840" y="2706840"/>
            <a:ext cx="1660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Line 39"/>
          <p:cNvSpPr/>
          <p:nvPr/>
        </p:nvSpPr>
        <p:spPr>
          <a:xfrm flipH="1">
            <a:off x="6719400" y="29192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6780240" y="4757760"/>
            <a:ext cx="1309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6786720" y="4748040"/>
            <a:ext cx="1309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comments from user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 flipH="1">
            <a:off x="6713640" y="49608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6789600" y="5764320"/>
            <a:ext cx="132264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6797520" y="5756400"/>
            <a:ext cx="132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More active users in the community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Line 39"/>
          <p:cNvSpPr/>
          <p:nvPr/>
        </p:nvSpPr>
        <p:spPr>
          <a:xfrm flipH="1">
            <a:off x="6716880" y="59817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6786720" y="1442880"/>
            <a:ext cx="100620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6786720" y="1447920"/>
            <a:ext cx="100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Banner 300x250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Line 39"/>
          <p:cNvSpPr/>
          <p:nvPr/>
        </p:nvSpPr>
        <p:spPr>
          <a:xfrm flipH="1">
            <a:off x="6713640" y="1660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2879640" y="6396120"/>
            <a:ext cx="55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ome Page with all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03520" y="42840"/>
            <a:ext cx="5735520" cy="6229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5"/>
          <p:cNvSpPr/>
          <p:nvPr/>
        </p:nvSpPr>
        <p:spPr>
          <a:xfrm>
            <a:off x="5848200" y="1488960"/>
            <a:ext cx="234648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5835600" y="1488960"/>
            <a:ext cx="252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news written by the journalist. The link takes the user to the article in the main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36"/>
          <p:cNvSpPr/>
          <p:nvPr/>
        </p:nvSpPr>
        <p:spPr>
          <a:xfrm>
            <a:off x="585720" y="2257560"/>
            <a:ext cx="195444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Text Box 37"/>
          <p:cNvSpPr/>
          <p:nvPr/>
        </p:nvSpPr>
        <p:spPr>
          <a:xfrm>
            <a:off x="585720" y="2257560"/>
            <a:ext cx="20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follow journalists, and receive updates in their own spac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Line 38"/>
          <p:cNvSpPr/>
          <p:nvPr/>
        </p:nvSpPr>
        <p:spPr>
          <a:xfrm>
            <a:off x="2320920" y="251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Line 39"/>
          <p:cNvSpPr/>
          <p:nvPr/>
        </p:nvSpPr>
        <p:spPr>
          <a:xfrm flipH="1">
            <a:off x="5762160" y="17017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6831000" y="58680"/>
            <a:ext cx="1217520" cy="276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6840360" y="73080"/>
            <a:ext cx="135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 logged i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 flipH="1">
            <a:off x="6757560" y="20016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3979800" y="58680"/>
            <a:ext cx="2071800" cy="604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3979800" y="572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 contents. photos, videos, posts and feeds from Facebook and Twitt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>
            <a:off x="5251320" y="348480"/>
            <a:ext cx="7920" cy="38916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5835600" y="2881440"/>
            <a:ext cx="1668600" cy="46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26"/>
          <p:cNvSpPr/>
          <p:nvPr/>
        </p:nvSpPr>
        <p:spPr>
          <a:xfrm>
            <a:off x="5835600" y="2914560"/>
            <a:ext cx="166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Line 39"/>
          <p:cNvSpPr/>
          <p:nvPr/>
        </p:nvSpPr>
        <p:spPr>
          <a:xfrm flipH="1">
            <a:off x="5768640" y="31273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5845320" y="4676760"/>
            <a:ext cx="16588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5851440" y="4668840"/>
            <a:ext cx="165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Line 39"/>
          <p:cNvSpPr/>
          <p:nvPr/>
        </p:nvSpPr>
        <p:spPr>
          <a:xfrm flipH="1">
            <a:off x="5772240" y="48942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Rectangle 25"/>
          <p:cNvSpPr/>
          <p:nvPr/>
        </p:nvSpPr>
        <p:spPr>
          <a:xfrm>
            <a:off x="6757920" y="738360"/>
            <a:ext cx="1290600" cy="43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6757920" y="733320"/>
            <a:ext cx="129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Space Banner 160x600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Line 39"/>
          <p:cNvSpPr/>
          <p:nvPr/>
        </p:nvSpPr>
        <p:spPr>
          <a:xfrm flipH="1">
            <a:off x="6684480" y="9558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595440" y="3402000"/>
            <a:ext cx="1658880" cy="43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595440" y="3392640"/>
            <a:ext cx="17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who are following the journalist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Line 38"/>
          <p:cNvSpPr/>
          <p:nvPr/>
        </p:nvSpPr>
        <p:spPr>
          <a:xfrm>
            <a:off x="2039760" y="3606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652320" y="4430880"/>
            <a:ext cx="1587600" cy="441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Text Box 37"/>
          <p:cNvSpPr/>
          <p:nvPr/>
        </p:nvSpPr>
        <p:spPr>
          <a:xfrm>
            <a:off x="652320" y="4430880"/>
            <a:ext cx="158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activities of the journalist’s follow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Line 38"/>
          <p:cNvSpPr/>
          <p:nvPr/>
        </p:nvSpPr>
        <p:spPr>
          <a:xfrm>
            <a:off x="2021040" y="46450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2935440" y="633744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703520" y="47520"/>
            <a:ext cx="5735520" cy="62056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5"/>
          <p:cNvSpPr/>
          <p:nvPr/>
        </p:nvSpPr>
        <p:spPr>
          <a:xfrm>
            <a:off x="5775480" y="628560"/>
            <a:ext cx="2939760" cy="995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5775480" y="676440"/>
            <a:ext cx="2825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see the latest news, the activity of their friends, their comments on the website, their favorite articles from the newspaper and messages sent from users and the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Line 39"/>
          <p:cNvSpPr/>
          <p:nvPr/>
        </p:nvSpPr>
        <p:spPr>
          <a:xfrm flipH="1">
            <a:off x="5689080" y="888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5775480" y="2536920"/>
            <a:ext cx="29527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5775480" y="2571840"/>
            <a:ext cx="2952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In their own space, users can see the feed of latest articles published by the journalists who they are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The links from these articles take the user to the newspaper’s websit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Line 39"/>
          <p:cNvSpPr/>
          <p:nvPr/>
        </p:nvSpPr>
        <p:spPr>
          <a:xfrm flipH="1">
            <a:off x="5708160" y="278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436680" y="1681200"/>
            <a:ext cx="1811160" cy="43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37"/>
          <p:cNvSpPr/>
          <p:nvPr/>
        </p:nvSpPr>
        <p:spPr>
          <a:xfrm>
            <a:off x="436680" y="1682640"/>
            <a:ext cx="186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make friends with other us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Line 38"/>
          <p:cNvSpPr/>
          <p:nvPr/>
        </p:nvSpPr>
        <p:spPr>
          <a:xfrm>
            <a:off x="2023920" y="18860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Rectangle 36"/>
          <p:cNvSpPr/>
          <p:nvPr/>
        </p:nvSpPr>
        <p:spPr>
          <a:xfrm>
            <a:off x="606600" y="4162320"/>
            <a:ext cx="1644480" cy="441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606600" y="4160880"/>
            <a:ext cx="171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s that the user is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Line 38"/>
          <p:cNvSpPr/>
          <p:nvPr/>
        </p:nvSpPr>
        <p:spPr>
          <a:xfrm>
            <a:off x="2031840" y="437688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2935440" y="6337440"/>
            <a:ext cx="520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User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C:\Users\user\Documents\Looppa\PPTs\Social Journal\print_ herald.jpg"/>
          <p:cNvPicPr/>
          <p:nvPr/>
        </p:nvPicPr>
        <p:blipFill>
          <a:blip r:embed="rId1"/>
          <a:stretch/>
        </p:blipFill>
        <p:spPr>
          <a:xfrm>
            <a:off x="863640" y="54000"/>
            <a:ext cx="7437240" cy="62244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5"/>
          <p:cNvSpPr/>
          <p:nvPr/>
        </p:nvSpPr>
        <p:spPr>
          <a:xfrm>
            <a:off x="7524720" y="1163520"/>
            <a:ext cx="1467000" cy="112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7524720" y="1163520"/>
            <a:ext cx="1467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hen a user logs into the newspaper’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ebsite the articles of the journalists being followed can be se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Line 39"/>
          <p:cNvSpPr/>
          <p:nvPr/>
        </p:nvSpPr>
        <p:spPr>
          <a:xfrm flipH="1">
            <a:off x="7453440" y="14241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935440" y="6337440"/>
            <a:ext cx="5209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Newspaper’s Home with users news feed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Subtitle 2"/>
          <p:cNvSpPr/>
          <p:nvPr/>
        </p:nvSpPr>
        <p:spPr>
          <a:xfrm>
            <a:off x="1003320" y="2011320"/>
            <a:ext cx="716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le 3"/>
          <p:cNvSpPr/>
          <p:nvPr/>
        </p:nvSpPr>
        <p:spPr>
          <a:xfrm>
            <a:off x="777960" y="56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  <a:ea typeface="宋体"/>
              </a:rPr>
              <a:t>What is Social Journal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098880" y="6391440"/>
            <a:ext cx="54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Title 3"/>
          <p:cNvSpPr/>
          <p:nvPr/>
        </p:nvSpPr>
        <p:spPr>
          <a:xfrm>
            <a:off x="771480" y="1397160"/>
            <a:ext cx="7620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is a new platform that will help the journalists to improve the way they create content for online newspapers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Title 3"/>
          <p:cNvSpPr/>
          <p:nvPr/>
        </p:nvSpPr>
        <p:spPr>
          <a:xfrm>
            <a:off x="774720" y="2333520"/>
            <a:ext cx="80359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Get all the multimedia tools to upload photos, audios or video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reate content from the web or mobile device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Present their social activity from elsewhere on the Newspaper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Title 3"/>
          <p:cNvSpPr/>
          <p:nvPr/>
        </p:nvSpPr>
        <p:spPr>
          <a:xfrm>
            <a:off x="771480" y="3814920"/>
            <a:ext cx="76201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will help newspapers to engage readers in a new way and monetize their activity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Title 3"/>
          <p:cNvSpPr/>
          <p:nvPr/>
        </p:nvSpPr>
        <p:spPr>
          <a:xfrm>
            <a:off x="874800" y="4854600"/>
            <a:ext cx="76197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Allow them to get access to their favorite journalist’s article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omment and share all the content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Photo"/>
          <p:cNvPicPr/>
          <p:nvPr/>
        </p:nvPicPr>
        <p:blipFill>
          <a:blip r:embed="rId1"/>
          <a:stretch/>
        </p:blipFill>
        <p:spPr>
          <a:xfrm>
            <a:off x="1028880" y="2662200"/>
            <a:ext cx="1233360" cy="8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Video"/>
          <p:cNvPicPr/>
          <p:nvPr/>
        </p:nvPicPr>
        <p:blipFill>
          <a:blip r:embed="rId2"/>
          <a:stretch/>
        </p:blipFill>
        <p:spPr>
          <a:xfrm>
            <a:off x="4991040" y="1511280"/>
            <a:ext cx="1238400" cy="140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Blog"/>
          <p:cNvPicPr/>
          <p:nvPr/>
        </p:nvPicPr>
        <p:blipFill>
          <a:blip r:embed="rId3"/>
          <a:stretch/>
        </p:blipFill>
        <p:spPr>
          <a:xfrm>
            <a:off x="3157560" y="1622520"/>
            <a:ext cx="934920" cy="131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2796415241890889893"/>
          <p:cNvPicPr/>
          <p:nvPr/>
        </p:nvPicPr>
        <p:blipFill>
          <a:blip r:embed="rId4"/>
          <a:stretch/>
        </p:blipFill>
        <p:spPr>
          <a:xfrm>
            <a:off x="3951360" y="417348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0" name="Title 3"/>
          <p:cNvSpPr/>
          <p:nvPr/>
        </p:nvSpPr>
        <p:spPr>
          <a:xfrm>
            <a:off x="777960" y="338040"/>
            <a:ext cx="662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Multimedia Web and Mobile upload tools for the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14" descr="Video"/>
          <p:cNvPicPr/>
          <p:nvPr/>
        </p:nvPicPr>
        <p:blipFill>
          <a:blip r:embed="rId5"/>
          <a:stretch/>
        </p:blipFill>
        <p:spPr>
          <a:xfrm>
            <a:off x="6796080" y="2570040"/>
            <a:ext cx="1238400" cy="1406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6951600" y="3176640"/>
            <a:ext cx="849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78400" y="54388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 flipH="1" flipV="1">
            <a:off x="2504880" y="3932280"/>
            <a:ext cx="137628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2652840" y="296244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Write 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24" descr="9838767291054837422"/>
          <p:cNvPicPr/>
          <p:nvPr/>
        </p:nvPicPr>
        <p:blipFill>
          <a:blip r:embed="rId6"/>
          <a:stretch/>
        </p:blipFill>
        <p:spPr>
          <a:xfrm>
            <a:off x="7074000" y="2970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5"/>
          <p:cNvSpPr/>
          <p:nvPr/>
        </p:nvSpPr>
        <p:spPr>
          <a:xfrm>
            <a:off x="671400" y="35640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4537080" y="295416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 flipH="1" flipV="1">
            <a:off x="3743280" y="3467160"/>
            <a:ext cx="34920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Line 28"/>
          <p:cNvSpPr/>
          <p:nvPr/>
        </p:nvSpPr>
        <p:spPr>
          <a:xfrm flipV="1">
            <a:off x="4991040" y="3433680"/>
            <a:ext cx="37476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Line 29"/>
          <p:cNvSpPr/>
          <p:nvPr/>
        </p:nvSpPr>
        <p:spPr>
          <a:xfrm flipV="1">
            <a:off x="5243400" y="3868560"/>
            <a:ext cx="1133640" cy="6890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396120" y="4021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Record Live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le 3"/>
          <p:cNvSpPr/>
          <p:nvPr/>
        </p:nvSpPr>
        <p:spPr>
          <a:xfrm>
            <a:off x="777960" y="404640"/>
            <a:ext cx="785628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Full integration allows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and readers to use their Facebook and Twitter credential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can present their Facebook and Twitter content in the newspape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" name="Picture 5" descr="1061260918"/>
          <p:cNvPicPr/>
          <p:nvPr/>
        </p:nvPicPr>
        <p:blipFill>
          <a:blip r:embed="rId1"/>
          <a:stretch/>
        </p:blipFill>
        <p:spPr>
          <a:xfrm>
            <a:off x="1368360" y="483084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677166248"/>
          <p:cNvPicPr/>
          <p:nvPr/>
        </p:nvPicPr>
        <p:blipFill>
          <a:blip r:embed="rId2"/>
          <a:stretch/>
        </p:blipFill>
        <p:spPr>
          <a:xfrm>
            <a:off x="1368360" y="32940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4663318587356714"/>
          <p:cNvPicPr/>
          <p:nvPr/>
        </p:nvPicPr>
        <p:blipFill>
          <a:blip r:embed="rId3"/>
          <a:stretch/>
        </p:blipFill>
        <p:spPr>
          <a:xfrm>
            <a:off x="5875200" y="3506760"/>
            <a:ext cx="1962360" cy="1962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5838840" y="5264280"/>
            <a:ext cx="2009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Newspaper’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ocial Journa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2786040" y="3870360"/>
            <a:ext cx="2859120" cy="5605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2808360" y="4808160"/>
            <a:ext cx="2836800" cy="5763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2796415241890889893"/>
          <p:cNvPicPr/>
          <p:nvPr/>
        </p:nvPicPr>
        <p:blipFill>
          <a:blip r:embed="rId1"/>
          <a:stretch/>
        </p:blipFill>
        <p:spPr>
          <a:xfrm>
            <a:off x="971640" y="2738520"/>
            <a:ext cx="1261800" cy="1262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98320" y="400356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2" name="Picture 14" descr="Photo"/>
          <p:cNvPicPr/>
          <p:nvPr/>
        </p:nvPicPr>
        <p:blipFill>
          <a:blip r:embed="rId2"/>
          <a:stretch/>
        </p:blipFill>
        <p:spPr>
          <a:xfrm>
            <a:off x="3576600" y="1874880"/>
            <a:ext cx="974880" cy="70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Video"/>
          <p:cNvPicPr/>
          <p:nvPr/>
        </p:nvPicPr>
        <p:blipFill>
          <a:blip r:embed="rId3"/>
          <a:stretch/>
        </p:blipFill>
        <p:spPr>
          <a:xfrm>
            <a:off x="3630600" y="4713120"/>
            <a:ext cx="977760" cy="1111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Blog"/>
          <p:cNvPicPr/>
          <p:nvPr/>
        </p:nvPicPr>
        <p:blipFill>
          <a:blip r:embed="rId4"/>
          <a:stretch/>
        </p:blipFill>
        <p:spPr>
          <a:xfrm>
            <a:off x="3716280" y="3137040"/>
            <a:ext cx="73836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7"/>
          <p:cNvSpPr/>
          <p:nvPr/>
        </p:nvSpPr>
        <p:spPr>
          <a:xfrm>
            <a:off x="3651120" y="41860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635280" y="2598840"/>
            <a:ext cx="8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3562200" y="5813280"/>
            <a:ext cx="10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Vide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Title 3"/>
          <p:cNvSpPr/>
          <p:nvPr/>
        </p:nvSpPr>
        <p:spPr>
          <a:xfrm>
            <a:off x="777960" y="49356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</a:t>
            </a: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’s content can get posted instantly on Facebook and Twitter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 flipV="1">
            <a:off x="2322360" y="2708280"/>
            <a:ext cx="1016280" cy="7668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2352600" y="3836880"/>
            <a:ext cx="986040" cy="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2319480" y="4149720"/>
            <a:ext cx="1019160" cy="9651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AutoShape 28"/>
          <p:cNvSpPr/>
          <p:nvPr/>
        </p:nvSpPr>
        <p:spPr>
          <a:xfrm>
            <a:off x="4924440" y="325440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3" name="Picture 29" descr="1061260918"/>
          <p:cNvPicPr/>
          <p:nvPr/>
        </p:nvPicPr>
        <p:blipFill>
          <a:blip r:embed="rId5"/>
          <a:stretch/>
        </p:blipFill>
        <p:spPr>
          <a:xfrm>
            <a:off x="6610320" y="37926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0" descr="677166248"/>
          <p:cNvPicPr/>
          <p:nvPr/>
        </p:nvPicPr>
        <p:blipFill>
          <a:blip r:embed="rId6"/>
          <a:stretch/>
        </p:blipFill>
        <p:spPr>
          <a:xfrm>
            <a:off x="6599160" y="2467080"/>
            <a:ext cx="1185840" cy="11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le 3"/>
          <p:cNvSpPr/>
          <p:nvPr/>
        </p:nvSpPr>
        <p:spPr>
          <a:xfrm>
            <a:off x="777960" y="493560"/>
            <a:ext cx="609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Allows readers to comment on articles and expand article visibility via “share” or “recommend” tool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6" name="Picture 5" descr="Friends"/>
          <p:cNvPicPr/>
          <p:nvPr/>
        </p:nvPicPr>
        <p:blipFill>
          <a:blip r:embed="rId1"/>
          <a:stretch/>
        </p:blipFill>
        <p:spPr>
          <a:xfrm>
            <a:off x="3684600" y="1968480"/>
            <a:ext cx="1679400" cy="1127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3778200" y="30812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7" descr="9333780331932221392"/>
          <p:cNvPicPr/>
          <p:nvPr/>
        </p:nvPicPr>
        <p:blipFill>
          <a:blip r:embed="rId2"/>
          <a:stretch/>
        </p:blipFill>
        <p:spPr>
          <a:xfrm>
            <a:off x="4033800" y="469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521996491"/>
          <p:cNvPicPr/>
          <p:nvPr/>
        </p:nvPicPr>
        <p:blipFill>
          <a:blip r:embed="rId3"/>
          <a:stretch/>
        </p:blipFill>
        <p:spPr>
          <a:xfrm>
            <a:off x="1627200" y="432576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939291040"/>
          <p:cNvPicPr/>
          <p:nvPr/>
        </p:nvPicPr>
        <p:blipFill>
          <a:blip r:embed="rId4"/>
          <a:stretch/>
        </p:blipFill>
        <p:spPr>
          <a:xfrm>
            <a:off x="6184800" y="4321080"/>
            <a:ext cx="1260720" cy="1260720"/>
          </a:xfrm>
          <a:prstGeom prst="rect">
            <a:avLst/>
          </a:prstGeom>
          <a:ln w="0">
            <a:noFill/>
          </a:ln>
        </p:spPr>
      </p:pic>
      <p:sp>
        <p:nvSpPr>
          <p:cNvPr id="141" name="Line 10"/>
          <p:cNvSpPr/>
          <p:nvPr/>
        </p:nvSpPr>
        <p:spPr>
          <a:xfrm>
            <a:off x="5229360" y="3448080"/>
            <a:ext cx="955440" cy="90648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4592520" y="3514680"/>
            <a:ext cx="0" cy="10843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 flipH="1">
            <a:off x="2709720" y="3459240"/>
            <a:ext cx="1090800" cy="9000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1049400" y="5486400"/>
            <a:ext cx="231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00000"/>
                </a:solidFill>
                <a:latin typeface="Arial"/>
              </a:rPr>
              <a:t>FULLY MODERATE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975120" y="57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ha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240600" y="553068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Favo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Friends"/>
          <p:cNvPicPr/>
          <p:nvPr/>
        </p:nvPicPr>
        <p:blipFill>
          <a:blip r:embed="rId1"/>
          <a:stretch/>
        </p:blipFill>
        <p:spPr>
          <a:xfrm>
            <a:off x="1220760" y="3106800"/>
            <a:ext cx="1679760" cy="1127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314360" y="42195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9" name="Picture 7" descr="2796415241890889893"/>
          <p:cNvPicPr/>
          <p:nvPr/>
        </p:nvPicPr>
        <p:blipFill>
          <a:blip r:embed="rId2"/>
          <a:stretch/>
        </p:blipFill>
        <p:spPr>
          <a:xfrm>
            <a:off x="5224320" y="2106720"/>
            <a:ext cx="1041480" cy="1041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4896000" y="317196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9" descr="2796415241890889893"/>
          <p:cNvPicPr/>
          <p:nvPr/>
        </p:nvPicPr>
        <p:blipFill>
          <a:blip r:embed="rId3"/>
          <a:stretch/>
        </p:blipFill>
        <p:spPr>
          <a:xfrm>
            <a:off x="5246640" y="38098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929120" y="489744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3" name="Picture 11" descr="2796415241890889893"/>
          <p:cNvPicPr/>
          <p:nvPr/>
        </p:nvPicPr>
        <p:blipFill>
          <a:blip r:embed="rId4"/>
          <a:stretch/>
        </p:blipFill>
        <p:spPr>
          <a:xfrm>
            <a:off x="6694560" y="29494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2"/>
          <p:cNvSpPr/>
          <p:nvPr/>
        </p:nvSpPr>
        <p:spPr>
          <a:xfrm>
            <a:off x="6410160" y="4037040"/>
            <a:ext cx="16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3160800" y="29433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itle 3"/>
          <p:cNvSpPr/>
          <p:nvPr/>
        </p:nvSpPr>
        <p:spPr>
          <a:xfrm>
            <a:off x="777960" y="49356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Readers can follow and receive updates from their favorite 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319560" y="322416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OLLO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 rot="10800000">
            <a:off x="3146040" y="391752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249720" y="419904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tle 3"/>
          <p:cNvSpPr/>
          <p:nvPr/>
        </p:nvSpPr>
        <p:spPr>
          <a:xfrm>
            <a:off x="777960" y="493560"/>
            <a:ext cx="66006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Readers can “friend” other readers and send messages to one anot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Picture 6" descr="Profile"/>
          <p:cNvPicPr/>
          <p:nvPr/>
        </p:nvPicPr>
        <p:blipFill>
          <a:blip r:embed="rId1"/>
          <a:stretch/>
        </p:blipFill>
        <p:spPr>
          <a:xfrm>
            <a:off x="223200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Profile"/>
          <p:cNvPicPr/>
          <p:nvPr/>
        </p:nvPicPr>
        <p:blipFill>
          <a:blip r:embed="rId2"/>
          <a:stretch/>
        </p:blipFill>
        <p:spPr>
          <a:xfrm>
            <a:off x="579924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1973945227901351963"/>
          <p:cNvPicPr/>
          <p:nvPr/>
        </p:nvPicPr>
        <p:blipFill>
          <a:blip r:embed="rId3"/>
          <a:stretch/>
        </p:blipFill>
        <p:spPr>
          <a:xfrm>
            <a:off x="3860640" y="4276800"/>
            <a:ext cx="1449720" cy="14493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1"/>
          <p:cNvSpPr/>
          <p:nvPr/>
        </p:nvSpPr>
        <p:spPr>
          <a:xfrm>
            <a:off x="3494160" y="2760840"/>
            <a:ext cx="2128680" cy="85068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3946680" y="300672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 flipH="1" flipV="1">
            <a:off x="2774880" y="3722400"/>
            <a:ext cx="1085760" cy="11142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5343480" y="3722400"/>
            <a:ext cx="1076400" cy="11192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tle 3"/>
          <p:cNvSpPr/>
          <p:nvPr/>
        </p:nvSpPr>
        <p:spPr>
          <a:xfrm>
            <a:off x="777960" y="415800"/>
            <a:ext cx="753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Users backend management tools and newsletters platform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9" name="Picture 4" descr="Profile"/>
          <p:cNvPicPr/>
          <p:nvPr/>
        </p:nvPicPr>
        <p:blipFill>
          <a:blip r:embed="rId1"/>
          <a:stretch/>
        </p:blipFill>
        <p:spPr>
          <a:xfrm>
            <a:off x="5062680" y="30672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2796415241890889893"/>
          <p:cNvPicPr/>
          <p:nvPr/>
        </p:nvPicPr>
        <p:blipFill>
          <a:blip r:embed="rId2"/>
          <a:stretch/>
        </p:blipFill>
        <p:spPr>
          <a:xfrm>
            <a:off x="25704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74520" y="571968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2" name="Picture 12" descr="2796415241890889893"/>
          <p:cNvPicPr/>
          <p:nvPr/>
        </p:nvPicPr>
        <p:blipFill>
          <a:blip r:embed="rId3"/>
          <a:stretch/>
        </p:blipFill>
        <p:spPr>
          <a:xfrm>
            <a:off x="275256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3"/>
          <p:cNvSpPr/>
          <p:nvPr/>
        </p:nvSpPr>
        <p:spPr>
          <a:xfrm>
            <a:off x="2341440" y="571968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00aee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4" name="Picture 14" descr="Profile"/>
          <p:cNvPicPr/>
          <p:nvPr/>
        </p:nvPicPr>
        <p:blipFill>
          <a:blip r:embed="rId4"/>
          <a:stretch/>
        </p:blipFill>
        <p:spPr>
          <a:xfrm>
            <a:off x="6353280" y="21366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Profile"/>
          <p:cNvPicPr/>
          <p:nvPr/>
        </p:nvPicPr>
        <p:blipFill>
          <a:blip r:embed="rId5"/>
          <a:stretch/>
        </p:blipFill>
        <p:spPr>
          <a:xfrm>
            <a:off x="5052960" y="1558800"/>
            <a:ext cx="1001880" cy="1038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6"/>
          <p:cNvSpPr/>
          <p:nvPr/>
        </p:nvSpPr>
        <p:spPr>
          <a:xfrm>
            <a:off x="4789440" y="255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4775040" y="40971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6108840" y="31449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9" name="Picture 19" descr="1658810496399860750"/>
          <p:cNvPicPr/>
          <p:nvPr/>
        </p:nvPicPr>
        <p:blipFill>
          <a:blip r:embed="rId6"/>
          <a:stretch/>
        </p:blipFill>
        <p:spPr>
          <a:xfrm>
            <a:off x="905040" y="2395440"/>
            <a:ext cx="2135160" cy="21351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0"/>
          <p:cNvSpPr/>
          <p:nvPr/>
        </p:nvSpPr>
        <p:spPr>
          <a:xfrm>
            <a:off x="1179360" y="45194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Newslett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AutoShape 21"/>
          <p:cNvSpPr/>
          <p:nvPr/>
        </p:nvSpPr>
        <p:spPr>
          <a:xfrm>
            <a:off x="3171960" y="32655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2:38:58Z</dcterms:created>
  <dc:creator>Sharon Schanzer</dc:creator>
  <dc:description/>
  <dc:language>en-US</dc:language>
  <cp:lastModifiedBy>admin</cp:lastModifiedBy>
  <dcterms:modified xsi:type="dcterms:W3CDTF">2014-07-19T07:54:26Z</dcterms:modified>
  <cp:revision>1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