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.jpeg" ContentType="image/jpeg"/>
  <Override PartName="/ppt/media/image7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2.gif" ContentType="image/gif"/>
  <Override PartName="/ppt/media/image10.jpeg" ContentType="image/jpeg"/>
  <Override PartName="/ppt/media/image11.gif" ContentType="image/gif"/>
  <Override PartName="/ppt/media/image14.png" ContentType="image/png"/>
  <Override PartName="/ppt/media/image8.png" ContentType="image/png"/>
  <Override PartName="/ppt/media/image9.jpeg" ContentType="image/jpeg"/>
  <Override PartName="/ppt/media/image12.gif" ContentType="image/gi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C11-491D-485F-B7E3-2F3C2636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FAF-2F0F-4264-855F-B224448A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E50-750D-41BE-87AC-A99F2C2E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0A7-7156-479D-BC1F-CBE979DB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465F-2148-49B1-8CAD-1F407F0D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1237-2972-4C90-A12A-E4A3960E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E15E-68DC-4540-8B29-D657BCC0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EBBA-92F4-402A-8678-F9B07409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B445-9319-45E9-8B63-7A94F7CC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25C5-7785-4D7C-844A-91BE1EF6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0807-79CD-4605-95FD-54920EFD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287-D7B8-4BEF-A075-F56224CB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ED53-C6BD-42A5-9A62-12751F9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F1BF-58EE-40F9-832E-4DB7920F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6459-6D98-4066-B61C-74E41AA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B643-486F-4808-B1B0-614399E9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276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00400" y="68580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5276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00400" y="3750840"/>
            <a:ext cx="23306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3A95-7D25-4C05-894A-639861CF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FC0-F7F5-41CC-945E-B31AF1D0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CB7-9DE4-49C3-9116-074CA6C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B97-43C1-4223-9E66-EB69A5F4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-36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1CB-DDFC-4185-AA3C-0C4B10EE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C21-29F3-4EA5-AFA7-CB37669D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4560" y="375084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7CB-37CB-4E79-ACB8-6479285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-169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4560" y="685800"/>
            <a:ext cx="35323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750840"/>
            <a:ext cx="7238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C2D-408B-4AE1-A3E2-263ADC68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0EEF-F39E-4709-B9DF-D4087656581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685800"/>
            <a:ext cx="7238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SzPct val="3084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8DCD-105E-421D-8C63-F64072930D8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6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" name="Picture 65" descr="DNA-engineer"/>
          <p:cNvPicPr/>
          <p:nvPr/>
        </p:nvPicPr>
        <p:blipFill>
          <a:blip r:embed="rId2"/>
          <a:stretch/>
        </p:blipFill>
        <p:spPr>
          <a:xfrm>
            <a:off x="0" y="1709640"/>
            <a:ext cx="354348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18868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Trebuchet MS"/>
              <a:ea typeface="宋体"/>
            </a:endParaRPr>
          </a:p>
        </p:txBody>
      </p:sp>
      <p:pic>
        <p:nvPicPr>
          <p:cNvPr id="87" name="Picture 8" descr="dna_waving_hg_clr"/>
          <p:cNvPicPr/>
          <p:nvPr/>
        </p:nvPicPr>
        <p:blipFill>
          <a:blip r:embed="rId2"/>
          <a:stretch/>
        </p:blipFill>
        <p:spPr>
          <a:xfrm>
            <a:off x="2895480" y="990720"/>
            <a:ext cx="2830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85800"/>
            <a:ext cx="354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rebuchet MS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" name="Picture 37" descr="DNA-test-tube"/>
          <p:cNvPicPr/>
          <p:nvPr/>
        </p:nvPicPr>
        <p:blipFill>
          <a:blip r:embed="rId3"/>
          <a:stretch/>
        </p:blipFill>
        <p:spPr>
          <a:xfrm>
            <a:off x="0" y="1600200"/>
            <a:ext cx="3295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61" descr="DNA_sld"/>
          <p:cNvPicPr/>
          <p:nvPr/>
        </p:nvPicPr>
        <p:blipFill>
          <a:blip r:embed="rId1"/>
          <a:stretch/>
        </p:blipFill>
        <p:spPr>
          <a:xfrm>
            <a:off x="1905120" y="476244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3" descr="DNA_prt"/>
          <p:cNvPicPr/>
          <p:nvPr/>
        </p:nvPicPr>
        <p:blipFill>
          <a:blip r:embed="rId2"/>
          <a:stretch/>
        </p:blipFill>
        <p:spPr>
          <a:xfrm>
            <a:off x="4572000" y="47624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5" descr="dna_engineering_hg_clr"/>
          <p:cNvPicPr/>
          <p:nvPr/>
        </p:nvPicPr>
        <p:blipFill>
          <a:blip r:embed="rId3"/>
          <a:stretch/>
        </p:blipFill>
        <p:spPr>
          <a:xfrm>
            <a:off x="0" y="685800"/>
            <a:ext cx="172080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6" descr="dna_holding_testtube_hg_clr"/>
          <p:cNvPicPr/>
          <p:nvPr/>
        </p:nvPicPr>
        <p:blipFill>
          <a:blip r:embed="rId4"/>
          <a:stretch/>
        </p:blipFill>
        <p:spPr>
          <a:xfrm>
            <a:off x="1995480" y="685800"/>
            <a:ext cx="135720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7" descr="dna_looking_through_magnifying_glass_hg_clr"/>
          <p:cNvPicPr/>
          <p:nvPr/>
        </p:nvPicPr>
        <p:blipFill>
          <a:blip r:embed="rId5"/>
          <a:stretch/>
        </p:blipFill>
        <p:spPr>
          <a:xfrm>
            <a:off x="5486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68" descr="DNA_rotating_hg_clr"/>
          <p:cNvPicPr/>
          <p:nvPr/>
        </p:nvPicPr>
        <p:blipFill>
          <a:blip r:embed="rId6"/>
          <a:stretch/>
        </p:blipFill>
        <p:spPr>
          <a:xfrm>
            <a:off x="3962520" y="685800"/>
            <a:ext cx="112716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9" descr="dna_waving_hg_clr"/>
          <p:cNvPicPr/>
          <p:nvPr/>
        </p:nvPicPr>
        <p:blipFill>
          <a:blip r:embed="rId7"/>
          <a:stretch/>
        </p:blipFill>
        <p:spPr>
          <a:xfrm>
            <a:off x="7610400" y="685800"/>
            <a:ext cx="153360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0" descr="DNA-engineer"/>
          <p:cNvPicPr/>
          <p:nvPr/>
        </p:nvPicPr>
        <p:blipFill>
          <a:blip r:embed="rId8"/>
          <a:stretch/>
        </p:blipFill>
        <p:spPr>
          <a:xfrm>
            <a:off x="6630840" y="3206880"/>
            <a:ext cx="2513160" cy="365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1" descr="DNA-magnify"/>
          <p:cNvPicPr/>
          <p:nvPr/>
        </p:nvPicPr>
        <p:blipFill>
          <a:blip r:embed="rId9"/>
          <a:stretch/>
        </p:blipFill>
        <p:spPr>
          <a:xfrm>
            <a:off x="2895480" y="3200400"/>
            <a:ext cx="3578400" cy="3651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72" descr="DNA-test-tube"/>
          <p:cNvPicPr/>
          <p:nvPr/>
        </p:nvPicPr>
        <p:blipFill>
          <a:blip r:embed="rId10"/>
          <a:stretch/>
        </p:blipFill>
        <p:spPr>
          <a:xfrm>
            <a:off x="0" y="3352680"/>
            <a:ext cx="21956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6:02:24Z</dcterms:created>
  <dc:creator>微软中国</dc:creator>
  <dc:description/>
  <dc:language>en-US</dc:language>
  <cp:lastModifiedBy>nana</cp:lastModifiedBy>
  <dcterms:modified xsi:type="dcterms:W3CDTF">2016-03-05T16:07:50Z</dcterms:modified>
  <cp:revision>4</cp:revision>
  <dc:subject/>
  <dc:title>PowerPoint 演示文稿</dc:title>
</cp:coreProperties>
</file>