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35.png" ContentType="image/png"/>
  <Override PartName="/ppt/media/image28.png" ContentType="image/png"/>
  <Override PartName="/ppt/media/image43.jpeg" ContentType="image/jpe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1.png" ContentType="image/png"/>
  <Override PartName="/ppt/media/image20.png" ContentType="image/png"/>
  <Override PartName="/ppt/media/image16.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38D2-A14E-4391-B58B-634B1079E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71A5-5A8B-477D-95C9-0866C35B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39952-CC39-4B1A-9BD4-FF42A7299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7B0C4-C718-48DA-8402-0D9A45358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C75E-8653-4335-902D-428B5AB6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1D196-1B56-4663-AB29-A4CE6DAF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7BB2-44B9-4280-B864-760C9D7A7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CF6FB-22DA-4FF9-8829-9F983E1C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F775-B2F2-4E0F-86BC-DFB395750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7139-A6C3-411D-8693-73F97B54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604A-67AA-4E80-B180-0D4F5AE4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2AA0-621A-49BD-B6C5-C5504F089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B571-F4F8-4D38-B1AF-BE8F7DA6A1F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4CEE-46A8-47A0-A02B-79429C38776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Windows User</cp:lastModifiedBy>
  <dcterms:modified xsi:type="dcterms:W3CDTF">2014-09-06T14:50:3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