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35.png" ContentType="image/png"/>
  <Override PartName="/ppt/media/image28.png" ContentType="image/png"/>
  <Override PartName="/ppt/media/image43.jpeg" ContentType="image/jpe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1.png" ContentType="image/png"/>
  <Override PartName="/ppt/media/image20.png" ContentType="image/png"/>
  <Override PartName="/ppt/media/image16.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245C7-A62A-4AB0-839F-A9309416A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8F9B-41CB-43F9-B8D4-FC7F7E576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20CC8-DFD6-4FCB-969B-252D66EBC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5B13C-622B-4D3C-A29A-2469DE77F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E6CEF-61C8-45BE-8A0C-AA069601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147E2-E9BF-483A-9AE8-4DD84DC71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44BAE-224D-4316-881A-D91EF6176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A87C3-65A3-4E08-83F6-6EEAB202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703C5-1A98-4827-8571-932AA259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70CC-96DC-4067-B371-C453A949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FAAB-8F6F-427F-9BE0-8CD481AF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6168-B409-4A73-8D2F-3CB168F69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B904-77AF-497D-B6C1-F8E321F7AECC}"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B5E8-C6EF-4D31-92DE-EC26A9270C4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Windows User</cp:lastModifiedBy>
  <dcterms:modified xsi:type="dcterms:W3CDTF">2014-09-06T14:50:3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