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3A6B-77AD-45C3-BA7E-11B06F65E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830D-0B4C-4B2E-BCE9-36FFB321C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F698-B384-4BC1-91FF-2C42F83BA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E961-5D2D-4ABF-AAB9-167FB9FBF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386D-6500-4F41-A167-334B5410B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BF62-5E77-4DA4-8FD2-75E3671A9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B797-C9C3-483D-92C2-109CC6384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24AB-C742-4FFB-B02C-47B10A4D6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4803-62EB-47C8-98B3-21908281B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6939-9BCA-4AB8-9F5B-CEFAF9A2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FA6D-A02A-43F1-A134-DECA4B4E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D37B-CBBC-4F62-819A-144B9BA6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09EAB-DBAF-49FB-BAE0-4E41EC1FC9F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98F52-7B13-4428-9104-437B31C6A71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4" descr=""/>
          <p:cNvPicPr/>
          <p:nvPr/>
        </p:nvPicPr>
        <p:blipFill>
          <a:blip r:embed="rId3"/>
          <a:stretch/>
        </p:blipFill>
        <p:spPr>
          <a:xfrm>
            <a:off x="12192120" y="0"/>
            <a:ext cx="409320" cy="4299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4"/>
          <p:cNvSpPr/>
          <p:nvPr/>
        </p:nvSpPr>
        <p:spPr>
          <a:xfrm>
            <a:off x="4587120" y="3352680"/>
            <a:ext cx="286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30"/>
          <p:cNvSpPr/>
          <p:nvPr/>
        </p:nvSpPr>
        <p:spPr>
          <a:xfrm>
            <a:off x="3648240" y="4052880"/>
            <a:ext cx="4895640" cy="144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任意多边形 9"/>
          <p:cNvSpPr/>
          <p:nvPr/>
        </p:nvSpPr>
        <p:spPr>
          <a:xfrm>
            <a:off x="5645160" y="4362480"/>
            <a:ext cx="900000" cy="900000"/>
          </a:xfrm>
          <a:custGeom>
            <a:avLst/>
            <a:gdLst>
              <a:gd name="textAreaLeft" fmla="*/ 0 w 900000"/>
              <a:gd name="textAreaRight" fmla="*/ 900360 w 900000"/>
              <a:gd name="textAreaTop" fmla="*/ 0 h 900000"/>
              <a:gd name="textAreaBottom" fmla="*/ 900360 h 900000"/>
            </a:gdLst>
            <a:ahLst/>
            <a:rect l="textAreaLeft" t="textAreaTop" r="textAreaRight" b="textAreaBottom"/>
            <a:pathLst>
              <a:path w="900000" h="900000">
                <a:moveTo>
                  <a:pt x="678584" y="388730"/>
                </a:moveTo>
                <a:cubicBezTo>
                  <a:pt x="695253" y="388730"/>
                  <a:pt x="707953" y="394088"/>
                  <a:pt x="716684" y="404803"/>
                </a:cubicBezTo>
                <a:cubicBezTo>
                  <a:pt x="725415" y="415519"/>
                  <a:pt x="729781" y="430898"/>
                  <a:pt x="729781" y="450940"/>
                </a:cubicBezTo>
                <a:cubicBezTo>
                  <a:pt x="729781" y="470883"/>
                  <a:pt x="725415" y="486188"/>
                  <a:pt x="716684" y="496854"/>
                </a:cubicBezTo>
                <a:cubicBezTo>
                  <a:pt x="707953" y="507520"/>
                  <a:pt x="695253" y="512853"/>
                  <a:pt x="678584" y="512853"/>
                </a:cubicBezTo>
                <a:cubicBezTo>
                  <a:pt x="662411" y="512853"/>
                  <a:pt x="649538" y="507396"/>
                  <a:pt x="639963" y="496482"/>
                </a:cubicBezTo>
                <a:cubicBezTo>
                  <a:pt x="630389" y="485567"/>
                  <a:pt x="625601" y="470635"/>
                  <a:pt x="625601" y="451684"/>
                </a:cubicBezTo>
                <a:cubicBezTo>
                  <a:pt x="625601" y="432138"/>
                  <a:pt x="630339" y="416759"/>
                  <a:pt x="639814" y="405548"/>
                </a:cubicBezTo>
                <a:cubicBezTo>
                  <a:pt x="649290" y="394336"/>
                  <a:pt x="662213" y="388730"/>
                  <a:pt x="678584" y="388730"/>
                </a:cubicBezTo>
                <a:close/>
                <a:moveTo>
                  <a:pt x="485405" y="388730"/>
                </a:moveTo>
                <a:cubicBezTo>
                  <a:pt x="498006" y="388730"/>
                  <a:pt x="508622" y="393294"/>
                  <a:pt x="517254" y="402422"/>
                </a:cubicBezTo>
                <a:cubicBezTo>
                  <a:pt x="525886" y="411550"/>
                  <a:pt x="530153" y="422464"/>
                  <a:pt x="530054" y="435164"/>
                </a:cubicBezTo>
                <a:lnTo>
                  <a:pt x="530054" y="458084"/>
                </a:lnTo>
                <a:cubicBezTo>
                  <a:pt x="530153" y="473959"/>
                  <a:pt x="525688" y="487056"/>
                  <a:pt x="516659" y="497374"/>
                </a:cubicBezTo>
                <a:cubicBezTo>
                  <a:pt x="507630" y="507693"/>
                  <a:pt x="496022" y="512853"/>
                  <a:pt x="481833" y="512853"/>
                </a:cubicBezTo>
                <a:cubicBezTo>
                  <a:pt x="467744" y="512853"/>
                  <a:pt x="456433" y="507445"/>
                  <a:pt x="447900" y="496630"/>
                </a:cubicBezTo>
                <a:cubicBezTo>
                  <a:pt x="439368" y="485815"/>
                  <a:pt x="435101" y="471677"/>
                  <a:pt x="435101" y="454214"/>
                </a:cubicBezTo>
                <a:cubicBezTo>
                  <a:pt x="435101" y="433874"/>
                  <a:pt x="439516" y="417875"/>
                  <a:pt x="448347" y="406217"/>
                </a:cubicBezTo>
                <a:cubicBezTo>
                  <a:pt x="457177" y="394559"/>
                  <a:pt x="469530" y="388730"/>
                  <a:pt x="485405" y="388730"/>
                </a:cubicBezTo>
                <a:close/>
                <a:moveTo>
                  <a:pt x="297584" y="388730"/>
                </a:moveTo>
                <a:cubicBezTo>
                  <a:pt x="314253" y="388730"/>
                  <a:pt x="326953" y="394088"/>
                  <a:pt x="335684" y="404803"/>
                </a:cubicBezTo>
                <a:cubicBezTo>
                  <a:pt x="344415" y="415519"/>
                  <a:pt x="348781" y="430898"/>
                  <a:pt x="348781" y="450940"/>
                </a:cubicBezTo>
                <a:cubicBezTo>
                  <a:pt x="348781" y="470883"/>
                  <a:pt x="344415" y="486188"/>
                  <a:pt x="335684" y="496854"/>
                </a:cubicBezTo>
                <a:cubicBezTo>
                  <a:pt x="326953" y="507520"/>
                  <a:pt x="314253" y="512853"/>
                  <a:pt x="297584" y="512853"/>
                </a:cubicBezTo>
                <a:cubicBezTo>
                  <a:pt x="281411" y="512853"/>
                  <a:pt x="268538" y="507396"/>
                  <a:pt x="258963" y="496482"/>
                </a:cubicBezTo>
                <a:cubicBezTo>
                  <a:pt x="249389" y="485567"/>
                  <a:pt x="244601" y="470635"/>
                  <a:pt x="244601" y="451684"/>
                </a:cubicBezTo>
                <a:cubicBezTo>
                  <a:pt x="244601" y="432138"/>
                  <a:pt x="249339" y="416759"/>
                  <a:pt x="258814" y="405548"/>
                </a:cubicBezTo>
                <a:cubicBezTo>
                  <a:pt x="268290" y="394336"/>
                  <a:pt x="281213" y="388730"/>
                  <a:pt x="297584" y="388730"/>
                </a:cubicBezTo>
                <a:close/>
                <a:moveTo>
                  <a:pt x="680370" y="364620"/>
                </a:moveTo>
                <a:cubicBezTo>
                  <a:pt x="654375" y="364620"/>
                  <a:pt x="633787" y="372483"/>
                  <a:pt x="618606" y="388209"/>
                </a:cubicBezTo>
                <a:cubicBezTo>
                  <a:pt x="603426" y="403935"/>
                  <a:pt x="595836" y="425391"/>
                  <a:pt x="595836" y="452577"/>
                </a:cubicBezTo>
                <a:cubicBezTo>
                  <a:pt x="595836" y="477878"/>
                  <a:pt x="603178" y="498267"/>
                  <a:pt x="617862" y="513746"/>
                </a:cubicBezTo>
                <a:cubicBezTo>
                  <a:pt x="632547" y="529224"/>
                  <a:pt x="652192" y="536963"/>
                  <a:pt x="676798" y="536963"/>
                </a:cubicBezTo>
                <a:cubicBezTo>
                  <a:pt x="702000" y="536963"/>
                  <a:pt x="722092" y="528976"/>
                  <a:pt x="737074" y="513001"/>
                </a:cubicBezTo>
                <a:cubicBezTo>
                  <a:pt x="752056" y="497027"/>
                  <a:pt x="759547" y="476042"/>
                  <a:pt x="759547" y="450047"/>
                </a:cubicBezTo>
                <a:cubicBezTo>
                  <a:pt x="759547" y="423357"/>
                  <a:pt x="752527" y="402447"/>
                  <a:pt x="738487" y="387316"/>
                </a:cubicBezTo>
                <a:cubicBezTo>
                  <a:pt x="724448" y="372185"/>
                  <a:pt x="705076" y="364620"/>
                  <a:pt x="680370" y="364620"/>
                </a:cubicBezTo>
                <a:close/>
                <a:moveTo>
                  <a:pt x="480643" y="364620"/>
                </a:moveTo>
                <a:cubicBezTo>
                  <a:pt x="457822" y="364620"/>
                  <a:pt x="439566" y="372830"/>
                  <a:pt x="425874" y="389251"/>
                </a:cubicBezTo>
                <a:cubicBezTo>
                  <a:pt x="412182" y="405672"/>
                  <a:pt x="405336" y="427921"/>
                  <a:pt x="405336" y="456000"/>
                </a:cubicBezTo>
                <a:cubicBezTo>
                  <a:pt x="405336" y="480408"/>
                  <a:pt x="411537" y="500004"/>
                  <a:pt x="423939" y="514787"/>
                </a:cubicBezTo>
                <a:cubicBezTo>
                  <a:pt x="436341" y="529571"/>
                  <a:pt x="452861" y="536963"/>
                  <a:pt x="473499" y="536963"/>
                </a:cubicBezTo>
                <a:cubicBezTo>
                  <a:pt x="498304" y="536963"/>
                  <a:pt x="516957" y="526594"/>
                  <a:pt x="529458" y="505858"/>
                </a:cubicBezTo>
                <a:lnTo>
                  <a:pt x="530054" y="505858"/>
                </a:lnTo>
                <a:lnTo>
                  <a:pt x="530054" y="523271"/>
                </a:lnTo>
                <a:cubicBezTo>
                  <a:pt x="530054" y="565339"/>
                  <a:pt x="510061" y="586374"/>
                  <a:pt x="470076" y="586374"/>
                </a:cubicBezTo>
                <a:cubicBezTo>
                  <a:pt x="453209" y="586374"/>
                  <a:pt x="435597" y="581264"/>
                  <a:pt x="417242" y="571044"/>
                </a:cubicBezTo>
                <a:lnTo>
                  <a:pt x="417242" y="599173"/>
                </a:lnTo>
                <a:cubicBezTo>
                  <a:pt x="432323" y="606813"/>
                  <a:pt x="450083" y="610633"/>
                  <a:pt x="470522" y="610633"/>
                </a:cubicBezTo>
                <a:cubicBezTo>
                  <a:pt x="529657" y="610633"/>
                  <a:pt x="559224" y="580173"/>
                  <a:pt x="559224" y="519252"/>
                </a:cubicBezTo>
                <a:lnTo>
                  <a:pt x="559224" y="368489"/>
                </a:lnTo>
                <a:lnTo>
                  <a:pt x="530054" y="368489"/>
                </a:lnTo>
                <a:lnTo>
                  <a:pt x="530054" y="390814"/>
                </a:lnTo>
                <a:lnTo>
                  <a:pt x="529458" y="390814"/>
                </a:lnTo>
                <a:cubicBezTo>
                  <a:pt x="518842" y="373351"/>
                  <a:pt x="502570" y="364620"/>
                  <a:pt x="480643" y="364620"/>
                </a:cubicBezTo>
                <a:close/>
                <a:moveTo>
                  <a:pt x="299370" y="364620"/>
                </a:moveTo>
                <a:cubicBezTo>
                  <a:pt x="273375" y="364620"/>
                  <a:pt x="252787" y="372483"/>
                  <a:pt x="237606" y="388209"/>
                </a:cubicBezTo>
                <a:cubicBezTo>
                  <a:pt x="222426" y="403935"/>
                  <a:pt x="214836" y="425391"/>
                  <a:pt x="214836" y="452577"/>
                </a:cubicBezTo>
                <a:cubicBezTo>
                  <a:pt x="214836" y="477878"/>
                  <a:pt x="222178" y="498267"/>
                  <a:pt x="236862" y="513746"/>
                </a:cubicBezTo>
                <a:cubicBezTo>
                  <a:pt x="251547" y="529224"/>
                  <a:pt x="271192" y="536963"/>
                  <a:pt x="295798" y="536963"/>
                </a:cubicBezTo>
                <a:cubicBezTo>
                  <a:pt x="321000" y="536963"/>
                  <a:pt x="341092" y="528976"/>
                  <a:pt x="356074" y="513001"/>
                </a:cubicBezTo>
                <a:cubicBezTo>
                  <a:pt x="371056" y="497027"/>
                  <a:pt x="378547" y="476042"/>
                  <a:pt x="378547" y="450047"/>
                </a:cubicBezTo>
                <a:cubicBezTo>
                  <a:pt x="378547" y="423357"/>
                  <a:pt x="371527" y="402447"/>
                  <a:pt x="357487" y="387316"/>
                </a:cubicBezTo>
                <a:cubicBezTo>
                  <a:pt x="343448" y="372185"/>
                  <a:pt x="324076" y="364620"/>
                  <a:pt x="299370" y="364620"/>
                </a:cubicBezTo>
                <a:close/>
                <a:moveTo>
                  <a:pt x="139975" y="289462"/>
                </a:moveTo>
                <a:lnTo>
                  <a:pt x="139975" y="533093"/>
                </a:lnTo>
                <a:lnTo>
                  <a:pt x="169145" y="533093"/>
                </a:lnTo>
                <a:lnTo>
                  <a:pt x="169145" y="289462"/>
                </a:lnTo>
                <a:lnTo>
                  <a:pt x="139975" y="289462"/>
                </a:lnTo>
                <a:close/>
                <a:moveTo>
                  <a:pt x="450000" y="0"/>
                </a:moveTo>
                <a:cubicBezTo>
                  <a:pt x="698528" y="0"/>
                  <a:pt x="900000" y="201472"/>
                  <a:pt x="900000" y="450000"/>
                </a:cubicBezTo>
                <a:cubicBezTo>
                  <a:pt x="900000" y="698528"/>
                  <a:pt x="698528" y="900000"/>
                  <a:pt x="450000" y="900000"/>
                </a:cubicBezTo>
                <a:cubicBezTo>
                  <a:pt x="201472" y="900000"/>
                  <a:pt x="0" y="698528"/>
                  <a:pt x="0" y="450000"/>
                </a:cubicBezTo>
                <a:cubicBezTo>
                  <a:pt x="0" y="201472"/>
                  <a:pt x="201472" y="0"/>
                  <a:pt x="450000" y="0"/>
                </a:cubicBezTo>
                <a:close/>
              </a:path>
            </a:pathLst>
          </a:cu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5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"/>
          <p:cNvPicPr/>
          <p:nvPr/>
        </p:nvPicPr>
        <p:blipFill>
          <a:blip r:embed="rId2"/>
          <a:stretch/>
        </p:blipFill>
        <p:spPr>
          <a:xfrm>
            <a:off x="12192120" y="0"/>
            <a:ext cx="409320" cy="4299120"/>
          </a:xfrm>
          <a:prstGeom prst="rect">
            <a:avLst/>
          </a:prstGeom>
          <a:ln w="0">
            <a:noFill/>
          </a:ln>
        </p:spPr>
      </p:pic>
      <p:grpSp>
        <p:nvGrpSpPr>
          <p:cNvPr id="264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265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268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椭圆 5"/>
          <p:cNvSpPr/>
          <p:nvPr/>
        </p:nvSpPr>
        <p:spPr>
          <a:xfrm>
            <a:off x="2124000" y="2470320"/>
            <a:ext cx="2524320" cy="252396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16"/>
          <p:cNvSpPr/>
          <p:nvPr/>
        </p:nvSpPr>
        <p:spPr>
          <a:xfrm>
            <a:off x="5526000" y="1698480"/>
            <a:ext cx="431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图片 19" descr=""/>
          <p:cNvPicPr/>
          <p:nvPr/>
        </p:nvPicPr>
        <p:blipFill>
          <a:blip r:embed="rId3"/>
          <a:stretch/>
        </p:blipFill>
        <p:spPr>
          <a:xfrm>
            <a:off x="2608200" y="2859120"/>
            <a:ext cx="1524240" cy="1523880"/>
          </a:xfrm>
          <a:prstGeom prst="rect">
            <a:avLst/>
          </a:prstGeom>
          <a:ln w="0">
            <a:noFill/>
          </a:ln>
        </p:spPr>
      </p:pic>
      <p:sp>
        <p:nvSpPr>
          <p:cNvPr id="273" name="任意多边形 77"/>
          <p:cNvSpPr/>
          <p:nvPr/>
        </p:nvSpPr>
        <p:spPr>
          <a:xfrm>
            <a:off x="3886200" y="1679400"/>
            <a:ext cx="504720" cy="503280"/>
          </a:xfrm>
          <a:custGeom>
            <a:avLst/>
            <a:gdLst>
              <a:gd name="textAreaLeft" fmla="*/ 0 w 504720"/>
              <a:gd name="textAreaRight" fmla="*/ 505080 w 50472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503366" h="503366">
                <a:moveTo>
                  <a:pt x="274220" y="146340"/>
                </a:moveTo>
                <a:lnTo>
                  <a:pt x="205028" y="166432"/>
                </a:lnTo>
                <a:lnTo>
                  <a:pt x="205028" y="189035"/>
                </a:lnTo>
                <a:lnTo>
                  <a:pt x="249733" y="176101"/>
                </a:lnTo>
                <a:lnTo>
                  <a:pt x="249733" y="323776"/>
                </a:lnTo>
                <a:lnTo>
                  <a:pt x="206159" y="323776"/>
                </a:lnTo>
                <a:lnTo>
                  <a:pt x="206159" y="344998"/>
                </a:lnTo>
                <a:lnTo>
                  <a:pt x="317668" y="344998"/>
                </a:lnTo>
                <a:lnTo>
                  <a:pt x="317668" y="323776"/>
                </a:lnTo>
                <a:lnTo>
                  <a:pt x="274220" y="323776"/>
                </a:lnTo>
                <a:lnTo>
                  <a:pt x="274220" y="146340"/>
                </a:lnTo>
                <a:close/>
                <a:moveTo>
                  <a:pt x="251683" y="0"/>
                </a:moveTo>
                <a:cubicBezTo>
                  <a:pt x="390684" y="0"/>
                  <a:pt x="503366" y="112682"/>
                  <a:pt x="503366" y="251683"/>
                </a:cubicBezTo>
                <a:cubicBezTo>
                  <a:pt x="503366" y="390684"/>
                  <a:pt x="390684" y="503366"/>
                  <a:pt x="251683" y="503366"/>
                </a:cubicBezTo>
                <a:cubicBezTo>
                  <a:pt x="112682" y="503366"/>
                  <a:pt x="0" y="390684"/>
                  <a:pt x="0" y="251683"/>
                </a:cubicBezTo>
                <a:cubicBezTo>
                  <a:pt x="0" y="112682"/>
                  <a:pt x="112682" y="0"/>
                  <a:pt x="25168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直接连接符 41"/>
          <p:cNvSpPr/>
          <p:nvPr/>
        </p:nvSpPr>
        <p:spPr>
          <a:xfrm>
            <a:off x="4322880" y="1919160"/>
            <a:ext cx="1172880" cy="180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16"/>
          <p:cNvSpPr/>
          <p:nvPr/>
        </p:nvSpPr>
        <p:spPr>
          <a:xfrm>
            <a:off x="6697800" y="2719440"/>
            <a:ext cx="43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任意多边形 78"/>
          <p:cNvSpPr/>
          <p:nvPr/>
        </p:nvSpPr>
        <p:spPr>
          <a:xfrm>
            <a:off x="5089680" y="2755800"/>
            <a:ext cx="502920" cy="503280"/>
          </a:xfrm>
          <a:custGeom>
            <a:avLst/>
            <a:gdLst>
              <a:gd name="textAreaLeft" fmla="*/ 0 w 502920"/>
              <a:gd name="textAreaRight" fmla="*/ 503280 w 50292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503366" h="503366">
                <a:moveTo>
                  <a:pt x="262797" y="149081"/>
                </a:moveTo>
                <a:cubicBezTo>
                  <a:pt x="242454" y="149081"/>
                  <a:pt x="224622" y="154982"/>
                  <a:pt x="209302" y="166786"/>
                </a:cubicBezTo>
                <a:lnTo>
                  <a:pt x="209302" y="191776"/>
                </a:lnTo>
                <a:cubicBezTo>
                  <a:pt x="225041" y="177042"/>
                  <a:pt x="241575" y="169675"/>
                  <a:pt x="258904" y="169675"/>
                </a:cubicBezTo>
                <a:cubicBezTo>
                  <a:pt x="270624" y="169675"/>
                  <a:pt x="279582" y="172626"/>
                  <a:pt x="285777" y="178528"/>
                </a:cubicBezTo>
                <a:cubicBezTo>
                  <a:pt x="291972" y="184430"/>
                  <a:pt x="295069" y="192906"/>
                  <a:pt x="295069" y="203956"/>
                </a:cubicBezTo>
                <a:cubicBezTo>
                  <a:pt x="295069" y="213667"/>
                  <a:pt x="292432" y="223064"/>
                  <a:pt x="287158" y="232148"/>
                </a:cubicBezTo>
                <a:cubicBezTo>
                  <a:pt x="281884" y="241231"/>
                  <a:pt x="271461" y="253558"/>
                  <a:pt x="255890" y="269129"/>
                </a:cubicBezTo>
                <a:lnTo>
                  <a:pt x="199382" y="325512"/>
                </a:lnTo>
                <a:lnTo>
                  <a:pt x="199382" y="346859"/>
                </a:lnTo>
                <a:lnTo>
                  <a:pt x="317673" y="346859"/>
                </a:lnTo>
                <a:lnTo>
                  <a:pt x="317673" y="325009"/>
                </a:lnTo>
                <a:lnTo>
                  <a:pt x="228515" y="325009"/>
                </a:lnTo>
                <a:lnTo>
                  <a:pt x="228515" y="324507"/>
                </a:lnTo>
                <a:lnTo>
                  <a:pt x="272843" y="281184"/>
                </a:lnTo>
                <a:cubicBezTo>
                  <a:pt x="290925" y="263269"/>
                  <a:pt x="303211" y="248514"/>
                  <a:pt x="309699" y="236919"/>
                </a:cubicBezTo>
                <a:cubicBezTo>
                  <a:pt x="316187" y="225325"/>
                  <a:pt x="319431" y="213500"/>
                  <a:pt x="319431" y="201445"/>
                </a:cubicBezTo>
                <a:cubicBezTo>
                  <a:pt x="319431" y="185455"/>
                  <a:pt x="314366" y="172730"/>
                  <a:pt x="304236" y="163270"/>
                </a:cubicBezTo>
                <a:cubicBezTo>
                  <a:pt x="294107" y="153810"/>
                  <a:pt x="280293" y="149081"/>
                  <a:pt x="262797" y="149081"/>
                </a:cubicBezTo>
                <a:close/>
                <a:moveTo>
                  <a:pt x="251683" y="0"/>
                </a:moveTo>
                <a:cubicBezTo>
                  <a:pt x="390684" y="0"/>
                  <a:pt x="503366" y="112682"/>
                  <a:pt x="503366" y="251683"/>
                </a:cubicBezTo>
                <a:cubicBezTo>
                  <a:pt x="503366" y="390684"/>
                  <a:pt x="390684" y="503366"/>
                  <a:pt x="251683" y="503366"/>
                </a:cubicBezTo>
                <a:cubicBezTo>
                  <a:pt x="112682" y="503366"/>
                  <a:pt x="0" y="390684"/>
                  <a:pt x="0" y="251683"/>
                </a:cubicBezTo>
                <a:cubicBezTo>
                  <a:pt x="0" y="112682"/>
                  <a:pt x="112682" y="0"/>
                  <a:pt x="25168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直接连接符 57"/>
          <p:cNvSpPr/>
          <p:nvPr/>
        </p:nvSpPr>
        <p:spPr>
          <a:xfrm>
            <a:off x="5526000" y="2995560"/>
            <a:ext cx="1171800" cy="180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16"/>
          <p:cNvSpPr/>
          <p:nvPr/>
        </p:nvSpPr>
        <p:spPr>
          <a:xfrm>
            <a:off x="6727680" y="4032360"/>
            <a:ext cx="431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任意多边形 79"/>
          <p:cNvSpPr/>
          <p:nvPr/>
        </p:nvSpPr>
        <p:spPr>
          <a:xfrm>
            <a:off x="5089680" y="4032360"/>
            <a:ext cx="502920" cy="503280"/>
          </a:xfrm>
          <a:custGeom>
            <a:avLst/>
            <a:gdLst>
              <a:gd name="textAreaLeft" fmla="*/ 0 w 502920"/>
              <a:gd name="textAreaRight" fmla="*/ 503280 w 50292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503366" h="503366">
                <a:moveTo>
                  <a:pt x="256141" y="164405"/>
                </a:moveTo>
                <a:cubicBezTo>
                  <a:pt x="239147" y="164405"/>
                  <a:pt x="224288" y="168088"/>
                  <a:pt x="211563" y="175455"/>
                </a:cubicBezTo>
                <a:lnTo>
                  <a:pt x="211563" y="198686"/>
                </a:lnTo>
                <a:cubicBezTo>
                  <a:pt x="223618" y="189477"/>
                  <a:pt x="236468" y="184873"/>
                  <a:pt x="250114" y="184873"/>
                </a:cubicBezTo>
                <a:cubicBezTo>
                  <a:pt x="273973" y="184873"/>
                  <a:pt x="285902" y="195547"/>
                  <a:pt x="285902" y="216894"/>
                </a:cubicBezTo>
                <a:cubicBezTo>
                  <a:pt x="285902" y="240000"/>
                  <a:pt x="270289" y="251553"/>
                  <a:pt x="239063" y="251553"/>
                </a:cubicBezTo>
                <a:lnTo>
                  <a:pt x="223618" y="251553"/>
                </a:lnTo>
                <a:lnTo>
                  <a:pt x="223618" y="271896"/>
                </a:lnTo>
                <a:lnTo>
                  <a:pt x="239817" y="271896"/>
                </a:lnTo>
                <a:cubicBezTo>
                  <a:pt x="275061" y="271896"/>
                  <a:pt x="292683" y="284202"/>
                  <a:pt x="292683" y="308814"/>
                </a:cubicBezTo>
                <a:cubicBezTo>
                  <a:pt x="292683" y="319865"/>
                  <a:pt x="288770" y="328676"/>
                  <a:pt x="280942" y="335248"/>
                </a:cubicBezTo>
                <a:cubicBezTo>
                  <a:pt x="273115" y="341819"/>
                  <a:pt x="262504" y="345105"/>
                  <a:pt x="249109" y="345105"/>
                </a:cubicBezTo>
                <a:cubicBezTo>
                  <a:pt x="232366" y="345105"/>
                  <a:pt x="217339" y="339957"/>
                  <a:pt x="204028" y="329660"/>
                </a:cubicBezTo>
                <a:lnTo>
                  <a:pt x="204028" y="355151"/>
                </a:lnTo>
                <a:cubicBezTo>
                  <a:pt x="215330" y="362016"/>
                  <a:pt x="230189" y="365448"/>
                  <a:pt x="248607" y="365448"/>
                </a:cubicBezTo>
                <a:cubicBezTo>
                  <a:pt x="269536" y="365448"/>
                  <a:pt x="286300" y="360090"/>
                  <a:pt x="298899" y="349375"/>
                </a:cubicBezTo>
                <a:cubicBezTo>
                  <a:pt x="311498" y="338659"/>
                  <a:pt x="317798" y="324553"/>
                  <a:pt x="317798" y="307056"/>
                </a:cubicBezTo>
                <a:cubicBezTo>
                  <a:pt x="317798" y="294499"/>
                  <a:pt x="313717" y="284013"/>
                  <a:pt x="305555" y="275600"/>
                </a:cubicBezTo>
                <a:cubicBezTo>
                  <a:pt x="297392" y="267187"/>
                  <a:pt x="286279" y="262226"/>
                  <a:pt x="272215" y="260720"/>
                </a:cubicBezTo>
                <a:lnTo>
                  <a:pt x="272215" y="260217"/>
                </a:lnTo>
                <a:cubicBezTo>
                  <a:pt x="298167" y="252934"/>
                  <a:pt x="311143" y="236568"/>
                  <a:pt x="311143" y="211118"/>
                </a:cubicBezTo>
                <a:cubicBezTo>
                  <a:pt x="311143" y="197305"/>
                  <a:pt x="306120" y="186066"/>
                  <a:pt x="296074" y="177401"/>
                </a:cubicBezTo>
                <a:cubicBezTo>
                  <a:pt x="286028" y="168737"/>
                  <a:pt x="272717" y="164405"/>
                  <a:pt x="256141" y="164405"/>
                </a:cubicBezTo>
                <a:close/>
                <a:moveTo>
                  <a:pt x="251683" y="0"/>
                </a:moveTo>
                <a:cubicBezTo>
                  <a:pt x="390684" y="0"/>
                  <a:pt x="503366" y="112682"/>
                  <a:pt x="503366" y="251683"/>
                </a:cubicBezTo>
                <a:cubicBezTo>
                  <a:pt x="503366" y="390684"/>
                  <a:pt x="390684" y="503366"/>
                  <a:pt x="251683" y="503366"/>
                </a:cubicBezTo>
                <a:cubicBezTo>
                  <a:pt x="112682" y="503366"/>
                  <a:pt x="0" y="390684"/>
                  <a:pt x="0" y="251683"/>
                </a:cubicBezTo>
                <a:cubicBezTo>
                  <a:pt x="0" y="112682"/>
                  <a:pt x="112682" y="0"/>
                  <a:pt x="25168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直接连接符 69"/>
          <p:cNvSpPr/>
          <p:nvPr/>
        </p:nvSpPr>
        <p:spPr>
          <a:xfrm>
            <a:off x="5526000" y="4272120"/>
            <a:ext cx="117180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6"/>
          <p:cNvSpPr/>
          <p:nvPr/>
        </p:nvSpPr>
        <p:spPr>
          <a:xfrm>
            <a:off x="5495760" y="5292720"/>
            <a:ext cx="431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任意多边形 80"/>
          <p:cNvSpPr/>
          <p:nvPr/>
        </p:nvSpPr>
        <p:spPr>
          <a:xfrm>
            <a:off x="3917880" y="5284800"/>
            <a:ext cx="503280" cy="503280"/>
          </a:xfrm>
          <a:custGeom>
            <a:avLst/>
            <a:gdLst>
              <a:gd name="textAreaLeft" fmla="*/ 0 w 503280"/>
              <a:gd name="textAreaRight" fmla="*/ 503640 w 50328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503366" h="503366">
                <a:moveTo>
                  <a:pt x="278996" y="191811"/>
                </a:moveTo>
                <a:lnTo>
                  <a:pt x="279498" y="191811"/>
                </a:lnTo>
                <a:cubicBezTo>
                  <a:pt x="279163" y="199346"/>
                  <a:pt x="278996" y="206001"/>
                  <a:pt x="278996" y="211777"/>
                </a:cubicBezTo>
                <a:lnTo>
                  <a:pt x="278996" y="293275"/>
                </a:lnTo>
                <a:lnTo>
                  <a:pt x="213697" y="293275"/>
                </a:lnTo>
                <a:lnTo>
                  <a:pt x="271587" y="206754"/>
                </a:lnTo>
                <a:cubicBezTo>
                  <a:pt x="275354" y="199973"/>
                  <a:pt x="277824" y="194992"/>
                  <a:pt x="278996" y="191811"/>
                </a:cubicBezTo>
                <a:close/>
                <a:moveTo>
                  <a:pt x="274349" y="168706"/>
                </a:moveTo>
                <a:lnTo>
                  <a:pt x="188331" y="296791"/>
                </a:lnTo>
                <a:lnTo>
                  <a:pt x="188331" y="312739"/>
                </a:lnTo>
                <a:lnTo>
                  <a:pt x="278996" y="312739"/>
                </a:lnTo>
                <a:lnTo>
                  <a:pt x="278996" y="363219"/>
                </a:lnTo>
                <a:lnTo>
                  <a:pt x="302855" y="363219"/>
                </a:lnTo>
                <a:lnTo>
                  <a:pt x="302855" y="312739"/>
                </a:lnTo>
                <a:lnTo>
                  <a:pt x="327718" y="312739"/>
                </a:lnTo>
                <a:lnTo>
                  <a:pt x="327718" y="293275"/>
                </a:lnTo>
                <a:lnTo>
                  <a:pt x="302855" y="293275"/>
                </a:lnTo>
                <a:lnTo>
                  <a:pt x="302855" y="168706"/>
                </a:lnTo>
                <a:lnTo>
                  <a:pt x="274349" y="168706"/>
                </a:lnTo>
                <a:close/>
                <a:moveTo>
                  <a:pt x="251683" y="0"/>
                </a:moveTo>
                <a:cubicBezTo>
                  <a:pt x="390684" y="0"/>
                  <a:pt x="503366" y="112682"/>
                  <a:pt x="503366" y="251683"/>
                </a:cubicBezTo>
                <a:cubicBezTo>
                  <a:pt x="503366" y="390684"/>
                  <a:pt x="390684" y="503366"/>
                  <a:pt x="251683" y="503366"/>
                </a:cubicBezTo>
                <a:cubicBezTo>
                  <a:pt x="112682" y="503366"/>
                  <a:pt x="0" y="390684"/>
                  <a:pt x="0" y="251683"/>
                </a:cubicBezTo>
                <a:cubicBezTo>
                  <a:pt x="0" y="112682"/>
                  <a:pt x="112682" y="0"/>
                  <a:pt x="25168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直接连接符 73"/>
          <p:cNvSpPr/>
          <p:nvPr/>
        </p:nvSpPr>
        <p:spPr>
          <a:xfrm>
            <a:off x="4352760" y="5526000"/>
            <a:ext cx="117324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8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25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1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25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25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1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25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25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1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25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25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25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25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4" descr=""/>
          <p:cNvPicPr/>
          <p:nvPr/>
        </p:nvPicPr>
        <p:blipFill>
          <a:blip r:embed="rId2"/>
          <a:stretch/>
        </p:blipFill>
        <p:spPr>
          <a:xfrm>
            <a:off x="12192120" y="0"/>
            <a:ext cx="409320" cy="4299120"/>
          </a:xfrm>
          <a:prstGeom prst="rect">
            <a:avLst/>
          </a:prstGeom>
          <a:ln w="0">
            <a:noFill/>
          </a:ln>
        </p:spPr>
      </p:pic>
      <p:grpSp>
        <p:nvGrpSpPr>
          <p:cNvPr id="287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288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291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椭圆 7"/>
          <p:cNvSpPr/>
          <p:nvPr/>
        </p:nvSpPr>
        <p:spPr>
          <a:xfrm>
            <a:off x="4532400" y="3043080"/>
            <a:ext cx="1792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组合 10"/>
          <p:cNvGrpSpPr/>
          <p:nvPr/>
        </p:nvGrpSpPr>
        <p:grpSpPr>
          <a:xfrm>
            <a:off x="3021120" y="2454120"/>
            <a:ext cx="1601640" cy="692280"/>
            <a:chOff x="3021120" y="2454120"/>
            <a:chExt cx="1601640" cy="692280"/>
          </a:xfrm>
        </p:grpSpPr>
        <p:sp>
          <p:nvSpPr>
            <p:cNvPr id="295" name="直接连接符 4"/>
            <p:cNvSpPr/>
            <p:nvPr/>
          </p:nvSpPr>
          <p:spPr>
            <a:xfrm>
              <a:off x="4193280" y="2454120"/>
              <a:ext cx="429480" cy="69228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直接连接符 9"/>
            <p:cNvSpPr/>
            <p:nvPr/>
          </p:nvSpPr>
          <p:spPr>
            <a:xfrm>
              <a:off x="3021120" y="2454120"/>
              <a:ext cx="117216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TextBox 16"/>
          <p:cNvSpPr/>
          <p:nvPr/>
        </p:nvSpPr>
        <p:spPr>
          <a:xfrm>
            <a:off x="2936880" y="1654200"/>
            <a:ext cx="151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组合 15"/>
          <p:cNvGrpSpPr/>
          <p:nvPr/>
        </p:nvGrpSpPr>
        <p:grpSpPr>
          <a:xfrm>
            <a:off x="6364440" y="4681080"/>
            <a:ext cx="1838160" cy="692280"/>
            <a:chOff x="6364440" y="4681080"/>
            <a:chExt cx="1838160" cy="692280"/>
          </a:xfrm>
        </p:grpSpPr>
        <p:sp>
          <p:nvSpPr>
            <p:cNvPr id="299" name="直接连接符 16"/>
            <p:cNvSpPr/>
            <p:nvPr/>
          </p:nvSpPr>
          <p:spPr>
            <a:xfrm flipH="1" flipV="1">
              <a:off x="6364440" y="4681080"/>
              <a:ext cx="429480" cy="69228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直接连接符 17"/>
            <p:cNvSpPr/>
            <p:nvPr/>
          </p:nvSpPr>
          <p:spPr>
            <a:xfrm flipH="1">
              <a:off x="6785280" y="5373360"/>
              <a:ext cx="141732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椭圆 18"/>
          <p:cNvSpPr/>
          <p:nvPr/>
        </p:nvSpPr>
        <p:spPr>
          <a:xfrm>
            <a:off x="6245280" y="4543560"/>
            <a:ext cx="181080" cy="180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16"/>
          <p:cNvSpPr/>
          <p:nvPr/>
        </p:nvSpPr>
        <p:spPr>
          <a:xfrm>
            <a:off x="6886440" y="4600440"/>
            <a:ext cx="151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7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35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0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25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25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25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25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"/>
          <p:cNvPicPr/>
          <p:nvPr/>
        </p:nvPicPr>
        <p:blipFill>
          <a:blip r:embed="rId2"/>
          <a:stretch/>
        </p:blipFill>
        <p:spPr>
          <a:xfrm>
            <a:off x="12192120" y="0"/>
            <a:ext cx="409320" cy="4299120"/>
          </a:xfrm>
          <a:prstGeom prst="rect">
            <a:avLst/>
          </a:prstGeom>
          <a:ln w="0">
            <a:noFill/>
          </a:ln>
        </p:spPr>
      </p:pic>
      <p:grpSp>
        <p:nvGrpSpPr>
          <p:cNvPr id="306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307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310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同心圆 3"/>
          <p:cNvSpPr/>
          <p:nvPr/>
        </p:nvSpPr>
        <p:spPr>
          <a:xfrm>
            <a:off x="3652920" y="2044800"/>
            <a:ext cx="1800000" cy="1800000"/>
          </a:xfrm>
          <a:custGeom>
            <a:avLst/>
            <a:gdLst>
              <a:gd name="textAreaLeft" fmla="*/ 263520 w 1800000"/>
              <a:gd name="textAreaRight" fmla="*/ 1536480 w 1800000"/>
              <a:gd name="textAreaTop" fmla="*/ 263520 h 1800000"/>
              <a:gd name="textAreaBottom" fmla="*/ 1536480 h 180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148" y="10800"/>
                </a:moveTo>
                <a:cubicBezTo>
                  <a:pt x="2148" y="15578"/>
                  <a:pt x="6022" y="19452"/>
                  <a:pt x="10800" y="19452"/>
                </a:cubicBezTo>
                <a:cubicBezTo>
                  <a:pt x="15578" y="19452"/>
                  <a:pt x="19452" y="15578"/>
                  <a:pt x="19452" y="10800"/>
                </a:cubicBezTo>
                <a:cubicBezTo>
                  <a:pt x="19452" y="6022"/>
                  <a:pt x="15578" y="2148"/>
                  <a:pt x="10800" y="2148"/>
                </a:cubicBezTo>
                <a:cubicBezTo>
                  <a:pt x="6022" y="2148"/>
                  <a:pt x="2148" y="6022"/>
                  <a:pt x="2148" y="10800"/>
                </a:cubicBezTo>
                <a:close/>
              </a:path>
            </a:pathLst>
          </a:cu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直接连接符 26"/>
          <p:cNvSpPr/>
          <p:nvPr/>
        </p:nvSpPr>
        <p:spPr>
          <a:xfrm flipV="1">
            <a:off x="4928040" y="2866680"/>
            <a:ext cx="1954800" cy="195480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空心弧 8"/>
          <p:cNvSpPr/>
          <p:nvPr/>
        </p:nvSpPr>
        <p:spPr>
          <a:xfrm rot="7773600">
            <a:off x="3652920" y="2044800"/>
            <a:ext cx="1800000" cy="180000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1800000"/>
              <a:gd name="textAreaBottom" fmla="*/ 1358280 h 1800000"/>
            </a:gdLst>
            <a:ahLst/>
            <a:rect l="textAreaLeft" t="textAreaTop" r="textAreaRight" b="textAreaBottom"/>
            <a:pathLst>
              <a:path w="21600" h="21600">
                <a:moveTo>
                  <a:pt x="4580" y="16646"/>
                </a:moveTo>
                <a:cubicBezTo>
                  <a:pt x="3092" y="15063"/>
                  <a:pt x="2264" y="12972"/>
                  <a:pt x="2264" y="10800"/>
                </a:cubicBezTo>
                <a:cubicBezTo>
                  <a:pt x="2264" y="6085"/>
                  <a:pt x="6085" y="2264"/>
                  <a:pt x="10800" y="2264"/>
                </a:cubicBezTo>
                <a:cubicBezTo>
                  <a:pt x="15514" y="2264"/>
                  <a:pt x="19336" y="6085"/>
                  <a:pt x="19336" y="10800"/>
                </a:cubicBezTo>
                <a:cubicBezTo>
                  <a:pt x="19336" y="12972"/>
                  <a:pt x="18507" y="15063"/>
                  <a:pt x="17019" y="16646"/>
                </a:cubicBezTo>
                <a:lnTo>
                  <a:pt x="18668" y="18197"/>
                </a:lnTo>
                <a:cubicBezTo>
                  <a:pt x="20551" y="16194"/>
                  <a:pt x="21600" y="13548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3548"/>
                  <a:pt x="1048" y="16194"/>
                  <a:pt x="2931" y="18197"/>
                </a:cubicBezTo>
                <a:lnTo>
                  <a:pt x="4580" y="1664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同心圆 29"/>
          <p:cNvSpPr/>
          <p:nvPr/>
        </p:nvSpPr>
        <p:spPr>
          <a:xfrm>
            <a:off x="6680160" y="3692520"/>
            <a:ext cx="1800360" cy="1800360"/>
          </a:xfrm>
          <a:custGeom>
            <a:avLst/>
            <a:gdLst>
              <a:gd name="textAreaLeft" fmla="*/ 263520 w 1800360"/>
              <a:gd name="textAreaRight" fmla="*/ 1536840 w 1800360"/>
              <a:gd name="textAreaTop" fmla="*/ 263520 h 1800360"/>
              <a:gd name="textAreaBottom" fmla="*/ 153684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148" y="10800"/>
                </a:moveTo>
                <a:cubicBezTo>
                  <a:pt x="2148" y="15578"/>
                  <a:pt x="6022" y="19452"/>
                  <a:pt x="10800" y="19452"/>
                </a:cubicBezTo>
                <a:cubicBezTo>
                  <a:pt x="15578" y="19452"/>
                  <a:pt x="19452" y="15578"/>
                  <a:pt x="19452" y="10800"/>
                </a:cubicBezTo>
                <a:cubicBezTo>
                  <a:pt x="19452" y="6022"/>
                  <a:pt x="15578" y="2148"/>
                  <a:pt x="10800" y="2148"/>
                </a:cubicBezTo>
                <a:cubicBezTo>
                  <a:pt x="6022" y="2148"/>
                  <a:pt x="2148" y="6022"/>
                  <a:pt x="2148" y="10800"/>
                </a:cubicBezTo>
                <a:close/>
              </a:path>
            </a:pathLst>
          </a:cu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空心弧 30"/>
          <p:cNvSpPr/>
          <p:nvPr/>
        </p:nvSpPr>
        <p:spPr>
          <a:xfrm rot="3001800">
            <a:off x="6678720" y="3690720"/>
            <a:ext cx="1800000" cy="180000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1800000"/>
              <a:gd name="textAreaBottom" fmla="*/ 169560 h 1800000"/>
            </a:gdLst>
            <a:ahLst/>
            <a:rect l="textAreaLeft" t="textAreaTop" r="textAreaRight" b="textAreaBottom"/>
            <a:pathLst>
              <a:path w="21600" h="21600">
                <a:moveTo>
                  <a:pt x="3722" y="5944"/>
                </a:moveTo>
                <a:cubicBezTo>
                  <a:pt x="5323" y="3611"/>
                  <a:pt x="7970" y="2217"/>
                  <a:pt x="10799" y="2217"/>
                </a:cubicBezTo>
                <a:cubicBezTo>
                  <a:pt x="13629" y="2216"/>
                  <a:pt x="16276" y="3611"/>
                  <a:pt x="17877" y="5944"/>
                </a:cubicBezTo>
                <a:lnTo>
                  <a:pt x="19705" y="4689"/>
                </a:lnTo>
                <a:cubicBezTo>
                  <a:pt x="17691" y="1754"/>
                  <a:pt x="14359" y="0"/>
                  <a:pt x="10800" y="0"/>
                </a:cubicBezTo>
                <a:cubicBezTo>
                  <a:pt x="7240" y="-1"/>
                  <a:pt x="3908" y="1754"/>
                  <a:pt x="1894" y="4689"/>
                </a:cubicBezTo>
                <a:lnTo>
                  <a:pt x="3722" y="59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任意多边形 37"/>
          <p:cNvSpPr/>
          <p:nvPr/>
        </p:nvSpPr>
        <p:spPr>
          <a:xfrm>
            <a:off x="638280" y="2044800"/>
            <a:ext cx="3054240" cy="1800000"/>
          </a:xfrm>
          <a:custGeom>
            <a:avLst/>
            <a:gdLst>
              <a:gd name="textAreaLeft" fmla="*/ 0 w 3054240"/>
              <a:gd name="textAreaRight" fmla="*/ 3054600 w 3054240"/>
              <a:gd name="textAreaTop" fmla="*/ 0 h 1800000"/>
              <a:gd name="textAreaBottom" fmla="*/ 1800360 h 1800000"/>
            </a:gdLst>
            <a:ahLst/>
            <a:rect l="textAreaLeft" t="textAreaTop" r="textAreaRight" b="textAreaBottom"/>
            <a:pathLst>
              <a:path w="3054018" h="1800000">
                <a:moveTo>
                  <a:pt x="0" y="0"/>
                </a:moveTo>
                <a:lnTo>
                  <a:pt x="3023873" y="0"/>
                </a:lnTo>
                <a:lnTo>
                  <a:pt x="2947183" y="84381"/>
                </a:lnTo>
                <a:cubicBezTo>
                  <a:pt x="2767436" y="302183"/>
                  <a:pt x="2659460" y="581411"/>
                  <a:pt x="2659460" y="885858"/>
                </a:cubicBezTo>
                <a:cubicBezTo>
                  <a:pt x="2659460" y="1233798"/>
                  <a:pt x="2800490" y="1548798"/>
                  <a:pt x="3028505" y="1776813"/>
                </a:cubicBezTo>
                <a:lnTo>
                  <a:pt x="3054018" y="1800000"/>
                </a:lnTo>
                <a:lnTo>
                  <a:pt x="0" y="18000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16"/>
          <p:cNvSpPr/>
          <p:nvPr/>
        </p:nvSpPr>
        <p:spPr>
          <a:xfrm>
            <a:off x="1033560" y="2219400"/>
            <a:ext cx="122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6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16"/>
          <p:cNvSpPr/>
          <p:nvPr/>
        </p:nvSpPr>
        <p:spPr>
          <a:xfrm>
            <a:off x="1709640" y="2770200"/>
            <a:ext cx="17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16"/>
          <p:cNvSpPr/>
          <p:nvPr/>
        </p:nvSpPr>
        <p:spPr>
          <a:xfrm>
            <a:off x="1709640" y="3171960"/>
            <a:ext cx="17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任意多边形 44"/>
          <p:cNvSpPr/>
          <p:nvPr/>
        </p:nvSpPr>
        <p:spPr>
          <a:xfrm flipH="1">
            <a:off x="8412120" y="3708360"/>
            <a:ext cx="3054240" cy="1800360"/>
          </a:xfrm>
          <a:custGeom>
            <a:avLst/>
            <a:gdLst>
              <a:gd name="textAreaLeft" fmla="*/ 360 w 3054240"/>
              <a:gd name="textAreaRight" fmla="*/ 3054960 w 3054240"/>
              <a:gd name="textAreaTop" fmla="*/ 0 h 1800360"/>
              <a:gd name="textAreaBottom" fmla="*/ 1800720 h 1800360"/>
            </a:gdLst>
            <a:ahLst/>
            <a:rect l="textAreaLeft" t="textAreaTop" r="textAreaRight" b="textAreaBottom"/>
            <a:pathLst>
              <a:path w="3054018" h="1800000">
                <a:moveTo>
                  <a:pt x="0" y="0"/>
                </a:moveTo>
                <a:lnTo>
                  <a:pt x="3023873" y="0"/>
                </a:lnTo>
                <a:lnTo>
                  <a:pt x="2947183" y="84381"/>
                </a:lnTo>
                <a:cubicBezTo>
                  <a:pt x="2767436" y="302183"/>
                  <a:pt x="2659460" y="581411"/>
                  <a:pt x="2659460" y="885858"/>
                </a:cubicBezTo>
                <a:cubicBezTo>
                  <a:pt x="2659460" y="1233798"/>
                  <a:pt x="2800490" y="1548798"/>
                  <a:pt x="3028505" y="1776813"/>
                </a:cubicBezTo>
                <a:lnTo>
                  <a:pt x="3054018" y="1800000"/>
                </a:lnTo>
                <a:lnTo>
                  <a:pt x="0" y="18000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16"/>
          <p:cNvSpPr/>
          <p:nvPr/>
        </p:nvSpPr>
        <p:spPr>
          <a:xfrm>
            <a:off x="10401480" y="4884840"/>
            <a:ext cx="105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4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16"/>
          <p:cNvSpPr/>
          <p:nvPr/>
        </p:nvSpPr>
        <p:spPr>
          <a:xfrm>
            <a:off x="8943840" y="405144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16"/>
          <p:cNvSpPr/>
          <p:nvPr/>
        </p:nvSpPr>
        <p:spPr>
          <a:xfrm>
            <a:off x="8943840" y="445140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图片 52" descr=""/>
          <p:cNvPicPr/>
          <p:nvPr/>
        </p:nvPicPr>
        <p:blipFill>
          <a:blip r:embed="rId3"/>
          <a:stretch/>
        </p:blipFill>
        <p:spPr>
          <a:xfrm>
            <a:off x="4095720" y="2424240"/>
            <a:ext cx="900000" cy="900000"/>
          </a:xfrm>
          <a:prstGeom prst="rect">
            <a:avLst/>
          </a:prstGeom>
          <a:ln w="0">
            <a:noFill/>
          </a:ln>
        </p:spPr>
      </p:pic>
      <p:grpSp>
        <p:nvGrpSpPr>
          <p:cNvPr id="326" name="组合 56"/>
          <p:cNvGrpSpPr/>
          <p:nvPr/>
        </p:nvGrpSpPr>
        <p:grpSpPr>
          <a:xfrm>
            <a:off x="7039080" y="4051440"/>
            <a:ext cx="1081080" cy="1079280"/>
            <a:chOff x="7039080" y="4051440"/>
            <a:chExt cx="1081080" cy="1079280"/>
          </a:xfrm>
        </p:grpSpPr>
        <p:pic>
          <p:nvPicPr>
            <p:cNvPr id="327" name="图片 57" descr=""/>
            <p:cNvPicPr/>
            <p:nvPr/>
          </p:nvPicPr>
          <p:blipFill>
            <a:blip r:embed="rId4"/>
            <a:stretch/>
          </p:blipFill>
          <p:spPr>
            <a:xfrm>
              <a:off x="7039080" y="4051440"/>
              <a:ext cx="1081080" cy="107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图片 58" descr=""/>
            <p:cNvPicPr/>
            <p:nvPr/>
          </p:nvPicPr>
          <p:blipFill>
            <a:blip r:embed="rId5"/>
            <a:srcRect l="29601" t="12883" r="30061" b="64571"/>
            <a:stretch/>
          </p:blipFill>
          <p:spPr>
            <a:xfrm>
              <a:off x="7361280" y="4192560"/>
              <a:ext cx="436320" cy="24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图片 59" descr=""/>
            <p:cNvPicPr/>
            <p:nvPr/>
          </p:nvPicPr>
          <p:blipFill>
            <a:blip r:embed="rId6"/>
            <a:srcRect l="18712" t="35736" r="70706" b="35736"/>
            <a:stretch/>
          </p:blipFill>
          <p:spPr>
            <a:xfrm>
              <a:off x="7244280" y="4436640"/>
              <a:ext cx="114840" cy="30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图片 60" descr=""/>
            <p:cNvPicPr/>
            <p:nvPr/>
          </p:nvPicPr>
          <p:blipFill>
            <a:blip r:embed="rId7"/>
            <a:srcRect l="70322" t="35583" r="20245" b="35890"/>
            <a:stretch/>
          </p:blipFill>
          <p:spPr>
            <a:xfrm>
              <a:off x="7813800" y="4436640"/>
              <a:ext cx="102960" cy="30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1" name="矩形 61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组合 62"/>
          <p:cNvGrpSpPr/>
          <p:nvPr/>
        </p:nvGrpSpPr>
        <p:grpSpPr>
          <a:xfrm>
            <a:off x="5551200" y="3610080"/>
            <a:ext cx="647640" cy="468360"/>
            <a:chOff x="5551200" y="3610080"/>
            <a:chExt cx="647640" cy="468360"/>
          </a:xfrm>
        </p:grpSpPr>
        <p:sp>
          <p:nvSpPr>
            <p:cNvPr id="333" name="直接连接符 63"/>
            <p:cNvSpPr/>
            <p:nvPr/>
          </p:nvSpPr>
          <p:spPr>
            <a:xfrm flipH="1">
              <a:off x="5551200" y="3624120"/>
              <a:ext cx="647640" cy="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直接连接符 64"/>
            <p:cNvSpPr/>
            <p:nvPr/>
          </p:nvSpPr>
          <p:spPr>
            <a:xfrm>
              <a:off x="5565240" y="3610080"/>
              <a:ext cx="0" cy="46836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组合 65"/>
          <p:cNvGrpSpPr/>
          <p:nvPr/>
        </p:nvGrpSpPr>
        <p:grpSpPr>
          <a:xfrm>
            <a:off x="5560920" y="3623760"/>
            <a:ext cx="647640" cy="468360"/>
            <a:chOff x="5560920" y="3623760"/>
            <a:chExt cx="647640" cy="468360"/>
          </a:xfrm>
        </p:grpSpPr>
        <p:sp>
          <p:nvSpPr>
            <p:cNvPr id="336" name="直接连接符 66"/>
            <p:cNvSpPr/>
            <p:nvPr/>
          </p:nvSpPr>
          <p:spPr>
            <a:xfrm>
              <a:off x="5560920" y="4078080"/>
              <a:ext cx="647640" cy="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直接连接符 67"/>
            <p:cNvSpPr/>
            <p:nvPr/>
          </p:nvSpPr>
          <p:spPr>
            <a:xfrm flipV="1">
              <a:off x="6194520" y="3623760"/>
              <a:ext cx="0" cy="46836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0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25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9167E-006 0 L 0.43138 0.20417 E">
                                      <p:cBhvr>
                                        <p:cTn id="481" dur="250" fill="hold"/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04167E-006 3.33333E-006 L -0.40273 -0.22801 E">
                                      <p:cBhvr>
                                        <p:cTn id="485" dur="25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25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25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25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25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5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4" descr=""/>
          <p:cNvPicPr/>
          <p:nvPr/>
        </p:nvPicPr>
        <p:blipFill>
          <a:blip r:embed="rId2"/>
          <a:stretch/>
        </p:blipFill>
        <p:spPr>
          <a:xfrm>
            <a:off x="12192120" y="0"/>
            <a:ext cx="409320" cy="4299120"/>
          </a:xfrm>
          <a:prstGeom prst="rect">
            <a:avLst/>
          </a:prstGeom>
          <a:ln w="0">
            <a:noFill/>
          </a:ln>
        </p:spPr>
      </p:pic>
      <p:grpSp>
        <p:nvGrpSpPr>
          <p:cNvPr id="340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341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344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平行四边形 12"/>
          <p:cNvSpPr/>
          <p:nvPr/>
        </p:nvSpPr>
        <p:spPr>
          <a:xfrm rot="1725000">
            <a:off x="5124240" y="2816280"/>
            <a:ext cx="1890720" cy="1092240"/>
          </a:xfrm>
          <a:prstGeom prst="parallelogram">
            <a:avLst>
              <a:gd name="adj" fmla="val 62462"/>
            </a:avLst>
          </a:prstGeom>
          <a:solidFill>
            <a:srgbClr val="ffffff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椭圆 37"/>
          <p:cNvSpPr/>
          <p:nvPr/>
        </p:nvSpPr>
        <p:spPr>
          <a:xfrm>
            <a:off x="3394080" y="4838760"/>
            <a:ext cx="179280" cy="17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直接连接符 40"/>
          <p:cNvSpPr/>
          <p:nvPr/>
        </p:nvSpPr>
        <p:spPr>
          <a:xfrm>
            <a:off x="3521160" y="4929120"/>
            <a:ext cx="1171440" cy="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椭圆 41"/>
          <p:cNvSpPr/>
          <p:nvPr/>
        </p:nvSpPr>
        <p:spPr>
          <a:xfrm>
            <a:off x="4619520" y="4838760"/>
            <a:ext cx="179640" cy="17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椭圆 42"/>
          <p:cNvSpPr/>
          <p:nvPr/>
        </p:nvSpPr>
        <p:spPr>
          <a:xfrm>
            <a:off x="7518240" y="4838760"/>
            <a:ext cx="179640" cy="17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直接连接符 43"/>
          <p:cNvSpPr/>
          <p:nvPr/>
        </p:nvSpPr>
        <p:spPr>
          <a:xfrm>
            <a:off x="7643880" y="4929120"/>
            <a:ext cx="1171440" cy="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椭圆 44"/>
          <p:cNvSpPr/>
          <p:nvPr/>
        </p:nvSpPr>
        <p:spPr>
          <a:xfrm>
            <a:off x="8744040" y="4838760"/>
            <a:ext cx="179280" cy="17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椭圆 45"/>
          <p:cNvSpPr/>
          <p:nvPr/>
        </p:nvSpPr>
        <p:spPr>
          <a:xfrm rot="5400000">
            <a:off x="5979600" y="2882520"/>
            <a:ext cx="1792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直接连接符 46"/>
          <p:cNvSpPr/>
          <p:nvPr/>
        </p:nvSpPr>
        <p:spPr>
          <a:xfrm>
            <a:off x="6070680" y="2236680"/>
            <a:ext cx="0" cy="72720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椭圆 47"/>
          <p:cNvSpPr/>
          <p:nvPr/>
        </p:nvSpPr>
        <p:spPr>
          <a:xfrm rot="5400000">
            <a:off x="5979600" y="2120760"/>
            <a:ext cx="17964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16"/>
          <p:cNvSpPr/>
          <p:nvPr/>
        </p:nvSpPr>
        <p:spPr>
          <a:xfrm>
            <a:off x="430200" y="4257720"/>
            <a:ext cx="305424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16"/>
          <p:cNvSpPr/>
          <p:nvPr/>
        </p:nvSpPr>
        <p:spPr>
          <a:xfrm>
            <a:off x="8923320" y="4257720"/>
            <a:ext cx="310680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16"/>
          <p:cNvSpPr/>
          <p:nvPr/>
        </p:nvSpPr>
        <p:spPr>
          <a:xfrm>
            <a:off x="4479840" y="966960"/>
            <a:ext cx="317016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矩形 61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矩形 62"/>
          <p:cNvSpPr/>
          <p:nvPr/>
        </p:nvSpPr>
        <p:spPr>
          <a:xfrm>
            <a:off x="5448240" y="-1206360"/>
            <a:ext cx="1233720" cy="1231920"/>
          </a:xfrm>
          <a:prstGeom prst="rect">
            <a:avLst/>
          </a:prstGeom>
          <a:solidFill>
            <a:srgbClr val="ffffff">
              <a:alpha val="20000"/>
            </a:srgbClr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平行四边形 33"/>
          <p:cNvSpPr/>
          <p:nvPr/>
        </p:nvSpPr>
        <p:spPr>
          <a:xfrm flipH="1" rot="1744800">
            <a:off x="4095720" y="4209840"/>
            <a:ext cx="2016000" cy="1155600"/>
          </a:xfrm>
          <a:prstGeom prst="parallelogram">
            <a:avLst>
              <a:gd name="adj" fmla="val 55801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平行四边形 35"/>
          <p:cNvSpPr/>
          <p:nvPr/>
        </p:nvSpPr>
        <p:spPr>
          <a:xfrm rot="19855200">
            <a:off x="6060960" y="4211280"/>
            <a:ext cx="2014560" cy="1155600"/>
          </a:xfrm>
          <a:prstGeom prst="parallelogram">
            <a:avLst>
              <a:gd name="adj" fmla="val 55761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nodeType="clickEffect" fill="hold">
                      <p:stCondLst>
                        <p:cond delay="0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11111E-006 L 0.00052 0.63704 E">
                                      <p:cBhvr>
                                        <p:cTn id="539" dur="25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25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25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25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1" dur="25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4" dur="25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25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25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25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25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1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9" dur="25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1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2" dur="25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1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" dur="25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1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矩形 5"/>
          <p:cNvSpPr/>
          <p:nvPr/>
        </p:nvSpPr>
        <p:spPr>
          <a:xfrm>
            <a:off x="3924360" y="2414520"/>
            <a:ext cx="4343400" cy="202896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14"/>
          <p:cNvSpPr/>
          <p:nvPr/>
        </p:nvSpPr>
        <p:spPr>
          <a:xfrm>
            <a:off x="5760720" y="31370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组合 12"/>
          <p:cNvGrpSpPr/>
          <p:nvPr/>
        </p:nvGrpSpPr>
        <p:grpSpPr>
          <a:xfrm>
            <a:off x="5950080" y="3435480"/>
            <a:ext cx="647640" cy="264960"/>
            <a:chOff x="5950080" y="3435480"/>
            <a:chExt cx="647640" cy="264960"/>
          </a:xfrm>
        </p:grpSpPr>
        <p:sp>
          <p:nvSpPr>
            <p:cNvPr id="366" name="直接连接符 13"/>
            <p:cNvSpPr/>
            <p:nvPr/>
          </p:nvSpPr>
          <p:spPr>
            <a:xfrm>
              <a:off x="5950080" y="3700440"/>
              <a:ext cx="647640" cy="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直接连接符 14"/>
            <p:cNvSpPr/>
            <p:nvPr/>
          </p:nvSpPr>
          <p:spPr>
            <a:xfrm flipV="1">
              <a:off x="6583680" y="3435480"/>
              <a:ext cx="0" cy="26460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组合 15"/>
          <p:cNvGrpSpPr/>
          <p:nvPr/>
        </p:nvGrpSpPr>
        <p:grpSpPr>
          <a:xfrm>
            <a:off x="5592600" y="3138480"/>
            <a:ext cx="648000" cy="264960"/>
            <a:chOff x="5592600" y="3138480"/>
            <a:chExt cx="648000" cy="264960"/>
          </a:xfrm>
        </p:grpSpPr>
        <p:sp>
          <p:nvSpPr>
            <p:cNvPr id="369" name="直接连接符 16"/>
            <p:cNvSpPr/>
            <p:nvPr/>
          </p:nvSpPr>
          <p:spPr>
            <a:xfrm flipH="1">
              <a:off x="5592600" y="3138480"/>
              <a:ext cx="648000" cy="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直接连接符 17"/>
            <p:cNvSpPr/>
            <p:nvPr/>
          </p:nvSpPr>
          <p:spPr>
            <a:xfrm>
              <a:off x="5606640" y="3138840"/>
              <a:ext cx="0" cy="264600"/>
            </a:xfrm>
            <a:prstGeom prst="line">
              <a:avLst/>
            </a:prstGeom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0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7037E-007 L 0.13698 0.10602 E">
                                      <p:cBhvr>
                                        <p:cTn id="594" dur="250" fill="hold"/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5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54167E-006 -1.85185E-006 L -0.13685 -0.10555 E">
                                      <p:cBhvr>
                                        <p:cTn id="596" dur="25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25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250"/>
                            </p:stCondLst>
                            <p:childTnLst>
                              <p:par>
                                <p:cTn id="601" nodeType="after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>
            <a:off x="12192120" y="0"/>
            <a:ext cx="409320" cy="4299120"/>
          </a:xfrm>
          <a:prstGeom prst="rect">
            <a:avLst/>
          </a:prstGeom>
          <a:ln w="0">
            <a:noFill/>
          </a:ln>
        </p:spPr>
      </p:pic>
      <p:grpSp>
        <p:nvGrpSpPr>
          <p:cNvPr id="46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47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50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矩形 12"/>
          <p:cNvSpPr/>
          <p:nvPr/>
        </p:nvSpPr>
        <p:spPr>
          <a:xfrm>
            <a:off x="804960" y="2487600"/>
            <a:ext cx="10696320" cy="192276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8"/>
          <p:cNvSpPr/>
          <p:nvPr/>
        </p:nvSpPr>
        <p:spPr>
          <a:xfrm>
            <a:off x="279000" y="282600"/>
            <a:ext cx="55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前 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组合 9"/>
          <p:cNvGrpSpPr/>
          <p:nvPr/>
        </p:nvGrpSpPr>
        <p:grpSpPr>
          <a:xfrm>
            <a:off x="5491080" y="3108240"/>
            <a:ext cx="647640" cy="468360"/>
            <a:chOff x="5491080" y="3108240"/>
            <a:chExt cx="647640" cy="468360"/>
          </a:xfrm>
        </p:grpSpPr>
        <p:sp>
          <p:nvSpPr>
            <p:cNvPr id="55" name="直接连接符 10"/>
            <p:cNvSpPr/>
            <p:nvPr/>
          </p:nvSpPr>
          <p:spPr>
            <a:xfrm>
              <a:off x="5491080" y="312228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直接连接符 11"/>
            <p:cNvSpPr/>
            <p:nvPr/>
          </p:nvSpPr>
          <p:spPr>
            <a:xfrm>
              <a:off x="6124680" y="310824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组合 19"/>
          <p:cNvGrpSpPr/>
          <p:nvPr/>
        </p:nvGrpSpPr>
        <p:grpSpPr>
          <a:xfrm>
            <a:off x="5470200" y="3107880"/>
            <a:ext cx="647640" cy="468360"/>
            <a:chOff x="5470200" y="3107880"/>
            <a:chExt cx="647640" cy="468360"/>
          </a:xfrm>
        </p:grpSpPr>
        <p:sp>
          <p:nvSpPr>
            <p:cNvPr id="58" name="直接连接符 20"/>
            <p:cNvSpPr/>
            <p:nvPr/>
          </p:nvSpPr>
          <p:spPr>
            <a:xfrm flipH="1">
              <a:off x="5470200" y="357480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直接连接符 21"/>
            <p:cNvSpPr/>
            <p:nvPr/>
          </p:nvSpPr>
          <p:spPr>
            <a:xfrm flipV="1">
              <a:off x="5484240" y="310788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125E-006 1.48148E-006 L 0.44154 -0.08935 E">
                                      <p:cBhvr>
                                        <p:cTn id="26" dur="25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7 1.48148E-006 L -0.38477 0.1243 E">
                                      <p:cBhvr>
                                        <p:cTn id="28" dur="25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25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2"/>
          <a:stretch/>
        </p:blipFill>
        <p:spPr>
          <a:xfrm>
            <a:off x="12192120" y="0"/>
            <a:ext cx="409320" cy="4299120"/>
          </a:xfrm>
          <a:prstGeom prst="rect">
            <a:avLst/>
          </a:prstGeom>
          <a:ln w="0">
            <a:noFill/>
          </a:ln>
        </p:spPr>
      </p:pic>
      <p:grpSp>
        <p:nvGrpSpPr>
          <p:cNvPr id="62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63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66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TextBox 16"/>
          <p:cNvSpPr/>
          <p:nvPr/>
        </p:nvSpPr>
        <p:spPr>
          <a:xfrm>
            <a:off x="5562720" y="139860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椭圆 15"/>
          <p:cNvSpPr/>
          <p:nvPr/>
        </p:nvSpPr>
        <p:spPr>
          <a:xfrm>
            <a:off x="5942160" y="2001960"/>
            <a:ext cx="179280" cy="17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椭圆 16"/>
          <p:cNvSpPr/>
          <p:nvPr/>
        </p:nvSpPr>
        <p:spPr>
          <a:xfrm>
            <a:off x="2117880" y="2930400"/>
            <a:ext cx="179280" cy="181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组合 11"/>
          <p:cNvGrpSpPr/>
          <p:nvPr/>
        </p:nvGrpSpPr>
        <p:grpSpPr>
          <a:xfrm>
            <a:off x="2206440" y="2541600"/>
            <a:ext cx="7425000" cy="431640"/>
            <a:chOff x="2206440" y="2541600"/>
            <a:chExt cx="7425000" cy="431640"/>
          </a:xfrm>
        </p:grpSpPr>
        <p:sp>
          <p:nvSpPr>
            <p:cNvPr id="72" name="直接连接符 3"/>
            <p:cNvSpPr/>
            <p:nvPr/>
          </p:nvSpPr>
          <p:spPr>
            <a:xfrm>
              <a:off x="2642040" y="2541600"/>
              <a:ext cx="6554160" cy="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直接连接符 7"/>
            <p:cNvSpPr/>
            <p:nvPr/>
          </p:nvSpPr>
          <p:spPr>
            <a:xfrm flipH="1">
              <a:off x="2206440" y="2541600"/>
              <a:ext cx="435240" cy="43164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直接连接符 23"/>
            <p:cNvSpPr/>
            <p:nvPr/>
          </p:nvSpPr>
          <p:spPr>
            <a:xfrm>
              <a:off x="9196200" y="2541600"/>
              <a:ext cx="435240" cy="431640"/>
            </a:xfrm>
            <a:prstGeom prst="line">
              <a:avLst/>
            </a:prstGeom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直接连接符 19"/>
          <p:cNvSpPr/>
          <p:nvPr/>
        </p:nvSpPr>
        <p:spPr>
          <a:xfrm>
            <a:off x="4813200" y="2541600"/>
            <a:ext cx="1800" cy="4492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直接连接符 33"/>
          <p:cNvSpPr/>
          <p:nvPr/>
        </p:nvSpPr>
        <p:spPr>
          <a:xfrm>
            <a:off x="7264440" y="2541600"/>
            <a:ext cx="1440" cy="4492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直接连接符 34"/>
          <p:cNvSpPr/>
          <p:nvPr/>
        </p:nvSpPr>
        <p:spPr>
          <a:xfrm>
            <a:off x="6031080" y="2104920"/>
            <a:ext cx="1440" cy="449280"/>
          </a:xfrm>
          <a:prstGeom prst="line">
            <a:avLst/>
          </a:prstGeom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椭圆 35"/>
          <p:cNvSpPr/>
          <p:nvPr/>
        </p:nvSpPr>
        <p:spPr>
          <a:xfrm>
            <a:off x="4724280" y="2932200"/>
            <a:ext cx="179640" cy="179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椭圆 36"/>
          <p:cNvSpPr/>
          <p:nvPr/>
        </p:nvSpPr>
        <p:spPr>
          <a:xfrm>
            <a:off x="7175520" y="2992320"/>
            <a:ext cx="1792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椭圆 37"/>
          <p:cNvSpPr/>
          <p:nvPr/>
        </p:nvSpPr>
        <p:spPr>
          <a:xfrm>
            <a:off x="9561600" y="2973240"/>
            <a:ext cx="179280" cy="1796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组合 8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82" name="组合 6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83" name="组合 1"/>
          <p:cNvGrpSpPr/>
          <p:nvPr/>
        </p:nvGrpSpPr>
        <p:grpSpPr>
          <a:xfrm>
            <a:off x="1854360" y="3722760"/>
            <a:ext cx="502920" cy="503280"/>
            <a:chOff x="1854360" y="3722760"/>
            <a:chExt cx="502920" cy="503280"/>
          </a:xfrm>
        </p:grpSpPr>
        <p:sp>
          <p:nvSpPr>
            <p:cNvPr id="84" name="椭圆 46"/>
            <p:cNvSpPr/>
            <p:nvPr/>
          </p:nvSpPr>
          <p:spPr>
            <a:xfrm>
              <a:off x="1854360" y="3722760"/>
              <a:ext cx="502920" cy="5032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63360">
              <a:solidFill>
                <a:srgbClr val="ffffff">
                  <a:alpha val="8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Box 16"/>
            <p:cNvSpPr/>
            <p:nvPr/>
          </p:nvSpPr>
          <p:spPr>
            <a:xfrm>
              <a:off x="1949400" y="377424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组合 9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87" name="组合 17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88" name="组合 2"/>
          <p:cNvGrpSpPr/>
          <p:nvPr/>
        </p:nvGrpSpPr>
        <p:grpSpPr>
          <a:xfrm>
            <a:off x="4562640" y="3722760"/>
            <a:ext cx="617400" cy="503280"/>
            <a:chOff x="4562640" y="3722760"/>
            <a:chExt cx="617400" cy="503280"/>
          </a:xfrm>
        </p:grpSpPr>
        <p:sp>
          <p:nvSpPr>
            <p:cNvPr id="89" name="椭圆 54"/>
            <p:cNvSpPr/>
            <p:nvPr/>
          </p:nvSpPr>
          <p:spPr>
            <a:xfrm>
              <a:off x="4562640" y="3722760"/>
              <a:ext cx="503640" cy="5032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63360">
              <a:solidFill>
                <a:srgbClr val="ffffff">
                  <a:alpha val="8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Box 16"/>
            <p:cNvSpPr/>
            <p:nvPr/>
          </p:nvSpPr>
          <p:spPr>
            <a:xfrm>
              <a:off x="4657680" y="3774240"/>
              <a:ext cx="52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组合 10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92" name="组合 13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93" name="组合 4"/>
          <p:cNvGrpSpPr/>
          <p:nvPr/>
        </p:nvGrpSpPr>
        <p:grpSpPr>
          <a:xfrm>
            <a:off x="6999120" y="3722760"/>
            <a:ext cx="617760" cy="503280"/>
            <a:chOff x="6999120" y="3722760"/>
            <a:chExt cx="617760" cy="503280"/>
          </a:xfrm>
        </p:grpSpPr>
        <p:sp>
          <p:nvSpPr>
            <p:cNvPr id="94" name="椭圆 60"/>
            <p:cNvSpPr/>
            <p:nvPr/>
          </p:nvSpPr>
          <p:spPr>
            <a:xfrm>
              <a:off x="6999120" y="3722760"/>
              <a:ext cx="504000" cy="5032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63360">
              <a:solidFill>
                <a:srgbClr val="ffffff">
                  <a:alpha val="8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Box 16"/>
            <p:cNvSpPr/>
            <p:nvPr/>
          </p:nvSpPr>
          <p:spPr>
            <a:xfrm>
              <a:off x="7094160" y="3774240"/>
              <a:ext cx="52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组合 12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grpSp>
        <p:nvGrpSpPr>
          <p:cNvPr id="97" name="组合 5"/>
          <p:cNvGrpSpPr/>
          <p:nvPr/>
        </p:nvGrpSpPr>
        <p:grpSpPr>
          <a:xfrm>
            <a:off x="9534600" y="3736800"/>
            <a:ext cx="617400" cy="505080"/>
            <a:chOff x="9534600" y="3736800"/>
            <a:chExt cx="617400" cy="505080"/>
          </a:xfrm>
        </p:grpSpPr>
        <p:sp>
          <p:nvSpPr>
            <p:cNvPr id="98" name="椭圆 66"/>
            <p:cNvSpPr/>
            <p:nvPr/>
          </p:nvSpPr>
          <p:spPr>
            <a:xfrm>
              <a:off x="9534600" y="3736800"/>
              <a:ext cx="503640" cy="505080"/>
            </a:xfrm>
            <a:prstGeom prst="ellipse">
              <a:avLst/>
            </a:prstGeom>
            <a:solidFill>
              <a:srgbClr val="ffffff">
                <a:alpha val="40000"/>
              </a:srgbClr>
            </a:solidFill>
            <a:ln w="63360">
              <a:solidFill>
                <a:srgbClr val="ffffff">
                  <a:alpha val="8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Box 16"/>
            <p:cNvSpPr/>
            <p:nvPr/>
          </p:nvSpPr>
          <p:spPr>
            <a:xfrm>
              <a:off x="9629640" y="3788640"/>
              <a:ext cx="52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TextBox 16"/>
          <p:cNvSpPr/>
          <p:nvPr/>
        </p:nvSpPr>
        <p:spPr>
          <a:xfrm>
            <a:off x="1351080" y="4923000"/>
            <a:ext cx="171288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6"/>
          <p:cNvSpPr/>
          <p:nvPr/>
        </p:nvSpPr>
        <p:spPr>
          <a:xfrm>
            <a:off x="3957480" y="4923000"/>
            <a:ext cx="171324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6"/>
          <p:cNvSpPr/>
          <p:nvPr/>
        </p:nvSpPr>
        <p:spPr>
          <a:xfrm>
            <a:off x="6411960" y="4923000"/>
            <a:ext cx="171288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6"/>
          <p:cNvSpPr/>
          <p:nvPr/>
        </p:nvSpPr>
        <p:spPr>
          <a:xfrm>
            <a:off x="8837640" y="4923000"/>
            <a:ext cx="1712880" cy="3988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组合 18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25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25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25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25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25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25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5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25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1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25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25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25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25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25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4" presetSubtype="3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25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" presetSubtype="3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25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" presetSubtype="3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25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" presetSubtype="3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25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"/>
          <p:cNvPicPr/>
          <p:nvPr/>
        </p:nvPicPr>
        <p:blipFill>
          <a:blip r:embed="rId2"/>
          <a:stretch/>
        </p:blipFill>
        <p:spPr>
          <a:xfrm>
            <a:off x="12192120" y="0"/>
            <a:ext cx="409320" cy="4299120"/>
          </a:xfrm>
          <a:prstGeom prst="rect">
            <a:avLst/>
          </a:prstGeom>
          <a:ln w="0">
            <a:noFill/>
          </a:ln>
        </p:spPr>
      </p:pic>
      <p:grpSp>
        <p:nvGrpSpPr>
          <p:cNvPr id="107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108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111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矩形 8"/>
          <p:cNvSpPr/>
          <p:nvPr/>
        </p:nvSpPr>
        <p:spPr>
          <a:xfrm>
            <a:off x="3863880" y="3914640"/>
            <a:ext cx="3940200" cy="128268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6"/>
          <p:cNvSpPr/>
          <p:nvPr/>
        </p:nvSpPr>
        <p:spPr>
          <a:xfrm>
            <a:off x="4959360" y="4311720"/>
            <a:ext cx="17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25"/>
          <p:cNvSpPr/>
          <p:nvPr/>
        </p:nvSpPr>
        <p:spPr>
          <a:xfrm>
            <a:off x="3863880" y="1752480"/>
            <a:ext cx="3940200" cy="2160720"/>
          </a:xfrm>
          <a:prstGeom prst="rect">
            <a:avLst/>
          </a:prstGeom>
          <a:solidFill>
            <a:srgbClr val="0000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6"/>
          <p:cNvSpPr/>
          <p:nvPr/>
        </p:nvSpPr>
        <p:spPr>
          <a:xfrm>
            <a:off x="4788000" y="2435400"/>
            <a:ext cx="2079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RT.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直接连接符 26"/>
          <p:cNvSpPr/>
          <p:nvPr/>
        </p:nvSpPr>
        <p:spPr>
          <a:xfrm>
            <a:off x="2573280" y="1752480"/>
            <a:ext cx="651672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组合 13"/>
          <p:cNvGrpSpPr/>
          <p:nvPr/>
        </p:nvGrpSpPr>
        <p:grpSpPr>
          <a:xfrm>
            <a:off x="5238360" y="3098880"/>
            <a:ext cx="647640" cy="466560"/>
            <a:chOff x="5238360" y="3098880"/>
            <a:chExt cx="647640" cy="466560"/>
          </a:xfrm>
        </p:grpSpPr>
        <p:sp>
          <p:nvSpPr>
            <p:cNvPr id="119" name="直接连接符 14"/>
            <p:cNvSpPr/>
            <p:nvPr/>
          </p:nvSpPr>
          <p:spPr>
            <a:xfrm flipH="1">
              <a:off x="5238360" y="356400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直接连接符 15"/>
            <p:cNvSpPr/>
            <p:nvPr/>
          </p:nvSpPr>
          <p:spPr>
            <a:xfrm flipV="1">
              <a:off x="5252400" y="3098880"/>
              <a:ext cx="0" cy="4665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组合 16"/>
          <p:cNvGrpSpPr/>
          <p:nvPr/>
        </p:nvGrpSpPr>
        <p:grpSpPr>
          <a:xfrm>
            <a:off x="5853240" y="3112560"/>
            <a:ext cx="647640" cy="468360"/>
            <a:chOff x="5853240" y="3112560"/>
            <a:chExt cx="647640" cy="468360"/>
          </a:xfrm>
        </p:grpSpPr>
        <p:sp>
          <p:nvSpPr>
            <p:cNvPr id="122" name="直接连接符 17"/>
            <p:cNvSpPr/>
            <p:nvPr/>
          </p:nvSpPr>
          <p:spPr>
            <a:xfrm>
              <a:off x="5853240" y="356688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直接连接符 18"/>
            <p:cNvSpPr/>
            <p:nvPr/>
          </p:nvSpPr>
          <p:spPr>
            <a:xfrm flipV="1">
              <a:off x="6486840" y="311256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25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25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25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25E-007 -2.96296E-006 L 0.10768 0.23588 E">
                                      <p:cBhvr>
                                        <p:cTn id="137" dur="25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7037E-007 L -0.1125 0.23518 E">
                                      <p:cBhvr>
                                        <p:cTn id="139" dur="25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5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"/>
          <p:cNvPicPr/>
          <p:nvPr/>
        </p:nvPicPr>
        <p:blipFill>
          <a:blip r:embed="rId2"/>
          <a:stretch/>
        </p:blipFill>
        <p:spPr>
          <a:xfrm>
            <a:off x="12192120" y="0"/>
            <a:ext cx="409320" cy="4299120"/>
          </a:xfrm>
          <a:prstGeom prst="rect">
            <a:avLst/>
          </a:prstGeom>
          <a:ln w="0">
            <a:noFill/>
          </a:ln>
        </p:spPr>
      </p:pic>
      <p:grpSp>
        <p:nvGrpSpPr>
          <p:cNvPr id="126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127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130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2" name="图片 42" descr=""/>
          <p:cNvPicPr/>
          <p:nvPr/>
        </p:nvPicPr>
        <p:blipFill>
          <a:blip r:embed="rId3"/>
          <a:srcRect l="0" t="0" r="41801" b="34885"/>
          <a:stretch/>
        </p:blipFill>
        <p:spPr>
          <a:xfrm>
            <a:off x="1467000" y="1549440"/>
            <a:ext cx="4519440" cy="3836880"/>
          </a:xfrm>
          <a:prstGeom prst="rect">
            <a:avLst/>
          </a:prstGeom>
          <a:ln w="0">
            <a:noFill/>
          </a:ln>
        </p:spPr>
      </p:pic>
      <p:sp>
        <p:nvSpPr>
          <p:cNvPr id="133" name="矩形 8"/>
          <p:cNvSpPr/>
          <p:nvPr/>
        </p:nvSpPr>
        <p:spPr>
          <a:xfrm>
            <a:off x="6648480" y="1549440"/>
            <a:ext cx="4549680" cy="385776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6"/>
          <p:cNvSpPr/>
          <p:nvPr/>
        </p:nvSpPr>
        <p:spPr>
          <a:xfrm>
            <a:off x="8131320" y="3484440"/>
            <a:ext cx="158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图片 25" descr=""/>
          <p:cNvPicPr/>
          <p:nvPr/>
        </p:nvPicPr>
        <p:blipFill>
          <a:blip r:embed="rId4"/>
          <a:stretch/>
        </p:blipFill>
        <p:spPr>
          <a:xfrm>
            <a:off x="8220240" y="1549440"/>
            <a:ext cx="1420560" cy="1420920"/>
          </a:xfrm>
          <a:prstGeom prst="rect">
            <a:avLst/>
          </a:prstGeom>
          <a:ln w="0">
            <a:noFill/>
          </a:ln>
        </p:spPr>
      </p:pic>
      <p:sp>
        <p:nvSpPr>
          <p:cNvPr id="136" name="TextBox 16"/>
          <p:cNvSpPr/>
          <p:nvPr/>
        </p:nvSpPr>
        <p:spPr>
          <a:xfrm>
            <a:off x="8042400" y="2855880"/>
            <a:ext cx="177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43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组合 44"/>
          <p:cNvGrpSpPr/>
          <p:nvPr/>
        </p:nvGrpSpPr>
        <p:grpSpPr>
          <a:xfrm>
            <a:off x="3301920" y="3020760"/>
            <a:ext cx="647640" cy="468360"/>
            <a:chOff x="3301920" y="3020760"/>
            <a:chExt cx="647640" cy="468360"/>
          </a:xfrm>
        </p:grpSpPr>
        <p:sp>
          <p:nvSpPr>
            <p:cNvPr id="139" name="直接连接符 45"/>
            <p:cNvSpPr/>
            <p:nvPr/>
          </p:nvSpPr>
          <p:spPr>
            <a:xfrm>
              <a:off x="3301920" y="347508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直接连接符 46"/>
            <p:cNvSpPr/>
            <p:nvPr/>
          </p:nvSpPr>
          <p:spPr>
            <a:xfrm flipV="1">
              <a:off x="3935520" y="302076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组合 47"/>
          <p:cNvGrpSpPr/>
          <p:nvPr/>
        </p:nvGrpSpPr>
        <p:grpSpPr>
          <a:xfrm>
            <a:off x="3301560" y="3016080"/>
            <a:ext cx="647640" cy="468360"/>
            <a:chOff x="3301560" y="3016080"/>
            <a:chExt cx="647640" cy="468360"/>
          </a:xfrm>
        </p:grpSpPr>
        <p:sp>
          <p:nvSpPr>
            <p:cNvPr id="142" name="直接连接符 48"/>
            <p:cNvSpPr/>
            <p:nvPr/>
          </p:nvSpPr>
          <p:spPr>
            <a:xfrm flipH="1">
              <a:off x="3301560" y="303012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直接连接符 49"/>
            <p:cNvSpPr/>
            <p:nvPr/>
          </p:nvSpPr>
          <p:spPr>
            <a:xfrm>
              <a:off x="3315600" y="301608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组合 50"/>
          <p:cNvGrpSpPr/>
          <p:nvPr/>
        </p:nvGrpSpPr>
        <p:grpSpPr>
          <a:xfrm>
            <a:off x="8565840" y="3032280"/>
            <a:ext cx="647640" cy="468000"/>
            <a:chOff x="8565840" y="3032280"/>
            <a:chExt cx="647640" cy="468000"/>
          </a:xfrm>
        </p:grpSpPr>
        <p:sp>
          <p:nvSpPr>
            <p:cNvPr id="145" name="直接连接符 51"/>
            <p:cNvSpPr/>
            <p:nvPr/>
          </p:nvSpPr>
          <p:spPr>
            <a:xfrm flipH="1">
              <a:off x="8565840" y="349884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直接连接符 52"/>
            <p:cNvSpPr/>
            <p:nvPr/>
          </p:nvSpPr>
          <p:spPr>
            <a:xfrm flipV="1">
              <a:off x="8579880" y="3032280"/>
              <a:ext cx="0" cy="46800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组合 53"/>
          <p:cNvGrpSpPr/>
          <p:nvPr/>
        </p:nvGrpSpPr>
        <p:grpSpPr>
          <a:xfrm>
            <a:off x="8580600" y="3029040"/>
            <a:ext cx="647640" cy="468360"/>
            <a:chOff x="8580600" y="3029040"/>
            <a:chExt cx="647640" cy="468360"/>
          </a:xfrm>
        </p:grpSpPr>
        <p:sp>
          <p:nvSpPr>
            <p:cNvPr id="148" name="直接连接符 54"/>
            <p:cNvSpPr/>
            <p:nvPr/>
          </p:nvSpPr>
          <p:spPr>
            <a:xfrm>
              <a:off x="8580600" y="304308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直接连接符 55"/>
            <p:cNvSpPr/>
            <p:nvPr/>
          </p:nvSpPr>
          <p:spPr>
            <a:xfrm>
              <a:off x="9214200" y="302904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TextBox 16"/>
          <p:cNvSpPr/>
          <p:nvPr/>
        </p:nvSpPr>
        <p:spPr>
          <a:xfrm>
            <a:off x="8112240" y="4025880"/>
            <a:ext cx="158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6"/>
          <p:cNvSpPr/>
          <p:nvPr/>
        </p:nvSpPr>
        <p:spPr>
          <a:xfrm>
            <a:off x="8137440" y="4564080"/>
            <a:ext cx="158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96296E-006 L 0.16927 0.27639 E">
                                      <p:cBhvr>
                                        <p:cTn id="157" dur="25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2.59259E-006 L -0.15157 -0.21551 E">
                                      <p:cBhvr>
                                        <p:cTn id="161" dur="25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25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45833E-006 -4.44444E-006 L 0.16146 -0.21944 E">
                                      <p:cBhvr>
                                        <p:cTn id="168" dur="25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59259E-006 L -0.15769 0.27662 E">
                                      <p:cBhvr>
                                        <p:cTn id="172" dur="25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25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"/>
          <p:cNvPicPr/>
          <p:nvPr/>
        </p:nvPicPr>
        <p:blipFill>
          <a:blip r:embed="rId2"/>
          <a:stretch/>
        </p:blipFill>
        <p:spPr>
          <a:xfrm>
            <a:off x="12192120" y="0"/>
            <a:ext cx="409320" cy="4299120"/>
          </a:xfrm>
          <a:prstGeom prst="rect">
            <a:avLst/>
          </a:prstGeom>
          <a:ln w="0">
            <a:noFill/>
          </a:ln>
        </p:spPr>
      </p:pic>
      <p:grpSp>
        <p:nvGrpSpPr>
          <p:cNvPr id="154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155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158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组合 3"/>
          <p:cNvGrpSpPr/>
          <p:nvPr/>
        </p:nvGrpSpPr>
        <p:grpSpPr>
          <a:xfrm>
            <a:off x="4876920" y="1752480"/>
            <a:ext cx="6321240" cy="3857760"/>
            <a:chOff x="4876920" y="1752480"/>
            <a:chExt cx="6321240" cy="3857760"/>
          </a:xfrm>
        </p:grpSpPr>
        <p:sp>
          <p:nvSpPr>
            <p:cNvPr id="161" name="矩形 8"/>
            <p:cNvSpPr/>
            <p:nvPr/>
          </p:nvSpPr>
          <p:spPr>
            <a:xfrm>
              <a:off x="6649200" y="1752480"/>
              <a:ext cx="4548960" cy="385776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等腰三角形 2"/>
            <p:cNvSpPr/>
            <p:nvPr/>
          </p:nvSpPr>
          <p:spPr>
            <a:xfrm>
              <a:off x="4876920" y="1752480"/>
              <a:ext cx="1772280" cy="3857760"/>
            </a:xfrm>
            <a:prstGeom prst="triangle">
              <a:avLst>
                <a:gd name="adj" fmla="val 10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组合 1"/>
          <p:cNvGrpSpPr/>
          <p:nvPr/>
        </p:nvGrpSpPr>
        <p:grpSpPr>
          <a:xfrm>
            <a:off x="1466640" y="1730520"/>
            <a:ext cx="4932360" cy="3859200"/>
            <a:chOff x="1466640" y="1730520"/>
            <a:chExt cx="4932360" cy="3859200"/>
          </a:xfrm>
        </p:grpSpPr>
        <p:grpSp>
          <p:nvGrpSpPr>
            <p:cNvPr id="164" name="组合 15"/>
            <p:cNvGrpSpPr/>
            <p:nvPr/>
          </p:nvGrpSpPr>
          <p:grpSpPr>
            <a:xfrm>
              <a:off x="1466640" y="1730520"/>
              <a:ext cx="4932360" cy="3859200"/>
              <a:chOff x="1466640" y="1730520"/>
              <a:chExt cx="4932360" cy="3859200"/>
            </a:xfrm>
          </p:grpSpPr>
          <p:sp>
            <p:nvSpPr>
              <p:cNvPr id="165" name="矩形 16"/>
              <p:cNvSpPr/>
              <p:nvPr/>
            </p:nvSpPr>
            <p:spPr>
              <a:xfrm flipH="1" flipV="1">
                <a:off x="1466280" y="1730520"/>
                <a:ext cx="3160080" cy="3859200"/>
              </a:xfrm>
              <a:prstGeom prst="rect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等腰三角形 17"/>
              <p:cNvSpPr/>
              <p:nvPr/>
            </p:nvSpPr>
            <p:spPr>
              <a:xfrm flipH="1" flipV="1">
                <a:off x="4626360" y="1730520"/>
                <a:ext cx="1772280" cy="3859200"/>
              </a:xfrm>
              <a:prstGeom prst="triangle">
                <a:avLst>
                  <a:gd name="adj" fmla="val 100000"/>
                </a:avLst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TextBox 16"/>
            <p:cNvSpPr/>
            <p:nvPr/>
          </p:nvSpPr>
          <p:spPr>
            <a:xfrm>
              <a:off x="2918520" y="3459960"/>
              <a:ext cx="82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配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直接连接符 20"/>
          <p:cNvSpPr/>
          <p:nvPr/>
        </p:nvSpPr>
        <p:spPr>
          <a:xfrm>
            <a:off x="6870600" y="3057480"/>
            <a:ext cx="3679920" cy="180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直接连接符 21"/>
          <p:cNvSpPr/>
          <p:nvPr/>
        </p:nvSpPr>
        <p:spPr>
          <a:xfrm>
            <a:off x="6485040" y="4270320"/>
            <a:ext cx="444960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6"/>
          <p:cNvSpPr/>
          <p:nvPr/>
        </p:nvSpPr>
        <p:spPr>
          <a:xfrm>
            <a:off x="6399360" y="2038320"/>
            <a:ext cx="709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6"/>
          <p:cNvSpPr/>
          <p:nvPr/>
        </p:nvSpPr>
        <p:spPr>
          <a:xfrm>
            <a:off x="5838840" y="3254400"/>
            <a:ext cx="708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6"/>
          <p:cNvSpPr/>
          <p:nvPr/>
        </p:nvSpPr>
        <p:spPr>
          <a:xfrm>
            <a:off x="5408640" y="4467240"/>
            <a:ext cx="708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6"/>
          <p:cNvSpPr/>
          <p:nvPr/>
        </p:nvSpPr>
        <p:spPr>
          <a:xfrm>
            <a:off x="7210440" y="2238480"/>
            <a:ext cx="3771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6"/>
          <p:cNvSpPr/>
          <p:nvPr/>
        </p:nvSpPr>
        <p:spPr>
          <a:xfrm>
            <a:off x="6281640" y="4676760"/>
            <a:ext cx="3772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6"/>
          <p:cNvSpPr/>
          <p:nvPr/>
        </p:nvSpPr>
        <p:spPr>
          <a:xfrm>
            <a:off x="6854760" y="3352680"/>
            <a:ext cx="3773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25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组合 34"/>
          <p:cNvGrpSpPr/>
          <p:nvPr/>
        </p:nvGrpSpPr>
        <p:grpSpPr>
          <a:xfrm>
            <a:off x="5960880" y="3276360"/>
            <a:ext cx="647640" cy="468360"/>
            <a:chOff x="5960880" y="3276360"/>
            <a:chExt cx="647640" cy="468360"/>
          </a:xfrm>
        </p:grpSpPr>
        <p:sp>
          <p:nvSpPr>
            <p:cNvPr id="178" name="直接连接符 35"/>
            <p:cNvSpPr/>
            <p:nvPr/>
          </p:nvSpPr>
          <p:spPr>
            <a:xfrm flipH="1">
              <a:off x="5960880" y="374328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直接连接符 38"/>
            <p:cNvSpPr/>
            <p:nvPr/>
          </p:nvSpPr>
          <p:spPr>
            <a:xfrm flipV="1">
              <a:off x="5974920" y="327636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组合 39"/>
          <p:cNvGrpSpPr/>
          <p:nvPr/>
        </p:nvGrpSpPr>
        <p:grpSpPr>
          <a:xfrm>
            <a:off x="5972040" y="3260880"/>
            <a:ext cx="648000" cy="468000"/>
            <a:chOff x="5972040" y="3260880"/>
            <a:chExt cx="648000" cy="468000"/>
          </a:xfrm>
        </p:grpSpPr>
        <p:sp>
          <p:nvSpPr>
            <p:cNvPr id="181" name="直接连接符 40"/>
            <p:cNvSpPr/>
            <p:nvPr/>
          </p:nvSpPr>
          <p:spPr>
            <a:xfrm>
              <a:off x="5972040" y="3274920"/>
              <a:ext cx="64800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直接连接符 41"/>
            <p:cNvSpPr/>
            <p:nvPr/>
          </p:nvSpPr>
          <p:spPr>
            <a:xfrm>
              <a:off x="6606000" y="3260880"/>
              <a:ext cx="0" cy="46800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75E-006 -7.40741E-007 L 0.37552 -0.22384 E">
                                      <p:cBhvr>
                                        <p:cTn id="202" dur="25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9167E-006 4.44444E-006 L -0.36861 0.27245 E">
                                      <p:cBhvr>
                                        <p:cTn id="206" dur="25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25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6" presetSubtype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25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6" presetSubtype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25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"/>
          <p:cNvPicPr/>
          <p:nvPr/>
        </p:nvPicPr>
        <p:blipFill>
          <a:blip r:embed="rId2"/>
          <a:stretch/>
        </p:blipFill>
        <p:spPr>
          <a:xfrm>
            <a:off x="12192120" y="0"/>
            <a:ext cx="409320" cy="4299120"/>
          </a:xfrm>
          <a:prstGeom prst="rect">
            <a:avLst/>
          </a:prstGeom>
          <a:ln w="0">
            <a:noFill/>
          </a:ln>
        </p:spPr>
      </p:pic>
      <p:grpSp>
        <p:nvGrpSpPr>
          <p:cNvPr id="185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186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189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矩形 14"/>
          <p:cNvSpPr/>
          <p:nvPr/>
        </p:nvSpPr>
        <p:spPr>
          <a:xfrm>
            <a:off x="3440160" y="1577880"/>
            <a:ext cx="2655720" cy="43322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8"/>
          <p:cNvSpPr/>
          <p:nvPr/>
        </p:nvSpPr>
        <p:spPr>
          <a:xfrm>
            <a:off x="743040" y="1577880"/>
            <a:ext cx="2655720" cy="43322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6"/>
          <p:cNvSpPr/>
          <p:nvPr/>
        </p:nvSpPr>
        <p:spPr>
          <a:xfrm>
            <a:off x="3868560" y="2622600"/>
            <a:ext cx="176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直接连接符 12"/>
          <p:cNvSpPr/>
          <p:nvPr/>
        </p:nvSpPr>
        <p:spPr>
          <a:xfrm>
            <a:off x="1143000" y="3238560"/>
            <a:ext cx="188748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6"/>
          <p:cNvSpPr/>
          <p:nvPr/>
        </p:nvSpPr>
        <p:spPr>
          <a:xfrm>
            <a:off x="1450800" y="3578400"/>
            <a:ext cx="163224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直接连接符 15"/>
          <p:cNvSpPr/>
          <p:nvPr/>
        </p:nvSpPr>
        <p:spPr>
          <a:xfrm>
            <a:off x="3840120" y="3238560"/>
            <a:ext cx="188748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6"/>
          <p:cNvSpPr/>
          <p:nvPr/>
        </p:nvSpPr>
        <p:spPr>
          <a:xfrm>
            <a:off x="4106880" y="3578400"/>
            <a:ext cx="135396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23"/>
          <p:cNvSpPr/>
          <p:nvPr/>
        </p:nvSpPr>
        <p:spPr>
          <a:xfrm>
            <a:off x="6137280" y="1577880"/>
            <a:ext cx="2655720" cy="43322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直接连接符 24"/>
          <p:cNvSpPr/>
          <p:nvPr/>
        </p:nvSpPr>
        <p:spPr>
          <a:xfrm>
            <a:off x="6537240" y="3238560"/>
            <a:ext cx="188748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16"/>
          <p:cNvSpPr/>
          <p:nvPr/>
        </p:nvSpPr>
        <p:spPr>
          <a:xfrm>
            <a:off x="6810480" y="3578400"/>
            <a:ext cx="16668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34"/>
          <p:cNvSpPr/>
          <p:nvPr/>
        </p:nvSpPr>
        <p:spPr>
          <a:xfrm>
            <a:off x="8836200" y="1577880"/>
            <a:ext cx="2654280" cy="433224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直接连接符 35"/>
          <p:cNvSpPr/>
          <p:nvPr/>
        </p:nvSpPr>
        <p:spPr>
          <a:xfrm>
            <a:off x="9234360" y="3238560"/>
            <a:ext cx="188784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6"/>
          <p:cNvSpPr/>
          <p:nvPr/>
        </p:nvSpPr>
        <p:spPr>
          <a:xfrm>
            <a:off x="9466200" y="3578400"/>
            <a:ext cx="16560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图片 42" descr=""/>
          <p:cNvPicPr/>
          <p:nvPr/>
        </p:nvPicPr>
        <p:blipFill>
          <a:blip r:embed="rId3"/>
          <a:stretch/>
        </p:blipFill>
        <p:spPr>
          <a:xfrm>
            <a:off x="4444920" y="18493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205" name="图片 51" descr=""/>
          <p:cNvPicPr/>
          <p:nvPr/>
        </p:nvPicPr>
        <p:blipFill>
          <a:blip r:embed="rId4"/>
          <a:stretch/>
        </p:blipFill>
        <p:spPr>
          <a:xfrm>
            <a:off x="1730520" y="18493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206" name="图片 54" descr=""/>
          <p:cNvPicPr/>
          <p:nvPr/>
        </p:nvPicPr>
        <p:blipFill>
          <a:blip r:embed="rId5"/>
          <a:stretch/>
        </p:blipFill>
        <p:spPr>
          <a:xfrm>
            <a:off x="7153200" y="184932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207" name="TextBox 16"/>
          <p:cNvSpPr/>
          <p:nvPr/>
        </p:nvSpPr>
        <p:spPr>
          <a:xfrm>
            <a:off x="1171440" y="2622600"/>
            <a:ext cx="17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6"/>
          <p:cNvSpPr/>
          <p:nvPr/>
        </p:nvSpPr>
        <p:spPr>
          <a:xfrm>
            <a:off x="6583320" y="2622600"/>
            <a:ext cx="17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图片 57" descr=""/>
          <p:cNvPicPr/>
          <p:nvPr/>
        </p:nvPicPr>
        <p:blipFill>
          <a:blip r:embed="rId6"/>
          <a:stretch/>
        </p:blipFill>
        <p:spPr>
          <a:xfrm>
            <a:off x="9855360" y="184932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210" name="TextBox 16"/>
          <p:cNvSpPr/>
          <p:nvPr/>
        </p:nvSpPr>
        <p:spPr>
          <a:xfrm>
            <a:off x="9263160" y="2622600"/>
            <a:ext cx="17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37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组合 38"/>
          <p:cNvGrpSpPr/>
          <p:nvPr/>
        </p:nvGrpSpPr>
        <p:grpSpPr>
          <a:xfrm>
            <a:off x="5770440" y="3444480"/>
            <a:ext cx="648000" cy="468360"/>
            <a:chOff x="5770440" y="3444480"/>
            <a:chExt cx="648000" cy="468360"/>
          </a:xfrm>
        </p:grpSpPr>
        <p:sp>
          <p:nvSpPr>
            <p:cNvPr id="213" name="直接连接符 39"/>
            <p:cNvSpPr/>
            <p:nvPr/>
          </p:nvSpPr>
          <p:spPr>
            <a:xfrm flipH="1">
              <a:off x="5770440" y="3911400"/>
              <a:ext cx="64800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直接连接符 40"/>
            <p:cNvSpPr/>
            <p:nvPr/>
          </p:nvSpPr>
          <p:spPr>
            <a:xfrm flipV="1">
              <a:off x="5784480" y="344448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组合 41"/>
          <p:cNvGrpSpPr/>
          <p:nvPr/>
        </p:nvGrpSpPr>
        <p:grpSpPr>
          <a:xfrm>
            <a:off x="5770440" y="3448080"/>
            <a:ext cx="648000" cy="468360"/>
            <a:chOff x="5770440" y="3448080"/>
            <a:chExt cx="648000" cy="468360"/>
          </a:xfrm>
        </p:grpSpPr>
        <p:sp>
          <p:nvSpPr>
            <p:cNvPr id="216" name="直接连接符 43"/>
            <p:cNvSpPr/>
            <p:nvPr/>
          </p:nvSpPr>
          <p:spPr>
            <a:xfrm>
              <a:off x="5770440" y="3462120"/>
              <a:ext cx="64800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直接连接符 44"/>
            <p:cNvSpPr/>
            <p:nvPr/>
          </p:nvSpPr>
          <p:spPr>
            <a:xfrm>
              <a:off x="6404400" y="3448080"/>
              <a:ext cx="0" cy="4683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08333E-007 4.44444E-006 L 0.41576 -0.272 E">
                                      <p:cBhvr>
                                        <p:cTn id="247" dur="25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08333E-007 -2.59259E-006 L -0.41237 0.29144 E">
                                      <p:cBhvr>
                                        <p:cTn id="251" dur="25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6" presetSubtype="37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25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6" presetSubtype="37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25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6" presetSubtype="37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25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0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6" presetSubtype="37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25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0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0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"/>
          <p:cNvPicPr/>
          <p:nvPr/>
        </p:nvPicPr>
        <p:blipFill>
          <a:blip r:embed="rId2"/>
          <a:stretch/>
        </p:blipFill>
        <p:spPr>
          <a:xfrm>
            <a:off x="12192120" y="0"/>
            <a:ext cx="409320" cy="4299120"/>
          </a:xfrm>
          <a:prstGeom prst="rect">
            <a:avLst/>
          </a:prstGeom>
          <a:ln w="0">
            <a:noFill/>
          </a:ln>
        </p:spPr>
      </p:pic>
      <p:grpSp>
        <p:nvGrpSpPr>
          <p:cNvPr id="220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221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224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矩形 8"/>
          <p:cNvSpPr/>
          <p:nvPr/>
        </p:nvSpPr>
        <p:spPr>
          <a:xfrm>
            <a:off x="1071720" y="1306440"/>
            <a:ext cx="9958320" cy="468000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16"/>
          <p:cNvSpPr/>
          <p:nvPr/>
        </p:nvSpPr>
        <p:spPr>
          <a:xfrm>
            <a:off x="5511960" y="3693960"/>
            <a:ext cx="202248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直接连接符 38"/>
          <p:cNvSpPr/>
          <p:nvPr/>
        </p:nvSpPr>
        <p:spPr>
          <a:xfrm flipH="1">
            <a:off x="4486320" y="2174760"/>
            <a:ext cx="1440" cy="303876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直接连接符 39"/>
          <p:cNvSpPr/>
          <p:nvPr/>
        </p:nvSpPr>
        <p:spPr>
          <a:xfrm flipH="1">
            <a:off x="7953480" y="2174760"/>
            <a:ext cx="1440" cy="303876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6"/>
          <p:cNvSpPr/>
          <p:nvPr/>
        </p:nvSpPr>
        <p:spPr>
          <a:xfrm>
            <a:off x="2154240" y="3693960"/>
            <a:ext cx="165744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16"/>
          <p:cNvSpPr/>
          <p:nvPr/>
        </p:nvSpPr>
        <p:spPr>
          <a:xfrm>
            <a:off x="8821800" y="3692520"/>
            <a:ext cx="15588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6"/>
          <p:cNvSpPr/>
          <p:nvPr/>
        </p:nvSpPr>
        <p:spPr>
          <a:xfrm>
            <a:off x="8836200" y="1751040"/>
            <a:ext cx="15444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图片 47" descr=""/>
          <p:cNvPicPr/>
          <p:nvPr/>
        </p:nvPicPr>
        <p:blipFill>
          <a:blip r:embed="rId3">
            <a:grayscl/>
          </a:blip>
          <a:srcRect l="58882" t="31305" r="0" b="0"/>
          <a:stretch/>
        </p:blipFill>
        <p:spPr>
          <a:xfrm>
            <a:off x="1986120" y="1898640"/>
            <a:ext cx="1747800" cy="1747800"/>
          </a:xfrm>
          <a:prstGeom prst="rect">
            <a:avLst/>
          </a:prstGeom>
          <a:ln w="0">
            <a:noFill/>
          </a:ln>
        </p:spPr>
      </p:pic>
      <p:sp>
        <p:nvSpPr>
          <p:cNvPr id="234" name="矩形 48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组合 49"/>
          <p:cNvGrpSpPr/>
          <p:nvPr/>
        </p:nvGrpSpPr>
        <p:grpSpPr>
          <a:xfrm>
            <a:off x="5663880" y="3225960"/>
            <a:ext cx="647640" cy="466560"/>
            <a:chOff x="5663880" y="3225960"/>
            <a:chExt cx="647640" cy="466560"/>
          </a:xfrm>
        </p:grpSpPr>
        <p:sp>
          <p:nvSpPr>
            <p:cNvPr id="236" name="直接连接符 50"/>
            <p:cNvSpPr/>
            <p:nvPr/>
          </p:nvSpPr>
          <p:spPr>
            <a:xfrm flipH="1">
              <a:off x="5663880" y="3227400"/>
              <a:ext cx="64764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直接连接符 52"/>
            <p:cNvSpPr/>
            <p:nvPr/>
          </p:nvSpPr>
          <p:spPr>
            <a:xfrm>
              <a:off x="5677920" y="3225960"/>
              <a:ext cx="0" cy="46656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组合 53"/>
          <p:cNvGrpSpPr/>
          <p:nvPr/>
        </p:nvGrpSpPr>
        <p:grpSpPr>
          <a:xfrm>
            <a:off x="5654520" y="3225960"/>
            <a:ext cx="648000" cy="468000"/>
            <a:chOff x="5654520" y="3225960"/>
            <a:chExt cx="648000" cy="468000"/>
          </a:xfrm>
        </p:grpSpPr>
        <p:sp>
          <p:nvSpPr>
            <p:cNvPr id="239" name="直接连接符 59"/>
            <p:cNvSpPr/>
            <p:nvPr/>
          </p:nvSpPr>
          <p:spPr>
            <a:xfrm>
              <a:off x="5654520" y="3692520"/>
              <a:ext cx="648000" cy="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直接连接符 60"/>
            <p:cNvSpPr/>
            <p:nvPr/>
          </p:nvSpPr>
          <p:spPr>
            <a:xfrm flipV="1">
              <a:off x="6288480" y="3225960"/>
              <a:ext cx="0" cy="468000"/>
            </a:xfrm>
            <a:prstGeom prst="line">
              <a:avLst/>
            </a:prstGeom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任意多边形 18"/>
          <p:cNvSpPr/>
          <p:nvPr/>
        </p:nvSpPr>
        <p:spPr>
          <a:xfrm>
            <a:off x="5645160" y="2021040"/>
            <a:ext cx="900000" cy="900000"/>
          </a:xfrm>
          <a:custGeom>
            <a:avLst/>
            <a:gdLst>
              <a:gd name="textAreaLeft" fmla="*/ 0 w 900000"/>
              <a:gd name="textAreaRight" fmla="*/ 900360 w 900000"/>
              <a:gd name="textAreaTop" fmla="*/ 0 h 900000"/>
              <a:gd name="textAreaBottom" fmla="*/ 900360 h 900000"/>
            </a:gdLst>
            <a:ahLst/>
            <a:rect l="textAreaLeft" t="textAreaTop" r="textAreaRight" b="textAreaBottom"/>
            <a:pathLst>
              <a:path w="900000" h="900000">
                <a:moveTo>
                  <a:pt x="678584" y="388730"/>
                </a:moveTo>
                <a:cubicBezTo>
                  <a:pt x="695253" y="388730"/>
                  <a:pt x="707953" y="394088"/>
                  <a:pt x="716684" y="404803"/>
                </a:cubicBezTo>
                <a:cubicBezTo>
                  <a:pt x="725415" y="415519"/>
                  <a:pt x="729781" y="430898"/>
                  <a:pt x="729781" y="450940"/>
                </a:cubicBezTo>
                <a:cubicBezTo>
                  <a:pt x="729781" y="470883"/>
                  <a:pt x="725415" y="486188"/>
                  <a:pt x="716684" y="496854"/>
                </a:cubicBezTo>
                <a:cubicBezTo>
                  <a:pt x="707953" y="507520"/>
                  <a:pt x="695253" y="512853"/>
                  <a:pt x="678584" y="512853"/>
                </a:cubicBezTo>
                <a:cubicBezTo>
                  <a:pt x="662411" y="512853"/>
                  <a:pt x="649538" y="507396"/>
                  <a:pt x="639963" y="496482"/>
                </a:cubicBezTo>
                <a:cubicBezTo>
                  <a:pt x="630389" y="485567"/>
                  <a:pt x="625601" y="470635"/>
                  <a:pt x="625601" y="451684"/>
                </a:cubicBezTo>
                <a:cubicBezTo>
                  <a:pt x="625601" y="432138"/>
                  <a:pt x="630339" y="416759"/>
                  <a:pt x="639814" y="405548"/>
                </a:cubicBezTo>
                <a:cubicBezTo>
                  <a:pt x="649290" y="394336"/>
                  <a:pt x="662213" y="388730"/>
                  <a:pt x="678584" y="388730"/>
                </a:cubicBezTo>
                <a:close/>
                <a:moveTo>
                  <a:pt x="485405" y="388730"/>
                </a:moveTo>
                <a:cubicBezTo>
                  <a:pt x="498006" y="388730"/>
                  <a:pt x="508622" y="393294"/>
                  <a:pt x="517254" y="402422"/>
                </a:cubicBezTo>
                <a:cubicBezTo>
                  <a:pt x="525886" y="411550"/>
                  <a:pt x="530153" y="422464"/>
                  <a:pt x="530054" y="435164"/>
                </a:cubicBezTo>
                <a:lnTo>
                  <a:pt x="530054" y="458084"/>
                </a:lnTo>
                <a:cubicBezTo>
                  <a:pt x="530153" y="473959"/>
                  <a:pt x="525688" y="487056"/>
                  <a:pt x="516659" y="497374"/>
                </a:cubicBezTo>
                <a:cubicBezTo>
                  <a:pt x="507630" y="507693"/>
                  <a:pt x="496022" y="512853"/>
                  <a:pt x="481833" y="512853"/>
                </a:cubicBezTo>
                <a:cubicBezTo>
                  <a:pt x="467744" y="512853"/>
                  <a:pt x="456433" y="507445"/>
                  <a:pt x="447900" y="496630"/>
                </a:cubicBezTo>
                <a:cubicBezTo>
                  <a:pt x="439368" y="485815"/>
                  <a:pt x="435101" y="471677"/>
                  <a:pt x="435101" y="454214"/>
                </a:cubicBezTo>
                <a:cubicBezTo>
                  <a:pt x="435101" y="433874"/>
                  <a:pt x="439516" y="417875"/>
                  <a:pt x="448347" y="406217"/>
                </a:cubicBezTo>
                <a:cubicBezTo>
                  <a:pt x="457177" y="394559"/>
                  <a:pt x="469530" y="388730"/>
                  <a:pt x="485405" y="388730"/>
                </a:cubicBezTo>
                <a:close/>
                <a:moveTo>
                  <a:pt x="297584" y="388730"/>
                </a:moveTo>
                <a:cubicBezTo>
                  <a:pt x="314253" y="388730"/>
                  <a:pt x="326953" y="394088"/>
                  <a:pt x="335684" y="404803"/>
                </a:cubicBezTo>
                <a:cubicBezTo>
                  <a:pt x="344415" y="415519"/>
                  <a:pt x="348781" y="430898"/>
                  <a:pt x="348781" y="450940"/>
                </a:cubicBezTo>
                <a:cubicBezTo>
                  <a:pt x="348781" y="470883"/>
                  <a:pt x="344415" y="486188"/>
                  <a:pt x="335684" y="496854"/>
                </a:cubicBezTo>
                <a:cubicBezTo>
                  <a:pt x="326953" y="507520"/>
                  <a:pt x="314253" y="512853"/>
                  <a:pt x="297584" y="512853"/>
                </a:cubicBezTo>
                <a:cubicBezTo>
                  <a:pt x="281411" y="512853"/>
                  <a:pt x="268538" y="507396"/>
                  <a:pt x="258963" y="496482"/>
                </a:cubicBezTo>
                <a:cubicBezTo>
                  <a:pt x="249389" y="485567"/>
                  <a:pt x="244601" y="470635"/>
                  <a:pt x="244601" y="451684"/>
                </a:cubicBezTo>
                <a:cubicBezTo>
                  <a:pt x="244601" y="432138"/>
                  <a:pt x="249339" y="416759"/>
                  <a:pt x="258814" y="405548"/>
                </a:cubicBezTo>
                <a:cubicBezTo>
                  <a:pt x="268290" y="394336"/>
                  <a:pt x="281213" y="388730"/>
                  <a:pt x="297584" y="388730"/>
                </a:cubicBezTo>
                <a:close/>
                <a:moveTo>
                  <a:pt x="680370" y="364620"/>
                </a:moveTo>
                <a:cubicBezTo>
                  <a:pt x="654375" y="364620"/>
                  <a:pt x="633787" y="372483"/>
                  <a:pt x="618606" y="388209"/>
                </a:cubicBezTo>
                <a:cubicBezTo>
                  <a:pt x="603426" y="403935"/>
                  <a:pt x="595836" y="425391"/>
                  <a:pt x="595836" y="452577"/>
                </a:cubicBezTo>
                <a:cubicBezTo>
                  <a:pt x="595836" y="477878"/>
                  <a:pt x="603178" y="498267"/>
                  <a:pt x="617862" y="513746"/>
                </a:cubicBezTo>
                <a:cubicBezTo>
                  <a:pt x="632547" y="529224"/>
                  <a:pt x="652192" y="536963"/>
                  <a:pt x="676798" y="536963"/>
                </a:cubicBezTo>
                <a:cubicBezTo>
                  <a:pt x="702000" y="536963"/>
                  <a:pt x="722092" y="528976"/>
                  <a:pt x="737074" y="513001"/>
                </a:cubicBezTo>
                <a:cubicBezTo>
                  <a:pt x="752056" y="497027"/>
                  <a:pt x="759547" y="476042"/>
                  <a:pt x="759547" y="450047"/>
                </a:cubicBezTo>
                <a:cubicBezTo>
                  <a:pt x="759547" y="423357"/>
                  <a:pt x="752527" y="402447"/>
                  <a:pt x="738487" y="387316"/>
                </a:cubicBezTo>
                <a:cubicBezTo>
                  <a:pt x="724448" y="372185"/>
                  <a:pt x="705076" y="364620"/>
                  <a:pt x="680370" y="364620"/>
                </a:cubicBezTo>
                <a:close/>
                <a:moveTo>
                  <a:pt x="480643" y="364620"/>
                </a:moveTo>
                <a:cubicBezTo>
                  <a:pt x="457822" y="364620"/>
                  <a:pt x="439566" y="372830"/>
                  <a:pt x="425874" y="389251"/>
                </a:cubicBezTo>
                <a:cubicBezTo>
                  <a:pt x="412182" y="405672"/>
                  <a:pt x="405336" y="427921"/>
                  <a:pt x="405336" y="456000"/>
                </a:cubicBezTo>
                <a:cubicBezTo>
                  <a:pt x="405336" y="480408"/>
                  <a:pt x="411537" y="500004"/>
                  <a:pt x="423939" y="514787"/>
                </a:cubicBezTo>
                <a:cubicBezTo>
                  <a:pt x="436341" y="529571"/>
                  <a:pt x="452861" y="536963"/>
                  <a:pt x="473499" y="536963"/>
                </a:cubicBezTo>
                <a:cubicBezTo>
                  <a:pt x="498304" y="536963"/>
                  <a:pt x="516957" y="526594"/>
                  <a:pt x="529458" y="505858"/>
                </a:cubicBezTo>
                <a:lnTo>
                  <a:pt x="530054" y="505858"/>
                </a:lnTo>
                <a:lnTo>
                  <a:pt x="530054" y="523271"/>
                </a:lnTo>
                <a:cubicBezTo>
                  <a:pt x="530054" y="565339"/>
                  <a:pt x="510061" y="586374"/>
                  <a:pt x="470076" y="586374"/>
                </a:cubicBezTo>
                <a:cubicBezTo>
                  <a:pt x="453209" y="586374"/>
                  <a:pt x="435597" y="581264"/>
                  <a:pt x="417242" y="571044"/>
                </a:cubicBezTo>
                <a:lnTo>
                  <a:pt x="417242" y="599173"/>
                </a:lnTo>
                <a:cubicBezTo>
                  <a:pt x="432323" y="606813"/>
                  <a:pt x="450083" y="610633"/>
                  <a:pt x="470522" y="610633"/>
                </a:cubicBezTo>
                <a:cubicBezTo>
                  <a:pt x="529657" y="610633"/>
                  <a:pt x="559224" y="580173"/>
                  <a:pt x="559224" y="519252"/>
                </a:cubicBezTo>
                <a:lnTo>
                  <a:pt x="559224" y="368489"/>
                </a:lnTo>
                <a:lnTo>
                  <a:pt x="530054" y="368489"/>
                </a:lnTo>
                <a:lnTo>
                  <a:pt x="530054" y="390814"/>
                </a:lnTo>
                <a:lnTo>
                  <a:pt x="529458" y="390814"/>
                </a:lnTo>
                <a:cubicBezTo>
                  <a:pt x="518842" y="373351"/>
                  <a:pt x="502570" y="364620"/>
                  <a:pt x="480643" y="364620"/>
                </a:cubicBezTo>
                <a:close/>
                <a:moveTo>
                  <a:pt x="299370" y="364620"/>
                </a:moveTo>
                <a:cubicBezTo>
                  <a:pt x="273375" y="364620"/>
                  <a:pt x="252787" y="372483"/>
                  <a:pt x="237606" y="388209"/>
                </a:cubicBezTo>
                <a:cubicBezTo>
                  <a:pt x="222426" y="403935"/>
                  <a:pt x="214836" y="425391"/>
                  <a:pt x="214836" y="452577"/>
                </a:cubicBezTo>
                <a:cubicBezTo>
                  <a:pt x="214836" y="477878"/>
                  <a:pt x="222178" y="498267"/>
                  <a:pt x="236862" y="513746"/>
                </a:cubicBezTo>
                <a:cubicBezTo>
                  <a:pt x="251547" y="529224"/>
                  <a:pt x="271192" y="536963"/>
                  <a:pt x="295798" y="536963"/>
                </a:cubicBezTo>
                <a:cubicBezTo>
                  <a:pt x="321000" y="536963"/>
                  <a:pt x="341092" y="528976"/>
                  <a:pt x="356074" y="513001"/>
                </a:cubicBezTo>
                <a:cubicBezTo>
                  <a:pt x="371056" y="497027"/>
                  <a:pt x="378547" y="476042"/>
                  <a:pt x="378547" y="450047"/>
                </a:cubicBezTo>
                <a:cubicBezTo>
                  <a:pt x="378547" y="423357"/>
                  <a:pt x="371527" y="402447"/>
                  <a:pt x="357487" y="387316"/>
                </a:cubicBezTo>
                <a:cubicBezTo>
                  <a:pt x="343448" y="372185"/>
                  <a:pt x="324076" y="364620"/>
                  <a:pt x="299370" y="364620"/>
                </a:cubicBezTo>
                <a:close/>
                <a:moveTo>
                  <a:pt x="139975" y="289462"/>
                </a:moveTo>
                <a:lnTo>
                  <a:pt x="139975" y="533093"/>
                </a:lnTo>
                <a:lnTo>
                  <a:pt x="169145" y="533093"/>
                </a:lnTo>
                <a:lnTo>
                  <a:pt x="169145" y="289462"/>
                </a:lnTo>
                <a:lnTo>
                  <a:pt x="139975" y="289462"/>
                </a:lnTo>
                <a:close/>
                <a:moveTo>
                  <a:pt x="450000" y="0"/>
                </a:moveTo>
                <a:cubicBezTo>
                  <a:pt x="698528" y="0"/>
                  <a:pt x="900000" y="201472"/>
                  <a:pt x="900000" y="450000"/>
                </a:cubicBezTo>
                <a:cubicBezTo>
                  <a:pt x="900000" y="698528"/>
                  <a:pt x="698528" y="900000"/>
                  <a:pt x="450000" y="900000"/>
                </a:cubicBezTo>
                <a:cubicBezTo>
                  <a:pt x="201472" y="900000"/>
                  <a:pt x="0" y="698528"/>
                  <a:pt x="0" y="450000"/>
                </a:cubicBezTo>
                <a:cubicBezTo>
                  <a:pt x="0" y="201472"/>
                  <a:pt x="201472" y="0"/>
                  <a:pt x="450000" y="0"/>
                </a:cubicBezTo>
                <a:close/>
              </a:path>
            </a:pathLst>
          </a:cu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85185E-006 L -0.37657 -0.2794 E">
                                      <p:cBhvr>
                                        <p:cTn id="322" dur="25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58333E-006 3.7037E-007 L 0.38777 0.33426 E">
                                      <p:cBhvr>
                                        <p:cTn id="326" dur="25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25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6" presetSubtype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25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6" presetSubtype="4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25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0">
                                  <p:stCondLst>
                                    <p:cond delay="85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>
            <a:off x="12192120" y="0"/>
            <a:ext cx="409320" cy="4299120"/>
          </a:xfrm>
          <a:prstGeom prst="rect">
            <a:avLst/>
          </a:prstGeom>
          <a:ln w="0">
            <a:noFill/>
          </a:ln>
        </p:spPr>
      </p:pic>
      <p:grpSp>
        <p:nvGrpSpPr>
          <p:cNvPr id="244" name="组合 8"/>
          <p:cNvGrpSpPr/>
          <p:nvPr/>
        </p:nvGrpSpPr>
        <p:grpSpPr>
          <a:xfrm>
            <a:off x="11353680" y="223920"/>
            <a:ext cx="648000" cy="425520"/>
            <a:chOff x="11353680" y="223920"/>
            <a:chExt cx="648000" cy="425520"/>
          </a:xfrm>
        </p:grpSpPr>
        <p:sp>
          <p:nvSpPr>
            <p:cNvPr id="245" name="直接连接符 9"/>
            <p:cNvSpPr/>
            <p:nvPr/>
          </p:nvSpPr>
          <p:spPr>
            <a:xfrm>
              <a:off x="11353680" y="232560"/>
              <a:ext cx="64800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直接连接符 10"/>
            <p:cNvSpPr/>
            <p:nvPr/>
          </p:nvSpPr>
          <p:spPr>
            <a:xfrm>
              <a:off x="11995560" y="22392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组合 11"/>
          <p:cNvGrpSpPr/>
          <p:nvPr/>
        </p:nvGrpSpPr>
        <p:grpSpPr>
          <a:xfrm>
            <a:off x="190080" y="6296040"/>
            <a:ext cx="647640" cy="425520"/>
            <a:chOff x="190080" y="6296040"/>
            <a:chExt cx="647640" cy="425520"/>
          </a:xfrm>
        </p:grpSpPr>
        <p:sp>
          <p:nvSpPr>
            <p:cNvPr id="248" name="直接连接符 12"/>
            <p:cNvSpPr/>
            <p:nvPr/>
          </p:nvSpPr>
          <p:spPr>
            <a:xfrm flipH="1">
              <a:off x="190080" y="6712920"/>
              <a:ext cx="647640" cy="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直接连接符 13"/>
            <p:cNvSpPr/>
            <p:nvPr/>
          </p:nvSpPr>
          <p:spPr>
            <a:xfrm flipV="1">
              <a:off x="196200" y="6296040"/>
              <a:ext cx="0" cy="425520"/>
            </a:xfrm>
            <a:prstGeom prst="line">
              <a:avLst/>
            </a:prstGeom>
            <a:ln w="25560">
              <a:solidFill>
                <a:srgbClr val="ffffff">
                  <a:alpha val="6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直接连接符 25"/>
          <p:cNvSpPr/>
          <p:nvPr/>
        </p:nvSpPr>
        <p:spPr>
          <a:xfrm>
            <a:off x="1646280" y="3476520"/>
            <a:ext cx="7885080" cy="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直接连接符 26"/>
          <p:cNvSpPr/>
          <p:nvPr/>
        </p:nvSpPr>
        <p:spPr>
          <a:xfrm flipV="1">
            <a:off x="5587920" y="1250640"/>
            <a:ext cx="0" cy="4451400"/>
          </a:xfrm>
          <a:prstGeom prst="line">
            <a:avLst/>
          </a:prstGeom>
          <a:ln w="19080">
            <a:solidFill>
              <a:srgbClr val="5b9bd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组合 2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253" name="TextBox 16"/>
          <p:cNvSpPr/>
          <p:nvPr/>
        </p:nvSpPr>
        <p:spPr>
          <a:xfrm>
            <a:off x="4664160" y="2487600"/>
            <a:ext cx="70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16"/>
          <p:cNvSpPr/>
          <p:nvPr/>
        </p:nvSpPr>
        <p:spPr>
          <a:xfrm>
            <a:off x="5985000" y="2487600"/>
            <a:ext cx="70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6"/>
          <p:cNvSpPr/>
          <p:nvPr/>
        </p:nvSpPr>
        <p:spPr>
          <a:xfrm>
            <a:off x="4665600" y="3757680"/>
            <a:ext cx="70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16"/>
          <p:cNvSpPr/>
          <p:nvPr/>
        </p:nvSpPr>
        <p:spPr>
          <a:xfrm>
            <a:off x="5985000" y="3757680"/>
            <a:ext cx="70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6"/>
          <p:cNvSpPr/>
          <p:nvPr/>
        </p:nvSpPr>
        <p:spPr>
          <a:xfrm>
            <a:off x="2033640" y="1460520"/>
            <a:ext cx="229068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6"/>
          <p:cNvSpPr/>
          <p:nvPr/>
        </p:nvSpPr>
        <p:spPr>
          <a:xfrm>
            <a:off x="6956280" y="1460520"/>
            <a:ext cx="285300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6"/>
          <p:cNvSpPr/>
          <p:nvPr/>
        </p:nvSpPr>
        <p:spPr>
          <a:xfrm>
            <a:off x="1468440" y="4341960"/>
            <a:ext cx="285264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6"/>
          <p:cNvSpPr/>
          <p:nvPr/>
        </p:nvSpPr>
        <p:spPr>
          <a:xfrm>
            <a:off x="6988320" y="4341960"/>
            <a:ext cx="285084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 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5"/>
          <p:cNvSpPr/>
          <p:nvPr/>
        </p:nvSpPr>
        <p:spPr>
          <a:xfrm>
            <a:off x="326880" y="2826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25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25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25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0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3T02:29:00Z</dcterms:created>
  <dc:creator>qianfang</dc:creator>
  <dc:description/>
  <cp:keywords/>
  <dc:language>en-US</dc:language>
  <cp:lastModifiedBy>BST-WLZ</cp:lastModifiedBy>
  <dcterms:modified xsi:type="dcterms:W3CDTF">2015-05-14T06:46:34Z</dcterms:modified>
  <cp:revision>10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