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3872-FCA5-4485-B1C5-6BA46798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281F-85AB-439F-A53F-9529EDF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D6B-1B75-44CB-AEDC-CC829CCD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6A8-03B2-48AE-9F74-0F3FE9EB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239A-D740-4307-BC3A-E86868B6C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8548-0234-4994-B9AE-39AB00B4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C2BD-35A8-4E3B-BB20-646F5B428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F03C-EF66-4BFB-B06A-472ED1392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77C2-9C87-4F23-8272-94890A57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037E-2D5D-4861-8BCE-1B20A04F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5BCF-4049-4055-B99E-3CF7183C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97C5-131E-4812-9977-B1F779E1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4614-8322-40D0-AA07-6789279772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5833-539F-4AEC-A141-66B4B950089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587120" y="3352680"/>
            <a:ext cx="28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95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9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0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27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33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36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81" dur="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85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4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4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39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66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9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94" dur="2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96" dur="2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组合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4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组合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组合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3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94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8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1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9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22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3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9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42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45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8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5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61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64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65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8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81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8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13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16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2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2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34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36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9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3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BST-WLZ</cp:lastModifiedBy>
  <dcterms:modified xsi:type="dcterms:W3CDTF">2015-05-14T06:46:34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