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44B-E1E2-449A-8FC7-CE7BC594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E51-0897-4415-9731-3D32A1A9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416-B3D8-4F2A-8B75-8BBD4728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150-1D52-48E9-A9D9-0CA5BE09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084C-5F73-4ACB-86A8-492ED6A4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FFE1-8164-4837-8D10-F0F9B6BE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A907-44B5-47FA-8A7E-BF002996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03B0-9CAC-46BE-AD6E-3B7E65A3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8221-9E5D-41D4-B247-ACB71DCC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17F0-1546-4556-B817-5C24F020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A329-934B-4DB1-BB69-A5892FAB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060-5EE2-482C-8A3F-7470875E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21C2-67E4-442A-BA31-65058775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E9F5-86FC-4261-9686-E5777B3D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FF43-0831-4354-B61D-AB73FF22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0D4D-1DA9-4494-9FF2-AA0471EE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A0A4-C9BA-4373-9184-FBC97696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080B-481F-4320-9778-A4B08995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8C312-8A04-4B5E-8DF4-29283028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8CE79-6704-4DDA-97BE-51B8700A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65AAF-A7E2-415C-AC58-E0A27EE7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72DD-A9C2-4DEB-AF15-19F095C3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4F0-0F42-4918-856E-B02DDFF6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E899-E15E-4548-BC8D-31DA0F4A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E235-52F4-4C4B-A31B-0666BE5F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C50A9-9BE7-490B-8FC0-6EAB7BC5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C9557-44EC-4891-899B-E933A74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4F83-0DAA-47AF-8DFE-40FFBEB1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575D-5547-4AE0-AD5F-B629712D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1E42A-CF57-4819-8AC2-F804360A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ACB1-DE63-4158-85AD-B61D2D74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5372-A0AA-4399-B34C-B4CFBDFD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D2BC9-3DFA-4AA7-AF7A-9B7325E6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EF2-C9CF-409C-AA12-1B69B95F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9F063-3549-490E-9A5C-CB7B20A2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5133-9413-448B-B2E6-641ABE00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92AC-3EEF-4FF1-8AE5-6BD1A111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1918A-3474-480F-8EA0-D9BA6EED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4A07-020B-4844-9B1C-425A9765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49ED9-3188-4245-AA15-7A37BB39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3A424-34D4-4AB1-A87D-82071E4C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08E1-02DE-464D-9D0B-AEA1C5B8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8C01B-61D8-4D12-92D9-71CC21CC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956BE-0C4D-417F-AF9A-5F967991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A29-CEB5-4C38-86C2-E973F202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09C00-6C8B-415A-9F52-37431C7B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B65CD-045E-4D82-93C9-D5ED62BD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62C17-1CB5-43A3-A9CF-AACED9EA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96E5E-0CFD-4E13-AEC5-983D2160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8F5F1-72F2-4C92-A897-D129737A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1BC79-7578-4368-90EE-D3D79367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B0D13-3FA2-412B-BB3C-0F217466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3FF8-067B-4C01-BFD9-498D0F33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64992-1182-43A2-95D5-92ED0967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EE39-7F3F-468A-A3E0-330B3D86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1A1-0807-49DB-8DE4-A447975E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42348-C3A8-4D2D-AB86-CA26176A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179DD-F33A-44A3-A590-0EC25783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B23E7-0132-46D4-931B-D807266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B8535-D096-4AFB-89E3-345979DB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F9BF0-5DF3-4D79-B458-D9199D82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968C4-23FF-43A7-A3BF-EEAC83D3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4272A-11FB-40F7-81F8-9A05C6C4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1B01B-664B-402C-8817-2FFC793D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BD602-B4B9-417C-8894-191EFFD5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6F6A6-A4ED-4781-88A6-BF52379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BC4-8C28-448D-A8BB-6835642C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D1DE3-DBD5-4631-90C4-DA8BD541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9D894-B566-424B-B059-81220D98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678F0-BEB3-40DC-8FB5-DD5A9DC0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C1D50-416C-44C6-B468-D49F7D40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2EDB8-4D25-4654-AA06-1BC2141F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4E746-4B73-4E76-BE50-9ECC55E8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32DA3-093B-4906-BA18-D5420469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4DCE6-1540-4DE1-9491-6F3D6CCA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940ED-A392-4406-8A67-3DE1B0A4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33CBC-005D-404E-B412-EE96D79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360-B756-48A0-B7AA-8295985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B37BD-F3EC-40F3-9F74-76FD2AB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96FCF-D138-4C48-B567-E719599E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090C-94EA-4116-9CDE-D8454CC8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60954-C645-4B47-8FF7-54D9DE87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52C2A-1C1E-4BD2-AEC6-AFEF7049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FB322-3992-4784-9C88-B976B6A2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785C1-B232-45DA-AFA9-29DE4DBD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BB2B9-F2C3-4F74-ADFB-6BF2774C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5B5F5-2689-4759-9E68-C1BFE89E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89E71-CDFC-4006-925C-871EEAE9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F3C-0438-41B9-802F-A6E5D1FA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60FA5-8D60-4A22-8DB2-59217CE0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95E36-2F1B-4F2A-B528-E166EE84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A2AA5-5CFB-498E-B41F-DE4EA07D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DD798-477A-4193-9ACD-639DFCC6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9253E-42F1-4322-B173-95E5274A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B767C-5B19-440A-A56B-99D24026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E9444-12FC-443B-8B29-2EABA71A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35C0-858C-4982-A0C8-004128413A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茶\1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amy项目\模板\茶\1\2.png"/>
          <p:cNvPicPr/>
          <p:nvPr/>
        </p:nvPicPr>
        <p:blipFill>
          <a:blip r:embed="rId3"/>
          <a:stretch/>
        </p:blipFill>
        <p:spPr>
          <a:xfrm>
            <a:off x="101520" y="4840200"/>
            <a:ext cx="897120" cy="87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CC9E-5BD9-4292-B271-D5164DDDC2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2722-8BE0-4438-A761-F58A21B651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B7FB-A689-4A8E-A8CB-30A1CECA88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C272-987D-4142-95ED-4DE3392BF7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801F-2D16-4315-A7AF-91D7F82BC3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0AA3-DF75-4B2B-AEF2-0EA3FF19F7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2D7A-B947-4B40-9A86-68FB5FC309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9520" y="-86508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6480" y="2585880"/>
            <a:ext cx="9144000" cy="3143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239760" y="13953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264960" y="1860480"/>
            <a:ext cx="81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生活及相关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1" dur="1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3" dur="1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5" dur="1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7" dur="1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9" dur="1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21" dur="1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23" dur="1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25" dur="1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27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300"/>
                            </p:stCondLst>
                            <p:childTnLst>
                              <p:par>
                                <p:cTn id="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5" descr=""/>
          <p:cNvPicPr/>
          <p:nvPr/>
        </p:nvPicPr>
        <p:blipFill>
          <a:blip r:embed="rId1"/>
          <a:stretch/>
        </p:blipFill>
        <p:spPr>
          <a:xfrm>
            <a:off x="2209680" y="1596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3" name="组合 5" descr=""/>
          <p:cNvPicPr/>
          <p:nvPr/>
        </p:nvPicPr>
        <p:blipFill>
          <a:blip r:embed="rId2"/>
          <a:stretch/>
        </p:blipFill>
        <p:spPr>
          <a:xfrm>
            <a:off x="2209680" y="23493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4" name="组合 5" descr=""/>
          <p:cNvPicPr/>
          <p:nvPr/>
        </p:nvPicPr>
        <p:blipFill>
          <a:blip r:embed="rId3"/>
          <a:stretch/>
        </p:blipFill>
        <p:spPr>
          <a:xfrm>
            <a:off x="2209680" y="310212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5" name="组合 5" descr=""/>
          <p:cNvPicPr/>
          <p:nvPr/>
        </p:nvPicPr>
        <p:blipFill>
          <a:blip r:embed="rId4"/>
          <a:stretch/>
        </p:blipFill>
        <p:spPr>
          <a:xfrm>
            <a:off x="2209680" y="3855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C:\Documents and Settings\Administrator\桌面\新建文件夹 (2)\LOGO白副本.png"/>
          <p:cNvPicPr/>
          <p:nvPr/>
        </p:nvPicPr>
        <p:blipFill>
          <a:blip r:embed="rId5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组合 5" descr=""/>
          <p:cNvPicPr/>
          <p:nvPr/>
        </p:nvPicPr>
        <p:blipFill>
          <a:blip r:embed="rId1"/>
          <a:stretch/>
        </p:blipFill>
        <p:spPr>
          <a:xfrm>
            <a:off x="2209680" y="2604960"/>
            <a:ext cx="4724640" cy="5605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9" descr="C:\Documents and Settings\Administrator\桌面\新建文件夹 (2)\LOGO白副本.png"/>
          <p:cNvPicPr/>
          <p:nvPr/>
        </p:nvPicPr>
        <p:blipFill>
          <a:blip r:embed="rId2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5"/>
          <p:cNvGrpSpPr/>
          <p:nvPr/>
        </p:nvGrpSpPr>
        <p:grpSpPr>
          <a:xfrm>
            <a:off x="881640" y="2076840"/>
            <a:ext cx="7435800" cy="1224000"/>
            <a:chOff x="881640" y="2076840"/>
            <a:chExt cx="7435800" cy="1224000"/>
          </a:xfrm>
        </p:grpSpPr>
        <p:grpSp>
          <p:nvGrpSpPr>
            <p:cNvPr id="351" name="组合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2" name="Text Box 11"/>
            <p:cNvSpPr/>
            <p:nvPr/>
          </p:nvSpPr>
          <p:spPr>
            <a:xfrm>
              <a:off x="881640" y="2076840"/>
              <a:ext cx="74358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锐普广告有限公司是中国第一家精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机构。拥有国内顶尖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造卓越价值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设计理念：杜绝平庸、专做精品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心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意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领域：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和图表素材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制设计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能培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68"/>
          <p:cNvGrpSpPr/>
          <p:nvPr/>
        </p:nvGrpSpPr>
        <p:grpSpPr>
          <a:xfrm>
            <a:off x="3901680" y="2680200"/>
            <a:ext cx="1131840" cy="703800"/>
            <a:chOff x="3901680" y="2680200"/>
            <a:chExt cx="1131840" cy="703800"/>
          </a:xfrm>
        </p:grpSpPr>
        <p:grpSp>
          <p:nvGrpSpPr>
            <p:cNvPr id="356" name="组合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7" name="Text Box 18"/>
            <p:cNvSpPr/>
            <p:nvPr/>
          </p:nvSpPr>
          <p:spPr>
            <a:xfrm>
              <a:off x="3901680" y="2680200"/>
              <a:ext cx="113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67"/>
          <p:cNvGrpSpPr/>
          <p:nvPr/>
        </p:nvGrpSpPr>
        <p:grpSpPr>
          <a:xfrm>
            <a:off x="1781280" y="1357200"/>
            <a:ext cx="2777760" cy="1256040"/>
            <a:chOff x="1781280" y="1357200"/>
            <a:chExt cx="2777760" cy="1256040"/>
          </a:xfrm>
        </p:grpSpPr>
        <p:grpSp>
          <p:nvGrpSpPr>
            <p:cNvPr id="359" name="组合 8"/>
            <p:cNvGrpSpPr/>
            <p:nvPr/>
          </p:nvGrpSpPr>
          <p:grpSpPr>
            <a:xfrm>
              <a:off x="1781280" y="1357200"/>
              <a:ext cx="2777760" cy="1256040"/>
              <a:chOff x="1781280" y="1357200"/>
              <a:chExt cx="2777760" cy="1256040"/>
            </a:xfrm>
          </p:grpSpPr>
          <p:grpSp>
            <p:nvGrpSpPr>
              <p:cNvPr id="360" name="组合 76"/>
              <p:cNvGrpSpPr/>
              <p:nvPr/>
            </p:nvGrpSpPr>
            <p:grpSpPr>
              <a:xfrm>
                <a:off x="1781280" y="1357200"/>
                <a:ext cx="2777760" cy="1256040"/>
                <a:chOff x="1781280" y="1357200"/>
                <a:chExt cx="2777760" cy="1256040"/>
              </a:xfrm>
            </p:grpSpPr>
            <p:sp>
              <p:nvSpPr>
                <p:cNvPr id="361" name="AutoShape 73"/>
                <p:cNvSpPr/>
                <p:nvPr/>
              </p:nvSpPr>
              <p:spPr>
                <a:xfrm rot="2700000">
                  <a:off x="3568680" y="1503720"/>
                  <a:ext cx="750240" cy="988920"/>
                </a:xfrm>
                <a:prstGeom prst="rightArrow">
                  <a:avLst>
                    <a:gd name="adj1" fmla="val 70398"/>
                    <a:gd name="adj2" fmla="val 63769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圆角矩形 14"/>
                <p:cNvSpPr/>
                <p:nvPr/>
              </p:nvSpPr>
              <p:spPr>
                <a:xfrm>
                  <a:off x="1781280" y="1357200"/>
                  <a:ext cx="1836720" cy="6843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组合 2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64" name="Text Box 18"/>
            <p:cNvSpPr/>
            <p:nvPr/>
          </p:nvSpPr>
          <p:spPr>
            <a:xfrm>
              <a:off x="1861560" y="153468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6"/>
            <p:cNvSpPr/>
            <p:nvPr/>
          </p:nvSpPr>
          <p:spPr>
            <a:xfrm>
              <a:off x="3425400" y="15274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69"/>
          <p:cNvGrpSpPr/>
          <p:nvPr/>
        </p:nvGrpSpPr>
        <p:grpSpPr>
          <a:xfrm>
            <a:off x="4600440" y="1357200"/>
            <a:ext cx="2678400" cy="1338840"/>
            <a:chOff x="4600440" y="1357200"/>
            <a:chExt cx="2678400" cy="1338840"/>
          </a:xfrm>
        </p:grpSpPr>
        <p:grpSp>
          <p:nvGrpSpPr>
            <p:cNvPr id="367" name="组合 62"/>
            <p:cNvGrpSpPr/>
            <p:nvPr/>
          </p:nvGrpSpPr>
          <p:grpSpPr>
            <a:xfrm>
              <a:off x="4600440" y="1357200"/>
              <a:ext cx="2678400" cy="1338840"/>
              <a:chOff x="4600440" y="1357200"/>
              <a:chExt cx="2678400" cy="1338840"/>
            </a:xfrm>
          </p:grpSpPr>
          <p:grpSp>
            <p:nvGrpSpPr>
              <p:cNvPr id="368" name="组合 48"/>
              <p:cNvGrpSpPr/>
              <p:nvPr/>
            </p:nvGrpSpPr>
            <p:grpSpPr>
              <a:xfrm>
                <a:off x="4600440" y="1357200"/>
                <a:ext cx="2678400" cy="1338840"/>
                <a:chOff x="4600440" y="1357200"/>
                <a:chExt cx="2678400" cy="1338840"/>
              </a:xfrm>
            </p:grpSpPr>
            <p:grpSp>
              <p:nvGrpSpPr>
                <p:cNvPr id="369" name="组合 74"/>
                <p:cNvGrpSpPr/>
                <p:nvPr/>
              </p:nvGrpSpPr>
              <p:grpSpPr>
                <a:xfrm>
                  <a:off x="4600440" y="1357200"/>
                  <a:ext cx="2678400" cy="1338840"/>
                  <a:chOff x="4600440" y="1357200"/>
                  <a:chExt cx="2678400" cy="1338840"/>
                </a:xfrm>
              </p:grpSpPr>
              <p:sp>
                <p:nvSpPr>
                  <p:cNvPr id="370" name="AutoShape 67"/>
                  <p:cNvSpPr/>
                  <p:nvPr/>
                </p:nvSpPr>
                <p:spPr>
                  <a:xfrm flipH="1" rot="18900000">
                    <a:off x="4812840" y="1594080"/>
                    <a:ext cx="830880" cy="946440"/>
                  </a:xfrm>
                  <a:prstGeom prst="rightArrow">
                    <a:avLst>
                      <a:gd name="adj1" fmla="val 70398"/>
                      <a:gd name="adj2" fmla="val 63769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圆角矩形 54"/>
                  <p:cNvSpPr/>
                  <p:nvPr/>
                </p:nvSpPr>
                <p:spPr>
                  <a:xfrm>
                    <a:off x="5518440" y="1357200"/>
                    <a:ext cx="1760400" cy="7581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组合 4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73" name="Rectangle 26"/>
              <p:cNvSpPr/>
              <p:nvPr/>
            </p:nvSpPr>
            <p:spPr>
              <a:xfrm>
                <a:off x="5217480" y="15274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 Box 18"/>
            <p:cNvSpPr/>
            <p:nvPr/>
          </p:nvSpPr>
          <p:spPr>
            <a:xfrm>
              <a:off x="5819400" y="15350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70"/>
          <p:cNvGrpSpPr/>
          <p:nvPr/>
        </p:nvGrpSpPr>
        <p:grpSpPr>
          <a:xfrm>
            <a:off x="5340240" y="2532240"/>
            <a:ext cx="2637000" cy="979200"/>
            <a:chOff x="5340240" y="2532240"/>
            <a:chExt cx="2637000" cy="979200"/>
          </a:xfrm>
        </p:grpSpPr>
        <p:grpSp>
          <p:nvGrpSpPr>
            <p:cNvPr id="376" name="组合 63"/>
            <p:cNvGrpSpPr/>
            <p:nvPr/>
          </p:nvGrpSpPr>
          <p:grpSpPr>
            <a:xfrm>
              <a:off x="5340240" y="2532240"/>
              <a:ext cx="2637000" cy="979200"/>
              <a:chOff x="5340240" y="2532240"/>
              <a:chExt cx="2637000" cy="979200"/>
            </a:xfrm>
          </p:grpSpPr>
          <p:grpSp>
            <p:nvGrpSpPr>
              <p:cNvPr id="377" name="组合 39"/>
              <p:cNvGrpSpPr/>
              <p:nvPr/>
            </p:nvGrpSpPr>
            <p:grpSpPr>
              <a:xfrm>
                <a:off x="5340240" y="2532240"/>
                <a:ext cx="2637000" cy="979200"/>
                <a:chOff x="5340240" y="2532240"/>
                <a:chExt cx="2637000" cy="979200"/>
              </a:xfrm>
            </p:grpSpPr>
            <p:grpSp>
              <p:nvGrpSpPr>
                <p:cNvPr id="378" name="组合 60"/>
                <p:cNvGrpSpPr/>
                <p:nvPr/>
              </p:nvGrpSpPr>
              <p:grpSpPr>
                <a:xfrm>
                  <a:off x="5340240" y="2532240"/>
                  <a:ext cx="2637000" cy="979200"/>
                  <a:chOff x="5340240" y="2532240"/>
                  <a:chExt cx="2637000" cy="979200"/>
                </a:xfrm>
              </p:grpSpPr>
              <p:sp>
                <p:nvSpPr>
                  <p:cNvPr id="379" name="AutoShape 49"/>
                  <p:cNvSpPr/>
                  <p:nvPr/>
                </p:nvSpPr>
                <p:spPr>
                  <a:xfrm flipH="1">
                    <a:off x="5340240" y="2532240"/>
                    <a:ext cx="768240" cy="979200"/>
                  </a:xfrm>
                  <a:prstGeom prst="rightArrow">
                    <a:avLst>
                      <a:gd name="adj1" fmla="val 70398"/>
                      <a:gd name="adj2" fmla="val 68255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圆角矩形 47"/>
                  <p:cNvSpPr/>
                  <p:nvPr/>
                </p:nvSpPr>
                <p:spPr>
                  <a:xfrm>
                    <a:off x="6140160" y="2673360"/>
                    <a:ext cx="1837080" cy="6969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组合 41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82" name="Rectangle 26"/>
              <p:cNvSpPr/>
              <p:nvPr/>
            </p:nvSpPr>
            <p:spPr>
              <a:xfrm>
                <a:off x="5915880" y="2847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Text Box 18"/>
            <p:cNvSpPr/>
            <p:nvPr/>
          </p:nvSpPr>
          <p:spPr>
            <a:xfrm>
              <a:off x="6489720" y="286632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66"/>
          <p:cNvGrpSpPr/>
          <p:nvPr/>
        </p:nvGrpSpPr>
        <p:grpSpPr>
          <a:xfrm>
            <a:off x="1093680" y="2532240"/>
            <a:ext cx="2648160" cy="979200"/>
            <a:chOff x="1093680" y="2532240"/>
            <a:chExt cx="2648160" cy="979200"/>
          </a:xfrm>
        </p:grpSpPr>
        <p:grpSp>
          <p:nvGrpSpPr>
            <p:cNvPr id="385" name="组合 15"/>
            <p:cNvGrpSpPr/>
            <p:nvPr/>
          </p:nvGrpSpPr>
          <p:grpSpPr>
            <a:xfrm>
              <a:off x="1093680" y="2532240"/>
              <a:ext cx="2648160" cy="979200"/>
              <a:chOff x="1093680" y="2532240"/>
              <a:chExt cx="2648160" cy="979200"/>
            </a:xfrm>
          </p:grpSpPr>
          <p:grpSp>
            <p:nvGrpSpPr>
              <p:cNvPr id="386" name="组合 57"/>
              <p:cNvGrpSpPr/>
              <p:nvPr/>
            </p:nvGrpSpPr>
            <p:grpSpPr>
              <a:xfrm>
                <a:off x="1093680" y="2532240"/>
                <a:ext cx="2648160" cy="979200"/>
                <a:chOff x="1093680" y="2532240"/>
                <a:chExt cx="2648160" cy="979200"/>
              </a:xfrm>
            </p:grpSpPr>
            <p:sp>
              <p:nvSpPr>
                <p:cNvPr id="387" name="AutoShape 71"/>
                <p:cNvSpPr/>
                <p:nvPr/>
              </p:nvSpPr>
              <p:spPr>
                <a:xfrm>
                  <a:off x="2973600" y="2532240"/>
                  <a:ext cx="768240" cy="979200"/>
                </a:xfrm>
                <a:prstGeom prst="rightArrow">
                  <a:avLst>
                    <a:gd name="adj1" fmla="val 70398"/>
                    <a:gd name="adj2" fmla="val 62116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圆角矩形 21"/>
                <p:cNvSpPr/>
                <p:nvPr/>
              </p:nvSpPr>
              <p:spPr>
                <a:xfrm>
                  <a:off x="1093680" y="2673360"/>
                  <a:ext cx="1837080" cy="6969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组合 2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0" name="Text Box 18"/>
            <p:cNvSpPr/>
            <p:nvPr/>
          </p:nvSpPr>
          <p:spPr>
            <a:xfrm>
              <a:off x="1206360" y="286632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6"/>
            <p:cNvSpPr/>
            <p:nvPr/>
          </p:nvSpPr>
          <p:spPr>
            <a:xfrm>
              <a:off x="2737440" y="28479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65"/>
          <p:cNvGrpSpPr/>
          <p:nvPr/>
        </p:nvGrpSpPr>
        <p:grpSpPr>
          <a:xfrm>
            <a:off x="1781280" y="3340800"/>
            <a:ext cx="2684160" cy="1282680"/>
            <a:chOff x="1781280" y="3340800"/>
            <a:chExt cx="2684160" cy="1282680"/>
          </a:xfrm>
        </p:grpSpPr>
        <p:grpSp>
          <p:nvGrpSpPr>
            <p:cNvPr id="393" name="组合 22"/>
            <p:cNvGrpSpPr/>
            <p:nvPr/>
          </p:nvGrpSpPr>
          <p:grpSpPr>
            <a:xfrm>
              <a:off x="1781280" y="3340800"/>
              <a:ext cx="2684160" cy="1282680"/>
              <a:chOff x="1781280" y="3340800"/>
              <a:chExt cx="2684160" cy="1282680"/>
            </a:xfrm>
          </p:grpSpPr>
          <p:grpSp>
            <p:nvGrpSpPr>
              <p:cNvPr id="394" name="组合 78"/>
              <p:cNvGrpSpPr/>
              <p:nvPr/>
            </p:nvGrpSpPr>
            <p:grpSpPr>
              <a:xfrm>
                <a:off x="1781280" y="3340800"/>
                <a:ext cx="2684160" cy="1282680"/>
                <a:chOff x="1781280" y="3340800"/>
                <a:chExt cx="2684160" cy="1282680"/>
              </a:xfrm>
            </p:grpSpPr>
            <p:sp>
              <p:nvSpPr>
                <p:cNvPr id="395" name="AutoShape 75"/>
                <p:cNvSpPr/>
                <p:nvPr/>
              </p:nvSpPr>
              <p:spPr>
                <a:xfrm rot="18900000">
                  <a:off x="3365280" y="3562200"/>
                  <a:ext cx="957600" cy="799920"/>
                </a:xfrm>
                <a:prstGeom prst="rightArrow">
                  <a:avLst>
                    <a:gd name="adj1" fmla="val 70398"/>
                    <a:gd name="adj2" fmla="val 60321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圆角矩形 31"/>
                <p:cNvSpPr/>
                <p:nvPr/>
              </p:nvSpPr>
              <p:spPr>
                <a:xfrm>
                  <a:off x="1781280" y="3893760"/>
                  <a:ext cx="1756080" cy="729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组合 3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8" name="Text Box 18"/>
            <p:cNvSpPr/>
            <p:nvPr/>
          </p:nvSpPr>
          <p:spPr>
            <a:xfrm>
              <a:off x="1812960" y="418572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6"/>
            <p:cNvSpPr/>
            <p:nvPr/>
          </p:nvSpPr>
          <p:spPr>
            <a:xfrm>
              <a:off x="3424680" y="41677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71"/>
          <p:cNvGrpSpPr/>
          <p:nvPr/>
        </p:nvGrpSpPr>
        <p:grpSpPr>
          <a:xfrm>
            <a:off x="4537800" y="3415680"/>
            <a:ext cx="2741040" cy="1203120"/>
            <a:chOff x="4537800" y="3415680"/>
            <a:chExt cx="2741040" cy="1203120"/>
          </a:xfrm>
        </p:grpSpPr>
        <p:grpSp>
          <p:nvGrpSpPr>
            <p:cNvPr id="401" name="组合 64"/>
            <p:cNvGrpSpPr/>
            <p:nvPr/>
          </p:nvGrpSpPr>
          <p:grpSpPr>
            <a:xfrm>
              <a:off x="4537800" y="3415680"/>
              <a:ext cx="2741040" cy="1203120"/>
              <a:chOff x="4537800" y="3415680"/>
              <a:chExt cx="2741040" cy="1203120"/>
            </a:xfrm>
          </p:grpSpPr>
          <p:grpSp>
            <p:nvGrpSpPr>
              <p:cNvPr id="402" name="组合 32"/>
              <p:cNvGrpSpPr/>
              <p:nvPr/>
            </p:nvGrpSpPr>
            <p:grpSpPr>
              <a:xfrm>
                <a:off x="4537800" y="3415680"/>
                <a:ext cx="2741040" cy="1203120"/>
                <a:chOff x="4537800" y="3415680"/>
                <a:chExt cx="2741040" cy="1203120"/>
              </a:xfrm>
            </p:grpSpPr>
            <p:grpSp>
              <p:nvGrpSpPr>
                <p:cNvPr id="403" name="组合 72"/>
                <p:cNvGrpSpPr/>
                <p:nvPr/>
              </p:nvGrpSpPr>
              <p:grpSpPr>
                <a:xfrm>
                  <a:off x="4537800" y="3415680"/>
                  <a:ext cx="2741040" cy="1203120"/>
                  <a:chOff x="4537800" y="3415680"/>
                  <a:chExt cx="2741040" cy="1203120"/>
                </a:xfrm>
              </p:grpSpPr>
              <p:sp>
                <p:nvSpPr>
                  <p:cNvPr id="404" name="AutoShape 69"/>
                  <p:cNvSpPr/>
                  <p:nvPr/>
                </p:nvSpPr>
                <p:spPr>
                  <a:xfrm flipH="1" rot="2700000">
                    <a:off x="4644720" y="3660840"/>
                    <a:ext cx="988560" cy="712800"/>
                  </a:xfrm>
                  <a:prstGeom prst="rightArrow">
                    <a:avLst>
                      <a:gd name="adj1" fmla="val 70398"/>
                      <a:gd name="adj2" fmla="val 69587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圆角矩形 38"/>
                  <p:cNvSpPr/>
                  <p:nvPr/>
                </p:nvSpPr>
                <p:spPr>
                  <a:xfrm>
                    <a:off x="5442480" y="3956400"/>
                    <a:ext cx="1836360" cy="65160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组合 38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407" name="Rectangle 26"/>
              <p:cNvSpPr/>
              <p:nvPr/>
            </p:nvSpPr>
            <p:spPr>
              <a:xfrm>
                <a:off x="5207040" y="4151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5723280" y="416988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组合 38"/>
          <p:cNvGrpSpPr/>
          <p:nvPr/>
        </p:nvGrpSpPr>
        <p:grpSpPr>
          <a:xfrm>
            <a:off x="888840" y="1476360"/>
            <a:ext cx="7409160" cy="3703680"/>
            <a:chOff x="888840" y="1476360"/>
            <a:chExt cx="7409160" cy="3703680"/>
          </a:xfrm>
        </p:grpSpPr>
        <p:grpSp>
          <p:nvGrpSpPr>
            <p:cNvPr id="412" name="组合 35"/>
            <p:cNvGrpSpPr/>
            <p:nvPr/>
          </p:nvGrpSpPr>
          <p:grpSpPr>
            <a:xfrm>
              <a:off x="888840" y="1476360"/>
              <a:ext cx="7409160" cy="3703680"/>
              <a:chOff x="888840" y="1476360"/>
              <a:chExt cx="7409160" cy="3703680"/>
            </a:xfrm>
          </p:grpSpPr>
          <p:sp>
            <p:nvSpPr>
              <p:cNvPr id="413" name="AutoShape 5"/>
              <p:cNvSpPr/>
              <p:nvPr/>
            </p:nvSpPr>
            <p:spPr>
              <a:xfrm>
                <a:off x="888840" y="1476360"/>
                <a:ext cx="7409160" cy="370368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010520" y="1587240"/>
                <a:ext cx="7165800" cy="34812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36"/>
            <p:cNvGrpSpPr/>
            <p:nvPr/>
          </p:nvGrpSpPr>
          <p:grpSpPr>
            <a:xfrm>
              <a:off x="1315440" y="2092320"/>
              <a:ext cx="6476040" cy="2783880"/>
              <a:chOff x="1315440" y="2092320"/>
              <a:chExt cx="6476040" cy="27838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923560" y="2507760"/>
                <a:ext cx="1440" cy="2015280"/>
                <a:chOff x="2923560" y="2507760"/>
                <a:chExt cx="1440" cy="2015280"/>
              </a:xfrm>
            </p:grpSpPr>
            <p:sp>
              <p:nvSpPr>
                <p:cNvPr id="417" name="Line 11"/>
                <p:cNvSpPr/>
                <p:nvPr/>
              </p:nvSpPr>
              <p:spPr>
                <a:xfrm>
                  <a:off x="292356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292356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584240" y="2507760"/>
                <a:ext cx="1440" cy="2015280"/>
                <a:chOff x="4584240" y="2507760"/>
                <a:chExt cx="1440" cy="2015280"/>
              </a:xfrm>
            </p:grpSpPr>
            <p:sp>
              <p:nvSpPr>
                <p:cNvPr id="420" name="Line 12"/>
                <p:cNvSpPr/>
                <p:nvPr/>
              </p:nvSpPr>
              <p:spPr>
                <a:xfrm>
                  <a:off x="458424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458424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234480" y="2507760"/>
                <a:ext cx="2880" cy="2015280"/>
                <a:chOff x="6234480" y="2507760"/>
                <a:chExt cx="2880" cy="2015280"/>
              </a:xfrm>
            </p:grpSpPr>
            <p:sp>
              <p:nvSpPr>
                <p:cNvPr id="423" name="Line 13"/>
                <p:cNvSpPr/>
                <p:nvPr/>
              </p:nvSpPr>
              <p:spPr>
                <a:xfrm>
                  <a:off x="6234480" y="2507760"/>
                  <a:ext cx="288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6234480" y="2507760"/>
                  <a:ext cx="288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Text Box 56"/>
              <p:cNvSpPr/>
              <p:nvPr/>
            </p:nvSpPr>
            <p:spPr>
              <a:xfrm>
                <a:off x="180792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7"/>
              <p:cNvSpPr/>
              <p:nvPr/>
            </p:nvSpPr>
            <p:spPr>
              <a:xfrm>
                <a:off x="346716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58"/>
              <p:cNvSpPr/>
              <p:nvPr/>
            </p:nvSpPr>
            <p:spPr>
              <a:xfrm>
                <a:off x="512928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59"/>
              <p:cNvSpPr/>
              <p:nvPr/>
            </p:nvSpPr>
            <p:spPr>
              <a:xfrm>
                <a:off x="679824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utoShape 25"/>
              <p:cNvSpPr/>
              <p:nvPr/>
            </p:nvSpPr>
            <p:spPr>
              <a:xfrm>
                <a:off x="1617120" y="4401360"/>
                <a:ext cx="479160" cy="1270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26"/>
              <p:cNvSpPr/>
              <p:nvPr/>
            </p:nvSpPr>
            <p:spPr>
              <a:xfrm>
                <a:off x="3271680" y="4109760"/>
                <a:ext cx="476280" cy="4186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27"/>
              <p:cNvSpPr/>
              <p:nvPr/>
            </p:nvSpPr>
            <p:spPr>
              <a:xfrm>
                <a:off x="4932360" y="3700080"/>
                <a:ext cx="479160" cy="82800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28"/>
              <p:cNvSpPr/>
              <p:nvPr/>
            </p:nvSpPr>
            <p:spPr>
              <a:xfrm>
                <a:off x="6583320" y="3575880"/>
                <a:ext cx="477720" cy="9525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29"/>
              <p:cNvSpPr/>
              <p:nvPr/>
            </p:nvSpPr>
            <p:spPr>
              <a:xfrm>
                <a:off x="2096640" y="3494520"/>
                <a:ext cx="465840" cy="103356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30"/>
              <p:cNvSpPr/>
              <p:nvPr/>
            </p:nvSpPr>
            <p:spPr>
              <a:xfrm>
                <a:off x="3747240" y="3657600"/>
                <a:ext cx="479160" cy="87048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31"/>
              <p:cNvSpPr/>
              <p:nvPr/>
            </p:nvSpPr>
            <p:spPr>
              <a:xfrm>
                <a:off x="5410800" y="3157200"/>
                <a:ext cx="465840" cy="137052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32"/>
              <p:cNvSpPr/>
              <p:nvPr/>
            </p:nvSpPr>
            <p:spPr>
              <a:xfrm>
                <a:off x="7061040" y="3406680"/>
                <a:ext cx="468720" cy="112140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6"/>
              <p:cNvSpPr/>
              <p:nvPr/>
            </p:nvSpPr>
            <p:spPr>
              <a:xfrm>
                <a:off x="2139840" y="3217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6"/>
              <p:cNvSpPr/>
              <p:nvPr/>
            </p:nvSpPr>
            <p:spPr>
              <a:xfrm>
                <a:off x="1671480" y="4127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56"/>
              <p:cNvSpPr/>
              <p:nvPr/>
            </p:nvSpPr>
            <p:spPr>
              <a:xfrm>
                <a:off x="3582720" y="336708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56"/>
              <p:cNvSpPr/>
              <p:nvPr/>
            </p:nvSpPr>
            <p:spPr>
              <a:xfrm>
                <a:off x="3319560" y="3829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56"/>
              <p:cNvSpPr/>
              <p:nvPr/>
            </p:nvSpPr>
            <p:spPr>
              <a:xfrm>
                <a:off x="5297400" y="284472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56"/>
              <p:cNvSpPr/>
              <p:nvPr/>
            </p:nvSpPr>
            <p:spPr>
              <a:xfrm>
                <a:off x="4965840" y="34210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56"/>
              <p:cNvSpPr/>
              <p:nvPr/>
            </p:nvSpPr>
            <p:spPr>
              <a:xfrm>
                <a:off x="7031160" y="31431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6"/>
              <p:cNvSpPr/>
              <p:nvPr/>
            </p:nvSpPr>
            <p:spPr>
              <a:xfrm>
                <a:off x="6625080" y="32972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324440" y="2092320"/>
                <a:ext cx="360" cy="2431080"/>
                <a:chOff x="1324440" y="2092320"/>
                <a:chExt cx="360" cy="2431080"/>
              </a:xfrm>
            </p:grpSpPr>
            <p:sp>
              <p:nvSpPr>
                <p:cNvPr id="446" name="Line 8"/>
                <p:cNvSpPr/>
                <p:nvPr/>
              </p:nvSpPr>
              <p:spPr>
                <a:xfrm>
                  <a:off x="1324440" y="2092320"/>
                  <a:ext cx="0" cy="243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>
                  <a:off x="1324440" y="2092320"/>
                  <a:ext cx="360" cy="243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1315440" y="4523040"/>
                <a:ext cx="6476040" cy="360"/>
                <a:chOff x="1315440" y="4523040"/>
                <a:chExt cx="6476040" cy="360"/>
              </a:xfrm>
            </p:grpSpPr>
            <p:sp>
              <p:nvSpPr>
                <p:cNvPr id="449" name="Line 8"/>
                <p:cNvSpPr/>
                <p:nvPr/>
              </p:nvSpPr>
              <p:spPr>
                <a:xfrm>
                  <a:off x="1315440" y="4523400"/>
                  <a:ext cx="64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 rot="16200000">
                  <a:off x="4553280" y="1285200"/>
                  <a:ext cx="360" cy="647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1" name="组合 34"/>
          <p:cNvGrpSpPr/>
          <p:nvPr/>
        </p:nvGrpSpPr>
        <p:grpSpPr>
          <a:xfrm>
            <a:off x="4114800" y="1289880"/>
            <a:ext cx="1095120" cy="398880"/>
            <a:chOff x="4114800" y="1289880"/>
            <a:chExt cx="1095120" cy="398880"/>
          </a:xfrm>
        </p:grpSpPr>
        <p:grpSp>
          <p:nvGrpSpPr>
            <p:cNvPr id="452" name="组合 5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53" name="Rectangle 13"/>
            <p:cNvSpPr/>
            <p:nvPr/>
          </p:nvSpPr>
          <p:spPr>
            <a:xfrm>
              <a:off x="4114800" y="12898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1"/>
          <p:cNvSpPr/>
          <p:nvPr/>
        </p:nvSpPr>
        <p:spPr>
          <a:xfrm>
            <a:off x="1625760" y="4487760"/>
            <a:ext cx="5849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1773360" y="1147680"/>
            <a:ext cx="5595840" cy="32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1600" y="-85716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0" y="25718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469" name="TextBox 6"/>
          <p:cNvSpPr/>
          <p:nvPr/>
        </p:nvSpPr>
        <p:spPr>
          <a:xfrm>
            <a:off x="426960" y="14097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C:\Documents and Settings\Administrator\桌面\新建文件夹 (2)\LOGO白副本.png"/>
          <p:cNvPicPr/>
          <p:nvPr/>
        </p:nvPicPr>
        <p:blipFill>
          <a:blip r:embed="rId10"/>
          <a:stretch/>
        </p:blipFill>
        <p:spPr>
          <a:xfrm>
            <a:off x="290520" y="5172120"/>
            <a:ext cx="923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57" dur="15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59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61" dur="1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63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65" dur="15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167" dur="1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169" dur="15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171" dur="1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173" dur="15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800"/>
                            </p:stCondLst>
                            <p:childTnLst>
                              <p:par>
                                <p:cTn id="1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7:35:43Z</dcterms:created>
  <dc:creator>番茄花园</dc:creator>
  <dc:description/>
  <dc:language>en-US</dc:language>
  <cp:lastModifiedBy>Administrator</cp:lastModifiedBy>
  <dcterms:modified xsi:type="dcterms:W3CDTF">2016-04-18T03:22:03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