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A2F-7BBA-4C06-9C3B-FF8E33E9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5AA-7279-4A82-852B-FA5BA9C2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BCD-7A73-4AE5-BD81-547C772B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24C-8061-4E90-9016-B540A17A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5C3-FD6B-4A17-9E25-C0B1AD5D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0FEA-45F3-46B1-80BF-D9881025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C55-EC72-45C9-8F6D-ABEA2EE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8F9A-6656-4078-890F-6940FB33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2632-9E55-4DA5-A7CE-8127F852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604-AFAA-4973-8E8B-4C0B6FFC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0686-4095-4BB2-82BE-09AE593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7F0-DC22-463A-A06B-89A07270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E5D8-DD96-4154-9C47-2C2407C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5D5E-F42F-4580-90E5-62CB1FC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94C-B5B7-4755-9646-35020E75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9544-1FB3-4A43-8600-A137D271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495-077C-452E-8EEC-79E1917D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359D-3DD5-4C13-8B2E-E75CC673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2E0E-B996-44C5-9E50-FBD05D80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D6F3-E075-4116-8A9C-DA24212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C168E-9B59-401E-A2A8-DDE1887C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22B4-1AC8-4DA2-B2A2-F229168E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821-8B77-422C-B674-6162F5F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0B9B-D840-48FD-9995-66457F4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D9D03-71D3-4F12-8C01-3C43BC5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A2377-1DB1-4E81-8E69-9187719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EED2-F434-4BD6-A9F0-898E0C3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0F03-6E2E-4D84-B04E-644E0A6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069D-6014-427B-80CB-B4389F80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4EC2A-2783-42E7-84B5-ED0C056B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D638-BEF7-4351-A210-7D513D47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D5E2-C50B-4BCD-8E99-4006538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BA0A7-171D-46EF-84D1-9474C1E1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918-CAB8-485B-B9F4-630C4DEC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398A-20C1-490A-86BE-52E24BF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FA88-DEB4-45D3-A461-1C7F8AD4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3E8E-2CD3-45B7-85A6-CE7ED91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7A0C-A01D-47C4-BA75-5C6711B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DE58-B671-4E4B-8B19-A0BF411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B4717-EDA8-4832-8ECD-E41423D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C114-FC45-4A3D-B95D-65303AC3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54C5-AA3A-4539-8407-21531AF1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4FBD8-5D05-4F06-96D2-38427E89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BBC5-6665-461D-9AC5-11EDDF64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939-2051-4508-AB61-2CCB3ED1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CD29-EDE2-4A58-8678-B65CBEFE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AFD3B-C284-4195-BDF3-BD1CC42C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6360-E29C-4C69-8271-0866B8B4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A2126-6313-4DF7-AD3E-75123EF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9AFAB-06F7-4FFA-86EF-C599FEE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17DD8-8D37-4BDA-B2C5-27B9CF2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7CBE-9467-4EC8-BD95-FE7E8580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D6226-BCAE-4577-A979-6C792AB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174B-0281-4FB4-9438-EA1C193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6AD2-FF6B-4423-A98C-BFB8A472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D19-8CDC-4984-A0D3-6D18706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FF14-A14B-4DD9-A0DB-AF3F9AAF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E18F-3979-4959-B653-84ABA01A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06E20-15D3-4F78-9007-8582D164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DE0C-1375-42DD-A93A-D16882B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176EC-CFAD-495A-AD8A-C577125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35B96-53A1-49B1-B263-3284C2A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68FB-31EA-403E-97F7-8501D85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3FFA-C353-44CD-9A28-34EB0E1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64A1-78A2-4A24-80E3-355E14C1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70AC-A2A1-4EF6-942E-5507807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38A-3A24-4686-A005-2F10CFA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A8E44-3F15-4AA6-BEF8-AC36AAF7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7640-708B-485A-A0C4-8FE8173D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6E83-7C4B-4370-BD69-70A8045D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12CF7-1AE8-4268-8A84-91931967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9E1B-D526-47C1-957A-16F8504A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1C3A7-7393-419C-BC3E-6BB2C3A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B9DE-AF4D-41DF-A8FE-6C9C6CD6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DBCB9-C3A8-4F0E-AB8A-E7CCE1A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7D925-B375-444A-8045-0A999C7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AAA6-4122-4955-AA69-C9AF592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D25-5BE5-4E55-B374-45ED2FF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4EF0-B9DB-4385-B38F-F30ED9DB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FF44-79BA-4E7B-B56E-28D7B3C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66C65-C833-4FCA-92DA-E919FF3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10383-595F-4D3A-87E9-45400984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C55E-8503-4B11-A629-82B3245F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CA3F-461A-4C45-8050-7DD7D612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801A1-74F2-4C27-B784-81D17612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683B-E42E-48C4-AA56-7A911E9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2F60-B070-41CA-B907-224DE6B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C9972-2C6E-457B-B8C9-61CAF9D1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224-6127-4F32-9DEE-B6EBF7D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7056-AEB5-4D8F-A26F-4ECAEB45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90FE-E784-434F-A734-7C6C217C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34A4-9139-4B40-BE1B-264B737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76858-C653-425A-BFBC-7393E9DE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288A5-C0C9-4853-BE67-C5994E9E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8F63E-4256-4D3A-AB07-1F94D6F0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638AC-0B9B-4B43-B376-3980DCC9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233A-6246-4CBA-A6CA-FF6038D787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76DC-092F-4698-ACA6-C21C30DFF0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113-555D-4D07-89BA-AE612A324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351-70EC-4BD3-BBEB-42BFAB0F5A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7FB-ADDE-4660-94F3-C0E77C7E07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08B8-2C92-4DF4-9497-A7EEC8D6E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9B2-B42A-4107-B887-D186FAE835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9BF-354B-4C5B-9EB2-34BC4C1D5C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9520" y="-86508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3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6480" y="2585880"/>
            <a:ext cx="9144000" cy="3143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239760" y="13953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264960" y="1860480"/>
            <a:ext cx="81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生活及相关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1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3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5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7" dur="1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9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1" dur="1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3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5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7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300"/>
                            </p:stCondLst>
                            <p:childTnLst>
                              <p:par>
                                <p:cTn id="3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5" descr=""/>
          <p:cNvPicPr/>
          <p:nvPr/>
        </p:nvPicPr>
        <p:blipFill>
          <a:blip r:embed="rId1"/>
          <a:stretch/>
        </p:blipFill>
        <p:spPr>
          <a:xfrm>
            <a:off x="2209680" y="1596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3" name="组合 5" descr=""/>
          <p:cNvPicPr/>
          <p:nvPr/>
        </p:nvPicPr>
        <p:blipFill>
          <a:blip r:embed="rId2"/>
          <a:stretch/>
        </p:blipFill>
        <p:spPr>
          <a:xfrm>
            <a:off x="2209680" y="23493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4" name="组合 5" descr=""/>
          <p:cNvPicPr/>
          <p:nvPr/>
        </p:nvPicPr>
        <p:blipFill>
          <a:blip r:embed="rId3"/>
          <a:stretch/>
        </p:blipFill>
        <p:spPr>
          <a:xfrm>
            <a:off x="2209680" y="310212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5" name="组合 5" descr=""/>
          <p:cNvPicPr/>
          <p:nvPr/>
        </p:nvPicPr>
        <p:blipFill>
          <a:blip r:embed="rId4"/>
          <a:stretch/>
        </p:blipFill>
        <p:spPr>
          <a:xfrm>
            <a:off x="2209680" y="3855960"/>
            <a:ext cx="4724640" cy="5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C:\Documents and Settings\Administrator\桌面\新建文件夹 (2)\LOGO白副本.png"/>
          <p:cNvPicPr/>
          <p:nvPr/>
        </p:nvPicPr>
        <p:blipFill>
          <a:blip r:embed="rId5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组合 5" descr=""/>
          <p:cNvPicPr/>
          <p:nvPr/>
        </p:nvPicPr>
        <p:blipFill>
          <a:blip r:embed="rId1"/>
          <a:stretch/>
        </p:blipFill>
        <p:spPr>
          <a:xfrm>
            <a:off x="2209680" y="2604960"/>
            <a:ext cx="472464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C:\Documents and Settings\Administrator\桌面\新建文件夹 (2)\LOGO白副本.png"/>
          <p:cNvPicPr/>
          <p:nvPr/>
        </p:nvPicPr>
        <p:blipFill>
          <a:blip r:embed="rId2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5"/>
          <p:cNvGrpSpPr/>
          <p:nvPr/>
        </p:nvGrpSpPr>
        <p:grpSpPr>
          <a:xfrm>
            <a:off x="881640" y="2076840"/>
            <a:ext cx="7435800" cy="1224000"/>
            <a:chOff x="881640" y="2076840"/>
            <a:chExt cx="7435800" cy="1224000"/>
          </a:xfrm>
        </p:grpSpPr>
        <p:grpSp>
          <p:nvGrpSpPr>
            <p:cNvPr id="351" name="组合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2" name="Text Box 11"/>
            <p:cNvSpPr/>
            <p:nvPr/>
          </p:nvSpPr>
          <p:spPr>
            <a:xfrm>
              <a:off x="881640" y="2076840"/>
              <a:ext cx="74358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锐普广告有限公司是中国第一家精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和图表素材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制设计；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能培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组合 68"/>
          <p:cNvGrpSpPr/>
          <p:nvPr/>
        </p:nvGrpSpPr>
        <p:grpSpPr>
          <a:xfrm>
            <a:off x="3901680" y="2680200"/>
            <a:ext cx="1131840" cy="703800"/>
            <a:chOff x="3901680" y="2680200"/>
            <a:chExt cx="1131840" cy="703800"/>
          </a:xfrm>
        </p:grpSpPr>
        <p:grpSp>
          <p:nvGrpSpPr>
            <p:cNvPr id="356" name="组合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57" name="Text Box 18"/>
            <p:cNvSpPr/>
            <p:nvPr/>
          </p:nvSpPr>
          <p:spPr>
            <a:xfrm>
              <a:off x="3901680" y="2680200"/>
              <a:ext cx="113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67"/>
          <p:cNvGrpSpPr/>
          <p:nvPr/>
        </p:nvGrpSpPr>
        <p:grpSpPr>
          <a:xfrm>
            <a:off x="1781280" y="1357200"/>
            <a:ext cx="2777760" cy="1256040"/>
            <a:chOff x="1781280" y="1357200"/>
            <a:chExt cx="2777760" cy="1256040"/>
          </a:xfrm>
        </p:grpSpPr>
        <p:grpSp>
          <p:nvGrpSpPr>
            <p:cNvPr id="359" name="组合 8"/>
            <p:cNvGrpSpPr/>
            <p:nvPr/>
          </p:nvGrpSpPr>
          <p:grpSpPr>
            <a:xfrm>
              <a:off x="1781280" y="1357200"/>
              <a:ext cx="2777760" cy="1256040"/>
              <a:chOff x="1781280" y="1357200"/>
              <a:chExt cx="2777760" cy="1256040"/>
            </a:xfrm>
          </p:grpSpPr>
          <p:grpSp>
            <p:nvGrpSpPr>
              <p:cNvPr id="360" name="组合 76"/>
              <p:cNvGrpSpPr/>
              <p:nvPr/>
            </p:nvGrpSpPr>
            <p:grpSpPr>
              <a:xfrm>
                <a:off x="1781280" y="1357200"/>
                <a:ext cx="2777760" cy="1256040"/>
                <a:chOff x="1781280" y="1357200"/>
                <a:chExt cx="2777760" cy="1256040"/>
              </a:xfrm>
            </p:grpSpPr>
            <p:sp>
              <p:nvSpPr>
                <p:cNvPr id="361" name="AutoShape 73"/>
                <p:cNvSpPr/>
                <p:nvPr/>
              </p:nvSpPr>
              <p:spPr>
                <a:xfrm rot="2700000">
                  <a:off x="3568680" y="1503720"/>
                  <a:ext cx="750240" cy="988920"/>
                </a:xfrm>
                <a:prstGeom prst="rightArrow">
                  <a:avLst>
                    <a:gd name="adj1" fmla="val 70398"/>
                    <a:gd name="adj2" fmla="val 63769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圆角矩形 14"/>
                <p:cNvSpPr/>
                <p:nvPr/>
              </p:nvSpPr>
              <p:spPr>
                <a:xfrm>
                  <a:off x="1781280" y="1357200"/>
                  <a:ext cx="1836720" cy="6843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组合 2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64" name="Text Box 18"/>
            <p:cNvSpPr/>
            <p:nvPr/>
          </p:nvSpPr>
          <p:spPr>
            <a:xfrm>
              <a:off x="1861560" y="153468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6"/>
            <p:cNvSpPr/>
            <p:nvPr/>
          </p:nvSpPr>
          <p:spPr>
            <a:xfrm>
              <a:off x="3425400" y="15274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69"/>
          <p:cNvGrpSpPr/>
          <p:nvPr/>
        </p:nvGrpSpPr>
        <p:grpSpPr>
          <a:xfrm>
            <a:off x="4600440" y="1357200"/>
            <a:ext cx="2678400" cy="1338840"/>
            <a:chOff x="4600440" y="1357200"/>
            <a:chExt cx="2678400" cy="1338840"/>
          </a:xfrm>
        </p:grpSpPr>
        <p:grpSp>
          <p:nvGrpSpPr>
            <p:cNvPr id="367" name="组合 62"/>
            <p:cNvGrpSpPr/>
            <p:nvPr/>
          </p:nvGrpSpPr>
          <p:grpSpPr>
            <a:xfrm>
              <a:off x="4600440" y="1357200"/>
              <a:ext cx="2678400" cy="1338840"/>
              <a:chOff x="4600440" y="1357200"/>
              <a:chExt cx="2678400" cy="1338840"/>
            </a:xfrm>
          </p:grpSpPr>
          <p:grpSp>
            <p:nvGrpSpPr>
              <p:cNvPr id="368" name="组合 48"/>
              <p:cNvGrpSpPr/>
              <p:nvPr/>
            </p:nvGrpSpPr>
            <p:grpSpPr>
              <a:xfrm>
                <a:off x="4600440" y="1357200"/>
                <a:ext cx="2678400" cy="1338840"/>
                <a:chOff x="4600440" y="1357200"/>
                <a:chExt cx="2678400" cy="1338840"/>
              </a:xfrm>
            </p:grpSpPr>
            <p:grpSp>
              <p:nvGrpSpPr>
                <p:cNvPr id="369" name="组合 74"/>
                <p:cNvGrpSpPr/>
                <p:nvPr/>
              </p:nvGrpSpPr>
              <p:grpSpPr>
                <a:xfrm>
                  <a:off x="4600440" y="1357200"/>
                  <a:ext cx="2678400" cy="1338840"/>
                  <a:chOff x="4600440" y="1357200"/>
                  <a:chExt cx="2678400" cy="1338840"/>
                </a:xfrm>
              </p:grpSpPr>
              <p:sp>
                <p:nvSpPr>
                  <p:cNvPr id="370" name="AutoShape 67"/>
                  <p:cNvSpPr/>
                  <p:nvPr/>
                </p:nvSpPr>
                <p:spPr>
                  <a:xfrm flipH="1" rot="18900000">
                    <a:off x="4812840" y="1594080"/>
                    <a:ext cx="830880" cy="946440"/>
                  </a:xfrm>
                  <a:prstGeom prst="rightArrow">
                    <a:avLst>
                      <a:gd name="adj1" fmla="val 70398"/>
                      <a:gd name="adj2" fmla="val 63769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圆角矩形 54"/>
                  <p:cNvSpPr/>
                  <p:nvPr/>
                </p:nvSpPr>
                <p:spPr>
                  <a:xfrm>
                    <a:off x="5518440" y="1357200"/>
                    <a:ext cx="1760400" cy="7581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组合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73" name="Rectangle 26"/>
              <p:cNvSpPr/>
              <p:nvPr/>
            </p:nvSpPr>
            <p:spPr>
              <a:xfrm>
                <a:off x="5217480" y="15274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Text Box 18"/>
            <p:cNvSpPr/>
            <p:nvPr/>
          </p:nvSpPr>
          <p:spPr>
            <a:xfrm>
              <a:off x="5819400" y="153504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70"/>
          <p:cNvGrpSpPr/>
          <p:nvPr/>
        </p:nvGrpSpPr>
        <p:grpSpPr>
          <a:xfrm>
            <a:off x="5340240" y="2532240"/>
            <a:ext cx="2637000" cy="979200"/>
            <a:chOff x="5340240" y="2532240"/>
            <a:chExt cx="2637000" cy="979200"/>
          </a:xfrm>
        </p:grpSpPr>
        <p:grpSp>
          <p:nvGrpSpPr>
            <p:cNvPr id="376" name="组合 63"/>
            <p:cNvGrpSpPr/>
            <p:nvPr/>
          </p:nvGrpSpPr>
          <p:grpSpPr>
            <a:xfrm>
              <a:off x="5340240" y="2532240"/>
              <a:ext cx="2637000" cy="979200"/>
              <a:chOff x="5340240" y="2532240"/>
              <a:chExt cx="2637000" cy="979200"/>
            </a:xfrm>
          </p:grpSpPr>
          <p:grpSp>
            <p:nvGrpSpPr>
              <p:cNvPr id="377" name="组合 39"/>
              <p:cNvGrpSpPr/>
              <p:nvPr/>
            </p:nvGrpSpPr>
            <p:grpSpPr>
              <a:xfrm>
                <a:off x="5340240" y="2532240"/>
                <a:ext cx="2637000" cy="979200"/>
                <a:chOff x="5340240" y="2532240"/>
                <a:chExt cx="2637000" cy="979200"/>
              </a:xfrm>
            </p:grpSpPr>
            <p:grpSp>
              <p:nvGrpSpPr>
                <p:cNvPr id="378" name="组合 60"/>
                <p:cNvGrpSpPr/>
                <p:nvPr/>
              </p:nvGrpSpPr>
              <p:grpSpPr>
                <a:xfrm>
                  <a:off x="5340240" y="2532240"/>
                  <a:ext cx="2637000" cy="979200"/>
                  <a:chOff x="5340240" y="2532240"/>
                  <a:chExt cx="2637000" cy="979200"/>
                </a:xfrm>
              </p:grpSpPr>
              <p:sp>
                <p:nvSpPr>
                  <p:cNvPr id="379" name="AutoShape 49"/>
                  <p:cNvSpPr/>
                  <p:nvPr/>
                </p:nvSpPr>
                <p:spPr>
                  <a:xfrm flipH="1">
                    <a:off x="5340240" y="2532240"/>
                    <a:ext cx="768240" cy="979200"/>
                  </a:xfrm>
                  <a:prstGeom prst="rightArrow">
                    <a:avLst>
                      <a:gd name="adj1" fmla="val 70398"/>
                      <a:gd name="adj2" fmla="val 68255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圆角矩形 47"/>
                  <p:cNvSpPr/>
                  <p:nvPr/>
                </p:nvSpPr>
                <p:spPr>
                  <a:xfrm>
                    <a:off x="6140160" y="2673360"/>
                    <a:ext cx="1837080" cy="69696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组合 4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382" name="Rectangle 26"/>
              <p:cNvSpPr/>
              <p:nvPr/>
            </p:nvSpPr>
            <p:spPr>
              <a:xfrm>
                <a:off x="5915880" y="2847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Text Box 18"/>
            <p:cNvSpPr/>
            <p:nvPr/>
          </p:nvSpPr>
          <p:spPr>
            <a:xfrm>
              <a:off x="6489720" y="2866320"/>
              <a:ext cx="144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66"/>
          <p:cNvGrpSpPr/>
          <p:nvPr/>
        </p:nvGrpSpPr>
        <p:grpSpPr>
          <a:xfrm>
            <a:off x="1093680" y="2532240"/>
            <a:ext cx="2648160" cy="979200"/>
            <a:chOff x="1093680" y="2532240"/>
            <a:chExt cx="2648160" cy="979200"/>
          </a:xfrm>
        </p:grpSpPr>
        <p:grpSp>
          <p:nvGrpSpPr>
            <p:cNvPr id="385" name="组合 15"/>
            <p:cNvGrpSpPr/>
            <p:nvPr/>
          </p:nvGrpSpPr>
          <p:grpSpPr>
            <a:xfrm>
              <a:off x="1093680" y="2532240"/>
              <a:ext cx="2648160" cy="979200"/>
              <a:chOff x="1093680" y="2532240"/>
              <a:chExt cx="2648160" cy="979200"/>
            </a:xfrm>
          </p:grpSpPr>
          <p:grpSp>
            <p:nvGrpSpPr>
              <p:cNvPr id="386" name="组合 57"/>
              <p:cNvGrpSpPr/>
              <p:nvPr/>
            </p:nvGrpSpPr>
            <p:grpSpPr>
              <a:xfrm>
                <a:off x="1093680" y="2532240"/>
                <a:ext cx="2648160" cy="979200"/>
                <a:chOff x="1093680" y="2532240"/>
                <a:chExt cx="2648160" cy="979200"/>
              </a:xfrm>
            </p:grpSpPr>
            <p:sp>
              <p:nvSpPr>
                <p:cNvPr id="387" name="AutoShape 71"/>
                <p:cNvSpPr/>
                <p:nvPr/>
              </p:nvSpPr>
              <p:spPr>
                <a:xfrm>
                  <a:off x="2973600" y="2532240"/>
                  <a:ext cx="768240" cy="979200"/>
                </a:xfrm>
                <a:prstGeom prst="rightArrow">
                  <a:avLst>
                    <a:gd name="adj1" fmla="val 70398"/>
                    <a:gd name="adj2" fmla="val 62116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圆角矩形 21"/>
                <p:cNvSpPr/>
                <p:nvPr/>
              </p:nvSpPr>
              <p:spPr>
                <a:xfrm>
                  <a:off x="1093680" y="2673360"/>
                  <a:ext cx="1837080" cy="69696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组合 2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0" name="Text Box 18"/>
            <p:cNvSpPr/>
            <p:nvPr/>
          </p:nvSpPr>
          <p:spPr>
            <a:xfrm>
              <a:off x="1206360" y="2866320"/>
              <a:ext cx="145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"/>
            <p:cNvSpPr/>
            <p:nvPr/>
          </p:nvSpPr>
          <p:spPr>
            <a:xfrm>
              <a:off x="2737440" y="28479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5"/>
          <p:cNvGrpSpPr/>
          <p:nvPr/>
        </p:nvGrpSpPr>
        <p:grpSpPr>
          <a:xfrm>
            <a:off x="1781280" y="3340800"/>
            <a:ext cx="2684160" cy="1282680"/>
            <a:chOff x="1781280" y="3340800"/>
            <a:chExt cx="2684160" cy="1282680"/>
          </a:xfrm>
        </p:grpSpPr>
        <p:grpSp>
          <p:nvGrpSpPr>
            <p:cNvPr id="393" name="组合 22"/>
            <p:cNvGrpSpPr/>
            <p:nvPr/>
          </p:nvGrpSpPr>
          <p:grpSpPr>
            <a:xfrm>
              <a:off x="1781280" y="3340800"/>
              <a:ext cx="2684160" cy="1282680"/>
              <a:chOff x="1781280" y="3340800"/>
              <a:chExt cx="2684160" cy="1282680"/>
            </a:xfrm>
          </p:grpSpPr>
          <p:grpSp>
            <p:nvGrpSpPr>
              <p:cNvPr id="394" name="组合 78"/>
              <p:cNvGrpSpPr/>
              <p:nvPr/>
            </p:nvGrpSpPr>
            <p:grpSpPr>
              <a:xfrm>
                <a:off x="1781280" y="3340800"/>
                <a:ext cx="2684160" cy="1282680"/>
                <a:chOff x="1781280" y="3340800"/>
                <a:chExt cx="2684160" cy="1282680"/>
              </a:xfrm>
            </p:grpSpPr>
            <p:sp>
              <p:nvSpPr>
                <p:cNvPr id="395" name="AutoShape 75"/>
                <p:cNvSpPr/>
                <p:nvPr/>
              </p:nvSpPr>
              <p:spPr>
                <a:xfrm rot="18900000">
                  <a:off x="3365280" y="3562200"/>
                  <a:ext cx="957600" cy="799920"/>
                </a:xfrm>
                <a:prstGeom prst="rightArrow">
                  <a:avLst>
                    <a:gd name="adj1" fmla="val 70398"/>
                    <a:gd name="adj2" fmla="val 60321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圆角矩形 31"/>
                <p:cNvSpPr/>
                <p:nvPr/>
              </p:nvSpPr>
              <p:spPr>
                <a:xfrm>
                  <a:off x="1781280" y="3893760"/>
                  <a:ext cx="1756080" cy="7297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>
                    <a:alpha val="60000"/>
                  </a:srgbClr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组合 3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sp>
          <p:nvSpPr>
            <p:cNvPr id="398" name="Text Box 18"/>
            <p:cNvSpPr/>
            <p:nvPr/>
          </p:nvSpPr>
          <p:spPr>
            <a:xfrm>
              <a:off x="1812960" y="4185720"/>
              <a:ext cx="14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26"/>
            <p:cNvSpPr/>
            <p:nvPr/>
          </p:nvSpPr>
          <p:spPr>
            <a:xfrm>
              <a:off x="3424680" y="41677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71"/>
          <p:cNvGrpSpPr/>
          <p:nvPr/>
        </p:nvGrpSpPr>
        <p:grpSpPr>
          <a:xfrm>
            <a:off x="4537800" y="3415680"/>
            <a:ext cx="2741040" cy="1203120"/>
            <a:chOff x="4537800" y="3415680"/>
            <a:chExt cx="2741040" cy="1203120"/>
          </a:xfrm>
        </p:grpSpPr>
        <p:grpSp>
          <p:nvGrpSpPr>
            <p:cNvPr id="401" name="组合 64"/>
            <p:cNvGrpSpPr/>
            <p:nvPr/>
          </p:nvGrpSpPr>
          <p:grpSpPr>
            <a:xfrm>
              <a:off x="4537800" y="3415680"/>
              <a:ext cx="2741040" cy="1203120"/>
              <a:chOff x="4537800" y="3415680"/>
              <a:chExt cx="2741040" cy="1203120"/>
            </a:xfrm>
          </p:grpSpPr>
          <p:grpSp>
            <p:nvGrpSpPr>
              <p:cNvPr id="402" name="组合 32"/>
              <p:cNvGrpSpPr/>
              <p:nvPr/>
            </p:nvGrpSpPr>
            <p:grpSpPr>
              <a:xfrm>
                <a:off x="4537800" y="3415680"/>
                <a:ext cx="2741040" cy="1203120"/>
                <a:chOff x="4537800" y="3415680"/>
                <a:chExt cx="2741040" cy="1203120"/>
              </a:xfrm>
            </p:grpSpPr>
            <p:grpSp>
              <p:nvGrpSpPr>
                <p:cNvPr id="403" name="组合 72"/>
                <p:cNvGrpSpPr/>
                <p:nvPr/>
              </p:nvGrpSpPr>
              <p:grpSpPr>
                <a:xfrm>
                  <a:off x="4537800" y="3415680"/>
                  <a:ext cx="2741040" cy="1203120"/>
                  <a:chOff x="4537800" y="3415680"/>
                  <a:chExt cx="2741040" cy="1203120"/>
                </a:xfrm>
              </p:grpSpPr>
              <p:sp>
                <p:nvSpPr>
                  <p:cNvPr id="404" name="AutoShape 69"/>
                  <p:cNvSpPr/>
                  <p:nvPr/>
                </p:nvSpPr>
                <p:spPr>
                  <a:xfrm flipH="1" rot="2700000">
                    <a:off x="4644720" y="3660840"/>
                    <a:ext cx="988560" cy="712800"/>
                  </a:xfrm>
                  <a:prstGeom prst="rightArrow">
                    <a:avLst>
                      <a:gd name="adj1" fmla="val 70398"/>
                      <a:gd name="adj2" fmla="val 69587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圆角矩形 38"/>
                  <p:cNvSpPr/>
                  <p:nvPr/>
                </p:nvSpPr>
                <p:spPr>
                  <a:xfrm>
                    <a:off x="5442480" y="3956400"/>
                    <a:ext cx="1836360" cy="65160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60000"/>
                    </a:srgbClr>
                  </a:solidFill>
                  <a:ln w="648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组合 3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407" name="Rectangle 26"/>
              <p:cNvSpPr/>
              <p:nvPr/>
            </p:nvSpPr>
            <p:spPr>
              <a:xfrm>
                <a:off x="5207040" y="41518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Text Box 18"/>
            <p:cNvSpPr/>
            <p:nvPr/>
          </p:nvSpPr>
          <p:spPr>
            <a:xfrm>
              <a:off x="5723280" y="4169880"/>
              <a:ext cx="151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38"/>
          <p:cNvGrpSpPr/>
          <p:nvPr/>
        </p:nvGrpSpPr>
        <p:grpSpPr>
          <a:xfrm>
            <a:off x="888840" y="1476360"/>
            <a:ext cx="7409160" cy="3703680"/>
            <a:chOff x="888840" y="1476360"/>
            <a:chExt cx="7409160" cy="3703680"/>
          </a:xfrm>
        </p:grpSpPr>
        <p:grpSp>
          <p:nvGrpSpPr>
            <p:cNvPr id="412" name="组合 35"/>
            <p:cNvGrpSpPr/>
            <p:nvPr/>
          </p:nvGrpSpPr>
          <p:grpSpPr>
            <a:xfrm>
              <a:off x="888840" y="1476360"/>
              <a:ext cx="7409160" cy="3703680"/>
              <a:chOff x="888840" y="1476360"/>
              <a:chExt cx="7409160" cy="370368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888840" y="1476360"/>
                <a:ext cx="7409160" cy="370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262626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010520" y="1587240"/>
                <a:ext cx="7165800" cy="34812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36"/>
            <p:cNvGrpSpPr/>
            <p:nvPr/>
          </p:nvGrpSpPr>
          <p:grpSpPr>
            <a:xfrm>
              <a:off x="1315440" y="2092320"/>
              <a:ext cx="6476040" cy="2783880"/>
              <a:chOff x="1315440" y="2092320"/>
              <a:chExt cx="6476040" cy="27838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2923560" y="2507760"/>
                <a:ext cx="1440" cy="2015280"/>
                <a:chOff x="2923560" y="2507760"/>
                <a:chExt cx="1440" cy="2015280"/>
              </a:xfrm>
            </p:grpSpPr>
            <p:sp>
              <p:nvSpPr>
                <p:cNvPr id="417" name="Line 11"/>
                <p:cNvSpPr/>
                <p:nvPr/>
              </p:nvSpPr>
              <p:spPr>
                <a:xfrm>
                  <a:off x="292356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292356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584240" y="2507760"/>
                <a:ext cx="1440" cy="2015280"/>
                <a:chOff x="4584240" y="2507760"/>
                <a:chExt cx="1440" cy="2015280"/>
              </a:xfrm>
            </p:grpSpPr>
            <p:sp>
              <p:nvSpPr>
                <p:cNvPr id="420" name="Line 12"/>
                <p:cNvSpPr/>
                <p:nvPr/>
              </p:nvSpPr>
              <p:spPr>
                <a:xfrm>
                  <a:off x="4584240" y="2507760"/>
                  <a:ext cx="144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4584240" y="2507760"/>
                  <a:ext cx="144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234480" y="2507760"/>
                <a:ext cx="2880" cy="2015280"/>
                <a:chOff x="6234480" y="2507760"/>
                <a:chExt cx="2880" cy="2015280"/>
              </a:xfrm>
            </p:grpSpPr>
            <p:sp>
              <p:nvSpPr>
                <p:cNvPr id="423" name="Line 13"/>
                <p:cNvSpPr/>
                <p:nvPr/>
              </p:nvSpPr>
              <p:spPr>
                <a:xfrm>
                  <a:off x="6234480" y="2507760"/>
                  <a:ext cx="2880" cy="20152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6234480" y="2507760"/>
                  <a:ext cx="2880" cy="201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Text Box 56"/>
              <p:cNvSpPr/>
              <p:nvPr/>
            </p:nvSpPr>
            <p:spPr>
              <a:xfrm>
                <a:off x="180792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7"/>
              <p:cNvSpPr/>
              <p:nvPr/>
            </p:nvSpPr>
            <p:spPr>
              <a:xfrm>
                <a:off x="346716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58"/>
              <p:cNvSpPr/>
              <p:nvPr/>
            </p:nvSpPr>
            <p:spPr>
              <a:xfrm>
                <a:off x="512928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59"/>
              <p:cNvSpPr/>
              <p:nvPr/>
            </p:nvSpPr>
            <p:spPr>
              <a:xfrm>
                <a:off x="6798240" y="4569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AutoShape 25"/>
              <p:cNvSpPr/>
              <p:nvPr/>
            </p:nvSpPr>
            <p:spPr>
              <a:xfrm>
                <a:off x="1617120" y="4401360"/>
                <a:ext cx="479160" cy="1270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6"/>
              <p:cNvSpPr/>
              <p:nvPr/>
            </p:nvSpPr>
            <p:spPr>
              <a:xfrm>
                <a:off x="3271680" y="4109760"/>
                <a:ext cx="476280" cy="41868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7"/>
              <p:cNvSpPr/>
              <p:nvPr/>
            </p:nvSpPr>
            <p:spPr>
              <a:xfrm>
                <a:off x="4932360" y="3700080"/>
                <a:ext cx="479160" cy="82800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8"/>
              <p:cNvSpPr/>
              <p:nvPr/>
            </p:nvSpPr>
            <p:spPr>
              <a:xfrm>
                <a:off x="6583320" y="3575880"/>
                <a:ext cx="477720" cy="952560"/>
              </a:xfrm>
              <a:prstGeom prst="rect">
                <a:avLst/>
              </a:prstGeom>
              <a:solidFill>
                <a:srgbClr val="01fff9">
                  <a:alpha val="70000"/>
                </a:srgbClr>
              </a:solidFill>
              <a:ln w="12600">
                <a:solidFill>
                  <a:srgbClr val="01fff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9"/>
              <p:cNvSpPr/>
              <p:nvPr/>
            </p:nvSpPr>
            <p:spPr>
              <a:xfrm>
                <a:off x="2096640" y="3494520"/>
                <a:ext cx="465840" cy="103356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30"/>
              <p:cNvSpPr/>
              <p:nvPr/>
            </p:nvSpPr>
            <p:spPr>
              <a:xfrm>
                <a:off x="3747240" y="3657600"/>
                <a:ext cx="479160" cy="87048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31"/>
              <p:cNvSpPr/>
              <p:nvPr/>
            </p:nvSpPr>
            <p:spPr>
              <a:xfrm>
                <a:off x="5410800" y="3157200"/>
                <a:ext cx="465840" cy="137052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2"/>
              <p:cNvSpPr/>
              <p:nvPr/>
            </p:nvSpPr>
            <p:spPr>
              <a:xfrm>
                <a:off x="7061040" y="3406680"/>
                <a:ext cx="468720" cy="1121400"/>
              </a:xfrm>
              <a:prstGeom prst="rect">
                <a:avLst/>
              </a:prstGeom>
              <a:solidFill>
                <a:srgbClr val="ff4409">
                  <a:alpha val="50000"/>
                </a:srgbClr>
              </a:solidFill>
              <a:ln w="12600">
                <a:solidFill>
                  <a:srgbClr val="ff5c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6"/>
              <p:cNvSpPr/>
              <p:nvPr/>
            </p:nvSpPr>
            <p:spPr>
              <a:xfrm>
                <a:off x="2139840" y="3217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6"/>
              <p:cNvSpPr/>
              <p:nvPr/>
            </p:nvSpPr>
            <p:spPr>
              <a:xfrm>
                <a:off x="1671480" y="41277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56"/>
              <p:cNvSpPr/>
              <p:nvPr/>
            </p:nvSpPr>
            <p:spPr>
              <a:xfrm>
                <a:off x="3582720" y="3367080"/>
                <a:ext cx="7999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56"/>
              <p:cNvSpPr/>
              <p:nvPr/>
            </p:nvSpPr>
            <p:spPr>
              <a:xfrm>
                <a:off x="3319560" y="3829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5297400" y="2844720"/>
                <a:ext cx="72396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56"/>
              <p:cNvSpPr/>
              <p:nvPr/>
            </p:nvSpPr>
            <p:spPr>
              <a:xfrm>
                <a:off x="4965840" y="342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56"/>
              <p:cNvSpPr/>
              <p:nvPr/>
            </p:nvSpPr>
            <p:spPr>
              <a:xfrm>
                <a:off x="7031160" y="3143160"/>
                <a:ext cx="62388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6"/>
              <p:cNvSpPr/>
              <p:nvPr/>
            </p:nvSpPr>
            <p:spPr>
              <a:xfrm>
                <a:off x="6625080" y="32972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440" y="2092320"/>
                <a:ext cx="360" cy="2431080"/>
                <a:chOff x="1324440" y="2092320"/>
                <a:chExt cx="360" cy="2431080"/>
              </a:xfrm>
            </p:grpSpPr>
            <p:sp>
              <p:nvSpPr>
                <p:cNvPr id="446" name="Line 8"/>
                <p:cNvSpPr/>
                <p:nvPr/>
              </p:nvSpPr>
              <p:spPr>
                <a:xfrm>
                  <a:off x="1324440" y="2092320"/>
                  <a:ext cx="0" cy="243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24440" y="2092320"/>
                  <a:ext cx="360" cy="243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1315440" y="4523040"/>
                <a:ext cx="6476040" cy="360"/>
                <a:chOff x="1315440" y="4523040"/>
                <a:chExt cx="6476040" cy="360"/>
              </a:xfrm>
            </p:grpSpPr>
            <p:sp>
              <p:nvSpPr>
                <p:cNvPr id="449" name="Line 8"/>
                <p:cNvSpPr/>
                <p:nvPr/>
              </p:nvSpPr>
              <p:spPr>
                <a:xfrm>
                  <a:off x="1315440" y="4523400"/>
                  <a:ext cx="6476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 rot="16200000">
                  <a:off x="4553280" y="1285200"/>
                  <a:ext cx="360" cy="647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4"/>
          <p:cNvGrpSpPr/>
          <p:nvPr/>
        </p:nvGrpSpPr>
        <p:grpSpPr>
          <a:xfrm>
            <a:off x="4114800" y="1289880"/>
            <a:ext cx="1095120" cy="398880"/>
            <a:chOff x="4114800" y="1289880"/>
            <a:chExt cx="1095120" cy="398880"/>
          </a:xfrm>
        </p:grpSpPr>
        <p:grpSp>
          <p:nvGrpSpPr>
            <p:cNvPr id="452" name="组合 5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53" name="Rectangle 13"/>
            <p:cNvSpPr/>
            <p:nvPr/>
          </p:nvSpPr>
          <p:spPr>
            <a:xfrm>
              <a:off x="4114800" y="1289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1"/>
          <p:cNvSpPr/>
          <p:nvPr/>
        </p:nvSpPr>
        <p:spPr>
          <a:xfrm>
            <a:off x="1625760" y="4487760"/>
            <a:ext cx="5849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6515280" y="84240"/>
            <a:ext cx="24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9" descr="C:\Documents and Settings\Administrator\桌面\新建文件夹 (2)\LOGO白副本.png"/>
          <p:cNvPicPr/>
          <p:nvPr/>
        </p:nvPicPr>
        <p:blipFill>
          <a:blip r:embed="rId1"/>
          <a:stretch/>
        </p:blipFill>
        <p:spPr>
          <a:xfrm>
            <a:off x="195120" y="95400"/>
            <a:ext cx="924120" cy="4284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1773360" y="1147680"/>
            <a:ext cx="5595840" cy="328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1371600" y="-857160"/>
            <a:ext cx="11887200" cy="742932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11" descr="9.png"/>
          <p:cNvPicPr/>
          <p:nvPr/>
        </p:nvPicPr>
        <p:blipFill>
          <a:blip r:embed="rId2"/>
          <a:stretch/>
        </p:blipFill>
        <p:spPr>
          <a:xfrm>
            <a:off x="6975360" y="-10987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2" descr="10.png"/>
          <p:cNvPicPr/>
          <p:nvPr/>
        </p:nvPicPr>
        <p:blipFill>
          <a:blip r:embed="rId3"/>
          <a:stretch/>
        </p:blipFill>
        <p:spPr>
          <a:xfrm>
            <a:off x="6189840" y="-68256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3" descr="11.png"/>
          <p:cNvPicPr/>
          <p:nvPr/>
        </p:nvPicPr>
        <p:blipFill>
          <a:blip r:embed="rId4"/>
          <a:stretch/>
        </p:blipFill>
        <p:spPr>
          <a:xfrm>
            <a:off x="285840" y="-1071720"/>
            <a:ext cx="174600" cy="381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4" descr="12.png"/>
          <p:cNvPicPr/>
          <p:nvPr/>
        </p:nvPicPr>
        <p:blipFill>
          <a:blip r:embed="rId5"/>
          <a:stretch/>
        </p:blipFill>
        <p:spPr>
          <a:xfrm>
            <a:off x="1069920" y="-8398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465" name="图片 15" descr="7.png"/>
          <p:cNvPicPr/>
          <p:nvPr/>
        </p:nvPicPr>
        <p:blipFill>
          <a:blip r:embed="rId6"/>
          <a:stretch/>
        </p:blipFill>
        <p:spPr>
          <a:xfrm>
            <a:off x="2984400" y="-86184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6" descr="8.png"/>
          <p:cNvPicPr/>
          <p:nvPr/>
        </p:nvPicPr>
        <p:blipFill>
          <a:blip r:embed="rId7"/>
          <a:stretch/>
        </p:blipFill>
        <p:spPr>
          <a:xfrm>
            <a:off x="4572000" y="-714240"/>
            <a:ext cx="380880" cy="390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E:\amy项目\模板\茶\1\3.png"/>
          <p:cNvPicPr/>
          <p:nvPr/>
        </p:nvPicPr>
        <p:blipFill>
          <a:blip r:embed="rId8"/>
          <a:srcRect l="0" t="45002" r="0" b="0"/>
          <a:stretch/>
        </p:blipFill>
        <p:spPr>
          <a:xfrm>
            <a:off x="0" y="2571840"/>
            <a:ext cx="9144000" cy="31431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E:\amy项目\模板\茶\1\4.png"/>
          <p:cNvPicPr/>
          <p:nvPr/>
        </p:nvPicPr>
        <p:blipFill>
          <a:blip r:embed="rId9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69" name="TextBox 6"/>
          <p:cNvSpPr/>
          <p:nvPr/>
        </p:nvSpPr>
        <p:spPr>
          <a:xfrm>
            <a:off x="426960" y="14097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C:\Documents and Settings\Administrator\桌面\新建文件夹 (2)\LOGO白副本.png"/>
          <p:cNvPicPr/>
          <p:nvPr/>
        </p:nvPicPr>
        <p:blipFill>
          <a:blip r:embed="rId10"/>
          <a:stretch/>
        </p:blipFill>
        <p:spPr>
          <a:xfrm>
            <a:off x="290520" y="5172120"/>
            <a:ext cx="923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57" dur="15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59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1" dur="15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500000">
                                      <p:cBhvr>
                                        <p:cTn id="163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165" dur="1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169" dur="15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171" dur="1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173" dur="15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6-04-18T03:22:0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