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71E-42C1-4ABD-9A37-C2402BD9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1F3-8ADB-4EC8-86D5-CFF16577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E4E-A8E7-4C17-B922-1D391401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36F-B4C3-492B-ADA1-025B877B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95D-590F-45A6-88F5-B3C32AF0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08F-D441-4E26-965E-7A05431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765-BA6F-4918-808E-3E880A5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62A-F6D8-420F-91A4-5EDC105B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FAF-7346-4DC7-9CA8-BFDDA67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015-9821-4637-AECA-A7F5C3BF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38C-F608-4781-9094-9B12BDD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3DD-A41A-48A6-8FDF-DF75C6C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5832F-01F7-49C5-9AF6-4C5D0C282A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0A45C-0C64-47A8-9147-A71932FBC3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7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4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五角星 8"/>
            <p:cNvSpPr/>
            <p:nvPr/>
          </p:nvSpPr>
          <p:spPr>
            <a:xfrm>
              <a:off x="1245600" y="1314000"/>
              <a:ext cx="642240" cy="641880"/>
            </a:xfrm>
            <a:custGeom>
              <a:avLst/>
              <a:gdLst/>
              <a:ahLst/>
              <a:rect l="l" t="t" r="r" b="b"/>
              <a:pathLst>
                <a:path w="642254" h="642254">
                  <a:moveTo>
                    <a:pt x="1" y="245319"/>
                  </a:moveTo>
                  <a:lnTo>
                    <a:pt x="245321" y="245320"/>
                  </a:lnTo>
                  <a:lnTo>
                    <a:pt x="321127" y="0"/>
                  </a:lnTo>
                  <a:lnTo>
                    <a:pt x="396933" y="245320"/>
                  </a:lnTo>
                  <a:lnTo>
                    <a:pt x="642253" y="245319"/>
                  </a:lnTo>
                  <a:lnTo>
                    <a:pt x="443784" y="396933"/>
                  </a:lnTo>
                  <a:lnTo>
                    <a:pt x="519594" y="642252"/>
                  </a:lnTo>
                  <a:lnTo>
                    <a:pt x="321127" y="490635"/>
                  </a:lnTo>
                  <a:lnTo>
                    <a:pt x="122660" y="642252"/>
                  </a:lnTo>
                  <a:lnTo>
                    <a:pt x="198470" y="396933"/>
                  </a:lnTo>
                  <a:lnTo>
                    <a:pt x="1" y="24531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0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3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7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7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48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5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4Z</dcterms:modified>
  <cp:revision>7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10.1.0.5850</vt:lpwstr>
  </property>
</Properties>
</file>