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40E-912B-47C1-9396-5CB469DD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201-3381-4F31-8478-7627E31F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7048-0641-4228-8457-D494B475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DE4-088F-4B97-89DE-84EAC0EB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F78-FC73-43A8-B86C-9B9D4A99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241F-11FE-49A6-85F3-22942821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C55F-BC5D-4810-90FA-9DF6EB09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987A-113B-47F4-A060-80EB3856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A7DB-11D0-482B-B5B5-9E62E575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066A-1A6F-48BA-A640-85608028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121-FC98-4033-86BD-D64BD566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A882-7F1B-45A5-B6C4-B9C6E8A6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1F79-4196-4CC3-9595-37AB6431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B92C-947A-4A2C-BE54-CFAD28A5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0256-A36E-465C-BB27-3593CC09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868D-C8A3-4F23-9747-E82BDB3D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C472-3561-42A2-8E00-1636FEBF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93A9-8BD6-423F-94E1-D0ABE0FB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863-FCAE-453D-BCAC-AF8E8CEE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C45-0AC7-4586-84BC-EB822719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B18-2E68-46F3-BE52-946A1E07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5DB-106C-4374-B20C-3534B5BD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802-E1C2-46EC-827E-930FFD08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4E8-DBD3-4C5D-ADD3-1FDF6ACE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1D02-D37A-4C9D-8C09-2275160F2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6668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2371680"/>
          <a:ext cx="9144000" cy="44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71680"/>
                    <a:ext cx="91440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80880" y="304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2fb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1e2f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DBDF-EB08-4FB3-AC0C-2C6582215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92504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c529"/>
                </a:solidFill>
                <a:latin typeface="Verdana"/>
              </a:rPr>
              <a:t>PowerPoint</a:t>
            </a: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lang="en-US" sz="40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360" y="6324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dc529"/>
              </a:gs>
              <a:gs pos="100000">
                <a:srgbClr val="fde5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c2d8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5a5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5a5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5889"/>
              </a:gs>
              <a:gs pos="50000">
                <a:srgbClr val="a5a5ff"/>
              </a:gs>
              <a:gs pos="100000">
                <a:srgbClr val="5858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a5a5ff">
                  <a:alpha val="0"/>
                </a:srgbClr>
              </a:gs>
              <a:gs pos="100000">
                <a:srgbClr val="6868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315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dc52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5a12"/>
              </a:gs>
              <a:gs pos="100000">
                <a:srgbClr val="fdc52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86a16"/>
              </a:gs>
              <a:gs pos="50000">
                <a:srgbClr val="fdc529"/>
              </a:gs>
              <a:gs pos="100000">
                <a:srgbClr val="886a1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fdc529">
                  <a:alpha val="0"/>
                </a:srgbClr>
              </a:gs>
              <a:gs pos="100000">
                <a:srgbClr val="a07c1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325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330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Unknown Shape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72a7f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3124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e2fb"/>
                </a:solidFill>
                <a:latin typeface="Arial"/>
              </a:rPr>
              <a:t>Add Your Titl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20876400">
            <a:off x="3102120" y="50767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33720" y="3857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54240" y="386712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71880" y="388296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64040" y="392760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51320" y="4484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20826600">
            <a:off x="1273320" y="446688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197000" y="3476520"/>
            <a:ext cx="1371240" cy="1441080"/>
            <a:chOff x="1197000" y="3476520"/>
            <a:chExt cx="1371240" cy="1441080"/>
          </a:xfrm>
        </p:grpSpPr>
        <p:sp>
          <p:nvSpPr>
            <p:cNvPr id="351" name=""/>
            <p:cNvSpPr/>
            <p:nvPr/>
          </p:nvSpPr>
          <p:spPr>
            <a:xfrm>
              <a:off x="1197000" y="34765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15000" y="348480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27960" y="349812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99600" y="353484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7440" y="3982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11240" y="271152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87560" y="210492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00160" y="2109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1320" y="212076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65320" y="214632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8448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16320" y="2181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38360" y="16477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48080" y="165096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54200" y="165744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16765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08920" y="1871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77" name="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80" name="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83" name="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86" name="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89" name="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92" name="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344c71"/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399" name="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121640" y="34732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76480" y="237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9376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9376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4948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0066cc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93760" y="5246640"/>
            <a:ext cx="2070000" cy="70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887480" y="2057400"/>
            <a:ext cx="642960" cy="642960"/>
            <a:chOff x="1887480" y="2057400"/>
            <a:chExt cx="642960" cy="642960"/>
          </a:xfrm>
        </p:grpSpPr>
        <p:sp>
          <p:nvSpPr>
            <p:cNvPr id="419" name=""/>
            <p:cNvSpPr/>
            <p:nvPr/>
          </p:nvSpPr>
          <p:spPr>
            <a:xfrm>
              <a:off x="188748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9396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188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836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4220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02752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1932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53844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5608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5608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49800" y="205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55920" y="206208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64200" y="2065320"/>
            <a:ext cx="60768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70320" y="207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05240" y="20876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8984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8200" y="5222880"/>
            <a:ext cx="216396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669900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528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2365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0076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918040" y="4437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918040" y="2395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611760" y="2057400"/>
            <a:ext cx="642960" cy="642960"/>
            <a:chOff x="6611760" y="2057400"/>
            <a:chExt cx="642960" cy="642960"/>
          </a:xfrm>
        </p:grpSpPr>
        <p:sp>
          <p:nvSpPr>
            <p:cNvPr id="444" name=""/>
            <p:cNvSpPr/>
            <p:nvPr/>
          </p:nvSpPr>
          <p:spPr>
            <a:xfrm>
              <a:off x="661176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1824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2616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3264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6648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75216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360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116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a39446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054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57" name=""/>
            <p:cNvGrpSpPr/>
            <p:nvPr/>
          </p:nvGrpSpPr>
          <p:grpSpPr>
            <a:xfrm>
              <a:off x="4957920" y="3342240"/>
              <a:ext cx="1654920" cy="2612880"/>
              <a:chOff x="4957920" y="3342240"/>
              <a:chExt cx="1654920" cy="26128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4957920" y="3514680"/>
                <a:ext cx="1535040" cy="2440440"/>
                <a:chOff x="4957920" y="3514680"/>
                <a:chExt cx="1535040" cy="2440440"/>
              </a:xfrm>
            </p:grpSpPr>
            <p:sp>
              <p:nvSpPr>
                <p:cNvPr id="459" name="Unknown Shape"/>
                <p:cNvSpPr/>
                <p:nvPr/>
              </p:nvSpPr>
              <p:spPr>
                <a:xfrm rot="3876600">
                  <a:off x="4502520" y="446544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0" name="Unknown Shape"/>
                <p:cNvSpPr/>
                <p:nvPr/>
              </p:nvSpPr>
              <p:spPr>
                <a:xfrm rot="3876600">
                  <a:off x="5972400" y="541080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435280" y="3342240"/>
                <a:ext cx="1177560" cy="1872360"/>
                <a:chOff x="5435280" y="3342240"/>
                <a:chExt cx="1177560" cy="1872360"/>
              </a:xfrm>
            </p:grpSpPr>
            <p:sp>
              <p:nvSpPr>
                <p:cNvPr id="462" name="Unknown Shape"/>
                <p:cNvSpPr/>
                <p:nvPr/>
              </p:nvSpPr>
              <p:spPr>
                <a:xfrm flipV="1" rot="3876600">
                  <a:off x="50857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3" name="Unknown Shape"/>
                <p:cNvSpPr/>
                <p:nvPr/>
              </p:nvSpPr>
              <p:spPr>
                <a:xfrm flipV="1" rot="3876600">
                  <a:off x="61966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4" name=""/>
            <p:cNvGrpSpPr/>
            <p:nvPr/>
          </p:nvGrpSpPr>
          <p:grpSpPr>
            <a:xfrm>
              <a:off x="4502880" y="2440800"/>
              <a:ext cx="1390680" cy="1406880"/>
              <a:chOff x="4502880" y="2440800"/>
              <a:chExt cx="1390680" cy="1406880"/>
            </a:xfrm>
          </p:grpSpPr>
          <p:sp>
            <p:nvSpPr>
              <p:cNvPr id="465" name="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46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46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548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4671360" y="2611080"/>
                <a:ext cx="1053360" cy="1067040"/>
                <a:chOff x="4671360" y="2611080"/>
                <a:chExt cx="1053360" cy="10670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6713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6846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6954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7527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5" name=""/>
            <p:cNvGrpSpPr/>
            <p:nvPr/>
          </p:nvGrpSpPr>
          <p:grpSpPr>
            <a:xfrm>
              <a:off x="7114320" y="3413880"/>
              <a:ext cx="1654920" cy="2612880"/>
              <a:chOff x="7114320" y="3413880"/>
              <a:chExt cx="1654920" cy="261288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114320" y="3586320"/>
                <a:ext cx="1535040" cy="2440440"/>
                <a:chOff x="7114320" y="3586320"/>
                <a:chExt cx="1535040" cy="2440440"/>
              </a:xfrm>
            </p:grpSpPr>
            <p:sp>
              <p:nvSpPr>
                <p:cNvPr id="477" name="Unknown Shape"/>
                <p:cNvSpPr/>
                <p:nvPr/>
              </p:nvSpPr>
              <p:spPr>
                <a:xfrm rot="3876600">
                  <a:off x="6658920" y="453708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8" name="Unknown Shape"/>
                <p:cNvSpPr/>
                <p:nvPr/>
              </p:nvSpPr>
              <p:spPr>
                <a:xfrm rot="3876600">
                  <a:off x="8128800" y="548244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591680" y="3413880"/>
                <a:ext cx="1177560" cy="1872360"/>
                <a:chOff x="7591680" y="3413880"/>
                <a:chExt cx="1177560" cy="1872360"/>
              </a:xfrm>
            </p:grpSpPr>
            <p:sp>
              <p:nvSpPr>
                <p:cNvPr id="480" name="Unknown Shape"/>
                <p:cNvSpPr/>
                <p:nvPr/>
              </p:nvSpPr>
              <p:spPr>
                <a:xfrm flipV="1" rot="3876600">
                  <a:off x="7242120" y="414288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1" name="Unknown Shape"/>
                <p:cNvSpPr/>
                <p:nvPr/>
              </p:nvSpPr>
              <p:spPr>
                <a:xfrm flipV="1" rot="3876600">
                  <a:off x="8353080" y="487620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61000" y="2395800"/>
              <a:ext cx="1450800" cy="146556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62440" y="2399040"/>
              <a:ext cx="1450440" cy="146556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32640" y="2470320"/>
              <a:ext cx="1306440" cy="131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6653160" y="2490480"/>
              <a:ext cx="1266480" cy="1279440"/>
              <a:chOff x="6653160" y="2490480"/>
              <a:chExt cx="1266480" cy="1279440"/>
            </a:xfrm>
          </p:grpSpPr>
          <p:sp>
            <p:nvSpPr>
              <p:cNvPr id="488" name=""/>
              <p:cNvSpPr/>
              <p:nvPr/>
            </p:nvSpPr>
            <p:spPr>
              <a:xfrm>
                <a:off x="6653160" y="2490480"/>
                <a:ext cx="1266480" cy="1279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69360" y="2497320"/>
                <a:ext cx="1235880" cy="1247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82320" y="2509920"/>
                <a:ext cx="1175400" cy="1165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51080" y="2542320"/>
                <a:ext cx="1044720" cy="946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979360" y="3342240"/>
              <a:ext cx="1655280" cy="2612880"/>
              <a:chOff x="2979360" y="3342240"/>
              <a:chExt cx="1655280" cy="2612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2979360" y="3514680"/>
                <a:ext cx="1535400" cy="2440440"/>
                <a:chOff x="2979360" y="3514680"/>
                <a:chExt cx="1535400" cy="2440440"/>
              </a:xfrm>
            </p:grpSpPr>
            <p:sp>
              <p:nvSpPr>
                <p:cNvPr id="494" name="Unknown Shape"/>
                <p:cNvSpPr/>
                <p:nvPr/>
              </p:nvSpPr>
              <p:spPr>
                <a:xfrm rot="3876600">
                  <a:off x="2523960" y="4465440"/>
                  <a:ext cx="244584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95" name="Unknown Shape"/>
                <p:cNvSpPr/>
                <p:nvPr/>
              </p:nvSpPr>
              <p:spPr>
                <a:xfrm rot="3876600">
                  <a:off x="3993840" y="5410800"/>
                  <a:ext cx="38448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3457080" y="3342240"/>
                <a:ext cx="1177560" cy="1872360"/>
                <a:chOff x="3457080" y="3342240"/>
                <a:chExt cx="1177560" cy="1872360"/>
              </a:xfrm>
            </p:grpSpPr>
            <p:sp>
              <p:nvSpPr>
                <p:cNvPr id="497" name="Unknown Shape"/>
                <p:cNvSpPr/>
                <p:nvPr/>
              </p:nvSpPr>
              <p:spPr>
                <a:xfrm flipV="1" rot="3876600">
                  <a:off x="31075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98" name="Unknown Shape"/>
                <p:cNvSpPr/>
                <p:nvPr/>
              </p:nvSpPr>
              <p:spPr>
                <a:xfrm flipV="1" rot="3876600">
                  <a:off x="42184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"/>
            <p:cNvGrpSpPr/>
            <p:nvPr/>
          </p:nvGrpSpPr>
          <p:grpSpPr>
            <a:xfrm>
              <a:off x="2524680" y="2440800"/>
              <a:ext cx="1390680" cy="1406880"/>
              <a:chOff x="2524680" y="2440800"/>
              <a:chExt cx="1390680" cy="1406880"/>
            </a:xfrm>
          </p:grpSpPr>
          <p:sp>
            <p:nvSpPr>
              <p:cNvPr id="500" name="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6164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164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6766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2693160" y="2611080"/>
                <a:ext cx="1053360" cy="1067040"/>
                <a:chOff x="2693160" y="2611080"/>
                <a:chExt cx="1053360" cy="10670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26931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7064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7172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7745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0" name=""/>
            <p:cNvGrpSpPr/>
            <p:nvPr/>
          </p:nvGrpSpPr>
          <p:grpSpPr>
            <a:xfrm>
              <a:off x="1064520" y="3342240"/>
              <a:ext cx="1654920" cy="2612880"/>
              <a:chOff x="1064520" y="3342240"/>
              <a:chExt cx="1654920" cy="261288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1064520" y="3514680"/>
                <a:ext cx="1535040" cy="2440440"/>
                <a:chOff x="1064520" y="3514680"/>
                <a:chExt cx="1535040" cy="2440440"/>
              </a:xfrm>
            </p:grpSpPr>
            <p:sp>
              <p:nvSpPr>
                <p:cNvPr id="512" name="Unknown Shape"/>
                <p:cNvSpPr/>
                <p:nvPr/>
              </p:nvSpPr>
              <p:spPr>
                <a:xfrm rot="3876600">
                  <a:off x="609120" y="446544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3" name="Unknown Shape"/>
                <p:cNvSpPr/>
                <p:nvPr/>
              </p:nvSpPr>
              <p:spPr>
                <a:xfrm rot="3876600">
                  <a:off x="2079000" y="541080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541880" y="3342240"/>
                <a:ext cx="1177560" cy="1872360"/>
                <a:chOff x="1541880" y="3342240"/>
                <a:chExt cx="1177560" cy="1872360"/>
              </a:xfrm>
            </p:grpSpPr>
            <p:sp>
              <p:nvSpPr>
                <p:cNvPr id="515" name="Unknown Shape"/>
                <p:cNvSpPr/>
                <p:nvPr/>
              </p:nvSpPr>
              <p:spPr>
                <a:xfrm flipV="1" rot="3876600">
                  <a:off x="11923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6" name="Unknown Shape"/>
                <p:cNvSpPr/>
                <p:nvPr/>
              </p:nvSpPr>
              <p:spPr>
                <a:xfrm flipV="1" rot="3876600">
                  <a:off x="23032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7" name=""/>
            <p:cNvGrpSpPr/>
            <p:nvPr/>
          </p:nvGrpSpPr>
          <p:grpSpPr>
            <a:xfrm>
              <a:off x="609480" y="2440800"/>
              <a:ext cx="1390680" cy="1406880"/>
              <a:chOff x="609480" y="2440800"/>
              <a:chExt cx="1390680" cy="1406880"/>
            </a:xfrm>
          </p:grpSpPr>
          <p:sp>
            <p:nvSpPr>
              <p:cNvPr id="518" name="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012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12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614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777960" y="2611080"/>
                <a:ext cx="1053360" cy="1067040"/>
                <a:chOff x="777960" y="2611080"/>
                <a:chExt cx="1053360" cy="10670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7779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12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020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593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8" name=""/>
            <p:cNvSpPr/>
            <p:nvPr/>
          </p:nvSpPr>
          <p:spPr>
            <a:xfrm rot="3925800">
              <a:off x="1066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3925800">
              <a:off x="156096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3925800">
              <a:off x="2977200" y="4353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3925800">
              <a:off x="34722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3925800">
              <a:off x="4963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3925800">
              <a:off x="54576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3925800">
              <a:off x="7596000" y="4220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2fb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540" name=""/>
          <p:cNvCxnSpPr>
            <a:stCxn id="536" idx="3"/>
            <a:endCxn id="537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7" idx="3"/>
            <a:endCxn id="538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38" idx="3"/>
            <a:endCxn id="539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52c82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72a7f6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fdc52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810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120"/>
                <a:gridCol w="1952640"/>
                <a:gridCol w="341280"/>
                <a:gridCol w="181476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 w="5760">
                      <a:solidFill>
                        <a:srgbClr val="b1e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13770000">
            <a:off x="4989240" y="3960720"/>
            <a:ext cx="960480" cy="19188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20856000">
            <a:off x="2999880" y="3508200"/>
            <a:ext cx="100980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938760" y="2202120"/>
            <a:ext cx="1704600" cy="1836000"/>
            <a:chOff x="3938760" y="2202120"/>
            <a:chExt cx="1704600" cy="1836000"/>
          </a:xfrm>
        </p:grpSpPr>
        <p:sp>
          <p:nvSpPr>
            <p:cNvPr id="556" name=""/>
            <p:cNvSpPr/>
            <p:nvPr/>
          </p:nvSpPr>
          <p:spPr>
            <a:xfrm rot="18394200">
              <a:off x="5114520" y="2414880"/>
              <a:ext cx="59616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938760" y="2448720"/>
              <a:ext cx="1609560" cy="1589400"/>
              <a:chOff x="3938760" y="2448720"/>
              <a:chExt cx="1609560" cy="1589400"/>
            </a:xfrm>
          </p:grpSpPr>
          <p:sp>
            <p:nvSpPr>
              <p:cNvPr id="558" name=""/>
              <p:cNvSpPr/>
              <p:nvPr/>
            </p:nvSpPr>
            <p:spPr>
              <a:xfrm>
                <a:off x="3938760" y="2448720"/>
                <a:ext cx="1609560" cy="15894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59" name="Unknown Shape"/>
              <p:cNvSpPr/>
              <p:nvPr/>
            </p:nvSpPr>
            <p:spPr>
              <a:xfrm>
                <a:off x="4122720" y="2475000"/>
                <a:ext cx="1241640" cy="599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4025520" y="31402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348160" y="1519200"/>
            <a:ext cx="891720" cy="861840"/>
            <a:chOff x="5348160" y="1519200"/>
            <a:chExt cx="891720" cy="861840"/>
          </a:xfrm>
        </p:grpSpPr>
        <p:grpSp>
          <p:nvGrpSpPr>
            <p:cNvPr id="562" name=""/>
            <p:cNvGrpSpPr/>
            <p:nvPr/>
          </p:nvGrpSpPr>
          <p:grpSpPr>
            <a:xfrm>
              <a:off x="5348160" y="1519200"/>
              <a:ext cx="871560" cy="861840"/>
              <a:chOff x="5348160" y="1519200"/>
              <a:chExt cx="871560" cy="861840"/>
            </a:xfrm>
          </p:grpSpPr>
          <p:sp>
            <p:nvSpPr>
              <p:cNvPr id="563" name=""/>
              <p:cNvSpPr/>
              <p:nvPr/>
            </p:nvSpPr>
            <p:spPr>
              <a:xfrm>
                <a:off x="534816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131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64" name="Unknown Shape"/>
              <p:cNvSpPr/>
              <p:nvPr/>
            </p:nvSpPr>
            <p:spPr>
              <a:xfrm>
                <a:off x="5447520" y="1533240"/>
                <a:ext cx="672480" cy="32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536868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23880" y="2844720"/>
            <a:ext cx="1744560" cy="1790640"/>
            <a:chOff x="1523880" y="2844720"/>
            <a:chExt cx="1744560" cy="1790640"/>
          </a:xfrm>
        </p:grpSpPr>
        <p:grpSp>
          <p:nvGrpSpPr>
            <p:cNvPr id="567" name=""/>
            <p:cNvGrpSpPr/>
            <p:nvPr/>
          </p:nvGrpSpPr>
          <p:grpSpPr>
            <a:xfrm>
              <a:off x="1523880" y="2844720"/>
              <a:ext cx="1744560" cy="1790640"/>
              <a:chOff x="1523880" y="2844720"/>
              <a:chExt cx="1744560" cy="179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2388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d31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69" name="Unknown Shape"/>
              <p:cNvSpPr/>
              <p:nvPr/>
            </p:nvSpPr>
            <p:spPr>
              <a:xfrm>
                <a:off x="172332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161820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280120" y="4105440"/>
            <a:ext cx="2012760" cy="1989000"/>
            <a:chOff x="5280120" y="4105440"/>
            <a:chExt cx="2012760" cy="1989000"/>
          </a:xfrm>
        </p:grpSpPr>
        <p:grpSp>
          <p:nvGrpSpPr>
            <p:cNvPr id="572" name=""/>
            <p:cNvGrpSpPr/>
            <p:nvPr/>
          </p:nvGrpSpPr>
          <p:grpSpPr>
            <a:xfrm>
              <a:off x="5280120" y="4105440"/>
              <a:ext cx="2012760" cy="1989000"/>
              <a:chOff x="5280120" y="4105440"/>
              <a:chExt cx="2012760" cy="1989000"/>
            </a:xfrm>
          </p:grpSpPr>
          <p:sp>
            <p:nvSpPr>
              <p:cNvPr id="573" name=""/>
              <p:cNvSpPr/>
              <p:nvPr/>
            </p:nvSpPr>
            <p:spPr>
              <a:xfrm>
                <a:off x="5280120" y="4105440"/>
                <a:ext cx="201276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61e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74" name="Unknown Shape"/>
              <p:cNvSpPr/>
              <p:nvPr/>
            </p:nvSpPr>
            <p:spPr>
              <a:xfrm>
                <a:off x="5510160" y="4138200"/>
                <a:ext cx="155268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556812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20968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002f8d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20601600">
            <a:off x="148428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20601600">
            <a:off x="154116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20601600">
            <a:off x="1455480" y="2176200"/>
            <a:ext cx="5701680" cy="29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 rot="20602200">
            <a:off x="1433520" y="220716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20601600">
            <a:off x="1465200" y="218736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rot="20602200">
            <a:off x="1447200" y="21952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601600">
            <a:off x="3002040" y="290520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317320" y="3127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222440" y="2212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98600" y="2670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8" name="Unknown Shape"/>
          <p:cNvSpPr/>
          <p:nvPr/>
        </p:nvSpPr>
        <p:spPr>
          <a:xfrm>
            <a:off x="6324480" y="3203640"/>
            <a:ext cx="129564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20539200">
            <a:off x="1459800" y="220536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0" name="Unknown Shape"/>
          <p:cNvSpPr/>
          <p:nvPr/>
        </p:nvSpPr>
        <p:spPr>
          <a:xfrm>
            <a:off x="4624560" y="3684600"/>
            <a:ext cx="175860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98600" y="3660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1461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24100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20601600">
            <a:off x="3103560" y="315756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5" name="Unknown Shape"/>
          <p:cNvSpPr/>
          <p:nvPr/>
        </p:nvSpPr>
        <p:spPr>
          <a:xfrm>
            <a:off x="4800600" y="407988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98" name="Unknown Shape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99" name="Unknown Shape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0" name="Unknown Shape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602" name="Unknown Shape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3" name="Unknown Shape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4" name="Unknown Shape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606" name="Unknown Shape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7" name="Unknown Shape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8" name="Unknown Shape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610" name="Unknown Shape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1" name="Unknown Shape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2" name="Unknown Shape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614" name="Unknown Shape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5" name="Unknown Shape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617" name="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003400" y="2100240"/>
            <a:ext cx="5311800" cy="3295440"/>
            <a:chOff x="2003400" y="2100240"/>
            <a:chExt cx="5311800" cy="3295440"/>
          </a:xfrm>
        </p:grpSpPr>
        <p:grpSp>
          <p:nvGrpSpPr>
            <p:cNvPr id="131" name=""/>
            <p:cNvGrpSpPr/>
            <p:nvPr/>
          </p:nvGrpSpPr>
          <p:grpSpPr>
            <a:xfrm>
              <a:off x="2004840" y="2986200"/>
              <a:ext cx="609480" cy="609480"/>
              <a:chOff x="2004840" y="29862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44440" y="30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84040" y="30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73240" y="30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81160" y="30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87280" y="30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92320" y="30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16080" y="30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514600" y="35481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30146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552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023920" y="4786200"/>
              <a:ext cx="609480" cy="609480"/>
              <a:chOff x="2023920" y="4786200"/>
              <a:chExt cx="609480" cy="609480"/>
            </a:xfrm>
          </p:grpSpPr>
          <p:sp>
            <p:nvSpPr>
              <p:cNvPr id="145" name="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63520" y="48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103120" y="48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92320" y="48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00240" y="48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106360" y="48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11400" y="48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35160" y="48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514600" y="53546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3200" y="48211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63960" y="485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14600" y="44402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43200" y="39067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022480" y="3868560"/>
              <a:ext cx="609480" cy="609480"/>
              <a:chOff x="2022480" y="3868560"/>
              <a:chExt cx="609480" cy="60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148120" y="3944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62080" y="39081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62080" y="39099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90880" y="393516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98800" y="394308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04920" y="394632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09960" y="394956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33720" y="396216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14992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4600" y="26337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43200" y="21002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003400" y="2133720"/>
              <a:ext cx="609480" cy="609480"/>
              <a:chOff x="2003400" y="2133720"/>
              <a:chExt cx="609480" cy="609480"/>
            </a:xfrm>
          </p:grpSpPr>
          <p:sp>
            <p:nvSpPr>
              <p:cNvPr id="174" name=""/>
              <p:cNvSpPr/>
              <p:nvPr/>
            </p:nvSpPr>
            <p:spPr>
              <a:xfrm>
                <a:off x="2129040" y="2210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043000" y="21733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43000" y="21751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71800" y="220032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79720" y="220824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085840" y="221148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90880" y="221472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14640" y="222732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130840" y="2227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038120" y="372276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581280" y="2819520"/>
            <a:ext cx="4724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dc529"/>
                    </a:gs>
                    <a:gs pos="100000">
                      <a:srgbClr val="72a7f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dc529"/>
                  </a:gs>
                  <a:gs pos="100000">
                    <a:srgbClr val="72a7f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9999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2" name="TextBox 5"/>
          <p:cNvSpPr/>
          <p:nvPr/>
        </p:nvSpPr>
        <p:spPr>
          <a:xfrm>
            <a:off x="324000" y="4437000"/>
            <a:ext cx="47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e2f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Unknown Shape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bddd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Unknown Shape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debba"/>
              </a:gs>
              <a:gs pos="100000">
                <a:srgbClr val="fdc5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94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95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75077"/>
                  </a:gs>
                  <a:gs pos="100000">
                    <a:srgbClr val="72a7f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72a7f6"/>
                  </a:gs>
                  <a:gs pos="100000">
                    <a:srgbClr val="bfd7f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fdc529"/>
                </a:gs>
                <a:gs pos="100000">
                  <a:srgbClr val="745a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fde9b3"/>
                </a:gs>
                <a:gs pos="100000">
                  <a:srgbClr val="fdc52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48235"/>
                  </a:srgbClr>
                </a:gs>
                <a:gs pos="100000">
                  <a:srgbClr val="c79b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3408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Unknown Shape"/>
          <p:cNvSpPr/>
          <p:nvPr/>
        </p:nvSpPr>
        <p:spPr>
          <a:xfrm rot="20241600">
            <a:off x="1160280" y="2690640"/>
            <a:ext cx="685296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f0f5f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20056200">
            <a:off x="4571640" y="26665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20056200">
            <a:off x="2971440" y="58669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0056200">
            <a:off x="5714640" y="52574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056200">
            <a:off x="2057040" y="4190760"/>
            <a:ext cx="1066680" cy="30456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92680" y="18288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2a7f6"/>
              </a:gs>
              <a:gs pos="100000">
                <a:srgbClr val="2739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8080" y="33526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fdc529"/>
              </a:gs>
              <a:gs pos="100000">
                <a:srgbClr val="4f3d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60440" y="5049720"/>
            <a:ext cx="1283040" cy="1274760"/>
          </a:xfrm>
          <a:prstGeom prst="ellipse">
            <a:avLst/>
          </a:prstGeom>
          <a:gradFill rotWithShape="0">
            <a:gsLst>
              <a:gs pos="0">
                <a:srgbClr val="52c828"/>
              </a:gs>
              <a:gs pos="100000">
                <a:srgbClr val="1d470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35680" y="4419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b1e2fb"/>
              </a:gs>
              <a:gs pos="100000">
                <a:srgbClr val="4a5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448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a5a5ff"/>
              </a:gs>
              <a:gs pos="100000">
                <a:srgbClr val="38385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30440" y="388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22080" y="2286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53920" y="256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64360" y="4876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43400" y="55008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11440" y="38149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2116080"/>
            <a:ext cx="1793880" cy="1617840"/>
          </a:xfrm>
          <a:prstGeom prst="line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222" name=""/>
          <p:cNvCxnSpPr/>
          <p:nvPr/>
        </p:nvCxnSpPr>
        <p:spPr>
          <a:xfrm flipH="1">
            <a:off x="538920" y="2115720"/>
            <a:ext cx="201708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617040" y="1676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4191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36576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31240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98680" y="3354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98680" y="388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98680" y="4421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28954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25909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25909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9640" y="28954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17524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24120" y="25146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74920" y="1986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54864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344c71"/>
              </a:gs>
              <a:gs pos="50000">
                <a:srgbClr val="72a7f6"/>
              </a:gs>
              <a:gs pos="100000">
                <a:srgbClr val="344c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74920" y="571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02160" y="48769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917800" y="1981080"/>
            <a:ext cx="3156840" cy="2841480"/>
            <a:chOff x="2917800" y="1981080"/>
            <a:chExt cx="3156840" cy="2841480"/>
          </a:xfrm>
        </p:grpSpPr>
        <p:sp>
          <p:nvSpPr>
            <p:cNvPr id="251" name=""/>
            <p:cNvSpPr/>
            <p:nvPr/>
          </p:nvSpPr>
          <p:spPr>
            <a:xfrm flipH="1" rot="16200000">
              <a:off x="2836080" y="30963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rot="5400000">
              <a:off x="5665320" y="304200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rot="10800000">
              <a:off x="4250160" y="4495680"/>
              <a:ext cx="4888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22720" y="1981080"/>
              <a:ext cx="256464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68520" y="2125440"/>
              <a:ext cx="227088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2a7f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3d5a84"/>
                </a:gs>
                <a:gs pos="50000">
                  <a:srgbClr val="72a7f6"/>
                </a:gs>
                <a:gs pos="100000">
                  <a:srgbClr val="3d5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1276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746"/>
              </a:gs>
              <a:gs pos="50000">
                <a:srgbClr val="003399"/>
              </a:gs>
              <a:gs pos="100000">
                <a:srgbClr val="001746"/>
              </a:gs>
            </a:gsLst>
            <a:lin ang="10800000"/>
          </a:gradFill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Unknown Shape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Unknown Shape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1" name="Unknown Shape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2" name="Unknown Shape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Unknown Shape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4" name="Unknown Shape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5" name="Unknown Shape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5" name="Unknown Shape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8" name="Unknown Shape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b1e2fb"/>
              </a:gs>
              <a:gs pos="100000">
                <a:srgbClr val="0025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cp:lastPrinted>1899-12-30T00:00:00Z</cp:lastPrinted>
  <dcterms:modified xsi:type="dcterms:W3CDTF">2004-11-19T04:55:00Z</dcterms:modified>
  <cp:revision>2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