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AF5-2D1B-4437-9B25-1DDF8118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EA7-96E0-424F-8F4E-53F1C68B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A46-454F-40D3-BA49-DBC4A9A4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FFC-F270-4098-BD03-1B4B4166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620-18EB-44CD-B9BA-599F582A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437C-614B-4A39-9F3F-1A2119A6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B90F-C5F2-4E47-A2F5-5FABBA12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8EC5-E5FF-4604-BA1E-3F0143D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5F2A-4555-4A2B-A7D8-523B197B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040C-93EC-4D8F-824F-570D6FB4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26D-03C8-45A8-9ABA-6E611F09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BBA7-213A-4D44-B95A-DFD70822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E99B-7134-4E36-A463-B2DF937C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F0A9-ACFA-4E00-9596-C5768B82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C1AB-7D87-4641-A886-6DDA9FE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B3E8-10F5-451F-A754-4576AF70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9A6B-A2E0-4B60-8960-75804313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E729-535E-4886-80BE-B5A7B71F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A02-0B51-4B57-ABF9-08130E92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CC3-39B0-4749-A7A3-D8C2BAB9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521-789E-43F3-9416-C88179FF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A87-7C43-4252-B9F8-4A40A00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A8C-DF8D-4567-B85E-2590F78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78E-FACB-467C-A945-AC2527C8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D29E-3DC9-4035-9A3B-26335B37C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3316-0959-4693-8AF6-D2B407F27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315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25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30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419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57" name="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62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65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80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1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88" name="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94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5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97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8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512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3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515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6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56" name="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9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62" name="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63" name="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4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67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9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72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73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74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98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99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0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602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3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4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606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7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610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1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2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614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617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131" name="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324000" y="4437000"/>
            <a:ext cx="47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94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251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cp:lastPrinted>1899-12-30T00:00:00Z</cp:lastPrinted>
  <dcterms:modified xsi:type="dcterms:W3CDTF">2004-11-19T04:55:00Z</dcterms:modified>
  <cp:revision>2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