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602-F415-475F-90FB-AF46829C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EC8-5414-49FE-B3E7-46277588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1AB-7616-4DA6-90C8-F481B1B4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A19-BAFE-4D1A-A91C-BC3F9317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F6D-38C7-456B-B77E-56F7B46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4B3-EA8F-48A0-9FFD-FAE46E5E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C7C-925E-4D49-955F-A8720316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BD7-F58D-4590-83D8-28B7BD2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B1B-E739-4D2A-8EBB-58597DC3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AC3-F966-4AE1-A627-F511E25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8E9-186D-407D-AD07-38DC969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9C0-851C-4F96-92FD-429E8468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04F-32EF-4AB3-A50A-61BF9DC5F2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29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264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50012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11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783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42656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26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569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58:40Z</dcterms:modified>
  <cp:revision>67</cp:revision>
  <dc:subject/>
  <dc:title>幻灯片 1</dc:title>
</cp:coreProperties>
</file>