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139-0068-4646-A744-C8F6705E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09A-D2F0-4FCD-9489-AB5A7396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E1C-90B7-4C42-9F5F-59C7296E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93E-DC1C-4F3D-9E98-5A07E383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9AC6-43C7-4C9B-8F3A-A0250AC9C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A4D8-40C5-40E8-A052-212983B0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F49C-30E6-4075-8C7F-447C1DC9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F59D-8E2B-407D-83A6-5BE77C76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CD6A-7A23-4DD3-87EC-443A2ABD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B9CD-92B2-40D9-82AC-8B00BC18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19F2-B822-4061-81D5-F48613A7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1CA-844E-4D8C-A4F0-FEE4A467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D6CE-C251-4B59-8087-6B62F399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0D1F-DACC-4A6B-80F4-D355BE7D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724D-9E43-4F91-8071-3E50C710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9E45-F5B8-4965-BD34-36AFAFBE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3C2F-B727-4640-86CE-ADB747DA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01D-1EC9-45DA-BB3B-1A489373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FDF-01B5-4FC8-B5FB-FFF2F730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E0D5-45AE-4F3F-8236-4560186E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523-AAF7-4D15-9990-4672238D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92D-CF2F-480D-A4A5-9E2774E7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55E-7BEB-4163-92F4-3E26A340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8790-1152-4E94-91F0-F1B96376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C529-6F6E-4837-B20D-84EED09B75D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BF06-28E1-4C72-93D9-281E456F12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over2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440" y="1484280"/>
            <a:ext cx="91425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2720d"/>
                </a:solidFill>
                <a:latin typeface="Helvetica LT Black"/>
              </a:rPr>
              <a:t>Research Plan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591000" y="4270320"/>
            <a:ext cx="196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541680" y="4078440"/>
            <a:ext cx="2060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af6f"/>
                </a:solidFill>
                <a:latin typeface="Arial"/>
              </a:rPr>
              <a:t>Office of W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162240" y="4365720"/>
            <a:ext cx="28195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af6f"/>
                </a:solidFill>
                <a:latin typeface="Arial"/>
              </a:rPr>
              <a:t>Professor Laura Amrkhoul,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ont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6443640" y="360360"/>
            <a:ext cx="255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720d"/>
                </a:solidFill>
                <a:latin typeface="Helvetica LT Black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562200" y="1670040"/>
            <a:ext cx="3629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What is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Research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The advantages of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The role of practice i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4e46"/>
                </a:solidFill>
                <a:latin typeface="Arial"/>
              </a:rPr>
              <a:t>Ways of using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曲线 87"/>
          <p:cNvSpPr/>
          <p:nvPr/>
        </p:nvSpPr>
        <p:spPr>
          <a:xfrm>
            <a:off x="3406680" y="1773360"/>
            <a:ext cx="114480" cy="176040"/>
          </a:xfrm>
          <a:custGeom>
            <a:avLst/>
            <a:gdLst>
              <a:gd name="textAreaLeft" fmla="*/ 0 w 114480"/>
              <a:gd name="textAreaRight" fmla="*/ 114840 w 1144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曲线 87"/>
          <p:cNvSpPr/>
          <p:nvPr/>
        </p:nvSpPr>
        <p:spPr>
          <a:xfrm>
            <a:off x="3406680" y="2320920"/>
            <a:ext cx="114480" cy="176040"/>
          </a:xfrm>
          <a:custGeom>
            <a:avLst/>
            <a:gdLst>
              <a:gd name="textAreaLeft" fmla="*/ 0 w 114480"/>
              <a:gd name="textAreaRight" fmla="*/ 114840 w 1144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曲线 87"/>
          <p:cNvSpPr/>
          <p:nvPr/>
        </p:nvSpPr>
        <p:spPr>
          <a:xfrm>
            <a:off x="3406680" y="2867040"/>
            <a:ext cx="114480" cy="176040"/>
          </a:xfrm>
          <a:custGeom>
            <a:avLst/>
            <a:gdLst>
              <a:gd name="textAreaLeft" fmla="*/ 0 w 114480"/>
              <a:gd name="textAreaRight" fmla="*/ 114840 w 1144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曲线 87"/>
          <p:cNvSpPr/>
          <p:nvPr/>
        </p:nvSpPr>
        <p:spPr>
          <a:xfrm>
            <a:off x="3406680" y="3429000"/>
            <a:ext cx="114480" cy="176040"/>
          </a:xfrm>
          <a:custGeom>
            <a:avLst/>
            <a:gdLst>
              <a:gd name="textAreaLeft" fmla="*/ 0 w 114480"/>
              <a:gd name="textAreaRight" fmla="*/ 114840 w 1144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曲线 87"/>
          <p:cNvSpPr/>
          <p:nvPr/>
        </p:nvSpPr>
        <p:spPr>
          <a:xfrm>
            <a:off x="3406680" y="3962520"/>
            <a:ext cx="114480" cy="176040"/>
          </a:xfrm>
          <a:custGeom>
            <a:avLst/>
            <a:gdLst>
              <a:gd name="textAreaLeft" fmla="*/ 0 w 114480"/>
              <a:gd name="textAreaRight" fmla="*/ 114840 w 1144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曲线 87"/>
          <p:cNvSpPr/>
          <p:nvPr/>
        </p:nvSpPr>
        <p:spPr>
          <a:xfrm>
            <a:off x="3406680" y="4514760"/>
            <a:ext cx="114480" cy="174600"/>
          </a:xfrm>
          <a:custGeom>
            <a:avLst/>
            <a:gdLst>
              <a:gd name="textAreaLeft" fmla="*/ 0 w 114480"/>
              <a:gd name="textAreaRight" fmla="*/ 114840 w 11448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Transition p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2130480" y="2492280"/>
            <a:ext cx="367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720d"/>
                </a:solidFill>
                <a:latin typeface="Arial"/>
              </a:rPr>
              <a:t>What i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579760" y="3413160"/>
            <a:ext cx="3246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44e46"/>
                </a:solidFill>
                <a:latin typeface="Arial"/>
              </a:rPr>
              <a:t>Research is an ORGANIZED and SYSTEMATIC way of FINDING ANSWERS to QUES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tex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195640" y="716040"/>
            <a:ext cx="54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44e46"/>
                </a:solidFill>
                <a:latin typeface="Arial"/>
              </a:rPr>
              <a:t>The role of practice in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411280" y="1670040"/>
            <a:ext cx="4780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44e46"/>
                </a:solidFill>
                <a:latin typeface="Arial"/>
              </a:rPr>
              <a:t>Practice-based projects are those which include as an integral part the production of an original artefact in addition to, or perhaps instead of, the production of a written thesis. (UKCGE, UK Council for Graduate Education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68520" y="3286080"/>
            <a:ext cx="478008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4e46"/>
                </a:solidFill>
                <a:latin typeface="Arial"/>
              </a:rPr>
              <a:t>Positioning of the re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Context and position,  researcher, practitioner or both Translat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hypothesis into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Relationship between theory and pract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Practice to generate the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Practice as a reflection or informed by the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曲线 87"/>
          <p:cNvSpPr/>
          <p:nvPr/>
        </p:nvSpPr>
        <p:spPr>
          <a:xfrm>
            <a:off x="2558880" y="3740040"/>
            <a:ext cx="68400" cy="104760"/>
          </a:xfrm>
          <a:custGeom>
            <a:avLst/>
            <a:gdLst>
              <a:gd name="textAreaLeft" fmla="*/ 0 w 68400"/>
              <a:gd name="textAreaRight" fmla="*/ 68760 w 6840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曲线 87"/>
          <p:cNvSpPr/>
          <p:nvPr/>
        </p:nvSpPr>
        <p:spPr>
          <a:xfrm>
            <a:off x="2556000" y="4086360"/>
            <a:ext cx="68040" cy="104760"/>
          </a:xfrm>
          <a:custGeom>
            <a:avLst/>
            <a:gdLst>
              <a:gd name="textAreaLeft" fmla="*/ 0 w 68040"/>
              <a:gd name="textAreaRight" fmla="*/ 68400 w 680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曲线 87"/>
          <p:cNvSpPr/>
          <p:nvPr/>
        </p:nvSpPr>
        <p:spPr>
          <a:xfrm>
            <a:off x="2556000" y="4290840"/>
            <a:ext cx="68040" cy="105120"/>
          </a:xfrm>
          <a:custGeom>
            <a:avLst/>
            <a:gdLst>
              <a:gd name="textAreaLeft" fmla="*/ 0 w 68040"/>
              <a:gd name="textAreaRight" fmla="*/ 68400 w 6804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曲线 87"/>
          <p:cNvSpPr/>
          <p:nvPr/>
        </p:nvSpPr>
        <p:spPr>
          <a:xfrm>
            <a:off x="2556000" y="4505400"/>
            <a:ext cx="68040" cy="102960"/>
          </a:xfrm>
          <a:custGeom>
            <a:avLst/>
            <a:gdLst>
              <a:gd name="textAreaLeft" fmla="*/ 0 w 68040"/>
              <a:gd name="textAreaRight" fmla="*/ 68400 w 6804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Transition pag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4211640" y="3424320"/>
            <a:ext cx="367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720d"/>
                </a:solidFill>
                <a:latin typeface="Arial"/>
              </a:rPr>
              <a:t>Research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494240" y="4240080"/>
            <a:ext cx="3246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544e46"/>
                </a:solidFill>
                <a:latin typeface="Arial"/>
              </a:rPr>
              <a:t>Selecting your Topic (Novel/Feasible/Useful/Definable outcomes/Gap in knowled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bac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38160" y="2798640"/>
            <a:ext cx="914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720d"/>
                </a:solidFill>
                <a:latin typeface="Helvetica LT Black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sus</dc:creator>
  <dc:description/>
  <dc:language>en-US</dc:language>
  <cp:lastModifiedBy>Administrator</cp:lastModifiedBy>
  <dcterms:modified xsi:type="dcterms:W3CDTF">2016-03-12T02:33:44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