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3030-0A66-49FA-A660-B5F2AA017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8986-1954-4231-B687-75202D2F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020E-36BA-47FF-B763-139A90082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E7D2-97DC-4F5D-B1F4-BFA59EC37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3421-1BC9-4F2F-A840-01960F59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9BA6-189F-4DA3-9322-FC88703C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6B78-9AF5-4663-AC7E-4F6B8BB9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EFC9-EF25-45EB-946E-00E81494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7E9E-D6B1-4DED-B20C-31F47623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05EE-9430-40D0-9549-3F73853F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5D09-EA55-4C42-AEC3-922911A0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6168-E650-41A3-965F-060A4500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35D1-E520-4278-93B9-AAB3D4605F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928960" y="443376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357720" y="519264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中国情人节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87696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464076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31406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54979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5"/>
          <p:cNvSpPr/>
          <p:nvPr/>
        </p:nvSpPr>
        <p:spPr>
          <a:xfrm>
            <a:off x="2357280" y="4473720"/>
            <a:ext cx="5214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乞巧节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七月七日，一年一度的七夕就要来了，人们称这天为“乞巧节”或“少女节”、“女儿节”。七夕节是我国传统节日中最具有浪漫色彩的一个节日，也是过去姑娘最为重视的日子。中国的情人节，浪漫古典之最浓的节日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8"/>
          <p:cNvSpPr/>
          <p:nvPr/>
        </p:nvSpPr>
        <p:spPr>
          <a:xfrm>
            <a:off x="618120" y="2858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42836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4212000" y="5059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4212000" y="3559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2836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73404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2132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5931000" y="3357720"/>
            <a:ext cx="16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4213800" y="324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73404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3857760" y="3714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656964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16405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80568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55695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27835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33548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50695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94860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62125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9"/>
          <p:cNvSpPr/>
          <p:nvPr/>
        </p:nvSpPr>
        <p:spPr>
          <a:xfrm>
            <a:off x="59266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199764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19260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73404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485496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34261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27835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48549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8"/>
          <p:cNvSpPr/>
          <p:nvPr/>
        </p:nvSpPr>
        <p:spPr>
          <a:xfrm>
            <a:off x="59112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45691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271188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7"/>
          <p:cNvSpPr/>
          <p:nvPr/>
        </p:nvSpPr>
        <p:spPr>
          <a:xfrm>
            <a:off x="421200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57837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07-24T03:19:58Z</dcterms:modified>
  <cp:revision>52</cp:revision>
  <dc:subject/>
  <dc:title>幻灯片 1</dc:title>
</cp:coreProperties>
</file>