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chimes.wav" ContentType="audio/x-wav"/>
  <Override PartName="/ppt/media/image8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wmf" ContentType="image/x-wmf"/>
  <Override PartName="/ppt/media/image7.png" ContentType="image/png"/>
  <Override PartName="/ppt/media/image9.wmf" ContentType="image/x-wmf"/>
  <Override PartName="/ppt/media/image1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7FEA-6E06-43A3-8F77-D8F2E4C7F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4FAA-FE75-468C-83C8-747386FEA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3760-BE88-4CAC-AB16-96BDEF7D3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A3B2-FE01-4013-9E08-4280BD6C7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B127D-F9F8-4276-8C35-174E0F00C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6801B-AE44-4589-AC33-BAE6CCD84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32AD9-F53A-4E90-8002-D8746CBF8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46C14-DAF9-4F3F-A5ED-EB58F3BB8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3AFE5-B9D4-4CB3-87BB-7A8FD18D6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9A533-B925-4740-A292-4AB747145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95932-83B4-4A6B-AFC2-2C8FC73F5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6465-D797-4134-AB50-7A2C9E4FD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95ED5-C42C-4BDC-B0BF-2CDE93116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58441-E593-4931-8B56-D0BB8AC27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51657-6D72-4CA2-90C0-940FE9D27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54B7F-634F-4FDA-A604-CA4F4EB08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72F3B-972B-4EAA-A5B6-5924608CA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07DAF2-2ABB-4B85-8CBE-56EFAB7A9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484E91-19CC-4694-9091-35F592A30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4B6A47-D0ED-4C9C-BFCD-11954C478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191AF0-28B1-4718-999F-570161ED4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16470A-87D1-47F0-AF56-24B6D614C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A646-E800-4A86-9608-80F621C5A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B8DB9E-DD2D-416C-AF28-A0CD6B0AF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23D662-3508-4F2E-9D55-268388C8E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8EA737-B947-4339-91B6-9F9F14109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09D06C-0032-4B58-A1EA-72A49BC07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84B7D3-3DF0-40D2-87CC-1E9F84F72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3FB2D3-E8DE-49E1-B660-4944A121F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B17437-0842-4E15-8FEE-5A3DFA6BE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7233-287C-4119-B699-3CB10B6DD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6A50-3F4F-445F-96AA-1E97BE1A9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1D61-0198-4029-AE26-F0748BE78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7517-AAE6-4AB5-8878-1D5F6A3E8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4A90-A34B-45DC-A032-443E55846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5890-97C6-4240-B433-5CFDC1A7A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素材天下网 sucaitianxia"/>
          <p:cNvPicPr/>
          <p:nvPr/>
        </p:nvPicPr>
        <p:blipFill>
          <a:blip r:embed="rId2"/>
          <a:stretch/>
        </p:blipFill>
        <p:spPr>
          <a:xfrm>
            <a:off x="1440" y="5486400"/>
            <a:ext cx="9142560" cy="1143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80642-B16B-462C-A2CB-937161C56F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7696080" y="6432480"/>
            <a:ext cx="138924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YOUR  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18" descr="1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23DCB-A75D-4B93-ACE0-BC6AF80EAC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76320" y="643248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YOUR  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6" descr="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85B1B-3624-4D76-B962-A378606E71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7543800" y="228600"/>
            <a:ext cx="138924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YOUR  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image" Target="../media/image5.png"/><Relationship Id="rId4" Type="http://schemas.openxmlformats.org/officeDocument/2006/relationships/image" Target="../media/image6.wmf"/><Relationship Id="rId5" Type="http://schemas.openxmlformats.org/officeDocument/2006/relationships/image" Target="../media/image5.png"/><Relationship Id="rId6" Type="http://schemas.openxmlformats.org/officeDocument/2006/relationships/image" Target="../media/image6.wmf"/><Relationship Id="rId7" Type="http://schemas.openxmlformats.org/officeDocument/2006/relationships/image" Target="../media/image5.png"/><Relationship Id="rId8" Type="http://schemas.openxmlformats.org/officeDocument/2006/relationships/image" Target="../media/image6.wmf"/><Relationship Id="rId9" Type="http://schemas.openxmlformats.org/officeDocument/2006/relationships/image" Target="../media/image5.png"/><Relationship Id="rId10" Type="http://schemas.openxmlformats.org/officeDocument/2006/relationships/image" Target="../media/image6.wmf"/><Relationship Id="rId11" Type="http://schemas.openxmlformats.org/officeDocument/2006/relationships/image" Target="../media/image5.png"/><Relationship Id="rId12" Type="http://schemas.openxmlformats.org/officeDocument/2006/relationships/image" Target="../media/image6.wmf"/><Relationship Id="rId13" Type="http://schemas.openxmlformats.org/officeDocument/2006/relationships/audio" Target="../media/chimes.wav"/><Relationship Id="rId1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image" Target="../media/image9.wmf"/><Relationship Id="rId5" Type="http://schemas.openxmlformats.org/officeDocument/2006/relationships/image" Target="../media/image9.wmf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 advTm="2000">
    <p:wheel spokes="3"/>
    <p:sndAc>
      <p:stSnd>
        <p:snd r:embed="rId1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Group 3"/>
          <p:cNvGrpSpPr/>
          <p:nvPr/>
        </p:nvGrpSpPr>
        <p:grpSpPr>
          <a:xfrm>
            <a:off x="873000" y="1752480"/>
            <a:ext cx="6923520" cy="4421160"/>
            <a:chOff x="873000" y="1752480"/>
            <a:chExt cx="6923520" cy="4421160"/>
          </a:xfrm>
        </p:grpSpPr>
        <p:grpSp>
          <p:nvGrpSpPr>
            <p:cNvPr id="393" name="Group 4"/>
            <p:cNvGrpSpPr/>
            <p:nvPr/>
          </p:nvGrpSpPr>
          <p:grpSpPr>
            <a:xfrm>
              <a:off x="2397240" y="1752480"/>
              <a:ext cx="4419000" cy="4376160"/>
              <a:chOff x="2397240" y="1752480"/>
              <a:chExt cx="4419000" cy="4376160"/>
            </a:xfrm>
          </p:grpSpPr>
          <p:sp>
            <p:nvSpPr>
              <p:cNvPr id="394" name="Puzzle3"/>
              <p:cNvSpPr/>
              <p:nvPr/>
            </p:nvSpPr>
            <p:spPr>
              <a:xfrm>
                <a:off x="4549320" y="1752480"/>
                <a:ext cx="1737000" cy="2325600"/>
              </a:xfrm>
              <a:custGeom>
                <a:avLst/>
                <a:gdLst/>
                <a:ahLst/>
                <a:rect l="l" t="t" r="r" b="b"/>
                <a:pathLst>
                  <a:path w="21653" h="21678">
                    <a:moveTo>
                      <a:pt x="6625" y="20892"/>
                    </a:moveTo>
                    <a:lnTo>
                      <a:pt x="7105" y="21023"/>
                    </a:lnTo>
                    <a:lnTo>
                      <a:pt x="7513" y="21088"/>
                    </a:lnTo>
                    <a:lnTo>
                      <a:pt x="7922" y="21115"/>
                    </a:lnTo>
                    <a:lnTo>
                      <a:pt x="8242" y="21115"/>
                    </a:lnTo>
                    <a:lnTo>
                      <a:pt x="8544" y="21062"/>
                    </a:lnTo>
                    <a:lnTo>
                      <a:pt x="8810" y="20997"/>
                    </a:lnTo>
                    <a:lnTo>
                      <a:pt x="9023" y="20892"/>
                    </a:lnTo>
                    <a:lnTo>
                      <a:pt x="9148" y="20761"/>
                    </a:lnTo>
                    <a:lnTo>
                      <a:pt x="9290" y="20616"/>
                    </a:lnTo>
                    <a:lnTo>
                      <a:pt x="9361" y="20459"/>
                    </a:lnTo>
                    <a:lnTo>
                      <a:pt x="9396" y="20289"/>
                    </a:lnTo>
                    <a:lnTo>
                      <a:pt x="9396" y="20092"/>
                    </a:lnTo>
                    <a:lnTo>
                      <a:pt x="9325" y="19909"/>
                    </a:lnTo>
                    <a:lnTo>
                      <a:pt x="9219" y="19738"/>
                    </a:lnTo>
                    <a:lnTo>
                      <a:pt x="9094" y="19555"/>
                    </a:lnTo>
                    <a:lnTo>
                      <a:pt x="8917" y="19384"/>
                    </a:lnTo>
                    <a:lnTo>
                      <a:pt x="8650" y="19162"/>
                    </a:lnTo>
                    <a:lnTo>
                      <a:pt x="8437" y="18900"/>
                    </a:lnTo>
                    <a:lnTo>
                      <a:pt x="8277" y="18624"/>
                    </a:lnTo>
                    <a:lnTo>
                      <a:pt x="8135" y="18349"/>
                    </a:lnTo>
                    <a:lnTo>
                      <a:pt x="8028" y="18048"/>
                    </a:lnTo>
                    <a:lnTo>
                      <a:pt x="7993" y="17746"/>
                    </a:lnTo>
                    <a:lnTo>
                      <a:pt x="7993" y="17471"/>
                    </a:lnTo>
                    <a:lnTo>
                      <a:pt x="8028" y="17169"/>
                    </a:lnTo>
                    <a:lnTo>
                      <a:pt x="8135" y="16920"/>
                    </a:lnTo>
                    <a:lnTo>
                      <a:pt x="8277" y="16671"/>
                    </a:lnTo>
                    <a:lnTo>
                      <a:pt x="8366" y="16540"/>
                    </a:lnTo>
                    <a:lnTo>
                      <a:pt x="8473" y="16409"/>
                    </a:lnTo>
                    <a:lnTo>
                      <a:pt x="8615" y="16317"/>
                    </a:lnTo>
                    <a:lnTo>
                      <a:pt x="8739" y="16213"/>
                    </a:lnTo>
                    <a:lnTo>
                      <a:pt x="8881" y="16134"/>
                    </a:lnTo>
                    <a:lnTo>
                      <a:pt x="9059" y="16055"/>
                    </a:lnTo>
                    <a:lnTo>
                      <a:pt x="9254" y="15990"/>
                    </a:lnTo>
                    <a:lnTo>
                      <a:pt x="9432" y="15911"/>
                    </a:lnTo>
                    <a:lnTo>
                      <a:pt x="9663" y="15885"/>
                    </a:lnTo>
                    <a:lnTo>
                      <a:pt x="9876" y="15833"/>
                    </a:lnTo>
                    <a:lnTo>
                      <a:pt x="10142" y="15806"/>
                    </a:lnTo>
                    <a:lnTo>
                      <a:pt x="10391" y="15806"/>
                    </a:lnTo>
                    <a:lnTo>
                      <a:pt x="10728" y="15806"/>
                    </a:lnTo>
                    <a:lnTo>
                      <a:pt x="10995" y="15806"/>
                    </a:lnTo>
                    <a:lnTo>
                      <a:pt x="11279" y="15833"/>
                    </a:lnTo>
                    <a:lnTo>
                      <a:pt x="11546" y="15885"/>
                    </a:lnTo>
                    <a:lnTo>
                      <a:pt x="11776" y="15937"/>
                    </a:lnTo>
                    <a:lnTo>
                      <a:pt x="12025" y="15990"/>
                    </a:lnTo>
                    <a:lnTo>
                      <a:pt x="12221" y="16055"/>
                    </a:lnTo>
                    <a:lnTo>
                      <a:pt x="12434" y="16134"/>
                    </a:lnTo>
                    <a:lnTo>
                      <a:pt x="12611" y="16213"/>
                    </a:lnTo>
                    <a:lnTo>
                      <a:pt x="12771" y="16317"/>
                    </a:lnTo>
                    <a:lnTo>
                      <a:pt x="12913" y="16409"/>
                    </a:lnTo>
                    <a:lnTo>
                      <a:pt x="13038" y="16514"/>
                    </a:lnTo>
                    <a:lnTo>
                      <a:pt x="13251" y="16737"/>
                    </a:lnTo>
                    <a:lnTo>
                      <a:pt x="13428" y="16986"/>
                    </a:lnTo>
                    <a:lnTo>
                      <a:pt x="13517" y="17248"/>
                    </a:lnTo>
                    <a:lnTo>
                      <a:pt x="13588" y="17523"/>
                    </a:lnTo>
                    <a:lnTo>
                      <a:pt x="13588" y="17799"/>
                    </a:lnTo>
                    <a:lnTo>
                      <a:pt x="13517" y="18074"/>
                    </a:lnTo>
                    <a:lnTo>
                      <a:pt x="13428" y="18323"/>
                    </a:lnTo>
                    <a:lnTo>
                      <a:pt x="13286" y="18572"/>
                    </a:lnTo>
                    <a:lnTo>
                      <a:pt x="13109" y="18808"/>
                    </a:lnTo>
                    <a:lnTo>
                      <a:pt x="12878" y="19031"/>
                    </a:lnTo>
                    <a:lnTo>
                      <a:pt x="12434" y="19411"/>
                    </a:lnTo>
                    <a:lnTo>
                      <a:pt x="12132" y="19738"/>
                    </a:lnTo>
                    <a:lnTo>
                      <a:pt x="12025" y="19856"/>
                    </a:lnTo>
                    <a:lnTo>
                      <a:pt x="11919" y="20014"/>
                    </a:lnTo>
                    <a:lnTo>
                      <a:pt x="11883" y="20132"/>
                    </a:lnTo>
                    <a:lnTo>
                      <a:pt x="11883" y="20263"/>
                    </a:lnTo>
                    <a:lnTo>
                      <a:pt x="11883" y="20394"/>
                    </a:lnTo>
                    <a:lnTo>
                      <a:pt x="11954" y="20485"/>
                    </a:lnTo>
                    <a:lnTo>
                      <a:pt x="12061" y="20590"/>
                    </a:lnTo>
                    <a:lnTo>
                      <a:pt x="12185" y="20695"/>
                    </a:lnTo>
                    <a:lnTo>
                      <a:pt x="12327" y="20787"/>
                    </a:lnTo>
                    <a:lnTo>
                      <a:pt x="12540" y="20892"/>
                    </a:lnTo>
                    <a:lnTo>
                      <a:pt x="12771" y="20997"/>
                    </a:lnTo>
                    <a:lnTo>
                      <a:pt x="13073" y="21088"/>
                    </a:lnTo>
                    <a:lnTo>
                      <a:pt x="13428" y="21193"/>
                    </a:lnTo>
                    <a:lnTo>
                      <a:pt x="13873" y="21298"/>
                    </a:lnTo>
                    <a:lnTo>
                      <a:pt x="14317" y="21390"/>
                    </a:lnTo>
                    <a:lnTo>
                      <a:pt x="14778" y="21468"/>
                    </a:lnTo>
                    <a:lnTo>
                      <a:pt x="15294" y="21547"/>
                    </a:lnTo>
                    <a:lnTo>
                      <a:pt x="15809" y="21600"/>
                    </a:lnTo>
                    <a:lnTo>
                      <a:pt x="16359" y="21652"/>
                    </a:lnTo>
                    <a:lnTo>
                      <a:pt x="16875" y="21678"/>
                    </a:lnTo>
                    <a:lnTo>
                      <a:pt x="17407" y="21678"/>
                    </a:lnTo>
                    <a:lnTo>
                      <a:pt x="17958" y="21678"/>
                    </a:lnTo>
                    <a:lnTo>
                      <a:pt x="18473" y="21652"/>
                    </a:lnTo>
                    <a:lnTo>
                      <a:pt x="18953" y="21573"/>
                    </a:lnTo>
                    <a:lnTo>
                      <a:pt x="19397" y="21495"/>
                    </a:lnTo>
                    <a:lnTo>
                      <a:pt x="19841" y="21390"/>
                    </a:lnTo>
                    <a:lnTo>
                      <a:pt x="20214" y="21272"/>
                    </a:lnTo>
                    <a:lnTo>
                      <a:pt x="20551" y="21088"/>
                    </a:lnTo>
                    <a:lnTo>
                      <a:pt x="20480" y="20787"/>
                    </a:lnTo>
                    <a:lnTo>
                      <a:pt x="20409" y="20485"/>
                    </a:lnTo>
                    <a:lnTo>
                      <a:pt x="20356" y="20158"/>
                    </a:lnTo>
                    <a:lnTo>
                      <a:pt x="20356" y="19804"/>
                    </a:lnTo>
                    <a:lnTo>
                      <a:pt x="20321" y="19083"/>
                    </a:lnTo>
                    <a:lnTo>
                      <a:pt x="20356" y="18349"/>
                    </a:lnTo>
                    <a:lnTo>
                      <a:pt x="20409" y="17641"/>
                    </a:lnTo>
                    <a:lnTo>
                      <a:pt x="20480" y="17012"/>
                    </a:lnTo>
                    <a:lnTo>
                      <a:pt x="20551" y="16488"/>
                    </a:lnTo>
                    <a:lnTo>
                      <a:pt x="20551" y="16055"/>
                    </a:lnTo>
                    <a:lnTo>
                      <a:pt x="20551" y="15911"/>
                    </a:lnTo>
                    <a:lnTo>
                      <a:pt x="20445" y="15754"/>
                    </a:lnTo>
                    <a:lnTo>
                      <a:pt x="20356" y="15610"/>
                    </a:lnTo>
                    <a:lnTo>
                      <a:pt x="20178" y="15452"/>
                    </a:lnTo>
                    <a:lnTo>
                      <a:pt x="20001" y="15334"/>
                    </a:lnTo>
                    <a:lnTo>
                      <a:pt x="19770" y="15230"/>
                    </a:lnTo>
                    <a:lnTo>
                      <a:pt x="19521" y="15125"/>
                    </a:lnTo>
                    <a:lnTo>
                      <a:pt x="19290" y="15059"/>
                    </a:lnTo>
                    <a:lnTo>
                      <a:pt x="19024" y="15007"/>
                    </a:lnTo>
                    <a:lnTo>
                      <a:pt x="18740" y="14954"/>
                    </a:lnTo>
                    <a:lnTo>
                      <a:pt x="18509" y="14954"/>
                    </a:lnTo>
                    <a:lnTo>
                      <a:pt x="18225" y="14954"/>
                    </a:lnTo>
                    <a:lnTo>
                      <a:pt x="17994" y="15007"/>
                    </a:lnTo>
                    <a:lnTo>
                      <a:pt x="17763" y="15085"/>
                    </a:lnTo>
                    <a:lnTo>
                      <a:pt x="17550" y="15177"/>
                    </a:lnTo>
                    <a:lnTo>
                      <a:pt x="17372" y="15308"/>
                    </a:lnTo>
                    <a:lnTo>
                      <a:pt x="17176" y="15426"/>
                    </a:lnTo>
                    <a:lnTo>
                      <a:pt x="16928" y="15557"/>
                    </a:lnTo>
                    <a:lnTo>
                      <a:pt x="16661" y="15636"/>
                    </a:lnTo>
                    <a:lnTo>
                      <a:pt x="16359" y="15688"/>
                    </a:lnTo>
                    <a:lnTo>
                      <a:pt x="16022" y="15715"/>
                    </a:lnTo>
                    <a:lnTo>
                      <a:pt x="15667" y="15688"/>
                    </a:lnTo>
                    <a:lnTo>
                      <a:pt x="15294" y="15662"/>
                    </a:lnTo>
                    <a:lnTo>
                      <a:pt x="14956" y="15583"/>
                    </a:lnTo>
                    <a:lnTo>
                      <a:pt x="14619" y="15479"/>
                    </a:lnTo>
                    <a:lnTo>
                      <a:pt x="14281" y="15334"/>
                    </a:lnTo>
                    <a:lnTo>
                      <a:pt x="13961" y="15177"/>
                    </a:lnTo>
                    <a:lnTo>
                      <a:pt x="13695" y="14981"/>
                    </a:lnTo>
                    <a:lnTo>
                      <a:pt x="13588" y="14850"/>
                    </a:lnTo>
                    <a:lnTo>
                      <a:pt x="13482" y="14732"/>
                    </a:lnTo>
                    <a:lnTo>
                      <a:pt x="13393" y="14600"/>
                    </a:lnTo>
                    <a:lnTo>
                      <a:pt x="13322" y="14456"/>
                    </a:lnTo>
                    <a:lnTo>
                      <a:pt x="13251" y="14299"/>
                    </a:lnTo>
                    <a:lnTo>
                      <a:pt x="13215" y="14155"/>
                    </a:lnTo>
                    <a:lnTo>
                      <a:pt x="13180" y="13971"/>
                    </a:lnTo>
                    <a:lnTo>
                      <a:pt x="13180" y="13801"/>
                    </a:lnTo>
                    <a:lnTo>
                      <a:pt x="13180" y="13591"/>
                    </a:lnTo>
                    <a:lnTo>
                      <a:pt x="13215" y="13395"/>
                    </a:lnTo>
                    <a:lnTo>
                      <a:pt x="13251" y="13198"/>
                    </a:lnTo>
                    <a:lnTo>
                      <a:pt x="13322" y="13015"/>
                    </a:lnTo>
                    <a:lnTo>
                      <a:pt x="13393" y="12870"/>
                    </a:lnTo>
                    <a:lnTo>
                      <a:pt x="13482" y="12713"/>
                    </a:lnTo>
                    <a:lnTo>
                      <a:pt x="13588" y="12569"/>
                    </a:lnTo>
                    <a:lnTo>
                      <a:pt x="13730" y="12438"/>
                    </a:lnTo>
                    <a:lnTo>
                      <a:pt x="13997" y="12215"/>
                    </a:lnTo>
                    <a:lnTo>
                      <a:pt x="14334" y="12005"/>
                    </a:lnTo>
                    <a:lnTo>
                      <a:pt x="14690" y="11861"/>
                    </a:lnTo>
                    <a:lnTo>
                      <a:pt x="15063" y="11756"/>
                    </a:lnTo>
                    <a:lnTo>
                      <a:pt x="15436" y="11678"/>
                    </a:lnTo>
                    <a:lnTo>
                      <a:pt x="15809" y="11638"/>
                    </a:lnTo>
                    <a:lnTo>
                      <a:pt x="16182" y="11638"/>
                    </a:lnTo>
                    <a:lnTo>
                      <a:pt x="16555" y="11678"/>
                    </a:lnTo>
                    <a:lnTo>
                      <a:pt x="16910" y="11730"/>
                    </a:lnTo>
                    <a:lnTo>
                      <a:pt x="17248" y="11835"/>
                    </a:lnTo>
                    <a:lnTo>
                      <a:pt x="17514" y="11966"/>
                    </a:lnTo>
                    <a:lnTo>
                      <a:pt x="17763" y="12110"/>
                    </a:lnTo>
                    <a:lnTo>
                      <a:pt x="17887" y="12215"/>
                    </a:lnTo>
                    <a:lnTo>
                      <a:pt x="18065" y="12307"/>
                    </a:lnTo>
                    <a:lnTo>
                      <a:pt x="18260" y="12412"/>
                    </a:lnTo>
                    <a:lnTo>
                      <a:pt x="18438" y="12464"/>
                    </a:lnTo>
                    <a:lnTo>
                      <a:pt x="18669" y="12543"/>
                    </a:lnTo>
                    <a:lnTo>
                      <a:pt x="18882" y="12569"/>
                    </a:lnTo>
                    <a:lnTo>
                      <a:pt x="19113" y="12595"/>
                    </a:lnTo>
                    <a:lnTo>
                      <a:pt x="19361" y="12608"/>
                    </a:lnTo>
                    <a:lnTo>
                      <a:pt x="19592" y="12608"/>
                    </a:lnTo>
                    <a:lnTo>
                      <a:pt x="19841" y="12595"/>
                    </a:lnTo>
                    <a:lnTo>
                      <a:pt x="20072" y="12543"/>
                    </a:lnTo>
                    <a:lnTo>
                      <a:pt x="20321" y="12490"/>
                    </a:lnTo>
                    <a:lnTo>
                      <a:pt x="20551" y="12438"/>
                    </a:lnTo>
                    <a:lnTo>
                      <a:pt x="20800" y="12333"/>
                    </a:lnTo>
                    <a:lnTo>
                      <a:pt x="20996" y="12241"/>
                    </a:lnTo>
                    <a:lnTo>
                      <a:pt x="21244" y="12110"/>
                    </a:lnTo>
                    <a:lnTo>
                      <a:pt x="21298" y="12032"/>
                    </a:lnTo>
                    <a:lnTo>
                      <a:pt x="21404" y="11966"/>
                    </a:lnTo>
                    <a:lnTo>
                      <a:pt x="21475" y="11861"/>
                    </a:lnTo>
                    <a:lnTo>
                      <a:pt x="21511" y="11730"/>
                    </a:lnTo>
                    <a:lnTo>
                      <a:pt x="21617" y="11481"/>
                    </a:lnTo>
                    <a:lnTo>
                      <a:pt x="21653" y="11180"/>
                    </a:lnTo>
                    <a:lnTo>
                      <a:pt x="21653" y="10826"/>
                    </a:lnTo>
                    <a:lnTo>
                      <a:pt x="21653" y="10472"/>
                    </a:lnTo>
                    <a:lnTo>
                      <a:pt x="21582" y="10092"/>
                    </a:lnTo>
                    <a:lnTo>
                      <a:pt x="21511" y="9725"/>
                    </a:lnTo>
                    <a:lnTo>
                      <a:pt x="21298" y="8912"/>
                    </a:lnTo>
                    <a:lnTo>
                      <a:pt x="21067" y="8191"/>
                    </a:lnTo>
                    <a:lnTo>
                      <a:pt x="20800" y="7536"/>
                    </a:lnTo>
                    <a:lnTo>
                      <a:pt x="20551" y="7025"/>
                    </a:lnTo>
                    <a:lnTo>
                      <a:pt x="20001" y="7103"/>
                    </a:lnTo>
                    <a:lnTo>
                      <a:pt x="19432" y="7156"/>
                    </a:lnTo>
                    <a:lnTo>
                      <a:pt x="18846" y="7208"/>
                    </a:lnTo>
                    <a:lnTo>
                      <a:pt x="18225" y="7208"/>
                    </a:lnTo>
                    <a:lnTo>
                      <a:pt x="17656" y="7208"/>
                    </a:lnTo>
                    <a:lnTo>
                      <a:pt x="17070" y="7182"/>
                    </a:lnTo>
                    <a:lnTo>
                      <a:pt x="16484" y="7156"/>
                    </a:lnTo>
                    <a:lnTo>
                      <a:pt x="15986" y="7103"/>
                    </a:lnTo>
                    <a:lnTo>
                      <a:pt x="14992" y="6999"/>
                    </a:lnTo>
                    <a:lnTo>
                      <a:pt x="14210" y="6907"/>
                    </a:lnTo>
                    <a:lnTo>
                      <a:pt x="13695" y="6828"/>
                    </a:lnTo>
                    <a:lnTo>
                      <a:pt x="13517" y="6802"/>
                    </a:lnTo>
                    <a:lnTo>
                      <a:pt x="13073" y="6645"/>
                    </a:lnTo>
                    <a:lnTo>
                      <a:pt x="12700" y="6474"/>
                    </a:lnTo>
                    <a:lnTo>
                      <a:pt x="12363" y="6304"/>
                    </a:lnTo>
                    <a:lnTo>
                      <a:pt x="12132" y="6094"/>
                    </a:lnTo>
                    <a:lnTo>
                      <a:pt x="11919" y="5871"/>
                    </a:lnTo>
                    <a:lnTo>
                      <a:pt x="11776" y="5649"/>
                    </a:lnTo>
                    <a:lnTo>
                      <a:pt x="11688" y="5413"/>
                    </a:lnTo>
                    <a:lnTo>
                      <a:pt x="11617" y="5190"/>
                    </a:lnTo>
                    <a:lnTo>
                      <a:pt x="11617" y="4941"/>
                    </a:lnTo>
                    <a:lnTo>
                      <a:pt x="11652" y="4718"/>
                    </a:lnTo>
                    <a:lnTo>
                      <a:pt x="11723" y="4482"/>
                    </a:lnTo>
                    <a:lnTo>
                      <a:pt x="11812" y="4285"/>
                    </a:lnTo>
                    <a:lnTo>
                      <a:pt x="11919" y="4089"/>
                    </a:lnTo>
                    <a:lnTo>
                      <a:pt x="12096" y="3905"/>
                    </a:lnTo>
                    <a:lnTo>
                      <a:pt x="12292" y="3735"/>
                    </a:lnTo>
                    <a:lnTo>
                      <a:pt x="12505" y="3604"/>
                    </a:lnTo>
                    <a:lnTo>
                      <a:pt x="12700" y="3460"/>
                    </a:lnTo>
                    <a:lnTo>
                      <a:pt x="12878" y="3250"/>
                    </a:lnTo>
                    <a:lnTo>
                      <a:pt x="13038" y="3027"/>
                    </a:lnTo>
                    <a:lnTo>
                      <a:pt x="13180" y="2752"/>
                    </a:lnTo>
                    <a:lnTo>
                      <a:pt x="13286" y="2477"/>
                    </a:lnTo>
                    <a:lnTo>
                      <a:pt x="13322" y="2175"/>
                    </a:lnTo>
                    <a:lnTo>
                      <a:pt x="13357" y="1874"/>
                    </a:lnTo>
                    <a:lnTo>
                      <a:pt x="13286" y="1572"/>
                    </a:lnTo>
                    <a:lnTo>
                      <a:pt x="13180" y="1271"/>
                    </a:lnTo>
                    <a:lnTo>
                      <a:pt x="13038" y="983"/>
                    </a:lnTo>
                    <a:lnTo>
                      <a:pt x="12949" y="865"/>
                    </a:lnTo>
                    <a:lnTo>
                      <a:pt x="12807" y="733"/>
                    </a:lnTo>
                    <a:lnTo>
                      <a:pt x="12665" y="616"/>
                    </a:lnTo>
                    <a:lnTo>
                      <a:pt x="12505" y="511"/>
                    </a:lnTo>
                    <a:lnTo>
                      <a:pt x="12327" y="406"/>
                    </a:lnTo>
                    <a:lnTo>
                      <a:pt x="12132" y="314"/>
                    </a:lnTo>
                    <a:lnTo>
                      <a:pt x="11883" y="235"/>
                    </a:lnTo>
                    <a:lnTo>
                      <a:pt x="11652" y="183"/>
                    </a:lnTo>
                    <a:lnTo>
                      <a:pt x="11368" y="104"/>
                    </a:lnTo>
                    <a:lnTo>
                      <a:pt x="11101" y="78"/>
                    </a:lnTo>
                    <a:lnTo>
                      <a:pt x="10800" y="52"/>
                    </a:lnTo>
                    <a:lnTo>
                      <a:pt x="10444" y="52"/>
                    </a:lnTo>
                    <a:lnTo>
                      <a:pt x="10142" y="52"/>
                    </a:lnTo>
                    <a:lnTo>
                      <a:pt x="9840" y="78"/>
                    </a:lnTo>
                    <a:lnTo>
                      <a:pt x="9574" y="104"/>
                    </a:lnTo>
                    <a:lnTo>
                      <a:pt x="9325" y="157"/>
                    </a:lnTo>
                    <a:lnTo>
                      <a:pt x="9094" y="209"/>
                    </a:lnTo>
                    <a:lnTo>
                      <a:pt x="8846" y="262"/>
                    </a:lnTo>
                    <a:lnTo>
                      <a:pt x="8650" y="340"/>
                    </a:lnTo>
                    <a:lnTo>
                      <a:pt x="8437" y="432"/>
                    </a:lnTo>
                    <a:lnTo>
                      <a:pt x="8277" y="511"/>
                    </a:lnTo>
                    <a:lnTo>
                      <a:pt x="8100" y="616"/>
                    </a:lnTo>
                    <a:lnTo>
                      <a:pt x="7957" y="707"/>
                    </a:lnTo>
                    <a:lnTo>
                      <a:pt x="7833" y="838"/>
                    </a:lnTo>
                    <a:lnTo>
                      <a:pt x="7620" y="1061"/>
                    </a:lnTo>
                    <a:lnTo>
                      <a:pt x="7442" y="1336"/>
                    </a:lnTo>
                    <a:lnTo>
                      <a:pt x="7353" y="1599"/>
                    </a:lnTo>
                    <a:lnTo>
                      <a:pt x="7318" y="1900"/>
                    </a:lnTo>
                    <a:lnTo>
                      <a:pt x="7318" y="2175"/>
                    </a:lnTo>
                    <a:lnTo>
                      <a:pt x="7353" y="2450"/>
                    </a:lnTo>
                    <a:lnTo>
                      <a:pt x="7442" y="2726"/>
                    </a:lnTo>
                    <a:lnTo>
                      <a:pt x="7620" y="2975"/>
                    </a:lnTo>
                    <a:lnTo>
                      <a:pt x="7833" y="3198"/>
                    </a:lnTo>
                    <a:lnTo>
                      <a:pt x="8064" y="3433"/>
                    </a:lnTo>
                    <a:lnTo>
                      <a:pt x="8295" y="3630"/>
                    </a:lnTo>
                    <a:lnTo>
                      <a:pt x="8508" y="3853"/>
                    </a:lnTo>
                    <a:lnTo>
                      <a:pt x="8686" y="4089"/>
                    </a:lnTo>
                    <a:lnTo>
                      <a:pt x="8775" y="4312"/>
                    </a:lnTo>
                    <a:lnTo>
                      <a:pt x="8846" y="4561"/>
                    </a:lnTo>
                    <a:lnTo>
                      <a:pt x="8846" y="4810"/>
                    </a:lnTo>
                    <a:lnTo>
                      <a:pt x="8810" y="5059"/>
                    </a:lnTo>
                    <a:lnTo>
                      <a:pt x="8721" y="5295"/>
                    </a:lnTo>
                    <a:lnTo>
                      <a:pt x="8579" y="5544"/>
                    </a:lnTo>
                    <a:lnTo>
                      <a:pt x="8366" y="5766"/>
                    </a:lnTo>
                    <a:lnTo>
                      <a:pt x="8135" y="5976"/>
                    </a:lnTo>
                    <a:lnTo>
                      <a:pt x="7833" y="6199"/>
                    </a:lnTo>
                    <a:lnTo>
                      <a:pt x="7478" y="6369"/>
                    </a:lnTo>
                    <a:lnTo>
                      <a:pt x="7069" y="6527"/>
                    </a:lnTo>
                    <a:lnTo>
                      <a:pt x="6590" y="6671"/>
                    </a:lnTo>
                    <a:lnTo>
                      <a:pt x="6092" y="6802"/>
                    </a:lnTo>
                    <a:lnTo>
                      <a:pt x="5684" y="6802"/>
                    </a:lnTo>
                    <a:lnTo>
                      <a:pt x="5133" y="6802"/>
                    </a:lnTo>
                    <a:lnTo>
                      <a:pt x="4547" y="6802"/>
                    </a:lnTo>
                    <a:lnTo>
                      <a:pt x="3872" y="6802"/>
                    </a:lnTo>
                    <a:lnTo>
                      <a:pt x="3144" y="6802"/>
                    </a:lnTo>
                    <a:lnTo>
                      <a:pt x="2362" y="6802"/>
                    </a:lnTo>
                    <a:lnTo>
                      <a:pt x="1545" y="6802"/>
                    </a:lnTo>
                    <a:lnTo>
                      <a:pt x="692" y="6802"/>
                    </a:lnTo>
                    <a:lnTo>
                      <a:pt x="586" y="7234"/>
                    </a:lnTo>
                    <a:lnTo>
                      <a:pt x="461" y="7837"/>
                    </a:lnTo>
                    <a:lnTo>
                      <a:pt x="355" y="8493"/>
                    </a:lnTo>
                    <a:lnTo>
                      <a:pt x="248" y="9187"/>
                    </a:lnTo>
                    <a:lnTo>
                      <a:pt x="142" y="9869"/>
                    </a:lnTo>
                    <a:lnTo>
                      <a:pt x="106" y="10498"/>
                    </a:lnTo>
                    <a:lnTo>
                      <a:pt x="106" y="10983"/>
                    </a:lnTo>
                    <a:lnTo>
                      <a:pt x="106" y="11311"/>
                    </a:lnTo>
                    <a:lnTo>
                      <a:pt x="213" y="11481"/>
                    </a:lnTo>
                    <a:lnTo>
                      <a:pt x="319" y="11651"/>
                    </a:lnTo>
                    <a:lnTo>
                      <a:pt x="497" y="11783"/>
                    </a:lnTo>
                    <a:lnTo>
                      <a:pt x="692" y="11914"/>
                    </a:lnTo>
                    <a:lnTo>
                      <a:pt x="941" y="12032"/>
                    </a:lnTo>
                    <a:lnTo>
                      <a:pt x="1207" y="12110"/>
                    </a:lnTo>
                    <a:lnTo>
                      <a:pt x="1509" y="12189"/>
                    </a:lnTo>
                    <a:lnTo>
                      <a:pt x="1794" y="12241"/>
                    </a:lnTo>
                    <a:lnTo>
                      <a:pt x="2131" y="12267"/>
                    </a:lnTo>
                    <a:lnTo>
                      <a:pt x="2433" y="12281"/>
                    </a:lnTo>
                    <a:lnTo>
                      <a:pt x="2735" y="12267"/>
                    </a:lnTo>
                    <a:lnTo>
                      <a:pt x="3055" y="12241"/>
                    </a:lnTo>
                    <a:lnTo>
                      <a:pt x="3357" y="12189"/>
                    </a:lnTo>
                    <a:lnTo>
                      <a:pt x="3623" y="12084"/>
                    </a:lnTo>
                    <a:lnTo>
                      <a:pt x="3872" y="11979"/>
                    </a:lnTo>
                    <a:lnTo>
                      <a:pt x="4103" y="11861"/>
                    </a:lnTo>
                    <a:lnTo>
                      <a:pt x="4316" y="11704"/>
                    </a:lnTo>
                    <a:lnTo>
                      <a:pt x="4582" y="11612"/>
                    </a:lnTo>
                    <a:lnTo>
                      <a:pt x="4849" y="11533"/>
                    </a:lnTo>
                    <a:lnTo>
                      <a:pt x="5169" y="11507"/>
                    </a:lnTo>
                    <a:lnTo>
                      <a:pt x="5506" y="11481"/>
                    </a:lnTo>
                    <a:lnTo>
                      <a:pt x="5808" y="11507"/>
                    </a:lnTo>
                    <a:lnTo>
                      <a:pt x="6146" y="11560"/>
                    </a:lnTo>
                    <a:lnTo>
                      <a:pt x="6501" y="11651"/>
                    </a:lnTo>
                    <a:lnTo>
                      <a:pt x="6803" y="11783"/>
                    </a:lnTo>
                    <a:lnTo>
                      <a:pt x="7105" y="11940"/>
                    </a:lnTo>
                    <a:lnTo>
                      <a:pt x="7353" y="12110"/>
                    </a:lnTo>
                    <a:lnTo>
                      <a:pt x="7584" y="12333"/>
                    </a:lnTo>
                    <a:lnTo>
                      <a:pt x="7798" y="12595"/>
                    </a:lnTo>
                    <a:lnTo>
                      <a:pt x="7922" y="12870"/>
                    </a:lnTo>
                    <a:lnTo>
                      <a:pt x="8028" y="13198"/>
                    </a:lnTo>
                    <a:lnTo>
                      <a:pt x="8064" y="13526"/>
                    </a:lnTo>
                    <a:lnTo>
                      <a:pt x="8028" y="13775"/>
                    </a:lnTo>
                    <a:lnTo>
                      <a:pt x="7922" y="13998"/>
                    </a:lnTo>
                    <a:lnTo>
                      <a:pt x="7798" y="14220"/>
                    </a:lnTo>
                    <a:lnTo>
                      <a:pt x="7584" y="14404"/>
                    </a:lnTo>
                    <a:lnTo>
                      <a:pt x="7353" y="14574"/>
                    </a:lnTo>
                    <a:lnTo>
                      <a:pt x="7105" y="14732"/>
                    </a:lnTo>
                    <a:lnTo>
                      <a:pt x="6803" y="14850"/>
                    </a:lnTo>
                    <a:lnTo>
                      <a:pt x="6501" y="14954"/>
                    </a:lnTo>
                    <a:lnTo>
                      <a:pt x="6146" y="15033"/>
                    </a:lnTo>
                    <a:lnTo>
                      <a:pt x="5808" y="15085"/>
                    </a:lnTo>
                    <a:lnTo>
                      <a:pt x="5506" y="15085"/>
                    </a:lnTo>
                    <a:lnTo>
                      <a:pt x="5169" y="15059"/>
                    </a:lnTo>
                    <a:lnTo>
                      <a:pt x="4849" y="15007"/>
                    </a:lnTo>
                    <a:lnTo>
                      <a:pt x="4582" y="14902"/>
                    </a:lnTo>
                    <a:lnTo>
                      <a:pt x="4316" y="14784"/>
                    </a:lnTo>
                    <a:lnTo>
                      <a:pt x="4103" y="14600"/>
                    </a:lnTo>
                    <a:lnTo>
                      <a:pt x="3907" y="14430"/>
                    </a:lnTo>
                    <a:lnTo>
                      <a:pt x="3659" y="14299"/>
                    </a:lnTo>
                    <a:lnTo>
                      <a:pt x="3428" y="14194"/>
                    </a:lnTo>
                    <a:lnTo>
                      <a:pt x="3179" y="14129"/>
                    </a:lnTo>
                    <a:lnTo>
                      <a:pt x="2913" y="14102"/>
                    </a:lnTo>
                    <a:lnTo>
                      <a:pt x="2646" y="14102"/>
                    </a:lnTo>
                    <a:lnTo>
                      <a:pt x="2362" y="14129"/>
                    </a:lnTo>
                    <a:lnTo>
                      <a:pt x="2096" y="14168"/>
                    </a:lnTo>
                    <a:lnTo>
                      <a:pt x="1811" y="14273"/>
                    </a:lnTo>
                    <a:lnTo>
                      <a:pt x="1545" y="14378"/>
                    </a:lnTo>
                    <a:lnTo>
                      <a:pt x="1314" y="14496"/>
                    </a:lnTo>
                    <a:lnTo>
                      <a:pt x="1065" y="14653"/>
                    </a:lnTo>
                    <a:lnTo>
                      <a:pt x="870" y="14797"/>
                    </a:lnTo>
                    <a:lnTo>
                      <a:pt x="657" y="14981"/>
                    </a:lnTo>
                    <a:lnTo>
                      <a:pt x="497" y="15177"/>
                    </a:lnTo>
                    <a:lnTo>
                      <a:pt x="390" y="15413"/>
                    </a:lnTo>
                    <a:lnTo>
                      <a:pt x="284" y="15636"/>
                    </a:lnTo>
                    <a:lnTo>
                      <a:pt x="248" y="15911"/>
                    </a:lnTo>
                    <a:lnTo>
                      <a:pt x="284" y="16239"/>
                    </a:lnTo>
                    <a:lnTo>
                      <a:pt x="319" y="16566"/>
                    </a:lnTo>
                    <a:lnTo>
                      <a:pt x="497" y="17340"/>
                    </a:lnTo>
                    <a:lnTo>
                      <a:pt x="692" y="18152"/>
                    </a:lnTo>
                    <a:lnTo>
                      <a:pt x="799" y="18559"/>
                    </a:lnTo>
                    <a:lnTo>
                      <a:pt x="905" y="18978"/>
                    </a:lnTo>
                    <a:lnTo>
                      <a:pt x="959" y="19384"/>
                    </a:lnTo>
                    <a:lnTo>
                      <a:pt x="994" y="19791"/>
                    </a:lnTo>
                    <a:lnTo>
                      <a:pt x="994" y="20132"/>
                    </a:lnTo>
                    <a:lnTo>
                      <a:pt x="959" y="20485"/>
                    </a:lnTo>
                    <a:lnTo>
                      <a:pt x="941" y="20669"/>
                    </a:lnTo>
                    <a:lnTo>
                      <a:pt x="870" y="20813"/>
                    </a:lnTo>
                    <a:lnTo>
                      <a:pt x="799" y="20970"/>
                    </a:lnTo>
                    <a:lnTo>
                      <a:pt x="692" y="21088"/>
                    </a:lnTo>
                    <a:lnTo>
                      <a:pt x="1474" y="20997"/>
                    </a:lnTo>
                    <a:lnTo>
                      <a:pt x="2291" y="20866"/>
                    </a:lnTo>
                    <a:lnTo>
                      <a:pt x="3108" y="20787"/>
                    </a:lnTo>
                    <a:lnTo>
                      <a:pt x="3907" y="20721"/>
                    </a:lnTo>
                    <a:lnTo>
                      <a:pt x="4653" y="20695"/>
                    </a:lnTo>
                    <a:lnTo>
                      <a:pt x="5364" y="20695"/>
                    </a:lnTo>
                    <a:lnTo>
                      <a:pt x="5701" y="20721"/>
                    </a:lnTo>
                    <a:lnTo>
                      <a:pt x="6057" y="20761"/>
                    </a:lnTo>
                    <a:lnTo>
                      <a:pt x="6323" y="20813"/>
                    </a:lnTo>
                    <a:lnTo>
                      <a:pt x="6625" y="2089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82a2"/>
                  </a:gs>
                  <a:gs pos="100000">
                    <a:srgbClr val="99ccff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Puzzle2"/>
              <p:cNvSpPr/>
              <p:nvPr/>
            </p:nvSpPr>
            <p:spPr>
              <a:xfrm>
                <a:off x="4043880" y="3446640"/>
                <a:ext cx="2772360" cy="2122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4247" y="12354"/>
                    </a:moveTo>
                    <a:lnTo>
                      <a:pt x="4134" y="12468"/>
                    </a:lnTo>
                    <a:lnTo>
                      <a:pt x="4010" y="12581"/>
                    </a:lnTo>
                    <a:lnTo>
                      <a:pt x="3897" y="12637"/>
                    </a:lnTo>
                    <a:lnTo>
                      <a:pt x="3773" y="12694"/>
                    </a:lnTo>
                    <a:lnTo>
                      <a:pt x="3637" y="12694"/>
                    </a:lnTo>
                    <a:lnTo>
                      <a:pt x="3524" y="12694"/>
                    </a:lnTo>
                    <a:lnTo>
                      <a:pt x="3400" y="12665"/>
                    </a:lnTo>
                    <a:lnTo>
                      <a:pt x="3287" y="12609"/>
                    </a:lnTo>
                    <a:lnTo>
                      <a:pt x="3027" y="12496"/>
                    </a:lnTo>
                    <a:lnTo>
                      <a:pt x="2790" y="12340"/>
                    </a:lnTo>
                    <a:lnTo>
                      <a:pt x="2530" y="12142"/>
                    </a:lnTo>
                    <a:lnTo>
                      <a:pt x="2293" y="11987"/>
                    </a:lnTo>
                    <a:lnTo>
                      <a:pt x="2033" y="11817"/>
                    </a:lnTo>
                    <a:lnTo>
                      <a:pt x="1773" y="11676"/>
                    </a:lnTo>
                    <a:lnTo>
                      <a:pt x="1638" y="11662"/>
                    </a:lnTo>
                    <a:lnTo>
                      <a:pt x="1513" y="11634"/>
                    </a:lnTo>
                    <a:lnTo>
                      <a:pt x="1378" y="11634"/>
                    </a:lnTo>
                    <a:lnTo>
                      <a:pt x="1253" y="11634"/>
                    </a:lnTo>
                    <a:lnTo>
                      <a:pt x="1118" y="11662"/>
                    </a:lnTo>
                    <a:lnTo>
                      <a:pt x="971" y="11732"/>
                    </a:lnTo>
                    <a:lnTo>
                      <a:pt x="835" y="11817"/>
                    </a:lnTo>
                    <a:lnTo>
                      <a:pt x="711" y="11959"/>
                    </a:lnTo>
                    <a:lnTo>
                      <a:pt x="553" y="12086"/>
                    </a:lnTo>
                    <a:lnTo>
                      <a:pt x="429" y="12284"/>
                    </a:lnTo>
                    <a:lnTo>
                      <a:pt x="271" y="12524"/>
                    </a:lnTo>
                    <a:lnTo>
                      <a:pt x="146" y="12793"/>
                    </a:lnTo>
                    <a:lnTo>
                      <a:pt x="79" y="12962"/>
                    </a:lnTo>
                    <a:lnTo>
                      <a:pt x="33" y="13146"/>
                    </a:lnTo>
                    <a:lnTo>
                      <a:pt x="11" y="13386"/>
                    </a:lnTo>
                    <a:lnTo>
                      <a:pt x="11" y="13641"/>
                    </a:lnTo>
                    <a:lnTo>
                      <a:pt x="33" y="13881"/>
                    </a:lnTo>
                    <a:lnTo>
                      <a:pt x="101" y="14150"/>
                    </a:lnTo>
                    <a:lnTo>
                      <a:pt x="192" y="14404"/>
                    </a:lnTo>
                    <a:lnTo>
                      <a:pt x="293" y="14645"/>
                    </a:lnTo>
                    <a:lnTo>
                      <a:pt x="451" y="14857"/>
                    </a:lnTo>
                    <a:lnTo>
                      <a:pt x="621" y="15054"/>
                    </a:lnTo>
                    <a:lnTo>
                      <a:pt x="734" y="15125"/>
                    </a:lnTo>
                    <a:lnTo>
                      <a:pt x="835" y="15210"/>
                    </a:lnTo>
                    <a:lnTo>
                      <a:pt x="948" y="15267"/>
                    </a:lnTo>
                    <a:lnTo>
                      <a:pt x="1084" y="15323"/>
                    </a:lnTo>
                    <a:lnTo>
                      <a:pt x="1208" y="15351"/>
                    </a:lnTo>
                    <a:lnTo>
                      <a:pt x="1355" y="15380"/>
                    </a:lnTo>
                    <a:lnTo>
                      <a:pt x="1513" y="15380"/>
                    </a:lnTo>
                    <a:lnTo>
                      <a:pt x="1683" y="15380"/>
                    </a:lnTo>
                    <a:lnTo>
                      <a:pt x="1864" y="15351"/>
                    </a:lnTo>
                    <a:lnTo>
                      <a:pt x="2033" y="15323"/>
                    </a:lnTo>
                    <a:lnTo>
                      <a:pt x="2225" y="15238"/>
                    </a:lnTo>
                    <a:lnTo>
                      <a:pt x="2428" y="15153"/>
                    </a:lnTo>
                    <a:lnTo>
                      <a:pt x="2745" y="15026"/>
                    </a:lnTo>
                    <a:lnTo>
                      <a:pt x="3005" y="14913"/>
                    </a:lnTo>
                    <a:lnTo>
                      <a:pt x="3264" y="14828"/>
                    </a:lnTo>
                    <a:lnTo>
                      <a:pt x="3513" y="14800"/>
                    </a:lnTo>
                    <a:lnTo>
                      <a:pt x="3615" y="14828"/>
                    </a:lnTo>
                    <a:lnTo>
                      <a:pt x="3728" y="14857"/>
                    </a:lnTo>
                    <a:lnTo>
                      <a:pt x="3807" y="14913"/>
                    </a:lnTo>
                    <a:lnTo>
                      <a:pt x="3920" y="14998"/>
                    </a:lnTo>
                    <a:lnTo>
                      <a:pt x="4010" y="15097"/>
                    </a:lnTo>
                    <a:lnTo>
                      <a:pt x="4089" y="15238"/>
                    </a:lnTo>
                    <a:lnTo>
                      <a:pt x="4179" y="15408"/>
                    </a:lnTo>
                    <a:lnTo>
                      <a:pt x="4247" y="15620"/>
                    </a:lnTo>
                    <a:lnTo>
                      <a:pt x="4326" y="15860"/>
                    </a:lnTo>
                    <a:lnTo>
                      <a:pt x="4394" y="16129"/>
                    </a:lnTo>
                    <a:lnTo>
                      <a:pt x="4439" y="16440"/>
                    </a:lnTo>
                    <a:lnTo>
                      <a:pt x="4507" y="16737"/>
                    </a:lnTo>
                    <a:lnTo>
                      <a:pt x="4552" y="17090"/>
                    </a:lnTo>
                    <a:lnTo>
                      <a:pt x="4575" y="17443"/>
                    </a:lnTo>
                    <a:lnTo>
                      <a:pt x="4586" y="17825"/>
                    </a:lnTo>
                    <a:lnTo>
                      <a:pt x="4586" y="18193"/>
                    </a:lnTo>
                    <a:lnTo>
                      <a:pt x="4586" y="18574"/>
                    </a:lnTo>
                    <a:lnTo>
                      <a:pt x="4586" y="18984"/>
                    </a:lnTo>
                    <a:lnTo>
                      <a:pt x="4552" y="19366"/>
                    </a:lnTo>
                    <a:lnTo>
                      <a:pt x="4507" y="19748"/>
                    </a:lnTo>
                    <a:lnTo>
                      <a:pt x="4462" y="20129"/>
                    </a:lnTo>
                    <a:lnTo>
                      <a:pt x="4371" y="20483"/>
                    </a:lnTo>
                    <a:lnTo>
                      <a:pt x="4292" y="20836"/>
                    </a:lnTo>
                    <a:lnTo>
                      <a:pt x="4202" y="21161"/>
                    </a:lnTo>
                    <a:lnTo>
                      <a:pt x="4744" y="21161"/>
                    </a:lnTo>
                    <a:lnTo>
                      <a:pt x="5264" y="21161"/>
                    </a:lnTo>
                    <a:lnTo>
                      <a:pt x="5784" y="21161"/>
                    </a:lnTo>
                    <a:lnTo>
                      <a:pt x="6235" y="21161"/>
                    </a:lnTo>
                    <a:lnTo>
                      <a:pt x="6676" y="21161"/>
                    </a:lnTo>
                    <a:lnTo>
                      <a:pt x="7060" y="21161"/>
                    </a:lnTo>
                    <a:lnTo>
                      <a:pt x="7410" y="21161"/>
                    </a:lnTo>
                    <a:lnTo>
                      <a:pt x="7670" y="21161"/>
                    </a:lnTo>
                    <a:lnTo>
                      <a:pt x="8020" y="21020"/>
                    </a:lnTo>
                    <a:lnTo>
                      <a:pt x="8303" y="20893"/>
                    </a:lnTo>
                    <a:lnTo>
                      <a:pt x="8563" y="20695"/>
                    </a:lnTo>
                    <a:lnTo>
                      <a:pt x="8800" y="20511"/>
                    </a:lnTo>
                    <a:lnTo>
                      <a:pt x="8969" y="20285"/>
                    </a:lnTo>
                    <a:lnTo>
                      <a:pt x="9150" y="20045"/>
                    </a:lnTo>
                    <a:lnTo>
                      <a:pt x="9252" y="19804"/>
                    </a:lnTo>
                    <a:lnTo>
                      <a:pt x="9342" y="19550"/>
                    </a:lnTo>
                    <a:lnTo>
                      <a:pt x="9410" y="19281"/>
                    </a:lnTo>
                    <a:lnTo>
                      <a:pt x="9433" y="19013"/>
                    </a:lnTo>
                    <a:lnTo>
                      <a:pt x="9433" y="18744"/>
                    </a:lnTo>
                    <a:lnTo>
                      <a:pt x="9387" y="18504"/>
                    </a:lnTo>
                    <a:lnTo>
                      <a:pt x="9320" y="18221"/>
                    </a:lnTo>
                    <a:lnTo>
                      <a:pt x="9207" y="17981"/>
                    </a:lnTo>
                    <a:lnTo>
                      <a:pt x="9105" y="17740"/>
                    </a:lnTo>
                    <a:lnTo>
                      <a:pt x="8924" y="17514"/>
                    </a:lnTo>
                    <a:lnTo>
                      <a:pt x="8777" y="17274"/>
                    </a:lnTo>
                    <a:lnTo>
                      <a:pt x="8642" y="17034"/>
                    </a:lnTo>
                    <a:lnTo>
                      <a:pt x="8563" y="16765"/>
                    </a:lnTo>
                    <a:lnTo>
                      <a:pt x="8472" y="16468"/>
                    </a:lnTo>
                    <a:lnTo>
                      <a:pt x="8450" y="16157"/>
                    </a:lnTo>
                    <a:lnTo>
                      <a:pt x="8450" y="15860"/>
                    </a:lnTo>
                    <a:lnTo>
                      <a:pt x="8472" y="15563"/>
                    </a:lnTo>
                    <a:lnTo>
                      <a:pt x="8540" y="15267"/>
                    </a:lnTo>
                    <a:lnTo>
                      <a:pt x="8642" y="14998"/>
                    </a:lnTo>
                    <a:lnTo>
                      <a:pt x="8777" y="14729"/>
                    </a:lnTo>
                    <a:lnTo>
                      <a:pt x="8868" y="14616"/>
                    </a:lnTo>
                    <a:lnTo>
                      <a:pt x="8969" y="14475"/>
                    </a:lnTo>
                    <a:lnTo>
                      <a:pt x="9060" y="14376"/>
                    </a:lnTo>
                    <a:lnTo>
                      <a:pt x="9184" y="14291"/>
                    </a:lnTo>
                    <a:lnTo>
                      <a:pt x="9297" y="14206"/>
                    </a:lnTo>
                    <a:lnTo>
                      <a:pt x="9433" y="14121"/>
                    </a:lnTo>
                    <a:lnTo>
                      <a:pt x="9579" y="14051"/>
                    </a:lnTo>
                    <a:lnTo>
                      <a:pt x="9726" y="13994"/>
                    </a:lnTo>
                    <a:lnTo>
                      <a:pt x="9884" y="13938"/>
                    </a:lnTo>
                    <a:lnTo>
                      <a:pt x="10054" y="13909"/>
                    </a:lnTo>
                    <a:lnTo>
                      <a:pt x="10257" y="13881"/>
                    </a:lnTo>
                    <a:lnTo>
                      <a:pt x="10449" y="13881"/>
                    </a:lnTo>
                    <a:lnTo>
                      <a:pt x="10664" y="13881"/>
                    </a:lnTo>
                    <a:lnTo>
                      <a:pt x="10856" y="13909"/>
                    </a:lnTo>
                    <a:lnTo>
                      <a:pt x="11037" y="13966"/>
                    </a:lnTo>
                    <a:lnTo>
                      <a:pt x="11206" y="14023"/>
                    </a:lnTo>
                    <a:lnTo>
                      <a:pt x="11353" y="14093"/>
                    </a:lnTo>
                    <a:lnTo>
                      <a:pt x="11511" y="14178"/>
                    </a:lnTo>
                    <a:lnTo>
                      <a:pt x="11635" y="14263"/>
                    </a:lnTo>
                    <a:lnTo>
                      <a:pt x="11748" y="14376"/>
                    </a:lnTo>
                    <a:lnTo>
                      <a:pt x="11861" y="14475"/>
                    </a:lnTo>
                    <a:lnTo>
                      <a:pt x="11941" y="14616"/>
                    </a:lnTo>
                    <a:lnTo>
                      <a:pt x="12031" y="14758"/>
                    </a:lnTo>
                    <a:lnTo>
                      <a:pt x="12099" y="14885"/>
                    </a:lnTo>
                    <a:lnTo>
                      <a:pt x="12200" y="15210"/>
                    </a:lnTo>
                    <a:lnTo>
                      <a:pt x="12268" y="15507"/>
                    </a:lnTo>
                    <a:lnTo>
                      <a:pt x="12291" y="15832"/>
                    </a:lnTo>
                    <a:lnTo>
                      <a:pt x="12291" y="16157"/>
                    </a:lnTo>
                    <a:lnTo>
                      <a:pt x="12246" y="16482"/>
                    </a:lnTo>
                    <a:lnTo>
                      <a:pt x="12178" y="16807"/>
                    </a:lnTo>
                    <a:lnTo>
                      <a:pt x="12099" y="17090"/>
                    </a:lnTo>
                    <a:lnTo>
                      <a:pt x="12008" y="17330"/>
                    </a:lnTo>
                    <a:lnTo>
                      <a:pt x="11884" y="17542"/>
                    </a:lnTo>
                    <a:lnTo>
                      <a:pt x="11748" y="17712"/>
                    </a:lnTo>
                    <a:lnTo>
                      <a:pt x="11613" y="17839"/>
                    </a:lnTo>
                    <a:lnTo>
                      <a:pt x="11489" y="18037"/>
                    </a:lnTo>
                    <a:lnTo>
                      <a:pt x="11398" y="18221"/>
                    </a:lnTo>
                    <a:lnTo>
                      <a:pt x="11319" y="18447"/>
                    </a:lnTo>
                    <a:lnTo>
                      <a:pt x="11251" y="18659"/>
                    </a:lnTo>
                    <a:lnTo>
                      <a:pt x="11206" y="18900"/>
                    </a:lnTo>
                    <a:lnTo>
                      <a:pt x="11184" y="19154"/>
                    </a:lnTo>
                    <a:lnTo>
                      <a:pt x="11184" y="19423"/>
                    </a:lnTo>
                    <a:lnTo>
                      <a:pt x="11229" y="19663"/>
                    </a:lnTo>
                    <a:lnTo>
                      <a:pt x="11297" y="19903"/>
                    </a:lnTo>
                    <a:lnTo>
                      <a:pt x="11376" y="20158"/>
                    </a:lnTo>
                    <a:lnTo>
                      <a:pt x="11511" y="20398"/>
                    </a:lnTo>
                    <a:lnTo>
                      <a:pt x="11681" y="20610"/>
                    </a:lnTo>
                    <a:lnTo>
                      <a:pt x="11884" y="20808"/>
                    </a:lnTo>
                    <a:lnTo>
                      <a:pt x="12121" y="20992"/>
                    </a:lnTo>
                    <a:lnTo>
                      <a:pt x="12404" y="21161"/>
                    </a:lnTo>
                    <a:lnTo>
                      <a:pt x="12528" y="21190"/>
                    </a:lnTo>
                    <a:lnTo>
                      <a:pt x="12856" y="21274"/>
                    </a:lnTo>
                    <a:lnTo>
                      <a:pt x="13330" y="21373"/>
                    </a:lnTo>
                    <a:lnTo>
                      <a:pt x="13963" y="21486"/>
                    </a:lnTo>
                    <a:lnTo>
                      <a:pt x="14313" y="21543"/>
                    </a:lnTo>
                    <a:lnTo>
                      <a:pt x="14652" y="21571"/>
                    </a:lnTo>
                    <a:lnTo>
                      <a:pt x="15025" y="21600"/>
                    </a:lnTo>
                    <a:lnTo>
                      <a:pt x="15409" y="21600"/>
                    </a:lnTo>
                    <a:lnTo>
                      <a:pt x="15782" y="21600"/>
                    </a:lnTo>
                    <a:lnTo>
                      <a:pt x="16177" y="21571"/>
                    </a:lnTo>
                    <a:lnTo>
                      <a:pt x="16516" y="21486"/>
                    </a:lnTo>
                    <a:lnTo>
                      <a:pt x="16889" y="21402"/>
                    </a:lnTo>
                    <a:lnTo>
                      <a:pt x="16821" y="21190"/>
                    </a:lnTo>
                    <a:lnTo>
                      <a:pt x="16776" y="20935"/>
                    </a:lnTo>
                    <a:lnTo>
                      <a:pt x="16742" y="20667"/>
                    </a:lnTo>
                    <a:lnTo>
                      <a:pt x="16719" y="20370"/>
                    </a:lnTo>
                    <a:lnTo>
                      <a:pt x="16697" y="19719"/>
                    </a:lnTo>
                    <a:lnTo>
                      <a:pt x="16697" y="19013"/>
                    </a:lnTo>
                    <a:lnTo>
                      <a:pt x="16719" y="18306"/>
                    </a:lnTo>
                    <a:lnTo>
                      <a:pt x="16753" y="17599"/>
                    </a:lnTo>
                    <a:lnTo>
                      <a:pt x="16821" y="16949"/>
                    </a:lnTo>
                    <a:lnTo>
                      <a:pt x="16889" y="16383"/>
                    </a:lnTo>
                    <a:lnTo>
                      <a:pt x="16934" y="16129"/>
                    </a:lnTo>
                    <a:lnTo>
                      <a:pt x="17002" y="15945"/>
                    </a:lnTo>
                    <a:lnTo>
                      <a:pt x="17081" y="15790"/>
                    </a:lnTo>
                    <a:lnTo>
                      <a:pt x="17194" y="15648"/>
                    </a:lnTo>
                    <a:lnTo>
                      <a:pt x="17318" y="15563"/>
                    </a:lnTo>
                    <a:lnTo>
                      <a:pt x="17453" y="15507"/>
                    </a:lnTo>
                    <a:lnTo>
                      <a:pt x="17600" y="15450"/>
                    </a:lnTo>
                    <a:lnTo>
                      <a:pt x="17758" y="15450"/>
                    </a:lnTo>
                    <a:lnTo>
                      <a:pt x="17905" y="15479"/>
                    </a:lnTo>
                    <a:lnTo>
                      <a:pt x="18064" y="15535"/>
                    </a:lnTo>
                    <a:lnTo>
                      <a:pt x="18233" y="15620"/>
                    </a:lnTo>
                    <a:lnTo>
                      <a:pt x="18380" y="15733"/>
                    </a:lnTo>
                    <a:lnTo>
                      <a:pt x="18561" y="15832"/>
                    </a:lnTo>
                    <a:lnTo>
                      <a:pt x="18707" y="15973"/>
                    </a:lnTo>
                    <a:lnTo>
                      <a:pt x="18866" y="16129"/>
                    </a:lnTo>
                    <a:lnTo>
                      <a:pt x="18990" y="16327"/>
                    </a:lnTo>
                    <a:lnTo>
                      <a:pt x="19125" y="16482"/>
                    </a:lnTo>
                    <a:lnTo>
                      <a:pt x="19295" y="16624"/>
                    </a:lnTo>
                    <a:lnTo>
                      <a:pt x="19464" y="16737"/>
                    </a:lnTo>
                    <a:lnTo>
                      <a:pt x="19668" y="16807"/>
                    </a:lnTo>
                    <a:lnTo>
                      <a:pt x="19860" y="16836"/>
                    </a:lnTo>
                    <a:lnTo>
                      <a:pt x="20052" y="16864"/>
                    </a:lnTo>
                    <a:lnTo>
                      <a:pt x="20266" y="16836"/>
                    </a:lnTo>
                    <a:lnTo>
                      <a:pt x="20470" y="16793"/>
                    </a:lnTo>
                    <a:lnTo>
                      <a:pt x="20662" y="16708"/>
                    </a:lnTo>
                    <a:lnTo>
                      <a:pt x="20854" y="16567"/>
                    </a:lnTo>
                    <a:lnTo>
                      <a:pt x="21035" y="16412"/>
                    </a:lnTo>
                    <a:lnTo>
                      <a:pt x="21182" y="16214"/>
                    </a:lnTo>
                    <a:lnTo>
                      <a:pt x="21340" y="16002"/>
                    </a:lnTo>
                    <a:lnTo>
                      <a:pt x="21441" y="15733"/>
                    </a:lnTo>
                    <a:lnTo>
                      <a:pt x="21532" y="15436"/>
                    </a:lnTo>
                    <a:lnTo>
                      <a:pt x="21600" y="15083"/>
                    </a:lnTo>
                    <a:lnTo>
                      <a:pt x="21600" y="14885"/>
                    </a:lnTo>
                    <a:lnTo>
                      <a:pt x="21600" y="14729"/>
                    </a:lnTo>
                    <a:lnTo>
                      <a:pt x="21600" y="14531"/>
                    </a:lnTo>
                    <a:lnTo>
                      <a:pt x="21577" y="14376"/>
                    </a:lnTo>
                    <a:lnTo>
                      <a:pt x="21532" y="14206"/>
                    </a:lnTo>
                    <a:lnTo>
                      <a:pt x="21487" y="14051"/>
                    </a:lnTo>
                    <a:lnTo>
                      <a:pt x="21419" y="13909"/>
                    </a:lnTo>
                    <a:lnTo>
                      <a:pt x="21351" y="13768"/>
                    </a:lnTo>
                    <a:lnTo>
                      <a:pt x="21204" y="13500"/>
                    </a:lnTo>
                    <a:lnTo>
                      <a:pt x="21035" y="13287"/>
                    </a:lnTo>
                    <a:lnTo>
                      <a:pt x="20809" y="13090"/>
                    </a:lnTo>
                    <a:lnTo>
                      <a:pt x="20594" y="12962"/>
                    </a:lnTo>
                    <a:lnTo>
                      <a:pt x="20357" y="12821"/>
                    </a:lnTo>
                    <a:lnTo>
                      <a:pt x="20120" y="12764"/>
                    </a:lnTo>
                    <a:lnTo>
                      <a:pt x="19882" y="12708"/>
                    </a:lnTo>
                    <a:lnTo>
                      <a:pt x="19645" y="12736"/>
                    </a:lnTo>
                    <a:lnTo>
                      <a:pt x="19430" y="12793"/>
                    </a:lnTo>
                    <a:lnTo>
                      <a:pt x="19227" y="12906"/>
                    </a:lnTo>
                    <a:lnTo>
                      <a:pt x="19148" y="12962"/>
                    </a:lnTo>
                    <a:lnTo>
                      <a:pt x="19058" y="13047"/>
                    </a:lnTo>
                    <a:lnTo>
                      <a:pt x="18990" y="13146"/>
                    </a:lnTo>
                    <a:lnTo>
                      <a:pt x="18911" y="13259"/>
                    </a:lnTo>
                    <a:lnTo>
                      <a:pt x="18775" y="13471"/>
                    </a:lnTo>
                    <a:lnTo>
                      <a:pt x="18628" y="13641"/>
                    </a:lnTo>
                    <a:lnTo>
                      <a:pt x="18470" y="13740"/>
                    </a:lnTo>
                    <a:lnTo>
                      <a:pt x="18301" y="13825"/>
                    </a:lnTo>
                    <a:lnTo>
                      <a:pt x="18143" y="13853"/>
                    </a:lnTo>
                    <a:lnTo>
                      <a:pt x="17973" y="13881"/>
                    </a:lnTo>
                    <a:lnTo>
                      <a:pt x="17804" y="13853"/>
                    </a:lnTo>
                    <a:lnTo>
                      <a:pt x="17646" y="13796"/>
                    </a:lnTo>
                    <a:lnTo>
                      <a:pt x="17499" y="13726"/>
                    </a:lnTo>
                    <a:lnTo>
                      <a:pt x="17341" y="13641"/>
                    </a:lnTo>
                    <a:lnTo>
                      <a:pt x="17216" y="13528"/>
                    </a:lnTo>
                    <a:lnTo>
                      <a:pt x="17103" y="13386"/>
                    </a:lnTo>
                    <a:lnTo>
                      <a:pt x="17024" y="13259"/>
                    </a:lnTo>
                    <a:lnTo>
                      <a:pt x="16934" y="13118"/>
                    </a:lnTo>
                    <a:lnTo>
                      <a:pt x="16889" y="12991"/>
                    </a:lnTo>
                    <a:lnTo>
                      <a:pt x="16889" y="12849"/>
                    </a:lnTo>
                    <a:lnTo>
                      <a:pt x="16889" y="12383"/>
                    </a:lnTo>
                    <a:lnTo>
                      <a:pt x="16889" y="11662"/>
                    </a:lnTo>
                    <a:lnTo>
                      <a:pt x="16889" y="10701"/>
                    </a:lnTo>
                    <a:lnTo>
                      <a:pt x="16889" y="9640"/>
                    </a:lnTo>
                    <a:lnTo>
                      <a:pt x="16889" y="8566"/>
                    </a:lnTo>
                    <a:lnTo>
                      <a:pt x="16889" y="7478"/>
                    </a:lnTo>
                    <a:lnTo>
                      <a:pt x="16889" y="6502"/>
                    </a:lnTo>
                    <a:lnTo>
                      <a:pt x="16889" y="5739"/>
                    </a:lnTo>
                    <a:lnTo>
                      <a:pt x="16674" y="5894"/>
                    </a:lnTo>
                    <a:lnTo>
                      <a:pt x="16414" y="6036"/>
                    </a:lnTo>
                    <a:lnTo>
                      <a:pt x="16154" y="6177"/>
                    </a:lnTo>
                    <a:lnTo>
                      <a:pt x="15849" y="6248"/>
                    </a:lnTo>
                    <a:lnTo>
                      <a:pt x="15544" y="6304"/>
                    </a:lnTo>
                    <a:lnTo>
                      <a:pt x="15217" y="6332"/>
                    </a:lnTo>
                    <a:lnTo>
                      <a:pt x="14866" y="6361"/>
                    </a:lnTo>
                    <a:lnTo>
                      <a:pt x="14550" y="6361"/>
                    </a:lnTo>
                    <a:lnTo>
                      <a:pt x="14200" y="6332"/>
                    </a:lnTo>
                    <a:lnTo>
                      <a:pt x="13850" y="6276"/>
                    </a:lnTo>
                    <a:lnTo>
                      <a:pt x="13522" y="6219"/>
                    </a:lnTo>
                    <a:lnTo>
                      <a:pt x="13206" y="6149"/>
                    </a:lnTo>
                    <a:lnTo>
                      <a:pt x="12901" y="6064"/>
                    </a:lnTo>
                    <a:lnTo>
                      <a:pt x="12618" y="5951"/>
                    </a:lnTo>
                    <a:lnTo>
                      <a:pt x="12358" y="5838"/>
                    </a:lnTo>
                    <a:lnTo>
                      <a:pt x="12121" y="5739"/>
                    </a:lnTo>
                    <a:lnTo>
                      <a:pt x="11941" y="5626"/>
                    </a:lnTo>
                    <a:lnTo>
                      <a:pt x="11794" y="5513"/>
                    </a:lnTo>
                    <a:lnTo>
                      <a:pt x="11658" y="5414"/>
                    </a:lnTo>
                    <a:lnTo>
                      <a:pt x="11556" y="5301"/>
                    </a:lnTo>
                    <a:lnTo>
                      <a:pt x="11466" y="5187"/>
                    </a:lnTo>
                    <a:lnTo>
                      <a:pt x="11398" y="5089"/>
                    </a:lnTo>
                    <a:lnTo>
                      <a:pt x="11376" y="4947"/>
                    </a:lnTo>
                    <a:lnTo>
                      <a:pt x="11353" y="4834"/>
                    </a:lnTo>
                    <a:lnTo>
                      <a:pt x="11353" y="4707"/>
                    </a:lnTo>
                    <a:lnTo>
                      <a:pt x="11376" y="4565"/>
                    </a:lnTo>
                    <a:lnTo>
                      <a:pt x="11443" y="4410"/>
                    </a:lnTo>
                    <a:lnTo>
                      <a:pt x="11511" y="4240"/>
                    </a:lnTo>
                    <a:lnTo>
                      <a:pt x="11703" y="3887"/>
                    </a:lnTo>
                    <a:lnTo>
                      <a:pt x="11986" y="3505"/>
                    </a:lnTo>
                    <a:lnTo>
                      <a:pt x="12144" y="3265"/>
                    </a:lnTo>
                    <a:lnTo>
                      <a:pt x="12246" y="3025"/>
                    </a:lnTo>
                    <a:lnTo>
                      <a:pt x="12336" y="2756"/>
                    </a:lnTo>
                    <a:lnTo>
                      <a:pt x="12404" y="2445"/>
                    </a:lnTo>
                    <a:lnTo>
                      <a:pt x="12438" y="2176"/>
                    </a:lnTo>
                    <a:lnTo>
                      <a:pt x="12438" y="1880"/>
                    </a:lnTo>
                    <a:lnTo>
                      <a:pt x="12404" y="1583"/>
                    </a:lnTo>
                    <a:lnTo>
                      <a:pt x="12336" y="1314"/>
                    </a:lnTo>
                    <a:lnTo>
                      <a:pt x="12246" y="1046"/>
                    </a:lnTo>
                    <a:lnTo>
                      <a:pt x="12099" y="791"/>
                    </a:lnTo>
                    <a:lnTo>
                      <a:pt x="12008" y="692"/>
                    </a:lnTo>
                    <a:lnTo>
                      <a:pt x="11918" y="579"/>
                    </a:lnTo>
                    <a:lnTo>
                      <a:pt x="11816" y="466"/>
                    </a:lnTo>
                    <a:lnTo>
                      <a:pt x="11703" y="381"/>
                    </a:lnTo>
                    <a:lnTo>
                      <a:pt x="11579" y="310"/>
                    </a:lnTo>
                    <a:lnTo>
                      <a:pt x="11443" y="226"/>
                    </a:lnTo>
                    <a:lnTo>
                      <a:pt x="11297" y="169"/>
                    </a:lnTo>
                    <a:lnTo>
                      <a:pt x="11138" y="113"/>
                    </a:lnTo>
                    <a:lnTo>
                      <a:pt x="10969" y="56"/>
                    </a:lnTo>
                    <a:lnTo>
                      <a:pt x="10800" y="28"/>
                    </a:lnTo>
                    <a:lnTo>
                      <a:pt x="10619" y="28"/>
                    </a:lnTo>
                    <a:lnTo>
                      <a:pt x="10404" y="28"/>
                    </a:lnTo>
                    <a:lnTo>
                      <a:pt x="10257" y="28"/>
                    </a:lnTo>
                    <a:lnTo>
                      <a:pt x="10076" y="56"/>
                    </a:lnTo>
                    <a:lnTo>
                      <a:pt x="9952" y="84"/>
                    </a:lnTo>
                    <a:lnTo>
                      <a:pt x="9794" y="141"/>
                    </a:lnTo>
                    <a:lnTo>
                      <a:pt x="9692" y="226"/>
                    </a:lnTo>
                    <a:lnTo>
                      <a:pt x="9557" y="282"/>
                    </a:lnTo>
                    <a:lnTo>
                      <a:pt x="9455" y="381"/>
                    </a:lnTo>
                    <a:lnTo>
                      <a:pt x="9365" y="466"/>
                    </a:lnTo>
                    <a:lnTo>
                      <a:pt x="9274" y="579"/>
                    </a:lnTo>
                    <a:lnTo>
                      <a:pt x="9184" y="692"/>
                    </a:lnTo>
                    <a:lnTo>
                      <a:pt x="9128" y="791"/>
                    </a:lnTo>
                    <a:lnTo>
                      <a:pt x="9060" y="932"/>
                    </a:lnTo>
                    <a:lnTo>
                      <a:pt x="8969" y="1201"/>
                    </a:lnTo>
                    <a:lnTo>
                      <a:pt x="8913" y="1498"/>
                    </a:lnTo>
                    <a:lnTo>
                      <a:pt x="8890" y="1795"/>
                    </a:lnTo>
                    <a:lnTo>
                      <a:pt x="8890" y="2120"/>
                    </a:lnTo>
                    <a:lnTo>
                      <a:pt x="8913" y="2445"/>
                    </a:lnTo>
                    <a:lnTo>
                      <a:pt x="8969" y="2756"/>
                    </a:lnTo>
                    <a:lnTo>
                      <a:pt x="9060" y="3081"/>
                    </a:lnTo>
                    <a:lnTo>
                      <a:pt x="9173" y="3378"/>
                    </a:lnTo>
                    <a:lnTo>
                      <a:pt x="9297" y="3647"/>
                    </a:lnTo>
                    <a:lnTo>
                      <a:pt x="9466" y="3887"/>
                    </a:lnTo>
                    <a:lnTo>
                      <a:pt x="9579" y="4085"/>
                    </a:lnTo>
                    <a:lnTo>
                      <a:pt x="9670" y="4269"/>
                    </a:lnTo>
                    <a:lnTo>
                      <a:pt x="9726" y="4467"/>
                    </a:lnTo>
                    <a:lnTo>
                      <a:pt x="9771" y="4650"/>
                    </a:lnTo>
                    <a:lnTo>
                      <a:pt x="9771" y="4834"/>
                    </a:lnTo>
                    <a:lnTo>
                      <a:pt x="9749" y="5032"/>
                    </a:lnTo>
                    <a:lnTo>
                      <a:pt x="9715" y="5216"/>
                    </a:lnTo>
                    <a:lnTo>
                      <a:pt x="9625" y="5385"/>
                    </a:lnTo>
                    <a:lnTo>
                      <a:pt x="9534" y="5513"/>
                    </a:lnTo>
                    <a:lnTo>
                      <a:pt x="9410" y="5626"/>
                    </a:lnTo>
                    <a:lnTo>
                      <a:pt x="9229" y="5710"/>
                    </a:lnTo>
                    <a:lnTo>
                      <a:pt x="9060" y="5767"/>
                    </a:lnTo>
                    <a:lnTo>
                      <a:pt x="8845" y="5767"/>
                    </a:lnTo>
                    <a:lnTo>
                      <a:pt x="8585" y="5739"/>
                    </a:lnTo>
                    <a:lnTo>
                      <a:pt x="8325" y="5654"/>
                    </a:lnTo>
                    <a:lnTo>
                      <a:pt x="8020" y="5513"/>
                    </a:lnTo>
                    <a:lnTo>
                      <a:pt x="7840" y="5442"/>
                    </a:lnTo>
                    <a:lnTo>
                      <a:pt x="7648" y="5385"/>
                    </a:lnTo>
                    <a:lnTo>
                      <a:pt x="7433" y="5329"/>
                    </a:lnTo>
                    <a:lnTo>
                      <a:pt x="7241" y="5301"/>
                    </a:lnTo>
                    <a:lnTo>
                      <a:pt x="6755" y="5301"/>
                    </a:lnTo>
                    <a:lnTo>
                      <a:pt x="6281" y="5329"/>
                    </a:lnTo>
                    <a:lnTo>
                      <a:pt x="5784" y="5385"/>
                    </a:lnTo>
                    <a:lnTo>
                      <a:pt x="5264" y="5498"/>
                    </a:lnTo>
                    <a:lnTo>
                      <a:pt x="4744" y="5597"/>
                    </a:lnTo>
                    <a:lnTo>
                      <a:pt x="4247" y="5739"/>
                    </a:lnTo>
                    <a:lnTo>
                      <a:pt x="4202" y="5894"/>
                    </a:lnTo>
                    <a:lnTo>
                      <a:pt x="4202" y="6191"/>
                    </a:lnTo>
                    <a:lnTo>
                      <a:pt x="4202" y="6545"/>
                    </a:lnTo>
                    <a:lnTo>
                      <a:pt x="4225" y="6954"/>
                    </a:lnTo>
                    <a:lnTo>
                      <a:pt x="4315" y="7930"/>
                    </a:lnTo>
                    <a:lnTo>
                      <a:pt x="4394" y="9018"/>
                    </a:lnTo>
                    <a:lnTo>
                      <a:pt x="4439" y="9570"/>
                    </a:lnTo>
                    <a:lnTo>
                      <a:pt x="4462" y="10107"/>
                    </a:lnTo>
                    <a:lnTo>
                      <a:pt x="4484" y="10630"/>
                    </a:lnTo>
                    <a:lnTo>
                      <a:pt x="4507" y="11082"/>
                    </a:lnTo>
                    <a:lnTo>
                      <a:pt x="4484" y="11520"/>
                    </a:lnTo>
                    <a:lnTo>
                      <a:pt x="4439" y="11874"/>
                    </a:lnTo>
                    <a:lnTo>
                      <a:pt x="4394" y="12029"/>
                    </a:lnTo>
                    <a:lnTo>
                      <a:pt x="4349" y="12171"/>
                    </a:lnTo>
                    <a:lnTo>
                      <a:pt x="4315" y="12284"/>
                    </a:lnTo>
                    <a:lnTo>
                      <a:pt x="4247" y="123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8e8ff"/>
                  </a:gs>
                  <a:gs pos="100000">
                    <a:srgbClr val="ccccff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Puzzle4"/>
              <p:cNvSpPr/>
              <p:nvPr/>
            </p:nvSpPr>
            <p:spPr>
              <a:xfrm>
                <a:off x="2972880" y="3420360"/>
                <a:ext cx="1674720" cy="2708280"/>
              </a:xfrm>
              <a:custGeom>
                <a:avLst/>
                <a:gdLst/>
                <a:ahLst/>
                <a:rect l="l" t="t" r="r" b="b"/>
                <a:pathLst>
                  <a:path w="21618" h="21666">
                    <a:moveTo>
                      <a:pt x="3813" y="10590"/>
                    </a:moveTo>
                    <a:lnTo>
                      <a:pt x="3927" y="10513"/>
                    </a:lnTo>
                    <a:lnTo>
                      <a:pt x="4078" y="10425"/>
                    </a:lnTo>
                    <a:lnTo>
                      <a:pt x="4210" y="10359"/>
                    </a:lnTo>
                    <a:lnTo>
                      <a:pt x="4361" y="10315"/>
                    </a:lnTo>
                    <a:lnTo>
                      <a:pt x="4682" y="10237"/>
                    </a:lnTo>
                    <a:lnTo>
                      <a:pt x="5041" y="10193"/>
                    </a:lnTo>
                    <a:lnTo>
                      <a:pt x="5456" y="10171"/>
                    </a:lnTo>
                    <a:lnTo>
                      <a:pt x="5853" y="10193"/>
                    </a:lnTo>
                    <a:lnTo>
                      <a:pt x="6249" y="10260"/>
                    </a:lnTo>
                    <a:lnTo>
                      <a:pt x="6646" y="10337"/>
                    </a:lnTo>
                    <a:lnTo>
                      <a:pt x="7004" y="10469"/>
                    </a:lnTo>
                    <a:lnTo>
                      <a:pt x="7363" y="10612"/>
                    </a:lnTo>
                    <a:lnTo>
                      <a:pt x="7665" y="10788"/>
                    </a:lnTo>
                    <a:lnTo>
                      <a:pt x="7911" y="10998"/>
                    </a:lnTo>
                    <a:lnTo>
                      <a:pt x="8024" y="11097"/>
                    </a:lnTo>
                    <a:lnTo>
                      <a:pt x="8137" y="11207"/>
                    </a:lnTo>
                    <a:lnTo>
                      <a:pt x="8194" y="11340"/>
                    </a:lnTo>
                    <a:lnTo>
                      <a:pt x="8269" y="11461"/>
                    </a:lnTo>
                    <a:lnTo>
                      <a:pt x="8307" y="11593"/>
                    </a:lnTo>
                    <a:lnTo>
                      <a:pt x="8307" y="11714"/>
                    </a:lnTo>
                    <a:lnTo>
                      <a:pt x="8307" y="11868"/>
                    </a:lnTo>
                    <a:lnTo>
                      <a:pt x="8307" y="12012"/>
                    </a:lnTo>
                    <a:lnTo>
                      <a:pt x="8194" y="12265"/>
                    </a:lnTo>
                    <a:lnTo>
                      <a:pt x="8062" y="12519"/>
                    </a:lnTo>
                    <a:lnTo>
                      <a:pt x="7873" y="12706"/>
                    </a:lnTo>
                    <a:lnTo>
                      <a:pt x="7627" y="12904"/>
                    </a:lnTo>
                    <a:lnTo>
                      <a:pt x="7363" y="13048"/>
                    </a:lnTo>
                    <a:lnTo>
                      <a:pt x="7080" y="13180"/>
                    </a:lnTo>
                    <a:lnTo>
                      <a:pt x="6759" y="13257"/>
                    </a:lnTo>
                    <a:lnTo>
                      <a:pt x="6419" y="13345"/>
                    </a:lnTo>
                    <a:lnTo>
                      <a:pt x="6098" y="13389"/>
                    </a:lnTo>
                    <a:lnTo>
                      <a:pt x="5739" y="13389"/>
                    </a:lnTo>
                    <a:lnTo>
                      <a:pt x="5418" y="13389"/>
                    </a:lnTo>
                    <a:lnTo>
                      <a:pt x="5079" y="13345"/>
                    </a:lnTo>
                    <a:lnTo>
                      <a:pt x="4758" y="13301"/>
                    </a:lnTo>
                    <a:lnTo>
                      <a:pt x="4474" y="13213"/>
                    </a:lnTo>
                    <a:lnTo>
                      <a:pt x="4172" y="13114"/>
                    </a:lnTo>
                    <a:lnTo>
                      <a:pt x="3965" y="12982"/>
                    </a:lnTo>
                    <a:lnTo>
                      <a:pt x="3738" y="12838"/>
                    </a:lnTo>
                    <a:lnTo>
                      <a:pt x="3493" y="12706"/>
                    </a:lnTo>
                    <a:lnTo>
                      <a:pt x="3228" y="12607"/>
                    </a:lnTo>
                    <a:lnTo>
                      <a:pt x="2945" y="12519"/>
                    </a:lnTo>
                    <a:lnTo>
                      <a:pt x="2700" y="12431"/>
                    </a:lnTo>
                    <a:lnTo>
                      <a:pt x="2397" y="12375"/>
                    </a:lnTo>
                    <a:lnTo>
                      <a:pt x="2152" y="12331"/>
                    </a:lnTo>
                    <a:lnTo>
                      <a:pt x="1888" y="12309"/>
                    </a:lnTo>
                    <a:lnTo>
                      <a:pt x="1642" y="12309"/>
                    </a:lnTo>
                    <a:lnTo>
                      <a:pt x="1397" y="12331"/>
                    </a:lnTo>
                    <a:lnTo>
                      <a:pt x="1170" y="12397"/>
                    </a:lnTo>
                    <a:lnTo>
                      <a:pt x="962" y="12453"/>
                    </a:lnTo>
                    <a:lnTo>
                      <a:pt x="774" y="12563"/>
                    </a:lnTo>
                    <a:lnTo>
                      <a:pt x="623" y="12684"/>
                    </a:lnTo>
                    <a:lnTo>
                      <a:pt x="528" y="12838"/>
                    </a:lnTo>
                    <a:lnTo>
                      <a:pt x="453" y="13026"/>
                    </a:lnTo>
                    <a:lnTo>
                      <a:pt x="339" y="13477"/>
                    </a:lnTo>
                    <a:lnTo>
                      <a:pt x="226" y="13984"/>
                    </a:lnTo>
                    <a:lnTo>
                      <a:pt x="151" y="14535"/>
                    </a:lnTo>
                    <a:lnTo>
                      <a:pt x="113" y="15075"/>
                    </a:lnTo>
                    <a:lnTo>
                      <a:pt x="113" y="15626"/>
                    </a:lnTo>
                    <a:lnTo>
                      <a:pt x="151" y="16133"/>
                    </a:lnTo>
                    <a:lnTo>
                      <a:pt x="188" y="16376"/>
                    </a:lnTo>
                    <a:lnTo>
                      <a:pt x="264" y="16585"/>
                    </a:lnTo>
                    <a:lnTo>
                      <a:pt x="339" y="16773"/>
                    </a:lnTo>
                    <a:lnTo>
                      <a:pt x="453" y="16938"/>
                    </a:lnTo>
                    <a:lnTo>
                      <a:pt x="1095" y="16883"/>
                    </a:lnTo>
                    <a:lnTo>
                      <a:pt x="1963" y="16795"/>
                    </a:lnTo>
                    <a:lnTo>
                      <a:pt x="2945" y="16751"/>
                    </a:lnTo>
                    <a:lnTo>
                      <a:pt x="3965" y="16706"/>
                    </a:lnTo>
                    <a:lnTo>
                      <a:pt x="5022" y="16684"/>
                    </a:lnTo>
                    <a:lnTo>
                      <a:pt x="5947" y="16684"/>
                    </a:lnTo>
                    <a:lnTo>
                      <a:pt x="6759" y="16706"/>
                    </a:lnTo>
                    <a:lnTo>
                      <a:pt x="7363" y="16751"/>
                    </a:lnTo>
                    <a:lnTo>
                      <a:pt x="7948" y="16839"/>
                    </a:lnTo>
                    <a:lnTo>
                      <a:pt x="8458" y="16916"/>
                    </a:lnTo>
                    <a:lnTo>
                      <a:pt x="8893" y="17026"/>
                    </a:lnTo>
                    <a:lnTo>
                      <a:pt x="9289" y="17158"/>
                    </a:lnTo>
                    <a:lnTo>
                      <a:pt x="9572" y="17280"/>
                    </a:lnTo>
                    <a:lnTo>
                      <a:pt x="9799" y="17412"/>
                    </a:lnTo>
                    <a:lnTo>
                      <a:pt x="9969" y="17555"/>
                    </a:lnTo>
                    <a:lnTo>
                      <a:pt x="10120" y="17687"/>
                    </a:lnTo>
                    <a:lnTo>
                      <a:pt x="10158" y="17831"/>
                    </a:lnTo>
                    <a:lnTo>
                      <a:pt x="10195" y="17974"/>
                    </a:lnTo>
                    <a:lnTo>
                      <a:pt x="10158" y="18128"/>
                    </a:lnTo>
                    <a:lnTo>
                      <a:pt x="10082" y="18271"/>
                    </a:lnTo>
                    <a:lnTo>
                      <a:pt x="9969" y="18426"/>
                    </a:lnTo>
                    <a:lnTo>
                      <a:pt x="9837" y="18569"/>
                    </a:lnTo>
                    <a:lnTo>
                      <a:pt x="9648" y="18701"/>
                    </a:lnTo>
                    <a:lnTo>
                      <a:pt x="9440" y="18822"/>
                    </a:lnTo>
                    <a:lnTo>
                      <a:pt x="9213" y="18999"/>
                    </a:lnTo>
                    <a:lnTo>
                      <a:pt x="9044" y="19186"/>
                    </a:lnTo>
                    <a:lnTo>
                      <a:pt x="8893" y="19395"/>
                    </a:lnTo>
                    <a:lnTo>
                      <a:pt x="8817" y="19627"/>
                    </a:lnTo>
                    <a:lnTo>
                      <a:pt x="8779" y="19858"/>
                    </a:lnTo>
                    <a:lnTo>
                      <a:pt x="8779" y="20112"/>
                    </a:lnTo>
                    <a:lnTo>
                      <a:pt x="8855" y="20354"/>
                    </a:lnTo>
                    <a:lnTo>
                      <a:pt x="8968" y="20586"/>
                    </a:lnTo>
                    <a:lnTo>
                      <a:pt x="9138" y="20817"/>
                    </a:lnTo>
                    <a:lnTo>
                      <a:pt x="9365" y="21026"/>
                    </a:lnTo>
                    <a:lnTo>
                      <a:pt x="9610" y="21192"/>
                    </a:lnTo>
                    <a:lnTo>
                      <a:pt x="9950" y="21368"/>
                    </a:lnTo>
                    <a:lnTo>
                      <a:pt x="10120" y="21445"/>
                    </a:lnTo>
                    <a:lnTo>
                      <a:pt x="10346" y="21511"/>
                    </a:lnTo>
                    <a:lnTo>
                      <a:pt x="10516" y="21555"/>
                    </a:lnTo>
                    <a:lnTo>
                      <a:pt x="10743" y="21600"/>
                    </a:lnTo>
                    <a:lnTo>
                      <a:pt x="10988" y="21644"/>
                    </a:lnTo>
                    <a:lnTo>
                      <a:pt x="11215" y="21666"/>
                    </a:lnTo>
                    <a:lnTo>
                      <a:pt x="11498" y="21666"/>
                    </a:lnTo>
                    <a:lnTo>
                      <a:pt x="11762" y="21666"/>
                    </a:lnTo>
                    <a:lnTo>
                      <a:pt x="12253" y="21644"/>
                    </a:lnTo>
                    <a:lnTo>
                      <a:pt x="12763" y="21577"/>
                    </a:lnTo>
                    <a:lnTo>
                      <a:pt x="13197" y="21467"/>
                    </a:lnTo>
                    <a:lnTo>
                      <a:pt x="13556" y="21346"/>
                    </a:lnTo>
                    <a:lnTo>
                      <a:pt x="13896" y="21192"/>
                    </a:lnTo>
                    <a:lnTo>
                      <a:pt x="14179" y="21026"/>
                    </a:lnTo>
                    <a:lnTo>
                      <a:pt x="14444" y="20839"/>
                    </a:lnTo>
                    <a:lnTo>
                      <a:pt x="14576" y="20641"/>
                    </a:lnTo>
                    <a:lnTo>
                      <a:pt x="14727" y="20431"/>
                    </a:lnTo>
                    <a:lnTo>
                      <a:pt x="14765" y="20200"/>
                    </a:lnTo>
                    <a:lnTo>
                      <a:pt x="14802" y="19991"/>
                    </a:lnTo>
                    <a:lnTo>
                      <a:pt x="14727" y="19759"/>
                    </a:lnTo>
                    <a:lnTo>
                      <a:pt x="14613" y="19550"/>
                    </a:lnTo>
                    <a:lnTo>
                      <a:pt x="14444" y="19307"/>
                    </a:lnTo>
                    <a:lnTo>
                      <a:pt x="14217" y="19098"/>
                    </a:lnTo>
                    <a:lnTo>
                      <a:pt x="13934" y="18911"/>
                    </a:lnTo>
                    <a:lnTo>
                      <a:pt x="13669" y="18745"/>
                    </a:lnTo>
                    <a:lnTo>
                      <a:pt x="13462" y="18547"/>
                    </a:lnTo>
                    <a:lnTo>
                      <a:pt x="13311" y="18337"/>
                    </a:lnTo>
                    <a:lnTo>
                      <a:pt x="13197" y="18150"/>
                    </a:lnTo>
                    <a:lnTo>
                      <a:pt x="13122" y="17941"/>
                    </a:lnTo>
                    <a:lnTo>
                      <a:pt x="13122" y="17720"/>
                    </a:lnTo>
                    <a:lnTo>
                      <a:pt x="13122" y="17533"/>
                    </a:lnTo>
                    <a:lnTo>
                      <a:pt x="13197" y="17346"/>
                    </a:lnTo>
                    <a:lnTo>
                      <a:pt x="13273" y="17158"/>
                    </a:lnTo>
                    <a:lnTo>
                      <a:pt x="13386" y="16982"/>
                    </a:lnTo>
                    <a:lnTo>
                      <a:pt x="13537" y="16839"/>
                    </a:lnTo>
                    <a:lnTo>
                      <a:pt x="13707" y="16706"/>
                    </a:lnTo>
                    <a:lnTo>
                      <a:pt x="13896" y="16607"/>
                    </a:lnTo>
                    <a:lnTo>
                      <a:pt x="14104" y="16519"/>
                    </a:lnTo>
                    <a:lnTo>
                      <a:pt x="14330" y="16453"/>
                    </a:lnTo>
                    <a:lnTo>
                      <a:pt x="14538" y="16431"/>
                    </a:lnTo>
                    <a:lnTo>
                      <a:pt x="14897" y="16453"/>
                    </a:lnTo>
                    <a:lnTo>
                      <a:pt x="15406" y="16497"/>
                    </a:lnTo>
                    <a:lnTo>
                      <a:pt x="16105" y="16541"/>
                    </a:lnTo>
                    <a:lnTo>
                      <a:pt x="16898" y="16607"/>
                    </a:lnTo>
                    <a:lnTo>
                      <a:pt x="17804" y="16651"/>
                    </a:lnTo>
                    <a:lnTo>
                      <a:pt x="18786" y="16684"/>
                    </a:lnTo>
                    <a:lnTo>
                      <a:pt x="19844" y="16728"/>
                    </a:lnTo>
                    <a:lnTo>
                      <a:pt x="20920" y="16751"/>
                    </a:lnTo>
                    <a:lnTo>
                      <a:pt x="21109" y="16497"/>
                    </a:lnTo>
                    <a:lnTo>
                      <a:pt x="21241" y="16222"/>
                    </a:lnTo>
                    <a:lnTo>
                      <a:pt x="21392" y="15946"/>
                    </a:lnTo>
                    <a:lnTo>
                      <a:pt x="21467" y="15648"/>
                    </a:lnTo>
                    <a:lnTo>
                      <a:pt x="21543" y="15351"/>
                    </a:lnTo>
                    <a:lnTo>
                      <a:pt x="21618" y="15042"/>
                    </a:lnTo>
                    <a:lnTo>
                      <a:pt x="21618" y="14745"/>
                    </a:lnTo>
                    <a:lnTo>
                      <a:pt x="21618" y="14447"/>
                    </a:lnTo>
                    <a:lnTo>
                      <a:pt x="21618" y="14150"/>
                    </a:lnTo>
                    <a:lnTo>
                      <a:pt x="21581" y="13852"/>
                    </a:lnTo>
                    <a:lnTo>
                      <a:pt x="21505" y="13577"/>
                    </a:lnTo>
                    <a:lnTo>
                      <a:pt x="21430" y="13301"/>
                    </a:lnTo>
                    <a:lnTo>
                      <a:pt x="21354" y="13048"/>
                    </a:lnTo>
                    <a:lnTo>
                      <a:pt x="21241" y="12816"/>
                    </a:lnTo>
                    <a:lnTo>
                      <a:pt x="21146" y="12607"/>
                    </a:lnTo>
                    <a:lnTo>
                      <a:pt x="21033" y="12431"/>
                    </a:lnTo>
                    <a:lnTo>
                      <a:pt x="20920" y="12265"/>
                    </a:lnTo>
                    <a:lnTo>
                      <a:pt x="20769" y="12144"/>
                    </a:lnTo>
                    <a:lnTo>
                      <a:pt x="20637" y="12034"/>
                    </a:lnTo>
                    <a:lnTo>
                      <a:pt x="20486" y="11946"/>
                    </a:lnTo>
                    <a:lnTo>
                      <a:pt x="20297" y="11891"/>
                    </a:lnTo>
                    <a:lnTo>
                      <a:pt x="20165" y="11846"/>
                    </a:lnTo>
                    <a:lnTo>
                      <a:pt x="19976" y="11824"/>
                    </a:lnTo>
                    <a:lnTo>
                      <a:pt x="19806" y="11802"/>
                    </a:lnTo>
                    <a:lnTo>
                      <a:pt x="19390" y="11824"/>
                    </a:lnTo>
                    <a:lnTo>
                      <a:pt x="18956" y="11891"/>
                    </a:lnTo>
                    <a:lnTo>
                      <a:pt x="18503" y="11968"/>
                    </a:lnTo>
                    <a:lnTo>
                      <a:pt x="17993" y="12078"/>
                    </a:lnTo>
                    <a:lnTo>
                      <a:pt x="17653" y="12144"/>
                    </a:lnTo>
                    <a:lnTo>
                      <a:pt x="17332" y="12199"/>
                    </a:lnTo>
                    <a:lnTo>
                      <a:pt x="17049" y="12221"/>
                    </a:lnTo>
                    <a:lnTo>
                      <a:pt x="16747" y="12243"/>
                    </a:lnTo>
                    <a:lnTo>
                      <a:pt x="16464" y="12243"/>
                    </a:lnTo>
                    <a:lnTo>
                      <a:pt x="16218" y="12243"/>
                    </a:lnTo>
                    <a:lnTo>
                      <a:pt x="15992" y="12221"/>
                    </a:lnTo>
                    <a:lnTo>
                      <a:pt x="15746" y="12199"/>
                    </a:lnTo>
                    <a:lnTo>
                      <a:pt x="15520" y="12155"/>
                    </a:lnTo>
                    <a:lnTo>
                      <a:pt x="15350" y="12122"/>
                    </a:lnTo>
                    <a:lnTo>
                      <a:pt x="15161" y="12056"/>
                    </a:lnTo>
                    <a:lnTo>
                      <a:pt x="14972" y="11990"/>
                    </a:lnTo>
                    <a:lnTo>
                      <a:pt x="14689" y="11846"/>
                    </a:lnTo>
                    <a:lnTo>
                      <a:pt x="14444" y="11670"/>
                    </a:lnTo>
                    <a:lnTo>
                      <a:pt x="14255" y="11483"/>
                    </a:lnTo>
                    <a:lnTo>
                      <a:pt x="14104" y="11295"/>
                    </a:lnTo>
                    <a:lnTo>
                      <a:pt x="14028" y="11086"/>
                    </a:lnTo>
                    <a:lnTo>
                      <a:pt x="13972" y="10888"/>
                    </a:lnTo>
                    <a:lnTo>
                      <a:pt x="13972" y="10700"/>
                    </a:lnTo>
                    <a:lnTo>
                      <a:pt x="14009" y="10513"/>
                    </a:lnTo>
                    <a:lnTo>
                      <a:pt x="14066" y="10359"/>
                    </a:lnTo>
                    <a:lnTo>
                      <a:pt x="14179" y="10215"/>
                    </a:lnTo>
                    <a:lnTo>
                      <a:pt x="14406" y="10006"/>
                    </a:lnTo>
                    <a:lnTo>
                      <a:pt x="14651" y="9830"/>
                    </a:lnTo>
                    <a:lnTo>
                      <a:pt x="14878" y="9686"/>
                    </a:lnTo>
                    <a:lnTo>
                      <a:pt x="15123" y="9554"/>
                    </a:lnTo>
                    <a:lnTo>
                      <a:pt x="15350" y="9477"/>
                    </a:lnTo>
                    <a:lnTo>
                      <a:pt x="15558" y="9411"/>
                    </a:lnTo>
                    <a:lnTo>
                      <a:pt x="15803" y="9345"/>
                    </a:lnTo>
                    <a:lnTo>
                      <a:pt x="16030" y="9323"/>
                    </a:lnTo>
                    <a:lnTo>
                      <a:pt x="16256" y="9301"/>
                    </a:lnTo>
                    <a:lnTo>
                      <a:pt x="16464" y="9323"/>
                    </a:lnTo>
                    <a:lnTo>
                      <a:pt x="16690" y="9345"/>
                    </a:lnTo>
                    <a:lnTo>
                      <a:pt x="16898" y="9367"/>
                    </a:lnTo>
                    <a:lnTo>
                      <a:pt x="17332" y="9477"/>
                    </a:lnTo>
                    <a:lnTo>
                      <a:pt x="17767" y="9598"/>
                    </a:lnTo>
                    <a:lnTo>
                      <a:pt x="18163" y="9731"/>
                    </a:lnTo>
                    <a:lnTo>
                      <a:pt x="18597" y="9874"/>
                    </a:lnTo>
                    <a:lnTo>
                      <a:pt x="18994" y="10006"/>
                    </a:lnTo>
                    <a:lnTo>
                      <a:pt x="19428" y="10083"/>
                    </a:lnTo>
                    <a:lnTo>
                      <a:pt x="19617" y="10127"/>
                    </a:lnTo>
                    <a:lnTo>
                      <a:pt x="19844" y="10149"/>
                    </a:lnTo>
                    <a:lnTo>
                      <a:pt x="20013" y="10149"/>
                    </a:lnTo>
                    <a:lnTo>
                      <a:pt x="20240" y="10127"/>
                    </a:lnTo>
                    <a:lnTo>
                      <a:pt x="20410" y="10105"/>
                    </a:lnTo>
                    <a:lnTo>
                      <a:pt x="20637" y="10061"/>
                    </a:lnTo>
                    <a:lnTo>
                      <a:pt x="20844" y="9984"/>
                    </a:lnTo>
                    <a:lnTo>
                      <a:pt x="21033" y="9896"/>
                    </a:lnTo>
                    <a:lnTo>
                      <a:pt x="21146" y="9830"/>
                    </a:lnTo>
                    <a:lnTo>
                      <a:pt x="21203" y="9753"/>
                    </a:lnTo>
                    <a:lnTo>
                      <a:pt x="21279" y="9642"/>
                    </a:lnTo>
                    <a:lnTo>
                      <a:pt x="21354" y="9521"/>
                    </a:lnTo>
                    <a:lnTo>
                      <a:pt x="21430" y="9246"/>
                    </a:lnTo>
                    <a:lnTo>
                      <a:pt x="21430" y="8904"/>
                    </a:lnTo>
                    <a:lnTo>
                      <a:pt x="21430" y="8540"/>
                    </a:lnTo>
                    <a:lnTo>
                      <a:pt x="21392" y="8144"/>
                    </a:lnTo>
                    <a:lnTo>
                      <a:pt x="21354" y="7714"/>
                    </a:lnTo>
                    <a:lnTo>
                      <a:pt x="21279" y="7295"/>
                    </a:lnTo>
                    <a:lnTo>
                      <a:pt x="21146" y="6446"/>
                    </a:lnTo>
                    <a:lnTo>
                      <a:pt x="20995" y="5686"/>
                    </a:lnTo>
                    <a:lnTo>
                      <a:pt x="20958" y="5366"/>
                    </a:lnTo>
                    <a:lnTo>
                      <a:pt x="20958" y="5091"/>
                    </a:lnTo>
                    <a:lnTo>
                      <a:pt x="20958" y="4860"/>
                    </a:lnTo>
                    <a:lnTo>
                      <a:pt x="21033" y="4716"/>
                    </a:lnTo>
                    <a:lnTo>
                      <a:pt x="20637" y="4860"/>
                    </a:lnTo>
                    <a:lnTo>
                      <a:pt x="20127" y="4992"/>
                    </a:lnTo>
                    <a:lnTo>
                      <a:pt x="19617" y="5069"/>
                    </a:lnTo>
                    <a:lnTo>
                      <a:pt x="19032" y="5157"/>
                    </a:lnTo>
                    <a:lnTo>
                      <a:pt x="18465" y="5201"/>
                    </a:lnTo>
                    <a:lnTo>
                      <a:pt x="17842" y="5245"/>
                    </a:lnTo>
                    <a:lnTo>
                      <a:pt x="17219" y="5267"/>
                    </a:lnTo>
                    <a:lnTo>
                      <a:pt x="16615" y="5267"/>
                    </a:lnTo>
                    <a:lnTo>
                      <a:pt x="15992" y="5245"/>
                    </a:lnTo>
                    <a:lnTo>
                      <a:pt x="15369" y="5201"/>
                    </a:lnTo>
                    <a:lnTo>
                      <a:pt x="14840" y="5157"/>
                    </a:lnTo>
                    <a:lnTo>
                      <a:pt x="14293" y="5091"/>
                    </a:lnTo>
                    <a:lnTo>
                      <a:pt x="13783" y="5014"/>
                    </a:lnTo>
                    <a:lnTo>
                      <a:pt x="13386" y="4926"/>
                    </a:lnTo>
                    <a:lnTo>
                      <a:pt x="13027" y="4815"/>
                    </a:lnTo>
                    <a:lnTo>
                      <a:pt x="12725" y="4716"/>
                    </a:lnTo>
                    <a:lnTo>
                      <a:pt x="12480" y="4606"/>
                    </a:lnTo>
                    <a:lnTo>
                      <a:pt x="12291" y="4496"/>
                    </a:lnTo>
                    <a:lnTo>
                      <a:pt x="12197" y="4397"/>
                    </a:lnTo>
                    <a:lnTo>
                      <a:pt x="12083" y="4286"/>
                    </a:lnTo>
                    <a:lnTo>
                      <a:pt x="12046" y="4187"/>
                    </a:lnTo>
                    <a:lnTo>
                      <a:pt x="12008" y="4077"/>
                    </a:lnTo>
                    <a:lnTo>
                      <a:pt x="12046" y="3967"/>
                    </a:lnTo>
                    <a:lnTo>
                      <a:pt x="12121" y="3868"/>
                    </a:lnTo>
                    <a:lnTo>
                      <a:pt x="12197" y="3735"/>
                    </a:lnTo>
                    <a:lnTo>
                      <a:pt x="12291" y="3614"/>
                    </a:lnTo>
                    <a:lnTo>
                      <a:pt x="12442" y="3482"/>
                    </a:lnTo>
                    <a:lnTo>
                      <a:pt x="12631" y="3361"/>
                    </a:lnTo>
                    <a:lnTo>
                      <a:pt x="13065" y="3085"/>
                    </a:lnTo>
                    <a:lnTo>
                      <a:pt x="13537" y="2766"/>
                    </a:lnTo>
                    <a:lnTo>
                      <a:pt x="13783" y="2578"/>
                    </a:lnTo>
                    <a:lnTo>
                      <a:pt x="13934" y="2380"/>
                    </a:lnTo>
                    <a:lnTo>
                      <a:pt x="14028" y="2171"/>
                    </a:lnTo>
                    <a:lnTo>
                      <a:pt x="14104" y="1961"/>
                    </a:lnTo>
                    <a:lnTo>
                      <a:pt x="14104" y="1730"/>
                    </a:lnTo>
                    <a:lnTo>
                      <a:pt x="14066" y="1498"/>
                    </a:lnTo>
                    <a:lnTo>
                      <a:pt x="13972" y="1267"/>
                    </a:lnTo>
                    <a:lnTo>
                      <a:pt x="13820" y="1057"/>
                    </a:lnTo>
                    <a:lnTo>
                      <a:pt x="13594" y="837"/>
                    </a:lnTo>
                    <a:lnTo>
                      <a:pt x="13386" y="628"/>
                    </a:lnTo>
                    <a:lnTo>
                      <a:pt x="13103" y="462"/>
                    </a:lnTo>
                    <a:lnTo>
                      <a:pt x="12763" y="308"/>
                    </a:lnTo>
                    <a:lnTo>
                      <a:pt x="12404" y="187"/>
                    </a:lnTo>
                    <a:lnTo>
                      <a:pt x="12008" y="77"/>
                    </a:lnTo>
                    <a:lnTo>
                      <a:pt x="11574" y="33"/>
                    </a:lnTo>
                    <a:lnTo>
                      <a:pt x="11102" y="11"/>
                    </a:lnTo>
                    <a:lnTo>
                      <a:pt x="10667" y="11"/>
                    </a:lnTo>
                    <a:lnTo>
                      <a:pt x="10233" y="77"/>
                    </a:lnTo>
                    <a:lnTo>
                      <a:pt x="9837" y="187"/>
                    </a:lnTo>
                    <a:lnTo>
                      <a:pt x="9440" y="286"/>
                    </a:lnTo>
                    <a:lnTo>
                      <a:pt x="9062" y="462"/>
                    </a:lnTo>
                    <a:lnTo>
                      <a:pt x="8741" y="628"/>
                    </a:lnTo>
                    <a:lnTo>
                      <a:pt x="8458" y="815"/>
                    </a:lnTo>
                    <a:lnTo>
                      <a:pt x="8232" y="1035"/>
                    </a:lnTo>
                    <a:lnTo>
                      <a:pt x="8062" y="1245"/>
                    </a:lnTo>
                    <a:lnTo>
                      <a:pt x="7911" y="1476"/>
                    </a:lnTo>
                    <a:lnTo>
                      <a:pt x="7835" y="1708"/>
                    </a:lnTo>
                    <a:lnTo>
                      <a:pt x="7797" y="1961"/>
                    </a:lnTo>
                    <a:lnTo>
                      <a:pt x="7835" y="2193"/>
                    </a:lnTo>
                    <a:lnTo>
                      <a:pt x="7948" y="2402"/>
                    </a:lnTo>
                    <a:lnTo>
                      <a:pt x="8062" y="2534"/>
                    </a:lnTo>
                    <a:lnTo>
                      <a:pt x="8175" y="2644"/>
                    </a:lnTo>
                    <a:lnTo>
                      <a:pt x="8269" y="2744"/>
                    </a:lnTo>
                    <a:lnTo>
                      <a:pt x="8420" y="2832"/>
                    </a:lnTo>
                    <a:lnTo>
                      <a:pt x="8704" y="3019"/>
                    </a:lnTo>
                    <a:lnTo>
                      <a:pt x="8968" y="3206"/>
                    </a:lnTo>
                    <a:lnTo>
                      <a:pt x="9138" y="3405"/>
                    </a:lnTo>
                    <a:lnTo>
                      <a:pt x="9327" y="3570"/>
                    </a:lnTo>
                    <a:lnTo>
                      <a:pt x="9440" y="3735"/>
                    </a:lnTo>
                    <a:lnTo>
                      <a:pt x="9516" y="3890"/>
                    </a:lnTo>
                    <a:lnTo>
                      <a:pt x="9534" y="4033"/>
                    </a:lnTo>
                    <a:lnTo>
                      <a:pt x="9534" y="4165"/>
                    </a:lnTo>
                    <a:lnTo>
                      <a:pt x="9516" y="4286"/>
                    </a:lnTo>
                    <a:lnTo>
                      <a:pt x="9440" y="4397"/>
                    </a:lnTo>
                    <a:lnTo>
                      <a:pt x="9327" y="4496"/>
                    </a:lnTo>
                    <a:lnTo>
                      <a:pt x="9176" y="4562"/>
                    </a:lnTo>
                    <a:lnTo>
                      <a:pt x="9006" y="4628"/>
                    </a:lnTo>
                    <a:lnTo>
                      <a:pt x="8779" y="4694"/>
                    </a:lnTo>
                    <a:lnTo>
                      <a:pt x="8534" y="4716"/>
                    </a:lnTo>
                    <a:lnTo>
                      <a:pt x="8232" y="4716"/>
                    </a:lnTo>
                    <a:lnTo>
                      <a:pt x="7118" y="4738"/>
                    </a:lnTo>
                    <a:lnTo>
                      <a:pt x="5947" y="4771"/>
                    </a:lnTo>
                    <a:lnTo>
                      <a:pt x="4795" y="4815"/>
                    </a:lnTo>
                    <a:lnTo>
                      <a:pt x="3681" y="4860"/>
                    </a:lnTo>
                    <a:lnTo>
                      <a:pt x="2662" y="4882"/>
                    </a:lnTo>
                    <a:lnTo>
                      <a:pt x="1755" y="4882"/>
                    </a:lnTo>
                    <a:lnTo>
                      <a:pt x="1359" y="4860"/>
                    </a:lnTo>
                    <a:lnTo>
                      <a:pt x="981" y="4837"/>
                    </a:lnTo>
                    <a:lnTo>
                      <a:pt x="698" y="4771"/>
                    </a:lnTo>
                    <a:lnTo>
                      <a:pt x="453" y="4716"/>
                    </a:lnTo>
                    <a:lnTo>
                      <a:pt x="453" y="5322"/>
                    </a:lnTo>
                    <a:lnTo>
                      <a:pt x="453" y="6083"/>
                    </a:lnTo>
                    <a:lnTo>
                      <a:pt x="453" y="6909"/>
                    </a:lnTo>
                    <a:lnTo>
                      <a:pt x="453" y="7780"/>
                    </a:lnTo>
                    <a:lnTo>
                      <a:pt x="453" y="8606"/>
                    </a:lnTo>
                    <a:lnTo>
                      <a:pt x="453" y="9345"/>
                    </a:lnTo>
                    <a:lnTo>
                      <a:pt x="453" y="9918"/>
                    </a:lnTo>
                    <a:lnTo>
                      <a:pt x="453" y="10282"/>
                    </a:lnTo>
                    <a:lnTo>
                      <a:pt x="490" y="10381"/>
                    </a:lnTo>
                    <a:lnTo>
                      <a:pt x="547" y="10491"/>
                    </a:lnTo>
                    <a:lnTo>
                      <a:pt x="660" y="10590"/>
                    </a:lnTo>
                    <a:lnTo>
                      <a:pt x="811" y="10700"/>
                    </a:lnTo>
                    <a:lnTo>
                      <a:pt x="981" y="10811"/>
                    </a:lnTo>
                    <a:lnTo>
                      <a:pt x="1208" y="10888"/>
                    </a:lnTo>
                    <a:lnTo>
                      <a:pt x="1453" y="10954"/>
                    </a:lnTo>
                    <a:lnTo>
                      <a:pt x="1718" y="11020"/>
                    </a:lnTo>
                    <a:lnTo>
                      <a:pt x="1963" y="11064"/>
                    </a:lnTo>
                    <a:lnTo>
                      <a:pt x="2265" y="11086"/>
                    </a:lnTo>
                    <a:lnTo>
                      <a:pt x="2548" y="11064"/>
                    </a:lnTo>
                    <a:lnTo>
                      <a:pt x="2794" y="11042"/>
                    </a:lnTo>
                    <a:lnTo>
                      <a:pt x="3096" y="10976"/>
                    </a:lnTo>
                    <a:lnTo>
                      <a:pt x="3341" y="10888"/>
                    </a:lnTo>
                    <a:lnTo>
                      <a:pt x="3606" y="10766"/>
                    </a:lnTo>
                    <a:lnTo>
                      <a:pt x="3813" y="105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cc"/>
                  </a:gs>
                  <a:gs pos="100000">
                    <a:srgbClr val="9696e5"/>
                  </a:gs>
                </a:gsLst>
                <a:lin ang="189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Puzzle1"/>
              <p:cNvSpPr/>
              <p:nvPr/>
            </p:nvSpPr>
            <p:spPr>
              <a:xfrm>
                <a:off x="2397240" y="2455920"/>
                <a:ext cx="2806920" cy="1614240"/>
              </a:xfrm>
              <a:custGeom>
                <a:avLst/>
                <a:gdLst/>
                <a:ahLst/>
                <a:rect l="l" t="t" r="r" b="b"/>
                <a:pathLst>
                  <a:path w="21645" h="21730">
                    <a:moveTo>
                      <a:pt x="9360" y="20836"/>
                    </a:moveTo>
                    <a:lnTo>
                      <a:pt x="9528" y="20836"/>
                    </a:lnTo>
                    <a:lnTo>
                      <a:pt x="9686" y="20762"/>
                    </a:lnTo>
                    <a:lnTo>
                      <a:pt x="9810" y="20687"/>
                    </a:lnTo>
                    <a:lnTo>
                      <a:pt x="9922" y="20575"/>
                    </a:lnTo>
                    <a:lnTo>
                      <a:pt x="10012" y="20426"/>
                    </a:lnTo>
                    <a:lnTo>
                      <a:pt x="10068" y="20296"/>
                    </a:lnTo>
                    <a:lnTo>
                      <a:pt x="10113" y="20110"/>
                    </a:lnTo>
                    <a:lnTo>
                      <a:pt x="10136" y="19905"/>
                    </a:lnTo>
                    <a:lnTo>
                      <a:pt x="10136" y="19682"/>
                    </a:lnTo>
                    <a:lnTo>
                      <a:pt x="10113" y="19440"/>
                    </a:lnTo>
                    <a:lnTo>
                      <a:pt x="10068" y="19142"/>
                    </a:lnTo>
                    <a:lnTo>
                      <a:pt x="10012" y="18900"/>
                    </a:lnTo>
                    <a:lnTo>
                      <a:pt x="9900" y="18620"/>
                    </a:lnTo>
                    <a:lnTo>
                      <a:pt x="9787" y="18285"/>
                    </a:lnTo>
                    <a:lnTo>
                      <a:pt x="9641" y="17968"/>
                    </a:lnTo>
                    <a:lnTo>
                      <a:pt x="9472" y="17652"/>
                    </a:lnTo>
                    <a:lnTo>
                      <a:pt x="9382" y="17466"/>
                    </a:lnTo>
                    <a:lnTo>
                      <a:pt x="9315" y="17298"/>
                    </a:lnTo>
                    <a:lnTo>
                      <a:pt x="9258" y="17112"/>
                    </a:lnTo>
                    <a:lnTo>
                      <a:pt x="9191" y="16926"/>
                    </a:lnTo>
                    <a:lnTo>
                      <a:pt x="9123" y="16535"/>
                    </a:lnTo>
                    <a:lnTo>
                      <a:pt x="9101" y="16144"/>
                    </a:lnTo>
                    <a:lnTo>
                      <a:pt x="9101" y="15753"/>
                    </a:lnTo>
                    <a:lnTo>
                      <a:pt x="9168" y="15362"/>
                    </a:lnTo>
                    <a:lnTo>
                      <a:pt x="9236" y="14971"/>
                    </a:lnTo>
                    <a:lnTo>
                      <a:pt x="9360" y="14580"/>
                    </a:lnTo>
                    <a:lnTo>
                      <a:pt x="9495" y="14244"/>
                    </a:lnTo>
                    <a:lnTo>
                      <a:pt x="9663" y="13891"/>
                    </a:lnTo>
                    <a:lnTo>
                      <a:pt x="9855" y="13611"/>
                    </a:lnTo>
                    <a:lnTo>
                      <a:pt x="10068" y="13351"/>
                    </a:lnTo>
                    <a:lnTo>
                      <a:pt x="10293" y="13146"/>
                    </a:lnTo>
                    <a:lnTo>
                      <a:pt x="10552" y="12997"/>
                    </a:lnTo>
                    <a:lnTo>
                      <a:pt x="10811" y="12885"/>
                    </a:lnTo>
                    <a:lnTo>
                      <a:pt x="11069" y="12866"/>
                    </a:lnTo>
                    <a:lnTo>
                      <a:pt x="11351" y="12885"/>
                    </a:lnTo>
                    <a:lnTo>
                      <a:pt x="11610" y="12997"/>
                    </a:lnTo>
                    <a:lnTo>
                      <a:pt x="11846" y="13183"/>
                    </a:lnTo>
                    <a:lnTo>
                      <a:pt x="12060" y="13388"/>
                    </a:lnTo>
                    <a:lnTo>
                      <a:pt x="12251" y="13648"/>
                    </a:lnTo>
                    <a:lnTo>
                      <a:pt x="12419" y="13928"/>
                    </a:lnTo>
                    <a:lnTo>
                      <a:pt x="12555" y="14244"/>
                    </a:lnTo>
                    <a:lnTo>
                      <a:pt x="12690" y="14617"/>
                    </a:lnTo>
                    <a:lnTo>
                      <a:pt x="12768" y="15008"/>
                    </a:lnTo>
                    <a:lnTo>
                      <a:pt x="12836" y="15399"/>
                    </a:lnTo>
                    <a:lnTo>
                      <a:pt x="12858" y="15753"/>
                    </a:lnTo>
                    <a:lnTo>
                      <a:pt x="12858" y="16144"/>
                    </a:lnTo>
                    <a:lnTo>
                      <a:pt x="12813" y="16535"/>
                    </a:lnTo>
                    <a:lnTo>
                      <a:pt x="12746" y="16888"/>
                    </a:lnTo>
                    <a:lnTo>
                      <a:pt x="12667" y="17224"/>
                    </a:lnTo>
                    <a:lnTo>
                      <a:pt x="12510" y="17503"/>
                    </a:lnTo>
                    <a:lnTo>
                      <a:pt x="12228" y="18043"/>
                    </a:lnTo>
                    <a:lnTo>
                      <a:pt x="11970" y="18546"/>
                    </a:lnTo>
                    <a:lnTo>
                      <a:pt x="11868" y="18751"/>
                    </a:lnTo>
                    <a:lnTo>
                      <a:pt x="11778" y="18974"/>
                    </a:lnTo>
                    <a:lnTo>
                      <a:pt x="11711" y="19179"/>
                    </a:lnTo>
                    <a:lnTo>
                      <a:pt x="11666" y="19365"/>
                    </a:lnTo>
                    <a:lnTo>
                      <a:pt x="11632" y="19570"/>
                    </a:lnTo>
                    <a:lnTo>
                      <a:pt x="11632" y="19756"/>
                    </a:lnTo>
                    <a:lnTo>
                      <a:pt x="11632" y="19942"/>
                    </a:lnTo>
                    <a:lnTo>
                      <a:pt x="11643" y="20110"/>
                    </a:lnTo>
                    <a:lnTo>
                      <a:pt x="11711" y="20296"/>
                    </a:lnTo>
                    <a:lnTo>
                      <a:pt x="11801" y="20464"/>
                    </a:lnTo>
                    <a:lnTo>
                      <a:pt x="11891" y="20650"/>
                    </a:lnTo>
                    <a:lnTo>
                      <a:pt x="12037" y="20836"/>
                    </a:lnTo>
                    <a:lnTo>
                      <a:pt x="12206" y="21004"/>
                    </a:lnTo>
                    <a:lnTo>
                      <a:pt x="12419" y="21190"/>
                    </a:lnTo>
                    <a:lnTo>
                      <a:pt x="12667" y="21320"/>
                    </a:lnTo>
                    <a:lnTo>
                      <a:pt x="12960" y="21432"/>
                    </a:lnTo>
                    <a:lnTo>
                      <a:pt x="13286" y="21544"/>
                    </a:lnTo>
                    <a:lnTo>
                      <a:pt x="13612" y="21655"/>
                    </a:lnTo>
                    <a:lnTo>
                      <a:pt x="13983" y="21693"/>
                    </a:lnTo>
                    <a:lnTo>
                      <a:pt x="14343" y="21730"/>
                    </a:lnTo>
                    <a:lnTo>
                      <a:pt x="14715" y="21730"/>
                    </a:lnTo>
                    <a:lnTo>
                      <a:pt x="15075" y="21730"/>
                    </a:lnTo>
                    <a:lnTo>
                      <a:pt x="15446" y="21655"/>
                    </a:lnTo>
                    <a:lnTo>
                      <a:pt x="15794" y="21581"/>
                    </a:lnTo>
                    <a:lnTo>
                      <a:pt x="16132" y="21432"/>
                    </a:lnTo>
                    <a:lnTo>
                      <a:pt x="16458" y="21302"/>
                    </a:lnTo>
                    <a:lnTo>
                      <a:pt x="16740" y="21078"/>
                    </a:lnTo>
                    <a:lnTo>
                      <a:pt x="16976" y="20836"/>
                    </a:lnTo>
                    <a:lnTo>
                      <a:pt x="17043" y="20650"/>
                    </a:lnTo>
                    <a:lnTo>
                      <a:pt x="17088" y="20426"/>
                    </a:lnTo>
                    <a:lnTo>
                      <a:pt x="17133" y="20222"/>
                    </a:lnTo>
                    <a:lnTo>
                      <a:pt x="17156" y="19980"/>
                    </a:lnTo>
                    <a:lnTo>
                      <a:pt x="17167" y="19477"/>
                    </a:lnTo>
                    <a:lnTo>
                      <a:pt x="17167" y="18974"/>
                    </a:lnTo>
                    <a:lnTo>
                      <a:pt x="17156" y="18397"/>
                    </a:lnTo>
                    <a:lnTo>
                      <a:pt x="17111" y="17820"/>
                    </a:lnTo>
                    <a:lnTo>
                      <a:pt x="17066" y="17261"/>
                    </a:lnTo>
                    <a:lnTo>
                      <a:pt x="16998" y="16646"/>
                    </a:lnTo>
                    <a:lnTo>
                      <a:pt x="16852" y="15511"/>
                    </a:lnTo>
                    <a:lnTo>
                      <a:pt x="16740" y="14393"/>
                    </a:lnTo>
                    <a:lnTo>
                      <a:pt x="16717" y="13928"/>
                    </a:lnTo>
                    <a:lnTo>
                      <a:pt x="16695" y="13462"/>
                    </a:lnTo>
                    <a:lnTo>
                      <a:pt x="16717" y="13071"/>
                    </a:lnTo>
                    <a:lnTo>
                      <a:pt x="16785" y="12755"/>
                    </a:lnTo>
                    <a:lnTo>
                      <a:pt x="16852" y="12419"/>
                    </a:lnTo>
                    <a:lnTo>
                      <a:pt x="16953" y="12140"/>
                    </a:lnTo>
                    <a:lnTo>
                      <a:pt x="17088" y="11898"/>
                    </a:lnTo>
                    <a:lnTo>
                      <a:pt x="17212" y="11675"/>
                    </a:lnTo>
                    <a:lnTo>
                      <a:pt x="17370" y="11470"/>
                    </a:lnTo>
                    <a:lnTo>
                      <a:pt x="17516" y="11284"/>
                    </a:lnTo>
                    <a:lnTo>
                      <a:pt x="17696" y="11135"/>
                    </a:lnTo>
                    <a:lnTo>
                      <a:pt x="17865" y="11042"/>
                    </a:lnTo>
                    <a:lnTo>
                      <a:pt x="18033" y="10930"/>
                    </a:lnTo>
                    <a:lnTo>
                      <a:pt x="18213" y="10893"/>
                    </a:lnTo>
                    <a:lnTo>
                      <a:pt x="18382" y="10893"/>
                    </a:lnTo>
                    <a:lnTo>
                      <a:pt x="18551" y="10967"/>
                    </a:lnTo>
                    <a:lnTo>
                      <a:pt x="18708" y="11042"/>
                    </a:lnTo>
                    <a:lnTo>
                      <a:pt x="18855" y="11172"/>
                    </a:lnTo>
                    <a:lnTo>
                      <a:pt x="19012" y="11358"/>
                    </a:lnTo>
                    <a:lnTo>
                      <a:pt x="19136" y="11600"/>
                    </a:lnTo>
                    <a:lnTo>
                      <a:pt x="19271" y="11861"/>
                    </a:lnTo>
                    <a:lnTo>
                      <a:pt x="19440" y="12028"/>
                    </a:lnTo>
                    <a:lnTo>
                      <a:pt x="19608" y="12177"/>
                    </a:lnTo>
                    <a:lnTo>
                      <a:pt x="19822" y="12289"/>
                    </a:lnTo>
                    <a:lnTo>
                      <a:pt x="20025" y="12289"/>
                    </a:lnTo>
                    <a:lnTo>
                      <a:pt x="20238" y="12289"/>
                    </a:lnTo>
                    <a:lnTo>
                      <a:pt x="20452" y="12215"/>
                    </a:lnTo>
                    <a:lnTo>
                      <a:pt x="20643" y="12103"/>
                    </a:lnTo>
                    <a:lnTo>
                      <a:pt x="20846" y="11973"/>
                    </a:lnTo>
                    <a:lnTo>
                      <a:pt x="21037" y="11786"/>
                    </a:lnTo>
                    <a:lnTo>
                      <a:pt x="21206" y="11563"/>
                    </a:lnTo>
                    <a:lnTo>
                      <a:pt x="21363" y="11321"/>
                    </a:lnTo>
                    <a:lnTo>
                      <a:pt x="21465" y="11079"/>
                    </a:lnTo>
                    <a:lnTo>
                      <a:pt x="21577" y="10744"/>
                    </a:lnTo>
                    <a:lnTo>
                      <a:pt x="21622" y="10427"/>
                    </a:lnTo>
                    <a:lnTo>
                      <a:pt x="21645" y="10111"/>
                    </a:lnTo>
                    <a:lnTo>
                      <a:pt x="21622" y="9608"/>
                    </a:lnTo>
                    <a:lnTo>
                      <a:pt x="21577" y="9142"/>
                    </a:lnTo>
                    <a:lnTo>
                      <a:pt x="21465" y="8751"/>
                    </a:lnTo>
                    <a:lnTo>
                      <a:pt x="21363" y="8397"/>
                    </a:lnTo>
                    <a:lnTo>
                      <a:pt x="21206" y="8062"/>
                    </a:lnTo>
                    <a:lnTo>
                      <a:pt x="21037" y="7820"/>
                    </a:lnTo>
                    <a:lnTo>
                      <a:pt x="20846" y="7597"/>
                    </a:lnTo>
                    <a:lnTo>
                      <a:pt x="20643" y="7429"/>
                    </a:lnTo>
                    <a:lnTo>
                      <a:pt x="20452" y="7317"/>
                    </a:lnTo>
                    <a:lnTo>
                      <a:pt x="20238" y="7206"/>
                    </a:lnTo>
                    <a:lnTo>
                      <a:pt x="20025" y="7168"/>
                    </a:lnTo>
                    <a:lnTo>
                      <a:pt x="19822" y="7206"/>
                    </a:lnTo>
                    <a:lnTo>
                      <a:pt x="19608" y="7243"/>
                    </a:lnTo>
                    <a:lnTo>
                      <a:pt x="19440" y="7355"/>
                    </a:lnTo>
                    <a:lnTo>
                      <a:pt x="19271" y="7504"/>
                    </a:lnTo>
                    <a:lnTo>
                      <a:pt x="19136" y="7708"/>
                    </a:lnTo>
                    <a:lnTo>
                      <a:pt x="19012" y="7895"/>
                    </a:lnTo>
                    <a:lnTo>
                      <a:pt x="18832" y="8025"/>
                    </a:lnTo>
                    <a:lnTo>
                      <a:pt x="18663" y="8174"/>
                    </a:lnTo>
                    <a:lnTo>
                      <a:pt x="18472" y="8248"/>
                    </a:lnTo>
                    <a:lnTo>
                      <a:pt x="18270" y="8286"/>
                    </a:lnTo>
                    <a:lnTo>
                      <a:pt x="18078" y="8323"/>
                    </a:lnTo>
                    <a:lnTo>
                      <a:pt x="17887" y="8323"/>
                    </a:lnTo>
                    <a:lnTo>
                      <a:pt x="17696" y="8248"/>
                    </a:lnTo>
                    <a:lnTo>
                      <a:pt x="17493" y="8174"/>
                    </a:lnTo>
                    <a:lnTo>
                      <a:pt x="17302" y="8062"/>
                    </a:lnTo>
                    <a:lnTo>
                      <a:pt x="17133" y="7969"/>
                    </a:lnTo>
                    <a:lnTo>
                      <a:pt x="16976" y="7783"/>
                    </a:lnTo>
                    <a:lnTo>
                      <a:pt x="16852" y="7597"/>
                    </a:lnTo>
                    <a:lnTo>
                      <a:pt x="16740" y="7429"/>
                    </a:lnTo>
                    <a:lnTo>
                      <a:pt x="16672" y="7168"/>
                    </a:lnTo>
                    <a:lnTo>
                      <a:pt x="16638" y="6926"/>
                    </a:lnTo>
                    <a:lnTo>
                      <a:pt x="16616" y="6498"/>
                    </a:lnTo>
                    <a:lnTo>
                      <a:pt x="16616" y="5772"/>
                    </a:lnTo>
                    <a:lnTo>
                      <a:pt x="16650" y="4915"/>
                    </a:lnTo>
                    <a:lnTo>
                      <a:pt x="16695" y="3928"/>
                    </a:lnTo>
                    <a:lnTo>
                      <a:pt x="16762" y="2960"/>
                    </a:lnTo>
                    <a:lnTo>
                      <a:pt x="16830" y="1992"/>
                    </a:lnTo>
                    <a:lnTo>
                      <a:pt x="16908" y="1173"/>
                    </a:lnTo>
                    <a:lnTo>
                      <a:pt x="16976" y="521"/>
                    </a:lnTo>
                    <a:lnTo>
                      <a:pt x="16953" y="521"/>
                    </a:lnTo>
                    <a:lnTo>
                      <a:pt x="16931" y="521"/>
                    </a:lnTo>
                    <a:lnTo>
                      <a:pt x="16267" y="484"/>
                    </a:lnTo>
                    <a:lnTo>
                      <a:pt x="15637" y="428"/>
                    </a:lnTo>
                    <a:lnTo>
                      <a:pt x="15063" y="353"/>
                    </a:lnTo>
                    <a:lnTo>
                      <a:pt x="14523" y="279"/>
                    </a:lnTo>
                    <a:lnTo>
                      <a:pt x="14040" y="167"/>
                    </a:lnTo>
                    <a:lnTo>
                      <a:pt x="13635" y="93"/>
                    </a:lnTo>
                    <a:lnTo>
                      <a:pt x="13331" y="18"/>
                    </a:lnTo>
                    <a:lnTo>
                      <a:pt x="13117" y="18"/>
                    </a:lnTo>
                    <a:lnTo>
                      <a:pt x="12982" y="18"/>
                    </a:lnTo>
                    <a:lnTo>
                      <a:pt x="12858" y="130"/>
                    </a:lnTo>
                    <a:lnTo>
                      <a:pt x="12723" y="279"/>
                    </a:lnTo>
                    <a:lnTo>
                      <a:pt x="12622" y="446"/>
                    </a:lnTo>
                    <a:lnTo>
                      <a:pt x="12510" y="670"/>
                    </a:lnTo>
                    <a:lnTo>
                      <a:pt x="12419" y="912"/>
                    </a:lnTo>
                    <a:lnTo>
                      <a:pt x="12363" y="1210"/>
                    </a:lnTo>
                    <a:lnTo>
                      <a:pt x="12318" y="1526"/>
                    </a:lnTo>
                    <a:lnTo>
                      <a:pt x="12273" y="1843"/>
                    </a:lnTo>
                    <a:lnTo>
                      <a:pt x="12251" y="2215"/>
                    </a:lnTo>
                    <a:lnTo>
                      <a:pt x="12273" y="2532"/>
                    </a:lnTo>
                    <a:lnTo>
                      <a:pt x="12318" y="2886"/>
                    </a:lnTo>
                    <a:lnTo>
                      <a:pt x="12386" y="3240"/>
                    </a:lnTo>
                    <a:lnTo>
                      <a:pt x="12464" y="3556"/>
                    </a:lnTo>
                    <a:lnTo>
                      <a:pt x="12577" y="3891"/>
                    </a:lnTo>
                    <a:lnTo>
                      <a:pt x="12746" y="4171"/>
                    </a:lnTo>
                    <a:lnTo>
                      <a:pt x="12926" y="4487"/>
                    </a:lnTo>
                    <a:lnTo>
                      <a:pt x="13050" y="4860"/>
                    </a:lnTo>
                    <a:lnTo>
                      <a:pt x="13162" y="5251"/>
                    </a:lnTo>
                    <a:lnTo>
                      <a:pt x="13218" y="5604"/>
                    </a:lnTo>
                    <a:lnTo>
                      <a:pt x="13263" y="5995"/>
                    </a:lnTo>
                    <a:lnTo>
                      <a:pt x="13241" y="6386"/>
                    </a:lnTo>
                    <a:lnTo>
                      <a:pt x="13218" y="6740"/>
                    </a:lnTo>
                    <a:lnTo>
                      <a:pt x="13139" y="7094"/>
                    </a:lnTo>
                    <a:lnTo>
                      <a:pt x="13050" y="7429"/>
                    </a:lnTo>
                    <a:lnTo>
                      <a:pt x="12903" y="7746"/>
                    </a:lnTo>
                    <a:lnTo>
                      <a:pt x="12723" y="8025"/>
                    </a:lnTo>
                    <a:lnTo>
                      <a:pt x="12532" y="8286"/>
                    </a:lnTo>
                    <a:lnTo>
                      <a:pt x="12318" y="8491"/>
                    </a:lnTo>
                    <a:lnTo>
                      <a:pt x="12060" y="8677"/>
                    </a:lnTo>
                    <a:lnTo>
                      <a:pt x="11756" y="8788"/>
                    </a:lnTo>
                    <a:lnTo>
                      <a:pt x="11452" y="8826"/>
                    </a:lnTo>
                    <a:lnTo>
                      <a:pt x="11283" y="8826"/>
                    </a:lnTo>
                    <a:lnTo>
                      <a:pt x="11126" y="8826"/>
                    </a:lnTo>
                    <a:lnTo>
                      <a:pt x="11002" y="8788"/>
                    </a:lnTo>
                    <a:lnTo>
                      <a:pt x="10845" y="8714"/>
                    </a:lnTo>
                    <a:lnTo>
                      <a:pt x="10721" y="8640"/>
                    </a:lnTo>
                    <a:lnTo>
                      <a:pt x="10608" y="8565"/>
                    </a:lnTo>
                    <a:lnTo>
                      <a:pt x="10485" y="8453"/>
                    </a:lnTo>
                    <a:lnTo>
                      <a:pt x="10372" y="8323"/>
                    </a:lnTo>
                    <a:lnTo>
                      <a:pt x="10181" y="8062"/>
                    </a:lnTo>
                    <a:lnTo>
                      <a:pt x="10035" y="7746"/>
                    </a:lnTo>
                    <a:lnTo>
                      <a:pt x="9900" y="7392"/>
                    </a:lnTo>
                    <a:lnTo>
                      <a:pt x="9787" y="7001"/>
                    </a:lnTo>
                    <a:lnTo>
                      <a:pt x="9731" y="6610"/>
                    </a:lnTo>
                    <a:lnTo>
                      <a:pt x="9686" y="6219"/>
                    </a:lnTo>
                    <a:lnTo>
                      <a:pt x="9663" y="5772"/>
                    </a:lnTo>
                    <a:lnTo>
                      <a:pt x="9686" y="5381"/>
                    </a:lnTo>
                    <a:lnTo>
                      <a:pt x="9753" y="4990"/>
                    </a:lnTo>
                    <a:lnTo>
                      <a:pt x="9832" y="4636"/>
                    </a:lnTo>
                    <a:lnTo>
                      <a:pt x="9945" y="4320"/>
                    </a:lnTo>
                    <a:lnTo>
                      <a:pt x="10068" y="4022"/>
                    </a:lnTo>
                    <a:lnTo>
                      <a:pt x="10203" y="3817"/>
                    </a:lnTo>
                    <a:lnTo>
                      <a:pt x="10316" y="3593"/>
                    </a:lnTo>
                    <a:lnTo>
                      <a:pt x="10395" y="3351"/>
                    </a:lnTo>
                    <a:lnTo>
                      <a:pt x="10462" y="3109"/>
                    </a:lnTo>
                    <a:lnTo>
                      <a:pt x="10507" y="2848"/>
                    </a:lnTo>
                    <a:lnTo>
                      <a:pt x="10530" y="2606"/>
                    </a:lnTo>
                    <a:lnTo>
                      <a:pt x="10507" y="2346"/>
                    </a:lnTo>
                    <a:lnTo>
                      <a:pt x="10462" y="2141"/>
                    </a:lnTo>
                    <a:lnTo>
                      <a:pt x="10395" y="1880"/>
                    </a:lnTo>
                    <a:lnTo>
                      <a:pt x="10293" y="1638"/>
                    </a:lnTo>
                    <a:lnTo>
                      <a:pt x="10158" y="1415"/>
                    </a:lnTo>
                    <a:lnTo>
                      <a:pt x="9967" y="1210"/>
                    </a:lnTo>
                    <a:lnTo>
                      <a:pt x="9753" y="986"/>
                    </a:lnTo>
                    <a:lnTo>
                      <a:pt x="9495" y="819"/>
                    </a:lnTo>
                    <a:lnTo>
                      <a:pt x="9191" y="670"/>
                    </a:lnTo>
                    <a:lnTo>
                      <a:pt x="8842" y="521"/>
                    </a:lnTo>
                    <a:lnTo>
                      <a:pt x="8471" y="446"/>
                    </a:lnTo>
                    <a:lnTo>
                      <a:pt x="7998" y="428"/>
                    </a:lnTo>
                    <a:lnTo>
                      <a:pt x="7413" y="428"/>
                    </a:lnTo>
                    <a:lnTo>
                      <a:pt x="6817" y="446"/>
                    </a:lnTo>
                    <a:lnTo>
                      <a:pt x="6187" y="521"/>
                    </a:lnTo>
                    <a:lnTo>
                      <a:pt x="5602" y="633"/>
                    </a:lnTo>
                    <a:lnTo>
                      <a:pt x="5107" y="744"/>
                    </a:lnTo>
                    <a:lnTo>
                      <a:pt x="4725" y="856"/>
                    </a:lnTo>
                    <a:lnTo>
                      <a:pt x="4848" y="1564"/>
                    </a:lnTo>
                    <a:lnTo>
                      <a:pt x="5028" y="2495"/>
                    </a:lnTo>
                    <a:lnTo>
                      <a:pt x="5175" y="3556"/>
                    </a:lnTo>
                    <a:lnTo>
                      <a:pt x="5298" y="4673"/>
                    </a:lnTo>
                    <a:lnTo>
                      <a:pt x="5343" y="5213"/>
                    </a:lnTo>
                    <a:lnTo>
                      <a:pt x="5388" y="5753"/>
                    </a:lnTo>
                    <a:lnTo>
                      <a:pt x="5411" y="6275"/>
                    </a:lnTo>
                    <a:lnTo>
                      <a:pt x="5411" y="6740"/>
                    </a:lnTo>
                    <a:lnTo>
                      <a:pt x="5366" y="7168"/>
                    </a:lnTo>
                    <a:lnTo>
                      <a:pt x="5321" y="7541"/>
                    </a:lnTo>
                    <a:lnTo>
                      <a:pt x="5287" y="7708"/>
                    </a:lnTo>
                    <a:lnTo>
                      <a:pt x="5242" y="7857"/>
                    </a:lnTo>
                    <a:lnTo>
                      <a:pt x="5197" y="7969"/>
                    </a:lnTo>
                    <a:lnTo>
                      <a:pt x="5130" y="8062"/>
                    </a:lnTo>
                    <a:lnTo>
                      <a:pt x="5006" y="8248"/>
                    </a:lnTo>
                    <a:lnTo>
                      <a:pt x="4848" y="8397"/>
                    </a:lnTo>
                    <a:lnTo>
                      <a:pt x="4725" y="8528"/>
                    </a:lnTo>
                    <a:lnTo>
                      <a:pt x="4567" y="8640"/>
                    </a:lnTo>
                    <a:lnTo>
                      <a:pt x="4421" y="8714"/>
                    </a:lnTo>
                    <a:lnTo>
                      <a:pt x="4263" y="8751"/>
                    </a:lnTo>
                    <a:lnTo>
                      <a:pt x="4095" y="8788"/>
                    </a:lnTo>
                    <a:lnTo>
                      <a:pt x="3948" y="8788"/>
                    </a:lnTo>
                    <a:lnTo>
                      <a:pt x="3791" y="8751"/>
                    </a:lnTo>
                    <a:lnTo>
                      <a:pt x="3667" y="8714"/>
                    </a:lnTo>
                    <a:lnTo>
                      <a:pt x="3510" y="8677"/>
                    </a:lnTo>
                    <a:lnTo>
                      <a:pt x="3386" y="8602"/>
                    </a:lnTo>
                    <a:lnTo>
                      <a:pt x="3251" y="8491"/>
                    </a:lnTo>
                    <a:lnTo>
                      <a:pt x="3127" y="8360"/>
                    </a:lnTo>
                    <a:lnTo>
                      <a:pt x="3015" y="8248"/>
                    </a:lnTo>
                    <a:lnTo>
                      <a:pt x="2925" y="8062"/>
                    </a:lnTo>
                    <a:lnTo>
                      <a:pt x="2778" y="7857"/>
                    </a:lnTo>
                    <a:lnTo>
                      <a:pt x="2610" y="7671"/>
                    </a:lnTo>
                    <a:lnTo>
                      <a:pt x="2407" y="7541"/>
                    </a:lnTo>
                    <a:lnTo>
                      <a:pt x="2171" y="7466"/>
                    </a:lnTo>
                    <a:lnTo>
                      <a:pt x="1957" y="7429"/>
                    </a:lnTo>
                    <a:lnTo>
                      <a:pt x="1698" y="7429"/>
                    </a:lnTo>
                    <a:lnTo>
                      <a:pt x="1462" y="7466"/>
                    </a:lnTo>
                    <a:lnTo>
                      <a:pt x="1226" y="7559"/>
                    </a:lnTo>
                    <a:lnTo>
                      <a:pt x="989" y="7708"/>
                    </a:lnTo>
                    <a:lnTo>
                      <a:pt x="776" y="7932"/>
                    </a:lnTo>
                    <a:lnTo>
                      <a:pt x="551" y="8211"/>
                    </a:lnTo>
                    <a:lnTo>
                      <a:pt x="382" y="8528"/>
                    </a:lnTo>
                    <a:lnTo>
                      <a:pt x="315" y="8714"/>
                    </a:lnTo>
                    <a:lnTo>
                      <a:pt x="236" y="8919"/>
                    </a:lnTo>
                    <a:lnTo>
                      <a:pt x="191" y="9142"/>
                    </a:lnTo>
                    <a:lnTo>
                      <a:pt x="123" y="9347"/>
                    </a:lnTo>
                    <a:lnTo>
                      <a:pt x="78" y="9608"/>
                    </a:lnTo>
                    <a:lnTo>
                      <a:pt x="56" y="9887"/>
                    </a:lnTo>
                    <a:lnTo>
                      <a:pt x="33" y="10185"/>
                    </a:lnTo>
                    <a:lnTo>
                      <a:pt x="33" y="10464"/>
                    </a:lnTo>
                    <a:lnTo>
                      <a:pt x="33" y="10706"/>
                    </a:lnTo>
                    <a:lnTo>
                      <a:pt x="56" y="10967"/>
                    </a:lnTo>
                    <a:lnTo>
                      <a:pt x="78" y="11172"/>
                    </a:lnTo>
                    <a:lnTo>
                      <a:pt x="123" y="11395"/>
                    </a:lnTo>
                    <a:lnTo>
                      <a:pt x="168" y="11600"/>
                    </a:lnTo>
                    <a:lnTo>
                      <a:pt x="236" y="11786"/>
                    </a:lnTo>
                    <a:lnTo>
                      <a:pt x="292" y="11973"/>
                    </a:lnTo>
                    <a:lnTo>
                      <a:pt x="382" y="12140"/>
                    </a:lnTo>
                    <a:lnTo>
                      <a:pt x="540" y="12419"/>
                    </a:lnTo>
                    <a:lnTo>
                      <a:pt x="731" y="12680"/>
                    </a:lnTo>
                    <a:lnTo>
                      <a:pt x="944" y="12866"/>
                    </a:lnTo>
                    <a:lnTo>
                      <a:pt x="1158" y="12997"/>
                    </a:lnTo>
                    <a:lnTo>
                      <a:pt x="1395" y="13108"/>
                    </a:lnTo>
                    <a:lnTo>
                      <a:pt x="1608" y="13183"/>
                    </a:lnTo>
                    <a:lnTo>
                      <a:pt x="1856" y="13183"/>
                    </a:lnTo>
                    <a:lnTo>
                      <a:pt x="2070" y="13146"/>
                    </a:lnTo>
                    <a:lnTo>
                      <a:pt x="2261" y="13071"/>
                    </a:lnTo>
                    <a:lnTo>
                      <a:pt x="2430" y="12960"/>
                    </a:lnTo>
                    <a:lnTo>
                      <a:pt x="2587" y="12792"/>
                    </a:lnTo>
                    <a:lnTo>
                      <a:pt x="2688" y="12606"/>
                    </a:lnTo>
                    <a:lnTo>
                      <a:pt x="2801" y="12419"/>
                    </a:lnTo>
                    <a:lnTo>
                      <a:pt x="2925" y="12289"/>
                    </a:lnTo>
                    <a:lnTo>
                      <a:pt x="3082" y="12177"/>
                    </a:lnTo>
                    <a:lnTo>
                      <a:pt x="3228" y="12103"/>
                    </a:lnTo>
                    <a:lnTo>
                      <a:pt x="3408" y="12103"/>
                    </a:lnTo>
                    <a:lnTo>
                      <a:pt x="3577" y="12103"/>
                    </a:lnTo>
                    <a:lnTo>
                      <a:pt x="3723" y="12177"/>
                    </a:lnTo>
                    <a:lnTo>
                      <a:pt x="3903" y="12252"/>
                    </a:lnTo>
                    <a:lnTo>
                      <a:pt x="4072" y="12364"/>
                    </a:lnTo>
                    <a:lnTo>
                      <a:pt x="4230" y="12494"/>
                    </a:lnTo>
                    <a:lnTo>
                      <a:pt x="4353" y="12643"/>
                    </a:lnTo>
                    <a:lnTo>
                      <a:pt x="4488" y="12829"/>
                    </a:lnTo>
                    <a:lnTo>
                      <a:pt x="4567" y="13034"/>
                    </a:lnTo>
                    <a:lnTo>
                      <a:pt x="4657" y="13257"/>
                    </a:lnTo>
                    <a:lnTo>
                      <a:pt x="4702" y="13462"/>
                    </a:lnTo>
                    <a:lnTo>
                      <a:pt x="4725" y="13686"/>
                    </a:lnTo>
                    <a:lnTo>
                      <a:pt x="4702" y="14282"/>
                    </a:lnTo>
                    <a:lnTo>
                      <a:pt x="4657" y="15045"/>
                    </a:lnTo>
                    <a:lnTo>
                      <a:pt x="4612" y="15976"/>
                    </a:lnTo>
                    <a:lnTo>
                      <a:pt x="4590" y="16926"/>
                    </a:lnTo>
                    <a:lnTo>
                      <a:pt x="4567" y="17968"/>
                    </a:lnTo>
                    <a:lnTo>
                      <a:pt x="4567" y="19011"/>
                    </a:lnTo>
                    <a:lnTo>
                      <a:pt x="4590" y="19514"/>
                    </a:lnTo>
                    <a:lnTo>
                      <a:pt x="4612" y="19980"/>
                    </a:lnTo>
                    <a:lnTo>
                      <a:pt x="4657" y="20426"/>
                    </a:lnTo>
                    <a:lnTo>
                      <a:pt x="4725" y="20836"/>
                    </a:lnTo>
                    <a:lnTo>
                      <a:pt x="4848" y="20929"/>
                    </a:lnTo>
                    <a:lnTo>
                      <a:pt x="5040" y="21004"/>
                    </a:lnTo>
                    <a:lnTo>
                      <a:pt x="5265" y="21078"/>
                    </a:lnTo>
                    <a:lnTo>
                      <a:pt x="5478" y="21115"/>
                    </a:lnTo>
                    <a:lnTo>
                      <a:pt x="6041" y="21115"/>
                    </a:lnTo>
                    <a:lnTo>
                      <a:pt x="6637" y="21078"/>
                    </a:lnTo>
                    <a:lnTo>
                      <a:pt x="7312" y="21004"/>
                    </a:lnTo>
                    <a:lnTo>
                      <a:pt x="7998" y="20929"/>
                    </a:lnTo>
                    <a:lnTo>
                      <a:pt x="8696" y="20855"/>
                    </a:lnTo>
                    <a:lnTo>
                      <a:pt x="9360" y="208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f67ff"/>
                  </a:gs>
                  <a:gs pos="100000">
                    <a:srgbClr val="513076"/>
                  </a:gs>
                </a:gsLst>
                <a:lin ang="27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8" name="Text Box 9"/>
            <p:cNvSpPr/>
            <p:nvPr/>
          </p:nvSpPr>
          <p:spPr>
            <a:xfrm>
              <a:off x="6792840" y="411444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Text Box 10"/>
            <p:cNvSpPr/>
            <p:nvPr/>
          </p:nvSpPr>
          <p:spPr>
            <a:xfrm>
              <a:off x="873000" y="351936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Text Box 11"/>
            <p:cNvSpPr/>
            <p:nvPr/>
          </p:nvSpPr>
          <p:spPr>
            <a:xfrm>
              <a:off x="2625840" y="1828440"/>
              <a:ext cx="243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Text Box 12"/>
            <p:cNvSpPr/>
            <p:nvPr/>
          </p:nvSpPr>
          <p:spPr>
            <a:xfrm>
              <a:off x="4302000" y="5805360"/>
              <a:ext cx="281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 advTm="2000">
    <p:wheel spokes="3"/>
    <p:sndAc>
      <p:stSnd>
        <p:snd r:embed="rId1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Freeform 3"/>
          <p:cNvSpPr/>
          <p:nvPr/>
        </p:nvSpPr>
        <p:spPr>
          <a:xfrm>
            <a:off x="2635200" y="3191040"/>
            <a:ext cx="1447920" cy="1954080"/>
          </a:xfrm>
          <a:custGeom>
            <a:avLst/>
            <a:gdLst/>
            <a:ahLst/>
            <a:rect l="l" t="t" r="r" b="b"/>
            <a:pathLst>
              <a:path w="1233" h="1764">
                <a:moveTo>
                  <a:pt x="1233" y="343"/>
                </a:moveTo>
                <a:lnTo>
                  <a:pt x="413" y="1764"/>
                </a:lnTo>
                <a:lnTo>
                  <a:pt x="0" y="1226"/>
                </a:lnTo>
                <a:lnTo>
                  <a:pt x="6" y="1098"/>
                </a:lnTo>
                <a:lnTo>
                  <a:pt x="638" y="0"/>
                </a:lnTo>
                <a:lnTo>
                  <a:pt x="1233" y="343"/>
                </a:lnTo>
                <a:lnTo>
                  <a:pt x="1233" y="343"/>
                </a:lnTo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100000">
                <a:srgbClr val="1818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Freeform 4"/>
          <p:cNvSpPr/>
          <p:nvPr/>
        </p:nvSpPr>
        <p:spPr>
          <a:xfrm rot="7200000">
            <a:off x="4326840" y="2110680"/>
            <a:ext cx="1365120" cy="2071440"/>
          </a:xfrm>
          <a:custGeom>
            <a:avLst/>
            <a:gdLst/>
            <a:ahLst/>
            <a:rect l="l" t="t" r="r" b="b"/>
            <a:pathLst>
              <a:path w="1233" h="1764">
                <a:moveTo>
                  <a:pt x="1233" y="343"/>
                </a:moveTo>
                <a:lnTo>
                  <a:pt x="413" y="1764"/>
                </a:lnTo>
                <a:lnTo>
                  <a:pt x="0" y="1226"/>
                </a:lnTo>
                <a:lnTo>
                  <a:pt x="6" y="1098"/>
                </a:lnTo>
                <a:lnTo>
                  <a:pt x="638" y="0"/>
                </a:lnTo>
                <a:lnTo>
                  <a:pt x="1233" y="343"/>
                </a:lnTo>
                <a:lnTo>
                  <a:pt x="1233" y="343"/>
                </a:ln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475e76"/>
              </a:gs>
            </a:gsLst>
            <a:lin ang="19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5" name="Group 5"/>
          <p:cNvGrpSpPr/>
          <p:nvPr/>
        </p:nvGrpSpPr>
        <p:grpSpPr>
          <a:xfrm>
            <a:off x="2663280" y="1853640"/>
            <a:ext cx="2483280" cy="2630520"/>
            <a:chOff x="2663280" y="1853640"/>
            <a:chExt cx="2483280" cy="2630520"/>
          </a:xfrm>
        </p:grpSpPr>
        <p:sp>
          <p:nvSpPr>
            <p:cNvPr id="406" name="AutoShape 6"/>
            <p:cNvSpPr/>
            <p:nvPr/>
          </p:nvSpPr>
          <p:spPr>
            <a:xfrm rot="12600000">
              <a:off x="2717640" y="3560760"/>
              <a:ext cx="1441440" cy="603360"/>
            </a:xfrm>
            <a:prstGeom prst="triangle">
              <a:avLst>
                <a:gd name="adj" fmla="val 50000"/>
              </a:avLst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7"/>
            <p:cNvSpPr/>
            <p:nvPr/>
          </p:nvSpPr>
          <p:spPr>
            <a:xfrm rot="7200000">
              <a:off x="3112920" y="2765160"/>
              <a:ext cx="1505160" cy="806400"/>
            </a:xfrm>
            <a:custGeom>
              <a:avLst/>
              <a:gdLst/>
              <a:ahLst/>
              <a:rect l="l" t="t" r="r" b="b"/>
              <a:pathLst>
                <a:path w="750" h="378">
                  <a:moveTo>
                    <a:pt x="750" y="0"/>
                  </a:moveTo>
                  <a:lnTo>
                    <a:pt x="0" y="0"/>
                  </a:lnTo>
                  <a:lnTo>
                    <a:pt x="2" y="194"/>
                  </a:lnTo>
                  <a:lnTo>
                    <a:pt x="28" y="378"/>
                  </a:lnTo>
                  <a:lnTo>
                    <a:pt x="750" y="378"/>
                  </a:lnTo>
                  <a:lnTo>
                    <a:pt x="750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8"/>
            <p:cNvSpPr/>
            <p:nvPr/>
          </p:nvSpPr>
          <p:spPr>
            <a:xfrm rot="7200000">
              <a:off x="4186080" y="1838160"/>
              <a:ext cx="622440" cy="1139760"/>
            </a:xfrm>
            <a:custGeom>
              <a:avLst/>
              <a:gdLst/>
              <a:ahLst/>
              <a:rect l="l" t="t" r="r" b="b"/>
              <a:pathLst>
                <a:path w="495" h="971">
                  <a:moveTo>
                    <a:pt x="495" y="285"/>
                  </a:moveTo>
                  <a:lnTo>
                    <a:pt x="495" y="971"/>
                  </a:lnTo>
                  <a:lnTo>
                    <a:pt x="462" y="964"/>
                  </a:lnTo>
                  <a:lnTo>
                    <a:pt x="430" y="953"/>
                  </a:lnTo>
                  <a:lnTo>
                    <a:pt x="401" y="931"/>
                  </a:lnTo>
                  <a:lnTo>
                    <a:pt x="372" y="898"/>
                  </a:lnTo>
                  <a:lnTo>
                    <a:pt x="339" y="855"/>
                  </a:lnTo>
                  <a:lnTo>
                    <a:pt x="306" y="801"/>
                  </a:lnTo>
                  <a:lnTo>
                    <a:pt x="270" y="732"/>
                  </a:lnTo>
                  <a:lnTo>
                    <a:pt x="227" y="648"/>
                  </a:lnTo>
                  <a:lnTo>
                    <a:pt x="183" y="554"/>
                  </a:lnTo>
                  <a:lnTo>
                    <a:pt x="129" y="438"/>
                  </a:lnTo>
                  <a:lnTo>
                    <a:pt x="96" y="369"/>
                  </a:lnTo>
                  <a:lnTo>
                    <a:pt x="29" y="211"/>
                  </a:lnTo>
                  <a:lnTo>
                    <a:pt x="2" y="127"/>
                  </a:lnTo>
                  <a:lnTo>
                    <a:pt x="0" y="60"/>
                  </a:lnTo>
                  <a:lnTo>
                    <a:pt x="15" y="0"/>
                  </a:lnTo>
                  <a:lnTo>
                    <a:pt x="15" y="43"/>
                  </a:lnTo>
                  <a:lnTo>
                    <a:pt x="15" y="72"/>
                  </a:lnTo>
                  <a:lnTo>
                    <a:pt x="15" y="99"/>
                  </a:lnTo>
                  <a:lnTo>
                    <a:pt x="18" y="126"/>
                  </a:lnTo>
                  <a:lnTo>
                    <a:pt x="29" y="162"/>
                  </a:lnTo>
                  <a:lnTo>
                    <a:pt x="53" y="198"/>
                  </a:lnTo>
                  <a:lnTo>
                    <a:pt x="85" y="231"/>
                  </a:lnTo>
                  <a:lnTo>
                    <a:pt x="125" y="260"/>
                  </a:lnTo>
                  <a:lnTo>
                    <a:pt x="180" y="278"/>
                  </a:lnTo>
                  <a:lnTo>
                    <a:pt x="245" y="282"/>
                  </a:lnTo>
                  <a:lnTo>
                    <a:pt x="495" y="28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9" name="Freeform 9"/>
          <p:cNvSpPr/>
          <p:nvPr/>
        </p:nvSpPr>
        <p:spPr>
          <a:xfrm rot="14400000">
            <a:off x="4440600" y="3963960"/>
            <a:ext cx="1365480" cy="2071800"/>
          </a:xfrm>
          <a:custGeom>
            <a:avLst/>
            <a:gdLst/>
            <a:ahLst/>
            <a:rect l="l" t="t" r="r" b="b"/>
            <a:pathLst>
              <a:path w="1233" h="1764">
                <a:moveTo>
                  <a:pt x="1233" y="343"/>
                </a:moveTo>
                <a:lnTo>
                  <a:pt x="413" y="1764"/>
                </a:lnTo>
                <a:lnTo>
                  <a:pt x="0" y="1226"/>
                </a:lnTo>
                <a:lnTo>
                  <a:pt x="6" y="1098"/>
                </a:lnTo>
                <a:lnTo>
                  <a:pt x="638" y="0"/>
                </a:lnTo>
                <a:lnTo>
                  <a:pt x="1233" y="343"/>
                </a:lnTo>
                <a:lnTo>
                  <a:pt x="1233" y="343"/>
                </a:lnTo>
                <a:close/>
              </a:path>
            </a:pathLst>
          </a:custGeom>
          <a:gradFill rotWithShape="0">
            <a:gsLst>
              <a:gs pos="0">
                <a:srgbClr val="af67ff"/>
              </a:gs>
              <a:gs pos="100000">
                <a:srgbClr val="513076"/>
              </a:gs>
            </a:gsLst>
            <a:lin ang="12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0" name="Group 10"/>
          <p:cNvGrpSpPr/>
          <p:nvPr/>
        </p:nvGrpSpPr>
        <p:grpSpPr>
          <a:xfrm>
            <a:off x="4476240" y="2741400"/>
            <a:ext cx="2172960" cy="2759760"/>
            <a:chOff x="4476240" y="2741400"/>
            <a:chExt cx="2172960" cy="2759760"/>
          </a:xfrm>
        </p:grpSpPr>
        <p:sp>
          <p:nvSpPr>
            <p:cNvPr id="411" name="AutoShape 11"/>
            <p:cNvSpPr/>
            <p:nvPr/>
          </p:nvSpPr>
          <p:spPr>
            <a:xfrm rot="19800000">
              <a:off x="4530600" y="3060360"/>
              <a:ext cx="1438560" cy="603360"/>
            </a:xfrm>
            <a:prstGeom prst="triangle">
              <a:avLst>
                <a:gd name="adj" fmla="val 50000"/>
              </a:avLst>
            </a:prstGeom>
            <a:solidFill>
              <a:srgbClr val="af6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12"/>
            <p:cNvSpPr/>
            <p:nvPr/>
          </p:nvSpPr>
          <p:spPr>
            <a:xfrm rot="14400000">
              <a:off x="4921920" y="3654720"/>
              <a:ext cx="1504800" cy="804600"/>
            </a:xfrm>
            <a:custGeom>
              <a:avLst/>
              <a:gdLst/>
              <a:ahLst/>
              <a:rect l="l" t="t" r="r" b="b"/>
              <a:pathLst>
                <a:path w="750" h="378">
                  <a:moveTo>
                    <a:pt x="750" y="0"/>
                  </a:moveTo>
                  <a:lnTo>
                    <a:pt x="0" y="0"/>
                  </a:lnTo>
                  <a:lnTo>
                    <a:pt x="2" y="194"/>
                  </a:lnTo>
                  <a:lnTo>
                    <a:pt x="28" y="378"/>
                  </a:lnTo>
                  <a:lnTo>
                    <a:pt x="750" y="378"/>
                  </a:lnTo>
                  <a:lnTo>
                    <a:pt x="750" y="0"/>
                  </a:lnTo>
                  <a:close/>
                </a:path>
              </a:pathLst>
            </a:custGeom>
            <a:solidFill>
              <a:srgbClr val="af6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13"/>
            <p:cNvSpPr/>
            <p:nvPr/>
          </p:nvSpPr>
          <p:spPr>
            <a:xfrm rot="14400000">
              <a:off x="5743440" y="4408200"/>
              <a:ext cx="549360" cy="1139760"/>
            </a:xfrm>
            <a:custGeom>
              <a:avLst/>
              <a:gdLst/>
              <a:ahLst/>
              <a:rect l="l" t="t" r="r" b="b"/>
              <a:pathLst>
                <a:path w="495" h="971">
                  <a:moveTo>
                    <a:pt x="495" y="285"/>
                  </a:moveTo>
                  <a:lnTo>
                    <a:pt x="495" y="971"/>
                  </a:lnTo>
                  <a:lnTo>
                    <a:pt x="462" y="964"/>
                  </a:lnTo>
                  <a:lnTo>
                    <a:pt x="430" y="953"/>
                  </a:lnTo>
                  <a:lnTo>
                    <a:pt x="401" y="931"/>
                  </a:lnTo>
                  <a:lnTo>
                    <a:pt x="372" y="898"/>
                  </a:lnTo>
                  <a:lnTo>
                    <a:pt x="339" y="855"/>
                  </a:lnTo>
                  <a:lnTo>
                    <a:pt x="306" y="801"/>
                  </a:lnTo>
                  <a:lnTo>
                    <a:pt x="270" y="732"/>
                  </a:lnTo>
                  <a:lnTo>
                    <a:pt x="227" y="648"/>
                  </a:lnTo>
                  <a:lnTo>
                    <a:pt x="183" y="554"/>
                  </a:lnTo>
                  <a:lnTo>
                    <a:pt x="129" y="438"/>
                  </a:lnTo>
                  <a:lnTo>
                    <a:pt x="96" y="369"/>
                  </a:lnTo>
                  <a:lnTo>
                    <a:pt x="29" y="211"/>
                  </a:lnTo>
                  <a:lnTo>
                    <a:pt x="2" y="127"/>
                  </a:lnTo>
                  <a:lnTo>
                    <a:pt x="0" y="60"/>
                  </a:lnTo>
                  <a:lnTo>
                    <a:pt x="15" y="0"/>
                  </a:lnTo>
                  <a:lnTo>
                    <a:pt x="15" y="43"/>
                  </a:lnTo>
                  <a:lnTo>
                    <a:pt x="15" y="72"/>
                  </a:lnTo>
                  <a:lnTo>
                    <a:pt x="15" y="99"/>
                  </a:lnTo>
                  <a:lnTo>
                    <a:pt x="18" y="126"/>
                  </a:lnTo>
                  <a:lnTo>
                    <a:pt x="29" y="162"/>
                  </a:lnTo>
                  <a:lnTo>
                    <a:pt x="53" y="198"/>
                  </a:lnTo>
                  <a:lnTo>
                    <a:pt x="85" y="231"/>
                  </a:lnTo>
                  <a:lnTo>
                    <a:pt x="125" y="260"/>
                  </a:lnTo>
                  <a:lnTo>
                    <a:pt x="180" y="278"/>
                  </a:lnTo>
                  <a:lnTo>
                    <a:pt x="245" y="282"/>
                  </a:lnTo>
                  <a:lnTo>
                    <a:pt x="495" y="285"/>
                  </a:lnTo>
                  <a:close/>
                </a:path>
              </a:pathLst>
            </a:custGeom>
            <a:solidFill>
              <a:srgbClr val="af6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Group 14"/>
          <p:cNvGrpSpPr/>
          <p:nvPr/>
        </p:nvGrpSpPr>
        <p:grpSpPr>
          <a:xfrm>
            <a:off x="2627280" y="4395960"/>
            <a:ext cx="2493720" cy="1395000"/>
            <a:chOff x="2627280" y="4395960"/>
            <a:chExt cx="2493720" cy="1395000"/>
          </a:xfrm>
        </p:grpSpPr>
        <p:sp>
          <p:nvSpPr>
            <p:cNvPr id="415" name="Freeform 15"/>
            <p:cNvSpPr/>
            <p:nvPr/>
          </p:nvSpPr>
          <p:spPr>
            <a:xfrm>
              <a:off x="2627280" y="4395960"/>
              <a:ext cx="581400" cy="1099800"/>
            </a:xfrm>
            <a:custGeom>
              <a:avLst/>
              <a:gdLst/>
              <a:ahLst/>
              <a:rect l="l" t="t" r="r" b="b"/>
              <a:pathLst>
                <a:path w="495" h="971">
                  <a:moveTo>
                    <a:pt x="495" y="285"/>
                  </a:moveTo>
                  <a:lnTo>
                    <a:pt x="495" y="971"/>
                  </a:lnTo>
                  <a:lnTo>
                    <a:pt x="462" y="964"/>
                  </a:lnTo>
                  <a:lnTo>
                    <a:pt x="430" y="953"/>
                  </a:lnTo>
                  <a:lnTo>
                    <a:pt x="401" y="931"/>
                  </a:lnTo>
                  <a:lnTo>
                    <a:pt x="372" y="898"/>
                  </a:lnTo>
                  <a:lnTo>
                    <a:pt x="339" y="855"/>
                  </a:lnTo>
                  <a:lnTo>
                    <a:pt x="306" y="801"/>
                  </a:lnTo>
                  <a:lnTo>
                    <a:pt x="270" y="732"/>
                  </a:lnTo>
                  <a:lnTo>
                    <a:pt x="227" y="648"/>
                  </a:lnTo>
                  <a:lnTo>
                    <a:pt x="183" y="554"/>
                  </a:lnTo>
                  <a:lnTo>
                    <a:pt x="129" y="438"/>
                  </a:lnTo>
                  <a:lnTo>
                    <a:pt x="96" y="369"/>
                  </a:lnTo>
                  <a:lnTo>
                    <a:pt x="29" y="211"/>
                  </a:lnTo>
                  <a:lnTo>
                    <a:pt x="2" y="127"/>
                  </a:lnTo>
                  <a:lnTo>
                    <a:pt x="0" y="60"/>
                  </a:lnTo>
                  <a:lnTo>
                    <a:pt x="15" y="0"/>
                  </a:lnTo>
                  <a:lnTo>
                    <a:pt x="15" y="43"/>
                  </a:lnTo>
                  <a:lnTo>
                    <a:pt x="15" y="72"/>
                  </a:lnTo>
                  <a:lnTo>
                    <a:pt x="15" y="99"/>
                  </a:lnTo>
                  <a:lnTo>
                    <a:pt x="18" y="126"/>
                  </a:lnTo>
                  <a:lnTo>
                    <a:pt x="29" y="162"/>
                  </a:lnTo>
                  <a:lnTo>
                    <a:pt x="53" y="198"/>
                  </a:lnTo>
                  <a:lnTo>
                    <a:pt x="85" y="231"/>
                  </a:lnTo>
                  <a:lnTo>
                    <a:pt x="125" y="260"/>
                  </a:lnTo>
                  <a:lnTo>
                    <a:pt x="180" y="278"/>
                  </a:lnTo>
                  <a:lnTo>
                    <a:pt x="245" y="282"/>
                  </a:lnTo>
                  <a:lnTo>
                    <a:pt x="495" y="285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AutoShape 16"/>
            <p:cNvSpPr/>
            <p:nvPr/>
          </p:nvSpPr>
          <p:spPr>
            <a:xfrm rot="5400000">
              <a:off x="4108320" y="4778280"/>
              <a:ext cx="1385280" cy="64008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17"/>
            <p:cNvSpPr/>
            <p:nvPr/>
          </p:nvSpPr>
          <p:spPr>
            <a:xfrm>
              <a:off x="3151440" y="4718520"/>
              <a:ext cx="1596600" cy="776880"/>
            </a:xfrm>
            <a:custGeom>
              <a:avLst/>
              <a:gdLst/>
              <a:ahLst/>
              <a:rect l="l" t="t" r="r" b="b"/>
              <a:pathLst>
                <a:path w="750" h="378">
                  <a:moveTo>
                    <a:pt x="750" y="0"/>
                  </a:moveTo>
                  <a:lnTo>
                    <a:pt x="0" y="0"/>
                  </a:lnTo>
                  <a:lnTo>
                    <a:pt x="2" y="194"/>
                  </a:lnTo>
                  <a:lnTo>
                    <a:pt x="28" y="378"/>
                  </a:lnTo>
                  <a:lnTo>
                    <a:pt x="750" y="378"/>
                  </a:lnTo>
                  <a:lnTo>
                    <a:pt x="750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Text Box 18"/>
          <p:cNvSpPr/>
          <p:nvPr/>
        </p:nvSpPr>
        <p:spPr>
          <a:xfrm>
            <a:off x="1433160" y="49165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19"/>
          <p:cNvSpPr/>
          <p:nvPr/>
        </p:nvSpPr>
        <p:spPr>
          <a:xfrm>
            <a:off x="6581520" y="49165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20"/>
          <p:cNvSpPr/>
          <p:nvPr/>
        </p:nvSpPr>
        <p:spPr>
          <a:xfrm>
            <a:off x="3996360" y="157968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Gulim"/>
              </a:rPr>
              <a:t>点击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 spokes="3"/>
    <p:sndAc>
      <p:stSnd>
        <p:snd r:embed="rId1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2" name="Group 3"/>
          <p:cNvGrpSpPr/>
          <p:nvPr/>
        </p:nvGrpSpPr>
        <p:grpSpPr>
          <a:xfrm>
            <a:off x="1959120" y="2346480"/>
            <a:ext cx="5257080" cy="2895120"/>
            <a:chOff x="1959120" y="2346480"/>
            <a:chExt cx="5257080" cy="2895120"/>
          </a:xfrm>
        </p:grpSpPr>
        <p:sp>
          <p:nvSpPr>
            <p:cNvPr id="423" name="Freeform 4"/>
            <p:cNvSpPr/>
            <p:nvPr/>
          </p:nvSpPr>
          <p:spPr>
            <a:xfrm>
              <a:off x="2751480" y="3836160"/>
              <a:ext cx="4464720" cy="1405440"/>
            </a:xfrm>
            <a:custGeom>
              <a:avLst/>
              <a:gdLst/>
              <a:ahLst/>
              <a:rect l="l" t="t" r="r" b="b"/>
              <a:pathLst>
                <a:path w="2298" h="900">
                  <a:moveTo>
                    <a:pt x="531" y="361"/>
                  </a:moveTo>
                  <a:cubicBezTo>
                    <a:pt x="623" y="386"/>
                    <a:pt x="670" y="427"/>
                    <a:pt x="999" y="406"/>
                  </a:cubicBezTo>
                  <a:cubicBezTo>
                    <a:pt x="1329" y="385"/>
                    <a:pt x="1493" y="233"/>
                    <a:pt x="1547" y="188"/>
                  </a:cubicBezTo>
                  <a:lnTo>
                    <a:pt x="1325" y="131"/>
                  </a:lnTo>
                  <a:lnTo>
                    <a:pt x="2005" y="0"/>
                  </a:lnTo>
                  <a:lnTo>
                    <a:pt x="2298" y="425"/>
                  </a:lnTo>
                  <a:lnTo>
                    <a:pt x="2054" y="340"/>
                  </a:lnTo>
                  <a:cubicBezTo>
                    <a:pt x="1934" y="456"/>
                    <a:pt x="1774" y="732"/>
                    <a:pt x="1120" y="816"/>
                  </a:cubicBezTo>
                  <a:cubicBezTo>
                    <a:pt x="466" y="900"/>
                    <a:pt x="119" y="633"/>
                    <a:pt x="0" y="608"/>
                  </a:cubicBezTo>
                  <a:lnTo>
                    <a:pt x="401" y="633"/>
                  </a:lnTo>
                  <a:lnTo>
                    <a:pt x="531" y="361"/>
                  </a:lnTo>
                  <a:close/>
                </a:path>
              </a:pathLst>
            </a:custGeom>
            <a:solidFill>
              <a:srgbClr val="c0c0c0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5"/>
            <p:cNvSpPr/>
            <p:nvPr/>
          </p:nvSpPr>
          <p:spPr>
            <a:xfrm>
              <a:off x="3587400" y="2346480"/>
              <a:ext cx="3619440" cy="1786320"/>
            </a:xfrm>
            <a:custGeom>
              <a:avLst/>
              <a:gdLst/>
              <a:ahLst/>
              <a:rect l="l" t="t" r="r" b="b"/>
              <a:pathLst>
                <a:path w="1863" h="1144">
                  <a:moveTo>
                    <a:pt x="474" y="211"/>
                  </a:moveTo>
                  <a:lnTo>
                    <a:pt x="463" y="0"/>
                  </a:lnTo>
                  <a:lnTo>
                    <a:pt x="0" y="404"/>
                  </a:lnTo>
                  <a:lnTo>
                    <a:pt x="498" y="815"/>
                  </a:lnTo>
                  <a:lnTo>
                    <a:pt x="490" y="580"/>
                  </a:lnTo>
                  <a:cubicBezTo>
                    <a:pt x="577" y="555"/>
                    <a:pt x="902" y="596"/>
                    <a:pt x="1020" y="663"/>
                  </a:cubicBezTo>
                  <a:cubicBezTo>
                    <a:pt x="1239" y="776"/>
                    <a:pt x="1189" y="964"/>
                    <a:pt x="1200" y="982"/>
                  </a:cubicBezTo>
                  <a:lnTo>
                    <a:pt x="1608" y="911"/>
                  </a:lnTo>
                  <a:lnTo>
                    <a:pt x="1762" y="1144"/>
                  </a:lnTo>
                  <a:cubicBezTo>
                    <a:pt x="1783" y="1109"/>
                    <a:pt x="1863" y="914"/>
                    <a:pt x="1739" y="701"/>
                  </a:cubicBezTo>
                  <a:cubicBezTo>
                    <a:pt x="1615" y="488"/>
                    <a:pt x="1492" y="406"/>
                    <a:pt x="1196" y="296"/>
                  </a:cubicBezTo>
                  <a:cubicBezTo>
                    <a:pt x="900" y="186"/>
                    <a:pt x="474" y="211"/>
                    <a:pt x="474" y="211"/>
                  </a:cubicBezTo>
                  <a:close/>
                </a:path>
              </a:pathLst>
            </a:custGeom>
            <a:solidFill>
              <a:srgbClr val="c0c0c0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6"/>
            <p:cNvSpPr/>
            <p:nvPr/>
          </p:nvSpPr>
          <p:spPr>
            <a:xfrm>
              <a:off x="1959120" y="2742840"/>
              <a:ext cx="1977840" cy="2013120"/>
            </a:xfrm>
            <a:custGeom>
              <a:avLst/>
              <a:gdLst/>
              <a:ahLst/>
              <a:rect l="l" t="t" r="r" b="b"/>
              <a:pathLst>
                <a:path w="1018" h="1289">
                  <a:moveTo>
                    <a:pt x="0" y="1220"/>
                  </a:moveTo>
                  <a:lnTo>
                    <a:pt x="774" y="1289"/>
                  </a:lnTo>
                  <a:lnTo>
                    <a:pt x="966" y="866"/>
                  </a:lnTo>
                  <a:lnTo>
                    <a:pt x="733" y="935"/>
                  </a:lnTo>
                  <a:cubicBezTo>
                    <a:pt x="672" y="896"/>
                    <a:pt x="552" y="799"/>
                    <a:pt x="602" y="629"/>
                  </a:cubicBezTo>
                  <a:cubicBezTo>
                    <a:pt x="653" y="458"/>
                    <a:pt x="984" y="345"/>
                    <a:pt x="1018" y="346"/>
                  </a:cubicBezTo>
                  <a:lnTo>
                    <a:pt x="777" y="156"/>
                  </a:lnTo>
                  <a:lnTo>
                    <a:pt x="976" y="0"/>
                  </a:lnTo>
                  <a:cubicBezTo>
                    <a:pt x="727" y="41"/>
                    <a:pt x="502" y="123"/>
                    <a:pt x="346" y="233"/>
                  </a:cubicBezTo>
                  <a:cubicBezTo>
                    <a:pt x="189" y="343"/>
                    <a:pt x="44" y="517"/>
                    <a:pt x="21" y="669"/>
                  </a:cubicBezTo>
                  <a:cubicBezTo>
                    <a:pt x="7" y="814"/>
                    <a:pt x="62" y="1010"/>
                    <a:pt x="209" y="1139"/>
                  </a:cubicBezTo>
                  <a:lnTo>
                    <a:pt x="0" y="1220"/>
                  </a:lnTo>
                  <a:close/>
                </a:path>
              </a:pathLst>
            </a:custGeom>
            <a:solidFill>
              <a:srgbClr val="c0c0c0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Group 7"/>
          <p:cNvGrpSpPr/>
          <p:nvPr/>
        </p:nvGrpSpPr>
        <p:grpSpPr>
          <a:xfrm>
            <a:off x="1882800" y="2270160"/>
            <a:ext cx="5333760" cy="2819520"/>
            <a:chOff x="1882800" y="2270160"/>
            <a:chExt cx="5333760" cy="2819520"/>
          </a:xfrm>
        </p:grpSpPr>
        <p:sp>
          <p:nvSpPr>
            <p:cNvPr id="427" name="Freeform 8"/>
            <p:cNvSpPr/>
            <p:nvPr/>
          </p:nvSpPr>
          <p:spPr>
            <a:xfrm>
              <a:off x="2686680" y="3720960"/>
              <a:ext cx="4529880" cy="1368720"/>
            </a:xfrm>
            <a:custGeom>
              <a:avLst/>
              <a:gdLst/>
              <a:ahLst/>
              <a:rect l="l" t="t" r="r" b="b"/>
              <a:pathLst>
                <a:path w="2298" h="900">
                  <a:moveTo>
                    <a:pt x="531" y="361"/>
                  </a:moveTo>
                  <a:cubicBezTo>
                    <a:pt x="623" y="386"/>
                    <a:pt x="670" y="427"/>
                    <a:pt x="999" y="406"/>
                  </a:cubicBezTo>
                  <a:cubicBezTo>
                    <a:pt x="1329" y="385"/>
                    <a:pt x="1493" y="233"/>
                    <a:pt x="1547" y="188"/>
                  </a:cubicBezTo>
                  <a:lnTo>
                    <a:pt x="1325" y="131"/>
                  </a:lnTo>
                  <a:lnTo>
                    <a:pt x="2005" y="0"/>
                  </a:lnTo>
                  <a:lnTo>
                    <a:pt x="2298" y="425"/>
                  </a:lnTo>
                  <a:lnTo>
                    <a:pt x="2054" y="340"/>
                  </a:lnTo>
                  <a:cubicBezTo>
                    <a:pt x="1934" y="456"/>
                    <a:pt x="1774" y="732"/>
                    <a:pt x="1120" y="816"/>
                  </a:cubicBezTo>
                  <a:cubicBezTo>
                    <a:pt x="466" y="900"/>
                    <a:pt x="119" y="633"/>
                    <a:pt x="0" y="608"/>
                  </a:cubicBezTo>
                  <a:lnTo>
                    <a:pt x="401" y="633"/>
                  </a:lnTo>
                  <a:lnTo>
                    <a:pt x="531" y="361"/>
                  </a:lnTo>
                  <a:close/>
                </a:path>
              </a:pathLst>
            </a:custGeom>
            <a:gradFill rotWithShape="0">
              <a:gsLst>
                <a:gs pos="0">
                  <a:srgbClr val="475e76"/>
                </a:gs>
                <a:gs pos="100000">
                  <a:srgbClr val="99cc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9"/>
            <p:cNvSpPr/>
            <p:nvPr/>
          </p:nvSpPr>
          <p:spPr>
            <a:xfrm>
              <a:off x="3534840" y="2270160"/>
              <a:ext cx="3672000" cy="1739520"/>
            </a:xfrm>
            <a:custGeom>
              <a:avLst/>
              <a:gdLst/>
              <a:ahLst/>
              <a:rect l="l" t="t" r="r" b="b"/>
              <a:pathLst>
                <a:path w="1863" h="1144">
                  <a:moveTo>
                    <a:pt x="474" y="211"/>
                  </a:moveTo>
                  <a:lnTo>
                    <a:pt x="463" y="0"/>
                  </a:lnTo>
                  <a:lnTo>
                    <a:pt x="0" y="404"/>
                  </a:lnTo>
                  <a:lnTo>
                    <a:pt x="498" y="815"/>
                  </a:lnTo>
                  <a:lnTo>
                    <a:pt x="490" y="580"/>
                  </a:lnTo>
                  <a:cubicBezTo>
                    <a:pt x="577" y="555"/>
                    <a:pt x="902" y="596"/>
                    <a:pt x="1020" y="663"/>
                  </a:cubicBezTo>
                  <a:cubicBezTo>
                    <a:pt x="1239" y="776"/>
                    <a:pt x="1189" y="964"/>
                    <a:pt x="1200" y="982"/>
                  </a:cubicBezTo>
                  <a:lnTo>
                    <a:pt x="1608" y="911"/>
                  </a:lnTo>
                  <a:lnTo>
                    <a:pt x="1762" y="1144"/>
                  </a:lnTo>
                  <a:cubicBezTo>
                    <a:pt x="1783" y="1109"/>
                    <a:pt x="1863" y="914"/>
                    <a:pt x="1739" y="701"/>
                  </a:cubicBezTo>
                  <a:cubicBezTo>
                    <a:pt x="1615" y="488"/>
                    <a:pt x="1492" y="406"/>
                    <a:pt x="1196" y="296"/>
                  </a:cubicBezTo>
                  <a:cubicBezTo>
                    <a:pt x="900" y="186"/>
                    <a:pt x="474" y="211"/>
                    <a:pt x="474" y="211"/>
                  </a:cubicBezTo>
                  <a:close/>
                </a:path>
              </a:pathLst>
            </a:custGeom>
            <a:gradFill rotWithShape="0">
              <a:gsLst>
                <a:gs pos="0">
                  <a:srgbClr val="af67ff"/>
                </a:gs>
                <a:gs pos="100000">
                  <a:srgbClr val="5130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10"/>
            <p:cNvSpPr/>
            <p:nvPr/>
          </p:nvSpPr>
          <p:spPr>
            <a:xfrm>
              <a:off x="1882800" y="2656080"/>
              <a:ext cx="2006280" cy="1960200"/>
            </a:xfrm>
            <a:custGeom>
              <a:avLst/>
              <a:gdLst/>
              <a:ahLst/>
              <a:rect l="l" t="t" r="r" b="b"/>
              <a:pathLst>
                <a:path w="1018" h="1289">
                  <a:moveTo>
                    <a:pt x="0" y="1220"/>
                  </a:moveTo>
                  <a:lnTo>
                    <a:pt x="774" y="1289"/>
                  </a:lnTo>
                  <a:lnTo>
                    <a:pt x="966" y="866"/>
                  </a:lnTo>
                  <a:lnTo>
                    <a:pt x="733" y="935"/>
                  </a:lnTo>
                  <a:cubicBezTo>
                    <a:pt x="672" y="896"/>
                    <a:pt x="552" y="799"/>
                    <a:pt x="602" y="629"/>
                  </a:cubicBezTo>
                  <a:cubicBezTo>
                    <a:pt x="653" y="458"/>
                    <a:pt x="984" y="345"/>
                    <a:pt x="1018" y="346"/>
                  </a:cubicBezTo>
                  <a:lnTo>
                    <a:pt x="777" y="156"/>
                  </a:lnTo>
                  <a:lnTo>
                    <a:pt x="976" y="0"/>
                  </a:lnTo>
                  <a:cubicBezTo>
                    <a:pt x="727" y="41"/>
                    <a:pt x="502" y="123"/>
                    <a:pt x="346" y="233"/>
                  </a:cubicBezTo>
                  <a:cubicBezTo>
                    <a:pt x="189" y="343"/>
                    <a:pt x="44" y="517"/>
                    <a:pt x="21" y="669"/>
                  </a:cubicBezTo>
                  <a:cubicBezTo>
                    <a:pt x="7" y="814"/>
                    <a:pt x="62" y="1010"/>
                    <a:pt x="209" y="1139"/>
                  </a:cubicBezTo>
                  <a:lnTo>
                    <a:pt x="0" y="122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100000">
                  <a:srgbClr val="6b6b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0" name="Text Box 11"/>
          <p:cNvSpPr/>
          <p:nvPr/>
        </p:nvSpPr>
        <p:spPr>
          <a:xfrm>
            <a:off x="3524400" y="3565440"/>
            <a:ext cx="193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点击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AutoShape 12"/>
          <p:cNvSpPr/>
          <p:nvPr/>
        </p:nvSpPr>
        <p:spPr>
          <a:xfrm>
            <a:off x="5845320" y="1812960"/>
            <a:ext cx="2743200" cy="914400"/>
          </a:xfrm>
          <a:noFill/>
          <a:ln w="9360">
            <a:solidFill>
              <a:srgbClr val="c11594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xxxxxxxxxxxxxxxxxxxxxxxxxxxxxxxxxxxxxxxxxxxxxxxxxxxxxxxxxxxxxxxxxxxxxxxxxxxxxxxxxxxxxxx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AutoShape 13"/>
          <p:cNvSpPr/>
          <p:nvPr/>
        </p:nvSpPr>
        <p:spPr>
          <a:xfrm>
            <a:off x="4702320" y="5241960"/>
            <a:ext cx="3047760" cy="853920"/>
          </a:xfrm>
          <a:noFill/>
          <a:ln w="9360">
            <a:solidFill>
              <a:srgbClr val="99ccff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xxxxxxxxxxxxxxxxxxxxxxxxxxxxxxxxxxxxxxxxxxxxxxxxxxxxxxxxxxxxxxxxxxxxxxxxxxxxxxxxxxxxxxxxxxxxxxxxxxxxxxx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AutoShape 14"/>
          <p:cNvSpPr/>
          <p:nvPr/>
        </p:nvSpPr>
        <p:spPr>
          <a:xfrm>
            <a:off x="380880" y="2314440"/>
            <a:ext cx="2192400" cy="965160"/>
          </a:xfrm>
          <a:noFill/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xxxxxxxxxxxxxxxxxxxxxxxxxxxxxxxxxxxxxxxxxxxxxxxxxxxxxxxxxxxxxxxxxxx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 spokes="3"/>
    <p:sndAc>
      <p:stSnd>
        <p:snd r:embed="rId1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3"/>
          <p:cNvSpPr/>
          <p:nvPr/>
        </p:nvSpPr>
        <p:spPr>
          <a:xfrm>
            <a:off x="-34920" y="1741320"/>
            <a:ext cx="9144000" cy="8128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50000">
                <a:srgbClr val="99ccff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Freeform 4"/>
          <p:cNvSpPr/>
          <p:nvPr/>
        </p:nvSpPr>
        <p:spPr>
          <a:xfrm>
            <a:off x="2378160" y="3760920"/>
            <a:ext cx="1900080" cy="137628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af67ff">
                  <a:alpha val="0"/>
                </a:srgbClr>
              </a:gs>
              <a:gs pos="100000">
                <a:srgbClr val="000000">
                  <a:alpha val="6039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Freeform 5"/>
          <p:cNvSpPr/>
          <p:nvPr/>
        </p:nvSpPr>
        <p:spPr>
          <a:xfrm>
            <a:off x="4297320" y="3695760"/>
            <a:ext cx="366840" cy="1562040"/>
          </a:xfrm>
          <a:custGeom>
            <a:avLst/>
            <a:gdLst/>
            <a:ahLst/>
            <a:rect l="l" t="t" r="r" b="b"/>
            <a:pathLst>
              <a:path w="142" h="604">
                <a:moveTo>
                  <a:pt x="37" y="1"/>
                </a:moveTo>
                <a:lnTo>
                  <a:pt x="45" y="472"/>
                </a:lnTo>
                <a:lnTo>
                  <a:pt x="0" y="474"/>
                </a:lnTo>
                <a:lnTo>
                  <a:pt x="72" y="604"/>
                </a:lnTo>
                <a:lnTo>
                  <a:pt x="142" y="474"/>
                </a:lnTo>
                <a:lnTo>
                  <a:pt x="100" y="474"/>
                </a:lnTo>
                <a:lnTo>
                  <a:pt x="99" y="0"/>
                </a:lnTo>
                <a:lnTo>
                  <a:pt x="37" y="1"/>
                </a:lnTo>
                <a:close/>
              </a:path>
            </a:pathLst>
          </a:custGeom>
          <a:gradFill rotWithShape="0">
            <a:gsLst>
              <a:gs pos="0">
                <a:srgbClr val="af67ff">
                  <a:alpha val="0"/>
                </a:srgbClr>
              </a:gs>
              <a:gs pos="100000">
                <a:srgbClr val="000000">
                  <a:alpha val="6039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Freeform 6"/>
          <p:cNvSpPr/>
          <p:nvPr/>
        </p:nvSpPr>
        <p:spPr>
          <a:xfrm flipH="1">
            <a:off x="4696560" y="3760920"/>
            <a:ext cx="1900440" cy="137628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af67ff">
                  <a:alpha val="0"/>
                </a:srgbClr>
              </a:gs>
              <a:gs pos="100000">
                <a:srgbClr val="000000">
                  <a:alpha val="6039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9" name="Group 7"/>
          <p:cNvGrpSpPr/>
          <p:nvPr/>
        </p:nvGrpSpPr>
        <p:grpSpPr>
          <a:xfrm>
            <a:off x="1870200" y="2687760"/>
            <a:ext cx="1361160" cy="1321560"/>
            <a:chOff x="1870200" y="2687760"/>
            <a:chExt cx="1361160" cy="1321560"/>
          </a:xfrm>
        </p:grpSpPr>
        <p:sp>
          <p:nvSpPr>
            <p:cNvPr id="440" name="AutoShape 8"/>
            <p:cNvSpPr/>
            <p:nvPr/>
          </p:nvSpPr>
          <p:spPr>
            <a:xfrm>
              <a:off x="1870200" y="2687760"/>
              <a:ext cx="136116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6b8eb2"/>
                </a:gs>
              </a:gsLst>
              <a:lin ang="5400000"/>
            </a:gradFill>
            <a:ln w="25560">
              <a:solidFill>
                <a:srgbClr val="ffffff"/>
              </a:solidFill>
              <a:round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9"/>
            <p:cNvSpPr/>
            <p:nvPr/>
          </p:nvSpPr>
          <p:spPr>
            <a:xfrm>
              <a:off x="1955880" y="2773440"/>
              <a:ext cx="67680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cde6ff"/>
                </a:gs>
                <a:gs pos="50000">
                  <a:srgbClr val="99ccff">
                    <a:alpha val="0"/>
                  </a:srgbClr>
                </a:gs>
                <a:gs pos="100000">
                  <a:srgbClr val="cde6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2" name="Rectangle 10"/>
          <p:cNvSpPr/>
          <p:nvPr/>
        </p:nvSpPr>
        <p:spPr>
          <a:xfrm>
            <a:off x="2203560" y="30844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Arial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3" name="Group 11"/>
          <p:cNvGrpSpPr/>
          <p:nvPr/>
        </p:nvGrpSpPr>
        <p:grpSpPr>
          <a:xfrm>
            <a:off x="3795840" y="2687760"/>
            <a:ext cx="1361160" cy="1321560"/>
            <a:chOff x="3795840" y="2687760"/>
            <a:chExt cx="1361160" cy="1321560"/>
          </a:xfrm>
        </p:grpSpPr>
        <p:sp>
          <p:nvSpPr>
            <p:cNvPr id="444" name="AutoShape 12"/>
            <p:cNvSpPr/>
            <p:nvPr/>
          </p:nvSpPr>
          <p:spPr>
            <a:xfrm>
              <a:off x="3795840" y="2687760"/>
              <a:ext cx="136116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8e8eb2"/>
                </a:gs>
              </a:gsLst>
              <a:lin ang="5400000"/>
            </a:gradFill>
            <a:ln w="25560">
              <a:solidFill>
                <a:srgbClr val="ffffff"/>
              </a:solidFill>
              <a:round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13"/>
            <p:cNvSpPr/>
            <p:nvPr/>
          </p:nvSpPr>
          <p:spPr>
            <a:xfrm>
              <a:off x="3881520" y="2773440"/>
              <a:ext cx="67680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e6e6ff"/>
                </a:gs>
                <a:gs pos="50000">
                  <a:srgbClr val="ccccff">
                    <a:alpha val="0"/>
                  </a:srgbClr>
                </a:gs>
                <a:gs pos="100000">
                  <a:srgbClr val="e6e6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6" name="Group 14"/>
          <p:cNvGrpSpPr/>
          <p:nvPr/>
        </p:nvGrpSpPr>
        <p:grpSpPr>
          <a:xfrm>
            <a:off x="5765760" y="2697120"/>
            <a:ext cx="1361520" cy="1321560"/>
            <a:chOff x="5765760" y="2697120"/>
            <a:chExt cx="1361520" cy="1321560"/>
          </a:xfrm>
        </p:grpSpPr>
        <p:sp>
          <p:nvSpPr>
            <p:cNvPr id="447" name="AutoShape 15"/>
            <p:cNvSpPr/>
            <p:nvPr/>
          </p:nvSpPr>
          <p:spPr>
            <a:xfrm>
              <a:off x="5765760" y="269712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3333cc"/>
                </a:gs>
                <a:gs pos="100000">
                  <a:srgbClr val="24248e"/>
                </a:gs>
              </a:gsLst>
              <a:lin ang="5400000"/>
            </a:gradFill>
            <a:ln w="25560">
              <a:solidFill>
                <a:srgbClr val="ffffff"/>
              </a:solidFill>
              <a:round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16"/>
            <p:cNvSpPr/>
            <p:nvPr/>
          </p:nvSpPr>
          <p:spPr>
            <a:xfrm>
              <a:off x="5851440" y="2782800"/>
              <a:ext cx="67716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9c9ce6"/>
                </a:gs>
                <a:gs pos="50000">
                  <a:srgbClr val="3333cc">
                    <a:alpha val="0"/>
                  </a:srgbClr>
                </a:gs>
                <a:gs pos="100000">
                  <a:srgbClr val="9c9c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9" name="Rectangle 17"/>
          <p:cNvSpPr/>
          <p:nvPr/>
        </p:nvSpPr>
        <p:spPr>
          <a:xfrm>
            <a:off x="4151520" y="30592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Arial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18"/>
          <p:cNvSpPr/>
          <p:nvPr/>
        </p:nvSpPr>
        <p:spPr>
          <a:xfrm>
            <a:off x="6151680" y="30592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Arial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19"/>
          <p:cNvSpPr/>
          <p:nvPr/>
        </p:nvSpPr>
        <p:spPr>
          <a:xfrm>
            <a:off x="1260360" y="1763640"/>
            <a:ext cx="64771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文本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文本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单击此处添加文本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AutoShape 20"/>
          <p:cNvSpPr/>
          <p:nvPr/>
        </p:nvSpPr>
        <p:spPr>
          <a:xfrm>
            <a:off x="1544760" y="5348160"/>
            <a:ext cx="5887800" cy="976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99ccff"/>
            </a:solidFill>
            <a:round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21"/>
          <p:cNvSpPr/>
          <p:nvPr/>
        </p:nvSpPr>
        <p:spPr>
          <a:xfrm>
            <a:off x="1635120" y="5504040"/>
            <a:ext cx="572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  <a:ea typeface="Arial"/>
              </a:rPr>
              <a:t>单击此处添加文本  单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  <a:ea typeface="Arial"/>
              </a:rPr>
              <a:t>单击此处添加文本  单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 spokes="3"/>
    <p:sndAc>
      <p:stSnd>
        <p:snd r:embed="rId1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Freeform 3"/>
          <p:cNvSpPr/>
          <p:nvPr/>
        </p:nvSpPr>
        <p:spPr>
          <a:xfrm flipH="1">
            <a:off x="2082240" y="4460760"/>
            <a:ext cx="1717560" cy="538200"/>
          </a:xfrm>
          <a:custGeom>
            <a:avLst/>
            <a:gdLst/>
            <a:ahLst/>
            <a:rect l="l" t="t" r="r" b="b"/>
            <a:pathLst>
              <a:path w="1162" h="362">
                <a:moveTo>
                  <a:pt x="364" y="337"/>
                </a:moveTo>
                <a:cubicBezTo>
                  <a:pt x="369" y="342"/>
                  <a:pt x="375" y="346"/>
                  <a:pt x="381" y="350"/>
                </a:cubicBezTo>
                <a:cubicBezTo>
                  <a:pt x="387" y="353"/>
                  <a:pt x="394" y="355"/>
                  <a:pt x="400" y="357"/>
                </a:cubicBezTo>
                <a:cubicBezTo>
                  <a:pt x="406" y="359"/>
                  <a:pt x="413" y="360"/>
                  <a:pt x="418" y="361"/>
                </a:cubicBezTo>
                <a:cubicBezTo>
                  <a:pt x="424" y="361"/>
                  <a:pt x="430" y="362"/>
                  <a:pt x="434" y="362"/>
                </a:cubicBezTo>
                <a:cubicBezTo>
                  <a:pt x="436" y="362"/>
                  <a:pt x="439" y="361"/>
                  <a:pt x="440" y="361"/>
                </a:cubicBezTo>
                <a:cubicBezTo>
                  <a:pt x="442" y="361"/>
                  <a:pt x="444" y="361"/>
                  <a:pt x="445" y="361"/>
                </a:cubicBezTo>
                <a:cubicBezTo>
                  <a:pt x="447" y="361"/>
                  <a:pt x="448" y="361"/>
                  <a:pt x="448" y="361"/>
                </a:cubicBezTo>
                <a:cubicBezTo>
                  <a:pt x="449" y="361"/>
                  <a:pt x="449" y="360"/>
                  <a:pt x="449" y="360"/>
                </a:cubicBezTo>
                <a:cubicBezTo>
                  <a:pt x="452" y="360"/>
                  <a:pt x="464" y="360"/>
                  <a:pt x="483" y="359"/>
                </a:cubicBezTo>
                <a:cubicBezTo>
                  <a:pt x="502" y="359"/>
                  <a:pt x="527" y="358"/>
                  <a:pt x="555" y="357"/>
                </a:cubicBezTo>
                <a:cubicBezTo>
                  <a:pt x="582" y="356"/>
                  <a:pt x="612" y="354"/>
                  <a:pt x="641" y="353"/>
                </a:cubicBezTo>
                <a:cubicBezTo>
                  <a:pt x="669" y="352"/>
                  <a:pt x="697" y="350"/>
                  <a:pt x="718" y="348"/>
                </a:cubicBezTo>
                <a:cubicBezTo>
                  <a:pt x="740" y="347"/>
                  <a:pt x="751" y="343"/>
                  <a:pt x="754" y="338"/>
                </a:cubicBezTo>
                <a:cubicBezTo>
                  <a:pt x="758" y="333"/>
                  <a:pt x="753" y="327"/>
                  <a:pt x="744" y="321"/>
                </a:cubicBezTo>
                <a:cubicBezTo>
                  <a:pt x="735" y="314"/>
                  <a:pt x="722" y="307"/>
                  <a:pt x="707" y="301"/>
                </a:cubicBezTo>
                <a:cubicBezTo>
                  <a:pt x="692" y="294"/>
                  <a:pt x="676" y="288"/>
                  <a:pt x="661" y="283"/>
                </a:cubicBezTo>
                <a:cubicBezTo>
                  <a:pt x="647" y="278"/>
                  <a:pt x="641" y="272"/>
                  <a:pt x="641" y="266"/>
                </a:cubicBezTo>
                <a:cubicBezTo>
                  <a:pt x="642" y="260"/>
                  <a:pt x="648" y="254"/>
                  <a:pt x="659" y="249"/>
                </a:cubicBezTo>
                <a:cubicBezTo>
                  <a:pt x="670" y="244"/>
                  <a:pt x="684" y="239"/>
                  <a:pt x="700" y="236"/>
                </a:cubicBezTo>
                <a:cubicBezTo>
                  <a:pt x="716" y="233"/>
                  <a:pt x="733" y="230"/>
                  <a:pt x="749" y="230"/>
                </a:cubicBezTo>
                <a:cubicBezTo>
                  <a:pt x="750" y="230"/>
                  <a:pt x="750" y="230"/>
                  <a:pt x="750" y="230"/>
                </a:cubicBezTo>
                <a:cubicBezTo>
                  <a:pt x="751" y="230"/>
                  <a:pt x="751" y="230"/>
                  <a:pt x="751" y="230"/>
                </a:cubicBezTo>
                <a:cubicBezTo>
                  <a:pt x="752" y="230"/>
                  <a:pt x="752" y="230"/>
                  <a:pt x="752" y="230"/>
                </a:cubicBezTo>
                <a:cubicBezTo>
                  <a:pt x="753" y="230"/>
                  <a:pt x="753" y="230"/>
                  <a:pt x="753" y="230"/>
                </a:cubicBezTo>
                <a:cubicBezTo>
                  <a:pt x="769" y="230"/>
                  <a:pt x="784" y="231"/>
                  <a:pt x="797" y="233"/>
                </a:cubicBezTo>
                <a:cubicBezTo>
                  <a:pt x="811" y="235"/>
                  <a:pt x="823" y="239"/>
                  <a:pt x="834" y="243"/>
                </a:cubicBezTo>
                <a:cubicBezTo>
                  <a:pt x="845" y="247"/>
                  <a:pt x="854" y="252"/>
                  <a:pt x="861" y="257"/>
                </a:cubicBezTo>
                <a:cubicBezTo>
                  <a:pt x="869" y="262"/>
                  <a:pt x="875" y="268"/>
                  <a:pt x="879" y="274"/>
                </a:cubicBezTo>
                <a:cubicBezTo>
                  <a:pt x="883" y="281"/>
                  <a:pt x="888" y="286"/>
                  <a:pt x="894" y="291"/>
                </a:cubicBezTo>
                <a:cubicBezTo>
                  <a:pt x="899" y="295"/>
                  <a:pt x="906" y="299"/>
                  <a:pt x="914" y="303"/>
                </a:cubicBezTo>
                <a:cubicBezTo>
                  <a:pt x="923" y="306"/>
                  <a:pt x="932" y="309"/>
                  <a:pt x="944" y="311"/>
                </a:cubicBezTo>
                <a:cubicBezTo>
                  <a:pt x="955" y="313"/>
                  <a:pt x="968" y="315"/>
                  <a:pt x="984" y="317"/>
                </a:cubicBezTo>
                <a:cubicBezTo>
                  <a:pt x="985" y="317"/>
                  <a:pt x="986" y="317"/>
                  <a:pt x="987" y="317"/>
                </a:cubicBezTo>
                <a:cubicBezTo>
                  <a:pt x="989" y="317"/>
                  <a:pt x="990" y="318"/>
                  <a:pt x="991" y="318"/>
                </a:cubicBezTo>
                <a:cubicBezTo>
                  <a:pt x="993" y="318"/>
                  <a:pt x="994" y="318"/>
                  <a:pt x="996" y="318"/>
                </a:cubicBezTo>
                <a:cubicBezTo>
                  <a:pt x="997" y="318"/>
                  <a:pt x="998" y="318"/>
                  <a:pt x="1000" y="318"/>
                </a:cubicBezTo>
                <a:cubicBezTo>
                  <a:pt x="1016" y="318"/>
                  <a:pt x="1034" y="315"/>
                  <a:pt x="1052" y="312"/>
                </a:cubicBezTo>
                <a:cubicBezTo>
                  <a:pt x="1070" y="309"/>
                  <a:pt x="1088" y="304"/>
                  <a:pt x="1103" y="300"/>
                </a:cubicBezTo>
                <a:cubicBezTo>
                  <a:pt x="1119" y="296"/>
                  <a:pt x="1133" y="291"/>
                  <a:pt x="1144" y="288"/>
                </a:cubicBezTo>
                <a:cubicBezTo>
                  <a:pt x="1154" y="285"/>
                  <a:pt x="1161" y="282"/>
                  <a:pt x="1162" y="282"/>
                </a:cubicBezTo>
                <a:cubicBezTo>
                  <a:pt x="797" y="1"/>
                  <a:pt x="797" y="1"/>
                  <a:pt x="797" y="1"/>
                </a:cubicBezTo>
                <a:cubicBezTo>
                  <a:pt x="762" y="0"/>
                  <a:pt x="762" y="0"/>
                  <a:pt x="762" y="0"/>
                </a:cubicBezTo>
                <a:cubicBezTo>
                  <a:pt x="762" y="0"/>
                  <a:pt x="762" y="0"/>
                  <a:pt x="761" y="0"/>
                </a:cubicBezTo>
                <a:cubicBezTo>
                  <a:pt x="761" y="0"/>
                  <a:pt x="760" y="0"/>
                  <a:pt x="759" y="0"/>
                </a:cubicBezTo>
                <a:cubicBezTo>
                  <a:pt x="758" y="0"/>
                  <a:pt x="756" y="0"/>
                  <a:pt x="755" y="0"/>
                </a:cubicBezTo>
                <a:cubicBezTo>
                  <a:pt x="753" y="0"/>
                  <a:pt x="752" y="0"/>
                  <a:pt x="750" y="0"/>
                </a:cubicBezTo>
                <a:cubicBezTo>
                  <a:pt x="739" y="0"/>
                  <a:pt x="724" y="0"/>
                  <a:pt x="706" y="1"/>
                </a:cubicBezTo>
                <a:cubicBezTo>
                  <a:pt x="689" y="1"/>
                  <a:pt x="669" y="2"/>
                  <a:pt x="649" y="3"/>
                </a:cubicBezTo>
                <a:cubicBezTo>
                  <a:pt x="629" y="4"/>
                  <a:pt x="610" y="5"/>
                  <a:pt x="595" y="6"/>
                </a:cubicBezTo>
                <a:cubicBezTo>
                  <a:pt x="579" y="8"/>
                  <a:pt x="566" y="10"/>
                  <a:pt x="560" y="12"/>
                </a:cubicBezTo>
                <a:cubicBezTo>
                  <a:pt x="553" y="15"/>
                  <a:pt x="548" y="18"/>
                  <a:pt x="545" y="21"/>
                </a:cubicBezTo>
                <a:cubicBezTo>
                  <a:pt x="543" y="24"/>
                  <a:pt x="542" y="26"/>
                  <a:pt x="544" y="29"/>
                </a:cubicBezTo>
                <a:cubicBezTo>
                  <a:pt x="546" y="32"/>
                  <a:pt x="549" y="34"/>
                  <a:pt x="554" y="37"/>
                </a:cubicBezTo>
                <a:cubicBezTo>
                  <a:pt x="559" y="40"/>
                  <a:pt x="566" y="43"/>
                  <a:pt x="574" y="46"/>
                </a:cubicBezTo>
                <a:cubicBezTo>
                  <a:pt x="582" y="49"/>
                  <a:pt x="589" y="52"/>
                  <a:pt x="595" y="55"/>
                </a:cubicBezTo>
                <a:cubicBezTo>
                  <a:pt x="601" y="57"/>
                  <a:pt x="607" y="60"/>
                  <a:pt x="611" y="63"/>
                </a:cubicBezTo>
                <a:cubicBezTo>
                  <a:pt x="616" y="65"/>
                  <a:pt x="620" y="68"/>
                  <a:pt x="622" y="71"/>
                </a:cubicBezTo>
                <a:cubicBezTo>
                  <a:pt x="625" y="75"/>
                  <a:pt x="627" y="78"/>
                  <a:pt x="627" y="83"/>
                </a:cubicBezTo>
                <a:cubicBezTo>
                  <a:pt x="627" y="86"/>
                  <a:pt x="626" y="89"/>
                  <a:pt x="622" y="91"/>
                </a:cubicBezTo>
                <a:cubicBezTo>
                  <a:pt x="618" y="93"/>
                  <a:pt x="613" y="96"/>
                  <a:pt x="606" y="97"/>
                </a:cubicBezTo>
                <a:cubicBezTo>
                  <a:pt x="599" y="99"/>
                  <a:pt x="591" y="101"/>
                  <a:pt x="582" y="102"/>
                </a:cubicBezTo>
                <a:cubicBezTo>
                  <a:pt x="572" y="103"/>
                  <a:pt x="562" y="103"/>
                  <a:pt x="551" y="103"/>
                </a:cubicBezTo>
                <a:cubicBezTo>
                  <a:pt x="545" y="103"/>
                  <a:pt x="539" y="103"/>
                  <a:pt x="533" y="103"/>
                </a:cubicBezTo>
                <a:cubicBezTo>
                  <a:pt x="527" y="103"/>
                  <a:pt x="521" y="102"/>
                  <a:pt x="514" y="102"/>
                </a:cubicBezTo>
                <a:cubicBezTo>
                  <a:pt x="508" y="101"/>
                  <a:pt x="502" y="101"/>
                  <a:pt x="495" y="100"/>
                </a:cubicBezTo>
                <a:cubicBezTo>
                  <a:pt x="489" y="99"/>
                  <a:pt x="483" y="98"/>
                  <a:pt x="476" y="97"/>
                </a:cubicBezTo>
                <a:cubicBezTo>
                  <a:pt x="459" y="94"/>
                  <a:pt x="446" y="89"/>
                  <a:pt x="438" y="84"/>
                </a:cubicBezTo>
                <a:cubicBezTo>
                  <a:pt x="429" y="79"/>
                  <a:pt x="424" y="74"/>
                  <a:pt x="421" y="68"/>
                </a:cubicBezTo>
                <a:cubicBezTo>
                  <a:pt x="417" y="63"/>
                  <a:pt x="416" y="57"/>
                  <a:pt x="414" y="52"/>
                </a:cubicBezTo>
                <a:cubicBezTo>
                  <a:pt x="411" y="48"/>
                  <a:pt x="409" y="43"/>
                  <a:pt x="404" y="40"/>
                </a:cubicBezTo>
                <a:cubicBezTo>
                  <a:pt x="401" y="38"/>
                  <a:pt x="398" y="37"/>
                  <a:pt x="394" y="36"/>
                </a:cubicBezTo>
                <a:cubicBezTo>
                  <a:pt x="390" y="34"/>
                  <a:pt x="385" y="34"/>
                  <a:pt x="380" y="33"/>
                </a:cubicBezTo>
                <a:cubicBezTo>
                  <a:pt x="376" y="32"/>
                  <a:pt x="371" y="32"/>
                  <a:pt x="366" y="32"/>
                </a:cubicBezTo>
                <a:cubicBezTo>
                  <a:pt x="361" y="31"/>
                  <a:pt x="356" y="31"/>
                  <a:pt x="352" y="31"/>
                </a:cubicBezTo>
                <a:cubicBezTo>
                  <a:pt x="350" y="32"/>
                  <a:pt x="347" y="32"/>
                  <a:pt x="345" y="32"/>
                </a:cubicBezTo>
                <a:cubicBezTo>
                  <a:pt x="343" y="32"/>
                  <a:pt x="341" y="32"/>
                  <a:pt x="339" y="32"/>
                </a:cubicBezTo>
                <a:cubicBezTo>
                  <a:pt x="338" y="32"/>
                  <a:pt x="336" y="32"/>
                  <a:pt x="335" y="32"/>
                </a:cubicBezTo>
                <a:cubicBezTo>
                  <a:pt x="334" y="32"/>
                  <a:pt x="334" y="32"/>
                  <a:pt x="334" y="32"/>
                </a:cubicBezTo>
                <a:cubicBezTo>
                  <a:pt x="332" y="33"/>
                  <a:pt x="319" y="35"/>
                  <a:pt x="301" y="38"/>
                </a:cubicBezTo>
                <a:cubicBezTo>
                  <a:pt x="283" y="42"/>
                  <a:pt x="259" y="46"/>
                  <a:pt x="233" y="51"/>
                </a:cubicBezTo>
                <a:cubicBezTo>
                  <a:pt x="208" y="56"/>
                  <a:pt x="181" y="61"/>
                  <a:pt x="158" y="65"/>
                </a:cubicBezTo>
                <a:cubicBezTo>
                  <a:pt x="134" y="70"/>
                  <a:pt x="114" y="74"/>
                  <a:pt x="102" y="76"/>
                </a:cubicBezTo>
                <a:cubicBezTo>
                  <a:pt x="90" y="78"/>
                  <a:pt x="82" y="81"/>
                  <a:pt x="77" y="83"/>
                </a:cubicBezTo>
                <a:cubicBezTo>
                  <a:pt x="73" y="86"/>
                  <a:pt x="71" y="88"/>
                  <a:pt x="71" y="90"/>
                </a:cubicBezTo>
                <a:cubicBezTo>
                  <a:pt x="71" y="92"/>
                  <a:pt x="73" y="94"/>
                  <a:pt x="74" y="96"/>
                </a:cubicBezTo>
                <a:cubicBezTo>
                  <a:pt x="76" y="97"/>
                  <a:pt x="78" y="98"/>
                  <a:pt x="78" y="98"/>
                </a:cubicBezTo>
                <a:cubicBezTo>
                  <a:pt x="79" y="99"/>
                  <a:pt x="82" y="101"/>
                  <a:pt x="87" y="105"/>
                </a:cubicBezTo>
                <a:cubicBezTo>
                  <a:pt x="91" y="109"/>
                  <a:pt x="98" y="114"/>
                  <a:pt x="105" y="120"/>
                </a:cubicBezTo>
                <a:cubicBezTo>
                  <a:pt x="112" y="126"/>
                  <a:pt x="120" y="133"/>
                  <a:pt x="128" y="139"/>
                </a:cubicBezTo>
                <a:cubicBezTo>
                  <a:pt x="136" y="145"/>
                  <a:pt x="144" y="150"/>
                  <a:pt x="150" y="155"/>
                </a:cubicBezTo>
                <a:cubicBezTo>
                  <a:pt x="157" y="159"/>
                  <a:pt x="161" y="163"/>
                  <a:pt x="163" y="167"/>
                </a:cubicBezTo>
                <a:cubicBezTo>
                  <a:pt x="166" y="171"/>
                  <a:pt x="166" y="175"/>
                  <a:pt x="165" y="178"/>
                </a:cubicBezTo>
                <a:cubicBezTo>
                  <a:pt x="163" y="181"/>
                  <a:pt x="160" y="184"/>
                  <a:pt x="156" y="186"/>
                </a:cubicBezTo>
                <a:cubicBezTo>
                  <a:pt x="152" y="188"/>
                  <a:pt x="146" y="190"/>
                  <a:pt x="139" y="191"/>
                </a:cubicBezTo>
                <a:cubicBezTo>
                  <a:pt x="138" y="191"/>
                  <a:pt x="137" y="191"/>
                  <a:pt x="136" y="191"/>
                </a:cubicBezTo>
                <a:cubicBezTo>
                  <a:pt x="135" y="192"/>
                  <a:pt x="133" y="192"/>
                  <a:pt x="132" y="192"/>
                </a:cubicBezTo>
                <a:cubicBezTo>
                  <a:pt x="131" y="192"/>
                  <a:pt x="130" y="192"/>
                  <a:pt x="129" y="192"/>
                </a:cubicBezTo>
                <a:cubicBezTo>
                  <a:pt x="128" y="192"/>
                  <a:pt x="127" y="192"/>
                  <a:pt x="125" y="192"/>
                </a:cubicBezTo>
                <a:cubicBezTo>
                  <a:pt x="124" y="192"/>
                  <a:pt x="122" y="192"/>
                  <a:pt x="120" y="192"/>
                </a:cubicBezTo>
                <a:cubicBezTo>
                  <a:pt x="118" y="192"/>
                  <a:pt x="116" y="192"/>
                  <a:pt x="114" y="192"/>
                </a:cubicBezTo>
                <a:cubicBezTo>
                  <a:pt x="113" y="192"/>
                  <a:pt x="111" y="192"/>
                  <a:pt x="109" y="192"/>
                </a:cubicBezTo>
                <a:cubicBezTo>
                  <a:pt x="107" y="191"/>
                  <a:pt x="105" y="191"/>
                  <a:pt x="103" y="191"/>
                </a:cubicBezTo>
                <a:cubicBezTo>
                  <a:pt x="101" y="191"/>
                  <a:pt x="99" y="191"/>
                  <a:pt x="97" y="191"/>
                </a:cubicBezTo>
                <a:cubicBezTo>
                  <a:pt x="95" y="191"/>
                  <a:pt x="93" y="191"/>
                  <a:pt x="91" y="190"/>
                </a:cubicBezTo>
                <a:cubicBezTo>
                  <a:pt x="88" y="190"/>
                  <a:pt x="86" y="190"/>
                  <a:pt x="84" y="190"/>
                </a:cubicBezTo>
                <a:cubicBezTo>
                  <a:pt x="82" y="190"/>
                  <a:pt x="80" y="190"/>
                  <a:pt x="77" y="190"/>
                </a:cubicBezTo>
                <a:cubicBezTo>
                  <a:pt x="74" y="190"/>
                  <a:pt x="71" y="190"/>
                  <a:pt x="67" y="191"/>
                </a:cubicBezTo>
                <a:cubicBezTo>
                  <a:pt x="64" y="191"/>
                  <a:pt x="60" y="191"/>
                  <a:pt x="56" y="192"/>
                </a:cubicBezTo>
                <a:cubicBezTo>
                  <a:pt x="52" y="192"/>
                  <a:pt x="49" y="193"/>
                  <a:pt x="45" y="194"/>
                </a:cubicBezTo>
                <a:cubicBezTo>
                  <a:pt x="41" y="194"/>
                  <a:pt x="37" y="195"/>
                  <a:pt x="33" y="197"/>
                </a:cubicBezTo>
                <a:cubicBezTo>
                  <a:pt x="21" y="200"/>
                  <a:pt x="13" y="205"/>
                  <a:pt x="7" y="211"/>
                </a:cubicBezTo>
                <a:cubicBezTo>
                  <a:pt x="2" y="217"/>
                  <a:pt x="0" y="224"/>
                  <a:pt x="1" y="232"/>
                </a:cubicBezTo>
                <a:cubicBezTo>
                  <a:pt x="2" y="240"/>
                  <a:pt x="7" y="248"/>
                  <a:pt x="16" y="255"/>
                </a:cubicBezTo>
                <a:cubicBezTo>
                  <a:pt x="25" y="263"/>
                  <a:pt x="37" y="270"/>
                  <a:pt x="54" y="276"/>
                </a:cubicBezTo>
                <a:cubicBezTo>
                  <a:pt x="61" y="279"/>
                  <a:pt x="69" y="281"/>
                  <a:pt x="76" y="283"/>
                </a:cubicBezTo>
                <a:cubicBezTo>
                  <a:pt x="83" y="285"/>
                  <a:pt x="90" y="286"/>
                  <a:pt x="97" y="287"/>
                </a:cubicBezTo>
                <a:cubicBezTo>
                  <a:pt x="104" y="288"/>
                  <a:pt x="111" y="289"/>
                  <a:pt x="117" y="290"/>
                </a:cubicBezTo>
                <a:cubicBezTo>
                  <a:pt x="124" y="290"/>
                  <a:pt x="131" y="290"/>
                  <a:pt x="137" y="290"/>
                </a:cubicBezTo>
                <a:cubicBezTo>
                  <a:pt x="145" y="290"/>
                  <a:pt x="153" y="290"/>
                  <a:pt x="161" y="289"/>
                </a:cubicBezTo>
                <a:cubicBezTo>
                  <a:pt x="168" y="288"/>
                  <a:pt x="175" y="286"/>
                  <a:pt x="181" y="285"/>
                </a:cubicBezTo>
                <a:cubicBezTo>
                  <a:pt x="187" y="283"/>
                  <a:pt x="192" y="281"/>
                  <a:pt x="196" y="279"/>
                </a:cubicBezTo>
                <a:cubicBezTo>
                  <a:pt x="200" y="277"/>
                  <a:pt x="204" y="274"/>
                  <a:pt x="206" y="272"/>
                </a:cubicBezTo>
                <a:cubicBezTo>
                  <a:pt x="208" y="269"/>
                  <a:pt x="211" y="267"/>
                  <a:pt x="214" y="265"/>
                </a:cubicBezTo>
                <a:cubicBezTo>
                  <a:pt x="216" y="263"/>
                  <a:pt x="219" y="262"/>
                  <a:pt x="222" y="261"/>
                </a:cubicBezTo>
                <a:cubicBezTo>
                  <a:pt x="225" y="260"/>
                  <a:pt x="228" y="259"/>
                  <a:pt x="231" y="258"/>
                </a:cubicBezTo>
                <a:cubicBezTo>
                  <a:pt x="234" y="258"/>
                  <a:pt x="238" y="258"/>
                  <a:pt x="241" y="258"/>
                </a:cubicBezTo>
                <a:cubicBezTo>
                  <a:pt x="244" y="258"/>
                  <a:pt x="246" y="258"/>
                  <a:pt x="248" y="258"/>
                </a:cubicBezTo>
                <a:cubicBezTo>
                  <a:pt x="251" y="258"/>
                  <a:pt x="253" y="258"/>
                  <a:pt x="256" y="258"/>
                </a:cubicBezTo>
                <a:cubicBezTo>
                  <a:pt x="259" y="259"/>
                  <a:pt x="262" y="259"/>
                  <a:pt x="264" y="259"/>
                </a:cubicBezTo>
                <a:cubicBezTo>
                  <a:pt x="267" y="260"/>
                  <a:pt x="270" y="260"/>
                  <a:pt x="273" y="261"/>
                </a:cubicBezTo>
                <a:cubicBezTo>
                  <a:pt x="281" y="262"/>
                  <a:pt x="288" y="265"/>
                  <a:pt x="296" y="270"/>
                </a:cubicBezTo>
                <a:cubicBezTo>
                  <a:pt x="303" y="275"/>
                  <a:pt x="310" y="281"/>
                  <a:pt x="318" y="288"/>
                </a:cubicBezTo>
                <a:cubicBezTo>
                  <a:pt x="325" y="295"/>
                  <a:pt x="332" y="304"/>
                  <a:pt x="340" y="312"/>
                </a:cubicBezTo>
                <a:cubicBezTo>
                  <a:pt x="348" y="320"/>
                  <a:pt x="355" y="329"/>
                  <a:pt x="364" y="337"/>
                </a:cubicBezTo>
                <a:close/>
              </a:path>
            </a:pathLst>
          </a:custGeom>
          <a:gradFill rotWithShape="0">
            <a:gsLst>
              <a:gs pos="0">
                <a:srgbClr val="dcdddd">
                  <a:alpha val="0"/>
                </a:srgbClr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Freeform 4"/>
          <p:cNvSpPr/>
          <p:nvPr/>
        </p:nvSpPr>
        <p:spPr>
          <a:xfrm flipH="1">
            <a:off x="3363840" y="4951440"/>
            <a:ext cx="1743120" cy="658800"/>
          </a:xfrm>
          <a:custGeom>
            <a:avLst/>
            <a:gdLst/>
            <a:ahLst/>
            <a:rect l="l" t="t" r="r" b="b"/>
            <a:pathLst>
              <a:path w="1179" h="445">
                <a:moveTo>
                  <a:pt x="1171" y="192"/>
                </a:moveTo>
                <a:cubicBezTo>
                  <a:pt x="1167" y="186"/>
                  <a:pt x="1161" y="180"/>
                  <a:pt x="1154" y="175"/>
                </a:cubicBezTo>
                <a:cubicBezTo>
                  <a:pt x="1146" y="169"/>
                  <a:pt x="1136" y="164"/>
                  <a:pt x="1124" y="160"/>
                </a:cubicBezTo>
                <a:cubicBezTo>
                  <a:pt x="1118" y="157"/>
                  <a:pt x="1111" y="155"/>
                  <a:pt x="1104" y="154"/>
                </a:cubicBezTo>
                <a:cubicBezTo>
                  <a:pt x="1097" y="152"/>
                  <a:pt x="1089" y="151"/>
                  <a:pt x="1082" y="150"/>
                </a:cubicBezTo>
                <a:cubicBezTo>
                  <a:pt x="1074" y="149"/>
                  <a:pt x="1067" y="148"/>
                  <a:pt x="1059" y="148"/>
                </a:cubicBezTo>
                <a:cubicBezTo>
                  <a:pt x="1051" y="147"/>
                  <a:pt x="1044" y="147"/>
                  <a:pt x="1037" y="147"/>
                </a:cubicBezTo>
                <a:cubicBezTo>
                  <a:pt x="1031" y="147"/>
                  <a:pt x="1025" y="147"/>
                  <a:pt x="1019" y="148"/>
                </a:cubicBezTo>
                <a:cubicBezTo>
                  <a:pt x="1014" y="148"/>
                  <a:pt x="1008" y="149"/>
                  <a:pt x="1004" y="149"/>
                </a:cubicBezTo>
                <a:cubicBezTo>
                  <a:pt x="999" y="150"/>
                  <a:pt x="995" y="151"/>
                  <a:pt x="991" y="152"/>
                </a:cubicBezTo>
                <a:cubicBezTo>
                  <a:pt x="987" y="153"/>
                  <a:pt x="984" y="154"/>
                  <a:pt x="981" y="155"/>
                </a:cubicBezTo>
                <a:cubicBezTo>
                  <a:pt x="980" y="156"/>
                  <a:pt x="978" y="156"/>
                  <a:pt x="976" y="157"/>
                </a:cubicBezTo>
                <a:cubicBezTo>
                  <a:pt x="975" y="157"/>
                  <a:pt x="973" y="158"/>
                  <a:pt x="971" y="158"/>
                </a:cubicBezTo>
                <a:cubicBezTo>
                  <a:pt x="968" y="158"/>
                  <a:pt x="966" y="159"/>
                  <a:pt x="964" y="159"/>
                </a:cubicBezTo>
                <a:cubicBezTo>
                  <a:pt x="962" y="159"/>
                  <a:pt x="959" y="159"/>
                  <a:pt x="957" y="159"/>
                </a:cubicBezTo>
                <a:cubicBezTo>
                  <a:pt x="950" y="159"/>
                  <a:pt x="942" y="159"/>
                  <a:pt x="935" y="157"/>
                </a:cubicBezTo>
                <a:cubicBezTo>
                  <a:pt x="928" y="156"/>
                  <a:pt x="921" y="155"/>
                  <a:pt x="915" y="152"/>
                </a:cubicBezTo>
                <a:cubicBezTo>
                  <a:pt x="910" y="150"/>
                  <a:pt x="905" y="147"/>
                  <a:pt x="901" y="143"/>
                </a:cubicBezTo>
                <a:cubicBezTo>
                  <a:pt x="898" y="140"/>
                  <a:pt x="896" y="136"/>
                  <a:pt x="897" y="132"/>
                </a:cubicBezTo>
                <a:cubicBezTo>
                  <a:pt x="898" y="126"/>
                  <a:pt x="899" y="116"/>
                  <a:pt x="900" y="105"/>
                </a:cubicBezTo>
                <a:cubicBezTo>
                  <a:pt x="901" y="95"/>
                  <a:pt x="901" y="83"/>
                  <a:pt x="902" y="72"/>
                </a:cubicBezTo>
                <a:cubicBezTo>
                  <a:pt x="902" y="61"/>
                  <a:pt x="903" y="51"/>
                  <a:pt x="903" y="43"/>
                </a:cubicBezTo>
                <a:cubicBezTo>
                  <a:pt x="903" y="35"/>
                  <a:pt x="903" y="30"/>
                  <a:pt x="903" y="29"/>
                </a:cubicBezTo>
                <a:cubicBezTo>
                  <a:pt x="903" y="29"/>
                  <a:pt x="903" y="27"/>
                  <a:pt x="902" y="24"/>
                </a:cubicBezTo>
                <a:cubicBezTo>
                  <a:pt x="901" y="21"/>
                  <a:pt x="900" y="17"/>
                  <a:pt x="897" y="14"/>
                </a:cubicBezTo>
                <a:cubicBezTo>
                  <a:pt x="894" y="10"/>
                  <a:pt x="889" y="7"/>
                  <a:pt x="883" y="4"/>
                </a:cubicBezTo>
                <a:cubicBezTo>
                  <a:pt x="876" y="2"/>
                  <a:pt x="867" y="0"/>
                  <a:pt x="856" y="0"/>
                </a:cubicBezTo>
                <a:cubicBezTo>
                  <a:pt x="844" y="0"/>
                  <a:pt x="828" y="1"/>
                  <a:pt x="809" y="1"/>
                </a:cubicBezTo>
                <a:cubicBezTo>
                  <a:pt x="791" y="2"/>
                  <a:pt x="771" y="3"/>
                  <a:pt x="751" y="3"/>
                </a:cubicBezTo>
                <a:cubicBezTo>
                  <a:pt x="732" y="4"/>
                  <a:pt x="714" y="4"/>
                  <a:pt x="701" y="5"/>
                </a:cubicBezTo>
                <a:cubicBezTo>
                  <a:pt x="687" y="5"/>
                  <a:pt x="678" y="5"/>
                  <a:pt x="677" y="5"/>
                </a:cubicBezTo>
                <a:cubicBezTo>
                  <a:pt x="676" y="5"/>
                  <a:pt x="670" y="6"/>
                  <a:pt x="663" y="7"/>
                </a:cubicBezTo>
                <a:cubicBezTo>
                  <a:pt x="656" y="8"/>
                  <a:pt x="646" y="9"/>
                  <a:pt x="638" y="11"/>
                </a:cubicBezTo>
                <a:cubicBezTo>
                  <a:pt x="629" y="13"/>
                  <a:pt x="621" y="16"/>
                  <a:pt x="617" y="19"/>
                </a:cubicBezTo>
                <a:cubicBezTo>
                  <a:pt x="612" y="22"/>
                  <a:pt x="610" y="26"/>
                  <a:pt x="615" y="31"/>
                </a:cubicBezTo>
                <a:cubicBezTo>
                  <a:pt x="619" y="36"/>
                  <a:pt x="627" y="42"/>
                  <a:pt x="636" y="49"/>
                </a:cubicBezTo>
                <a:cubicBezTo>
                  <a:pt x="645" y="56"/>
                  <a:pt x="655" y="64"/>
                  <a:pt x="662" y="72"/>
                </a:cubicBezTo>
                <a:cubicBezTo>
                  <a:pt x="669" y="80"/>
                  <a:pt x="674" y="87"/>
                  <a:pt x="672" y="94"/>
                </a:cubicBezTo>
                <a:cubicBezTo>
                  <a:pt x="671" y="101"/>
                  <a:pt x="664" y="107"/>
                  <a:pt x="648" y="111"/>
                </a:cubicBezTo>
                <a:cubicBezTo>
                  <a:pt x="641" y="112"/>
                  <a:pt x="634" y="114"/>
                  <a:pt x="627" y="115"/>
                </a:cubicBezTo>
                <a:cubicBezTo>
                  <a:pt x="621" y="116"/>
                  <a:pt x="613" y="117"/>
                  <a:pt x="606" y="118"/>
                </a:cubicBezTo>
                <a:cubicBezTo>
                  <a:pt x="599" y="119"/>
                  <a:pt x="592" y="120"/>
                  <a:pt x="585" y="120"/>
                </a:cubicBezTo>
                <a:cubicBezTo>
                  <a:pt x="578" y="120"/>
                  <a:pt x="571" y="121"/>
                  <a:pt x="564" y="121"/>
                </a:cubicBezTo>
                <a:cubicBezTo>
                  <a:pt x="554" y="121"/>
                  <a:pt x="544" y="120"/>
                  <a:pt x="536" y="120"/>
                </a:cubicBezTo>
                <a:cubicBezTo>
                  <a:pt x="527" y="119"/>
                  <a:pt x="519" y="118"/>
                  <a:pt x="512" y="116"/>
                </a:cubicBezTo>
                <a:cubicBezTo>
                  <a:pt x="505" y="114"/>
                  <a:pt x="499" y="112"/>
                  <a:pt x="495" y="109"/>
                </a:cubicBezTo>
                <a:cubicBezTo>
                  <a:pt x="491" y="107"/>
                  <a:pt x="488" y="104"/>
                  <a:pt x="487" y="100"/>
                </a:cubicBezTo>
                <a:cubicBezTo>
                  <a:pt x="486" y="94"/>
                  <a:pt x="486" y="86"/>
                  <a:pt x="487" y="78"/>
                </a:cubicBezTo>
                <a:cubicBezTo>
                  <a:pt x="488" y="69"/>
                  <a:pt x="489" y="60"/>
                  <a:pt x="488" y="51"/>
                </a:cubicBezTo>
                <a:cubicBezTo>
                  <a:pt x="488" y="42"/>
                  <a:pt x="485" y="35"/>
                  <a:pt x="480" y="29"/>
                </a:cubicBezTo>
                <a:cubicBezTo>
                  <a:pt x="474" y="23"/>
                  <a:pt x="465" y="19"/>
                  <a:pt x="450" y="19"/>
                </a:cubicBezTo>
                <a:cubicBezTo>
                  <a:pt x="449" y="19"/>
                  <a:pt x="447" y="19"/>
                  <a:pt x="445" y="19"/>
                </a:cubicBezTo>
                <a:cubicBezTo>
                  <a:pt x="444" y="19"/>
                  <a:pt x="442" y="19"/>
                  <a:pt x="440" y="19"/>
                </a:cubicBezTo>
                <a:cubicBezTo>
                  <a:pt x="438" y="19"/>
                  <a:pt x="436" y="19"/>
                  <a:pt x="434" y="19"/>
                </a:cubicBezTo>
                <a:cubicBezTo>
                  <a:pt x="432" y="19"/>
                  <a:pt x="430" y="19"/>
                  <a:pt x="427" y="19"/>
                </a:cubicBezTo>
                <a:cubicBezTo>
                  <a:pt x="408" y="19"/>
                  <a:pt x="385" y="20"/>
                  <a:pt x="360" y="21"/>
                </a:cubicBezTo>
                <a:cubicBezTo>
                  <a:pt x="335" y="22"/>
                  <a:pt x="308" y="23"/>
                  <a:pt x="284" y="24"/>
                </a:cubicBezTo>
                <a:cubicBezTo>
                  <a:pt x="259" y="25"/>
                  <a:pt x="237" y="27"/>
                  <a:pt x="220" y="28"/>
                </a:cubicBezTo>
                <a:cubicBezTo>
                  <a:pt x="204" y="28"/>
                  <a:pt x="192" y="29"/>
                  <a:pt x="190" y="29"/>
                </a:cubicBezTo>
                <a:cubicBezTo>
                  <a:pt x="221" y="137"/>
                  <a:pt x="221" y="137"/>
                  <a:pt x="221" y="137"/>
                </a:cubicBezTo>
                <a:cubicBezTo>
                  <a:pt x="221" y="137"/>
                  <a:pt x="221" y="139"/>
                  <a:pt x="220" y="142"/>
                </a:cubicBezTo>
                <a:cubicBezTo>
                  <a:pt x="219" y="144"/>
                  <a:pt x="217" y="147"/>
                  <a:pt x="215" y="150"/>
                </a:cubicBezTo>
                <a:cubicBezTo>
                  <a:pt x="213" y="153"/>
                  <a:pt x="210" y="156"/>
                  <a:pt x="206" y="159"/>
                </a:cubicBezTo>
                <a:cubicBezTo>
                  <a:pt x="203" y="161"/>
                  <a:pt x="198" y="163"/>
                  <a:pt x="192" y="163"/>
                </a:cubicBezTo>
                <a:cubicBezTo>
                  <a:pt x="192" y="163"/>
                  <a:pt x="191" y="163"/>
                  <a:pt x="190" y="163"/>
                </a:cubicBezTo>
                <a:cubicBezTo>
                  <a:pt x="189" y="163"/>
                  <a:pt x="188" y="163"/>
                  <a:pt x="188" y="162"/>
                </a:cubicBezTo>
                <a:cubicBezTo>
                  <a:pt x="187" y="162"/>
                  <a:pt x="186" y="162"/>
                  <a:pt x="185" y="162"/>
                </a:cubicBezTo>
                <a:cubicBezTo>
                  <a:pt x="184" y="162"/>
                  <a:pt x="183" y="162"/>
                  <a:pt x="182" y="161"/>
                </a:cubicBezTo>
                <a:cubicBezTo>
                  <a:pt x="177" y="160"/>
                  <a:pt x="170" y="158"/>
                  <a:pt x="163" y="156"/>
                </a:cubicBezTo>
                <a:cubicBezTo>
                  <a:pt x="155" y="154"/>
                  <a:pt x="147" y="152"/>
                  <a:pt x="138" y="150"/>
                </a:cubicBezTo>
                <a:cubicBezTo>
                  <a:pt x="130" y="148"/>
                  <a:pt x="121" y="146"/>
                  <a:pt x="112" y="145"/>
                </a:cubicBezTo>
                <a:cubicBezTo>
                  <a:pt x="103" y="144"/>
                  <a:pt x="94" y="143"/>
                  <a:pt x="86" y="143"/>
                </a:cubicBezTo>
                <a:cubicBezTo>
                  <a:pt x="82" y="143"/>
                  <a:pt x="78" y="143"/>
                  <a:pt x="75" y="143"/>
                </a:cubicBezTo>
                <a:cubicBezTo>
                  <a:pt x="72" y="144"/>
                  <a:pt x="68" y="144"/>
                  <a:pt x="65" y="145"/>
                </a:cubicBezTo>
                <a:cubicBezTo>
                  <a:pt x="62" y="146"/>
                  <a:pt x="59" y="146"/>
                  <a:pt x="56" y="147"/>
                </a:cubicBezTo>
                <a:cubicBezTo>
                  <a:pt x="53" y="148"/>
                  <a:pt x="50" y="150"/>
                  <a:pt x="47" y="151"/>
                </a:cubicBezTo>
                <a:cubicBezTo>
                  <a:pt x="37" y="156"/>
                  <a:pt x="28" y="163"/>
                  <a:pt x="20" y="170"/>
                </a:cubicBezTo>
                <a:cubicBezTo>
                  <a:pt x="13" y="177"/>
                  <a:pt x="7" y="185"/>
                  <a:pt x="4" y="193"/>
                </a:cubicBezTo>
                <a:cubicBezTo>
                  <a:pt x="0" y="202"/>
                  <a:pt x="0" y="210"/>
                  <a:pt x="5" y="218"/>
                </a:cubicBezTo>
                <a:cubicBezTo>
                  <a:pt x="10" y="226"/>
                  <a:pt x="19" y="234"/>
                  <a:pt x="34" y="240"/>
                </a:cubicBezTo>
                <a:cubicBezTo>
                  <a:pt x="43" y="244"/>
                  <a:pt x="52" y="247"/>
                  <a:pt x="60" y="250"/>
                </a:cubicBezTo>
                <a:cubicBezTo>
                  <a:pt x="68" y="252"/>
                  <a:pt x="75" y="254"/>
                  <a:pt x="82" y="256"/>
                </a:cubicBezTo>
                <a:cubicBezTo>
                  <a:pt x="89" y="257"/>
                  <a:pt x="95" y="258"/>
                  <a:pt x="102" y="259"/>
                </a:cubicBezTo>
                <a:cubicBezTo>
                  <a:pt x="108" y="259"/>
                  <a:pt x="113" y="260"/>
                  <a:pt x="119" y="260"/>
                </a:cubicBezTo>
                <a:cubicBezTo>
                  <a:pt x="122" y="260"/>
                  <a:pt x="126" y="259"/>
                  <a:pt x="129" y="259"/>
                </a:cubicBezTo>
                <a:cubicBezTo>
                  <a:pt x="132" y="259"/>
                  <a:pt x="136" y="259"/>
                  <a:pt x="139" y="258"/>
                </a:cubicBezTo>
                <a:cubicBezTo>
                  <a:pt x="142" y="258"/>
                  <a:pt x="145" y="258"/>
                  <a:pt x="149" y="257"/>
                </a:cubicBezTo>
                <a:cubicBezTo>
                  <a:pt x="152" y="257"/>
                  <a:pt x="155" y="256"/>
                  <a:pt x="158" y="256"/>
                </a:cubicBezTo>
                <a:cubicBezTo>
                  <a:pt x="160" y="256"/>
                  <a:pt x="161" y="255"/>
                  <a:pt x="163" y="255"/>
                </a:cubicBezTo>
                <a:cubicBezTo>
                  <a:pt x="164" y="255"/>
                  <a:pt x="166" y="255"/>
                  <a:pt x="168" y="255"/>
                </a:cubicBezTo>
                <a:cubicBezTo>
                  <a:pt x="169" y="255"/>
                  <a:pt x="171" y="255"/>
                  <a:pt x="172" y="255"/>
                </a:cubicBezTo>
                <a:cubicBezTo>
                  <a:pt x="174" y="255"/>
                  <a:pt x="176" y="254"/>
                  <a:pt x="177" y="254"/>
                </a:cubicBezTo>
                <a:cubicBezTo>
                  <a:pt x="184" y="254"/>
                  <a:pt x="191" y="255"/>
                  <a:pt x="197" y="256"/>
                </a:cubicBezTo>
                <a:cubicBezTo>
                  <a:pt x="203" y="257"/>
                  <a:pt x="209" y="259"/>
                  <a:pt x="213" y="261"/>
                </a:cubicBezTo>
                <a:cubicBezTo>
                  <a:pt x="218" y="264"/>
                  <a:pt x="222" y="267"/>
                  <a:pt x="224" y="272"/>
                </a:cubicBezTo>
                <a:cubicBezTo>
                  <a:pt x="226" y="276"/>
                  <a:pt x="227" y="281"/>
                  <a:pt x="225" y="288"/>
                </a:cubicBezTo>
                <a:cubicBezTo>
                  <a:pt x="224" y="296"/>
                  <a:pt x="220" y="308"/>
                  <a:pt x="216" y="322"/>
                </a:cubicBezTo>
                <a:cubicBezTo>
                  <a:pt x="212" y="335"/>
                  <a:pt x="207" y="351"/>
                  <a:pt x="203" y="366"/>
                </a:cubicBezTo>
                <a:cubicBezTo>
                  <a:pt x="199" y="381"/>
                  <a:pt x="195" y="395"/>
                  <a:pt x="193" y="406"/>
                </a:cubicBezTo>
                <a:cubicBezTo>
                  <a:pt x="191" y="418"/>
                  <a:pt x="191" y="425"/>
                  <a:pt x="195" y="427"/>
                </a:cubicBezTo>
                <a:cubicBezTo>
                  <a:pt x="198" y="429"/>
                  <a:pt x="201" y="431"/>
                  <a:pt x="204" y="433"/>
                </a:cubicBezTo>
                <a:cubicBezTo>
                  <a:pt x="207" y="435"/>
                  <a:pt x="211" y="437"/>
                  <a:pt x="217" y="439"/>
                </a:cubicBezTo>
                <a:cubicBezTo>
                  <a:pt x="223" y="441"/>
                  <a:pt x="232" y="442"/>
                  <a:pt x="245" y="443"/>
                </a:cubicBezTo>
                <a:cubicBezTo>
                  <a:pt x="257" y="444"/>
                  <a:pt x="274" y="445"/>
                  <a:pt x="297" y="445"/>
                </a:cubicBezTo>
                <a:cubicBezTo>
                  <a:pt x="298" y="445"/>
                  <a:pt x="299" y="445"/>
                  <a:pt x="301" y="445"/>
                </a:cubicBezTo>
                <a:cubicBezTo>
                  <a:pt x="302" y="445"/>
                  <a:pt x="303" y="445"/>
                  <a:pt x="304" y="445"/>
                </a:cubicBezTo>
                <a:cubicBezTo>
                  <a:pt x="305" y="445"/>
                  <a:pt x="306" y="445"/>
                  <a:pt x="307" y="445"/>
                </a:cubicBezTo>
                <a:cubicBezTo>
                  <a:pt x="309" y="445"/>
                  <a:pt x="310" y="445"/>
                  <a:pt x="311" y="445"/>
                </a:cubicBezTo>
                <a:cubicBezTo>
                  <a:pt x="337" y="444"/>
                  <a:pt x="375" y="444"/>
                  <a:pt x="418" y="443"/>
                </a:cubicBezTo>
                <a:cubicBezTo>
                  <a:pt x="461" y="443"/>
                  <a:pt x="508" y="443"/>
                  <a:pt x="553" y="442"/>
                </a:cubicBezTo>
                <a:cubicBezTo>
                  <a:pt x="597" y="442"/>
                  <a:pt x="639" y="442"/>
                  <a:pt x="670" y="442"/>
                </a:cubicBezTo>
                <a:cubicBezTo>
                  <a:pt x="702" y="441"/>
                  <a:pt x="723" y="441"/>
                  <a:pt x="727" y="441"/>
                </a:cubicBezTo>
                <a:cubicBezTo>
                  <a:pt x="1025" y="434"/>
                  <a:pt x="1025" y="434"/>
                  <a:pt x="1025" y="434"/>
                </a:cubicBezTo>
                <a:cubicBezTo>
                  <a:pt x="1023" y="432"/>
                  <a:pt x="1016" y="421"/>
                  <a:pt x="1005" y="405"/>
                </a:cubicBezTo>
                <a:cubicBezTo>
                  <a:pt x="994" y="390"/>
                  <a:pt x="981" y="370"/>
                  <a:pt x="969" y="350"/>
                </a:cubicBezTo>
                <a:cubicBezTo>
                  <a:pt x="957" y="331"/>
                  <a:pt x="946" y="312"/>
                  <a:pt x="939" y="296"/>
                </a:cubicBezTo>
                <a:cubicBezTo>
                  <a:pt x="932" y="281"/>
                  <a:pt x="929" y="270"/>
                  <a:pt x="934" y="267"/>
                </a:cubicBezTo>
                <a:cubicBezTo>
                  <a:pt x="936" y="265"/>
                  <a:pt x="939" y="262"/>
                  <a:pt x="941" y="260"/>
                </a:cubicBezTo>
                <a:cubicBezTo>
                  <a:pt x="944" y="258"/>
                  <a:pt x="946" y="255"/>
                  <a:pt x="950" y="253"/>
                </a:cubicBezTo>
                <a:cubicBezTo>
                  <a:pt x="953" y="252"/>
                  <a:pt x="956" y="250"/>
                  <a:pt x="961" y="249"/>
                </a:cubicBezTo>
                <a:cubicBezTo>
                  <a:pt x="966" y="247"/>
                  <a:pt x="971" y="247"/>
                  <a:pt x="979" y="247"/>
                </a:cubicBezTo>
                <a:cubicBezTo>
                  <a:pt x="982" y="247"/>
                  <a:pt x="985" y="247"/>
                  <a:pt x="989" y="247"/>
                </a:cubicBezTo>
                <a:cubicBezTo>
                  <a:pt x="992" y="247"/>
                  <a:pt x="996" y="248"/>
                  <a:pt x="1000" y="248"/>
                </a:cubicBezTo>
                <a:cubicBezTo>
                  <a:pt x="1004" y="249"/>
                  <a:pt x="1009" y="249"/>
                  <a:pt x="1014" y="250"/>
                </a:cubicBezTo>
                <a:cubicBezTo>
                  <a:pt x="1019" y="251"/>
                  <a:pt x="1024" y="252"/>
                  <a:pt x="1030" y="253"/>
                </a:cubicBezTo>
                <a:cubicBezTo>
                  <a:pt x="1035" y="254"/>
                  <a:pt x="1040" y="255"/>
                  <a:pt x="1046" y="255"/>
                </a:cubicBezTo>
                <a:cubicBezTo>
                  <a:pt x="1051" y="256"/>
                  <a:pt x="1056" y="257"/>
                  <a:pt x="1061" y="257"/>
                </a:cubicBezTo>
                <a:cubicBezTo>
                  <a:pt x="1065" y="258"/>
                  <a:pt x="1070" y="258"/>
                  <a:pt x="1075" y="258"/>
                </a:cubicBezTo>
                <a:cubicBezTo>
                  <a:pt x="1080" y="258"/>
                  <a:pt x="1084" y="259"/>
                  <a:pt x="1089" y="259"/>
                </a:cubicBezTo>
                <a:cubicBezTo>
                  <a:pt x="1101" y="258"/>
                  <a:pt x="1112" y="258"/>
                  <a:pt x="1122" y="256"/>
                </a:cubicBezTo>
                <a:cubicBezTo>
                  <a:pt x="1131" y="254"/>
                  <a:pt x="1140" y="252"/>
                  <a:pt x="1148" y="249"/>
                </a:cubicBezTo>
                <a:cubicBezTo>
                  <a:pt x="1155" y="247"/>
                  <a:pt x="1161" y="243"/>
                  <a:pt x="1166" y="240"/>
                </a:cubicBezTo>
                <a:cubicBezTo>
                  <a:pt x="1171" y="236"/>
                  <a:pt x="1174" y="233"/>
                  <a:pt x="1175" y="229"/>
                </a:cubicBezTo>
                <a:cubicBezTo>
                  <a:pt x="1178" y="223"/>
                  <a:pt x="1179" y="217"/>
                  <a:pt x="1178" y="211"/>
                </a:cubicBezTo>
                <a:cubicBezTo>
                  <a:pt x="1177" y="205"/>
                  <a:pt x="1175" y="199"/>
                  <a:pt x="1171" y="192"/>
                </a:cubicBezTo>
                <a:close/>
              </a:path>
            </a:pathLst>
          </a:custGeom>
          <a:gradFill rotWithShape="0">
            <a:gsLst>
              <a:gs pos="0">
                <a:srgbClr val="dcdddd">
                  <a:alpha val="0"/>
                </a:srgbClr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Freeform 5"/>
          <p:cNvSpPr/>
          <p:nvPr/>
        </p:nvSpPr>
        <p:spPr>
          <a:xfrm flipH="1">
            <a:off x="6614280" y="2868480"/>
            <a:ext cx="3240" cy="1800"/>
          </a:xfrm>
          <a:custGeom>
            <a:avLst/>
            <a:gdLst/>
            <a:ahLst/>
            <a:rect l="l" t="t" r="r" b="b"/>
            <a:pathLst>
              <a:path w="3175" h="1587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Freeform 6"/>
          <p:cNvSpPr/>
          <p:nvPr/>
        </p:nvSpPr>
        <p:spPr>
          <a:xfrm flipH="1">
            <a:off x="5569920" y="2687760"/>
            <a:ext cx="657000" cy="631800"/>
          </a:xfrm>
          <a:custGeom>
            <a:avLst/>
            <a:gdLst/>
            <a:ahLst/>
            <a:rect l="l" t="t" r="r" b="b"/>
            <a:pathLst>
              <a:path w="445" h="427">
                <a:moveTo>
                  <a:pt x="10" y="229"/>
                </a:moveTo>
                <a:cubicBezTo>
                  <a:pt x="10" y="231"/>
                  <a:pt x="11" y="233"/>
                  <a:pt x="11" y="234"/>
                </a:cubicBezTo>
                <a:cubicBezTo>
                  <a:pt x="12" y="235"/>
                  <a:pt x="12" y="236"/>
                  <a:pt x="13" y="237"/>
                </a:cubicBezTo>
                <a:cubicBezTo>
                  <a:pt x="13" y="238"/>
                  <a:pt x="13" y="238"/>
                  <a:pt x="13" y="238"/>
                </a:cubicBezTo>
                <a:cubicBezTo>
                  <a:pt x="13" y="239"/>
                  <a:pt x="13" y="239"/>
                  <a:pt x="13" y="239"/>
                </a:cubicBezTo>
                <a:cubicBezTo>
                  <a:pt x="14" y="239"/>
                  <a:pt x="14" y="239"/>
                  <a:pt x="14" y="239"/>
                </a:cubicBezTo>
                <a:cubicBezTo>
                  <a:pt x="14" y="239"/>
                  <a:pt x="14" y="239"/>
                  <a:pt x="14" y="239"/>
                </a:cubicBezTo>
                <a:cubicBezTo>
                  <a:pt x="14" y="239"/>
                  <a:pt x="14" y="239"/>
                  <a:pt x="14" y="239"/>
                </a:cubicBezTo>
                <a:cubicBezTo>
                  <a:pt x="14" y="239"/>
                  <a:pt x="14" y="239"/>
                  <a:pt x="14" y="239"/>
                </a:cubicBezTo>
                <a:cubicBezTo>
                  <a:pt x="14" y="239"/>
                  <a:pt x="14" y="239"/>
                  <a:pt x="14" y="239"/>
                </a:cubicBezTo>
                <a:cubicBezTo>
                  <a:pt x="14" y="239"/>
                  <a:pt x="14" y="239"/>
                  <a:pt x="14" y="239"/>
                </a:cubicBezTo>
                <a:cubicBezTo>
                  <a:pt x="15" y="240"/>
                  <a:pt x="15" y="240"/>
                  <a:pt x="15" y="240"/>
                </a:cubicBezTo>
                <a:cubicBezTo>
                  <a:pt x="15" y="240"/>
                  <a:pt x="15" y="240"/>
                  <a:pt x="15" y="240"/>
                </a:cubicBezTo>
                <a:cubicBezTo>
                  <a:pt x="15" y="240"/>
                  <a:pt x="15" y="240"/>
                  <a:pt x="15" y="240"/>
                </a:cubicBezTo>
                <a:cubicBezTo>
                  <a:pt x="15" y="240"/>
                  <a:pt x="15" y="240"/>
                  <a:pt x="16" y="240"/>
                </a:cubicBezTo>
                <a:cubicBezTo>
                  <a:pt x="16" y="240"/>
                  <a:pt x="16" y="240"/>
                  <a:pt x="16" y="240"/>
                </a:cubicBezTo>
                <a:cubicBezTo>
                  <a:pt x="16" y="240"/>
                  <a:pt x="16" y="240"/>
                  <a:pt x="16" y="240"/>
                </a:cubicBezTo>
                <a:cubicBezTo>
                  <a:pt x="16" y="240"/>
                  <a:pt x="16" y="240"/>
                  <a:pt x="16" y="240"/>
                </a:cubicBezTo>
                <a:cubicBezTo>
                  <a:pt x="17" y="240"/>
                  <a:pt x="17" y="240"/>
                  <a:pt x="17" y="240"/>
                </a:cubicBezTo>
                <a:cubicBezTo>
                  <a:pt x="17" y="241"/>
                  <a:pt x="17" y="241"/>
                  <a:pt x="17" y="241"/>
                </a:cubicBezTo>
                <a:cubicBezTo>
                  <a:pt x="17" y="241"/>
                  <a:pt x="17" y="241"/>
                  <a:pt x="17" y="241"/>
                </a:cubicBezTo>
                <a:cubicBezTo>
                  <a:pt x="17" y="241"/>
                  <a:pt x="17" y="241"/>
                  <a:pt x="17" y="241"/>
                </a:cubicBezTo>
                <a:cubicBezTo>
                  <a:pt x="17" y="241"/>
                  <a:pt x="17" y="241"/>
                  <a:pt x="17" y="241"/>
                </a:cubicBezTo>
                <a:cubicBezTo>
                  <a:pt x="17" y="241"/>
                  <a:pt x="17" y="241"/>
                  <a:pt x="17" y="241"/>
                </a:cubicBezTo>
                <a:cubicBezTo>
                  <a:pt x="17" y="241"/>
                  <a:pt x="17" y="241"/>
                  <a:pt x="17" y="241"/>
                </a:cubicBezTo>
                <a:cubicBezTo>
                  <a:pt x="18" y="241"/>
                  <a:pt x="18" y="241"/>
                  <a:pt x="18" y="241"/>
                </a:cubicBezTo>
                <a:cubicBezTo>
                  <a:pt x="18" y="241"/>
                  <a:pt x="18" y="241"/>
                  <a:pt x="18" y="241"/>
                </a:cubicBezTo>
                <a:cubicBezTo>
                  <a:pt x="18" y="241"/>
                  <a:pt x="18" y="241"/>
                  <a:pt x="18" y="241"/>
                </a:cubicBezTo>
                <a:cubicBezTo>
                  <a:pt x="19" y="241"/>
                  <a:pt x="19" y="241"/>
                  <a:pt x="19" y="241"/>
                </a:cubicBezTo>
                <a:cubicBezTo>
                  <a:pt x="19" y="241"/>
                  <a:pt x="19" y="241"/>
                  <a:pt x="19" y="241"/>
                </a:cubicBezTo>
                <a:cubicBezTo>
                  <a:pt x="19" y="241"/>
                  <a:pt x="19" y="241"/>
                  <a:pt x="19" y="241"/>
                </a:cubicBezTo>
                <a:cubicBezTo>
                  <a:pt x="19" y="241"/>
                  <a:pt x="19" y="241"/>
                  <a:pt x="19" y="241"/>
                </a:cubicBezTo>
                <a:cubicBezTo>
                  <a:pt x="19" y="241"/>
                  <a:pt x="19" y="241"/>
                  <a:pt x="19" y="241"/>
                </a:cubicBezTo>
                <a:cubicBezTo>
                  <a:pt x="20" y="241"/>
                  <a:pt x="20" y="241"/>
                  <a:pt x="20" y="241"/>
                </a:cubicBezTo>
                <a:cubicBezTo>
                  <a:pt x="20" y="241"/>
                  <a:pt x="20" y="241"/>
                  <a:pt x="20" y="241"/>
                </a:cubicBezTo>
                <a:cubicBezTo>
                  <a:pt x="20" y="241"/>
                  <a:pt x="20" y="241"/>
                  <a:pt x="20" y="241"/>
                </a:cubicBezTo>
                <a:cubicBezTo>
                  <a:pt x="21" y="241"/>
                  <a:pt x="21" y="241"/>
                  <a:pt x="21" y="241"/>
                </a:cubicBezTo>
                <a:cubicBezTo>
                  <a:pt x="21" y="241"/>
                  <a:pt x="21" y="241"/>
                  <a:pt x="21" y="241"/>
                </a:cubicBezTo>
                <a:cubicBezTo>
                  <a:pt x="21" y="241"/>
                  <a:pt x="21" y="241"/>
                  <a:pt x="21" y="241"/>
                </a:cubicBezTo>
                <a:cubicBezTo>
                  <a:pt x="22" y="241"/>
                  <a:pt x="22" y="241"/>
                  <a:pt x="22" y="241"/>
                </a:cubicBezTo>
                <a:cubicBezTo>
                  <a:pt x="22" y="241"/>
                  <a:pt x="22" y="241"/>
                  <a:pt x="22" y="241"/>
                </a:cubicBezTo>
                <a:cubicBezTo>
                  <a:pt x="22" y="241"/>
                  <a:pt x="22" y="241"/>
                  <a:pt x="22" y="241"/>
                </a:cubicBezTo>
                <a:cubicBezTo>
                  <a:pt x="23" y="241"/>
                  <a:pt x="23" y="241"/>
                  <a:pt x="23" y="241"/>
                </a:cubicBezTo>
                <a:cubicBezTo>
                  <a:pt x="23" y="242"/>
                  <a:pt x="23" y="242"/>
                  <a:pt x="23" y="242"/>
                </a:cubicBezTo>
                <a:cubicBezTo>
                  <a:pt x="24" y="242"/>
                  <a:pt x="24" y="242"/>
                  <a:pt x="24" y="242"/>
                </a:cubicBezTo>
                <a:cubicBezTo>
                  <a:pt x="24" y="242"/>
                  <a:pt x="24" y="242"/>
                  <a:pt x="24" y="242"/>
                </a:cubicBezTo>
                <a:cubicBezTo>
                  <a:pt x="25" y="242"/>
                  <a:pt x="25" y="242"/>
                  <a:pt x="25" y="242"/>
                </a:cubicBezTo>
                <a:cubicBezTo>
                  <a:pt x="25" y="242"/>
                  <a:pt x="25" y="242"/>
                  <a:pt x="25" y="242"/>
                </a:cubicBezTo>
                <a:cubicBezTo>
                  <a:pt x="25" y="242"/>
                  <a:pt x="25" y="242"/>
                  <a:pt x="25" y="242"/>
                </a:cubicBezTo>
                <a:cubicBezTo>
                  <a:pt x="25" y="242"/>
                  <a:pt x="25" y="242"/>
                  <a:pt x="25" y="242"/>
                </a:cubicBezTo>
                <a:cubicBezTo>
                  <a:pt x="25" y="242"/>
                  <a:pt x="25" y="242"/>
                  <a:pt x="25" y="242"/>
                </a:cubicBezTo>
                <a:cubicBezTo>
                  <a:pt x="26" y="242"/>
                  <a:pt x="26" y="242"/>
                  <a:pt x="26" y="242"/>
                </a:cubicBezTo>
                <a:cubicBezTo>
                  <a:pt x="26" y="242"/>
                  <a:pt x="26" y="242"/>
                  <a:pt x="26" y="242"/>
                </a:cubicBezTo>
                <a:cubicBezTo>
                  <a:pt x="27" y="242"/>
                  <a:pt x="27" y="242"/>
                  <a:pt x="27" y="242"/>
                </a:cubicBezTo>
                <a:cubicBezTo>
                  <a:pt x="28" y="242"/>
                  <a:pt x="28" y="242"/>
                  <a:pt x="28" y="242"/>
                </a:cubicBezTo>
                <a:cubicBezTo>
                  <a:pt x="28" y="242"/>
                  <a:pt x="28" y="242"/>
                  <a:pt x="28" y="242"/>
                </a:cubicBezTo>
                <a:cubicBezTo>
                  <a:pt x="28" y="242"/>
                  <a:pt x="28" y="242"/>
                  <a:pt x="28" y="242"/>
                </a:cubicBezTo>
                <a:cubicBezTo>
                  <a:pt x="28" y="242"/>
                  <a:pt x="28" y="242"/>
                  <a:pt x="28" y="242"/>
                </a:cubicBezTo>
                <a:cubicBezTo>
                  <a:pt x="29" y="242"/>
                  <a:pt x="29" y="242"/>
                  <a:pt x="29" y="242"/>
                </a:cubicBezTo>
                <a:cubicBezTo>
                  <a:pt x="30" y="242"/>
                  <a:pt x="30" y="242"/>
                  <a:pt x="30" y="242"/>
                </a:cubicBezTo>
                <a:cubicBezTo>
                  <a:pt x="30" y="242"/>
                  <a:pt x="30" y="242"/>
                  <a:pt x="30" y="242"/>
                </a:cubicBezTo>
                <a:cubicBezTo>
                  <a:pt x="31" y="242"/>
                  <a:pt x="31" y="242"/>
                  <a:pt x="31" y="242"/>
                </a:cubicBezTo>
                <a:cubicBezTo>
                  <a:pt x="31" y="242"/>
                  <a:pt x="31" y="242"/>
                  <a:pt x="31" y="242"/>
                </a:cubicBezTo>
                <a:cubicBezTo>
                  <a:pt x="32" y="242"/>
                  <a:pt x="32" y="242"/>
                  <a:pt x="32" y="242"/>
                </a:cubicBezTo>
                <a:cubicBezTo>
                  <a:pt x="33" y="242"/>
                  <a:pt x="33" y="242"/>
                  <a:pt x="33" y="242"/>
                </a:cubicBezTo>
                <a:cubicBezTo>
                  <a:pt x="34" y="242"/>
                  <a:pt x="34" y="242"/>
                  <a:pt x="34" y="242"/>
                </a:cubicBezTo>
                <a:cubicBezTo>
                  <a:pt x="35" y="242"/>
                  <a:pt x="35" y="242"/>
                  <a:pt x="35" y="242"/>
                </a:cubicBezTo>
                <a:cubicBezTo>
                  <a:pt x="35" y="242"/>
                  <a:pt x="35" y="242"/>
                  <a:pt x="35" y="242"/>
                </a:cubicBezTo>
                <a:cubicBezTo>
                  <a:pt x="35" y="242"/>
                  <a:pt x="35" y="242"/>
                  <a:pt x="35" y="242"/>
                </a:cubicBezTo>
                <a:cubicBezTo>
                  <a:pt x="36" y="242"/>
                  <a:pt x="36" y="242"/>
                  <a:pt x="36" y="242"/>
                </a:cubicBezTo>
                <a:cubicBezTo>
                  <a:pt x="37" y="242"/>
                  <a:pt x="37" y="242"/>
                  <a:pt x="37" y="242"/>
                </a:cubicBezTo>
                <a:cubicBezTo>
                  <a:pt x="38" y="242"/>
                  <a:pt x="38" y="242"/>
                  <a:pt x="38" y="242"/>
                </a:cubicBezTo>
                <a:cubicBezTo>
                  <a:pt x="38" y="242"/>
                  <a:pt x="38" y="242"/>
                  <a:pt x="38" y="242"/>
                </a:cubicBezTo>
                <a:cubicBezTo>
                  <a:pt x="39" y="242"/>
                  <a:pt x="39" y="242"/>
                  <a:pt x="39" y="242"/>
                </a:cubicBezTo>
                <a:cubicBezTo>
                  <a:pt x="40" y="242"/>
                  <a:pt x="40" y="242"/>
                  <a:pt x="40" y="242"/>
                </a:cubicBezTo>
                <a:cubicBezTo>
                  <a:pt x="40" y="242"/>
                  <a:pt x="40" y="242"/>
                  <a:pt x="40" y="242"/>
                </a:cubicBezTo>
                <a:cubicBezTo>
                  <a:pt x="40" y="242"/>
                  <a:pt x="40" y="242"/>
                  <a:pt x="40" y="242"/>
                </a:cubicBezTo>
                <a:cubicBezTo>
                  <a:pt x="40" y="242"/>
                  <a:pt x="40" y="242"/>
                  <a:pt x="40" y="242"/>
                </a:cubicBezTo>
                <a:cubicBezTo>
                  <a:pt x="41" y="242"/>
                  <a:pt x="41" y="242"/>
                  <a:pt x="41" y="242"/>
                </a:cubicBezTo>
                <a:cubicBezTo>
                  <a:pt x="42" y="242"/>
                  <a:pt x="43" y="242"/>
                  <a:pt x="45" y="242"/>
                </a:cubicBezTo>
                <a:cubicBezTo>
                  <a:pt x="45" y="242"/>
                  <a:pt x="46" y="242"/>
                  <a:pt x="46" y="242"/>
                </a:cubicBezTo>
                <a:cubicBezTo>
                  <a:pt x="47" y="242"/>
                  <a:pt x="48" y="242"/>
                  <a:pt x="49" y="242"/>
                </a:cubicBezTo>
                <a:cubicBezTo>
                  <a:pt x="49" y="242"/>
                  <a:pt x="49" y="242"/>
                  <a:pt x="50" y="242"/>
                </a:cubicBezTo>
                <a:cubicBezTo>
                  <a:pt x="53" y="242"/>
                  <a:pt x="57" y="241"/>
                  <a:pt x="61" y="241"/>
                </a:cubicBezTo>
                <a:cubicBezTo>
                  <a:pt x="62" y="241"/>
                  <a:pt x="62" y="241"/>
                  <a:pt x="62" y="241"/>
                </a:cubicBezTo>
                <a:cubicBezTo>
                  <a:pt x="64" y="241"/>
                  <a:pt x="66" y="241"/>
                  <a:pt x="67" y="241"/>
                </a:cubicBezTo>
                <a:cubicBezTo>
                  <a:pt x="70" y="241"/>
                  <a:pt x="73" y="241"/>
                  <a:pt x="75" y="241"/>
                </a:cubicBezTo>
                <a:cubicBezTo>
                  <a:pt x="79" y="241"/>
                  <a:pt x="82" y="241"/>
                  <a:pt x="86" y="241"/>
                </a:cubicBezTo>
                <a:cubicBezTo>
                  <a:pt x="91" y="241"/>
                  <a:pt x="97" y="240"/>
                  <a:pt x="102" y="240"/>
                </a:cubicBezTo>
                <a:cubicBezTo>
                  <a:pt x="105" y="240"/>
                  <a:pt x="108" y="240"/>
                  <a:pt x="111" y="240"/>
                </a:cubicBezTo>
                <a:cubicBezTo>
                  <a:pt x="112" y="240"/>
                  <a:pt x="112" y="240"/>
                  <a:pt x="112" y="240"/>
                </a:cubicBezTo>
                <a:cubicBezTo>
                  <a:pt x="115" y="240"/>
                  <a:pt x="118" y="240"/>
                  <a:pt x="121" y="240"/>
                </a:cubicBezTo>
                <a:cubicBezTo>
                  <a:pt x="122" y="240"/>
                  <a:pt x="122" y="240"/>
                  <a:pt x="122" y="240"/>
                </a:cubicBezTo>
                <a:cubicBezTo>
                  <a:pt x="123" y="240"/>
                  <a:pt x="123" y="240"/>
                  <a:pt x="124" y="240"/>
                </a:cubicBezTo>
                <a:cubicBezTo>
                  <a:pt x="125" y="240"/>
                  <a:pt x="125" y="240"/>
                  <a:pt x="126" y="240"/>
                </a:cubicBezTo>
                <a:cubicBezTo>
                  <a:pt x="127" y="240"/>
                  <a:pt x="128" y="240"/>
                  <a:pt x="129" y="240"/>
                </a:cubicBezTo>
                <a:cubicBezTo>
                  <a:pt x="129" y="240"/>
                  <a:pt x="129" y="240"/>
                  <a:pt x="129" y="240"/>
                </a:cubicBezTo>
                <a:cubicBezTo>
                  <a:pt x="130" y="240"/>
                  <a:pt x="131" y="240"/>
                  <a:pt x="132" y="240"/>
                </a:cubicBezTo>
                <a:cubicBezTo>
                  <a:pt x="134" y="269"/>
                  <a:pt x="134" y="269"/>
                  <a:pt x="134" y="269"/>
                </a:cubicBezTo>
                <a:cubicBezTo>
                  <a:pt x="134" y="270"/>
                  <a:pt x="134" y="270"/>
                  <a:pt x="134" y="271"/>
                </a:cubicBezTo>
                <a:cubicBezTo>
                  <a:pt x="134" y="271"/>
                  <a:pt x="134" y="271"/>
                  <a:pt x="134" y="271"/>
                </a:cubicBezTo>
                <a:cubicBezTo>
                  <a:pt x="135" y="272"/>
                  <a:pt x="135" y="272"/>
                  <a:pt x="135" y="272"/>
                </a:cubicBezTo>
                <a:cubicBezTo>
                  <a:pt x="135" y="272"/>
                  <a:pt x="135" y="272"/>
                  <a:pt x="135" y="272"/>
                </a:cubicBezTo>
                <a:cubicBezTo>
                  <a:pt x="135" y="272"/>
                  <a:pt x="135" y="272"/>
                  <a:pt x="135" y="272"/>
                </a:cubicBezTo>
                <a:cubicBezTo>
                  <a:pt x="135" y="273"/>
                  <a:pt x="135" y="273"/>
                  <a:pt x="135" y="273"/>
                </a:cubicBezTo>
                <a:cubicBezTo>
                  <a:pt x="136" y="274"/>
                  <a:pt x="136" y="274"/>
                  <a:pt x="136" y="274"/>
                </a:cubicBezTo>
                <a:cubicBezTo>
                  <a:pt x="136" y="274"/>
                  <a:pt x="136" y="274"/>
                  <a:pt x="136" y="274"/>
                </a:cubicBezTo>
                <a:cubicBezTo>
                  <a:pt x="136" y="275"/>
                  <a:pt x="136" y="275"/>
                  <a:pt x="136" y="275"/>
                </a:cubicBezTo>
                <a:cubicBezTo>
                  <a:pt x="137" y="275"/>
                  <a:pt x="137" y="275"/>
                  <a:pt x="137" y="275"/>
                </a:cubicBezTo>
                <a:cubicBezTo>
                  <a:pt x="137" y="275"/>
                  <a:pt x="137" y="275"/>
                  <a:pt x="137" y="275"/>
                </a:cubicBezTo>
                <a:cubicBezTo>
                  <a:pt x="138" y="276"/>
                  <a:pt x="138" y="276"/>
                  <a:pt x="138" y="276"/>
                </a:cubicBezTo>
                <a:cubicBezTo>
                  <a:pt x="138" y="276"/>
                  <a:pt x="138" y="276"/>
                  <a:pt x="139" y="276"/>
                </a:cubicBezTo>
                <a:cubicBezTo>
                  <a:pt x="139" y="277"/>
                  <a:pt x="139" y="277"/>
                  <a:pt x="139" y="277"/>
                </a:cubicBezTo>
                <a:cubicBezTo>
                  <a:pt x="140" y="277"/>
                  <a:pt x="140" y="277"/>
                  <a:pt x="140" y="277"/>
                </a:cubicBezTo>
                <a:cubicBezTo>
                  <a:pt x="140" y="277"/>
                  <a:pt x="141" y="277"/>
                  <a:pt x="141" y="278"/>
                </a:cubicBezTo>
                <a:cubicBezTo>
                  <a:pt x="142" y="278"/>
                  <a:pt x="142" y="278"/>
                  <a:pt x="142" y="278"/>
                </a:cubicBezTo>
                <a:cubicBezTo>
                  <a:pt x="142" y="278"/>
                  <a:pt x="142" y="278"/>
                  <a:pt x="142" y="278"/>
                </a:cubicBezTo>
                <a:cubicBezTo>
                  <a:pt x="142" y="278"/>
                  <a:pt x="143" y="279"/>
                  <a:pt x="144" y="279"/>
                </a:cubicBezTo>
                <a:cubicBezTo>
                  <a:pt x="144" y="279"/>
                  <a:pt x="144" y="279"/>
                  <a:pt x="144" y="279"/>
                </a:cubicBezTo>
                <a:cubicBezTo>
                  <a:pt x="145" y="279"/>
                  <a:pt x="145" y="279"/>
                  <a:pt x="145" y="279"/>
                </a:cubicBezTo>
                <a:cubicBezTo>
                  <a:pt x="145" y="279"/>
                  <a:pt x="145" y="279"/>
                  <a:pt x="145" y="279"/>
                </a:cubicBezTo>
                <a:cubicBezTo>
                  <a:pt x="146" y="279"/>
                  <a:pt x="146" y="279"/>
                  <a:pt x="146" y="279"/>
                </a:cubicBezTo>
                <a:cubicBezTo>
                  <a:pt x="146" y="279"/>
                  <a:pt x="146" y="279"/>
                  <a:pt x="146" y="279"/>
                </a:cubicBezTo>
                <a:cubicBezTo>
                  <a:pt x="147" y="280"/>
                  <a:pt x="147" y="280"/>
                  <a:pt x="147" y="280"/>
                </a:cubicBezTo>
                <a:cubicBezTo>
                  <a:pt x="147" y="280"/>
                  <a:pt x="147" y="280"/>
                  <a:pt x="147" y="280"/>
                </a:cubicBezTo>
                <a:cubicBezTo>
                  <a:pt x="147" y="280"/>
                  <a:pt x="147" y="280"/>
                  <a:pt x="147" y="280"/>
                </a:cubicBezTo>
                <a:cubicBezTo>
                  <a:pt x="148" y="280"/>
                  <a:pt x="148" y="280"/>
                  <a:pt x="148" y="280"/>
                </a:cubicBezTo>
                <a:cubicBezTo>
                  <a:pt x="148" y="280"/>
                  <a:pt x="148" y="280"/>
                  <a:pt x="148" y="280"/>
                </a:cubicBezTo>
                <a:cubicBezTo>
                  <a:pt x="149" y="280"/>
                  <a:pt x="149" y="280"/>
                  <a:pt x="149" y="280"/>
                </a:cubicBezTo>
                <a:cubicBezTo>
                  <a:pt x="149" y="280"/>
                  <a:pt x="149" y="280"/>
                  <a:pt x="149" y="280"/>
                </a:cubicBezTo>
                <a:cubicBezTo>
                  <a:pt x="150" y="280"/>
                  <a:pt x="150" y="280"/>
                  <a:pt x="150" y="280"/>
                </a:cubicBezTo>
                <a:cubicBezTo>
                  <a:pt x="151" y="280"/>
                  <a:pt x="151" y="280"/>
                  <a:pt x="151" y="280"/>
                </a:cubicBezTo>
                <a:cubicBezTo>
                  <a:pt x="151" y="280"/>
                  <a:pt x="151" y="281"/>
                  <a:pt x="152" y="281"/>
                </a:cubicBezTo>
                <a:cubicBezTo>
                  <a:pt x="153" y="281"/>
                  <a:pt x="153" y="281"/>
                  <a:pt x="153" y="281"/>
                </a:cubicBezTo>
                <a:cubicBezTo>
                  <a:pt x="153" y="281"/>
                  <a:pt x="153" y="281"/>
                  <a:pt x="153" y="281"/>
                </a:cubicBezTo>
                <a:cubicBezTo>
                  <a:pt x="153" y="281"/>
                  <a:pt x="153" y="281"/>
                  <a:pt x="153" y="281"/>
                </a:cubicBezTo>
                <a:cubicBezTo>
                  <a:pt x="153" y="281"/>
                  <a:pt x="154" y="281"/>
                  <a:pt x="154" y="281"/>
                </a:cubicBezTo>
                <a:cubicBezTo>
                  <a:pt x="155" y="281"/>
                  <a:pt x="155" y="281"/>
                  <a:pt x="155" y="281"/>
                </a:cubicBezTo>
                <a:cubicBezTo>
                  <a:pt x="156" y="281"/>
                  <a:pt x="156" y="281"/>
                  <a:pt x="157" y="281"/>
                </a:cubicBezTo>
                <a:cubicBezTo>
                  <a:pt x="157" y="282"/>
                  <a:pt x="158" y="282"/>
                  <a:pt x="158" y="282"/>
                </a:cubicBezTo>
                <a:cubicBezTo>
                  <a:pt x="159" y="282"/>
                  <a:pt x="159" y="282"/>
                  <a:pt x="159" y="282"/>
                </a:cubicBezTo>
                <a:cubicBezTo>
                  <a:pt x="158" y="282"/>
                  <a:pt x="158" y="282"/>
                  <a:pt x="158" y="282"/>
                </a:cubicBezTo>
                <a:cubicBezTo>
                  <a:pt x="158" y="282"/>
                  <a:pt x="158" y="282"/>
                  <a:pt x="158" y="282"/>
                </a:cubicBezTo>
                <a:cubicBezTo>
                  <a:pt x="158" y="283"/>
                  <a:pt x="158" y="283"/>
                  <a:pt x="158" y="283"/>
                </a:cubicBezTo>
                <a:cubicBezTo>
                  <a:pt x="158" y="283"/>
                  <a:pt x="157" y="283"/>
                  <a:pt x="157" y="283"/>
                </a:cubicBezTo>
                <a:cubicBezTo>
                  <a:pt x="156" y="284"/>
                  <a:pt x="156" y="284"/>
                  <a:pt x="156" y="284"/>
                </a:cubicBezTo>
                <a:cubicBezTo>
                  <a:pt x="156" y="284"/>
                  <a:pt x="156" y="284"/>
                  <a:pt x="156" y="284"/>
                </a:cubicBezTo>
                <a:cubicBezTo>
                  <a:pt x="156" y="284"/>
                  <a:pt x="156" y="284"/>
                  <a:pt x="156" y="284"/>
                </a:cubicBezTo>
                <a:cubicBezTo>
                  <a:pt x="155" y="285"/>
                  <a:pt x="155" y="285"/>
                  <a:pt x="155" y="285"/>
                </a:cubicBezTo>
                <a:cubicBezTo>
                  <a:pt x="155" y="285"/>
                  <a:pt x="155" y="285"/>
                  <a:pt x="155" y="285"/>
                </a:cubicBezTo>
                <a:cubicBezTo>
                  <a:pt x="154" y="286"/>
                  <a:pt x="154" y="286"/>
                  <a:pt x="154" y="286"/>
                </a:cubicBezTo>
                <a:cubicBezTo>
                  <a:pt x="154" y="286"/>
                  <a:pt x="154" y="286"/>
                  <a:pt x="154" y="286"/>
                </a:cubicBezTo>
                <a:cubicBezTo>
                  <a:pt x="154" y="286"/>
                  <a:pt x="154" y="286"/>
                  <a:pt x="154" y="286"/>
                </a:cubicBezTo>
                <a:cubicBezTo>
                  <a:pt x="154" y="286"/>
                  <a:pt x="154" y="286"/>
                  <a:pt x="154" y="286"/>
                </a:cubicBezTo>
                <a:cubicBezTo>
                  <a:pt x="153" y="286"/>
                  <a:pt x="153" y="286"/>
                  <a:pt x="153" y="286"/>
                </a:cubicBezTo>
                <a:cubicBezTo>
                  <a:pt x="153" y="287"/>
                  <a:pt x="153" y="287"/>
                  <a:pt x="153" y="287"/>
                </a:cubicBezTo>
                <a:cubicBezTo>
                  <a:pt x="152" y="287"/>
                  <a:pt x="152" y="287"/>
                  <a:pt x="152" y="287"/>
                </a:cubicBezTo>
                <a:cubicBezTo>
                  <a:pt x="152" y="288"/>
                  <a:pt x="152" y="288"/>
                  <a:pt x="152" y="288"/>
                </a:cubicBezTo>
                <a:cubicBezTo>
                  <a:pt x="152" y="288"/>
                  <a:pt x="152" y="288"/>
                  <a:pt x="152" y="288"/>
                </a:cubicBezTo>
                <a:cubicBezTo>
                  <a:pt x="152" y="288"/>
                  <a:pt x="152" y="288"/>
                  <a:pt x="152" y="288"/>
                </a:cubicBezTo>
                <a:cubicBezTo>
                  <a:pt x="152" y="288"/>
                  <a:pt x="152" y="288"/>
                  <a:pt x="152" y="288"/>
                </a:cubicBezTo>
                <a:cubicBezTo>
                  <a:pt x="151" y="289"/>
                  <a:pt x="151" y="289"/>
                  <a:pt x="151" y="289"/>
                </a:cubicBezTo>
                <a:cubicBezTo>
                  <a:pt x="151" y="289"/>
                  <a:pt x="151" y="289"/>
                  <a:pt x="151" y="289"/>
                </a:cubicBezTo>
                <a:cubicBezTo>
                  <a:pt x="151" y="290"/>
                  <a:pt x="151" y="290"/>
                  <a:pt x="151" y="290"/>
                </a:cubicBezTo>
                <a:cubicBezTo>
                  <a:pt x="151" y="290"/>
                  <a:pt x="151" y="290"/>
                  <a:pt x="151" y="290"/>
                </a:cubicBezTo>
                <a:cubicBezTo>
                  <a:pt x="151" y="290"/>
                  <a:pt x="151" y="290"/>
                  <a:pt x="151" y="290"/>
                </a:cubicBezTo>
                <a:cubicBezTo>
                  <a:pt x="150" y="290"/>
                  <a:pt x="150" y="290"/>
                  <a:pt x="150" y="290"/>
                </a:cubicBezTo>
                <a:cubicBezTo>
                  <a:pt x="150" y="290"/>
                  <a:pt x="150" y="290"/>
                  <a:pt x="150" y="290"/>
                </a:cubicBezTo>
                <a:cubicBezTo>
                  <a:pt x="150" y="291"/>
                  <a:pt x="150" y="291"/>
                  <a:pt x="150" y="291"/>
                </a:cubicBezTo>
                <a:cubicBezTo>
                  <a:pt x="150" y="291"/>
                  <a:pt x="150" y="291"/>
                  <a:pt x="150" y="291"/>
                </a:cubicBezTo>
                <a:cubicBezTo>
                  <a:pt x="150" y="291"/>
                  <a:pt x="150" y="291"/>
                  <a:pt x="150" y="291"/>
                </a:cubicBezTo>
                <a:cubicBezTo>
                  <a:pt x="150" y="292"/>
                  <a:pt x="150" y="292"/>
                  <a:pt x="150" y="292"/>
                </a:cubicBezTo>
                <a:cubicBezTo>
                  <a:pt x="150" y="292"/>
                  <a:pt x="150" y="292"/>
                  <a:pt x="150" y="292"/>
                </a:cubicBezTo>
                <a:cubicBezTo>
                  <a:pt x="150" y="292"/>
                  <a:pt x="150" y="292"/>
                  <a:pt x="150" y="292"/>
                </a:cubicBezTo>
                <a:cubicBezTo>
                  <a:pt x="150" y="293"/>
                  <a:pt x="150" y="293"/>
                  <a:pt x="150" y="293"/>
                </a:cubicBezTo>
                <a:cubicBezTo>
                  <a:pt x="149" y="293"/>
                  <a:pt x="149" y="293"/>
                  <a:pt x="149" y="293"/>
                </a:cubicBezTo>
                <a:cubicBezTo>
                  <a:pt x="149" y="293"/>
                  <a:pt x="149" y="293"/>
                  <a:pt x="149" y="293"/>
                </a:cubicBezTo>
                <a:cubicBezTo>
                  <a:pt x="149" y="294"/>
                  <a:pt x="149" y="294"/>
                  <a:pt x="149" y="294"/>
                </a:cubicBezTo>
                <a:cubicBezTo>
                  <a:pt x="149" y="294"/>
                  <a:pt x="149" y="294"/>
                  <a:pt x="149" y="294"/>
                </a:cubicBezTo>
                <a:cubicBezTo>
                  <a:pt x="149" y="294"/>
                  <a:pt x="149" y="294"/>
                  <a:pt x="149" y="294"/>
                </a:cubicBezTo>
                <a:cubicBezTo>
                  <a:pt x="149" y="294"/>
                  <a:pt x="149" y="294"/>
                  <a:pt x="149" y="294"/>
                </a:cubicBezTo>
                <a:cubicBezTo>
                  <a:pt x="149" y="294"/>
                  <a:pt x="149" y="294"/>
                  <a:pt x="149" y="294"/>
                </a:cubicBezTo>
                <a:cubicBezTo>
                  <a:pt x="158" y="427"/>
                  <a:pt x="158" y="427"/>
                  <a:pt x="158" y="427"/>
                </a:cubicBezTo>
                <a:cubicBezTo>
                  <a:pt x="158" y="426"/>
                  <a:pt x="158" y="426"/>
                  <a:pt x="158" y="425"/>
                </a:cubicBezTo>
                <a:cubicBezTo>
                  <a:pt x="158" y="425"/>
                  <a:pt x="158" y="425"/>
                  <a:pt x="158" y="425"/>
                </a:cubicBezTo>
                <a:cubicBezTo>
                  <a:pt x="158" y="424"/>
                  <a:pt x="158" y="424"/>
                  <a:pt x="159" y="423"/>
                </a:cubicBezTo>
                <a:cubicBezTo>
                  <a:pt x="159" y="423"/>
                  <a:pt x="159" y="423"/>
                  <a:pt x="159" y="423"/>
                </a:cubicBezTo>
                <a:cubicBezTo>
                  <a:pt x="159" y="422"/>
                  <a:pt x="160" y="421"/>
                  <a:pt x="160" y="421"/>
                </a:cubicBezTo>
                <a:cubicBezTo>
                  <a:pt x="160" y="421"/>
                  <a:pt x="160" y="421"/>
                  <a:pt x="160" y="421"/>
                </a:cubicBezTo>
                <a:cubicBezTo>
                  <a:pt x="161" y="420"/>
                  <a:pt x="161" y="419"/>
                  <a:pt x="162" y="419"/>
                </a:cubicBezTo>
                <a:cubicBezTo>
                  <a:pt x="162" y="419"/>
                  <a:pt x="162" y="419"/>
                  <a:pt x="162" y="419"/>
                </a:cubicBezTo>
                <a:cubicBezTo>
                  <a:pt x="163" y="418"/>
                  <a:pt x="163" y="417"/>
                  <a:pt x="164" y="417"/>
                </a:cubicBezTo>
                <a:cubicBezTo>
                  <a:pt x="164" y="416"/>
                  <a:pt x="164" y="416"/>
                  <a:pt x="164" y="416"/>
                </a:cubicBezTo>
                <a:cubicBezTo>
                  <a:pt x="165" y="416"/>
                  <a:pt x="166" y="415"/>
                  <a:pt x="166" y="414"/>
                </a:cubicBezTo>
                <a:cubicBezTo>
                  <a:pt x="167" y="414"/>
                  <a:pt x="167" y="414"/>
                  <a:pt x="167" y="414"/>
                </a:cubicBezTo>
                <a:cubicBezTo>
                  <a:pt x="167" y="414"/>
                  <a:pt x="168" y="413"/>
                  <a:pt x="169" y="412"/>
                </a:cubicBezTo>
                <a:cubicBezTo>
                  <a:pt x="169" y="412"/>
                  <a:pt x="169" y="412"/>
                  <a:pt x="169" y="412"/>
                </a:cubicBezTo>
                <a:cubicBezTo>
                  <a:pt x="170" y="411"/>
                  <a:pt x="170" y="411"/>
                  <a:pt x="170" y="411"/>
                </a:cubicBezTo>
                <a:cubicBezTo>
                  <a:pt x="171" y="411"/>
                  <a:pt x="173" y="410"/>
                  <a:pt x="174" y="409"/>
                </a:cubicBezTo>
                <a:cubicBezTo>
                  <a:pt x="175" y="408"/>
                  <a:pt x="176" y="407"/>
                  <a:pt x="177" y="407"/>
                </a:cubicBezTo>
                <a:cubicBezTo>
                  <a:pt x="178" y="406"/>
                  <a:pt x="179" y="405"/>
                  <a:pt x="180" y="405"/>
                </a:cubicBezTo>
                <a:cubicBezTo>
                  <a:pt x="181" y="404"/>
                  <a:pt x="182" y="403"/>
                  <a:pt x="184" y="402"/>
                </a:cubicBezTo>
                <a:cubicBezTo>
                  <a:pt x="184" y="402"/>
                  <a:pt x="184" y="402"/>
                  <a:pt x="184" y="402"/>
                </a:cubicBezTo>
                <a:cubicBezTo>
                  <a:pt x="185" y="401"/>
                  <a:pt x="185" y="401"/>
                  <a:pt x="185" y="401"/>
                </a:cubicBezTo>
                <a:cubicBezTo>
                  <a:pt x="186" y="401"/>
                  <a:pt x="186" y="401"/>
                  <a:pt x="186" y="401"/>
                </a:cubicBezTo>
                <a:cubicBezTo>
                  <a:pt x="187" y="400"/>
                  <a:pt x="187" y="400"/>
                  <a:pt x="187" y="400"/>
                </a:cubicBezTo>
                <a:cubicBezTo>
                  <a:pt x="187" y="400"/>
                  <a:pt x="188" y="399"/>
                  <a:pt x="188" y="399"/>
                </a:cubicBezTo>
                <a:cubicBezTo>
                  <a:pt x="189" y="398"/>
                  <a:pt x="189" y="398"/>
                  <a:pt x="189" y="398"/>
                </a:cubicBezTo>
                <a:cubicBezTo>
                  <a:pt x="189" y="398"/>
                  <a:pt x="189" y="398"/>
                  <a:pt x="189" y="398"/>
                </a:cubicBezTo>
                <a:cubicBezTo>
                  <a:pt x="190" y="398"/>
                  <a:pt x="190" y="398"/>
                  <a:pt x="190" y="398"/>
                </a:cubicBezTo>
                <a:cubicBezTo>
                  <a:pt x="190" y="397"/>
                  <a:pt x="190" y="397"/>
                  <a:pt x="190" y="397"/>
                </a:cubicBezTo>
                <a:cubicBezTo>
                  <a:pt x="191" y="397"/>
                  <a:pt x="191" y="397"/>
                  <a:pt x="191" y="397"/>
                </a:cubicBezTo>
                <a:cubicBezTo>
                  <a:pt x="191" y="397"/>
                  <a:pt x="191" y="397"/>
                  <a:pt x="191" y="397"/>
                </a:cubicBezTo>
                <a:cubicBezTo>
                  <a:pt x="191" y="397"/>
                  <a:pt x="191" y="397"/>
                  <a:pt x="191" y="397"/>
                </a:cubicBezTo>
                <a:cubicBezTo>
                  <a:pt x="192" y="396"/>
                  <a:pt x="192" y="396"/>
                  <a:pt x="192" y="396"/>
                </a:cubicBezTo>
                <a:cubicBezTo>
                  <a:pt x="192" y="396"/>
                  <a:pt x="192" y="396"/>
                  <a:pt x="192" y="396"/>
                </a:cubicBezTo>
                <a:cubicBezTo>
                  <a:pt x="192" y="396"/>
                  <a:pt x="192" y="396"/>
                  <a:pt x="192" y="396"/>
                </a:cubicBezTo>
                <a:cubicBezTo>
                  <a:pt x="192" y="396"/>
                  <a:pt x="192" y="396"/>
                  <a:pt x="192" y="396"/>
                </a:cubicBezTo>
                <a:cubicBezTo>
                  <a:pt x="192" y="396"/>
                  <a:pt x="192" y="396"/>
                  <a:pt x="192" y="396"/>
                </a:cubicBezTo>
                <a:cubicBezTo>
                  <a:pt x="192" y="395"/>
                  <a:pt x="192" y="395"/>
                  <a:pt x="192" y="395"/>
                </a:cubicBezTo>
                <a:cubicBezTo>
                  <a:pt x="192" y="395"/>
                  <a:pt x="192" y="395"/>
                  <a:pt x="192" y="395"/>
                </a:cubicBezTo>
                <a:cubicBezTo>
                  <a:pt x="192" y="395"/>
                  <a:pt x="192" y="395"/>
                  <a:pt x="192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4" y="394"/>
                  <a:pt x="194" y="394"/>
                  <a:pt x="194" y="394"/>
                </a:cubicBezTo>
                <a:cubicBezTo>
                  <a:pt x="194" y="394"/>
                  <a:pt x="194" y="394"/>
                  <a:pt x="194" y="394"/>
                </a:cubicBezTo>
                <a:cubicBezTo>
                  <a:pt x="194" y="394"/>
                  <a:pt x="194" y="394"/>
                  <a:pt x="194" y="394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87" y="284"/>
                  <a:pt x="187" y="284"/>
                  <a:pt x="187" y="284"/>
                </a:cubicBezTo>
                <a:cubicBezTo>
                  <a:pt x="187" y="284"/>
                  <a:pt x="187" y="284"/>
                  <a:pt x="187" y="284"/>
                </a:cubicBezTo>
                <a:cubicBezTo>
                  <a:pt x="188" y="284"/>
                  <a:pt x="188" y="284"/>
                  <a:pt x="189" y="284"/>
                </a:cubicBezTo>
                <a:cubicBezTo>
                  <a:pt x="189" y="284"/>
                  <a:pt x="190" y="284"/>
                  <a:pt x="190" y="284"/>
                </a:cubicBezTo>
                <a:cubicBezTo>
                  <a:pt x="190" y="284"/>
                  <a:pt x="191" y="284"/>
                  <a:pt x="191" y="284"/>
                </a:cubicBezTo>
                <a:cubicBezTo>
                  <a:pt x="192" y="284"/>
                  <a:pt x="192" y="284"/>
                  <a:pt x="193" y="284"/>
                </a:cubicBezTo>
                <a:cubicBezTo>
                  <a:pt x="193" y="284"/>
                  <a:pt x="194" y="284"/>
                  <a:pt x="194" y="284"/>
                </a:cubicBezTo>
                <a:cubicBezTo>
                  <a:pt x="195" y="284"/>
                  <a:pt x="195" y="284"/>
                  <a:pt x="195" y="284"/>
                </a:cubicBezTo>
                <a:cubicBezTo>
                  <a:pt x="195" y="284"/>
                  <a:pt x="195" y="284"/>
                  <a:pt x="195" y="284"/>
                </a:cubicBezTo>
                <a:cubicBezTo>
                  <a:pt x="196" y="284"/>
                  <a:pt x="196" y="284"/>
                  <a:pt x="196" y="284"/>
                </a:cubicBezTo>
                <a:cubicBezTo>
                  <a:pt x="197" y="284"/>
                  <a:pt x="197" y="284"/>
                  <a:pt x="197" y="284"/>
                </a:cubicBezTo>
                <a:cubicBezTo>
                  <a:pt x="197" y="284"/>
                  <a:pt x="197" y="284"/>
                  <a:pt x="197" y="284"/>
                </a:cubicBezTo>
                <a:cubicBezTo>
                  <a:pt x="198" y="284"/>
                  <a:pt x="198" y="284"/>
                  <a:pt x="198" y="284"/>
                </a:cubicBezTo>
                <a:cubicBezTo>
                  <a:pt x="198" y="284"/>
                  <a:pt x="198" y="284"/>
                  <a:pt x="198" y="284"/>
                </a:cubicBezTo>
                <a:cubicBezTo>
                  <a:pt x="199" y="284"/>
                  <a:pt x="199" y="284"/>
                  <a:pt x="199" y="284"/>
                </a:cubicBezTo>
                <a:cubicBezTo>
                  <a:pt x="199" y="284"/>
                  <a:pt x="200" y="284"/>
                  <a:pt x="200" y="284"/>
                </a:cubicBezTo>
                <a:cubicBezTo>
                  <a:pt x="201" y="284"/>
                  <a:pt x="201" y="284"/>
                  <a:pt x="201" y="284"/>
                </a:cubicBezTo>
                <a:cubicBezTo>
                  <a:pt x="202" y="284"/>
                  <a:pt x="202" y="284"/>
                  <a:pt x="202" y="284"/>
                </a:cubicBezTo>
                <a:cubicBezTo>
                  <a:pt x="203" y="284"/>
                  <a:pt x="203" y="284"/>
                  <a:pt x="204" y="284"/>
                </a:cubicBezTo>
                <a:cubicBezTo>
                  <a:pt x="204" y="284"/>
                  <a:pt x="204" y="284"/>
                  <a:pt x="205" y="284"/>
                </a:cubicBezTo>
                <a:cubicBezTo>
                  <a:pt x="205" y="284"/>
                  <a:pt x="206" y="284"/>
                  <a:pt x="206" y="284"/>
                </a:cubicBezTo>
                <a:cubicBezTo>
                  <a:pt x="207" y="284"/>
                  <a:pt x="207" y="284"/>
                  <a:pt x="207" y="284"/>
                </a:cubicBezTo>
                <a:cubicBezTo>
                  <a:pt x="207" y="284"/>
                  <a:pt x="207" y="284"/>
                  <a:pt x="207" y="284"/>
                </a:cubicBezTo>
                <a:cubicBezTo>
                  <a:pt x="207" y="284"/>
                  <a:pt x="207" y="284"/>
                  <a:pt x="207" y="284"/>
                </a:cubicBezTo>
                <a:cubicBezTo>
                  <a:pt x="207" y="284"/>
                  <a:pt x="208" y="284"/>
                  <a:pt x="208" y="284"/>
                </a:cubicBezTo>
                <a:cubicBezTo>
                  <a:pt x="209" y="284"/>
                  <a:pt x="209" y="284"/>
                  <a:pt x="209" y="284"/>
                </a:cubicBezTo>
                <a:cubicBezTo>
                  <a:pt x="210" y="284"/>
                  <a:pt x="210" y="283"/>
                  <a:pt x="211" y="283"/>
                </a:cubicBezTo>
                <a:cubicBezTo>
                  <a:pt x="211" y="283"/>
                  <a:pt x="211" y="283"/>
                  <a:pt x="212" y="283"/>
                </a:cubicBezTo>
                <a:cubicBezTo>
                  <a:pt x="212" y="283"/>
                  <a:pt x="213" y="283"/>
                  <a:pt x="213" y="283"/>
                </a:cubicBezTo>
                <a:cubicBezTo>
                  <a:pt x="214" y="283"/>
                  <a:pt x="214" y="283"/>
                  <a:pt x="215" y="283"/>
                </a:cubicBezTo>
                <a:cubicBezTo>
                  <a:pt x="215" y="283"/>
                  <a:pt x="216" y="283"/>
                  <a:pt x="216" y="283"/>
                </a:cubicBezTo>
                <a:cubicBezTo>
                  <a:pt x="217" y="283"/>
                  <a:pt x="217" y="283"/>
                  <a:pt x="217" y="283"/>
                </a:cubicBezTo>
                <a:cubicBezTo>
                  <a:pt x="217" y="283"/>
                  <a:pt x="217" y="283"/>
                  <a:pt x="217" y="283"/>
                </a:cubicBezTo>
                <a:cubicBezTo>
                  <a:pt x="217" y="283"/>
                  <a:pt x="217" y="283"/>
                  <a:pt x="217" y="283"/>
                </a:cubicBezTo>
                <a:cubicBezTo>
                  <a:pt x="218" y="283"/>
                  <a:pt x="218" y="283"/>
                  <a:pt x="218" y="283"/>
                </a:cubicBezTo>
                <a:cubicBezTo>
                  <a:pt x="218" y="283"/>
                  <a:pt x="219" y="283"/>
                  <a:pt x="219" y="283"/>
                </a:cubicBezTo>
                <a:cubicBezTo>
                  <a:pt x="220" y="282"/>
                  <a:pt x="222" y="282"/>
                  <a:pt x="223" y="282"/>
                </a:cubicBezTo>
                <a:cubicBezTo>
                  <a:pt x="224" y="282"/>
                  <a:pt x="225" y="282"/>
                  <a:pt x="226" y="282"/>
                </a:cubicBezTo>
                <a:cubicBezTo>
                  <a:pt x="226" y="282"/>
                  <a:pt x="226" y="282"/>
                  <a:pt x="226" y="282"/>
                </a:cubicBezTo>
                <a:cubicBezTo>
                  <a:pt x="226" y="282"/>
                  <a:pt x="226" y="282"/>
                  <a:pt x="226" y="282"/>
                </a:cubicBezTo>
                <a:cubicBezTo>
                  <a:pt x="226" y="281"/>
                  <a:pt x="226" y="281"/>
                  <a:pt x="226" y="281"/>
                </a:cubicBezTo>
                <a:cubicBezTo>
                  <a:pt x="227" y="281"/>
                  <a:pt x="228" y="281"/>
                  <a:pt x="229" y="281"/>
                </a:cubicBezTo>
                <a:cubicBezTo>
                  <a:pt x="230" y="281"/>
                  <a:pt x="230" y="281"/>
                  <a:pt x="230" y="281"/>
                </a:cubicBezTo>
                <a:cubicBezTo>
                  <a:pt x="231" y="280"/>
                  <a:pt x="231" y="280"/>
                  <a:pt x="231" y="280"/>
                </a:cubicBezTo>
                <a:cubicBezTo>
                  <a:pt x="231" y="280"/>
                  <a:pt x="232" y="280"/>
                  <a:pt x="232" y="280"/>
                </a:cubicBezTo>
                <a:cubicBezTo>
                  <a:pt x="233" y="280"/>
                  <a:pt x="233" y="280"/>
                  <a:pt x="233" y="280"/>
                </a:cubicBezTo>
                <a:cubicBezTo>
                  <a:pt x="233" y="280"/>
                  <a:pt x="233" y="280"/>
                  <a:pt x="233" y="280"/>
                </a:cubicBezTo>
                <a:cubicBezTo>
                  <a:pt x="234" y="280"/>
                  <a:pt x="234" y="280"/>
                  <a:pt x="234" y="280"/>
                </a:cubicBezTo>
                <a:cubicBezTo>
                  <a:pt x="234" y="280"/>
                  <a:pt x="234" y="280"/>
                  <a:pt x="234" y="280"/>
                </a:cubicBezTo>
                <a:cubicBezTo>
                  <a:pt x="235" y="279"/>
                  <a:pt x="237" y="279"/>
                  <a:pt x="238" y="279"/>
                </a:cubicBezTo>
                <a:cubicBezTo>
                  <a:pt x="239" y="278"/>
                  <a:pt x="240" y="278"/>
                  <a:pt x="241" y="278"/>
                </a:cubicBezTo>
                <a:cubicBezTo>
                  <a:pt x="241" y="278"/>
                  <a:pt x="241" y="278"/>
                  <a:pt x="241" y="278"/>
                </a:cubicBezTo>
                <a:cubicBezTo>
                  <a:pt x="241" y="278"/>
                  <a:pt x="241" y="278"/>
                  <a:pt x="241" y="278"/>
                </a:cubicBezTo>
                <a:cubicBezTo>
                  <a:pt x="242" y="277"/>
                  <a:pt x="243" y="277"/>
                  <a:pt x="244" y="277"/>
                </a:cubicBezTo>
                <a:cubicBezTo>
                  <a:pt x="245" y="276"/>
                  <a:pt x="246" y="276"/>
                  <a:pt x="247" y="276"/>
                </a:cubicBezTo>
                <a:cubicBezTo>
                  <a:pt x="247" y="276"/>
                  <a:pt x="247" y="276"/>
                  <a:pt x="247" y="276"/>
                </a:cubicBezTo>
                <a:cubicBezTo>
                  <a:pt x="247" y="276"/>
                  <a:pt x="247" y="276"/>
                  <a:pt x="247" y="276"/>
                </a:cubicBezTo>
                <a:cubicBezTo>
                  <a:pt x="247" y="276"/>
                  <a:pt x="247" y="276"/>
                  <a:pt x="247" y="276"/>
                </a:cubicBezTo>
                <a:cubicBezTo>
                  <a:pt x="247" y="276"/>
                  <a:pt x="248" y="275"/>
                  <a:pt x="248" y="275"/>
                </a:cubicBezTo>
                <a:cubicBezTo>
                  <a:pt x="249" y="275"/>
                  <a:pt x="249" y="275"/>
                  <a:pt x="250" y="275"/>
                </a:cubicBezTo>
                <a:cubicBezTo>
                  <a:pt x="250" y="275"/>
                  <a:pt x="251" y="274"/>
                  <a:pt x="251" y="274"/>
                </a:cubicBezTo>
                <a:cubicBezTo>
                  <a:pt x="252" y="274"/>
                  <a:pt x="252" y="274"/>
                  <a:pt x="252" y="274"/>
                </a:cubicBezTo>
                <a:cubicBezTo>
                  <a:pt x="252" y="274"/>
                  <a:pt x="252" y="274"/>
                  <a:pt x="252" y="274"/>
                </a:cubicBezTo>
                <a:cubicBezTo>
                  <a:pt x="252" y="274"/>
                  <a:pt x="252" y="274"/>
                  <a:pt x="252" y="274"/>
                </a:cubicBezTo>
                <a:cubicBezTo>
                  <a:pt x="253" y="273"/>
                  <a:pt x="253" y="273"/>
                  <a:pt x="253" y="273"/>
                </a:cubicBezTo>
                <a:cubicBezTo>
                  <a:pt x="254" y="273"/>
                  <a:pt x="254" y="273"/>
                  <a:pt x="254" y="273"/>
                </a:cubicBezTo>
                <a:cubicBezTo>
                  <a:pt x="255" y="273"/>
                  <a:pt x="255" y="273"/>
                  <a:pt x="255" y="273"/>
                </a:cubicBezTo>
                <a:cubicBezTo>
                  <a:pt x="255" y="272"/>
                  <a:pt x="255" y="272"/>
                  <a:pt x="255" y="272"/>
                </a:cubicBezTo>
                <a:cubicBezTo>
                  <a:pt x="256" y="272"/>
                  <a:pt x="256" y="272"/>
                  <a:pt x="256" y="272"/>
                </a:cubicBezTo>
                <a:cubicBezTo>
                  <a:pt x="256" y="272"/>
                  <a:pt x="256" y="272"/>
                  <a:pt x="256" y="272"/>
                </a:cubicBezTo>
                <a:cubicBezTo>
                  <a:pt x="257" y="272"/>
                  <a:pt x="257" y="272"/>
                  <a:pt x="257" y="272"/>
                </a:cubicBezTo>
                <a:cubicBezTo>
                  <a:pt x="257" y="271"/>
                  <a:pt x="257" y="271"/>
                  <a:pt x="257" y="271"/>
                </a:cubicBezTo>
                <a:cubicBezTo>
                  <a:pt x="258" y="271"/>
                  <a:pt x="258" y="271"/>
                  <a:pt x="258" y="271"/>
                </a:cubicBezTo>
                <a:cubicBezTo>
                  <a:pt x="258" y="271"/>
                  <a:pt x="258" y="271"/>
                  <a:pt x="258" y="271"/>
                </a:cubicBezTo>
                <a:cubicBezTo>
                  <a:pt x="258" y="271"/>
                  <a:pt x="258" y="271"/>
                  <a:pt x="258" y="271"/>
                </a:cubicBezTo>
                <a:cubicBezTo>
                  <a:pt x="259" y="271"/>
                  <a:pt x="259" y="271"/>
                  <a:pt x="259" y="271"/>
                </a:cubicBezTo>
                <a:cubicBezTo>
                  <a:pt x="259" y="270"/>
                  <a:pt x="259" y="270"/>
                  <a:pt x="259" y="270"/>
                </a:cubicBezTo>
                <a:cubicBezTo>
                  <a:pt x="259" y="270"/>
                  <a:pt x="259" y="270"/>
                  <a:pt x="259" y="270"/>
                </a:cubicBezTo>
                <a:cubicBezTo>
                  <a:pt x="259" y="270"/>
                  <a:pt x="259" y="270"/>
                  <a:pt x="259" y="270"/>
                </a:cubicBezTo>
                <a:cubicBezTo>
                  <a:pt x="259" y="270"/>
                  <a:pt x="259" y="270"/>
                  <a:pt x="259" y="270"/>
                </a:cubicBezTo>
                <a:cubicBezTo>
                  <a:pt x="260" y="270"/>
                  <a:pt x="260" y="270"/>
                  <a:pt x="260" y="270"/>
                </a:cubicBezTo>
                <a:cubicBezTo>
                  <a:pt x="260" y="270"/>
                  <a:pt x="260" y="270"/>
                  <a:pt x="260" y="270"/>
                </a:cubicBezTo>
                <a:cubicBezTo>
                  <a:pt x="260" y="270"/>
                  <a:pt x="260" y="270"/>
                  <a:pt x="260" y="270"/>
                </a:cubicBezTo>
                <a:cubicBezTo>
                  <a:pt x="260" y="270"/>
                  <a:pt x="260" y="270"/>
                  <a:pt x="260" y="270"/>
                </a:cubicBezTo>
                <a:cubicBezTo>
                  <a:pt x="260" y="269"/>
                  <a:pt x="260" y="269"/>
                  <a:pt x="260" y="269"/>
                </a:cubicBezTo>
                <a:cubicBezTo>
                  <a:pt x="261" y="269"/>
                  <a:pt x="261" y="269"/>
                  <a:pt x="261" y="269"/>
                </a:cubicBezTo>
                <a:cubicBezTo>
                  <a:pt x="261" y="269"/>
                  <a:pt x="261" y="269"/>
                  <a:pt x="261" y="269"/>
                </a:cubicBezTo>
                <a:cubicBezTo>
                  <a:pt x="261" y="269"/>
                  <a:pt x="261" y="269"/>
                  <a:pt x="261" y="269"/>
                </a:cubicBezTo>
                <a:cubicBezTo>
                  <a:pt x="261" y="269"/>
                  <a:pt x="261" y="269"/>
                  <a:pt x="261" y="269"/>
                </a:cubicBezTo>
                <a:cubicBezTo>
                  <a:pt x="261" y="269"/>
                  <a:pt x="261" y="269"/>
                  <a:pt x="261" y="269"/>
                </a:cubicBezTo>
                <a:cubicBezTo>
                  <a:pt x="261" y="269"/>
                  <a:pt x="261" y="269"/>
                  <a:pt x="261" y="269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7"/>
                  <a:pt x="262" y="267"/>
                  <a:pt x="262" y="267"/>
                </a:cubicBezTo>
                <a:cubicBezTo>
                  <a:pt x="263" y="267"/>
                  <a:pt x="263" y="267"/>
                  <a:pt x="263" y="267"/>
                </a:cubicBezTo>
                <a:cubicBezTo>
                  <a:pt x="263" y="267"/>
                  <a:pt x="263" y="267"/>
                  <a:pt x="263" y="267"/>
                </a:cubicBezTo>
                <a:cubicBezTo>
                  <a:pt x="263" y="267"/>
                  <a:pt x="263" y="267"/>
                  <a:pt x="263" y="267"/>
                </a:cubicBezTo>
                <a:cubicBezTo>
                  <a:pt x="263" y="267"/>
                  <a:pt x="263" y="267"/>
                  <a:pt x="263" y="267"/>
                </a:cubicBezTo>
                <a:cubicBezTo>
                  <a:pt x="263" y="267"/>
                  <a:pt x="263" y="267"/>
                  <a:pt x="263" y="267"/>
                </a:cubicBezTo>
                <a:cubicBezTo>
                  <a:pt x="263" y="267"/>
                  <a:pt x="263" y="267"/>
                  <a:pt x="263" y="267"/>
                </a:cubicBezTo>
                <a:cubicBezTo>
                  <a:pt x="263" y="266"/>
                  <a:pt x="263" y="266"/>
                  <a:pt x="263" y="266"/>
                </a:cubicBezTo>
                <a:cubicBezTo>
                  <a:pt x="263" y="266"/>
                  <a:pt x="263" y="266"/>
                  <a:pt x="263" y="266"/>
                </a:cubicBezTo>
                <a:cubicBezTo>
                  <a:pt x="263" y="266"/>
                  <a:pt x="263" y="266"/>
                  <a:pt x="263" y="266"/>
                </a:cubicBezTo>
                <a:cubicBezTo>
                  <a:pt x="263" y="266"/>
                  <a:pt x="263" y="266"/>
                  <a:pt x="263" y="266"/>
                </a:cubicBezTo>
                <a:cubicBezTo>
                  <a:pt x="263" y="266"/>
                  <a:pt x="263" y="266"/>
                  <a:pt x="263" y="266"/>
                </a:cubicBezTo>
                <a:cubicBezTo>
                  <a:pt x="263" y="266"/>
                  <a:pt x="263" y="266"/>
                  <a:pt x="263" y="266"/>
                </a:cubicBezTo>
                <a:cubicBezTo>
                  <a:pt x="263" y="266"/>
                  <a:pt x="263" y="266"/>
                  <a:pt x="263" y="266"/>
                </a:cubicBezTo>
                <a:cubicBezTo>
                  <a:pt x="263" y="265"/>
                  <a:pt x="263" y="265"/>
                  <a:pt x="263" y="265"/>
                </a:cubicBezTo>
                <a:cubicBezTo>
                  <a:pt x="263" y="265"/>
                  <a:pt x="263" y="265"/>
                  <a:pt x="263" y="265"/>
                </a:cubicBezTo>
                <a:cubicBezTo>
                  <a:pt x="263" y="265"/>
                  <a:pt x="263" y="265"/>
                  <a:pt x="263" y="265"/>
                </a:cubicBezTo>
                <a:cubicBezTo>
                  <a:pt x="263" y="265"/>
                  <a:pt x="263" y="265"/>
                  <a:pt x="263" y="265"/>
                </a:cubicBezTo>
                <a:cubicBezTo>
                  <a:pt x="263" y="265"/>
                  <a:pt x="263" y="265"/>
                  <a:pt x="263" y="265"/>
                </a:cubicBezTo>
                <a:cubicBezTo>
                  <a:pt x="263" y="257"/>
                  <a:pt x="262" y="249"/>
                  <a:pt x="262" y="241"/>
                </a:cubicBezTo>
                <a:cubicBezTo>
                  <a:pt x="263" y="241"/>
                  <a:pt x="263" y="241"/>
                  <a:pt x="264" y="241"/>
                </a:cubicBezTo>
                <a:cubicBezTo>
                  <a:pt x="264" y="241"/>
                  <a:pt x="264" y="241"/>
                  <a:pt x="264" y="241"/>
                </a:cubicBezTo>
                <a:cubicBezTo>
                  <a:pt x="264" y="240"/>
                  <a:pt x="265" y="240"/>
                  <a:pt x="266" y="240"/>
                </a:cubicBezTo>
                <a:cubicBezTo>
                  <a:pt x="266" y="240"/>
                  <a:pt x="266" y="240"/>
                  <a:pt x="266" y="240"/>
                </a:cubicBezTo>
                <a:cubicBezTo>
                  <a:pt x="267" y="240"/>
                  <a:pt x="267" y="240"/>
                  <a:pt x="268" y="240"/>
                </a:cubicBezTo>
                <a:cubicBezTo>
                  <a:pt x="268" y="240"/>
                  <a:pt x="268" y="240"/>
                  <a:pt x="268" y="240"/>
                </a:cubicBezTo>
                <a:cubicBezTo>
                  <a:pt x="270" y="240"/>
                  <a:pt x="272" y="240"/>
                  <a:pt x="274" y="239"/>
                </a:cubicBezTo>
                <a:cubicBezTo>
                  <a:pt x="275" y="239"/>
                  <a:pt x="276" y="239"/>
                  <a:pt x="277" y="239"/>
                </a:cubicBezTo>
                <a:cubicBezTo>
                  <a:pt x="277" y="239"/>
                  <a:pt x="277" y="239"/>
                  <a:pt x="277" y="239"/>
                </a:cubicBezTo>
                <a:cubicBezTo>
                  <a:pt x="278" y="239"/>
                  <a:pt x="279" y="239"/>
                  <a:pt x="280" y="239"/>
                </a:cubicBezTo>
                <a:cubicBezTo>
                  <a:pt x="281" y="239"/>
                  <a:pt x="281" y="239"/>
                  <a:pt x="281" y="239"/>
                </a:cubicBezTo>
                <a:cubicBezTo>
                  <a:pt x="282" y="239"/>
                  <a:pt x="283" y="239"/>
                  <a:pt x="284" y="239"/>
                </a:cubicBezTo>
                <a:cubicBezTo>
                  <a:pt x="285" y="239"/>
                  <a:pt x="285" y="239"/>
                  <a:pt x="285" y="239"/>
                </a:cubicBezTo>
                <a:cubicBezTo>
                  <a:pt x="286" y="239"/>
                  <a:pt x="288" y="239"/>
                  <a:pt x="289" y="239"/>
                </a:cubicBezTo>
                <a:cubicBezTo>
                  <a:pt x="291" y="239"/>
                  <a:pt x="293" y="239"/>
                  <a:pt x="296" y="239"/>
                </a:cubicBezTo>
                <a:cubicBezTo>
                  <a:pt x="296" y="239"/>
                  <a:pt x="296" y="239"/>
                  <a:pt x="296" y="239"/>
                </a:cubicBezTo>
                <a:cubicBezTo>
                  <a:pt x="299" y="239"/>
                  <a:pt x="301" y="239"/>
                  <a:pt x="303" y="239"/>
                </a:cubicBezTo>
                <a:cubicBezTo>
                  <a:pt x="304" y="239"/>
                  <a:pt x="304" y="239"/>
                  <a:pt x="305" y="239"/>
                </a:cubicBezTo>
                <a:cubicBezTo>
                  <a:pt x="305" y="239"/>
                  <a:pt x="306" y="239"/>
                  <a:pt x="306" y="239"/>
                </a:cubicBezTo>
                <a:cubicBezTo>
                  <a:pt x="309" y="239"/>
                  <a:pt x="312" y="239"/>
                  <a:pt x="315" y="239"/>
                </a:cubicBezTo>
                <a:cubicBezTo>
                  <a:pt x="316" y="239"/>
                  <a:pt x="317" y="239"/>
                  <a:pt x="318" y="239"/>
                </a:cubicBezTo>
                <a:cubicBezTo>
                  <a:pt x="321" y="239"/>
                  <a:pt x="323" y="239"/>
                  <a:pt x="326" y="239"/>
                </a:cubicBezTo>
                <a:cubicBezTo>
                  <a:pt x="327" y="239"/>
                  <a:pt x="328" y="239"/>
                  <a:pt x="329" y="239"/>
                </a:cubicBezTo>
                <a:cubicBezTo>
                  <a:pt x="332" y="239"/>
                  <a:pt x="335" y="239"/>
                  <a:pt x="339" y="239"/>
                </a:cubicBezTo>
                <a:cubicBezTo>
                  <a:pt x="340" y="239"/>
                  <a:pt x="341" y="239"/>
                  <a:pt x="342" y="239"/>
                </a:cubicBezTo>
                <a:cubicBezTo>
                  <a:pt x="344" y="239"/>
                  <a:pt x="347" y="239"/>
                  <a:pt x="349" y="239"/>
                </a:cubicBezTo>
                <a:cubicBezTo>
                  <a:pt x="350" y="239"/>
                  <a:pt x="352" y="239"/>
                  <a:pt x="353" y="239"/>
                </a:cubicBezTo>
                <a:cubicBezTo>
                  <a:pt x="354" y="239"/>
                  <a:pt x="355" y="239"/>
                  <a:pt x="355" y="239"/>
                </a:cubicBezTo>
                <a:cubicBezTo>
                  <a:pt x="356" y="239"/>
                  <a:pt x="356" y="239"/>
                  <a:pt x="357" y="239"/>
                </a:cubicBezTo>
                <a:cubicBezTo>
                  <a:pt x="362" y="239"/>
                  <a:pt x="367" y="239"/>
                  <a:pt x="371" y="239"/>
                </a:cubicBezTo>
                <a:cubicBezTo>
                  <a:pt x="377" y="240"/>
                  <a:pt x="383" y="240"/>
                  <a:pt x="386" y="240"/>
                </a:cubicBezTo>
                <a:cubicBezTo>
                  <a:pt x="387" y="240"/>
                  <a:pt x="388" y="240"/>
                  <a:pt x="389" y="240"/>
                </a:cubicBezTo>
                <a:cubicBezTo>
                  <a:pt x="390" y="240"/>
                  <a:pt x="390" y="240"/>
                  <a:pt x="390" y="240"/>
                </a:cubicBezTo>
                <a:cubicBezTo>
                  <a:pt x="391" y="240"/>
                  <a:pt x="391" y="240"/>
                  <a:pt x="392" y="240"/>
                </a:cubicBezTo>
                <a:cubicBezTo>
                  <a:pt x="392" y="240"/>
                  <a:pt x="393" y="240"/>
                  <a:pt x="393" y="240"/>
                </a:cubicBezTo>
                <a:cubicBezTo>
                  <a:pt x="393" y="240"/>
                  <a:pt x="393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5" y="240"/>
                  <a:pt x="395" y="240"/>
                  <a:pt x="395" y="240"/>
                </a:cubicBezTo>
                <a:cubicBezTo>
                  <a:pt x="395" y="240"/>
                  <a:pt x="395" y="240"/>
                  <a:pt x="395" y="240"/>
                </a:cubicBezTo>
                <a:cubicBezTo>
                  <a:pt x="395" y="240"/>
                  <a:pt x="395" y="240"/>
                  <a:pt x="395" y="240"/>
                </a:cubicBezTo>
                <a:cubicBezTo>
                  <a:pt x="395" y="240"/>
                  <a:pt x="395" y="240"/>
                  <a:pt x="395" y="240"/>
                </a:cubicBezTo>
                <a:cubicBezTo>
                  <a:pt x="395" y="240"/>
                  <a:pt x="395" y="240"/>
                  <a:pt x="395" y="240"/>
                </a:cubicBezTo>
                <a:cubicBezTo>
                  <a:pt x="395" y="240"/>
                  <a:pt x="395" y="240"/>
                  <a:pt x="395" y="240"/>
                </a:cubicBezTo>
                <a:cubicBezTo>
                  <a:pt x="396" y="240"/>
                  <a:pt x="396" y="240"/>
                  <a:pt x="396" y="240"/>
                </a:cubicBezTo>
                <a:cubicBezTo>
                  <a:pt x="396" y="240"/>
                  <a:pt x="396" y="240"/>
                  <a:pt x="396" y="240"/>
                </a:cubicBezTo>
                <a:cubicBezTo>
                  <a:pt x="396" y="240"/>
                  <a:pt x="396" y="240"/>
                  <a:pt x="396" y="240"/>
                </a:cubicBezTo>
                <a:cubicBezTo>
                  <a:pt x="396" y="240"/>
                  <a:pt x="396" y="240"/>
                  <a:pt x="396" y="240"/>
                </a:cubicBezTo>
                <a:cubicBezTo>
                  <a:pt x="396" y="240"/>
                  <a:pt x="396" y="240"/>
                  <a:pt x="396" y="240"/>
                </a:cubicBezTo>
                <a:cubicBezTo>
                  <a:pt x="396" y="240"/>
                  <a:pt x="396" y="240"/>
                  <a:pt x="396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8" y="240"/>
                  <a:pt x="398" y="240"/>
                  <a:pt x="398" y="240"/>
                </a:cubicBezTo>
                <a:cubicBezTo>
                  <a:pt x="398" y="240"/>
                  <a:pt x="398" y="240"/>
                  <a:pt x="398" y="240"/>
                </a:cubicBezTo>
                <a:cubicBezTo>
                  <a:pt x="398" y="240"/>
                  <a:pt x="398" y="240"/>
                  <a:pt x="398" y="240"/>
                </a:cubicBezTo>
                <a:cubicBezTo>
                  <a:pt x="398" y="240"/>
                  <a:pt x="398" y="240"/>
                  <a:pt x="398" y="240"/>
                </a:cubicBezTo>
                <a:cubicBezTo>
                  <a:pt x="398" y="240"/>
                  <a:pt x="398" y="240"/>
                  <a:pt x="398" y="240"/>
                </a:cubicBezTo>
                <a:cubicBezTo>
                  <a:pt x="398" y="240"/>
                  <a:pt x="398" y="240"/>
                  <a:pt x="398" y="240"/>
                </a:cubicBezTo>
                <a:cubicBezTo>
                  <a:pt x="399" y="240"/>
                  <a:pt x="399" y="240"/>
                  <a:pt x="399" y="240"/>
                </a:cubicBezTo>
                <a:cubicBezTo>
                  <a:pt x="399" y="240"/>
                  <a:pt x="399" y="240"/>
                  <a:pt x="399" y="240"/>
                </a:cubicBezTo>
                <a:cubicBezTo>
                  <a:pt x="399" y="240"/>
                  <a:pt x="399" y="240"/>
                  <a:pt x="399" y="240"/>
                </a:cubicBezTo>
                <a:cubicBezTo>
                  <a:pt x="399" y="240"/>
                  <a:pt x="399" y="240"/>
                  <a:pt x="399" y="240"/>
                </a:cubicBezTo>
                <a:cubicBezTo>
                  <a:pt x="400" y="240"/>
                  <a:pt x="400" y="240"/>
                  <a:pt x="400" y="240"/>
                </a:cubicBezTo>
                <a:cubicBezTo>
                  <a:pt x="400" y="240"/>
                  <a:pt x="400" y="240"/>
                  <a:pt x="400" y="240"/>
                </a:cubicBezTo>
                <a:cubicBezTo>
                  <a:pt x="400" y="240"/>
                  <a:pt x="400" y="240"/>
                  <a:pt x="400" y="240"/>
                </a:cubicBezTo>
                <a:cubicBezTo>
                  <a:pt x="401" y="240"/>
                  <a:pt x="401" y="240"/>
                  <a:pt x="401" y="240"/>
                </a:cubicBezTo>
                <a:cubicBezTo>
                  <a:pt x="401" y="240"/>
                  <a:pt x="401" y="240"/>
                  <a:pt x="401" y="240"/>
                </a:cubicBezTo>
                <a:cubicBezTo>
                  <a:pt x="401" y="240"/>
                  <a:pt x="401" y="240"/>
                  <a:pt x="401" y="240"/>
                </a:cubicBezTo>
                <a:cubicBezTo>
                  <a:pt x="401" y="240"/>
                  <a:pt x="401" y="240"/>
                  <a:pt x="401" y="240"/>
                </a:cubicBezTo>
                <a:cubicBezTo>
                  <a:pt x="402" y="240"/>
                  <a:pt x="402" y="240"/>
                  <a:pt x="402" y="240"/>
                </a:cubicBezTo>
                <a:cubicBezTo>
                  <a:pt x="402" y="239"/>
                  <a:pt x="402" y="239"/>
                  <a:pt x="402" y="239"/>
                </a:cubicBezTo>
                <a:cubicBezTo>
                  <a:pt x="403" y="239"/>
                  <a:pt x="403" y="239"/>
                  <a:pt x="403" y="239"/>
                </a:cubicBezTo>
                <a:cubicBezTo>
                  <a:pt x="404" y="239"/>
                  <a:pt x="404" y="239"/>
                  <a:pt x="404" y="239"/>
                </a:cubicBezTo>
                <a:cubicBezTo>
                  <a:pt x="404" y="239"/>
                  <a:pt x="404" y="239"/>
                  <a:pt x="404" y="239"/>
                </a:cubicBezTo>
                <a:cubicBezTo>
                  <a:pt x="404" y="239"/>
                  <a:pt x="404" y="239"/>
                  <a:pt x="404" y="239"/>
                </a:cubicBezTo>
                <a:cubicBezTo>
                  <a:pt x="405" y="239"/>
                  <a:pt x="405" y="239"/>
                  <a:pt x="405" y="239"/>
                </a:cubicBezTo>
                <a:cubicBezTo>
                  <a:pt x="405" y="239"/>
                  <a:pt x="405" y="239"/>
                  <a:pt x="405" y="239"/>
                </a:cubicBezTo>
                <a:cubicBezTo>
                  <a:pt x="406" y="239"/>
                  <a:pt x="406" y="239"/>
                  <a:pt x="406" y="239"/>
                </a:cubicBezTo>
                <a:cubicBezTo>
                  <a:pt x="406" y="238"/>
                  <a:pt x="406" y="238"/>
                  <a:pt x="406" y="238"/>
                </a:cubicBezTo>
                <a:cubicBezTo>
                  <a:pt x="407" y="238"/>
                  <a:pt x="407" y="238"/>
                  <a:pt x="407" y="238"/>
                </a:cubicBezTo>
                <a:cubicBezTo>
                  <a:pt x="407" y="238"/>
                  <a:pt x="407" y="238"/>
                  <a:pt x="407" y="238"/>
                </a:cubicBezTo>
                <a:cubicBezTo>
                  <a:pt x="407" y="238"/>
                  <a:pt x="407" y="238"/>
                  <a:pt x="407" y="238"/>
                </a:cubicBezTo>
                <a:cubicBezTo>
                  <a:pt x="407" y="238"/>
                  <a:pt x="407" y="238"/>
                  <a:pt x="407" y="238"/>
                </a:cubicBezTo>
                <a:cubicBezTo>
                  <a:pt x="407" y="238"/>
                  <a:pt x="407" y="238"/>
                  <a:pt x="407" y="238"/>
                </a:cubicBezTo>
                <a:cubicBezTo>
                  <a:pt x="408" y="238"/>
                  <a:pt x="408" y="238"/>
                  <a:pt x="408" y="238"/>
                </a:cubicBezTo>
                <a:cubicBezTo>
                  <a:pt x="408" y="238"/>
                  <a:pt x="408" y="238"/>
                  <a:pt x="408" y="238"/>
                </a:cubicBezTo>
                <a:cubicBezTo>
                  <a:pt x="408" y="238"/>
                  <a:pt x="408" y="238"/>
                  <a:pt x="408" y="238"/>
                </a:cubicBezTo>
                <a:cubicBezTo>
                  <a:pt x="409" y="237"/>
                  <a:pt x="409" y="237"/>
                  <a:pt x="409" y="237"/>
                </a:cubicBezTo>
                <a:cubicBezTo>
                  <a:pt x="409" y="237"/>
                  <a:pt x="409" y="237"/>
                  <a:pt x="409" y="237"/>
                </a:cubicBezTo>
                <a:cubicBezTo>
                  <a:pt x="409" y="237"/>
                  <a:pt x="409" y="237"/>
                  <a:pt x="409" y="237"/>
                </a:cubicBezTo>
                <a:cubicBezTo>
                  <a:pt x="410" y="237"/>
                  <a:pt x="410" y="237"/>
                  <a:pt x="410" y="237"/>
                </a:cubicBezTo>
                <a:cubicBezTo>
                  <a:pt x="410" y="237"/>
                  <a:pt x="410" y="237"/>
                  <a:pt x="410" y="237"/>
                </a:cubicBezTo>
                <a:cubicBezTo>
                  <a:pt x="410" y="237"/>
                  <a:pt x="410" y="237"/>
                  <a:pt x="410" y="237"/>
                </a:cubicBezTo>
                <a:cubicBezTo>
                  <a:pt x="410" y="237"/>
                  <a:pt x="410" y="237"/>
                  <a:pt x="410" y="237"/>
                </a:cubicBezTo>
                <a:cubicBezTo>
                  <a:pt x="410" y="237"/>
                  <a:pt x="410" y="237"/>
                  <a:pt x="410" y="237"/>
                </a:cubicBezTo>
                <a:cubicBezTo>
                  <a:pt x="411" y="237"/>
                  <a:pt x="411" y="237"/>
                  <a:pt x="411" y="237"/>
                </a:cubicBezTo>
                <a:cubicBezTo>
                  <a:pt x="411" y="236"/>
                  <a:pt x="411" y="236"/>
                  <a:pt x="411" y="236"/>
                </a:cubicBezTo>
                <a:cubicBezTo>
                  <a:pt x="411" y="236"/>
                  <a:pt x="411" y="236"/>
                  <a:pt x="411" y="236"/>
                </a:cubicBezTo>
                <a:cubicBezTo>
                  <a:pt x="412" y="236"/>
                  <a:pt x="412" y="236"/>
                  <a:pt x="412" y="236"/>
                </a:cubicBezTo>
                <a:cubicBezTo>
                  <a:pt x="412" y="236"/>
                  <a:pt x="412" y="236"/>
                  <a:pt x="412" y="236"/>
                </a:cubicBezTo>
                <a:cubicBezTo>
                  <a:pt x="412" y="236"/>
                  <a:pt x="412" y="236"/>
                  <a:pt x="412" y="236"/>
                </a:cubicBezTo>
                <a:cubicBezTo>
                  <a:pt x="413" y="235"/>
                  <a:pt x="413" y="235"/>
                  <a:pt x="413" y="235"/>
                </a:cubicBezTo>
                <a:cubicBezTo>
                  <a:pt x="413" y="235"/>
                  <a:pt x="413" y="235"/>
                  <a:pt x="413" y="235"/>
                </a:cubicBezTo>
                <a:cubicBezTo>
                  <a:pt x="413" y="235"/>
                  <a:pt x="413" y="235"/>
                  <a:pt x="413" y="235"/>
                </a:cubicBezTo>
                <a:cubicBezTo>
                  <a:pt x="414" y="235"/>
                  <a:pt x="414" y="235"/>
                  <a:pt x="414" y="235"/>
                </a:cubicBezTo>
                <a:cubicBezTo>
                  <a:pt x="414" y="234"/>
                  <a:pt x="414" y="234"/>
                  <a:pt x="414" y="234"/>
                </a:cubicBezTo>
                <a:cubicBezTo>
                  <a:pt x="414" y="234"/>
                  <a:pt x="414" y="234"/>
                  <a:pt x="414" y="234"/>
                </a:cubicBezTo>
                <a:cubicBezTo>
                  <a:pt x="415" y="234"/>
                  <a:pt x="415" y="234"/>
                  <a:pt x="415" y="234"/>
                </a:cubicBezTo>
                <a:cubicBezTo>
                  <a:pt x="415" y="233"/>
                  <a:pt x="415" y="233"/>
                  <a:pt x="415" y="233"/>
                </a:cubicBezTo>
                <a:cubicBezTo>
                  <a:pt x="415" y="233"/>
                  <a:pt x="415" y="233"/>
                  <a:pt x="415" y="233"/>
                </a:cubicBezTo>
                <a:cubicBezTo>
                  <a:pt x="415" y="233"/>
                  <a:pt x="415" y="233"/>
                  <a:pt x="415" y="233"/>
                </a:cubicBezTo>
                <a:cubicBezTo>
                  <a:pt x="415" y="233"/>
                  <a:pt x="415" y="233"/>
                  <a:pt x="415" y="233"/>
                </a:cubicBezTo>
                <a:cubicBezTo>
                  <a:pt x="416" y="233"/>
                  <a:pt x="416" y="233"/>
                  <a:pt x="416" y="233"/>
                </a:cubicBezTo>
                <a:cubicBezTo>
                  <a:pt x="416" y="232"/>
                  <a:pt x="416" y="232"/>
                  <a:pt x="416" y="232"/>
                </a:cubicBezTo>
                <a:cubicBezTo>
                  <a:pt x="416" y="232"/>
                  <a:pt x="416" y="232"/>
                  <a:pt x="416" y="232"/>
                </a:cubicBezTo>
                <a:cubicBezTo>
                  <a:pt x="417" y="231"/>
                  <a:pt x="417" y="231"/>
                  <a:pt x="417" y="231"/>
                </a:cubicBezTo>
                <a:cubicBezTo>
                  <a:pt x="417" y="231"/>
                  <a:pt x="417" y="231"/>
                  <a:pt x="417" y="231"/>
                </a:cubicBezTo>
                <a:cubicBezTo>
                  <a:pt x="417" y="230"/>
                  <a:pt x="417" y="230"/>
                  <a:pt x="417" y="230"/>
                </a:cubicBezTo>
                <a:cubicBezTo>
                  <a:pt x="418" y="230"/>
                  <a:pt x="418" y="230"/>
                  <a:pt x="418" y="230"/>
                </a:cubicBezTo>
                <a:cubicBezTo>
                  <a:pt x="418" y="230"/>
                  <a:pt x="418" y="230"/>
                  <a:pt x="418" y="230"/>
                </a:cubicBezTo>
                <a:cubicBezTo>
                  <a:pt x="418" y="230"/>
                  <a:pt x="418" y="230"/>
                  <a:pt x="418" y="230"/>
                </a:cubicBezTo>
                <a:cubicBezTo>
                  <a:pt x="418" y="229"/>
                  <a:pt x="418" y="229"/>
                  <a:pt x="418" y="229"/>
                </a:cubicBezTo>
                <a:cubicBezTo>
                  <a:pt x="419" y="229"/>
                  <a:pt x="419" y="229"/>
                  <a:pt x="419" y="229"/>
                </a:cubicBezTo>
                <a:cubicBezTo>
                  <a:pt x="419" y="228"/>
                  <a:pt x="419" y="228"/>
                  <a:pt x="419" y="227"/>
                </a:cubicBezTo>
                <a:cubicBezTo>
                  <a:pt x="420" y="227"/>
                  <a:pt x="420" y="227"/>
                  <a:pt x="420" y="226"/>
                </a:cubicBezTo>
                <a:cubicBezTo>
                  <a:pt x="421" y="226"/>
                  <a:pt x="421" y="225"/>
                  <a:pt x="421" y="225"/>
                </a:cubicBezTo>
                <a:cubicBezTo>
                  <a:pt x="421" y="224"/>
                  <a:pt x="422" y="224"/>
                  <a:pt x="422" y="223"/>
                </a:cubicBezTo>
                <a:cubicBezTo>
                  <a:pt x="422" y="223"/>
                  <a:pt x="423" y="222"/>
                  <a:pt x="423" y="222"/>
                </a:cubicBezTo>
                <a:cubicBezTo>
                  <a:pt x="423" y="221"/>
                  <a:pt x="424" y="221"/>
                  <a:pt x="424" y="220"/>
                </a:cubicBezTo>
                <a:cubicBezTo>
                  <a:pt x="424" y="220"/>
                  <a:pt x="424" y="220"/>
                  <a:pt x="424" y="220"/>
                </a:cubicBezTo>
                <a:cubicBezTo>
                  <a:pt x="425" y="219"/>
                  <a:pt x="425" y="219"/>
                  <a:pt x="425" y="219"/>
                </a:cubicBezTo>
                <a:cubicBezTo>
                  <a:pt x="425" y="218"/>
                  <a:pt x="425" y="218"/>
                  <a:pt x="425" y="218"/>
                </a:cubicBezTo>
                <a:cubicBezTo>
                  <a:pt x="426" y="217"/>
                  <a:pt x="426" y="216"/>
                  <a:pt x="427" y="215"/>
                </a:cubicBezTo>
                <a:cubicBezTo>
                  <a:pt x="427" y="214"/>
                  <a:pt x="428" y="213"/>
                  <a:pt x="428" y="212"/>
                </a:cubicBezTo>
                <a:cubicBezTo>
                  <a:pt x="429" y="211"/>
                  <a:pt x="430" y="210"/>
                  <a:pt x="431" y="209"/>
                </a:cubicBezTo>
                <a:cubicBezTo>
                  <a:pt x="431" y="208"/>
                  <a:pt x="431" y="207"/>
                  <a:pt x="432" y="207"/>
                </a:cubicBezTo>
                <a:cubicBezTo>
                  <a:pt x="432" y="206"/>
                  <a:pt x="432" y="206"/>
                  <a:pt x="432" y="206"/>
                </a:cubicBezTo>
                <a:cubicBezTo>
                  <a:pt x="432" y="206"/>
                  <a:pt x="432" y="206"/>
                  <a:pt x="432" y="206"/>
                </a:cubicBezTo>
                <a:cubicBezTo>
                  <a:pt x="433" y="205"/>
                  <a:pt x="433" y="205"/>
                  <a:pt x="433" y="204"/>
                </a:cubicBezTo>
                <a:cubicBezTo>
                  <a:pt x="433" y="204"/>
                  <a:pt x="433" y="204"/>
                  <a:pt x="434" y="203"/>
                </a:cubicBezTo>
                <a:cubicBezTo>
                  <a:pt x="434" y="202"/>
                  <a:pt x="435" y="202"/>
                  <a:pt x="435" y="201"/>
                </a:cubicBezTo>
                <a:cubicBezTo>
                  <a:pt x="435" y="200"/>
                  <a:pt x="435" y="200"/>
                  <a:pt x="435" y="200"/>
                </a:cubicBezTo>
                <a:cubicBezTo>
                  <a:pt x="436" y="199"/>
                  <a:pt x="437" y="198"/>
                  <a:pt x="438" y="196"/>
                </a:cubicBezTo>
                <a:cubicBezTo>
                  <a:pt x="438" y="196"/>
                  <a:pt x="438" y="196"/>
                  <a:pt x="438" y="196"/>
                </a:cubicBezTo>
                <a:cubicBezTo>
                  <a:pt x="438" y="195"/>
                  <a:pt x="438" y="195"/>
                  <a:pt x="438" y="195"/>
                </a:cubicBezTo>
                <a:cubicBezTo>
                  <a:pt x="438" y="195"/>
                  <a:pt x="438" y="195"/>
                  <a:pt x="438" y="195"/>
                </a:cubicBezTo>
                <a:cubicBezTo>
                  <a:pt x="440" y="193"/>
                  <a:pt x="440" y="191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77"/>
                  <a:pt x="440" y="164"/>
                  <a:pt x="440" y="152"/>
                </a:cubicBezTo>
                <a:cubicBezTo>
                  <a:pt x="440" y="152"/>
                  <a:pt x="440" y="152"/>
                  <a:pt x="440" y="152"/>
                </a:cubicBezTo>
                <a:cubicBezTo>
                  <a:pt x="441" y="152"/>
                  <a:pt x="441" y="152"/>
                  <a:pt x="441" y="152"/>
                </a:cubicBezTo>
                <a:cubicBezTo>
                  <a:pt x="441" y="152"/>
                  <a:pt x="441" y="152"/>
                  <a:pt x="441" y="152"/>
                </a:cubicBezTo>
                <a:cubicBezTo>
                  <a:pt x="441" y="152"/>
                  <a:pt x="441" y="152"/>
                  <a:pt x="441" y="152"/>
                </a:cubicBezTo>
                <a:cubicBezTo>
                  <a:pt x="441" y="152"/>
                  <a:pt x="441" y="152"/>
                  <a:pt x="441" y="152"/>
                </a:cubicBezTo>
                <a:cubicBezTo>
                  <a:pt x="441" y="152"/>
                  <a:pt x="441" y="152"/>
                  <a:pt x="441" y="152"/>
                </a:cubicBezTo>
                <a:cubicBezTo>
                  <a:pt x="441" y="152"/>
                  <a:pt x="441" y="152"/>
                  <a:pt x="441" y="152"/>
                </a:cubicBezTo>
                <a:cubicBezTo>
                  <a:pt x="442" y="151"/>
                  <a:pt x="442" y="151"/>
                  <a:pt x="442" y="151"/>
                </a:cubicBezTo>
                <a:cubicBezTo>
                  <a:pt x="442" y="151"/>
                  <a:pt x="442" y="151"/>
                  <a:pt x="442" y="151"/>
                </a:cubicBezTo>
                <a:cubicBezTo>
                  <a:pt x="442" y="151"/>
                  <a:pt x="442" y="151"/>
                  <a:pt x="442" y="151"/>
                </a:cubicBezTo>
                <a:cubicBezTo>
                  <a:pt x="442" y="151"/>
                  <a:pt x="442" y="151"/>
                  <a:pt x="442" y="151"/>
                </a:cubicBezTo>
                <a:cubicBezTo>
                  <a:pt x="442" y="151"/>
                  <a:pt x="442" y="151"/>
                  <a:pt x="442" y="151"/>
                </a:cubicBezTo>
                <a:cubicBezTo>
                  <a:pt x="442" y="151"/>
                  <a:pt x="442" y="151"/>
                  <a:pt x="442" y="151"/>
                </a:cubicBezTo>
                <a:cubicBezTo>
                  <a:pt x="442" y="151"/>
                  <a:pt x="442" y="151"/>
                  <a:pt x="442" y="151"/>
                </a:cubicBezTo>
                <a:cubicBezTo>
                  <a:pt x="443" y="151"/>
                  <a:pt x="443" y="151"/>
                  <a:pt x="443" y="151"/>
                </a:cubicBezTo>
                <a:cubicBezTo>
                  <a:pt x="443" y="151"/>
                  <a:pt x="443" y="151"/>
                  <a:pt x="443" y="151"/>
                </a:cubicBezTo>
                <a:cubicBezTo>
                  <a:pt x="443" y="151"/>
                  <a:pt x="443" y="151"/>
                  <a:pt x="443" y="151"/>
                </a:cubicBezTo>
                <a:cubicBezTo>
                  <a:pt x="443" y="151"/>
                  <a:pt x="443" y="151"/>
                  <a:pt x="443" y="151"/>
                </a:cubicBezTo>
                <a:cubicBezTo>
                  <a:pt x="443" y="151"/>
                  <a:pt x="443" y="151"/>
                  <a:pt x="443" y="151"/>
                </a:cubicBezTo>
                <a:cubicBezTo>
                  <a:pt x="443" y="151"/>
                  <a:pt x="443" y="151"/>
                  <a:pt x="443" y="151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5" y="150"/>
                  <a:pt x="445" y="150"/>
                  <a:pt x="445" y="150"/>
                </a:cubicBezTo>
                <a:cubicBezTo>
                  <a:pt x="445" y="150"/>
                  <a:pt x="445" y="150"/>
                  <a:pt x="445" y="150"/>
                </a:cubicBezTo>
                <a:cubicBezTo>
                  <a:pt x="445" y="150"/>
                  <a:pt x="445" y="150"/>
                  <a:pt x="445" y="150"/>
                </a:cubicBezTo>
                <a:cubicBezTo>
                  <a:pt x="445" y="150"/>
                  <a:pt x="445" y="150"/>
                  <a:pt x="445" y="150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2" y="36"/>
                  <a:pt x="442" y="36"/>
                  <a:pt x="442" y="36"/>
                </a:cubicBezTo>
                <a:cubicBezTo>
                  <a:pt x="442" y="36"/>
                  <a:pt x="442" y="36"/>
                  <a:pt x="442" y="36"/>
                </a:cubicBezTo>
                <a:cubicBezTo>
                  <a:pt x="442" y="36"/>
                  <a:pt x="442" y="36"/>
                  <a:pt x="442" y="36"/>
                </a:cubicBezTo>
                <a:cubicBezTo>
                  <a:pt x="441" y="37"/>
                  <a:pt x="441" y="37"/>
                  <a:pt x="441" y="37"/>
                </a:cubicBezTo>
                <a:cubicBezTo>
                  <a:pt x="441" y="37"/>
                  <a:pt x="441" y="37"/>
                  <a:pt x="441" y="37"/>
                </a:cubicBezTo>
                <a:cubicBezTo>
                  <a:pt x="441" y="38"/>
                  <a:pt x="441" y="38"/>
                  <a:pt x="441" y="38"/>
                </a:cubicBezTo>
                <a:cubicBezTo>
                  <a:pt x="441" y="38"/>
                  <a:pt x="441" y="38"/>
                  <a:pt x="441" y="38"/>
                </a:cubicBezTo>
                <a:cubicBezTo>
                  <a:pt x="440" y="38"/>
                  <a:pt x="439" y="39"/>
                  <a:pt x="438" y="39"/>
                </a:cubicBezTo>
                <a:cubicBezTo>
                  <a:pt x="438" y="39"/>
                  <a:pt x="438" y="39"/>
                  <a:pt x="438" y="39"/>
                </a:cubicBezTo>
                <a:cubicBezTo>
                  <a:pt x="437" y="40"/>
                  <a:pt x="434" y="41"/>
                  <a:pt x="431" y="41"/>
                </a:cubicBezTo>
                <a:cubicBezTo>
                  <a:pt x="431" y="27"/>
                  <a:pt x="430" y="13"/>
                  <a:pt x="430" y="0"/>
                </a:cubicBezTo>
                <a:cubicBezTo>
                  <a:pt x="429" y="0"/>
                  <a:pt x="429" y="0"/>
                  <a:pt x="429" y="0"/>
                </a:cubicBezTo>
                <a:cubicBezTo>
                  <a:pt x="429" y="0"/>
                  <a:pt x="429" y="0"/>
                  <a:pt x="429" y="0"/>
                </a:cubicBezTo>
                <a:cubicBezTo>
                  <a:pt x="428" y="0"/>
                  <a:pt x="428" y="0"/>
                  <a:pt x="428" y="0"/>
                </a:cubicBezTo>
                <a:cubicBezTo>
                  <a:pt x="428" y="0"/>
                  <a:pt x="428" y="0"/>
                  <a:pt x="428" y="0"/>
                </a:cubicBezTo>
                <a:cubicBezTo>
                  <a:pt x="430" y="42"/>
                  <a:pt x="430" y="42"/>
                  <a:pt x="430" y="42"/>
                </a:cubicBezTo>
                <a:cubicBezTo>
                  <a:pt x="428" y="42"/>
                  <a:pt x="426" y="42"/>
                  <a:pt x="424" y="42"/>
                </a:cubicBezTo>
                <a:cubicBezTo>
                  <a:pt x="424" y="42"/>
                  <a:pt x="424" y="42"/>
                  <a:pt x="424" y="42"/>
                </a:cubicBezTo>
                <a:cubicBezTo>
                  <a:pt x="422" y="43"/>
                  <a:pt x="420" y="43"/>
                  <a:pt x="418" y="43"/>
                </a:cubicBezTo>
                <a:cubicBezTo>
                  <a:pt x="418" y="43"/>
                  <a:pt x="418" y="43"/>
                  <a:pt x="418" y="43"/>
                </a:cubicBezTo>
                <a:cubicBezTo>
                  <a:pt x="413" y="43"/>
                  <a:pt x="409" y="44"/>
                  <a:pt x="404" y="44"/>
                </a:cubicBezTo>
                <a:cubicBezTo>
                  <a:pt x="403" y="44"/>
                  <a:pt x="402" y="44"/>
                  <a:pt x="401" y="44"/>
                </a:cubicBezTo>
                <a:cubicBezTo>
                  <a:pt x="400" y="44"/>
                  <a:pt x="400" y="44"/>
                  <a:pt x="400" y="44"/>
                </a:cubicBezTo>
                <a:cubicBezTo>
                  <a:pt x="400" y="44"/>
                  <a:pt x="400" y="44"/>
                  <a:pt x="400" y="44"/>
                </a:cubicBezTo>
                <a:cubicBezTo>
                  <a:pt x="399" y="44"/>
                  <a:pt x="398" y="44"/>
                  <a:pt x="397" y="44"/>
                </a:cubicBezTo>
                <a:cubicBezTo>
                  <a:pt x="397" y="44"/>
                  <a:pt x="397" y="44"/>
                  <a:pt x="397" y="44"/>
                </a:cubicBezTo>
                <a:cubicBezTo>
                  <a:pt x="395" y="44"/>
                  <a:pt x="394" y="44"/>
                  <a:pt x="393" y="44"/>
                </a:cubicBezTo>
                <a:cubicBezTo>
                  <a:pt x="393" y="44"/>
                  <a:pt x="393" y="44"/>
                  <a:pt x="393" y="44"/>
                </a:cubicBezTo>
                <a:cubicBezTo>
                  <a:pt x="392" y="44"/>
                  <a:pt x="391" y="43"/>
                  <a:pt x="390" y="43"/>
                </a:cubicBezTo>
                <a:cubicBezTo>
                  <a:pt x="389" y="43"/>
                  <a:pt x="389" y="43"/>
                  <a:pt x="389" y="43"/>
                </a:cubicBezTo>
                <a:cubicBezTo>
                  <a:pt x="389" y="43"/>
                  <a:pt x="389" y="43"/>
                  <a:pt x="389" y="43"/>
                </a:cubicBezTo>
                <a:cubicBezTo>
                  <a:pt x="389" y="43"/>
                  <a:pt x="389" y="43"/>
                  <a:pt x="389" y="43"/>
                </a:cubicBezTo>
                <a:cubicBezTo>
                  <a:pt x="389" y="43"/>
                  <a:pt x="388" y="43"/>
                  <a:pt x="388" y="43"/>
                </a:cubicBezTo>
                <a:cubicBezTo>
                  <a:pt x="387" y="43"/>
                  <a:pt x="387" y="43"/>
                  <a:pt x="387" y="43"/>
                </a:cubicBezTo>
                <a:cubicBezTo>
                  <a:pt x="386" y="43"/>
                  <a:pt x="386" y="43"/>
                  <a:pt x="385" y="43"/>
                </a:cubicBezTo>
                <a:cubicBezTo>
                  <a:pt x="385" y="43"/>
                  <a:pt x="385" y="43"/>
                  <a:pt x="385" y="43"/>
                </a:cubicBezTo>
                <a:cubicBezTo>
                  <a:pt x="385" y="43"/>
                  <a:pt x="385" y="43"/>
                  <a:pt x="385" y="43"/>
                </a:cubicBezTo>
                <a:cubicBezTo>
                  <a:pt x="385" y="43"/>
                  <a:pt x="385" y="43"/>
                  <a:pt x="385" y="43"/>
                </a:cubicBezTo>
                <a:cubicBezTo>
                  <a:pt x="384" y="43"/>
                  <a:pt x="384" y="43"/>
                  <a:pt x="384" y="43"/>
                </a:cubicBezTo>
                <a:cubicBezTo>
                  <a:pt x="383" y="43"/>
                  <a:pt x="383" y="43"/>
                  <a:pt x="383" y="43"/>
                </a:cubicBezTo>
                <a:cubicBezTo>
                  <a:pt x="382" y="43"/>
                  <a:pt x="382" y="43"/>
                  <a:pt x="382" y="43"/>
                </a:cubicBezTo>
                <a:cubicBezTo>
                  <a:pt x="381" y="43"/>
                  <a:pt x="381" y="43"/>
                  <a:pt x="381" y="43"/>
                </a:cubicBezTo>
                <a:cubicBezTo>
                  <a:pt x="380" y="43"/>
                  <a:pt x="380" y="43"/>
                  <a:pt x="380" y="43"/>
                </a:cubicBezTo>
                <a:cubicBezTo>
                  <a:pt x="380" y="43"/>
                  <a:pt x="380" y="43"/>
                  <a:pt x="380" y="43"/>
                </a:cubicBezTo>
                <a:cubicBezTo>
                  <a:pt x="379" y="43"/>
                  <a:pt x="379" y="43"/>
                  <a:pt x="379" y="43"/>
                </a:cubicBezTo>
                <a:cubicBezTo>
                  <a:pt x="378" y="43"/>
                  <a:pt x="378" y="43"/>
                  <a:pt x="378" y="43"/>
                </a:cubicBezTo>
                <a:cubicBezTo>
                  <a:pt x="377" y="43"/>
                  <a:pt x="377" y="43"/>
                  <a:pt x="377" y="43"/>
                </a:cubicBezTo>
                <a:cubicBezTo>
                  <a:pt x="376" y="43"/>
                  <a:pt x="376" y="43"/>
                  <a:pt x="376" y="43"/>
                </a:cubicBezTo>
                <a:cubicBezTo>
                  <a:pt x="376" y="43"/>
                  <a:pt x="376" y="43"/>
                  <a:pt x="376" y="43"/>
                </a:cubicBezTo>
                <a:cubicBezTo>
                  <a:pt x="376" y="43"/>
                  <a:pt x="376" y="43"/>
                  <a:pt x="376" y="43"/>
                </a:cubicBezTo>
                <a:cubicBezTo>
                  <a:pt x="375" y="43"/>
                  <a:pt x="375" y="43"/>
                  <a:pt x="375" y="43"/>
                </a:cubicBezTo>
                <a:cubicBezTo>
                  <a:pt x="375" y="43"/>
                  <a:pt x="375" y="43"/>
                  <a:pt x="375" y="43"/>
                </a:cubicBezTo>
                <a:cubicBezTo>
                  <a:pt x="375" y="43"/>
                  <a:pt x="375" y="43"/>
                  <a:pt x="375" y="43"/>
                </a:cubicBezTo>
                <a:cubicBezTo>
                  <a:pt x="374" y="43"/>
                  <a:pt x="374" y="43"/>
                  <a:pt x="374" y="43"/>
                </a:cubicBezTo>
                <a:cubicBezTo>
                  <a:pt x="373" y="43"/>
                  <a:pt x="373" y="43"/>
                  <a:pt x="373" y="43"/>
                </a:cubicBezTo>
                <a:cubicBezTo>
                  <a:pt x="373" y="43"/>
                  <a:pt x="373" y="43"/>
                  <a:pt x="373" y="43"/>
                </a:cubicBezTo>
                <a:cubicBezTo>
                  <a:pt x="372" y="43"/>
                  <a:pt x="372" y="43"/>
                  <a:pt x="372" y="43"/>
                </a:cubicBezTo>
                <a:cubicBezTo>
                  <a:pt x="372" y="43"/>
                  <a:pt x="372" y="43"/>
                  <a:pt x="372" y="43"/>
                </a:cubicBezTo>
                <a:cubicBezTo>
                  <a:pt x="371" y="43"/>
                  <a:pt x="371" y="43"/>
                  <a:pt x="371" y="43"/>
                </a:cubicBezTo>
                <a:cubicBezTo>
                  <a:pt x="371" y="43"/>
                  <a:pt x="371" y="43"/>
                  <a:pt x="371" y="43"/>
                </a:cubicBezTo>
                <a:cubicBezTo>
                  <a:pt x="371" y="43"/>
                  <a:pt x="371" y="43"/>
                  <a:pt x="371" y="43"/>
                </a:cubicBezTo>
                <a:cubicBezTo>
                  <a:pt x="370" y="43"/>
                  <a:pt x="370" y="43"/>
                  <a:pt x="370" y="43"/>
                </a:cubicBezTo>
                <a:cubicBezTo>
                  <a:pt x="370" y="43"/>
                  <a:pt x="370" y="43"/>
                  <a:pt x="370" y="43"/>
                </a:cubicBezTo>
                <a:cubicBezTo>
                  <a:pt x="369" y="43"/>
                  <a:pt x="369" y="43"/>
                  <a:pt x="369" y="43"/>
                </a:cubicBezTo>
                <a:cubicBezTo>
                  <a:pt x="368" y="43"/>
                  <a:pt x="368" y="43"/>
                  <a:pt x="368" y="43"/>
                </a:cubicBezTo>
                <a:cubicBezTo>
                  <a:pt x="368" y="43"/>
                  <a:pt x="368" y="43"/>
                  <a:pt x="368" y="43"/>
                </a:cubicBezTo>
                <a:cubicBezTo>
                  <a:pt x="367" y="43"/>
                  <a:pt x="367" y="43"/>
                  <a:pt x="367" y="43"/>
                </a:cubicBezTo>
                <a:cubicBezTo>
                  <a:pt x="367" y="43"/>
                  <a:pt x="367" y="43"/>
                  <a:pt x="367" y="43"/>
                </a:cubicBezTo>
                <a:cubicBezTo>
                  <a:pt x="367" y="43"/>
                  <a:pt x="367" y="43"/>
                  <a:pt x="367" y="43"/>
                </a:cubicBezTo>
                <a:cubicBezTo>
                  <a:pt x="366" y="43"/>
                  <a:pt x="366" y="43"/>
                  <a:pt x="366" y="43"/>
                </a:cubicBezTo>
                <a:cubicBezTo>
                  <a:pt x="365" y="43"/>
                  <a:pt x="365" y="43"/>
                  <a:pt x="365" y="43"/>
                </a:cubicBezTo>
                <a:cubicBezTo>
                  <a:pt x="364" y="43"/>
                  <a:pt x="364" y="43"/>
                  <a:pt x="364" y="43"/>
                </a:cubicBezTo>
                <a:cubicBezTo>
                  <a:pt x="363" y="43"/>
                  <a:pt x="363" y="43"/>
                  <a:pt x="363" y="43"/>
                </a:cubicBezTo>
                <a:cubicBezTo>
                  <a:pt x="363" y="43"/>
                  <a:pt x="363" y="43"/>
                  <a:pt x="363" y="43"/>
                </a:cubicBezTo>
                <a:cubicBezTo>
                  <a:pt x="363" y="43"/>
                  <a:pt x="363" y="43"/>
                  <a:pt x="363" y="43"/>
                </a:cubicBezTo>
                <a:cubicBezTo>
                  <a:pt x="363" y="43"/>
                  <a:pt x="363" y="43"/>
                  <a:pt x="363" y="43"/>
                </a:cubicBezTo>
                <a:cubicBezTo>
                  <a:pt x="362" y="43"/>
                  <a:pt x="362" y="43"/>
                  <a:pt x="362" y="43"/>
                </a:cubicBezTo>
                <a:cubicBezTo>
                  <a:pt x="362" y="43"/>
                  <a:pt x="362" y="43"/>
                  <a:pt x="362" y="43"/>
                </a:cubicBezTo>
                <a:cubicBezTo>
                  <a:pt x="361" y="43"/>
                  <a:pt x="361" y="43"/>
                  <a:pt x="361" y="43"/>
                </a:cubicBezTo>
                <a:cubicBezTo>
                  <a:pt x="360" y="43"/>
                  <a:pt x="360" y="43"/>
                  <a:pt x="360" y="43"/>
                </a:cubicBezTo>
                <a:cubicBezTo>
                  <a:pt x="359" y="44"/>
                  <a:pt x="359" y="44"/>
                  <a:pt x="358" y="44"/>
                </a:cubicBezTo>
                <a:cubicBezTo>
                  <a:pt x="358" y="44"/>
                  <a:pt x="357" y="44"/>
                  <a:pt x="357" y="44"/>
                </a:cubicBezTo>
                <a:cubicBezTo>
                  <a:pt x="356" y="44"/>
                  <a:pt x="356" y="44"/>
                  <a:pt x="355" y="44"/>
                </a:cubicBezTo>
                <a:cubicBezTo>
                  <a:pt x="355" y="44"/>
                  <a:pt x="355" y="44"/>
                  <a:pt x="355" y="44"/>
                </a:cubicBezTo>
                <a:cubicBezTo>
                  <a:pt x="355" y="44"/>
                  <a:pt x="355" y="44"/>
                  <a:pt x="355" y="44"/>
                </a:cubicBezTo>
                <a:cubicBezTo>
                  <a:pt x="354" y="44"/>
                  <a:pt x="354" y="44"/>
                  <a:pt x="354" y="44"/>
                </a:cubicBezTo>
                <a:cubicBezTo>
                  <a:pt x="354" y="44"/>
                  <a:pt x="354" y="44"/>
                  <a:pt x="354" y="44"/>
                </a:cubicBezTo>
                <a:cubicBezTo>
                  <a:pt x="353" y="44"/>
                  <a:pt x="351" y="44"/>
                  <a:pt x="350" y="45"/>
                </a:cubicBezTo>
                <a:cubicBezTo>
                  <a:pt x="349" y="45"/>
                  <a:pt x="348" y="45"/>
                  <a:pt x="347" y="45"/>
                </a:cubicBezTo>
                <a:cubicBezTo>
                  <a:pt x="347" y="45"/>
                  <a:pt x="347" y="45"/>
                  <a:pt x="347" y="45"/>
                </a:cubicBezTo>
                <a:cubicBezTo>
                  <a:pt x="347" y="45"/>
                  <a:pt x="347" y="45"/>
                  <a:pt x="347" y="45"/>
                </a:cubicBezTo>
                <a:cubicBezTo>
                  <a:pt x="347" y="45"/>
                  <a:pt x="347" y="45"/>
                  <a:pt x="347" y="45"/>
                </a:cubicBezTo>
                <a:cubicBezTo>
                  <a:pt x="345" y="45"/>
                  <a:pt x="344" y="45"/>
                  <a:pt x="343" y="46"/>
                </a:cubicBezTo>
                <a:cubicBezTo>
                  <a:pt x="342" y="46"/>
                  <a:pt x="341" y="46"/>
                  <a:pt x="339" y="46"/>
                </a:cubicBezTo>
                <a:cubicBezTo>
                  <a:pt x="339" y="46"/>
                  <a:pt x="339" y="46"/>
                  <a:pt x="339" y="46"/>
                </a:cubicBezTo>
                <a:cubicBezTo>
                  <a:pt x="339" y="46"/>
                  <a:pt x="339" y="46"/>
                  <a:pt x="339" y="46"/>
                </a:cubicBezTo>
                <a:cubicBezTo>
                  <a:pt x="338" y="46"/>
                  <a:pt x="338" y="46"/>
                  <a:pt x="338" y="46"/>
                </a:cubicBezTo>
                <a:cubicBezTo>
                  <a:pt x="338" y="47"/>
                  <a:pt x="338" y="47"/>
                  <a:pt x="338" y="47"/>
                </a:cubicBezTo>
                <a:cubicBezTo>
                  <a:pt x="337" y="47"/>
                  <a:pt x="337" y="47"/>
                  <a:pt x="337" y="47"/>
                </a:cubicBezTo>
                <a:cubicBezTo>
                  <a:pt x="337" y="47"/>
                  <a:pt x="337" y="47"/>
                  <a:pt x="337" y="47"/>
                </a:cubicBezTo>
                <a:cubicBezTo>
                  <a:pt x="336" y="47"/>
                  <a:pt x="336" y="47"/>
                  <a:pt x="336" y="47"/>
                </a:cubicBezTo>
                <a:cubicBezTo>
                  <a:pt x="336" y="47"/>
                  <a:pt x="336" y="47"/>
                  <a:pt x="336" y="47"/>
                </a:cubicBezTo>
                <a:cubicBezTo>
                  <a:pt x="336" y="47"/>
                  <a:pt x="336" y="47"/>
                  <a:pt x="336" y="47"/>
                </a:cubicBezTo>
                <a:cubicBezTo>
                  <a:pt x="336" y="47"/>
                  <a:pt x="336" y="47"/>
                  <a:pt x="336" y="47"/>
                </a:cubicBezTo>
                <a:cubicBezTo>
                  <a:pt x="335" y="47"/>
                  <a:pt x="335" y="47"/>
                  <a:pt x="335" y="47"/>
                </a:cubicBezTo>
                <a:cubicBezTo>
                  <a:pt x="335" y="47"/>
                  <a:pt x="335" y="47"/>
                  <a:pt x="335" y="47"/>
                </a:cubicBezTo>
                <a:cubicBezTo>
                  <a:pt x="334" y="48"/>
                  <a:pt x="334" y="48"/>
                  <a:pt x="334" y="48"/>
                </a:cubicBezTo>
                <a:cubicBezTo>
                  <a:pt x="334" y="48"/>
                  <a:pt x="334" y="48"/>
                  <a:pt x="334" y="48"/>
                </a:cubicBezTo>
                <a:cubicBezTo>
                  <a:pt x="333" y="48"/>
                  <a:pt x="333" y="48"/>
                  <a:pt x="333" y="48"/>
                </a:cubicBezTo>
                <a:cubicBezTo>
                  <a:pt x="333" y="48"/>
                  <a:pt x="333" y="48"/>
                  <a:pt x="333" y="48"/>
                </a:cubicBezTo>
                <a:cubicBezTo>
                  <a:pt x="332" y="48"/>
                  <a:pt x="332" y="48"/>
                  <a:pt x="332" y="48"/>
                </a:cubicBezTo>
                <a:cubicBezTo>
                  <a:pt x="332" y="48"/>
                  <a:pt x="332" y="48"/>
                  <a:pt x="332" y="48"/>
                </a:cubicBezTo>
                <a:cubicBezTo>
                  <a:pt x="332" y="48"/>
                  <a:pt x="332" y="48"/>
                  <a:pt x="332" y="48"/>
                </a:cubicBezTo>
                <a:cubicBezTo>
                  <a:pt x="332" y="48"/>
                  <a:pt x="332" y="48"/>
                  <a:pt x="332" y="48"/>
                </a:cubicBezTo>
                <a:cubicBezTo>
                  <a:pt x="332" y="48"/>
                  <a:pt x="332" y="48"/>
                  <a:pt x="332" y="48"/>
                </a:cubicBezTo>
                <a:cubicBezTo>
                  <a:pt x="332" y="49"/>
                  <a:pt x="332" y="49"/>
                  <a:pt x="332" y="49"/>
                </a:cubicBezTo>
                <a:cubicBezTo>
                  <a:pt x="331" y="49"/>
                  <a:pt x="331" y="49"/>
                  <a:pt x="331" y="49"/>
                </a:cubicBezTo>
                <a:cubicBezTo>
                  <a:pt x="331" y="49"/>
                  <a:pt x="331" y="49"/>
                  <a:pt x="331" y="49"/>
                </a:cubicBezTo>
                <a:cubicBezTo>
                  <a:pt x="330" y="49"/>
                  <a:pt x="330" y="49"/>
                  <a:pt x="330" y="49"/>
                </a:cubicBezTo>
                <a:cubicBezTo>
                  <a:pt x="330" y="49"/>
                  <a:pt x="330" y="49"/>
                  <a:pt x="330" y="49"/>
                </a:cubicBezTo>
                <a:cubicBezTo>
                  <a:pt x="330" y="49"/>
                  <a:pt x="330" y="49"/>
                  <a:pt x="330" y="49"/>
                </a:cubicBezTo>
                <a:cubicBezTo>
                  <a:pt x="329" y="50"/>
                  <a:pt x="329" y="50"/>
                  <a:pt x="329" y="50"/>
                </a:cubicBezTo>
                <a:cubicBezTo>
                  <a:pt x="329" y="50"/>
                  <a:pt x="329" y="50"/>
                  <a:pt x="329" y="50"/>
                </a:cubicBezTo>
                <a:cubicBezTo>
                  <a:pt x="329" y="50"/>
                  <a:pt x="329" y="50"/>
                  <a:pt x="329" y="50"/>
                </a:cubicBezTo>
                <a:cubicBezTo>
                  <a:pt x="329" y="50"/>
                  <a:pt x="329" y="50"/>
                  <a:pt x="329" y="50"/>
                </a:cubicBezTo>
                <a:cubicBezTo>
                  <a:pt x="328" y="50"/>
                  <a:pt x="328" y="50"/>
                  <a:pt x="328" y="50"/>
                </a:cubicBezTo>
                <a:cubicBezTo>
                  <a:pt x="328" y="50"/>
                  <a:pt x="328" y="50"/>
                  <a:pt x="328" y="50"/>
                </a:cubicBezTo>
                <a:cubicBezTo>
                  <a:pt x="328" y="51"/>
                  <a:pt x="328" y="51"/>
                  <a:pt x="328" y="51"/>
                </a:cubicBezTo>
                <a:cubicBezTo>
                  <a:pt x="327" y="51"/>
                  <a:pt x="327" y="51"/>
                  <a:pt x="327" y="51"/>
                </a:cubicBezTo>
                <a:cubicBezTo>
                  <a:pt x="327" y="51"/>
                  <a:pt x="327" y="51"/>
                  <a:pt x="327" y="51"/>
                </a:cubicBezTo>
                <a:cubicBezTo>
                  <a:pt x="326" y="51"/>
                  <a:pt x="326" y="51"/>
                  <a:pt x="326" y="51"/>
                </a:cubicBezTo>
                <a:cubicBezTo>
                  <a:pt x="326" y="51"/>
                  <a:pt x="326" y="51"/>
                  <a:pt x="326" y="51"/>
                </a:cubicBezTo>
                <a:cubicBezTo>
                  <a:pt x="326" y="52"/>
                  <a:pt x="326" y="52"/>
                  <a:pt x="326" y="52"/>
                </a:cubicBezTo>
                <a:cubicBezTo>
                  <a:pt x="326" y="52"/>
                  <a:pt x="326" y="52"/>
                  <a:pt x="326" y="52"/>
                </a:cubicBezTo>
                <a:cubicBezTo>
                  <a:pt x="326" y="52"/>
                  <a:pt x="326" y="52"/>
                  <a:pt x="326" y="52"/>
                </a:cubicBezTo>
                <a:cubicBezTo>
                  <a:pt x="326" y="52"/>
                  <a:pt x="326" y="52"/>
                  <a:pt x="326" y="52"/>
                </a:cubicBezTo>
                <a:cubicBezTo>
                  <a:pt x="325" y="52"/>
                  <a:pt x="325" y="52"/>
                  <a:pt x="325" y="52"/>
                </a:cubicBezTo>
                <a:cubicBezTo>
                  <a:pt x="325" y="52"/>
                  <a:pt x="325" y="52"/>
                  <a:pt x="325" y="52"/>
                </a:cubicBezTo>
                <a:cubicBezTo>
                  <a:pt x="325" y="53"/>
                  <a:pt x="325" y="53"/>
                  <a:pt x="325" y="53"/>
                </a:cubicBezTo>
                <a:cubicBezTo>
                  <a:pt x="324" y="53"/>
                  <a:pt x="324" y="53"/>
                  <a:pt x="324" y="53"/>
                </a:cubicBezTo>
                <a:cubicBezTo>
                  <a:pt x="324" y="53"/>
                  <a:pt x="324" y="53"/>
                  <a:pt x="324" y="53"/>
                </a:cubicBezTo>
                <a:cubicBezTo>
                  <a:pt x="324" y="54"/>
                  <a:pt x="324" y="54"/>
                  <a:pt x="324" y="54"/>
                </a:cubicBezTo>
                <a:cubicBezTo>
                  <a:pt x="323" y="54"/>
                  <a:pt x="323" y="54"/>
                  <a:pt x="323" y="54"/>
                </a:cubicBezTo>
                <a:cubicBezTo>
                  <a:pt x="323" y="54"/>
                  <a:pt x="323" y="54"/>
                  <a:pt x="323" y="54"/>
                </a:cubicBezTo>
                <a:cubicBezTo>
                  <a:pt x="323" y="55"/>
                  <a:pt x="323" y="55"/>
                  <a:pt x="323" y="55"/>
                </a:cubicBezTo>
                <a:cubicBezTo>
                  <a:pt x="322" y="55"/>
                  <a:pt x="322" y="55"/>
                  <a:pt x="322" y="55"/>
                </a:cubicBezTo>
                <a:cubicBezTo>
                  <a:pt x="322" y="55"/>
                  <a:pt x="322" y="55"/>
                  <a:pt x="322" y="55"/>
                </a:cubicBezTo>
                <a:cubicBezTo>
                  <a:pt x="322" y="55"/>
                  <a:pt x="322" y="55"/>
                  <a:pt x="322" y="55"/>
                </a:cubicBezTo>
                <a:cubicBezTo>
                  <a:pt x="322" y="55"/>
                  <a:pt x="322" y="55"/>
                  <a:pt x="322" y="55"/>
                </a:cubicBezTo>
                <a:cubicBezTo>
                  <a:pt x="322" y="55"/>
                  <a:pt x="322" y="55"/>
                  <a:pt x="322" y="55"/>
                </a:cubicBezTo>
                <a:cubicBezTo>
                  <a:pt x="322" y="56"/>
                  <a:pt x="322" y="56"/>
                  <a:pt x="322" y="56"/>
                </a:cubicBezTo>
                <a:cubicBezTo>
                  <a:pt x="322" y="56"/>
                  <a:pt x="322" y="56"/>
                  <a:pt x="322" y="56"/>
                </a:cubicBezTo>
                <a:cubicBezTo>
                  <a:pt x="322" y="56"/>
                  <a:pt x="322" y="56"/>
                  <a:pt x="322" y="56"/>
                </a:cubicBezTo>
                <a:cubicBezTo>
                  <a:pt x="321" y="57"/>
                  <a:pt x="321" y="57"/>
                  <a:pt x="321" y="57"/>
                </a:cubicBezTo>
                <a:cubicBezTo>
                  <a:pt x="321" y="57"/>
                  <a:pt x="321" y="57"/>
                  <a:pt x="321" y="57"/>
                </a:cubicBezTo>
                <a:cubicBezTo>
                  <a:pt x="321" y="57"/>
                  <a:pt x="321" y="57"/>
                  <a:pt x="321" y="57"/>
                </a:cubicBezTo>
                <a:cubicBezTo>
                  <a:pt x="321" y="57"/>
                  <a:pt x="321" y="57"/>
                  <a:pt x="321" y="57"/>
                </a:cubicBezTo>
                <a:cubicBezTo>
                  <a:pt x="321" y="57"/>
                  <a:pt x="321" y="57"/>
                  <a:pt x="321" y="57"/>
                </a:cubicBezTo>
                <a:cubicBezTo>
                  <a:pt x="321" y="58"/>
                  <a:pt x="321" y="58"/>
                  <a:pt x="321" y="58"/>
                </a:cubicBezTo>
                <a:cubicBezTo>
                  <a:pt x="321" y="58"/>
                  <a:pt x="321" y="58"/>
                  <a:pt x="321" y="58"/>
                </a:cubicBezTo>
                <a:cubicBezTo>
                  <a:pt x="321" y="58"/>
                  <a:pt x="321" y="58"/>
                  <a:pt x="321" y="58"/>
                </a:cubicBezTo>
                <a:cubicBezTo>
                  <a:pt x="321" y="59"/>
                  <a:pt x="321" y="59"/>
                  <a:pt x="321" y="59"/>
                </a:cubicBezTo>
                <a:cubicBezTo>
                  <a:pt x="321" y="59"/>
                  <a:pt x="321" y="59"/>
                  <a:pt x="321" y="59"/>
                </a:cubicBezTo>
                <a:cubicBezTo>
                  <a:pt x="321" y="59"/>
                  <a:pt x="321" y="59"/>
                  <a:pt x="321" y="59"/>
                </a:cubicBezTo>
                <a:cubicBezTo>
                  <a:pt x="321" y="59"/>
                  <a:pt x="321" y="59"/>
                  <a:pt x="321" y="59"/>
                </a:cubicBezTo>
                <a:cubicBezTo>
                  <a:pt x="324" y="120"/>
                  <a:pt x="324" y="120"/>
                  <a:pt x="324" y="120"/>
                </a:cubicBezTo>
                <a:cubicBezTo>
                  <a:pt x="323" y="120"/>
                  <a:pt x="323" y="120"/>
                  <a:pt x="323" y="120"/>
                </a:cubicBezTo>
                <a:cubicBezTo>
                  <a:pt x="323" y="120"/>
                  <a:pt x="323" y="120"/>
                  <a:pt x="323" y="120"/>
                </a:cubicBezTo>
                <a:cubicBezTo>
                  <a:pt x="322" y="120"/>
                  <a:pt x="322" y="120"/>
                  <a:pt x="322" y="120"/>
                </a:cubicBezTo>
                <a:cubicBezTo>
                  <a:pt x="320" y="120"/>
                  <a:pt x="317" y="120"/>
                  <a:pt x="315" y="120"/>
                </a:cubicBezTo>
                <a:cubicBezTo>
                  <a:pt x="314" y="120"/>
                  <a:pt x="313" y="120"/>
                  <a:pt x="312" y="120"/>
                </a:cubicBezTo>
                <a:cubicBezTo>
                  <a:pt x="311" y="120"/>
                  <a:pt x="310" y="120"/>
                  <a:pt x="309" y="120"/>
                </a:cubicBezTo>
                <a:cubicBezTo>
                  <a:pt x="306" y="120"/>
                  <a:pt x="303" y="120"/>
                  <a:pt x="300" y="120"/>
                </a:cubicBezTo>
                <a:cubicBezTo>
                  <a:pt x="299" y="120"/>
                  <a:pt x="299" y="120"/>
                  <a:pt x="299" y="120"/>
                </a:cubicBezTo>
                <a:cubicBezTo>
                  <a:pt x="299" y="120"/>
                  <a:pt x="299" y="120"/>
                  <a:pt x="299" y="120"/>
                </a:cubicBezTo>
                <a:cubicBezTo>
                  <a:pt x="298" y="120"/>
                  <a:pt x="298" y="120"/>
                  <a:pt x="297" y="120"/>
                </a:cubicBezTo>
                <a:cubicBezTo>
                  <a:pt x="297" y="120"/>
                  <a:pt x="296" y="120"/>
                  <a:pt x="295" y="120"/>
                </a:cubicBezTo>
                <a:cubicBezTo>
                  <a:pt x="294" y="120"/>
                  <a:pt x="292" y="120"/>
                  <a:pt x="291" y="120"/>
                </a:cubicBezTo>
                <a:cubicBezTo>
                  <a:pt x="290" y="120"/>
                  <a:pt x="290" y="120"/>
                  <a:pt x="290" y="120"/>
                </a:cubicBezTo>
                <a:cubicBezTo>
                  <a:pt x="290" y="120"/>
                  <a:pt x="290" y="120"/>
                  <a:pt x="290" y="120"/>
                </a:cubicBezTo>
                <a:cubicBezTo>
                  <a:pt x="289" y="120"/>
                  <a:pt x="288" y="120"/>
                  <a:pt x="287" y="120"/>
                </a:cubicBezTo>
                <a:cubicBezTo>
                  <a:pt x="286" y="120"/>
                  <a:pt x="284" y="120"/>
                  <a:pt x="283" y="120"/>
                </a:cubicBezTo>
                <a:cubicBezTo>
                  <a:pt x="282" y="120"/>
                  <a:pt x="282" y="120"/>
                  <a:pt x="281" y="120"/>
                </a:cubicBezTo>
                <a:cubicBezTo>
                  <a:pt x="281" y="120"/>
                  <a:pt x="280" y="120"/>
                  <a:pt x="280" y="120"/>
                </a:cubicBezTo>
                <a:cubicBezTo>
                  <a:pt x="279" y="121"/>
                  <a:pt x="279" y="121"/>
                  <a:pt x="279" y="121"/>
                </a:cubicBezTo>
                <a:cubicBezTo>
                  <a:pt x="279" y="121"/>
                  <a:pt x="279" y="121"/>
                  <a:pt x="279" y="121"/>
                </a:cubicBezTo>
                <a:cubicBezTo>
                  <a:pt x="278" y="121"/>
                  <a:pt x="278" y="121"/>
                  <a:pt x="278" y="121"/>
                </a:cubicBezTo>
                <a:cubicBezTo>
                  <a:pt x="278" y="121"/>
                  <a:pt x="278" y="121"/>
                  <a:pt x="278" y="121"/>
                </a:cubicBezTo>
                <a:cubicBezTo>
                  <a:pt x="278" y="121"/>
                  <a:pt x="277" y="121"/>
                  <a:pt x="277" y="121"/>
                </a:cubicBezTo>
                <a:cubicBezTo>
                  <a:pt x="276" y="121"/>
                  <a:pt x="275" y="121"/>
                  <a:pt x="275" y="121"/>
                </a:cubicBezTo>
                <a:cubicBezTo>
                  <a:pt x="275" y="121"/>
                  <a:pt x="275" y="121"/>
                  <a:pt x="275" y="121"/>
                </a:cubicBezTo>
                <a:cubicBezTo>
                  <a:pt x="274" y="121"/>
                  <a:pt x="274" y="121"/>
                  <a:pt x="274" y="121"/>
                </a:cubicBezTo>
                <a:cubicBezTo>
                  <a:pt x="274" y="121"/>
                  <a:pt x="274" y="121"/>
                  <a:pt x="274" y="121"/>
                </a:cubicBezTo>
                <a:cubicBezTo>
                  <a:pt x="274" y="121"/>
                  <a:pt x="273" y="121"/>
                  <a:pt x="273" y="121"/>
                </a:cubicBezTo>
                <a:cubicBezTo>
                  <a:pt x="272" y="121"/>
                  <a:pt x="271" y="121"/>
                  <a:pt x="271" y="121"/>
                </a:cubicBezTo>
                <a:cubicBezTo>
                  <a:pt x="271" y="121"/>
                  <a:pt x="271" y="121"/>
                  <a:pt x="271" y="121"/>
                </a:cubicBezTo>
                <a:cubicBezTo>
                  <a:pt x="271" y="121"/>
                  <a:pt x="271" y="121"/>
                  <a:pt x="271" y="121"/>
                </a:cubicBezTo>
                <a:cubicBezTo>
                  <a:pt x="271" y="121"/>
                  <a:pt x="271" y="121"/>
                  <a:pt x="271" y="121"/>
                </a:cubicBezTo>
                <a:cubicBezTo>
                  <a:pt x="270" y="121"/>
                  <a:pt x="269" y="121"/>
                  <a:pt x="269" y="121"/>
                </a:cubicBezTo>
                <a:cubicBezTo>
                  <a:pt x="268" y="121"/>
                  <a:pt x="268" y="121"/>
                  <a:pt x="268" y="121"/>
                </a:cubicBezTo>
                <a:cubicBezTo>
                  <a:pt x="268" y="121"/>
                  <a:pt x="268" y="121"/>
                  <a:pt x="268" y="121"/>
                </a:cubicBezTo>
                <a:cubicBezTo>
                  <a:pt x="268" y="121"/>
                  <a:pt x="268" y="121"/>
                  <a:pt x="268" y="121"/>
                </a:cubicBezTo>
                <a:cubicBezTo>
                  <a:pt x="267" y="121"/>
                  <a:pt x="267" y="121"/>
                  <a:pt x="267" y="121"/>
                </a:cubicBezTo>
                <a:cubicBezTo>
                  <a:pt x="267" y="121"/>
                  <a:pt x="267" y="121"/>
                  <a:pt x="267" y="121"/>
                </a:cubicBezTo>
                <a:cubicBezTo>
                  <a:pt x="267" y="121"/>
                  <a:pt x="267" y="121"/>
                  <a:pt x="267" y="121"/>
                </a:cubicBezTo>
                <a:cubicBezTo>
                  <a:pt x="266" y="121"/>
                  <a:pt x="266" y="121"/>
                  <a:pt x="266" y="121"/>
                </a:cubicBezTo>
                <a:cubicBezTo>
                  <a:pt x="266" y="121"/>
                  <a:pt x="266" y="121"/>
                  <a:pt x="266" y="121"/>
                </a:cubicBezTo>
                <a:cubicBezTo>
                  <a:pt x="265" y="121"/>
                  <a:pt x="265" y="121"/>
                  <a:pt x="265" y="121"/>
                </a:cubicBezTo>
                <a:cubicBezTo>
                  <a:pt x="265" y="121"/>
                  <a:pt x="265" y="121"/>
                  <a:pt x="265" y="121"/>
                </a:cubicBezTo>
                <a:cubicBezTo>
                  <a:pt x="265" y="121"/>
                  <a:pt x="265" y="121"/>
                  <a:pt x="265" y="121"/>
                </a:cubicBezTo>
                <a:cubicBezTo>
                  <a:pt x="264" y="121"/>
                  <a:pt x="264" y="121"/>
                  <a:pt x="264" y="121"/>
                </a:cubicBezTo>
                <a:cubicBezTo>
                  <a:pt x="264" y="121"/>
                  <a:pt x="264" y="121"/>
                  <a:pt x="264" y="121"/>
                </a:cubicBezTo>
                <a:cubicBezTo>
                  <a:pt x="263" y="121"/>
                  <a:pt x="263" y="121"/>
                  <a:pt x="263" y="121"/>
                </a:cubicBezTo>
                <a:cubicBezTo>
                  <a:pt x="263" y="121"/>
                  <a:pt x="263" y="121"/>
                  <a:pt x="263" y="121"/>
                </a:cubicBezTo>
                <a:cubicBezTo>
                  <a:pt x="262" y="121"/>
                  <a:pt x="262" y="121"/>
                  <a:pt x="262" y="121"/>
                </a:cubicBezTo>
                <a:cubicBezTo>
                  <a:pt x="262" y="121"/>
                  <a:pt x="262" y="121"/>
                  <a:pt x="262" y="121"/>
                </a:cubicBezTo>
                <a:cubicBezTo>
                  <a:pt x="262" y="121"/>
                  <a:pt x="262" y="121"/>
                  <a:pt x="262" y="121"/>
                </a:cubicBezTo>
                <a:cubicBezTo>
                  <a:pt x="261" y="121"/>
                  <a:pt x="261" y="121"/>
                  <a:pt x="261" y="121"/>
                </a:cubicBezTo>
                <a:cubicBezTo>
                  <a:pt x="260" y="121"/>
                  <a:pt x="260" y="121"/>
                  <a:pt x="260" y="121"/>
                </a:cubicBezTo>
                <a:cubicBezTo>
                  <a:pt x="260" y="121"/>
                  <a:pt x="260" y="121"/>
                  <a:pt x="260" y="121"/>
                </a:cubicBezTo>
                <a:cubicBezTo>
                  <a:pt x="259" y="122"/>
                  <a:pt x="259" y="122"/>
                  <a:pt x="259" y="122"/>
                </a:cubicBezTo>
                <a:cubicBezTo>
                  <a:pt x="259" y="122"/>
                  <a:pt x="259" y="122"/>
                  <a:pt x="259" y="122"/>
                </a:cubicBezTo>
                <a:cubicBezTo>
                  <a:pt x="259" y="122"/>
                  <a:pt x="258" y="122"/>
                  <a:pt x="258" y="122"/>
                </a:cubicBezTo>
                <a:cubicBezTo>
                  <a:pt x="258" y="122"/>
                  <a:pt x="258" y="122"/>
                  <a:pt x="258" y="122"/>
                </a:cubicBezTo>
                <a:cubicBezTo>
                  <a:pt x="258" y="122"/>
                  <a:pt x="258" y="122"/>
                  <a:pt x="258" y="122"/>
                </a:cubicBezTo>
                <a:cubicBezTo>
                  <a:pt x="258" y="122"/>
                  <a:pt x="258" y="122"/>
                  <a:pt x="258" y="122"/>
                </a:cubicBezTo>
                <a:cubicBezTo>
                  <a:pt x="257" y="122"/>
                  <a:pt x="257" y="122"/>
                  <a:pt x="257" y="122"/>
                </a:cubicBezTo>
                <a:cubicBezTo>
                  <a:pt x="256" y="122"/>
                  <a:pt x="256" y="122"/>
                  <a:pt x="256" y="122"/>
                </a:cubicBezTo>
                <a:cubicBezTo>
                  <a:pt x="255" y="122"/>
                  <a:pt x="255" y="122"/>
                  <a:pt x="255" y="122"/>
                </a:cubicBezTo>
                <a:cubicBezTo>
                  <a:pt x="255" y="122"/>
                  <a:pt x="255" y="122"/>
                  <a:pt x="255" y="122"/>
                </a:cubicBezTo>
                <a:cubicBezTo>
                  <a:pt x="254" y="123"/>
                  <a:pt x="254" y="123"/>
                  <a:pt x="254" y="123"/>
                </a:cubicBezTo>
                <a:cubicBezTo>
                  <a:pt x="254" y="123"/>
                  <a:pt x="254" y="123"/>
                  <a:pt x="254" y="123"/>
                </a:cubicBezTo>
                <a:cubicBezTo>
                  <a:pt x="254" y="123"/>
                  <a:pt x="254" y="123"/>
                  <a:pt x="254" y="123"/>
                </a:cubicBezTo>
                <a:cubicBezTo>
                  <a:pt x="254" y="123"/>
                  <a:pt x="254" y="123"/>
                  <a:pt x="254" y="123"/>
                </a:cubicBezTo>
                <a:cubicBezTo>
                  <a:pt x="253" y="123"/>
                  <a:pt x="253" y="123"/>
                  <a:pt x="253" y="123"/>
                </a:cubicBezTo>
                <a:cubicBezTo>
                  <a:pt x="253" y="123"/>
                  <a:pt x="253" y="123"/>
                  <a:pt x="253" y="123"/>
                </a:cubicBezTo>
                <a:cubicBezTo>
                  <a:pt x="253" y="123"/>
                  <a:pt x="253" y="123"/>
                  <a:pt x="253" y="123"/>
                </a:cubicBezTo>
                <a:cubicBezTo>
                  <a:pt x="252" y="123"/>
                  <a:pt x="252" y="123"/>
                  <a:pt x="252" y="123"/>
                </a:cubicBezTo>
                <a:cubicBezTo>
                  <a:pt x="252" y="123"/>
                  <a:pt x="252" y="123"/>
                  <a:pt x="252" y="123"/>
                </a:cubicBezTo>
                <a:cubicBezTo>
                  <a:pt x="252" y="123"/>
                  <a:pt x="252" y="123"/>
                  <a:pt x="252" y="123"/>
                </a:cubicBezTo>
                <a:cubicBezTo>
                  <a:pt x="252" y="123"/>
                  <a:pt x="252" y="123"/>
                  <a:pt x="252" y="123"/>
                </a:cubicBezTo>
                <a:cubicBezTo>
                  <a:pt x="252" y="123"/>
                  <a:pt x="252" y="123"/>
                  <a:pt x="252" y="123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0" y="124"/>
                  <a:pt x="250" y="124"/>
                  <a:pt x="250" y="124"/>
                </a:cubicBezTo>
                <a:cubicBezTo>
                  <a:pt x="250" y="124"/>
                  <a:pt x="250" y="124"/>
                  <a:pt x="250" y="124"/>
                </a:cubicBezTo>
                <a:cubicBezTo>
                  <a:pt x="250" y="124"/>
                  <a:pt x="250" y="124"/>
                  <a:pt x="250" y="124"/>
                </a:cubicBezTo>
                <a:cubicBezTo>
                  <a:pt x="250" y="124"/>
                  <a:pt x="250" y="124"/>
                  <a:pt x="250" y="124"/>
                </a:cubicBezTo>
                <a:cubicBezTo>
                  <a:pt x="250" y="124"/>
                  <a:pt x="250" y="124"/>
                  <a:pt x="250" y="124"/>
                </a:cubicBezTo>
                <a:cubicBezTo>
                  <a:pt x="250" y="124"/>
                  <a:pt x="250" y="124"/>
                  <a:pt x="250" y="124"/>
                </a:cubicBezTo>
                <a:cubicBezTo>
                  <a:pt x="250" y="125"/>
                  <a:pt x="250" y="125"/>
                  <a:pt x="250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8" y="125"/>
                  <a:pt x="248" y="125"/>
                  <a:pt x="248" y="125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7"/>
                  <a:pt x="248" y="127"/>
                  <a:pt x="248" y="127"/>
                </a:cubicBezTo>
                <a:cubicBezTo>
                  <a:pt x="247" y="127"/>
                  <a:pt x="247" y="127"/>
                  <a:pt x="247" y="127"/>
                </a:cubicBezTo>
                <a:cubicBezTo>
                  <a:pt x="247" y="127"/>
                  <a:pt x="247" y="127"/>
                  <a:pt x="247" y="127"/>
                </a:cubicBezTo>
                <a:cubicBezTo>
                  <a:pt x="247" y="127"/>
                  <a:pt x="247" y="127"/>
                  <a:pt x="247" y="127"/>
                </a:cubicBezTo>
                <a:cubicBezTo>
                  <a:pt x="247" y="127"/>
                  <a:pt x="247" y="127"/>
                  <a:pt x="247" y="127"/>
                </a:cubicBezTo>
                <a:cubicBezTo>
                  <a:pt x="247" y="127"/>
                  <a:pt x="247" y="127"/>
                  <a:pt x="247" y="127"/>
                </a:cubicBezTo>
                <a:cubicBezTo>
                  <a:pt x="247" y="127"/>
                  <a:pt x="247" y="127"/>
                  <a:pt x="247" y="127"/>
                </a:cubicBezTo>
                <a:cubicBezTo>
                  <a:pt x="247" y="128"/>
                  <a:pt x="247" y="128"/>
                  <a:pt x="247" y="128"/>
                </a:cubicBezTo>
                <a:cubicBezTo>
                  <a:pt x="247" y="128"/>
                  <a:pt x="247" y="128"/>
                  <a:pt x="247" y="128"/>
                </a:cubicBezTo>
                <a:cubicBezTo>
                  <a:pt x="247" y="128"/>
                  <a:pt x="247" y="128"/>
                  <a:pt x="247" y="128"/>
                </a:cubicBezTo>
                <a:cubicBezTo>
                  <a:pt x="247" y="128"/>
                  <a:pt x="247" y="128"/>
                  <a:pt x="247" y="128"/>
                </a:cubicBezTo>
                <a:cubicBezTo>
                  <a:pt x="247" y="128"/>
                  <a:pt x="247" y="128"/>
                  <a:pt x="247" y="128"/>
                </a:cubicBezTo>
                <a:cubicBezTo>
                  <a:pt x="247" y="129"/>
                  <a:pt x="247" y="129"/>
                  <a:pt x="247" y="129"/>
                </a:cubicBezTo>
                <a:cubicBezTo>
                  <a:pt x="248" y="136"/>
                  <a:pt x="248" y="144"/>
                  <a:pt x="248" y="151"/>
                </a:cubicBezTo>
                <a:cubicBezTo>
                  <a:pt x="248" y="152"/>
                  <a:pt x="248" y="152"/>
                  <a:pt x="248" y="152"/>
                </a:cubicBezTo>
                <a:cubicBezTo>
                  <a:pt x="248" y="152"/>
                  <a:pt x="248" y="152"/>
                  <a:pt x="248" y="152"/>
                </a:cubicBezTo>
                <a:cubicBezTo>
                  <a:pt x="247" y="152"/>
                  <a:pt x="246" y="152"/>
                  <a:pt x="246" y="153"/>
                </a:cubicBezTo>
                <a:cubicBezTo>
                  <a:pt x="245" y="153"/>
                  <a:pt x="245" y="153"/>
                  <a:pt x="245" y="153"/>
                </a:cubicBezTo>
                <a:cubicBezTo>
                  <a:pt x="244" y="153"/>
                  <a:pt x="242" y="154"/>
                  <a:pt x="240" y="154"/>
                </a:cubicBezTo>
                <a:cubicBezTo>
                  <a:pt x="240" y="154"/>
                  <a:pt x="240" y="154"/>
                  <a:pt x="240" y="154"/>
                </a:cubicBezTo>
                <a:cubicBezTo>
                  <a:pt x="238" y="155"/>
                  <a:pt x="237" y="155"/>
                  <a:pt x="234" y="156"/>
                </a:cubicBezTo>
                <a:cubicBezTo>
                  <a:pt x="234" y="156"/>
                  <a:pt x="234" y="156"/>
                  <a:pt x="234" y="156"/>
                </a:cubicBezTo>
                <a:cubicBezTo>
                  <a:pt x="232" y="157"/>
                  <a:pt x="230" y="157"/>
                  <a:pt x="228" y="158"/>
                </a:cubicBezTo>
                <a:cubicBezTo>
                  <a:pt x="226" y="158"/>
                  <a:pt x="225" y="158"/>
                  <a:pt x="224" y="159"/>
                </a:cubicBezTo>
                <a:cubicBezTo>
                  <a:pt x="223" y="159"/>
                  <a:pt x="223" y="159"/>
                  <a:pt x="223" y="159"/>
                </a:cubicBezTo>
                <a:cubicBezTo>
                  <a:pt x="222" y="159"/>
                  <a:pt x="221" y="159"/>
                  <a:pt x="219" y="160"/>
                </a:cubicBezTo>
                <a:cubicBezTo>
                  <a:pt x="218" y="160"/>
                  <a:pt x="216" y="160"/>
                  <a:pt x="215" y="160"/>
                </a:cubicBezTo>
                <a:cubicBezTo>
                  <a:pt x="215" y="160"/>
                  <a:pt x="214" y="160"/>
                  <a:pt x="214" y="160"/>
                </a:cubicBezTo>
                <a:cubicBezTo>
                  <a:pt x="213" y="161"/>
                  <a:pt x="211" y="161"/>
                  <a:pt x="210" y="161"/>
                </a:cubicBezTo>
                <a:cubicBezTo>
                  <a:pt x="210" y="161"/>
                  <a:pt x="210" y="161"/>
                  <a:pt x="210" y="161"/>
                </a:cubicBezTo>
                <a:cubicBezTo>
                  <a:pt x="207" y="161"/>
                  <a:pt x="203" y="162"/>
                  <a:pt x="200" y="162"/>
                </a:cubicBezTo>
                <a:cubicBezTo>
                  <a:pt x="200" y="162"/>
                  <a:pt x="200" y="162"/>
                  <a:pt x="200" y="162"/>
                </a:cubicBezTo>
                <a:cubicBezTo>
                  <a:pt x="197" y="162"/>
                  <a:pt x="193" y="162"/>
                  <a:pt x="190" y="162"/>
                </a:cubicBezTo>
                <a:cubicBezTo>
                  <a:pt x="185" y="162"/>
                  <a:pt x="180" y="162"/>
                  <a:pt x="176" y="162"/>
                </a:cubicBezTo>
                <a:cubicBezTo>
                  <a:pt x="176" y="162"/>
                  <a:pt x="176" y="162"/>
                  <a:pt x="176" y="162"/>
                </a:cubicBezTo>
                <a:cubicBezTo>
                  <a:pt x="171" y="162"/>
                  <a:pt x="167" y="162"/>
                  <a:pt x="163" y="161"/>
                </a:cubicBezTo>
                <a:cubicBezTo>
                  <a:pt x="162" y="161"/>
                  <a:pt x="162" y="161"/>
                  <a:pt x="162" y="161"/>
                </a:cubicBezTo>
                <a:cubicBezTo>
                  <a:pt x="160" y="161"/>
                  <a:pt x="158" y="161"/>
                  <a:pt x="156" y="161"/>
                </a:cubicBezTo>
                <a:cubicBezTo>
                  <a:pt x="156" y="161"/>
                  <a:pt x="156" y="161"/>
                  <a:pt x="156" y="161"/>
                </a:cubicBezTo>
                <a:cubicBezTo>
                  <a:pt x="154" y="160"/>
                  <a:pt x="152" y="160"/>
                  <a:pt x="150" y="160"/>
                </a:cubicBezTo>
                <a:cubicBezTo>
                  <a:pt x="150" y="160"/>
                  <a:pt x="150" y="160"/>
                  <a:pt x="149" y="160"/>
                </a:cubicBezTo>
                <a:cubicBezTo>
                  <a:pt x="149" y="149"/>
                  <a:pt x="148" y="138"/>
                  <a:pt x="147" y="128"/>
                </a:cubicBezTo>
                <a:cubicBezTo>
                  <a:pt x="147" y="127"/>
                  <a:pt x="147" y="127"/>
                  <a:pt x="147" y="127"/>
                </a:cubicBezTo>
                <a:cubicBezTo>
                  <a:pt x="147" y="126"/>
                  <a:pt x="147" y="126"/>
                  <a:pt x="147" y="126"/>
                </a:cubicBezTo>
                <a:cubicBezTo>
                  <a:pt x="147" y="126"/>
                  <a:pt x="147" y="126"/>
                  <a:pt x="147" y="126"/>
                </a:cubicBezTo>
                <a:cubicBezTo>
                  <a:pt x="146" y="125"/>
                  <a:pt x="146" y="125"/>
                  <a:pt x="146" y="125"/>
                </a:cubicBezTo>
                <a:cubicBezTo>
                  <a:pt x="146" y="125"/>
                  <a:pt x="146" y="125"/>
                  <a:pt x="146" y="125"/>
                </a:cubicBezTo>
                <a:cubicBezTo>
                  <a:pt x="146" y="124"/>
                  <a:pt x="146" y="124"/>
                  <a:pt x="146" y="124"/>
                </a:cubicBezTo>
                <a:cubicBezTo>
                  <a:pt x="145" y="124"/>
                  <a:pt x="145" y="124"/>
                  <a:pt x="145" y="124"/>
                </a:cubicBezTo>
                <a:cubicBezTo>
                  <a:pt x="145" y="124"/>
                  <a:pt x="145" y="124"/>
                  <a:pt x="145" y="124"/>
                </a:cubicBezTo>
                <a:cubicBezTo>
                  <a:pt x="145" y="124"/>
                  <a:pt x="145" y="124"/>
                  <a:pt x="145" y="124"/>
                </a:cubicBezTo>
                <a:cubicBezTo>
                  <a:pt x="144" y="124"/>
                  <a:pt x="144" y="124"/>
                  <a:pt x="144" y="124"/>
                </a:cubicBezTo>
                <a:cubicBezTo>
                  <a:pt x="144" y="124"/>
                  <a:pt x="144" y="124"/>
                  <a:pt x="144" y="124"/>
                </a:cubicBezTo>
                <a:cubicBezTo>
                  <a:pt x="144" y="124"/>
                  <a:pt x="144" y="124"/>
                  <a:pt x="144" y="124"/>
                </a:cubicBezTo>
                <a:cubicBezTo>
                  <a:pt x="144" y="124"/>
                  <a:pt x="144" y="124"/>
                  <a:pt x="144" y="124"/>
                </a:cubicBezTo>
                <a:cubicBezTo>
                  <a:pt x="143" y="124"/>
                  <a:pt x="143" y="124"/>
                  <a:pt x="143" y="124"/>
                </a:cubicBezTo>
                <a:cubicBezTo>
                  <a:pt x="143" y="124"/>
                  <a:pt x="143" y="124"/>
                  <a:pt x="143" y="124"/>
                </a:cubicBezTo>
                <a:cubicBezTo>
                  <a:pt x="143" y="123"/>
                  <a:pt x="143" y="123"/>
                  <a:pt x="143" y="123"/>
                </a:cubicBezTo>
                <a:cubicBezTo>
                  <a:pt x="143" y="123"/>
                  <a:pt x="143" y="123"/>
                  <a:pt x="143" y="123"/>
                </a:cubicBezTo>
                <a:cubicBezTo>
                  <a:pt x="142" y="123"/>
                  <a:pt x="142" y="123"/>
                  <a:pt x="142" y="123"/>
                </a:cubicBezTo>
                <a:cubicBezTo>
                  <a:pt x="142" y="123"/>
                  <a:pt x="142" y="123"/>
                  <a:pt x="142" y="123"/>
                </a:cubicBezTo>
                <a:cubicBezTo>
                  <a:pt x="142" y="123"/>
                  <a:pt x="142" y="123"/>
                  <a:pt x="142" y="123"/>
                </a:cubicBezTo>
                <a:cubicBezTo>
                  <a:pt x="141" y="123"/>
                  <a:pt x="141" y="123"/>
                  <a:pt x="141" y="123"/>
                </a:cubicBezTo>
                <a:cubicBezTo>
                  <a:pt x="141" y="123"/>
                  <a:pt x="141" y="123"/>
                  <a:pt x="141" y="123"/>
                </a:cubicBezTo>
                <a:cubicBezTo>
                  <a:pt x="141" y="123"/>
                  <a:pt x="141" y="123"/>
                  <a:pt x="141" y="123"/>
                </a:cubicBezTo>
                <a:cubicBezTo>
                  <a:pt x="141" y="123"/>
                  <a:pt x="141" y="123"/>
                  <a:pt x="141" y="123"/>
                </a:cubicBezTo>
                <a:cubicBezTo>
                  <a:pt x="141" y="123"/>
                  <a:pt x="141" y="123"/>
                  <a:pt x="141" y="123"/>
                </a:cubicBezTo>
                <a:cubicBezTo>
                  <a:pt x="140" y="123"/>
                  <a:pt x="140" y="123"/>
                  <a:pt x="140" y="123"/>
                </a:cubicBezTo>
                <a:cubicBezTo>
                  <a:pt x="140" y="123"/>
                  <a:pt x="140" y="123"/>
                  <a:pt x="140" y="123"/>
                </a:cubicBezTo>
                <a:cubicBezTo>
                  <a:pt x="140" y="123"/>
                  <a:pt x="140" y="123"/>
                  <a:pt x="140" y="123"/>
                </a:cubicBezTo>
                <a:cubicBezTo>
                  <a:pt x="139" y="123"/>
                  <a:pt x="139" y="123"/>
                  <a:pt x="139" y="123"/>
                </a:cubicBezTo>
                <a:cubicBezTo>
                  <a:pt x="139" y="123"/>
                  <a:pt x="139" y="123"/>
                  <a:pt x="139" y="123"/>
                </a:cubicBezTo>
                <a:cubicBezTo>
                  <a:pt x="138" y="123"/>
                  <a:pt x="138" y="123"/>
                  <a:pt x="138" y="123"/>
                </a:cubicBezTo>
                <a:cubicBezTo>
                  <a:pt x="138" y="123"/>
                  <a:pt x="138" y="123"/>
                  <a:pt x="138" y="123"/>
                </a:cubicBezTo>
                <a:cubicBezTo>
                  <a:pt x="137" y="123"/>
                  <a:pt x="137" y="123"/>
                  <a:pt x="137" y="123"/>
                </a:cubicBezTo>
                <a:cubicBezTo>
                  <a:pt x="137" y="123"/>
                  <a:pt x="137" y="123"/>
                  <a:pt x="137" y="123"/>
                </a:cubicBezTo>
                <a:cubicBezTo>
                  <a:pt x="136" y="123"/>
                  <a:pt x="136" y="123"/>
                  <a:pt x="136" y="123"/>
                </a:cubicBezTo>
                <a:cubicBezTo>
                  <a:pt x="136" y="123"/>
                  <a:pt x="136" y="123"/>
                  <a:pt x="136" y="123"/>
                </a:cubicBezTo>
                <a:cubicBezTo>
                  <a:pt x="135" y="123"/>
                  <a:pt x="135" y="123"/>
                  <a:pt x="135" y="123"/>
                </a:cubicBezTo>
                <a:cubicBezTo>
                  <a:pt x="134" y="122"/>
                  <a:pt x="134" y="122"/>
                  <a:pt x="134" y="122"/>
                </a:cubicBezTo>
                <a:cubicBezTo>
                  <a:pt x="133" y="122"/>
                  <a:pt x="133" y="122"/>
                  <a:pt x="133" y="122"/>
                </a:cubicBezTo>
                <a:cubicBezTo>
                  <a:pt x="133" y="122"/>
                  <a:pt x="133" y="122"/>
                  <a:pt x="133" y="122"/>
                </a:cubicBezTo>
                <a:cubicBezTo>
                  <a:pt x="133" y="122"/>
                  <a:pt x="133" y="122"/>
                  <a:pt x="133" y="122"/>
                </a:cubicBezTo>
                <a:cubicBezTo>
                  <a:pt x="133" y="122"/>
                  <a:pt x="133" y="122"/>
                  <a:pt x="133" y="122"/>
                </a:cubicBezTo>
                <a:cubicBezTo>
                  <a:pt x="132" y="122"/>
                  <a:pt x="132" y="122"/>
                  <a:pt x="132" y="122"/>
                </a:cubicBezTo>
                <a:cubicBezTo>
                  <a:pt x="131" y="122"/>
                  <a:pt x="131" y="122"/>
                  <a:pt x="131" y="122"/>
                </a:cubicBezTo>
                <a:cubicBezTo>
                  <a:pt x="130" y="122"/>
                  <a:pt x="130" y="122"/>
                  <a:pt x="130" y="122"/>
                </a:cubicBezTo>
                <a:cubicBezTo>
                  <a:pt x="129" y="122"/>
                  <a:pt x="129" y="122"/>
                  <a:pt x="129" y="122"/>
                </a:cubicBezTo>
                <a:cubicBezTo>
                  <a:pt x="129" y="122"/>
                  <a:pt x="129" y="122"/>
                  <a:pt x="129" y="122"/>
                </a:cubicBezTo>
                <a:cubicBezTo>
                  <a:pt x="129" y="122"/>
                  <a:pt x="129" y="122"/>
                  <a:pt x="129" y="122"/>
                </a:cubicBezTo>
                <a:cubicBezTo>
                  <a:pt x="128" y="103"/>
                  <a:pt x="127" y="84"/>
                  <a:pt x="125" y="65"/>
                </a:cubicBezTo>
                <a:cubicBezTo>
                  <a:pt x="125" y="64"/>
                  <a:pt x="125" y="64"/>
                  <a:pt x="125" y="63"/>
                </a:cubicBezTo>
                <a:cubicBezTo>
                  <a:pt x="125" y="62"/>
                  <a:pt x="124" y="61"/>
                  <a:pt x="124" y="61"/>
                </a:cubicBezTo>
                <a:cubicBezTo>
                  <a:pt x="123" y="60"/>
                  <a:pt x="123" y="59"/>
                  <a:pt x="122" y="58"/>
                </a:cubicBezTo>
                <a:cubicBezTo>
                  <a:pt x="121" y="58"/>
                  <a:pt x="121" y="57"/>
                  <a:pt x="120" y="56"/>
                </a:cubicBezTo>
                <a:cubicBezTo>
                  <a:pt x="119" y="56"/>
                  <a:pt x="119" y="56"/>
                  <a:pt x="119" y="56"/>
                </a:cubicBezTo>
                <a:cubicBezTo>
                  <a:pt x="118" y="55"/>
                  <a:pt x="118" y="55"/>
                  <a:pt x="118" y="55"/>
                </a:cubicBezTo>
                <a:cubicBezTo>
                  <a:pt x="118" y="55"/>
                  <a:pt x="118" y="55"/>
                  <a:pt x="118" y="55"/>
                </a:cubicBezTo>
                <a:cubicBezTo>
                  <a:pt x="118" y="55"/>
                  <a:pt x="118" y="55"/>
                  <a:pt x="118" y="55"/>
                </a:cubicBezTo>
                <a:cubicBezTo>
                  <a:pt x="118" y="55"/>
                  <a:pt x="117" y="55"/>
                  <a:pt x="117" y="55"/>
                </a:cubicBezTo>
                <a:cubicBezTo>
                  <a:pt x="117" y="55"/>
                  <a:pt x="116" y="55"/>
                  <a:pt x="116" y="55"/>
                </a:cubicBezTo>
                <a:cubicBezTo>
                  <a:pt x="116" y="55"/>
                  <a:pt x="116" y="55"/>
                  <a:pt x="116" y="55"/>
                </a:cubicBezTo>
                <a:cubicBezTo>
                  <a:pt x="115" y="54"/>
                  <a:pt x="115" y="54"/>
                  <a:pt x="115" y="54"/>
                </a:cubicBezTo>
                <a:cubicBezTo>
                  <a:pt x="115" y="54"/>
                  <a:pt x="115" y="54"/>
                  <a:pt x="115" y="54"/>
                </a:cubicBezTo>
                <a:cubicBezTo>
                  <a:pt x="114" y="54"/>
                  <a:pt x="114" y="54"/>
                  <a:pt x="114" y="54"/>
                </a:cubicBezTo>
                <a:cubicBezTo>
                  <a:pt x="114" y="54"/>
                  <a:pt x="114" y="54"/>
                  <a:pt x="114" y="54"/>
                </a:cubicBezTo>
                <a:cubicBezTo>
                  <a:pt x="114" y="54"/>
                  <a:pt x="114" y="54"/>
                  <a:pt x="114" y="54"/>
                </a:cubicBezTo>
                <a:cubicBezTo>
                  <a:pt x="113" y="54"/>
                  <a:pt x="113" y="54"/>
                  <a:pt x="113" y="54"/>
                </a:cubicBezTo>
                <a:cubicBezTo>
                  <a:pt x="113" y="54"/>
                  <a:pt x="113" y="54"/>
                  <a:pt x="113" y="54"/>
                </a:cubicBezTo>
                <a:cubicBezTo>
                  <a:pt x="112" y="54"/>
                  <a:pt x="112" y="54"/>
                  <a:pt x="112" y="54"/>
                </a:cubicBezTo>
                <a:cubicBezTo>
                  <a:pt x="112" y="54"/>
                  <a:pt x="112" y="54"/>
                  <a:pt x="112" y="54"/>
                </a:cubicBezTo>
                <a:cubicBezTo>
                  <a:pt x="112" y="54"/>
                  <a:pt x="112" y="54"/>
                  <a:pt x="112" y="54"/>
                </a:cubicBezTo>
                <a:cubicBezTo>
                  <a:pt x="111" y="54"/>
                  <a:pt x="111" y="54"/>
                  <a:pt x="111" y="54"/>
                </a:cubicBezTo>
                <a:cubicBezTo>
                  <a:pt x="111" y="54"/>
                  <a:pt x="111" y="54"/>
                  <a:pt x="111" y="54"/>
                </a:cubicBezTo>
                <a:cubicBezTo>
                  <a:pt x="110" y="54"/>
                  <a:pt x="110" y="54"/>
                  <a:pt x="110" y="54"/>
                </a:cubicBezTo>
                <a:cubicBezTo>
                  <a:pt x="110" y="54"/>
                  <a:pt x="110" y="54"/>
                  <a:pt x="110" y="54"/>
                </a:cubicBezTo>
                <a:cubicBezTo>
                  <a:pt x="110" y="53"/>
                  <a:pt x="110" y="53"/>
                  <a:pt x="110" y="53"/>
                </a:cubicBezTo>
                <a:cubicBezTo>
                  <a:pt x="109" y="53"/>
                  <a:pt x="109" y="53"/>
                  <a:pt x="109" y="53"/>
                </a:cubicBezTo>
                <a:cubicBezTo>
                  <a:pt x="109" y="53"/>
                  <a:pt x="109" y="53"/>
                  <a:pt x="109" y="53"/>
                </a:cubicBezTo>
                <a:cubicBezTo>
                  <a:pt x="109" y="53"/>
                  <a:pt x="109" y="53"/>
                  <a:pt x="109" y="53"/>
                </a:cubicBezTo>
                <a:cubicBezTo>
                  <a:pt x="109" y="53"/>
                  <a:pt x="109" y="53"/>
                  <a:pt x="109" y="53"/>
                </a:cubicBezTo>
                <a:cubicBezTo>
                  <a:pt x="108" y="53"/>
                  <a:pt x="108" y="53"/>
                  <a:pt x="108" y="53"/>
                </a:cubicBezTo>
                <a:cubicBezTo>
                  <a:pt x="108" y="53"/>
                  <a:pt x="108" y="53"/>
                  <a:pt x="108" y="53"/>
                </a:cubicBezTo>
                <a:cubicBezTo>
                  <a:pt x="107" y="53"/>
                  <a:pt x="107" y="53"/>
                  <a:pt x="107" y="53"/>
                </a:cubicBezTo>
                <a:cubicBezTo>
                  <a:pt x="107" y="53"/>
                  <a:pt x="107" y="53"/>
                  <a:pt x="107" y="53"/>
                </a:cubicBezTo>
                <a:cubicBezTo>
                  <a:pt x="106" y="53"/>
                  <a:pt x="106" y="53"/>
                  <a:pt x="106" y="53"/>
                </a:cubicBezTo>
                <a:cubicBezTo>
                  <a:pt x="106" y="53"/>
                  <a:pt x="106" y="53"/>
                  <a:pt x="106" y="53"/>
                </a:cubicBezTo>
                <a:cubicBezTo>
                  <a:pt x="105" y="53"/>
                  <a:pt x="105" y="53"/>
                  <a:pt x="105" y="53"/>
                </a:cubicBezTo>
                <a:cubicBezTo>
                  <a:pt x="105" y="53"/>
                  <a:pt x="105" y="53"/>
                  <a:pt x="105" y="53"/>
                </a:cubicBezTo>
                <a:cubicBezTo>
                  <a:pt x="104" y="53"/>
                  <a:pt x="104" y="53"/>
                  <a:pt x="104" y="53"/>
                </a:cubicBezTo>
                <a:cubicBezTo>
                  <a:pt x="103" y="53"/>
                  <a:pt x="103" y="53"/>
                  <a:pt x="103" y="53"/>
                </a:cubicBezTo>
                <a:cubicBezTo>
                  <a:pt x="103" y="53"/>
                  <a:pt x="103" y="53"/>
                  <a:pt x="103" y="53"/>
                </a:cubicBezTo>
                <a:cubicBezTo>
                  <a:pt x="102" y="53"/>
                  <a:pt x="102" y="53"/>
                  <a:pt x="102" y="53"/>
                </a:cubicBezTo>
                <a:cubicBezTo>
                  <a:pt x="102" y="53"/>
                  <a:pt x="102" y="53"/>
                  <a:pt x="102" y="53"/>
                </a:cubicBezTo>
                <a:cubicBezTo>
                  <a:pt x="101" y="53"/>
                  <a:pt x="101" y="53"/>
                  <a:pt x="101" y="53"/>
                </a:cubicBezTo>
                <a:cubicBezTo>
                  <a:pt x="100" y="53"/>
                  <a:pt x="100" y="53"/>
                  <a:pt x="100" y="53"/>
                </a:cubicBezTo>
                <a:cubicBezTo>
                  <a:pt x="99" y="53"/>
                  <a:pt x="99" y="53"/>
                  <a:pt x="99" y="53"/>
                </a:cubicBezTo>
                <a:cubicBezTo>
                  <a:pt x="99" y="53"/>
                  <a:pt x="99" y="53"/>
                  <a:pt x="99" y="53"/>
                </a:cubicBezTo>
                <a:cubicBezTo>
                  <a:pt x="98" y="53"/>
                  <a:pt x="98" y="53"/>
                  <a:pt x="98" y="53"/>
                </a:cubicBezTo>
                <a:cubicBezTo>
                  <a:pt x="97" y="53"/>
                  <a:pt x="97" y="53"/>
                  <a:pt x="97" y="53"/>
                </a:cubicBezTo>
                <a:cubicBezTo>
                  <a:pt x="96" y="53"/>
                  <a:pt x="96" y="53"/>
                  <a:pt x="96" y="53"/>
                </a:cubicBezTo>
                <a:cubicBezTo>
                  <a:pt x="95" y="53"/>
                  <a:pt x="95" y="53"/>
                  <a:pt x="95" y="53"/>
                </a:cubicBezTo>
                <a:cubicBezTo>
                  <a:pt x="95" y="53"/>
                  <a:pt x="95" y="53"/>
                  <a:pt x="95" y="53"/>
                </a:cubicBezTo>
                <a:cubicBezTo>
                  <a:pt x="95" y="53"/>
                  <a:pt x="95" y="53"/>
                  <a:pt x="95" y="53"/>
                </a:cubicBezTo>
                <a:cubicBezTo>
                  <a:pt x="94" y="53"/>
                  <a:pt x="94" y="53"/>
                  <a:pt x="94" y="53"/>
                </a:cubicBezTo>
                <a:cubicBezTo>
                  <a:pt x="93" y="53"/>
                  <a:pt x="93" y="53"/>
                  <a:pt x="93" y="53"/>
                </a:cubicBezTo>
                <a:cubicBezTo>
                  <a:pt x="92" y="53"/>
                  <a:pt x="92" y="53"/>
                  <a:pt x="92" y="53"/>
                </a:cubicBezTo>
                <a:cubicBezTo>
                  <a:pt x="91" y="53"/>
                  <a:pt x="91" y="53"/>
                  <a:pt x="91" y="53"/>
                </a:cubicBezTo>
                <a:cubicBezTo>
                  <a:pt x="91" y="53"/>
                  <a:pt x="91" y="53"/>
                  <a:pt x="91" y="53"/>
                </a:cubicBezTo>
                <a:cubicBezTo>
                  <a:pt x="90" y="53"/>
                  <a:pt x="90" y="53"/>
                  <a:pt x="90" y="53"/>
                </a:cubicBezTo>
                <a:cubicBezTo>
                  <a:pt x="89" y="53"/>
                  <a:pt x="89" y="53"/>
                  <a:pt x="89" y="53"/>
                </a:cubicBezTo>
                <a:cubicBezTo>
                  <a:pt x="89" y="53"/>
                  <a:pt x="89" y="53"/>
                  <a:pt x="89" y="53"/>
                </a:cubicBezTo>
                <a:cubicBezTo>
                  <a:pt x="88" y="53"/>
                  <a:pt x="88" y="53"/>
                  <a:pt x="88" y="53"/>
                </a:cubicBezTo>
                <a:cubicBezTo>
                  <a:pt x="87" y="53"/>
                  <a:pt x="87" y="53"/>
                  <a:pt x="87" y="53"/>
                </a:cubicBezTo>
                <a:cubicBezTo>
                  <a:pt x="87" y="53"/>
                  <a:pt x="86" y="53"/>
                  <a:pt x="86" y="53"/>
                </a:cubicBezTo>
                <a:cubicBezTo>
                  <a:pt x="85" y="53"/>
                  <a:pt x="84" y="53"/>
                  <a:pt x="84" y="53"/>
                </a:cubicBezTo>
                <a:cubicBezTo>
                  <a:pt x="83" y="53"/>
                  <a:pt x="82" y="53"/>
                  <a:pt x="82" y="53"/>
                </a:cubicBezTo>
                <a:cubicBezTo>
                  <a:pt x="81" y="53"/>
                  <a:pt x="81" y="53"/>
                  <a:pt x="81" y="53"/>
                </a:cubicBezTo>
                <a:cubicBezTo>
                  <a:pt x="81" y="53"/>
                  <a:pt x="81" y="53"/>
                  <a:pt x="81" y="53"/>
                </a:cubicBezTo>
                <a:cubicBezTo>
                  <a:pt x="81" y="53"/>
                  <a:pt x="81" y="53"/>
                  <a:pt x="81" y="53"/>
                </a:cubicBezTo>
                <a:cubicBezTo>
                  <a:pt x="80" y="53"/>
                  <a:pt x="80" y="53"/>
                  <a:pt x="80" y="53"/>
                </a:cubicBezTo>
                <a:cubicBezTo>
                  <a:pt x="79" y="53"/>
                  <a:pt x="78" y="53"/>
                  <a:pt x="76" y="53"/>
                </a:cubicBezTo>
                <a:cubicBezTo>
                  <a:pt x="75" y="53"/>
                  <a:pt x="74" y="53"/>
                  <a:pt x="73" y="53"/>
                </a:cubicBezTo>
                <a:cubicBezTo>
                  <a:pt x="73" y="53"/>
                  <a:pt x="73" y="53"/>
                  <a:pt x="73" y="53"/>
                </a:cubicBezTo>
                <a:cubicBezTo>
                  <a:pt x="73" y="53"/>
                  <a:pt x="73" y="53"/>
                  <a:pt x="73" y="53"/>
                </a:cubicBezTo>
                <a:cubicBezTo>
                  <a:pt x="72" y="54"/>
                  <a:pt x="72" y="54"/>
                  <a:pt x="72" y="54"/>
                </a:cubicBezTo>
                <a:cubicBezTo>
                  <a:pt x="71" y="54"/>
                  <a:pt x="70" y="54"/>
                  <a:pt x="69" y="54"/>
                </a:cubicBezTo>
                <a:cubicBezTo>
                  <a:pt x="68" y="54"/>
                  <a:pt x="67" y="54"/>
                  <a:pt x="66" y="54"/>
                </a:cubicBezTo>
                <a:cubicBezTo>
                  <a:pt x="65" y="54"/>
                  <a:pt x="65" y="54"/>
                  <a:pt x="65" y="54"/>
                </a:cubicBezTo>
                <a:cubicBezTo>
                  <a:pt x="65" y="54"/>
                  <a:pt x="65" y="54"/>
                  <a:pt x="65" y="54"/>
                </a:cubicBezTo>
                <a:cubicBezTo>
                  <a:pt x="64" y="54"/>
                  <a:pt x="64" y="54"/>
                  <a:pt x="64" y="54"/>
                </a:cubicBezTo>
                <a:cubicBezTo>
                  <a:pt x="63" y="54"/>
                  <a:pt x="62" y="54"/>
                  <a:pt x="62" y="54"/>
                </a:cubicBezTo>
                <a:cubicBezTo>
                  <a:pt x="61" y="54"/>
                  <a:pt x="61" y="54"/>
                  <a:pt x="61" y="54"/>
                </a:cubicBezTo>
                <a:cubicBezTo>
                  <a:pt x="60" y="54"/>
                  <a:pt x="59" y="54"/>
                  <a:pt x="58" y="54"/>
                </a:cubicBezTo>
                <a:cubicBezTo>
                  <a:pt x="57" y="54"/>
                  <a:pt x="56" y="54"/>
                  <a:pt x="55" y="54"/>
                </a:cubicBezTo>
                <a:cubicBezTo>
                  <a:pt x="55" y="54"/>
                  <a:pt x="55" y="54"/>
                  <a:pt x="55" y="54"/>
                </a:cubicBezTo>
                <a:cubicBezTo>
                  <a:pt x="54" y="55"/>
                  <a:pt x="53" y="55"/>
                  <a:pt x="52" y="55"/>
                </a:cubicBezTo>
                <a:cubicBezTo>
                  <a:pt x="51" y="55"/>
                  <a:pt x="50" y="55"/>
                  <a:pt x="49" y="55"/>
                </a:cubicBezTo>
                <a:cubicBezTo>
                  <a:pt x="48" y="55"/>
                  <a:pt x="47" y="55"/>
                  <a:pt x="46" y="55"/>
                </a:cubicBezTo>
                <a:cubicBezTo>
                  <a:pt x="43" y="55"/>
                  <a:pt x="40" y="55"/>
                  <a:pt x="38" y="55"/>
                </a:cubicBezTo>
                <a:cubicBezTo>
                  <a:pt x="38" y="55"/>
                  <a:pt x="38" y="55"/>
                  <a:pt x="38" y="55"/>
                </a:cubicBezTo>
                <a:cubicBezTo>
                  <a:pt x="36" y="55"/>
                  <a:pt x="35" y="55"/>
                  <a:pt x="34" y="54"/>
                </a:cubicBezTo>
                <a:cubicBezTo>
                  <a:pt x="34" y="54"/>
                  <a:pt x="34" y="54"/>
                  <a:pt x="34" y="54"/>
                </a:cubicBezTo>
                <a:cubicBezTo>
                  <a:pt x="33" y="54"/>
                  <a:pt x="32" y="54"/>
                  <a:pt x="31" y="54"/>
                </a:cubicBezTo>
                <a:cubicBezTo>
                  <a:pt x="31" y="54"/>
                  <a:pt x="31" y="54"/>
                  <a:pt x="31" y="54"/>
                </a:cubicBezTo>
                <a:cubicBezTo>
                  <a:pt x="30" y="54"/>
                  <a:pt x="29" y="54"/>
                  <a:pt x="28" y="54"/>
                </a:cubicBezTo>
                <a:cubicBezTo>
                  <a:pt x="28" y="54"/>
                  <a:pt x="28" y="54"/>
                  <a:pt x="28" y="54"/>
                </a:cubicBezTo>
                <a:cubicBezTo>
                  <a:pt x="27" y="53"/>
                  <a:pt x="26" y="53"/>
                  <a:pt x="26" y="53"/>
                </a:cubicBezTo>
                <a:cubicBezTo>
                  <a:pt x="25" y="53"/>
                  <a:pt x="25" y="53"/>
                  <a:pt x="25" y="53"/>
                </a:cubicBezTo>
                <a:cubicBezTo>
                  <a:pt x="25" y="53"/>
                  <a:pt x="24" y="52"/>
                  <a:pt x="24" y="52"/>
                </a:cubicBezTo>
                <a:cubicBezTo>
                  <a:pt x="23" y="52"/>
                  <a:pt x="23" y="52"/>
                  <a:pt x="23" y="52"/>
                </a:cubicBezTo>
                <a:cubicBezTo>
                  <a:pt x="23" y="52"/>
                  <a:pt x="22" y="51"/>
                  <a:pt x="22" y="51"/>
                </a:cubicBezTo>
                <a:cubicBezTo>
                  <a:pt x="22" y="51"/>
                  <a:pt x="22" y="51"/>
                  <a:pt x="22" y="51"/>
                </a:cubicBezTo>
                <a:cubicBezTo>
                  <a:pt x="22" y="51"/>
                  <a:pt x="22" y="51"/>
                  <a:pt x="22" y="51"/>
                </a:cubicBezTo>
                <a:cubicBezTo>
                  <a:pt x="22" y="50"/>
                  <a:pt x="22" y="50"/>
                  <a:pt x="22" y="50"/>
                </a:cubicBezTo>
                <a:cubicBezTo>
                  <a:pt x="22" y="50"/>
                  <a:pt x="22" y="50"/>
                  <a:pt x="22" y="50"/>
                </a:cubicBezTo>
                <a:cubicBezTo>
                  <a:pt x="23" y="75"/>
                  <a:pt x="25" y="99"/>
                  <a:pt x="27" y="124"/>
                </a:cubicBezTo>
                <a:cubicBezTo>
                  <a:pt x="26" y="124"/>
                  <a:pt x="26" y="124"/>
                  <a:pt x="26" y="124"/>
                </a:cubicBezTo>
                <a:cubicBezTo>
                  <a:pt x="26" y="124"/>
                  <a:pt x="26" y="124"/>
                  <a:pt x="26" y="124"/>
                </a:cubicBezTo>
                <a:cubicBezTo>
                  <a:pt x="24" y="124"/>
                  <a:pt x="21" y="124"/>
                  <a:pt x="19" y="124"/>
                </a:cubicBezTo>
                <a:cubicBezTo>
                  <a:pt x="19" y="124"/>
                  <a:pt x="19" y="124"/>
                  <a:pt x="19" y="124"/>
                </a:cubicBezTo>
                <a:cubicBezTo>
                  <a:pt x="18" y="124"/>
                  <a:pt x="17" y="123"/>
                  <a:pt x="16" y="123"/>
                </a:cubicBezTo>
                <a:cubicBezTo>
                  <a:pt x="16" y="123"/>
                  <a:pt x="16" y="123"/>
                  <a:pt x="16" y="123"/>
                </a:cubicBezTo>
                <a:cubicBezTo>
                  <a:pt x="15" y="123"/>
                  <a:pt x="15" y="123"/>
                  <a:pt x="14" y="123"/>
                </a:cubicBezTo>
                <a:cubicBezTo>
                  <a:pt x="14" y="123"/>
                  <a:pt x="14" y="123"/>
                  <a:pt x="14" y="123"/>
                </a:cubicBezTo>
                <a:cubicBezTo>
                  <a:pt x="13" y="123"/>
                  <a:pt x="12" y="123"/>
                  <a:pt x="12" y="123"/>
                </a:cubicBezTo>
                <a:cubicBezTo>
                  <a:pt x="12" y="123"/>
                  <a:pt x="12" y="123"/>
                  <a:pt x="12" y="123"/>
                </a:cubicBezTo>
                <a:cubicBezTo>
                  <a:pt x="11" y="123"/>
                  <a:pt x="10" y="123"/>
                  <a:pt x="10" y="123"/>
                </a:cubicBezTo>
                <a:cubicBezTo>
                  <a:pt x="10" y="123"/>
                  <a:pt x="10" y="123"/>
                  <a:pt x="10" y="123"/>
                </a:cubicBezTo>
                <a:cubicBezTo>
                  <a:pt x="9" y="123"/>
                  <a:pt x="9" y="123"/>
                  <a:pt x="8" y="122"/>
                </a:cubicBezTo>
                <a:cubicBezTo>
                  <a:pt x="8" y="122"/>
                  <a:pt x="8" y="122"/>
                  <a:pt x="8" y="122"/>
                </a:cubicBezTo>
                <a:cubicBezTo>
                  <a:pt x="8" y="122"/>
                  <a:pt x="8" y="122"/>
                  <a:pt x="7" y="122"/>
                </a:cubicBezTo>
                <a:cubicBezTo>
                  <a:pt x="7" y="122"/>
                  <a:pt x="7" y="122"/>
                  <a:pt x="7" y="122"/>
                </a:cubicBezTo>
                <a:cubicBezTo>
                  <a:pt x="7" y="122"/>
                  <a:pt x="7" y="122"/>
                  <a:pt x="7" y="122"/>
                </a:cubicBezTo>
                <a:cubicBezTo>
                  <a:pt x="7" y="122"/>
                  <a:pt x="6" y="122"/>
                  <a:pt x="6" y="122"/>
                </a:cubicBezTo>
                <a:cubicBezTo>
                  <a:pt x="6" y="122"/>
                  <a:pt x="6" y="122"/>
                  <a:pt x="6" y="122"/>
                </a:cubicBezTo>
                <a:cubicBezTo>
                  <a:pt x="5" y="121"/>
                  <a:pt x="5" y="121"/>
                  <a:pt x="5" y="121"/>
                </a:cubicBezTo>
                <a:cubicBezTo>
                  <a:pt x="5" y="121"/>
                  <a:pt x="5" y="121"/>
                  <a:pt x="5" y="121"/>
                </a:cubicBezTo>
                <a:cubicBezTo>
                  <a:pt x="5" y="121"/>
                  <a:pt x="5" y="121"/>
                  <a:pt x="5" y="121"/>
                </a:cubicBezTo>
                <a:cubicBezTo>
                  <a:pt x="5" y="121"/>
                  <a:pt x="5" y="121"/>
                  <a:pt x="5" y="121"/>
                </a:cubicBezTo>
                <a:cubicBezTo>
                  <a:pt x="5" y="120"/>
                  <a:pt x="5" y="120"/>
                  <a:pt x="5" y="120"/>
                </a:cubicBezTo>
                <a:cubicBezTo>
                  <a:pt x="5" y="120"/>
                  <a:pt x="4" y="120"/>
                  <a:pt x="4" y="119"/>
                </a:cubicBezTo>
                <a:cubicBezTo>
                  <a:pt x="4" y="119"/>
                  <a:pt x="3" y="118"/>
                  <a:pt x="3" y="116"/>
                </a:cubicBezTo>
                <a:cubicBezTo>
                  <a:pt x="2" y="115"/>
                  <a:pt x="2" y="114"/>
                  <a:pt x="1" y="112"/>
                </a:cubicBezTo>
                <a:cubicBezTo>
                  <a:pt x="1" y="110"/>
                  <a:pt x="0" y="109"/>
                  <a:pt x="0" y="106"/>
                </a:cubicBezTo>
                <a:cubicBezTo>
                  <a:pt x="3" y="145"/>
                  <a:pt x="6" y="184"/>
                  <a:pt x="9" y="223"/>
                </a:cubicBezTo>
                <a:cubicBezTo>
                  <a:pt x="9" y="225"/>
                  <a:pt x="10" y="227"/>
                  <a:pt x="10" y="229"/>
                </a:cubicBezTo>
                <a:close/>
              </a:path>
            </a:pathLst>
          </a:custGeom>
          <a:gradFill rotWithShape="0">
            <a:gsLst>
              <a:gs pos="0">
                <a:srgbClr val="292929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Freeform 7"/>
          <p:cNvSpPr/>
          <p:nvPr/>
        </p:nvSpPr>
        <p:spPr>
          <a:xfrm flipH="1">
            <a:off x="6375240" y="2552760"/>
            <a:ext cx="1067040" cy="628560"/>
          </a:xfrm>
          <a:custGeom>
            <a:avLst/>
            <a:gdLst/>
            <a:ahLst/>
            <a:rect l="l" t="t" r="r" b="b"/>
            <a:pathLst>
              <a:path w="721" h="424">
                <a:moveTo>
                  <a:pt x="654" y="368"/>
                </a:moveTo>
                <a:cubicBezTo>
                  <a:pt x="655" y="368"/>
                  <a:pt x="655" y="368"/>
                  <a:pt x="655" y="368"/>
                </a:cubicBezTo>
                <a:cubicBezTo>
                  <a:pt x="655" y="368"/>
                  <a:pt x="656" y="368"/>
                  <a:pt x="656" y="368"/>
                </a:cubicBezTo>
                <a:cubicBezTo>
                  <a:pt x="656" y="368"/>
                  <a:pt x="657" y="368"/>
                  <a:pt x="657" y="368"/>
                </a:cubicBezTo>
                <a:cubicBezTo>
                  <a:pt x="658" y="368"/>
                  <a:pt x="658" y="368"/>
                  <a:pt x="658" y="367"/>
                </a:cubicBezTo>
                <a:cubicBezTo>
                  <a:pt x="659" y="367"/>
                  <a:pt x="659" y="367"/>
                  <a:pt x="660" y="367"/>
                </a:cubicBezTo>
                <a:cubicBezTo>
                  <a:pt x="660" y="367"/>
                  <a:pt x="660" y="367"/>
                  <a:pt x="661" y="367"/>
                </a:cubicBezTo>
                <a:cubicBezTo>
                  <a:pt x="661" y="367"/>
                  <a:pt x="661" y="367"/>
                  <a:pt x="662" y="367"/>
                </a:cubicBezTo>
                <a:cubicBezTo>
                  <a:pt x="663" y="366"/>
                  <a:pt x="663" y="366"/>
                  <a:pt x="663" y="366"/>
                </a:cubicBezTo>
                <a:cubicBezTo>
                  <a:pt x="663" y="366"/>
                  <a:pt x="663" y="366"/>
                  <a:pt x="663" y="366"/>
                </a:cubicBezTo>
                <a:cubicBezTo>
                  <a:pt x="663" y="366"/>
                  <a:pt x="663" y="366"/>
                  <a:pt x="663" y="366"/>
                </a:cubicBezTo>
                <a:cubicBezTo>
                  <a:pt x="664" y="366"/>
                  <a:pt x="664" y="366"/>
                  <a:pt x="664" y="366"/>
                </a:cubicBezTo>
                <a:cubicBezTo>
                  <a:pt x="665" y="366"/>
                  <a:pt x="665" y="366"/>
                  <a:pt x="665" y="366"/>
                </a:cubicBezTo>
                <a:cubicBezTo>
                  <a:pt x="666" y="365"/>
                  <a:pt x="666" y="365"/>
                  <a:pt x="666" y="365"/>
                </a:cubicBezTo>
                <a:cubicBezTo>
                  <a:pt x="666" y="365"/>
                  <a:pt x="666" y="365"/>
                  <a:pt x="666" y="365"/>
                </a:cubicBezTo>
                <a:cubicBezTo>
                  <a:pt x="666" y="365"/>
                  <a:pt x="666" y="365"/>
                  <a:pt x="666" y="365"/>
                </a:cubicBezTo>
                <a:cubicBezTo>
                  <a:pt x="666" y="365"/>
                  <a:pt x="666" y="365"/>
                  <a:pt x="666" y="365"/>
                </a:cubicBezTo>
                <a:cubicBezTo>
                  <a:pt x="667" y="365"/>
                  <a:pt x="667" y="365"/>
                  <a:pt x="667" y="365"/>
                </a:cubicBezTo>
                <a:cubicBezTo>
                  <a:pt x="668" y="365"/>
                  <a:pt x="668" y="365"/>
                  <a:pt x="668" y="365"/>
                </a:cubicBezTo>
                <a:cubicBezTo>
                  <a:pt x="668" y="364"/>
                  <a:pt x="668" y="364"/>
                  <a:pt x="668" y="364"/>
                </a:cubicBezTo>
                <a:cubicBezTo>
                  <a:pt x="669" y="364"/>
                  <a:pt x="669" y="364"/>
                  <a:pt x="669" y="364"/>
                </a:cubicBezTo>
                <a:cubicBezTo>
                  <a:pt x="669" y="364"/>
                  <a:pt x="669" y="364"/>
                  <a:pt x="669" y="364"/>
                </a:cubicBezTo>
                <a:cubicBezTo>
                  <a:pt x="669" y="364"/>
                  <a:pt x="669" y="364"/>
                  <a:pt x="669" y="364"/>
                </a:cubicBezTo>
                <a:cubicBezTo>
                  <a:pt x="670" y="364"/>
                  <a:pt x="670" y="364"/>
                  <a:pt x="670" y="364"/>
                </a:cubicBezTo>
                <a:cubicBezTo>
                  <a:pt x="670" y="364"/>
                  <a:pt x="670" y="364"/>
                  <a:pt x="670" y="364"/>
                </a:cubicBezTo>
                <a:cubicBezTo>
                  <a:pt x="671" y="363"/>
                  <a:pt x="671" y="363"/>
                  <a:pt x="671" y="363"/>
                </a:cubicBezTo>
                <a:cubicBezTo>
                  <a:pt x="671" y="363"/>
                  <a:pt x="671" y="363"/>
                  <a:pt x="671" y="363"/>
                </a:cubicBezTo>
                <a:cubicBezTo>
                  <a:pt x="672" y="363"/>
                  <a:pt x="672" y="363"/>
                  <a:pt x="672" y="363"/>
                </a:cubicBezTo>
                <a:cubicBezTo>
                  <a:pt x="672" y="363"/>
                  <a:pt x="672" y="363"/>
                  <a:pt x="672" y="363"/>
                </a:cubicBezTo>
                <a:cubicBezTo>
                  <a:pt x="672" y="363"/>
                  <a:pt x="672" y="363"/>
                  <a:pt x="672" y="363"/>
                </a:cubicBezTo>
                <a:cubicBezTo>
                  <a:pt x="672" y="363"/>
                  <a:pt x="672" y="363"/>
                  <a:pt x="672" y="363"/>
                </a:cubicBezTo>
                <a:cubicBezTo>
                  <a:pt x="672" y="363"/>
                  <a:pt x="672" y="363"/>
                  <a:pt x="672" y="363"/>
                </a:cubicBezTo>
                <a:cubicBezTo>
                  <a:pt x="673" y="362"/>
                  <a:pt x="673" y="362"/>
                  <a:pt x="673" y="362"/>
                </a:cubicBezTo>
                <a:cubicBezTo>
                  <a:pt x="673" y="362"/>
                  <a:pt x="673" y="362"/>
                  <a:pt x="673" y="362"/>
                </a:cubicBezTo>
                <a:cubicBezTo>
                  <a:pt x="674" y="362"/>
                  <a:pt x="674" y="362"/>
                  <a:pt x="674" y="362"/>
                </a:cubicBezTo>
                <a:cubicBezTo>
                  <a:pt x="674" y="362"/>
                  <a:pt x="674" y="362"/>
                  <a:pt x="674" y="362"/>
                </a:cubicBezTo>
                <a:cubicBezTo>
                  <a:pt x="674" y="362"/>
                  <a:pt x="674" y="362"/>
                  <a:pt x="674" y="362"/>
                </a:cubicBezTo>
                <a:cubicBezTo>
                  <a:pt x="674" y="362"/>
                  <a:pt x="674" y="362"/>
                  <a:pt x="674" y="362"/>
                </a:cubicBezTo>
                <a:cubicBezTo>
                  <a:pt x="675" y="361"/>
                  <a:pt x="675" y="361"/>
                  <a:pt x="675" y="361"/>
                </a:cubicBezTo>
                <a:cubicBezTo>
                  <a:pt x="675" y="361"/>
                  <a:pt x="675" y="361"/>
                  <a:pt x="675" y="361"/>
                </a:cubicBezTo>
                <a:cubicBezTo>
                  <a:pt x="676" y="361"/>
                  <a:pt x="676" y="361"/>
                  <a:pt x="676" y="361"/>
                </a:cubicBezTo>
                <a:cubicBezTo>
                  <a:pt x="676" y="361"/>
                  <a:pt x="676" y="361"/>
                  <a:pt x="676" y="361"/>
                </a:cubicBezTo>
                <a:cubicBezTo>
                  <a:pt x="676" y="361"/>
                  <a:pt x="676" y="361"/>
                  <a:pt x="676" y="361"/>
                </a:cubicBezTo>
                <a:cubicBezTo>
                  <a:pt x="676" y="361"/>
                  <a:pt x="676" y="361"/>
                  <a:pt x="676" y="361"/>
                </a:cubicBezTo>
                <a:cubicBezTo>
                  <a:pt x="677" y="360"/>
                  <a:pt x="677" y="360"/>
                  <a:pt x="677" y="360"/>
                </a:cubicBezTo>
                <a:cubicBezTo>
                  <a:pt x="677" y="360"/>
                  <a:pt x="677" y="360"/>
                  <a:pt x="677" y="360"/>
                </a:cubicBezTo>
                <a:cubicBezTo>
                  <a:pt x="677" y="360"/>
                  <a:pt x="677" y="360"/>
                  <a:pt x="677" y="360"/>
                </a:cubicBezTo>
                <a:cubicBezTo>
                  <a:pt x="678" y="359"/>
                  <a:pt x="678" y="359"/>
                  <a:pt x="678" y="359"/>
                </a:cubicBezTo>
                <a:cubicBezTo>
                  <a:pt x="678" y="359"/>
                  <a:pt x="678" y="359"/>
                  <a:pt x="678" y="359"/>
                </a:cubicBezTo>
                <a:cubicBezTo>
                  <a:pt x="678" y="359"/>
                  <a:pt x="678" y="359"/>
                  <a:pt x="678" y="359"/>
                </a:cubicBezTo>
                <a:cubicBezTo>
                  <a:pt x="678" y="359"/>
                  <a:pt x="678" y="359"/>
                  <a:pt x="678" y="359"/>
                </a:cubicBezTo>
                <a:cubicBezTo>
                  <a:pt x="679" y="359"/>
                  <a:pt x="679" y="359"/>
                  <a:pt x="679" y="359"/>
                </a:cubicBezTo>
                <a:cubicBezTo>
                  <a:pt x="679" y="359"/>
                  <a:pt x="679" y="359"/>
                  <a:pt x="679" y="359"/>
                </a:cubicBezTo>
                <a:cubicBezTo>
                  <a:pt x="679" y="358"/>
                  <a:pt x="679" y="358"/>
                  <a:pt x="679" y="358"/>
                </a:cubicBezTo>
                <a:cubicBezTo>
                  <a:pt x="680" y="358"/>
                  <a:pt x="680" y="358"/>
                  <a:pt x="680" y="358"/>
                </a:cubicBezTo>
                <a:cubicBezTo>
                  <a:pt x="680" y="358"/>
                  <a:pt x="680" y="358"/>
                  <a:pt x="680" y="358"/>
                </a:cubicBezTo>
                <a:cubicBezTo>
                  <a:pt x="680" y="358"/>
                  <a:pt x="680" y="358"/>
                  <a:pt x="680" y="358"/>
                </a:cubicBezTo>
                <a:cubicBezTo>
                  <a:pt x="680" y="358"/>
                  <a:pt x="680" y="358"/>
                  <a:pt x="680" y="358"/>
                </a:cubicBezTo>
                <a:cubicBezTo>
                  <a:pt x="680" y="358"/>
                  <a:pt x="680" y="358"/>
                  <a:pt x="680" y="358"/>
                </a:cubicBezTo>
                <a:cubicBezTo>
                  <a:pt x="681" y="357"/>
                  <a:pt x="681" y="357"/>
                  <a:pt x="681" y="357"/>
                </a:cubicBezTo>
                <a:cubicBezTo>
                  <a:pt x="681" y="357"/>
                  <a:pt x="681" y="357"/>
                  <a:pt x="681" y="357"/>
                </a:cubicBezTo>
                <a:cubicBezTo>
                  <a:pt x="681" y="357"/>
                  <a:pt x="681" y="357"/>
                  <a:pt x="681" y="357"/>
                </a:cubicBezTo>
                <a:cubicBezTo>
                  <a:pt x="681" y="357"/>
                  <a:pt x="681" y="357"/>
                  <a:pt x="681" y="357"/>
                </a:cubicBezTo>
                <a:cubicBezTo>
                  <a:pt x="681" y="357"/>
                  <a:pt x="681" y="357"/>
                  <a:pt x="681" y="357"/>
                </a:cubicBezTo>
                <a:cubicBezTo>
                  <a:pt x="682" y="356"/>
                  <a:pt x="682" y="356"/>
                  <a:pt x="682" y="356"/>
                </a:cubicBezTo>
                <a:cubicBezTo>
                  <a:pt x="682" y="356"/>
                  <a:pt x="682" y="356"/>
                  <a:pt x="682" y="356"/>
                </a:cubicBezTo>
                <a:cubicBezTo>
                  <a:pt x="682" y="355"/>
                  <a:pt x="682" y="355"/>
                  <a:pt x="682" y="355"/>
                </a:cubicBezTo>
                <a:cubicBezTo>
                  <a:pt x="682" y="355"/>
                  <a:pt x="682" y="355"/>
                  <a:pt x="682" y="355"/>
                </a:cubicBezTo>
                <a:cubicBezTo>
                  <a:pt x="682" y="355"/>
                  <a:pt x="682" y="355"/>
                  <a:pt x="682" y="355"/>
                </a:cubicBezTo>
                <a:cubicBezTo>
                  <a:pt x="683" y="355"/>
                  <a:pt x="683" y="355"/>
                  <a:pt x="683" y="355"/>
                </a:cubicBezTo>
                <a:cubicBezTo>
                  <a:pt x="683" y="355"/>
                  <a:pt x="683" y="355"/>
                  <a:pt x="683" y="355"/>
                </a:cubicBezTo>
                <a:cubicBezTo>
                  <a:pt x="683" y="354"/>
                  <a:pt x="683" y="354"/>
                  <a:pt x="683" y="354"/>
                </a:cubicBezTo>
                <a:cubicBezTo>
                  <a:pt x="683" y="354"/>
                  <a:pt x="683" y="354"/>
                  <a:pt x="683" y="354"/>
                </a:cubicBezTo>
                <a:cubicBezTo>
                  <a:pt x="684" y="353"/>
                  <a:pt x="684" y="353"/>
                  <a:pt x="684" y="353"/>
                </a:cubicBezTo>
                <a:cubicBezTo>
                  <a:pt x="684" y="353"/>
                  <a:pt x="684" y="353"/>
                  <a:pt x="684" y="353"/>
                </a:cubicBezTo>
                <a:cubicBezTo>
                  <a:pt x="684" y="353"/>
                  <a:pt x="684" y="353"/>
                  <a:pt x="684" y="353"/>
                </a:cubicBezTo>
                <a:cubicBezTo>
                  <a:pt x="684" y="353"/>
                  <a:pt x="684" y="353"/>
                  <a:pt x="684" y="353"/>
                </a:cubicBezTo>
                <a:cubicBezTo>
                  <a:pt x="684" y="352"/>
                  <a:pt x="684" y="352"/>
                  <a:pt x="684" y="352"/>
                </a:cubicBezTo>
                <a:cubicBezTo>
                  <a:pt x="684" y="352"/>
                  <a:pt x="684" y="352"/>
                  <a:pt x="684" y="352"/>
                </a:cubicBezTo>
                <a:cubicBezTo>
                  <a:pt x="685" y="351"/>
                  <a:pt x="685" y="351"/>
                  <a:pt x="685" y="351"/>
                </a:cubicBezTo>
                <a:cubicBezTo>
                  <a:pt x="685" y="351"/>
                  <a:pt x="685" y="351"/>
                  <a:pt x="685" y="351"/>
                </a:cubicBezTo>
                <a:cubicBezTo>
                  <a:pt x="685" y="350"/>
                  <a:pt x="685" y="350"/>
                  <a:pt x="685" y="350"/>
                </a:cubicBezTo>
                <a:cubicBezTo>
                  <a:pt x="685" y="350"/>
                  <a:pt x="685" y="350"/>
                  <a:pt x="685" y="350"/>
                </a:cubicBezTo>
                <a:cubicBezTo>
                  <a:pt x="685" y="349"/>
                  <a:pt x="685" y="349"/>
                  <a:pt x="685" y="349"/>
                </a:cubicBezTo>
                <a:cubicBezTo>
                  <a:pt x="685" y="348"/>
                  <a:pt x="685" y="348"/>
                  <a:pt x="685" y="348"/>
                </a:cubicBezTo>
                <a:cubicBezTo>
                  <a:pt x="685" y="348"/>
                  <a:pt x="685" y="348"/>
                  <a:pt x="685" y="348"/>
                </a:cubicBezTo>
                <a:cubicBezTo>
                  <a:pt x="685" y="348"/>
                  <a:pt x="685" y="348"/>
                  <a:pt x="685" y="348"/>
                </a:cubicBezTo>
                <a:cubicBezTo>
                  <a:pt x="685" y="348"/>
                  <a:pt x="685" y="348"/>
                  <a:pt x="685" y="348"/>
                </a:cubicBezTo>
                <a:cubicBezTo>
                  <a:pt x="685" y="348"/>
                  <a:pt x="685" y="348"/>
                  <a:pt x="685" y="348"/>
                </a:cubicBezTo>
                <a:cubicBezTo>
                  <a:pt x="685" y="348"/>
                  <a:pt x="685" y="348"/>
                  <a:pt x="685" y="348"/>
                </a:cubicBezTo>
                <a:cubicBezTo>
                  <a:pt x="683" y="321"/>
                  <a:pt x="683" y="321"/>
                  <a:pt x="683" y="321"/>
                </a:cubicBezTo>
                <a:cubicBezTo>
                  <a:pt x="674" y="228"/>
                  <a:pt x="674" y="228"/>
                  <a:pt x="674" y="228"/>
                </a:cubicBezTo>
                <a:cubicBezTo>
                  <a:pt x="675" y="230"/>
                  <a:pt x="674" y="232"/>
                  <a:pt x="673" y="233"/>
                </a:cubicBezTo>
                <a:cubicBezTo>
                  <a:pt x="673" y="233"/>
                  <a:pt x="673" y="233"/>
                  <a:pt x="673" y="233"/>
                </a:cubicBezTo>
                <a:cubicBezTo>
                  <a:pt x="673" y="234"/>
                  <a:pt x="673" y="234"/>
                  <a:pt x="673" y="234"/>
                </a:cubicBezTo>
                <a:cubicBezTo>
                  <a:pt x="673" y="234"/>
                  <a:pt x="673" y="234"/>
                  <a:pt x="673" y="234"/>
                </a:cubicBezTo>
                <a:cubicBezTo>
                  <a:pt x="672" y="235"/>
                  <a:pt x="672" y="235"/>
                  <a:pt x="672" y="236"/>
                </a:cubicBezTo>
                <a:cubicBezTo>
                  <a:pt x="672" y="236"/>
                  <a:pt x="672" y="236"/>
                  <a:pt x="672" y="236"/>
                </a:cubicBezTo>
                <a:cubicBezTo>
                  <a:pt x="671" y="236"/>
                  <a:pt x="671" y="237"/>
                  <a:pt x="670" y="237"/>
                </a:cubicBezTo>
                <a:cubicBezTo>
                  <a:pt x="670" y="237"/>
                  <a:pt x="670" y="237"/>
                  <a:pt x="670" y="237"/>
                </a:cubicBezTo>
                <a:cubicBezTo>
                  <a:pt x="670" y="237"/>
                  <a:pt x="669" y="238"/>
                  <a:pt x="669" y="238"/>
                </a:cubicBezTo>
                <a:cubicBezTo>
                  <a:pt x="669" y="238"/>
                  <a:pt x="669" y="238"/>
                  <a:pt x="669" y="238"/>
                </a:cubicBezTo>
                <a:cubicBezTo>
                  <a:pt x="668" y="239"/>
                  <a:pt x="668" y="239"/>
                  <a:pt x="667" y="239"/>
                </a:cubicBezTo>
                <a:cubicBezTo>
                  <a:pt x="667" y="239"/>
                  <a:pt x="667" y="239"/>
                  <a:pt x="667" y="239"/>
                </a:cubicBezTo>
                <a:cubicBezTo>
                  <a:pt x="667" y="240"/>
                  <a:pt x="666" y="240"/>
                  <a:pt x="665" y="240"/>
                </a:cubicBezTo>
                <a:cubicBezTo>
                  <a:pt x="665" y="240"/>
                  <a:pt x="665" y="240"/>
                  <a:pt x="665" y="240"/>
                </a:cubicBezTo>
                <a:cubicBezTo>
                  <a:pt x="665" y="241"/>
                  <a:pt x="664" y="241"/>
                  <a:pt x="663" y="242"/>
                </a:cubicBezTo>
                <a:cubicBezTo>
                  <a:pt x="663" y="242"/>
                  <a:pt x="663" y="242"/>
                  <a:pt x="663" y="242"/>
                </a:cubicBezTo>
                <a:cubicBezTo>
                  <a:pt x="662" y="242"/>
                  <a:pt x="662" y="242"/>
                  <a:pt x="661" y="243"/>
                </a:cubicBezTo>
                <a:cubicBezTo>
                  <a:pt x="659" y="243"/>
                  <a:pt x="657" y="244"/>
                  <a:pt x="655" y="245"/>
                </a:cubicBezTo>
                <a:cubicBezTo>
                  <a:pt x="655" y="245"/>
                  <a:pt x="655" y="245"/>
                  <a:pt x="655" y="245"/>
                </a:cubicBezTo>
                <a:cubicBezTo>
                  <a:pt x="654" y="245"/>
                  <a:pt x="653" y="245"/>
                  <a:pt x="652" y="246"/>
                </a:cubicBezTo>
                <a:cubicBezTo>
                  <a:pt x="652" y="246"/>
                  <a:pt x="652" y="246"/>
                  <a:pt x="652" y="246"/>
                </a:cubicBezTo>
                <a:cubicBezTo>
                  <a:pt x="651" y="246"/>
                  <a:pt x="650" y="246"/>
                  <a:pt x="649" y="246"/>
                </a:cubicBezTo>
                <a:cubicBezTo>
                  <a:pt x="647" y="247"/>
                  <a:pt x="645" y="247"/>
                  <a:pt x="643" y="248"/>
                </a:cubicBezTo>
                <a:cubicBezTo>
                  <a:pt x="642" y="248"/>
                  <a:pt x="640" y="248"/>
                  <a:pt x="639" y="249"/>
                </a:cubicBezTo>
                <a:cubicBezTo>
                  <a:pt x="638" y="249"/>
                  <a:pt x="637" y="249"/>
                  <a:pt x="636" y="249"/>
                </a:cubicBezTo>
                <a:cubicBezTo>
                  <a:pt x="634" y="250"/>
                  <a:pt x="632" y="250"/>
                  <a:pt x="630" y="250"/>
                </a:cubicBezTo>
                <a:cubicBezTo>
                  <a:pt x="630" y="250"/>
                  <a:pt x="630" y="250"/>
                  <a:pt x="630" y="250"/>
                </a:cubicBezTo>
                <a:cubicBezTo>
                  <a:pt x="628" y="251"/>
                  <a:pt x="626" y="251"/>
                  <a:pt x="625" y="251"/>
                </a:cubicBezTo>
                <a:cubicBezTo>
                  <a:pt x="621" y="252"/>
                  <a:pt x="618" y="252"/>
                  <a:pt x="614" y="253"/>
                </a:cubicBezTo>
                <a:cubicBezTo>
                  <a:pt x="614" y="253"/>
                  <a:pt x="614" y="253"/>
                  <a:pt x="614" y="253"/>
                </a:cubicBezTo>
                <a:cubicBezTo>
                  <a:pt x="611" y="253"/>
                  <a:pt x="607" y="253"/>
                  <a:pt x="604" y="253"/>
                </a:cubicBezTo>
                <a:cubicBezTo>
                  <a:pt x="602" y="253"/>
                  <a:pt x="600" y="253"/>
                  <a:pt x="599" y="253"/>
                </a:cubicBezTo>
                <a:cubicBezTo>
                  <a:pt x="598" y="253"/>
                  <a:pt x="597" y="253"/>
                  <a:pt x="596" y="253"/>
                </a:cubicBezTo>
                <a:cubicBezTo>
                  <a:pt x="594" y="239"/>
                  <a:pt x="593" y="225"/>
                  <a:pt x="592" y="211"/>
                </a:cubicBezTo>
                <a:cubicBezTo>
                  <a:pt x="600" y="211"/>
                  <a:pt x="608" y="211"/>
                  <a:pt x="616" y="211"/>
                </a:cubicBezTo>
                <a:cubicBezTo>
                  <a:pt x="651" y="210"/>
                  <a:pt x="676" y="210"/>
                  <a:pt x="680" y="210"/>
                </a:cubicBezTo>
                <a:cubicBezTo>
                  <a:pt x="680" y="210"/>
                  <a:pt x="681" y="210"/>
                  <a:pt x="681" y="210"/>
                </a:cubicBezTo>
                <a:cubicBezTo>
                  <a:pt x="682" y="210"/>
                  <a:pt x="682" y="210"/>
                  <a:pt x="682" y="210"/>
                </a:cubicBezTo>
                <a:cubicBezTo>
                  <a:pt x="683" y="210"/>
                  <a:pt x="683" y="210"/>
                  <a:pt x="683" y="210"/>
                </a:cubicBezTo>
                <a:cubicBezTo>
                  <a:pt x="684" y="210"/>
                  <a:pt x="684" y="210"/>
                  <a:pt x="684" y="210"/>
                </a:cubicBezTo>
                <a:cubicBezTo>
                  <a:pt x="685" y="210"/>
                  <a:pt x="685" y="210"/>
                  <a:pt x="685" y="210"/>
                </a:cubicBezTo>
                <a:cubicBezTo>
                  <a:pt x="686" y="210"/>
                  <a:pt x="686" y="210"/>
                  <a:pt x="686" y="210"/>
                </a:cubicBezTo>
                <a:cubicBezTo>
                  <a:pt x="686" y="210"/>
                  <a:pt x="686" y="210"/>
                  <a:pt x="686" y="210"/>
                </a:cubicBezTo>
                <a:cubicBezTo>
                  <a:pt x="687" y="210"/>
                  <a:pt x="687" y="210"/>
                  <a:pt x="687" y="210"/>
                </a:cubicBezTo>
                <a:cubicBezTo>
                  <a:pt x="688" y="210"/>
                  <a:pt x="688" y="210"/>
                  <a:pt x="688" y="210"/>
                </a:cubicBezTo>
                <a:cubicBezTo>
                  <a:pt x="688" y="210"/>
                  <a:pt x="688" y="210"/>
                  <a:pt x="688" y="210"/>
                </a:cubicBezTo>
                <a:cubicBezTo>
                  <a:pt x="689" y="210"/>
                  <a:pt x="689" y="210"/>
                  <a:pt x="689" y="210"/>
                </a:cubicBezTo>
                <a:cubicBezTo>
                  <a:pt x="690" y="210"/>
                  <a:pt x="690" y="210"/>
                  <a:pt x="690" y="210"/>
                </a:cubicBezTo>
                <a:cubicBezTo>
                  <a:pt x="691" y="210"/>
                  <a:pt x="691" y="210"/>
                  <a:pt x="691" y="210"/>
                </a:cubicBezTo>
                <a:cubicBezTo>
                  <a:pt x="692" y="210"/>
                  <a:pt x="692" y="210"/>
                  <a:pt x="692" y="210"/>
                </a:cubicBezTo>
                <a:cubicBezTo>
                  <a:pt x="692" y="210"/>
                  <a:pt x="692" y="210"/>
                  <a:pt x="692" y="210"/>
                </a:cubicBezTo>
                <a:cubicBezTo>
                  <a:pt x="693" y="210"/>
                  <a:pt x="693" y="210"/>
                  <a:pt x="693" y="210"/>
                </a:cubicBezTo>
                <a:cubicBezTo>
                  <a:pt x="693" y="210"/>
                  <a:pt x="693" y="210"/>
                  <a:pt x="693" y="210"/>
                </a:cubicBezTo>
                <a:cubicBezTo>
                  <a:pt x="694" y="209"/>
                  <a:pt x="694" y="209"/>
                  <a:pt x="694" y="209"/>
                </a:cubicBezTo>
                <a:cubicBezTo>
                  <a:pt x="695" y="209"/>
                  <a:pt x="695" y="209"/>
                  <a:pt x="695" y="209"/>
                </a:cubicBezTo>
                <a:cubicBezTo>
                  <a:pt x="695" y="209"/>
                  <a:pt x="695" y="209"/>
                  <a:pt x="695" y="209"/>
                </a:cubicBezTo>
                <a:cubicBezTo>
                  <a:pt x="695" y="209"/>
                  <a:pt x="695" y="209"/>
                  <a:pt x="695" y="209"/>
                </a:cubicBezTo>
                <a:cubicBezTo>
                  <a:pt x="695" y="209"/>
                  <a:pt x="695" y="209"/>
                  <a:pt x="695" y="209"/>
                </a:cubicBezTo>
                <a:cubicBezTo>
                  <a:pt x="696" y="209"/>
                  <a:pt x="696" y="209"/>
                  <a:pt x="696" y="209"/>
                </a:cubicBezTo>
                <a:cubicBezTo>
                  <a:pt x="696" y="209"/>
                  <a:pt x="696" y="209"/>
                  <a:pt x="696" y="209"/>
                </a:cubicBezTo>
                <a:cubicBezTo>
                  <a:pt x="696" y="209"/>
                  <a:pt x="696" y="209"/>
                  <a:pt x="696" y="209"/>
                </a:cubicBezTo>
                <a:cubicBezTo>
                  <a:pt x="697" y="209"/>
                  <a:pt x="697" y="209"/>
                  <a:pt x="697" y="209"/>
                </a:cubicBezTo>
                <a:cubicBezTo>
                  <a:pt x="698" y="209"/>
                  <a:pt x="698" y="209"/>
                  <a:pt x="698" y="209"/>
                </a:cubicBezTo>
                <a:cubicBezTo>
                  <a:pt x="698" y="209"/>
                  <a:pt x="698" y="209"/>
                  <a:pt x="699" y="209"/>
                </a:cubicBezTo>
                <a:cubicBezTo>
                  <a:pt x="699" y="209"/>
                  <a:pt x="699" y="209"/>
                  <a:pt x="700" y="209"/>
                </a:cubicBezTo>
                <a:cubicBezTo>
                  <a:pt x="700" y="209"/>
                  <a:pt x="700" y="209"/>
                  <a:pt x="700" y="209"/>
                </a:cubicBezTo>
                <a:cubicBezTo>
                  <a:pt x="700" y="209"/>
                  <a:pt x="700" y="209"/>
                  <a:pt x="700" y="209"/>
                </a:cubicBezTo>
                <a:cubicBezTo>
                  <a:pt x="701" y="209"/>
                  <a:pt x="701" y="209"/>
                  <a:pt x="701" y="209"/>
                </a:cubicBezTo>
                <a:cubicBezTo>
                  <a:pt x="702" y="208"/>
                  <a:pt x="702" y="208"/>
                  <a:pt x="702" y="208"/>
                </a:cubicBezTo>
                <a:cubicBezTo>
                  <a:pt x="702" y="208"/>
                  <a:pt x="702" y="208"/>
                  <a:pt x="702" y="208"/>
                </a:cubicBezTo>
                <a:cubicBezTo>
                  <a:pt x="703" y="208"/>
                  <a:pt x="703" y="208"/>
                  <a:pt x="703" y="208"/>
                </a:cubicBezTo>
                <a:cubicBezTo>
                  <a:pt x="703" y="208"/>
                  <a:pt x="703" y="208"/>
                  <a:pt x="703" y="208"/>
                </a:cubicBezTo>
                <a:cubicBezTo>
                  <a:pt x="704" y="208"/>
                  <a:pt x="704" y="208"/>
                  <a:pt x="704" y="208"/>
                </a:cubicBezTo>
                <a:cubicBezTo>
                  <a:pt x="704" y="208"/>
                  <a:pt x="704" y="208"/>
                  <a:pt x="704" y="208"/>
                </a:cubicBezTo>
                <a:cubicBezTo>
                  <a:pt x="704" y="208"/>
                  <a:pt x="704" y="208"/>
                  <a:pt x="704" y="208"/>
                </a:cubicBezTo>
                <a:cubicBezTo>
                  <a:pt x="705" y="208"/>
                  <a:pt x="705" y="208"/>
                  <a:pt x="705" y="208"/>
                </a:cubicBezTo>
                <a:cubicBezTo>
                  <a:pt x="705" y="208"/>
                  <a:pt x="705" y="208"/>
                  <a:pt x="705" y="208"/>
                </a:cubicBezTo>
                <a:cubicBezTo>
                  <a:pt x="705" y="208"/>
                  <a:pt x="705" y="208"/>
                  <a:pt x="705" y="208"/>
                </a:cubicBezTo>
                <a:cubicBezTo>
                  <a:pt x="705" y="208"/>
                  <a:pt x="705" y="208"/>
                  <a:pt x="705" y="208"/>
                </a:cubicBezTo>
                <a:cubicBezTo>
                  <a:pt x="705" y="207"/>
                  <a:pt x="705" y="207"/>
                  <a:pt x="705" y="207"/>
                </a:cubicBezTo>
                <a:cubicBezTo>
                  <a:pt x="706" y="207"/>
                  <a:pt x="706" y="207"/>
                  <a:pt x="706" y="207"/>
                </a:cubicBezTo>
                <a:cubicBezTo>
                  <a:pt x="706" y="207"/>
                  <a:pt x="706" y="207"/>
                  <a:pt x="706" y="207"/>
                </a:cubicBezTo>
                <a:cubicBezTo>
                  <a:pt x="706" y="207"/>
                  <a:pt x="706" y="207"/>
                  <a:pt x="706" y="207"/>
                </a:cubicBezTo>
                <a:cubicBezTo>
                  <a:pt x="706" y="207"/>
                  <a:pt x="706" y="207"/>
                  <a:pt x="706" y="207"/>
                </a:cubicBezTo>
                <a:cubicBezTo>
                  <a:pt x="706" y="207"/>
                  <a:pt x="706" y="207"/>
                  <a:pt x="706" y="207"/>
                </a:cubicBezTo>
                <a:cubicBezTo>
                  <a:pt x="707" y="207"/>
                  <a:pt x="707" y="207"/>
                  <a:pt x="707" y="207"/>
                </a:cubicBezTo>
                <a:cubicBezTo>
                  <a:pt x="707" y="207"/>
                  <a:pt x="707" y="207"/>
                  <a:pt x="707" y="207"/>
                </a:cubicBezTo>
                <a:cubicBezTo>
                  <a:pt x="707" y="207"/>
                  <a:pt x="707" y="207"/>
                  <a:pt x="707" y="207"/>
                </a:cubicBezTo>
                <a:cubicBezTo>
                  <a:pt x="707" y="207"/>
                  <a:pt x="707" y="207"/>
                  <a:pt x="707" y="207"/>
                </a:cubicBezTo>
                <a:cubicBezTo>
                  <a:pt x="707" y="207"/>
                  <a:pt x="707" y="207"/>
                  <a:pt x="707" y="207"/>
                </a:cubicBezTo>
                <a:cubicBezTo>
                  <a:pt x="708" y="207"/>
                  <a:pt x="708" y="207"/>
                  <a:pt x="708" y="207"/>
                </a:cubicBezTo>
                <a:cubicBezTo>
                  <a:pt x="708" y="206"/>
                  <a:pt x="708" y="206"/>
                  <a:pt x="708" y="206"/>
                </a:cubicBezTo>
                <a:cubicBezTo>
                  <a:pt x="708" y="206"/>
                  <a:pt x="708" y="206"/>
                  <a:pt x="708" y="206"/>
                </a:cubicBezTo>
                <a:cubicBezTo>
                  <a:pt x="708" y="206"/>
                  <a:pt x="708" y="206"/>
                  <a:pt x="708" y="206"/>
                </a:cubicBezTo>
                <a:cubicBezTo>
                  <a:pt x="708" y="206"/>
                  <a:pt x="708" y="206"/>
                  <a:pt x="708" y="206"/>
                </a:cubicBezTo>
                <a:cubicBezTo>
                  <a:pt x="708" y="206"/>
                  <a:pt x="708" y="206"/>
                  <a:pt x="708" y="206"/>
                </a:cubicBezTo>
                <a:cubicBezTo>
                  <a:pt x="709" y="206"/>
                  <a:pt x="709" y="206"/>
                  <a:pt x="709" y="206"/>
                </a:cubicBezTo>
                <a:cubicBezTo>
                  <a:pt x="709" y="206"/>
                  <a:pt x="709" y="206"/>
                  <a:pt x="709" y="206"/>
                </a:cubicBezTo>
                <a:cubicBezTo>
                  <a:pt x="709" y="206"/>
                  <a:pt x="709" y="206"/>
                  <a:pt x="709" y="206"/>
                </a:cubicBezTo>
                <a:cubicBezTo>
                  <a:pt x="709" y="206"/>
                  <a:pt x="709" y="206"/>
                  <a:pt x="709" y="206"/>
                </a:cubicBezTo>
                <a:cubicBezTo>
                  <a:pt x="709" y="205"/>
                  <a:pt x="709" y="205"/>
                  <a:pt x="709" y="205"/>
                </a:cubicBezTo>
                <a:cubicBezTo>
                  <a:pt x="710" y="205"/>
                  <a:pt x="710" y="205"/>
                  <a:pt x="710" y="205"/>
                </a:cubicBezTo>
                <a:cubicBezTo>
                  <a:pt x="710" y="205"/>
                  <a:pt x="710" y="205"/>
                  <a:pt x="710" y="205"/>
                </a:cubicBezTo>
                <a:cubicBezTo>
                  <a:pt x="710" y="205"/>
                  <a:pt x="710" y="205"/>
                  <a:pt x="710" y="205"/>
                </a:cubicBezTo>
                <a:cubicBezTo>
                  <a:pt x="710" y="205"/>
                  <a:pt x="710" y="205"/>
                  <a:pt x="710" y="205"/>
                </a:cubicBezTo>
                <a:cubicBezTo>
                  <a:pt x="710" y="205"/>
                  <a:pt x="710" y="205"/>
                  <a:pt x="710" y="205"/>
                </a:cubicBezTo>
                <a:cubicBezTo>
                  <a:pt x="710" y="205"/>
                  <a:pt x="710" y="205"/>
                  <a:pt x="710" y="205"/>
                </a:cubicBezTo>
                <a:cubicBezTo>
                  <a:pt x="710" y="205"/>
                  <a:pt x="710" y="205"/>
                  <a:pt x="710" y="205"/>
                </a:cubicBezTo>
                <a:cubicBezTo>
                  <a:pt x="711" y="204"/>
                  <a:pt x="711" y="204"/>
                  <a:pt x="711" y="204"/>
                </a:cubicBezTo>
                <a:cubicBezTo>
                  <a:pt x="711" y="204"/>
                  <a:pt x="711" y="204"/>
                  <a:pt x="711" y="204"/>
                </a:cubicBezTo>
                <a:cubicBezTo>
                  <a:pt x="711" y="204"/>
                  <a:pt x="711" y="204"/>
                  <a:pt x="711" y="204"/>
                </a:cubicBezTo>
                <a:cubicBezTo>
                  <a:pt x="711" y="204"/>
                  <a:pt x="711" y="204"/>
                  <a:pt x="711" y="204"/>
                </a:cubicBezTo>
                <a:cubicBezTo>
                  <a:pt x="711" y="204"/>
                  <a:pt x="711" y="204"/>
                  <a:pt x="711" y="204"/>
                </a:cubicBezTo>
                <a:cubicBezTo>
                  <a:pt x="712" y="203"/>
                  <a:pt x="712" y="203"/>
                  <a:pt x="712" y="203"/>
                </a:cubicBezTo>
                <a:cubicBezTo>
                  <a:pt x="712" y="203"/>
                  <a:pt x="712" y="203"/>
                  <a:pt x="712" y="203"/>
                </a:cubicBezTo>
                <a:cubicBezTo>
                  <a:pt x="712" y="203"/>
                  <a:pt x="712" y="203"/>
                  <a:pt x="712" y="203"/>
                </a:cubicBezTo>
                <a:cubicBezTo>
                  <a:pt x="712" y="202"/>
                  <a:pt x="712" y="202"/>
                  <a:pt x="712" y="202"/>
                </a:cubicBezTo>
                <a:cubicBezTo>
                  <a:pt x="712" y="202"/>
                  <a:pt x="712" y="202"/>
                  <a:pt x="712" y="202"/>
                </a:cubicBezTo>
                <a:cubicBezTo>
                  <a:pt x="712" y="202"/>
                  <a:pt x="712" y="202"/>
                  <a:pt x="712" y="202"/>
                </a:cubicBezTo>
                <a:cubicBezTo>
                  <a:pt x="712" y="202"/>
                  <a:pt x="712" y="202"/>
                  <a:pt x="712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3" y="201"/>
                  <a:pt x="713" y="201"/>
                  <a:pt x="713" y="201"/>
                </a:cubicBezTo>
                <a:cubicBezTo>
                  <a:pt x="713" y="200"/>
                  <a:pt x="713" y="200"/>
                  <a:pt x="713" y="200"/>
                </a:cubicBezTo>
                <a:cubicBezTo>
                  <a:pt x="713" y="200"/>
                  <a:pt x="713" y="200"/>
                  <a:pt x="713" y="200"/>
                </a:cubicBezTo>
                <a:cubicBezTo>
                  <a:pt x="714" y="199"/>
                  <a:pt x="714" y="199"/>
                  <a:pt x="714" y="199"/>
                </a:cubicBezTo>
                <a:cubicBezTo>
                  <a:pt x="714" y="198"/>
                  <a:pt x="714" y="197"/>
                  <a:pt x="714" y="196"/>
                </a:cubicBezTo>
                <a:cubicBezTo>
                  <a:pt x="714" y="196"/>
                  <a:pt x="714" y="195"/>
                  <a:pt x="714" y="195"/>
                </a:cubicBezTo>
                <a:cubicBezTo>
                  <a:pt x="715" y="194"/>
                  <a:pt x="715" y="194"/>
                  <a:pt x="715" y="193"/>
                </a:cubicBezTo>
                <a:cubicBezTo>
                  <a:pt x="715" y="192"/>
                  <a:pt x="716" y="191"/>
                  <a:pt x="716" y="189"/>
                </a:cubicBezTo>
                <a:cubicBezTo>
                  <a:pt x="716" y="189"/>
                  <a:pt x="716" y="189"/>
                  <a:pt x="716" y="188"/>
                </a:cubicBezTo>
                <a:cubicBezTo>
                  <a:pt x="716" y="187"/>
                  <a:pt x="716" y="187"/>
                  <a:pt x="716" y="187"/>
                </a:cubicBezTo>
                <a:cubicBezTo>
                  <a:pt x="716" y="187"/>
                  <a:pt x="716" y="187"/>
                  <a:pt x="716" y="187"/>
                </a:cubicBezTo>
                <a:cubicBezTo>
                  <a:pt x="716" y="187"/>
                  <a:pt x="716" y="186"/>
                  <a:pt x="717" y="186"/>
                </a:cubicBezTo>
                <a:cubicBezTo>
                  <a:pt x="717" y="185"/>
                  <a:pt x="717" y="184"/>
                  <a:pt x="717" y="183"/>
                </a:cubicBezTo>
                <a:cubicBezTo>
                  <a:pt x="717" y="183"/>
                  <a:pt x="717" y="182"/>
                  <a:pt x="717" y="182"/>
                </a:cubicBezTo>
                <a:cubicBezTo>
                  <a:pt x="717" y="181"/>
                  <a:pt x="717" y="181"/>
                  <a:pt x="717" y="181"/>
                </a:cubicBezTo>
                <a:cubicBezTo>
                  <a:pt x="717" y="181"/>
                  <a:pt x="717" y="181"/>
                  <a:pt x="717" y="181"/>
                </a:cubicBezTo>
                <a:cubicBezTo>
                  <a:pt x="717" y="181"/>
                  <a:pt x="717" y="181"/>
                  <a:pt x="717" y="181"/>
                </a:cubicBezTo>
                <a:cubicBezTo>
                  <a:pt x="717" y="180"/>
                  <a:pt x="717" y="180"/>
                  <a:pt x="718" y="179"/>
                </a:cubicBezTo>
                <a:cubicBezTo>
                  <a:pt x="718" y="178"/>
                  <a:pt x="718" y="178"/>
                  <a:pt x="718" y="178"/>
                </a:cubicBezTo>
                <a:cubicBezTo>
                  <a:pt x="718" y="178"/>
                  <a:pt x="718" y="178"/>
                  <a:pt x="718" y="178"/>
                </a:cubicBezTo>
                <a:cubicBezTo>
                  <a:pt x="718" y="177"/>
                  <a:pt x="718" y="176"/>
                  <a:pt x="718" y="176"/>
                </a:cubicBezTo>
                <a:cubicBezTo>
                  <a:pt x="716" y="163"/>
                  <a:pt x="715" y="150"/>
                  <a:pt x="714" y="137"/>
                </a:cubicBezTo>
                <a:cubicBezTo>
                  <a:pt x="714" y="136"/>
                  <a:pt x="714" y="136"/>
                  <a:pt x="714" y="136"/>
                </a:cubicBezTo>
                <a:cubicBezTo>
                  <a:pt x="715" y="136"/>
                  <a:pt x="715" y="136"/>
                  <a:pt x="715" y="136"/>
                </a:cubicBezTo>
                <a:cubicBezTo>
                  <a:pt x="715" y="136"/>
                  <a:pt x="715" y="136"/>
                  <a:pt x="715" y="136"/>
                </a:cubicBezTo>
                <a:cubicBezTo>
                  <a:pt x="715" y="136"/>
                  <a:pt x="715" y="136"/>
                  <a:pt x="715" y="136"/>
                </a:cubicBezTo>
                <a:cubicBezTo>
                  <a:pt x="716" y="135"/>
                  <a:pt x="716" y="135"/>
                  <a:pt x="716" y="135"/>
                </a:cubicBezTo>
                <a:cubicBezTo>
                  <a:pt x="716" y="135"/>
                  <a:pt x="716" y="135"/>
                  <a:pt x="716" y="135"/>
                </a:cubicBezTo>
                <a:cubicBezTo>
                  <a:pt x="716" y="135"/>
                  <a:pt x="716" y="135"/>
                  <a:pt x="716" y="135"/>
                </a:cubicBezTo>
                <a:cubicBezTo>
                  <a:pt x="716" y="135"/>
                  <a:pt x="716" y="135"/>
                  <a:pt x="716" y="135"/>
                </a:cubicBezTo>
                <a:cubicBezTo>
                  <a:pt x="716" y="135"/>
                  <a:pt x="716" y="135"/>
                  <a:pt x="716" y="135"/>
                </a:cubicBezTo>
                <a:cubicBezTo>
                  <a:pt x="716" y="135"/>
                  <a:pt x="716" y="135"/>
                  <a:pt x="716" y="135"/>
                </a:cubicBezTo>
                <a:cubicBezTo>
                  <a:pt x="717" y="135"/>
                  <a:pt x="717" y="135"/>
                  <a:pt x="717" y="135"/>
                </a:cubicBezTo>
                <a:cubicBezTo>
                  <a:pt x="717" y="135"/>
                  <a:pt x="717" y="135"/>
                  <a:pt x="717" y="135"/>
                </a:cubicBezTo>
                <a:cubicBezTo>
                  <a:pt x="717" y="135"/>
                  <a:pt x="717" y="135"/>
                  <a:pt x="717" y="135"/>
                </a:cubicBezTo>
                <a:cubicBezTo>
                  <a:pt x="717" y="134"/>
                  <a:pt x="717" y="134"/>
                  <a:pt x="717" y="134"/>
                </a:cubicBezTo>
                <a:cubicBezTo>
                  <a:pt x="717" y="134"/>
                  <a:pt x="717" y="134"/>
                  <a:pt x="717" y="134"/>
                </a:cubicBezTo>
                <a:cubicBezTo>
                  <a:pt x="718" y="133"/>
                  <a:pt x="718" y="133"/>
                  <a:pt x="718" y="133"/>
                </a:cubicBezTo>
                <a:cubicBezTo>
                  <a:pt x="718" y="133"/>
                  <a:pt x="718" y="133"/>
                  <a:pt x="718" y="133"/>
                </a:cubicBezTo>
                <a:cubicBezTo>
                  <a:pt x="718" y="133"/>
                  <a:pt x="718" y="133"/>
                  <a:pt x="718" y="133"/>
                </a:cubicBezTo>
                <a:cubicBezTo>
                  <a:pt x="718" y="133"/>
                  <a:pt x="718" y="133"/>
                  <a:pt x="718" y="133"/>
                </a:cubicBezTo>
                <a:cubicBezTo>
                  <a:pt x="718" y="132"/>
                  <a:pt x="718" y="132"/>
                  <a:pt x="718" y="132"/>
                </a:cubicBezTo>
                <a:cubicBezTo>
                  <a:pt x="719" y="132"/>
                  <a:pt x="719" y="132"/>
                  <a:pt x="719" y="132"/>
                </a:cubicBezTo>
                <a:cubicBezTo>
                  <a:pt x="719" y="131"/>
                  <a:pt x="719" y="131"/>
                  <a:pt x="719" y="131"/>
                </a:cubicBezTo>
                <a:cubicBezTo>
                  <a:pt x="719" y="131"/>
                  <a:pt x="719" y="131"/>
                  <a:pt x="719" y="131"/>
                </a:cubicBezTo>
                <a:cubicBezTo>
                  <a:pt x="719" y="131"/>
                  <a:pt x="719" y="131"/>
                  <a:pt x="719" y="131"/>
                </a:cubicBezTo>
                <a:cubicBezTo>
                  <a:pt x="719" y="131"/>
                  <a:pt x="719" y="131"/>
                  <a:pt x="719" y="131"/>
                </a:cubicBezTo>
                <a:cubicBezTo>
                  <a:pt x="719" y="131"/>
                  <a:pt x="719" y="131"/>
                  <a:pt x="719" y="131"/>
                </a:cubicBezTo>
                <a:cubicBezTo>
                  <a:pt x="720" y="130"/>
                  <a:pt x="720" y="130"/>
                  <a:pt x="720" y="130"/>
                </a:cubicBezTo>
                <a:cubicBezTo>
                  <a:pt x="720" y="129"/>
                  <a:pt x="720" y="129"/>
                  <a:pt x="720" y="129"/>
                </a:cubicBezTo>
                <a:cubicBezTo>
                  <a:pt x="720" y="129"/>
                  <a:pt x="720" y="129"/>
                  <a:pt x="720" y="129"/>
                </a:cubicBezTo>
                <a:cubicBezTo>
                  <a:pt x="720" y="128"/>
                  <a:pt x="720" y="128"/>
                  <a:pt x="720" y="128"/>
                </a:cubicBezTo>
                <a:cubicBezTo>
                  <a:pt x="721" y="128"/>
                  <a:pt x="721" y="128"/>
                  <a:pt x="721" y="128"/>
                </a:cubicBezTo>
                <a:cubicBezTo>
                  <a:pt x="721" y="127"/>
                  <a:pt x="721" y="127"/>
                  <a:pt x="721" y="127"/>
                </a:cubicBezTo>
                <a:cubicBezTo>
                  <a:pt x="721" y="127"/>
                  <a:pt x="721" y="127"/>
                  <a:pt x="721" y="127"/>
                </a:cubicBezTo>
                <a:cubicBezTo>
                  <a:pt x="721" y="127"/>
                  <a:pt x="721" y="127"/>
                  <a:pt x="721" y="127"/>
                </a:cubicBezTo>
                <a:cubicBezTo>
                  <a:pt x="721" y="126"/>
                  <a:pt x="721" y="126"/>
                  <a:pt x="721" y="126"/>
                </a:cubicBezTo>
                <a:cubicBezTo>
                  <a:pt x="721" y="126"/>
                  <a:pt x="721" y="126"/>
                  <a:pt x="721" y="126"/>
                </a:cubicBezTo>
                <a:cubicBezTo>
                  <a:pt x="721" y="126"/>
                  <a:pt x="721" y="126"/>
                  <a:pt x="721" y="126"/>
                </a:cubicBezTo>
                <a:cubicBezTo>
                  <a:pt x="721" y="126"/>
                  <a:pt x="721" y="126"/>
                  <a:pt x="721" y="126"/>
                </a:cubicBezTo>
                <a:cubicBezTo>
                  <a:pt x="721" y="125"/>
                  <a:pt x="721" y="125"/>
                  <a:pt x="721" y="124"/>
                </a:cubicBezTo>
                <a:cubicBezTo>
                  <a:pt x="721" y="124"/>
                  <a:pt x="721" y="124"/>
                  <a:pt x="721" y="124"/>
                </a:cubicBezTo>
                <a:cubicBezTo>
                  <a:pt x="721" y="124"/>
                  <a:pt x="721" y="124"/>
                  <a:pt x="721" y="124"/>
                </a:cubicBezTo>
                <a:cubicBezTo>
                  <a:pt x="721" y="123"/>
                  <a:pt x="721" y="123"/>
                  <a:pt x="721" y="123"/>
                </a:cubicBezTo>
                <a:cubicBezTo>
                  <a:pt x="721" y="123"/>
                  <a:pt x="721" y="122"/>
                  <a:pt x="721" y="122"/>
                </a:cubicBezTo>
                <a:cubicBezTo>
                  <a:pt x="718" y="88"/>
                  <a:pt x="715" y="54"/>
                  <a:pt x="713" y="21"/>
                </a:cubicBezTo>
                <a:cubicBezTo>
                  <a:pt x="713" y="21"/>
                  <a:pt x="713" y="22"/>
                  <a:pt x="713" y="23"/>
                </a:cubicBezTo>
                <a:cubicBezTo>
                  <a:pt x="713" y="23"/>
                  <a:pt x="713" y="23"/>
                  <a:pt x="713" y="23"/>
                </a:cubicBezTo>
                <a:cubicBezTo>
                  <a:pt x="713" y="24"/>
                  <a:pt x="713" y="24"/>
                  <a:pt x="712" y="25"/>
                </a:cubicBezTo>
                <a:cubicBezTo>
                  <a:pt x="712" y="25"/>
                  <a:pt x="712" y="25"/>
                  <a:pt x="712" y="25"/>
                </a:cubicBezTo>
                <a:cubicBezTo>
                  <a:pt x="712" y="26"/>
                  <a:pt x="712" y="26"/>
                  <a:pt x="712" y="27"/>
                </a:cubicBezTo>
                <a:cubicBezTo>
                  <a:pt x="712" y="27"/>
                  <a:pt x="712" y="27"/>
                  <a:pt x="712" y="27"/>
                </a:cubicBezTo>
                <a:cubicBezTo>
                  <a:pt x="712" y="28"/>
                  <a:pt x="711" y="28"/>
                  <a:pt x="711" y="29"/>
                </a:cubicBezTo>
                <a:cubicBezTo>
                  <a:pt x="711" y="29"/>
                  <a:pt x="711" y="29"/>
                  <a:pt x="711" y="29"/>
                </a:cubicBezTo>
                <a:cubicBezTo>
                  <a:pt x="711" y="30"/>
                  <a:pt x="710" y="30"/>
                  <a:pt x="710" y="31"/>
                </a:cubicBezTo>
                <a:cubicBezTo>
                  <a:pt x="710" y="31"/>
                  <a:pt x="710" y="31"/>
                  <a:pt x="710" y="31"/>
                </a:cubicBezTo>
                <a:cubicBezTo>
                  <a:pt x="709" y="32"/>
                  <a:pt x="708" y="32"/>
                  <a:pt x="708" y="33"/>
                </a:cubicBezTo>
                <a:cubicBezTo>
                  <a:pt x="708" y="33"/>
                  <a:pt x="708" y="33"/>
                  <a:pt x="708" y="33"/>
                </a:cubicBezTo>
                <a:cubicBezTo>
                  <a:pt x="706" y="34"/>
                  <a:pt x="705" y="35"/>
                  <a:pt x="703" y="36"/>
                </a:cubicBezTo>
                <a:cubicBezTo>
                  <a:pt x="702" y="36"/>
                  <a:pt x="701" y="36"/>
                  <a:pt x="700" y="37"/>
                </a:cubicBezTo>
                <a:cubicBezTo>
                  <a:pt x="700" y="37"/>
                  <a:pt x="700" y="37"/>
                  <a:pt x="700" y="37"/>
                </a:cubicBezTo>
                <a:cubicBezTo>
                  <a:pt x="700" y="37"/>
                  <a:pt x="699" y="37"/>
                  <a:pt x="698" y="37"/>
                </a:cubicBezTo>
                <a:cubicBezTo>
                  <a:pt x="698" y="37"/>
                  <a:pt x="698" y="37"/>
                  <a:pt x="698" y="37"/>
                </a:cubicBezTo>
                <a:cubicBezTo>
                  <a:pt x="697" y="38"/>
                  <a:pt x="695" y="38"/>
                  <a:pt x="694" y="38"/>
                </a:cubicBezTo>
                <a:cubicBezTo>
                  <a:pt x="694" y="38"/>
                  <a:pt x="694" y="38"/>
                  <a:pt x="694" y="38"/>
                </a:cubicBezTo>
                <a:cubicBezTo>
                  <a:pt x="693" y="38"/>
                  <a:pt x="692" y="38"/>
                  <a:pt x="691" y="39"/>
                </a:cubicBezTo>
                <a:cubicBezTo>
                  <a:pt x="690" y="39"/>
                  <a:pt x="690" y="39"/>
                  <a:pt x="690" y="39"/>
                </a:cubicBezTo>
                <a:cubicBezTo>
                  <a:pt x="689" y="39"/>
                  <a:pt x="688" y="39"/>
                  <a:pt x="686" y="39"/>
                </a:cubicBezTo>
                <a:cubicBezTo>
                  <a:pt x="686" y="39"/>
                  <a:pt x="686" y="39"/>
                  <a:pt x="686" y="39"/>
                </a:cubicBezTo>
                <a:cubicBezTo>
                  <a:pt x="685" y="39"/>
                  <a:pt x="683" y="39"/>
                  <a:pt x="682" y="40"/>
                </a:cubicBezTo>
                <a:cubicBezTo>
                  <a:pt x="681" y="40"/>
                  <a:pt x="681" y="40"/>
                  <a:pt x="681" y="40"/>
                </a:cubicBezTo>
                <a:cubicBezTo>
                  <a:pt x="680" y="40"/>
                  <a:pt x="678" y="40"/>
                  <a:pt x="677" y="40"/>
                </a:cubicBezTo>
                <a:cubicBezTo>
                  <a:pt x="676" y="40"/>
                  <a:pt x="676" y="40"/>
                  <a:pt x="676" y="40"/>
                </a:cubicBezTo>
                <a:cubicBezTo>
                  <a:pt x="675" y="40"/>
                  <a:pt x="673" y="40"/>
                  <a:pt x="672" y="40"/>
                </a:cubicBezTo>
                <a:cubicBezTo>
                  <a:pt x="671" y="40"/>
                  <a:pt x="671" y="40"/>
                  <a:pt x="671" y="40"/>
                </a:cubicBezTo>
                <a:cubicBezTo>
                  <a:pt x="668" y="40"/>
                  <a:pt x="665" y="41"/>
                  <a:pt x="661" y="41"/>
                </a:cubicBezTo>
                <a:cubicBezTo>
                  <a:pt x="659" y="41"/>
                  <a:pt x="658" y="41"/>
                  <a:pt x="656" y="41"/>
                </a:cubicBezTo>
                <a:cubicBezTo>
                  <a:pt x="654" y="41"/>
                  <a:pt x="653" y="41"/>
                  <a:pt x="651" y="41"/>
                </a:cubicBezTo>
                <a:cubicBezTo>
                  <a:pt x="650" y="41"/>
                  <a:pt x="650" y="41"/>
                  <a:pt x="649" y="41"/>
                </a:cubicBezTo>
                <a:cubicBezTo>
                  <a:pt x="649" y="41"/>
                  <a:pt x="649" y="41"/>
                  <a:pt x="649" y="41"/>
                </a:cubicBezTo>
                <a:cubicBezTo>
                  <a:pt x="648" y="41"/>
                  <a:pt x="648" y="41"/>
                  <a:pt x="648" y="41"/>
                </a:cubicBezTo>
                <a:cubicBezTo>
                  <a:pt x="645" y="41"/>
                  <a:pt x="643" y="42"/>
                  <a:pt x="640" y="42"/>
                </a:cubicBezTo>
                <a:cubicBezTo>
                  <a:pt x="639" y="42"/>
                  <a:pt x="638" y="42"/>
                  <a:pt x="637" y="42"/>
                </a:cubicBezTo>
                <a:cubicBezTo>
                  <a:pt x="637" y="42"/>
                  <a:pt x="637" y="42"/>
                  <a:pt x="637" y="42"/>
                </a:cubicBezTo>
                <a:cubicBezTo>
                  <a:pt x="637" y="42"/>
                  <a:pt x="637" y="42"/>
                  <a:pt x="637" y="42"/>
                </a:cubicBezTo>
                <a:cubicBezTo>
                  <a:pt x="636" y="42"/>
                  <a:pt x="635" y="42"/>
                  <a:pt x="634" y="42"/>
                </a:cubicBezTo>
                <a:cubicBezTo>
                  <a:pt x="633" y="42"/>
                  <a:pt x="632" y="42"/>
                  <a:pt x="631" y="42"/>
                </a:cubicBezTo>
                <a:cubicBezTo>
                  <a:pt x="630" y="42"/>
                  <a:pt x="629" y="42"/>
                  <a:pt x="628" y="42"/>
                </a:cubicBezTo>
                <a:cubicBezTo>
                  <a:pt x="628" y="43"/>
                  <a:pt x="628" y="43"/>
                  <a:pt x="628" y="43"/>
                </a:cubicBezTo>
                <a:cubicBezTo>
                  <a:pt x="627" y="43"/>
                  <a:pt x="627" y="43"/>
                  <a:pt x="627" y="43"/>
                </a:cubicBezTo>
                <a:cubicBezTo>
                  <a:pt x="626" y="43"/>
                  <a:pt x="626" y="43"/>
                  <a:pt x="626" y="43"/>
                </a:cubicBezTo>
                <a:cubicBezTo>
                  <a:pt x="626" y="43"/>
                  <a:pt x="626" y="43"/>
                  <a:pt x="626" y="43"/>
                </a:cubicBezTo>
                <a:cubicBezTo>
                  <a:pt x="625" y="43"/>
                  <a:pt x="625" y="43"/>
                  <a:pt x="625" y="43"/>
                </a:cubicBezTo>
                <a:cubicBezTo>
                  <a:pt x="624" y="43"/>
                  <a:pt x="624" y="43"/>
                  <a:pt x="624" y="43"/>
                </a:cubicBezTo>
                <a:cubicBezTo>
                  <a:pt x="623" y="43"/>
                  <a:pt x="623" y="43"/>
                  <a:pt x="623" y="43"/>
                </a:cubicBezTo>
                <a:cubicBezTo>
                  <a:pt x="622" y="43"/>
                  <a:pt x="622" y="43"/>
                  <a:pt x="622" y="43"/>
                </a:cubicBezTo>
                <a:cubicBezTo>
                  <a:pt x="622" y="43"/>
                  <a:pt x="621" y="43"/>
                  <a:pt x="621" y="43"/>
                </a:cubicBezTo>
                <a:cubicBezTo>
                  <a:pt x="620" y="43"/>
                  <a:pt x="620" y="43"/>
                  <a:pt x="620" y="43"/>
                </a:cubicBezTo>
                <a:cubicBezTo>
                  <a:pt x="620" y="43"/>
                  <a:pt x="620" y="43"/>
                  <a:pt x="620" y="43"/>
                </a:cubicBezTo>
                <a:cubicBezTo>
                  <a:pt x="619" y="43"/>
                  <a:pt x="618" y="43"/>
                  <a:pt x="618" y="44"/>
                </a:cubicBezTo>
                <a:cubicBezTo>
                  <a:pt x="617" y="44"/>
                  <a:pt x="617" y="44"/>
                  <a:pt x="616" y="44"/>
                </a:cubicBezTo>
                <a:cubicBezTo>
                  <a:pt x="616" y="44"/>
                  <a:pt x="616" y="44"/>
                  <a:pt x="616" y="44"/>
                </a:cubicBezTo>
                <a:cubicBezTo>
                  <a:pt x="615" y="44"/>
                  <a:pt x="615" y="44"/>
                  <a:pt x="615" y="44"/>
                </a:cubicBezTo>
                <a:cubicBezTo>
                  <a:pt x="615" y="44"/>
                  <a:pt x="614" y="44"/>
                  <a:pt x="613" y="44"/>
                </a:cubicBezTo>
                <a:cubicBezTo>
                  <a:pt x="613" y="44"/>
                  <a:pt x="613" y="44"/>
                  <a:pt x="612" y="44"/>
                </a:cubicBezTo>
                <a:cubicBezTo>
                  <a:pt x="612" y="45"/>
                  <a:pt x="612" y="45"/>
                  <a:pt x="612" y="45"/>
                </a:cubicBezTo>
                <a:cubicBezTo>
                  <a:pt x="612" y="45"/>
                  <a:pt x="612" y="45"/>
                  <a:pt x="612" y="45"/>
                </a:cubicBezTo>
                <a:cubicBezTo>
                  <a:pt x="611" y="45"/>
                  <a:pt x="611" y="45"/>
                  <a:pt x="611" y="45"/>
                </a:cubicBezTo>
                <a:cubicBezTo>
                  <a:pt x="610" y="45"/>
                  <a:pt x="610" y="45"/>
                  <a:pt x="610" y="45"/>
                </a:cubicBezTo>
                <a:cubicBezTo>
                  <a:pt x="609" y="45"/>
                  <a:pt x="609" y="45"/>
                  <a:pt x="609" y="45"/>
                </a:cubicBezTo>
                <a:cubicBezTo>
                  <a:pt x="608" y="45"/>
                  <a:pt x="608" y="45"/>
                  <a:pt x="608" y="45"/>
                </a:cubicBezTo>
                <a:cubicBezTo>
                  <a:pt x="608" y="45"/>
                  <a:pt x="608" y="45"/>
                  <a:pt x="608" y="45"/>
                </a:cubicBezTo>
                <a:cubicBezTo>
                  <a:pt x="608" y="46"/>
                  <a:pt x="608" y="46"/>
                  <a:pt x="608" y="46"/>
                </a:cubicBezTo>
                <a:cubicBezTo>
                  <a:pt x="608" y="46"/>
                  <a:pt x="608" y="46"/>
                  <a:pt x="608" y="46"/>
                </a:cubicBezTo>
                <a:cubicBezTo>
                  <a:pt x="608" y="46"/>
                  <a:pt x="608" y="46"/>
                  <a:pt x="608" y="46"/>
                </a:cubicBezTo>
                <a:cubicBezTo>
                  <a:pt x="607" y="46"/>
                  <a:pt x="607" y="46"/>
                  <a:pt x="607" y="46"/>
                </a:cubicBezTo>
                <a:cubicBezTo>
                  <a:pt x="606" y="46"/>
                  <a:pt x="606" y="46"/>
                  <a:pt x="606" y="46"/>
                </a:cubicBezTo>
                <a:cubicBezTo>
                  <a:pt x="606" y="46"/>
                  <a:pt x="606" y="46"/>
                  <a:pt x="606" y="46"/>
                </a:cubicBezTo>
                <a:cubicBezTo>
                  <a:pt x="605" y="46"/>
                  <a:pt x="605" y="46"/>
                  <a:pt x="605" y="46"/>
                </a:cubicBezTo>
                <a:cubicBezTo>
                  <a:pt x="604" y="46"/>
                  <a:pt x="604" y="46"/>
                  <a:pt x="604" y="46"/>
                </a:cubicBezTo>
                <a:cubicBezTo>
                  <a:pt x="604" y="47"/>
                  <a:pt x="604" y="47"/>
                  <a:pt x="604" y="47"/>
                </a:cubicBezTo>
                <a:cubicBezTo>
                  <a:pt x="603" y="47"/>
                  <a:pt x="603" y="47"/>
                  <a:pt x="603" y="47"/>
                </a:cubicBezTo>
                <a:cubicBezTo>
                  <a:pt x="603" y="47"/>
                  <a:pt x="603" y="47"/>
                  <a:pt x="603" y="47"/>
                </a:cubicBezTo>
                <a:cubicBezTo>
                  <a:pt x="602" y="47"/>
                  <a:pt x="602" y="47"/>
                  <a:pt x="602" y="47"/>
                </a:cubicBezTo>
                <a:cubicBezTo>
                  <a:pt x="602" y="47"/>
                  <a:pt x="602" y="47"/>
                  <a:pt x="602" y="47"/>
                </a:cubicBezTo>
                <a:cubicBezTo>
                  <a:pt x="601" y="48"/>
                  <a:pt x="601" y="48"/>
                  <a:pt x="601" y="48"/>
                </a:cubicBezTo>
                <a:cubicBezTo>
                  <a:pt x="601" y="48"/>
                  <a:pt x="601" y="48"/>
                  <a:pt x="601" y="48"/>
                </a:cubicBezTo>
                <a:cubicBezTo>
                  <a:pt x="601" y="48"/>
                  <a:pt x="601" y="48"/>
                  <a:pt x="601" y="48"/>
                </a:cubicBezTo>
                <a:cubicBezTo>
                  <a:pt x="601" y="48"/>
                  <a:pt x="601" y="48"/>
                  <a:pt x="601" y="48"/>
                </a:cubicBezTo>
                <a:cubicBezTo>
                  <a:pt x="600" y="48"/>
                  <a:pt x="600" y="48"/>
                  <a:pt x="600" y="48"/>
                </a:cubicBezTo>
                <a:cubicBezTo>
                  <a:pt x="600" y="48"/>
                  <a:pt x="600" y="48"/>
                  <a:pt x="600" y="48"/>
                </a:cubicBezTo>
                <a:cubicBezTo>
                  <a:pt x="599" y="48"/>
                  <a:pt x="599" y="48"/>
                  <a:pt x="599" y="48"/>
                </a:cubicBezTo>
                <a:cubicBezTo>
                  <a:pt x="599" y="49"/>
                  <a:pt x="599" y="49"/>
                  <a:pt x="599" y="49"/>
                </a:cubicBezTo>
                <a:cubicBezTo>
                  <a:pt x="598" y="49"/>
                  <a:pt x="598" y="49"/>
                  <a:pt x="598" y="49"/>
                </a:cubicBezTo>
                <a:cubicBezTo>
                  <a:pt x="598" y="49"/>
                  <a:pt x="598" y="49"/>
                  <a:pt x="598" y="49"/>
                </a:cubicBezTo>
                <a:cubicBezTo>
                  <a:pt x="598" y="49"/>
                  <a:pt x="598" y="49"/>
                  <a:pt x="598" y="49"/>
                </a:cubicBezTo>
                <a:cubicBezTo>
                  <a:pt x="598" y="49"/>
                  <a:pt x="598" y="49"/>
                  <a:pt x="598" y="49"/>
                </a:cubicBezTo>
                <a:cubicBezTo>
                  <a:pt x="597" y="49"/>
                  <a:pt x="597" y="49"/>
                  <a:pt x="597" y="49"/>
                </a:cubicBezTo>
                <a:cubicBezTo>
                  <a:pt x="597" y="49"/>
                  <a:pt x="597" y="49"/>
                  <a:pt x="597" y="49"/>
                </a:cubicBezTo>
                <a:cubicBezTo>
                  <a:pt x="596" y="50"/>
                  <a:pt x="596" y="50"/>
                  <a:pt x="596" y="50"/>
                </a:cubicBezTo>
                <a:cubicBezTo>
                  <a:pt x="596" y="50"/>
                  <a:pt x="596" y="50"/>
                  <a:pt x="596" y="50"/>
                </a:cubicBezTo>
                <a:cubicBezTo>
                  <a:pt x="595" y="50"/>
                  <a:pt x="595" y="50"/>
                  <a:pt x="595" y="50"/>
                </a:cubicBezTo>
                <a:cubicBezTo>
                  <a:pt x="595" y="50"/>
                  <a:pt x="595" y="50"/>
                  <a:pt x="595" y="50"/>
                </a:cubicBezTo>
                <a:cubicBezTo>
                  <a:pt x="595" y="50"/>
                  <a:pt x="595" y="50"/>
                  <a:pt x="595" y="50"/>
                </a:cubicBezTo>
                <a:cubicBezTo>
                  <a:pt x="595" y="50"/>
                  <a:pt x="595" y="50"/>
                  <a:pt x="595" y="50"/>
                </a:cubicBezTo>
                <a:cubicBezTo>
                  <a:pt x="595" y="50"/>
                  <a:pt x="595" y="50"/>
                  <a:pt x="595" y="50"/>
                </a:cubicBezTo>
                <a:cubicBezTo>
                  <a:pt x="594" y="51"/>
                  <a:pt x="594" y="51"/>
                  <a:pt x="594" y="51"/>
                </a:cubicBezTo>
                <a:cubicBezTo>
                  <a:pt x="594" y="51"/>
                  <a:pt x="594" y="51"/>
                  <a:pt x="594" y="51"/>
                </a:cubicBezTo>
                <a:cubicBezTo>
                  <a:pt x="593" y="51"/>
                  <a:pt x="593" y="51"/>
                  <a:pt x="593" y="51"/>
                </a:cubicBezTo>
                <a:cubicBezTo>
                  <a:pt x="593" y="52"/>
                  <a:pt x="593" y="52"/>
                  <a:pt x="593" y="52"/>
                </a:cubicBezTo>
                <a:cubicBezTo>
                  <a:pt x="593" y="52"/>
                  <a:pt x="593" y="52"/>
                  <a:pt x="593" y="52"/>
                </a:cubicBezTo>
                <a:cubicBezTo>
                  <a:pt x="593" y="52"/>
                  <a:pt x="593" y="52"/>
                  <a:pt x="593" y="52"/>
                </a:cubicBezTo>
                <a:cubicBezTo>
                  <a:pt x="592" y="52"/>
                  <a:pt x="592" y="52"/>
                  <a:pt x="592" y="52"/>
                </a:cubicBezTo>
                <a:cubicBezTo>
                  <a:pt x="592" y="52"/>
                  <a:pt x="592" y="52"/>
                  <a:pt x="592" y="52"/>
                </a:cubicBezTo>
                <a:cubicBezTo>
                  <a:pt x="591" y="53"/>
                  <a:pt x="591" y="53"/>
                  <a:pt x="591" y="53"/>
                </a:cubicBezTo>
                <a:cubicBezTo>
                  <a:pt x="591" y="53"/>
                  <a:pt x="591" y="53"/>
                  <a:pt x="591" y="53"/>
                </a:cubicBezTo>
                <a:cubicBezTo>
                  <a:pt x="591" y="53"/>
                  <a:pt x="591" y="53"/>
                  <a:pt x="591" y="53"/>
                </a:cubicBezTo>
                <a:cubicBezTo>
                  <a:pt x="591" y="53"/>
                  <a:pt x="591" y="53"/>
                  <a:pt x="591" y="53"/>
                </a:cubicBezTo>
                <a:cubicBezTo>
                  <a:pt x="591" y="53"/>
                  <a:pt x="591" y="53"/>
                  <a:pt x="591" y="53"/>
                </a:cubicBezTo>
                <a:cubicBezTo>
                  <a:pt x="590" y="54"/>
                  <a:pt x="590" y="54"/>
                  <a:pt x="590" y="54"/>
                </a:cubicBezTo>
                <a:cubicBezTo>
                  <a:pt x="590" y="54"/>
                  <a:pt x="590" y="54"/>
                  <a:pt x="590" y="54"/>
                </a:cubicBezTo>
                <a:cubicBezTo>
                  <a:pt x="589" y="54"/>
                  <a:pt x="589" y="54"/>
                  <a:pt x="589" y="54"/>
                </a:cubicBezTo>
                <a:cubicBezTo>
                  <a:pt x="589" y="54"/>
                  <a:pt x="589" y="54"/>
                  <a:pt x="589" y="54"/>
                </a:cubicBezTo>
                <a:cubicBezTo>
                  <a:pt x="589" y="54"/>
                  <a:pt x="589" y="54"/>
                  <a:pt x="589" y="54"/>
                </a:cubicBezTo>
                <a:cubicBezTo>
                  <a:pt x="589" y="55"/>
                  <a:pt x="589" y="55"/>
                  <a:pt x="589" y="55"/>
                </a:cubicBezTo>
                <a:cubicBezTo>
                  <a:pt x="588" y="55"/>
                  <a:pt x="588" y="55"/>
                  <a:pt x="588" y="55"/>
                </a:cubicBezTo>
                <a:cubicBezTo>
                  <a:pt x="588" y="56"/>
                  <a:pt x="588" y="56"/>
                  <a:pt x="588" y="56"/>
                </a:cubicBezTo>
                <a:cubicBezTo>
                  <a:pt x="588" y="56"/>
                  <a:pt x="588" y="56"/>
                  <a:pt x="588" y="56"/>
                </a:cubicBezTo>
                <a:cubicBezTo>
                  <a:pt x="588" y="56"/>
                  <a:pt x="588" y="56"/>
                  <a:pt x="588" y="56"/>
                </a:cubicBezTo>
                <a:cubicBezTo>
                  <a:pt x="588" y="56"/>
                  <a:pt x="588" y="56"/>
                  <a:pt x="588" y="56"/>
                </a:cubicBezTo>
                <a:cubicBezTo>
                  <a:pt x="588" y="56"/>
                  <a:pt x="588" y="56"/>
                  <a:pt x="588" y="56"/>
                </a:cubicBezTo>
                <a:cubicBezTo>
                  <a:pt x="587" y="56"/>
                  <a:pt x="587" y="56"/>
                  <a:pt x="587" y="56"/>
                </a:cubicBezTo>
                <a:cubicBezTo>
                  <a:pt x="587" y="57"/>
                  <a:pt x="587" y="57"/>
                  <a:pt x="587" y="57"/>
                </a:cubicBezTo>
                <a:cubicBezTo>
                  <a:pt x="587" y="57"/>
                  <a:pt x="587" y="57"/>
                  <a:pt x="587" y="57"/>
                </a:cubicBezTo>
                <a:cubicBezTo>
                  <a:pt x="587" y="57"/>
                  <a:pt x="587" y="57"/>
                  <a:pt x="587" y="57"/>
                </a:cubicBezTo>
                <a:cubicBezTo>
                  <a:pt x="587" y="57"/>
                  <a:pt x="587" y="57"/>
                  <a:pt x="587" y="57"/>
                </a:cubicBezTo>
                <a:cubicBezTo>
                  <a:pt x="587" y="57"/>
                  <a:pt x="587" y="57"/>
                  <a:pt x="587" y="57"/>
                </a:cubicBezTo>
                <a:cubicBezTo>
                  <a:pt x="586" y="58"/>
                  <a:pt x="586" y="58"/>
                  <a:pt x="586" y="58"/>
                </a:cubicBezTo>
                <a:cubicBezTo>
                  <a:pt x="586" y="58"/>
                  <a:pt x="586" y="58"/>
                  <a:pt x="586" y="58"/>
                </a:cubicBezTo>
                <a:cubicBezTo>
                  <a:pt x="586" y="59"/>
                  <a:pt x="586" y="59"/>
                  <a:pt x="586" y="59"/>
                </a:cubicBezTo>
                <a:cubicBezTo>
                  <a:pt x="586" y="59"/>
                  <a:pt x="586" y="59"/>
                  <a:pt x="586" y="59"/>
                </a:cubicBezTo>
                <a:cubicBezTo>
                  <a:pt x="586" y="59"/>
                  <a:pt x="586" y="59"/>
                  <a:pt x="586" y="59"/>
                </a:cubicBezTo>
                <a:cubicBezTo>
                  <a:pt x="586" y="60"/>
                  <a:pt x="586" y="60"/>
                  <a:pt x="586" y="60"/>
                </a:cubicBezTo>
                <a:cubicBezTo>
                  <a:pt x="586" y="60"/>
                  <a:pt x="586" y="60"/>
                  <a:pt x="586" y="60"/>
                </a:cubicBezTo>
                <a:cubicBezTo>
                  <a:pt x="586" y="60"/>
                  <a:pt x="586" y="60"/>
                  <a:pt x="586" y="60"/>
                </a:cubicBezTo>
                <a:cubicBezTo>
                  <a:pt x="586" y="60"/>
                  <a:pt x="586" y="60"/>
                  <a:pt x="586" y="60"/>
                </a:cubicBezTo>
                <a:cubicBezTo>
                  <a:pt x="586" y="61"/>
                  <a:pt x="586" y="61"/>
                  <a:pt x="586" y="61"/>
                </a:cubicBezTo>
                <a:cubicBezTo>
                  <a:pt x="586" y="61"/>
                  <a:pt x="586" y="61"/>
                  <a:pt x="586" y="61"/>
                </a:cubicBezTo>
                <a:cubicBezTo>
                  <a:pt x="586" y="62"/>
                  <a:pt x="586" y="62"/>
                  <a:pt x="586" y="62"/>
                </a:cubicBezTo>
                <a:cubicBezTo>
                  <a:pt x="586" y="62"/>
                  <a:pt x="586" y="62"/>
                  <a:pt x="586" y="62"/>
                </a:cubicBezTo>
                <a:cubicBezTo>
                  <a:pt x="586" y="62"/>
                  <a:pt x="586" y="62"/>
                  <a:pt x="586" y="62"/>
                </a:cubicBezTo>
                <a:cubicBezTo>
                  <a:pt x="586" y="62"/>
                  <a:pt x="586" y="62"/>
                  <a:pt x="586" y="62"/>
                </a:cubicBezTo>
                <a:cubicBezTo>
                  <a:pt x="587" y="76"/>
                  <a:pt x="588" y="89"/>
                  <a:pt x="590" y="103"/>
                </a:cubicBezTo>
                <a:cubicBezTo>
                  <a:pt x="583" y="103"/>
                  <a:pt x="576" y="103"/>
                  <a:pt x="569" y="103"/>
                </a:cubicBezTo>
                <a:cubicBezTo>
                  <a:pt x="570" y="103"/>
                  <a:pt x="570" y="103"/>
                  <a:pt x="570" y="103"/>
                </a:cubicBezTo>
                <a:cubicBezTo>
                  <a:pt x="570" y="103"/>
                  <a:pt x="570" y="103"/>
                  <a:pt x="570" y="103"/>
                </a:cubicBezTo>
                <a:cubicBezTo>
                  <a:pt x="571" y="102"/>
                  <a:pt x="571" y="102"/>
                  <a:pt x="571" y="102"/>
                </a:cubicBezTo>
                <a:cubicBezTo>
                  <a:pt x="571" y="102"/>
                  <a:pt x="571" y="102"/>
                  <a:pt x="571" y="102"/>
                </a:cubicBezTo>
                <a:cubicBezTo>
                  <a:pt x="571" y="102"/>
                  <a:pt x="571" y="102"/>
                  <a:pt x="571" y="102"/>
                </a:cubicBezTo>
                <a:cubicBezTo>
                  <a:pt x="572" y="102"/>
                  <a:pt x="572" y="102"/>
                  <a:pt x="572" y="102"/>
                </a:cubicBezTo>
                <a:cubicBezTo>
                  <a:pt x="572" y="102"/>
                  <a:pt x="572" y="102"/>
                  <a:pt x="572" y="102"/>
                </a:cubicBezTo>
                <a:cubicBezTo>
                  <a:pt x="572" y="101"/>
                  <a:pt x="572" y="101"/>
                  <a:pt x="572" y="101"/>
                </a:cubicBezTo>
                <a:cubicBezTo>
                  <a:pt x="572" y="101"/>
                  <a:pt x="572" y="101"/>
                  <a:pt x="572" y="101"/>
                </a:cubicBezTo>
                <a:cubicBezTo>
                  <a:pt x="572" y="101"/>
                  <a:pt x="572" y="101"/>
                  <a:pt x="572" y="101"/>
                </a:cubicBezTo>
                <a:cubicBezTo>
                  <a:pt x="573" y="101"/>
                  <a:pt x="573" y="101"/>
                  <a:pt x="573" y="101"/>
                </a:cubicBezTo>
                <a:cubicBezTo>
                  <a:pt x="573" y="101"/>
                  <a:pt x="573" y="101"/>
                  <a:pt x="573" y="101"/>
                </a:cubicBezTo>
                <a:cubicBezTo>
                  <a:pt x="573" y="101"/>
                  <a:pt x="573" y="101"/>
                  <a:pt x="573" y="101"/>
                </a:cubicBezTo>
                <a:cubicBezTo>
                  <a:pt x="573" y="100"/>
                  <a:pt x="573" y="100"/>
                  <a:pt x="573" y="100"/>
                </a:cubicBezTo>
                <a:cubicBezTo>
                  <a:pt x="573" y="100"/>
                  <a:pt x="573" y="100"/>
                  <a:pt x="573" y="100"/>
                </a:cubicBezTo>
                <a:cubicBezTo>
                  <a:pt x="573" y="100"/>
                  <a:pt x="573" y="100"/>
                  <a:pt x="573" y="100"/>
                </a:cubicBezTo>
                <a:cubicBezTo>
                  <a:pt x="573" y="100"/>
                  <a:pt x="573" y="100"/>
                  <a:pt x="573" y="100"/>
                </a:cubicBezTo>
                <a:cubicBezTo>
                  <a:pt x="573" y="100"/>
                  <a:pt x="573" y="100"/>
                  <a:pt x="573" y="100"/>
                </a:cubicBezTo>
                <a:cubicBezTo>
                  <a:pt x="573" y="100"/>
                  <a:pt x="573" y="100"/>
                  <a:pt x="573" y="100"/>
                </a:cubicBezTo>
                <a:cubicBezTo>
                  <a:pt x="574" y="100"/>
                  <a:pt x="574" y="100"/>
                  <a:pt x="574" y="100"/>
                </a:cubicBezTo>
                <a:cubicBezTo>
                  <a:pt x="574" y="100"/>
                  <a:pt x="574" y="100"/>
                  <a:pt x="574" y="100"/>
                </a:cubicBezTo>
                <a:cubicBezTo>
                  <a:pt x="574" y="100"/>
                  <a:pt x="574" y="100"/>
                  <a:pt x="574" y="100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1" y="66"/>
                  <a:pt x="568" y="33"/>
                  <a:pt x="564" y="0"/>
                </a:cubicBezTo>
                <a:cubicBezTo>
                  <a:pt x="564" y="1"/>
                  <a:pt x="564" y="1"/>
                  <a:pt x="564" y="1"/>
                </a:cubicBezTo>
                <a:cubicBezTo>
                  <a:pt x="564" y="1"/>
                  <a:pt x="564" y="1"/>
                  <a:pt x="564" y="1"/>
                </a:cubicBezTo>
                <a:cubicBezTo>
                  <a:pt x="564" y="1"/>
                  <a:pt x="564" y="1"/>
                  <a:pt x="564" y="1"/>
                </a:cubicBezTo>
                <a:cubicBezTo>
                  <a:pt x="564" y="1"/>
                  <a:pt x="564" y="1"/>
                  <a:pt x="564" y="1"/>
                </a:cubicBezTo>
                <a:cubicBezTo>
                  <a:pt x="563" y="2"/>
                  <a:pt x="563" y="2"/>
                  <a:pt x="562" y="3"/>
                </a:cubicBezTo>
                <a:cubicBezTo>
                  <a:pt x="562" y="3"/>
                  <a:pt x="562" y="3"/>
                  <a:pt x="562" y="3"/>
                </a:cubicBezTo>
                <a:cubicBezTo>
                  <a:pt x="560" y="4"/>
                  <a:pt x="558" y="5"/>
                  <a:pt x="556" y="6"/>
                </a:cubicBezTo>
                <a:cubicBezTo>
                  <a:pt x="556" y="6"/>
                  <a:pt x="556" y="6"/>
                  <a:pt x="556" y="6"/>
                </a:cubicBezTo>
                <a:cubicBezTo>
                  <a:pt x="554" y="7"/>
                  <a:pt x="553" y="7"/>
                  <a:pt x="552" y="7"/>
                </a:cubicBezTo>
                <a:cubicBezTo>
                  <a:pt x="552" y="8"/>
                  <a:pt x="552" y="8"/>
                  <a:pt x="552" y="8"/>
                </a:cubicBezTo>
                <a:cubicBezTo>
                  <a:pt x="551" y="8"/>
                  <a:pt x="549" y="8"/>
                  <a:pt x="548" y="9"/>
                </a:cubicBezTo>
                <a:cubicBezTo>
                  <a:pt x="548" y="9"/>
                  <a:pt x="548" y="9"/>
                  <a:pt x="548" y="9"/>
                </a:cubicBezTo>
                <a:cubicBezTo>
                  <a:pt x="548" y="9"/>
                  <a:pt x="548" y="9"/>
                  <a:pt x="548" y="9"/>
                </a:cubicBezTo>
                <a:cubicBezTo>
                  <a:pt x="547" y="9"/>
                  <a:pt x="546" y="10"/>
                  <a:pt x="545" y="10"/>
                </a:cubicBezTo>
                <a:cubicBezTo>
                  <a:pt x="544" y="10"/>
                  <a:pt x="544" y="10"/>
                  <a:pt x="544" y="10"/>
                </a:cubicBezTo>
                <a:cubicBezTo>
                  <a:pt x="544" y="11"/>
                  <a:pt x="544" y="11"/>
                  <a:pt x="544" y="11"/>
                </a:cubicBezTo>
                <a:cubicBezTo>
                  <a:pt x="543" y="11"/>
                  <a:pt x="543" y="11"/>
                  <a:pt x="543" y="11"/>
                </a:cubicBezTo>
                <a:cubicBezTo>
                  <a:pt x="543" y="11"/>
                  <a:pt x="543" y="11"/>
                  <a:pt x="543" y="11"/>
                </a:cubicBezTo>
                <a:cubicBezTo>
                  <a:pt x="543" y="11"/>
                  <a:pt x="543" y="11"/>
                  <a:pt x="543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1" y="11"/>
                  <a:pt x="541" y="11"/>
                  <a:pt x="541" y="11"/>
                </a:cubicBezTo>
                <a:cubicBezTo>
                  <a:pt x="541" y="11"/>
                  <a:pt x="541" y="11"/>
                  <a:pt x="541" y="11"/>
                </a:cubicBezTo>
                <a:cubicBezTo>
                  <a:pt x="541" y="12"/>
                  <a:pt x="541" y="12"/>
                  <a:pt x="541" y="12"/>
                </a:cubicBezTo>
                <a:cubicBezTo>
                  <a:pt x="541" y="12"/>
                  <a:pt x="541" y="12"/>
                  <a:pt x="541" y="12"/>
                </a:cubicBezTo>
                <a:cubicBezTo>
                  <a:pt x="541" y="12"/>
                  <a:pt x="541" y="12"/>
                  <a:pt x="541" y="12"/>
                </a:cubicBezTo>
                <a:cubicBezTo>
                  <a:pt x="541" y="12"/>
                  <a:pt x="541" y="12"/>
                  <a:pt x="541" y="12"/>
                </a:cubicBezTo>
                <a:cubicBezTo>
                  <a:pt x="541" y="12"/>
                  <a:pt x="541" y="12"/>
                  <a:pt x="541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3"/>
                  <a:pt x="540" y="13"/>
                  <a:pt x="540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48" y="103"/>
                  <a:pt x="548" y="103"/>
                  <a:pt x="548" y="103"/>
                </a:cubicBezTo>
                <a:cubicBezTo>
                  <a:pt x="525" y="104"/>
                  <a:pt x="501" y="104"/>
                  <a:pt x="476" y="104"/>
                </a:cubicBezTo>
                <a:cubicBezTo>
                  <a:pt x="471" y="104"/>
                  <a:pt x="466" y="104"/>
                  <a:pt x="461" y="105"/>
                </a:cubicBezTo>
                <a:cubicBezTo>
                  <a:pt x="457" y="75"/>
                  <a:pt x="454" y="46"/>
                  <a:pt x="451" y="17"/>
                </a:cubicBezTo>
                <a:cubicBezTo>
                  <a:pt x="451" y="16"/>
                  <a:pt x="451" y="16"/>
                  <a:pt x="451" y="16"/>
                </a:cubicBezTo>
                <a:cubicBezTo>
                  <a:pt x="451" y="16"/>
                  <a:pt x="451" y="16"/>
                  <a:pt x="451" y="16"/>
                </a:cubicBezTo>
                <a:cubicBezTo>
                  <a:pt x="451" y="16"/>
                  <a:pt x="451" y="16"/>
                  <a:pt x="451" y="16"/>
                </a:cubicBezTo>
                <a:cubicBezTo>
                  <a:pt x="451" y="15"/>
                  <a:pt x="451" y="15"/>
                  <a:pt x="451" y="15"/>
                </a:cubicBezTo>
                <a:cubicBezTo>
                  <a:pt x="450" y="15"/>
                  <a:pt x="450" y="15"/>
                  <a:pt x="450" y="15"/>
                </a:cubicBezTo>
                <a:cubicBezTo>
                  <a:pt x="450" y="14"/>
                  <a:pt x="450" y="14"/>
                  <a:pt x="450" y="14"/>
                </a:cubicBezTo>
                <a:cubicBezTo>
                  <a:pt x="450" y="14"/>
                  <a:pt x="450" y="14"/>
                  <a:pt x="450" y="14"/>
                </a:cubicBezTo>
                <a:cubicBezTo>
                  <a:pt x="450" y="13"/>
                  <a:pt x="450" y="13"/>
                  <a:pt x="450" y="13"/>
                </a:cubicBezTo>
                <a:cubicBezTo>
                  <a:pt x="453" y="44"/>
                  <a:pt x="457" y="74"/>
                  <a:pt x="460" y="105"/>
                </a:cubicBezTo>
                <a:cubicBezTo>
                  <a:pt x="417" y="105"/>
                  <a:pt x="374" y="106"/>
                  <a:pt x="337" y="106"/>
                </a:cubicBezTo>
                <a:cubicBezTo>
                  <a:pt x="295" y="107"/>
                  <a:pt x="261" y="107"/>
                  <a:pt x="243" y="108"/>
                </a:cubicBezTo>
                <a:cubicBezTo>
                  <a:pt x="243" y="108"/>
                  <a:pt x="242" y="108"/>
                  <a:pt x="242" y="108"/>
                </a:cubicBezTo>
                <a:cubicBezTo>
                  <a:pt x="241" y="108"/>
                  <a:pt x="240" y="108"/>
                  <a:pt x="240" y="108"/>
                </a:cubicBezTo>
                <a:cubicBezTo>
                  <a:pt x="239" y="108"/>
                  <a:pt x="239" y="108"/>
                  <a:pt x="238" y="108"/>
                </a:cubicBezTo>
                <a:cubicBezTo>
                  <a:pt x="238" y="108"/>
                  <a:pt x="237" y="108"/>
                  <a:pt x="237" y="108"/>
                </a:cubicBezTo>
                <a:cubicBezTo>
                  <a:pt x="232" y="108"/>
                  <a:pt x="227" y="108"/>
                  <a:pt x="223" y="108"/>
                </a:cubicBezTo>
                <a:cubicBezTo>
                  <a:pt x="223" y="108"/>
                  <a:pt x="223" y="108"/>
                  <a:pt x="223" y="108"/>
                </a:cubicBezTo>
                <a:cubicBezTo>
                  <a:pt x="221" y="108"/>
                  <a:pt x="219" y="108"/>
                  <a:pt x="217" y="108"/>
                </a:cubicBezTo>
                <a:cubicBezTo>
                  <a:pt x="217" y="108"/>
                  <a:pt x="217" y="108"/>
                  <a:pt x="217" y="108"/>
                </a:cubicBezTo>
                <a:cubicBezTo>
                  <a:pt x="215" y="108"/>
                  <a:pt x="214" y="108"/>
                  <a:pt x="212" y="108"/>
                </a:cubicBezTo>
                <a:cubicBezTo>
                  <a:pt x="212" y="108"/>
                  <a:pt x="212" y="108"/>
                  <a:pt x="212" y="108"/>
                </a:cubicBezTo>
                <a:cubicBezTo>
                  <a:pt x="211" y="108"/>
                  <a:pt x="209" y="108"/>
                  <a:pt x="208" y="107"/>
                </a:cubicBezTo>
                <a:cubicBezTo>
                  <a:pt x="208" y="107"/>
                  <a:pt x="208" y="107"/>
                  <a:pt x="208" y="107"/>
                </a:cubicBezTo>
                <a:cubicBezTo>
                  <a:pt x="206" y="107"/>
                  <a:pt x="205" y="107"/>
                  <a:pt x="204" y="107"/>
                </a:cubicBezTo>
                <a:cubicBezTo>
                  <a:pt x="204" y="107"/>
                  <a:pt x="204" y="107"/>
                  <a:pt x="204" y="107"/>
                </a:cubicBezTo>
                <a:cubicBezTo>
                  <a:pt x="202" y="107"/>
                  <a:pt x="200" y="107"/>
                  <a:pt x="198" y="107"/>
                </a:cubicBezTo>
                <a:cubicBezTo>
                  <a:pt x="198" y="107"/>
                  <a:pt x="198" y="107"/>
                  <a:pt x="198" y="107"/>
                </a:cubicBezTo>
                <a:cubicBezTo>
                  <a:pt x="197" y="107"/>
                  <a:pt x="197" y="106"/>
                  <a:pt x="196" y="106"/>
                </a:cubicBezTo>
                <a:cubicBezTo>
                  <a:pt x="196" y="106"/>
                  <a:pt x="196" y="106"/>
                  <a:pt x="196" y="106"/>
                </a:cubicBezTo>
                <a:cubicBezTo>
                  <a:pt x="195" y="106"/>
                  <a:pt x="193" y="106"/>
                  <a:pt x="193" y="106"/>
                </a:cubicBezTo>
                <a:cubicBezTo>
                  <a:pt x="193" y="106"/>
                  <a:pt x="193" y="106"/>
                  <a:pt x="193" y="106"/>
                </a:cubicBezTo>
                <a:cubicBezTo>
                  <a:pt x="192" y="106"/>
                  <a:pt x="192" y="106"/>
                  <a:pt x="192" y="106"/>
                </a:cubicBezTo>
                <a:cubicBezTo>
                  <a:pt x="191" y="105"/>
                  <a:pt x="191" y="105"/>
                  <a:pt x="191" y="105"/>
                </a:cubicBezTo>
                <a:cubicBezTo>
                  <a:pt x="191" y="105"/>
                  <a:pt x="191" y="105"/>
                  <a:pt x="191" y="105"/>
                </a:cubicBezTo>
                <a:cubicBezTo>
                  <a:pt x="191" y="105"/>
                  <a:pt x="191" y="105"/>
                  <a:pt x="191" y="105"/>
                </a:cubicBezTo>
                <a:cubicBezTo>
                  <a:pt x="191" y="105"/>
                  <a:pt x="191" y="105"/>
                  <a:pt x="191" y="105"/>
                </a:cubicBezTo>
                <a:cubicBezTo>
                  <a:pt x="190" y="105"/>
                  <a:pt x="190" y="105"/>
                  <a:pt x="190" y="105"/>
                </a:cubicBezTo>
                <a:cubicBezTo>
                  <a:pt x="190" y="104"/>
                  <a:pt x="190" y="104"/>
                  <a:pt x="190" y="104"/>
                </a:cubicBezTo>
                <a:cubicBezTo>
                  <a:pt x="190" y="104"/>
                  <a:pt x="190" y="104"/>
                  <a:pt x="190" y="104"/>
                </a:cubicBezTo>
                <a:cubicBezTo>
                  <a:pt x="195" y="140"/>
                  <a:pt x="199" y="176"/>
                  <a:pt x="204" y="211"/>
                </a:cubicBezTo>
                <a:cubicBezTo>
                  <a:pt x="204" y="212"/>
                  <a:pt x="204" y="212"/>
                  <a:pt x="204" y="212"/>
                </a:cubicBezTo>
                <a:cubicBezTo>
                  <a:pt x="204" y="212"/>
                  <a:pt x="204" y="212"/>
                  <a:pt x="204" y="212"/>
                </a:cubicBezTo>
                <a:cubicBezTo>
                  <a:pt x="204" y="212"/>
                  <a:pt x="204" y="212"/>
                  <a:pt x="204" y="212"/>
                </a:cubicBezTo>
                <a:cubicBezTo>
                  <a:pt x="205" y="212"/>
                  <a:pt x="205" y="212"/>
                  <a:pt x="205" y="212"/>
                </a:cubicBezTo>
                <a:cubicBezTo>
                  <a:pt x="205" y="212"/>
                  <a:pt x="205" y="212"/>
                  <a:pt x="205" y="212"/>
                </a:cubicBezTo>
                <a:cubicBezTo>
                  <a:pt x="205" y="212"/>
                  <a:pt x="205" y="212"/>
                  <a:pt x="205" y="212"/>
                </a:cubicBezTo>
                <a:cubicBezTo>
                  <a:pt x="205" y="212"/>
                  <a:pt x="205" y="212"/>
                  <a:pt x="205" y="212"/>
                </a:cubicBezTo>
                <a:cubicBezTo>
                  <a:pt x="205" y="212"/>
                  <a:pt x="205" y="212"/>
                  <a:pt x="205" y="212"/>
                </a:cubicBezTo>
                <a:cubicBezTo>
                  <a:pt x="205" y="212"/>
                  <a:pt x="205" y="212"/>
                  <a:pt x="205" y="212"/>
                </a:cubicBezTo>
                <a:cubicBezTo>
                  <a:pt x="206" y="213"/>
                  <a:pt x="206" y="213"/>
                  <a:pt x="206" y="213"/>
                </a:cubicBezTo>
                <a:cubicBezTo>
                  <a:pt x="206" y="213"/>
                  <a:pt x="206" y="213"/>
                  <a:pt x="206" y="213"/>
                </a:cubicBezTo>
                <a:cubicBezTo>
                  <a:pt x="206" y="213"/>
                  <a:pt x="206" y="213"/>
                  <a:pt x="206" y="213"/>
                </a:cubicBezTo>
                <a:cubicBezTo>
                  <a:pt x="207" y="213"/>
                  <a:pt x="207" y="213"/>
                  <a:pt x="207" y="213"/>
                </a:cubicBezTo>
                <a:cubicBezTo>
                  <a:pt x="207" y="213"/>
                  <a:pt x="207" y="213"/>
                  <a:pt x="207" y="213"/>
                </a:cubicBezTo>
                <a:cubicBezTo>
                  <a:pt x="207" y="213"/>
                  <a:pt x="207" y="213"/>
                  <a:pt x="207" y="213"/>
                </a:cubicBezTo>
                <a:cubicBezTo>
                  <a:pt x="208" y="213"/>
                  <a:pt x="208" y="213"/>
                  <a:pt x="208" y="213"/>
                </a:cubicBezTo>
                <a:cubicBezTo>
                  <a:pt x="208" y="213"/>
                  <a:pt x="208" y="213"/>
                  <a:pt x="208" y="213"/>
                </a:cubicBezTo>
                <a:cubicBezTo>
                  <a:pt x="208" y="213"/>
                  <a:pt x="208" y="213"/>
                  <a:pt x="208" y="213"/>
                </a:cubicBezTo>
                <a:cubicBezTo>
                  <a:pt x="209" y="214"/>
                  <a:pt x="209" y="214"/>
                  <a:pt x="209" y="214"/>
                </a:cubicBezTo>
                <a:cubicBezTo>
                  <a:pt x="209" y="214"/>
                  <a:pt x="209" y="214"/>
                  <a:pt x="209" y="214"/>
                </a:cubicBezTo>
                <a:cubicBezTo>
                  <a:pt x="210" y="214"/>
                  <a:pt x="210" y="214"/>
                  <a:pt x="210" y="214"/>
                </a:cubicBezTo>
                <a:cubicBezTo>
                  <a:pt x="210" y="214"/>
                  <a:pt x="210" y="214"/>
                  <a:pt x="210" y="214"/>
                </a:cubicBezTo>
                <a:cubicBezTo>
                  <a:pt x="210" y="214"/>
                  <a:pt x="210" y="214"/>
                  <a:pt x="210" y="214"/>
                </a:cubicBezTo>
                <a:cubicBezTo>
                  <a:pt x="210" y="214"/>
                  <a:pt x="210" y="214"/>
                  <a:pt x="210" y="214"/>
                </a:cubicBezTo>
                <a:cubicBezTo>
                  <a:pt x="210" y="214"/>
                  <a:pt x="210" y="214"/>
                  <a:pt x="210" y="214"/>
                </a:cubicBezTo>
                <a:cubicBezTo>
                  <a:pt x="211" y="214"/>
                  <a:pt x="211" y="214"/>
                  <a:pt x="211" y="214"/>
                </a:cubicBezTo>
                <a:cubicBezTo>
                  <a:pt x="211" y="214"/>
                  <a:pt x="211" y="214"/>
                  <a:pt x="211" y="214"/>
                </a:cubicBezTo>
                <a:cubicBezTo>
                  <a:pt x="212" y="214"/>
                  <a:pt x="212" y="214"/>
                  <a:pt x="212" y="214"/>
                </a:cubicBezTo>
                <a:cubicBezTo>
                  <a:pt x="212" y="214"/>
                  <a:pt x="212" y="214"/>
                  <a:pt x="212" y="214"/>
                </a:cubicBezTo>
                <a:cubicBezTo>
                  <a:pt x="212" y="214"/>
                  <a:pt x="212" y="214"/>
                  <a:pt x="212" y="214"/>
                </a:cubicBezTo>
                <a:cubicBezTo>
                  <a:pt x="212" y="214"/>
                  <a:pt x="212" y="214"/>
                  <a:pt x="212" y="214"/>
                </a:cubicBezTo>
                <a:cubicBezTo>
                  <a:pt x="212" y="214"/>
                  <a:pt x="212" y="214"/>
                  <a:pt x="212" y="214"/>
                </a:cubicBezTo>
                <a:cubicBezTo>
                  <a:pt x="213" y="214"/>
                  <a:pt x="213" y="214"/>
                  <a:pt x="213" y="214"/>
                </a:cubicBezTo>
                <a:cubicBezTo>
                  <a:pt x="214" y="214"/>
                  <a:pt x="214" y="214"/>
                  <a:pt x="214" y="214"/>
                </a:cubicBezTo>
                <a:cubicBezTo>
                  <a:pt x="214" y="214"/>
                  <a:pt x="214" y="214"/>
                  <a:pt x="214" y="214"/>
                </a:cubicBezTo>
                <a:cubicBezTo>
                  <a:pt x="215" y="214"/>
                  <a:pt x="215" y="214"/>
                  <a:pt x="215" y="214"/>
                </a:cubicBezTo>
                <a:cubicBezTo>
                  <a:pt x="215" y="214"/>
                  <a:pt x="215" y="214"/>
                  <a:pt x="215" y="214"/>
                </a:cubicBezTo>
                <a:cubicBezTo>
                  <a:pt x="215" y="214"/>
                  <a:pt x="215" y="214"/>
                  <a:pt x="215" y="214"/>
                </a:cubicBezTo>
                <a:cubicBezTo>
                  <a:pt x="215" y="214"/>
                  <a:pt x="215" y="214"/>
                  <a:pt x="215" y="214"/>
                </a:cubicBezTo>
                <a:cubicBezTo>
                  <a:pt x="216" y="215"/>
                  <a:pt x="216" y="215"/>
                  <a:pt x="216" y="215"/>
                </a:cubicBezTo>
                <a:cubicBezTo>
                  <a:pt x="217" y="215"/>
                  <a:pt x="217" y="215"/>
                  <a:pt x="217" y="215"/>
                </a:cubicBezTo>
                <a:cubicBezTo>
                  <a:pt x="218" y="215"/>
                  <a:pt x="218" y="215"/>
                  <a:pt x="218" y="215"/>
                </a:cubicBezTo>
                <a:cubicBezTo>
                  <a:pt x="218" y="215"/>
                  <a:pt x="218" y="215"/>
                  <a:pt x="218" y="215"/>
                </a:cubicBezTo>
                <a:cubicBezTo>
                  <a:pt x="218" y="215"/>
                  <a:pt x="218" y="215"/>
                  <a:pt x="218" y="215"/>
                </a:cubicBezTo>
                <a:cubicBezTo>
                  <a:pt x="219" y="215"/>
                  <a:pt x="219" y="215"/>
                  <a:pt x="219" y="215"/>
                </a:cubicBezTo>
                <a:cubicBezTo>
                  <a:pt x="219" y="215"/>
                  <a:pt x="219" y="215"/>
                  <a:pt x="219" y="215"/>
                </a:cubicBezTo>
                <a:cubicBezTo>
                  <a:pt x="220" y="215"/>
                  <a:pt x="220" y="215"/>
                  <a:pt x="220" y="215"/>
                </a:cubicBezTo>
                <a:cubicBezTo>
                  <a:pt x="221" y="215"/>
                  <a:pt x="221" y="215"/>
                  <a:pt x="221" y="215"/>
                </a:cubicBezTo>
                <a:cubicBezTo>
                  <a:pt x="222" y="215"/>
                  <a:pt x="222" y="215"/>
                  <a:pt x="222" y="215"/>
                </a:cubicBezTo>
                <a:cubicBezTo>
                  <a:pt x="222" y="215"/>
                  <a:pt x="222" y="215"/>
                  <a:pt x="222" y="215"/>
                </a:cubicBezTo>
                <a:cubicBezTo>
                  <a:pt x="222" y="215"/>
                  <a:pt x="222" y="215"/>
                  <a:pt x="222" y="215"/>
                </a:cubicBezTo>
                <a:cubicBezTo>
                  <a:pt x="223" y="215"/>
                  <a:pt x="223" y="215"/>
                  <a:pt x="224" y="215"/>
                </a:cubicBezTo>
                <a:cubicBezTo>
                  <a:pt x="224" y="215"/>
                  <a:pt x="224" y="215"/>
                  <a:pt x="225" y="215"/>
                </a:cubicBezTo>
                <a:cubicBezTo>
                  <a:pt x="225" y="215"/>
                  <a:pt x="226" y="215"/>
                  <a:pt x="226" y="215"/>
                </a:cubicBezTo>
                <a:cubicBezTo>
                  <a:pt x="226" y="215"/>
                  <a:pt x="226" y="215"/>
                  <a:pt x="226" y="215"/>
                </a:cubicBezTo>
                <a:cubicBezTo>
                  <a:pt x="226" y="215"/>
                  <a:pt x="227" y="215"/>
                  <a:pt x="227" y="215"/>
                </a:cubicBezTo>
                <a:cubicBezTo>
                  <a:pt x="228" y="215"/>
                  <a:pt x="228" y="215"/>
                  <a:pt x="229" y="215"/>
                </a:cubicBezTo>
                <a:cubicBezTo>
                  <a:pt x="230" y="215"/>
                  <a:pt x="230" y="215"/>
                  <a:pt x="231" y="215"/>
                </a:cubicBezTo>
                <a:cubicBezTo>
                  <a:pt x="231" y="215"/>
                  <a:pt x="231" y="215"/>
                  <a:pt x="231" y="215"/>
                </a:cubicBezTo>
                <a:cubicBezTo>
                  <a:pt x="231" y="215"/>
                  <a:pt x="231" y="215"/>
                  <a:pt x="231" y="215"/>
                </a:cubicBezTo>
                <a:cubicBezTo>
                  <a:pt x="232" y="215"/>
                  <a:pt x="232" y="215"/>
                  <a:pt x="232" y="215"/>
                </a:cubicBezTo>
                <a:cubicBezTo>
                  <a:pt x="233" y="215"/>
                  <a:pt x="233" y="215"/>
                  <a:pt x="234" y="215"/>
                </a:cubicBezTo>
                <a:cubicBezTo>
                  <a:pt x="235" y="215"/>
                  <a:pt x="236" y="215"/>
                  <a:pt x="236" y="215"/>
                </a:cubicBezTo>
                <a:cubicBezTo>
                  <a:pt x="237" y="215"/>
                  <a:pt x="237" y="215"/>
                  <a:pt x="237" y="215"/>
                </a:cubicBezTo>
                <a:cubicBezTo>
                  <a:pt x="237" y="215"/>
                  <a:pt x="237" y="215"/>
                  <a:pt x="237" y="215"/>
                </a:cubicBezTo>
                <a:cubicBezTo>
                  <a:pt x="237" y="215"/>
                  <a:pt x="238" y="215"/>
                  <a:pt x="239" y="215"/>
                </a:cubicBezTo>
                <a:cubicBezTo>
                  <a:pt x="239" y="215"/>
                  <a:pt x="240" y="215"/>
                  <a:pt x="241" y="215"/>
                </a:cubicBezTo>
                <a:cubicBezTo>
                  <a:pt x="242" y="215"/>
                  <a:pt x="242" y="215"/>
                  <a:pt x="243" y="215"/>
                </a:cubicBezTo>
                <a:cubicBezTo>
                  <a:pt x="243" y="215"/>
                  <a:pt x="243" y="215"/>
                  <a:pt x="243" y="215"/>
                </a:cubicBezTo>
                <a:cubicBezTo>
                  <a:pt x="244" y="215"/>
                  <a:pt x="245" y="215"/>
                  <a:pt x="245" y="215"/>
                </a:cubicBezTo>
                <a:cubicBezTo>
                  <a:pt x="246" y="215"/>
                  <a:pt x="246" y="215"/>
                  <a:pt x="247" y="215"/>
                </a:cubicBezTo>
                <a:cubicBezTo>
                  <a:pt x="247" y="215"/>
                  <a:pt x="248" y="215"/>
                  <a:pt x="249" y="215"/>
                </a:cubicBezTo>
                <a:cubicBezTo>
                  <a:pt x="249" y="215"/>
                  <a:pt x="250" y="215"/>
                  <a:pt x="251" y="215"/>
                </a:cubicBezTo>
                <a:cubicBezTo>
                  <a:pt x="251" y="215"/>
                  <a:pt x="251" y="215"/>
                  <a:pt x="252" y="215"/>
                </a:cubicBezTo>
                <a:cubicBezTo>
                  <a:pt x="252" y="215"/>
                  <a:pt x="253" y="215"/>
                  <a:pt x="254" y="215"/>
                </a:cubicBezTo>
                <a:cubicBezTo>
                  <a:pt x="254" y="215"/>
                  <a:pt x="255" y="215"/>
                  <a:pt x="255" y="215"/>
                </a:cubicBezTo>
                <a:cubicBezTo>
                  <a:pt x="256" y="215"/>
                  <a:pt x="256" y="215"/>
                  <a:pt x="257" y="215"/>
                </a:cubicBezTo>
                <a:cubicBezTo>
                  <a:pt x="271" y="215"/>
                  <a:pt x="296" y="215"/>
                  <a:pt x="328" y="214"/>
                </a:cubicBezTo>
                <a:cubicBezTo>
                  <a:pt x="331" y="243"/>
                  <a:pt x="334" y="271"/>
                  <a:pt x="338" y="299"/>
                </a:cubicBezTo>
                <a:cubicBezTo>
                  <a:pt x="336" y="299"/>
                  <a:pt x="335" y="299"/>
                  <a:pt x="333" y="299"/>
                </a:cubicBezTo>
                <a:cubicBezTo>
                  <a:pt x="333" y="299"/>
                  <a:pt x="332" y="299"/>
                  <a:pt x="332" y="299"/>
                </a:cubicBezTo>
                <a:cubicBezTo>
                  <a:pt x="331" y="299"/>
                  <a:pt x="330" y="299"/>
                  <a:pt x="328" y="299"/>
                </a:cubicBezTo>
                <a:cubicBezTo>
                  <a:pt x="325" y="300"/>
                  <a:pt x="321" y="300"/>
                  <a:pt x="318" y="300"/>
                </a:cubicBezTo>
                <a:cubicBezTo>
                  <a:pt x="316" y="300"/>
                  <a:pt x="315" y="300"/>
                  <a:pt x="314" y="300"/>
                </a:cubicBezTo>
                <a:cubicBezTo>
                  <a:pt x="314" y="300"/>
                  <a:pt x="314" y="300"/>
                  <a:pt x="314" y="300"/>
                </a:cubicBezTo>
                <a:cubicBezTo>
                  <a:pt x="313" y="300"/>
                  <a:pt x="311" y="300"/>
                  <a:pt x="310" y="300"/>
                </a:cubicBezTo>
                <a:cubicBezTo>
                  <a:pt x="309" y="290"/>
                  <a:pt x="308" y="279"/>
                  <a:pt x="307" y="269"/>
                </a:cubicBezTo>
                <a:cubicBezTo>
                  <a:pt x="307" y="269"/>
                  <a:pt x="306" y="268"/>
                  <a:pt x="306" y="268"/>
                </a:cubicBezTo>
                <a:cubicBezTo>
                  <a:pt x="306" y="268"/>
                  <a:pt x="306" y="268"/>
                  <a:pt x="306" y="268"/>
                </a:cubicBezTo>
                <a:cubicBezTo>
                  <a:pt x="306" y="267"/>
                  <a:pt x="306" y="267"/>
                  <a:pt x="306" y="267"/>
                </a:cubicBezTo>
                <a:cubicBezTo>
                  <a:pt x="306" y="267"/>
                  <a:pt x="306" y="267"/>
                  <a:pt x="306" y="267"/>
                </a:cubicBezTo>
                <a:cubicBezTo>
                  <a:pt x="305" y="267"/>
                  <a:pt x="305" y="267"/>
                  <a:pt x="305" y="266"/>
                </a:cubicBezTo>
                <a:cubicBezTo>
                  <a:pt x="305" y="266"/>
                  <a:pt x="305" y="266"/>
                  <a:pt x="305" y="266"/>
                </a:cubicBezTo>
                <a:cubicBezTo>
                  <a:pt x="305" y="266"/>
                  <a:pt x="305" y="266"/>
                  <a:pt x="305" y="266"/>
                </a:cubicBezTo>
                <a:cubicBezTo>
                  <a:pt x="304" y="265"/>
                  <a:pt x="304" y="265"/>
                  <a:pt x="304" y="265"/>
                </a:cubicBezTo>
                <a:cubicBezTo>
                  <a:pt x="303" y="265"/>
                  <a:pt x="303" y="265"/>
                  <a:pt x="303" y="265"/>
                </a:cubicBezTo>
                <a:cubicBezTo>
                  <a:pt x="303" y="265"/>
                  <a:pt x="303" y="265"/>
                  <a:pt x="303" y="265"/>
                </a:cubicBezTo>
                <a:cubicBezTo>
                  <a:pt x="302" y="265"/>
                  <a:pt x="302" y="265"/>
                  <a:pt x="302" y="265"/>
                </a:cubicBezTo>
                <a:cubicBezTo>
                  <a:pt x="302" y="264"/>
                  <a:pt x="301" y="264"/>
                  <a:pt x="300" y="264"/>
                </a:cubicBezTo>
                <a:cubicBezTo>
                  <a:pt x="300" y="264"/>
                  <a:pt x="300" y="264"/>
                  <a:pt x="300" y="264"/>
                </a:cubicBezTo>
                <a:cubicBezTo>
                  <a:pt x="300" y="264"/>
                  <a:pt x="300" y="264"/>
                  <a:pt x="300" y="264"/>
                </a:cubicBezTo>
                <a:cubicBezTo>
                  <a:pt x="299" y="263"/>
                  <a:pt x="299" y="263"/>
                  <a:pt x="299" y="263"/>
                </a:cubicBezTo>
                <a:cubicBezTo>
                  <a:pt x="298" y="263"/>
                  <a:pt x="298" y="263"/>
                  <a:pt x="298" y="263"/>
                </a:cubicBezTo>
                <a:cubicBezTo>
                  <a:pt x="298" y="263"/>
                  <a:pt x="298" y="263"/>
                  <a:pt x="298" y="263"/>
                </a:cubicBezTo>
                <a:cubicBezTo>
                  <a:pt x="298" y="263"/>
                  <a:pt x="298" y="263"/>
                  <a:pt x="298" y="263"/>
                </a:cubicBezTo>
                <a:cubicBezTo>
                  <a:pt x="297" y="263"/>
                  <a:pt x="297" y="263"/>
                  <a:pt x="297" y="263"/>
                </a:cubicBezTo>
                <a:cubicBezTo>
                  <a:pt x="296" y="263"/>
                  <a:pt x="296" y="263"/>
                  <a:pt x="296" y="263"/>
                </a:cubicBezTo>
                <a:cubicBezTo>
                  <a:pt x="296" y="263"/>
                  <a:pt x="296" y="263"/>
                  <a:pt x="296" y="263"/>
                </a:cubicBezTo>
                <a:cubicBezTo>
                  <a:pt x="296" y="263"/>
                  <a:pt x="296" y="263"/>
                  <a:pt x="296" y="263"/>
                </a:cubicBezTo>
                <a:cubicBezTo>
                  <a:pt x="296" y="262"/>
                  <a:pt x="296" y="262"/>
                  <a:pt x="296" y="262"/>
                </a:cubicBezTo>
                <a:cubicBezTo>
                  <a:pt x="296" y="262"/>
                  <a:pt x="296" y="262"/>
                  <a:pt x="296" y="262"/>
                </a:cubicBezTo>
                <a:cubicBezTo>
                  <a:pt x="295" y="262"/>
                  <a:pt x="295" y="262"/>
                  <a:pt x="295" y="262"/>
                </a:cubicBezTo>
                <a:cubicBezTo>
                  <a:pt x="295" y="262"/>
                  <a:pt x="295" y="262"/>
                  <a:pt x="295" y="262"/>
                </a:cubicBezTo>
                <a:cubicBezTo>
                  <a:pt x="294" y="262"/>
                  <a:pt x="294" y="262"/>
                  <a:pt x="294" y="262"/>
                </a:cubicBezTo>
                <a:cubicBezTo>
                  <a:pt x="294" y="262"/>
                  <a:pt x="294" y="262"/>
                  <a:pt x="294" y="262"/>
                </a:cubicBezTo>
                <a:cubicBezTo>
                  <a:pt x="293" y="262"/>
                  <a:pt x="293" y="262"/>
                  <a:pt x="293" y="262"/>
                </a:cubicBezTo>
                <a:cubicBezTo>
                  <a:pt x="293" y="262"/>
                  <a:pt x="293" y="262"/>
                  <a:pt x="293" y="262"/>
                </a:cubicBezTo>
                <a:cubicBezTo>
                  <a:pt x="293" y="262"/>
                  <a:pt x="293" y="262"/>
                  <a:pt x="293" y="262"/>
                </a:cubicBezTo>
                <a:cubicBezTo>
                  <a:pt x="292" y="262"/>
                  <a:pt x="292" y="262"/>
                  <a:pt x="292" y="262"/>
                </a:cubicBezTo>
                <a:cubicBezTo>
                  <a:pt x="292" y="262"/>
                  <a:pt x="292" y="262"/>
                  <a:pt x="292" y="262"/>
                </a:cubicBezTo>
                <a:cubicBezTo>
                  <a:pt x="292" y="262"/>
                  <a:pt x="292" y="262"/>
                  <a:pt x="292" y="262"/>
                </a:cubicBezTo>
                <a:cubicBezTo>
                  <a:pt x="291" y="262"/>
                  <a:pt x="291" y="262"/>
                  <a:pt x="291" y="262"/>
                </a:cubicBezTo>
                <a:cubicBezTo>
                  <a:pt x="290" y="261"/>
                  <a:pt x="290" y="261"/>
                  <a:pt x="290" y="261"/>
                </a:cubicBezTo>
                <a:cubicBezTo>
                  <a:pt x="290" y="261"/>
                  <a:pt x="290" y="261"/>
                  <a:pt x="290" y="261"/>
                </a:cubicBezTo>
                <a:cubicBezTo>
                  <a:pt x="289" y="261"/>
                  <a:pt x="289" y="261"/>
                  <a:pt x="289" y="261"/>
                </a:cubicBezTo>
                <a:cubicBezTo>
                  <a:pt x="289" y="261"/>
                  <a:pt x="289" y="261"/>
                  <a:pt x="289" y="261"/>
                </a:cubicBezTo>
                <a:cubicBezTo>
                  <a:pt x="289" y="261"/>
                  <a:pt x="289" y="261"/>
                  <a:pt x="289" y="261"/>
                </a:cubicBezTo>
                <a:cubicBezTo>
                  <a:pt x="289" y="261"/>
                  <a:pt x="289" y="261"/>
                  <a:pt x="289" y="261"/>
                </a:cubicBezTo>
                <a:cubicBezTo>
                  <a:pt x="288" y="261"/>
                  <a:pt x="288" y="261"/>
                  <a:pt x="288" y="261"/>
                </a:cubicBezTo>
                <a:cubicBezTo>
                  <a:pt x="288" y="261"/>
                  <a:pt x="288" y="261"/>
                  <a:pt x="288" y="261"/>
                </a:cubicBezTo>
                <a:cubicBezTo>
                  <a:pt x="287" y="261"/>
                  <a:pt x="287" y="261"/>
                  <a:pt x="287" y="261"/>
                </a:cubicBezTo>
                <a:cubicBezTo>
                  <a:pt x="286" y="261"/>
                  <a:pt x="286" y="261"/>
                  <a:pt x="286" y="261"/>
                </a:cubicBezTo>
                <a:cubicBezTo>
                  <a:pt x="285" y="261"/>
                  <a:pt x="285" y="261"/>
                  <a:pt x="285" y="261"/>
                </a:cubicBezTo>
                <a:cubicBezTo>
                  <a:pt x="285" y="261"/>
                  <a:pt x="285" y="261"/>
                  <a:pt x="285" y="261"/>
                </a:cubicBezTo>
                <a:cubicBezTo>
                  <a:pt x="284" y="261"/>
                  <a:pt x="284" y="261"/>
                  <a:pt x="284" y="261"/>
                </a:cubicBezTo>
                <a:cubicBezTo>
                  <a:pt x="283" y="261"/>
                  <a:pt x="283" y="261"/>
                  <a:pt x="283" y="261"/>
                </a:cubicBezTo>
                <a:cubicBezTo>
                  <a:pt x="282" y="261"/>
                  <a:pt x="282" y="261"/>
                  <a:pt x="282" y="261"/>
                </a:cubicBezTo>
                <a:cubicBezTo>
                  <a:pt x="281" y="261"/>
                  <a:pt x="281" y="261"/>
                  <a:pt x="281" y="261"/>
                </a:cubicBezTo>
                <a:cubicBezTo>
                  <a:pt x="281" y="260"/>
                  <a:pt x="281" y="260"/>
                  <a:pt x="281" y="260"/>
                </a:cubicBezTo>
                <a:cubicBezTo>
                  <a:pt x="281" y="260"/>
                  <a:pt x="281" y="260"/>
                  <a:pt x="281" y="260"/>
                </a:cubicBezTo>
                <a:cubicBezTo>
                  <a:pt x="280" y="260"/>
                  <a:pt x="280" y="260"/>
                  <a:pt x="280" y="260"/>
                </a:cubicBezTo>
                <a:cubicBezTo>
                  <a:pt x="279" y="260"/>
                  <a:pt x="279" y="260"/>
                  <a:pt x="279" y="260"/>
                </a:cubicBezTo>
                <a:cubicBezTo>
                  <a:pt x="278" y="260"/>
                  <a:pt x="278" y="260"/>
                  <a:pt x="278" y="260"/>
                </a:cubicBezTo>
                <a:cubicBezTo>
                  <a:pt x="277" y="260"/>
                  <a:pt x="277" y="260"/>
                  <a:pt x="277" y="260"/>
                </a:cubicBezTo>
                <a:cubicBezTo>
                  <a:pt x="277" y="260"/>
                  <a:pt x="277" y="260"/>
                  <a:pt x="277" y="260"/>
                </a:cubicBezTo>
                <a:cubicBezTo>
                  <a:pt x="276" y="260"/>
                  <a:pt x="276" y="260"/>
                  <a:pt x="276" y="260"/>
                </a:cubicBezTo>
                <a:cubicBezTo>
                  <a:pt x="276" y="260"/>
                  <a:pt x="276" y="260"/>
                  <a:pt x="276" y="260"/>
                </a:cubicBezTo>
                <a:cubicBezTo>
                  <a:pt x="275" y="260"/>
                  <a:pt x="275" y="260"/>
                  <a:pt x="275" y="260"/>
                </a:cubicBezTo>
                <a:cubicBezTo>
                  <a:pt x="275" y="260"/>
                  <a:pt x="274" y="260"/>
                  <a:pt x="274" y="260"/>
                </a:cubicBezTo>
                <a:cubicBezTo>
                  <a:pt x="274" y="260"/>
                  <a:pt x="273" y="260"/>
                  <a:pt x="273" y="260"/>
                </a:cubicBezTo>
                <a:cubicBezTo>
                  <a:pt x="272" y="260"/>
                  <a:pt x="272" y="260"/>
                  <a:pt x="272" y="260"/>
                </a:cubicBezTo>
                <a:cubicBezTo>
                  <a:pt x="272" y="260"/>
                  <a:pt x="272" y="260"/>
                  <a:pt x="272" y="260"/>
                </a:cubicBezTo>
                <a:cubicBezTo>
                  <a:pt x="272" y="260"/>
                  <a:pt x="272" y="260"/>
                  <a:pt x="272" y="260"/>
                </a:cubicBezTo>
                <a:cubicBezTo>
                  <a:pt x="271" y="260"/>
                  <a:pt x="271" y="260"/>
                  <a:pt x="270" y="260"/>
                </a:cubicBezTo>
                <a:cubicBezTo>
                  <a:pt x="270" y="260"/>
                  <a:pt x="270" y="260"/>
                  <a:pt x="269" y="260"/>
                </a:cubicBezTo>
                <a:cubicBezTo>
                  <a:pt x="269" y="260"/>
                  <a:pt x="268" y="260"/>
                  <a:pt x="268" y="260"/>
                </a:cubicBezTo>
                <a:cubicBezTo>
                  <a:pt x="268" y="260"/>
                  <a:pt x="267" y="260"/>
                  <a:pt x="267" y="260"/>
                </a:cubicBezTo>
                <a:cubicBezTo>
                  <a:pt x="266" y="260"/>
                  <a:pt x="266" y="260"/>
                  <a:pt x="265" y="260"/>
                </a:cubicBezTo>
                <a:cubicBezTo>
                  <a:pt x="265" y="260"/>
                  <a:pt x="265" y="260"/>
                  <a:pt x="265" y="260"/>
                </a:cubicBezTo>
                <a:cubicBezTo>
                  <a:pt x="264" y="260"/>
                  <a:pt x="264" y="260"/>
                  <a:pt x="264" y="260"/>
                </a:cubicBezTo>
                <a:cubicBezTo>
                  <a:pt x="263" y="260"/>
                  <a:pt x="263" y="260"/>
                  <a:pt x="263" y="260"/>
                </a:cubicBezTo>
                <a:cubicBezTo>
                  <a:pt x="262" y="260"/>
                  <a:pt x="262" y="260"/>
                  <a:pt x="262" y="260"/>
                </a:cubicBezTo>
                <a:cubicBezTo>
                  <a:pt x="262" y="260"/>
                  <a:pt x="262" y="260"/>
                  <a:pt x="262" y="260"/>
                </a:cubicBezTo>
                <a:cubicBezTo>
                  <a:pt x="261" y="260"/>
                  <a:pt x="261" y="260"/>
                  <a:pt x="261" y="260"/>
                </a:cubicBezTo>
                <a:cubicBezTo>
                  <a:pt x="261" y="260"/>
                  <a:pt x="261" y="260"/>
                  <a:pt x="261" y="260"/>
                </a:cubicBezTo>
                <a:cubicBezTo>
                  <a:pt x="260" y="260"/>
                  <a:pt x="260" y="260"/>
                  <a:pt x="260" y="260"/>
                </a:cubicBezTo>
                <a:cubicBezTo>
                  <a:pt x="259" y="260"/>
                  <a:pt x="259" y="260"/>
                  <a:pt x="259" y="260"/>
                </a:cubicBezTo>
                <a:cubicBezTo>
                  <a:pt x="258" y="260"/>
                  <a:pt x="258" y="260"/>
                  <a:pt x="257" y="260"/>
                </a:cubicBezTo>
                <a:cubicBezTo>
                  <a:pt x="257" y="260"/>
                  <a:pt x="256" y="260"/>
                  <a:pt x="256" y="260"/>
                </a:cubicBezTo>
                <a:cubicBezTo>
                  <a:pt x="255" y="260"/>
                  <a:pt x="255" y="260"/>
                  <a:pt x="254" y="260"/>
                </a:cubicBezTo>
                <a:cubicBezTo>
                  <a:pt x="254" y="260"/>
                  <a:pt x="253" y="260"/>
                  <a:pt x="253" y="260"/>
                </a:cubicBezTo>
                <a:cubicBezTo>
                  <a:pt x="252" y="260"/>
                  <a:pt x="252" y="260"/>
                  <a:pt x="251" y="260"/>
                </a:cubicBezTo>
                <a:cubicBezTo>
                  <a:pt x="250" y="261"/>
                  <a:pt x="250" y="261"/>
                  <a:pt x="250" y="261"/>
                </a:cubicBezTo>
                <a:cubicBezTo>
                  <a:pt x="250" y="261"/>
                  <a:pt x="250" y="261"/>
                  <a:pt x="250" y="261"/>
                </a:cubicBezTo>
                <a:cubicBezTo>
                  <a:pt x="250" y="261"/>
                  <a:pt x="250" y="261"/>
                  <a:pt x="250" y="261"/>
                </a:cubicBezTo>
                <a:cubicBezTo>
                  <a:pt x="250" y="261"/>
                  <a:pt x="250" y="261"/>
                  <a:pt x="250" y="261"/>
                </a:cubicBezTo>
                <a:cubicBezTo>
                  <a:pt x="249" y="261"/>
                  <a:pt x="249" y="261"/>
                  <a:pt x="248" y="261"/>
                </a:cubicBezTo>
                <a:cubicBezTo>
                  <a:pt x="248" y="261"/>
                  <a:pt x="247" y="261"/>
                  <a:pt x="247" y="261"/>
                </a:cubicBezTo>
                <a:cubicBezTo>
                  <a:pt x="246" y="261"/>
                  <a:pt x="246" y="261"/>
                  <a:pt x="245" y="261"/>
                </a:cubicBezTo>
                <a:cubicBezTo>
                  <a:pt x="244" y="261"/>
                  <a:pt x="244" y="261"/>
                  <a:pt x="244" y="261"/>
                </a:cubicBezTo>
                <a:cubicBezTo>
                  <a:pt x="244" y="261"/>
                  <a:pt x="244" y="261"/>
                  <a:pt x="244" y="261"/>
                </a:cubicBezTo>
                <a:cubicBezTo>
                  <a:pt x="244" y="261"/>
                  <a:pt x="244" y="261"/>
                  <a:pt x="244" y="261"/>
                </a:cubicBezTo>
                <a:cubicBezTo>
                  <a:pt x="243" y="261"/>
                  <a:pt x="243" y="261"/>
                  <a:pt x="242" y="261"/>
                </a:cubicBezTo>
                <a:cubicBezTo>
                  <a:pt x="242" y="261"/>
                  <a:pt x="241" y="261"/>
                  <a:pt x="240" y="261"/>
                </a:cubicBezTo>
                <a:cubicBezTo>
                  <a:pt x="240" y="261"/>
                  <a:pt x="239" y="261"/>
                  <a:pt x="239" y="261"/>
                </a:cubicBezTo>
                <a:cubicBezTo>
                  <a:pt x="239" y="261"/>
                  <a:pt x="239" y="261"/>
                  <a:pt x="239" y="261"/>
                </a:cubicBezTo>
                <a:cubicBezTo>
                  <a:pt x="238" y="261"/>
                  <a:pt x="238" y="261"/>
                  <a:pt x="238" y="261"/>
                </a:cubicBezTo>
                <a:cubicBezTo>
                  <a:pt x="238" y="261"/>
                  <a:pt x="237" y="262"/>
                  <a:pt x="237" y="262"/>
                </a:cubicBezTo>
                <a:cubicBezTo>
                  <a:pt x="236" y="262"/>
                  <a:pt x="236" y="262"/>
                  <a:pt x="235" y="262"/>
                </a:cubicBezTo>
                <a:cubicBezTo>
                  <a:pt x="235" y="262"/>
                  <a:pt x="234" y="262"/>
                  <a:pt x="234" y="262"/>
                </a:cubicBezTo>
                <a:cubicBezTo>
                  <a:pt x="233" y="262"/>
                  <a:pt x="233" y="262"/>
                  <a:pt x="233" y="262"/>
                </a:cubicBezTo>
                <a:cubicBezTo>
                  <a:pt x="232" y="262"/>
                  <a:pt x="232" y="262"/>
                  <a:pt x="232" y="262"/>
                </a:cubicBezTo>
                <a:cubicBezTo>
                  <a:pt x="231" y="262"/>
                  <a:pt x="230" y="262"/>
                  <a:pt x="229" y="263"/>
                </a:cubicBezTo>
                <a:cubicBezTo>
                  <a:pt x="229" y="263"/>
                  <a:pt x="229" y="263"/>
                  <a:pt x="229" y="263"/>
                </a:cubicBezTo>
                <a:cubicBezTo>
                  <a:pt x="229" y="263"/>
                  <a:pt x="229" y="263"/>
                  <a:pt x="229" y="263"/>
                </a:cubicBezTo>
                <a:cubicBezTo>
                  <a:pt x="228" y="263"/>
                  <a:pt x="228" y="263"/>
                  <a:pt x="228" y="263"/>
                </a:cubicBezTo>
                <a:cubicBezTo>
                  <a:pt x="228" y="263"/>
                  <a:pt x="227" y="263"/>
                  <a:pt x="227" y="263"/>
                </a:cubicBezTo>
                <a:cubicBezTo>
                  <a:pt x="226" y="263"/>
                  <a:pt x="225" y="263"/>
                  <a:pt x="224" y="263"/>
                </a:cubicBezTo>
                <a:cubicBezTo>
                  <a:pt x="224" y="263"/>
                  <a:pt x="224" y="263"/>
                  <a:pt x="224" y="263"/>
                </a:cubicBezTo>
                <a:cubicBezTo>
                  <a:pt x="224" y="263"/>
                  <a:pt x="224" y="263"/>
                  <a:pt x="224" y="263"/>
                </a:cubicBezTo>
                <a:cubicBezTo>
                  <a:pt x="223" y="264"/>
                  <a:pt x="223" y="264"/>
                  <a:pt x="223" y="264"/>
                </a:cubicBezTo>
                <a:cubicBezTo>
                  <a:pt x="223" y="264"/>
                  <a:pt x="223" y="264"/>
                  <a:pt x="223" y="264"/>
                </a:cubicBezTo>
                <a:cubicBezTo>
                  <a:pt x="222" y="264"/>
                  <a:pt x="222" y="264"/>
                  <a:pt x="222" y="264"/>
                </a:cubicBezTo>
                <a:cubicBezTo>
                  <a:pt x="221" y="264"/>
                  <a:pt x="221" y="264"/>
                  <a:pt x="221" y="264"/>
                </a:cubicBezTo>
                <a:cubicBezTo>
                  <a:pt x="221" y="264"/>
                  <a:pt x="221" y="264"/>
                  <a:pt x="221" y="264"/>
                </a:cubicBezTo>
                <a:cubicBezTo>
                  <a:pt x="221" y="264"/>
                  <a:pt x="221" y="264"/>
                  <a:pt x="221" y="264"/>
                </a:cubicBezTo>
                <a:cubicBezTo>
                  <a:pt x="221" y="264"/>
                  <a:pt x="221" y="264"/>
                  <a:pt x="221" y="264"/>
                </a:cubicBezTo>
                <a:cubicBezTo>
                  <a:pt x="221" y="264"/>
                  <a:pt x="221" y="264"/>
                  <a:pt x="221" y="264"/>
                </a:cubicBezTo>
                <a:cubicBezTo>
                  <a:pt x="220" y="264"/>
                  <a:pt x="220" y="265"/>
                  <a:pt x="219" y="265"/>
                </a:cubicBezTo>
                <a:cubicBezTo>
                  <a:pt x="219" y="265"/>
                  <a:pt x="219" y="265"/>
                  <a:pt x="218" y="265"/>
                </a:cubicBezTo>
                <a:cubicBezTo>
                  <a:pt x="218" y="265"/>
                  <a:pt x="217" y="265"/>
                  <a:pt x="217" y="265"/>
                </a:cubicBezTo>
                <a:cubicBezTo>
                  <a:pt x="216" y="266"/>
                  <a:pt x="216" y="266"/>
                  <a:pt x="216" y="266"/>
                </a:cubicBezTo>
                <a:cubicBezTo>
                  <a:pt x="215" y="266"/>
                  <a:pt x="215" y="266"/>
                  <a:pt x="215" y="266"/>
                </a:cubicBezTo>
                <a:cubicBezTo>
                  <a:pt x="215" y="266"/>
                  <a:pt x="215" y="266"/>
                  <a:pt x="215" y="266"/>
                </a:cubicBezTo>
                <a:cubicBezTo>
                  <a:pt x="214" y="266"/>
                  <a:pt x="214" y="266"/>
                  <a:pt x="214" y="266"/>
                </a:cubicBezTo>
                <a:cubicBezTo>
                  <a:pt x="214" y="266"/>
                  <a:pt x="213" y="266"/>
                  <a:pt x="213" y="267"/>
                </a:cubicBezTo>
                <a:cubicBezTo>
                  <a:pt x="213" y="267"/>
                  <a:pt x="212" y="267"/>
                  <a:pt x="212" y="267"/>
                </a:cubicBezTo>
                <a:cubicBezTo>
                  <a:pt x="211" y="267"/>
                  <a:pt x="211" y="267"/>
                  <a:pt x="211" y="267"/>
                </a:cubicBezTo>
                <a:cubicBezTo>
                  <a:pt x="210" y="268"/>
                  <a:pt x="210" y="268"/>
                  <a:pt x="210" y="268"/>
                </a:cubicBezTo>
                <a:cubicBezTo>
                  <a:pt x="210" y="268"/>
                  <a:pt x="210" y="268"/>
                  <a:pt x="210" y="268"/>
                </a:cubicBezTo>
                <a:cubicBezTo>
                  <a:pt x="210" y="268"/>
                  <a:pt x="210" y="268"/>
                  <a:pt x="210" y="268"/>
                </a:cubicBezTo>
                <a:cubicBezTo>
                  <a:pt x="210" y="268"/>
                  <a:pt x="210" y="268"/>
                  <a:pt x="210" y="268"/>
                </a:cubicBezTo>
                <a:cubicBezTo>
                  <a:pt x="209" y="268"/>
                  <a:pt x="209" y="268"/>
                  <a:pt x="209" y="268"/>
                </a:cubicBezTo>
                <a:cubicBezTo>
                  <a:pt x="208" y="268"/>
                  <a:pt x="208" y="268"/>
                  <a:pt x="208" y="268"/>
                </a:cubicBezTo>
                <a:cubicBezTo>
                  <a:pt x="207" y="269"/>
                  <a:pt x="207" y="269"/>
                  <a:pt x="207" y="269"/>
                </a:cubicBezTo>
                <a:cubicBezTo>
                  <a:pt x="207" y="269"/>
                  <a:pt x="207" y="269"/>
                  <a:pt x="207" y="269"/>
                </a:cubicBezTo>
                <a:cubicBezTo>
                  <a:pt x="206" y="269"/>
                  <a:pt x="206" y="269"/>
                  <a:pt x="206" y="269"/>
                </a:cubicBezTo>
                <a:cubicBezTo>
                  <a:pt x="205" y="269"/>
                  <a:pt x="205" y="269"/>
                  <a:pt x="205" y="269"/>
                </a:cubicBezTo>
                <a:cubicBezTo>
                  <a:pt x="205" y="269"/>
                  <a:pt x="205" y="269"/>
                  <a:pt x="205" y="269"/>
                </a:cubicBezTo>
                <a:cubicBezTo>
                  <a:pt x="205" y="269"/>
                  <a:pt x="205" y="269"/>
                  <a:pt x="205" y="269"/>
                </a:cubicBezTo>
                <a:cubicBezTo>
                  <a:pt x="205" y="270"/>
                  <a:pt x="205" y="270"/>
                  <a:pt x="205" y="270"/>
                </a:cubicBezTo>
                <a:cubicBezTo>
                  <a:pt x="204" y="270"/>
                  <a:pt x="204" y="270"/>
                  <a:pt x="204" y="270"/>
                </a:cubicBezTo>
                <a:cubicBezTo>
                  <a:pt x="204" y="270"/>
                  <a:pt x="204" y="270"/>
                  <a:pt x="204" y="270"/>
                </a:cubicBezTo>
                <a:cubicBezTo>
                  <a:pt x="203" y="270"/>
                  <a:pt x="203" y="270"/>
                  <a:pt x="203" y="270"/>
                </a:cubicBezTo>
                <a:cubicBezTo>
                  <a:pt x="202" y="271"/>
                  <a:pt x="202" y="271"/>
                  <a:pt x="202" y="271"/>
                </a:cubicBezTo>
                <a:cubicBezTo>
                  <a:pt x="202" y="271"/>
                  <a:pt x="202" y="271"/>
                  <a:pt x="202" y="271"/>
                </a:cubicBezTo>
                <a:cubicBezTo>
                  <a:pt x="202" y="271"/>
                  <a:pt x="202" y="271"/>
                  <a:pt x="202" y="271"/>
                </a:cubicBezTo>
                <a:cubicBezTo>
                  <a:pt x="201" y="271"/>
                  <a:pt x="201" y="271"/>
                  <a:pt x="201" y="271"/>
                </a:cubicBezTo>
                <a:cubicBezTo>
                  <a:pt x="201" y="271"/>
                  <a:pt x="201" y="271"/>
                  <a:pt x="201" y="271"/>
                </a:cubicBezTo>
                <a:cubicBezTo>
                  <a:pt x="201" y="271"/>
                  <a:pt x="201" y="271"/>
                  <a:pt x="201" y="271"/>
                </a:cubicBezTo>
                <a:cubicBezTo>
                  <a:pt x="201" y="271"/>
                  <a:pt x="201" y="271"/>
                  <a:pt x="201" y="271"/>
                </a:cubicBezTo>
                <a:cubicBezTo>
                  <a:pt x="201" y="271"/>
                  <a:pt x="201" y="271"/>
                  <a:pt x="201" y="271"/>
                </a:cubicBezTo>
                <a:cubicBezTo>
                  <a:pt x="200" y="272"/>
                  <a:pt x="200" y="272"/>
                  <a:pt x="200" y="272"/>
                </a:cubicBezTo>
                <a:cubicBezTo>
                  <a:pt x="200" y="272"/>
                  <a:pt x="200" y="272"/>
                  <a:pt x="200" y="272"/>
                </a:cubicBezTo>
                <a:cubicBezTo>
                  <a:pt x="199" y="272"/>
                  <a:pt x="199" y="272"/>
                  <a:pt x="199" y="272"/>
                </a:cubicBezTo>
                <a:cubicBezTo>
                  <a:pt x="199" y="272"/>
                  <a:pt x="199" y="272"/>
                  <a:pt x="199" y="272"/>
                </a:cubicBezTo>
                <a:cubicBezTo>
                  <a:pt x="199" y="273"/>
                  <a:pt x="199" y="273"/>
                  <a:pt x="199" y="273"/>
                </a:cubicBezTo>
                <a:cubicBezTo>
                  <a:pt x="198" y="273"/>
                  <a:pt x="198" y="273"/>
                  <a:pt x="198" y="273"/>
                </a:cubicBezTo>
                <a:cubicBezTo>
                  <a:pt x="198" y="273"/>
                  <a:pt x="198" y="273"/>
                  <a:pt x="198" y="273"/>
                </a:cubicBezTo>
                <a:cubicBezTo>
                  <a:pt x="198" y="273"/>
                  <a:pt x="198" y="273"/>
                  <a:pt x="198" y="273"/>
                </a:cubicBezTo>
                <a:cubicBezTo>
                  <a:pt x="198" y="273"/>
                  <a:pt x="198" y="273"/>
                  <a:pt x="198" y="273"/>
                </a:cubicBezTo>
                <a:cubicBezTo>
                  <a:pt x="198" y="273"/>
                  <a:pt x="198" y="273"/>
                  <a:pt x="198" y="273"/>
                </a:cubicBezTo>
                <a:cubicBezTo>
                  <a:pt x="197" y="274"/>
                  <a:pt x="197" y="274"/>
                  <a:pt x="197" y="274"/>
                </a:cubicBezTo>
                <a:cubicBezTo>
                  <a:pt x="197" y="274"/>
                  <a:pt x="197" y="274"/>
                  <a:pt x="197" y="274"/>
                </a:cubicBezTo>
                <a:cubicBezTo>
                  <a:pt x="196" y="274"/>
                  <a:pt x="196" y="274"/>
                  <a:pt x="196" y="274"/>
                </a:cubicBezTo>
                <a:cubicBezTo>
                  <a:pt x="196" y="274"/>
                  <a:pt x="196" y="274"/>
                  <a:pt x="196" y="274"/>
                </a:cubicBezTo>
                <a:cubicBezTo>
                  <a:pt x="196" y="275"/>
                  <a:pt x="196" y="275"/>
                  <a:pt x="196" y="275"/>
                </a:cubicBezTo>
                <a:cubicBezTo>
                  <a:pt x="195" y="275"/>
                  <a:pt x="195" y="275"/>
                  <a:pt x="195" y="275"/>
                </a:cubicBezTo>
                <a:cubicBezTo>
                  <a:pt x="195" y="275"/>
                  <a:pt x="195" y="275"/>
                  <a:pt x="195" y="275"/>
                </a:cubicBezTo>
                <a:cubicBezTo>
                  <a:pt x="195" y="275"/>
                  <a:pt x="195" y="275"/>
                  <a:pt x="195" y="275"/>
                </a:cubicBezTo>
                <a:cubicBezTo>
                  <a:pt x="195" y="275"/>
                  <a:pt x="195" y="275"/>
                  <a:pt x="195" y="275"/>
                </a:cubicBezTo>
                <a:cubicBezTo>
                  <a:pt x="195" y="275"/>
                  <a:pt x="195" y="275"/>
                  <a:pt x="195" y="275"/>
                </a:cubicBezTo>
                <a:cubicBezTo>
                  <a:pt x="194" y="276"/>
                  <a:pt x="194" y="276"/>
                  <a:pt x="194" y="276"/>
                </a:cubicBezTo>
                <a:cubicBezTo>
                  <a:pt x="194" y="276"/>
                  <a:pt x="194" y="276"/>
                  <a:pt x="194" y="276"/>
                </a:cubicBezTo>
                <a:cubicBezTo>
                  <a:pt x="194" y="276"/>
                  <a:pt x="194" y="276"/>
                  <a:pt x="194" y="276"/>
                </a:cubicBezTo>
                <a:cubicBezTo>
                  <a:pt x="194" y="277"/>
                  <a:pt x="194" y="277"/>
                  <a:pt x="194" y="277"/>
                </a:cubicBezTo>
                <a:cubicBezTo>
                  <a:pt x="193" y="277"/>
                  <a:pt x="193" y="277"/>
                  <a:pt x="193" y="277"/>
                </a:cubicBezTo>
                <a:cubicBezTo>
                  <a:pt x="193" y="278"/>
                  <a:pt x="193" y="278"/>
                  <a:pt x="193" y="278"/>
                </a:cubicBezTo>
                <a:cubicBezTo>
                  <a:pt x="193" y="278"/>
                  <a:pt x="193" y="278"/>
                  <a:pt x="193" y="278"/>
                </a:cubicBezTo>
                <a:cubicBezTo>
                  <a:pt x="193" y="278"/>
                  <a:pt x="193" y="278"/>
                  <a:pt x="193" y="278"/>
                </a:cubicBezTo>
                <a:cubicBezTo>
                  <a:pt x="193" y="278"/>
                  <a:pt x="193" y="278"/>
                  <a:pt x="193" y="278"/>
                </a:cubicBezTo>
                <a:cubicBezTo>
                  <a:pt x="192" y="278"/>
                  <a:pt x="192" y="278"/>
                  <a:pt x="192" y="278"/>
                </a:cubicBezTo>
                <a:cubicBezTo>
                  <a:pt x="192" y="279"/>
                  <a:pt x="192" y="279"/>
                  <a:pt x="192" y="279"/>
                </a:cubicBezTo>
                <a:cubicBezTo>
                  <a:pt x="192" y="279"/>
                  <a:pt x="192" y="279"/>
                  <a:pt x="192" y="279"/>
                </a:cubicBezTo>
                <a:cubicBezTo>
                  <a:pt x="192" y="280"/>
                  <a:pt x="192" y="280"/>
                  <a:pt x="192" y="280"/>
                </a:cubicBezTo>
                <a:cubicBezTo>
                  <a:pt x="191" y="280"/>
                  <a:pt x="191" y="280"/>
                  <a:pt x="191" y="280"/>
                </a:cubicBezTo>
                <a:cubicBezTo>
                  <a:pt x="191" y="281"/>
                  <a:pt x="191" y="281"/>
                  <a:pt x="191" y="282"/>
                </a:cubicBezTo>
                <a:cubicBezTo>
                  <a:pt x="191" y="282"/>
                  <a:pt x="191" y="282"/>
                  <a:pt x="191" y="282"/>
                </a:cubicBezTo>
                <a:cubicBezTo>
                  <a:pt x="190" y="282"/>
                  <a:pt x="190" y="283"/>
                  <a:pt x="190" y="283"/>
                </a:cubicBezTo>
                <a:cubicBezTo>
                  <a:pt x="190" y="283"/>
                  <a:pt x="190" y="283"/>
                  <a:pt x="190" y="283"/>
                </a:cubicBezTo>
                <a:cubicBezTo>
                  <a:pt x="189" y="283"/>
                  <a:pt x="189" y="284"/>
                  <a:pt x="188" y="284"/>
                </a:cubicBezTo>
                <a:cubicBezTo>
                  <a:pt x="188" y="284"/>
                  <a:pt x="188" y="284"/>
                  <a:pt x="188" y="284"/>
                </a:cubicBezTo>
                <a:cubicBezTo>
                  <a:pt x="188" y="285"/>
                  <a:pt x="187" y="285"/>
                  <a:pt x="186" y="286"/>
                </a:cubicBezTo>
                <a:cubicBezTo>
                  <a:pt x="186" y="286"/>
                  <a:pt x="186" y="286"/>
                  <a:pt x="186" y="286"/>
                </a:cubicBezTo>
                <a:cubicBezTo>
                  <a:pt x="186" y="286"/>
                  <a:pt x="185" y="287"/>
                  <a:pt x="184" y="287"/>
                </a:cubicBezTo>
                <a:cubicBezTo>
                  <a:pt x="184" y="287"/>
                  <a:pt x="184" y="287"/>
                  <a:pt x="184" y="287"/>
                </a:cubicBezTo>
                <a:cubicBezTo>
                  <a:pt x="183" y="288"/>
                  <a:pt x="183" y="288"/>
                  <a:pt x="182" y="288"/>
                </a:cubicBezTo>
                <a:cubicBezTo>
                  <a:pt x="182" y="289"/>
                  <a:pt x="182" y="289"/>
                  <a:pt x="182" y="289"/>
                </a:cubicBezTo>
                <a:cubicBezTo>
                  <a:pt x="180" y="289"/>
                  <a:pt x="178" y="290"/>
                  <a:pt x="176" y="291"/>
                </a:cubicBezTo>
                <a:cubicBezTo>
                  <a:pt x="176" y="291"/>
                  <a:pt x="176" y="291"/>
                  <a:pt x="176" y="291"/>
                </a:cubicBezTo>
                <a:cubicBezTo>
                  <a:pt x="175" y="291"/>
                  <a:pt x="174" y="292"/>
                  <a:pt x="173" y="292"/>
                </a:cubicBezTo>
                <a:cubicBezTo>
                  <a:pt x="173" y="292"/>
                  <a:pt x="173" y="292"/>
                  <a:pt x="173" y="292"/>
                </a:cubicBezTo>
                <a:cubicBezTo>
                  <a:pt x="172" y="293"/>
                  <a:pt x="171" y="293"/>
                  <a:pt x="170" y="293"/>
                </a:cubicBezTo>
                <a:cubicBezTo>
                  <a:pt x="169" y="293"/>
                  <a:pt x="169" y="293"/>
                  <a:pt x="169" y="293"/>
                </a:cubicBezTo>
                <a:cubicBezTo>
                  <a:pt x="168" y="294"/>
                  <a:pt x="167" y="294"/>
                  <a:pt x="166" y="294"/>
                </a:cubicBezTo>
                <a:cubicBezTo>
                  <a:pt x="166" y="294"/>
                  <a:pt x="166" y="294"/>
                  <a:pt x="166" y="294"/>
                </a:cubicBezTo>
                <a:cubicBezTo>
                  <a:pt x="165" y="295"/>
                  <a:pt x="164" y="295"/>
                  <a:pt x="162" y="295"/>
                </a:cubicBezTo>
                <a:cubicBezTo>
                  <a:pt x="162" y="295"/>
                  <a:pt x="162" y="295"/>
                  <a:pt x="162" y="295"/>
                </a:cubicBezTo>
                <a:cubicBezTo>
                  <a:pt x="160" y="296"/>
                  <a:pt x="157" y="296"/>
                  <a:pt x="154" y="296"/>
                </a:cubicBezTo>
                <a:cubicBezTo>
                  <a:pt x="154" y="296"/>
                  <a:pt x="154" y="296"/>
                  <a:pt x="154" y="296"/>
                </a:cubicBezTo>
                <a:cubicBezTo>
                  <a:pt x="152" y="297"/>
                  <a:pt x="149" y="297"/>
                  <a:pt x="146" y="297"/>
                </a:cubicBezTo>
                <a:cubicBezTo>
                  <a:pt x="145" y="297"/>
                  <a:pt x="145" y="297"/>
                  <a:pt x="145" y="297"/>
                </a:cubicBezTo>
                <a:cubicBezTo>
                  <a:pt x="145" y="297"/>
                  <a:pt x="145" y="297"/>
                  <a:pt x="145" y="297"/>
                </a:cubicBezTo>
                <a:cubicBezTo>
                  <a:pt x="144" y="297"/>
                  <a:pt x="144" y="297"/>
                  <a:pt x="144" y="297"/>
                </a:cubicBezTo>
                <a:cubicBezTo>
                  <a:pt x="144" y="297"/>
                  <a:pt x="144" y="297"/>
                  <a:pt x="144" y="297"/>
                </a:cubicBezTo>
                <a:cubicBezTo>
                  <a:pt x="143" y="297"/>
                  <a:pt x="143" y="297"/>
                  <a:pt x="143" y="297"/>
                </a:cubicBezTo>
                <a:cubicBezTo>
                  <a:pt x="143" y="297"/>
                  <a:pt x="143" y="297"/>
                  <a:pt x="143" y="297"/>
                </a:cubicBezTo>
                <a:cubicBezTo>
                  <a:pt x="142" y="297"/>
                  <a:pt x="141" y="297"/>
                  <a:pt x="141" y="297"/>
                </a:cubicBezTo>
                <a:cubicBezTo>
                  <a:pt x="140" y="297"/>
                  <a:pt x="140" y="297"/>
                  <a:pt x="140" y="297"/>
                </a:cubicBezTo>
                <a:cubicBezTo>
                  <a:pt x="139" y="297"/>
                  <a:pt x="139" y="297"/>
                  <a:pt x="138" y="297"/>
                </a:cubicBezTo>
                <a:cubicBezTo>
                  <a:pt x="138" y="297"/>
                  <a:pt x="137" y="297"/>
                  <a:pt x="137" y="297"/>
                </a:cubicBezTo>
                <a:cubicBezTo>
                  <a:pt x="136" y="296"/>
                  <a:pt x="135" y="296"/>
                  <a:pt x="134" y="296"/>
                </a:cubicBezTo>
                <a:cubicBezTo>
                  <a:pt x="134" y="296"/>
                  <a:pt x="133" y="296"/>
                  <a:pt x="133" y="296"/>
                </a:cubicBezTo>
                <a:cubicBezTo>
                  <a:pt x="132" y="296"/>
                  <a:pt x="132" y="296"/>
                  <a:pt x="131" y="296"/>
                </a:cubicBezTo>
                <a:cubicBezTo>
                  <a:pt x="130" y="296"/>
                  <a:pt x="129" y="296"/>
                  <a:pt x="129" y="296"/>
                </a:cubicBezTo>
                <a:cubicBezTo>
                  <a:pt x="128" y="296"/>
                  <a:pt x="127" y="296"/>
                  <a:pt x="126" y="296"/>
                </a:cubicBezTo>
                <a:cubicBezTo>
                  <a:pt x="126" y="296"/>
                  <a:pt x="125" y="296"/>
                  <a:pt x="125" y="296"/>
                </a:cubicBezTo>
                <a:cubicBezTo>
                  <a:pt x="124" y="296"/>
                  <a:pt x="123" y="296"/>
                  <a:pt x="123" y="296"/>
                </a:cubicBezTo>
                <a:cubicBezTo>
                  <a:pt x="122" y="296"/>
                  <a:pt x="121" y="296"/>
                  <a:pt x="120" y="296"/>
                </a:cubicBezTo>
                <a:cubicBezTo>
                  <a:pt x="119" y="296"/>
                  <a:pt x="119" y="296"/>
                  <a:pt x="119" y="296"/>
                </a:cubicBezTo>
                <a:cubicBezTo>
                  <a:pt x="114" y="295"/>
                  <a:pt x="109" y="295"/>
                  <a:pt x="104" y="295"/>
                </a:cubicBezTo>
                <a:cubicBezTo>
                  <a:pt x="103" y="294"/>
                  <a:pt x="102" y="294"/>
                  <a:pt x="101" y="294"/>
                </a:cubicBezTo>
                <a:cubicBezTo>
                  <a:pt x="100" y="294"/>
                  <a:pt x="100" y="294"/>
                  <a:pt x="100" y="294"/>
                </a:cubicBezTo>
                <a:cubicBezTo>
                  <a:pt x="96" y="294"/>
                  <a:pt x="93" y="294"/>
                  <a:pt x="89" y="294"/>
                </a:cubicBezTo>
                <a:cubicBezTo>
                  <a:pt x="87" y="293"/>
                  <a:pt x="85" y="293"/>
                  <a:pt x="83" y="293"/>
                </a:cubicBezTo>
                <a:cubicBezTo>
                  <a:pt x="82" y="293"/>
                  <a:pt x="81" y="293"/>
                  <a:pt x="80" y="293"/>
                </a:cubicBezTo>
                <a:cubicBezTo>
                  <a:pt x="70" y="292"/>
                  <a:pt x="60" y="292"/>
                  <a:pt x="51" y="291"/>
                </a:cubicBezTo>
                <a:cubicBezTo>
                  <a:pt x="38" y="290"/>
                  <a:pt x="26" y="289"/>
                  <a:pt x="17" y="289"/>
                </a:cubicBezTo>
                <a:cubicBezTo>
                  <a:pt x="14" y="288"/>
                  <a:pt x="12" y="288"/>
                  <a:pt x="10" y="288"/>
                </a:cubicBezTo>
                <a:cubicBezTo>
                  <a:pt x="4" y="288"/>
                  <a:pt x="1" y="287"/>
                  <a:pt x="0" y="287"/>
                </a:cubicBezTo>
                <a:cubicBezTo>
                  <a:pt x="19" y="410"/>
                  <a:pt x="19" y="410"/>
                  <a:pt x="19" y="410"/>
                </a:cubicBezTo>
                <a:cubicBezTo>
                  <a:pt x="19" y="410"/>
                  <a:pt x="21" y="410"/>
                  <a:pt x="24" y="410"/>
                </a:cubicBezTo>
                <a:cubicBezTo>
                  <a:pt x="27" y="411"/>
                  <a:pt x="30" y="411"/>
                  <a:pt x="35" y="411"/>
                </a:cubicBezTo>
                <a:cubicBezTo>
                  <a:pt x="44" y="412"/>
                  <a:pt x="56" y="413"/>
                  <a:pt x="69" y="414"/>
                </a:cubicBezTo>
                <a:cubicBezTo>
                  <a:pt x="69" y="414"/>
                  <a:pt x="70" y="414"/>
                  <a:pt x="70" y="414"/>
                </a:cubicBezTo>
                <a:cubicBezTo>
                  <a:pt x="72" y="414"/>
                  <a:pt x="75" y="414"/>
                  <a:pt x="77" y="415"/>
                </a:cubicBezTo>
                <a:cubicBezTo>
                  <a:pt x="78" y="415"/>
                  <a:pt x="80" y="415"/>
                  <a:pt x="81" y="415"/>
                </a:cubicBezTo>
                <a:cubicBezTo>
                  <a:pt x="82" y="415"/>
                  <a:pt x="82" y="415"/>
                  <a:pt x="82" y="415"/>
                </a:cubicBezTo>
                <a:cubicBezTo>
                  <a:pt x="84" y="415"/>
                  <a:pt x="85" y="415"/>
                  <a:pt x="86" y="415"/>
                </a:cubicBezTo>
                <a:cubicBezTo>
                  <a:pt x="88" y="415"/>
                  <a:pt x="90" y="416"/>
                  <a:pt x="92" y="416"/>
                </a:cubicBezTo>
                <a:cubicBezTo>
                  <a:pt x="94" y="416"/>
                  <a:pt x="95" y="416"/>
                  <a:pt x="96" y="416"/>
                </a:cubicBezTo>
                <a:cubicBezTo>
                  <a:pt x="98" y="416"/>
                  <a:pt x="100" y="416"/>
                  <a:pt x="102" y="417"/>
                </a:cubicBezTo>
                <a:cubicBezTo>
                  <a:pt x="104" y="417"/>
                  <a:pt x="105" y="417"/>
                  <a:pt x="107" y="417"/>
                </a:cubicBezTo>
                <a:cubicBezTo>
                  <a:pt x="108" y="417"/>
                  <a:pt x="109" y="417"/>
                  <a:pt x="109" y="417"/>
                </a:cubicBezTo>
                <a:cubicBezTo>
                  <a:pt x="114" y="417"/>
                  <a:pt x="118" y="418"/>
                  <a:pt x="122" y="418"/>
                </a:cubicBezTo>
                <a:cubicBezTo>
                  <a:pt x="123" y="418"/>
                  <a:pt x="123" y="418"/>
                  <a:pt x="124" y="418"/>
                </a:cubicBezTo>
                <a:cubicBezTo>
                  <a:pt x="125" y="418"/>
                  <a:pt x="126" y="418"/>
                  <a:pt x="127" y="418"/>
                </a:cubicBezTo>
                <a:cubicBezTo>
                  <a:pt x="127" y="418"/>
                  <a:pt x="128" y="418"/>
                  <a:pt x="129" y="419"/>
                </a:cubicBezTo>
                <a:cubicBezTo>
                  <a:pt x="131" y="419"/>
                  <a:pt x="134" y="419"/>
                  <a:pt x="137" y="419"/>
                </a:cubicBezTo>
                <a:cubicBezTo>
                  <a:pt x="137" y="419"/>
                  <a:pt x="137" y="419"/>
                  <a:pt x="137" y="419"/>
                </a:cubicBezTo>
                <a:cubicBezTo>
                  <a:pt x="138" y="419"/>
                  <a:pt x="139" y="419"/>
                  <a:pt x="140" y="419"/>
                </a:cubicBezTo>
                <a:cubicBezTo>
                  <a:pt x="141" y="419"/>
                  <a:pt x="141" y="419"/>
                  <a:pt x="141" y="419"/>
                </a:cubicBezTo>
                <a:cubicBezTo>
                  <a:pt x="142" y="419"/>
                  <a:pt x="143" y="420"/>
                  <a:pt x="144" y="420"/>
                </a:cubicBezTo>
                <a:cubicBezTo>
                  <a:pt x="145" y="420"/>
                  <a:pt x="145" y="420"/>
                  <a:pt x="145" y="420"/>
                </a:cubicBezTo>
                <a:cubicBezTo>
                  <a:pt x="145" y="420"/>
                  <a:pt x="145" y="420"/>
                  <a:pt x="145" y="420"/>
                </a:cubicBezTo>
                <a:cubicBezTo>
                  <a:pt x="145" y="420"/>
                  <a:pt x="145" y="420"/>
                  <a:pt x="145" y="420"/>
                </a:cubicBezTo>
                <a:cubicBezTo>
                  <a:pt x="146" y="420"/>
                  <a:pt x="147" y="420"/>
                  <a:pt x="148" y="420"/>
                </a:cubicBezTo>
                <a:cubicBezTo>
                  <a:pt x="149" y="420"/>
                  <a:pt x="149" y="420"/>
                  <a:pt x="149" y="420"/>
                </a:cubicBezTo>
                <a:cubicBezTo>
                  <a:pt x="150" y="420"/>
                  <a:pt x="150" y="420"/>
                  <a:pt x="150" y="420"/>
                </a:cubicBezTo>
                <a:cubicBezTo>
                  <a:pt x="150" y="420"/>
                  <a:pt x="151" y="420"/>
                  <a:pt x="152" y="420"/>
                </a:cubicBezTo>
                <a:cubicBezTo>
                  <a:pt x="153" y="420"/>
                  <a:pt x="153" y="420"/>
                  <a:pt x="153" y="420"/>
                </a:cubicBezTo>
                <a:cubicBezTo>
                  <a:pt x="153" y="420"/>
                  <a:pt x="153" y="420"/>
                  <a:pt x="153" y="420"/>
                </a:cubicBezTo>
                <a:cubicBezTo>
                  <a:pt x="154" y="420"/>
                  <a:pt x="155" y="420"/>
                  <a:pt x="155" y="420"/>
                </a:cubicBezTo>
                <a:cubicBezTo>
                  <a:pt x="156" y="420"/>
                  <a:pt x="156" y="420"/>
                  <a:pt x="156" y="420"/>
                </a:cubicBezTo>
                <a:cubicBezTo>
                  <a:pt x="157" y="420"/>
                  <a:pt x="157" y="420"/>
                  <a:pt x="157" y="420"/>
                </a:cubicBezTo>
                <a:cubicBezTo>
                  <a:pt x="157" y="420"/>
                  <a:pt x="157" y="420"/>
                  <a:pt x="158" y="420"/>
                </a:cubicBezTo>
                <a:cubicBezTo>
                  <a:pt x="159" y="420"/>
                  <a:pt x="159" y="420"/>
                  <a:pt x="159" y="420"/>
                </a:cubicBezTo>
                <a:cubicBezTo>
                  <a:pt x="159" y="420"/>
                  <a:pt x="159" y="420"/>
                  <a:pt x="159" y="420"/>
                </a:cubicBezTo>
                <a:cubicBezTo>
                  <a:pt x="159" y="420"/>
                  <a:pt x="159" y="420"/>
                  <a:pt x="159" y="420"/>
                </a:cubicBezTo>
                <a:cubicBezTo>
                  <a:pt x="159" y="420"/>
                  <a:pt x="159" y="420"/>
                  <a:pt x="159" y="420"/>
                </a:cubicBezTo>
                <a:cubicBezTo>
                  <a:pt x="159" y="420"/>
                  <a:pt x="159" y="420"/>
                  <a:pt x="159" y="420"/>
                </a:cubicBezTo>
                <a:cubicBezTo>
                  <a:pt x="160" y="421"/>
                  <a:pt x="160" y="421"/>
                  <a:pt x="160" y="421"/>
                </a:cubicBezTo>
                <a:cubicBezTo>
                  <a:pt x="160" y="421"/>
                  <a:pt x="160" y="421"/>
                  <a:pt x="160" y="421"/>
                </a:cubicBezTo>
                <a:cubicBezTo>
                  <a:pt x="161" y="421"/>
                  <a:pt x="161" y="421"/>
                  <a:pt x="161" y="421"/>
                </a:cubicBezTo>
                <a:cubicBezTo>
                  <a:pt x="161" y="421"/>
                  <a:pt x="161" y="421"/>
                  <a:pt x="161" y="421"/>
                </a:cubicBezTo>
                <a:cubicBezTo>
                  <a:pt x="161" y="421"/>
                  <a:pt x="161" y="421"/>
                  <a:pt x="161" y="421"/>
                </a:cubicBezTo>
                <a:cubicBezTo>
                  <a:pt x="162" y="421"/>
                  <a:pt x="162" y="421"/>
                  <a:pt x="162" y="421"/>
                </a:cubicBezTo>
                <a:cubicBezTo>
                  <a:pt x="162" y="421"/>
                  <a:pt x="162" y="421"/>
                  <a:pt x="162" y="421"/>
                </a:cubicBezTo>
                <a:cubicBezTo>
                  <a:pt x="162" y="421"/>
                  <a:pt x="162" y="421"/>
                  <a:pt x="162" y="421"/>
                </a:cubicBezTo>
                <a:cubicBezTo>
                  <a:pt x="162" y="421"/>
                  <a:pt x="162" y="421"/>
                  <a:pt x="162" y="421"/>
                </a:cubicBezTo>
                <a:cubicBezTo>
                  <a:pt x="162" y="421"/>
                  <a:pt x="162" y="421"/>
                  <a:pt x="162" y="421"/>
                </a:cubicBezTo>
                <a:cubicBezTo>
                  <a:pt x="163" y="421"/>
                  <a:pt x="163" y="421"/>
                  <a:pt x="163" y="421"/>
                </a:cubicBezTo>
                <a:cubicBezTo>
                  <a:pt x="163" y="421"/>
                  <a:pt x="163" y="421"/>
                  <a:pt x="163" y="421"/>
                </a:cubicBezTo>
                <a:cubicBezTo>
                  <a:pt x="163" y="421"/>
                  <a:pt x="163" y="421"/>
                  <a:pt x="163" y="421"/>
                </a:cubicBezTo>
                <a:cubicBezTo>
                  <a:pt x="163" y="421"/>
                  <a:pt x="163" y="421"/>
                  <a:pt x="163" y="421"/>
                </a:cubicBezTo>
                <a:cubicBezTo>
                  <a:pt x="163" y="421"/>
                  <a:pt x="163" y="421"/>
                  <a:pt x="163" y="421"/>
                </a:cubicBezTo>
                <a:cubicBezTo>
                  <a:pt x="163" y="421"/>
                  <a:pt x="163" y="421"/>
                  <a:pt x="163" y="421"/>
                </a:cubicBezTo>
                <a:cubicBezTo>
                  <a:pt x="164" y="421"/>
                  <a:pt x="164" y="421"/>
                  <a:pt x="164" y="421"/>
                </a:cubicBezTo>
                <a:cubicBezTo>
                  <a:pt x="164" y="421"/>
                  <a:pt x="164" y="421"/>
                  <a:pt x="164" y="421"/>
                </a:cubicBezTo>
                <a:cubicBezTo>
                  <a:pt x="164" y="421"/>
                  <a:pt x="164" y="421"/>
                  <a:pt x="164" y="421"/>
                </a:cubicBezTo>
                <a:cubicBezTo>
                  <a:pt x="165" y="421"/>
                  <a:pt x="165" y="421"/>
                  <a:pt x="165" y="421"/>
                </a:cubicBezTo>
                <a:cubicBezTo>
                  <a:pt x="165" y="420"/>
                  <a:pt x="165" y="420"/>
                  <a:pt x="165" y="420"/>
                </a:cubicBezTo>
                <a:cubicBezTo>
                  <a:pt x="165" y="420"/>
                  <a:pt x="165" y="420"/>
                  <a:pt x="165" y="420"/>
                </a:cubicBezTo>
                <a:cubicBezTo>
                  <a:pt x="166" y="420"/>
                  <a:pt x="166" y="420"/>
                  <a:pt x="166" y="420"/>
                </a:cubicBezTo>
                <a:cubicBezTo>
                  <a:pt x="166" y="420"/>
                  <a:pt x="166" y="420"/>
                  <a:pt x="166" y="420"/>
                </a:cubicBezTo>
                <a:cubicBezTo>
                  <a:pt x="167" y="420"/>
                  <a:pt x="167" y="420"/>
                  <a:pt x="167" y="420"/>
                </a:cubicBezTo>
                <a:cubicBezTo>
                  <a:pt x="167" y="420"/>
                  <a:pt x="167" y="420"/>
                  <a:pt x="167" y="420"/>
                </a:cubicBezTo>
                <a:cubicBezTo>
                  <a:pt x="168" y="420"/>
                  <a:pt x="168" y="420"/>
                  <a:pt x="168" y="420"/>
                </a:cubicBezTo>
                <a:cubicBezTo>
                  <a:pt x="168" y="420"/>
                  <a:pt x="168" y="420"/>
                  <a:pt x="168" y="420"/>
                </a:cubicBezTo>
                <a:cubicBezTo>
                  <a:pt x="169" y="420"/>
                  <a:pt x="169" y="420"/>
                  <a:pt x="169" y="420"/>
                </a:cubicBezTo>
                <a:cubicBezTo>
                  <a:pt x="169" y="420"/>
                  <a:pt x="169" y="420"/>
                  <a:pt x="169" y="420"/>
                </a:cubicBezTo>
                <a:cubicBezTo>
                  <a:pt x="170" y="420"/>
                  <a:pt x="170" y="420"/>
                  <a:pt x="170" y="420"/>
                </a:cubicBezTo>
                <a:cubicBezTo>
                  <a:pt x="171" y="420"/>
                  <a:pt x="171" y="420"/>
                  <a:pt x="171" y="420"/>
                </a:cubicBezTo>
                <a:cubicBezTo>
                  <a:pt x="171" y="420"/>
                  <a:pt x="171" y="420"/>
                  <a:pt x="171" y="420"/>
                </a:cubicBezTo>
                <a:cubicBezTo>
                  <a:pt x="172" y="420"/>
                  <a:pt x="172" y="420"/>
                  <a:pt x="172" y="420"/>
                </a:cubicBezTo>
                <a:cubicBezTo>
                  <a:pt x="173" y="420"/>
                  <a:pt x="173" y="420"/>
                  <a:pt x="174" y="420"/>
                </a:cubicBezTo>
                <a:cubicBezTo>
                  <a:pt x="175" y="419"/>
                  <a:pt x="175" y="419"/>
                  <a:pt x="176" y="419"/>
                </a:cubicBezTo>
                <a:cubicBezTo>
                  <a:pt x="177" y="419"/>
                  <a:pt x="177" y="419"/>
                  <a:pt x="178" y="419"/>
                </a:cubicBezTo>
                <a:cubicBezTo>
                  <a:pt x="179" y="419"/>
                  <a:pt x="179" y="419"/>
                  <a:pt x="179" y="419"/>
                </a:cubicBezTo>
                <a:cubicBezTo>
                  <a:pt x="179" y="419"/>
                  <a:pt x="179" y="419"/>
                  <a:pt x="179" y="419"/>
                </a:cubicBezTo>
                <a:cubicBezTo>
                  <a:pt x="179" y="419"/>
                  <a:pt x="179" y="419"/>
                  <a:pt x="179" y="419"/>
                </a:cubicBezTo>
                <a:cubicBezTo>
                  <a:pt x="180" y="418"/>
                  <a:pt x="180" y="418"/>
                  <a:pt x="180" y="418"/>
                </a:cubicBezTo>
                <a:cubicBezTo>
                  <a:pt x="180" y="418"/>
                  <a:pt x="180" y="418"/>
                  <a:pt x="180" y="418"/>
                </a:cubicBezTo>
                <a:cubicBezTo>
                  <a:pt x="180" y="418"/>
                  <a:pt x="180" y="418"/>
                  <a:pt x="180" y="418"/>
                </a:cubicBezTo>
                <a:cubicBezTo>
                  <a:pt x="180" y="418"/>
                  <a:pt x="180" y="418"/>
                  <a:pt x="180" y="418"/>
                </a:cubicBezTo>
                <a:cubicBezTo>
                  <a:pt x="180" y="418"/>
                  <a:pt x="181" y="418"/>
                  <a:pt x="181" y="418"/>
                </a:cubicBezTo>
                <a:cubicBezTo>
                  <a:pt x="181" y="418"/>
                  <a:pt x="182" y="418"/>
                  <a:pt x="182" y="418"/>
                </a:cubicBezTo>
                <a:cubicBezTo>
                  <a:pt x="182" y="418"/>
                  <a:pt x="182" y="418"/>
                  <a:pt x="182" y="418"/>
                </a:cubicBezTo>
                <a:cubicBezTo>
                  <a:pt x="183" y="418"/>
                  <a:pt x="183" y="418"/>
                  <a:pt x="183" y="418"/>
                </a:cubicBezTo>
                <a:cubicBezTo>
                  <a:pt x="183" y="418"/>
                  <a:pt x="183" y="418"/>
                  <a:pt x="183" y="418"/>
                </a:cubicBezTo>
                <a:cubicBezTo>
                  <a:pt x="184" y="417"/>
                  <a:pt x="184" y="417"/>
                  <a:pt x="184" y="417"/>
                </a:cubicBezTo>
                <a:cubicBezTo>
                  <a:pt x="185" y="417"/>
                  <a:pt x="185" y="417"/>
                  <a:pt x="185" y="417"/>
                </a:cubicBezTo>
                <a:cubicBezTo>
                  <a:pt x="186" y="417"/>
                  <a:pt x="186" y="417"/>
                  <a:pt x="186" y="417"/>
                </a:cubicBezTo>
                <a:cubicBezTo>
                  <a:pt x="186" y="417"/>
                  <a:pt x="186" y="417"/>
                  <a:pt x="186" y="417"/>
                </a:cubicBezTo>
                <a:cubicBezTo>
                  <a:pt x="186" y="417"/>
                  <a:pt x="186" y="417"/>
                  <a:pt x="186" y="417"/>
                </a:cubicBezTo>
                <a:cubicBezTo>
                  <a:pt x="186" y="417"/>
                  <a:pt x="186" y="417"/>
                  <a:pt x="186" y="417"/>
                </a:cubicBezTo>
                <a:cubicBezTo>
                  <a:pt x="187" y="416"/>
                  <a:pt x="187" y="416"/>
                  <a:pt x="187" y="416"/>
                </a:cubicBezTo>
                <a:cubicBezTo>
                  <a:pt x="188" y="416"/>
                  <a:pt x="188" y="416"/>
                  <a:pt x="188" y="416"/>
                </a:cubicBezTo>
                <a:cubicBezTo>
                  <a:pt x="189" y="416"/>
                  <a:pt x="189" y="416"/>
                  <a:pt x="189" y="416"/>
                </a:cubicBezTo>
                <a:cubicBezTo>
                  <a:pt x="189" y="416"/>
                  <a:pt x="189" y="416"/>
                  <a:pt x="189" y="416"/>
                </a:cubicBezTo>
                <a:cubicBezTo>
                  <a:pt x="189" y="416"/>
                  <a:pt x="189" y="416"/>
                  <a:pt x="189" y="416"/>
                </a:cubicBezTo>
                <a:cubicBezTo>
                  <a:pt x="190" y="416"/>
                  <a:pt x="190" y="416"/>
                  <a:pt x="190" y="416"/>
                </a:cubicBezTo>
                <a:cubicBezTo>
                  <a:pt x="190" y="415"/>
                  <a:pt x="190" y="415"/>
                  <a:pt x="190" y="415"/>
                </a:cubicBezTo>
                <a:cubicBezTo>
                  <a:pt x="190" y="415"/>
                  <a:pt x="190" y="415"/>
                  <a:pt x="190" y="415"/>
                </a:cubicBezTo>
                <a:cubicBezTo>
                  <a:pt x="191" y="415"/>
                  <a:pt x="191" y="415"/>
                  <a:pt x="191" y="415"/>
                </a:cubicBezTo>
                <a:cubicBezTo>
                  <a:pt x="192" y="415"/>
                  <a:pt x="192" y="415"/>
                  <a:pt x="192" y="415"/>
                </a:cubicBezTo>
                <a:cubicBezTo>
                  <a:pt x="192" y="415"/>
                  <a:pt x="192" y="415"/>
                  <a:pt x="192" y="415"/>
                </a:cubicBezTo>
                <a:cubicBezTo>
                  <a:pt x="193" y="414"/>
                  <a:pt x="193" y="414"/>
                  <a:pt x="193" y="414"/>
                </a:cubicBezTo>
                <a:cubicBezTo>
                  <a:pt x="193" y="414"/>
                  <a:pt x="193" y="414"/>
                  <a:pt x="193" y="414"/>
                </a:cubicBezTo>
                <a:cubicBezTo>
                  <a:pt x="193" y="414"/>
                  <a:pt x="193" y="414"/>
                  <a:pt x="193" y="414"/>
                </a:cubicBezTo>
                <a:cubicBezTo>
                  <a:pt x="193" y="414"/>
                  <a:pt x="193" y="414"/>
                  <a:pt x="193" y="414"/>
                </a:cubicBezTo>
                <a:cubicBezTo>
                  <a:pt x="193" y="414"/>
                  <a:pt x="193" y="414"/>
                  <a:pt x="193" y="414"/>
                </a:cubicBezTo>
                <a:cubicBezTo>
                  <a:pt x="194" y="414"/>
                  <a:pt x="194" y="414"/>
                  <a:pt x="194" y="414"/>
                </a:cubicBezTo>
                <a:cubicBezTo>
                  <a:pt x="195" y="414"/>
                  <a:pt x="195" y="414"/>
                  <a:pt x="195" y="414"/>
                </a:cubicBezTo>
                <a:cubicBezTo>
                  <a:pt x="195" y="413"/>
                  <a:pt x="195" y="413"/>
                  <a:pt x="195" y="413"/>
                </a:cubicBezTo>
                <a:cubicBezTo>
                  <a:pt x="196" y="413"/>
                  <a:pt x="196" y="413"/>
                  <a:pt x="196" y="413"/>
                </a:cubicBezTo>
                <a:cubicBezTo>
                  <a:pt x="196" y="413"/>
                  <a:pt x="196" y="413"/>
                  <a:pt x="196" y="413"/>
                </a:cubicBezTo>
                <a:cubicBezTo>
                  <a:pt x="196" y="413"/>
                  <a:pt x="196" y="413"/>
                  <a:pt x="196" y="413"/>
                </a:cubicBezTo>
                <a:cubicBezTo>
                  <a:pt x="196" y="413"/>
                  <a:pt x="196" y="413"/>
                  <a:pt x="196" y="413"/>
                </a:cubicBezTo>
                <a:cubicBezTo>
                  <a:pt x="197" y="412"/>
                  <a:pt x="197" y="412"/>
                  <a:pt x="197" y="412"/>
                </a:cubicBezTo>
                <a:cubicBezTo>
                  <a:pt x="197" y="412"/>
                  <a:pt x="197" y="412"/>
                  <a:pt x="197" y="412"/>
                </a:cubicBezTo>
                <a:cubicBezTo>
                  <a:pt x="198" y="412"/>
                  <a:pt x="198" y="412"/>
                  <a:pt x="198" y="412"/>
                </a:cubicBezTo>
                <a:cubicBezTo>
                  <a:pt x="198" y="412"/>
                  <a:pt x="198" y="412"/>
                  <a:pt x="198" y="412"/>
                </a:cubicBezTo>
                <a:cubicBezTo>
                  <a:pt x="199" y="411"/>
                  <a:pt x="199" y="411"/>
                  <a:pt x="199" y="411"/>
                </a:cubicBezTo>
                <a:cubicBezTo>
                  <a:pt x="199" y="411"/>
                  <a:pt x="199" y="411"/>
                  <a:pt x="199" y="411"/>
                </a:cubicBezTo>
                <a:cubicBezTo>
                  <a:pt x="200" y="411"/>
                  <a:pt x="200" y="411"/>
                  <a:pt x="200" y="411"/>
                </a:cubicBezTo>
                <a:cubicBezTo>
                  <a:pt x="200" y="411"/>
                  <a:pt x="200" y="411"/>
                  <a:pt x="200" y="411"/>
                </a:cubicBezTo>
                <a:cubicBezTo>
                  <a:pt x="201" y="410"/>
                  <a:pt x="201" y="410"/>
                  <a:pt x="201" y="410"/>
                </a:cubicBezTo>
                <a:cubicBezTo>
                  <a:pt x="201" y="410"/>
                  <a:pt x="201" y="410"/>
                  <a:pt x="201" y="410"/>
                </a:cubicBezTo>
                <a:cubicBezTo>
                  <a:pt x="201" y="410"/>
                  <a:pt x="201" y="410"/>
                  <a:pt x="201" y="410"/>
                </a:cubicBezTo>
                <a:cubicBezTo>
                  <a:pt x="202" y="409"/>
                  <a:pt x="202" y="409"/>
                  <a:pt x="202" y="409"/>
                </a:cubicBezTo>
                <a:cubicBezTo>
                  <a:pt x="202" y="409"/>
                  <a:pt x="202" y="409"/>
                  <a:pt x="202" y="409"/>
                </a:cubicBezTo>
                <a:cubicBezTo>
                  <a:pt x="203" y="409"/>
                  <a:pt x="203" y="409"/>
                  <a:pt x="203" y="409"/>
                </a:cubicBezTo>
                <a:cubicBezTo>
                  <a:pt x="203" y="409"/>
                  <a:pt x="203" y="409"/>
                  <a:pt x="203" y="409"/>
                </a:cubicBezTo>
                <a:cubicBezTo>
                  <a:pt x="203" y="409"/>
                  <a:pt x="203" y="409"/>
                  <a:pt x="203" y="409"/>
                </a:cubicBezTo>
                <a:cubicBezTo>
                  <a:pt x="203" y="409"/>
                  <a:pt x="203" y="409"/>
                  <a:pt x="203" y="409"/>
                </a:cubicBezTo>
                <a:cubicBezTo>
                  <a:pt x="203" y="408"/>
                  <a:pt x="203" y="408"/>
                  <a:pt x="203" y="408"/>
                </a:cubicBezTo>
                <a:cubicBezTo>
                  <a:pt x="203" y="408"/>
                  <a:pt x="203" y="408"/>
                  <a:pt x="203" y="408"/>
                </a:cubicBezTo>
                <a:cubicBezTo>
                  <a:pt x="204" y="408"/>
                  <a:pt x="204" y="408"/>
                  <a:pt x="204" y="408"/>
                </a:cubicBezTo>
                <a:cubicBezTo>
                  <a:pt x="204" y="407"/>
                  <a:pt x="204" y="407"/>
                  <a:pt x="204" y="407"/>
                </a:cubicBezTo>
                <a:cubicBezTo>
                  <a:pt x="205" y="407"/>
                  <a:pt x="205" y="407"/>
                  <a:pt x="205" y="407"/>
                </a:cubicBezTo>
                <a:cubicBezTo>
                  <a:pt x="205" y="407"/>
                  <a:pt x="205" y="407"/>
                  <a:pt x="205" y="407"/>
                </a:cubicBezTo>
                <a:cubicBezTo>
                  <a:pt x="205" y="407"/>
                  <a:pt x="205" y="407"/>
                  <a:pt x="205" y="407"/>
                </a:cubicBezTo>
                <a:cubicBezTo>
                  <a:pt x="205" y="407"/>
                  <a:pt x="205" y="407"/>
                  <a:pt x="205" y="407"/>
                </a:cubicBezTo>
                <a:cubicBezTo>
                  <a:pt x="205" y="407"/>
                  <a:pt x="205" y="407"/>
                  <a:pt x="205" y="407"/>
                </a:cubicBezTo>
                <a:cubicBezTo>
                  <a:pt x="205" y="406"/>
                  <a:pt x="205" y="406"/>
                  <a:pt x="205" y="406"/>
                </a:cubicBezTo>
                <a:cubicBezTo>
                  <a:pt x="206" y="406"/>
                  <a:pt x="206" y="406"/>
                  <a:pt x="206" y="406"/>
                </a:cubicBezTo>
                <a:cubicBezTo>
                  <a:pt x="206" y="406"/>
                  <a:pt x="206" y="406"/>
                  <a:pt x="206" y="406"/>
                </a:cubicBezTo>
                <a:cubicBezTo>
                  <a:pt x="206" y="406"/>
                  <a:pt x="206" y="406"/>
                  <a:pt x="206" y="406"/>
                </a:cubicBezTo>
                <a:cubicBezTo>
                  <a:pt x="206" y="406"/>
                  <a:pt x="206" y="406"/>
                  <a:pt x="206" y="406"/>
                </a:cubicBezTo>
                <a:cubicBezTo>
                  <a:pt x="206" y="405"/>
                  <a:pt x="206" y="405"/>
                  <a:pt x="206" y="405"/>
                </a:cubicBezTo>
                <a:cubicBezTo>
                  <a:pt x="207" y="405"/>
                  <a:pt x="207" y="405"/>
                  <a:pt x="207" y="405"/>
                </a:cubicBezTo>
                <a:cubicBezTo>
                  <a:pt x="207" y="405"/>
                  <a:pt x="207" y="405"/>
                  <a:pt x="207" y="405"/>
                </a:cubicBezTo>
                <a:cubicBezTo>
                  <a:pt x="207" y="404"/>
                  <a:pt x="207" y="404"/>
                  <a:pt x="207" y="404"/>
                </a:cubicBezTo>
                <a:cubicBezTo>
                  <a:pt x="207" y="404"/>
                  <a:pt x="207" y="404"/>
                  <a:pt x="207" y="404"/>
                </a:cubicBezTo>
                <a:cubicBezTo>
                  <a:pt x="207" y="404"/>
                  <a:pt x="207" y="404"/>
                  <a:pt x="207" y="404"/>
                </a:cubicBezTo>
                <a:cubicBezTo>
                  <a:pt x="207" y="404"/>
                  <a:pt x="207" y="404"/>
                  <a:pt x="207" y="404"/>
                </a:cubicBezTo>
                <a:cubicBezTo>
                  <a:pt x="207" y="404"/>
                  <a:pt x="207" y="404"/>
                  <a:pt x="207" y="404"/>
                </a:cubicBezTo>
                <a:cubicBezTo>
                  <a:pt x="207" y="403"/>
                  <a:pt x="207" y="403"/>
                  <a:pt x="207" y="403"/>
                </a:cubicBezTo>
                <a:cubicBezTo>
                  <a:pt x="208" y="403"/>
                  <a:pt x="208" y="403"/>
                  <a:pt x="208" y="403"/>
                </a:cubicBezTo>
                <a:cubicBezTo>
                  <a:pt x="208" y="403"/>
                  <a:pt x="208" y="403"/>
                  <a:pt x="208" y="403"/>
                </a:cubicBezTo>
                <a:cubicBezTo>
                  <a:pt x="208" y="402"/>
                  <a:pt x="208" y="401"/>
                  <a:pt x="209" y="400"/>
                </a:cubicBezTo>
                <a:cubicBezTo>
                  <a:pt x="209" y="400"/>
                  <a:pt x="209" y="400"/>
                  <a:pt x="209" y="400"/>
                </a:cubicBezTo>
                <a:cubicBezTo>
                  <a:pt x="210" y="399"/>
                  <a:pt x="210" y="398"/>
                  <a:pt x="211" y="397"/>
                </a:cubicBezTo>
                <a:cubicBezTo>
                  <a:pt x="211" y="397"/>
                  <a:pt x="211" y="397"/>
                  <a:pt x="211" y="397"/>
                </a:cubicBezTo>
                <a:cubicBezTo>
                  <a:pt x="212" y="396"/>
                  <a:pt x="213" y="396"/>
                  <a:pt x="214" y="395"/>
                </a:cubicBezTo>
                <a:cubicBezTo>
                  <a:pt x="214" y="395"/>
                  <a:pt x="214" y="395"/>
                  <a:pt x="214" y="395"/>
                </a:cubicBezTo>
                <a:cubicBezTo>
                  <a:pt x="215" y="394"/>
                  <a:pt x="216" y="394"/>
                  <a:pt x="217" y="393"/>
                </a:cubicBezTo>
                <a:cubicBezTo>
                  <a:pt x="217" y="393"/>
                  <a:pt x="217" y="393"/>
                  <a:pt x="217" y="393"/>
                </a:cubicBezTo>
                <a:cubicBezTo>
                  <a:pt x="220" y="391"/>
                  <a:pt x="223" y="390"/>
                  <a:pt x="226" y="389"/>
                </a:cubicBezTo>
                <a:cubicBezTo>
                  <a:pt x="226" y="389"/>
                  <a:pt x="226" y="389"/>
                  <a:pt x="226" y="389"/>
                </a:cubicBezTo>
                <a:cubicBezTo>
                  <a:pt x="228" y="388"/>
                  <a:pt x="229" y="388"/>
                  <a:pt x="231" y="387"/>
                </a:cubicBezTo>
                <a:cubicBezTo>
                  <a:pt x="231" y="387"/>
                  <a:pt x="231" y="387"/>
                  <a:pt x="231" y="387"/>
                </a:cubicBezTo>
                <a:cubicBezTo>
                  <a:pt x="233" y="387"/>
                  <a:pt x="235" y="386"/>
                  <a:pt x="236" y="385"/>
                </a:cubicBezTo>
                <a:cubicBezTo>
                  <a:pt x="237" y="385"/>
                  <a:pt x="239" y="385"/>
                  <a:pt x="240" y="385"/>
                </a:cubicBezTo>
                <a:cubicBezTo>
                  <a:pt x="240" y="384"/>
                  <a:pt x="240" y="384"/>
                  <a:pt x="240" y="384"/>
                </a:cubicBezTo>
                <a:cubicBezTo>
                  <a:pt x="241" y="384"/>
                  <a:pt x="242" y="384"/>
                  <a:pt x="244" y="384"/>
                </a:cubicBezTo>
                <a:cubicBezTo>
                  <a:pt x="244" y="384"/>
                  <a:pt x="244" y="384"/>
                  <a:pt x="244" y="384"/>
                </a:cubicBezTo>
                <a:cubicBezTo>
                  <a:pt x="246" y="383"/>
                  <a:pt x="247" y="383"/>
                  <a:pt x="249" y="383"/>
                </a:cubicBezTo>
                <a:cubicBezTo>
                  <a:pt x="249" y="383"/>
                  <a:pt x="249" y="383"/>
                  <a:pt x="249" y="383"/>
                </a:cubicBezTo>
                <a:cubicBezTo>
                  <a:pt x="251" y="383"/>
                  <a:pt x="252" y="382"/>
                  <a:pt x="254" y="382"/>
                </a:cubicBezTo>
                <a:cubicBezTo>
                  <a:pt x="256" y="382"/>
                  <a:pt x="258" y="382"/>
                  <a:pt x="260" y="382"/>
                </a:cubicBezTo>
                <a:cubicBezTo>
                  <a:pt x="260" y="382"/>
                  <a:pt x="260" y="382"/>
                  <a:pt x="260" y="382"/>
                </a:cubicBezTo>
                <a:cubicBezTo>
                  <a:pt x="262" y="382"/>
                  <a:pt x="264" y="382"/>
                  <a:pt x="265" y="381"/>
                </a:cubicBezTo>
                <a:cubicBezTo>
                  <a:pt x="266" y="381"/>
                  <a:pt x="266" y="381"/>
                  <a:pt x="266" y="381"/>
                </a:cubicBezTo>
                <a:cubicBezTo>
                  <a:pt x="270" y="381"/>
                  <a:pt x="274" y="381"/>
                  <a:pt x="278" y="381"/>
                </a:cubicBezTo>
                <a:cubicBezTo>
                  <a:pt x="280" y="381"/>
                  <a:pt x="282" y="381"/>
                  <a:pt x="285" y="381"/>
                </a:cubicBezTo>
                <a:cubicBezTo>
                  <a:pt x="286" y="392"/>
                  <a:pt x="288" y="404"/>
                  <a:pt x="289" y="415"/>
                </a:cubicBezTo>
                <a:cubicBezTo>
                  <a:pt x="289" y="416"/>
                  <a:pt x="289" y="416"/>
                  <a:pt x="289" y="416"/>
                </a:cubicBezTo>
                <a:cubicBezTo>
                  <a:pt x="289" y="416"/>
                  <a:pt x="289" y="416"/>
                  <a:pt x="289" y="416"/>
                </a:cubicBezTo>
                <a:cubicBezTo>
                  <a:pt x="290" y="417"/>
                  <a:pt x="290" y="417"/>
                  <a:pt x="290" y="417"/>
                </a:cubicBezTo>
                <a:cubicBezTo>
                  <a:pt x="290" y="418"/>
                  <a:pt x="290" y="418"/>
                  <a:pt x="290" y="418"/>
                </a:cubicBezTo>
                <a:cubicBezTo>
                  <a:pt x="291" y="419"/>
                  <a:pt x="291" y="419"/>
                  <a:pt x="291" y="419"/>
                </a:cubicBezTo>
                <a:cubicBezTo>
                  <a:pt x="291" y="419"/>
                  <a:pt x="291" y="419"/>
                  <a:pt x="291" y="419"/>
                </a:cubicBezTo>
                <a:cubicBezTo>
                  <a:pt x="291" y="420"/>
                  <a:pt x="291" y="420"/>
                  <a:pt x="291" y="420"/>
                </a:cubicBezTo>
                <a:cubicBezTo>
                  <a:pt x="292" y="420"/>
                  <a:pt x="292" y="420"/>
                  <a:pt x="292" y="420"/>
                </a:cubicBezTo>
                <a:cubicBezTo>
                  <a:pt x="292" y="420"/>
                  <a:pt x="292" y="420"/>
                  <a:pt x="292" y="420"/>
                </a:cubicBezTo>
                <a:cubicBezTo>
                  <a:pt x="293" y="421"/>
                  <a:pt x="293" y="421"/>
                  <a:pt x="293" y="421"/>
                </a:cubicBezTo>
                <a:cubicBezTo>
                  <a:pt x="294" y="421"/>
                  <a:pt x="294" y="421"/>
                  <a:pt x="294" y="421"/>
                </a:cubicBezTo>
                <a:cubicBezTo>
                  <a:pt x="294" y="421"/>
                  <a:pt x="294" y="421"/>
                  <a:pt x="294" y="421"/>
                </a:cubicBezTo>
                <a:cubicBezTo>
                  <a:pt x="294" y="422"/>
                  <a:pt x="294" y="422"/>
                  <a:pt x="294" y="422"/>
                </a:cubicBezTo>
                <a:cubicBezTo>
                  <a:pt x="294" y="422"/>
                  <a:pt x="294" y="422"/>
                  <a:pt x="294" y="422"/>
                </a:cubicBezTo>
                <a:cubicBezTo>
                  <a:pt x="295" y="422"/>
                  <a:pt x="295" y="422"/>
                  <a:pt x="295" y="422"/>
                </a:cubicBezTo>
                <a:cubicBezTo>
                  <a:pt x="295" y="422"/>
                  <a:pt x="295" y="422"/>
                  <a:pt x="295" y="422"/>
                </a:cubicBezTo>
                <a:cubicBezTo>
                  <a:pt x="296" y="422"/>
                  <a:pt x="296" y="422"/>
                  <a:pt x="296" y="422"/>
                </a:cubicBezTo>
                <a:cubicBezTo>
                  <a:pt x="296" y="422"/>
                  <a:pt x="296" y="422"/>
                  <a:pt x="296" y="422"/>
                </a:cubicBezTo>
                <a:cubicBezTo>
                  <a:pt x="297" y="423"/>
                  <a:pt x="297" y="423"/>
                  <a:pt x="297" y="423"/>
                </a:cubicBezTo>
                <a:cubicBezTo>
                  <a:pt x="297" y="423"/>
                  <a:pt x="297" y="423"/>
                  <a:pt x="297" y="423"/>
                </a:cubicBezTo>
                <a:cubicBezTo>
                  <a:pt x="297" y="423"/>
                  <a:pt x="297" y="423"/>
                  <a:pt x="297" y="423"/>
                </a:cubicBezTo>
                <a:cubicBezTo>
                  <a:pt x="297" y="423"/>
                  <a:pt x="297" y="423"/>
                  <a:pt x="297" y="423"/>
                </a:cubicBezTo>
                <a:cubicBezTo>
                  <a:pt x="298" y="423"/>
                  <a:pt x="298" y="423"/>
                  <a:pt x="298" y="423"/>
                </a:cubicBezTo>
                <a:cubicBezTo>
                  <a:pt x="298" y="423"/>
                  <a:pt x="298" y="423"/>
                  <a:pt x="298" y="423"/>
                </a:cubicBezTo>
                <a:cubicBezTo>
                  <a:pt x="299" y="423"/>
                  <a:pt x="299" y="423"/>
                  <a:pt x="299" y="423"/>
                </a:cubicBezTo>
                <a:cubicBezTo>
                  <a:pt x="299" y="423"/>
                  <a:pt x="299" y="423"/>
                  <a:pt x="299" y="423"/>
                </a:cubicBezTo>
                <a:cubicBezTo>
                  <a:pt x="299" y="423"/>
                  <a:pt x="299" y="423"/>
                  <a:pt x="299" y="423"/>
                </a:cubicBezTo>
                <a:cubicBezTo>
                  <a:pt x="300" y="423"/>
                  <a:pt x="300" y="423"/>
                  <a:pt x="300" y="423"/>
                </a:cubicBezTo>
                <a:cubicBezTo>
                  <a:pt x="300" y="423"/>
                  <a:pt x="300" y="423"/>
                  <a:pt x="300" y="423"/>
                </a:cubicBezTo>
                <a:cubicBezTo>
                  <a:pt x="300" y="424"/>
                  <a:pt x="300" y="424"/>
                  <a:pt x="300" y="424"/>
                </a:cubicBezTo>
                <a:cubicBezTo>
                  <a:pt x="301" y="424"/>
                  <a:pt x="301" y="424"/>
                  <a:pt x="301" y="424"/>
                </a:cubicBezTo>
                <a:cubicBezTo>
                  <a:pt x="301" y="424"/>
                  <a:pt x="301" y="424"/>
                  <a:pt x="301" y="424"/>
                </a:cubicBezTo>
                <a:cubicBezTo>
                  <a:pt x="302" y="424"/>
                  <a:pt x="302" y="424"/>
                  <a:pt x="302" y="424"/>
                </a:cubicBezTo>
                <a:cubicBezTo>
                  <a:pt x="302" y="424"/>
                  <a:pt x="302" y="424"/>
                  <a:pt x="302" y="424"/>
                </a:cubicBezTo>
                <a:cubicBezTo>
                  <a:pt x="302" y="424"/>
                  <a:pt x="302" y="424"/>
                  <a:pt x="302" y="424"/>
                </a:cubicBezTo>
                <a:cubicBezTo>
                  <a:pt x="303" y="424"/>
                  <a:pt x="303" y="424"/>
                  <a:pt x="303" y="424"/>
                </a:cubicBezTo>
                <a:cubicBezTo>
                  <a:pt x="303" y="424"/>
                  <a:pt x="303" y="424"/>
                  <a:pt x="303" y="424"/>
                </a:cubicBezTo>
                <a:cubicBezTo>
                  <a:pt x="303" y="424"/>
                  <a:pt x="303" y="424"/>
                  <a:pt x="303" y="424"/>
                </a:cubicBezTo>
                <a:cubicBezTo>
                  <a:pt x="304" y="424"/>
                  <a:pt x="304" y="424"/>
                  <a:pt x="304" y="424"/>
                </a:cubicBezTo>
                <a:cubicBezTo>
                  <a:pt x="304" y="424"/>
                  <a:pt x="304" y="424"/>
                  <a:pt x="304" y="424"/>
                </a:cubicBezTo>
                <a:cubicBezTo>
                  <a:pt x="304" y="424"/>
                  <a:pt x="304" y="424"/>
                  <a:pt x="304" y="424"/>
                </a:cubicBezTo>
                <a:cubicBezTo>
                  <a:pt x="304" y="424"/>
                  <a:pt x="304" y="424"/>
                  <a:pt x="304" y="424"/>
                </a:cubicBezTo>
                <a:cubicBezTo>
                  <a:pt x="305" y="424"/>
                  <a:pt x="305" y="424"/>
                  <a:pt x="305" y="424"/>
                </a:cubicBezTo>
                <a:cubicBezTo>
                  <a:pt x="305" y="424"/>
                  <a:pt x="305" y="424"/>
                  <a:pt x="305" y="424"/>
                </a:cubicBezTo>
                <a:cubicBezTo>
                  <a:pt x="305" y="424"/>
                  <a:pt x="305" y="424"/>
                  <a:pt x="305" y="424"/>
                </a:cubicBezTo>
                <a:cubicBezTo>
                  <a:pt x="306" y="424"/>
                  <a:pt x="306" y="424"/>
                  <a:pt x="306" y="424"/>
                </a:cubicBezTo>
                <a:cubicBezTo>
                  <a:pt x="306" y="424"/>
                  <a:pt x="306" y="424"/>
                  <a:pt x="306" y="424"/>
                </a:cubicBezTo>
                <a:cubicBezTo>
                  <a:pt x="307" y="424"/>
                  <a:pt x="307" y="424"/>
                  <a:pt x="307" y="424"/>
                </a:cubicBezTo>
                <a:cubicBezTo>
                  <a:pt x="307" y="424"/>
                  <a:pt x="307" y="424"/>
                  <a:pt x="307" y="424"/>
                </a:cubicBezTo>
                <a:cubicBezTo>
                  <a:pt x="307" y="424"/>
                  <a:pt x="307" y="424"/>
                  <a:pt x="307" y="424"/>
                </a:cubicBezTo>
                <a:cubicBezTo>
                  <a:pt x="308" y="424"/>
                  <a:pt x="308" y="424"/>
                  <a:pt x="308" y="424"/>
                </a:cubicBezTo>
                <a:cubicBezTo>
                  <a:pt x="308" y="424"/>
                  <a:pt x="308" y="424"/>
                  <a:pt x="308" y="424"/>
                </a:cubicBezTo>
                <a:cubicBezTo>
                  <a:pt x="308" y="424"/>
                  <a:pt x="308" y="424"/>
                  <a:pt x="308" y="424"/>
                </a:cubicBezTo>
                <a:cubicBezTo>
                  <a:pt x="308" y="424"/>
                  <a:pt x="308" y="424"/>
                  <a:pt x="308" y="424"/>
                </a:cubicBezTo>
                <a:cubicBezTo>
                  <a:pt x="309" y="424"/>
                  <a:pt x="309" y="424"/>
                  <a:pt x="309" y="424"/>
                </a:cubicBezTo>
                <a:cubicBezTo>
                  <a:pt x="309" y="424"/>
                  <a:pt x="309" y="424"/>
                  <a:pt x="309" y="424"/>
                </a:cubicBezTo>
                <a:cubicBezTo>
                  <a:pt x="310" y="424"/>
                  <a:pt x="310" y="424"/>
                  <a:pt x="310" y="424"/>
                </a:cubicBezTo>
                <a:cubicBezTo>
                  <a:pt x="310" y="424"/>
                  <a:pt x="310" y="424"/>
                  <a:pt x="310" y="424"/>
                </a:cubicBezTo>
                <a:cubicBezTo>
                  <a:pt x="310" y="424"/>
                  <a:pt x="310" y="424"/>
                  <a:pt x="310" y="424"/>
                </a:cubicBezTo>
                <a:cubicBezTo>
                  <a:pt x="310" y="424"/>
                  <a:pt x="310" y="424"/>
                  <a:pt x="310" y="424"/>
                </a:cubicBezTo>
                <a:cubicBezTo>
                  <a:pt x="310" y="424"/>
                  <a:pt x="310" y="424"/>
                  <a:pt x="310" y="424"/>
                </a:cubicBezTo>
                <a:cubicBezTo>
                  <a:pt x="310" y="424"/>
                  <a:pt x="310" y="424"/>
                  <a:pt x="310" y="424"/>
                </a:cubicBezTo>
                <a:cubicBezTo>
                  <a:pt x="311" y="424"/>
                  <a:pt x="311" y="424"/>
                  <a:pt x="311" y="424"/>
                </a:cubicBezTo>
                <a:cubicBezTo>
                  <a:pt x="311" y="424"/>
                  <a:pt x="311" y="424"/>
                  <a:pt x="311" y="424"/>
                </a:cubicBezTo>
                <a:cubicBezTo>
                  <a:pt x="311" y="424"/>
                  <a:pt x="311" y="424"/>
                  <a:pt x="311" y="424"/>
                </a:cubicBezTo>
                <a:cubicBezTo>
                  <a:pt x="311" y="424"/>
                  <a:pt x="311" y="424"/>
                  <a:pt x="311" y="424"/>
                </a:cubicBezTo>
                <a:cubicBezTo>
                  <a:pt x="312" y="424"/>
                  <a:pt x="312" y="424"/>
                  <a:pt x="312" y="424"/>
                </a:cubicBezTo>
                <a:cubicBezTo>
                  <a:pt x="312" y="424"/>
                  <a:pt x="312" y="424"/>
                  <a:pt x="312" y="424"/>
                </a:cubicBezTo>
                <a:cubicBezTo>
                  <a:pt x="313" y="424"/>
                  <a:pt x="313" y="424"/>
                  <a:pt x="313" y="424"/>
                </a:cubicBezTo>
                <a:cubicBezTo>
                  <a:pt x="313" y="424"/>
                  <a:pt x="313" y="424"/>
                  <a:pt x="313" y="424"/>
                </a:cubicBezTo>
                <a:cubicBezTo>
                  <a:pt x="313" y="424"/>
                  <a:pt x="313" y="424"/>
                  <a:pt x="313" y="424"/>
                </a:cubicBezTo>
                <a:cubicBezTo>
                  <a:pt x="315" y="424"/>
                  <a:pt x="322" y="424"/>
                  <a:pt x="332" y="424"/>
                </a:cubicBezTo>
                <a:cubicBezTo>
                  <a:pt x="333" y="424"/>
                  <a:pt x="334" y="424"/>
                  <a:pt x="335" y="424"/>
                </a:cubicBezTo>
                <a:cubicBezTo>
                  <a:pt x="335" y="424"/>
                  <a:pt x="335" y="424"/>
                  <a:pt x="335" y="424"/>
                </a:cubicBezTo>
                <a:cubicBezTo>
                  <a:pt x="338" y="424"/>
                  <a:pt x="343" y="424"/>
                  <a:pt x="347" y="424"/>
                </a:cubicBezTo>
                <a:cubicBezTo>
                  <a:pt x="348" y="424"/>
                  <a:pt x="348" y="424"/>
                  <a:pt x="348" y="424"/>
                </a:cubicBezTo>
                <a:cubicBezTo>
                  <a:pt x="348" y="424"/>
                  <a:pt x="348" y="424"/>
                  <a:pt x="348" y="424"/>
                </a:cubicBezTo>
                <a:cubicBezTo>
                  <a:pt x="349" y="424"/>
                  <a:pt x="351" y="424"/>
                  <a:pt x="352" y="424"/>
                </a:cubicBezTo>
                <a:cubicBezTo>
                  <a:pt x="354" y="424"/>
                  <a:pt x="357" y="424"/>
                  <a:pt x="359" y="424"/>
                </a:cubicBezTo>
                <a:cubicBezTo>
                  <a:pt x="360" y="424"/>
                  <a:pt x="360" y="424"/>
                  <a:pt x="361" y="424"/>
                </a:cubicBezTo>
                <a:cubicBezTo>
                  <a:pt x="362" y="424"/>
                  <a:pt x="363" y="424"/>
                  <a:pt x="363" y="424"/>
                </a:cubicBezTo>
                <a:cubicBezTo>
                  <a:pt x="366" y="423"/>
                  <a:pt x="369" y="423"/>
                  <a:pt x="372" y="423"/>
                </a:cubicBezTo>
                <a:cubicBezTo>
                  <a:pt x="374" y="423"/>
                  <a:pt x="376" y="423"/>
                  <a:pt x="378" y="423"/>
                </a:cubicBezTo>
                <a:cubicBezTo>
                  <a:pt x="378" y="423"/>
                  <a:pt x="378" y="423"/>
                  <a:pt x="378" y="423"/>
                </a:cubicBezTo>
                <a:cubicBezTo>
                  <a:pt x="379" y="423"/>
                  <a:pt x="379" y="423"/>
                  <a:pt x="379" y="423"/>
                </a:cubicBezTo>
                <a:cubicBezTo>
                  <a:pt x="384" y="423"/>
                  <a:pt x="389" y="423"/>
                  <a:pt x="394" y="423"/>
                </a:cubicBezTo>
                <a:cubicBezTo>
                  <a:pt x="395" y="423"/>
                  <a:pt x="395" y="423"/>
                  <a:pt x="395" y="423"/>
                </a:cubicBezTo>
                <a:cubicBezTo>
                  <a:pt x="400" y="423"/>
                  <a:pt x="404" y="423"/>
                  <a:pt x="409" y="423"/>
                </a:cubicBezTo>
                <a:cubicBezTo>
                  <a:pt x="410" y="423"/>
                  <a:pt x="411" y="423"/>
                  <a:pt x="412" y="423"/>
                </a:cubicBezTo>
                <a:cubicBezTo>
                  <a:pt x="413" y="422"/>
                  <a:pt x="414" y="422"/>
                  <a:pt x="415" y="422"/>
                </a:cubicBezTo>
                <a:cubicBezTo>
                  <a:pt x="416" y="422"/>
                  <a:pt x="417" y="422"/>
                  <a:pt x="418" y="422"/>
                </a:cubicBezTo>
                <a:cubicBezTo>
                  <a:pt x="420" y="422"/>
                  <a:pt x="421" y="422"/>
                  <a:pt x="423" y="422"/>
                </a:cubicBezTo>
                <a:cubicBezTo>
                  <a:pt x="423" y="422"/>
                  <a:pt x="424" y="422"/>
                  <a:pt x="424" y="422"/>
                </a:cubicBezTo>
                <a:cubicBezTo>
                  <a:pt x="428" y="422"/>
                  <a:pt x="432" y="422"/>
                  <a:pt x="436" y="422"/>
                </a:cubicBezTo>
                <a:cubicBezTo>
                  <a:pt x="437" y="422"/>
                  <a:pt x="438" y="422"/>
                  <a:pt x="438" y="422"/>
                </a:cubicBezTo>
                <a:cubicBezTo>
                  <a:pt x="439" y="422"/>
                  <a:pt x="440" y="422"/>
                  <a:pt x="441" y="422"/>
                </a:cubicBezTo>
                <a:cubicBezTo>
                  <a:pt x="441" y="422"/>
                  <a:pt x="442" y="422"/>
                  <a:pt x="442" y="422"/>
                </a:cubicBezTo>
                <a:cubicBezTo>
                  <a:pt x="444" y="422"/>
                  <a:pt x="445" y="422"/>
                  <a:pt x="447" y="422"/>
                </a:cubicBezTo>
                <a:cubicBezTo>
                  <a:pt x="447" y="422"/>
                  <a:pt x="447" y="422"/>
                  <a:pt x="447" y="422"/>
                </a:cubicBezTo>
                <a:cubicBezTo>
                  <a:pt x="447" y="422"/>
                  <a:pt x="447" y="422"/>
                  <a:pt x="447" y="422"/>
                </a:cubicBezTo>
                <a:cubicBezTo>
                  <a:pt x="449" y="422"/>
                  <a:pt x="450" y="422"/>
                  <a:pt x="451" y="422"/>
                </a:cubicBezTo>
                <a:cubicBezTo>
                  <a:pt x="451" y="422"/>
                  <a:pt x="452" y="421"/>
                  <a:pt x="452" y="421"/>
                </a:cubicBezTo>
                <a:cubicBezTo>
                  <a:pt x="454" y="421"/>
                  <a:pt x="455" y="421"/>
                  <a:pt x="456" y="421"/>
                </a:cubicBezTo>
                <a:cubicBezTo>
                  <a:pt x="457" y="421"/>
                  <a:pt x="457" y="421"/>
                  <a:pt x="457" y="421"/>
                </a:cubicBezTo>
                <a:cubicBezTo>
                  <a:pt x="458" y="421"/>
                  <a:pt x="458" y="421"/>
                  <a:pt x="458" y="421"/>
                </a:cubicBezTo>
                <a:cubicBezTo>
                  <a:pt x="459" y="421"/>
                  <a:pt x="459" y="421"/>
                  <a:pt x="459" y="421"/>
                </a:cubicBezTo>
                <a:cubicBezTo>
                  <a:pt x="460" y="421"/>
                  <a:pt x="460" y="421"/>
                  <a:pt x="460" y="421"/>
                </a:cubicBezTo>
                <a:cubicBezTo>
                  <a:pt x="461" y="421"/>
                  <a:pt x="462" y="421"/>
                  <a:pt x="462" y="421"/>
                </a:cubicBezTo>
                <a:cubicBezTo>
                  <a:pt x="463" y="421"/>
                  <a:pt x="463" y="421"/>
                  <a:pt x="463" y="421"/>
                </a:cubicBezTo>
                <a:cubicBezTo>
                  <a:pt x="463" y="421"/>
                  <a:pt x="463" y="421"/>
                  <a:pt x="463" y="421"/>
                </a:cubicBezTo>
                <a:cubicBezTo>
                  <a:pt x="464" y="421"/>
                  <a:pt x="464" y="421"/>
                  <a:pt x="464" y="421"/>
                </a:cubicBezTo>
                <a:cubicBezTo>
                  <a:pt x="465" y="421"/>
                  <a:pt x="465" y="421"/>
                  <a:pt x="466" y="421"/>
                </a:cubicBezTo>
                <a:cubicBezTo>
                  <a:pt x="466" y="421"/>
                  <a:pt x="467" y="421"/>
                  <a:pt x="467" y="421"/>
                </a:cubicBezTo>
                <a:cubicBezTo>
                  <a:pt x="468" y="421"/>
                  <a:pt x="468" y="421"/>
                  <a:pt x="469" y="421"/>
                </a:cubicBezTo>
                <a:cubicBezTo>
                  <a:pt x="469" y="421"/>
                  <a:pt x="470" y="421"/>
                  <a:pt x="470" y="421"/>
                </a:cubicBezTo>
                <a:cubicBezTo>
                  <a:pt x="471" y="421"/>
                  <a:pt x="471" y="421"/>
                  <a:pt x="472" y="420"/>
                </a:cubicBezTo>
                <a:cubicBezTo>
                  <a:pt x="472" y="420"/>
                  <a:pt x="473" y="420"/>
                  <a:pt x="473" y="420"/>
                </a:cubicBezTo>
                <a:cubicBezTo>
                  <a:pt x="473" y="420"/>
                  <a:pt x="473" y="420"/>
                  <a:pt x="473" y="420"/>
                </a:cubicBezTo>
                <a:cubicBezTo>
                  <a:pt x="474" y="420"/>
                  <a:pt x="474" y="420"/>
                  <a:pt x="474" y="420"/>
                </a:cubicBezTo>
                <a:cubicBezTo>
                  <a:pt x="475" y="420"/>
                  <a:pt x="475" y="420"/>
                  <a:pt x="475" y="420"/>
                </a:cubicBezTo>
                <a:cubicBezTo>
                  <a:pt x="475" y="420"/>
                  <a:pt x="476" y="420"/>
                  <a:pt x="476" y="420"/>
                </a:cubicBezTo>
                <a:cubicBezTo>
                  <a:pt x="477" y="420"/>
                  <a:pt x="477" y="420"/>
                  <a:pt x="478" y="420"/>
                </a:cubicBezTo>
                <a:cubicBezTo>
                  <a:pt x="478" y="420"/>
                  <a:pt x="478" y="420"/>
                  <a:pt x="478" y="420"/>
                </a:cubicBezTo>
                <a:cubicBezTo>
                  <a:pt x="478" y="420"/>
                  <a:pt x="478" y="420"/>
                  <a:pt x="478" y="420"/>
                </a:cubicBezTo>
                <a:cubicBezTo>
                  <a:pt x="478" y="420"/>
                  <a:pt x="478" y="420"/>
                  <a:pt x="478" y="420"/>
                </a:cubicBezTo>
                <a:cubicBezTo>
                  <a:pt x="479" y="420"/>
                  <a:pt x="479" y="420"/>
                  <a:pt x="479" y="420"/>
                </a:cubicBezTo>
                <a:cubicBezTo>
                  <a:pt x="480" y="420"/>
                  <a:pt x="481" y="420"/>
                  <a:pt x="481" y="419"/>
                </a:cubicBezTo>
                <a:cubicBezTo>
                  <a:pt x="481" y="419"/>
                  <a:pt x="481" y="419"/>
                  <a:pt x="481" y="419"/>
                </a:cubicBezTo>
                <a:cubicBezTo>
                  <a:pt x="482" y="419"/>
                  <a:pt x="482" y="419"/>
                  <a:pt x="482" y="419"/>
                </a:cubicBezTo>
                <a:cubicBezTo>
                  <a:pt x="482" y="419"/>
                  <a:pt x="483" y="419"/>
                  <a:pt x="483" y="419"/>
                </a:cubicBezTo>
                <a:cubicBezTo>
                  <a:pt x="484" y="419"/>
                  <a:pt x="484" y="419"/>
                  <a:pt x="484" y="419"/>
                </a:cubicBezTo>
                <a:cubicBezTo>
                  <a:pt x="485" y="419"/>
                  <a:pt x="485" y="419"/>
                  <a:pt x="485" y="419"/>
                </a:cubicBezTo>
                <a:cubicBezTo>
                  <a:pt x="485" y="419"/>
                  <a:pt x="485" y="419"/>
                  <a:pt x="485" y="419"/>
                </a:cubicBezTo>
                <a:cubicBezTo>
                  <a:pt x="486" y="419"/>
                  <a:pt x="487" y="418"/>
                  <a:pt x="487" y="418"/>
                </a:cubicBezTo>
                <a:cubicBezTo>
                  <a:pt x="487" y="418"/>
                  <a:pt x="487" y="418"/>
                  <a:pt x="487" y="418"/>
                </a:cubicBezTo>
                <a:cubicBezTo>
                  <a:pt x="488" y="418"/>
                  <a:pt x="488" y="418"/>
                  <a:pt x="488" y="418"/>
                </a:cubicBezTo>
                <a:cubicBezTo>
                  <a:pt x="488" y="418"/>
                  <a:pt x="488" y="418"/>
                  <a:pt x="488" y="418"/>
                </a:cubicBezTo>
                <a:cubicBezTo>
                  <a:pt x="489" y="418"/>
                  <a:pt x="489" y="418"/>
                  <a:pt x="489" y="418"/>
                </a:cubicBezTo>
                <a:cubicBezTo>
                  <a:pt x="489" y="418"/>
                  <a:pt x="489" y="418"/>
                  <a:pt x="489" y="418"/>
                </a:cubicBezTo>
                <a:cubicBezTo>
                  <a:pt x="489" y="418"/>
                  <a:pt x="489" y="418"/>
                  <a:pt x="489" y="418"/>
                </a:cubicBezTo>
                <a:cubicBezTo>
                  <a:pt x="489" y="418"/>
                  <a:pt x="489" y="418"/>
                  <a:pt x="489" y="418"/>
                </a:cubicBezTo>
                <a:cubicBezTo>
                  <a:pt x="489" y="418"/>
                  <a:pt x="489" y="418"/>
                  <a:pt x="489" y="418"/>
                </a:cubicBezTo>
                <a:cubicBezTo>
                  <a:pt x="490" y="418"/>
                  <a:pt x="490" y="418"/>
                  <a:pt x="490" y="418"/>
                </a:cubicBezTo>
                <a:cubicBezTo>
                  <a:pt x="490" y="417"/>
                  <a:pt x="490" y="417"/>
                  <a:pt x="490" y="417"/>
                </a:cubicBezTo>
                <a:cubicBezTo>
                  <a:pt x="490" y="417"/>
                  <a:pt x="490" y="417"/>
                  <a:pt x="490" y="417"/>
                </a:cubicBezTo>
                <a:cubicBezTo>
                  <a:pt x="490" y="417"/>
                  <a:pt x="490" y="417"/>
                  <a:pt x="490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6"/>
                  <a:pt x="492" y="416"/>
                  <a:pt x="492" y="416"/>
                </a:cubicBezTo>
                <a:cubicBezTo>
                  <a:pt x="492" y="416"/>
                  <a:pt x="492" y="416"/>
                  <a:pt x="492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4" y="416"/>
                  <a:pt x="494" y="416"/>
                  <a:pt x="494" y="416"/>
                </a:cubicBezTo>
                <a:cubicBezTo>
                  <a:pt x="494" y="416"/>
                  <a:pt x="494" y="416"/>
                  <a:pt x="494" y="416"/>
                </a:cubicBezTo>
                <a:cubicBezTo>
                  <a:pt x="494" y="416"/>
                  <a:pt x="494" y="416"/>
                  <a:pt x="494" y="416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6" y="412"/>
                  <a:pt x="498" y="409"/>
                </a:cubicBezTo>
                <a:cubicBezTo>
                  <a:pt x="498" y="408"/>
                  <a:pt x="498" y="408"/>
                  <a:pt x="498" y="408"/>
                </a:cubicBezTo>
                <a:cubicBezTo>
                  <a:pt x="498" y="408"/>
                  <a:pt x="499" y="407"/>
                  <a:pt x="499" y="407"/>
                </a:cubicBezTo>
                <a:cubicBezTo>
                  <a:pt x="499" y="407"/>
                  <a:pt x="500" y="406"/>
                  <a:pt x="500" y="406"/>
                </a:cubicBezTo>
                <a:cubicBezTo>
                  <a:pt x="500" y="405"/>
                  <a:pt x="501" y="405"/>
                  <a:pt x="501" y="404"/>
                </a:cubicBezTo>
                <a:cubicBezTo>
                  <a:pt x="501" y="404"/>
                  <a:pt x="502" y="403"/>
                  <a:pt x="502" y="403"/>
                </a:cubicBezTo>
                <a:cubicBezTo>
                  <a:pt x="503" y="402"/>
                  <a:pt x="503" y="402"/>
                  <a:pt x="503" y="401"/>
                </a:cubicBezTo>
                <a:cubicBezTo>
                  <a:pt x="504" y="401"/>
                  <a:pt x="504" y="400"/>
                  <a:pt x="505" y="400"/>
                </a:cubicBezTo>
                <a:cubicBezTo>
                  <a:pt x="505" y="399"/>
                  <a:pt x="505" y="399"/>
                  <a:pt x="506" y="398"/>
                </a:cubicBezTo>
                <a:cubicBezTo>
                  <a:pt x="506" y="397"/>
                  <a:pt x="506" y="397"/>
                  <a:pt x="507" y="396"/>
                </a:cubicBezTo>
                <a:cubicBezTo>
                  <a:pt x="508" y="395"/>
                  <a:pt x="510" y="393"/>
                  <a:pt x="511" y="391"/>
                </a:cubicBezTo>
                <a:cubicBezTo>
                  <a:pt x="512" y="390"/>
                  <a:pt x="512" y="390"/>
                  <a:pt x="512" y="389"/>
                </a:cubicBezTo>
                <a:cubicBezTo>
                  <a:pt x="514" y="387"/>
                  <a:pt x="516" y="385"/>
                  <a:pt x="517" y="384"/>
                </a:cubicBezTo>
                <a:cubicBezTo>
                  <a:pt x="517" y="384"/>
                  <a:pt x="517" y="384"/>
                  <a:pt x="517" y="384"/>
                </a:cubicBezTo>
                <a:cubicBezTo>
                  <a:pt x="518" y="382"/>
                  <a:pt x="519" y="381"/>
                  <a:pt x="520" y="380"/>
                </a:cubicBezTo>
                <a:cubicBezTo>
                  <a:pt x="521" y="379"/>
                  <a:pt x="522" y="379"/>
                  <a:pt x="522" y="378"/>
                </a:cubicBezTo>
                <a:cubicBezTo>
                  <a:pt x="523" y="378"/>
                  <a:pt x="523" y="378"/>
                  <a:pt x="523" y="378"/>
                </a:cubicBezTo>
                <a:cubicBezTo>
                  <a:pt x="524" y="377"/>
                  <a:pt x="524" y="376"/>
                  <a:pt x="525" y="376"/>
                </a:cubicBezTo>
                <a:cubicBezTo>
                  <a:pt x="525" y="376"/>
                  <a:pt x="525" y="376"/>
                  <a:pt x="525" y="376"/>
                </a:cubicBezTo>
                <a:cubicBezTo>
                  <a:pt x="526" y="375"/>
                  <a:pt x="527" y="374"/>
                  <a:pt x="528" y="374"/>
                </a:cubicBezTo>
                <a:cubicBezTo>
                  <a:pt x="529" y="373"/>
                  <a:pt x="530" y="372"/>
                  <a:pt x="532" y="371"/>
                </a:cubicBezTo>
                <a:cubicBezTo>
                  <a:pt x="533" y="371"/>
                  <a:pt x="534" y="371"/>
                  <a:pt x="535" y="370"/>
                </a:cubicBezTo>
                <a:cubicBezTo>
                  <a:pt x="535" y="370"/>
                  <a:pt x="535" y="370"/>
                  <a:pt x="535" y="370"/>
                </a:cubicBezTo>
                <a:cubicBezTo>
                  <a:pt x="535" y="370"/>
                  <a:pt x="536" y="370"/>
                  <a:pt x="537" y="370"/>
                </a:cubicBezTo>
                <a:cubicBezTo>
                  <a:pt x="537" y="370"/>
                  <a:pt x="537" y="370"/>
                  <a:pt x="537" y="370"/>
                </a:cubicBezTo>
                <a:cubicBezTo>
                  <a:pt x="539" y="369"/>
                  <a:pt x="541" y="369"/>
                  <a:pt x="544" y="369"/>
                </a:cubicBezTo>
                <a:cubicBezTo>
                  <a:pt x="546" y="368"/>
                  <a:pt x="548" y="368"/>
                  <a:pt x="551" y="368"/>
                </a:cubicBezTo>
                <a:cubicBezTo>
                  <a:pt x="554" y="368"/>
                  <a:pt x="557" y="368"/>
                  <a:pt x="561" y="369"/>
                </a:cubicBezTo>
                <a:cubicBezTo>
                  <a:pt x="564" y="369"/>
                  <a:pt x="568" y="369"/>
                  <a:pt x="571" y="370"/>
                </a:cubicBezTo>
                <a:cubicBezTo>
                  <a:pt x="572" y="370"/>
                  <a:pt x="572" y="370"/>
                  <a:pt x="572" y="370"/>
                </a:cubicBezTo>
                <a:cubicBezTo>
                  <a:pt x="575" y="370"/>
                  <a:pt x="579" y="370"/>
                  <a:pt x="582" y="371"/>
                </a:cubicBezTo>
                <a:cubicBezTo>
                  <a:pt x="583" y="371"/>
                  <a:pt x="583" y="371"/>
                  <a:pt x="583" y="371"/>
                </a:cubicBezTo>
                <a:cubicBezTo>
                  <a:pt x="586" y="371"/>
                  <a:pt x="590" y="372"/>
                  <a:pt x="593" y="373"/>
                </a:cubicBezTo>
                <a:cubicBezTo>
                  <a:pt x="594" y="373"/>
                  <a:pt x="594" y="373"/>
                  <a:pt x="594" y="373"/>
                </a:cubicBezTo>
                <a:cubicBezTo>
                  <a:pt x="595" y="373"/>
                  <a:pt x="595" y="373"/>
                  <a:pt x="595" y="373"/>
                </a:cubicBezTo>
                <a:cubicBezTo>
                  <a:pt x="595" y="373"/>
                  <a:pt x="595" y="373"/>
                  <a:pt x="595" y="373"/>
                </a:cubicBezTo>
                <a:cubicBezTo>
                  <a:pt x="596" y="373"/>
                  <a:pt x="596" y="373"/>
                  <a:pt x="596" y="373"/>
                </a:cubicBezTo>
                <a:cubicBezTo>
                  <a:pt x="597" y="373"/>
                  <a:pt x="597" y="373"/>
                  <a:pt x="597" y="373"/>
                </a:cubicBezTo>
                <a:cubicBezTo>
                  <a:pt x="598" y="373"/>
                  <a:pt x="598" y="373"/>
                  <a:pt x="598" y="373"/>
                </a:cubicBezTo>
                <a:cubicBezTo>
                  <a:pt x="599" y="373"/>
                  <a:pt x="599" y="373"/>
                  <a:pt x="599" y="373"/>
                </a:cubicBezTo>
                <a:cubicBezTo>
                  <a:pt x="599" y="373"/>
                  <a:pt x="599" y="373"/>
                  <a:pt x="599" y="373"/>
                </a:cubicBezTo>
                <a:cubicBezTo>
                  <a:pt x="599" y="373"/>
                  <a:pt x="599" y="373"/>
                  <a:pt x="599" y="373"/>
                </a:cubicBezTo>
                <a:cubicBezTo>
                  <a:pt x="599" y="373"/>
                  <a:pt x="599" y="373"/>
                  <a:pt x="599" y="373"/>
                </a:cubicBezTo>
                <a:cubicBezTo>
                  <a:pt x="600" y="374"/>
                  <a:pt x="600" y="374"/>
                  <a:pt x="600" y="374"/>
                </a:cubicBezTo>
                <a:cubicBezTo>
                  <a:pt x="601" y="374"/>
                  <a:pt x="601" y="374"/>
                  <a:pt x="601" y="374"/>
                </a:cubicBezTo>
                <a:cubicBezTo>
                  <a:pt x="602" y="374"/>
                  <a:pt x="602" y="374"/>
                  <a:pt x="602" y="374"/>
                </a:cubicBezTo>
                <a:cubicBezTo>
                  <a:pt x="603" y="374"/>
                  <a:pt x="603" y="374"/>
                  <a:pt x="603" y="374"/>
                </a:cubicBezTo>
                <a:cubicBezTo>
                  <a:pt x="604" y="374"/>
                  <a:pt x="604" y="374"/>
                  <a:pt x="604" y="374"/>
                </a:cubicBezTo>
                <a:cubicBezTo>
                  <a:pt x="604" y="374"/>
                  <a:pt x="604" y="374"/>
                  <a:pt x="604" y="374"/>
                </a:cubicBezTo>
                <a:cubicBezTo>
                  <a:pt x="605" y="374"/>
                  <a:pt x="605" y="374"/>
                  <a:pt x="605" y="374"/>
                </a:cubicBezTo>
                <a:cubicBezTo>
                  <a:pt x="606" y="374"/>
                  <a:pt x="606" y="374"/>
                  <a:pt x="606" y="374"/>
                </a:cubicBezTo>
                <a:cubicBezTo>
                  <a:pt x="607" y="374"/>
                  <a:pt x="607" y="374"/>
                  <a:pt x="607" y="374"/>
                </a:cubicBezTo>
                <a:cubicBezTo>
                  <a:pt x="607" y="374"/>
                  <a:pt x="607" y="374"/>
                  <a:pt x="607" y="374"/>
                </a:cubicBezTo>
                <a:cubicBezTo>
                  <a:pt x="608" y="374"/>
                  <a:pt x="608" y="374"/>
                  <a:pt x="608" y="374"/>
                </a:cubicBezTo>
                <a:cubicBezTo>
                  <a:pt x="609" y="374"/>
                  <a:pt x="609" y="374"/>
                  <a:pt x="609" y="374"/>
                </a:cubicBezTo>
                <a:cubicBezTo>
                  <a:pt x="609" y="374"/>
                  <a:pt x="609" y="374"/>
                  <a:pt x="609" y="374"/>
                </a:cubicBezTo>
                <a:cubicBezTo>
                  <a:pt x="609" y="374"/>
                  <a:pt x="609" y="374"/>
                  <a:pt x="609" y="374"/>
                </a:cubicBezTo>
                <a:cubicBezTo>
                  <a:pt x="609" y="374"/>
                  <a:pt x="609" y="374"/>
                  <a:pt x="609" y="374"/>
                </a:cubicBezTo>
                <a:cubicBezTo>
                  <a:pt x="609" y="374"/>
                  <a:pt x="609" y="374"/>
                  <a:pt x="609" y="374"/>
                </a:cubicBezTo>
                <a:cubicBezTo>
                  <a:pt x="610" y="374"/>
                  <a:pt x="610" y="374"/>
                  <a:pt x="610" y="374"/>
                </a:cubicBezTo>
                <a:cubicBezTo>
                  <a:pt x="611" y="374"/>
                  <a:pt x="611" y="374"/>
                  <a:pt x="611" y="374"/>
                </a:cubicBezTo>
                <a:cubicBezTo>
                  <a:pt x="611" y="374"/>
                  <a:pt x="611" y="374"/>
                  <a:pt x="611" y="374"/>
                </a:cubicBezTo>
                <a:cubicBezTo>
                  <a:pt x="612" y="374"/>
                  <a:pt x="612" y="374"/>
                  <a:pt x="612" y="374"/>
                </a:cubicBezTo>
                <a:cubicBezTo>
                  <a:pt x="612" y="374"/>
                  <a:pt x="612" y="374"/>
                  <a:pt x="612" y="374"/>
                </a:cubicBezTo>
                <a:cubicBezTo>
                  <a:pt x="613" y="374"/>
                  <a:pt x="613" y="374"/>
                  <a:pt x="613" y="374"/>
                </a:cubicBezTo>
                <a:cubicBezTo>
                  <a:pt x="614" y="374"/>
                  <a:pt x="614" y="374"/>
                  <a:pt x="614" y="374"/>
                </a:cubicBezTo>
                <a:cubicBezTo>
                  <a:pt x="614" y="374"/>
                  <a:pt x="614" y="374"/>
                  <a:pt x="614" y="374"/>
                </a:cubicBezTo>
                <a:cubicBezTo>
                  <a:pt x="614" y="374"/>
                  <a:pt x="614" y="374"/>
                  <a:pt x="614" y="374"/>
                </a:cubicBezTo>
                <a:cubicBezTo>
                  <a:pt x="615" y="374"/>
                  <a:pt x="615" y="374"/>
                  <a:pt x="615" y="374"/>
                </a:cubicBezTo>
                <a:cubicBezTo>
                  <a:pt x="615" y="374"/>
                  <a:pt x="615" y="374"/>
                  <a:pt x="615" y="374"/>
                </a:cubicBezTo>
                <a:cubicBezTo>
                  <a:pt x="616" y="374"/>
                  <a:pt x="616" y="374"/>
                  <a:pt x="616" y="374"/>
                </a:cubicBezTo>
                <a:cubicBezTo>
                  <a:pt x="616" y="374"/>
                  <a:pt x="616" y="374"/>
                  <a:pt x="616" y="374"/>
                </a:cubicBezTo>
                <a:cubicBezTo>
                  <a:pt x="616" y="374"/>
                  <a:pt x="616" y="374"/>
                  <a:pt x="616" y="374"/>
                </a:cubicBezTo>
                <a:cubicBezTo>
                  <a:pt x="617" y="374"/>
                  <a:pt x="617" y="374"/>
                  <a:pt x="617" y="374"/>
                </a:cubicBezTo>
                <a:cubicBezTo>
                  <a:pt x="618" y="374"/>
                  <a:pt x="618" y="374"/>
                  <a:pt x="618" y="374"/>
                </a:cubicBezTo>
                <a:cubicBezTo>
                  <a:pt x="618" y="374"/>
                  <a:pt x="618" y="374"/>
                  <a:pt x="618" y="374"/>
                </a:cubicBezTo>
                <a:cubicBezTo>
                  <a:pt x="619" y="374"/>
                  <a:pt x="619" y="374"/>
                  <a:pt x="619" y="374"/>
                </a:cubicBezTo>
                <a:cubicBezTo>
                  <a:pt x="620" y="374"/>
                  <a:pt x="620" y="374"/>
                  <a:pt x="620" y="374"/>
                </a:cubicBezTo>
                <a:cubicBezTo>
                  <a:pt x="620" y="374"/>
                  <a:pt x="620" y="374"/>
                  <a:pt x="620" y="374"/>
                </a:cubicBezTo>
                <a:cubicBezTo>
                  <a:pt x="621" y="374"/>
                  <a:pt x="621" y="374"/>
                  <a:pt x="621" y="374"/>
                </a:cubicBezTo>
                <a:cubicBezTo>
                  <a:pt x="621" y="374"/>
                  <a:pt x="621" y="374"/>
                  <a:pt x="621" y="374"/>
                </a:cubicBezTo>
                <a:cubicBezTo>
                  <a:pt x="621" y="374"/>
                  <a:pt x="621" y="374"/>
                  <a:pt x="621" y="374"/>
                </a:cubicBezTo>
                <a:cubicBezTo>
                  <a:pt x="621" y="374"/>
                  <a:pt x="621" y="374"/>
                  <a:pt x="621" y="374"/>
                </a:cubicBezTo>
                <a:cubicBezTo>
                  <a:pt x="622" y="374"/>
                  <a:pt x="622" y="374"/>
                  <a:pt x="622" y="374"/>
                </a:cubicBezTo>
                <a:cubicBezTo>
                  <a:pt x="623" y="374"/>
                  <a:pt x="623" y="374"/>
                  <a:pt x="623" y="374"/>
                </a:cubicBezTo>
                <a:cubicBezTo>
                  <a:pt x="624" y="374"/>
                  <a:pt x="624" y="374"/>
                  <a:pt x="624" y="374"/>
                </a:cubicBezTo>
                <a:cubicBezTo>
                  <a:pt x="625" y="374"/>
                  <a:pt x="625" y="374"/>
                  <a:pt x="625" y="374"/>
                </a:cubicBezTo>
                <a:cubicBezTo>
                  <a:pt x="625" y="374"/>
                  <a:pt x="625" y="374"/>
                  <a:pt x="625" y="374"/>
                </a:cubicBezTo>
                <a:cubicBezTo>
                  <a:pt x="625" y="374"/>
                  <a:pt x="625" y="374"/>
                  <a:pt x="625" y="374"/>
                </a:cubicBezTo>
                <a:cubicBezTo>
                  <a:pt x="625" y="374"/>
                  <a:pt x="625" y="374"/>
                  <a:pt x="626" y="374"/>
                </a:cubicBezTo>
                <a:cubicBezTo>
                  <a:pt x="626" y="374"/>
                  <a:pt x="627" y="374"/>
                  <a:pt x="627" y="374"/>
                </a:cubicBezTo>
                <a:cubicBezTo>
                  <a:pt x="627" y="374"/>
                  <a:pt x="628" y="373"/>
                  <a:pt x="628" y="373"/>
                </a:cubicBezTo>
                <a:cubicBezTo>
                  <a:pt x="629" y="373"/>
                  <a:pt x="629" y="373"/>
                  <a:pt x="629" y="373"/>
                </a:cubicBezTo>
                <a:cubicBezTo>
                  <a:pt x="631" y="373"/>
                  <a:pt x="633" y="373"/>
                  <a:pt x="635" y="372"/>
                </a:cubicBezTo>
                <a:cubicBezTo>
                  <a:pt x="636" y="372"/>
                  <a:pt x="636" y="372"/>
                  <a:pt x="636" y="372"/>
                </a:cubicBezTo>
                <a:cubicBezTo>
                  <a:pt x="636" y="372"/>
                  <a:pt x="636" y="372"/>
                  <a:pt x="636" y="372"/>
                </a:cubicBezTo>
                <a:cubicBezTo>
                  <a:pt x="638" y="372"/>
                  <a:pt x="639" y="372"/>
                  <a:pt x="641" y="371"/>
                </a:cubicBezTo>
                <a:cubicBezTo>
                  <a:pt x="641" y="371"/>
                  <a:pt x="641" y="371"/>
                  <a:pt x="641" y="371"/>
                </a:cubicBezTo>
                <a:cubicBezTo>
                  <a:pt x="642" y="371"/>
                  <a:pt x="642" y="371"/>
                  <a:pt x="642" y="371"/>
                </a:cubicBezTo>
                <a:cubicBezTo>
                  <a:pt x="643" y="371"/>
                  <a:pt x="645" y="370"/>
                  <a:pt x="647" y="370"/>
                </a:cubicBezTo>
                <a:cubicBezTo>
                  <a:pt x="648" y="370"/>
                  <a:pt x="648" y="370"/>
                  <a:pt x="648" y="370"/>
                </a:cubicBezTo>
                <a:cubicBezTo>
                  <a:pt x="648" y="370"/>
                  <a:pt x="648" y="370"/>
                  <a:pt x="648" y="370"/>
                </a:cubicBezTo>
                <a:cubicBezTo>
                  <a:pt x="649" y="370"/>
                  <a:pt x="649" y="370"/>
                  <a:pt x="650" y="369"/>
                </a:cubicBezTo>
                <a:cubicBezTo>
                  <a:pt x="651" y="369"/>
                  <a:pt x="653" y="369"/>
                  <a:pt x="654" y="368"/>
                </a:cubicBezTo>
                <a:close/>
              </a:path>
            </a:pathLst>
          </a:custGeom>
          <a:gradFill rotWithShape="0">
            <a:gsLst>
              <a:gs pos="0">
                <a:srgbClr val="292929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Freeform 8"/>
          <p:cNvSpPr/>
          <p:nvPr/>
        </p:nvSpPr>
        <p:spPr>
          <a:xfrm flipH="1">
            <a:off x="6770520" y="2868480"/>
            <a:ext cx="154080" cy="128880"/>
          </a:xfrm>
          <a:custGeom>
            <a:avLst/>
            <a:gdLst/>
            <a:ahLst/>
            <a:rect l="l" t="t" r="r" b="b"/>
            <a:pathLst>
              <a:path w="104" h="86">
                <a:moveTo>
                  <a:pt x="99" y="84"/>
                </a:moveTo>
                <a:cubicBezTo>
                  <a:pt x="99" y="84"/>
                  <a:pt x="99" y="84"/>
                  <a:pt x="99" y="84"/>
                </a:cubicBezTo>
                <a:cubicBezTo>
                  <a:pt x="97" y="84"/>
                  <a:pt x="95" y="84"/>
                  <a:pt x="93" y="84"/>
                </a:cubicBezTo>
                <a:cubicBezTo>
                  <a:pt x="91" y="84"/>
                  <a:pt x="90" y="84"/>
                  <a:pt x="88" y="84"/>
                </a:cubicBezTo>
                <a:cubicBezTo>
                  <a:pt x="87" y="84"/>
                  <a:pt x="87" y="84"/>
                  <a:pt x="87" y="84"/>
                </a:cubicBezTo>
                <a:cubicBezTo>
                  <a:pt x="86" y="84"/>
                  <a:pt x="85" y="84"/>
                  <a:pt x="84" y="84"/>
                </a:cubicBezTo>
                <a:cubicBezTo>
                  <a:pt x="83" y="84"/>
                  <a:pt x="82" y="84"/>
                  <a:pt x="82" y="84"/>
                </a:cubicBezTo>
                <a:cubicBezTo>
                  <a:pt x="80" y="84"/>
                  <a:pt x="79" y="84"/>
                  <a:pt x="78" y="84"/>
                </a:cubicBezTo>
                <a:cubicBezTo>
                  <a:pt x="78" y="84"/>
                  <a:pt x="78" y="84"/>
                  <a:pt x="78" y="84"/>
                </a:cubicBezTo>
                <a:cubicBezTo>
                  <a:pt x="76" y="84"/>
                  <a:pt x="74" y="84"/>
                  <a:pt x="72" y="84"/>
                </a:cubicBezTo>
                <a:cubicBezTo>
                  <a:pt x="71" y="85"/>
                  <a:pt x="69" y="85"/>
                  <a:pt x="68" y="85"/>
                </a:cubicBezTo>
                <a:cubicBezTo>
                  <a:pt x="67" y="85"/>
                  <a:pt x="66" y="85"/>
                  <a:pt x="65" y="85"/>
                </a:cubicBezTo>
                <a:cubicBezTo>
                  <a:pt x="65" y="85"/>
                  <a:pt x="65" y="85"/>
                  <a:pt x="65" y="85"/>
                </a:cubicBezTo>
                <a:cubicBezTo>
                  <a:pt x="62" y="85"/>
                  <a:pt x="60" y="85"/>
                  <a:pt x="58" y="85"/>
                </a:cubicBezTo>
                <a:cubicBezTo>
                  <a:pt x="55" y="85"/>
                  <a:pt x="52" y="85"/>
                  <a:pt x="49" y="85"/>
                </a:cubicBezTo>
                <a:cubicBezTo>
                  <a:pt x="48" y="85"/>
                  <a:pt x="47" y="85"/>
                  <a:pt x="46" y="85"/>
                </a:cubicBezTo>
                <a:cubicBezTo>
                  <a:pt x="36" y="85"/>
                  <a:pt x="26" y="86"/>
                  <a:pt x="15" y="86"/>
                </a:cubicBezTo>
                <a:cubicBezTo>
                  <a:pt x="14" y="86"/>
                  <a:pt x="12" y="86"/>
                  <a:pt x="10" y="86"/>
                </a:cubicBezTo>
                <a:cubicBezTo>
                  <a:pt x="7" y="86"/>
                  <a:pt x="4" y="86"/>
                  <a:pt x="0" y="86"/>
                </a:cubicBezTo>
                <a:cubicBezTo>
                  <a:pt x="1" y="86"/>
                  <a:pt x="1" y="85"/>
                  <a:pt x="2" y="85"/>
                </a:cubicBezTo>
                <a:cubicBezTo>
                  <a:pt x="3" y="85"/>
                  <a:pt x="3" y="85"/>
                  <a:pt x="3" y="85"/>
                </a:cubicBezTo>
                <a:cubicBezTo>
                  <a:pt x="4" y="84"/>
                  <a:pt x="4" y="84"/>
                  <a:pt x="5" y="83"/>
                </a:cubicBezTo>
                <a:cubicBezTo>
                  <a:pt x="6" y="83"/>
                  <a:pt x="6" y="83"/>
                  <a:pt x="6" y="83"/>
                </a:cubicBezTo>
                <a:cubicBezTo>
                  <a:pt x="6" y="83"/>
                  <a:pt x="7" y="82"/>
                  <a:pt x="8" y="82"/>
                </a:cubicBezTo>
                <a:cubicBezTo>
                  <a:pt x="9" y="81"/>
                  <a:pt x="9" y="81"/>
                  <a:pt x="9" y="81"/>
                </a:cubicBezTo>
                <a:cubicBezTo>
                  <a:pt x="9" y="81"/>
                  <a:pt x="9" y="81"/>
                  <a:pt x="9" y="81"/>
                </a:cubicBezTo>
                <a:cubicBezTo>
                  <a:pt x="10" y="81"/>
                  <a:pt x="10" y="81"/>
                  <a:pt x="10" y="81"/>
                </a:cubicBezTo>
                <a:cubicBezTo>
                  <a:pt x="10" y="80"/>
                  <a:pt x="10" y="80"/>
                  <a:pt x="10" y="80"/>
                </a:cubicBezTo>
                <a:cubicBezTo>
                  <a:pt x="11" y="80"/>
                  <a:pt x="11" y="80"/>
                  <a:pt x="11" y="80"/>
                </a:cubicBezTo>
                <a:cubicBezTo>
                  <a:pt x="11" y="80"/>
                  <a:pt x="11" y="80"/>
                  <a:pt x="11" y="80"/>
                </a:cubicBezTo>
                <a:cubicBezTo>
                  <a:pt x="12" y="79"/>
                  <a:pt x="12" y="79"/>
                  <a:pt x="12" y="79"/>
                </a:cubicBezTo>
                <a:cubicBezTo>
                  <a:pt x="12" y="79"/>
                  <a:pt x="12" y="79"/>
                  <a:pt x="12" y="79"/>
                </a:cubicBezTo>
                <a:cubicBezTo>
                  <a:pt x="13" y="79"/>
                  <a:pt x="13" y="79"/>
                  <a:pt x="13" y="79"/>
                </a:cubicBezTo>
                <a:cubicBezTo>
                  <a:pt x="13" y="79"/>
                  <a:pt x="13" y="79"/>
                  <a:pt x="13" y="79"/>
                </a:cubicBezTo>
                <a:cubicBezTo>
                  <a:pt x="13" y="79"/>
                  <a:pt x="13" y="79"/>
                  <a:pt x="13" y="79"/>
                </a:cubicBezTo>
                <a:cubicBezTo>
                  <a:pt x="13" y="78"/>
                  <a:pt x="13" y="78"/>
                  <a:pt x="13" y="78"/>
                </a:cubicBezTo>
                <a:cubicBezTo>
                  <a:pt x="13" y="78"/>
                  <a:pt x="13" y="78"/>
                  <a:pt x="13" y="78"/>
                </a:cubicBezTo>
                <a:cubicBezTo>
                  <a:pt x="14" y="78"/>
                  <a:pt x="14" y="78"/>
                  <a:pt x="14" y="78"/>
                </a:cubicBezTo>
                <a:cubicBezTo>
                  <a:pt x="14" y="78"/>
                  <a:pt x="14" y="78"/>
                  <a:pt x="14" y="78"/>
                </a:cubicBezTo>
                <a:cubicBezTo>
                  <a:pt x="14" y="77"/>
                  <a:pt x="14" y="77"/>
                  <a:pt x="14" y="77"/>
                </a:cubicBezTo>
                <a:cubicBezTo>
                  <a:pt x="14" y="77"/>
                  <a:pt x="14" y="77"/>
                  <a:pt x="14" y="77"/>
                </a:cubicBezTo>
                <a:cubicBezTo>
                  <a:pt x="14" y="77"/>
                  <a:pt x="14" y="77"/>
                  <a:pt x="14" y="77"/>
                </a:cubicBezTo>
                <a:cubicBezTo>
                  <a:pt x="15" y="77"/>
                  <a:pt x="15" y="77"/>
                  <a:pt x="15" y="77"/>
                </a:cubicBezTo>
                <a:cubicBezTo>
                  <a:pt x="15" y="77"/>
                  <a:pt x="15" y="77"/>
                  <a:pt x="15" y="77"/>
                </a:cubicBezTo>
                <a:cubicBezTo>
                  <a:pt x="15" y="77"/>
                  <a:pt x="15" y="77"/>
                  <a:pt x="15" y="77"/>
                </a:cubicBezTo>
                <a:cubicBezTo>
                  <a:pt x="15" y="77"/>
                  <a:pt x="15" y="77"/>
                  <a:pt x="15" y="77"/>
                </a:cubicBezTo>
                <a:cubicBezTo>
                  <a:pt x="15" y="76"/>
                  <a:pt x="15" y="76"/>
                  <a:pt x="15" y="76"/>
                </a:cubicBezTo>
                <a:cubicBezTo>
                  <a:pt x="15" y="76"/>
                  <a:pt x="15" y="76"/>
                  <a:pt x="15" y="76"/>
                </a:cubicBezTo>
                <a:cubicBezTo>
                  <a:pt x="15" y="76"/>
                  <a:pt x="15" y="76"/>
                  <a:pt x="15" y="76"/>
                </a:cubicBezTo>
                <a:cubicBezTo>
                  <a:pt x="15" y="76"/>
                  <a:pt x="15" y="76"/>
                  <a:pt x="15" y="76"/>
                </a:cubicBezTo>
                <a:cubicBezTo>
                  <a:pt x="15" y="76"/>
                  <a:pt x="15" y="76"/>
                  <a:pt x="15" y="76"/>
                </a:cubicBezTo>
                <a:cubicBezTo>
                  <a:pt x="15" y="76"/>
                  <a:pt x="15" y="76"/>
                  <a:pt x="15" y="76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4"/>
                  <a:pt x="16" y="74"/>
                  <a:pt x="16" y="74"/>
                </a:cubicBezTo>
                <a:cubicBezTo>
                  <a:pt x="16" y="74"/>
                  <a:pt x="16" y="74"/>
                  <a:pt x="16" y="74"/>
                </a:cubicBezTo>
                <a:cubicBezTo>
                  <a:pt x="16" y="74"/>
                  <a:pt x="16" y="74"/>
                  <a:pt x="16" y="74"/>
                </a:cubicBezTo>
                <a:cubicBezTo>
                  <a:pt x="7" y="1"/>
                  <a:pt x="7" y="1"/>
                  <a:pt x="7" y="1"/>
                </a:cubicBezTo>
                <a:cubicBezTo>
                  <a:pt x="34" y="0"/>
                  <a:pt x="64" y="0"/>
                  <a:pt x="94" y="0"/>
                </a:cubicBezTo>
                <a:cubicBezTo>
                  <a:pt x="104" y="83"/>
                  <a:pt x="104" y="83"/>
                  <a:pt x="104" y="83"/>
                </a:cubicBezTo>
                <a:cubicBezTo>
                  <a:pt x="104" y="83"/>
                  <a:pt x="104" y="83"/>
                  <a:pt x="104" y="83"/>
                </a:cubicBezTo>
                <a:cubicBezTo>
                  <a:pt x="102" y="83"/>
                  <a:pt x="101" y="84"/>
                  <a:pt x="99" y="8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Freeform 9"/>
          <p:cNvSpPr/>
          <p:nvPr/>
        </p:nvSpPr>
        <p:spPr>
          <a:xfrm flipH="1">
            <a:off x="6614280" y="2865600"/>
            <a:ext cx="163800" cy="126720"/>
          </a:xfrm>
          <a:custGeom>
            <a:avLst/>
            <a:gdLst/>
            <a:ahLst/>
            <a:rect l="l" t="t" r="r" b="b"/>
            <a:pathLst>
              <a:path w="110" h="85">
                <a:moveTo>
                  <a:pt x="110" y="38"/>
                </a:moveTo>
                <a:cubicBezTo>
                  <a:pt x="109" y="38"/>
                  <a:pt x="109" y="38"/>
                  <a:pt x="108" y="38"/>
                </a:cubicBezTo>
                <a:cubicBezTo>
                  <a:pt x="108" y="38"/>
                  <a:pt x="107" y="38"/>
                  <a:pt x="107" y="38"/>
                </a:cubicBezTo>
                <a:cubicBezTo>
                  <a:pt x="106" y="37"/>
                  <a:pt x="106" y="37"/>
                  <a:pt x="105" y="37"/>
                </a:cubicBezTo>
                <a:cubicBezTo>
                  <a:pt x="105" y="37"/>
                  <a:pt x="104" y="37"/>
                  <a:pt x="104" y="37"/>
                </a:cubicBezTo>
                <a:cubicBezTo>
                  <a:pt x="103" y="37"/>
                  <a:pt x="103" y="37"/>
                  <a:pt x="102" y="37"/>
                </a:cubicBezTo>
                <a:cubicBezTo>
                  <a:pt x="102" y="37"/>
                  <a:pt x="102" y="37"/>
                  <a:pt x="101" y="37"/>
                </a:cubicBezTo>
                <a:cubicBezTo>
                  <a:pt x="101" y="37"/>
                  <a:pt x="101" y="37"/>
                  <a:pt x="100" y="37"/>
                </a:cubicBezTo>
                <a:cubicBezTo>
                  <a:pt x="100" y="37"/>
                  <a:pt x="100" y="37"/>
                  <a:pt x="100" y="37"/>
                </a:cubicBezTo>
                <a:cubicBezTo>
                  <a:pt x="100" y="37"/>
                  <a:pt x="100" y="37"/>
                  <a:pt x="100" y="37"/>
                </a:cubicBezTo>
                <a:cubicBezTo>
                  <a:pt x="100" y="37"/>
                  <a:pt x="100" y="37"/>
                  <a:pt x="100" y="37"/>
                </a:cubicBezTo>
                <a:cubicBezTo>
                  <a:pt x="99" y="37"/>
                  <a:pt x="99" y="37"/>
                  <a:pt x="99" y="37"/>
                </a:cubicBezTo>
                <a:cubicBezTo>
                  <a:pt x="98" y="37"/>
                  <a:pt x="98" y="37"/>
                  <a:pt x="98" y="37"/>
                </a:cubicBezTo>
                <a:cubicBezTo>
                  <a:pt x="98" y="37"/>
                  <a:pt x="98" y="37"/>
                  <a:pt x="98" y="37"/>
                </a:cubicBezTo>
                <a:cubicBezTo>
                  <a:pt x="97" y="37"/>
                  <a:pt x="97" y="37"/>
                  <a:pt x="97" y="37"/>
                </a:cubicBezTo>
                <a:cubicBezTo>
                  <a:pt x="96" y="37"/>
                  <a:pt x="96" y="37"/>
                  <a:pt x="96" y="37"/>
                </a:cubicBezTo>
                <a:cubicBezTo>
                  <a:pt x="94" y="37"/>
                  <a:pt x="94" y="37"/>
                  <a:pt x="94" y="37"/>
                </a:cubicBezTo>
                <a:cubicBezTo>
                  <a:pt x="94" y="37"/>
                  <a:pt x="94" y="37"/>
                  <a:pt x="94" y="37"/>
                </a:cubicBezTo>
                <a:cubicBezTo>
                  <a:pt x="93" y="37"/>
                  <a:pt x="93" y="37"/>
                  <a:pt x="93" y="37"/>
                </a:cubicBezTo>
                <a:cubicBezTo>
                  <a:pt x="92" y="37"/>
                  <a:pt x="92" y="37"/>
                  <a:pt x="92" y="37"/>
                </a:cubicBezTo>
                <a:cubicBezTo>
                  <a:pt x="92" y="37"/>
                  <a:pt x="92" y="37"/>
                  <a:pt x="92" y="37"/>
                </a:cubicBezTo>
                <a:cubicBezTo>
                  <a:pt x="91" y="37"/>
                  <a:pt x="91" y="37"/>
                  <a:pt x="91" y="37"/>
                </a:cubicBezTo>
                <a:cubicBezTo>
                  <a:pt x="91" y="37"/>
                  <a:pt x="91" y="37"/>
                  <a:pt x="91" y="37"/>
                </a:cubicBezTo>
                <a:cubicBezTo>
                  <a:pt x="90" y="37"/>
                  <a:pt x="90" y="37"/>
                  <a:pt x="90" y="37"/>
                </a:cubicBezTo>
                <a:cubicBezTo>
                  <a:pt x="90" y="37"/>
                  <a:pt x="90" y="37"/>
                  <a:pt x="90" y="37"/>
                </a:cubicBezTo>
                <a:cubicBezTo>
                  <a:pt x="90" y="37"/>
                  <a:pt x="90" y="37"/>
                  <a:pt x="90" y="37"/>
                </a:cubicBezTo>
                <a:cubicBezTo>
                  <a:pt x="89" y="37"/>
                  <a:pt x="89" y="37"/>
                  <a:pt x="89" y="37"/>
                </a:cubicBezTo>
                <a:cubicBezTo>
                  <a:pt x="89" y="37"/>
                  <a:pt x="89" y="37"/>
                  <a:pt x="89" y="37"/>
                </a:cubicBezTo>
                <a:cubicBezTo>
                  <a:pt x="89" y="37"/>
                  <a:pt x="89" y="37"/>
                  <a:pt x="89" y="37"/>
                </a:cubicBezTo>
                <a:cubicBezTo>
                  <a:pt x="89" y="37"/>
                  <a:pt x="89" y="37"/>
                  <a:pt x="89" y="37"/>
                </a:cubicBezTo>
                <a:cubicBezTo>
                  <a:pt x="88" y="37"/>
                  <a:pt x="88" y="37"/>
                  <a:pt x="88" y="37"/>
                </a:cubicBezTo>
                <a:cubicBezTo>
                  <a:pt x="88" y="37"/>
                  <a:pt x="88" y="37"/>
                  <a:pt x="88" y="37"/>
                </a:cubicBezTo>
                <a:cubicBezTo>
                  <a:pt x="88" y="37"/>
                  <a:pt x="88" y="37"/>
                  <a:pt x="88" y="37"/>
                </a:cubicBezTo>
                <a:cubicBezTo>
                  <a:pt x="87" y="37"/>
                  <a:pt x="87" y="37"/>
                  <a:pt x="87" y="37"/>
                </a:cubicBezTo>
                <a:cubicBezTo>
                  <a:pt x="87" y="37"/>
                  <a:pt x="87" y="37"/>
                  <a:pt x="87" y="37"/>
                </a:cubicBezTo>
                <a:cubicBezTo>
                  <a:pt x="86" y="37"/>
                  <a:pt x="86" y="37"/>
                  <a:pt x="86" y="37"/>
                </a:cubicBezTo>
                <a:cubicBezTo>
                  <a:pt x="86" y="37"/>
                  <a:pt x="86" y="37"/>
                  <a:pt x="86" y="37"/>
                </a:cubicBezTo>
                <a:cubicBezTo>
                  <a:pt x="85" y="37"/>
                  <a:pt x="85" y="37"/>
                  <a:pt x="85" y="37"/>
                </a:cubicBezTo>
                <a:cubicBezTo>
                  <a:pt x="85" y="37"/>
                  <a:pt x="85" y="37"/>
                  <a:pt x="85" y="37"/>
                </a:cubicBezTo>
                <a:cubicBezTo>
                  <a:pt x="84" y="37"/>
                  <a:pt x="84" y="37"/>
                  <a:pt x="84" y="37"/>
                </a:cubicBezTo>
                <a:cubicBezTo>
                  <a:pt x="84" y="37"/>
                  <a:pt x="84" y="37"/>
                  <a:pt x="84" y="37"/>
                </a:cubicBezTo>
                <a:cubicBezTo>
                  <a:pt x="83" y="37"/>
                  <a:pt x="83" y="37"/>
                  <a:pt x="83" y="37"/>
                </a:cubicBezTo>
                <a:cubicBezTo>
                  <a:pt x="83" y="37"/>
                  <a:pt x="83" y="37"/>
                  <a:pt x="83" y="37"/>
                </a:cubicBezTo>
                <a:cubicBezTo>
                  <a:pt x="82" y="37"/>
                  <a:pt x="82" y="37"/>
                  <a:pt x="82" y="37"/>
                </a:cubicBezTo>
                <a:cubicBezTo>
                  <a:pt x="82" y="37"/>
                  <a:pt x="82" y="37"/>
                  <a:pt x="82" y="37"/>
                </a:cubicBezTo>
                <a:cubicBezTo>
                  <a:pt x="81" y="37"/>
                  <a:pt x="81" y="37"/>
                  <a:pt x="81" y="37"/>
                </a:cubicBezTo>
                <a:cubicBezTo>
                  <a:pt x="80" y="37"/>
                  <a:pt x="80" y="37"/>
                  <a:pt x="80" y="37"/>
                </a:cubicBezTo>
                <a:cubicBezTo>
                  <a:pt x="80" y="37"/>
                  <a:pt x="80" y="37"/>
                  <a:pt x="79" y="37"/>
                </a:cubicBezTo>
                <a:cubicBezTo>
                  <a:pt x="79" y="38"/>
                  <a:pt x="78" y="38"/>
                  <a:pt x="78" y="38"/>
                </a:cubicBezTo>
                <a:cubicBezTo>
                  <a:pt x="77" y="38"/>
                  <a:pt x="77" y="38"/>
                  <a:pt x="77" y="38"/>
                </a:cubicBezTo>
                <a:cubicBezTo>
                  <a:pt x="76" y="38"/>
                  <a:pt x="76" y="38"/>
                  <a:pt x="76" y="38"/>
                </a:cubicBezTo>
                <a:cubicBezTo>
                  <a:pt x="76" y="38"/>
                  <a:pt x="76" y="38"/>
                  <a:pt x="76" y="38"/>
                </a:cubicBezTo>
                <a:cubicBezTo>
                  <a:pt x="76" y="38"/>
                  <a:pt x="76" y="38"/>
                  <a:pt x="76" y="38"/>
                </a:cubicBezTo>
                <a:cubicBezTo>
                  <a:pt x="75" y="38"/>
                  <a:pt x="75" y="38"/>
                  <a:pt x="75" y="38"/>
                </a:cubicBezTo>
                <a:cubicBezTo>
                  <a:pt x="75" y="38"/>
                  <a:pt x="75" y="38"/>
                  <a:pt x="75" y="38"/>
                </a:cubicBezTo>
                <a:cubicBezTo>
                  <a:pt x="74" y="38"/>
                  <a:pt x="74" y="38"/>
                  <a:pt x="74" y="38"/>
                </a:cubicBezTo>
                <a:cubicBezTo>
                  <a:pt x="74" y="39"/>
                  <a:pt x="74" y="39"/>
                  <a:pt x="74" y="39"/>
                </a:cubicBezTo>
                <a:cubicBezTo>
                  <a:pt x="73" y="39"/>
                  <a:pt x="73" y="39"/>
                  <a:pt x="73" y="39"/>
                </a:cubicBezTo>
                <a:cubicBezTo>
                  <a:pt x="73" y="39"/>
                  <a:pt x="73" y="39"/>
                  <a:pt x="73" y="39"/>
                </a:cubicBezTo>
                <a:cubicBezTo>
                  <a:pt x="73" y="39"/>
                  <a:pt x="73" y="39"/>
                  <a:pt x="73" y="39"/>
                </a:cubicBezTo>
                <a:cubicBezTo>
                  <a:pt x="73" y="39"/>
                  <a:pt x="73" y="39"/>
                  <a:pt x="73" y="39"/>
                </a:cubicBezTo>
                <a:cubicBezTo>
                  <a:pt x="73" y="39"/>
                  <a:pt x="73" y="39"/>
                  <a:pt x="73" y="39"/>
                </a:cubicBezTo>
                <a:cubicBezTo>
                  <a:pt x="72" y="39"/>
                  <a:pt x="72" y="39"/>
                  <a:pt x="72" y="39"/>
                </a:cubicBezTo>
                <a:cubicBezTo>
                  <a:pt x="72" y="39"/>
                  <a:pt x="72" y="39"/>
                  <a:pt x="72" y="39"/>
                </a:cubicBezTo>
                <a:cubicBezTo>
                  <a:pt x="72" y="39"/>
                  <a:pt x="72" y="39"/>
                  <a:pt x="72" y="39"/>
                </a:cubicBezTo>
                <a:cubicBezTo>
                  <a:pt x="71" y="39"/>
                  <a:pt x="71" y="39"/>
                  <a:pt x="71" y="39"/>
                </a:cubicBezTo>
                <a:cubicBezTo>
                  <a:pt x="71" y="39"/>
                  <a:pt x="71" y="39"/>
                  <a:pt x="71" y="39"/>
                </a:cubicBezTo>
                <a:cubicBezTo>
                  <a:pt x="71" y="39"/>
                  <a:pt x="71" y="39"/>
                  <a:pt x="71" y="39"/>
                </a:cubicBezTo>
                <a:cubicBezTo>
                  <a:pt x="71" y="40"/>
                  <a:pt x="71" y="40"/>
                  <a:pt x="71" y="40"/>
                </a:cubicBezTo>
                <a:cubicBezTo>
                  <a:pt x="70" y="40"/>
                  <a:pt x="70" y="40"/>
                  <a:pt x="70" y="40"/>
                </a:cubicBezTo>
                <a:cubicBezTo>
                  <a:pt x="70" y="40"/>
                  <a:pt x="70" y="40"/>
                  <a:pt x="70" y="40"/>
                </a:cubicBezTo>
                <a:cubicBezTo>
                  <a:pt x="70" y="40"/>
                  <a:pt x="70" y="40"/>
                  <a:pt x="70" y="40"/>
                </a:cubicBezTo>
                <a:cubicBezTo>
                  <a:pt x="70" y="40"/>
                  <a:pt x="70" y="40"/>
                  <a:pt x="70" y="40"/>
                </a:cubicBezTo>
                <a:cubicBezTo>
                  <a:pt x="69" y="40"/>
                  <a:pt x="69" y="40"/>
                  <a:pt x="69" y="40"/>
                </a:cubicBezTo>
                <a:cubicBezTo>
                  <a:pt x="69" y="40"/>
                  <a:pt x="69" y="40"/>
                  <a:pt x="69" y="40"/>
                </a:cubicBezTo>
                <a:cubicBezTo>
                  <a:pt x="69" y="40"/>
                  <a:pt x="69" y="40"/>
                  <a:pt x="69" y="40"/>
                </a:cubicBezTo>
                <a:cubicBezTo>
                  <a:pt x="69" y="40"/>
                  <a:pt x="69" y="40"/>
                  <a:pt x="69" y="40"/>
                </a:cubicBezTo>
                <a:cubicBezTo>
                  <a:pt x="68" y="40"/>
                  <a:pt x="68" y="40"/>
                  <a:pt x="68" y="40"/>
                </a:cubicBezTo>
                <a:cubicBezTo>
                  <a:pt x="68" y="41"/>
                  <a:pt x="68" y="41"/>
                  <a:pt x="68" y="41"/>
                </a:cubicBezTo>
                <a:cubicBezTo>
                  <a:pt x="68" y="41"/>
                  <a:pt x="68" y="41"/>
                  <a:pt x="68" y="41"/>
                </a:cubicBezTo>
                <a:cubicBezTo>
                  <a:pt x="68" y="41"/>
                  <a:pt x="68" y="41"/>
                  <a:pt x="68" y="41"/>
                </a:cubicBezTo>
                <a:cubicBezTo>
                  <a:pt x="68" y="41"/>
                  <a:pt x="68" y="41"/>
                  <a:pt x="68" y="41"/>
                </a:cubicBezTo>
                <a:cubicBezTo>
                  <a:pt x="68" y="41"/>
                  <a:pt x="68" y="41"/>
                  <a:pt x="68" y="41"/>
                </a:cubicBezTo>
                <a:cubicBezTo>
                  <a:pt x="68" y="41"/>
                  <a:pt x="68" y="41"/>
                  <a:pt x="68" y="41"/>
                </a:cubicBezTo>
                <a:cubicBezTo>
                  <a:pt x="67" y="41"/>
                  <a:pt x="67" y="41"/>
                  <a:pt x="67" y="41"/>
                </a:cubicBezTo>
                <a:cubicBezTo>
                  <a:pt x="67" y="41"/>
                  <a:pt x="67" y="41"/>
                  <a:pt x="67" y="41"/>
                </a:cubicBezTo>
                <a:cubicBezTo>
                  <a:pt x="67" y="41"/>
                  <a:pt x="67" y="41"/>
                  <a:pt x="67" y="41"/>
                </a:cubicBezTo>
                <a:cubicBezTo>
                  <a:pt x="67" y="41"/>
                  <a:pt x="67" y="41"/>
                  <a:pt x="67" y="41"/>
                </a:cubicBezTo>
                <a:cubicBezTo>
                  <a:pt x="66" y="42"/>
                  <a:pt x="66" y="42"/>
                  <a:pt x="66" y="42"/>
                </a:cubicBezTo>
                <a:cubicBezTo>
                  <a:pt x="66" y="42"/>
                  <a:pt x="66" y="42"/>
                  <a:pt x="66" y="42"/>
                </a:cubicBezTo>
                <a:cubicBezTo>
                  <a:pt x="66" y="42"/>
                  <a:pt x="66" y="42"/>
                  <a:pt x="66" y="42"/>
                </a:cubicBezTo>
                <a:cubicBezTo>
                  <a:pt x="66" y="42"/>
                  <a:pt x="66" y="42"/>
                  <a:pt x="66" y="42"/>
                </a:cubicBezTo>
                <a:cubicBezTo>
                  <a:pt x="66" y="42"/>
                  <a:pt x="66" y="42"/>
                  <a:pt x="66" y="42"/>
                </a:cubicBezTo>
                <a:cubicBezTo>
                  <a:pt x="66" y="42"/>
                  <a:pt x="66" y="42"/>
                  <a:pt x="66" y="42"/>
                </a:cubicBezTo>
                <a:cubicBezTo>
                  <a:pt x="66" y="42"/>
                  <a:pt x="66" y="42"/>
                  <a:pt x="66" y="42"/>
                </a:cubicBezTo>
                <a:cubicBezTo>
                  <a:pt x="65" y="43"/>
                  <a:pt x="65" y="43"/>
                  <a:pt x="65" y="43"/>
                </a:cubicBezTo>
                <a:cubicBezTo>
                  <a:pt x="64" y="43"/>
                  <a:pt x="64" y="43"/>
                  <a:pt x="64" y="43"/>
                </a:cubicBezTo>
                <a:cubicBezTo>
                  <a:pt x="64" y="43"/>
                  <a:pt x="64" y="43"/>
                  <a:pt x="64" y="43"/>
                </a:cubicBezTo>
                <a:cubicBezTo>
                  <a:pt x="64" y="44"/>
                  <a:pt x="64" y="44"/>
                  <a:pt x="64" y="44"/>
                </a:cubicBezTo>
                <a:cubicBezTo>
                  <a:pt x="64" y="44"/>
                  <a:pt x="64" y="44"/>
                  <a:pt x="64" y="44"/>
                </a:cubicBezTo>
                <a:cubicBezTo>
                  <a:pt x="63" y="44"/>
                  <a:pt x="63" y="44"/>
                  <a:pt x="63" y="44"/>
                </a:cubicBezTo>
                <a:cubicBezTo>
                  <a:pt x="62" y="45"/>
                  <a:pt x="62" y="45"/>
                  <a:pt x="62" y="45"/>
                </a:cubicBezTo>
                <a:cubicBezTo>
                  <a:pt x="61" y="46"/>
                  <a:pt x="61" y="46"/>
                  <a:pt x="61" y="46"/>
                </a:cubicBezTo>
                <a:cubicBezTo>
                  <a:pt x="61" y="46"/>
                  <a:pt x="61" y="46"/>
                  <a:pt x="61" y="46"/>
                </a:cubicBezTo>
                <a:cubicBezTo>
                  <a:pt x="60" y="46"/>
                  <a:pt x="60" y="46"/>
                  <a:pt x="60" y="46"/>
                </a:cubicBezTo>
                <a:cubicBezTo>
                  <a:pt x="60" y="47"/>
                  <a:pt x="60" y="47"/>
                  <a:pt x="59" y="48"/>
                </a:cubicBezTo>
                <a:cubicBezTo>
                  <a:pt x="59" y="48"/>
                  <a:pt x="59" y="48"/>
                  <a:pt x="59" y="48"/>
                </a:cubicBezTo>
                <a:cubicBezTo>
                  <a:pt x="58" y="49"/>
                  <a:pt x="57" y="50"/>
                  <a:pt x="56" y="51"/>
                </a:cubicBezTo>
                <a:cubicBezTo>
                  <a:pt x="56" y="51"/>
                  <a:pt x="56" y="51"/>
                  <a:pt x="56" y="51"/>
                </a:cubicBezTo>
                <a:cubicBezTo>
                  <a:pt x="56" y="51"/>
                  <a:pt x="56" y="51"/>
                  <a:pt x="56" y="51"/>
                </a:cubicBezTo>
                <a:cubicBezTo>
                  <a:pt x="54" y="52"/>
                  <a:pt x="53" y="53"/>
                  <a:pt x="52" y="55"/>
                </a:cubicBezTo>
                <a:cubicBezTo>
                  <a:pt x="52" y="55"/>
                  <a:pt x="51" y="56"/>
                  <a:pt x="51" y="56"/>
                </a:cubicBezTo>
                <a:cubicBezTo>
                  <a:pt x="50" y="57"/>
                  <a:pt x="50" y="57"/>
                  <a:pt x="50" y="57"/>
                </a:cubicBezTo>
                <a:cubicBezTo>
                  <a:pt x="49" y="59"/>
                  <a:pt x="49" y="59"/>
                  <a:pt x="49" y="59"/>
                </a:cubicBezTo>
                <a:cubicBezTo>
                  <a:pt x="48" y="60"/>
                  <a:pt x="46" y="61"/>
                  <a:pt x="45" y="62"/>
                </a:cubicBezTo>
                <a:cubicBezTo>
                  <a:pt x="45" y="63"/>
                  <a:pt x="45" y="63"/>
                  <a:pt x="45" y="63"/>
                </a:cubicBezTo>
                <a:cubicBezTo>
                  <a:pt x="45" y="63"/>
                  <a:pt x="45" y="63"/>
                  <a:pt x="45" y="63"/>
                </a:cubicBezTo>
                <a:cubicBezTo>
                  <a:pt x="43" y="65"/>
                  <a:pt x="42" y="67"/>
                  <a:pt x="41" y="68"/>
                </a:cubicBezTo>
                <a:cubicBezTo>
                  <a:pt x="40" y="68"/>
                  <a:pt x="40" y="68"/>
                  <a:pt x="40" y="68"/>
                </a:cubicBezTo>
                <a:cubicBezTo>
                  <a:pt x="40" y="69"/>
                  <a:pt x="40" y="69"/>
                  <a:pt x="40" y="69"/>
                </a:cubicBezTo>
                <a:cubicBezTo>
                  <a:pt x="40" y="69"/>
                  <a:pt x="39" y="70"/>
                  <a:pt x="39" y="71"/>
                </a:cubicBezTo>
                <a:cubicBezTo>
                  <a:pt x="38" y="71"/>
                  <a:pt x="38" y="71"/>
                  <a:pt x="38" y="71"/>
                </a:cubicBezTo>
                <a:cubicBezTo>
                  <a:pt x="38" y="72"/>
                  <a:pt x="37" y="72"/>
                  <a:pt x="37" y="73"/>
                </a:cubicBezTo>
                <a:cubicBezTo>
                  <a:pt x="36" y="74"/>
                  <a:pt x="36" y="74"/>
                  <a:pt x="36" y="74"/>
                </a:cubicBezTo>
                <a:cubicBezTo>
                  <a:pt x="36" y="74"/>
                  <a:pt x="36" y="74"/>
                  <a:pt x="36" y="74"/>
                </a:cubicBezTo>
                <a:cubicBezTo>
                  <a:pt x="36" y="74"/>
                  <a:pt x="36" y="74"/>
                  <a:pt x="36" y="74"/>
                </a:cubicBezTo>
                <a:cubicBezTo>
                  <a:pt x="35" y="75"/>
                  <a:pt x="34" y="76"/>
                  <a:pt x="33" y="77"/>
                </a:cubicBezTo>
                <a:cubicBezTo>
                  <a:pt x="33" y="77"/>
                  <a:pt x="33" y="77"/>
                  <a:pt x="33" y="77"/>
                </a:cubicBezTo>
                <a:cubicBezTo>
                  <a:pt x="33" y="77"/>
                  <a:pt x="33" y="77"/>
                  <a:pt x="33" y="77"/>
                </a:cubicBezTo>
                <a:cubicBezTo>
                  <a:pt x="33" y="78"/>
                  <a:pt x="33" y="78"/>
                  <a:pt x="33" y="78"/>
                </a:cubicBezTo>
                <a:cubicBezTo>
                  <a:pt x="32" y="79"/>
                  <a:pt x="32" y="79"/>
                  <a:pt x="32" y="79"/>
                </a:cubicBezTo>
                <a:cubicBezTo>
                  <a:pt x="32" y="79"/>
                  <a:pt x="32" y="79"/>
                  <a:pt x="32" y="79"/>
                </a:cubicBezTo>
                <a:cubicBezTo>
                  <a:pt x="32" y="79"/>
                  <a:pt x="32" y="79"/>
                  <a:pt x="32" y="79"/>
                </a:cubicBezTo>
                <a:cubicBezTo>
                  <a:pt x="32" y="80"/>
                  <a:pt x="32" y="80"/>
                  <a:pt x="32" y="80"/>
                </a:cubicBezTo>
                <a:cubicBezTo>
                  <a:pt x="32" y="80"/>
                  <a:pt x="32" y="80"/>
                  <a:pt x="32" y="80"/>
                </a:cubicBezTo>
                <a:cubicBezTo>
                  <a:pt x="32" y="80"/>
                  <a:pt x="32" y="80"/>
                  <a:pt x="32" y="80"/>
                </a:cubicBezTo>
                <a:cubicBezTo>
                  <a:pt x="32" y="80"/>
                  <a:pt x="32" y="80"/>
                  <a:pt x="32" y="80"/>
                </a:cubicBezTo>
                <a:cubicBezTo>
                  <a:pt x="31" y="81"/>
                  <a:pt x="31" y="81"/>
                  <a:pt x="31" y="81"/>
                </a:cubicBezTo>
                <a:cubicBezTo>
                  <a:pt x="31" y="81"/>
                  <a:pt x="29" y="82"/>
                  <a:pt x="27" y="82"/>
                </a:cubicBezTo>
                <a:cubicBezTo>
                  <a:pt x="27" y="82"/>
                  <a:pt x="27" y="82"/>
                  <a:pt x="27" y="82"/>
                </a:cubicBezTo>
                <a:cubicBezTo>
                  <a:pt x="27" y="83"/>
                  <a:pt x="27" y="83"/>
                  <a:pt x="27" y="83"/>
                </a:cubicBezTo>
                <a:cubicBezTo>
                  <a:pt x="26" y="83"/>
                  <a:pt x="26" y="83"/>
                  <a:pt x="25" y="83"/>
                </a:cubicBezTo>
                <a:cubicBezTo>
                  <a:pt x="25" y="83"/>
                  <a:pt x="25" y="83"/>
                  <a:pt x="25" y="83"/>
                </a:cubicBezTo>
                <a:cubicBezTo>
                  <a:pt x="25" y="83"/>
                  <a:pt x="25" y="83"/>
                  <a:pt x="25" y="83"/>
                </a:cubicBezTo>
                <a:cubicBezTo>
                  <a:pt x="24" y="83"/>
                  <a:pt x="23" y="83"/>
                  <a:pt x="22" y="83"/>
                </a:cubicBezTo>
                <a:cubicBezTo>
                  <a:pt x="22" y="84"/>
                  <a:pt x="22" y="84"/>
                  <a:pt x="22" y="84"/>
                </a:cubicBezTo>
                <a:cubicBezTo>
                  <a:pt x="21" y="84"/>
                  <a:pt x="20" y="84"/>
                  <a:pt x="19" y="84"/>
                </a:cubicBezTo>
                <a:cubicBezTo>
                  <a:pt x="19" y="84"/>
                  <a:pt x="19" y="84"/>
                  <a:pt x="19" y="84"/>
                </a:cubicBezTo>
                <a:cubicBezTo>
                  <a:pt x="18" y="84"/>
                  <a:pt x="17" y="84"/>
                  <a:pt x="16" y="84"/>
                </a:cubicBezTo>
                <a:cubicBezTo>
                  <a:pt x="15" y="84"/>
                  <a:pt x="15" y="84"/>
                  <a:pt x="15" y="84"/>
                </a:cubicBezTo>
                <a:cubicBezTo>
                  <a:pt x="14" y="85"/>
                  <a:pt x="13" y="85"/>
                  <a:pt x="11" y="85"/>
                </a:cubicBezTo>
                <a:cubicBezTo>
                  <a:pt x="11" y="85"/>
                  <a:pt x="11" y="85"/>
                  <a:pt x="11" y="85"/>
                </a:cubicBezTo>
                <a:cubicBezTo>
                  <a:pt x="10" y="85"/>
                  <a:pt x="9" y="85"/>
                  <a:pt x="9" y="85"/>
                </a:cubicBezTo>
                <a:cubicBezTo>
                  <a:pt x="0" y="2"/>
                  <a:pt x="0" y="2"/>
                  <a:pt x="0" y="2"/>
                </a:cubicBezTo>
                <a:cubicBezTo>
                  <a:pt x="13" y="2"/>
                  <a:pt x="26" y="1"/>
                  <a:pt x="39" y="1"/>
                </a:cubicBezTo>
                <a:cubicBezTo>
                  <a:pt x="63" y="1"/>
                  <a:pt x="86" y="1"/>
                  <a:pt x="108" y="0"/>
                </a:cubicBezTo>
                <a:cubicBezTo>
                  <a:pt x="108" y="1"/>
                  <a:pt x="108" y="1"/>
                  <a:pt x="108" y="1"/>
                </a:cubicBezTo>
                <a:cubicBezTo>
                  <a:pt x="108" y="1"/>
                  <a:pt x="108" y="1"/>
                  <a:pt x="108" y="1"/>
                </a:cubicBezTo>
                <a:cubicBezTo>
                  <a:pt x="108" y="1"/>
                  <a:pt x="108" y="1"/>
                  <a:pt x="108" y="1"/>
                </a:cubicBezTo>
                <a:cubicBezTo>
                  <a:pt x="107" y="1"/>
                  <a:pt x="107" y="1"/>
                  <a:pt x="107" y="1"/>
                </a:cubicBezTo>
                <a:cubicBezTo>
                  <a:pt x="107" y="2"/>
                  <a:pt x="107" y="2"/>
                  <a:pt x="107" y="2"/>
                </a:cubicBezTo>
                <a:cubicBezTo>
                  <a:pt x="107" y="2"/>
                  <a:pt x="107" y="2"/>
                  <a:pt x="107" y="2"/>
                </a:cubicBezTo>
                <a:cubicBezTo>
                  <a:pt x="107" y="2"/>
                  <a:pt x="107" y="2"/>
                  <a:pt x="107" y="2"/>
                </a:cubicBezTo>
                <a:cubicBezTo>
                  <a:pt x="107" y="2"/>
                  <a:pt x="107" y="2"/>
                  <a:pt x="107" y="2"/>
                </a:cubicBezTo>
                <a:cubicBezTo>
                  <a:pt x="107" y="2"/>
                  <a:pt x="107" y="2"/>
                  <a:pt x="107" y="2"/>
                </a:cubicBezTo>
                <a:cubicBezTo>
                  <a:pt x="107" y="2"/>
                  <a:pt x="107" y="2"/>
                  <a:pt x="107" y="2"/>
                </a:cubicBezTo>
                <a:cubicBezTo>
                  <a:pt x="107" y="2"/>
                  <a:pt x="107" y="2"/>
                  <a:pt x="107" y="2"/>
                </a:cubicBezTo>
                <a:cubicBezTo>
                  <a:pt x="107" y="3"/>
                  <a:pt x="107" y="3"/>
                  <a:pt x="107" y="3"/>
                </a:cubicBezTo>
                <a:cubicBezTo>
                  <a:pt x="107" y="3"/>
                  <a:pt x="107" y="3"/>
                  <a:pt x="107" y="3"/>
                </a:cubicBezTo>
                <a:cubicBezTo>
                  <a:pt x="107" y="3"/>
                  <a:pt x="107" y="3"/>
                  <a:pt x="107" y="3"/>
                </a:cubicBezTo>
                <a:cubicBezTo>
                  <a:pt x="107" y="4"/>
                  <a:pt x="107" y="4"/>
                  <a:pt x="107" y="4"/>
                </a:cubicBezTo>
                <a:cubicBezTo>
                  <a:pt x="107" y="4"/>
                  <a:pt x="107" y="4"/>
                  <a:pt x="107" y="4"/>
                </a:cubicBezTo>
                <a:cubicBezTo>
                  <a:pt x="107" y="4"/>
                  <a:pt x="107" y="4"/>
                  <a:pt x="107" y="4"/>
                </a:cubicBezTo>
                <a:cubicBezTo>
                  <a:pt x="107" y="4"/>
                  <a:pt x="107" y="4"/>
                  <a:pt x="107" y="4"/>
                </a:cubicBezTo>
                <a:cubicBezTo>
                  <a:pt x="107" y="4"/>
                  <a:pt x="107" y="4"/>
                  <a:pt x="107" y="4"/>
                </a:cubicBezTo>
                <a:cubicBezTo>
                  <a:pt x="108" y="15"/>
                  <a:pt x="109" y="27"/>
                  <a:pt x="110" y="3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Freeform 10"/>
          <p:cNvSpPr/>
          <p:nvPr/>
        </p:nvSpPr>
        <p:spPr>
          <a:xfrm flipH="1">
            <a:off x="4572000" y="2824200"/>
            <a:ext cx="712800" cy="490680"/>
          </a:xfrm>
          <a:custGeom>
            <a:avLst/>
            <a:gdLst/>
            <a:ahLst/>
            <a:rect l="l" t="t" r="r" b="b"/>
            <a:pathLst>
              <a:path w="481" h="330">
                <a:moveTo>
                  <a:pt x="78" y="277"/>
                </a:moveTo>
                <a:cubicBezTo>
                  <a:pt x="81" y="277"/>
                  <a:pt x="84" y="277"/>
                  <a:pt x="87" y="277"/>
                </a:cubicBezTo>
                <a:cubicBezTo>
                  <a:pt x="93" y="277"/>
                  <a:pt x="99" y="277"/>
                  <a:pt x="106" y="277"/>
                </a:cubicBezTo>
                <a:cubicBezTo>
                  <a:pt x="107" y="277"/>
                  <a:pt x="107" y="277"/>
                  <a:pt x="107" y="277"/>
                </a:cubicBezTo>
                <a:cubicBezTo>
                  <a:pt x="113" y="276"/>
                  <a:pt x="120" y="276"/>
                  <a:pt x="127" y="276"/>
                </a:cubicBezTo>
                <a:cubicBezTo>
                  <a:pt x="130" y="276"/>
                  <a:pt x="134" y="276"/>
                  <a:pt x="137" y="276"/>
                </a:cubicBezTo>
                <a:cubicBezTo>
                  <a:pt x="138" y="276"/>
                  <a:pt x="138" y="276"/>
                  <a:pt x="138" y="276"/>
                </a:cubicBezTo>
                <a:cubicBezTo>
                  <a:pt x="141" y="276"/>
                  <a:pt x="144" y="276"/>
                  <a:pt x="147" y="276"/>
                </a:cubicBezTo>
                <a:cubicBezTo>
                  <a:pt x="148" y="276"/>
                  <a:pt x="148" y="276"/>
                  <a:pt x="148" y="276"/>
                </a:cubicBezTo>
                <a:cubicBezTo>
                  <a:pt x="149" y="276"/>
                  <a:pt x="151" y="276"/>
                  <a:pt x="152" y="276"/>
                </a:cubicBezTo>
                <a:cubicBezTo>
                  <a:pt x="153" y="276"/>
                  <a:pt x="153" y="276"/>
                  <a:pt x="153" y="276"/>
                </a:cubicBezTo>
                <a:cubicBezTo>
                  <a:pt x="154" y="276"/>
                  <a:pt x="155" y="276"/>
                  <a:pt x="157" y="276"/>
                </a:cubicBezTo>
                <a:cubicBezTo>
                  <a:pt x="157" y="276"/>
                  <a:pt x="157" y="276"/>
                  <a:pt x="157" y="276"/>
                </a:cubicBezTo>
                <a:cubicBezTo>
                  <a:pt x="159" y="276"/>
                  <a:pt x="160" y="276"/>
                  <a:pt x="161" y="276"/>
                </a:cubicBezTo>
                <a:cubicBezTo>
                  <a:pt x="161" y="276"/>
                  <a:pt x="161" y="276"/>
                  <a:pt x="161" y="276"/>
                </a:cubicBezTo>
                <a:cubicBezTo>
                  <a:pt x="163" y="277"/>
                  <a:pt x="164" y="277"/>
                  <a:pt x="165" y="277"/>
                </a:cubicBezTo>
                <a:cubicBezTo>
                  <a:pt x="166" y="277"/>
                  <a:pt x="166" y="277"/>
                  <a:pt x="166" y="277"/>
                </a:cubicBezTo>
                <a:cubicBezTo>
                  <a:pt x="167" y="277"/>
                  <a:pt x="168" y="277"/>
                  <a:pt x="169" y="277"/>
                </a:cubicBezTo>
                <a:cubicBezTo>
                  <a:pt x="169" y="277"/>
                  <a:pt x="169" y="277"/>
                  <a:pt x="169" y="277"/>
                </a:cubicBezTo>
                <a:cubicBezTo>
                  <a:pt x="171" y="277"/>
                  <a:pt x="172" y="277"/>
                  <a:pt x="173" y="277"/>
                </a:cubicBezTo>
                <a:cubicBezTo>
                  <a:pt x="173" y="277"/>
                  <a:pt x="173" y="277"/>
                  <a:pt x="173" y="277"/>
                </a:cubicBezTo>
                <a:cubicBezTo>
                  <a:pt x="173" y="277"/>
                  <a:pt x="173" y="277"/>
                  <a:pt x="173" y="277"/>
                </a:cubicBezTo>
                <a:cubicBezTo>
                  <a:pt x="175" y="277"/>
                  <a:pt x="176" y="278"/>
                  <a:pt x="177" y="278"/>
                </a:cubicBezTo>
                <a:cubicBezTo>
                  <a:pt x="177" y="287"/>
                  <a:pt x="177" y="297"/>
                  <a:pt x="177" y="307"/>
                </a:cubicBezTo>
                <a:cubicBezTo>
                  <a:pt x="177" y="307"/>
                  <a:pt x="177" y="308"/>
                  <a:pt x="177" y="309"/>
                </a:cubicBezTo>
                <a:cubicBezTo>
                  <a:pt x="178" y="310"/>
                  <a:pt x="178" y="310"/>
                  <a:pt x="178" y="310"/>
                </a:cubicBezTo>
                <a:cubicBezTo>
                  <a:pt x="178" y="310"/>
                  <a:pt x="178" y="311"/>
                  <a:pt x="178" y="311"/>
                </a:cubicBezTo>
                <a:cubicBezTo>
                  <a:pt x="178" y="311"/>
                  <a:pt x="178" y="311"/>
                  <a:pt x="178" y="311"/>
                </a:cubicBezTo>
                <a:cubicBezTo>
                  <a:pt x="178" y="312"/>
                  <a:pt x="178" y="312"/>
                  <a:pt x="178" y="312"/>
                </a:cubicBezTo>
                <a:cubicBezTo>
                  <a:pt x="179" y="312"/>
                  <a:pt x="179" y="312"/>
                  <a:pt x="179" y="312"/>
                </a:cubicBezTo>
                <a:cubicBezTo>
                  <a:pt x="179" y="313"/>
                  <a:pt x="179" y="313"/>
                  <a:pt x="180" y="314"/>
                </a:cubicBezTo>
                <a:cubicBezTo>
                  <a:pt x="181" y="315"/>
                  <a:pt x="181" y="315"/>
                  <a:pt x="181" y="315"/>
                </a:cubicBezTo>
                <a:cubicBezTo>
                  <a:pt x="181" y="316"/>
                  <a:pt x="181" y="316"/>
                  <a:pt x="181" y="316"/>
                </a:cubicBezTo>
                <a:cubicBezTo>
                  <a:pt x="182" y="316"/>
                  <a:pt x="182" y="316"/>
                  <a:pt x="182" y="316"/>
                </a:cubicBezTo>
                <a:cubicBezTo>
                  <a:pt x="182" y="317"/>
                  <a:pt x="182" y="317"/>
                  <a:pt x="182" y="317"/>
                </a:cubicBezTo>
                <a:cubicBezTo>
                  <a:pt x="183" y="317"/>
                  <a:pt x="183" y="317"/>
                  <a:pt x="183" y="317"/>
                </a:cubicBezTo>
                <a:cubicBezTo>
                  <a:pt x="184" y="318"/>
                  <a:pt x="184" y="318"/>
                  <a:pt x="185" y="318"/>
                </a:cubicBezTo>
                <a:cubicBezTo>
                  <a:pt x="185" y="319"/>
                  <a:pt x="186" y="319"/>
                  <a:pt x="186" y="319"/>
                </a:cubicBezTo>
                <a:cubicBezTo>
                  <a:pt x="187" y="320"/>
                  <a:pt x="187" y="320"/>
                  <a:pt x="187" y="320"/>
                </a:cubicBezTo>
                <a:cubicBezTo>
                  <a:pt x="187" y="320"/>
                  <a:pt x="188" y="320"/>
                  <a:pt x="188" y="321"/>
                </a:cubicBezTo>
                <a:cubicBezTo>
                  <a:pt x="189" y="321"/>
                  <a:pt x="189" y="321"/>
                  <a:pt x="189" y="321"/>
                </a:cubicBezTo>
                <a:cubicBezTo>
                  <a:pt x="190" y="322"/>
                  <a:pt x="190" y="322"/>
                  <a:pt x="190" y="322"/>
                </a:cubicBezTo>
                <a:cubicBezTo>
                  <a:pt x="191" y="322"/>
                  <a:pt x="191" y="322"/>
                  <a:pt x="191" y="322"/>
                </a:cubicBezTo>
                <a:cubicBezTo>
                  <a:pt x="192" y="322"/>
                  <a:pt x="194" y="323"/>
                  <a:pt x="195" y="323"/>
                </a:cubicBezTo>
                <a:cubicBezTo>
                  <a:pt x="195" y="323"/>
                  <a:pt x="195" y="323"/>
                  <a:pt x="195" y="323"/>
                </a:cubicBezTo>
                <a:cubicBezTo>
                  <a:pt x="196" y="324"/>
                  <a:pt x="196" y="324"/>
                  <a:pt x="196" y="324"/>
                </a:cubicBezTo>
                <a:cubicBezTo>
                  <a:pt x="197" y="324"/>
                  <a:pt x="197" y="324"/>
                  <a:pt x="197" y="324"/>
                </a:cubicBezTo>
                <a:cubicBezTo>
                  <a:pt x="198" y="324"/>
                  <a:pt x="198" y="324"/>
                  <a:pt x="198" y="324"/>
                </a:cubicBezTo>
                <a:cubicBezTo>
                  <a:pt x="199" y="324"/>
                  <a:pt x="199" y="324"/>
                  <a:pt x="199" y="324"/>
                </a:cubicBezTo>
                <a:cubicBezTo>
                  <a:pt x="199" y="324"/>
                  <a:pt x="199" y="324"/>
                  <a:pt x="199" y="324"/>
                </a:cubicBezTo>
                <a:cubicBezTo>
                  <a:pt x="199" y="324"/>
                  <a:pt x="199" y="324"/>
                  <a:pt x="199" y="324"/>
                </a:cubicBezTo>
                <a:cubicBezTo>
                  <a:pt x="200" y="325"/>
                  <a:pt x="200" y="325"/>
                  <a:pt x="200" y="325"/>
                </a:cubicBezTo>
                <a:cubicBezTo>
                  <a:pt x="200" y="325"/>
                  <a:pt x="200" y="325"/>
                  <a:pt x="200" y="325"/>
                </a:cubicBezTo>
                <a:cubicBezTo>
                  <a:pt x="201" y="325"/>
                  <a:pt x="201" y="325"/>
                  <a:pt x="201" y="325"/>
                </a:cubicBezTo>
                <a:cubicBezTo>
                  <a:pt x="202" y="325"/>
                  <a:pt x="202" y="325"/>
                  <a:pt x="202" y="325"/>
                </a:cubicBezTo>
                <a:cubicBezTo>
                  <a:pt x="203" y="325"/>
                  <a:pt x="203" y="325"/>
                  <a:pt x="203" y="325"/>
                </a:cubicBezTo>
                <a:cubicBezTo>
                  <a:pt x="203" y="325"/>
                  <a:pt x="203" y="325"/>
                  <a:pt x="203" y="325"/>
                </a:cubicBezTo>
                <a:cubicBezTo>
                  <a:pt x="204" y="325"/>
                  <a:pt x="204" y="326"/>
                  <a:pt x="205" y="326"/>
                </a:cubicBezTo>
                <a:cubicBezTo>
                  <a:pt x="205" y="326"/>
                  <a:pt x="206" y="326"/>
                  <a:pt x="206" y="326"/>
                </a:cubicBezTo>
                <a:cubicBezTo>
                  <a:pt x="206" y="326"/>
                  <a:pt x="206" y="326"/>
                  <a:pt x="206" y="326"/>
                </a:cubicBezTo>
                <a:cubicBezTo>
                  <a:pt x="206" y="326"/>
                  <a:pt x="206" y="326"/>
                  <a:pt x="206" y="326"/>
                </a:cubicBezTo>
                <a:cubicBezTo>
                  <a:pt x="207" y="326"/>
                  <a:pt x="207" y="326"/>
                  <a:pt x="208" y="326"/>
                </a:cubicBezTo>
                <a:cubicBezTo>
                  <a:pt x="208" y="326"/>
                  <a:pt x="209" y="326"/>
                  <a:pt x="209" y="326"/>
                </a:cubicBezTo>
                <a:cubicBezTo>
                  <a:pt x="210" y="327"/>
                  <a:pt x="210" y="327"/>
                  <a:pt x="211" y="327"/>
                </a:cubicBezTo>
                <a:cubicBezTo>
                  <a:pt x="212" y="327"/>
                  <a:pt x="212" y="327"/>
                  <a:pt x="213" y="327"/>
                </a:cubicBezTo>
                <a:cubicBezTo>
                  <a:pt x="213" y="327"/>
                  <a:pt x="214" y="327"/>
                  <a:pt x="214" y="327"/>
                </a:cubicBezTo>
                <a:cubicBezTo>
                  <a:pt x="215" y="327"/>
                  <a:pt x="215" y="327"/>
                  <a:pt x="216" y="327"/>
                </a:cubicBezTo>
                <a:cubicBezTo>
                  <a:pt x="216" y="327"/>
                  <a:pt x="217" y="328"/>
                  <a:pt x="217" y="328"/>
                </a:cubicBezTo>
                <a:cubicBezTo>
                  <a:pt x="218" y="328"/>
                  <a:pt x="219" y="328"/>
                  <a:pt x="219" y="328"/>
                </a:cubicBezTo>
                <a:cubicBezTo>
                  <a:pt x="219" y="328"/>
                  <a:pt x="219" y="328"/>
                  <a:pt x="219" y="328"/>
                </a:cubicBezTo>
                <a:cubicBezTo>
                  <a:pt x="220" y="328"/>
                  <a:pt x="220" y="328"/>
                  <a:pt x="220" y="328"/>
                </a:cubicBezTo>
                <a:cubicBezTo>
                  <a:pt x="220" y="328"/>
                  <a:pt x="220" y="328"/>
                  <a:pt x="221" y="328"/>
                </a:cubicBezTo>
                <a:cubicBezTo>
                  <a:pt x="221" y="328"/>
                  <a:pt x="222" y="328"/>
                  <a:pt x="222" y="328"/>
                </a:cubicBezTo>
                <a:cubicBezTo>
                  <a:pt x="223" y="328"/>
                  <a:pt x="224" y="328"/>
                  <a:pt x="224" y="328"/>
                </a:cubicBezTo>
                <a:cubicBezTo>
                  <a:pt x="225" y="328"/>
                  <a:pt x="225" y="329"/>
                  <a:pt x="226" y="329"/>
                </a:cubicBezTo>
                <a:cubicBezTo>
                  <a:pt x="227" y="329"/>
                  <a:pt x="227" y="329"/>
                  <a:pt x="227" y="329"/>
                </a:cubicBezTo>
                <a:cubicBezTo>
                  <a:pt x="227" y="329"/>
                  <a:pt x="227" y="329"/>
                  <a:pt x="227" y="329"/>
                </a:cubicBezTo>
                <a:cubicBezTo>
                  <a:pt x="227" y="329"/>
                  <a:pt x="227" y="329"/>
                  <a:pt x="227" y="329"/>
                </a:cubicBezTo>
                <a:cubicBezTo>
                  <a:pt x="228" y="329"/>
                  <a:pt x="228" y="329"/>
                  <a:pt x="228" y="329"/>
                </a:cubicBezTo>
                <a:cubicBezTo>
                  <a:pt x="228" y="329"/>
                  <a:pt x="229" y="329"/>
                  <a:pt x="229" y="329"/>
                </a:cubicBezTo>
                <a:cubicBezTo>
                  <a:pt x="230" y="329"/>
                  <a:pt x="230" y="329"/>
                  <a:pt x="231" y="329"/>
                </a:cubicBezTo>
                <a:cubicBezTo>
                  <a:pt x="231" y="329"/>
                  <a:pt x="232" y="329"/>
                  <a:pt x="233" y="329"/>
                </a:cubicBezTo>
                <a:cubicBezTo>
                  <a:pt x="233" y="329"/>
                  <a:pt x="234" y="329"/>
                  <a:pt x="234" y="329"/>
                </a:cubicBezTo>
                <a:cubicBezTo>
                  <a:pt x="235" y="329"/>
                  <a:pt x="235" y="329"/>
                  <a:pt x="236" y="329"/>
                </a:cubicBezTo>
                <a:cubicBezTo>
                  <a:pt x="236" y="329"/>
                  <a:pt x="237" y="329"/>
                  <a:pt x="238" y="330"/>
                </a:cubicBezTo>
                <a:cubicBezTo>
                  <a:pt x="238" y="330"/>
                  <a:pt x="239" y="330"/>
                  <a:pt x="239" y="330"/>
                </a:cubicBezTo>
                <a:cubicBezTo>
                  <a:pt x="240" y="330"/>
                  <a:pt x="240" y="330"/>
                  <a:pt x="241" y="330"/>
                </a:cubicBezTo>
                <a:cubicBezTo>
                  <a:pt x="241" y="330"/>
                  <a:pt x="242" y="330"/>
                  <a:pt x="242" y="330"/>
                </a:cubicBezTo>
                <a:cubicBezTo>
                  <a:pt x="242" y="330"/>
                  <a:pt x="242" y="330"/>
                  <a:pt x="242" y="330"/>
                </a:cubicBezTo>
                <a:cubicBezTo>
                  <a:pt x="242" y="330"/>
                  <a:pt x="242" y="330"/>
                  <a:pt x="242" y="330"/>
                </a:cubicBezTo>
                <a:cubicBezTo>
                  <a:pt x="242" y="330"/>
                  <a:pt x="242" y="330"/>
                  <a:pt x="242" y="330"/>
                </a:cubicBezTo>
                <a:cubicBezTo>
                  <a:pt x="243" y="330"/>
                  <a:pt x="243" y="330"/>
                  <a:pt x="244" y="330"/>
                </a:cubicBezTo>
                <a:cubicBezTo>
                  <a:pt x="244" y="330"/>
                  <a:pt x="245" y="330"/>
                  <a:pt x="246" y="330"/>
                </a:cubicBezTo>
                <a:cubicBezTo>
                  <a:pt x="246" y="330"/>
                  <a:pt x="247" y="330"/>
                  <a:pt x="247" y="330"/>
                </a:cubicBezTo>
                <a:cubicBezTo>
                  <a:pt x="248" y="330"/>
                  <a:pt x="248" y="330"/>
                  <a:pt x="249" y="330"/>
                </a:cubicBezTo>
                <a:cubicBezTo>
                  <a:pt x="249" y="330"/>
                  <a:pt x="249" y="330"/>
                  <a:pt x="250" y="330"/>
                </a:cubicBezTo>
                <a:cubicBezTo>
                  <a:pt x="250" y="330"/>
                  <a:pt x="250" y="330"/>
                  <a:pt x="250" y="330"/>
                </a:cubicBezTo>
                <a:cubicBezTo>
                  <a:pt x="250" y="330"/>
                  <a:pt x="250" y="330"/>
                  <a:pt x="250" y="330"/>
                </a:cubicBezTo>
                <a:cubicBezTo>
                  <a:pt x="251" y="330"/>
                  <a:pt x="251" y="330"/>
                  <a:pt x="252" y="330"/>
                </a:cubicBezTo>
                <a:cubicBezTo>
                  <a:pt x="252" y="330"/>
                  <a:pt x="253" y="330"/>
                  <a:pt x="253" y="330"/>
                </a:cubicBezTo>
                <a:cubicBezTo>
                  <a:pt x="254" y="330"/>
                  <a:pt x="254" y="330"/>
                  <a:pt x="254" y="330"/>
                </a:cubicBezTo>
                <a:cubicBezTo>
                  <a:pt x="255" y="330"/>
                  <a:pt x="255" y="330"/>
                  <a:pt x="255" y="330"/>
                </a:cubicBezTo>
                <a:cubicBezTo>
                  <a:pt x="256" y="330"/>
                  <a:pt x="256" y="330"/>
                  <a:pt x="256" y="330"/>
                </a:cubicBezTo>
                <a:cubicBezTo>
                  <a:pt x="257" y="330"/>
                  <a:pt x="257" y="330"/>
                  <a:pt x="257" y="330"/>
                </a:cubicBezTo>
                <a:cubicBezTo>
                  <a:pt x="258" y="330"/>
                  <a:pt x="258" y="330"/>
                  <a:pt x="258" y="330"/>
                </a:cubicBezTo>
                <a:cubicBezTo>
                  <a:pt x="258" y="330"/>
                  <a:pt x="258" y="330"/>
                  <a:pt x="258" y="330"/>
                </a:cubicBezTo>
                <a:cubicBezTo>
                  <a:pt x="259" y="330"/>
                  <a:pt x="259" y="330"/>
                  <a:pt x="259" y="330"/>
                </a:cubicBezTo>
                <a:cubicBezTo>
                  <a:pt x="259" y="330"/>
                  <a:pt x="259" y="330"/>
                  <a:pt x="259" y="330"/>
                </a:cubicBezTo>
                <a:cubicBezTo>
                  <a:pt x="260" y="330"/>
                  <a:pt x="260" y="330"/>
                  <a:pt x="260" y="330"/>
                </a:cubicBezTo>
                <a:cubicBezTo>
                  <a:pt x="260" y="330"/>
                  <a:pt x="261" y="330"/>
                  <a:pt x="261" y="330"/>
                </a:cubicBezTo>
                <a:cubicBezTo>
                  <a:pt x="262" y="330"/>
                  <a:pt x="262" y="330"/>
                  <a:pt x="263" y="330"/>
                </a:cubicBezTo>
                <a:cubicBezTo>
                  <a:pt x="263" y="330"/>
                  <a:pt x="264" y="330"/>
                  <a:pt x="264" y="330"/>
                </a:cubicBezTo>
                <a:cubicBezTo>
                  <a:pt x="264" y="330"/>
                  <a:pt x="265" y="330"/>
                  <a:pt x="265" y="330"/>
                </a:cubicBezTo>
                <a:cubicBezTo>
                  <a:pt x="266" y="330"/>
                  <a:pt x="266" y="330"/>
                  <a:pt x="267" y="330"/>
                </a:cubicBezTo>
                <a:cubicBezTo>
                  <a:pt x="267" y="330"/>
                  <a:pt x="267" y="330"/>
                  <a:pt x="268" y="330"/>
                </a:cubicBezTo>
                <a:cubicBezTo>
                  <a:pt x="268" y="330"/>
                  <a:pt x="269" y="330"/>
                  <a:pt x="269" y="330"/>
                </a:cubicBezTo>
                <a:cubicBezTo>
                  <a:pt x="269" y="330"/>
                  <a:pt x="269" y="330"/>
                  <a:pt x="269" y="330"/>
                </a:cubicBezTo>
                <a:cubicBezTo>
                  <a:pt x="269" y="330"/>
                  <a:pt x="269" y="330"/>
                  <a:pt x="269" y="330"/>
                </a:cubicBezTo>
                <a:cubicBezTo>
                  <a:pt x="269" y="330"/>
                  <a:pt x="269" y="330"/>
                  <a:pt x="269" y="330"/>
                </a:cubicBezTo>
                <a:cubicBezTo>
                  <a:pt x="269" y="330"/>
                  <a:pt x="270" y="330"/>
                  <a:pt x="270" y="330"/>
                </a:cubicBezTo>
                <a:cubicBezTo>
                  <a:pt x="271" y="329"/>
                  <a:pt x="271" y="329"/>
                  <a:pt x="272" y="329"/>
                </a:cubicBezTo>
                <a:cubicBezTo>
                  <a:pt x="272" y="329"/>
                  <a:pt x="273" y="329"/>
                  <a:pt x="273" y="329"/>
                </a:cubicBezTo>
                <a:cubicBezTo>
                  <a:pt x="273" y="329"/>
                  <a:pt x="274" y="329"/>
                  <a:pt x="274" y="329"/>
                </a:cubicBezTo>
                <a:cubicBezTo>
                  <a:pt x="274" y="329"/>
                  <a:pt x="274" y="329"/>
                  <a:pt x="274" y="329"/>
                </a:cubicBezTo>
                <a:cubicBezTo>
                  <a:pt x="274" y="329"/>
                  <a:pt x="274" y="329"/>
                  <a:pt x="274" y="329"/>
                </a:cubicBezTo>
                <a:cubicBezTo>
                  <a:pt x="275" y="329"/>
                  <a:pt x="275" y="329"/>
                  <a:pt x="276" y="329"/>
                </a:cubicBezTo>
                <a:cubicBezTo>
                  <a:pt x="276" y="329"/>
                  <a:pt x="277" y="329"/>
                  <a:pt x="277" y="329"/>
                </a:cubicBezTo>
                <a:cubicBezTo>
                  <a:pt x="278" y="329"/>
                  <a:pt x="278" y="329"/>
                  <a:pt x="279" y="329"/>
                </a:cubicBezTo>
                <a:cubicBezTo>
                  <a:pt x="279" y="329"/>
                  <a:pt x="279" y="329"/>
                  <a:pt x="279" y="329"/>
                </a:cubicBezTo>
                <a:cubicBezTo>
                  <a:pt x="280" y="329"/>
                  <a:pt x="280" y="329"/>
                  <a:pt x="280" y="329"/>
                </a:cubicBezTo>
                <a:cubicBezTo>
                  <a:pt x="280" y="329"/>
                  <a:pt x="280" y="329"/>
                  <a:pt x="280" y="329"/>
                </a:cubicBezTo>
                <a:cubicBezTo>
                  <a:pt x="281" y="328"/>
                  <a:pt x="281" y="328"/>
                  <a:pt x="281" y="328"/>
                </a:cubicBezTo>
                <a:cubicBezTo>
                  <a:pt x="281" y="328"/>
                  <a:pt x="282" y="328"/>
                  <a:pt x="282" y="328"/>
                </a:cubicBezTo>
                <a:cubicBezTo>
                  <a:pt x="283" y="328"/>
                  <a:pt x="283" y="328"/>
                  <a:pt x="284" y="328"/>
                </a:cubicBezTo>
                <a:cubicBezTo>
                  <a:pt x="284" y="328"/>
                  <a:pt x="285" y="328"/>
                  <a:pt x="285" y="328"/>
                </a:cubicBezTo>
                <a:cubicBezTo>
                  <a:pt x="286" y="328"/>
                  <a:pt x="286" y="328"/>
                  <a:pt x="286" y="328"/>
                </a:cubicBezTo>
                <a:cubicBezTo>
                  <a:pt x="287" y="327"/>
                  <a:pt x="288" y="327"/>
                  <a:pt x="289" y="327"/>
                </a:cubicBezTo>
                <a:cubicBezTo>
                  <a:pt x="289" y="327"/>
                  <a:pt x="289" y="327"/>
                  <a:pt x="289" y="327"/>
                </a:cubicBezTo>
                <a:cubicBezTo>
                  <a:pt x="289" y="327"/>
                  <a:pt x="289" y="327"/>
                  <a:pt x="289" y="327"/>
                </a:cubicBezTo>
                <a:cubicBezTo>
                  <a:pt x="289" y="327"/>
                  <a:pt x="289" y="327"/>
                  <a:pt x="289" y="327"/>
                </a:cubicBezTo>
                <a:cubicBezTo>
                  <a:pt x="290" y="327"/>
                  <a:pt x="291" y="326"/>
                  <a:pt x="292" y="326"/>
                </a:cubicBezTo>
                <a:cubicBezTo>
                  <a:pt x="293" y="326"/>
                  <a:pt x="293" y="326"/>
                  <a:pt x="293" y="326"/>
                </a:cubicBezTo>
                <a:cubicBezTo>
                  <a:pt x="293" y="326"/>
                  <a:pt x="294" y="326"/>
                  <a:pt x="294" y="326"/>
                </a:cubicBezTo>
                <a:cubicBezTo>
                  <a:pt x="295" y="326"/>
                  <a:pt x="295" y="325"/>
                  <a:pt x="295" y="325"/>
                </a:cubicBezTo>
                <a:cubicBezTo>
                  <a:pt x="296" y="325"/>
                  <a:pt x="296" y="325"/>
                  <a:pt x="296" y="325"/>
                </a:cubicBezTo>
                <a:cubicBezTo>
                  <a:pt x="296" y="325"/>
                  <a:pt x="296" y="325"/>
                  <a:pt x="296" y="325"/>
                </a:cubicBezTo>
                <a:cubicBezTo>
                  <a:pt x="297" y="325"/>
                  <a:pt x="297" y="325"/>
                  <a:pt x="297" y="325"/>
                </a:cubicBezTo>
                <a:cubicBezTo>
                  <a:pt x="297" y="325"/>
                  <a:pt x="297" y="325"/>
                  <a:pt x="297" y="325"/>
                </a:cubicBezTo>
                <a:cubicBezTo>
                  <a:pt x="299" y="324"/>
                  <a:pt x="300" y="324"/>
                  <a:pt x="301" y="323"/>
                </a:cubicBezTo>
                <a:cubicBezTo>
                  <a:pt x="301" y="323"/>
                  <a:pt x="302" y="323"/>
                  <a:pt x="302" y="323"/>
                </a:cubicBezTo>
                <a:cubicBezTo>
                  <a:pt x="303" y="322"/>
                  <a:pt x="303" y="322"/>
                  <a:pt x="303" y="322"/>
                </a:cubicBezTo>
                <a:cubicBezTo>
                  <a:pt x="304" y="322"/>
                  <a:pt x="304" y="322"/>
                  <a:pt x="304" y="322"/>
                </a:cubicBezTo>
                <a:cubicBezTo>
                  <a:pt x="305" y="322"/>
                  <a:pt x="306" y="321"/>
                  <a:pt x="306" y="321"/>
                </a:cubicBezTo>
                <a:cubicBezTo>
                  <a:pt x="308" y="321"/>
                  <a:pt x="308" y="321"/>
                  <a:pt x="308" y="321"/>
                </a:cubicBezTo>
                <a:cubicBezTo>
                  <a:pt x="308" y="321"/>
                  <a:pt x="308" y="321"/>
                  <a:pt x="308" y="321"/>
                </a:cubicBezTo>
                <a:cubicBezTo>
                  <a:pt x="308" y="320"/>
                  <a:pt x="308" y="320"/>
                  <a:pt x="308" y="320"/>
                </a:cubicBezTo>
                <a:cubicBezTo>
                  <a:pt x="309" y="320"/>
                  <a:pt x="309" y="320"/>
                  <a:pt x="309" y="320"/>
                </a:cubicBezTo>
                <a:cubicBezTo>
                  <a:pt x="310" y="320"/>
                  <a:pt x="310" y="320"/>
                  <a:pt x="311" y="319"/>
                </a:cubicBezTo>
                <a:cubicBezTo>
                  <a:pt x="311" y="319"/>
                  <a:pt x="312" y="319"/>
                  <a:pt x="312" y="319"/>
                </a:cubicBezTo>
                <a:cubicBezTo>
                  <a:pt x="312" y="319"/>
                  <a:pt x="312" y="319"/>
                  <a:pt x="312" y="319"/>
                </a:cubicBezTo>
                <a:cubicBezTo>
                  <a:pt x="312" y="319"/>
                  <a:pt x="312" y="319"/>
                  <a:pt x="312" y="319"/>
                </a:cubicBezTo>
                <a:cubicBezTo>
                  <a:pt x="313" y="318"/>
                  <a:pt x="313" y="318"/>
                  <a:pt x="313" y="318"/>
                </a:cubicBezTo>
                <a:cubicBezTo>
                  <a:pt x="314" y="318"/>
                  <a:pt x="314" y="318"/>
                  <a:pt x="315" y="317"/>
                </a:cubicBezTo>
                <a:cubicBezTo>
                  <a:pt x="315" y="317"/>
                  <a:pt x="315" y="317"/>
                  <a:pt x="315" y="317"/>
                </a:cubicBezTo>
                <a:cubicBezTo>
                  <a:pt x="316" y="317"/>
                  <a:pt x="316" y="317"/>
                  <a:pt x="316" y="317"/>
                </a:cubicBezTo>
                <a:cubicBezTo>
                  <a:pt x="316" y="317"/>
                  <a:pt x="316" y="317"/>
                  <a:pt x="316" y="317"/>
                </a:cubicBezTo>
                <a:cubicBezTo>
                  <a:pt x="316" y="317"/>
                  <a:pt x="316" y="317"/>
                  <a:pt x="316" y="317"/>
                </a:cubicBezTo>
                <a:cubicBezTo>
                  <a:pt x="316" y="317"/>
                  <a:pt x="316" y="317"/>
                  <a:pt x="316" y="317"/>
                </a:cubicBezTo>
                <a:cubicBezTo>
                  <a:pt x="317" y="316"/>
                  <a:pt x="317" y="316"/>
                  <a:pt x="317" y="316"/>
                </a:cubicBezTo>
                <a:cubicBezTo>
                  <a:pt x="317" y="316"/>
                  <a:pt x="317" y="316"/>
                  <a:pt x="317" y="316"/>
                </a:cubicBezTo>
                <a:cubicBezTo>
                  <a:pt x="318" y="316"/>
                  <a:pt x="318" y="316"/>
                  <a:pt x="318" y="316"/>
                </a:cubicBezTo>
                <a:cubicBezTo>
                  <a:pt x="318" y="315"/>
                  <a:pt x="318" y="315"/>
                  <a:pt x="318" y="315"/>
                </a:cubicBezTo>
                <a:cubicBezTo>
                  <a:pt x="318" y="315"/>
                  <a:pt x="318" y="315"/>
                  <a:pt x="318" y="315"/>
                </a:cubicBezTo>
                <a:cubicBezTo>
                  <a:pt x="318" y="315"/>
                  <a:pt x="318" y="315"/>
                  <a:pt x="318" y="315"/>
                </a:cubicBezTo>
                <a:cubicBezTo>
                  <a:pt x="318" y="315"/>
                  <a:pt x="318" y="315"/>
                  <a:pt x="318" y="315"/>
                </a:cubicBezTo>
                <a:cubicBezTo>
                  <a:pt x="319" y="315"/>
                  <a:pt x="319" y="315"/>
                  <a:pt x="319" y="315"/>
                </a:cubicBezTo>
                <a:cubicBezTo>
                  <a:pt x="319" y="314"/>
                  <a:pt x="319" y="314"/>
                  <a:pt x="319" y="314"/>
                </a:cubicBezTo>
                <a:cubicBezTo>
                  <a:pt x="319" y="314"/>
                  <a:pt x="319" y="314"/>
                  <a:pt x="319" y="314"/>
                </a:cubicBezTo>
                <a:cubicBezTo>
                  <a:pt x="320" y="314"/>
                  <a:pt x="320" y="314"/>
                  <a:pt x="320" y="314"/>
                </a:cubicBezTo>
                <a:cubicBezTo>
                  <a:pt x="320" y="314"/>
                  <a:pt x="320" y="314"/>
                  <a:pt x="320" y="314"/>
                </a:cubicBezTo>
                <a:cubicBezTo>
                  <a:pt x="320" y="313"/>
                  <a:pt x="320" y="313"/>
                  <a:pt x="320" y="313"/>
                </a:cubicBezTo>
                <a:cubicBezTo>
                  <a:pt x="320" y="313"/>
                  <a:pt x="320" y="313"/>
                  <a:pt x="320" y="313"/>
                </a:cubicBezTo>
                <a:cubicBezTo>
                  <a:pt x="321" y="313"/>
                  <a:pt x="321" y="313"/>
                  <a:pt x="321" y="313"/>
                </a:cubicBezTo>
                <a:cubicBezTo>
                  <a:pt x="321" y="313"/>
                  <a:pt x="321" y="313"/>
                  <a:pt x="321" y="313"/>
                </a:cubicBezTo>
                <a:cubicBezTo>
                  <a:pt x="321" y="313"/>
                  <a:pt x="321" y="313"/>
                  <a:pt x="321" y="313"/>
                </a:cubicBezTo>
                <a:cubicBezTo>
                  <a:pt x="321" y="312"/>
                  <a:pt x="321" y="312"/>
                  <a:pt x="321" y="312"/>
                </a:cubicBezTo>
                <a:cubicBezTo>
                  <a:pt x="321" y="312"/>
                  <a:pt x="321" y="312"/>
                  <a:pt x="321" y="312"/>
                </a:cubicBezTo>
                <a:cubicBezTo>
                  <a:pt x="321" y="312"/>
                  <a:pt x="321" y="312"/>
                  <a:pt x="321" y="312"/>
                </a:cubicBezTo>
                <a:cubicBezTo>
                  <a:pt x="321" y="312"/>
                  <a:pt x="321" y="312"/>
                  <a:pt x="321" y="312"/>
                </a:cubicBezTo>
                <a:cubicBezTo>
                  <a:pt x="322" y="311"/>
                  <a:pt x="322" y="311"/>
                  <a:pt x="322" y="311"/>
                </a:cubicBezTo>
                <a:cubicBezTo>
                  <a:pt x="322" y="311"/>
                  <a:pt x="322" y="311"/>
                  <a:pt x="322" y="311"/>
                </a:cubicBezTo>
                <a:cubicBezTo>
                  <a:pt x="322" y="311"/>
                  <a:pt x="322" y="311"/>
                  <a:pt x="322" y="311"/>
                </a:cubicBezTo>
                <a:cubicBezTo>
                  <a:pt x="322" y="311"/>
                  <a:pt x="322" y="311"/>
                  <a:pt x="322" y="311"/>
                </a:cubicBezTo>
                <a:cubicBezTo>
                  <a:pt x="322" y="311"/>
                  <a:pt x="322" y="311"/>
                  <a:pt x="322" y="311"/>
                </a:cubicBezTo>
                <a:cubicBezTo>
                  <a:pt x="322" y="311"/>
                  <a:pt x="322" y="311"/>
                  <a:pt x="322" y="311"/>
                </a:cubicBezTo>
                <a:cubicBezTo>
                  <a:pt x="322" y="311"/>
                  <a:pt x="322" y="311"/>
                  <a:pt x="322" y="311"/>
                </a:cubicBezTo>
                <a:cubicBezTo>
                  <a:pt x="322" y="310"/>
                  <a:pt x="322" y="310"/>
                  <a:pt x="322" y="310"/>
                </a:cubicBezTo>
                <a:cubicBezTo>
                  <a:pt x="322" y="310"/>
                  <a:pt x="322" y="310"/>
                  <a:pt x="322" y="310"/>
                </a:cubicBezTo>
                <a:cubicBezTo>
                  <a:pt x="322" y="310"/>
                  <a:pt x="322" y="310"/>
                  <a:pt x="322" y="310"/>
                </a:cubicBezTo>
                <a:cubicBezTo>
                  <a:pt x="322" y="310"/>
                  <a:pt x="322" y="310"/>
                  <a:pt x="322" y="310"/>
                </a:cubicBezTo>
                <a:cubicBezTo>
                  <a:pt x="322" y="310"/>
                  <a:pt x="322" y="310"/>
                  <a:pt x="322" y="310"/>
                </a:cubicBezTo>
                <a:cubicBezTo>
                  <a:pt x="322" y="309"/>
                  <a:pt x="322" y="309"/>
                  <a:pt x="322" y="309"/>
                </a:cubicBezTo>
                <a:cubicBezTo>
                  <a:pt x="322" y="309"/>
                  <a:pt x="322" y="309"/>
                  <a:pt x="322" y="309"/>
                </a:cubicBezTo>
                <a:cubicBezTo>
                  <a:pt x="322" y="309"/>
                  <a:pt x="322" y="309"/>
                  <a:pt x="322" y="309"/>
                </a:cubicBezTo>
                <a:cubicBezTo>
                  <a:pt x="322" y="298"/>
                  <a:pt x="322" y="287"/>
                  <a:pt x="323" y="276"/>
                </a:cubicBezTo>
                <a:cubicBezTo>
                  <a:pt x="323" y="276"/>
                  <a:pt x="323" y="276"/>
                  <a:pt x="323" y="276"/>
                </a:cubicBezTo>
                <a:cubicBezTo>
                  <a:pt x="324" y="276"/>
                  <a:pt x="325" y="275"/>
                  <a:pt x="326" y="275"/>
                </a:cubicBezTo>
                <a:cubicBezTo>
                  <a:pt x="328" y="275"/>
                  <a:pt x="329" y="275"/>
                  <a:pt x="331" y="275"/>
                </a:cubicBezTo>
                <a:cubicBezTo>
                  <a:pt x="332" y="275"/>
                  <a:pt x="334" y="275"/>
                  <a:pt x="336" y="275"/>
                </a:cubicBezTo>
                <a:cubicBezTo>
                  <a:pt x="338" y="275"/>
                  <a:pt x="340" y="275"/>
                  <a:pt x="343" y="275"/>
                </a:cubicBezTo>
                <a:cubicBezTo>
                  <a:pt x="343" y="275"/>
                  <a:pt x="344" y="275"/>
                  <a:pt x="345" y="275"/>
                </a:cubicBezTo>
                <a:cubicBezTo>
                  <a:pt x="347" y="275"/>
                  <a:pt x="349" y="275"/>
                  <a:pt x="352" y="275"/>
                </a:cubicBezTo>
                <a:cubicBezTo>
                  <a:pt x="352" y="275"/>
                  <a:pt x="353" y="275"/>
                  <a:pt x="353" y="275"/>
                </a:cubicBezTo>
                <a:cubicBezTo>
                  <a:pt x="354" y="275"/>
                  <a:pt x="355" y="275"/>
                  <a:pt x="356" y="275"/>
                </a:cubicBezTo>
                <a:cubicBezTo>
                  <a:pt x="359" y="275"/>
                  <a:pt x="362" y="275"/>
                  <a:pt x="365" y="275"/>
                </a:cubicBezTo>
                <a:cubicBezTo>
                  <a:pt x="366" y="275"/>
                  <a:pt x="367" y="275"/>
                  <a:pt x="368" y="275"/>
                </a:cubicBezTo>
                <a:cubicBezTo>
                  <a:pt x="371" y="275"/>
                  <a:pt x="374" y="275"/>
                  <a:pt x="377" y="275"/>
                </a:cubicBezTo>
                <a:cubicBezTo>
                  <a:pt x="378" y="275"/>
                  <a:pt x="380" y="275"/>
                  <a:pt x="381" y="275"/>
                </a:cubicBezTo>
                <a:cubicBezTo>
                  <a:pt x="384" y="275"/>
                  <a:pt x="388" y="275"/>
                  <a:pt x="392" y="275"/>
                </a:cubicBezTo>
                <a:cubicBezTo>
                  <a:pt x="393" y="275"/>
                  <a:pt x="394" y="275"/>
                  <a:pt x="395" y="275"/>
                </a:cubicBezTo>
                <a:cubicBezTo>
                  <a:pt x="398" y="275"/>
                  <a:pt x="401" y="275"/>
                  <a:pt x="403" y="276"/>
                </a:cubicBezTo>
                <a:cubicBezTo>
                  <a:pt x="405" y="276"/>
                  <a:pt x="407" y="276"/>
                  <a:pt x="408" y="276"/>
                </a:cubicBezTo>
                <a:cubicBezTo>
                  <a:pt x="409" y="276"/>
                  <a:pt x="409" y="276"/>
                  <a:pt x="410" y="276"/>
                </a:cubicBezTo>
                <a:cubicBezTo>
                  <a:pt x="414" y="276"/>
                  <a:pt x="418" y="276"/>
                  <a:pt x="422" y="276"/>
                </a:cubicBezTo>
                <a:cubicBezTo>
                  <a:pt x="422" y="276"/>
                  <a:pt x="422" y="276"/>
                  <a:pt x="422" y="276"/>
                </a:cubicBezTo>
                <a:cubicBezTo>
                  <a:pt x="423" y="276"/>
                  <a:pt x="424" y="276"/>
                  <a:pt x="425" y="276"/>
                </a:cubicBezTo>
                <a:cubicBezTo>
                  <a:pt x="426" y="276"/>
                  <a:pt x="426" y="276"/>
                  <a:pt x="426" y="276"/>
                </a:cubicBezTo>
                <a:cubicBezTo>
                  <a:pt x="428" y="276"/>
                  <a:pt x="430" y="276"/>
                  <a:pt x="432" y="276"/>
                </a:cubicBezTo>
                <a:cubicBezTo>
                  <a:pt x="432" y="276"/>
                  <a:pt x="433" y="276"/>
                  <a:pt x="433" y="276"/>
                </a:cubicBezTo>
                <a:cubicBezTo>
                  <a:pt x="434" y="276"/>
                  <a:pt x="434" y="276"/>
                  <a:pt x="434" y="276"/>
                </a:cubicBezTo>
                <a:cubicBezTo>
                  <a:pt x="439" y="276"/>
                  <a:pt x="442" y="276"/>
                  <a:pt x="446" y="276"/>
                </a:cubicBezTo>
                <a:cubicBezTo>
                  <a:pt x="446" y="276"/>
                  <a:pt x="446" y="276"/>
                  <a:pt x="446" y="276"/>
                </a:cubicBezTo>
                <a:cubicBezTo>
                  <a:pt x="447" y="276"/>
                  <a:pt x="448" y="276"/>
                  <a:pt x="449" y="276"/>
                </a:cubicBezTo>
                <a:cubicBezTo>
                  <a:pt x="450" y="276"/>
                  <a:pt x="450" y="276"/>
                  <a:pt x="451" y="276"/>
                </a:cubicBezTo>
                <a:cubicBezTo>
                  <a:pt x="452" y="276"/>
                  <a:pt x="452" y="276"/>
                  <a:pt x="452" y="276"/>
                </a:cubicBezTo>
                <a:cubicBezTo>
                  <a:pt x="452" y="276"/>
                  <a:pt x="453" y="276"/>
                  <a:pt x="453" y="276"/>
                </a:cubicBezTo>
                <a:cubicBezTo>
                  <a:pt x="453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5" y="276"/>
                  <a:pt x="455" y="276"/>
                  <a:pt x="455" y="276"/>
                </a:cubicBezTo>
                <a:cubicBezTo>
                  <a:pt x="455" y="276"/>
                  <a:pt x="455" y="276"/>
                  <a:pt x="455" y="276"/>
                </a:cubicBezTo>
                <a:cubicBezTo>
                  <a:pt x="455" y="276"/>
                  <a:pt x="455" y="276"/>
                  <a:pt x="455" y="276"/>
                </a:cubicBezTo>
                <a:cubicBezTo>
                  <a:pt x="455" y="276"/>
                  <a:pt x="455" y="276"/>
                  <a:pt x="455" y="276"/>
                </a:cubicBezTo>
                <a:cubicBezTo>
                  <a:pt x="455" y="277"/>
                  <a:pt x="455" y="277"/>
                  <a:pt x="455" y="277"/>
                </a:cubicBezTo>
                <a:cubicBezTo>
                  <a:pt x="455" y="277"/>
                  <a:pt x="455" y="277"/>
                  <a:pt x="455" y="277"/>
                </a:cubicBezTo>
                <a:cubicBezTo>
                  <a:pt x="455" y="277"/>
                  <a:pt x="455" y="277"/>
                  <a:pt x="455" y="277"/>
                </a:cubicBezTo>
                <a:cubicBezTo>
                  <a:pt x="456" y="277"/>
                  <a:pt x="456" y="277"/>
                  <a:pt x="456" y="277"/>
                </a:cubicBezTo>
                <a:cubicBezTo>
                  <a:pt x="456" y="277"/>
                  <a:pt x="456" y="277"/>
                  <a:pt x="456" y="277"/>
                </a:cubicBezTo>
                <a:cubicBezTo>
                  <a:pt x="456" y="277"/>
                  <a:pt x="456" y="277"/>
                  <a:pt x="456" y="277"/>
                </a:cubicBezTo>
                <a:cubicBezTo>
                  <a:pt x="456" y="277"/>
                  <a:pt x="456" y="277"/>
                  <a:pt x="456" y="277"/>
                </a:cubicBezTo>
                <a:cubicBezTo>
                  <a:pt x="456" y="277"/>
                  <a:pt x="456" y="277"/>
                  <a:pt x="456" y="277"/>
                </a:cubicBezTo>
                <a:cubicBezTo>
                  <a:pt x="457" y="277"/>
                  <a:pt x="457" y="277"/>
                  <a:pt x="457" y="277"/>
                </a:cubicBezTo>
                <a:cubicBezTo>
                  <a:pt x="457" y="277"/>
                  <a:pt x="457" y="277"/>
                  <a:pt x="457" y="277"/>
                </a:cubicBezTo>
                <a:cubicBezTo>
                  <a:pt x="457" y="277"/>
                  <a:pt x="457" y="277"/>
                  <a:pt x="457" y="277"/>
                </a:cubicBezTo>
                <a:cubicBezTo>
                  <a:pt x="457" y="277"/>
                  <a:pt x="457" y="277"/>
                  <a:pt x="457" y="277"/>
                </a:cubicBezTo>
                <a:cubicBezTo>
                  <a:pt x="457" y="277"/>
                  <a:pt x="457" y="277"/>
                  <a:pt x="457" y="277"/>
                </a:cubicBezTo>
                <a:cubicBezTo>
                  <a:pt x="457" y="277"/>
                  <a:pt x="457" y="277"/>
                  <a:pt x="457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9" y="277"/>
                  <a:pt x="459" y="277"/>
                  <a:pt x="459" y="277"/>
                </a:cubicBezTo>
                <a:cubicBezTo>
                  <a:pt x="459" y="277"/>
                  <a:pt x="459" y="277"/>
                  <a:pt x="459" y="277"/>
                </a:cubicBezTo>
                <a:cubicBezTo>
                  <a:pt x="459" y="277"/>
                  <a:pt x="459" y="277"/>
                  <a:pt x="459" y="277"/>
                </a:cubicBezTo>
                <a:cubicBezTo>
                  <a:pt x="459" y="277"/>
                  <a:pt x="459" y="277"/>
                  <a:pt x="459" y="277"/>
                </a:cubicBezTo>
                <a:cubicBezTo>
                  <a:pt x="459" y="277"/>
                  <a:pt x="459" y="277"/>
                  <a:pt x="459" y="277"/>
                </a:cubicBezTo>
                <a:cubicBezTo>
                  <a:pt x="460" y="276"/>
                  <a:pt x="460" y="276"/>
                  <a:pt x="460" y="276"/>
                </a:cubicBezTo>
                <a:cubicBezTo>
                  <a:pt x="460" y="276"/>
                  <a:pt x="460" y="276"/>
                  <a:pt x="460" y="276"/>
                </a:cubicBezTo>
                <a:cubicBezTo>
                  <a:pt x="460" y="276"/>
                  <a:pt x="460" y="276"/>
                  <a:pt x="460" y="276"/>
                </a:cubicBezTo>
                <a:cubicBezTo>
                  <a:pt x="460" y="276"/>
                  <a:pt x="460" y="276"/>
                  <a:pt x="460" y="276"/>
                </a:cubicBezTo>
                <a:cubicBezTo>
                  <a:pt x="460" y="276"/>
                  <a:pt x="460" y="276"/>
                  <a:pt x="460" y="276"/>
                </a:cubicBezTo>
                <a:cubicBezTo>
                  <a:pt x="460" y="276"/>
                  <a:pt x="460" y="276"/>
                  <a:pt x="460" y="276"/>
                </a:cubicBezTo>
                <a:cubicBezTo>
                  <a:pt x="461" y="276"/>
                  <a:pt x="461" y="276"/>
                  <a:pt x="461" y="276"/>
                </a:cubicBezTo>
                <a:cubicBezTo>
                  <a:pt x="461" y="276"/>
                  <a:pt x="461" y="276"/>
                  <a:pt x="461" y="276"/>
                </a:cubicBezTo>
                <a:cubicBezTo>
                  <a:pt x="461" y="276"/>
                  <a:pt x="461" y="276"/>
                  <a:pt x="461" y="276"/>
                </a:cubicBezTo>
                <a:cubicBezTo>
                  <a:pt x="462" y="276"/>
                  <a:pt x="462" y="276"/>
                  <a:pt x="462" y="276"/>
                </a:cubicBezTo>
                <a:cubicBezTo>
                  <a:pt x="462" y="276"/>
                  <a:pt x="462" y="276"/>
                  <a:pt x="462" y="276"/>
                </a:cubicBezTo>
                <a:cubicBezTo>
                  <a:pt x="463" y="276"/>
                  <a:pt x="463" y="276"/>
                  <a:pt x="463" y="276"/>
                </a:cubicBezTo>
                <a:cubicBezTo>
                  <a:pt x="463" y="276"/>
                  <a:pt x="463" y="276"/>
                  <a:pt x="463" y="276"/>
                </a:cubicBezTo>
                <a:cubicBezTo>
                  <a:pt x="463" y="276"/>
                  <a:pt x="463" y="276"/>
                  <a:pt x="463" y="276"/>
                </a:cubicBezTo>
                <a:cubicBezTo>
                  <a:pt x="463" y="276"/>
                  <a:pt x="463" y="276"/>
                  <a:pt x="463" y="276"/>
                </a:cubicBezTo>
                <a:cubicBezTo>
                  <a:pt x="464" y="276"/>
                  <a:pt x="464" y="276"/>
                  <a:pt x="464" y="276"/>
                </a:cubicBezTo>
                <a:cubicBezTo>
                  <a:pt x="465" y="276"/>
                  <a:pt x="465" y="276"/>
                  <a:pt x="465" y="276"/>
                </a:cubicBezTo>
                <a:cubicBezTo>
                  <a:pt x="465" y="276"/>
                  <a:pt x="465" y="276"/>
                  <a:pt x="465" y="276"/>
                </a:cubicBezTo>
                <a:cubicBezTo>
                  <a:pt x="465" y="275"/>
                  <a:pt x="465" y="275"/>
                  <a:pt x="465" y="275"/>
                </a:cubicBezTo>
                <a:cubicBezTo>
                  <a:pt x="466" y="275"/>
                  <a:pt x="466" y="275"/>
                  <a:pt x="466" y="275"/>
                </a:cubicBezTo>
                <a:cubicBezTo>
                  <a:pt x="466" y="275"/>
                  <a:pt x="466" y="275"/>
                  <a:pt x="466" y="275"/>
                </a:cubicBezTo>
                <a:cubicBezTo>
                  <a:pt x="467" y="275"/>
                  <a:pt x="467" y="275"/>
                  <a:pt x="467" y="275"/>
                </a:cubicBezTo>
                <a:cubicBezTo>
                  <a:pt x="467" y="275"/>
                  <a:pt x="467" y="275"/>
                  <a:pt x="467" y="275"/>
                </a:cubicBezTo>
                <a:cubicBezTo>
                  <a:pt x="468" y="275"/>
                  <a:pt x="468" y="275"/>
                  <a:pt x="468" y="275"/>
                </a:cubicBezTo>
                <a:cubicBezTo>
                  <a:pt x="468" y="274"/>
                  <a:pt x="468" y="274"/>
                  <a:pt x="468" y="274"/>
                </a:cubicBezTo>
                <a:cubicBezTo>
                  <a:pt x="468" y="274"/>
                  <a:pt x="468" y="274"/>
                  <a:pt x="468" y="274"/>
                </a:cubicBezTo>
                <a:cubicBezTo>
                  <a:pt x="469" y="274"/>
                  <a:pt x="469" y="274"/>
                  <a:pt x="469" y="274"/>
                </a:cubicBezTo>
                <a:cubicBezTo>
                  <a:pt x="469" y="274"/>
                  <a:pt x="469" y="274"/>
                  <a:pt x="469" y="274"/>
                </a:cubicBezTo>
                <a:cubicBezTo>
                  <a:pt x="469" y="274"/>
                  <a:pt x="469" y="274"/>
                  <a:pt x="469" y="274"/>
                </a:cubicBezTo>
                <a:cubicBezTo>
                  <a:pt x="470" y="274"/>
                  <a:pt x="470" y="274"/>
                  <a:pt x="470" y="274"/>
                </a:cubicBezTo>
                <a:cubicBezTo>
                  <a:pt x="470" y="273"/>
                  <a:pt x="470" y="273"/>
                  <a:pt x="470" y="273"/>
                </a:cubicBezTo>
                <a:cubicBezTo>
                  <a:pt x="470" y="273"/>
                  <a:pt x="470" y="273"/>
                  <a:pt x="470" y="273"/>
                </a:cubicBezTo>
                <a:cubicBezTo>
                  <a:pt x="471" y="273"/>
                  <a:pt x="471" y="273"/>
                  <a:pt x="471" y="273"/>
                </a:cubicBezTo>
                <a:cubicBezTo>
                  <a:pt x="471" y="273"/>
                  <a:pt x="471" y="273"/>
                  <a:pt x="471" y="273"/>
                </a:cubicBezTo>
                <a:cubicBezTo>
                  <a:pt x="471" y="273"/>
                  <a:pt x="471" y="273"/>
                  <a:pt x="471" y="273"/>
                </a:cubicBezTo>
                <a:cubicBezTo>
                  <a:pt x="471" y="273"/>
                  <a:pt x="471" y="273"/>
                  <a:pt x="471" y="273"/>
                </a:cubicBezTo>
                <a:cubicBezTo>
                  <a:pt x="471" y="273"/>
                  <a:pt x="471" y="273"/>
                  <a:pt x="471" y="273"/>
                </a:cubicBezTo>
                <a:cubicBezTo>
                  <a:pt x="471" y="272"/>
                  <a:pt x="471" y="272"/>
                  <a:pt x="471" y="272"/>
                </a:cubicBezTo>
                <a:cubicBezTo>
                  <a:pt x="472" y="272"/>
                  <a:pt x="472" y="272"/>
                  <a:pt x="472" y="272"/>
                </a:cubicBezTo>
                <a:cubicBezTo>
                  <a:pt x="472" y="272"/>
                  <a:pt x="472" y="272"/>
                  <a:pt x="472" y="272"/>
                </a:cubicBezTo>
                <a:cubicBezTo>
                  <a:pt x="472" y="272"/>
                  <a:pt x="472" y="272"/>
                  <a:pt x="472" y="272"/>
                </a:cubicBezTo>
                <a:cubicBezTo>
                  <a:pt x="472" y="272"/>
                  <a:pt x="472" y="272"/>
                  <a:pt x="472" y="272"/>
                </a:cubicBezTo>
                <a:cubicBezTo>
                  <a:pt x="473" y="271"/>
                  <a:pt x="473" y="271"/>
                  <a:pt x="473" y="271"/>
                </a:cubicBezTo>
                <a:cubicBezTo>
                  <a:pt x="473" y="271"/>
                  <a:pt x="473" y="271"/>
                  <a:pt x="473" y="271"/>
                </a:cubicBezTo>
                <a:cubicBezTo>
                  <a:pt x="473" y="271"/>
                  <a:pt x="473" y="271"/>
                  <a:pt x="473" y="271"/>
                </a:cubicBezTo>
                <a:cubicBezTo>
                  <a:pt x="473" y="271"/>
                  <a:pt x="473" y="271"/>
                  <a:pt x="473" y="271"/>
                </a:cubicBezTo>
                <a:cubicBezTo>
                  <a:pt x="473" y="271"/>
                  <a:pt x="473" y="271"/>
                  <a:pt x="473" y="271"/>
                </a:cubicBezTo>
                <a:cubicBezTo>
                  <a:pt x="473" y="271"/>
                  <a:pt x="473" y="271"/>
                  <a:pt x="473" y="271"/>
                </a:cubicBezTo>
                <a:cubicBezTo>
                  <a:pt x="473" y="270"/>
                  <a:pt x="473" y="270"/>
                  <a:pt x="473" y="270"/>
                </a:cubicBezTo>
                <a:cubicBezTo>
                  <a:pt x="473" y="270"/>
                  <a:pt x="473" y="270"/>
                  <a:pt x="473" y="270"/>
                </a:cubicBezTo>
                <a:cubicBezTo>
                  <a:pt x="474" y="270"/>
                  <a:pt x="474" y="270"/>
                  <a:pt x="474" y="270"/>
                </a:cubicBezTo>
                <a:cubicBezTo>
                  <a:pt x="474" y="269"/>
                  <a:pt x="474" y="269"/>
                  <a:pt x="474" y="269"/>
                </a:cubicBezTo>
                <a:cubicBezTo>
                  <a:pt x="474" y="269"/>
                  <a:pt x="474" y="269"/>
                  <a:pt x="474" y="269"/>
                </a:cubicBezTo>
                <a:cubicBezTo>
                  <a:pt x="474" y="269"/>
                  <a:pt x="474" y="269"/>
                  <a:pt x="474" y="269"/>
                </a:cubicBezTo>
                <a:cubicBezTo>
                  <a:pt x="474" y="268"/>
                  <a:pt x="474" y="268"/>
                  <a:pt x="474" y="268"/>
                </a:cubicBezTo>
                <a:cubicBezTo>
                  <a:pt x="474" y="268"/>
                  <a:pt x="474" y="268"/>
                  <a:pt x="474" y="268"/>
                </a:cubicBezTo>
                <a:cubicBezTo>
                  <a:pt x="475" y="268"/>
                  <a:pt x="475" y="268"/>
                  <a:pt x="475" y="268"/>
                </a:cubicBezTo>
                <a:cubicBezTo>
                  <a:pt x="475" y="268"/>
                  <a:pt x="475" y="268"/>
                  <a:pt x="475" y="268"/>
                </a:cubicBezTo>
                <a:cubicBezTo>
                  <a:pt x="475" y="267"/>
                  <a:pt x="475" y="267"/>
                  <a:pt x="475" y="267"/>
                </a:cubicBezTo>
                <a:cubicBezTo>
                  <a:pt x="475" y="267"/>
                  <a:pt x="475" y="267"/>
                  <a:pt x="475" y="267"/>
                </a:cubicBezTo>
                <a:cubicBezTo>
                  <a:pt x="475" y="266"/>
                  <a:pt x="475" y="266"/>
                  <a:pt x="475" y="266"/>
                </a:cubicBezTo>
                <a:cubicBezTo>
                  <a:pt x="475" y="266"/>
                  <a:pt x="475" y="266"/>
                  <a:pt x="475" y="266"/>
                </a:cubicBezTo>
                <a:cubicBezTo>
                  <a:pt x="475" y="265"/>
                  <a:pt x="475" y="265"/>
                  <a:pt x="475" y="265"/>
                </a:cubicBezTo>
                <a:cubicBezTo>
                  <a:pt x="475" y="265"/>
                  <a:pt x="475" y="265"/>
                  <a:pt x="475" y="265"/>
                </a:cubicBezTo>
                <a:cubicBezTo>
                  <a:pt x="476" y="264"/>
                  <a:pt x="476" y="264"/>
                  <a:pt x="476" y="264"/>
                </a:cubicBezTo>
                <a:cubicBezTo>
                  <a:pt x="476" y="264"/>
                  <a:pt x="476" y="264"/>
                  <a:pt x="476" y="264"/>
                </a:cubicBezTo>
                <a:cubicBezTo>
                  <a:pt x="476" y="264"/>
                  <a:pt x="476" y="264"/>
                  <a:pt x="476" y="264"/>
                </a:cubicBezTo>
                <a:cubicBezTo>
                  <a:pt x="476" y="263"/>
                  <a:pt x="476" y="263"/>
                  <a:pt x="476" y="262"/>
                </a:cubicBezTo>
                <a:cubicBezTo>
                  <a:pt x="476" y="262"/>
                  <a:pt x="476" y="261"/>
                  <a:pt x="476" y="261"/>
                </a:cubicBezTo>
                <a:cubicBezTo>
                  <a:pt x="476" y="260"/>
                  <a:pt x="476" y="259"/>
                  <a:pt x="476" y="258"/>
                </a:cubicBezTo>
                <a:cubicBezTo>
                  <a:pt x="476" y="258"/>
                  <a:pt x="476" y="257"/>
                  <a:pt x="476" y="257"/>
                </a:cubicBezTo>
                <a:cubicBezTo>
                  <a:pt x="476" y="256"/>
                  <a:pt x="476" y="256"/>
                  <a:pt x="476" y="256"/>
                </a:cubicBezTo>
                <a:cubicBezTo>
                  <a:pt x="476" y="256"/>
                  <a:pt x="476" y="256"/>
                  <a:pt x="476" y="256"/>
                </a:cubicBezTo>
                <a:cubicBezTo>
                  <a:pt x="477" y="255"/>
                  <a:pt x="477" y="254"/>
                  <a:pt x="477" y="254"/>
                </a:cubicBezTo>
                <a:cubicBezTo>
                  <a:pt x="477" y="253"/>
                  <a:pt x="477" y="252"/>
                  <a:pt x="477" y="252"/>
                </a:cubicBezTo>
                <a:cubicBezTo>
                  <a:pt x="477" y="251"/>
                  <a:pt x="477" y="250"/>
                  <a:pt x="477" y="249"/>
                </a:cubicBezTo>
                <a:cubicBezTo>
                  <a:pt x="477" y="248"/>
                  <a:pt x="477" y="248"/>
                  <a:pt x="477" y="247"/>
                </a:cubicBezTo>
                <a:cubicBezTo>
                  <a:pt x="477" y="247"/>
                  <a:pt x="477" y="247"/>
                  <a:pt x="477" y="247"/>
                </a:cubicBezTo>
                <a:cubicBezTo>
                  <a:pt x="477" y="246"/>
                  <a:pt x="477" y="246"/>
                  <a:pt x="477" y="246"/>
                </a:cubicBezTo>
                <a:cubicBezTo>
                  <a:pt x="477" y="244"/>
                  <a:pt x="477" y="242"/>
                  <a:pt x="477" y="240"/>
                </a:cubicBezTo>
                <a:cubicBezTo>
                  <a:pt x="477" y="239"/>
                  <a:pt x="478" y="238"/>
                  <a:pt x="478" y="237"/>
                </a:cubicBezTo>
                <a:cubicBezTo>
                  <a:pt x="478" y="237"/>
                  <a:pt x="478" y="237"/>
                  <a:pt x="478" y="237"/>
                </a:cubicBezTo>
                <a:cubicBezTo>
                  <a:pt x="478" y="236"/>
                  <a:pt x="478" y="236"/>
                  <a:pt x="478" y="236"/>
                </a:cubicBezTo>
                <a:cubicBezTo>
                  <a:pt x="478" y="236"/>
                  <a:pt x="478" y="235"/>
                  <a:pt x="478" y="234"/>
                </a:cubicBezTo>
                <a:cubicBezTo>
                  <a:pt x="478" y="233"/>
                  <a:pt x="478" y="233"/>
                  <a:pt x="478" y="232"/>
                </a:cubicBezTo>
                <a:cubicBezTo>
                  <a:pt x="478" y="231"/>
                  <a:pt x="478" y="229"/>
                  <a:pt x="478" y="228"/>
                </a:cubicBezTo>
                <a:cubicBezTo>
                  <a:pt x="478" y="216"/>
                  <a:pt x="478" y="216"/>
                  <a:pt x="478" y="216"/>
                </a:cubicBezTo>
                <a:cubicBezTo>
                  <a:pt x="478" y="216"/>
                  <a:pt x="478" y="216"/>
                  <a:pt x="478" y="216"/>
                </a:cubicBezTo>
                <a:cubicBezTo>
                  <a:pt x="478" y="216"/>
                  <a:pt x="478" y="216"/>
                  <a:pt x="478" y="216"/>
                </a:cubicBezTo>
                <a:cubicBezTo>
                  <a:pt x="478" y="216"/>
                  <a:pt x="478" y="216"/>
                  <a:pt x="478" y="216"/>
                </a:cubicBezTo>
                <a:cubicBezTo>
                  <a:pt x="478" y="216"/>
                  <a:pt x="478" y="216"/>
                  <a:pt x="478" y="216"/>
                </a:cubicBezTo>
                <a:cubicBezTo>
                  <a:pt x="478" y="216"/>
                  <a:pt x="478" y="216"/>
                  <a:pt x="478" y="216"/>
                </a:cubicBezTo>
                <a:cubicBezTo>
                  <a:pt x="478" y="216"/>
                  <a:pt x="478" y="216"/>
                  <a:pt x="478" y="216"/>
                </a:cubicBezTo>
                <a:cubicBezTo>
                  <a:pt x="479" y="174"/>
                  <a:pt x="480" y="132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110"/>
                  <a:pt x="481" y="110"/>
                  <a:pt x="481" y="110"/>
                </a:cubicBezTo>
                <a:cubicBezTo>
                  <a:pt x="481" y="110"/>
                  <a:pt x="481" y="111"/>
                  <a:pt x="481" y="111"/>
                </a:cubicBezTo>
                <a:cubicBezTo>
                  <a:pt x="481" y="114"/>
                  <a:pt x="480" y="116"/>
                  <a:pt x="480" y="118"/>
                </a:cubicBezTo>
                <a:cubicBezTo>
                  <a:pt x="480" y="119"/>
                  <a:pt x="480" y="120"/>
                  <a:pt x="480" y="120"/>
                </a:cubicBezTo>
                <a:cubicBezTo>
                  <a:pt x="480" y="121"/>
                  <a:pt x="480" y="122"/>
                  <a:pt x="480" y="123"/>
                </a:cubicBezTo>
                <a:cubicBezTo>
                  <a:pt x="480" y="123"/>
                  <a:pt x="480" y="124"/>
                  <a:pt x="480" y="125"/>
                </a:cubicBezTo>
                <a:cubicBezTo>
                  <a:pt x="480" y="126"/>
                  <a:pt x="480" y="126"/>
                  <a:pt x="480" y="127"/>
                </a:cubicBezTo>
                <a:cubicBezTo>
                  <a:pt x="480" y="128"/>
                  <a:pt x="480" y="128"/>
                  <a:pt x="479" y="129"/>
                </a:cubicBezTo>
                <a:cubicBezTo>
                  <a:pt x="479" y="130"/>
                  <a:pt x="479" y="130"/>
                  <a:pt x="479" y="131"/>
                </a:cubicBezTo>
                <a:cubicBezTo>
                  <a:pt x="479" y="132"/>
                  <a:pt x="479" y="132"/>
                  <a:pt x="479" y="133"/>
                </a:cubicBezTo>
                <a:cubicBezTo>
                  <a:pt x="479" y="134"/>
                  <a:pt x="479" y="134"/>
                  <a:pt x="479" y="135"/>
                </a:cubicBezTo>
                <a:cubicBezTo>
                  <a:pt x="478" y="136"/>
                  <a:pt x="478" y="137"/>
                  <a:pt x="478" y="138"/>
                </a:cubicBezTo>
                <a:cubicBezTo>
                  <a:pt x="478" y="138"/>
                  <a:pt x="478" y="138"/>
                  <a:pt x="478" y="138"/>
                </a:cubicBezTo>
                <a:cubicBezTo>
                  <a:pt x="477" y="139"/>
                  <a:pt x="477" y="140"/>
                  <a:pt x="476" y="141"/>
                </a:cubicBezTo>
                <a:cubicBezTo>
                  <a:pt x="476" y="141"/>
                  <a:pt x="476" y="141"/>
                  <a:pt x="476" y="141"/>
                </a:cubicBezTo>
                <a:cubicBezTo>
                  <a:pt x="475" y="141"/>
                  <a:pt x="475" y="142"/>
                  <a:pt x="474" y="143"/>
                </a:cubicBezTo>
                <a:cubicBezTo>
                  <a:pt x="474" y="143"/>
                  <a:pt x="474" y="143"/>
                  <a:pt x="474" y="143"/>
                </a:cubicBezTo>
                <a:cubicBezTo>
                  <a:pt x="473" y="143"/>
                  <a:pt x="472" y="144"/>
                  <a:pt x="471" y="144"/>
                </a:cubicBezTo>
                <a:cubicBezTo>
                  <a:pt x="471" y="144"/>
                  <a:pt x="471" y="144"/>
                  <a:pt x="471" y="144"/>
                </a:cubicBezTo>
                <a:cubicBezTo>
                  <a:pt x="470" y="144"/>
                  <a:pt x="470" y="145"/>
                  <a:pt x="469" y="145"/>
                </a:cubicBezTo>
                <a:cubicBezTo>
                  <a:pt x="468" y="145"/>
                  <a:pt x="468" y="145"/>
                  <a:pt x="468" y="145"/>
                </a:cubicBezTo>
                <a:cubicBezTo>
                  <a:pt x="468" y="145"/>
                  <a:pt x="467" y="145"/>
                  <a:pt x="466" y="145"/>
                </a:cubicBezTo>
                <a:cubicBezTo>
                  <a:pt x="466" y="145"/>
                  <a:pt x="466" y="145"/>
                  <a:pt x="466" y="145"/>
                </a:cubicBezTo>
                <a:cubicBezTo>
                  <a:pt x="465" y="146"/>
                  <a:pt x="464" y="146"/>
                  <a:pt x="463" y="146"/>
                </a:cubicBezTo>
                <a:cubicBezTo>
                  <a:pt x="463" y="146"/>
                  <a:pt x="463" y="146"/>
                  <a:pt x="463" y="146"/>
                </a:cubicBezTo>
                <a:cubicBezTo>
                  <a:pt x="462" y="146"/>
                  <a:pt x="462" y="146"/>
                  <a:pt x="461" y="146"/>
                </a:cubicBezTo>
                <a:cubicBezTo>
                  <a:pt x="460" y="146"/>
                  <a:pt x="460" y="146"/>
                  <a:pt x="460" y="146"/>
                </a:cubicBezTo>
                <a:cubicBezTo>
                  <a:pt x="460" y="112"/>
                  <a:pt x="461" y="78"/>
                  <a:pt x="462" y="44"/>
                </a:cubicBezTo>
                <a:cubicBezTo>
                  <a:pt x="462" y="45"/>
                  <a:pt x="462" y="45"/>
                  <a:pt x="462" y="45"/>
                </a:cubicBezTo>
                <a:cubicBezTo>
                  <a:pt x="462" y="45"/>
                  <a:pt x="462" y="45"/>
                  <a:pt x="462" y="45"/>
                </a:cubicBezTo>
                <a:cubicBezTo>
                  <a:pt x="461" y="46"/>
                  <a:pt x="461" y="46"/>
                  <a:pt x="461" y="46"/>
                </a:cubicBezTo>
                <a:cubicBezTo>
                  <a:pt x="461" y="46"/>
                  <a:pt x="461" y="46"/>
                  <a:pt x="461" y="46"/>
                </a:cubicBezTo>
                <a:cubicBezTo>
                  <a:pt x="461" y="46"/>
                  <a:pt x="460" y="47"/>
                  <a:pt x="460" y="47"/>
                </a:cubicBezTo>
                <a:cubicBezTo>
                  <a:pt x="460" y="47"/>
                  <a:pt x="460" y="47"/>
                  <a:pt x="460" y="47"/>
                </a:cubicBezTo>
                <a:cubicBezTo>
                  <a:pt x="460" y="47"/>
                  <a:pt x="459" y="47"/>
                  <a:pt x="459" y="48"/>
                </a:cubicBezTo>
                <a:cubicBezTo>
                  <a:pt x="459" y="48"/>
                  <a:pt x="459" y="48"/>
                  <a:pt x="459" y="48"/>
                </a:cubicBezTo>
                <a:cubicBezTo>
                  <a:pt x="458" y="48"/>
                  <a:pt x="458" y="48"/>
                  <a:pt x="457" y="48"/>
                </a:cubicBezTo>
                <a:cubicBezTo>
                  <a:pt x="457" y="48"/>
                  <a:pt x="457" y="48"/>
                  <a:pt x="457" y="48"/>
                </a:cubicBezTo>
                <a:cubicBezTo>
                  <a:pt x="456" y="49"/>
                  <a:pt x="456" y="49"/>
                  <a:pt x="455" y="49"/>
                </a:cubicBezTo>
                <a:cubicBezTo>
                  <a:pt x="455" y="49"/>
                  <a:pt x="455" y="49"/>
                  <a:pt x="455" y="49"/>
                </a:cubicBezTo>
                <a:cubicBezTo>
                  <a:pt x="455" y="49"/>
                  <a:pt x="454" y="49"/>
                  <a:pt x="454" y="49"/>
                </a:cubicBezTo>
                <a:cubicBezTo>
                  <a:pt x="453" y="49"/>
                  <a:pt x="453" y="50"/>
                  <a:pt x="453" y="50"/>
                </a:cubicBezTo>
                <a:cubicBezTo>
                  <a:pt x="452" y="50"/>
                  <a:pt x="452" y="50"/>
                  <a:pt x="451" y="50"/>
                </a:cubicBezTo>
                <a:cubicBezTo>
                  <a:pt x="451" y="50"/>
                  <a:pt x="451" y="50"/>
                  <a:pt x="450" y="50"/>
                </a:cubicBezTo>
                <a:cubicBezTo>
                  <a:pt x="449" y="50"/>
                  <a:pt x="447" y="51"/>
                  <a:pt x="445" y="51"/>
                </a:cubicBezTo>
                <a:cubicBezTo>
                  <a:pt x="445" y="51"/>
                  <a:pt x="445" y="51"/>
                  <a:pt x="445" y="51"/>
                </a:cubicBezTo>
                <a:cubicBezTo>
                  <a:pt x="443" y="51"/>
                  <a:pt x="441" y="51"/>
                  <a:pt x="439" y="52"/>
                </a:cubicBezTo>
                <a:cubicBezTo>
                  <a:pt x="438" y="52"/>
                  <a:pt x="438" y="52"/>
                  <a:pt x="438" y="52"/>
                </a:cubicBezTo>
                <a:cubicBezTo>
                  <a:pt x="436" y="52"/>
                  <a:pt x="434" y="52"/>
                  <a:pt x="432" y="52"/>
                </a:cubicBezTo>
                <a:cubicBezTo>
                  <a:pt x="432" y="52"/>
                  <a:pt x="432" y="52"/>
                  <a:pt x="432" y="52"/>
                </a:cubicBezTo>
                <a:cubicBezTo>
                  <a:pt x="429" y="52"/>
                  <a:pt x="427" y="52"/>
                  <a:pt x="425" y="52"/>
                </a:cubicBezTo>
                <a:cubicBezTo>
                  <a:pt x="424" y="52"/>
                  <a:pt x="424" y="52"/>
                  <a:pt x="424" y="52"/>
                </a:cubicBezTo>
                <a:cubicBezTo>
                  <a:pt x="424" y="35"/>
                  <a:pt x="425" y="17"/>
                  <a:pt x="425" y="0"/>
                </a:cubicBezTo>
                <a:cubicBezTo>
                  <a:pt x="425" y="0"/>
                  <a:pt x="425" y="0"/>
                  <a:pt x="425" y="0"/>
                </a:cubicBezTo>
                <a:cubicBezTo>
                  <a:pt x="424" y="0"/>
                  <a:pt x="424" y="0"/>
                  <a:pt x="424" y="0"/>
                </a:cubicBezTo>
                <a:cubicBezTo>
                  <a:pt x="424" y="0"/>
                  <a:pt x="424" y="0"/>
                  <a:pt x="424" y="0"/>
                </a:cubicBezTo>
                <a:cubicBezTo>
                  <a:pt x="424" y="0"/>
                  <a:pt x="424" y="0"/>
                  <a:pt x="424" y="0"/>
                </a:cubicBezTo>
                <a:cubicBezTo>
                  <a:pt x="424" y="0"/>
                  <a:pt x="424" y="0"/>
                  <a:pt x="424" y="0"/>
                </a:cubicBezTo>
                <a:cubicBezTo>
                  <a:pt x="423" y="52"/>
                  <a:pt x="423" y="52"/>
                  <a:pt x="423" y="52"/>
                </a:cubicBezTo>
                <a:cubicBezTo>
                  <a:pt x="422" y="52"/>
                  <a:pt x="421" y="52"/>
                  <a:pt x="420" y="52"/>
                </a:cubicBezTo>
                <a:cubicBezTo>
                  <a:pt x="419" y="52"/>
                  <a:pt x="418" y="52"/>
                  <a:pt x="416" y="52"/>
                </a:cubicBezTo>
                <a:cubicBezTo>
                  <a:pt x="415" y="52"/>
                  <a:pt x="414" y="52"/>
                  <a:pt x="412" y="52"/>
                </a:cubicBezTo>
                <a:cubicBezTo>
                  <a:pt x="412" y="52"/>
                  <a:pt x="412" y="52"/>
                  <a:pt x="412" y="52"/>
                </a:cubicBezTo>
                <a:cubicBezTo>
                  <a:pt x="411" y="52"/>
                  <a:pt x="409" y="52"/>
                  <a:pt x="408" y="52"/>
                </a:cubicBezTo>
                <a:cubicBezTo>
                  <a:pt x="408" y="52"/>
                  <a:pt x="408" y="52"/>
                  <a:pt x="408" y="52"/>
                </a:cubicBezTo>
                <a:cubicBezTo>
                  <a:pt x="408" y="52"/>
                  <a:pt x="408" y="52"/>
                  <a:pt x="408" y="52"/>
                </a:cubicBezTo>
                <a:cubicBezTo>
                  <a:pt x="408" y="52"/>
                  <a:pt x="408" y="52"/>
                  <a:pt x="408" y="52"/>
                </a:cubicBezTo>
                <a:cubicBezTo>
                  <a:pt x="407" y="52"/>
                  <a:pt x="407" y="52"/>
                  <a:pt x="407" y="52"/>
                </a:cubicBezTo>
                <a:cubicBezTo>
                  <a:pt x="407" y="52"/>
                  <a:pt x="407" y="52"/>
                  <a:pt x="406" y="52"/>
                </a:cubicBezTo>
                <a:cubicBezTo>
                  <a:pt x="406" y="52"/>
                  <a:pt x="405" y="52"/>
                  <a:pt x="405" y="52"/>
                </a:cubicBezTo>
                <a:cubicBezTo>
                  <a:pt x="404" y="52"/>
                  <a:pt x="404" y="52"/>
                  <a:pt x="403" y="52"/>
                </a:cubicBezTo>
                <a:cubicBezTo>
                  <a:pt x="403" y="52"/>
                  <a:pt x="402" y="52"/>
                  <a:pt x="402" y="52"/>
                </a:cubicBezTo>
                <a:cubicBezTo>
                  <a:pt x="402" y="52"/>
                  <a:pt x="401" y="52"/>
                  <a:pt x="401" y="52"/>
                </a:cubicBezTo>
                <a:cubicBezTo>
                  <a:pt x="400" y="52"/>
                  <a:pt x="400" y="51"/>
                  <a:pt x="400" y="51"/>
                </a:cubicBezTo>
                <a:cubicBezTo>
                  <a:pt x="399" y="51"/>
                  <a:pt x="399" y="51"/>
                  <a:pt x="398" y="51"/>
                </a:cubicBezTo>
                <a:cubicBezTo>
                  <a:pt x="398" y="51"/>
                  <a:pt x="398" y="51"/>
                  <a:pt x="397" y="51"/>
                </a:cubicBezTo>
                <a:cubicBezTo>
                  <a:pt x="397" y="51"/>
                  <a:pt x="397" y="51"/>
                  <a:pt x="397" y="51"/>
                </a:cubicBezTo>
                <a:cubicBezTo>
                  <a:pt x="396" y="51"/>
                  <a:pt x="396" y="51"/>
                  <a:pt x="396" y="51"/>
                </a:cubicBezTo>
                <a:cubicBezTo>
                  <a:pt x="395" y="51"/>
                  <a:pt x="395" y="51"/>
                  <a:pt x="395" y="51"/>
                </a:cubicBezTo>
                <a:cubicBezTo>
                  <a:pt x="394" y="51"/>
                  <a:pt x="394" y="51"/>
                  <a:pt x="394" y="51"/>
                </a:cubicBezTo>
                <a:cubicBezTo>
                  <a:pt x="393" y="51"/>
                  <a:pt x="393" y="51"/>
                  <a:pt x="393" y="51"/>
                </a:cubicBezTo>
                <a:cubicBezTo>
                  <a:pt x="392" y="51"/>
                  <a:pt x="392" y="51"/>
                  <a:pt x="392" y="51"/>
                </a:cubicBezTo>
                <a:cubicBezTo>
                  <a:pt x="391" y="51"/>
                  <a:pt x="391" y="51"/>
                  <a:pt x="391" y="51"/>
                </a:cubicBezTo>
                <a:cubicBezTo>
                  <a:pt x="390" y="51"/>
                  <a:pt x="390" y="51"/>
                  <a:pt x="390" y="51"/>
                </a:cubicBezTo>
                <a:cubicBezTo>
                  <a:pt x="389" y="51"/>
                  <a:pt x="389" y="51"/>
                  <a:pt x="389" y="51"/>
                </a:cubicBezTo>
                <a:cubicBezTo>
                  <a:pt x="389" y="51"/>
                  <a:pt x="389" y="51"/>
                  <a:pt x="389" y="51"/>
                </a:cubicBezTo>
                <a:cubicBezTo>
                  <a:pt x="388" y="51"/>
                  <a:pt x="388" y="51"/>
                  <a:pt x="388" y="51"/>
                </a:cubicBezTo>
                <a:cubicBezTo>
                  <a:pt x="388" y="51"/>
                  <a:pt x="388" y="51"/>
                  <a:pt x="388" y="51"/>
                </a:cubicBezTo>
                <a:cubicBezTo>
                  <a:pt x="387" y="51"/>
                  <a:pt x="387" y="51"/>
                  <a:pt x="387" y="51"/>
                </a:cubicBezTo>
                <a:cubicBezTo>
                  <a:pt x="387" y="51"/>
                  <a:pt x="387" y="51"/>
                  <a:pt x="387" y="51"/>
                </a:cubicBezTo>
                <a:cubicBezTo>
                  <a:pt x="387" y="51"/>
                  <a:pt x="387" y="51"/>
                  <a:pt x="387" y="51"/>
                </a:cubicBezTo>
                <a:cubicBezTo>
                  <a:pt x="386" y="51"/>
                  <a:pt x="386" y="51"/>
                  <a:pt x="386" y="51"/>
                </a:cubicBezTo>
                <a:cubicBezTo>
                  <a:pt x="386" y="51"/>
                  <a:pt x="386" y="51"/>
                  <a:pt x="386" y="51"/>
                </a:cubicBezTo>
                <a:cubicBezTo>
                  <a:pt x="385" y="51"/>
                  <a:pt x="385" y="51"/>
                  <a:pt x="385" y="51"/>
                </a:cubicBezTo>
                <a:cubicBezTo>
                  <a:pt x="384" y="51"/>
                  <a:pt x="384" y="51"/>
                  <a:pt x="384" y="51"/>
                </a:cubicBezTo>
                <a:cubicBezTo>
                  <a:pt x="383" y="51"/>
                  <a:pt x="383" y="51"/>
                  <a:pt x="383" y="51"/>
                </a:cubicBezTo>
                <a:cubicBezTo>
                  <a:pt x="382" y="51"/>
                  <a:pt x="382" y="51"/>
                  <a:pt x="382" y="51"/>
                </a:cubicBezTo>
                <a:cubicBezTo>
                  <a:pt x="381" y="51"/>
                  <a:pt x="381" y="51"/>
                  <a:pt x="381" y="51"/>
                </a:cubicBezTo>
                <a:cubicBezTo>
                  <a:pt x="380" y="52"/>
                  <a:pt x="380" y="52"/>
                  <a:pt x="380" y="52"/>
                </a:cubicBezTo>
                <a:cubicBezTo>
                  <a:pt x="380" y="52"/>
                  <a:pt x="380" y="52"/>
                  <a:pt x="380" y="52"/>
                </a:cubicBezTo>
                <a:cubicBezTo>
                  <a:pt x="379" y="52"/>
                  <a:pt x="379" y="52"/>
                  <a:pt x="379" y="52"/>
                </a:cubicBezTo>
                <a:cubicBezTo>
                  <a:pt x="378" y="52"/>
                  <a:pt x="378" y="52"/>
                  <a:pt x="378" y="52"/>
                </a:cubicBezTo>
                <a:cubicBezTo>
                  <a:pt x="378" y="52"/>
                  <a:pt x="378" y="52"/>
                  <a:pt x="378" y="52"/>
                </a:cubicBezTo>
                <a:cubicBezTo>
                  <a:pt x="378" y="52"/>
                  <a:pt x="378" y="52"/>
                  <a:pt x="378" y="52"/>
                </a:cubicBezTo>
                <a:cubicBezTo>
                  <a:pt x="378" y="52"/>
                  <a:pt x="378" y="52"/>
                  <a:pt x="378" y="52"/>
                </a:cubicBezTo>
                <a:cubicBezTo>
                  <a:pt x="377" y="52"/>
                  <a:pt x="377" y="52"/>
                  <a:pt x="377" y="52"/>
                </a:cubicBezTo>
                <a:cubicBezTo>
                  <a:pt x="376" y="52"/>
                  <a:pt x="376" y="52"/>
                  <a:pt x="376" y="52"/>
                </a:cubicBezTo>
                <a:cubicBezTo>
                  <a:pt x="375" y="52"/>
                  <a:pt x="375" y="52"/>
                  <a:pt x="375" y="52"/>
                </a:cubicBezTo>
                <a:cubicBezTo>
                  <a:pt x="374" y="52"/>
                  <a:pt x="374" y="52"/>
                  <a:pt x="374" y="52"/>
                </a:cubicBezTo>
                <a:cubicBezTo>
                  <a:pt x="373" y="52"/>
                  <a:pt x="373" y="52"/>
                  <a:pt x="373" y="52"/>
                </a:cubicBezTo>
                <a:cubicBezTo>
                  <a:pt x="373" y="52"/>
                  <a:pt x="373" y="52"/>
                  <a:pt x="373" y="52"/>
                </a:cubicBezTo>
                <a:cubicBezTo>
                  <a:pt x="373" y="52"/>
                  <a:pt x="372" y="52"/>
                  <a:pt x="372" y="52"/>
                </a:cubicBezTo>
                <a:cubicBezTo>
                  <a:pt x="371" y="52"/>
                  <a:pt x="371" y="52"/>
                  <a:pt x="370" y="52"/>
                </a:cubicBezTo>
                <a:cubicBezTo>
                  <a:pt x="369" y="53"/>
                  <a:pt x="369" y="53"/>
                  <a:pt x="369" y="53"/>
                </a:cubicBezTo>
                <a:cubicBezTo>
                  <a:pt x="369" y="53"/>
                  <a:pt x="369" y="53"/>
                  <a:pt x="369" y="53"/>
                </a:cubicBezTo>
                <a:cubicBezTo>
                  <a:pt x="369" y="53"/>
                  <a:pt x="369" y="53"/>
                  <a:pt x="369" y="53"/>
                </a:cubicBezTo>
                <a:cubicBezTo>
                  <a:pt x="369" y="53"/>
                  <a:pt x="369" y="53"/>
                  <a:pt x="369" y="53"/>
                </a:cubicBezTo>
                <a:cubicBezTo>
                  <a:pt x="367" y="53"/>
                  <a:pt x="366" y="53"/>
                  <a:pt x="365" y="53"/>
                </a:cubicBezTo>
                <a:cubicBezTo>
                  <a:pt x="364" y="53"/>
                  <a:pt x="363" y="53"/>
                  <a:pt x="362" y="54"/>
                </a:cubicBezTo>
                <a:cubicBezTo>
                  <a:pt x="361" y="54"/>
                  <a:pt x="361" y="54"/>
                  <a:pt x="361" y="54"/>
                </a:cubicBezTo>
                <a:cubicBezTo>
                  <a:pt x="361" y="54"/>
                  <a:pt x="361" y="54"/>
                  <a:pt x="361" y="54"/>
                </a:cubicBezTo>
                <a:cubicBezTo>
                  <a:pt x="361" y="54"/>
                  <a:pt x="361" y="54"/>
                  <a:pt x="361" y="54"/>
                </a:cubicBezTo>
                <a:cubicBezTo>
                  <a:pt x="360" y="54"/>
                  <a:pt x="359" y="54"/>
                  <a:pt x="357" y="54"/>
                </a:cubicBezTo>
                <a:cubicBezTo>
                  <a:pt x="356" y="55"/>
                  <a:pt x="355" y="55"/>
                  <a:pt x="354" y="55"/>
                </a:cubicBezTo>
                <a:cubicBezTo>
                  <a:pt x="353" y="55"/>
                  <a:pt x="353" y="55"/>
                  <a:pt x="353" y="55"/>
                </a:cubicBezTo>
                <a:cubicBezTo>
                  <a:pt x="353" y="55"/>
                  <a:pt x="353" y="55"/>
                  <a:pt x="353" y="55"/>
                </a:cubicBezTo>
                <a:cubicBezTo>
                  <a:pt x="353" y="55"/>
                  <a:pt x="353" y="55"/>
                  <a:pt x="353" y="55"/>
                </a:cubicBezTo>
                <a:cubicBezTo>
                  <a:pt x="352" y="56"/>
                  <a:pt x="352" y="56"/>
                  <a:pt x="352" y="56"/>
                </a:cubicBezTo>
                <a:cubicBezTo>
                  <a:pt x="352" y="56"/>
                  <a:pt x="352" y="56"/>
                  <a:pt x="352" y="56"/>
                </a:cubicBezTo>
                <a:cubicBezTo>
                  <a:pt x="351" y="56"/>
                  <a:pt x="351" y="56"/>
                  <a:pt x="351" y="56"/>
                </a:cubicBezTo>
                <a:cubicBezTo>
                  <a:pt x="351" y="56"/>
                  <a:pt x="351" y="56"/>
                  <a:pt x="351" y="56"/>
                </a:cubicBezTo>
                <a:cubicBezTo>
                  <a:pt x="351" y="56"/>
                  <a:pt x="351" y="56"/>
                  <a:pt x="351" y="56"/>
                </a:cubicBezTo>
                <a:cubicBezTo>
                  <a:pt x="351" y="56"/>
                  <a:pt x="351" y="56"/>
                  <a:pt x="351" y="56"/>
                </a:cubicBezTo>
                <a:cubicBezTo>
                  <a:pt x="350" y="56"/>
                  <a:pt x="350" y="56"/>
                  <a:pt x="350" y="56"/>
                </a:cubicBezTo>
                <a:cubicBezTo>
                  <a:pt x="350" y="56"/>
                  <a:pt x="350" y="56"/>
                  <a:pt x="350" y="56"/>
                </a:cubicBezTo>
                <a:cubicBezTo>
                  <a:pt x="349" y="57"/>
                  <a:pt x="349" y="57"/>
                  <a:pt x="349" y="57"/>
                </a:cubicBezTo>
                <a:cubicBezTo>
                  <a:pt x="349" y="57"/>
                  <a:pt x="349" y="57"/>
                  <a:pt x="349" y="57"/>
                </a:cubicBezTo>
                <a:cubicBezTo>
                  <a:pt x="348" y="57"/>
                  <a:pt x="348" y="57"/>
                  <a:pt x="348" y="57"/>
                </a:cubicBezTo>
                <a:cubicBezTo>
                  <a:pt x="348" y="57"/>
                  <a:pt x="348" y="57"/>
                  <a:pt x="348" y="57"/>
                </a:cubicBezTo>
                <a:cubicBezTo>
                  <a:pt x="348" y="57"/>
                  <a:pt x="348" y="57"/>
                  <a:pt x="348" y="57"/>
                </a:cubicBezTo>
                <a:cubicBezTo>
                  <a:pt x="348" y="57"/>
                  <a:pt x="348" y="57"/>
                  <a:pt x="348" y="57"/>
                </a:cubicBezTo>
                <a:cubicBezTo>
                  <a:pt x="348" y="57"/>
                  <a:pt x="348" y="57"/>
                  <a:pt x="348" y="57"/>
                </a:cubicBezTo>
                <a:cubicBezTo>
                  <a:pt x="348" y="57"/>
                  <a:pt x="348" y="57"/>
                  <a:pt x="348" y="57"/>
                </a:cubicBezTo>
                <a:cubicBezTo>
                  <a:pt x="347" y="58"/>
                  <a:pt x="347" y="58"/>
                  <a:pt x="347" y="58"/>
                </a:cubicBezTo>
                <a:cubicBezTo>
                  <a:pt x="347" y="58"/>
                  <a:pt x="347" y="58"/>
                  <a:pt x="347" y="58"/>
                </a:cubicBezTo>
                <a:cubicBezTo>
                  <a:pt x="346" y="58"/>
                  <a:pt x="346" y="58"/>
                  <a:pt x="346" y="58"/>
                </a:cubicBezTo>
                <a:cubicBezTo>
                  <a:pt x="346" y="58"/>
                  <a:pt x="346" y="58"/>
                  <a:pt x="346" y="58"/>
                </a:cubicBezTo>
                <a:cubicBezTo>
                  <a:pt x="346" y="58"/>
                  <a:pt x="346" y="58"/>
                  <a:pt x="346" y="58"/>
                </a:cubicBezTo>
                <a:cubicBezTo>
                  <a:pt x="346" y="58"/>
                  <a:pt x="346" y="58"/>
                  <a:pt x="346" y="58"/>
                </a:cubicBezTo>
                <a:cubicBezTo>
                  <a:pt x="346" y="58"/>
                  <a:pt x="346" y="58"/>
                  <a:pt x="346" y="58"/>
                </a:cubicBezTo>
                <a:cubicBezTo>
                  <a:pt x="345" y="59"/>
                  <a:pt x="345" y="59"/>
                  <a:pt x="345" y="59"/>
                </a:cubicBezTo>
                <a:cubicBezTo>
                  <a:pt x="345" y="59"/>
                  <a:pt x="345" y="59"/>
                  <a:pt x="345" y="59"/>
                </a:cubicBezTo>
                <a:cubicBezTo>
                  <a:pt x="345" y="59"/>
                  <a:pt x="345" y="59"/>
                  <a:pt x="345" y="59"/>
                </a:cubicBezTo>
                <a:cubicBezTo>
                  <a:pt x="344" y="59"/>
                  <a:pt x="344" y="59"/>
                  <a:pt x="344" y="59"/>
                </a:cubicBezTo>
                <a:cubicBezTo>
                  <a:pt x="344" y="60"/>
                  <a:pt x="344" y="60"/>
                  <a:pt x="344" y="60"/>
                </a:cubicBezTo>
                <a:cubicBezTo>
                  <a:pt x="344" y="60"/>
                  <a:pt x="344" y="60"/>
                  <a:pt x="344" y="60"/>
                </a:cubicBezTo>
                <a:cubicBezTo>
                  <a:pt x="344" y="60"/>
                  <a:pt x="344" y="60"/>
                  <a:pt x="344" y="60"/>
                </a:cubicBezTo>
                <a:cubicBezTo>
                  <a:pt x="344" y="60"/>
                  <a:pt x="344" y="60"/>
                  <a:pt x="344" y="60"/>
                </a:cubicBezTo>
                <a:cubicBezTo>
                  <a:pt x="344" y="60"/>
                  <a:pt x="344" y="60"/>
                  <a:pt x="344" y="60"/>
                </a:cubicBezTo>
                <a:cubicBezTo>
                  <a:pt x="343" y="60"/>
                  <a:pt x="343" y="60"/>
                  <a:pt x="343" y="60"/>
                </a:cubicBezTo>
                <a:cubicBezTo>
                  <a:pt x="343" y="60"/>
                  <a:pt x="343" y="60"/>
                  <a:pt x="343" y="60"/>
                </a:cubicBezTo>
                <a:cubicBezTo>
                  <a:pt x="343" y="61"/>
                  <a:pt x="343" y="61"/>
                  <a:pt x="343" y="61"/>
                </a:cubicBezTo>
                <a:cubicBezTo>
                  <a:pt x="343" y="61"/>
                  <a:pt x="343" y="61"/>
                  <a:pt x="343" y="61"/>
                </a:cubicBezTo>
                <a:cubicBezTo>
                  <a:pt x="342" y="61"/>
                  <a:pt x="342" y="61"/>
                  <a:pt x="342" y="61"/>
                </a:cubicBezTo>
                <a:cubicBezTo>
                  <a:pt x="342" y="61"/>
                  <a:pt x="342" y="61"/>
                  <a:pt x="342" y="61"/>
                </a:cubicBezTo>
                <a:cubicBezTo>
                  <a:pt x="342" y="61"/>
                  <a:pt x="342" y="61"/>
                  <a:pt x="342" y="61"/>
                </a:cubicBezTo>
                <a:cubicBezTo>
                  <a:pt x="342" y="62"/>
                  <a:pt x="342" y="62"/>
                  <a:pt x="342" y="62"/>
                </a:cubicBezTo>
                <a:cubicBezTo>
                  <a:pt x="342" y="62"/>
                  <a:pt x="342" y="62"/>
                  <a:pt x="342" y="62"/>
                </a:cubicBezTo>
                <a:cubicBezTo>
                  <a:pt x="342" y="62"/>
                  <a:pt x="342" y="62"/>
                  <a:pt x="342" y="62"/>
                </a:cubicBezTo>
                <a:cubicBezTo>
                  <a:pt x="341" y="63"/>
                  <a:pt x="341" y="63"/>
                  <a:pt x="341" y="63"/>
                </a:cubicBezTo>
                <a:cubicBezTo>
                  <a:pt x="341" y="63"/>
                  <a:pt x="341" y="63"/>
                  <a:pt x="341" y="63"/>
                </a:cubicBezTo>
                <a:cubicBezTo>
                  <a:pt x="341" y="63"/>
                  <a:pt x="341" y="63"/>
                  <a:pt x="341" y="63"/>
                </a:cubicBezTo>
                <a:cubicBezTo>
                  <a:pt x="341" y="63"/>
                  <a:pt x="341" y="63"/>
                  <a:pt x="341" y="63"/>
                </a:cubicBezTo>
                <a:cubicBezTo>
                  <a:pt x="341" y="63"/>
                  <a:pt x="341" y="63"/>
                  <a:pt x="341" y="63"/>
                </a:cubicBezTo>
                <a:cubicBezTo>
                  <a:pt x="341" y="63"/>
                  <a:pt x="341" y="63"/>
                  <a:pt x="341" y="63"/>
                </a:cubicBezTo>
                <a:cubicBezTo>
                  <a:pt x="341" y="64"/>
                  <a:pt x="341" y="64"/>
                  <a:pt x="341" y="64"/>
                </a:cubicBezTo>
                <a:cubicBezTo>
                  <a:pt x="341" y="64"/>
                  <a:pt x="341" y="64"/>
                  <a:pt x="341" y="64"/>
                </a:cubicBezTo>
                <a:cubicBezTo>
                  <a:pt x="341" y="65"/>
                  <a:pt x="341" y="65"/>
                  <a:pt x="341" y="65"/>
                </a:cubicBezTo>
                <a:cubicBezTo>
                  <a:pt x="340" y="65"/>
                  <a:pt x="340" y="65"/>
                  <a:pt x="340" y="65"/>
                </a:cubicBezTo>
                <a:cubicBezTo>
                  <a:pt x="340" y="65"/>
                  <a:pt x="340" y="65"/>
                  <a:pt x="340" y="65"/>
                </a:cubicBezTo>
                <a:cubicBezTo>
                  <a:pt x="340" y="65"/>
                  <a:pt x="340" y="65"/>
                  <a:pt x="340" y="65"/>
                </a:cubicBezTo>
                <a:cubicBezTo>
                  <a:pt x="340" y="65"/>
                  <a:pt x="340" y="65"/>
                  <a:pt x="340" y="65"/>
                </a:cubicBezTo>
                <a:cubicBezTo>
                  <a:pt x="340" y="66"/>
                  <a:pt x="340" y="66"/>
                  <a:pt x="340" y="66"/>
                </a:cubicBezTo>
                <a:cubicBezTo>
                  <a:pt x="340" y="66"/>
                  <a:pt x="340" y="66"/>
                  <a:pt x="340" y="66"/>
                </a:cubicBezTo>
                <a:cubicBezTo>
                  <a:pt x="340" y="67"/>
                  <a:pt x="340" y="67"/>
                  <a:pt x="340" y="67"/>
                </a:cubicBezTo>
                <a:cubicBezTo>
                  <a:pt x="340" y="67"/>
                  <a:pt x="340" y="67"/>
                  <a:pt x="340" y="67"/>
                </a:cubicBezTo>
                <a:cubicBezTo>
                  <a:pt x="340" y="67"/>
                  <a:pt x="340" y="67"/>
                  <a:pt x="340" y="67"/>
                </a:cubicBezTo>
                <a:cubicBezTo>
                  <a:pt x="340" y="93"/>
                  <a:pt x="339" y="119"/>
                  <a:pt x="339" y="145"/>
                </a:cubicBezTo>
                <a:cubicBezTo>
                  <a:pt x="339" y="145"/>
                  <a:pt x="338" y="145"/>
                  <a:pt x="337" y="145"/>
                </a:cubicBezTo>
                <a:cubicBezTo>
                  <a:pt x="337" y="145"/>
                  <a:pt x="336" y="145"/>
                  <a:pt x="336" y="145"/>
                </a:cubicBezTo>
                <a:cubicBezTo>
                  <a:pt x="335" y="145"/>
                  <a:pt x="334" y="145"/>
                  <a:pt x="334" y="145"/>
                </a:cubicBezTo>
                <a:cubicBezTo>
                  <a:pt x="333" y="145"/>
                  <a:pt x="333" y="145"/>
                  <a:pt x="332" y="145"/>
                </a:cubicBezTo>
                <a:cubicBezTo>
                  <a:pt x="332" y="145"/>
                  <a:pt x="331" y="145"/>
                  <a:pt x="330" y="145"/>
                </a:cubicBezTo>
                <a:cubicBezTo>
                  <a:pt x="330" y="145"/>
                  <a:pt x="329" y="145"/>
                  <a:pt x="328" y="145"/>
                </a:cubicBezTo>
                <a:cubicBezTo>
                  <a:pt x="328" y="145"/>
                  <a:pt x="328" y="145"/>
                  <a:pt x="328" y="145"/>
                </a:cubicBezTo>
                <a:cubicBezTo>
                  <a:pt x="327" y="145"/>
                  <a:pt x="327" y="145"/>
                  <a:pt x="327" y="145"/>
                </a:cubicBezTo>
                <a:cubicBezTo>
                  <a:pt x="327" y="145"/>
                  <a:pt x="326" y="145"/>
                  <a:pt x="326" y="145"/>
                </a:cubicBezTo>
                <a:cubicBezTo>
                  <a:pt x="325" y="145"/>
                  <a:pt x="324" y="145"/>
                  <a:pt x="324" y="145"/>
                </a:cubicBezTo>
                <a:cubicBezTo>
                  <a:pt x="323" y="145"/>
                  <a:pt x="322" y="145"/>
                  <a:pt x="322" y="145"/>
                </a:cubicBezTo>
                <a:cubicBezTo>
                  <a:pt x="321" y="145"/>
                  <a:pt x="321" y="145"/>
                  <a:pt x="321" y="145"/>
                </a:cubicBezTo>
                <a:cubicBezTo>
                  <a:pt x="321" y="145"/>
                  <a:pt x="321" y="145"/>
                  <a:pt x="321" y="145"/>
                </a:cubicBezTo>
                <a:cubicBezTo>
                  <a:pt x="320" y="145"/>
                  <a:pt x="320" y="145"/>
                  <a:pt x="320" y="145"/>
                </a:cubicBezTo>
                <a:cubicBezTo>
                  <a:pt x="320" y="145"/>
                  <a:pt x="320" y="145"/>
                  <a:pt x="320" y="145"/>
                </a:cubicBezTo>
                <a:cubicBezTo>
                  <a:pt x="320" y="145"/>
                  <a:pt x="320" y="145"/>
                  <a:pt x="320" y="145"/>
                </a:cubicBezTo>
                <a:cubicBezTo>
                  <a:pt x="319" y="145"/>
                  <a:pt x="319" y="145"/>
                  <a:pt x="319" y="145"/>
                </a:cubicBezTo>
                <a:cubicBezTo>
                  <a:pt x="319" y="145"/>
                  <a:pt x="319" y="145"/>
                  <a:pt x="319" y="145"/>
                </a:cubicBezTo>
                <a:cubicBezTo>
                  <a:pt x="318" y="146"/>
                  <a:pt x="318" y="146"/>
                  <a:pt x="318" y="146"/>
                </a:cubicBezTo>
                <a:cubicBezTo>
                  <a:pt x="318" y="146"/>
                  <a:pt x="318" y="146"/>
                  <a:pt x="318" y="146"/>
                </a:cubicBezTo>
                <a:cubicBezTo>
                  <a:pt x="317" y="146"/>
                  <a:pt x="317" y="146"/>
                  <a:pt x="317" y="146"/>
                </a:cubicBezTo>
                <a:cubicBezTo>
                  <a:pt x="316" y="146"/>
                  <a:pt x="316" y="146"/>
                  <a:pt x="316" y="146"/>
                </a:cubicBezTo>
                <a:cubicBezTo>
                  <a:pt x="316" y="146"/>
                  <a:pt x="316" y="146"/>
                  <a:pt x="316" y="146"/>
                </a:cubicBezTo>
                <a:cubicBezTo>
                  <a:pt x="315" y="146"/>
                  <a:pt x="315" y="146"/>
                  <a:pt x="315" y="146"/>
                </a:cubicBezTo>
                <a:cubicBezTo>
                  <a:pt x="315" y="146"/>
                  <a:pt x="315" y="146"/>
                  <a:pt x="315" y="146"/>
                </a:cubicBezTo>
                <a:cubicBezTo>
                  <a:pt x="315" y="146"/>
                  <a:pt x="315" y="146"/>
                  <a:pt x="315" y="146"/>
                </a:cubicBezTo>
                <a:cubicBezTo>
                  <a:pt x="314" y="146"/>
                  <a:pt x="314" y="146"/>
                  <a:pt x="314" y="146"/>
                </a:cubicBezTo>
                <a:cubicBezTo>
                  <a:pt x="313" y="146"/>
                  <a:pt x="313" y="146"/>
                  <a:pt x="313" y="146"/>
                </a:cubicBezTo>
                <a:cubicBezTo>
                  <a:pt x="313" y="146"/>
                  <a:pt x="313" y="146"/>
                  <a:pt x="313" y="146"/>
                </a:cubicBezTo>
                <a:cubicBezTo>
                  <a:pt x="312" y="146"/>
                  <a:pt x="312" y="146"/>
                  <a:pt x="311" y="146"/>
                </a:cubicBezTo>
                <a:cubicBezTo>
                  <a:pt x="311" y="146"/>
                  <a:pt x="311" y="146"/>
                  <a:pt x="311" y="146"/>
                </a:cubicBezTo>
                <a:cubicBezTo>
                  <a:pt x="311" y="146"/>
                  <a:pt x="311" y="146"/>
                  <a:pt x="311" y="146"/>
                </a:cubicBezTo>
                <a:cubicBezTo>
                  <a:pt x="311" y="146"/>
                  <a:pt x="311" y="146"/>
                  <a:pt x="311" y="146"/>
                </a:cubicBezTo>
                <a:cubicBezTo>
                  <a:pt x="311" y="146"/>
                  <a:pt x="310" y="146"/>
                  <a:pt x="310" y="147"/>
                </a:cubicBezTo>
                <a:cubicBezTo>
                  <a:pt x="310" y="147"/>
                  <a:pt x="309" y="147"/>
                  <a:pt x="309" y="147"/>
                </a:cubicBezTo>
                <a:cubicBezTo>
                  <a:pt x="308" y="147"/>
                  <a:pt x="308" y="147"/>
                  <a:pt x="308" y="147"/>
                </a:cubicBezTo>
                <a:cubicBezTo>
                  <a:pt x="308" y="147"/>
                  <a:pt x="308" y="147"/>
                  <a:pt x="308" y="147"/>
                </a:cubicBezTo>
                <a:cubicBezTo>
                  <a:pt x="308" y="147"/>
                  <a:pt x="308" y="147"/>
                  <a:pt x="308" y="147"/>
                </a:cubicBezTo>
                <a:cubicBezTo>
                  <a:pt x="307" y="147"/>
                  <a:pt x="307" y="147"/>
                  <a:pt x="307" y="147"/>
                </a:cubicBezTo>
                <a:cubicBezTo>
                  <a:pt x="307" y="147"/>
                  <a:pt x="307" y="147"/>
                  <a:pt x="307" y="147"/>
                </a:cubicBezTo>
                <a:cubicBezTo>
                  <a:pt x="306" y="147"/>
                  <a:pt x="306" y="147"/>
                  <a:pt x="306" y="147"/>
                </a:cubicBezTo>
                <a:cubicBezTo>
                  <a:pt x="306" y="148"/>
                  <a:pt x="306" y="148"/>
                  <a:pt x="306" y="148"/>
                </a:cubicBezTo>
                <a:cubicBezTo>
                  <a:pt x="305" y="148"/>
                  <a:pt x="305" y="148"/>
                  <a:pt x="305" y="148"/>
                </a:cubicBezTo>
                <a:cubicBezTo>
                  <a:pt x="305" y="148"/>
                  <a:pt x="305" y="148"/>
                  <a:pt x="305" y="148"/>
                </a:cubicBezTo>
                <a:cubicBezTo>
                  <a:pt x="305" y="148"/>
                  <a:pt x="305" y="148"/>
                  <a:pt x="305" y="148"/>
                </a:cubicBezTo>
                <a:cubicBezTo>
                  <a:pt x="305" y="148"/>
                  <a:pt x="305" y="148"/>
                  <a:pt x="305" y="148"/>
                </a:cubicBezTo>
                <a:cubicBezTo>
                  <a:pt x="304" y="148"/>
                  <a:pt x="304" y="148"/>
                  <a:pt x="304" y="148"/>
                </a:cubicBezTo>
                <a:cubicBezTo>
                  <a:pt x="304" y="148"/>
                  <a:pt x="304" y="148"/>
                  <a:pt x="304" y="148"/>
                </a:cubicBezTo>
                <a:cubicBezTo>
                  <a:pt x="304" y="148"/>
                  <a:pt x="304" y="148"/>
                  <a:pt x="304" y="148"/>
                </a:cubicBezTo>
                <a:cubicBezTo>
                  <a:pt x="304" y="149"/>
                  <a:pt x="304" y="149"/>
                  <a:pt x="304" y="149"/>
                </a:cubicBezTo>
                <a:cubicBezTo>
                  <a:pt x="304" y="149"/>
                  <a:pt x="304" y="149"/>
                  <a:pt x="304" y="149"/>
                </a:cubicBezTo>
                <a:cubicBezTo>
                  <a:pt x="304" y="149"/>
                  <a:pt x="304" y="149"/>
                  <a:pt x="304" y="149"/>
                </a:cubicBezTo>
                <a:cubicBezTo>
                  <a:pt x="304" y="149"/>
                  <a:pt x="304" y="149"/>
                  <a:pt x="304" y="149"/>
                </a:cubicBezTo>
                <a:cubicBezTo>
                  <a:pt x="304" y="149"/>
                  <a:pt x="304" y="149"/>
                  <a:pt x="304" y="149"/>
                </a:cubicBezTo>
                <a:cubicBezTo>
                  <a:pt x="303" y="149"/>
                  <a:pt x="303" y="149"/>
                  <a:pt x="303" y="149"/>
                </a:cubicBezTo>
                <a:cubicBezTo>
                  <a:pt x="303" y="149"/>
                  <a:pt x="303" y="149"/>
                  <a:pt x="303" y="149"/>
                </a:cubicBezTo>
                <a:cubicBezTo>
                  <a:pt x="303" y="149"/>
                  <a:pt x="303" y="149"/>
                  <a:pt x="303" y="149"/>
                </a:cubicBezTo>
                <a:cubicBezTo>
                  <a:pt x="303" y="149"/>
                  <a:pt x="303" y="149"/>
                  <a:pt x="303" y="149"/>
                </a:cubicBezTo>
                <a:cubicBezTo>
                  <a:pt x="303" y="149"/>
                  <a:pt x="303" y="149"/>
                  <a:pt x="303" y="149"/>
                </a:cubicBezTo>
                <a:cubicBezTo>
                  <a:pt x="303" y="149"/>
                  <a:pt x="303" y="149"/>
                  <a:pt x="303" y="149"/>
                </a:cubicBezTo>
                <a:cubicBezTo>
                  <a:pt x="303" y="149"/>
                  <a:pt x="303" y="149"/>
                  <a:pt x="303" y="149"/>
                </a:cubicBezTo>
                <a:cubicBezTo>
                  <a:pt x="303" y="150"/>
                  <a:pt x="303" y="150"/>
                  <a:pt x="303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1"/>
                  <a:pt x="302" y="151"/>
                  <a:pt x="302" y="151"/>
                </a:cubicBezTo>
                <a:cubicBezTo>
                  <a:pt x="302" y="151"/>
                  <a:pt x="302" y="151"/>
                  <a:pt x="302" y="151"/>
                </a:cubicBezTo>
                <a:cubicBezTo>
                  <a:pt x="302" y="151"/>
                  <a:pt x="302" y="151"/>
                  <a:pt x="302" y="151"/>
                </a:cubicBezTo>
                <a:cubicBezTo>
                  <a:pt x="302" y="151"/>
                  <a:pt x="302" y="151"/>
                  <a:pt x="302" y="151"/>
                </a:cubicBezTo>
                <a:cubicBezTo>
                  <a:pt x="302" y="151"/>
                  <a:pt x="302" y="151"/>
                  <a:pt x="302" y="151"/>
                </a:cubicBezTo>
                <a:cubicBezTo>
                  <a:pt x="302" y="151"/>
                  <a:pt x="302" y="151"/>
                  <a:pt x="302" y="151"/>
                </a:cubicBezTo>
                <a:cubicBezTo>
                  <a:pt x="301" y="151"/>
                  <a:pt x="301" y="151"/>
                  <a:pt x="301" y="151"/>
                </a:cubicBezTo>
                <a:cubicBezTo>
                  <a:pt x="301" y="151"/>
                  <a:pt x="301" y="151"/>
                  <a:pt x="301" y="151"/>
                </a:cubicBezTo>
                <a:cubicBezTo>
                  <a:pt x="301" y="152"/>
                  <a:pt x="301" y="152"/>
                  <a:pt x="301" y="152"/>
                </a:cubicBezTo>
                <a:cubicBezTo>
                  <a:pt x="301" y="152"/>
                  <a:pt x="301" y="152"/>
                  <a:pt x="301" y="152"/>
                </a:cubicBezTo>
                <a:cubicBezTo>
                  <a:pt x="301" y="152"/>
                  <a:pt x="301" y="152"/>
                  <a:pt x="301" y="152"/>
                </a:cubicBezTo>
                <a:cubicBezTo>
                  <a:pt x="301" y="152"/>
                  <a:pt x="301" y="152"/>
                  <a:pt x="301" y="152"/>
                </a:cubicBezTo>
                <a:cubicBezTo>
                  <a:pt x="301" y="152"/>
                  <a:pt x="301" y="152"/>
                  <a:pt x="301" y="152"/>
                </a:cubicBezTo>
                <a:cubicBezTo>
                  <a:pt x="301" y="152"/>
                  <a:pt x="301" y="152"/>
                  <a:pt x="301" y="152"/>
                </a:cubicBezTo>
                <a:cubicBezTo>
                  <a:pt x="301" y="165"/>
                  <a:pt x="301" y="177"/>
                  <a:pt x="301" y="190"/>
                </a:cubicBezTo>
                <a:cubicBezTo>
                  <a:pt x="300" y="190"/>
                  <a:pt x="299" y="190"/>
                  <a:pt x="299" y="191"/>
                </a:cubicBezTo>
                <a:cubicBezTo>
                  <a:pt x="298" y="191"/>
                  <a:pt x="296" y="191"/>
                  <a:pt x="295" y="192"/>
                </a:cubicBezTo>
                <a:cubicBezTo>
                  <a:pt x="295" y="192"/>
                  <a:pt x="294" y="192"/>
                  <a:pt x="294" y="192"/>
                </a:cubicBezTo>
                <a:cubicBezTo>
                  <a:pt x="293" y="192"/>
                  <a:pt x="292" y="192"/>
                  <a:pt x="290" y="193"/>
                </a:cubicBezTo>
                <a:cubicBezTo>
                  <a:pt x="290" y="193"/>
                  <a:pt x="290" y="193"/>
                  <a:pt x="290" y="193"/>
                </a:cubicBezTo>
                <a:cubicBezTo>
                  <a:pt x="289" y="193"/>
                  <a:pt x="287" y="193"/>
                  <a:pt x="286" y="193"/>
                </a:cubicBezTo>
                <a:cubicBezTo>
                  <a:pt x="286" y="194"/>
                  <a:pt x="285" y="194"/>
                  <a:pt x="285" y="194"/>
                </a:cubicBezTo>
                <a:cubicBezTo>
                  <a:pt x="283" y="194"/>
                  <a:pt x="282" y="194"/>
                  <a:pt x="281" y="194"/>
                </a:cubicBezTo>
                <a:cubicBezTo>
                  <a:pt x="280" y="194"/>
                  <a:pt x="280" y="194"/>
                  <a:pt x="280" y="194"/>
                </a:cubicBezTo>
                <a:cubicBezTo>
                  <a:pt x="279" y="194"/>
                  <a:pt x="277" y="195"/>
                  <a:pt x="275" y="195"/>
                </a:cubicBezTo>
                <a:cubicBezTo>
                  <a:pt x="275" y="195"/>
                  <a:pt x="275" y="195"/>
                  <a:pt x="275" y="195"/>
                </a:cubicBezTo>
                <a:cubicBezTo>
                  <a:pt x="273" y="195"/>
                  <a:pt x="272" y="195"/>
                  <a:pt x="270" y="195"/>
                </a:cubicBezTo>
                <a:cubicBezTo>
                  <a:pt x="270" y="195"/>
                  <a:pt x="270" y="195"/>
                  <a:pt x="270" y="195"/>
                </a:cubicBezTo>
                <a:cubicBezTo>
                  <a:pt x="266" y="195"/>
                  <a:pt x="262" y="196"/>
                  <a:pt x="258" y="196"/>
                </a:cubicBezTo>
                <a:cubicBezTo>
                  <a:pt x="253" y="196"/>
                  <a:pt x="248" y="196"/>
                  <a:pt x="243" y="195"/>
                </a:cubicBezTo>
                <a:cubicBezTo>
                  <a:pt x="243" y="195"/>
                  <a:pt x="243" y="195"/>
                  <a:pt x="243" y="195"/>
                </a:cubicBezTo>
                <a:cubicBezTo>
                  <a:pt x="240" y="195"/>
                  <a:pt x="237" y="195"/>
                  <a:pt x="235" y="195"/>
                </a:cubicBezTo>
                <a:cubicBezTo>
                  <a:pt x="235" y="195"/>
                  <a:pt x="235" y="195"/>
                  <a:pt x="235" y="195"/>
                </a:cubicBezTo>
                <a:cubicBezTo>
                  <a:pt x="232" y="195"/>
                  <a:pt x="230" y="195"/>
                  <a:pt x="227" y="194"/>
                </a:cubicBezTo>
                <a:cubicBezTo>
                  <a:pt x="227" y="194"/>
                  <a:pt x="227" y="194"/>
                  <a:pt x="227" y="194"/>
                </a:cubicBezTo>
                <a:cubicBezTo>
                  <a:pt x="225" y="194"/>
                  <a:pt x="222" y="194"/>
                  <a:pt x="220" y="194"/>
                </a:cubicBezTo>
                <a:cubicBezTo>
                  <a:pt x="220" y="194"/>
                  <a:pt x="220" y="194"/>
                  <a:pt x="220" y="194"/>
                </a:cubicBezTo>
                <a:cubicBezTo>
                  <a:pt x="217" y="193"/>
                  <a:pt x="215" y="193"/>
                  <a:pt x="213" y="193"/>
                </a:cubicBezTo>
                <a:cubicBezTo>
                  <a:pt x="213" y="193"/>
                  <a:pt x="213" y="193"/>
                  <a:pt x="213" y="193"/>
                </a:cubicBezTo>
                <a:cubicBezTo>
                  <a:pt x="210" y="193"/>
                  <a:pt x="208" y="192"/>
                  <a:pt x="206" y="192"/>
                </a:cubicBezTo>
                <a:cubicBezTo>
                  <a:pt x="206" y="192"/>
                  <a:pt x="206" y="192"/>
                  <a:pt x="206" y="192"/>
                </a:cubicBezTo>
                <a:cubicBezTo>
                  <a:pt x="204" y="192"/>
                  <a:pt x="202" y="191"/>
                  <a:pt x="200" y="191"/>
                </a:cubicBezTo>
                <a:cubicBezTo>
                  <a:pt x="199" y="191"/>
                  <a:pt x="198" y="190"/>
                  <a:pt x="197" y="190"/>
                </a:cubicBezTo>
                <a:cubicBezTo>
                  <a:pt x="197" y="190"/>
                  <a:pt x="197" y="190"/>
                  <a:pt x="197" y="190"/>
                </a:cubicBezTo>
                <a:cubicBezTo>
                  <a:pt x="196" y="190"/>
                  <a:pt x="196" y="190"/>
                  <a:pt x="195" y="190"/>
                </a:cubicBezTo>
                <a:cubicBezTo>
                  <a:pt x="194" y="189"/>
                  <a:pt x="192" y="189"/>
                  <a:pt x="191" y="188"/>
                </a:cubicBezTo>
                <a:cubicBezTo>
                  <a:pt x="190" y="188"/>
                  <a:pt x="190" y="188"/>
                  <a:pt x="190" y="188"/>
                </a:cubicBezTo>
                <a:cubicBezTo>
                  <a:pt x="190" y="188"/>
                  <a:pt x="190" y="188"/>
                  <a:pt x="190" y="188"/>
                </a:cubicBezTo>
                <a:cubicBezTo>
                  <a:pt x="190" y="177"/>
                  <a:pt x="190" y="167"/>
                  <a:pt x="190" y="157"/>
                </a:cubicBezTo>
                <a:cubicBezTo>
                  <a:pt x="190" y="156"/>
                  <a:pt x="190" y="156"/>
                  <a:pt x="190" y="155"/>
                </a:cubicBezTo>
                <a:cubicBezTo>
                  <a:pt x="190" y="154"/>
                  <a:pt x="189" y="154"/>
                  <a:pt x="189" y="153"/>
                </a:cubicBezTo>
                <a:cubicBezTo>
                  <a:pt x="189" y="153"/>
                  <a:pt x="188" y="152"/>
                  <a:pt x="188" y="152"/>
                </a:cubicBezTo>
                <a:cubicBezTo>
                  <a:pt x="187" y="151"/>
                  <a:pt x="187" y="151"/>
                  <a:pt x="186" y="150"/>
                </a:cubicBezTo>
                <a:cubicBezTo>
                  <a:pt x="185" y="150"/>
                  <a:pt x="185" y="150"/>
                  <a:pt x="185" y="150"/>
                </a:cubicBezTo>
                <a:cubicBezTo>
                  <a:pt x="185" y="149"/>
                  <a:pt x="185" y="149"/>
                  <a:pt x="185" y="149"/>
                </a:cubicBezTo>
                <a:cubicBezTo>
                  <a:pt x="185" y="149"/>
                  <a:pt x="185" y="149"/>
                  <a:pt x="185" y="149"/>
                </a:cubicBezTo>
                <a:cubicBezTo>
                  <a:pt x="185" y="149"/>
                  <a:pt x="185" y="149"/>
                  <a:pt x="185" y="149"/>
                </a:cubicBezTo>
                <a:cubicBezTo>
                  <a:pt x="184" y="149"/>
                  <a:pt x="184" y="149"/>
                  <a:pt x="184" y="149"/>
                </a:cubicBezTo>
                <a:cubicBezTo>
                  <a:pt x="183" y="149"/>
                  <a:pt x="183" y="149"/>
                  <a:pt x="183" y="149"/>
                </a:cubicBezTo>
                <a:cubicBezTo>
                  <a:pt x="183" y="149"/>
                  <a:pt x="183" y="149"/>
                  <a:pt x="183" y="149"/>
                </a:cubicBezTo>
                <a:cubicBezTo>
                  <a:pt x="183" y="149"/>
                  <a:pt x="183" y="149"/>
                  <a:pt x="183" y="149"/>
                </a:cubicBezTo>
                <a:cubicBezTo>
                  <a:pt x="183" y="149"/>
                  <a:pt x="183" y="149"/>
                  <a:pt x="183" y="149"/>
                </a:cubicBezTo>
                <a:cubicBezTo>
                  <a:pt x="182" y="148"/>
                  <a:pt x="182" y="148"/>
                  <a:pt x="182" y="148"/>
                </a:cubicBezTo>
                <a:cubicBezTo>
                  <a:pt x="182" y="148"/>
                  <a:pt x="182" y="148"/>
                  <a:pt x="182" y="148"/>
                </a:cubicBezTo>
                <a:cubicBezTo>
                  <a:pt x="181" y="148"/>
                  <a:pt x="181" y="148"/>
                  <a:pt x="181" y="148"/>
                </a:cubicBezTo>
                <a:cubicBezTo>
                  <a:pt x="181" y="148"/>
                  <a:pt x="181" y="148"/>
                  <a:pt x="181" y="148"/>
                </a:cubicBezTo>
                <a:cubicBezTo>
                  <a:pt x="181" y="148"/>
                  <a:pt x="181" y="148"/>
                  <a:pt x="181" y="148"/>
                </a:cubicBezTo>
                <a:cubicBezTo>
                  <a:pt x="181" y="148"/>
                  <a:pt x="181" y="148"/>
                  <a:pt x="181" y="148"/>
                </a:cubicBezTo>
                <a:cubicBezTo>
                  <a:pt x="181" y="148"/>
                  <a:pt x="181" y="148"/>
                  <a:pt x="181" y="148"/>
                </a:cubicBezTo>
                <a:cubicBezTo>
                  <a:pt x="180" y="148"/>
                  <a:pt x="180" y="148"/>
                  <a:pt x="180" y="148"/>
                </a:cubicBezTo>
                <a:cubicBezTo>
                  <a:pt x="180" y="148"/>
                  <a:pt x="180" y="148"/>
                  <a:pt x="180" y="148"/>
                </a:cubicBezTo>
                <a:cubicBezTo>
                  <a:pt x="180" y="148"/>
                  <a:pt x="180" y="148"/>
                  <a:pt x="180" y="148"/>
                </a:cubicBezTo>
                <a:cubicBezTo>
                  <a:pt x="179" y="148"/>
                  <a:pt x="179" y="148"/>
                  <a:pt x="179" y="148"/>
                </a:cubicBezTo>
                <a:cubicBezTo>
                  <a:pt x="179" y="148"/>
                  <a:pt x="179" y="148"/>
                  <a:pt x="179" y="148"/>
                </a:cubicBezTo>
                <a:cubicBezTo>
                  <a:pt x="179" y="148"/>
                  <a:pt x="179" y="148"/>
                  <a:pt x="179" y="148"/>
                </a:cubicBezTo>
                <a:cubicBezTo>
                  <a:pt x="179" y="148"/>
                  <a:pt x="179" y="148"/>
                  <a:pt x="179" y="148"/>
                </a:cubicBezTo>
                <a:cubicBezTo>
                  <a:pt x="178" y="148"/>
                  <a:pt x="178" y="148"/>
                  <a:pt x="178" y="148"/>
                </a:cubicBezTo>
                <a:cubicBezTo>
                  <a:pt x="178" y="148"/>
                  <a:pt x="178" y="148"/>
                  <a:pt x="178" y="148"/>
                </a:cubicBezTo>
                <a:cubicBezTo>
                  <a:pt x="177" y="148"/>
                  <a:pt x="177" y="148"/>
                  <a:pt x="177" y="148"/>
                </a:cubicBezTo>
                <a:cubicBezTo>
                  <a:pt x="177" y="148"/>
                  <a:pt x="177" y="148"/>
                  <a:pt x="177" y="148"/>
                </a:cubicBezTo>
                <a:cubicBezTo>
                  <a:pt x="177" y="148"/>
                  <a:pt x="177" y="148"/>
                  <a:pt x="177" y="148"/>
                </a:cubicBezTo>
                <a:cubicBezTo>
                  <a:pt x="176" y="147"/>
                  <a:pt x="176" y="147"/>
                  <a:pt x="176" y="147"/>
                </a:cubicBezTo>
                <a:cubicBezTo>
                  <a:pt x="176" y="147"/>
                  <a:pt x="176" y="147"/>
                  <a:pt x="176" y="147"/>
                </a:cubicBezTo>
                <a:cubicBezTo>
                  <a:pt x="175" y="147"/>
                  <a:pt x="175" y="147"/>
                  <a:pt x="175" y="147"/>
                </a:cubicBezTo>
                <a:cubicBezTo>
                  <a:pt x="175" y="147"/>
                  <a:pt x="175" y="147"/>
                  <a:pt x="175" y="147"/>
                </a:cubicBezTo>
                <a:cubicBezTo>
                  <a:pt x="174" y="147"/>
                  <a:pt x="174" y="147"/>
                  <a:pt x="174" y="147"/>
                </a:cubicBezTo>
                <a:cubicBezTo>
                  <a:pt x="173" y="147"/>
                  <a:pt x="173" y="147"/>
                  <a:pt x="173" y="147"/>
                </a:cubicBezTo>
                <a:cubicBezTo>
                  <a:pt x="173" y="147"/>
                  <a:pt x="173" y="147"/>
                  <a:pt x="173" y="147"/>
                </a:cubicBezTo>
                <a:cubicBezTo>
                  <a:pt x="172" y="147"/>
                  <a:pt x="172" y="147"/>
                  <a:pt x="172" y="147"/>
                </a:cubicBezTo>
                <a:cubicBezTo>
                  <a:pt x="171" y="147"/>
                  <a:pt x="171" y="147"/>
                  <a:pt x="171" y="147"/>
                </a:cubicBezTo>
                <a:cubicBezTo>
                  <a:pt x="171" y="147"/>
                  <a:pt x="171" y="147"/>
                  <a:pt x="171" y="147"/>
                </a:cubicBezTo>
                <a:cubicBezTo>
                  <a:pt x="170" y="147"/>
                  <a:pt x="170" y="147"/>
                  <a:pt x="170" y="147"/>
                </a:cubicBezTo>
                <a:cubicBezTo>
                  <a:pt x="169" y="147"/>
                  <a:pt x="169" y="147"/>
                  <a:pt x="169" y="147"/>
                </a:cubicBezTo>
                <a:cubicBezTo>
                  <a:pt x="168" y="147"/>
                  <a:pt x="168" y="147"/>
                  <a:pt x="168" y="147"/>
                </a:cubicBezTo>
                <a:cubicBezTo>
                  <a:pt x="167" y="147"/>
                  <a:pt x="167" y="147"/>
                  <a:pt x="167" y="147"/>
                </a:cubicBezTo>
                <a:cubicBezTo>
                  <a:pt x="167" y="147"/>
                  <a:pt x="166" y="147"/>
                  <a:pt x="166" y="147"/>
                </a:cubicBezTo>
                <a:cubicBezTo>
                  <a:pt x="165" y="147"/>
                  <a:pt x="165" y="147"/>
                  <a:pt x="164" y="147"/>
                </a:cubicBezTo>
                <a:cubicBezTo>
                  <a:pt x="164" y="147"/>
                  <a:pt x="163" y="147"/>
                  <a:pt x="163" y="147"/>
                </a:cubicBezTo>
                <a:cubicBezTo>
                  <a:pt x="162" y="147"/>
                  <a:pt x="162" y="147"/>
                  <a:pt x="161" y="146"/>
                </a:cubicBezTo>
                <a:cubicBezTo>
                  <a:pt x="161" y="146"/>
                  <a:pt x="161" y="146"/>
                  <a:pt x="161" y="146"/>
                </a:cubicBezTo>
                <a:cubicBezTo>
                  <a:pt x="161" y="146"/>
                  <a:pt x="161" y="146"/>
                  <a:pt x="161" y="146"/>
                </a:cubicBezTo>
                <a:cubicBezTo>
                  <a:pt x="160" y="146"/>
                  <a:pt x="160" y="146"/>
                  <a:pt x="159" y="146"/>
                </a:cubicBezTo>
                <a:cubicBezTo>
                  <a:pt x="159" y="146"/>
                  <a:pt x="158" y="146"/>
                  <a:pt x="157" y="146"/>
                </a:cubicBezTo>
                <a:cubicBezTo>
                  <a:pt x="157" y="146"/>
                  <a:pt x="157" y="146"/>
                  <a:pt x="157" y="146"/>
                </a:cubicBezTo>
                <a:cubicBezTo>
                  <a:pt x="156" y="146"/>
                  <a:pt x="156" y="146"/>
                  <a:pt x="156" y="146"/>
                </a:cubicBezTo>
                <a:cubicBezTo>
                  <a:pt x="155" y="146"/>
                  <a:pt x="155" y="146"/>
                  <a:pt x="155" y="146"/>
                </a:cubicBezTo>
                <a:cubicBezTo>
                  <a:pt x="154" y="146"/>
                  <a:pt x="154" y="146"/>
                  <a:pt x="153" y="146"/>
                </a:cubicBezTo>
                <a:cubicBezTo>
                  <a:pt x="152" y="146"/>
                  <a:pt x="152" y="146"/>
                  <a:pt x="152" y="146"/>
                </a:cubicBezTo>
                <a:cubicBezTo>
                  <a:pt x="152" y="146"/>
                  <a:pt x="151" y="146"/>
                  <a:pt x="151" y="146"/>
                </a:cubicBezTo>
                <a:cubicBezTo>
                  <a:pt x="150" y="146"/>
                  <a:pt x="150" y="146"/>
                  <a:pt x="150" y="146"/>
                </a:cubicBezTo>
                <a:cubicBezTo>
                  <a:pt x="149" y="146"/>
                  <a:pt x="148" y="146"/>
                  <a:pt x="148" y="146"/>
                </a:cubicBezTo>
                <a:cubicBezTo>
                  <a:pt x="148" y="146"/>
                  <a:pt x="147" y="146"/>
                  <a:pt x="147" y="146"/>
                </a:cubicBezTo>
                <a:cubicBezTo>
                  <a:pt x="146" y="146"/>
                  <a:pt x="146" y="146"/>
                  <a:pt x="146" y="146"/>
                </a:cubicBezTo>
                <a:cubicBezTo>
                  <a:pt x="146" y="146"/>
                  <a:pt x="146" y="146"/>
                  <a:pt x="146" y="146"/>
                </a:cubicBezTo>
                <a:cubicBezTo>
                  <a:pt x="145" y="146"/>
                  <a:pt x="144" y="146"/>
                  <a:pt x="143" y="146"/>
                </a:cubicBezTo>
                <a:cubicBezTo>
                  <a:pt x="141" y="146"/>
                  <a:pt x="140" y="146"/>
                  <a:pt x="139" y="146"/>
                </a:cubicBezTo>
                <a:cubicBezTo>
                  <a:pt x="138" y="146"/>
                  <a:pt x="137" y="146"/>
                  <a:pt x="137" y="146"/>
                </a:cubicBezTo>
                <a:cubicBezTo>
                  <a:pt x="136" y="146"/>
                  <a:pt x="136" y="146"/>
                  <a:pt x="136" y="146"/>
                </a:cubicBezTo>
                <a:cubicBezTo>
                  <a:pt x="136" y="146"/>
                  <a:pt x="136" y="146"/>
                  <a:pt x="136" y="146"/>
                </a:cubicBezTo>
                <a:cubicBezTo>
                  <a:pt x="135" y="146"/>
                  <a:pt x="133" y="146"/>
                  <a:pt x="132" y="146"/>
                </a:cubicBezTo>
                <a:cubicBezTo>
                  <a:pt x="131" y="146"/>
                  <a:pt x="130" y="146"/>
                  <a:pt x="129" y="146"/>
                </a:cubicBezTo>
                <a:cubicBezTo>
                  <a:pt x="129" y="146"/>
                  <a:pt x="128" y="146"/>
                  <a:pt x="128" y="146"/>
                </a:cubicBezTo>
                <a:cubicBezTo>
                  <a:pt x="127" y="82"/>
                  <a:pt x="127" y="82"/>
                  <a:pt x="127" y="82"/>
                </a:cubicBezTo>
                <a:cubicBezTo>
                  <a:pt x="127" y="81"/>
                  <a:pt x="127" y="80"/>
                  <a:pt x="126" y="78"/>
                </a:cubicBezTo>
                <a:cubicBezTo>
                  <a:pt x="125" y="77"/>
                  <a:pt x="124" y="75"/>
                  <a:pt x="123" y="74"/>
                </a:cubicBezTo>
                <a:cubicBezTo>
                  <a:pt x="122" y="73"/>
                  <a:pt x="121" y="71"/>
                  <a:pt x="119" y="70"/>
                </a:cubicBezTo>
                <a:cubicBezTo>
                  <a:pt x="118" y="69"/>
                  <a:pt x="116" y="68"/>
                  <a:pt x="114" y="67"/>
                </a:cubicBezTo>
                <a:cubicBezTo>
                  <a:pt x="114" y="67"/>
                  <a:pt x="114" y="66"/>
                  <a:pt x="113" y="66"/>
                </a:cubicBezTo>
                <a:cubicBezTo>
                  <a:pt x="113" y="66"/>
                  <a:pt x="112" y="66"/>
                  <a:pt x="112" y="66"/>
                </a:cubicBezTo>
                <a:cubicBezTo>
                  <a:pt x="112" y="66"/>
                  <a:pt x="112" y="66"/>
                  <a:pt x="112" y="66"/>
                </a:cubicBezTo>
                <a:cubicBezTo>
                  <a:pt x="112" y="66"/>
                  <a:pt x="112" y="66"/>
                  <a:pt x="112" y="66"/>
                </a:cubicBezTo>
                <a:cubicBezTo>
                  <a:pt x="111" y="65"/>
                  <a:pt x="111" y="65"/>
                  <a:pt x="110" y="65"/>
                </a:cubicBezTo>
                <a:cubicBezTo>
                  <a:pt x="110" y="65"/>
                  <a:pt x="109" y="65"/>
                  <a:pt x="108" y="65"/>
                </a:cubicBezTo>
                <a:cubicBezTo>
                  <a:pt x="108" y="65"/>
                  <a:pt x="108" y="65"/>
                  <a:pt x="108" y="65"/>
                </a:cubicBezTo>
                <a:cubicBezTo>
                  <a:pt x="108" y="65"/>
                  <a:pt x="108" y="65"/>
                  <a:pt x="108" y="65"/>
                </a:cubicBezTo>
                <a:cubicBezTo>
                  <a:pt x="108" y="65"/>
                  <a:pt x="108" y="65"/>
                  <a:pt x="108" y="65"/>
                </a:cubicBezTo>
                <a:cubicBezTo>
                  <a:pt x="108" y="65"/>
                  <a:pt x="108" y="65"/>
                  <a:pt x="108" y="65"/>
                </a:cubicBezTo>
                <a:cubicBezTo>
                  <a:pt x="107" y="64"/>
                  <a:pt x="107" y="64"/>
                  <a:pt x="107" y="64"/>
                </a:cubicBezTo>
                <a:cubicBezTo>
                  <a:pt x="107" y="64"/>
                  <a:pt x="107" y="64"/>
                  <a:pt x="107" y="64"/>
                </a:cubicBezTo>
                <a:cubicBezTo>
                  <a:pt x="106" y="64"/>
                  <a:pt x="106" y="64"/>
                  <a:pt x="106" y="64"/>
                </a:cubicBezTo>
                <a:cubicBezTo>
                  <a:pt x="106" y="64"/>
                  <a:pt x="106" y="64"/>
                  <a:pt x="106" y="64"/>
                </a:cubicBezTo>
                <a:cubicBezTo>
                  <a:pt x="105" y="64"/>
                  <a:pt x="105" y="64"/>
                  <a:pt x="105" y="64"/>
                </a:cubicBezTo>
                <a:cubicBezTo>
                  <a:pt x="105" y="64"/>
                  <a:pt x="105" y="64"/>
                  <a:pt x="105" y="64"/>
                </a:cubicBezTo>
                <a:cubicBezTo>
                  <a:pt x="104" y="64"/>
                  <a:pt x="104" y="64"/>
                  <a:pt x="104" y="64"/>
                </a:cubicBezTo>
                <a:cubicBezTo>
                  <a:pt x="104" y="64"/>
                  <a:pt x="104" y="64"/>
                  <a:pt x="104" y="64"/>
                </a:cubicBezTo>
                <a:cubicBezTo>
                  <a:pt x="104" y="64"/>
                  <a:pt x="104" y="64"/>
                  <a:pt x="104" y="64"/>
                </a:cubicBezTo>
                <a:cubicBezTo>
                  <a:pt x="104" y="64"/>
                  <a:pt x="104" y="64"/>
                  <a:pt x="104" y="64"/>
                </a:cubicBezTo>
                <a:cubicBezTo>
                  <a:pt x="103" y="64"/>
                  <a:pt x="103" y="64"/>
                  <a:pt x="103" y="64"/>
                </a:cubicBezTo>
                <a:cubicBezTo>
                  <a:pt x="103" y="64"/>
                  <a:pt x="103" y="64"/>
                  <a:pt x="103" y="64"/>
                </a:cubicBezTo>
                <a:cubicBezTo>
                  <a:pt x="102" y="64"/>
                  <a:pt x="102" y="64"/>
                  <a:pt x="102" y="64"/>
                </a:cubicBezTo>
                <a:cubicBezTo>
                  <a:pt x="102" y="63"/>
                  <a:pt x="102" y="63"/>
                  <a:pt x="102" y="63"/>
                </a:cubicBezTo>
                <a:cubicBezTo>
                  <a:pt x="101" y="63"/>
                  <a:pt x="101" y="63"/>
                  <a:pt x="101" y="63"/>
                </a:cubicBezTo>
                <a:cubicBezTo>
                  <a:pt x="101" y="63"/>
                  <a:pt x="101" y="63"/>
                  <a:pt x="101" y="63"/>
                </a:cubicBezTo>
                <a:cubicBezTo>
                  <a:pt x="100" y="63"/>
                  <a:pt x="100" y="63"/>
                  <a:pt x="100" y="63"/>
                </a:cubicBezTo>
                <a:cubicBezTo>
                  <a:pt x="100" y="63"/>
                  <a:pt x="100" y="63"/>
                  <a:pt x="100" y="63"/>
                </a:cubicBezTo>
                <a:cubicBezTo>
                  <a:pt x="99" y="63"/>
                  <a:pt x="99" y="63"/>
                  <a:pt x="99" y="63"/>
                </a:cubicBezTo>
                <a:cubicBezTo>
                  <a:pt x="99" y="63"/>
                  <a:pt x="99" y="63"/>
                  <a:pt x="99" y="63"/>
                </a:cubicBezTo>
                <a:cubicBezTo>
                  <a:pt x="98" y="63"/>
                  <a:pt x="98" y="63"/>
                  <a:pt x="98" y="63"/>
                </a:cubicBezTo>
                <a:cubicBezTo>
                  <a:pt x="98" y="63"/>
                  <a:pt x="98" y="63"/>
                  <a:pt x="98" y="63"/>
                </a:cubicBezTo>
                <a:cubicBezTo>
                  <a:pt x="97" y="63"/>
                  <a:pt x="97" y="63"/>
                  <a:pt x="97" y="63"/>
                </a:cubicBezTo>
                <a:cubicBezTo>
                  <a:pt x="96" y="63"/>
                  <a:pt x="96" y="63"/>
                  <a:pt x="96" y="63"/>
                </a:cubicBezTo>
                <a:cubicBezTo>
                  <a:pt x="96" y="63"/>
                  <a:pt x="96" y="63"/>
                  <a:pt x="96" y="63"/>
                </a:cubicBezTo>
                <a:cubicBezTo>
                  <a:pt x="95" y="63"/>
                  <a:pt x="95" y="63"/>
                  <a:pt x="95" y="63"/>
                </a:cubicBezTo>
                <a:cubicBezTo>
                  <a:pt x="95" y="63"/>
                  <a:pt x="95" y="63"/>
                  <a:pt x="95" y="63"/>
                </a:cubicBezTo>
                <a:cubicBezTo>
                  <a:pt x="95" y="63"/>
                  <a:pt x="95" y="63"/>
                  <a:pt x="95" y="63"/>
                </a:cubicBezTo>
                <a:cubicBezTo>
                  <a:pt x="94" y="63"/>
                  <a:pt x="94" y="63"/>
                  <a:pt x="94" y="63"/>
                </a:cubicBezTo>
                <a:cubicBezTo>
                  <a:pt x="94" y="63"/>
                  <a:pt x="94" y="63"/>
                  <a:pt x="94" y="63"/>
                </a:cubicBezTo>
                <a:cubicBezTo>
                  <a:pt x="93" y="63"/>
                  <a:pt x="93" y="63"/>
                  <a:pt x="93" y="63"/>
                </a:cubicBezTo>
                <a:cubicBezTo>
                  <a:pt x="92" y="63"/>
                  <a:pt x="92" y="63"/>
                  <a:pt x="92" y="63"/>
                </a:cubicBezTo>
                <a:cubicBezTo>
                  <a:pt x="91" y="63"/>
                  <a:pt x="91" y="63"/>
                  <a:pt x="91" y="63"/>
                </a:cubicBezTo>
                <a:cubicBezTo>
                  <a:pt x="91" y="63"/>
                  <a:pt x="91" y="63"/>
                  <a:pt x="91" y="63"/>
                </a:cubicBezTo>
                <a:cubicBezTo>
                  <a:pt x="90" y="63"/>
                  <a:pt x="90" y="63"/>
                  <a:pt x="90" y="63"/>
                </a:cubicBezTo>
                <a:cubicBezTo>
                  <a:pt x="89" y="63"/>
                  <a:pt x="89" y="63"/>
                  <a:pt x="89" y="63"/>
                </a:cubicBezTo>
                <a:cubicBezTo>
                  <a:pt x="88" y="63"/>
                  <a:pt x="88" y="63"/>
                  <a:pt x="88" y="63"/>
                </a:cubicBezTo>
                <a:cubicBezTo>
                  <a:pt x="87" y="63"/>
                  <a:pt x="87" y="63"/>
                  <a:pt x="87" y="63"/>
                </a:cubicBezTo>
                <a:cubicBezTo>
                  <a:pt x="86" y="63"/>
                  <a:pt x="86" y="63"/>
                  <a:pt x="86" y="63"/>
                </a:cubicBezTo>
                <a:cubicBezTo>
                  <a:pt x="86" y="63"/>
                  <a:pt x="85" y="62"/>
                  <a:pt x="85" y="62"/>
                </a:cubicBezTo>
                <a:cubicBezTo>
                  <a:pt x="84" y="62"/>
                  <a:pt x="84" y="62"/>
                  <a:pt x="84" y="62"/>
                </a:cubicBezTo>
                <a:cubicBezTo>
                  <a:pt x="84" y="62"/>
                  <a:pt x="84" y="62"/>
                  <a:pt x="84" y="62"/>
                </a:cubicBezTo>
                <a:cubicBezTo>
                  <a:pt x="84" y="62"/>
                  <a:pt x="84" y="62"/>
                  <a:pt x="84" y="62"/>
                </a:cubicBezTo>
                <a:cubicBezTo>
                  <a:pt x="84" y="62"/>
                  <a:pt x="83" y="62"/>
                  <a:pt x="83" y="62"/>
                </a:cubicBezTo>
                <a:cubicBezTo>
                  <a:pt x="82" y="62"/>
                  <a:pt x="82" y="62"/>
                  <a:pt x="82" y="62"/>
                </a:cubicBezTo>
                <a:cubicBezTo>
                  <a:pt x="81" y="62"/>
                  <a:pt x="81" y="62"/>
                  <a:pt x="81" y="62"/>
                </a:cubicBezTo>
                <a:cubicBezTo>
                  <a:pt x="80" y="62"/>
                  <a:pt x="80" y="62"/>
                  <a:pt x="80" y="62"/>
                </a:cubicBezTo>
                <a:cubicBezTo>
                  <a:pt x="79" y="63"/>
                  <a:pt x="79" y="63"/>
                  <a:pt x="79" y="63"/>
                </a:cubicBezTo>
                <a:cubicBezTo>
                  <a:pt x="78" y="63"/>
                  <a:pt x="78" y="63"/>
                  <a:pt x="78" y="63"/>
                </a:cubicBezTo>
                <a:cubicBezTo>
                  <a:pt x="78" y="63"/>
                  <a:pt x="78" y="63"/>
                  <a:pt x="78" y="63"/>
                </a:cubicBezTo>
                <a:cubicBezTo>
                  <a:pt x="77" y="63"/>
                  <a:pt x="77" y="63"/>
                  <a:pt x="77" y="63"/>
                </a:cubicBezTo>
                <a:cubicBezTo>
                  <a:pt x="76" y="63"/>
                  <a:pt x="76" y="63"/>
                  <a:pt x="76" y="63"/>
                </a:cubicBezTo>
                <a:cubicBezTo>
                  <a:pt x="76" y="63"/>
                  <a:pt x="76" y="63"/>
                  <a:pt x="76" y="63"/>
                </a:cubicBezTo>
                <a:cubicBezTo>
                  <a:pt x="75" y="63"/>
                  <a:pt x="74" y="63"/>
                  <a:pt x="74" y="63"/>
                </a:cubicBezTo>
                <a:cubicBezTo>
                  <a:pt x="73" y="63"/>
                  <a:pt x="72" y="63"/>
                  <a:pt x="72" y="63"/>
                </a:cubicBezTo>
                <a:cubicBezTo>
                  <a:pt x="71" y="63"/>
                  <a:pt x="70" y="63"/>
                  <a:pt x="70" y="63"/>
                </a:cubicBezTo>
                <a:cubicBezTo>
                  <a:pt x="69" y="63"/>
                  <a:pt x="69" y="63"/>
                  <a:pt x="69" y="63"/>
                </a:cubicBezTo>
                <a:cubicBezTo>
                  <a:pt x="69" y="63"/>
                  <a:pt x="69" y="63"/>
                  <a:pt x="69" y="63"/>
                </a:cubicBezTo>
                <a:cubicBezTo>
                  <a:pt x="69" y="63"/>
                  <a:pt x="69" y="63"/>
                  <a:pt x="69" y="63"/>
                </a:cubicBezTo>
                <a:cubicBezTo>
                  <a:pt x="68" y="63"/>
                  <a:pt x="68" y="63"/>
                  <a:pt x="68" y="63"/>
                </a:cubicBezTo>
                <a:cubicBezTo>
                  <a:pt x="66" y="63"/>
                  <a:pt x="65" y="63"/>
                  <a:pt x="64" y="63"/>
                </a:cubicBezTo>
                <a:cubicBezTo>
                  <a:pt x="62" y="63"/>
                  <a:pt x="61" y="63"/>
                  <a:pt x="60" y="63"/>
                </a:cubicBezTo>
                <a:cubicBezTo>
                  <a:pt x="60" y="63"/>
                  <a:pt x="60" y="63"/>
                  <a:pt x="60" y="63"/>
                </a:cubicBezTo>
                <a:cubicBezTo>
                  <a:pt x="59" y="63"/>
                  <a:pt x="59" y="63"/>
                  <a:pt x="59" y="63"/>
                </a:cubicBezTo>
                <a:cubicBezTo>
                  <a:pt x="59" y="63"/>
                  <a:pt x="58" y="63"/>
                  <a:pt x="58" y="63"/>
                </a:cubicBezTo>
                <a:cubicBezTo>
                  <a:pt x="57" y="63"/>
                  <a:pt x="57" y="63"/>
                  <a:pt x="56" y="63"/>
                </a:cubicBezTo>
                <a:cubicBezTo>
                  <a:pt x="56" y="63"/>
                  <a:pt x="56" y="63"/>
                  <a:pt x="56" y="63"/>
                </a:cubicBezTo>
                <a:cubicBezTo>
                  <a:pt x="55" y="63"/>
                  <a:pt x="55" y="64"/>
                  <a:pt x="54" y="64"/>
                </a:cubicBezTo>
                <a:cubicBezTo>
                  <a:pt x="54" y="64"/>
                  <a:pt x="53" y="64"/>
                  <a:pt x="52" y="64"/>
                </a:cubicBezTo>
                <a:cubicBezTo>
                  <a:pt x="52" y="64"/>
                  <a:pt x="51" y="64"/>
                  <a:pt x="50" y="64"/>
                </a:cubicBezTo>
                <a:cubicBezTo>
                  <a:pt x="49" y="64"/>
                  <a:pt x="49" y="64"/>
                  <a:pt x="48" y="64"/>
                </a:cubicBezTo>
                <a:cubicBezTo>
                  <a:pt x="46" y="64"/>
                  <a:pt x="45" y="64"/>
                  <a:pt x="43" y="64"/>
                </a:cubicBezTo>
                <a:cubicBezTo>
                  <a:pt x="43" y="64"/>
                  <a:pt x="43" y="64"/>
                  <a:pt x="43" y="64"/>
                </a:cubicBezTo>
                <a:cubicBezTo>
                  <a:pt x="43" y="64"/>
                  <a:pt x="43" y="64"/>
                  <a:pt x="43" y="64"/>
                </a:cubicBezTo>
                <a:cubicBezTo>
                  <a:pt x="43" y="64"/>
                  <a:pt x="43" y="64"/>
                  <a:pt x="43" y="64"/>
                </a:cubicBezTo>
                <a:cubicBezTo>
                  <a:pt x="43" y="64"/>
                  <a:pt x="43" y="64"/>
                  <a:pt x="43" y="64"/>
                </a:cubicBezTo>
                <a:cubicBezTo>
                  <a:pt x="42" y="64"/>
                  <a:pt x="41" y="64"/>
                  <a:pt x="40" y="64"/>
                </a:cubicBezTo>
                <a:cubicBezTo>
                  <a:pt x="40" y="64"/>
                  <a:pt x="40" y="64"/>
                  <a:pt x="40" y="64"/>
                </a:cubicBezTo>
                <a:cubicBezTo>
                  <a:pt x="39" y="64"/>
                  <a:pt x="38" y="65"/>
                  <a:pt x="37" y="65"/>
                </a:cubicBezTo>
                <a:cubicBezTo>
                  <a:pt x="37" y="65"/>
                  <a:pt x="37" y="65"/>
                  <a:pt x="37" y="65"/>
                </a:cubicBezTo>
                <a:cubicBezTo>
                  <a:pt x="36" y="65"/>
                  <a:pt x="34" y="65"/>
                  <a:pt x="33" y="65"/>
                </a:cubicBezTo>
                <a:cubicBezTo>
                  <a:pt x="32" y="65"/>
                  <a:pt x="31" y="65"/>
                  <a:pt x="30" y="65"/>
                </a:cubicBezTo>
                <a:cubicBezTo>
                  <a:pt x="27" y="65"/>
                  <a:pt x="24" y="65"/>
                  <a:pt x="21" y="65"/>
                </a:cubicBezTo>
                <a:cubicBezTo>
                  <a:pt x="21" y="65"/>
                  <a:pt x="21" y="65"/>
                  <a:pt x="21" y="65"/>
                </a:cubicBezTo>
                <a:cubicBezTo>
                  <a:pt x="20" y="65"/>
                  <a:pt x="18" y="64"/>
                  <a:pt x="17" y="64"/>
                </a:cubicBezTo>
                <a:cubicBezTo>
                  <a:pt x="17" y="64"/>
                  <a:pt x="17" y="64"/>
                  <a:pt x="17" y="64"/>
                </a:cubicBezTo>
                <a:cubicBezTo>
                  <a:pt x="16" y="64"/>
                  <a:pt x="14" y="64"/>
                  <a:pt x="13" y="64"/>
                </a:cubicBezTo>
                <a:cubicBezTo>
                  <a:pt x="12" y="64"/>
                  <a:pt x="11" y="64"/>
                  <a:pt x="10" y="63"/>
                </a:cubicBezTo>
                <a:cubicBezTo>
                  <a:pt x="10" y="63"/>
                  <a:pt x="10" y="63"/>
                  <a:pt x="10" y="63"/>
                </a:cubicBezTo>
                <a:cubicBezTo>
                  <a:pt x="9" y="63"/>
                  <a:pt x="8" y="63"/>
                  <a:pt x="7" y="62"/>
                </a:cubicBezTo>
                <a:cubicBezTo>
                  <a:pt x="6" y="62"/>
                  <a:pt x="6" y="62"/>
                  <a:pt x="6" y="62"/>
                </a:cubicBezTo>
                <a:cubicBezTo>
                  <a:pt x="5" y="62"/>
                  <a:pt x="5" y="62"/>
                  <a:pt x="4" y="61"/>
                </a:cubicBezTo>
                <a:cubicBezTo>
                  <a:pt x="3" y="61"/>
                  <a:pt x="3" y="61"/>
                  <a:pt x="3" y="61"/>
                </a:cubicBezTo>
                <a:cubicBezTo>
                  <a:pt x="3" y="61"/>
                  <a:pt x="2" y="61"/>
                  <a:pt x="1" y="60"/>
                </a:cubicBezTo>
                <a:cubicBezTo>
                  <a:pt x="1" y="59"/>
                  <a:pt x="1" y="59"/>
                  <a:pt x="1" y="59"/>
                </a:cubicBezTo>
                <a:cubicBezTo>
                  <a:pt x="0" y="59"/>
                  <a:pt x="0" y="59"/>
                  <a:pt x="0" y="59"/>
                </a:cubicBezTo>
                <a:cubicBezTo>
                  <a:pt x="0" y="58"/>
                  <a:pt x="0" y="58"/>
                  <a:pt x="0" y="58"/>
                </a:cubicBezTo>
                <a:cubicBezTo>
                  <a:pt x="0" y="57"/>
                  <a:pt x="0" y="57"/>
                  <a:pt x="0" y="56"/>
                </a:cubicBezTo>
                <a:cubicBezTo>
                  <a:pt x="1" y="97"/>
                  <a:pt x="1" y="138"/>
                  <a:pt x="2" y="178"/>
                </a:cubicBezTo>
                <a:cubicBezTo>
                  <a:pt x="2" y="179"/>
                  <a:pt x="2" y="179"/>
                  <a:pt x="2" y="180"/>
                </a:cubicBezTo>
                <a:cubicBezTo>
                  <a:pt x="2" y="180"/>
                  <a:pt x="2" y="180"/>
                  <a:pt x="2" y="181"/>
                </a:cubicBezTo>
                <a:cubicBezTo>
                  <a:pt x="3" y="182"/>
                  <a:pt x="3" y="182"/>
                  <a:pt x="3" y="182"/>
                </a:cubicBezTo>
                <a:cubicBezTo>
                  <a:pt x="3" y="182"/>
                  <a:pt x="3" y="182"/>
                  <a:pt x="3" y="182"/>
                </a:cubicBezTo>
                <a:cubicBezTo>
                  <a:pt x="4" y="183"/>
                  <a:pt x="4" y="183"/>
                  <a:pt x="4" y="183"/>
                </a:cubicBezTo>
                <a:cubicBezTo>
                  <a:pt x="4" y="200"/>
                  <a:pt x="5" y="217"/>
                  <a:pt x="5" y="235"/>
                </a:cubicBezTo>
                <a:cubicBezTo>
                  <a:pt x="5" y="236"/>
                  <a:pt x="5" y="237"/>
                  <a:pt x="6" y="238"/>
                </a:cubicBezTo>
                <a:cubicBezTo>
                  <a:pt x="6" y="239"/>
                  <a:pt x="6" y="240"/>
                  <a:pt x="7" y="242"/>
                </a:cubicBezTo>
                <a:cubicBezTo>
                  <a:pt x="7" y="243"/>
                  <a:pt x="8" y="245"/>
                  <a:pt x="8" y="246"/>
                </a:cubicBezTo>
                <a:cubicBezTo>
                  <a:pt x="9" y="248"/>
                  <a:pt x="10" y="249"/>
                  <a:pt x="10" y="251"/>
                </a:cubicBezTo>
                <a:cubicBezTo>
                  <a:pt x="12" y="254"/>
                  <a:pt x="14" y="257"/>
                  <a:pt x="15" y="260"/>
                </a:cubicBezTo>
                <a:cubicBezTo>
                  <a:pt x="17" y="263"/>
                  <a:pt x="19" y="265"/>
                  <a:pt x="20" y="267"/>
                </a:cubicBezTo>
                <a:cubicBezTo>
                  <a:pt x="22" y="269"/>
                  <a:pt x="23" y="271"/>
                  <a:pt x="24" y="272"/>
                </a:cubicBezTo>
                <a:cubicBezTo>
                  <a:pt x="25" y="273"/>
                  <a:pt x="26" y="274"/>
                  <a:pt x="26" y="274"/>
                </a:cubicBezTo>
                <a:cubicBezTo>
                  <a:pt x="26" y="274"/>
                  <a:pt x="26" y="274"/>
                  <a:pt x="26" y="274"/>
                </a:cubicBezTo>
                <a:cubicBezTo>
                  <a:pt x="26" y="274"/>
                  <a:pt x="26" y="274"/>
                  <a:pt x="26" y="274"/>
                </a:cubicBezTo>
                <a:cubicBezTo>
                  <a:pt x="26" y="274"/>
                  <a:pt x="26" y="274"/>
                  <a:pt x="26" y="274"/>
                </a:cubicBezTo>
                <a:cubicBezTo>
                  <a:pt x="26" y="274"/>
                  <a:pt x="26" y="274"/>
                  <a:pt x="26" y="274"/>
                </a:cubicBezTo>
                <a:cubicBezTo>
                  <a:pt x="27" y="275"/>
                  <a:pt x="27" y="275"/>
                  <a:pt x="27" y="275"/>
                </a:cubicBezTo>
                <a:cubicBezTo>
                  <a:pt x="27" y="275"/>
                  <a:pt x="27" y="275"/>
                  <a:pt x="27" y="275"/>
                </a:cubicBezTo>
                <a:cubicBezTo>
                  <a:pt x="27" y="275"/>
                  <a:pt x="27" y="275"/>
                  <a:pt x="27" y="275"/>
                </a:cubicBezTo>
                <a:cubicBezTo>
                  <a:pt x="27" y="275"/>
                  <a:pt x="27" y="275"/>
                  <a:pt x="27" y="275"/>
                </a:cubicBezTo>
                <a:cubicBezTo>
                  <a:pt x="27" y="275"/>
                  <a:pt x="27" y="275"/>
                  <a:pt x="27" y="275"/>
                </a:cubicBezTo>
                <a:cubicBezTo>
                  <a:pt x="28" y="275"/>
                  <a:pt x="28" y="275"/>
                  <a:pt x="28" y="275"/>
                </a:cubicBezTo>
                <a:cubicBezTo>
                  <a:pt x="28" y="275"/>
                  <a:pt x="28" y="275"/>
                  <a:pt x="28" y="275"/>
                </a:cubicBezTo>
                <a:cubicBezTo>
                  <a:pt x="28" y="275"/>
                  <a:pt x="28" y="275"/>
                  <a:pt x="28" y="275"/>
                </a:cubicBezTo>
                <a:cubicBezTo>
                  <a:pt x="29" y="276"/>
                  <a:pt x="29" y="276"/>
                  <a:pt x="29" y="276"/>
                </a:cubicBezTo>
                <a:cubicBezTo>
                  <a:pt x="29" y="276"/>
                  <a:pt x="29" y="276"/>
                  <a:pt x="29" y="276"/>
                </a:cubicBezTo>
                <a:cubicBezTo>
                  <a:pt x="30" y="276"/>
                  <a:pt x="30" y="276"/>
                  <a:pt x="30" y="276"/>
                </a:cubicBezTo>
                <a:cubicBezTo>
                  <a:pt x="30" y="276"/>
                  <a:pt x="30" y="276"/>
                  <a:pt x="30" y="276"/>
                </a:cubicBezTo>
                <a:cubicBezTo>
                  <a:pt x="30" y="276"/>
                  <a:pt x="30" y="276"/>
                  <a:pt x="30" y="276"/>
                </a:cubicBezTo>
                <a:cubicBezTo>
                  <a:pt x="31" y="276"/>
                  <a:pt x="31" y="276"/>
                  <a:pt x="31" y="276"/>
                </a:cubicBezTo>
                <a:cubicBezTo>
                  <a:pt x="31" y="276"/>
                  <a:pt x="31" y="276"/>
                  <a:pt x="31" y="276"/>
                </a:cubicBezTo>
                <a:cubicBezTo>
                  <a:pt x="32" y="276"/>
                  <a:pt x="32" y="276"/>
                  <a:pt x="32" y="276"/>
                </a:cubicBezTo>
                <a:cubicBezTo>
                  <a:pt x="32" y="277"/>
                  <a:pt x="32" y="277"/>
                  <a:pt x="32" y="277"/>
                </a:cubicBezTo>
                <a:cubicBezTo>
                  <a:pt x="32" y="277"/>
                  <a:pt x="32" y="277"/>
                  <a:pt x="32" y="277"/>
                </a:cubicBezTo>
                <a:cubicBezTo>
                  <a:pt x="32" y="277"/>
                  <a:pt x="32" y="277"/>
                  <a:pt x="32" y="277"/>
                </a:cubicBezTo>
                <a:cubicBezTo>
                  <a:pt x="32" y="277"/>
                  <a:pt x="32" y="277"/>
                  <a:pt x="32" y="277"/>
                </a:cubicBezTo>
                <a:cubicBezTo>
                  <a:pt x="33" y="277"/>
                  <a:pt x="33" y="277"/>
                  <a:pt x="33" y="277"/>
                </a:cubicBezTo>
                <a:cubicBezTo>
                  <a:pt x="33" y="277"/>
                  <a:pt x="33" y="277"/>
                  <a:pt x="33" y="277"/>
                </a:cubicBezTo>
                <a:cubicBezTo>
                  <a:pt x="33" y="277"/>
                  <a:pt x="33" y="277"/>
                  <a:pt x="33" y="277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5" y="277"/>
                  <a:pt x="35" y="277"/>
                  <a:pt x="35" y="277"/>
                </a:cubicBezTo>
                <a:cubicBezTo>
                  <a:pt x="35" y="277"/>
                  <a:pt x="35" y="277"/>
                  <a:pt x="35" y="277"/>
                </a:cubicBezTo>
                <a:cubicBezTo>
                  <a:pt x="36" y="277"/>
                  <a:pt x="36" y="277"/>
                  <a:pt x="36" y="277"/>
                </a:cubicBezTo>
                <a:cubicBezTo>
                  <a:pt x="36" y="277"/>
                  <a:pt x="36" y="277"/>
                  <a:pt x="36" y="277"/>
                </a:cubicBezTo>
                <a:cubicBezTo>
                  <a:pt x="36" y="277"/>
                  <a:pt x="36" y="277"/>
                  <a:pt x="36" y="277"/>
                </a:cubicBezTo>
                <a:cubicBezTo>
                  <a:pt x="37" y="277"/>
                  <a:pt x="37" y="277"/>
                  <a:pt x="37" y="277"/>
                </a:cubicBezTo>
                <a:cubicBezTo>
                  <a:pt x="37" y="277"/>
                  <a:pt x="37" y="277"/>
                  <a:pt x="37" y="277"/>
                </a:cubicBezTo>
                <a:cubicBezTo>
                  <a:pt x="37" y="277"/>
                  <a:pt x="37" y="277"/>
                  <a:pt x="37" y="277"/>
                </a:cubicBezTo>
                <a:cubicBezTo>
                  <a:pt x="38" y="277"/>
                  <a:pt x="38" y="277"/>
                  <a:pt x="38" y="277"/>
                </a:cubicBezTo>
                <a:cubicBezTo>
                  <a:pt x="38" y="277"/>
                  <a:pt x="38" y="277"/>
                  <a:pt x="38" y="277"/>
                </a:cubicBezTo>
                <a:cubicBezTo>
                  <a:pt x="39" y="278"/>
                  <a:pt x="39" y="278"/>
                  <a:pt x="39" y="278"/>
                </a:cubicBezTo>
                <a:cubicBezTo>
                  <a:pt x="39" y="278"/>
                  <a:pt x="39" y="278"/>
                  <a:pt x="39" y="278"/>
                </a:cubicBezTo>
                <a:cubicBezTo>
                  <a:pt x="39" y="278"/>
                  <a:pt x="39" y="278"/>
                  <a:pt x="39" y="278"/>
                </a:cubicBezTo>
                <a:cubicBezTo>
                  <a:pt x="39" y="278"/>
                  <a:pt x="39" y="278"/>
                  <a:pt x="39" y="278"/>
                </a:cubicBezTo>
                <a:cubicBezTo>
                  <a:pt x="39" y="278"/>
                  <a:pt x="39" y="278"/>
                  <a:pt x="39" y="278"/>
                </a:cubicBezTo>
                <a:cubicBezTo>
                  <a:pt x="40" y="278"/>
                  <a:pt x="40" y="278"/>
                  <a:pt x="40" y="278"/>
                </a:cubicBezTo>
                <a:cubicBezTo>
                  <a:pt x="40" y="278"/>
                  <a:pt x="40" y="278"/>
                  <a:pt x="40" y="278"/>
                </a:cubicBezTo>
                <a:cubicBezTo>
                  <a:pt x="41" y="278"/>
                  <a:pt x="41" y="278"/>
                  <a:pt x="41" y="278"/>
                </a:cubicBezTo>
                <a:cubicBezTo>
                  <a:pt x="42" y="278"/>
                  <a:pt x="42" y="278"/>
                  <a:pt x="42" y="278"/>
                </a:cubicBezTo>
                <a:cubicBezTo>
                  <a:pt x="42" y="278"/>
                  <a:pt x="42" y="278"/>
                  <a:pt x="42" y="278"/>
                </a:cubicBezTo>
                <a:cubicBezTo>
                  <a:pt x="43" y="278"/>
                  <a:pt x="43" y="278"/>
                  <a:pt x="43" y="278"/>
                </a:cubicBezTo>
                <a:cubicBezTo>
                  <a:pt x="43" y="278"/>
                  <a:pt x="43" y="278"/>
                  <a:pt x="43" y="278"/>
                </a:cubicBezTo>
                <a:cubicBezTo>
                  <a:pt x="43" y="278"/>
                  <a:pt x="43" y="278"/>
                  <a:pt x="43" y="278"/>
                </a:cubicBezTo>
                <a:cubicBezTo>
                  <a:pt x="44" y="278"/>
                  <a:pt x="44" y="278"/>
                  <a:pt x="44" y="278"/>
                </a:cubicBezTo>
                <a:cubicBezTo>
                  <a:pt x="44" y="278"/>
                  <a:pt x="44" y="278"/>
                  <a:pt x="44" y="278"/>
                </a:cubicBezTo>
                <a:cubicBezTo>
                  <a:pt x="45" y="278"/>
                  <a:pt x="45" y="278"/>
                  <a:pt x="45" y="278"/>
                </a:cubicBezTo>
                <a:cubicBezTo>
                  <a:pt x="46" y="278"/>
                  <a:pt x="46" y="278"/>
                  <a:pt x="46" y="278"/>
                </a:cubicBezTo>
                <a:cubicBezTo>
                  <a:pt x="47" y="278"/>
                  <a:pt x="47" y="278"/>
                  <a:pt x="47" y="278"/>
                </a:cubicBezTo>
                <a:cubicBezTo>
                  <a:pt x="48" y="278"/>
                  <a:pt x="48" y="278"/>
                  <a:pt x="48" y="278"/>
                </a:cubicBezTo>
                <a:cubicBezTo>
                  <a:pt x="49" y="278"/>
                  <a:pt x="49" y="278"/>
                  <a:pt x="49" y="278"/>
                </a:cubicBezTo>
                <a:cubicBezTo>
                  <a:pt x="49" y="278"/>
                  <a:pt x="50" y="278"/>
                  <a:pt x="50" y="278"/>
                </a:cubicBezTo>
                <a:cubicBezTo>
                  <a:pt x="50" y="278"/>
                  <a:pt x="51" y="278"/>
                  <a:pt x="51" y="278"/>
                </a:cubicBezTo>
                <a:cubicBezTo>
                  <a:pt x="51" y="278"/>
                  <a:pt x="51" y="278"/>
                  <a:pt x="51" y="278"/>
                </a:cubicBezTo>
                <a:cubicBezTo>
                  <a:pt x="52" y="278"/>
                  <a:pt x="52" y="278"/>
                  <a:pt x="52" y="278"/>
                </a:cubicBezTo>
                <a:cubicBezTo>
                  <a:pt x="52" y="278"/>
                  <a:pt x="52" y="278"/>
                  <a:pt x="52" y="278"/>
                </a:cubicBezTo>
                <a:cubicBezTo>
                  <a:pt x="53" y="278"/>
                  <a:pt x="53" y="278"/>
                  <a:pt x="53" y="278"/>
                </a:cubicBezTo>
                <a:cubicBezTo>
                  <a:pt x="54" y="278"/>
                  <a:pt x="54" y="278"/>
                  <a:pt x="54" y="278"/>
                </a:cubicBezTo>
                <a:cubicBezTo>
                  <a:pt x="55" y="278"/>
                  <a:pt x="55" y="278"/>
                  <a:pt x="55" y="278"/>
                </a:cubicBezTo>
                <a:cubicBezTo>
                  <a:pt x="56" y="278"/>
                  <a:pt x="56" y="278"/>
                  <a:pt x="56" y="278"/>
                </a:cubicBezTo>
                <a:cubicBezTo>
                  <a:pt x="57" y="278"/>
                  <a:pt x="57" y="278"/>
                  <a:pt x="57" y="278"/>
                </a:cubicBezTo>
                <a:cubicBezTo>
                  <a:pt x="57" y="278"/>
                  <a:pt x="57" y="278"/>
                  <a:pt x="57" y="278"/>
                </a:cubicBezTo>
                <a:cubicBezTo>
                  <a:pt x="58" y="278"/>
                  <a:pt x="58" y="278"/>
                  <a:pt x="58" y="278"/>
                </a:cubicBezTo>
                <a:cubicBezTo>
                  <a:pt x="58" y="278"/>
                  <a:pt x="58" y="278"/>
                  <a:pt x="58" y="278"/>
                </a:cubicBezTo>
                <a:cubicBezTo>
                  <a:pt x="58" y="278"/>
                  <a:pt x="58" y="278"/>
                  <a:pt x="58" y="278"/>
                </a:cubicBezTo>
                <a:cubicBezTo>
                  <a:pt x="59" y="278"/>
                  <a:pt x="59" y="278"/>
                  <a:pt x="59" y="278"/>
                </a:cubicBezTo>
                <a:cubicBezTo>
                  <a:pt x="60" y="278"/>
                  <a:pt x="62" y="278"/>
                  <a:pt x="63" y="278"/>
                </a:cubicBezTo>
                <a:cubicBezTo>
                  <a:pt x="64" y="278"/>
                  <a:pt x="64" y="278"/>
                  <a:pt x="64" y="278"/>
                </a:cubicBezTo>
                <a:cubicBezTo>
                  <a:pt x="65" y="278"/>
                  <a:pt x="66" y="278"/>
                  <a:pt x="67" y="278"/>
                </a:cubicBezTo>
                <a:cubicBezTo>
                  <a:pt x="68" y="278"/>
                  <a:pt x="68" y="278"/>
                  <a:pt x="69" y="278"/>
                </a:cubicBezTo>
                <a:cubicBezTo>
                  <a:pt x="72" y="278"/>
                  <a:pt x="75" y="278"/>
                  <a:pt x="78" y="277"/>
                </a:cubicBezTo>
                <a:close/>
              </a:path>
            </a:pathLst>
          </a:custGeom>
          <a:gradFill rotWithShape="0">
            <a:gsLst>
              <a:gs pos="0">
                <a:srgbClr val="292929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Freeform 11"/>
          <p:cNvSpPr/>
          <p:nvPr/>
        </p:nvSpPr>
        <p:spPr>
          <a:xfrm flipH="1">
            <a:off x="5811840" y="3092400"/>
            <a:ext cx="15840" cy="223920"/>
          </a:xfrm>
          <a:custGeom>
            <a:avLst/>
            <a:gdLst/>
            <a:ahLst/>
            <a:rect l="l" t="t" r="r" b="b"/>
            <a:pathLst>
              <a:path w="10" h="152">
                <a:moveTo>
                  <a:pt x="2" y="14"/>
                </a:moveTo>
                <a:cubicBezTo>
                  <a:pt x="2" y="13"/>
                  <a:pt x="2" y="11"/>
                  <a:pt x="1" y="10"/>
                </a:cubicBezTo>
                <a:cubicBezTo>
                  <a:pt x="1" y="8"/>
                  <a:pt x="1" y="6"/>
                  <a:pt x="0" y="5"/>
                </a:cubicBezTo>
                <a:cubicBezTo>
                  <a:pt x="0" y="3"/>
                  <a:pt x="0" y="2"/>
                  <a:pt x="0" y="0"/>
                </a:cubicBezTo>
                <a:cubicBezTo>
                  <a:pt x="6" y="132"/>
                  <a:pt x="6" y="132"/>
                  <a:pt x="6" y="132"/>
                </a:cubicBezTo>
                <a:cubicBezTo>
                  <a:pt x="6" y="133"/>
                  <a:pt x="7" y="135"/>
                  <a:pt x="7" y="137"/>
                </a:cubicBezTo>
                <a:cubicBezTo>
                  <a:pt x="7" y="139"/>
                  <a:pt x="8" y="140"/>
                  <a:pt x="8" y="142"/>
                </a:cubicBezTo>
                <a:cubicBezTo>
                  <a:pt x="9" y="144"/>
                  <a:pt x="9" y="146"/>
                  <a:pt x="9" y="147"/>
                </a:cubicBezTo>
                <a:cubicBezTo>
                  <a:pt x="10" y="149"/>
                  <a:pt x="10" y="150"/>
                  <a:pt x="10" y="152"/>
                </a:cubicBezTo>
                <a:cubicBezTo>
                  <a:pt x="8" y="107"/>
                  <a:pt x="5" y="63"/>
                  <a:pt x="3" y="18"/>
                </a:cubicBezTo>
                <a:cubicBezTo>
                  <a:pt x="3" y="17"/>
                  <a:pt x="3" y="16"/>
                  <a:pt x="2" y="1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Freeform 12"/>
          <p:cNvSpPr/>
          <p:nvPr/>
        </p:nvSpPr>
        <p:spPr>
          <a:xfrm flipH="1">
            <a:off x="5330880" y="3067200"/>
            <a:ext cx="1154160" cy="500040"/>
          </a:xfrm>
          <a:custGeom>
            <a:avLst/>
            <a:gdLst/>
            <a:ahLst/>
            <a:rect l="l" t="t" r="r" b="b"/>
            <a:pathLst>
              <a:path w="781" h="337">
                <a:moveTo>
                  <a:pt x="781" y="217"/>
                </a:moveTo>
                <a:cubicBezTo>
                  <a:pt x="778" y="79"/>
                  <a:pt x="778" y="79"/>
                  <a:pt x="778" y="79"/>
                </a:cubicBezTo>
                <a:cubicBezTo>
                  <a:pt x="778" y="80"/>
                  <a:pt x="778" y="81"/>
                  <a:pt x="778" y="81"/>
                </a:cubicBezTo>
                <a:cubicBezTo>
                  <a:pt x="778" y="81"/>
                  <a:pt x="778" y="81"/>
                  <a:pt x="778" y="81"/>
                </a:cubicBezTo>
                <a:cubicBezTo>
                  <a:pt x="777" y="82"/>
                  <a:pt x="777" y="83"/>
                  <a:pt x="777" y="84"/>
                </a:cubicBezTo>
                <a:cubicBezTo>
                  <a:pt x="776" y="84"/>
                  <a:pt x="776" y="85"/>
                  <a:pt x="775" y="86"/>
                </a:cubicBezTo>
                <a:cubicBezTo>
                  <a:pt x="775" y="86"/>
                  <a:pt x="775" y="86"/>
                  <a:pt x="775" y="86"/>
                </a:cubicBezTo>
                <a:cubicBezTo>
                  <a:pt x="774" y="86"/>
                  <a:pt x="774" y="87"/>
                  <a:pt x="773" y="88"/>
                </a:cubicBezTo>
                <a:cubicBezTo>
                  <a:pt x="773" y="88"/>
                  <a:pt x="773" y="88"/>
                  <a:pt x="773" y="88"/>
                </a:cubicBezTo>
                <a:cubicBezTo>
                  <a:pt x="772" y="89"/>
                  <a:pt x="771" y="89"/>
                  <a:pt x="770" y="90"/>
                </a:cubicBezTo>
                <a:cubicBezTo>
                  <a:pt x="770" y="90"/>
                  <a:pt x="770" y="90"/>
                  <a:pt x="770" y="90"/>
                </a:cubicBezTo>
                <a:cubicBezTo>
                  <a:pt x="769" y="91"/>
                  <a:pt x="767" y="91"/>
                  <a:pt x="766" y="92"/>
                </a:cubicBezTo>
                <a:cubicBezTo>
                  <a:pt x="766" y="92"/>
                  <a:pt x="766" y="92"/>
                  <a:pt x="766" y="92"/>
                </a:cubicBezTo>
                <a:cubicBezTo>
                  <a:pt x="765" y="92"/>
                  <a:pt x="765" y="93"/>
                  <a:pt x="764" y="93"/>
                </a:cubicBezTo>
                <a:cubicBezTo>
                  <a:pt x="764" y="93"/>
                  <a:pt x="764" y="93"/>
                  <a:pt x="764" y="93"/>
                </a:cubicBezTo>
                <a:cubicBezTo>
                  <a:pt x="763" y="93"/>
                  <a:pt x="762" y="94"/>
                  <a:pt x="762" y="94"/>
                </a:cubicBezTo>
                <a:cubicBezTo>
                  <a:pt x="761" y="94"/>
                  <a:pt x="761" y="94"/>
                  <a:pt x="761" y="94"/>
                </a:cubicBezTo>
                <a:cubicBezTo>
                  <a:pt x="760" y="94"/>
                  <a:pt x="760" y="95"/>
                  <a:pt x="759" y="95"/>
                </a:cubicBezTo>
                <a:cubicBezTo>
                  <a:pt x="759" y="95"/>
                  <a:pt x="759" y="95"/>
                  <a:pt x="759" y="95"/>
                </a:cubicBezTo>
                <a:cubicBezTo>
                  <a:pt x="758" y="95"/>
                  <a:pt x="757" y="96"/>
                  <a:pt x="756" y="96"/>
                </a:cubicBezTo>
                <a:cubicBezTo>
                  <a:pt x="754" y="96"/>
                  <a:pt x="752" y="97"/>
                  <a:pt x="750" y="98"/>
                </a:cubicBezTo>
                <a:cubicBezTo>
                  <a:pt x="748" y="98"/>
                  <a:pt x="747" y="98"/>
                  <a:pt x="745" y="99"/>
                </a:cubicBezTo>
                <a:cubicBezTo>
                  <a:pt x="744" y="99"/>
                  <a:pt x="742" y="100"/>
                  <a:pt x="741" y="100"/>
                </a:cubicBezTo>
                <a:cubicBezTo>
                  <a:pt x="740" y="100"/>
                  <a:pt x="738" y="101"/>
                  <a:pt x="737" y="101"/>
                </a:cubicBezTo>
                <a:cubicBezTo>
                  <a:pt x="735" y="101"/>
                  <a:pt x="734" y="101"/>
                  <a:pt x="733" y="102"/>
                </a:cubicBezTo>
                <a:cubicBezTo>
                  <a:pt x="732" y="102"/>
                  <a:pt x="730" y="102"/>
                  <a:pt x="729" y="102"/>
                </a:cubicBezTo>
                <a:cubicBezTo>
                  <a:pt x="728" y="103"/>
                  <a:pt x="727" y="103"/>
                  <a:pt x="726" y="103"/>
                </a:cubicBezTo>
                <a:cubicBezTo>
                  <a:pt x="724" y="103"/>
                  <a:pt x="723" y="104"/>
                  <a:pt x="722" y="104"/>
                </a:cubicBezTo>
                <a:cubicBezTo>
                  <a:pt x="720" y="104"/>
                  <a:pt x="719" y="104"/>
                  <a:pt x="717" y="104"/>
                </a:cubicBezTo>
                <a:cubicBezTo>
                  <a:pt x="717" y="104"/>
                  <a:pt x="717" y="104"/>
                  <a:pt x="717" y="104"/>
                </a:cubicBezTo>
                <a:cubicBezTo>
                  <a:pt x="715" y="105"/>
                  <a:pt x="713" y="105"/>
                  <a:pt x="711" y="105"/>
                </a:cubicBezTo>
                <a:cubicBezTo>
                  <a:pt x="711" y="105"/>
                  <a:pt x="711" y="105"/>
                  <a:pt x="711" y="105"/>
                </a:cubicBezTo>
                <a:cubicBezTo>
                  <a:pt x="709" y="105"/>
                  <a:pt x="707" y="105"/>
                  <a:pt x="705" y="105"/>
                </a:cubicBezTo>
                <a:cubicBezTo>
                  <a:pt x="705" y="105"/>
                  <a:pt x="705" y="105"/>
                  <a:pt x="705" y="105"/>
                </a:cubicBezTo>
                <a:cubicBezTo>
                  <a:pt x="703" y="106"/>
                  <a:pt x="701" y="106"/>
                  <a:pt x="699" y="106"/>
                </a:cubicBezTo>
                <a:cubicBezTo>
                  <a:pt x="697" y="106"/>
                  <a:pt x="695" y="106"/>
                  <a:pt x="693" y="106"/>
                </a:cubicBezTo>
                <a:cubicBezTo>
                  <a:pt x="690" y="106"/>
                  <a:pt x="688" y="105"/>
                  <a:pt x="686" y="105"/>
                </a:cubicBezTo>
                <a:cubicBezTo>
                  <a:pt x="686" y="105"/>
                  <a:pt x="686" y="105"/>
                  <a:pt x="686" y="105"/>
                </a:cubicBezTo>
                <a:cubicBezTo>
                  <a:pt x="684" y="105"/>
                  <a:pt x="682" y="105"/>
                  <a:pt x="680" y="105"/>
                </a:cubicBezTo>
                <a:cubicBezTo>
                  <a:pt x="679" y="105"/>
                  <a:pt x="679" y="105"/>
                  <a:pt x="679" y="105"/>
                </a:cubicBezTo>
                <a:cubicBezTo>
                  <a:pt x="677" y="105"/>
                  <a:pt x="675" y="105"/>
                  <a:pt x="673" y="104"/>
                </a:cubicBezTo>
                <a:cubicBezTo>
                  <a:pt x="673" y="104"/>
                  <a:pt x="673" y="104"/>
                  <a:pt x="673" y="104"/>
                </a:cubicBezTo>
                <a:cubicBezTo>
                  <a:pt x="673" y="104"/>
                  <a:pt x="673" y="104"/>
                  <a:pt x="673" y="104"/>
                </a:cubicBezTo>
                <a:cubicBezTo>
                  <a:pt x="672" y="104"/>
                  <a:pt x="672" y="104"/>
                  <a:pt x="672" y="104"/>
                </a:cubicBezTo>
                <a:cubicBezTo>
                  <a:pt x="672" y="104"/>
                  <a:pt x="672" y="104"/>
                  <a:pt x="672" y="104"/>
                </a:cubicBezTo>
                <a:cubicBezTo>
                  <a:pt x="671" y="104"/>
                  <a:pt x="671" y="104"/>
                  <a:pt x="671" y="104"/>
                </a:cubicBezTo>
                <a:cubicBezTo>
                  <a:pt x="670" y="104"/>
                  <a:pt x="670" y="104"/>
                  <a:pt x="670" y="104"/>
                </a:cubicBezTo>
                <a:cubicBezTo>
                  <a:pt x="670" y="104"/>
                  <a:pt x="670" y="104"/>
                  <a:pt x="670" y="104"/>
                </a:cubicBezTo>
                <a:cubicBezTo>
                  <a:pt x="670" y="104"/>
                  <a:pt x="670" y="104"/>
                  <a:pt x="670" y="104"/>
                </a:cubicBezTo>
                <a:cubicBezTo>
                  <a:pt x="670" y="104"/>
                  <a:pt x="670" y="104"/>
                  <a:pt x="670" y="104"/>
                </a:cubicBezTo>
                <a:cubicBezTo>
                  <a:pt x="669" y="104"/>
                  <a:pt x="669" y="104"/>
                  <a:pt x="669" y="104"/>
                </a:cubicBezTo>
                <a:cubicBezTo>
                  <a:pt x="669" y="104"/>
                  <a:pt x="669" y="104"/>
                  <a:pt x="669" y="104"/>
                </a:cubicBezTo>
                <a:cubicBezTo>
                  <a:pt x="668" y="104"/>
                  <a:pt x="668" y="104"/>
                  <a:pt x="668" y="104"/>
                </a:cubicBezTo>
                <a:cubicBezTo>
                  <a:pt x="667" y="104"/>
                  <a:pt x="667" y="104"/>
                  <a:pt x="667" y="104"/>
                </a:cubicBezTo>
                <a:cubicBezTo>
                  <a:pt x="667" y="104"/>
                  <a:pt x="667" y="104"/>
                  <a:pt x="667" y="104"/>
                </a:cubicBezTo>
                <a:cubicBezTo>
                  <a:pt x="667" y="104"/>
                  <a:pt x="667" y="104"/>
                  <a:pt x="667" y="104"/>
                </a:cubicBezTo>
                <a:cubicBezTo>
                  <a:pt x="666" y="104"/>
                  <a:pt x="666" y="104"/>
                  <a:pt x="666" y="104"/>
                </a:cubicBezTo>
                <a:cubicBezTo>
                  <a:pt x="665" y="104"/>
                  <a:pt x="665" y="104"/>
                  <a:pt x="665" y="104"/>
                </a:cubicBezTo>
                <a:cubicBezTo>
                  <a:pt x="664" y="104"/>
                  <a:pt x="664" y="104"/>
                  <a:pt x="664" y="104"/>
                </a:cubicBezTo>
                <a:cubicBezTo>
                  <a:pt x="664" y="104"/>
                  <a:pt x="664" y="104"/>
                  <a:pt x="664" y="104"/>
                </a:cubicBezTo>
                <a:cubicBezTo>
                  <a:pt x="663" y="104"/>
                  <a:pt x="663" y="104"/>
                  <a:pt x="663" y="104"/>
                </a:cubicBezTo>
                <a:cubicBezTo>
                  <a:pt x="662" y="104"/>
                  <a:pt x="662" y="104"/>
                  <a:pt x="662" y="104"/>
                </a:cubicBezTo>
                <a:cubicBezTo>
                  <a:pt x="662" y="104"/>
                  <a:pt x="662" y="104"/>
                  <a:pt x="662" y="104"/>
                </a:cubicBezTo>
                <a:cubicBezTo>
                  <a:pt x="661" y="104"/>
                  <a:pt x="661" y="104"/>
                  <a:pt x="661" y="104"/>
                </a:cubicBezTo>
                <a:cubicBezTo>
                  <a:pt x="661" y="104"/>
                  <a:pt x="661" y="104"/>
                  <a:pt x="661" y="104"/>
                </a:cubicBezTo>
                <a:cubicBezTo>
                  <a:pt x="660" y="104"/>
                  <a:pt x="660" y="104"/>
                  <a:pt x="660" y="104"/>
                </a:cubicBezTo>
                <a:cubicBezTo>
                  <a:pt x="660" y="104"/>
                  <a:pt x="660" y="104"/>
                  <a:pt x="660" y="104"/>
                </a:cubicBezTo>
                <a:cubicBezTo>
                  <a:pt x="660" y="104"/>
                  <a:pt x="660" y="104"/>
                  <a:pt x="660" y="104"/>
                </a:cubicBezTo>
                <a:cubicBezTo>
                  <a:pt x="660" y="104"/>
                  <a:pt x="660" y="104"/>
                  <a:pt x="660" y="104"/>
                </a:cubicBezTo>
                <a:cubicBezTo>
                  <a:pt x="659" y="104"/>
                  <a:pt x="659" y="104"/>
                  <a:pt x="659" y="104"/>
                </a:cubicBezTo>
                <a:cubicBezTo>
                  <a:pt x="659" y="104"/>
                  <a:pt x="659" y="104"/>
                  <a:pt x="659" y="104"/>
                </a:cubicBezTo>
                <a:cubicBezTo>
                  <a:pt x="658" y="104"/>
                  <a:pt x="658" y="104"/>
                  <a:pt x="658" y="104"/>
                </a:cubicBezTo>
                <a:cubicBezTo>
                  <a:pt x="657" y="104"/>
                  <a:pt x="657" y="104"/>
                  <a:pt x="657" y="104"/>
                </a:cubicBezTo>
                <a:cubicBezTo>
                  <a:pt x="656" y="104"/>
                  <a:pt x="656" y="104"/>
                  <a:pt x="656" y="104"/>
                </a:cubicBezTo>
                <a:cubicBezTo>
                  <a:pt x="656" y="104"/>
                  <a:pt x="656" y="104"/>
                  <a:pt x="656" y="104"/>
                </a:cubicBezTo>
                <a:cubicBezTo>
                  <a:pt x="655" y="104"/>
                  <a:pt x="655" y="104"/>
                  <a:pt x="655" y="104"/>
                </a:cubicBezTo>
                <a:cubicBezTo>
                  <a:pt x="654" y="104"/>
                  <a:pt x="654" y="104"/>
                  <a:pt x="654" y="104"/>
                </a:cubicBezTo>
                <a:cubicBezTo>
                  <a:pt x="654" y="104"/>
                  <a:pt x="654" y="104"/>
                  <a:pt x="654" y="104"/>
                </a:cubicBezTo>
                <a:cubicBezTo>
                  <a:pt x="654" y="104"/>
                  <a:pt x="654" y="104"/>
                  <a:pt x="654" y="104"/>
                </a:cubicBezTo>
                <a:cubicBezTo>
                  <a:pt x="653" y="104"/>
                  <a:pt x="653" y="104"/>
                  <a:pt x="653" y="104"/>
                </a:cubicBezTo>
                <a:cubicBezTo>
                  <a:pt x="652" y="104"/>
                  <a:pt x="652" y="104"/>
                  <a:pt x="652" y="104"/>
                </a:cubicBezTo>
                <a:cubicBezTo>
                  <a:pt x="652" y="105"/>
                  <a:pt x="652" y="105"/>
                  <a:pt x="652" y="105"/>
                </a:cubicBezTo>
                <a:cubicBezTo>
                  <a:pt x="651" y="105"/>
                  <a:pt x="651" y="105"/>
                  <a:pt x="651" y="105"/>
                </a:cubicBezTo>
                <a:cubicBezTo>
                  <a:pt x="648" y="0"/>
                  <a:pt x="648" y="0"/>
                  <a:pt x="648" y="0"/>
                </a:cubicBezTo>
                <a:cubicBezTo>
                  <a:pt x="629" y="51"/>
                  <a:pt x="629" y="51"/>
                  <a:pt x="629" y="51"/>
                </a:cubicBezTo>
                <a:cubicBezTo>
                  <a:pt x="631" y="111"/>
                  <a:pt x="631" y="111"/>
                  <a:pt x="631" y="111"/>
                </a:cubicBezTo>
                <a:cubicBezTo>
                  <a:pt x="631" y="111"/>
                  <a:pt x="631" y="111"/>
                  <a:pt x="631" y="111"/>
                </a:cubicBezTo>
                <a:cubicBezTo>
                  <a:pt x="631" y="111"/>
                  <a:pt x="631" y="111"/>
                  <a:pt x="631" y="111"/>
                </a:cubicBezTo>
                <a:cubicBezTo>
                  <a:pt x="630" y="112"/>
                  <a:pt x="630" y="112"/>
                  <a:pt x="630" y="112"/>
                </a:cubicBezTo>
                <a:cubicBezTo>
                  <a:pt x="630" y="112"/>
                  <a:pt x="630" y="112"/>
                  <a:pt x="630" y="112"/>
                </a:cubicBezTo>
                <a:cubicBezTo>
                  <a:pt x="630" y="112"/>
                  <a:pt x="630" y="112"/>
                  <a:pt x="630" y="112"/>
                </a:cubicBezTo>
                <a:cubicBezTo>
                  <a:pt x="630" y="112"/>
                  <a:pt x="630" y="112"/>
                  <a:pt x="630" y="112"/>
                </a:cubicBezTo>
                <a:cubicBezTo>
                  <a:pt x="630" y="112"/>
                  <a:pt x="630" y="112"/>
                  <a:pt x="630" y="112"/>
                </a:cubicBezTo>
                <a:cubicBezTo>
                  <a:pt x="630" y="112"/>
                  <a:pt x="630" y="112"/>
                  <a:pt x="630" y="112"/>
                </a:cubicBezTo>
                <a:cubicBezTo>
                  <a:pt x="630" y="112"/>
                  <a:pt x="630" y="112"/>
                  <a:pt x="630" y="112"/>
                </a:cubicBezTo>
                <a:cubicBezTo>
                  <a:pt x="630" y="113"/>
                  <a:pt x="630" y="113"/>
                  <a:pt x="630" y="113"/>
                </a:cubicBezTo>
                <a:cubicBezTo>
                  <a:pt x="629" y="113"/>
                  <a:pt x="629" y="113"/>
                  <a:pt x="629" y="113"/>
                </a:cubicBezTo>
                <a:cubicBezTo>
                  <a:pt x="629" y="113"/>
                  <a:pt x="629" y="113"/>
                  <a:pt x="629" y="113"/>
                </a:cubicBezTo>
                <a:cubicBezTo>
                  <a:pt x="629" y="113"/>
                  <a:pt x="629" y="113"/>
                  <a:pt x="629" y="113"/>
                </a:cubicBezTo>
                <a:cubicBezTo>
                  <a:pt x="629" y="114"/>
                  <a:pt x="629" y="114"/>
                  <a:pt x="629" y="114"/>
                </a:cubicBezTo>
                <a:cubicBezTo>
                  <a:pt x="629" y="114"/>
                  <a:pt x="629" y="114"/>
                  <a:pt x="629" y="114"/>
                </a:cubicBezTo>
                <a:cubicBezTo>
                  <a:pt x="629" y="114"/>
                  <a:pt x="629" y="114"/>
                  <a:pt x="629" y="114"/>
                </a:cubicBezTo>
                <a:cubicBezTo>
                  <a:pt x="629" y="114"/>
                  <a:pt x="629" y="114"/>
                  <a:pt x="629" y="114"/>
                </a:cubicBezTo>
                <a:cubicBezTo>
                  <a:pt x="629" y="115"/>
                  <a:pt x="629" y="115"/>
                  <a:pt x="629" y="115"/>
                </a:cubicBezTo>
                <a:cubicBezTo>
                  <a:pt x="629" y="115"/>
                  <a:pt x="629" y="115"/>
                  <a:pt x="629" y="115"/>
                </a:cubicBezTo>
                <a:cubicBezTo>
                  <a:pt x="629" y="115"/>
                  <a:pt x="629" y="115"/>
                  <a:pt x="629" y="115"/>
                </a:cubicBezTo>
                <a:cubicBezTo>
                  <a:pt x="629" y="115"/>
                  <a:pt x="629" y="115"/>
                  <a:pt x="629" y="115"/>
                </a:cubicBezTo>
                <a:cubicBezTo>
                  <a:pt x="629" y="115"/>
                  <a:pt x="629" y="115"/>
                  <a:pt x="629" y="115"/>
                </a:cubicBezTo>
                <a:cubicBezTo>
                  <a:pt x="629" y="116"/>
                  <a:pt x="629" y="116"/>
                  <a:pt x="629" y="116"/>
                </a:cubicBezTo>
                <a:cubicBezTo>
                  <a:pt x="629" y="116"/>
                  <a:pt x="629" y="116"/>
                  <a:pt x="629" y="116"/>
                </a:cubicBezTo>
                <a:cubicBezTo>
                  <a:pt x="629" y="116"/>
                  <a:pt x="629" y="116"/>
                  <a:pt x="629" y="116"/>
                </a:cubicBezTo>
                <a:cubicBezTo>
                  <a:pt x="629" y="116"/>
                  <a:pt x="629" y="116"/>
                  <a:pt x="629" y="116"/>
                </a:cubicBezTo>
                <a:cubicBezTo>
                  <a:pt x="629" y="117"/>
                  <a:pt x="629" y="117"/>
                  <a:pt x="629" y="117"/>
                </a:cubicBezTo>
                <a:cubicBezTo>
                  <a:pt x="629" y="117"/>
                  <a:pt x="629" y="117"/>
                  <a:pt x="629" y="117"/>
                </a:cubicBezTo>
                <a:cubicBezTo>
                  <a:pt x="629" y="117"/>
                  <a:pt x="629" y="117"/>
                  <a:pt x="629" y="117"/>
                </a:cubicBezTo>
                <a:cubicBezTo>
                  <a:pt x="631" y="186"/>
                  <a:pt x="631" y="186"/>
                  <a:pt x="631" y="186"/>
                </a:cubicBezTo>
                <a:cubicBezTo>
                  <a:pt x="631" y="186"/>
                  <a:pt x="631" y="186"/>
                  <a:pt x="631" y="186"/>
                </a:cubicBezTo>
                <a:cubicBezTo>
                  <a:pt x="630" y="186"/>
                  <a:pt x="630" y="186"/>
                  <a:pt x="630" y="186"/>
                </a:cubicBezTo>
                <a:cubicBezTo>
                  <a:pt x="630" y="186"/>
                  <a:pt x="630" y="186"/>
                  <a:pt x="630" y="186"/>
                </a:cubicBezTo>
                <a:cubicBezTo>
                  <a:pt x="629" y="186"/>
                  <a:pt x="629" y="186"/>
                  <a:pt x="628" y="186"/>
                </a:cubicBezTo>
                <a:cubicBezTo>
                  <a:pt x="628" y="186"/>
                  <a:pt x="628" y="186"/>
                  <a:pt x="628" y="186"/>
                </a:cubicBezTo>
                <a:cubicBezTo>
                  <a:pt x="626" y="186"/>
                  <a:pt x="625" y="186"/>
                  <a:pt x="623" y="187"/>
                </a:cubicBezTo>
                <a:cubicBezTo>
                  <a:pt x="623" y="187"/>
                  <a:pt x="623" y="187"/>
                  <a:pt x="623" y="187"/>
                </a:cubicBezTo>
                <a:cubicBezTo>
                  <a:pt x="622" y="187"/>
                  <a:pt x="621" y="187"/>
                  <a:pt x="620" y="187"/>
                </a:cubicBezTo>
                <a:cubicBezTo>
                  <a:pt x="619" y="187"/>
                  <a:pt x="618" y="187"/>
                  <a:pt x="617" y="187"/>
                </a:cubicBezTo>
                <a:cubicBezTo>
                  <a:pt x="616" y="187"/>
                  <a:pt x="616" y="187"/>
                  <a:pt x="616" y="187"/>
                </a:cubicBezTo>
                <a:cubicBezTo>
                  <a:pt x="614" y="187"/>
                  <a:pt x="612" y="187"/>
                  <a:pt x="610" y="187"/>
                </a:cubicBezTo>
                <a:cubicBezTo>
                  <a:pt x="609" y="187"/>
                  <a:pt x="609" y="187"/>
                  <a:pt x="608" y="187"/>
                </a:cubicBezTo>
                <a:cubicBezTo>
                  <a:pt x="608" y="188"/>
                  <a:pt x="607" y="188"/>
                  <a:pt x="606" y="188"/>
                </a:cubicBezTo>
                <a:cubicBezTo>
                  <a:pt x="606" y="188"/>
                  <a:pt x="605" y="188"/>
                  <a:pt x="604" y="188"/>
                </a:cubicBezTo>
                <a:cubicBezTo>
                  <a:pt x="604" y="188"/>
                  <a:pt x="603" y="188"/>
                  <a:pt x="602" y="188"/>
                </a:cubicBezTo>
                <a:cubicBezTo>
                  <a:pt x="601" y="188"/>
                  <a:pt x="601" y="188"/>
                  <a:pt x="600" y="188"/>
                </a:cubicBezTo>
                <a:cubicBezTo>
                  <a:pt x="599" y="188"/>
                  <a:pt x="599" y="188"/>
                  <a:pt x="598" y="188"/>
                </a:cubicBezTo>
                <a:cubicBezTo>
                  <a:pt x="597" y="188"/>
                  <a:pt x="597" y="188"/>
                  <a:pt x="596" y="188"/>
                </a:cubicBezTo>
                <a:cubicBezTo>
                  <a:pt x="595" y="188"/>
                  <a:pt x="594" y="188"/>
                  <a:pt x="593" y="188"/>
                </a:cubicBezTo>
                <a:cubicBezTo>
                  <a:pt x="592" y="188"/>
                  <a:pt x="591" y="188"/>
                  <a:pt x="591" y="188"/>
                </a:cubicBezTo>
                <a:cubicBezTo>
                  <a:pt x="589" y="188"/>
                  <a:pt x="588" y="188"/>
                  <a:pt x="586" y="188"/>
                </a:cubicBezTo>
                <a:cubicBezTo>
                  <a:pt x="585" y="188"/>
                  <a:pt x="585" y="188"/>
                  <a:pt x="584" y="188"/>
                </a:cubicBezTo>
                <a:cubicBezTo>
                  <a:pt x="583" y="188"/>
                  <a:pt x="582" y="188"/>
                  <a:pt x="582" y="188"/>
                </a:cubicBezTo>
                <a:cubicBezTo>
                  <a:pt x="581" y="188"/>
                  <a:pt x="580" y="188"/>
                  <a:pt x="579" y="188"/>
                </a:cubicBezTo>
                <a:cubicBezTo>
                  <a:pt x="579" y="188"/>
                  <a:pt x="578" y="188"/>
                  <a:pt x="577" y="188"/>
                </a:cubicBezTo>
                <a:cubicBezTo>
                  <a:pt x="560" y="188"/>
                  <a:pt x="536" y="188"/>
                  <a:pt x="508" y="189"/>
                </a:cubicBezTo>
                <a:cubicBezTo>
                  <a:pt x="481" y="189"/>
                  <a:pt x="451" y="189"/>
                  <a:pt x="422" y="190"/>
                </a:cubicBezTo>
                <a:cubicBezTo>
                  <a:pt x="394" y="190"/>
                  <a:pt x="367" y="190"/>
                  <a:pt x="347" y="191"/>
                </a:cubicBezTo>
                <a:cubicBezTo>
                  <a:pt x="327" y="191"/>
                  <a:pt x="313" y="191"/>
                  <a:pt x="310" y="191"/>
                </a:cubicBezTo>
                <a:cubicBezTo>
                  <a:pt x="186" y="191"/>
                  <a:pt x="186" y="191"/>
                  <a:pt x="186" y="191"/>
                </a:cubicBezTo>
                <a:cubicBezTo>
                  <a:pt x="176" y="59"/>
                  <a:pt x="176" y="59"/>
                  <a:pt x="176" y="59"/>
                </a:cubicBezTo>
                <a:cubicBezTo>
                  <a:pt x="176" y="59"/>
                  <a:pt x="176" y="59"/>
                  <a:pt x="176" y="59"/>
                </a:cubicBezTo>
                <a:cubicBezTo>
                  <a:pt x="176" y="58"/>
                  <a:pt x="176" y="58"/>
                  <a:pt x="176" y="58"/>
                </a:cubicBezTo>
                <a:cubicBezTo>
                  <a:pt x="176" y="58"/>
                  <a:pt x="176" y="58"/>
                  <a:pt x="176" y="58"/>
                </a:cubicBezTo>
                <a:cubicBezTo>
                  <a:pt x="176" y="57"/>
                  <a:pt x="176" y="57"/>
                  <a:pt x="176" y="57"/>
                </a:cubicBezTo>
                <a:cubicBezTo>
                  <a:pt x="175" y="55"/>
                  <a:pt x="173" y="50"/>
                  <a:pt x="172" y="45"/>
                </a:cubicBezTo>
                <a:cubicBezTo>
                  <a:pt x="170" y="41"/>
                  <a:pt x="169" y="35"/>
                  <a:pt x="167" y="30"/>
                </a:cubicBezTo>
                <a:cubicBezTo>
                  <a:pt x="166" y="25"/>
                  <a:pt x="165" y="20"/>
                  <a:pt x="164" y="16"/>
                </a:cubicBezTo>
                <a:cubicBezTo>
                  <a:pt x="163" y="13"/>
                  <a:pt x="163" y="10"/>
                  <a:pt x="162" y="10"/>
                </a:cubicBezTo>
                <a:cubicBezTo>
                  <a:pt x="162" y="10"/>
                  <a:pt x="162" y="10"/>
                  <a:pt x="162" y="10"/>
                </a:cubicBezTo>
                <a:cubicBezTo>
                  <a:pt x="162" y="10"/>
                  <a:pt x="162" y="10"/>
                  <a:pt x="162" y="10"/>
                </a:cubicBezTo>
                <a:cubicBezTo>
                  <a:pt x="162" y="10"/>
                  <a:pt x="162" y="10"/>
                  <a:pt x="162" y="10"/>
                </a:cubicBezTo>
                <a:cubicBezTo>
                  <a:pt x="162" y="10"/>
                  <a:pt x="162" y="10"/>
                  <a:pt x="162" y="10"/>
                </a:cubicBezTo>
                <a:cubicBezTo>
                  <a:pt x="166" y="53"/>
                  <a:pt x="169" y="97"/>
                  <a:pt x="172" y="140"/>
                </a:cubicBezTo>
                <a:cubicBezTo>
                  <a:pt x="172" y="140"/>
                  <a:pt x="172" y="140"/>
                  <a:pt x="172" y="140"/>
                </a:cubicBezTo>
                <a:cubicBezTo>
                  <a:pt x="172" y="140"/>
                  <a:pt x="172" y="140"/>
                  <a:pt x="172" y="140"/>
                </a:cubicBezTo>
                <a:cubicBezTo>
                  <a:pt x="172" y="140"/>
                  <a:pt x="172" y="140"/>
                  <a:pt x="172" y="140"/>
                </a:cubicBezTo>
                <a:cubicBezTo>
                  <a:pt x="173" y="140"/>
                  <a:pt x="173" y="140"/>
                  <a:pt x="173" y="140"/>
                </a:cubicBezTo>
                <a:cubicBezTo>
                  <a:pt x="173" y="141"/>
                  <a:pt x="173" y="144"/>
                  <a:pt x="174" y="147"/>
                </a:cubicBezTo>
                <a:cubicBezTo>
                  <a:pt x="175" y="151"/>
                  <a:pt x="176" y="157"/>
                  <a:pt x="178" y="162"/>
                </a:cubicBezTo>
                <a:cubicBezTo>
                  <a:pt x="179" y="168"/>
                  <a:pt x="180" y="174"/>
                  <a:pt x="182" y="179"/>
                </a:cubicBezTo>
                <a:cubicBezTo>
                  <a:pt x="183" y="184"/>
                  <a:pt x="185" y="188"/>
                  <a:pt x="186" y="191"/>
                </a:cubicBezTo>
                <a:cubicBezTo>
                  <a:pt x="171" y="191"/>
                  <a:pt x="171" y="191"/>
                  <a:pt x="171" y="191"/>
                </a:cubicBezTo>
                <a:cubicBezTo>
                  <a:pt x="170" y="168"/>
                  <a:pt x="168" y="145"/>
                  <a:pt x="166" y="122"/>
                </a:cubicBezTo>
                <a:cubicBezTo>
                  <a:pt x="166" y="121"/>
                  <a:pt x="166" y="121"/>
                  <a:pt x="166" y="121"/>
                </a:cubicBezTo>
                <a:cubicBezTo>
                  <a:pt x="166" y="120"/>
                  <a:pt x="166" y="120"/>
                  <a:pt x="166" y="120"/>
                </a:cubicBezTo>
                <a:cubicBezTo>
                  <a:pt x="165" y="119"/>
                  <a:pt x="165" y="119"/>
                  <a:pt x="165" y="119"/>
                </a:cubicBezTo>
                <a:cubicBezTo>
                  <a:pt x="164" y="119"/>
                  <a:pt x="164" y="119"/>
                  <a:pt x="164" y="119"/>
                </a:cubicBezTo>
                <a:cubicBezTo>
                  <a:pt x="163" y="118"/>
                  <a:pt x="162" y="118"/>
                  <a:pt x="161" y="117"/>
                </a:cubicBezTo>
                <a:cubicBezTo>
                  <a:pt x="160" y="117"/>
                  <a:pt x="160" y="117"/>
                  <a:pt x="160" y="117"/>
                </a:cubicBezTo>
                <a:cubicBezTo>
                  <a:pt x="160" y="116"/>
                  <a:pt x="159" y="116"/>
                  <a:pt x="158" y="116"/>
                </a:cubicBezTo>
                <a:cubicBezTo>
                  <a:pt x="157" y="115"/>
                  <a:pt x="157" y="115"/>
                  <a:pt x="157" y="115"/>
                </a:cubicBezTo>
                <a:cubicBezTo>
                  <a:pt x="157" y="115"/>
                  <a:pt x="156" y="114"/>
                  <a:pt x="156" y="114"/>
                </a:cubicBezTo>
                <a:cubicBezTo>
                  <a:pt x="155" y="114"/>
                  <a:pt x="155" y="114"/>
                  <a:pt x="155" y="114"/>
                </a:cubicBezTo>
                <a:cubicBezTo>
                  <a:pt x="155" y="114"/>
                  <a:pt x="155" y="114"/>
                  <a:pt x="154" y="114"/>
                </a:cubicBezTo>
                <a:cubicBezTo>
                  <a:pt x="154" y="113"/>
                  <a:pt x="153" y="113"/>
                  <a:pt x="153" y="113"/>
                </a:cubicBezTo>
                <a:cubicBezTo>
                  <a:pt x="152" y="113"/>
                  <a:pt x="152" y="113"/>
                  <a:pt x="152" y="113"/>
                </a:cubicBezTo>
                <a:cubicBezTo>
                  <a:pt x="152" y="113"/>
                  <a:pt x="152" y="113"/>
                  <a:pt x="152" y="113"/>
                </a:cubicBezTo>
                <a:cubicBezTo>
                  <a:pt x="151" y="112"/>
                  <a:pt x="151" y="112"/>
                  <a:pt x="151" y="112"/>
                </a:cubicBezTo>
                <a:cubicBezTo>
                  <a:pt x="151" y="112"/>
                  <a:pt x="151" y="112"/>
                  <a:pt x="151" y="112"/>
                </a:cubicBezTo>
                <a:cubicBezTo>
                  <a:pt x="151" y="112"/>
                  <a:pt x="151" y="112"/>
                  <a:pt x="151" y="112"/>
                </a:cubicBezTo>
                <a:cubicBezTo>
                  <a:pt x="150" y="112"/>
                  <a:pt x="150" y="112"/>
                  <a:pt x="150" y="112"/>
                </a:cubicBezTo>
                <a:cubicBezTo>
                  <a:pt x="150" y="112"/>
                  <a:pt x="150" y="112"/>
                  <a:pt x="150" y="112"/>
                </a:cubicBezTo>
                <a:cubicBezTo>
                  <a:pt x="149" y="112"/>
                  <a:pt x="149" y="112"/>
                  <a:pt x="149" y="112"/>
                </a:cubicBezTo>
                <a:cubicBezTo>
                  <a:pt x="149" y="112"/>
                  <a:pt x="149" y="112"/>
                  <a:pt x="149" y="112"/>
                </a:cubicBezTo>
                <a:cubicBezTo>
                  <a:pt x="149" y="112"/>
                  <a:pt x="149" y="112"/>
                  <a:pt x="149" y="112"/>
                </a:cubicBezTo>
                <a:cubicBezTo>
                  <a:pt x="149" y="112"/>
                  <a:pt x="149" y="112"/>
                  <a:pt x="149" y="112"/>
                </a:cubicBezTo>
                <a:cubicBezTo>
                  <a:pt x="148" y="112"/>
                  <a:pt x="148" y="112"/>
                  <a:pt x="148" y="112"/>
                </a:cubicBezTo>
                <a:cubicBezTo>
                  <a:pt x="148" y="111"/>
                  <a:pt x="148" y="111"/>
                  <a:pt x="148" y="111"/>
                </a:cubicBezTo>
                <a:cubicBezTo>
                  <a:pt x="147" y="111"/>
                  <a:pt x="147" y="111"/>
                  <a:pt x="147" y="111"/>
                </a:cubicBezTo>
                <a:cubicBezTo>
                  <a:pt x="147" y="111"/>
                  <a:pt x="147" y="111"/>
                  <a:pt x="147" y="111"/>
                </a:cubicBezTo>
                <a:cubicBezTo>
                  <a:pt x="147" y="111"/>
                  <a:pt x="147" y="111"/>
                  <a:pt x="147" y="111"/>
                </a:cubicBezTo>
                <a:cubicBezTo>
                  <a:pt x="147" y="111"/>
                  <a:pt x="147" y="111"/>
                  <a:pt x="147" y="111"/>
                </a:cubicBezTo>
                <a:cubicBezTo>
                  <a:pt x="146" y="111"/>
                  <a:pt x="146" y="111"/>
                  <a:pt x="146" y="111"/>
                </a:cubicBezTo>
                <a:cubicBezTo>
                  <a:pt x="146" y="111"/>
                  <a:pt x="146" y="111"/>
                  <a:pt x="146" y="111"/>
                </a:cubicBezTo>
                <a:cubicBezTo>
                  <a:pt x="146" y="111"/>
                  <a:pt x="146" y="111"/>
                  <a:pt x="146" y="111"/>
                </a:cubicBezTo>
                <a:cubicBezTo>
                  <a:pt x="145" y="111"/>
                  <a:pt x="145" y="111"/>
                  <a:pt x="145" y="111"/>
                </a:cubicBezTo>
                <a:cubicBezTo>
                  <a:pt x="145" y="111"/>
                  <a:pt x="145" y="111"/>
                  <a:pt x="145" y="111"/>
                </a:cubicBezTo>
                <a:cubicBezTo>
                  <a:pt x="145" y="111"/>
                  <a:pt x="145" y="111"/>
                  <a:pt x="145" y="111"/>
                </a:cubicBezTo>
                <a:cubicBezTo>
                  <a:pt x="145" y="111"/>
                  <a:pt x="145" y="111"/>
                  <a:pt x="145" y="111"/>
                </a:cubicBezTo>
                <a:cubicBezTo>
                  <a:pt x="145" y="111"/>
                  <a:pt x="145" y="111"/>
                  <a:pt x="145" y="111"/>
                </a:cubicBezTo>
                <a:cubicBezTo>
                  <a:pt x="144" y="111"/>
                  <a:pt x="144" y="111"/>
                  <a:pt x="144" y="111"/>
                </a:cubicBezTo>
                <a:cubicBezTo>
                  <a:pt x="144" y="111"/>
                  <a:pt x="144" y="111"/>
                  <a:pt x="144" y="111"/>
                </a:cubicBezTo>
                <a:cubicBezTo>
                  <a:pt x="144" y="111"/>
                  <a:pt x="144" y="111"/>
                  <a:pt x="144" y="111"/>
                </a:cubicBezTo>
                <a:cubicBezTo>
                  <a:pt x="143" y="111"/>
                  <a:pt x="143" y="111"/>
                  <a:pt x="143" y="111"/>
                </a:cubicBezTo>
                <a:cubicBezTo>
                  <a:pt x="143" y="111"/>
                  <a:pt x="143" y="111"/>
                  <a:pt x="143" y="111"/>
                </a:cubicBezTo>
                <a:cubicBezTo>
                  <a:pt x="143" y="111"/>
                  <a:pt x="143" y="111"/>
                  <a:pt x="143" y="111"/>
                </a:cubicBezTo>
                <a:cubicBezTo>
                  <a:pt x="143" y="111"/>
                  <a:pt x="143" y="111"/>
                  <a:pt x="143" y="111"/>
                </a:cubicBezTo>
                <a:cubicBezTo>
                  <a:pt x="142" y="111"/>
                  <a:pt x="142" y="111"/>
                  <a:pt x="142" y="111"/>
                </a:cubicBezTo>
                <a:cubicBezTo>
                  <a:pt x="142" y="111"/>
                  <a:pt x="142" y="111"/>
                  <a:pt x="142" y="111"/>
                </a:cubicBezTo>
                <a:cubicBezTo>
                  <a:pt x="142" y="111"/>
                  <a:pt x="142" y="111"/>
                  <a:pt x="142" y="111"/>
                </a:cubicBezTo>
                <a:cubicBezTo>
                  <a:pt x="142" y="111"/>
                  <a:pt x="142" y="111"/>
                  <a:pt x="142" y="111"/>
                </a:cubicBezTo>
                <a:cubicBezTo>
                  <a:pt x="141" y="110"/>
                  <a:pt x="141" y="110"/>
                  <a:pt x="141" y="110"/>
                </a:cubicBezTo>
                <a:cubicBezTo>
                  <a:pt x="141" y="110"/>
                  <a:pt x="141" y="110"/>
                  <a:pt x="141" y="110"/>
                </a:cubicBezTo>
                <a:cubicBezTo>
                  <a:pt x="141" y="110"/>
                  <a:pt x="141" y="110"/>
                  <a:pt x="141" y="110"/>
                </a:cubicBezTo>
                <a:cubicBezTo>
                  <a:pt x="140" y="110"/>
                  <a:pt x="140" y="110"/>
                  <a:pt x="140" y="110"/>
                </a:cubicBezTo>
                <a:cubicBezTo>
                  <a:pt x="140" y="110"/>
                  <a:pt x="140" y="110"/>
                  <a:pt x="140" y="110"/>
                </a:cubicBezTo>
                <a:cubicBezTo>
                  <a:pt x="139" y="110"/>
                  <a:pt x="139" y="110"/>
                  <a:pt x="139" y="110"/>
                </a:cubicBezTo>
                <a:cubicBezTo>
                  <a:pt x="139" y="110"/>
                  <a:pt x="139" y="110"/>
                  <a:pt x="139" y="110"/>
                </a:cubicBezTo>
                <a:cubicBezTo>
                  <a:pt x="139" y="110"/>
                  <a:pt x="139" y="110"/>
                  <a:pt x="139" y="110"/>
                </a:cubicBezTo>
                <a:cubicBezTo>
                  <a:pt x="138" y="110"/>
                  <a:pt x="138" y="110"/>
                  <a:pt x="138" y="110"/>
                </a:cubicBezTo>
                <a:cubicBezTo>
                  <a:pt x="138" y="110"/>
                  <a:pt x="138" y="110"/>
                  <a:pt x="138" y="110"/>
                </a:cubicBezTo>
                <a:cubicBezTo>
                  <a:pt x="137" y="110"/>
                  <a:pt x="137" y="110"/>
                  <a:pt x="137" y="110"/>
                </a:cubicBezTo>
                <a:cubicBezTo>
                  <a:pt x="137" y="110"/>
                  <a:pt x="137" y="110"/>
                  <a:pt x="137" y="110"/>
                </a:cubicBezTo>
                <a:cubicBezTo>
                  <a:pt x="136" y="110"/>
                  <a:pt x="136" y="110"/>
                  <a:pt x="136" y="110"/>
                </a:cubicBezTo>
                <a:cubicBezTo>
                  <a:pt x="136" y="110"/>
                  <a:pt x="136" y="110"/>
                  <a:pt x="136" y="110"/>
                </a:cubicBezTo>
                <a:cubicBezTo>
                  <a:pt x="136" y="110"/>
                  <a:pt x="136" y="110"/>
                  <a:pt x="136" y="110"/>
                </a:cubicBezTo>
                <a:cubicBezTo>
                  <a:pt x="135" y="110"/>
                  <a:pt x="135" y="110"/>
                  <a:pt x="135" y="110"/>
                </a:cubicBezTo>
                <a:cubicBezTo>
                  <a:pt x="135" y="110"/>
                  <a:pt x="135" y="110"/>
                  <a:pt x="135" y="110"/>
                </a:cubicBezTo>
                <a:cubicBezTo>
                  <a:pt x="134" y="110"/>
                  <a:pt x="134" y="110"/>
                  <a:pt x="134" y="110"/>
                </a:cubicBezTo>
                <a:cubicBezTo>
                  <a:pt x="134" y="110"/>
                  <a:pt x="134" y="110"/>
                  <a:pt x="134" y="110"/>
                </a:cubicBezTo>
                <a:cubicBezTo>
                  <a:pt x="134" y="110"/>
                  <a:pt x="134" y="110"/>
                  <a:pt x="134" y="110"/>
                </a:cubicBezTo>
                <a:cubicBezTo>
                  <a:pt x="133" y="110"/>
                  <a:pt x="133" y="110"/>
                  <a:pt x="133" y="110"/>
                </a:cubicBezTo>
                <a:cubicBezTo>
                  <a:pt x="133" y="110"/>
                  <a:pt x="133" y="110"/>
                  <a:pt x="133" y="110"/>
                </a:cubicBezTo>
                <a:cubicBezTo>
                  <a:pt x="133" y="110"/>
                  <a:pt x="133" y="110"/>
                  <a:pt x="133" y="110"/>
                </a:cubicBezTo>
                <a:cubicBezTo>
                  <a:pt x="132" y="110"/>
                  <a:pt x="132" y="110"/>
                  <a:pt x="132" y="110"/>
                </a:cubicBezTo>
                <a:cubicBezTo>
                  <a:pt x="132" y="110"/>
                  <a:pt x="132" y="110"/>
                  <a:pt x="132" y="110"/>
                </a:cubicBezTo>
                <a:cubicBezTo>
                  <a:pt x="132" y="110"/>
                  <a:pt x="132" y="110"/>
                  <a:pt x="132" y="110"/>
                </a:cubicBezTo>
                <a:cubicBezTo>
                  <a:pt x="131" y="110"/>
                  <a:pt x="131" y="110"/>
                  <a:pt x="131" y="110"/>
                </a:cubicBezTo>
                <a:cubicBezTo>
                  <a:pt x="131" y="110"/>
                  <a:pt x="131" y="110"/>
                  <a:pt x="131" y="110"/>
                </a:cubicBezTo>
                <a:cubicBezTo>
                  <a:pt x="130" y="110"/>
                  <a:pt x="130" y="110"/>
                  <a:pt x="130" y="110"/>
                </a:cubicBezTo>
                <a:cubicBezTo>
                  <a:pt x="130" y="110"/>
                  <a:pt x="130" y="110"/>
                  <a:pt x="130" y="110"/>
                </a:cubicBezTo>
                <a:cubicBezTo>
                  <a:pt x="130" y="110"/>
                  <a:pt x="130" y="110"/>
                  <a:pt x="130" y="110"/>
                </a:cubicBezTo>
                <a:cubicBezTo>
                  <a:pt x="129" y="110"/>
                  <a:pt x="129" y="110"/>
                  <a:pt x="129" y="110"/>
                </a:cubicBezTo>
                <a:cubicBezTo>
                  <a:pt x="128" y="110"/>
                  <a:pt x="128" y="110"/>
                  <a:pt x="128" y="110"/>
                </a:cubicBezTo>
                <a:cubicBezTo>
                  <a:pt x="127" y="110"/>
                  <a:pt x="127" y="110"/>
                  <a:pt x="127" y="110"/>
                </a:cubicBezTo>
                <a:cubicBezTo>
                  <a:pt x="127" y="110"/>
                  <a:pt x="127" y="110"/>
                  <a:pt x="127" y="110"/>
                </a:cubicBezTo>
                <a:cubicBezTo>
                  <a:pt x="127" y="110"/>
                  <a:pt x="127" y="110"/>
                  <a:pt x="127" y="110"/>
                </a:cubicBezTo>
                <a:cubicBezTo>
                  <a:pt x="126" y="110"/>
                  <a:pt x="126" y="110"/>
                  <a:pt x="126" y="110"/>
                </a:cubicBezTo>
                <a:cubicBezTo>
                  <a:pt x="126" y="110"/>
                  <a:pt x="126" y="110"/>
                  <a:pt x="126" y="110"/>
                </a:cubicBezTo>
                <a:cubicBezTo>
                  <a:pt x="125" y="111"/>
                  <a:pt x="125" y="111"/>
                  <a:pt x="125" y="111"/>
                </a:cubicBezTo>
                <a:cubicBezTo>
                  <a:pt x="125" y="111"/>
                  <a:pt x="124" y="111"/>
                  <a:pt x="124" y="111"/>
                </a:cubicBezTo>
                <a:cubicBezTo>
                  <a:pt x="123" y="111"/>
                  <a:pt x="123" y="111"/>
                  <a:pt x="123" y="111"/>
                </a:cubicBezTo>
                <a:cubicBezTo>
                  <a:pt x="123" y="111"/>
                  <a:pt x="123" y="111"/>
                  <a:pt x="123" y="111"/>
                </a:cubicBezTo>
                <a:cubicBezTo>
                  <a:pt x="123" y="111"/>
                  <a:pt x="123" y="111"/>
                  <a:pt x="123" y="111"/>
                </a:cubicBezTo>
                <a:cubicBezTo>
                  <a:pt x="122" y="111"/>
                  <a:pt x="122" y="111"/>
                  <a:pt x="121" y="111"/>
                </a:cubicBezTo>
                <a:cubicBezTo>
                  <a:pt x="121" y="111"/>
                  <a:pt x="120" y="111"/>
                  <a:pt x="120" y="111"/>
                </a:cubicBezTo>
                <a:cubicBezTo>
                  <a:pt x="119" y="111"/>
                  <a:pt x="119" y="111"/>
                  <a:pt x="119" y="111"/>
                </a:cubicBezTo>
                <a:cubicBezTo>
                  <a:pt x="119" y="111"/>
                  <a:pt x="119" y="111"/>
                  <a:pt x="119" y="111"/>
                </a:cubicBezTo>
                <a:cubicBezTo>
                  <a:pt x="118" y="111"/>
                  <a:pt x="118" y="111"/>
                  <a:pt x="118" y="111"/>
                </a:cubicBezTo>
                <a:cubicBezTo>
                  <a:pt x="118" y="111"/>
                  <a:pt x="118" y="111"/>
                  <a:pt x="117" y="111"/>
                </a:cubicBezTo>
                <a:cubicBezTo>
                  <a:pt x="117" y="111"/>
                  <a:pt x="116" y="111"/>
                  <a:pt x="115" y="111"/>
                </a:cubicBezTo>
                <a:cubicBezTo>
                  <a:pt x="115" y="112"/>
                  <a:pt x="115" y="112"/>
                  <a:pt x="115" y="112"/>
                </a:cubicBezTo>
                <a:cubicBezTo>
                  <a:pt x="114" y="112"/>
                  <a:pt x="114" y="112"/>
                  <a:pt x="114" y="112"/>
                </a:cubicBezTo>
                <a:cubicBezTo>
                  <a:pt x="113" y="112"/>
                  <a:pt x="112" y="112"/>
                  <a:pt x="111" y="112"/>
                </a:cubicBezTo>
                <a:cubicBezTo>
                  <a:pt x="111" y="112"/>
                  <a:pt x="111" y="112"/>
                  <a:pt x="111" y="112"/>
                </a:cubicBezTo>
                <a:cubicBezTo>
                  <a:pt x="110" y="112"/>
                  <a:pt x="110" y="112"/>
                  <a:pt x="110" y="112"/>
                </a:cubicBezTo>
                <a:cubicBezTo>
                  <a:pt x="110" y="112"/>
                  <a:pt x="110" y="112"/>
                  <a:pt x="110" y="112"/>
                </a:cubicBezTo>
                <a:cubicBezTo>
                  <a:pt x="109" y="112"/>
                  <a:pt x="109" y="112"/>
                  <a:pt x="108" y="112"/>
                </a:cubicBezTo>
                <a:cubicBezTo>
                  <a:pt x="108" y="112"/>
                  <a:pt x="107" y="113"/>
                  <a:pt x="106" y="113"/>
                </a:cubicBezTo>
                <a:cubicBezTo>
                  <a:pt x="106" y="113"/>
                  <a:pt x="106" y="113"/>
                  <a:pt x="106" y="113"/>
                </a:cubicBezTo>
                <a:cubicBezTo>
                  <a:pt x="105" y="113"/>
                  <a:pt x="105" y="113"/>
                  <a:pt x="105" y="113"/>
                </a:cubicBezTo>
                <a:cubicBezTo>
                  <a:pt x="104" y="113"/>
                  <a:pt x="104" y="113"/>
                  <a:pt x="104" y="113"/>
                </a:cubicBezTo>
                <a:cubicBezTo>
                  <a:pt x="104" y="113"/>
                  <a:pt x="103" y="113"/>
                  <a:pt x="102" y="113"/>
                </a:cubicBezTo>
                <a:cubicBezTo>
                  <a:pt x="102" y="113"/>
                  <a:pt x="101" y="113"/>
                  <a:pt x="100" y="114"/>
                </a:cubicBezTo>
                <a:cubicBezTo>
                  <a:pt x="97" y="114"/>
                  <a:pt x="94" y="114"/>
                  <a:pt x="91" y="115"/>
                </a:cubicBezTo>
                <a:cubicBezTo>
                  <a:pt x="90" y="115"/>
                  <a:pt x="90" y="115"/>
                  <a:pt x="90" y="115"/>
                </a:cubicBezTo>
                <a:cubicBezTo>
                  <a:pt x="87" y="115"/>
                  <a:pt x="84" y="116"/>
                  <a:pt x="81" y="116"/>
                </a:cubicBezTo>
                <a:cubicBezTo>
                  <a:pt x="81" y="116"/>
                  <a:pt x="81" y="116"/>
                  <a:pt x="81" y="116"/>
                </a:cubicBezTo>
                <a:cubicBezTo>
                  <a:pt x="78" y="116"/>
                  <a:pt x="75" y="116"/>
                  <a:pt x="72" y="116"/>
                </a:cubicBezTo>
                <a:cubicBezTo>
                  <a:pt x="72" y="116"/>
                  <a:pt x="72" y="116"/>
                  <a:pt x="72" y="116"/>
                </a:cubicBezTo>
                <a:cubicBezTo>
                  <a:pt x="69" y="117"/>
                  <a:pt x="66" y="117"/>
                  <a:pt x="63" y="117"/>
                </a:cubicBezTo>
                <a:cubicBezTo>
                  <a:pt x="59" y="117"/>
                  <a:pt x="55" y="117"/>
                  <a:pt x="52" y="117"/>
                </a:cubicBezTo>
                <a:cubicBezTo>
                  <a:pt x="52" y="117"/>
                  <a:pt x="52" y="117"/>
                  <a:pt x="52" y="117"/>
                </a:cubicBezTo>
                <a:cubicBezTo>
                  <a:pt x="50" y="117"/>
                  <a:pt x="48" y="116"/>
                  <a:pt x="46" y="116"/>
                </a:cubicBezTo>
                <a:cubicBezTo>
                  <a:pt x="46" y="116"/>
                  <a:pt x="46" y="116"/>
                  <a:pt x="46" y="116"/>
                </a:cubicBezTo>
                <a:cubicBezTo>
                  <a:pt x="45" y="116"/>
                  <a:pt x="43" y="116"/>
                  <a:pt x="41" y="116"/>
                </a:cubicBezTo>
                <a:cubicBezTo>
                  <a:pt x="36" y="116"/>
                  <a:pt x="32" y="115"/>
                  <a:pt x="28" y="114"/>
                </a:cubicBezTo>
                <a:cubicBezTo>
                  <a:pt x="28" y="114"/>
                  <a:pt x="28" y="114"/>
                  <a:pt x="28" y="114"/>
                </a:cubicBezTo>
                <a:cubicBezTo>
                  <a:pt x="26" y="114"/>
                  <a:pt x="25" y="114"/>
                  <a:pt x="24" y="113"/>
                </a:cubicBezTo>
                <a:cubicBezTo>
                  <a:pt x="24" y="113"/>
                  <a:pt x="24" y="113"/>
                  <a:pt x="24" y="113"/>
                </a:cubicBezTo>
                <a:cubicBezTo>
                  <a:pt x="22" y="113"/>
                  <a:pt x="21" y="113"/>
                  <a:pt x="20" y="113"/>
                </a:cubicBezTo>
                <a:cubicBezTo>
                  <a:pt x="20" y="112"/>
                  <a:pt x="20" y="112"/>
                  <a:pt x="20" y="112"/>
                </a:cubicBezTo>
                <a:cubicBezTo>
                  <a:pt x="19" y="112"/>
                  <a:pt x="18" y="112"/>
                  <a:pt x="17" y="112"/>
                </a:cubicBezTo>
                <a:cubicBezTo>
                  <a:pt x="17" y="111"/>
                  <a:pt x="17" y="111"/>
                  <a:pt x="17" y="111"/>
                </a:cubicBezTo>
                <a:cubicBezTo>
                  <a:pt x="16" y="111"/>
                  <a:pt x="15" y="111"/>
                  <a:pt x="14" y="111"/>
                </a:cubicBezTo>
                <a:cubicBezTo>
                  <a:pt x="14" y="110"/>
                  <a:pt x="14" y="110"/>
                  <a:pt x="14" y="110"/>
                </a:cubicBezTo>
                <a:cubicBezTo>
                  <a:pt x="13" y="110"/>
                  <a:pt x="13" y="110"/>
                  <a:pt x="13" y="110"/>
                </a:cubicBezTo>
                <a:cubicBezTo>
                  <a:pt x="12" y="110"/>
                  <a:pt x="11" y="110"/>
                  <a:pt x="10" y="109"/>
                </a:cubicBezTo>
                <a:cubicBezTo>
                  <a:pt x="9" y="109"/>
                  <a:pt x="9" y="109"/>
                  <a:pt x="9" y="109"/>
                </a:cubicBezTo>
                <a:cubicBezTo>
                  <a:pt x="9" y="108"/>
                  <a:pt x="8" y="108"/>
                  <a:pt x="8" y="108"/>
                </a:cubicBezTo>
                <a:cubicBezTo>
                  <a:pt x="7" y="107"/>
                  <a:pt x="7" y="107"/>
                  <a:pt x="7" y="107"/>
                </a:cubicBezTo>
                <a:cubicBezTo>
                  <a:pt x="6" y="107"/>
                  <a:pt x="6" y="107"/>
                  <a:pt x="5" y="106"/>
                </a:cubicBezTo>
                <a:cubicBezTo>
                  <a:pt x="5" y="106"/>
                  <a:pt x="5" y="106"/>
                  <a:pt x="5" y="106"/>
                </a:cubicBezTo>
                <a:cubicBezTo>
                  <a:pt x="4" y="106"/>
                  <a:pt x="4" y="105"/>
                  <a:pt x="3" y="105"/>
                </a:cubicBezTo>
                <a:cubicBezTo>
                  <a:pt x="3" y="104"/>
                  <a:pt x="2" y="103"/>
                  <a:pt x="2" y="103"/>
                </a:cubicBezTo>
                <a:cubicBezTo>
                  <a:pt x="1" y="102"/>
                  <a:pt x="1" y="101"/>
                  <a:pt x="1" y="101"/>
                </a:cubicBezTo>
                <a:cubicBezTo>
                  <a:pt x="1" y="100"/>
                  <a:pt x="0" y="99"/>
                  <a:pt x="0" y="99"/>
                </a:cubicBezTo>
                <a:cubicBezTo>
                  <a:pt x="0" y="98"/>
                  <a:pt x="0" y="97"/>
                  <a:pt x="0" y="97"/>
                </a:cubicBezTo>
                <a:cubicBezTo>
                  <a:pt x="4" y="142"/>
                  <a:pt x="8" y="188"/>
                  <a:pt x="12" y="234"/>
                </a:cubicBezTo>
                <a:cubicBezTo>
                  <a:pt x="13" y="235"/>
                  <a:pt x="13" y="235"/>
                  <a:pt x="13" y="236"/>
                </a:cubicBezTo>
                <a:cubicBezTo>
                  <a:pt x="13" y="237"/>
                  <a:pt x="13" y="238"/>
                  <a:pt x="14" y="238"/>
                </a:cubicBezTo>
                <a:cubicBezTo>
                  <a:pt x="14" y="239"/>
                  <a:pt x="14" y="240"/>
                  <a:pt x="15" y="240"/>
                </a:cubicBezTo>
                <a:cubicBezTo>
                  <a:pt x="15" y="241"/>
                  <a:pt x="16" y="242"/>
                  <a:pt x="16" y="242"/>
                </a:cubicBezTo>
                <a:cubicBezTo>
                  <a:pt x="17" y="243"/>
                  <a:pt x="17" y="244"/>
                  <a:pt x="18" y="244"/>
                </a:cubicBezTo>
                <a:cubicBezTo>
                  <a:pt x="18" y="244"/>
                  <a:pt x="18" y="244"/>
                  <a:pt x="18" y="244"/>
                </a:cubicBezTo>
                <a:cubicBezTo>
                  <a:pt x="18" y="245"/>
                  <a:pt x="18" y="245"/>
                  <a:pt x="18" y="245"/>
                </a:cubicBezTo>
                <a:cubicBezTo>
                  <a:pt x="19" y="245"/>
                  <a:pt x="19" y="245"/>
                  <a:pt x="20" y="246"/>
                </a:cubicBezTo>
                <a:cubicBezTo>
                  <a:pt x="20" y="246"/>
                  <a:pt x="20" y="246"/>
                  <a:pt x="20" y="246"/>
                </a:cubicBezTo>
                <a:cubicBezTo>
                  <a:pt x="20" y="246"/>
                  <a:pt x="20" y="246"/>
                  <a:pt x="20" y="246"/>
                </a:cubicBezTo>
                <a:cubicBezTo>
                  <a:pt x="21" y="246"/>
                  <a:pt x="22" y="247"/>
                  <a:pt x="22" y="247"/>
                </a:cubicBezTo>
                <a:cubicBezTo>
                  <a:pt x="23" y="247"/>
                  <a:pt x="23" y="247"/>
                  <a:pt x="23" y="247"/>
                </a:cubicBezTo>
                <a:cubicBezTo>
                  <a:pt x="23" y="247"/>
                  <a:pt x="23" y="247"/>
                  <a:pt x="23" y="247"/>
                </a:cubicBezTo>
                <a:cubicBezTo>
                  <a:pt x="24" y="248"/>
                  <a:pt x="24" y="248"/>
                  <a:pt x="24" y="248"/>
                </a:cubicBezTo>
                <a:cubicBezTo>
                  <a:pt x="24" y="248"/>
                  <a:pt x="25" y="248"/>
                  <a:pt x="26" y="249"/>
                </a:cubicBezTo>
                <a:cubicBezTo>
                  <a:pt x="26" y="249"/>
                  <a:pt x="26" y="249"/>
                  <a:pt x="26" y="249"/>
                </a:cubicBezTo>
                <a:cubicBezTo>
                  <a:pt x="26" y="249"/>
                  <a:pt x="26" y="249"/>
                  <a:pt x="26" y="249"/>
                </a:cubicBezTo>
                <a:cubicBezTo>
                  <a:pt x="26" y="249"/>
                  <a:pt x="26" y="249"/>
                  <a:pt x="26" y="249"/>
                </a:cubicBezTo>
                <a:cubicBezTo>
                  <a:pt x="27" y="249"/>
                  <a:pt x="27" y="249"/>
                  <a:pt x="27" y="249"/>
                </a:cubicBezTo>
                <a:cubicBezTo>
                  <a:pt x="28" y="249"/>
                  <a:pt x="28" y="250"/>
                  <a:pt x="28" y="250"/>
                </a:cubicBezTo>
                <a:cubicBezTo>
                  <a:pt x="29" y="250"/>
                  <a:pt x="29" y="250"/>
                  <a:pt x="29" y="250"/>
                </a:cubicBezTo>
                <a:cubicBezTo>
                  <a:pt x="29" y="250"/>
                  <a:pt x="29" y="250"/>
                  <a:pt x="29" y="250"/>
                </a:cubicBezTo>
                <a:cubicBezTo>
                  <a:pt x="30" y="250"/>
                  <a:pt x="30" y="250"/>
                  <a:pt x="30" y="250"/>
                </a:cubicBezTo>
                <a:cubicBezTo>
                  <a:pt x="30" y="250"/>
                  <a:pt x="31" y="250"/>
                  <a:pt x="31" y="251"/>
                </a:cubicBezTo>
                <a:cubicBezTo>
                  <a:pt x="31" y="251"/>
                  <a:pt x="32" y="251"/>
                  <a:pt x="32" y="251"/>
                </a:cubicBezTo>
                <a:cubicBezTo>
                  <a:pt x="33" y="251"/>
                  <a:pt x="33" y="251"/>
                  <a:pt x="33" y="251"/>
                </a:cubicBezTo>
                <a:cubicBezTo>
                  <a:pt x="33" y="251"/>
                  <a:pt x="33" y="251"/>
                  <a:pt x="33" y="251"/>
                </a:cubicBezTo>
                <a:cubicBezTo>
                  <a:pt x="33" y="251"/>
                  <a:pt x="33" y="251"/>
                  <a:pt x="33" y="251"/>
                </a:cubicBezTo>
                <a:cubicBezTo>
                  <a:pt x="34" y="251"/>
                  <a:pt x="34" y="251"/>
                  <a:pt x="34" y="252"/>
                </a:cubicBezTo>
                <a:cubicBezTo>
                  <a:pt x="35" y="252"/>
                  <a:pt x="35" y="252"/>
                  <a:pt x="36" y="252"/>
                </a:cubicBezTo>
                <a:cubicBezTo>
                  <a:pt x="36" y="252"/>
                  <a:pt x="36" y="252"/>
                  <a:pt x="37" y="252"/>
                </a:cubicBezTo>
                <a:cubicBezTo>
                  <a:pt x="37" y="252"/>
                  <a:pt x="37" y="252"/>
                  <a:pt x="38" y="252"/>
                </a:cubicBezTo>
                <a:cubicBezTo>
                  <a:pt x="38" y="252"/>
                  <a:pt x="39" y="253"/>
                  <a:pt x="39" y="253"/>
                </a:cubicBezTo>
                <a:cubicBezTo>
                  <a:pt x="39" y="253"/>
                  <a:pt x="40" y="253"/>
                  <a:pt x="40" y="253"/>
                </a:cubicBezTo>
                <a:cubicBezTo>
                  <a:pt x="40" y="253"/>
                  <a:pt x="41" y="253"/>
                  <a:pt x="41" y="253"/>
                </a:cubicBezTo>
                <a:cubicBezTo>
                  <a:pt x="42" y="253"/>
                  <a:pt x="42" y="253"/>
                  <a:pt x="42" y="253"/>
                </a:cubicBezTo>
                <a:cubicBezTo>
                  <a:pt x="43" y="253"/>
                  <a:pt x="43" y="253"/>
                  <a:pt x="43" y="253"/>
                </a:cubicBezTo>
                <a:cubicBezTo>
                  <a:pt x="44" y="254"/>
                  <a:pt x="44" y="254"/>
                  <a:pt x="44" y="254"/>
                </a:cubicBezTo>
                <a:cubicBezTo>
                  <a:pt x="45" y="254"/>
                  <a:pt x="45" y="254"/>
                  <a:pt x="45" y="254"/>
                </a:cubicBezTo>
                <a:cubicBezTo>
                  <a:pt x="46" y="254"/>
                  <a:pt x="46" y="254"/>
                  <a:pt x="46" y="254"/>
                </a:cubicBezTo>
                <a:cubicBezTo>
                  <a:pt x="46" y="254"/>
                  <a:pt x="46" y="254"/>
                  <a:pt x="47" y="254"/>
                </a:cubicBezTo>
                <a:cubicBezTo>
                  <a:pt x="47" y="254"/>
                  <a:pt x="47" y="254"/>
                  <a:pt x="48" y="254"/>
                </a:cubicBezTo>
                <a:cubicBezTo>
                  <a:pt x="49" y="254"/>
                  <a:pt x="49" y="254"/>
                  <a:pt x="49" y="254"/>
                </a:cubicBezTo>
                <a:cubicBezTo>
                  <a:pt x="49" y="254"/>
                  <a:pt x="49" y="254"/>
                  <a:pt x="49" y="254"/>
                </a:cubicBezTo>
                <a:cubicBezTo>
                  <a:pt x="50" y="254"/>
                  <a:pt x="50" y="254"/>
                  <a:pt x="50" y="254"/>
                </a:cubicBezTo>
                <a:cubicBezTo>
                  <a:pt x="50" y="255"/>
                  <a:pt x="51" y="255"/>
                  <a:pt x="51" y="255"/>
                </a:cubicBezTo>
                <a:cubicBezTo>
                  <a:pt x="51" y="255"/>
                  <a:pt x="52" y="255"/>
                  <a:pt x="52" y="255"/>
                </a:cubicBezTo>
                <a:cubicBezTo>
                  <a:pt x="53" y="255"/>
                  <a:pt x="53" y="255"/>
                  <a:pt x="53" y="255"/>
                </a:cubicBezTo>
                <a:cubicBezTo>
                  <a:pt x="54" y="255"/>
                  <a:pt x="54" y="255"/>
                  <a:pt x="54" y="255"/>
                </a:cubicBezTo>
                <a:cubicBezTo>
                  <a:pt x="54" y="255"/>
                  <a:pt x="54" y="255"/>
                  <a:pt x="54" y="255"/>
                </a:cubicBezTo>
                <a:cubicBezTo>
                  <a:pt x="54" y="255"/>
                  <a:pt x="54" y="255"/>
                  <a:pt x="54" y="255"/>
                </a:cubicBezTo>
                <a:cubicBezTo>
                  <a:pt x="54" y="255"/>
                  <a:pt x="54" y="255"/>
                  <a:pt x="54" y="255"/>
                </a:cubicBezTo>
                <a:cubicBezTo>
                  <a:pt x="55" y="255"/>
                  <a:pt x="55" y="255"/>
                  <a:pt x="56" y="255"/>
                </a:cubicBezTo>
                <a:cubicBezTo>
                  <a:pt x="56" y="255"/>
                  <a:pt x="56" y="255"/>
                  <a:pt x="57" y="255"/>
                </a:cubicBezTo>
                <a:cubicBezTo>
                  <a:pt x="57" y="255"/>
                  <a:pt x="57" y="255"/>
                  <a:pt x="58" y="255"/>
                </a:cubicBezTo>
                <a:cubicBezTo>
                  <a:pt x="58" y="255"/>
                  <a:pt x="58" y="255"/>
                  <a:pt x="58" y="255"/>
                </a:cubicBezTo>
                <a:cubicBezTo>
                  <a:pt x="58" y="255"/>
                  <a:pt x="58" y="255"/>
                  <a:pt x="58" y="255"/>
                </a:cubicBezTo>
                <a:cubicBezTo>
                  <a:pt x="58" y="255"/>
                  <a:pt x="59" y="255"/>
                  <a:pt x="59" y="255"/>
                </a:cubicBezTo>
                <a:cubicBezTo>
                  <a:pt x="59" y="255"/>
                  <a:pt x="60" y="255"/>
                  <a:pt x="60" y="255"/>
                </a:cubicBezTo>
                <a:cubicBezTo>
                  <a:pt x="61" y="255"/>
                  <a:pt x="61" y="255"/>
                  <a:pt x="61" y="255"/>
                </a:cubicBezTo>
                <a:cubicBezTo>
                  <a:pt x="62" y="255"/>
                  <a:pt x="62" y="256"/>
                  <a:pt x="62" y="256"/>
                </a:cubicBezTo>
                <a:cubicBezTo>
                  <a:pt x="63" y="256"/>
                  <a:pt x="63" y="256"/>
                  <a:pt x="64" y="256"/>
                </a:cubicBezTo>
                <a:cubicBezTo>
                  <a:pt x="64" y="256"/>
                  <a:pt x="64" y="256"/>
                  <a:pt x="65" y="256"/>
                </a:cubicBezTo>
                <a:cubicBezTo>
                  <a:pt x="65" y="256"/>
                  <a:pt x="66" y="256"/>
                  <a:pt x="66" y="256"/>
                </a:cubicBezTo>
                <a:cubicBezTo>
                  <a:pt x="66" y="256"/>
                  <a:pt x="67" y="256"/>
                  <a:pt x="67" y="256"/>
                </a:cubicBezTo>
                <a:cubicBezTo>
                  <a:pt x="68" y="256"/>
                  <a:pt x="68" y="256"/>
                  <a:pt x="68" y="256"/>
                </a:cubicBezTo>
                <a:cubicBezTo>
                  <a:pt x="69" y="256"/>
                  <a:pt x="69" y="256"/>
                  <a:pt x="69" y="256"/>
                </a:cubicBezTo>
                <a:cubicBezTo>
                  <a:pt x="69" y="256"/>
                  <a:pt x="69" y="256"/>
                  <a:pt x="69" y="256"/>
                </a:cubicBezTo>
                <a:cubicBezTo>
                  <a:pt x="70" y="256"/>
                  <a:pt x="70" y="256"/>
                  <a:pt x="70" y="256"/>
                </a:cubicBezTo>
                <a:cubicBezTo>
                  <a:pt x="70" y="256"/>
                  <a:pt x="70" y="256"/>
                  <a:pt x="71" y="256"/>
                </a:cubicBezTo>
                <a:cubicBezTo>
                  <a:pt x="71" y="256"/>
                  <a:pt x="72" y="256"/>
                  <a:pt x="72" y="256"/>
                </a:cubicBezTo>
                <a:cubicBezTo>
                  <a:pt x="73" y="256"/>
                  <a:pt x="73" y="256"/>
                  <a:pt x="73" y="256"/>
                </a:cubicBezTo>
                <a:cubicBezTo>
                  <a:pt x="74" y="256"/>
                  <a:pt x="74" y="256"/>
                  <a:pt x="74" y="256"/>
                </a:cubicBezTo>
                <a:cubicBezTo>
                  <a:pt x="74" y="256"/>
                  <a:pt x="74" y="256"/>
                  <a:pt x="74" y="256"/>
                </a:cubicBezTo>
                <a:cubicBezTo>
                  <a:pt x="75" y="256"/>
                  <a:pt x="75" y="256"/>
                  <a:pt x="75" y="256"/>
                </a:cubicBezTo>
                <a:cubicBezTo>
                  <a:pt x="76" y="256"/>
                  <a:pt x="76" y="256"/>
                  <a:pt x="76" y="256"/>
                </a:cubicBezTo>
                <a:cubicBezTo>
                  <a:pt x="76" y="256"/>
                  <a:pt x="76" y="256"/>
                  <a:pt x="76" y="256"/>
                </a:cubicBezTo>
                <a:cubicBezTo>
                  <a:pt x="77" y="256"/>
                  <a:pt x="77" y="256"/>
                  <a:pt x="77" y="256"/>
                </a:cubicBezTo>
                <a:cubicBezTo>
                  <a:pt x="77" y="256"/>
                  <a:pt x="77" y="256"/>
                  <a:pt x="77" y="256"/>
                </a:cubicBezTo>
                <a:cubicBezTo>
                  <a:pt x="78" y="256"/>
                  <a:pt x="78" y="256"/>
                  <a:pt x="79" y="256"/>
                </a:cubicBezTo>
                <a:cubicBezTo>
                  <a:pt x="79" y="256"/>
                  <a:pt x="79" y="256"/>
                  <a:pt x="80" y="256"/>
                </a:cubicBezTo>
                <a:cubicBezTo>
                  <a:pt x="80" y="256"/>
                  <a:pt x="81" y="256"/>
                  <a:pt x="81" y="256"/>
                </a:cubicBezTo>
                <a:cubicBezTo>
                  <a:pt x="82" y="256"/>
                  <a:pt x="82" y="256"/>
                  <a:pt x="83" y="256"/>
                </a:cubicBezTo>
                <a:cubicBezTo>
                  <a:pt x="83" y="255"/>
                  <a:pt x="83" y="255"/>
                  <a:pt x="83" y="255"/>
                </a:cubicBezTo>
                <a:cubicBezTo>
                  <a:pt x="84" y="255"/>
                  <a:pt x="84" y="255"/>
                  <a:pt x="84" y="255"/>
                </a:cubicBezTo>
                <a:cubicBezTo>
                  <a:pt x="84" y="255"/>
                  <a:pt x="84" y="255"/>
                  <a:pt x="84" y="255"/>
                </a:cubicBezTo>
                <a:cubicBezTo>
                  <a:pt x="84" y="255"/>
                  <a:pt x="84" y="255"/>
                  <a:pt x="84" y="255"/>
                </a:cubicBezTo>
                <a:cubicBezTo>
                  <a:pt x="85" y="255"/>
                  <a:pt x="85" y="255"/>
                  <a:pt x="86" y="255"/>
                </a:cubicBezTo>
                <a:cubicBezTo>
                  <a:pt x="86" y="255"/>
                  <a:pt x="87" y="255"/>
                  <a:pt x="87" y="255"/>
                </a:cubicBezTo>
                <a:cubicBezTo>
                  <a:pt x="88" y="255"/>
                  <a:pt x="88" y="255"/>
                  <a:pt x="89" y="255"/>
                </a:cubicBezTo>
                <a:cubicBezTo>
                  <a:pt x="89" y="255"/>
                  <a:pt x="90" y="255"/>
                  <a:pt x="90" y="255"/>
                </a:cubicBezTo>
                <a:cubicBezTo>
                  <a:pt x="91" y="255"/>
                  <a:pt x="92" y="255"/>
                  <a:pt x="92" y="255"/>
                </a:cubicBezTo>
                <a:cubicBezTo>
                  <a:pt x="93" y="255"/>
                  <a:pt x="93" y="255"/>
                  <a:pt x="94" y="255"/>
                </a:cubicBezTo>
                <a:cubicBezTo>
                  <a:pt x="95" y="255"/>
                  <a:pt x="95" y="255"/>
                  <a:pt x="96" y="255"/>
                </a:cubicBezTo>
                <a:cubicBezTo>
                  <a:pt x="97" y="254"/>
                  <a:pt x="98" y="254"/>
                  <a:pt x="99" y="254"/>
                </a:cubicBezTo>
                <a:cubicBezTo>
                  <a:pt x="99" y="254"/>
                  <a:pt x="100" y="254"/>
                  <a:pt x="101" y="254"/>
                </a:cubicBezTo>
                <a:cubicBezTo>
                  <a:pt x="102" y="254"/>
                  <a:pt x="102" y="254"/>
                  <a:pt x="102" y="254"/>
                </a:cubicBezTo>
                <a:cubicBezTo>
                  <a:pt x="102" y="254"/>
                  <a:pt x="102" y="254"/>
                  <a:pt x="102" y="254"/>
                </a:cubicBezTo>
                <a:cubicBezTo>
                  <a:pt x="102" y="254"/>
                  <a:pt x="102" y="254"/>
                  <a:pt x="102" y="254"/>
                </a:cubicBezTo>
                <a:cubicBezTo>
                  <a:pt x="103" y="254"/>
                  <a:pt x="103" y="254"/>
                  <a:pt x="104" y="254"/>
                </a:cubicBezTo>
                <a:cubicBezTo>
                  <a:pt x="105" y="253"/>
                  <a:pt x="106" y="253"/>
                  <a:pt x="107" y="253"/>
                </a:cubicBezTo>
                <a:cubicBezTo>
                  <a:pt x="107" y="253"/>
                  <a:pt x="108" y="253"/>
                  <a:pt x="108" y="253"/>
                </a:cubicBezTo>
                <a:cubicBezTo>
                  <a:pt x="108" y="253"/>
                  <a:pt x="109" y="253"/>
                  <a:pt x="109" y="253"/>
                </a:cubicBezTo>
                <a:cubicBezTo>
                  <a:pt x="110" y="253"/>
                  <a:pt x="110" y="253"/>
                  <a:pt x="111" y="253"/>
                </a:cubicBezTo>
                <a:cubicBezTo>
                  <a:pt x="111" y="253"/>
                  <a:pt x="111" y="252"/>
                  <a:pt x="112" y="252"/>
                </a:cubicBezTo>
                <a:cubicBezTo>
                  <a:pt x="114" y="252"/>
                  <a:pt x="115" y="252"/>
                  <a:pt x="117" y="252"/>
                </a:cubicBezTo>
                <a:cubicBezTo>
                  <a:pt x="117" y="252"/>
                  <a:pt x="117" y="252"/>
                  <a:pt x="117" y="252"/>
                </a:cubicBezTo>
                <a:cubicBezTo>
                  <a:pt x="119" y="251"/>
                  <a:pt x="120" y="251"/>
                  <a:pt x="122" y="251"/>
                </a:cubicBezTo>
                <a:cubicBezTo>
                  <a:pt x="122" y="251"/>
                  <a:pt x="122" y="251"/>
                  <a:pt x="122" y="251"/>
                </a:cubicBezTo>
                <a:cubicBezTo>
                  <a:pt x="123" y="251"/>
                  <a:pt x="125" y="250"/>
                  <a:pt x="126" y="250"/>
                </a:cubicBezTo>
                <a:cubicBezTo>
                  <a:pt x="133" y="336"/>
                  <a:pt x="133" y="336"/>
                  <a:pt x="133" y="336"/>
                </a:cubicBezTo>
                <a:cubicBezTo>
                  <a:pt x="320" y="337"/>
                  <a:pt x="320" y="337"/>
                  <a:pt x="320" y="337"/>
                </a:cubicBezTo>
                <a:cubicBezTo>
                  <a:pt x="322" y="337"/>
                  <a:pt x="336" y="336"/>
                  <a:pt x="356" y="336"/>
                </a:cubicBezTo>
                <a:cubicBezTo>
                  <a:pt x="376" y="336"/>
                  <a:pt x="402" y="336"/>
                  <a:pt x="430" y="335"/>
                </a:cubicBezTo>
                <a:cubicBezTo>
                  <a:pt x="458" y="335"/>
                  <a:pt x="488" y="335"/>
                  <a:pt x="515" y="335"/>
                </a:cubicBezTo>
                <a:cubicBezTo>
                  <a:pt x="542" y="334"/>
                  <a:pt x="566" y="334"/>
                  <a:pt x="583" y="334"/>
                </a:cubicBezTo>
                <a:cubicBezTo>
                  <a:pt x="584" y="334"/>
                  <a:pt x="585" y="334"/>
                  <a:pt x="585" y="334"/>
                </a:cubicBezTo>
                <a:cubicBezTo>
                  <a:pt x="586" y="334"/>
                  <a:pt x="587" y="334"/>
                  <a:pt x="588" y="334"/>
                </a:cubicBezTo>
                <a:cubicBezTo>
                  <a:pt x="588" y="334"/>
                  <a:pt x="589" y="334"/>
                  <a:pt x="590" y="334"/>
                </a:cubicBezTo>
                <a:cubicBezTo>
                  <a:pt x="590" y="334"/>
                  <a:pt x="591" y="334"/>
                  <a:pt x="592" y="334"/>
                </a:cubicBezTo>
                <a:cubicBezTo>
                  <a:pt x="593" y="334"/>
                  <a:pt x="593" y="334"/>
                  <a:pt x="594" y="334"/>
                </a:cubicBezTo>
                <a:cubicBezTo>
                  <a:pt x="595" y="334"/>
                  <a:pt x="596" y="334"/>
                  <a:pt x="597" y="334"/>
                </a:cubicBezTo>
                <a:cubicBezTo>
                  <a:pt x="597" y="334"/>
                  <a:pt x="597" y="334"/>
                  <a:pt x="597" y="334"/>
                </a:cubicBezTo>
                <a:cubicBezTo>
                  <a:pt x="598" y="334"/>
                  <a:pt x="598" y="334"/>
                  <a:pt x="599" y="334"/>
                </a:cubicBezTo>
                <a:cubicBezTo>
                  <a:pt x="600" y="334"/>
                  <a:pt x="600" y="334"/>
                  <a:pt x="601" y="334"/>
                </a:cubicBezTo>
                <a:cubicBezTo>
                  <a:pt x="602" y="334"/>
                  <a:pt x="602" y="334"/>
                  <a:pt x="602" y="334"/>
                </a:cubicBezTo>
                <a:cubicBezTo>
                  <a:pt x="602" y="334"/>
                  <a:pt x="602" y="334"/>
                  <a:pt x="603" y="334"/>
                </a:cubicBezTo>
                <a:cubicBezTo>
                  <a:pt x="604" y="334"/>
                  <a:pt x="604" y="334"/>
                  <a:pt x="605" y="334"/>
                </a:cubicBezTo>
                <a:cubicBezTo>
                  <a:pt x="606" y="334"/>
                  <a:pt x="606" y="334"/>
                  <a:pt x="606" y="334"/>
                </a:cubicBezTo>
                <a:cubicBezTo>
                  <a:pt x="607" y="334"/>
                  <a:pt x="607" y="334"/>
                  <a:pt x="607" y="334"/>
                </a:cubicBezTo>
                <a:cubicBezTo>
                  <a:pt x="608" y="334"/>
                  <a:pt x="608" y="334"/>
                  <a:pt x="609" y="334"/>
                </a:cubicBezTo>
                <a:cubicBezTo>
                  <a:pt x="610" y="334"/>
                  <a:pt x="610" y="334"/>
                  <a:pt x="611" y="334"/>
                </a:cubicBezTo>
                <a:cubicBezTo>
                  <a:pt x="611" y="334"/>
                  <a:pt x="611" y="334"/>
                  <a:pt x="611" y="334"/>
                </a:cubicBezTo>
                <a:cubicBezTo>
                  <a:pt x="611" y="334"/>
                  <a:pt x="612" y="334"/>
                  <a:pt x="613" y="334"/>
                </a:cubicBezTo>
                <a:cubicBezTo>
                  <a:pt x="614" y="334"/>
                  <a:pt x="615" y="334"/>
                  <a:pt x="616" y="333"/>
                </a:cubicBezTo>
                <a:cubicBezTo>
                  <a:pt x="617" y="333"/>
                  <a:pt x="618" y="333"/>
                  <a:pt x="618" y="333"/>
                </a:cubicBezTo>
                <a:cubicBezTo>
                  <a:pt x="619" y="333"/>
                  <a:pt x="620" y="333"/>
                  <a:pt x="621" y="333"/>
                </a:cubicBezTo>
                <a:cubicBezTo>
                  <a:pt x="621" y="333"/>
                  <a:pt x="622" y="333"/>
                  <a:pt x="622" y="333"/>
                </a:cubicBezTo>
                <a:cubicBezTo>
                  <a:pt x="622" y="333"/>
                  <a:pt x="622" y="333"/>
                  <a:pt x="622" y="333"/>
                </a:cubicBezTo>
                <a:cubicBezTo>
                  <a:pt x="622" y="333"/>
                  <a:pt x="623" y="333"/>
                  <a:pt x="623" y="333"/>
                </a:cubicBezTo>
                <a:cubicBezTo>
                  <a:pt x="624" y="333"/>
                  <a:pt x="624" y="333"/>
                  <a:pt x="625" y="333"/>
                </a:cubicBezTo>
                <a:cubicBezTo>
                  <a:pt x="625" y="333"/>
                  <a:pt x="625" y="333"/>
                  <a:pt x="625" y="333"/>
                </a:cubicBezTo>
                <a:cubicBezTo>
                  <a:pt x="625" y="333"/>
                  <a:pt x="625" y="333"/>
                  <a:pt x="625" y="333"/>
                </a:cubicBezTo>
                <a:cubicBezTo>
                  <a:pt x="625" y="333"/>
                  <a:pt x="625" y="333"/>
                  <a:pt x="625" y="333"/>
                </a:cubicBezTo>
                <a:cubicBezTo>
                  <a:pt x="626" y="333"/>
                  <a:pt x="627" y="333"/>
                  <a:pt x="627" y="333"/>
                </a:cubicBezTo>
                <a:cubicBezTo>
                  <a:pt x="628" y="333"/>
                  <a:pt x="628" y="333"/>
                  <a:pt x="628" y="333"/>
                </a:cubicBezTo>
                <a:cubicBezTo>
                  <a:pt x="628" y="333"/>
                  <a:pt x="628" y="333"/>
                  <a:pt x="628" y="333"/>
                </a:cubicBezTo>
                <a:cubicBezTo>
                  <a:pt x="629" y="333"/>
                  <a:pt x="629" y="333"/>
                  <a:pt x="629" y="333"/>
                </a:cubicBezTo>
                <a:cubicBezTo>
                  <a:pt x="630" y="333"/>
                  <a:pt x="630" y="332"/>
                  <a:pt x="631" y="332"/>
                </a:cubicBezTo>
                <a:cubicBezTo>
                  <a:pt x="631" y="332"/>
                  <a:pt x="632" y="332"/>
                  <a:pt x="632" y="332"/>
                </a:cubicBezTo>
                <a:cubicBezTo>
                  <a:pt x="633" y="332"/>
                  <a:pt x="633" y="332"/>
                  <a:pt x="633" y="332"/>
                </a:cubicBezTo>
                <a:cubicBezTo>
                  <a:pt x="633" y="332"/>
                  <a:pt x="633" y="332"/>
                  <a:pt x="633" y="332"/>
                </a:cubicBezTo>
                <a:cubicBezTo>
                  <a:pt x="634" y="332"/>
                  <a:pt x="634" y="332"/>
                  <a:pt x="634" y="332"/>
                </a:cubicBezTo>
                <a:cubicBezTo>
                  <a:pt x="635" y="332"/>
                  <a:pt x="635" y="332"/>
                  <a:pt x="636" y="332"/>
                </a:cubicBezTo>
                <a:cubicBezTo>
                  <a:pt x="636" y="332"/>
                  <a:pt x="636" y="332"/>
                  <a:pt x="636" y="332"/>
                </a:cubicBezTo>
                <a:cubicBezTo>
                  <a:pt x="636" y="332"/>
                  <a:pt x="636" y="332"/>
                  <a:pt x="636" y="332"/>
                </a:cubicBezTo>
                <a:cubicBezTo>
                  <a:pt x="636" y="332"/>
                  <a:pt x="637" y="332"/>
                  <a:pt x="637" y="332"/>
                </a:cubicBezTo>
                <a:cubicBezTo>
                  <a:pt x="638" y="332"/>
                  <a:pt x="638" y="332"/>
                  <a:pt x="638" y="332"/>
                </a:cubicBezTo>
                <a:cubicBezTo>
                  <a:pt x="638" y="332"/>
                  <a:pt x="638" y="332"/>
                  <a:pt x="638" y="332"/>
                </a:cubicBezTo>
                <a:cubicBezTo>
                  <a:pt x="639" y="331"/>
                  <a:pt x="639" y="331"/>
                  <a:pt x="639" y="331"/>
                </a:cubicBezTo>
                <a:cubicBezTo>
                  <a:pt x="639" y="331"/>
                  <a:pt x="639" y="331"/>
                  <a:pt x="639" y="331"/>
                </a:cubicBezTo>
                <a:cubicBezTo>
                  <a:pt x="640" y="331"/>
                  <a:pt x="642" y="331"/>
                  <a:pt x="643" y="331"/>
                </a:cubicBezTo>
                <a:cubicBezTo>
                  <a:pt x="643" y="331"/>
                  <a:pt x="643" y="331"/>
                  <a:pt x="643" y="331"/>
                </a:cubicBezTo>
                <a:cubicBezTo>
                  <a:pt x="643" y="331"/>
                  <a:pt x="643" y="331"/>
                  <a:pt x="643" y="331"/>
                </a:cubicBezTo>
                <a:cubicBezTo>
                  <a:pt x="644" y="330"/>
                  <a:pt x="645" y="330"/>
                  <a:pt x="645" y="330"/>
                </a:cubicBezTo>
                <a:cubicBezTo>
                  <a:pt x="645" y="330"/>
                  <a:pt x="645" y="330"/>
                  <a:pt x="645" y="330"/>
                </a:cubicBezTo>
                <a:cubicBezTo>
                  <a:pt x="646" y="330"/>
                  <a:pt x="646" y="330"/>
                  <a:pt x="646" y="330"/>
                </a:cubicBezTo>
                <a:cubicBezTo>
                  <a:pt x="646" y="330"/>
                  <a:pt x="647" y="330"/>
                  <a:pt x="647" y="330"/>
                </a:cubicBezTo>
                <a:cubicBezTo>
                  <a:pt x="648" y="329"/>
                  <a:pt x="648" y="329"/>
                  <a:pt x="648" y="329"/>
                </a:cubicBezTo>
                <a:cubicBezTo>
                  <a:pt x="648" y="329"/>
                  <a:pt x="648" y="329"/>
                  <a:pt x="648" y="329"/>
                </a:cubicBezTo>
                <a:cubicBezTo>
                  <a:pt x="648" y="329"/>
                  <a:pt x="648" y="329"/>
                  <a:pt x="648" y="329"/>
                </a:cubicBezTo>
                <a:cubicBezTo>
                  <a:pt x="649" y="329"/>
                  <a:pt x="649" y="329"/>
                  <a:pt x="649" y="329"/>
                </a:cubicBezTo>
                <a:cubicBezTo>
                  <a:pt x="650" y="329"/>
                  <a:pt x="650" y="329"/>
                  <a:pt x="650" y="329"/>
                </a:cubicBezTo>
                <a:cubicBezTo>
                  <a:pt x="650" y="329"/>
                  <a:pt x="650" y="329"/>
                  <a:pt x="650" y="329"/>
                </a:cubicBezTo>
                <a:cubicBezTo>
                  <a:pt x="650" y="329"/>
                  <a:pt x="650" y="329"/>
                  <a:pt x="650" y="329"/>
                </a:cubicBezTo>
                <a:cubicBezTo>
                  <a:pt x="650" y="328"/>
                  <a:pt x="650" y="328"/>
                  <a:pt x="650" y="328"/>
                </a:cubicBezTo>
                <a:cubicBezTo>
                  <a:pt x="651" y="328"/>
                  <a:pt x="651" y="328"/>
                  <a:pt x="651" y="328"/>
                </a:cubicBezTo>
                <a:cubicBezTo>
                  <a:pt x="651" y="328"/>
                  <a:pt x="651" y="328"/>
                  <a:pt x="651" y="328"/>
                </a:cubicBezTo>
                <a:cubicBezTo>
                  <a:pt x="652" y="327"/>
                  <a:pt x="652" y="327"/>
                  <a:pt x="652" y="327"/>
                </a:cubicBezTo>
                <a:cubicBezTo>
                  <a:pt x="652" y="327"/>
                  <a:pt x="652" y="327"/>
                  <a:pt x="652" y="327"/>
                </a:cubicBezTo>
                <a:cubicBezTo>
                  <a:pt x="653" y="327"/>
                  <a:pt x="653" y="327"/>
                  <a:pt x="653" y="327"/>
                </a:cubicBezTo>
                <a:cubicBezTo>
                  <a:pt x="653" y="327"/>
                  <a:pt x="653" y="327"/>
                  <a:pt x="653" y="327"/>
                </a:cubicBezTo>
                <a:cubicBezTo>
                  <a:pt x="653" y="327"/>
                  <a:pt x="653" y="327"/>
                  <a:pt x="653" y="327"/>
                </a:cubicBezTo>
                <a:cubicBezTo>
                  <a:pt x="653" y="327"/>
                  <a:pt x="654" y="326"/>
                  <a:pt x="655" y="326"/>
                </a:cubicBezTo>
                <a:cubicBezTo>
                  <a:pt x="655" y="326"/>
                  <a:pt x="655" y="326"/>
                  <a:pt x="655" y="326"/>
                </a:cubicBezTo>
                <a:cubicBezTo>
                  <a:pt x="656" y="326"/>
                  <a:pt x="656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4"/>
                  <a:pt x="657" y="324"/>
                  <a:pt x="657" y="324"/>
                </a:cubicBezTo>
                <a:cubicBezTo>
                  <a:pt x="657" y="324"/>
                  <a:pt x="657" y="324"/>
                  <a:pt x="657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3"/>
                  <a:pt x="658" y="323"/>
                  <a:pt x="658" y="323"/>
                </a:cubicBezTo>
                <a:cubicBezTo>
                  <a:pt x="658" y="323"/>
                  <a:pt x="658" y="323"/>
                  <a:pt x="658" y="323"/>
                </a:cubicBezTo>
                <a:cubicBezTo>
                  <a:pt x="658" y="323"/>
                  <a:pt x="658" y="323"/>
                  <a:pt x="658" y="323"/>
                </a:cubicBezTo>
                <a:cubicBezTo>
                  <a:pt x="658" y="323"/>
                  <a:pt x="658" y="323"/>
                  <a:pt x="658" y="323"/>
                </a:cubicBezTo>
                <a:cubicBezTo>
                  <a:pt x="658" y="323"/>
                  <a:pt x="658" y="323"/>
                  <a:pt x="658" y="323"/>
                </a:cubicBezTo>
                <a:cubicBezTo>
                  <a:pt x="658" y="323"/>
                  <a:pt x="658" y="323"/>
                  <a:pt x="658" y="323"/>
                </a:cubicBezTo>
                <a:cubicBezTo>
                  <a:pt x="658" y="323"/>
                  <a:pt x="658" y="323"/>
                  <a:pt x="658" y="323"/>
                </a:cubicBezTo>
                <a:cubicBezTo>
                  <a:pt x="658" y="322"/>
                  <a:pt x="658" y="322"/>
                  <a:pt x="658" y="322"/>
                </a:cubicBezTo>
                <a:cubicBezTo>
                  <a:pt x="658" y="322"/>
                  <a:pt x="658" y="322"/>
                  <a:pt x="658" y="322"/>
                </a:cubicBezTo>
                <a:cubicBezTo>
                  <a:pt x="658" y="322"/>
                  <a:pt x="658" y="322"/>
                  <a:pt x="658" y="322"/>
                </a:cubicBezTo>
                <a:cubicBezTo>
                  <a:pt x="658" y="322"/>
                  <a:pt x="658" y="322"/>
                  <a:pt x="658" y="322"/>
                </a:cubicBezTo>
                <a:cubicBezTo>
                  <a:pt x="658" y="322"/>
                  <a:pt x="658" y="322"/>
                  <a:pt x="658" y="322"/>
                </a:cubicBezTo>
                <a:cubicBezTo>
                  <a:pt x="658" y="321"/>
                  <a:pt x="658" y="321"/>
                  <a:pt x="658" y="321"/>
                </a:cubicBezTo>
                <a:cubicBezTo>
                  <a:pt x="658" y="321"/>
                  <a:pt x="658" y="321"/>
                  <a:pt x="658" y="321"/>
                </a:cubicBezTo>
                <a:cubicBezTo>
                  <a:pt x="658" y="321"/>
                  <a:pt x="658" y="321"/>
                  <a:pt x="658" y="321"/>
                </a:cubicBezTo>
                <a:cubicBezTo>
                  <a:pt x="658" y="321"/>
                  <a:pt x="658" y="321"/>
                  <a:pt x="658" y="321"/>
                </a:cubicBezTo>
                <a:cubicBezTo>
                  <a:pt x="658" y="321"/>
                  <a:pt x="658" y="321"/>
                  <a:pt x="658" y="321"/>
                </a:cubicBezTo>
                <a:cubicBezTo>
                  <a:pt x="658" y="321"/>
                  <a:pt x="658" y="321"/>
                  <a:pt x="658" y="321"/>
                </a:cubicBezTo>
                <a:cubicBezTo>
                  <a:pt x="657" y="287"/>
                  <a:pt x="657" y="287"/>
                  <a:pt x="657" y="287"/>
                </a:cubicBezTo>
                <a:cubicBezTo>
                  <a:pt x="656" y="244"/>
                  <a:pt x="656" y="244"/>
                  <a:pt x="656" y="244"/>
                </a:cubicBezTo>
                <a:cubicBezTo>
                  <a:pt x="657" y="244"/>
                  <a:pt x="658" y="244"/>
                  <a:pt x="659" y="244"/>
                </a:cubicBezTo>
                <a:cubicBezTo>
                  <a:pt x="659" y="244"/>
                  <a:pt x="659" y="244"/>
                  <a:pt x="659" y="244"/>
                </a:cubicBezTo>
                <a:cubicBezTo>
                  <a:pt x="661" y="244"/>
                  <a:pt x="663" y="244"/>
                  <a:pt x="665" y="243"/>
                </a:cubicBezTo>
                <a:cubicBezTo>
                  <a:pt x="666" y="243"/>
                  <a:pt x="667" y="243"/>
                  <a:pt x="668" y="244"/>
                </a:cubicBezTo>
                <a:cubicBezTo>
                  <a:pt x="669" y="244"/>
                  <a:pt x="670" y="244"/>
                  <a:pt x="671" y="244"/>
                </a:cubicBezTo>
                <a:cubicBezTo>
                  <a:pt x="671" y="244"/>
                  <a:pt x="671" y="244"/>
                  <a:pt x="671" y="244"/>
                </a:cubicBezTo>
                <a:cubicBezTo>
                  <a:pt x="672" y="244"/>
                  <a:pt x="673" y="244"/>
                  <a:pt x="674" y="244"/>
                </a:cubicBezTo>
                <a:cubicBezTo>
                  <a:pt x="675" y="244"/>
                  <a:pt x="675" y="244"/>
                  <a:pt x="675" y="244"/>
                </a:cubicBezTo>
                <a:cubicBezTo>
                  <a:pt x="675" y="244"/>
                  <a:pt x="675" y="244"/>
                  <a:pt x="675" y="244"/>
                </a:cubicBezTo>
                <a:cubicBezTo>
                  <a:pt x="676" y="244"/>
                  <a:pt x="677" y="244"/>
                  <a:pt x="677" y="244"/>
                </a:cubicBezTo>
                <a:cubicBezTo>
                  <a:pt x="678" y="244"/>
                  <a:pt x="679" y="244"/>
                  <a:pt x="680" y="244"/>
                </a:cubicBezTo>
                <a:cubicBezTo>
                  <a:pt x="681" y="244"/>
                  <a:pt x="682" y="244"/>
                  <a:pt x="683" y="244"/>
                </a:cubicBezTo>
                <a:cubicBezTo>
                  <a:pt x="683" y="244"/>
                  <a:pt x="683" y="244"/>
                  <a:pt x="683" y="244"/>
                </a:cubicBezTo>
                <a:cubicBezTo>
                  <a:pt x="684" y="244"/>
                  <a:pt x="684" y="244"/>
                  <a:pt x="684" y="244"/>
                </a:cubicBezTo>
                <a:cubicBezTo>
                  <a:pt x="684" y="244"/>
                  <a:pt x="684" y="244"/>
                  <a:pt x="684" y="244"/>
                </a:cubicBezTo>
                <a:cubicBezTo>
                  <a:pt x="685" y="245"/>
                  <a:pt x="685" y="245"/>
                  <a:pt x="685" y="245"/>
                </a:cubicBezTo>
                <a:cubicBezTo>
                  <a:pt x="686" y="245"/>
                  <a:pt x="687" y="245"/>
                  <a:pt x="688" y="245"/>
                </a:cubicBezTo>
                <a:cubicBezTo>
                  <a:pt x="688" y="245"/>
                  <a:pt x="689" y="245"/>
                  <a:pt x="689" y="245"/>
                </a:cubicBezTo>
                <a:cubicBezTo>
                  <a:pt x="690" y="245"/>
                  <a:pt x="690" y="245"/>
                  <a:pt x="690" y="245"/>
                </a:cubicBezTo>
                <a:cubicBezTo>
                  <a:pt x="690" y="245"/>
                  <a:pt x="690" y="245"/>
                  <a:pt x="690" y="245"/>
                </a:cubicBezTo>
                <a:cubicBezTo>
                  <a:pt x="690" y="245"/>
                  <a:pt x="690" y="245"/>
                  <a:pt x="690" y="245"/>
                </a:cubicBezTo>
                <a:cubicBezTo>
                  <a:pt x="690" y="245"/>
                  <a:pt x="690" y="245"/>
                  <a:pt x="690" y="245"/>
                </a:cubicBezTo>
                <a:cubicBezTo>
                  <a:pt x="691" y="245"/>
                  <a:pt x="691" y="245"/>
                  <a:pt x="692" y="245"/>
                </a:cubicBezTo>
                <a:cubicBezTo>
                  <a:pt x="692" y="245"/>
                  <a:pt x="693" y="245"/>
                  <a:pt x="693" y="245"/>
                </a:cubicBezTo>
                <a:cubicBezTo>
                  <a:pt x="695" y="245"/>
                  <a:pt x="695" y="245"/>
                  <a:pt x="695" y="245"/>
                </a:cubicBezTo>
                <a:cubicBezTo>
                  <a:pt x="696" y="245"/>
                  <a:pt x="696" y="245"/>
                  <a:pt x="696" y="245"/>
                </a:cubicBezTo>
                <a:cubicBezTo>
                  <a:pt x="697" y="245"/>
                  <a:pt x="697" y="245"/>
                  <a:pt x="697" y="245"/>
                </a:cubicBezTo>
                <a:cubicBezTo>
                  <a:pt x="698" y="245"/>
                  <a:pt x="698" y="245"/>
                  <a:pt x="698" y="245"/>
                </a:cubicBezTo>
                <a:cubicBezTo>
                  <a:pt x="699" y="245"/>
                  <a:pt x="699" y="245"/>
                  <a:pt x="699" y="245"/>
                </a:cubicBezTo>
                <a:cubicBezTo>
                  <a:pt x="700" y="245"/>
                  <a:pt x="700" y="245"/>
                  <a:pt x="700" y="245"/>
                </a:cubicBezTo>
                <a:cubicBezTo>
                  <a:pt x="700" y="245"/>
                  <a:pt x="700" y="245"/>
                  <a:pt x="700" y="245"/>
                </a:cubicBezTo>
                <a:cubicBezTo>
                  <a:pt x="701" y="245"/>
                  <a:pt x="701" y="245"/>
                  <a:pt x="701" y="245"/>
                </a:cubicBezTo>
                <a:cubicBezTo>
                  <a:pt x="702" y="245"/>
                  <a:pt x="702" y="245"/>
                  <a:pt x="702" y="245"/>
                </a:cubicBezTo>
                <a:cubicBezTo>
                  <a:pt x="702" y="245"/>
                  <a:pt x="702" y="245"/>
                  <a:pt x="702" y="245"/>
                </a:cubicBezTo>
                <a:cubicBezTo>
                  <a:pt x="703" y="245"/>
                  <a:pt x="703" y="245"/>
                  <a:pt x="703" y="245"/>
                </a:cubicBezTo>
                <a:cubicBezTo>
                  <a:pt x="703" y="245"/>
                  <a:pt x="703" y="245"/>
                  <a:pt x="703" y="245"/>
                </a:cubicBezTo>
                <a:cubicBezTo>
                  <a:pt x="704" y="245"/>
                  <a:pt x="704" y="245"/>
                  <a:pt x="704" y="245"/>
                </a:cubicBezTo>
                <a:cubicBezTo>
                  <a:pt x="704" y="245"/>
                  <a:pt x="704" y="245"/>
                  <a:pt x="704" y="245"/>
                </a:cubicBezTo>
                <a:cubicBezTo>
                  <a:pt x="704" y="245"/>
                  <a:pt x="704" y="245"/>
                  <a:pt x="704" y="245"/>
                </a:cubicBezTo>
                <a:cubicBezTo>
                  <a:pt x="705" y="245"/>
                  <a:pt x="705" y="245"/>
                  <a:pt x="705" y="245"/>
                </a:cubicBezTo>
                <a:cubicBezTo>
                  <a:pt x="706" y="245"/>
                  <a:pt x="706" y="245"/>
                  <a:pt x="706" y="245"/>
                </a:cubicBezTo>
                <a:cubicBezTo>
                  <a:pt x="707" y="245"/>
                  <a:pt x="707" y="245"/>
                  <a:pt x="707" y="245"/>
                </a:cubicBezTo>
                <a:cubicBezTo>
                  <a:pt x="707" y="245"/>
                  <a:pt x="707" y="245"/>
                  <a:pt x="707" y="245"/>
                </a:cubicBezTo>
                <a:cubicBezTo>
                  <a:pt x="708" y="245"/>
                  <a:pt x="708" y="245"/>
                  <a:pt x="708" y="245"/>
                </a:cubicBezTo>
                <a:cubicBezTo>
                  <a:pt x="709" y="245"/>
                  <a:pt x="709" y="245"/>
                  <a:pt x="709" y="245"/>
                </a:cubicBezTo>
                <a:cubicBezTo>
                  <a:pt x="709" y="245"/>
                  <a:pt x="709" y="245"/>
                  <a:pt x="709" y="245"/>
                </a:cubicBezTo>
                <a:cubicBezTo>
                  <a:pt x="709" y="245"/>
                  <a:pt x="709" y="245"/>
                  <a:pt x="709" y="245"/>
                </a:cubicBezTo>
                <a:cubicBezTo>
                  <a:pt x="710" y="245"/>
                  <a:pt x="710" y="245"/>
                  <a:pt x="710" y="245"/>
                </a:cubicBezTo>
                <a:cubicBezTo>
                  <a:pt x="711" y="245"/>
                  <a:pt x="711" y="245"/>
                  <a:pt x="711" y="245"/>
                </a:cubicBezTo>
                <a:cubicBezTo>
                  <a:pt x="712" y="245"/>
                  <a:pt x="712" y="245"/>
                  <a:pt x="712" y="245"/>
                </a:cubicBezTo>
                <a:cubicBezTo>
                  <a:pt x="712" y="245"/>
                  <a:pt x="713" y="245"/>
                  <a:pt x="713" y="245"/>
                </a:cubicBezTo>
                <a:cubicBezTo>
                  <a:pt x="714" y="245"/>
                  <a:pt x="714" y="245"/>
                  <a:pt x="714" y="245"/>
                </a:cubicBezTo>
                <a:cubicBezTo>
                  <a:pt x="715" y="245"/>
                  <a:pt x="715" y="245"/>
                  <a:pt x="715" y="245"/>
                </a:cubicBezTo>
                <a:cubicBezTo>
                  <a:pt x="715" y="245"/>
                  <a:pt x="715" y="245"/>
                  <a:pt x="715" y="245"/>
                </a:cubicBezTo>
                <a:cubicBezTo>
                  <a:pt x="715" y="245"/>
                  <a:pt x="715" y="245"/>
                  <a:pt x="715" y="245"/>
                </a:cubicBezTo>
                <a:cubicBezTo>
                  <a:pt x="715" y="245"/>
                  <a:pt x="715" y="245"/>
                  <a:pt x="715" y="245"/>
                </a:cubicBezTo>
                <a:cubicBezTo>
                  <a:pt x="716" y="245"/>
                  <a:pt x="716" y="245"/>
                  <a:pt x="717" y="245"/>
                </a:cubicBezTo>
                <a:cubicBezTo>
                  <a:pt x="717" y="244"/>
                  <a:pt x="718" y="244"/>
                  <a:pt x="718" y="244"/>
                </a:cubicBezTo>
                <a:cubicBezTo>
                  <a:pt x="719" y="244"/>
                  <a:pt x="720" y="244"/>
                  <a:pt x="720" y="244"/>
                </a:cubicBezTo>
                <a:cubicBezTo>
                  <a:pt x="721" y="244"/>
                  <a:pt x="721" y="244"/>
                  <a:pt x="721" y="244"/>
                </a:cubicBezTo>
                <a:cubicBezTo>
                  <a:pt x="721" y="244"/>
                  <a:pt x="721" y="244"/>
                  <a:pt x="721" y="244"/>
                </a:cubicBezTo>
                <a:cubicBezTo>
                  <a:pt x="722" y="244"/>
                  <a:pt x="722" y="244"/>
                  <a:pt x="722" y="244"/>
                </a:cubicBezTo>
                <a:cubicBezTo>
                  <a:pt x="723" y="244"/>
                  <a:pt x="723" y="244"/>
                  <a:pt x="724" y="244"/>
                </a:cubicBezTo>
                <a:cubicBezTo>
                  <a:pt x="724" y="243"/>
                  <a:pt x="725" y="243"/>
                  <a:pt x="726" y="243"/>
                </a:cubicBezTo>
                <a:cubicBezTo>
                  <a:pt x="726" y="243"/>
                  <a:pt x="727" y="243"/>
                  <a:pt x="727" y="243"/>
                </a:cubicBezTo>
                <a:cubicBezTo>
                  <a:pt x="728" y="243"/>
                  <a:pt x="729" y="243"/>
                  <a:pt x="729" y="243"/>
                </a:cubicBezTo>
                <a:cubicBezTo>
                  <a:pt x="730" y="243"/>
                  <a:pt x="730" y="242"/>
                  <a:pt x="731" y="242"/>
                </a:cubicBezTo>
                <a:cubicBezTo>
                  <a:pt x="732" y="242"/>
                  <a:pt x="732" y="242"/>
                  <a:pt x="733" y="242"/>
                </a:cubicBezTo>
                <a:cubicBezTo>
                  <a:pt x="734" y="242"/>
                  <a:pt x="735" y="241"/>
                  <a:pt x="737" y="241"/>
                </a:cubicBezTo>
                <a:cubicBezTo>
                  <a:pt x="737" y="241"/>
                  <a:pt x="738" y="241"/>
                  <a:pt x="739" y="241"/>
                </a:cubicBezTo>
                <a:cubicBezTo>
                  <a:pt x="739" y="241"/>
                  <a:pt x="740" y="240"/>
                  <a:pt x="740" y="240"/>
                </a:cubicBezTo>
                <a:cubicBezTo>
                  <a:pt x="741" y="240"/>
                  <a:pt x="742" y="240"/>
                  <a:pt x="742" y="240"/>
                </a:cubicBezTo>
                <a:cubicBezTo>
                  <a:pt x="743" y="240"/>
                  <a:pt x="744" y="239"/>
                  <a:pt x="745" y="239"/>
                </a:cubicBezTo>
                <a:cubicBezTo>
                  <a:pt x="745" y="239"/>
                  <a:pt x="746" y="239"/>
                  <a:pt x="747" y="239"/>
                </a:cubicBezTo>
                <a:cubicBezTo>
                  <a:pt x="747" y="238"/>
                  <a:pt x="748" y="238"/>
                  <a:pt x="748" y="238"/>
                </a:cubicBezTo>
                <a:cubicBezTo>
                  <a:pt x="750" y="238"/>
                  <a:pt x="752" y="237"/>
                  <a:pt x="753" y="237"/>
                </a:cubicBezTo>
                <a:cubicBezTo>
                  <a:pt x="754" y="236"/>
                  <a:pt x="755" y="236"/>
                  <a:pt x="756" y="236"/>
                </a:cubicBezTo>
                <a:cubicBezTo>
                  <a:pt x="757" y="236"/>
                  <a:pt x="757" y="236"/>
                  <a:pt x="757" y="236"/>
                </a:cubicBezTo>
                <a:cubicBezTo>
                  <a:pt x="757" y="235"/>
                  <a:pt x="757" y="235"/>
                  <a:pt x="757" y="235"/>
                </a:cubicBezTo>
                <a:cubicBezTo>
                  <a:pt x="758" y="235"/>
                  <a:pt x="758" y="235"/>
                  <a:pt x="758" y="235"/>
                </a:cubicBezTo>
                <a:cubicBezTo>
                  <a:pt x="759" y="235"/>
                  <a:pt x="759" y="235"/>
                  <a:pt x="759" y="235"/>
                </a:cubicBezTo>
                <a:cubicBezTo>
                  <a:pt x="760" y="235"/>
                  <a:pt x="760" y="234"/>
                  <a:pt x="761" y="234"/>
                </a:cubicBezTo>
                <a:cubicBezTo>
                  <a:pt x="762" y="234"/>
                  <a:pt x="762" y="234"/>
                  <a:pt x="762" y="234"/>
                </a:cubicBezTo>
                <a:cubicBezTo>
                  <a:pt x="762" y="234"/>
                  <a:pt x="762" y="234"/>
                  <a:pt x="762" y="234"/>
                </a:cubicBezTo>
                <a:cubicBezTo>
                  <a:pt x="762" y="234"/>
                  <a:pt x="762" y="234"/>
                  <a:pt x="762" y="234"/>
                </a:cubicBezTo>
                <a:cubicBezTo>
                  <a:pt x="763" y="234"/>
                  <a:pt x="763" y="233"/>
                  <a:pt x="764" y="233"/>
                </a:cubicBezTo>
                <a:cubicBezTo>
                  <a:pt x="764" y="233"/>
                  <a:pt x="764" y="233"/>
                  <a:pt x="764" y="233"/>
                </a:cubicBezTo>
                <a:cubicBezTo>
                  <a:pt x="765" y="233"/>
                  <a:pt x="765" y="233"/>
                  <a:pt x="765" y="233"/>
                </a:cubicBezTo>
                <a:cubicBezTo>
                  <a:pt x="765" y="233"/>
                  <a:pt x="765" y="233"/>
                  <a:pt x="765" y="233"/>
                </a:cubicBezTo>
                <a:cubicBezTo>
                  <a:pt x="766" y="232"/>
                  <a:pt x="766" y="232"/>
                  <a:pt x="766" y="232"/>
                </a:cubicBezTo>
                <a:cubicBezTo>
                  <a:pt x="767" y="232"/>
                  <a:pt x="767" y="232"/>
                  <a:pt x="767" y="232"/>
                </a:cubicBezTo>
                <a:cubicBezTo>
                  <a:pt x="768" y="231"/>
                  <a:pt x="768" y="231"/>
                  <a:pt x="768" y="231"/>
                </a:cubicBezTo>
                <a:cubicBezTo>
                  <a:pt x="769" y="231"/>
                  <a:pt x="769" y="231"/>
                  <a:pt x="769" y="231"/>
                </a:cubicBezTo>
                <a:cubicBezTo>
                  <a:pt x="769" y="231"/>
                  <a:pt x="769" y="231"/>
                  <a:pt x="769" y="231"/>
                </a:cubicBezTo>
                <a:cubicBezTo>
                  <a:pt x="769" y="231"/>
                  <a:pt x="769" y="231"/>
                  <a:pt x="769" y="231"/>
                </a:cubicBezTo>
                <a:cubicBezTo>
                  <a:pt x="769" y="231"/>
                  <a:pt x="769" y="231"/>
                  <a:pt x="769" y="231"/>
                </a:cubicBezTo>
                <a:cubicBezTo>
                  <a:pt x="770" y="230"/>
                  <a:pt x="770" y="230"/>
                  <a:pt x="770" y="230"/>
                </a:cubicBezTo>
                <a:cubicBezTo>
                  <a:pt x="770" y="230"/>
                  <a:pt x="770" y="230"/>
                  <a:pt x="770" y="230"/>
                </a:cubicBezTo>
                <a:cubicBezTo>
                  <a:pt x="771" y="230"/>
                  <a:pt x="771" y="230"/>
                  <a:pt x="771" y="230"/>
                </a:cubicBezTo>
                <a:cubicBezTo>
                  <a:pt x="772" y="229"/>
                  <a:pt x="772" y="229"/>
                  <a:pt x="772" y="229"/>
                </a:cubicBezTo>
                <a:cubicBezTo>
                  <a:pt x="772" y="229"/>
                  <a:pt x="772" y="229"/>
                  <a:pt x="772" y="229"/>
                </a:cubicBezTo>
                <a:cubicBezTo>
                  <a:pt x="773" y="229"/>
                  <a:pt x="773" y="229"/>
                  <a:pt x="773" y="229"/>
                </a:cubicBezTo>
                <a:cubicBezTo>
                  <a:pt x="773" y="229"/>
                  <a:pt x="773" y="229"/>
                  <a:pt x="773" y="229"/>
                </a:cubicBezTo>
                <a:cubicBezTo>
                  <a:pt x="773" y="229"/>
                  <a:pt x="773" y="229"/>
                  <a:pt x="773" y="229"/>
                </a:cubicBezTo>
                <a:cubicBezTo>
                  <a:pt x="773" y="228"/>
                  <a:pt x="773" y="228"/>
                  <a:pt x="773" y="228"/>
                </a:cubicBezTo>
                <a:cubicBezTo>
                  <a:pt x="774" y="228"/>
                  <a:pt x="774" y="228"/>
                  <a:pt x="774" y="228"/>
                </a:cubicBezTo>
                <a:cubicBezTo>
                  <a:pt x="774" y="228"/>
                  <a:pt x="774" y="228"/>
                  <a:pt x="774" y="228"/>
                </a:cubicBezTo>
                <a:cubicBezTo>
                  <a:pt x="775" y="227"/>
                  <a:pt x="775" y="227"/>
                  <a:pt x="775" y="227"/>
                </a:cubicBezTo>
                <a:cubicBezTo>
                  <a:pt x="775" y="227"/>
                  <a:pt x="775" y="227"/>
                  <a:pt x="775" y="227"/>
                </a:cubicBezTo>
                <a:cubicBezTo>
                  <a:pt x="776" y="227"/>
                  <a:pt x="776" y="227"/>
                  <a:pt x="776" y="227"/>
                </a:cubicBezTo>
                <a:cubicBezTo>
                  <a:pt x="776" y="226"/>
                  <a:pt x="776" y="226"/>
                  <a:pt x="776" y="226"/>
                </a:cubicBezTo>
                <a:cubicBezTo>
                  <a:pt x="776" y="226"/>
                  <a:pt x="776" y="226"/>
                  <a:pt x="776" y="226"/>
                </a:cubicBezTo>
                <a:cubicBezTo>
                  <a:pt x="777" y="226"/>
                  <a:pt x="777" y="226"/>
                  <a:pt x="777" y="226"/>
                </a:cubicBezTo>
                <a:cubicBezTo>
                  <a:pt x="777" y="225"/>
                  <a:pt x="777" y="225"/>
                  <a:pt x="777" y="225"/>
                </a:cubicBezTo>
                <a:cubicBezTo>
                  <a:pt x="777" y="225"/>
                  <a:pt x="777" y="225"/>
                  <a:pt x="777" y="225"/>
                </a:cubicBezTo>
                <a:cubicBezTo>
                  <a:pt x="778" y="225"/>
                  <a:pt x="778" y="225"/>
                  <a:pt x="778" y="225"/>
                </a:cubicBezTo>
                <a:cubicBezTo>
                  <a:pt x="778" y="224"/>
                  <a:pt x="778" y="224"/>
                  <a:pt x="778" y="224"/>
                </a:cubicBezTo>
                <a:cubicBezTo>
                  <a:pt x="778" y="224"/>
                  <a:pt x="778" y="224"/>
                  <a:pt x="778" y="224"/>
                </a:cubicBezTo>
                <a:cubicBezTo>
                  <a:pt x="778" y="224"/>
                  <a:pt x="778" y="224"/>
                  <a:pt x="778" y="224"/>
                </a:cubicBezTo>
                <a:cubicBezTo>
                  <a:pt x="778" y="224"/>
                  <a:pt x="778" y="224"/>
                  <a:pt x="778" y="224"/>
                </a:cubicBezTo>
                <a:cubicBezTo>
                  <a:pt x="778" y="224"/>
                  <a:pt x="778" y="224"/>
                  <a:pt x="778" y="224"/>
                </a:cubicBezTo>
                <a:cubicBezTo>
                  <a:pt x="779" y="223"/>
                  <a:pt x="779" y="223"/>
                  <a:pt x="779" y="223"/>
                </a:cubicBezTo>
                <a:cubicBezTo>
                  <a:pt x="779" y="223"/>
                  <a:pt x="779" y="223"/>
                  <a:pt x="779" y="223"/>
                </a:cubicBezTo>
                <a:cubicBezTo>
                  <a:pt x="779" y="223"/>
                  <a:pt x="779" y="223"/>
                  <a:pt x="779" y="223"/>
                </a:cubicBezTo>
                <a:cubicBezTo>
                  <a:pt x="779" y="222"/>
                  <a:pt x="779" y="222"/>
                  <a:pt x="779" y="222"/>
                </a:cubicBezTo>
                <a:cubicBezTo>
                  <a:pt x="779" y="222"/>
                  <a:pt x="779" y="222"/>
                  <a:pt x="779" y="222"/>
                </a:cubicBezTo>
                <a:cubicBezTo>
                  <a:pt x="780" y="222"/>
                  <a:pt x="780" y="222"/>
                  <a:pt x="780" y="222"/>
                </a:cubicBezTo>
                <a:cubicBezTo>
                  <a:pt x="780" y="221"/>
                  <a:pt x="780" y="221"/>
                  <a:pt x="780" y="221"/>
                </a:cubicBezTo>
                <a:cubicBezTo>
                  <a:pt x="780" y="221"/>
                  <a:pt x="780" y="221"/>
                  <a:pt x="780" y="221"/>
                </a:cubicBezTo>
                <a:cubicBezTo>
                  <a:pt x="780" y="220"/>
                  <a:pt x="780" y="220"/>
                  <a:pt x="780" y="220"/>
                </a:cubicBezTo>
                <a:cubicBezTo>
                  <a:pt x="780" y="220"/>
                  <a:pt x="780" y="220"/>
                  <a:pt x="780" y="220"/>
                </a:cubicBezTo>
                <a:cubicBezTo>
                  <a:pt x="780" y="220"/>
                  <a:pt x="780" y="220"/>
                  <a:pt x="780" y="220"/>
                </a:cubicBezTo>
                <a:cubicBezTo>
                  <a:pt x="780" y="219"/>
                  <a:pt x="780" y="219"/>
                  <a:pt x="780" y="219"/>
                </a:cubicBezTo>
                <a:cubicBezTo>
                  <a:pt x="781" y="219"/>
                  <a:pt x="781" y="219"/>
                  <a:pt x="781" y="219"/>
                </a:cubicBezTo>
                <a:cubicBezTo>
                  <a:pt x="781" y="218"/>
                  <a:pt x="781" y="218"/>
                  <a:pt x="781" y="218"/>
                </a:cubicBezTo>
                <a:cubicBezTo>
                  <a:pt x="781" y="218"/>
                  <a:pt x="781" y="218"/>
                  <a:pt x="781" y="218"/>
                </a:cubicBezTo>
                <a:cubicBezTo>
                  <a:pt x="781" y="218"/>
                  <a:pt x="781" y="218"/>
                  <a:pt x="781" y="218"/>
                </a:cubicBezTo>
                <a:cubicBezTo>
                  <a:pt x="781" y="217"/>
                  <a:pt x="781" y="217"/>
                  <a:pt x="781" y="217"/>
                </a:cubicBezTo>
                <a:cubicBezTo>
                  <a:pt x="781" y="217"/>
                  <a:pt x="781" y="217"/>
                  <a:pt x="781" y="217"/>
                </a:cubicBezTo>
                <a:close/>
              </a:path>
            </a:pathLst>
          </a:custGeom>
          <a:gradFill rotWithShape="0">
            <a:gsLst>
              <a:gs pos="0">
                <a:srgbClr val="292929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Freeform 13"/>
          <p:cNvSpPr/>
          <p:nvPr/>
        </p:nvSpPr>
        <p:spPr>
          <a:xfrm flipH="1">
            <a:off x="3960720" y="3247920"/>
            <a:ext cx="1222560" cy="585720"/>
          </a:xfrm>
          <a:custGeom>
            <a:avLst/>
            <a:gdLst/>
            <a:ahLst/>
            <a:rect l="l" t="t" r="r" b="b"/>
            <a:pathLst>
              <a:path w="826" h="396">
                <a:moveTo>
                  <a:pt x="67" y="211"/>
                </a:moveTo>
                <a:cubicBezTo>
                  <a:pt x="67" y="211"/>
                  <a:pt x="67" y="211"/>
                  <a:pt x="67" y="211"/>
                </a:cubicBezTo>
                <a:cubicBezTo>
                  <a:pt x="68" y="211"/>
                  <a:pt x="68" y="211"/>
                  <a:pt x="68" y="211"/>
                </a:cubicBezTo>
                <a:cubicBezTo>
                  <a:pt x="68" y="211"/>
                  <a:pt x="68" y="211"/>
                  <a:pt x="68" y="211"/>
                </a:cubicBezTo>
                <a:cubicBezTo>
                  <a:pt x="68" y="211"/>
                  <a:pt x="68" y="211"/>
                  <a:pt x="68" y="211"/>
                </a:cubicBezTo>
                <a:cubicBezTo>
                  <a:pt x="69" y="211"/>
                  <a:pt x="69" y="211"/>
                  <a:pt x="69" y="211"/>
                </a:cubicBezTo>
                <a:cubicBezTo>
                  <a:pt x="69" y="211"/>
                  <a:pt x="69" y="211"/>
                  <a:pt x="69" y="211"/>
                </a:cubicBezTo>
                <a:cubicBezTo>
                  <a:pt x="70" y="211"/>
                  <a:pt x="70" y="211"/>
                  <a:pt x="70" y="211"/>
                </a:cubicBezTo>
                <a:cubicBezTo>
                  <a:pt x="71" y="211"/>
                  <a:pt x="71" y="211"/>
                  <a:pt x="71" y="211"/>
                </a:cubicBezTo>
                <a:cubicBezTo>
                  <a:pt x="71" y="211"/>
                  <a:pt x="71" y="211"/>
                  <a:pt x="71" y="211"/>
                </a:cubicBezTo>
                <a:cubicBezTo>
                  <a:pt x="72" y="210"/>
                  <a:pt x="72" y="210"/>
                  <a:pt x="72" y="210"/>
                </a:cubicBezTo>
                <a:cubicBezTo>
                  <a:pt x="73" y="210"/>
                  <a:pt x="73" y="210"/>
                  <a:pt x="73" y="210"/>
                </a:cubicBezTo>
                <a:cubicBezTo>
                  <a:pt x="73" y="210"/>
                  <a:pt x="73" y="210"/>
                  <a:pt x="73" y="210"/>
                </a:cubicBezTo>
                <a:cubicBezTo>
                  <a:pt x="73" y="210"/>
                  <a:pt x="73" y="210"/>
                  <a:pt x="73" y="210"/>
                </a:cubicBezTo>
                <a:cubicBezTo>
                  <a:pt x="74" y="210"/>
                  <a:pt x="74" y="210"/>
                  <a:pt x="74" y="210"/>
                </a:cubicBezTo>
                <a:cubicBezTo>
                  <a:pt x="75" y="210"/>
                  <a:pt x="75" y="210"/>
                  <a:pt x="75" y="210"/>
                </a:cubicBezTo>
                <a:cubicBezTo>
                  <a:pt x="76" y="210"/>
                  <a:pt x="76" y="210"/>
                  <a:pt x="76" y="210"/>
                </a:cubicBezTo>
                <a:cubicBezTo>
                  <a:pt x="77" y="210"/>
                  <a:pt x="77" y="210"/>
                  <a:pt x="77" y="210"/>
                </a:cubicBezTo>
                <a:cubicBezTo>
                  <a:pt x="78" y="210"/>
                  <a:pt x="78" y="210"/>
                  <a:pt x="78" y="210"/>
                </a:cubicBezTo>
                <a:cubicBezTo>
                  <a:pt x="78" y="210"/>
                  <a:pt x="78" y="210"/>
                  <a:pt x="78" y="210"/>
                </a:cubicBezTo>
                <a:cubicBezTo>
                  <a:pt x="78" y="210"/>
                  <a:pt x="78" y="210"/>
                  <a:pt x="78" y="210"/>
                </a:cubicBezTo>
                <a:cubicBezTo>
                  <a:pt x="78" y="210"/>
                  <a:pt x="78" y="210"/>
                  <a:pt x="78" y="210"/>
                </a:cubicBezTo>
                <a:cubicBezTo>
                  <a:pt x="78" y="210"/>
                  <a:pt x="78" y="210"/>
                  <a:pt x="78" y="210"/>
                </a:cubicBezTo>
                <a:cubicBezTo>
                  <a:pt x="79" y="210"/>
                  <a:pt x="79" y="210"/>
                  <a:pt x="79" y="210"/>
                </a:cubicBezTo>
                <a:cubicBezTo>
                  <a:pt x="80" y="210"/>
                  <a:pt x="80" y="210"/>
                  <a:pt x="81" y="210"/>
                </a:cubicBezTo>
                <a:cubicBezTo>
                  <a:pt x="81" y="210"/>
                  <a:pt x="81" y="210"/>
                  <a:pt x="82" y="210"/>
                </a:cubicBezTo>
                <a:cubicBezTo>
                  <a:pt x="82" y="210"/>
                  <a:pt x="83" y="210"/>
                  <a:pt x="83" y="209"/>
                </a:cubicBezTo>
                <a:cubicBezTo>
                  <a:pt x="83" y="209"/>
                  <a:pt x="83" y="209"/>
                  <a:pt x="83" y="209"/>
                </a:cubicBezTo>
                <a:cubicBezTo>
                  <a:pt x="83" y="209"/>
                  <a:pt x="83" y="209"/>
                  <a:pt x="83" y="209"/>
                </a:cubicBezTo>
                <a:cubicBezTo>
                  <a:pt x="84" y="209"/>
                  <a:pt x="84" y="209"/>
                  <a:pt x="84" y="209"/>
                </a:cubicBezTo>
                <a:cubicBezTo>
                  <a:pt x="85" y="209"/>
                  <a:pt x="86" y="209"/>
                  <a:pt x="86" y="209"/>
                </a:cubicBezTo>
                <a:cubicBezTo>
                  <a:pt x="86" y="286"/>
                  <a:pt x="86" y="286"/>
                  <a:pt x="86" y="286"/>
                </a:cubicBezTo>
                <a:cubicBezTo>
                  <a:pt x="86" y="288"/>
                  <a:pt x="87" y="291"/>
                  <a:pt x="88" y="294"/>
                </a:cubicBezTo>
                <a:cubicBezTo>
                  <a:pt x="88" y="295"/>
                  <a:pt x="88" y="296"/>
                  <a:pt x="89" y="297"/>
                </a:cubicBezTo>
                <a:cubicBezTo>
                  <a:pt x="90" y="301"/>
                  <a:pt x="92" y="305"/>
                  <a:pt x="95" y="310"/>
                </a:cubicBezTo>
                <a:cubicBezTo>
                  <a:pt x="97" y="314"/>
                  <a:pt x="100" y="318"/>
                  <a:pt x="103" y="322"/>
                </a:cubicBezTo>
                <a:cubicBezTo>
                  <a:pt x="106" y="326"/>
                  <a:pt x="109" y="329"/>
                  <a:pt x="112" y="332"/>
                </a:cubicBezTo>
                <a:cubicBezTo>
                  <a:pt x="116" y="336"/>
                  <a:pt x="119" y="340"/>
                  <a:pt x="122" y="343"/>
                </a:cubicBezTo>
                <a:cubicBezTo>
                  <a:pt x="125" y="346"/>
                  <a:pt x="128" y="348"/>
                  <a:pt x="130" y="350"/>
                </a:cubicBezTo>
                <a:cubicBezTo>
                  <a:pt x="133" y="352"/>
                  <a:pt x="134" y="354"/>
                  <a:pt x="136" y="355"/>
                </a:cubicBezTo>
                <a:cubicBezTo>
                  <a:pt x="137" y="356"/>
                  <a:pt x="138" y="357"/>
                  <a:pt x="138" y="357"/>
                </a:cubicBezTo>
                <a:cubicBezTo>
                  <a:pt x="139" y="357"/>
                  <a:pt x="143" y="356"/>
                  <a:pt x="150" y="355"/>
                </a:cubicBezTo>
                <a:cubicBezTo>
                  <a:pt x="156" y="353"/>
                  <a:pt x="164" y="352"/>
                  <a:pt x="174" y="350"/>
                </a:cubicBezTo>
                <a:cubicBezTo>
                  <a:pt x="179" y="349"/>
                  <a:pt x="184" y="348"/>
                  <a:pt x="189" y="347"/>
                </a:cubicBezTo>
                <a:cubicBezTo>
                  <a:pt x="190" y="347"/>
                  <a:pt x="190" y="347"/>
                  <a:pt x="190" y="347"/>
                </a:cubicBezTo>
                <a:cubicBezTo>
                  <a:pt x="193" y="346"/>
                  <a:pt x="195" y="346"/>
                  <a:pt x="198" y="345"/>
                </a:cubicBezTo>
                <a:cubicBezTo>
                  <a:pt x="198" y="345"/>
                  <a:pt x="198" y="345"/>
                  <a:pt x="198" y="345"/>
                </a:cubicBezTo>
                <a:cubicBezTo>
                  <a:pt x="201" y="345"/>
                  <a:pt x="204" y="344"/>
                  <a:pt x="207" y="344"/>
                </a:cubicBezTo>
                <a:cubicBezTo>
                  <a:pt x="207" y="344"/>
                  <a:pt x="207" y="344"/>
                  <a:pt x="207" y="344"/>
                </a:cubicBezTo>
                <a:cubicBezTo>
                  <a:pt x="209" y="343"/>
                  <a:pt x="210" y="343"/>
                  <a:pt x="211" y="343"/>
                </a:cubicBezTo>
                <a:cubicBezTo>
                  <a:pt x="218" y="341"/>
                  <a:pt x="226" y="340"/>
                  <a:pt x="234" y="339"/>
                </a:cubicBezTo>
                <a:cubicBezTo>
                  <a:pt x="236" y="338"/>
                  <a:pt x="238" y="338"/>
                  <a:pt x="241" y="337"/>
                </a:cubicBezTo>
                <a:cubicBezTo>
                  <a:pt x="242" y="337"/>
                  <a:pt x="242" y="337"/>
                  <a:pt x="243" y="337"/>
                </a:cubicBezTo>
                <a:cubicBezTo>
                  <a:pt x="244" y="337"/>
                  <a:pt x="245" y="337"/>
                  <a:pt x="246" y="337"/>
                </a:cubicBezTo>
                <a:cubicBezTo>
                  <a:pt x="253" y="335"/>
                  <a:pt x="260" y="334"/>
                  <a:pt x="267" y="333"/>
                </a:cubicBezTo>
                <a:cubicBezTo>
                  <a:pt x="268" y="333"/>
                  <a:pt x="268" y="333"/>
                  <a:pt x="268" y="333"/>
                </a:cubicBezTo>
                <a:cubicBezTo>
                  <a:pt x="272" y="332"/>
                  <a:pt x="275" y="332"/>
                  <a:pt x="279" y="331"/>
                </a:cubicBezTo>
                <a:cubicBezTo>
                  <a:pt x="280" y="331"/>
                  <a:pt x="280" y="331"/>
                  <a:pt x="280" y="331"/>
                </a:cubicBezTo>
                <a:cubicBezTo>
                  <a:pt x="283" y="330"/>
                  <a:pt x="285" y="330"/>
                  <a:pt x="288" y="329"/>
                </a:cubicBezTo>
                <a:cubicBezTo>
                  <a:pt x="289" y="329"/>
                  <a:pt x="290" y="329"/>
                  <a:pt x="291" y="329"/>
                </a:cubicBezTo>
                <a:cubicBezTo>
                  <a:pt x="294" y="329"/>
                  <a:pt x="296" y="328"/>
                  <a:pt x="298" y="328"/>
                </a:cubicBezTo>
                <a:cubicBezTo>
                  <a:pt x="299" y="328"/>
                  <a:pt x="300" y="328"/>
                  <a:pt x="301" y="327"/>
                </a:cubicBezTo>
                <a:cubicBezTo>
                  <a:pt x="304" y="327"/>
                  <a:pt x="307" y="327"/>
                  <a:pt x="309" y="326"/>
                </a:cubicBezTo>
                <a:cubicBezTo>
                  <a:pt x="310" y="326"/>
                  <a:pt x="310" y="326"/>
                  <a:pt x="310" y="326"/>
                </a:cubicBezTo>
                <a:cubicBezTo>
                  <a:pt x="313" y="326"/>
                  <a:pt x="316" y="325"/>
                  <a:pt x="319" y="325"/>
                </a:cubicBezTo>
                <a:cubicBezTo>
                  <a:pt x="320" y="325"/>
                  <a:pt x="320" y="325"/>
                  <a:pt x="320" y="325"/>
                </a:cubicBezTo>
                <a:cubicBezTo>
                  <a:pt x="322" y="324"/>
                  <a:pt x="325" y="324"/>
                  <a:pt x="327" y="324"/>
                </a:cubicBezTo>
                <a:cubicBezTo>
                  <a:pt x="328" y="324"/>
                  <a:pt x="329" y="324"/>
                  <a:pt x="330" y="324"/>
                </a:cubicBezTo>
                <a:cubicBezTo>
                  <a:pt x="331" y="323"/>
                  <a:pt x="331" y="323"/>
                  <a:pt x="332" y="323"/>
                </a:cubicBezTo>
                <a:cubicBezTo>
                  <a:pt x="332" y="323"/>
                  <a:pt x="332" y="323"/>
                  <a:pt x="332" y="323"/>
                </a:cubicBezTo>
                <a:cubicBezTo>
                  <a:pt x="334" y="323"/>
                  <a:pt x="336" y="323"/>
                  <a:pt x="337" y="323"/>
                </a:cubicBezTo>
                <a:cubicBezTo>
                  <a:pt x="338" y="323"/>
                  <a:pt x="338" y="323"/>
                  <a:pt x="338" y="323"/>
                </a:cubicBezTo>
                <a:cubicBezTo>
                  <a:pt x="341" y="322"/>
                  <a:pt x="345" y="322"/>
                  <a:pt x="348" y="322"/>
                </a:cubicBezTo>
                <a:cubicBezTo>
                  <a:pt x="348" y="322"/>
                  <a:pt x="348" y="322"/>
                  <a:pt x="348" y="322"/>
                </a:cubicBezTo>
                <a:cubicBezTo>
                  <a:pt x="349" y="322"/>
                  <a:pt x="351" y="322"/>
                  <a:pt x="352" y="322"/>
                </a:cubicBezTo>
                <a:cubicBezTo>
                  <a:pt x="352" y="322"/>
                  <a:pt x="353" y="322"/>
                  <a:pt x="353" y="322"/>
                </a:cubicBezTo>
                <a:cubicBezTo>
                  <a:pt x="353" y="322"/>
                  <a:pt x="353" y="322"/>
                  <a:pt x="353" y="322"/>
                </a:cubicBezTo>
                <a:cubicBezTo>
                  <a:pt x="353" y="322"/>
                  <a:pt x="353" y="322"/>
                  <a:pt x="353" y="322"/>
                </a:cubicBezTo>
                <a:cubicBezTo>
                  <a:pt x="354" y="322"/>
                  <a:pt x="354" y="322"/>
                  <a:pt x="354" y="322"/>
                </a:cubicBezTo>
                <a:cubicBezTo>
                  <a:pt x="355" y="322"/>
                  <a:pt x="355" y="322"/>
                  <a:pt x="355" y="322"/>
                </a:cubicBezTo>
                <a:cubicBezTo>
                  <a:pt x="355" y="322"/>
                  <a:pt x="355" y="322"/>
                  <a:pt x="355" y="322"/>
                </a:cubicBezTo>
                <a:cubicBezTo>
                  <a:pt x="356" y="322"/>
                  <a:pt x="356" y="322"/>
                  <a:pt x="356" y="322"/>
                </a:cubicBezTo>
                <a:cubicBezTo>
                  <a:pt x="360" y="322"/>
                  <a:pt x="363" y="323"/>
                  <a:pt x="366" y="323"/>
                </a:cubicBezTo>
                <a:cubicBezTo>
                  <a:pt x="366" y="323"/>
                  <a:pt x="366" y="323"/>
                  <a:pt x="366" y="323"/>
                </a:cubicBezTo>
                <a:cubicBezTo>
                  <a:pt x="370" y="323"/>
                  <a:pt x="373" y="324"/>
                  <a:pt x="376" y="325"/>
                </a:cubicBezTo>
                <a:cubicBezTo>
                  <a:pt x="376" y="325"/>
                  <a:pt x="376" y="325"/>
                  <a:pt x="376" y="325"/>
                </a:cubicBezTo>
                <a:cubicBezTo>
                  <a:pt x="378" y="325"/>
                  <a:pt x="379" y="325"/>
                  <a:pt x="381" y="325"/>
                </a:cubicBezTo>
                <a:cubicBezTo>
                  <a:pt x="381" y="326"/>
                  <a:pt x="381" y="326"/>
                  <a:pt x="381" y="326"/>
                </a:cubicBezTo>
                <a:cubicBezTo>
                  <a:pt x="382" y="326"/>
                  <a:pt x="384" y="326"/>
                  <a:pt x="385" y="327"/>
                </a:cubicBezTo>
                <a:cubicBezTo>
                  <a:pt x="385" y="327"/>
                  <a:pt x="385" y="327"/>
                  <a:pt x="385" y="327"/>
                </a:cubicBezTo>
                <a:cubicBezTo>
                  <a:pt x="386" y="327"/>
                  <a:pt x="388" y="327"/>
                  <a:pt x="389" y="328"/>
                </a:cubicBezTo>
                <a:cubicBezTo>
                  <a:pt x="389" y="328"/>
                  <a:pt x="389" y="328"/>
                  <a:pt x="389" y="328"/>
                </a:cubicBezTo>
                <a:cubicBezTo>
                  <a:pt x="390" y="328"/>
                  <a:pt x="391" y="328"/>
                  <a:pt x="392" y="329"/>
                </a:cubicBezTo>
                <a:cubicBezTo>
                  <a:pt x="392" y="329"/>
                  <a:pt x="393" y="329"/>
                  <a:pt x="394" y="329"/>
                </a:cubicBezTo>
                <a:cubicBezTo>
                  <a:pt x="394" y="330"/>
                  <a:pt x="395" y="330"/>
                  <a:pt x="395" y="330"/>
                </a:cubicBezTo>
                <a:cubicBezTo>
                  <a:pt x="395" y="330"/>
                  <a:pt x="395" y="330"/>
                  <a:pt x="395" y="330"/>
                </a:cubicBezTo>
                <a:cubicBezTo>
                  <a:pt x="394" y="369"/>
                  <a:pt x="394" y="369"/>
                  <a:pt x="394" y="369"/>
                </a:cubicBezTo>
                <a:cubicBezTo>
                  <a:pt x="394" y="370"/>
                  <a:pt x="394" y="371"/>
                  <a:pt x="394" y="372"/>
                </a:cubicBezTo>
                <a:cubicBezTo>
                  <a:pt x="395" y="373"/>
                  <a:pt x="395" y="373"/>
                  <a:pt x="395" y="373"/>
                </a:cubicBezTo>
                <a:cubicBezTo>
                  <a:pt x="395" y="373"/>
                  <a:pt x="395" y="374"/>
                  <a:pt x="395" y="374"/>
                </a:cubicBezTo>
                <a:cubicBezTo>
                  <a:pt x="395" y="375"/>
                  <a:pt x="395" y="375"/>
                  <a:pt x="395" y="375"/>
                </a:cubicBezTo>
                <a:cubicBezTo>
                  <a:pt x="395" y="375"/>
                  <a:pt x="395" y="375"/>
                  <a:pt x="395" y="375"/>
                </a:cubicBezTo>
                <a:cubicBezTo>
                  <a:pt x="396" y="376"/>
                  <a:pt x="396" y="376"/>
                  <a:pt x="396" y="377"/>
                </a:cubicBezTo>
                <a:cubicBezTo>
                  <a:pt x="396" y="377"/>
                  <a:pt x="396" y="377"/>
                  <a:pt x="396" y="377"/>
                </a:cubicBezTo>
                <a:cubicBezTo>
                  <a:pt x="397" y="377"/>
                  <a:pt x="397" y="378"/>
                  <a:pt x="398" y="379"/>
                </a:cubicBezTo>
                <a:cubicBezTo>
                  <a:pt x="398" y="379"/>
                  <a:pt x="398" y="379"/>
                  <a:pt x="398" y="379"/>
                </a:cubicBezTo>
                <a:cubicBezTo>
                  <a:pt x="398" y="379"/>
                  <a:pt x="398" y="379"/>
                  <a:pt x="398" y="379"/>
                </a:cubicBezTo>
                <a:cubicBezTo>
                  <a:pt x="399" y="380"/>
                  <a:pt x="399" y="380"/>
                  <a:pt x="400" y="381"/>
                </a:cubicBezTo>
                <a:cubicBezTo>
                  <a:pt x="400" y="381"/>
                  <a:pt x="400" y="381"/>
                  <a:pt x="400" y="381"/>
                </a:cubicBezTo>
                <a:cubicBezTo>
                  <a:pt x="401" y="381"/>
                  <a:pt x="401" y="381"/>
                  <a:pt x="401" y="381"/>
                </a:cubicBezTo>
                <a:cubicBezTo>
                  <a:pt x="402" y="382"/>
                  <a:pt x="402" y="383"/>
                  <a:pt x="404" y="383"/>
                </a:cubicBezTo>
                <a:cubicBezTo>
                  <a:pt x="404" y="383"/>
                  <a:pt x="404" y="383"/>
                  <a:pt x="404" y="383"/>
                </a:cubicBezTo>
                <a:cubicBezTo>
                  <a:pt x="404" y="384"/>
                  <a:pt x="404" y="384"/>
                  <a:pt x="405" y="384"/>
                </a:cubicBezTo>
                <a:cubicBezTo>
                  <a:pt x="405" y="384"/>
                  <a:pt x="405" y="384"/>
                  <a:pt x="405" y="384"/>
                </a:cubicBezTo>
                <a:cubicBezTo>
                  <a:pt x="407" y="385"/>
                  <a:pt x="409" y="386"/>
                  <a:pt x="410" y="387"/>
                </a:cubicBezTo>
                <a:cubicBezTo>
                  <a:pt x="411" y="387"/>
                  <a:pt x="411" y="387"/>
                  <a:pt x="411" y="387"/>
                </a:cubicBezTo>
                <a:cubicBezTo>
                  <a:pt x="412" y="387"/>
                  <a:pt x="412" y="387"/>
                  <a:pt x="413" y="388"/>
                </a:cubicBezTo>
                <a:cubicBezTo>
                  <a:pt x="414" y="388"/>
                  <a:pt x="414" y="388"/>
                  <a:pt x="414" y="388"/>
                </a:cubicBezTo>
                <a:cubicBezTo>
                  <a:pt x="414" y="388"/>
                  <a:pt x="414" y="388"/>
                  <a:pt x="414" y="388"/>
                </a:cubicBezTo>
                <a:cubicBezTo>
                  <a:pt x="414" y="388"/>
                  <a:pt x="414" y="388"/>
                  <a:pt x="414" y="388"/>
                </a:cubicBezTo>
                <a:cubicBezTo>
                  <a:pt x="414" y="388"/>
                  <a:pt x="415" y="388"/>
                  <a:pt x="415" y="388"/>
                </a:cubicBezTo>
                <a:cubicBezTo>
                  <a:pt x="415" y="389"/>
                  <a:pt x="416" y="389"/>
                  <a:pt x="416" y="389"/>
                </a:cubicBezTo>
                <a:cubicBezTo>
                  <a:pt x="417" y="389"/>
                  <a:pt x="417" y="389"/>
                  <a:pt x="417" y="389"/>
                </a:cubicBezTo>
                <a:cubicBezTo>
                  <a:pt x="417" y="389"/>
                  <a:pt x="417" y="389"/>
                  <a:pt x="417" y="389"/>
                </a:cubicBezTo>
                <a:cubicBezTo>
                  <a:pt x="418" y="389"/>
                  <a:pt x="418" y="389"/>
                  <a:pt x="418" y="389"/>
                </a:cubicBezTo>
                <a:cubicBezTo>
                  <a:pt x="418" y="389"/>
                  <a:pt x="418" y="389"/>
                  <a:pt x="418" y="389"/>
                </a:cubicBezTo>
                <a:cubicBezTo>
                  <a:pt x="419" y="390"/>
                  <a:pt x="419" y="390"/>
                  <a:pt x="419" y="390"/>
                </a:cubicBezTo>
                <a:cubicBezTo>
                  <a:pt x="420" y="390"/>
                  <a:pt x="420" y="390"/>
                  <a:pt x="420" y="390"/>
                </a:cubicBezTo>
                <a:cubicBezTo>
                  <a:pt x="421" y="390"/>
                  <a:pt x="421" y="390"/>
                  <a:pt x="421" y="390"/>
                </a:cubicBezTo>
                <a:cubicBezTo>
                  <a:pt x="421" y="390"/>
                  <a:pt x="421" y="390"/>
                  <a:pt x="421" y="390"/>
                </a:cubicBezTo>
                <a:cubicBezTo>
                  <a:pt x="422" y="390"/>
                  <a:pt x="422" y="390"/>
                  <a:pt x="422" y="390"/>
                </a:cubicBezTo>
                <a:cubicBezTo>
                  <a:pt x="422" y="390"/>
                  <a:pt x="422" y="390"/>
                  <a:pt x="422" y="390"/>
                </a:cubicBezTo>
                <a:cubicBezTo>
                  <a:pt x="423" y="390"/>
                  <a:pt x="423" y="390"/>
                  <a:pt x="423" y="390"/>
                </a:cubicBezTo>
                <a:cubicBezTo>
                  <a:pt x="423" y="391"/>
                  <a:pt x="423" y="391"/>
                  <a:pt x="424" y="391"/>
                </a:cubicBezTo>
                <a:cubicBezTo>
                  <a:pt x="424" y="391"/>
                  <a:pt x="425" y="391"/>
                  <a:pt x="425" y="391"/>
                </a:cubicBezTo>
                <a:cubicBezTo>
                  <a:pt x="425" y="391"/>
                  <a:pt x="426" y="391"/>
                  <a:pt x="426" y="391"/>
                </a:cubicBezTo>
                <a:cubicBezTo>
                  <a:pt x="427" y="391"/>
                  <a:pt x="427" y="391"/>
                  <a:pt x="427" y="391"/>
                </a:cubicBezTo>
                <a:cubicBezTo>
                  <a:pt x="427" y="391"/>
                  <a:pt x="427" y="391"/>
                  <a:pt x="427" y="391"/>
                </a:cubicBezTo>
                <a:cubicBezTo>
                  <a:pt x="427" y="392"/>
                  <a:pt x="427" y="392"/>
                  <a:pt x="427" y="392"/>
                </a:cubicBezTo>
                <a:cubicBezTo>
                  <a:pt x="428" y="392"/>
                  <a:pt x="428" y="392"/>
                  <a:pt x="429" y="392"/>
                </a:cubicBezTo>
                <a:cubicBezTo>
                  <a:pt x="429" y="392"/>
                  <a:pt x="429" y="392"/>
                  <a:pt x="430" y="392"/>
                </a:cubicBezTo>
                <a:cubicBezTo>
                  <a:pt x="430" y="392"/>
                  <a:pt x="431" y="392"/>
                  <a:pt x="431" y="392"/>
                </a:cubicBezTo>
                <a:cubicBezTo>
                  <a:pt x="432" y="392"/>
                  <a:pt x="432" y="392"/>
                  <a:pt x="432" y="392"/>
                </a:cubicBezTo>
                <a:cubicBezTo>
                  <a:pt x="433" y="393"/>
                  <a:pt x="433" y="393"/>
                  <a:pt x="434" y="393"/>
                </a:cubicBezTo>
                <a:cubicBezTo>
                  <a:pt x="434" y="393"/>
                  <a:pt x="435" y="393"/>
                  <a:pt x="435" y="393"/>
                </a:cubicBezTo>
                <a:cubicBezTo>
                  <a:pt x="436" y="393"/>
                  <a:pt x="436" y="393"/>
                  <a:pt x="437" y="393"/>
                </a:cubicBezTo>
                <a:cubicBezTo>
                  <a:pt x="437" y="393"/>
                  <a:pt x="438" y="393"/>
                  <a:pt x="438" y="393"/>
                </a:cubicBezTo>
                <a:cubicBezTo>
                  <a:pt x="438" y="393"/>
                  <a:pt x="439" y="393"/>
                  <a:pt x="440" y="394"/>
                </a:cubicBezTo>
                <a:cubicBezTo>
                  <a:pt x="440" y="394"/>
                  <a:pt x="441" y="394"/>
                  <a:pt x="441" y="394"/>
                </a:cubicBezTo>
                <a:cubicBezTo>
                  <a:pt x="442" y="394"/>
                  <a:pt x="442" y="394"/>
                  <a:pt x="443" y="394"/>
                </a:cubicBezTo>
                <a:cubicBezTo>
                  <a:pt x="443" y="394"/>
                  <a:pt x="444" y="394"/>
                  <a:pt x="444" y="394"/>
                </a:cubicBezTo>
                <a:cubicBezTo>
                  <a:pt x="445" y="394"/>
                  <a:pt x="445" y="394"/>
                  <a:pt x="446" y="394"/>
                </a:cubicBezTo>
                <a:cubicBezTo>
                  <a:pt x="446" y="394"/>
                  <a:pt x="447" y="394"/>
                  <a:pt x="447" y="394"/>
                </a:cubicBezTo>
                <a:cubicBezTo>
                  <a:pt x="448" y="394"/>
                  <a:pt x="448" y="395"/>
                  <a:pt x="449" y="395"/>
                </a:cubicBezTo>
                <a:cubicBezTo>
                  <a:pt x="449" y="395"/>
                  <a:pt x="449" y="395"/>
                  <a:pt x="449" y="395"/>
                </a:cubicBezTo>
                <a:cubicBezTo>
                  <a:pt x="449" y="395"/>
                  <a:pt x="449" y="395"/>
                  <a:pt x="449" y="395"/>
                </a:cubicBezTo>
                <a:cubicBezTo>
                  <a:pt x="449" y="395"/>
                  <a:pt x="449" y="395"/>
                  <a:pt x="449" y="395"/>
                </a:cubicBezTo>
                <a:cubicBezTo>
                  <a:pt x="450" y="395"/>
                  <a:pt x="450" y="395"/>
                  <a:pt x="451" y="395"/>
                </a:cubicBezTo>
                <a:cubicBezTo>
                  <a:pt x="451" y="395"/>
                  <a:pt x="452" y="395"/>
                  <a:pt x="453" y="395"/>
                </a:cubicBezTo>
                <a:cubicBezTo>
                  <a:pt x="453" y="395"/>
                  <a:pt x="454" y="395"/>
                  <a:pt x="455" y="395"/>
                </a:cubicBezTo>
                <a:cubicBezTo>
                  <a:pt x="455" y="395"/>
                  <a:pt x="456" y="395"/>
                  <a:pt x="456" y="395"/>
                </a:cubicBezTo>
                <a:cubicBezTo>
                  <a:pt x="457" y="395"/>
                  <a:pt x="457" y="395"/>
                  <a:pt x="457" y="395"/>
                </a:cubicBezTo>
                <a:cubicBezTo>
                  <a:pt x="457" y="395"/>
                  <a:pt x="457" y="395"/>
                  <a:pt x="457" y="395"/>
                </a:cubicBezTo>
                <a:cubicBezTo>
                  <a:pt x="457" y="395"/>
                  <a:pt x="458" y="395"/>
                  <a:pt x="458" y="395"/>
                </a:cubicBezTo>
                <a:cubicBezTo>
                  <a:pt x="459" y="395"/>
                  <a:pt x="460" y="395"/>
                  <a:pt x="460" y="395"/>
                </a:cubicBezTo>
                <a:cubicBezTo>
                  <a:pt x="461" y="395"/>
                  <a:pt x="462" y="395"/>
                  <a:pt x="462" y="396"/>
                </a:cubicBezTo>
                <a:cubicBezTo>
                  <a:pt x="465" y="396"/>
                  <a:pt x="465" y="396"/>
                  <a:pt x="465" y="396"/>
                </a:cubicBezTo>
                <a:cubicBezTo>
                  <a:pt x="465" y="396"/>
                  <a:pt x="466" y="396"/>
                  <a:pt x="467" y="396"/>
                </a:cubicBezTo>
                <a:cubicBezTo>
                  <a:pt x="469" y="396"/>
                  <a:pt x="469" y="396"/>
                  <a:pt x="469" y="396"/>
                </a:cubicBezTo>
                <a:cubicBezTo>
                  <a:pt x="470" y="396"/>
                  <a:pt x="470" y="396"/>
                  <a:pt x="471" y="396"/>
                </a:cubicBezTo>
                <a:cubicBezTo>
                  <a:pt x="472" y="396"/>
                  <a:pt x="473" y="396"/>
                  <a:pt x="473" y="396"/>
                </a:cubicBezTo>
                <a:cubicBezTo>
                  <a:pt x="474" y="396"/>
                  <a:pt x="475" y="396"/>
                  <a:pt x="476" y="396"/>
                </a:cubicBezTo>
                <a:cubicBezTo>
                  <a:pt x="476" y="396"/>
                  <a:pt x="477" y="396"/>
                  <a:pt x="477" y="396"/>
                </a:cubicBezTo>
                <a:cubicBezTo>
                  <a:pt x="478" y="396"/>
                  <a:pt x="478" y="396"/>
                  <a:pt x="479" y="396"/>
                </a:cubicBezTo>
                <a:cubicBezTo>
                  <a:pt x="480" y="396"/>
                  <a:pt x="480" y="396"/>
                  <a:pt x="480" y="396"/>
                </a:cubicBezTo>
                <a:cubicBezTo>
                  <a:pt x="480" y="396"/>
                  <a:pt x="481" y="396"/>
                  <a:pt x="481" y="396"/>
                </a:cubicBezTo>
                <a:cubicBezTo>
                  <a:pt x="482" y="396"/>
                  <a:pt x="482" y="396"/>
                  <a:pt x="482" y="396"/>
                </a:cubicBezTo>
                <a:cubicBezTo>
                  <a:pt x="483" y="396"/>
                  <a:pt x="483" y="396"/>
                  <a:pt x="483" y="396"/>
                </a:cubicBezTo>
                <a:cubicBezTo>
                  <a:pt x="484" y="396"/>
                  <a:pt x="484" y="396"/>
                  <a:pt x="484" y="396"/>
                </a:cubicBezTo>
                <a:cubicBezTo>
                  <a:pt x="486" y="396"/>
                  <a:pt x="486" y="396"/>
                  <a:pt x="486" y="396"/>
                </a:cubicBezTo>
                <a:cubicBezTo>
                  <a:pt x="486" y="396"/>
                  <a:pt x="487" y="396"/>
                  <a:pt x="488" y="396"/>
                </a:cubicBezTo>
                <a:cubicBezTo>
                  <a:pt x="488" y="396"/>
                  <a:pt x="489" y="396"/>
                  <a:pt x="489" y="396"/>
                </a:cubicBezTo>
                <a:cubicBezTo>
                  <a:pt x="489" y="396"/>
                  <a:pt x="489" y="396"/>
                  <a:pt x="489" y="396"/>
                </a:cubicBezTo>
                <a:cubicBezTo>
                  <a:pt x="490" y="396"/>
                  <a:pt x="490" y="396"/>
                  <a:pt x="491" y="396"/>
                </a:cubicBezTo>
                <a:cubicBezTo>
                  <a:pt x="492" y="396"/>
                  <a:pt x="492" y="396"/>
                  <a:pt x="493" y="396"/>
                </a:cubicBezTo>
                <a:cubicBezTo>
                  <a:pt x="494" y="395"/>
                  <a:pt x="495" y="395"/>
                  <a:pt x="496" y="395"/>
                </a:cubicBezTo>
                <a:cubicBezTo>
                  <a:pt x="496" y="395"/>
                  <a:pt x="497" y="395"/>
                  <a:pt x="497" y="395"/>
                </a:cubicBezTo>
                <a:cubicBezTo>
                  <a:pt x="497" y="395"/>
                  <a:pt x="497" y="395"/>
                  <a:pt x="497" y="395"/>
                </a:cubicBezTo>
                <a:cubicBezTo>
                  <a:pt x="498" y="395"/>
                  <a:pt x="498" y="395"/>
                  <a:pt x="499" y="395"/>
                </a:cubicBezTo>
                <a:cubicBezTo>
                  <a:pt x="499" y="395"/>
                  <a:pt x="500" y="395"/>
                  <a:pt x="501" y="395"/>
                </a:cubicBezTo>
                <a:cubicBezTo>
                  <a:pt x="502" y="395"/>
                  <a:pt x="503" y="395"/>
                  <a:pt x="504" y="395"/>
                </a:cubicBezTo>
                <a:cubicBezTo>
                  <a:pt x="505" y="395"/>
                  <a:pt x="505" y="395"/>
                  <a:pt x="505" y="395"/>
                </a:cubicBezTo>
                <a:cubicBezTo>
                  <a:pt x="505" y="395"/>
                  <a:pt x="505" y="395"/>
                  <a:pt x="505" y="395"/>
                </a:cubicBezTo>
                <a:cubicBezTo>
                  <a:pt x="506" y="395"/>
                  <a:pt x="506" y="395"/>
                  <a:pt x="507" y="395"/>
                </a:cubicBezTo>
                <a:cubicBezTo>
                  <a:pt x="508" y="395"/>
                  <a:pt x="509" y="395"/>
                  <a:pt x="509" y="394"/>
                </a:cubicBezTo>
                <a:cubicBezTo>
                  <a:pt x="510" y="394"/>
                  <a:pt x="511" y="394"/>
                  <a:pt x="512" y="394"/>
                </a:cubicBezTo>
                <a:cubicBezTo>
                  <a:pt x="512" y="394"/>
                  <a:pt x="512" y="394"/>
                  <a:pt x="512" y="394"/>
                </a:cubicBezTo>
                <a:cubicBezTo>
                  <a:pt x="513" y="394"/>
                  <a:pt x="513" y="394"/>
                  <a:pt x="513" y="394"/>
                </a:cubicBezTo>
                <a:cubicBezTo>
                  <a:pt x="513" y="394"/>
                  <a:pt x="513" y="394"/>
                  <a:pt x="513" y="394"/>
                </a:cubicBezTo>
                <a:cubicBezTo>
                  <a:pt x="513" y="394"/>
                  <a:pt x="514" y="394"/>
                  <a:pt x="515" y="394"/>
                </a:cubicBezTo>
                <a:cubicBezTo>
                  <a:pt x="516" y="394"/>
                  <a:pt x="517" y="394"/>
                  <a:pt x="518" y="394"/>
                </a:cubicBezTo>
                <a:cubicBezTo>
                  <a:pt x="519" y="393"/>
                  <a:pt x="519" y="393"/>
                  <a:pt x="519" y="393"/>
                </a:cubicBezTo>
                <a:cubicBezTo>
                  <a:pt x="520" y="393"/>
                  <a:pt x="520" y="393"/>
                  <a:pt x="520" y="393"/>
                </a:cubicBezTo>
                <a:cubicBezTo>
                  <a:pt x="521" y="393"/>
                  <a:pt x="521" y="393"/>
                  <a:pt x="522" y="393"/>
                </a:cubicBezTo>
                <a:cubicBezTo>
                  <a:pt x="523" y="393"/>
                  <a:pt x="524" y="393"/>
                  <a:pt x="525" y="392"/>
                </a:cubicBezTo>
                <a:cubicBezTo>
                  <a:pt x="527" y="392"/>
                  <a:pt x="527" y="392"/>
                  <a:pt x="527" y="392"/>
                </a:cubicBezTo>
                <a:cubicBezTo>
                  <a:pt x="527" y="392"/>
                  <a:pt x="527" y="392"/>
                  <a:pt x="527" y="392"/>
                </a:cubicBezTo>
                <a:cubicBezTo>
                  <a:pt x="528" y="392"/>
                  <a:pt x="529" y="392"/>
                  <a:pt x="529" y="392"/>
                </a:cubicBezTo>
                <a:cubicBezTo>
                  <a:pt x="530" y="392"/>
                  <a:pt x="531" y="392"/>
                  <a:pt x="532" y="391"/>
                </a:cubicBezTo>
                <a:cubicBezTo>
                  <a:pt x="533" y="391"/>
                  <a:pt x="533" y="391"/>
                  <a:pt x="533" y="391"/>
                </a:cubicBezTo>
                <a:cubicBezTo>
                  <a:pt x="534" y="391"/>
                  <a:pt x="536" y="391"/>
                  <a:pt x="537" y="390"/>
                </a:cubicBezTo>
                <a:cubicBezTo>
                  <a:pt x="538" y="390"/>
                  <a:pt x="538" y="390"/>
                  <a:pt x="539" y="390"/>
                </a:cubicBezTo>
                <a:cubicBezTo>
                  <a:pt x="539" y="390"/>
                  <a:pt x="539" y="390"/>
                  <a:pt x="539" y="390"/>
                </a:cubicBezTo>
                <a:cubicBezTo>
                  <a:pt x="540" y="390"/>
                  <a:pt x="540" y="390"/>
                  <a:pt x="540" y="390"/>
                </a:cubicBezTo>
                <a:cubicBezTo>
                  <a:pt x="541" y="390"/>
                  <a:pt x="542" y="389"/>
                  <a:pt x="543" y="389"/>
                </a:cubicBezTo>
                <a:cubicBezTo>
                  <a:pt x="544" y="389"/>
                  <a:pt x="544" y="389"/>
                  <a:pt x="545" y="388"/>
                </a:cubicBezTo>
                <a:cubicBezTo>
                  <a:pt x="545" y="388"/>
                  <a:pt x="545" y="388"/>
                  <a:pt x="545" y="388"/>
                </a:cubicBezTo>
                <a:cubicBezTo>
                  <a:pt x="546" y="388"/>
                  <a:pt x="547" y="388"/>
                  <a:pt x="548" y="387"/>
                </a:cubicBezTo>
                <a:cubicBezTo>
                  <a:pt x="549" y="387"/>
                  <a:pt x="550" y="387"/>
                  <a:pt x="550" y="387"/>
                </a:cubicBezTo>
                <a:cubicBezTo>
                  <a:pt x="551" y="387"/>
                  <a:pt x="551" y="387"/>
                  <a:pt x="551" y="387"/>
                </a:cubicBezTo>
                <a:cubicBezTo>
                  <a:pt x="552" y="386"/>
                  <a:pt x="553" y="386"/>
                  <a:pt x="554" y="386"/>
                </a:cubicBezTo>
                <a:cubicBezTo>
                  <a:pt x="554" y="385"/>
                  <a:pt x="555" y="385"/>
                  <a:pt x="555" y="385"/>
                </a:cubicBezTo>
                <a:cubicBezTo>
                  <a:pt x="556" y="385"/>
                  <a:pt x="556" y="385"/>
                  <a:pt x="556" y="385"/>
                </a:cubicBezTo>
                <a:cubicBezTo>
                  <a:pt x="556" y="385"/>
                  <a:pt x="556" y="385"/>
                  <a:pt x="556" y="385"/>
                </a:cubicBezTo>
                <a:cubicBezTo>
                  <a:pt x="557" y="384"/>
                  <a:pt x="557" y="384"/>
                  <a:pt x="557" y="384"/>
                </a:cubicBezTo>
                <a:cubicBezTo>
                  <a:pt x="557" y="384"/>
                  <a:pt x="558" y="384"/>
                  <a:pt x="558" y="384"/>
                </a:cubicBezTo>
                <a:cubicBezTo>
                  <a:pt x="559" y="383"/>
                  <a:pt x="559" y="383"/>
                  <a:pt x="560" y="383"/>
                </a:cubicBezTo>
                <a:cubicBezTo>
                  <a:pt x="560" y="383"/>
                  <a:pt x="560" y="383"/>
                  <a:pt x="560" y="383"/>
                </a:cubicBezTo>
                <a:cubicBezTo>
                  <a:pt x="560" y="383"/>
                  <a:pt x="560" y="383"/>
                  <a:pt x="560" y="383"/>
                </a:cubicBezTo>
                <a:cubicBezTo>
                  <a:pt x="560" y="383"/>
                  <a:pt x="560" y="383"/>
                  <a:pt x="560" y="383"/>
                </a:cubicBezTo>
                <a:cubicBezTo>
                  <a:pt x="561" y="382"/>
                  <a:pt x="561" y="382"/>
                  <a:pt x="561" y="382"/>
                </a:cubicBezTo>
                <a:cubicBezTo>
                  <a:pt x="562" y="382"/>
                  <a:pt x="562" y="382"/>
                  <a:pt x="562" y="382"/>
                </a:cubicBezTo>
                <a:cubicBezTo>
                  <a:pt x="563" y="381"/>
                  <a:pt x="563" y="381"/>
                  <a:pt x="563" y="381"/>
                </a:cubicBezTo>
                <a:cubicBezTo>
                  <a:pt x="563" y="381"/>
                  <a:pt x="563" y="381"/>
                  <a:pt x="563" y="381"/>
                </a:cubicBezTo>
                <a:cubicBezTo>
                  <a:pt x="563" y="381"/>
                  <a:pt x="563" y="381"/>
                  <a:pt x="563" y="381"/>
                </a:cubicBezTo>
                <a:cubicBezTo>
                  <a:pt x="564" y="381"/>
                  <a:pt x="564" y="381"/>
                  <a:pt x="564" y="381"/>
                </a:cubicBezTo>
                <a:cubicBezTo>
                  <a:pt x="564" y="381"/>
                  <a:pt x="564" y="381"/>
                  <a:pt x="564" y="381"/>
                </a:cubicBezTo>
                <a:cubicBezTo>
                  <a:pt x="564" y="380"/>
                  <a:pt x="564" y="380"/>
                  <a:pt x="564" y="380"/>
                </a:cubicBezTo>
                <a:cubicBezTo>
                  <a:pt x="565" y="380"/>
                  <a:pt x="565" y="380"/>
                  <a:pt x="565" y="380"/>
                </a:cubicBezTo>
                <a:cubicBezTo>
                  <a:pt x="565" y="380"/>
                  <a:pt x="565" y="380"/>
                  <a:pt x="565" y="380"/>
                </a:cubicBezTo>
                <a:cubicBezTo>
                  <a:pt x="565" y="380"/>
                  <a:pt x="565" y="380"/>
                  <a:pt x="565" y="380"/>
                </a:cubicBezTo>
                <a:cubicBezTo>
                  <a:pt x="565" y="379"/>
                  <a:pt x="565" y="379"/>
                  <a:pt x="565" y="379"/>
                </a:cubicBezTo>
                <a:cubicBezTo>
                  <a:pt x="566" y="379"/>
                  <a:pt x="566" y="379"/>
                  <a:pt x="566" y="379"/>
                </a:cubicBezTo>
                <a:cubicBezTo>
                  <a:pt x="566" y="379"/>
                  <a:pt x="566" y="379"/>
                  <a:pt x="566" y="379"/>
                </a:cubicBezTo>
                <a:cubicBezTo>
                  <a:pt x="566" y="379"/>
                  <a:pt x="566" y="379"/>
                  <a:pt x="566" y="379"/>
                </a:cubicBezTo>
                <a:cubicBezTo>
                  <a:pt x="566" y="379"/>
                  <a:pt x="566" y="379"/>
                  <a:pt x="566" y="379"/>
                </a:cubicBezTo>
                <a:cubicBezTo>
                  <a:pt x="566" y="378"/>
                  <a:pt x="566" y="378"/>
                  <a:pt x="566" y="378"/>
                </a:cubicBezTo>
                <a:cubicBezTo>
                  <a:pt x="567" y="378"/>
                  <a:pt x="567" y="378"/>
                  <a:pt x="567" y="378"/>
                </a:cubicBezTo>
                <a:cubicBezTo>
                  <a:pt x="567" y="378"/>
                  <a:pt x="567" y="378"/>
                  <a:pt x="567" y="378"/>
                </a:cubicBezTo>
                <a:cubicBezTo>
                  <a:pt x="567" y="378"/>
                  <a:pt x="567" y="378"/>
                  <a:pt x="567" y="378"/>
                </a:cubicBezTo>
                <a:cubicBezTo>
                  <a:pt x="567" y="377"/>
                  <a:pt x="567" y="377"/>
                  <a:pt x="567" y="377"/>
                </a:cubicBezTo>
                <a:cubicBezTo>
                  <a:pt x="567" y="377"/>
                  <a:pt x="567" y="377"/>
                  <a:pt x="567" y="377"/>
                </a:cubicBezTo>
                <a:cubicBezTo>
                  <a:pt x="567" y="377"/>
                  <a:pt x="567" y="377"/>
                  <a:pt x="567" y="377"/>
                </a:cubicBezTo>
                <a:cubicBezTo>
                  <a:pt x="568" y="377"/>
                  <a:pt x="568" y="377"/>
                  <a:pt x="568" y="377"/>
                </a:cubicBezTo>
                <a:cubicBezTo>
                  <a:pt x="568" y="377"/>
                  <a:pt x="568" y="377"/>
                  <a:pt x="568" y="377"/>
                </a:cubicBezTo>
                <a:cubicBezTo>
                  <a:pt x="568" y="376"/>
                  <a:pt x="568" y="376"/>
                  <a:pt x="568" y="376"/>
                </a:cubicBezTo>
                <a:cubicBezTo>
                  <a:pt x="568" y="376"/>
                  <a:pt x="568" y="376"/>
                  <a:pt x="568" y="376"/>
                </a:cubicBezTo>
                <a:cubicBezTo>
                  <a:pt x="568" y="376"/>
                  <a:pt x="568" y="376"/>
                  <a:pt x="568" y="376"/>
                </a:cubicBezTo>
                <a:cubicBezTo>
                  <a:pt x="568" y="376"/>
                  <a:pt x="568" y="376"/>
                  <a:pt x="568" y="376"/>
                </a:cubicBezTo>
                <a:cubicBezTo>
                  <a:pt x="568" y="376"/>
                  <a:pt x="568" y="376"/>
                  <a:pt x="568" y="376"/>
                </a:cubicBezTo>
                <a:cubicBezTo>
                  <a:pt x="568" y="376"/>
                  <a:pt x="568" y="376"/>
                  <a:pt x="568" y="376"/>
                </a:cubicBezTo>
                <a:cubicBezTo>
                  <a:pt x="568" y="375"/>
                  <a:pt x="568" y="375"/>
                  <a:pt x="568" y="375"/>
                </a:cubicBezTo>
                <a:cubicBezTo>
                  <a:pt x="568" y="375"/>
                  <a:pt x="568" y="375"/>
                  <a:pt x="568" y="375"/>
                </a:cubicBezTo>
                <a:cubicBezTo>
                  <a:pt x="568" y="376"/>
                  <a:pt x="568" y="376"/>
                  <a:pt x="568" y="376"/>
                </a:cubicBezTo>
                <a:cubicBezTo>
                  <a:pt x="568" y="375"/>
                  <a:pt x="568" y="375"/>
                  <a:pt x="568" y="375"/>
                </a:cubicBezTo>
                <a:cubicBezTo>
                  <a:pt x="569" y="375"/>
                  <a:pt x="569" y="375"/>
                  <a:pt x="569" y="375"/>
                </a:cubicBezTo>
                <a:cubicBezTo>
                  <a:pt x="569" y="375"/>
                  <a:pt x="569" y="375"/>
                  <a:pt x="569" y="375"/>
                </a:cubicBezTo>
                <a:cubicBezTo>
                  <a:pt x="569" y="375"/>
                  <a:pt x="569" y="375"/>
                  <a:pt x="569" y="375"/>
                </a:cubicBezTo>
                <a:cubicBezTo>
                  <a:pt x="569" y="375"/>
                  <a:pt x="569" y="375"/>
                  <a:pt x="569" y="375"/>
                </a:cubicBezTo>
                <a:cubicBezTo>
                  <a:pt x="569" y="374"/>
                  <a:pt x="569" y="374"/>
                  <a:pt x="569" y="374"/>
                </a:cubicBezTo>
                <a:cubicBezTo>
                  <a:pt x="569" y="374"/>
                  <a:pt x="569" y="374"/>
                  <a:pt x="569" y="374"/>
                </a:cubicBezTo>
                <a:cubicBezTo>
                  <a:pt x="569" y="374"/>
                  <a:pt x="569" y="374"/>
                  <a:pt x="569" y="374"/>
                </a:cubicBezTo>
                <a:cubicBezTo>
                  <a:pt x="569" y="374"/>
                  <a:pt x="569" y="374"/>
                  <a:pt x="569" y="374"/>
                </a:cubicBezTo>
                <a:cubicBezTo>
                  <a:pt x="569" y="374"/>
                  <a:pt x="569" y="374"/>
                  <a:pt x="569" y="374"/>
                </a:cubicBezTo>
                <a:cubicBezTo>
                  <a:pt x="569" y="373"/>
                  <a:pt x="569" y="373"/>
                  <a:pt x="569" y="373"/>
                </a:cubicBezTo>
                <a:cubicBezTo>
                  <a:pt x="569" y="373"/>
                  <a:pt x="569" y="373"/>
                  <a:pt x="569" y="373"/>
                </a:cubicBezTo>
                <a:cubicBezTo>
                  <a:pt x="569" y="372"/>
                  <a:pt x="569" y="372"/>
                  <a:pt x="569" y="372"/>
                </a:cubicBezTo>
                <a:cubicBezTo>
                  <a:pt x="569" y="372"/>
                  <a:pt x="569" y="372"/>
                  <a:pt x="569" y="372"/>
                </a:cubicBezTo>
                <a:cubicBezTo>
                  <a:pt x="569" y="371"/>
                  <a:pt x="569" y="371"/>
                  <a:pt x="569" y="371"/>
                </a:cubicBezTo>
                <a:cubicBezTo>
                  <a:pt x="569" y="371"/>
                  <a:pt x="569" y="371"/>
                  <a:pt x="569" y="371"/>
                </a:cubicBezTo>
                <a:cubicBezTo>
                  <a:pt x="570" y="371"/>
                  <a:pt x="570" y="371"/>
                  <a:pt x="570" y="371"/>
                </a:cubicBezTo>
                <a:cubicBezTo>
                  <a:pt x="570" y="371"/>
                  <a:pt x="570" y="370"/>
                  <a:pt x="570" y="370"/>
                </a:cubicBezTo>
                <a:cubicBezTo>
                  <a:pt x="570" y="369"/>
                  <a:pt x="570" y="369"/>
                  <a:pt x="570" y="369"/>
                </a:cubicBezTo>
                <a:cubicBezTo>
                  <a:pt x="570" y="369"/>
                  <a:pt x="570" y="369"/>
                  <a:pt x="570" y="369"/>
                </a:cubicBezTo>
                <a:cubicBezTo>
                  <a:pt x="570" y="369"/>
                  <a:pt x="570" y="369"/>
                  <a:pt x="570" y="369"/>
                </a:cubicBezTo>
                <a:cubicBezTo>
                  <a:pt x="570" y="368"/>
                  <a:pt x="570" y="368"/>
                  <a:pt x="570" y="368"/>
                </a:cubicBezTo>
                <a:cubicBezTo>
                  <a:pt x="570" y="367"/>
                  <a:pt x="570" y="367"/>
                  <a:pt x="570" y="367"/>
                </a:cubicBezTo>
                <a:cubicBezTo>
                  <a:pt x="570" y="367"/>
                  <a:pt x="570" y="367"/>
                  <a:pt x="570" y="367"/>
                </a:cubicBezTo>
                <a:cubicBezTo>
                  <a:pt x="570" y="367"/>
                  <a:pt x="570" y="367"/>
                  <a:pt x="570" y="367"/>
                </a:cubicBezTo>
                <a:cubicBezTo>
                  <a:pt x="570" y="367"/>
                  <a:pt x="570" y="367"/>
                  <a:pt x="570" y="367"/>
                </a:cubicBezTo>
                <a:cubicBezTo>
                  <a:pt x="570" y="366"/>
                  <a:pt x="570" y="365"/>
                  <a:pt x="570" y="365"/>
                </a:cubicBezTo>
                <a:cubicBezTo>
                  <a:pt x="571" y="345"/>
                  <a:pt x="572" y="325"/>
                  <a:pt x="573" y="305"/>
                </a:cubicBezTo>
                <a:cubicBezTo>
                  <a:pt x="574" y="305"/>
                  <a:pt x="575" y="305"/>
                  <a:pt x="576" y="305"/>
                </a:cubicBezTo>
                <a:cubicBezTo>
                  <a:pt x="576" y="305"/>
                  <a:pt x="576" y="305"/>
                  <a:pt x="576" y="305"/>
                </a:cubicBezTo>
                <a:cubicBezTo>
                  <a:pt x="577" y="305"/>
                  <a:pt x="579" y="305"/>
                  <a:pt x="580" y="305"/>
                </a:cubicBezTo>
                <a:cubicBezTo>
                  <a:pt x="583" y="305"/>
                  <a:pt x="586" y="305"/>
                  <a:pt x="590" y="305"/>
                </a:cubicBezTo>
                <a:cubicBezTo>
                  <a:pt x="590" y="305"/>
                  <a:pt x="590" y="305"/>
                  <a:pt x="590" y="305"/>
                </a:cubicBezTo>
                <a:cubicBezTo>
                  <a:pt x="592" y="305"/>
                  <a:pt x="594" y="305"/>
                  <a:pt x="596" y="305"/>
                </a:cubicBezTo>
                <a:cubicBezTo>
                  <a:pt x="597" y="305"/>
                  <a:pt x="598" y="305"/>
                  <a:pt x="599" y="305"/>
                </a:cubicBezTo>
                <a:cubicBezTo>
                  <a:pt x="600" y="305"/>
                  <a:pt x="601" y="305"/>
                  <a:pt x="603" y="305"/>
                </a:cubicBezTo>
                <a:cubicBezTo>
                  <a:pt x="604" y="305"/>
                  <a:pt x="606" y="305"/>
                  <a:pt x="608" y="305"/>
                </a:cubicBezTo>
                <a:cubicBezTo>
                  <a:pt x="613" y="305"/>
                  <a:pt x="619" y="304"/>
                  <a:pt x="625" y="304"/>
                </a:cubicBezTo>
                <a:cubicBezTo>
                  <a:pt x="630" y="304"/>
                  <a:pt x="635" y="304"/>
                  <a:pt x="640" y="304"/>
                </a:cubicBezTo>
                <a:cubicBezTo>
                  <a:pt x="646" y="304"/>
                  <a:pt x="651" y="304"/>
                  <a:pt x="656" y="304"/>
                </a:cubicBezTo>
                <a:cubicBezTo>
                  <a:pt x="661" y="304"/>
                  <a:pt x="667" y="304"/>
                  <a:pt x="672" y="304"/>
                </a:cubicBezTo>
                <a:cubicBezTo>
                  <a:pt x="678" y="304"/>
                  <a:pt x="683" y="304"/>
                  <a:pt x="689" y="304"/>
                </a:cubicBezTo>
                <a:cubicBezTo>
                  <a:pt x="694" y="304"/>
                  <a:pt x="699" y="304"/>
                  <a:pt x="704" y="304"/>
                </a:cubicBezTo>
                <a:cubicBezTo>
                  <a:pt x="710" y="304"/>
                  <a:pt x="715" y="304"/>
                  <a:pt x="720" y="304"/>
                </a:cubicBezTo>
                <a:cubicBezTo>
                  <a:pt x="725" y="304"/>
                  <a:pt x="730" y="303"/>
                  <a:pt x="735" y="303"/>
                </a:cubicBezTo>
                <a:cubicBezTo>
                  <a:pt x="740" y="303"/>
                  <a:pt x="744" y="303"/>
                  <a:pt x="749" y="303"/>
                </a:cubicBezTo>
                <a:cubicBezTo>
                  <a:pt x="753" y="303"/>
                  <a:pt x="757" y="303"/>
                  <a:pt x="761" y="303"/>
                </a:cubicBezTo>
                <a:cubicBezTo>
                  <a:pt x="765" y="303"/>
                  <a:pt x="768" y="303"/>
                  <a:pt x="772" y="303"/>
                </a:cubicBezTo>
                <a:cubicBezTo>
                  <a:pt x="775" y="303"/>
                  <a:pt x="778" y="303"/>
                  <a:pt x="781" y="303"/>
                </a:cubicBezTo>
                <a:cubicBezTo>
                  <a:pt x="783" y="303"/>
                  <a:pt x="785" y="303"/>
                  <a:pt x="787" y="303"/>
                </a:cubicBezTo>
                <a:cubicBezTo>
                  <a:pt x="787" y="303"/>
                  <a:pt x="787" y="303"/>
                  <a:pt x="787" y="303"/>
                </a:cubicBezTo>
                <a:cubicBezTo>
                  <a:pt x="791" y="303"/>
                  <a:pt x="795" y="303"/>
                  <a:pt x="797" y="303"/>
                </a:cubicBezTo>
                <a:cubicBezTo>
                  <a:pt x="798" y="303"/>
                  <a:pt x="798" y="303"/>
                  <a:pt x="798" y="303"/>
                </a:cubicBezTo>
                <a:cubicBezTo>
                  <a:pt x="799" y="302"/>
                  <a:pt x="799" y="302"/>
                  <a:pt x="799" y="302"/>
                </a:cubicBezTo>
                <a:cubicBezTo>
                  <a:pt x="800" y="302"/>
                  <a:pt x="800" y="302"/>
                  <a:pt x="800" y="302"/>
                </a:cubicBezTo>
                <a:cubicBezTo>
                  <a:pt x="800" y="302"/>
                  <a:pt x="800" y="302"/>
                  <a:pt x="800" y="302"/>
                </a:cubicBezTo>
                <a:cubicBezTo>
                  <a:pt x="801" y="302"/>
                  <a:pt x="801" y="302"/>
                  <a:pt x="801" y="302"/>
                </a:cubicBezTo>
                <a:cubicBezTo>
                  <a:pt x="802" y="302"/>
                  <a:pt x="802" y="302"/>
                  <a:pt x="802" y="302"/>
                </a:cubicBezTo>
                <a:cubicBezTo>
                  <a:pt x="802" y="302"/>
                  <a:pt x="803" y="302"/>
                  <a:pt x="803" y="302"/>
                </a:cubicBezTo>
                <a:cubicBezTo>
                  <a:pt x="804" y="302"/>
                  <a:pt x="804" y="302"/>
                  <a:pt x="804" y="302"/>
                </a:cubicBezTo>
                <a:cubicBezTo>
                  <a:pt x="804" y="302"/>
                  <a:pt x="804" y="302"/>
                  <a:pt x="804" y="302"/>
                </a:cubicBezTo>
                <a:cubicBezTo>
                  <a:pt x="804" y="302"/>
                  <a:pt x="804" y="302"/>
                  <a:pt x="804" y="302"/>
                </a:cubicBezTo>
                <a:cubicBezTo>
                  <a:pt x="804" y="302"/>
                  <a:pt x="804" y="302"/>
                  <a:pt x="804" y="302"/>
                </a:cubicBezTo>
                <a:cubicBezTo>
                  <a:pt x="805" y="302"/>
                  <a:pt x="805" y="302"/>
                  <a:pt x="805" y="302"/>
                </a:cubicBezTo>
                <a:cubicBezTo>
                  <a:pt x="806" y="302"/>
                  <a:pt x="806" y="302"/>
                  <a:pt x="806" y="302"/>
                </a:cubicBezTo>
                <a:cubicBezTo>
                  <a:pt x="806" y="302"/>
                  <a:pt x="806" y="302"/>
                  <a:pt x="806" y="302"/>
                </a:cubicBezTo>
                <a:cubicBezTo>
                  <a:pt x="806" y="302"/>
                  <a:pt x="806" y="302"/>
                  <a:pt x="806" y="302"/>
                </a:cubicBezTo>
                <a:cubicBezTo>
                  <a:pt x="806" y="302"/>
                  <a:pt x="806" y="302"/>
                  <a:pt x="806" y="302"/>
                </a:cubicBezTo>
                <a:cubicBezTo>
                  <a:pt x="807" y="302"/>
                  <a:pt x="807" y="302"/>
                  <a:pt x="807" y="302"/>
                </a:cubicBezTo>
                <a:cubicBezTo>
                  <a:pt x="807" y="302"/>
                  <a:pt x="807" y="302"/>
                  <a:pt x="807" y="302"/>
                </a:cubicBezTo>
                <a:cubicBezTo>
                  <a:pt x="807" y="302"/>
                  <a:pt x="807" y="302"/>
                  <a:pt x="807" y="302"/>
                </a:cubicBezTo>
                <a:cubicBezTo>
                  <a:pt x="807" y="302"/>
                  <a:pt x="807" y="302"/>
                  <a:pt x="807" y="302"/>
                </a:cubicBezTo>
                <a:cubicBezTo>
                  <a:pt x="807" y="302"/>
                  <a:pt x="807" y="302"/>
                  <a:pt x="807" y="302"/>
                </a:cubicBezTo>
                <a:cubicBezTo>
                  <a:pt x="807" y="302"/>
                  <a:pt x="807" y="302"/>
                  <a:pt x="807" y="302"/>
                </a:cubicBezTo>
                <a:cubicBezTo>
                  <a:pt x="808" y="302"/>
                  <a:pt x="808" y="302"/>
                  <a:pt x="808" y="302"/>
                </a:cubicBezTo>
                <a:cubicBezTo>
                  <a:pt x="808" y="302"/>
                  <a:pt x="808" y="302"/>
                  <a:pt x="808" y="302"/>
                </a:cubicBezTo>
                <a:cubicBezTo>
                  <a:pt x="809" y="302"/>
                  <a:pt x="809" y="302"/>
                  <a:pt x="809" y="302"/>
                </a:cubicBezTo>
                <a:cubicBezTo>
                  <a:pt x="809" y="302"/>
                  <a:pt x="809" y="302"/>
                  <a:pt x="809" y="302"/>
                </a:cubicBezTo>
                <a:cubicBezTo>
                  <a:pt x="809" y="302"/>
                  <a:pt x="809" y="302"/>
                  <a:pt x="809" y="302"/>
                </a:cubicBezTo>
                <a:cubicBezTo>
                  <a:pt x="809" y="302"/>
                  <a:pt x="809" y="302"/>
                  <a:pt x="809" y="302"/>
                </a:cubicBezTo>
                <a:cubicBezTo>
                  <a:pt x="810" y="302"/>
                  <a:pt x="810" y="302"/>
                  <a:pt x="810" y="302"/>
                </a:cubicBezTo>
                <a:cubicBezTo>
                  <a:pt x="811" y="301"/>
                  <a:pt x="811" y="301"/>
                  <a:pt x="811" y="301"/>
                </a:cubicBezTo>
                <a:cubicBezTo>
                  <a:pt x="811" y="301"/>
                  <a:pt x="811" y="301"/>
                  <a:pt x="811" y="301"/>
                </a:cubicBezTo>
                <a:cubicBezTo>
                  <a:pt x="811" y="301"/>
                  <a:pt x="811" y="301"/>
                  <a:pt x="811" y="301"/>
                </a:cubicBezTo>
                <a:cubicBezTo>
                  <a:pt x="811" y="301"/>
                  <a:pt x="811" y="301"/>
                  <a:pt x="811" y="301"/>
                </a:cubicBezTo>
                <a:cubicBezTo>
                  <a:pt x="812" y="301"/>
                  <a:pt x="812" y="301"/>
                  <a:pt x="812" y="301"/>
                </a:cubicBezTo>
                <a:cubicBezTo>
                  <a:pt x="812" y="301"/>
                  <a:pt x="812" y="301"/>
                  <a:pt x="812" y="301"/>
                </a:cubicBezTo>
                <a:cubicBezTo>
                  <a:pt x="813" y="301"/>
                  <a:pt x="813" y="301"/>
                  <a:pt x="813" y="301"/>
                </a:cubicBezTo>
                <a:cubicBezTo>
                  <a:pt x="813" y="301"/>
                  <a:pt x="813" y="301"/>
                  <a:pt x="813" y="301"/>
                </a:cubicBezTo>
                <a:cubicBezTo>
                  <a:pt x="813" y="301"/>
                  <a:pt x="813" y="301"/>
                  <a:pt x="813" y="301"/>
                </a:cubicBezTo>
                <a:cubicBezTo>
                  <a:pt x="813" y="301"/>
                  <a:pt x="813" y="301"/>
                  <a:pt x="813" y="301"/>
                </a:cubicBezTo>
                <a:cubicBezTo>
                  <a:pt x="813" y="300"/>
                  <a:pt x="813" y="300"/>
                  <a:pt x="813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8"/>
                  <a:pt x="815" y="298"/>
                  <a:pt x="815" y="298"/>
                </a:cubicBezTo>
                <a:cubicBezTo>
                  <a:pt x="815" y="298"/>
                  <a:pt x="815" y="298"/>
                  <a:pt x="815" y="298"/>
                </a:cubicBezTo>
                <a:cubicBezTo>
                  <a:pt x="815" y="298"/>
                  <a:pt x="815" y="298"/>
                  <a:pt x="815" y="298"/>
                </a:cubicBezTo>
                <a:cubicBezTo>
                  <a:pt x="815" y="298"/>
                  <a:pt x="815" y="298"/>
                  <a:pt x="815" y="298"/>
                </a:cubicBezTo>
                <a:cubicBezTo>
                  <a:pt x="815" y="298"/>
                  <a:pt x="815" y="298"/>
                  <a:pt x="815" y="298"/>
                </a:cubicBezTo>
                <a:cubicBezTo>
                  <a:pt x="816" y="298"/>
                  <a:pt x="816" y="298"/>
                  <a:pt x="816" y="298"/>
                </a:cubicBezTo>
                <a:cubicBezTo>
                  <a:pt x="816" y="298"/>
                  <a:pt x="816" y="298"/>
                  <a:pt x="816" y="298"/>
                </a:cubicBezTo>
                <a:cubicBezTo>
                  <a:pt x="816" y="298"/>
                  <a:pt x="816" y="298"/>
                  <a:pt x="816" y="298"/>
                </a:cubicBezTo>
                <a:cubicBezTo>
                  <a:pt x="816" y="298"/>
                  <a:pt x="816" y="298"/>
                  <a:pt x="816" y="298"/>
                </a:cubicBezTo>
                <a:cubicBezTo>
                  <a:pt x="816" y="298"/>
                  <a:pt x="816" y="298"/>
                  <a:pt x="816" y="298"/>
                </a:cubicBezTo>
                <a:cubicBezTo>
                  <a:pt x="816" y="297"/>
                  <a:pt x="816" y="297"/>
                  <a:pt x="816" y="297"/>
                </a:cubicBezTo>
                <a:cubicBezTo>
                  <a:pt x="816" y="297"/>
                  <a:pt x="816" y="297"/>
                  <a:pt x="816" y="297"/>
                </a:cubicBezTo>
                <a:cubicBezTo>
                  <a:pt x="816" y="297"/>
                  <a:pt x="816" y="297"/>
                  <a:pt x="816" y="297"/>
                </a:cubicBezTo>
                <a:cubicBezTo>
                  <a:pt x="816" y="297"/>
                  <a:pt x="816" y="297"/>
                  <a:pt x="816" y="297"/>
                </a:cubicBezTo>
                <a:cubicBezTo>
                  <a:pt x="816" y="297"/>
                  <a:pt x="816" y="297"/>
                  <a:pt x="816" y="297"/>
                </a:cubicBezTo>
                <a:cubicBezTo>
                  <a:pt x="816" y="297"/>
                  <a:pt x="816" y="297"/>
                  <a:pt x="816" y="297"/>
                </a:cubicBezTo>
                <a:cubicBezTo>
                  <a:pt x="816" y="297"/>
                  <a:pt x="816" y="297"/>
                  <a:pt x="816" y="297"/>
                </a:cubicBezTo>
                <a:cubicBezTo>
                  <a:pt x="819" y="245"/>
                  <a:pt x="823" y="194"/>
                  <a:pt x="826" y="142"/>
                </a:cubicBezTo>
                <a:cubicBezTo>
                  <a:pt x="826" y="143"/>
                  <a:pt x="826" y="143"/>
                  <a:pt x="826" y="143"/>
                </a:cubicBezTo>
                <a:cubicBezTo>
                  <a:pt x="826" y="143"/>
                  <a:pt x="826" y="143"/>
                  <a:pt x="826" y="143"/>
                </a:cubicBezTo>
                <a:cubicBezTo>
                  <a:pt x="825" y="144"/>
                  <a:pt x="825" y="144"/>
                  <a:pt x="825" y="144"/>
                </a:cubicBezTo>
                <a:cubicBezTo>
                  <a:pt x="825" y="144"/>
                  <a:pt x="825" y="144"/>
                  <a:pt x="825" y="144"/>
                </a:cubicBezTo>
                <a:cubicBezTo>
                  <a:pt x="825" y="144"/>
                  <a:pt x="825" y="144"/>
                  <a:pt x="825" y="144"/>
                </a:cubicBezTo>
                <a:cubicBezTo>
                  <a:pt x="825" y="144"/>
                  <a:pt x="825" y="144"/>
                  <a:pt x="825" y="144"/>
                </a:cubicBezTo>
                <a:cubicBezTo>
                  <a:pt x="824" y="145"/>
                  <a:pt x="824" y="145"/>
                  <a:pt x="824" y="145"/>
                </a:cubicBezTo>
                <a:cubicBezTo>
                  <a:pt x="824" y="145"/>
                  <a:pt x="824" y="145"/>
                  <a:pt x="824" y="145"/>
                </a:cubicBezTo>
                <a:cubicBezTo>
                  <a:pt x="824" y="145"/>
                  <a:pt x="823" y="146"/>
                  <a:pt x="823" y="146"/>
                </a:cubicBezTo>
                <a:cubicBezTo>
                  <a:pt x="823" y="146"/>
                  <a:pt x="823" y="146"/>
                  <a:pt x="823" y="146"/>
                </a:cubicBezTo>
                <a:cubicBezTo>
                  <a:pt x="822" y="146"/>
                  <a:pt x="822" y="146"/>
                  <a:pt x="821" y="146"/>
                </a:cubicBezTo>
                <a:cubicBezTo>
                  <a:pt x="821" y="146"/>
                  <a:pt x="821" y="146"/>
                  <a:pt x="821" y="146"/>
                </a:cubicBezTo>
                <a:cubicBezTo>
                  <a:pt x="820" y="146"/>
                  <a:pt x="820" y="147"/>
                  <a:pt x="819" y="147"/>
                </a:cubicBezTo>
                <a:cubicBezTo>
                  <a:pt x="819" y="147"/>
                  <a:pt x="819" y="147"/>
                  <a:pt x="819" y="147"/>
                </a:cubicBezTo>
                <a:cubicBezTo>
                  <a:pt x="818" y="147"/>
                  <a:pt x="818" y="147"/>
                  <a:pt x="817" y="147"/>
                </a:cubicBezTo>
                <a:cubicBezTo>
                  <a:pt x="816" y="147"/>
                  <a:pt x="815" y="147"/>
                  <a:pt x="813" y="147"/>
                </a:cubicBezTo>
                <a:cubicBezTo>
                  <a:pt x="813" y="147"/>
                  <a:pt x="812" y="147"/>
                  <a:pt x="811" y="147"/>
                </a:cubicBezTo>
                <a:cubicBezTo>
                  <a:pt x="811" y="147"/>
                  <a:pt x="810" y="147"/>
                  <a:pt x="810" y="147"/>
                </a:cubicBezTo>
                <a:cubicBezTo>
                  <a:pt x="809" y="147"/>
                  <a:pt x="809" y="147"/>
                  <a:pt x="808" y="147"/>
                </a:cubicBezTo>
                <a:cubicBezTo>
                  <a:pt x="807" y="148"/>
                  <a:pt x="807" y="148"/>
                  <a:pt x="807" y="148"/>
                </a:cubicBezTo>
                <a:cubicBezTo>
                  <a:pt x="807" y="148"/>
                  <a:pt x="806" y="148"/>
                  <a:pt x="806" y="148"/>
                </a:cubicBezTo>
                <a:cubicBezTo>
                  <a:pt x="805" y="148"/>
                  <a:pt x="803" y="148"/>
                  <a:pt x="802" y="148"/>
                </a:cubicBezTo>
                <a:cubicBezTo>
                  <a:pt x="801" y="148"/>
                  <a:pt x="800" y="148"/>
                  <a:pt x="800" y="148"/>
                </a:cubicBezTo>
                <a:cubicBezTo>
                  <a:pt x="797" y="148"/>
                  <a:pt x="795" y="148"/>
                  <a:pt x="792" y="148"/>
                </a:cubicBezTo>
                <a:cubicBezTo>
                  <a:pt x="791" y="148"/>
                  <a:pt x="790" y="148"/>
                  <a:pt x="789" y="148"/>
                </a:cubicBezTo>
                <a:cubicBezTo>
                  <a:pt x="789" y="148"/>
                  <a:pt x="788" y="148"/>
                  <a:pt x="787" y="148"/>
                </a:cubicBezTo>
                <a:cubicBezTo>
                  <a:pt x="787" y="148"/>
                  <a:pt x="786" y="148"/>
                  <a:pt x="786" y="148"/>
                </a:cubicBezTo>
                <a:cubicBezTo>
                  <a:pt x="784" y="148"/>
                  <a:pt x="783" y="148"/>
                  <a:pt x="781" y="148"/>
                </a:cubicBezTo>
                <a:cubicBezTo>
                  <a:pt x="777" y="148"/>
                  <a:pt x="774" y="148"/>
                  <a:pt x="770" y="148"/>
                </a:cubicBezTo>
                <a:cubicBezTo>
                  <a:pt x="766" y="148"/>
                  <a:pt x="762" y="148"/>
                  <a:pt x="758" y="148"/>
                </a:cubicBezTo>
                <a:cubicBezTo>
                  <a:pt x="753" y="148"/>
                  <a:pt x="748" y="148"/>
                  <a:pt x="743" y="149"/>
                </a:cubicBezTo>
                <a:cubicBezTo>
                  <a:pt x="739" y="149"/>
                  <a:pt x="733" y="149"/>
                  <a:pt x="728" y="149"/>
                </a:cubicBezTo>
                <a:cubicBezTo>
                  <a:pt x="723" y="149"/>
                  <a:pt x="718" y="149"/>
                  <a:pt x="713" y="149"/>
                </a:cubicBezTo>
                <a:cubicBezTo>
                  <a:pt x="707" y="149"/>
                  <a:pt x="702" y="149"/>
                  <a:pt x="697" y="149"/>
                </a:cubicBezTo>
                <a:cubicBezTo>
                  <a:pt x="691" y="149"/>
                  <a:pt x="686" y="149"/>
                  <a:pt x="680" y="149"/>
                </a:cubicBezTo>
                <a:cubicBezTo>
                  <a:pt x="675" y="149"/>
                  <a:pt x="669" y="149"/>
                  <a:pt x="664" y="149"/>
                </a:cubicBezTo>
                <a:cubicBezTo>
                  <a:pt x="658" y="149"/>
                  <a:pt x="653" y="149"/>
                  <a:pt x="648" y="149"/>
                </a:cubicBezTo>
                <a:cubicBezTo>
                  <a:pt x="643" y="150"/>
                  <a:pt x="637" y="150"/>
                  <a:pt x="632" y="150"/>
                </a:cubicBezTo>
                <a:cubicBezTo>
                  <a:pt x="629" y="150"/>
                  <a:pt x="625" y="150"/>
                  <a:pt x="622" y="150"/>
                </a:cubicBezTo>
                <a:cubicBezTo>
                  <a:pt x="621" y="150"/>
                  <a:pt x="620" y="150"/>
                  <a:pt x="619" y="150"/>
                </a:cubicBezTo>
                <a:cubicBezTo>
                  <a:pt x="615" y="150"/>
                  <a:pt x="611" y="150"/>
                  <a:pt x="607" y="150"/>
                </a:cubicBezTo>
                <a:cubicBezTo>
                  <a:pt x="604" y="150"/>
                  <a:pt x="600" y="150"/>
                  <a:pt x="597" y="150"/>
                </a:cubicBezTo>
                <a:cubicBezTo>
                  <a:pt x="596" y="150"/>
                  <a:pt x="596" y="150"/>
                  <a:pt x="596" y="150"/>
                </a:cubicBezTo>
                <a:cubicBezTo>
                  <a:pt x="595" y="150"/>
                  <a:pt x="593" y="150"/>
                  <a:pt x="592" y="150"/>
                </a:cubicBezTo>
                <a:cubicBezTo>
                  <a:pt x="591" y="150"/>
                  <a:pt x="591" y="150"/>
                  <a:pt x="590" y="150"/>
                </a:cubicBezTo>
                <a:cubicBezTo>
                  <a:pt x="589" y="150"/>
                  <a:pt x="588" y="150"/>
                  <a:pt x="587" y="150"/>
                </a:cubicBezTo>
                <a:cubicBezTo>
                  <a:pt x="587" y="150"/>
                  <a:pt x="587" y="150"/>
                  <a:pt x="587" y="150"/>
                </a:cubicBezTo>
                <a:cubicBezTo>
                  <a:pt x="586" y="150"/>
                  <a:pt x="586" y="150"/>
                  <a:pt x="586" y="150"/>
                </a:cubicBezTo>
                <a:cubicBezTo>
                  <a:pt x="585" y="150"/>
                  <a:pt x="584" y="150"/>
                  <a:pt x="583" y="150"/>
                </a:cubicBezTo>
                <a:cubicBezTo>
                  <a:pt x="582" y="150"/>
                  <a:pt x="582" y="150"/>
                  <a:pt x="582" y="150"/>
                </a:cubicBezTo>
                <a:cubicBezTo>
                  <a:pt x="582" y="150"/>
                  <a:pt x="582" y="150"/>
                  <a:pt x="582" y="150"/>
                </a:cubicBezTo>
                <a:cubicBezTo>
                  <a:pt x="582" y="150"/>
                  <a:pt x="582" y="150"/>
                  <a:pt x="582" y="150"/>
                </a:cubicBezTo>
                <a:cubicBezTo>
                  <a:pt x="580" y="150"/>
                  <a:pt x="578" y="151"/>
                  <a:pt x="576" y="151"/>
                </a:cubicBezTo>
                <a:cubicBezTo>
                  <a:pt x="575" y="151"/>
                  <a:pt x="575" y="151"/>
                  <a:pt x="575" y="151"/>
                </a:cubicBezTo>
                <a:cubicBezTo>
                  <a:pt x="574" y="151"/>
                  <a:pt x="574" y="151"/>
                  <a:pt x="574" y="151"/>
                </a:cubicBezTo>
                <a:cubicBezTo>
                  <a:pt x="573" y="151"/>
                  <a:pt x="573" y="151"/>
                  <a:pt x="572" y="151"/>
                </a:cubicBezTo>
                <a:cubicBezTo>
                  <a:pt x="572" y="151"/>
                  <a:pt x="572" y="151"/>
                  <a:pt x="572" y="151"/>
                </a:cubicBezTo>
                <a:cubicBezTo>
                  <a:pt x="571" y="151"/>
                  <a:pt x="571" y="151"/>
                  <a:pt x="571" y="151"/>
                </a:cubicBezTo>
                <a:cubicBezTo>
                  <a:pt x="571" y="151"/>
                  <a:pt x="571" y="151"/>
                  <a:pt x="571" y="151"/>
                </a:cubicBezTo>
                <a:cubicBezTo>
                  <a:pt x="571" y="151"/>
                  <a:pt x="571" y="151"/>
                  <a:pt x="571" y="151"/>
                </a:cubicBezTo>
                <a:cubicBezTo>
                  <a:pt x="570" y="151"/>
                  <a:pt x="570" y="151"/>
                  <a:pt x="570" y="151"/>
                </a:cubicBezTo>
                <a:cubicBezTo>
                  <a:pt x="569" y="151"/>
                  <a:pt x="569" y="151"/>
                  <a:pt x="569" y="151"/>
                </a:cubicBezTo>
                <a:cubicBezTo>
                  <a:pt x="568" y="151"/>
                  <a:pt x="568" y="151"/>
                  <a:pt x="568" y="151"/>
                </a:cubicBezTo>
                <a:cubicBezTo>
                  <a:pt x="568" y="151"/>
                  <a:pt x="568" y="151"/>
                  <a:pt x="568" y="151"/>
                </a:cubicBezTo>
                <a:cubicBezTo>
                  <a:pt x="567" y="151"/>
                  <a:pt x="567" y="151"/>
                  <a:pt x="567" y="151"/>
                </a:cubicBezTo>
                <a:cubicBezTo>
                  <a:pt x="566" y="151"/>
                  <a:pt x="566" y="151"/>
                  <a:pt x="566" y="151"/>
                </a:cubicBezTo>
                <a:cubicBezTo>
                  <a:pt x="565" y="151"/>
                  <a:pt x="565" y="151"/>
                  <a:pt x="565" y="151"/>
                </a:cubicBezTo>
                <a:cubicBezTo>
                  <a:pt x="565" y="151"/>
                  <a:pt x="565" y="151"/>
                  <a:pt x="565" y="151"/>
                </a:cubicBezTo>
                <a:cubicBezTo>
                  <a:pt x="565" y="151"/>
                  <a:pt x="565" y="151"/>
                  <a:pt x="565" y="151"/>
                </a:cubicBezTo>
                <a:cubicBezTo>
                  <a:pt x="564" y="151"/>
                  <a:pt x="564" y="151"/>
                  <a:pt x="564" y="151"/>
                </a:cubicBezTo>
                <a:cubicBezTo>
                  <a:pt x="563" y="151"/>
                  <a:pt x="563" y="151"/>
                  <a:pt x="563" y="151"/>
                </a:cubicBezTo>
                <a:cubicBezTo>
                  <a:pt x="562" y="152"/>
                  <a:pt x="562" y="152"/>
                  <a:pt x="562" y="152"/>
                </a:cubicBezTo>
                <a:cubicBezTo>
                  <a:pt x="562" y="152"/>
                  <a:pt x="562" y="152"/>
                  <a:pt x="562" y="152"/>
                </a:cubicBezTo>
                <a:cubicBezTo>
                  <a:pt x="561" y="152"/>
                  <a:pt x="561" y="152"/>
                  <a:pt x="561" y="152"/>
                </a:cubicBezTo>
                <a:cubicBezTo>
                  <a:pt x="560" y="152"/>
                  <a:pt x="560" y="152"/>
                  <a:pt x="559" y="152"/>
                </a:cubicBezTo>
                <a:cubicBezTo>
                  <a:pt x="559" y="152"/>
                  <a:pt x="559" y="152"/>
                  <a:pt x="559" y="152"/>
                </a:cubicBezTo>
                <a:cubicBezTo>
                  <a:pt x="559" y="152"/>
                  <a:pt x="559" y="152"/>
                  <a:pt x="559" y="152"/>
                </a:cubicBezTo>
                <a:cubicBezTo>
                  <a:pt x="559" y="152"/>
                  <a:pt x="559" y="152"/>
                  <a:pt x="559" y="152"/>
                </a:cubicBezTo>
                <a:cubicBezTo>
                  <a:pt x="558" y="152"/>
                  <a:pt x="558" y="152"/>
                  <a:pt x="558" y="152"/>
                </a:cubicBezTo>
                <a:cubicBezTo>
                  <a:pt x="558" y="152"/>
                  <a:pt x="558" y="152"/>
                  <a:pt x="557" y="152"/>
                </a:cubicBezTo>
                <a:cubicBezTo>
                  <a:pt x="556" y="152"/>
                  <a:pt x="556" y="152"/>
                  <a:pt x="556" y="152"/>
                </a:cubicBezTo>
                <a:cubicBezTo>
                  <a:pt x="556" y="152"/>
                  <a:pt x="556" y="152"/>
                  <a:pt x="556" y="152"/>
                </a:cubicBezTo>
                <a:cubicBezTo>
                  <a:pt x="556" y="153"/>
                  <a:pt x="555" y="153"/>
                  <a:pt x="554" y="153"/>
                </a:cubicBezTo>
                <a:cubicBezTo>
                  <a:pt x="554" y="153"/>
                  <a:pt x="554" y="153"/>
                  <a:pt x="554" y="153"/>
                </a:cubicBezTo>
                <a:cubicBezTo>
                  <a:pt x="554" y="153"/>
                  <a:pt x="554" y="153"/>
                  <a:pt x="554" y="153"/>
                </a:cubicBezTo>
                <a:cubicBezTo>
                  <a:pt x="553" y="153"/>
                  <a:pt x="553" y="153"/>
                  <a:pt x="553" y="153"/>
                </a:cubicBezTo>
                <a:cubicBezTo>
                  <a:pt x="552" y="153"/>
                  <a:pt x="552" y="153"/>
                  <a:pt x="552" y="153"/>
                </a:cubicBezTo>
                <a:cubicBezTo>
                  <a:pt x="552" y="154"/>
                  <a:pt x="552" y="154"/>
                  <a:pt x="552" y="154"/>
                </a:cubicBezTo>
                <a:cubicBezTo>
                  <a:pt x="551" y="154"/>
                  <a:pt x="551" y="154"/>
                  <a:pt x="551" y="154"/>
                </a:cubicBezTo>
                <a:cubicBezTo>
                  <a:pt x="551" y="154"/>
                  <a:pt x="551" y="154"/>
                  <a:pt x="551" y="154"/>
                </a:cubicBezTo>
                <a:cubicBezTo>
                  <a:pt x="551" y="154"/>
                  <a:pt x="551" y="154"/>
                  <a:pt x="551" y="154"/>
                </a:cubicBezTo>
                <a:cubicBezTo>
                  <a:pt x="550" y="154"/>
                  <a:pt x="550" y="154"/>
                  <a:pt x="550" y="154"/>
                </a:cubicBezTo>
                <a:cubicBezTo>
                  <a:pt x="550" y="154"/>
                  <a:pt x="550" y="154"/>
                  <a:pt x="550" y="154"/>
                </a:cubicBezTo>
                <a:cubicBezTo>
                  <a:pt x="550" y="154"/>
                  <a:pt x="550" y="154"/>
                  <a:pt x="550" y="154"/>
                </a:cubicBezTo>
                <a:cubicBezTo>
                  <a:pt x="549" y="155"/>
                  <a:pt x="549" y="155"/>
                  <a:pt x="549" y="155"/>
                </a:cubicBezTo>
                <a:cubicBezTo>
                  <a:pt x="549" y="155"/>
                  <a:pt x="549" y="155"/>
                  <a:pt x="549" y="155"/>
                </a:cubicBezTo>
                <a:cubicBezTo>
                  <a:pt x="549" y="155"/>
                  <a:pt x="549" y="155"/>
                  <a:pt x="549" y="155"/>
                </a:cubicBezTo>
                <a:cubicBezTo>
                  <a:pt x="549" y="155"/>
                  <a:pt x="549" y="155"/>
                  <a:pt x="549" y="155"/>
                </a:cubicBezTo>
                <a:cubicBezTo>
                  <a:pt x="548" y="155"/>
                  <a:pt x="548" y="155"/>
                  <a:pt x="548" y="155"/>
                </a:cubicBezTo>
                <a:cubicBezTo>
                  <a:pt x="548" y="155"/>
                  <a:pt x="548" y="155"/>
                  <a:pt x="548" y="155"/>
                </a:cubicBezTo>
                <a:cubicBezTo>
                  <a:pt x="548" y="155"/>
                  <a:pt x="548" y="155"/>
                  <a:pt x="548" y="155"/>
                </a:cubicBezTo>
                <a:cubicBezTo>
                  <a:pt x="548" y="155"/>
                  <a:pt x="548" y="155"/>
                  <a:pt x="548" y="155"/>
                </a:cubicBezTo>
                <a:cubicBezTo>
                  <a:pt x="548" y="155"/>
                  <a:pt x="548" y="155"/>
                  <a:pt x="548" y="155"/>
                </a:cubicBezTo>
                <a:cubicBezTo>
                  <a:pt x="548" y="156"/>
                  <a:pt x="548" y="156"/>
                  <a:pt x="548" y="156"/>
                </a:cubicBezTo>
                <a:cubicBezTo>
                  <a:pt x="547" y="156"/>
                  <a:pt x="547" y="156"/>
                  <a:pt x="547" y="156"/>
                </a:cubicBezTo>
                <a:cubicBezTo>
                  <a:pt x="547" y="156"/>
                  <a:pt x="547" y="156"/>
                  <a:pt x="547" y="156"/>
                </a:cubicBezTo>
                <a:cubicBezTo>
                  <a:pt x="547" y="156"/>
                  <a:pt x="547" y="156"/>
                  <a:pt x="547" y="156"/>
                </a:cubicBezTo>
                <a:cubicBezTo>
                  <a:pt x="547" y="156"/>
                  <a:pt x="547" y="156"/>
                  <a:pt x="547" y="156"/>
                </a:cubicBezTo>
                <a:cubicBezTo>
                  <a:pt x="547" y="156"/>
                  <a:pt x="547" y="156"/>
                  <a:pt x="547" y="156"/>
                </a:cubicBezTo>
                <a:cubicBezTo>
                  <a:pt x="547" y="156"/>
                  <a:pt x="547" y="156"/>
                  <a:pt x="547" y="156"/>
                </a:cubicBezTo>
                <a:cubicBezTo>
                  <a:pt x="546" y="156"/>
                  <a:pt x="546" y="156"/>
                  <a:pt x="546" y="156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5" y="157"/>
                  <a:pt x="545" y="157"/>
                  <a:pt x="545" y="157"/>
                </a:cubicBezTo>
                <a:cubicBezTo>
                  <a:pt x="545" y="158"/>
                  <a:pt x="545" y="158"/>
                  <a:pt x="545" y="158"/>
                </a:cubicBezTo>
                <a:cubicBezTo>
                  <a:pt x="545" y="158"/>
                  <a:pt x="545" y="158"/>
                  <a:pt x="545" y="158"/>
                </a:cubicBezTo>
                <a:cubicBezTo>
                  <a:pt x="545" y="158"/>
                  <a:pt x="545" y="158"/>
                  <a:pt x="545" y="158"/>
                </a:cubicBezTo>
                <a:cubicBezTo>
                  <a:pt x="545" y="158"/>
                  <a:pt x="545" y="158"/>
                  <a:pt x="545" y="158"/>
                </a:cubicBezTo>
                <a:cubicBezTo>
                  <a:pt x="545" y="158"/>
                  <a:pt x="545" y="158"/>
                  <a:pt x="545" y="158"/>
                </a:cubicBezTo>
                <a:cubicBezTo>
                  <a:pt x="545" y="158"/>
                  <a:pt x="545" y="158"/>
                  <a:pt x="545" y="158"/>
                </a:cubicBezTo>
                <a:cubicBezTo>
                  <a:pt x="545" y="158"/>
                  <a:pt x="545" y="158"/>
                  <a:pt x="545" y="158"/>
                </a:cubicBezTo>
                <a:cubicBezTo>
                  <a:pt x="545" y="159"/>
                  <a:pt x="545" y="159"/>
                  <a:pt x="545" y="159"/>
                </a:cubicBezTo>
                <a:cubicBezTo>
                  <a:pt x="545" y="159"/>
                  <a:pt x="545" y="159"/>
                  <a:pt x="545" y="159"/>
                </a:cubicBezTo>
                <a:cubicBezTo>
                  <a:pt x="545" y="159"/>
                  <a:pt x="545" y="159"/>
                  <a:pt x="545" y="159"/>
                </a:cubicBezTo>
                <a:cubicBezTo>
                  <a:pt x="544" y="159"/>
                  <a:pt x="544" y="159"/>
                  <a:pt x="544" y="159"/>
                </a:cubicBezTo>
                <a:cubicBezTo>
                  <a:pt x="544" y="159"/>
                  <a:pt x="544" y="159"/>
                  <a:pt x="544" y="159"/>
                </a:cubicBezTo>
                <a:cubicBezTo>
                  <a:pt x="544" y="160"/>
                  <a:pt x="544" y="160"/>
                  <a:pt x="544" y="160"/>
                </a:cubicBezTo>
                <a:cubicBezTo>
                  <a:pt x="544" y="160"/>
                  <a:pt x="544" y="160"/>
                  <a:pt x="544" y="160"/>
                </a:cubicBezTo>
                <a:cubicBezTo>
                  <a:pt x="544" y="160"/>
                  <a:pt x="544" y="160"/>
                  <a:pt x="544" y="160"/>
                </a:cubicBezTo>
                <a:cubicBezTo>
                  <a:pt x="544" y="160"/>
                  <a:pt x="544" y="160"/>
                  <a:pt x="544" y="160"/>
                </a:cubicBezTo>
                <a:cubicBezTo>
                  <a:pt x="544" y="160"/>
                  <a:pt x="544" y="160"/>
                  <a:pt x="544" y="160"/>
                </a:cubicBezTo>
                <a:cubicBezTo>
                  <a:pt x="542" y="230"/>
                  <a:pt x="542" y="230"/>
                  <a:pt x="542" y="230"/>
                </a:cubicBezTo>
                <a:cubicBezTo>
                  <a:pt x="541" y="230"/>
                  <a:pt x="540" y="230"/>
                  <a:pt x="539" y="230"/>
                </a:cubicBezTo>
                <a:cubicBezTo>
                  <a:pt x="537" y="231"/>
                  <a:pt x="535" y="231"/>
                  <a:pt x="533" y="231"/>
                </a:cubicBezTo>
                <a:cubicBezTo>
                  <a:pt x="533" y="231"/>
                  <a:pt x="533" y="231"/>
                  <a:pt x="533" y="231"/>
                </a:cubicBezTo>
                <a:cubicBezTo>
                  <a:pt x="531" y="232"/>
                  <a:pt x="528" y="232"/>
                  <a:pt x="526" y="232"/>
                </a:cubicBezTo>
                <a:cubicBezTo>
                  <a:pt x="525" y="232"/>
                  <a:pt x="525" y="232"/>
                  <a:pt x="525" y="232"/>
                </a:cubicBezTo>
                <a:cubicBezTo>
                  <a:pt x="523" y="233"/>
                  <a:pt x="521" y="233"/>
                  <a:pt x="518" y="233"/>
                </a:cubicBezTo>
                <a:cubicBezTo>
                  <a:pt x="513" y="234"/>
                  <a:pt x="508" y="234"/>
                  <a:pt x="503" y="234"/>
                </a:cubicBezTo>
                <a:cubicBezTo>
                  <a:pt x="503" y="234"/>
                  <a:pt x="503" y="234"/>
                  <a:pt x="503" y="234"/>
                </a:cubicBezTo>
                <a:cubicBezTo>
                  <a:pt x="500" y="234"/>
                  <a:pt x="497" y="235"/>
                  <a:pt x="495" y="235"/>
                </a:cubicBezTo>
                <a:cubicBezTo>
                  <a:pt x="495" y="235"/>
                  <a:pt x="495" y="235"/>
                  <a:pt x="495" y="235"/>
                </a:cubicBezTo>
                <a:cubicBezTo>
                  <a:pt x="492" y="235"/>
                  <a:pt x="489" y="235"/>
                  <a:pt x="487" y="235"/>
                </a:cubicBezTo>
                <a:cubicBezTo>
                  <a:pt x="481" y="235"/>
                  <a:pt x="475" y="235"/>
                  <a:pt x="470" y="235"/>
                </a:cubicBezTo>
                <a:cubicBezTo>
                  <a:pt x="467" y="235"/>
                  <a:pt x="464" y="234"/>
                  <a:pt x="462" y="234"/>
                </a:cubicBezTo>
                <a:cubicBezTo>
                  <a:pt x="461" y="234"/>
                  <a:pt x="461" y="234"/>
                  <a:pt x="461" y="234"/>
                </a:cubicBezTo>
                <a:cubicBezTo>
                  <a:pt x="459" y="234"/>
                  <a:pt x="456" y="234"/>
                  <a:pt x="454" y="234"/>
                </a:cubicBezTo>
                <a:cubicBezTo>
                  <a:pt x="451" y="233"/>
                  <a:pt x="448" y="233"/>
                  <a:pt x="446" y="233"/>
                </a:cubicBezTo>
                <a:cubicBezTo>
                  <a:pt x="446" y="233"/>
                  <a:pt x="446" y="233"/>
                  <a:pt x="446" y="233"/>
                </a:cubicBezTo>
                <a:cubicBezTo>
                  <a:pt x="443" y="233"/>
                  <a:pt x="441" y="232"/>
                  <a:pt x="439" y="232"/>
                </a:cubicBezTo>
                <a:cubicBezTo>
                  <a:pt x="438" y="232"/>
                  <a:pt x="438" y="232"/>
                  <a:pt x="438" y="232"/>
                </a:cubicBezTo>
                <a:cubicBezTo>
                  <a:pt x="438" y="232"/>
                  <a:pt x="438" y="232"/>
                  <a:pt x="438" y="232"/>
                </a:cubicBezTo>
                <a:cubicBezTo>
                  <a:pt x="434" y="231"/>
                  <a:pt x="429" y="230"/>
                  <a:pt x="425" y="230"/>
                </a:cubicBezTo>
                <a:cubicBezTo>
                  <a:pt x="424" y="229"/>
                  <a:pt x="423" y="229"/>
                  <a:pt x="421" y="229"/>
                </a:cubicBezTo>
                <a:cubicBezTo>
                  <a:pt x="421" y="229"/>
                  <a:pt x="421" y="229"/>
                  <a:pt x="421" y="229"/>
                </a:cubicBezTo>
                <a:cubicBezTo>
                  <a:pt x="420" y="228"/>
                  <a:pt x="419" y="228"/>
                  <a:pt x="418" y="228"/>
                </a:cubicBezTo>
                <a:cubicBezTo>
                  <a:pt x="418" y="228"/>
                  <a:pt x="418" y="228"/>
                  <a:pt x="418" y="228"/>
                </a:cubicBezTo>
                <a:cubicBezTo>
                  <a:pt x="417" y="227"/>
                  <a:pt x="416" y="227"/>
                  <a:pt x="416" y="227"/>
                </a:cubicBezTo>
                <a:cubicBezTo>
                  <a:pt x="415" y="226"/>
                  <a:pt x="415" y="226"/>
                  <a:pt x="415" y="226"/>
                </a:cubicBezTo>
                <a:cubicBezTo>
                  <a:pt x="414" y="226"/>
                  <a:pt x="413" y="226"/>
                  <a:pt x="412" y="225"/>
                </a:cubicBezTo>
                <a:cubicBezTo>
                  <a:pt x="411" y="225"/>
                  <a:pt x="411" y="225"/>
                  <a:pt x="410" y="225"/>
                </a:cubicBezTo>
                <a:cubicBezTo>
                  <a:pt x="411" y="211"/>
                  <a:pt x="411" y="198"/>
                  <a:pt x="411" y="185"/>
                </a:cubicBezTo>
                <a:cubicBezTo>
                  <a:pt x="411" y="184"/>
                  <a:pt x="411" y="184"/>
                  <a:pt x="411" y="183"/>
                </a:cubicBezTo>
                <a:cubicBezTo>
                  <a:pt x="411" y="182"/>
                  <a:pt x="411" y="182"/>
                  <a:pt x="411" y="182"/>
                </a:cubicBezTo>
                <a:cubicBezTo>
                  <a:pt x="411" y="182"/>
                  <a:pt x="411" y="182"/>
                  <a:pt x="410" y="181"/>
                </a:cubicBezTo>
                <a:cubicBezTo>
                  <a:pt x="410" y="181"/>
                  <a:pt x="410" y="181"/>
                  <a:pt x="410" y="181"/>
                </a:cubicBezTo>
                <a:cubicBezTo>
                  <a:pt x="410" y="181"/>
                  <a:pt x="410" y="181"/>
                  <a:pt x="410" y="181"/>
                </a:cubicBezTo>
                <a:cubicBezTo>
                  <a:pt x="409" y="180"/>
                  <a:pt x="409" y="180"/>
                  <a:pt x="409" y="180"/>
                </a:cubicBezTo>
                <a:cubicBezTo>
                  <a:pt x="408" y="179"/>
                  <a:pt x="408" y="179"/>
                  <a:pt x="408" y="179"/>
                </a:cubicBezTo>
                <a:cubicBezTo>
                  <a:pt x="407" y="178"/>
                  <a:pt x="407" y="178"/>
                  <a:pt x="407" y="178"/>
                </a:cubicBezTo>
                <a:cubicBezTo>
                  <a:pt x="407" y="178"/>
                  <a:pt x="407" y="178"/>
                  <a:pt x="407" y="178"/>
                </a:cubicBezTo>
                <a:cubicBezTo>
                  <a:pt x="407" y="178"/>
                  <a:pt x="407" y="178"/>
                  <a:pt x="407" y="178"/>
                </a:cubicBezTo>
                <a:cubicBezTo>
                  <a:pt x="406" y="177"/>
                  <a:pt x="406" y="177"/>
                  <a:pt x="406" y="177"/>
                </a:cubicBezTo>
                <a:cubicBezTo>
                  <a:pt x="406" y="177"/>
                  <a:pt x="405" y="177"/>
                  <a:pt x="405" y="177"/>
                </a:cubicBezTo>
                <a:cubicBezTo>
                  <a:pt x="404" y="176"/>
                  <a:pt x="404" y="176"/>
                  <a:pt x="404" y="176"/>
                </a:cubicBezTo>
                <a:cubicBezTo>
                  <a:pt x="403" y="176"/>
                  <a:pt x="403" y="176"/>
                  <a:pt x="402" y="175"/>
                </a:cubicBezTo>
                <a:cubicBezTo>
                  <a:pt x="402" y="175"/>
                  <a:pt x="402" y="175"/>
                  <a:pt x="402" y="175"/>
                </a:cubicBezTo>
                <a:cubicBezTo>
                  <a:pt x="401" y="175"/>
                  <a:pt x="401" y="175"/>
                  <a:pt x="401" y="175"/>
                </a:cubicBezTo>
                <a:cubicBezTo>
                  <a:pt x="400" y="174"/>
                  <a:pt x="400" y="174"/>
                  <a:pt x="399" y="174"/>
                </a:cubicBezTo>
                <a:cubicBezTo>
                  <a:pt x="398" y="174"/>
                  <a:pt x="398" y="174"/>
                  <a:pt x="397" y="173"/>
                </a:cubicBezTo>
                <a:cubicBezTo>
                  <a:pt x="397" y="173"/>
                  <a:pt x="397" y="173"/>
                  <a:pt x="396" y="173"/>
                </a:cubicBezTo>
                <a:cubicBezTo>
                  <a:pt x="395" y="173"/>
                  <a:pt x="395" y="173"/>
                  <a:pt x="395" y="173"/>
                </a:cubicBezTo>
                <a:cubicBezTo>
                  <a:pt x="395" y="172"/>
                  <a:pt x="395" y="172"/>
                  <a:pt x="395" y="172"/>
                </a:cubicBezTo>
                <a:cubicBezTo>
                  <a:pt x="394" y="172"/>
                  <a:pt x="394" y="172"/>
                  <a:pt x="393" y="172"/>
                </a:cubicBezTo>
                <a:cubicBezTo>
                  <a:pt x="393" y="172"/>
                  <a:pt x="393" y="172"/>
                  <a:pt x="393" y="172"/>
                </a:cubicBezTo>
                <a:cubicBezTo>
                  <a:pt x="392" y="172"/>
                  <a:pt x="392" y="172"/>
                  <a:pt x="392" y="172"/>
                </a:cubicBezTo>
                <a:cubicBezTo>
                  <a:pt x="392" y="172"/>
                  <a:pt x="392" y="172"/>
                  <a:pt x="392" y="172"/>
                </a:cubicBezTo>
                <a:cubicBezTo>
                  <a:pt x="392" y="171"/>
                  <a:pt x="391" y="171"/>
                  <a:pt x="391" y="171"/>
                </a:cubicBezTo>
                <a:cubicBezTo>
                  <a:pt x="390" y="171"/>
                  <a:pt x="390" y="171"/>
                  <a:pt x="389" y="171"/>
                </a:cubicBezTo>
                <a:cubicBezTo>
                  <a:pt x="389" y="171"/>
                  <a:pt x="389" y="171"/>
                  <a:pt x="389" y="171"/>
                </a:cubicBezTo>
                <a:cubicBezTo>
                  <a:pt x="389" y="171"/>
                  <a:pt x="389" y="171"/>
                  <a:pt x="389" y="171"/>
                </a:cubicBezTo>
                <a:cubicBezTo>
                  <a:pt x="388" y="171"/>
                  <a:pt x="388" y="171"/>
                  <a:pt x="388" y="171"/>
                </a:cubicBezTo>
                <a:cubicBezTo>
                  <a:pt x="388" y="171"/>
                  <a:pt x="387" y="170"/>
                  <a:pt x="387" y="170"/>
                </a:cubicBezTo>
                <a:cubicBezTo>
                  <a:pt x="387" y="170"/>
                  <a:pt x="386" y="170"/>
                  <a:pt x="386" y="170"/>
                </a:cubicBezTo>
                <a:cubicBezTo>
                  <a:pt x="386" y="170"/>
                  <a:pt x="385" y="170"/>
                  <a:pt x="385" y="170"/>
                </a:cubicBezTo>
                <a:cubicBezTo>
                  <a:pt x="384" y="170"/>
                  <a:pt x="384" y="170"/>
                  <a:pt x="384" y="170"/>
                </a:cubicBezTo>
                <a:cubicBezTo>
                  <a:pt x="384" y="170"/>
                  <a:pt x="384" y="170"/>
                  <a:pt x="384" y="170"/>
                </a:cubicBezTo>
                <a:cubicBezTo>
                  <a:pt x="384" y="170"/>
                  <a:pt x="384" y="170"/>
                  <a:pt x="384" y="170"/>
                </a:cubicBezTo>
                <a:cubicBezTo>
                  <a:pt x="383" y="170"/>
                  <a:pt x="383" y="169"/>
                  <a:pt x="382" y="169"/>
                </a:cubicBezTo>
                <a:cubicBezTo>
                  <a:pt x="382" y="169"/>
                  <a:pt x="382" y="169"/>
                  <a:pt x="381" y="169"/>
                </a:cubicBezTo>
                <a:cubicBezTo>
                  <a:pt x="381" y="169"/>
                  <a:pt x="380" y="169"/>
                  <a:pt x="380" y="169"/>
                </a:cubicBezTo>
                <a:cubicBezTo>
                  <a:pt x="380" y="169"/>
                  <a:pt x="380" y="169"/>
                  <a:pt x="380" y="169"/>
                </a:cubicBezTo>
                <a:cubicBezTo>
                  <a:pt x="380" y="169"/>
                  <a:pt x="380" y="169"/>
                  <a:pt x="380" y="169"/>
                </a:cubicBezTo>
                <a:cubicBezTo>
                  <a:pt x="380" y="169"/>
                  <a:pt x="380" y="169"/>
                  <a:pt x="380" y="169"/>
                </a:cubicBezTo>
                <a:cubicBezTo>
                  <a:pt x="379" y="169"/>
                  <a:pt x="379" y="169"/>
                  <a:pt x="379" y="169"/>
                </a:cubicBezTo>
                <a:cubicBezTo>
                  <a:pt x="379" y="169"/>
                  <a:pt x="378" y="169"/>
                  <a:pt x="378" y="169"/>
                </a:cubicBezTo>
                <a:cubicBezTo>
                  <a:pt x="377" y="168"/>
                  <a:pt x="377" y="168"/>
                  <a:pt x="377" y="168"/>
                </a:cubicBezTo>
                <a:cubicBezTo>
                  <a:pt x="376" y="168"/>
                  <a:pt x="376" y="168"/>
                  <a:pt x="375" y="168"/>
                </a:cubicBezTo>
                <a:cubicBezTo>
                  <a:pt x="375" y="168"/>
                  <a:pt x="375" y="168"/>
                  <a:pt x="374" y="168"/>
                </a:cubicBezTo>
                <a:cubicBezTo>
                  <a:pt x="374" y="168"/>
                  <a:pt x="374" y="168"/>
                  <a:pt x="373" y="168"/>
                </a:cubicBezTo>
                <a:cubicBezTo>
                  <a:pt x="373" y="168"/>
                  <a:pt x="372" y="168"/>
                  <a:pt x="372" y="168"/>
                </a:cubicBezTo>
                <a:cubicBezTo>
                  <a:pt x="372" y="168"/>
                  <a:pt x="371" y="168"/>
                  <a:pt x="371" y="168"/>
                </a:cubicBezTo>
                <a:cubicBezTo>
                  <a:pt x="370" y="167"/>
                  <a:pt x="370" y="167"/>
                  <a:pt x="370" y="167"/>
                </a:cubicBezTo>
                <a:cubicBezTo>
                  <a:pt x="370" y="167"/>
                  <a:pt x="370" y="167"/>
                  <a:pt x="370" y="167"/>
                </a:cubicBezTo>
                <a:cubicBezTo>
                  <a:pt x="370" y="167"/>
                  <a:pt x="370" y="167"/>
                  <a:pt x="370" y="167"/>
                </a:cubicBezTo>
                <a:cubicBezTo>
                  <a:pt x="369" y="167"/>
                  <a:pt x="369" y="167"/>
                  <a:pt x="368" y="167"/>
                </a:cubicBezTo>
                <a:cubicBezTo>
                  <a:pt x="368" y="167"/>
                  <a:pt x="368" y="167"/>
                  <a:pt x="367" y="167"/>
                </a:cubicBezTo>
                <a:cubicBezTo>
                  <a:pt x="367" y="167"/>
                  <a:pt x="366" y="167"/>
                  <a:pt x="366" y="167"/>
                </a:cubicBezTo>
                <a:cubicBezTo>
                  <a:pt x="366" y="167"/>
                  <a:pt x="365" y="167"/>
                  <a:pt x="365" y="167"/>
                </a:cubicBezTo>
                <a:cubicBezTo>
                  <a:pt x="364" y="167"/>
                  <a:pt x="364" y="167"/>
                  <a:pt x="364" y="167"/>
                </a:cubicBezTo>
                <a:cubicBezTo>
                  <a:pt x="363" y="167"/>
                  <a:pt x="363" y="167"/>
                  <a:pt x="363" y="167"/>
                </a:cubicBezTo>
                <a:cubicBezTo>
                  <a:pt x="363" y="167"/>
                  <a:pt x="363" y="167"/>
                  <a:pt x="362" y="167"/>
                </a:cubicBezTo>
                <a:cubicBezTo>
                  <a:pt x="362" y="167"/>
                  <a:pt x="361" y="167"/>
                  <a:pt x="361" y="167"/>
                </a:cubicBezTo>
                <a:cubicBezTo>
                  <a:pt x="361" y="167"/>
                  <a:pt x="361" y="167"/>
                  <a:pt x="361" y="167"/>
                </a:cubicBezTo>
                <a:cubicBezTo>
                  <a:pt x="360" y="167"/>
                  <a:pt x="360" y="167"/>
                  <a:pt x="360" y="167"/>
                </a:cubicBezTo>
                <a:cubicBezTo>
                  <a:pt x="360" y="167"/>
                  <a:pt x="360" y="167"/>
                  <a:pt x="360" y="167"/>
                </a:cubicBezTo>
                <a:cubicBezTo>
                  <a:pt x="359" y="166"/>
                  <a:pt x="359" y="166"/>
                  <a:pt x="359" y="166"/>
                </a:cubicBezTo>
                <a:cubicBezTo>
                  <a:pt x="359" y="166"/>
                  <a:pt x="359" y="166"/>
                  <a:pt x="359" y="166"/>
                </a:cubicBezTo>
                <a:cubicBezTo>
                  <a:pt x="359" y="166"/>
                  <a:pt x="359" y="166"/>
                  <a:pt x="359" y="166"/>
                </a:cubicBezTo>
                <a:cubicBezTo>
                  <a:pt x="359" y="166"/>
                  <a:pt x="359" y="166"/>
                  <a:pt x="359" y="166"/>
                </a:cubicBezTo>
                <a:cubicBezTo>
                  <a:pt x="358" y="166"/>
                  <a:pt x="358" y="166"/>
                  <a:pt x="358" y="166"/>
                </a:cubicBezTo>
                <a:cubicBezTo>
                  <a:pt x="358" y="166"/>
                  <a:pt x="358" y="166"/>
                  <a:pt x="358" y="166"/>
                </a:cubicBezTo>
                <a:cubicBezTo>
                  <a:pt x="358" y="166"/>
                  <a:pt x="358" y="166"/>
                  <a:pt x="358" y="166"/>
                </a:cubicBezTo>
                <a:cubicBezTo>
                  <a:pt x="358" y="166"/>
                  <a:pt x="358" y="166"/>
                  <a:pt x="358" y="166"/>
                </a:cubicBezTo>
                <a:cubicBezTo>
                  <a:pt x="358" y="166"/>
                  <a:pt x="358" y="166"/>
                  <a:pt x="358" y="166"/>
                </a:cubicBezTo>
                <a:cubicBezTo>
                  <a:pt x="357" y="166"/>
                  <a:pt x="357" y="166"/>
                  <a:pt x="357" y="166"/>
                </a:cubicBezTo>
                <a:cubicBezTo>
                  <a:pt x="357" y="166"/>
                  <a:pt x="357" y="166"/>
                  <a:pt x="357" y="166"/>
                </a:cubicBezTo>
                <a:cubicBezTo>
                  <a:pt x="357" y="166"/>
                  <a:pt x="357" y="166"/>
                  <a:pt x="357" y="166"/>
                </a:cubicBezTo>
                <a:cubicBezTo>
                  <a:pt x="356" y="166"/>
                  <a:pt x="356" y="166"/>
                  <a:pt x="356" y="166"/>
                </a:cubicBezTo>
                <a:cubicBezTo>
                  <a:pt x="356" y="166"/>
                  <a:pt x="356" y="166"/>
                  <a:pt x="356" y="166"/>
                </a:cubicBezTo>
                <a:cubicBezTo>
                  <a:pt x="356" y="166"/>
                  <a:pt x="356" y="166"/>
                  <a:pt x="356" y="166"/>
                </a:cubicBezTo>
                <a:cubicBezTo>
                  <a:pt x="356" y="166"/>
                  <a:pt x="356" y="166"/>
                  <a:pt x="356" y="166"/>
                </a:cubicBezTo>
                <a:cubicBezTo>
                  <a:pt x="355" y="166"/>
                  <a:pt x="355" y="166"/>
                  <a:pt x="355" y="166"/>
                </a:cubicBezTo>
                <a:cubicBezTo>
                  <a:pt x="355" y="166"/>
                  <a:pt x="355" y="166"/>
                  <a:pt x="355" y="166"/>
                </a:cubicBezTo>
                <a:cubicBezTo>
                  <a:pt x="355" y="166"/>
                  <a:pt x="355" y="166"/>
                  <a:pt x="355" y="166"/>
                </a:cubicBezTo>
                <a:cubicBezTo>
                  <a:pt x="354" y="166"/>
                  <a:pt x="354" y="166"/>
                  <a:pt x="354" y="166"/>
                </a:cubicBezTo>
                <a:cubicBezTo>
                  <a:pt x="354" y="166"/>
                  <a:pt x="354" y="166"/>
                  <a:pt x="354" y="166"/>
                </a:cubicBezTo>
                <a:cubicBezTo>
                  <a:pt x="354" y="166"/>
                  <a:pt x="354" y="166"/>
                  <a:pt x="354" y="166"/>
                </a:cubicBezTo>
                <a:cubicBezTo>
                  <a:pt x="353" y="166"/>
                  <a:pt x="353" y="166"/>
                  <a:pt x="353" y="166"/>
                </a:cubicBezTo>
                <a:cubicBezTo>
                  <a:pt x="352" y="166"/>
                  <a:pt x="352" y="166"/>
                  <a:pt x="352" y="166"/>
                </a:cubicBezTo>
                <a:cubicBezTo>
                  <a:pt x="351" y="167"/>
                  <a:pt x="351" y="167"/>
                  <a:pt x="351" y="167"/>
                </a:cubicBezTo>
                <a:cubicBezTo>
                  <a:pt x="351" y="167"/>
                  <a:pt x="351" y="167"/>
                  <a:pt x="351" y="167"/>
                </a:cubicBezTo>
                <a:cubicBezTo>
                  <a:pt x="351" y="167"/>
                  <a:pt x="351" y="167"/>
                  <a:pt x="351" y="167"/>
                </a:cubicBezTo>
                <a:cubicBezTo>
                  <a:pt x="350" y="167"/>
                  <a:pt x="350" y="167"/>
                  <a:pt x="350" y="167"/>
                </a:cubicBezTo>
                <a:cubicBezTo>
                  <a:pt x="350" y="167"/>
                  <a:pt x="349" y="167"/>
                  <a:pt x="349" y="167"/>
                </a:cubicBezTo>
                <a:cubicBezTo>
                  <a:pt x="348" y="167"/>
                  <a:pt x="348" y="167"/>
                  <a:pt x="347" y="167"/>
                </a:cubicBezTo>
                <a:cubicBezTo>
                  <a:pt x="347" y="167"/>
                  <a:pt x="346" y="167"/>
                  <a:pt x="346" y="167"/>
                </a:cubicBezTo>
                <a:cubicBezTo>
                  <a:pt x="345" y="167"/>
                  <a:pt x="345" y="167"/>
                  <a:pt x="344" y="167"/>
                </a:cubicBezTo>
                <a:cubicBezTo>
                  <a:pt x="343" y="167"/>
                  <a:pt x="342" y="167"/>
                  <a:pt x="341" y="167"/>
                </a:cubicBezTo>
                <a:cubicBezTo>
                  <a:pt x="341" y="167"/>
                  <a:pt x="341" y="167"/>
                  <a:pt x="341" y="167"/>
                </a:cubicBezTo>
                <a:cubicBezTo>
                  <a:pt x="340" y="167"/>
                  <a:pt x="340" y="167"/>
                  <a:pt x="340" y="167"/>
                </a:cubicBezTo>
                <a:cubicBezTo>
                  <a:pt x="339" y="167"/>
                  <a:pt x="339" y="167"/>
                  <a:pt x="338" y="168"/>
                </a:cubicBezTo>
                <a:cubicBezTo>
                  <a:pt x="337" y="168"/>
                  <a:pt x="336" y="168"/>
                  <a:pt x="335" y="168"/>
                </a:cubicBezTo>
                <a:cubicBezTo>
                  <a:pt x="333" y="168"/>
                  <a:pt x="332" y="168"/>
                  <a:pt x="331" y="168"/>
                </a:cubicBezTo>
                <a:cubicBezTo>
                  <a:pt x="330" y="168"/>
                  <a:pt x="330" y="168"/>
                  <a:pt x="330" y="168"/>
                </a:cubicBezTo>
                <a:cubicBezTo>
                  <a:pt x="328" y="169"/>
                  <a:pt x="326" y="169"/>
                  <a:pt x="324" y="169"/>
                </a:cubicBezTo>
                <a:cubicBezTo>
                  <a:pt x="323" y="169"/>
                  <a:pt x="322" y="169"/>
                  <a:pt x="321" y="169"/>
                </a:cubicBezTo>
                <a:cubicBezTo>
                  <a:pt x="319" y="170"/>
                  <a:pt x="316" y="170"/>
                  <a:pt x="313" y="170"/>
                </a:cubicBezTo>
                <a:cubicBezTo>
                  <a:pt x="313" y="170"/>
                  <a:pt x="313" y="170"/>
                  <a:pt x="313" y="170"/>
                </a:cubicBezTo>
                <a:cubicBezTo>
                  <a:pt x="312" y="171"/>
                  <a:pt x="311" y="171"/>
                  <a:pt x="311" y="171"/>
                </a:cubicBezTo>
                <a:cubicBezTo>
                  <a:pt x="309" y="171"/>
                  <a:pt x="307" y="171"/>
                  <a:pt x="305" y="171"/>
                </a:cubicBezTo>
                <a:cubicBezTo>
                  <a:pt x="305" y="172"/>
                  <a:pt x="304" y="172"/>
                  <a:pt x="304" y="172"/>
                </a:cubicBezTo>
                <a:cubicBezTo>
                  <a:pt x="303" y="172"/>
                  <a:pt x="301" y="172"/>
                  <a:pt x="300" y="172"/>
                </a:cubicBezTo>
                <a:cubicBezTo>
                  <a:pt x="298" y="172"/>
                  <a:pt x="296" y="173"/>
                  <a:pt x="294" y="173"/>
                </a:cubicBezTo>
                <a:cubicBezTo>
                  <a:pt x="293" y="173"/>
                  <a:pt x="293" y="173"/>
                  <a:pt x="292" y="173"/>
                </a:cubicBezTo>
                <a:cubicBezTo>
                  <a:pt x="291" y="173"/>
                  <a:pt x="291" y="174"/>
                  <a:pt x="291" y="174"/>
                </a:cubicBezTo>
                <a:cubicBezTo>
                  <a:pt x="288" y="174"/>
                  <a:pt x="285" y="174"/>
                  <a:pt x="282" y="175"/>
                </a:cubicBezTo>
                <a:cubicBezTo>
                  <a:pt x="281" y="175"/>
                  <a:pt x="281" y="175"/>
                  <a:pt x="281" y="175"/>
                </a:cubicBezTo>
                <a:cubicBezTo>
                  <a:pt x="277" y="176"/>
                  <a:pt x="273" y="176"/>
                  <a:pt x="270" y="177"/>
                </a:cubicBezTo>
                <a:cubicBezTo>
                  <a:pt x="270" y="177"/>
                  <a:pt x="270" y="177"/>
                  <a:pt x="270" y="177"/>
                </a:cubicBezTo>
                <a:cubicBezTo>
                  <a:pt x="270" y="177"/>
                  <a:pt x="270" y="177"/>
                  <a:pt x="270" y="177"/>
                </a:cubicBezTo>
                <a:cubicBezTo>
                  <a:pt x="262" y="178"/>
                  <a:pt x="255" y="179"/>
                  <a:pt x="247" y="180"/>
                </a:cubicBezTo>
                <a:cubicBezTo>
                  <a:pt x="247" y="180"/>
                  <a:pt x="247" y="180"/>
                  <a:pt x="247" y="180"/>
                </a:cubicBezTo>
                <a:cubicBezTo>
                  <a:pt x="246" y="181"/>
                  <a:pt x="246" y="181"/>
                  <a:pt x="246" y="181"/>
                </a:cubicBezTo>
                <a:cubicBezTo>
                  <a:pt x="243" y="181"/>
                  <a:pt x="241" y="181"/>
                  <a:pt x="238" y="182"/>
                </a:cubicBezTo>
                <a:cubicBezTo>
                  <a:pt x="238" y="182"/>
                  <a:pt x="237" y="182"/>
                  <a:pt x="236" y="182"/>
                </a:cubicBezTo>
                <a:cubicBezTo>
                  <a:pt x="236" y="182"/>
                  <a:pt x="236" y="182"/>
                  <a:pt x="235" y="182"/>
                </a:cubicBezTo>
                <a:cubicBezTo>
                  <a:pt x="234" y="182"/>
                  <a:pt x="233" y="183"/>
                  <a:pt x="233" y="183"/>
                </a:cubicBezTo>
                <a:cubicBezTo>
                  <a:pt x="234" y="85"/>
                  <a:pt x="234" y="85"/>
                  <a:pt x="234" y="85"/>
                </a:cubicBezTo>
                <a:cubicBezTo>
                  <a:pt x="234" y="83"/>
                  <a:pt x="233" y="81"/>
                  <a:pt x="232" y="78"/>
                </a:cubicBezTo>
                <a:cubicBezTo>
                  <a:pt x="232" y="76"/>
                  <a:pt x="231" y="74"/>
                  <a:pt x="229" y="72"/>
                </a:cubicBezTo>
                <a:cubicBezTo>
                  <a:pt x="228" y="70"/>
                  <a:pt x="226" y="68"/>
                  <a:pt x="224" y="65"/>
                </a:cubicBezTo>
                <a:cubicBezTo>
                  <a:pt x="222" y="63"/>
                  <a:pt x="220" y="61"/>
                  <a:pt x="217" y="59"/>
                </a:cubicBezTo>
                <a:cubicBezTo>
                  <a:pt x="216" y="59"/>
                  <a:pt x="215" y="58"/>
                  <a:pt x="214" y="58"/>
                </a:cubicBezTo>
                <a:cubicBezTo>
                  <a:pt x="214" y="57"/>
                  <a:pt x="214" y="57"/>
                  <a:pt x="214" y="57"/>
                </a:cubicBezTo>
                <a:cubicBezTo>
                  <a:pt x="213" y="57"/>
                  <a:pt x="213" y="57"/>
                  <a:pt x="213" y="57"/>
                </a:cubicBezTo>
                <a:cubicBezTo>
                  <a:pt x="213" y="57"/>
                  <a:pt x="212" y="56"/>
                  <a:pt x="211" y="56"/>
                </a:cubicBezTo>
                <a:cubicBezTo>
                  <a:pt x="211" y="56"/>
                  <a:pt x="211" y="56"/>
                  <a:pt x="211" y="56"/>
                </a:cubicBezTo>
                <a:cubicBezTo>
                  <a:pt x="210" y="55"/>
                  <a:pt x="210" y="55"/>
                  <a:pt x="210" y="55"/>
                </a:cubicBezTo>
                <a:cubicBezTo>
                  <a:pt x="209" y="55"/>
                  <a:pt x="208" y="55"/>
                  <a:pt x="208" y="55"/>
                </a:cubicBezTo>
                <a:cubicBezTo>
                  <a:pt x="207" y="54"/>
                  <a:pt x="207" y="54"/>
                  <a:pt x="207" y="54"/>
                </a:cubicBezTo>
                <a:cubicBezTo>
                  <a:pt x="206" y="54"/>
                  <a:pt x="206" y="54"/>
                  <a:pt x="206" y="54"/>
                </a:cubicBezTo>
                <a:cubicBezTo>
                  <a:pt x="206" y="54"/>
                  <a:pt x="206" y="54"/>
                  <a:pt x="206" y="54"/>
                </a:cubicBezTo>
                <a:cubicBezTo>
                  <a:pt x="205" y="54"/>
                  <a:pt x="205" y="54"/>
                  <a:pt x="205" y="54"/>
                </a:cubicBezTo>
                <a:cubicBezTo>
                  <a:pt x="204" y="53"/>
                  <a:pt x="204" y="53"/>
                  <a:pt x="203" y="53"/>
                </a:cubicBezTo>
                <a:cubicBezTo>
                  <a:pt x="202" y="53"/>
                  <a:pt x="202" y="53"/>
                  <a:pt x="202" y="53"/>
                </a:cubicBezTo>
                <a:cubicBezTo>
                  <a:pt x="201" y="52"/>
                  <a:pt x="201" y="52"/>
                  <a:pt x="201" y="52"/>
                </a:cubicBezTo>
                <a:cubicBezTo>
                  <a:pt x="200" y="52"/>
                  <a:pt x="200" y="52"/>
                  <a:pt x="199" y="52"/>
                </a:cubicBezTo>
                <a:cubicBezTo>
                  <a:pt x="199" y="52"/>
                  <a:pt x="199" y="52"/>
                  <a:pt x="199" y="52"/>
                </a:cubicBezTo>
                <a:cubicBezTo>
                  <a:pt x="199" y="52"/>
                  <a:pt x="199" y="52"/>
                  <a:pt x="199" y="52"/>
                </a:cubicBezTo>
                <a:cubicBezTo>
                  <a:pt x="198" y="52"/>
                  <a:pt x="198" y="52"/>
                  <a:pt x="198" y="52"/>
                </a:cubicBezTo>
                <a:cubicBezTo>
                  <a:pt x="197" y="51"/>
                  <a:pt x="197" y="51"/>
                  <a:pt x="197" y="51"/>
                </a:cubicBezTo>
                <a:cubicBezTo>
                  <a:pt x="196" y="51"/>
                  <a:pt x="196" y="51"/>
                  <a:pt x="196" y="51"/>
                </a:cubicBezTo>
                <a:cubicBezTo>
                  <a:pt x="195" y="51"/>
                  <a:pt x="195" y="51"/>
                  <a:pt x="195" y="51"/>
                </a:cubicBezTo>
                <a:cubicBezTo>
                  <a:pt x="194" y="51"/>
                  <a:pt x="194" y="51"/>
                  <a:pt x="194" y="51"/>
                </a:cubicBezTo>
                <a:cubicBezTo>
                  <a:pt x="193" y="51"/>
                  <a:pt x="193" y="51"/>
                  <a:pt x="193" y="51"/>
                </a:cubicBezTo>
                <a:cubicBezTo>
                  <a:pt x="192" y="50"/>
                  <a:pt x="192" y="50"/>
                  <a:pt x="192" y="50"/>
                </a:cubicBezTo>
                <a:cubicBezTo>
                  <a:pt x="191" y="50"/>
                  <a:pt x="191" y="50"/>
                  <a:pt x="191" y="50"/>
                </a:cubicBezTo>
                <a:cubicBezTo>
                  <a:pt x="191" y="50"/>
                  <a:pt x="191" y="50"/>
                  <a:pt x="191" y="50"/>
                </a:cubicBezTo>
                <a:cubicBezTo>
                  <a:pt x="191" y="50"/>
                  <a:pt x="191" y="50"/>
                  <a:pt x="191" y="50"/>
                </a:cubicBezTo>
                <a:cubicBezTo>
                  <a:pt x="191" y="50"/>
                  <a:pt x="191" y="50"/>
                  <a:pt x="191" y="50"/>
                </a:cubicBezTo>
                <a:cubicBezTo>
                  <a:pt x="190" y="50"/>
                  <a:pt x="190" y="50"/>
                  <a:pt x="190" y="50"/>
                </a:cubicBezTo>
                <a:cubicBezTo>
                  <a:pt x="189" y="50"/>
                  <a:pt x="189" y="50"/>
                  <a:pt x="189" y="50"/>
                </a:cubicBezTo>
                <a:cubicBezTo>
                  <a:pt x="188" y="50"/>
                  <a:pt x="188" y="50"/>
                  <a:pt x="188" y="50"/>
                </a:cubicBezTo>
                <a:cubicBezTo>
                  <a:pt x="187" y="50"/>
                  <a:pt x="187" y="50"/>
                  <a:pt x="187" y="50"/>
                </a:cubicBezTo>
                <a:cubicBezTo>
                  <a:pt x="186" y="49"/>
                  <a:pt x="186" y="49"/>
                  <a:pt x="186" y="49"/>
                </a:cubicBezTo>
                <a:cubicBezTo>
                  <a:pt x="185" y="49"/>
                  <a:pt x="185" y="49"/>
                  <a:pt x="185" y="49"/>
                </a:cubicBezTo>
                <a:cubicBezTo>
                  <a:pt x="184" y="49"/>
                  <a:pt x="184" y="49"/>
                  <a:pt x="184" y="49"/>
                </a:cubicBezTo>
                <a:cubicBezTo>
                  <a:pt x="183" y="49"/>
                  <a:pt x="183" y="49"/>
                  <a:pt x="183" y="49"/>
                </a:cubicBezTo>
                <a:cubicBezTo>
                  <a:pt x="182" y="49"/>
                  <a:pt x="182" y="49"/>
                  <a:pt x="182" y="49"/>
                </a:cubicBezTo>
                <a:cubicBezTo>
                  <a:pt x="182" y="49"/>
                  <a:pt x="182" y="49"/>
                  <a:pt x="182" y="49"/>
                </a:cubicBezTo>
                <a:cubicBezTo>
                  <a:pt x="182" y="49"/>
                  <a:pt x="182" y="49"/>
                  <a:pt x="182" y="49"/>
                </a:cubicBezTo>
                <a:cubicBezTo>
                  <a:pt x="181" y="49"/>
                  <a:pt x="181" y="49"/>
                  <a:pt x="181" y="49"/>
                </a:cubicBezTo>
                <a:cubicBezTo>
                  <a:pt x="180" y="49"/>
                  <a:pt x="180" y="49"/>
                  <a:pt x="180" y="49"/>
                </a:cubicBezTo>
                <a:cubicBezTo>
                  <a:pt x="179" y="49"/>
                  <a:pt x="179" y="49"/>
                  <a:pt x="179" y="49"/>
                </a:cubicBezTo>
                <a:cubicBezTo>
                  <a:pt x="178" y="48"/>
                  <a:pt x="178" y="48"/>
                  <a:pt x="178" y="48"/>
                </a:cubicBezTo>
                <a:cubicBezTo>
                  <a:pt x="178" y="48"/>
                  <a:pt x="177" y="48"/>
                  <a:pt x="177" y="48"/>
                </a:cubicBezTo>
                <a:cubicBezTo>
                  <a:pt x="177" y="48"/>
                  <a:pt x="176" y="48"/>
                  <a:pt x="176" y="48"/>
                </a:cubicBezTo>
                <a:cubicBezTo>
                  <a:pt x="176" y="48"/>
                  <a:pt x="175" y="48"/>
                  <a:pt x="175" y="48"/>
                </a:cubicBezTo>
                <a:cubicBezTo>
                  <a:pt x="174" y="48"/>
                  <a:pt x="174" y="48"/>
                  <a:pt x="174" y="48"/>
                </a:cubicBezTo>
                <a:cubicBezTo>
                  <a:pt x="173" y="48"/>
                  <a:pt x="173" y="48"/>
                  <a:pt x="173" y="48"/>
                </a:cubicBezTo>
                <a:cubicBezTo>
                  <a:pt x="172" y="48"/>
                  <a:pt x="172" y="48"/>
                  <a:pt x="171" y="48"/>
                </a:cubicBezTo>
                <a:cubicBezTo>
                  <a:pt x="171" y="48"/>
                  <a:pt x="171" y="48"/>
                  <a:pt x="170" y="48"/>
                </a:cubicBezTo>
                <a:cubicBezTo>
                  <a:pt x="170" y="48"/>
                  <a:pt x="170" y="48"/>
                  <a:pt x="169" y="48"/>
                </a:cubicBezTo>
                <a:cubicBezTo>
                  <a:pt x="169" y="48"/>
                  <a:pt x="168" y="48"/>
                  <a:pt x="168" y="48"/>
                </a:cubicBezTo>
                <a:cubicBezTo>
                  <a:pt x="168" y="48"/>
                  <a:pt x="167" y="48"/>
                  <a:pt x="167" y="48"/>
                </a:cubicBezTo>
                <a:cubicBezTo>
                  <a:pt x="166" y="48"/>
                  <a:pt x="166" y="48"/>
                  <a:pt x="165" y="48"/>
                </a:cubicBezTo>
                <a:cubicBezTo>
                  <a:pt x="165" y="48"/>
                  <a:pt x="165" y="48"/>
                  <a:pt x="165" y="48"/>
                </a:cubicBezTo>
                <a:cubicBezTo>
                  <a:pt x="165" y="48"/>
                  <a:pt x="165" y="48"/>
                  <a:pt x="165" y="48"/>
                </a:cubicBezTo>
                <a:cubicBezTo>
                  <a:pt x="164" y="48"/>
                  <a:pt x="164" y="48"/>
                  <a:pt x="164" y="48"/>
                </a:cubicBezTo>
                <a:cubicBezTo>
                  <a:pt x="164" y="48"/>
                  <a:pt x="163" y="48"/>
                  <a:pt x="163" y="48"/>
                </a:cubicBezTo>
                <a:cubicBezTo>
                  <a:pt x="163" y="48"/>
                  <a:pt x="162" y="48"/>
                  <a:pt x="162" y="48"/>
                </a:cubicBezTo>
                <a:cubicBezTo>
                  <a:pt x="161" y="48"/>
                  <a:pt x="161" y="48"/>
                  <a:pt x="160" y="48"/>
                </a:cubicBezTo>
                <a:cubicBezTo>
                  <a:pt x="160" y="48"/>
                  <a:pt x="160" y="48"/>
                  <a:pt x="159" y="48"/>
                </a:cubicBezTo>
                <a:cubicBezTo>
                  <a:pt x="158" y="48"/>
                  <a:pt x="158" y="48"/>
                  <a:pt x="158" y="48"/>
                </a:cubicBezTo>
                <a:cubicBezTo>
                  <a:pt x="158" y="48"/>
                  <a:pt x="158" y="48"/>
                  <a:pt x="158" y="48"/>
                </a:cubicBezTo>
                <a:cubicBezTo>
                  <a:pt x="157" y="48"/>
                  <a:pt x="157" y="48"/>
                  <a:pt x="157" y="48"/>
                </a:cubicBezTo>
                <a:cubicBezTo>
                  <a:pt x="156" y="48"/>
                  <a:pt x="156" y="48"/>
                  <a:pt x="156" y="48"/>
                </a:cubicBezTo>
                <a:cubicBezTo>
                  <a:pt x="155" y="48"/>
                  <a:pt x="155" y="48"/>
                  <a:pt x="155" y="48"/>
                </a:cubicBezTo>
                <a:cubicBezTo>
                  <a:pt x="155" y="48"/>
                  <a:pt x="155" y="48"/>
                  <a:pt x="155" y="48"/>
                </a:cubicBezTo>
                <a:cubicBezTo>
                  <a:pt x="154" y="48"/>
                  <a:pt x="154" y="48"/>
                  <a:pt x="154" y="48"/>
                </a:cubicBezTo>
                <a:cubicBezTo>
                  <a:pt x="154" y="48"/>
                  <a:pt x="154" y="48"/>
                  <a:pt x="154" y="48"/>
                </a:cubicBezTo>
                <a:cubicBezTo>
                  <a:pt x="153" y="48"/>
                  <a:pt x="153" y="48"/>
                  <a:pt x="152" y="48"/>
                </a:cubicBezTo>
                <a:cubicBezTo>
                  <a:pt x="152" y="48"/>
                  <a:pt x="151" y="48"/>
                  <a:pt x="151" y="48"/>
                </a:cubicBezTo>
                <a:cubicBezTo>
                  <a:pt x="150" y="48"/>
                  <a:pt x="150" y="48"/>
                  <a:pt x="149" y="48"/>
                </a:cubicBezTo>
                <a:cubicBezTo>
                  <a:pt x="149" y="48"/>
                  <a:pt x="148" y="48"/>
                  <a:pt x="148" y="48"/>
                </a:cubicBezTo>
                <a:cubicBezTo>
                  <a:pt x="148" y="48"/>
                  <a:pt x="148" y="48"/>
                  <a:pt x="148" y="48"/>
                </a:cubicBezTo>
                <a:cubicBezTo>
                  <a:pt x="148" y="48"/>
                  <a:pt x="148" y="48"/>
                  <a:pt x="148" y="48"/>
                </a:cubicBezTo>
                <a:cubicBezTo>
                  <a:pt x="147" y="48"/>
                  <a:pt x="147" y="48"/>
                  <a:pt x="146" y="48"/>
                </a:cubicBezTo>
                <a:cubicBezTo>
                  <a:pt x="146" y="48"/>
                  <a:pt x="145" y="48"/>
                  <a:pt x="145" y="48"/>
                </a:cubicBezTo>
                <a:cubicBezTo>
                  <a:pt x="144" y="48"/>
                  <a:pt x="144" y="48"/>
                  <a:pt x="143" y="48"/>
                </a:cubicBezTo>
                <a:cubicBezTo>
                  <a:pt x="143" y="48"/>
                  <a:pt x="142" y="48"/>
                  <a:pt x="142" y="48"/>
                </a:cubicBezTo>
                <a:cubicBezTo>
                  <a:pt x="141" y="48"/>
                  <a:pt x="140" y="48"/>
                  <a:pt x="140" y="48"/>
                </a:cubicBezTo>
                <a:cubicBezTo>
                  <a:pt x="139" y="48"/>
                  <a:pt x="139" y="49"/>
                  <a:pt x="138" y="49"/>
                </a:cubicBezTo>
                <a:cubicBezTo>
                  <a:pt x="138" y="49"/>
                  <a:pt x="137" y="49"/>
                  <a:pt x="137" y="49"/>
                </a:cubicBezTo>
                <a:cubicBezTo>
                  <a:pt x="136" y="49"/>
                  <a:pt x="135" y="49"/>
                  <a:pt x="135" y="49"/>
                </a:cubicBezTo>
                <a:cubicBezTo>
                  <a:pt x="134" y="49"/>
                  <a:pt x="133" y="49"/>
                  <a:pt x="133" y="49"/>
                </a:cubicBezTo>
                <a:cubicBezTo>
                  <a:pt x="132" y="49"/>
                  <a:pt x="132" y="49"/>
                  <a:pt x="132" y="49"/>
                </a:cubicBezTo>
                <a:cubicBezTo>
                  <a:pt x="132" y="49"/>
                  <a:pt x="132" y="49"/>
                  <a:pt x="132" y="49"/>
                </a:cubicBezTo>
                <a:cubicBezTo>
                  <a:pt x="131" y="49"/>
                  <a:pt x="131" y="49"/>
                  <a:pt x="130" y="49"/>
                </a:cubicBezTo>
                <a:cubicBezTo>
                  <a:pt x="130" y="49"/>
                  <a:pt x="129" y="50"/>
                  <a:pt x="128" y="50"/>
                </a:cubicBezTo>
                <a:cubicBezTo>
                  <a:pt x="127" y="50"/>
                  <a:pt x="127" y="50"/>
                  <a:pt x="126" y="50"/>
                </a:cubicBezTo>
                <a:cubicBezTo>
                  <a:pt x="125" y="50"/>
                  <a:pt x="125" y="50"/>
                  <a:pt x="125" y="50"/>
                </a:cubicBezTo>
                <a:cubicBezTo>
                  <a:pt x="125" y="50"/>
                  <a:pt x="125" y="50"/>
                  <a:pt x="125" y="50"/>
                </a:cubicBezTo>
                <a:cubicBezTo>
                  <a:pt x="124" y="50"/>
                  <a:pt x="123" y="50"/>
                  <a:pt x="122" y="51"/>
                </a:cubicBezTo>
                <a:cubicBezTo>
                  <a:pt x="122" y="51"/>
                  <a:pt x="122" y="51"/>
                  <a:pt x="122" y="51"/>
                </a:cubicBezTo>
                <a:cubicBezTo>
                  <a:pt x="122" y="51"/>
                  <a:pt x="122" y="51"/>
                  <a:pt x="122" y="51"/>
                </a:cubicBezTo>
                <a:cubicBezTo>
                  <a:pt x="121" y="51"/>
                  <a:pt x="119" y="51"/>
                  <a:pt x="118" y="51"/>
                </a:cubicBezTo>
                <a:cubicBezTo>
                  <a:pt x="118" y="51"/>
                  <a:pt x="118" y="51"/>
                  <a:pt x="118" y="51"/>
                </a:cubicBezTo>
                <a:cubicBezTo>
                  <a:pt x="117" y="52"/>
                  <a:pt x="117" y="52"/>
                  <a:pt x="117" y="52"/>
                </a:cubicBezTo>
                <a:cubicBezTo>
                  <a:pt x="116" y="52"/>
                  <a:pt x="116" y="52"/>
                  <a:pt x="115" y="52"/>
                </a:cubicBezTo>
                <a:cubicBezTo>
                  <a:pt x="114" y="52"/>
                  <a:pt x="114" y="52"/>
                  <a:pt x="114" y="52"/>
                </a:cubicBezTo>
                <a:cubicBezTo>
                  <a:pt x="114" y="52"/>
                  <a:pt x="114" y="52"/>
                  <a:pt x="114" y="52"/>
                </a:cubicBezTo>
                <a:cubicBezTo>
                  <a:pt x="113" y="53"/>
                  <a:pt x="113" y="53"/>
                  <a:pt x="113" y="53"/>
                </a:cubicBezTo>
                <a:cubicBezTo>
                  <a:pt x="113" y="53"/>
                  <a:pt x="112" y="53"/>
                  <a:pt x="112" y="53"/>
                </a:cubicBezTo>
                <a:cubicBezTo>
                  <a:pt x="111" y="53"/>
                  <a:pt x="111" y="53"/>
                  <a:pt x="111" y="53"/>
                </a:cubicBezTo>
                <a:cubicBezTo>
                  <a:pt x="111" y="53"/>
                  <a:pt x="111" y="53"/>
                  <a:pt x="111" y="53"/>
                </a:cubicBezTo>
                <a:cubicBezTo>
                  <a:pt x="111" y="53"/>
                  <a:pt x="111" y="53"/>
                  <a:pt x="111" y="53"/>
                </a:cubicBezTo>
                <a:cubicBezTo>
                  <a:pt x="110" y="54"/>
                  <a:pt x="110" y="54"/>
                  <a:pt x="110" y="54"/>
                </a:cubicBezTo>
                <a:cubicBezTo>
                  <a:pt x="109" y="54"/>
                  <a:pt x="109" y="54"/>
                  <a:pt x="109" y="54"/>
                </a:cubicBezTo>
                <a:cubicBezTo>
                  <a:pt x="109" y="54"/>
                  <a:pt x="109" y="54"/>
                  <a:pt x="109" y="54"/>
                </a:cubicBezTo>
                <a:cubicBezTo>
                  <a:pt x="109" y="54"/>
                  <a:pt x="109" y="54"/>
                  <a:pt x="109" y="54"/>
                </a:cubicBezTo>
                <a:cubicBezTo>
                  <a:pt x="108" y="54"/>
                  <a:pt x="108" y="54"/>
                  <a:pt x="108" y="54"/>
                </a:cubicBezTo>
                <a:cubicBezTo>
                  <a:pt x="108" y="55"/>
                  <a:pt x="108" y="55"/>
                  <a:pt x="108" y="55"/>
                </a:cubicBezTo>
                <a:cubicBezTo>
                  <a:pt x="107" y="55"/>
                  <a:pt x="107" y="55"/>
                  <a:pt x="107" y="55"/>
                </a:cubicBezTo>
                <a:cubicBezTo>
                  <a:pt x="107" y="55"/>
                  <a:pt x="107" y="55"/>
                  <a:pt x="107" y="55"/>
                </a:cubicBezTo>
                <a:cubicBezTo>
                  <a:pt x="107" y="55"/>
                  <a:pt x="107" y="55"/>
                  <a:pt x="107" y="55"/>
                </a:cubicBezTo>
                <a:cubicBezTo>
                  <a:pt x="107" y="55"/>
                  <a:pt x="107" y="55"/>
                  <a:pt x="107" y="55"/>
                </a:cubicBezTo>
                <a:cubicBezTo>
                  <a:pt x="106" y="55"/>
                  <a:pt x="106" y="55"/>
                  <a:pt x="106" y="55"/>
                </a:cubicBezTo>
                <a:cubicBezTo>
                  <a:pt x="106" y="55"/>
                  <a:pt x="106" y="55"/>
                  <a:pt x="106" y="55"/>
                </a:cubicBezTo>
                <a:cubicBezTo>
                  <a:pt x="106" y="55"/>
                  <a:pt x="106" y="55"/>
                  <a:pt x="106" y="55"/>
                </a:cubicBezTo>
                <a:cubicBezTo>
                  <a:pt x="106" y="56"/>
                  <a:pt x="106" y="56"/>
                  <a:pt x="106" y="56"/>
                </a:cubicBezTo>
                <a:cubicBezTo>
                  <a:pt x="105" y="56"/>
                  <a:pt x="105" y="56"/>
                  <a:pt x="105" y="56"/>
                </a:cubicBezTo>
                <a:cubicBezTo>
                  <a:pt x="105" y="56"/>
                  <a:pt x="105" y="56"/>
                  <a:pt x="105" y="56"/>
                </a:cubicBezTo>
                <a:cubicBezTo>
                  <a:pt x="104" y="57"/>
                  <a:pt x="103" y="57"/>
                  <a:pt x="101" y="58"/>
                </a:cubicBezTo>
                <a:cubicBezTo>
                  <a:pt x="101" y="58"/>
                  <a:pt x="101" y="58"/>
                  <a:pt x="101" y="58"/>
                </a:cubicBezTo>
                <a:cubicBezTo>
                  <a:pt x="100" y="58"/>
                  <a:pt x="99" y="59"/>
                  <a:pt x="97" y="59"/>
                </a:cubicBezTo>
                <a:cubicBezTo>
                  <a:pt x="97" y="59"/>
                  <a:pt x="97" y="59"/>
                  <a:pt x="97" y="59"/>
                </a:cubicBezTo>
                <a:cubicBezTo>
                  <a:pt x="96" y="60"/>
                  <a:pt x="94" y="60"/>
                  <a:pt x="93" y="61"/>
                </a:cubicBezTo>
                <a:cubicBezTo>
                  <a:pt x="92" y="61"/>
                  <a:pt x="92" y="61"/>
                  <a:pt x="92" y="61"/>
                </a:cubicBezTo>
                <a:cubicBezTo>
                  <a:pt x="91" y="61"/>
                  <a:pt x="89" y="62"/>
                  <a:pt x="88" y="62"/>
                </a:cubicBezTo>
                <a:cubicBezTo>
                  <a:pt x="87" y="62"/>
                  <a:pt x="87" y="62"/>
                  <a:pt x="87" y="62"/>
                </a:cubicBezTo>
                <a:cubicBezTo>
                  <a:pt x="86" y="62"/>
                  <a:pt x="84" y="63"/>
                  <a:pt x="83" y="63"/>
                </a:cubicBezTo>
                <a:cubicBezTo>
                  <a:pt x="82" y="63"/>
                  <a:pt x="82" y="63"/>
                  <a:pt x="82" y="63"/>
                </a:cubicBezTo>
                <a:cubicBezTo>
                  <a:pt x="81" y="63"/>
                  <a:pt x="79" y="63"/>
                  <a:pt x="77" y="63"/>
                </a:cubicBezTo>
                <a:cubicBezTo>
                  <a:pt x="77" y="63"/>
                  <a:pt x="77" y="63"/>
                  <a:pt x="77" y="63"/>
                </a:cubicBezTo>
                <a:cubicBezTo>
                  <a:pt x="76" y="64"/>
                  <a:pt x="74" y="64"/>
                  <a:pt x="72" y="64"/>
                </a:cubicBezTo>
                <a:cubicBezTo>
                  <a:pt x="72" y="64"/>
                  <a:pt x="72" y="64"/>
                  <a:pt x="72" y="64"/>
                </a:cubicBezTo>
                <a:cubicBezTo>
                  <a:pt x="70" y="64"/>
                  <a:pt x="68" y="64"/>
                  <a:pt x="67" y="64"/>
                </a:cubicBezTo>
                <a:cubicBezTo>
                  <a:pt x="65" y="64"/>
                  <a:pt x="62" y="64"/>
                  <a:pt x="60" y="64"/>
                </a:cubicBezTo>
                <a:cubicBezTo>
                  <a:pt x="60" y="64"/>
                  <a:pt x="60" y="64"/>
                  <a:pt x="60" y="64"/>
                </a:cubicBezTo>
                <a:cubicBezTo>
                  <a:pt x="58" y="64"/>
                  <a:pt x="56" y="64"/>
                  <a:pt x="54" y="64"/>
                </a:cubicBezTo>
                <a:cubicBezTo>
                  <a:pt x="54" y="64"/>
                  <a:pt x="54" y="64"/>
                  <a:pt x="54" y="64"/>
                </a:cubicBezTo>
                <a:cubicBezTo>
                  <a:pt x="52" y="63"/>
                  <a:pt x="50" y="63"/>
                  <a:pt x="48" y="63"/>
                </a:cubicBezTo>
                <a:cubicBezTo>
                  <a:pt x="48" y="63"/>
                  <a:pt x="48" y="63"/>
                  <a:pt x="48" y="63"/>
                </a:cubicBezTo>
                <a:cubicBezTo>
                  <a:pt x="48" y="63"/>
                  <a:pt x="48" y="63"/>
                  <a:pt x="48" y="63"/>
                </a:cubicBezTo>
                <a:cubicBezTo>
                  <a:pt x="47" y="63"/>
                  <a:pt x="45" y="63"/>
                  <a:pt x="43" y="62"/>
                </a:cubicBezTo>
                <a:cubicBezTo>
                  <a:pt x="42" y="62"/>
                  <a:pt x="41" y="62"/>
                  <a:pt x="40" y="62"/>
                </a:cubicBezTo>
                <a:cubicBezTo>
                  <a:pt x="40" y="61"/>
                  <a:pt x="39" y="61"/>
                  <a:pt x="39" y="61"/>
                </a:cubicBezTo>
                <a:cubicBezTo>
                  <a:pt x="38" y="61"/>
                  <a:pt x="38" y="60"/>
                  <a:pt x="37" y="60"/>
                </a:cubicBezTo>
                <a:cubicBezTo>
                  <a:pt x="37" y="60"/>
                  <a:pt x="36" y="60"/>
                  <a:pt x="36" y="59"/>
                </a:cubicBezTo>
                <a:cubicBezTo>
                  <a:pt x="35" y="59"/>
                  <a:pt x="35" y="58"/>
                  <a:pt x="34" y="58"/>
                </a:cubicBezTo>
                <a:cubicBezTo>
                  <a:pt x="34" y="58"/>
                  <a:pt x="33" y="57"/>
                  <a:pt x="33" y="57"/>
                </a:cubicBezTo>
                <a:cubicBezTo>
                  <a:pt x="32" y="56"/>
                  <a:pt x="32" y="56"/>
                  <a:pt x="31" y="55"/>
                </a:cubicBezTo>
                <a:cubicBezTo>
                  <a:pt x="31" y="55"/>
                  <a:pt x="30" y="55"/>
                  <a:pt x="30" y="54"/>
                </a:cubicBezTo>
                <a:cubicBezTo>
                  <a:pt x="29" y="54"/>
                  <a:pt x="29" y="53"/>
                  <a:pt x="29" y="52"/>
                </a:cubicBezTo>
                <a:cubicBezTo>
                  <a:pt x="28" y="52"/>
                  <a:pt x="28" y="51"/>
                  <a:pt x="27" y="51"/>
                </a:cubicBezTo>
                <a:cubicBezTo>
                  <a:pt x="27" y="50"/>
                  <a:pt x="26" y="50"/>
                  <a:pt x="26" y="49"/>
                </a:cubicBezTo>
                <a:cubicBezTo>
                  <a:pt x="25" y="48"/>
                  <a:pt x="25" y="48"/>
                  <a:pt x="24" y="47"/>
                </a:cubicBezTo>
                <a:cubicBezTo>
                  <a:pt x="24" y="47"/>
                  <a:pt x="24" y="46"/>
                  <a:pt x="23" y="45"/>
                </a:cubicBezTo>
                <a:cubicBezTo>
                  <a:pt x="23" y="45"/>
                  <a:pt x="22" y="44"/>
                  <a:pt x="22" y="44"/>
                </a:cubicBezTo>
                <a:cubicBezTo>
                  <a:pt x="21" y="43"/>
                  <a:pt x="21" y="42"/>
                  <a:pt x="20" y="41"/>
                </a:cubicBezTo>
                <a:cubicBezTo>
                  <a:pt x="20" y="41"/>
                  <a:pt x="20" y="40"/>
                  <a:pt x="19" y="40"/>
                </a:cubicBezTo>
                <a:cubicBezTo>
                  <a:pt x="18" y="38"/>
                  <a:pt x="17" y="36"/>
                  <a:pt x="16" y="34"/>
                </a:cubicBezTo>
                <a:cubicBezTo>
                  <a:pt x="16" y="33"/>
                  <a:pt x="15" y="32"/>
                  <a:pt x="15" y="31"/>
                </a:cubicBezTo>
                <a:cubicBezTo>
                  <a:pt x="14" y="29"/>
                  <a:pt x="13" y="27"/>
                  <a:pt x="12" y="26"/>
                </a:cubicBezTo>
                <a:cubicBezTo>
                  <a:pt x="11" y="24"/>
                  <a:pt x="11" y="23"/>
                  <a:pt x="10" y="22"/>
                </a:cubicBezTo>
                <a:cubicBezTo>
                  <a:pt x="10" y="22"/>
                  <a:pt x="10" y="21"/>
                  <a:pt x="9" y="21"/>
                </a:cubicBezTo>
                <a:cubicBezTo>
                  <a:pt x="8" y="18"/>
                  <a:pt x="6" y="15"/>
                  <a:pt x="5" y="12"/>
                </a:cubicBezTo>
                <a:cubicBezTo>
                  <a:pt x="4" y="11"/>
                  <a:pt x="4" y="11"/>
                  <a:pt x="4" y="11"/>
                </a:cubicBezTo>
                <a:cubicBezTo>
                  <a:pt x="4" y="10"/>
                  <a:pt x="3" y="9"/>
                  <a:pt x="3" y="8"/>
                </a:cubicBezTo>
                <a:cubicBezTo>
                  <a:pt x="2" y="7"/>
                  <a:pt x="2" y="6"/>
                  <a:pt x="2" y="6"/>
                </a:cubicBezTo>
                <a:cubicBezTo>
                  <a:pt x="1" y="5"/>
                  <a:pt x="1" y="4"/>
                  <a:pt x="1" y="4"/>
                </a:cubicBezTo>
                <a:cubicBezTo>
                  <a:pt x="1" y="3"/>
                  <a:pt x="0" y="2"/>
                  <a:pt x="0" y="2"/>
                </a:cubicBezTo>
                <a:cubicBezTo>
                  <a:pt x="0" y="1"/>
                  <a:pt x="0" y="1"/>
                  <a:pt x="0" y="0"/>
                </a:cubicBezTo>
                <a:cubicBezTo>
                  <a:pt x="2" y="141"/>
                  <a:pt x="2" y="141"/>
                  <a:pt x="2" y="141"/>
                </a:cubicBezTo>
                <a:cubicBezTo>
                  <a:pt x="2" y="142"/>
                  <a:pt x="2" y="142"/>
                  <a:pt x="2" y="143"/>
                </a:cubicBezTo>
                <a:cubicBezTo>
                  <a:pt x="2" y="144"/>
                  <a:pt x="2" y="144"/>
                  <a:pt x="3" y="145"/>
                </a:cubicBezTo>
                <a:cubicBezTo>
                  <a:pt x="3" y="146"/>
                  <a:pt x="3" y="147"/>
                  <a:pt x="3" y="147"/>
                </a:cubicBezTo>
                <a:cubicBezTo>
                  <a:pt x="4" y="148"/>
                  <a:pt x="4" y="149"/>
                  <a:pt x="4" y="150"/>
                </a:cubicBezTo>
                <a:cubicBezTo>
                  <a:pt x="5" y="151"/>
                  <a:pt x="6" y="152"/>
                  <a:pt x="6" y="153"/>
                </a:cubicBezTo>
                <a:cubicBezTo>
                  <a:pt x="7" y="154"/>
                  <a:pt x="7" y="154"/>
                  <a:pt x="7" y="154"/>
                </a:cubicBezTo>
                <a:cubicBezTo>
                  <a:pt x="8" y="158"/>
                  <a:pt x="10" y="162"/>
                  <a:pt x="12" y="166"/>
                </a:cubicBezTo>
                <a:cubicBezTo>
                  <a:pt x="12" y="167"/>
                  <a:pt x="13" y="168"/>
                  <a:pt x="13" y="169"/>
                </a:cubicBezTo>
                <a:cubicBezTo>
                  <a:pt x="14" y="171"/>
                  <a:pt x="15" y="173"/>
                  <a:pt x="16" y="175"/>
                </a:cubicBezTo>
                <a:cubicBezTo>
                  <a:pt x="17" y="176"/>
                  <a:pt x="17" y="177"/>
                  <a:pt x="18" y="178"/>
                </a:cubicBezTo>
                <a:cubicBezTo>
                  <a:pt x="19" y="180"/>
                  <a:pt x="20" y="182"/>
                  <a:pt x="20" y="183"/>
                </a:cubicBezTo>
                <a:cubicBezTo>
                  <a:pt x="21" y="184"/>
                  <a:pt x="21" y="184"/>
                  <a:pt x="21" y="184"/>
                </a:cubicBezTo>
                <a:cubicBezTo>
                  <a:pt x="21" y="185"/>
                  <a:pt x="21" y="185"/>
                  <a:pt x="21" y="185"/>
                </a:cubicBezTo>
                <a:cubicBezTo>
                  <a:pt x="22" y="185"/>
                  <a:pt x="22" y="186"/>
                  <a:pt x="22" y="186"/>
                </a:cubicBezTo>
                <a:cubicBezTo>
                  <a:pt x="22" y="187"/>
                  <a:pt x="23" y="188"/>
                  <a:pt x="23" y="188"/>
                </a:cubicBezTo>
                <a:cubicBezTo>
                  <a:pt x="24" y="189"/>
                  <a:pt x="24" y="190"/>
                  <a:pt x="25" y="190"/>
                </a:cubicBezTo>
                <a:cubicBezTo>
                  <a:pt x="25" y="191"/>
                  <a:pt x="25" y="192"/>
                  <a:pt x="26" y="193"/>
                </a:cubicBezTo>
                <a:cubicBezTo>
                  <a:pt x="26" y="193"/>
                  <a:pt x="27" y="194"/>
                  <a:pt x="27" y="194"/>
                </a:cubicBezTo>
                <a:cubicBezTo>
                  <a:pt x="28" y="195"/>
                  <a:pt x="28" y="196"/>
                  <a:pt x="29" y="196"/>
                </a:cubicBezTo>
                <a:cubicBezTo>
                  <a:pt x="29" y="197"/>
                  <a:pt x="29" y="198"/>
                  <a:pt x="30" y="198"/>
                </a:cubicBezTo>
                <a:cubicBezTo>
                  <a:pt x="31" y="199"/>
                  <a:pt x="31" y="199"/>
                  <a:pt x="31" y="199"/>
                </a:cubicBezTo>
                <a:cubicBezTo>
                  <a:pt x="31" y="200"/>
                  <a:pt x="31" y="200"/>
                  <a:pt x="31" y="200"/>
                </a:cubicBezTo>
                <a:cubicBezTo>
                  <a:pt x="32" y="201"/>
                  <a:pt x="32" y="201"/>
                  <a:pt x="32" y="201"/>
                </a:cubicBezTo>
                <a:cubicBezTo>
                  <a:pt x="33" y="201"/>
                  <a:pt x="33" y="201"/>
                  <a:pt x="33" y="201"/>
                </a:cubicBezTo>
                <a:cubicBezTo>
                  <a:pt x="33" y="202"/>
                  <a:pt x="34" y="202"/>
                  <a:pt x="34" y="203"/>
                </a:cubicBezTo>
                <a:cubicBezTo>
                  <a:pt x="35" y="203"/>
                  <a:pt x="35" y="204"/>
                  <a:pt x="36" y="204"/>
                </a:cubicBezTo>
                <a:cubicBezTo>
                  <a:pt x="36" y="205"/>
                  <a:pt x="37" y="205"/>
                  <a:pt x="37" y="205"/>
                </a:cubicBezTo>
                <a:cubicBezTo>
                  <a:pt x="38" y="206"/>
                  <a:pt x="38" y="206"/>
                  <a:pt x="39" y="206"/>
                </a:cubicBezTo>
                <a:cubicBezTo>
                  <a:pt x="39" y="207"/>
                  <a:pt x="40" y="207"/>
                  <a:pt x="40" y="207"/>
                </a:cubicBezTo>
                <a:cubicBezTo>
                  <a:pt x="41" y="208"/>
                  <a:pt x="41" y="208"/>
                  <a:pt x="42" y="208"/>
                </a:cubicBezTo>
                <a:cubicBezTo>
                  <a:pt x="42" y="208"/>
                  <a:pt x="42" y="208"/>
                  <a:pt x="42" y="208"/>
                </a:cubicBezTo>
                <a:cubicBezTo>
                  <a:pt x="42" y="208"/>
                  <a:pt x="42" y="208"/>
                  <a:pt x="42" y="208"/>
                </a:cubicBezTo>
                <a:cubicBezTo>
                  <a:pt x="42" y="208"/>
                  <a:pt x="42" y="208"/>
                  <a:pt x="42" y="208"/>
                </a:cubicBezTo>
                <a:cubicBezTo>
                  <a:pt x="43" y="208"/>
                  <a:pt x="43" y="208"/>
                  <a:pt x="43" y="208"/>
                </a:cubicBezTo>
                <a:cubicBezTo>
                  <a:pt x="43" y="209"/>
                  <a:pt x="43" y="209"/>
                  <a:pt x="43" y="209"/>
                </a:cubicBezTo>
                <a:cubicBezTo>
                  <a:pt x="43" y="209"/>
                  <a:pt x="43" y="209"/>
                  <a:pt x="43" y="209"/>
                </a:cubicBezTo>
                <a:cubicBezTo>
                  <a:pt x="43" y="209"/>
                  <a:pt x="43" y="209"/>
                  <a:pt x="43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5" y="209"/>
                  <a:pt x="45" y="209"/>
                  <a:pt x="45" y="209"/>
                </a:cubicBezTo>
                <a:cubicBezTo>
                  <a:pt x="45" y="209"/>
                  <a:pt x="45" y="209"/>
                  <a:pt x="45" y="209"/>
                </a:cubicBezTo>
                <a:cubicBezTo>
                  <a:pt x="46" y="209"/>
                  <a:pt x="46" y="209"/>
                  <a:pt x="46" y="209"/>
                </a:cubicBezTo>
                <a:cubicBezTo>
                  <a:pt x="46" y="209"/>
                  <a:pt x="46" y="209"/>
                  <a:pt x="46" y="209"/>
                </a:cubicBezTo>
                <a:cubicBezTo>
                  <a:pt x="47" y="209"/>
                  <a:pt x="47" y="209"/>
                  <a:pt x="47" y="209"/>
                </a:cubicBezTo>
                <a:cubicBezTo>
                  <a:pt x="48" y="209"/>
                  <a:pt x="48" y="209"/>
                  <a:pt x="48" y="209"/>
                </a:cubicBezTo>
                <a:cubicBezTo>
                  <a:pt x="49" y="210"/>
                  <a:pt x="49" y="210"/>
                  <a:pt x="49" y="210"/>
                </a:cubicBezTo>
                <a:cubicBezTo>
                  <a:pt x="50" y="210"/>
                  <a:pt x="50" y="210"/>
                  <a:pt x="50" y="210"/>
                </a:cubicBezTo>
                <a:cubicBezTo>
                  <a:pt x="50" y="210"/>
                  <a:pt x="50" y="210"/>
                  <a:pt x="50" y="210"/>
                </a:cubicBezTo>
                <a:cubicBezTo>
                  <a:pt x="51" y="210"/>
                  <a:pt x="51" y="210"/>
                  <a:pt x="51" y="210"/>
                </a:cubicBezTo>
                <a:cubicBezTo>
                  <a:pt x="52" y="210"/>
                  <a:pt x="52" y="210"/>
                  <a:pt x="52" y="210"/>
                </a:cubicBezTo>
                <a:cubicBezTo>
                  <a:pt x="53" y="210"/>
                  <a:pt x="53" y="210"/>
                  <a:pt x="53" y="210"/>
                </a:cubicBezTo>
                <a:cubicBezTo>
                  <a:pt x="53" y="210"/>
                  <a:pt x="53" y="210"/>
                  <a:pt x="53" y="210"/>
                </a:cubicBezTo>
                <a:cubicBezTo>
                  <a:pt x="54" y="210"/>
                  <a:pt x="54" y="210"/>
                  <a:pt x="54" y="210"/>
                </a:cubicBezTo>
                <a:cubicBezTo>
                  <a:pt x="55" y="210"/>
                  <a:pt x="55" y="210"/>
                  <a:pt x="55" y="210"/>
                </a:cubicBezTo>
                <a:cubicBezTo>
                  <a:pt x="55" y="210"/>
                  <a:pt x="55" y="210"/>
                  <a:pt x="55" y="210"/>
                </a:cubicBezTo>
                <a:cubicBezTo>
                  <a:pt x="55" y="210"/>
                  <a:pt x="55" y="210"/>
                  <a:pt x="55" y="210"/>
                </a:cubicBezTo>
                <a:cubicBezTo>
                  <a:pt x="55" y="210"/>
                  <a:pt x="55" y="210"/>
                  <a:pt x="55" y="210"/>
                </a:cubicBezTo>
                <a:cubicBezTo>
                  <a:pt x="56" y="210"/>
                  <a:pt x="56" y="210"/>
                  <a:pt x="56" y="210"/>
                </a:cubicBezTo>
                <a:cubicBezTo>
                  <a:pt x="57" y="210"/>
                  <a:pt x="57" y="210"/>
                  <a:pt x="57" y="210"/>
                </a:cubicBezTo>
                <a:cubicBezTo>
                  <a:pt x="58" y="210"/>
                  <a:pt x="58" y="210"/>
                  <a:pt x="58" y="210"/>
                </a:cubicBezTo>
                <a:cubicBezTo>
                  <a:pt x="58" y="210"/>
                  <a:pt x="58" y="210"/>
                  <a:pt x="58" y="210"/>
                </a:cubicBezTo>
                <a:cubicBezTo>
                  <a:pt x="59" y="210"/>
                  <a:pt x="59" y="210"/>
                  <a:pt x="59" y="210"/>
                </a:cubicBezTo>
                <a:cubicBezTo>
                  <a:pt x="60" y="211"/>
                  <a:pt x="60" y="211"/>
                  <a:pt x="60" y="211"/>
                </a:cubicBezTo>
                <a:cubicBezTo>
                  <a:pt x="61" y="211"/>
                  <a:pt x="61" y="211"/>
                  <a:pt x="61" y="211"/>
                </a:cubicBezTo>
                <a:cubicBezTo>
                  <a:pt x="61" y="211"/>
                  <a:pt x="61" y="211"/>
                  <a:pt x="61" y="211"/>
                </a:cubicBezTo>
                <a:cubicBezTo>
                  <a:pt x="62" y="211"/>
                  <a:pt x="62" y="211"/>
                  <a:pt x="62" y="211"/>
                </a:cubicBezTo>
                <a:cubicBezTo>
                  <a:pt x="62" y="211"/>
                  <a:pt x="62" y="211"/>
                  <a:pt x="62" y="211"/>
                </a:cubicBezTo>
                <a:cubicBezTo>
                  <a:pt x="63" y="211"/>
                  <a:pt x="63" y="211"/>
                  <a:pt x="63" y="211"/>
                </a:cubicBezTo>
                <a:cubicBezTo>
                  <a:pt x="64" y="211"/>
                  <a:pt x="64" y="211"/>
                  <a:pt x="64" y="211"/>
                </a:cubicBezTo>
                <a:cubicBezTo>
                  <a:pt x="65" y="211"/>
                  <a:pt x="65" y="211"/>
                  <a:pt x="65" y="211"/>
                </a:cubicBezTo>
                <a:cubicBezTo>
                  <a:pt x="66" y="211"/>
                  <a:pt x="66" y="211"/>
                  <a:pt x="66" y="211"/>
                </a:cubicBezTo>
                <a:cubicBezTo>
                  <a:pt x="66" y="211"/>
                  <a:pt x="66" y="211"/>
                  <a:pt x="66" y="211"/>
                </a:cubicBezTo>
                <a:lnTo>
                  <a:pt x="67" y="211"/>
                </a:lnTo>
                <a:close/>
              </a:path>
            </a:pathLst>
          </a:custGeom>
          <a:gradFill rotWithShape="0">
            <a:gsLst>
              <a:gs pos="0">
                <a:srgbClr val="292929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Freeform 14"/>
          <p:cNvSpPr/>
          <p:nvPr/>
        </p:nvSpPr>
        <p:spPr>
          <a:xfrm flipH="1">
            <a:off x="4932360" y="3535200"/>
            <a:ext cx="55440" cy="6480"/>
          </a:xfrm>
          <a:custGeom>
            <a:avLst/>
            <a:gdLst/>
            <a:ahLst/>
            <a:rect l="l" t="t" r="r" b="b"/>
            <a:pathLst>
              <a:path w="38" h="6">
                <a:moveTo>
                  <a:pt x="0" y="2"/>
                </a:moveTo>
                <a:cubicBezTo>
                  <a:pt x="3" y="2"/>
                  <a:pt x="5" y="1"/>
                  <a:pt x="8" y="1"/>
                </a:cubicBezTo>
                <a:cubicBezTo>
                  <a:pt x="13" y="1"/>
                  <a:pt x="18" y="0"/>
                  <a:pt x="24" y="0"/>
                </a:cubicBezTo>
                <a:cubicBezTo>
                  <a:pt x="28" y="0"/>
                  <a:pt x="33" y="0"/>
                  <a:pt x="38" y="1"/>
                </a:cubicBezTo>
                <a:cubicBezTo>
                  <a:pt x="33" y="2"/>
                  <a:pt x="28" y="2"/>
                  <a:pt x="24" y="3"/>
                </a:cubicBezTo>
                <a:cubicBezTo>
                  <a:pt x="22" y="3"/>
                  <a:pt x="20" y="4"/>
                  <a:pt x="18" y="4"/>
                </a:cubicBezTo>
                <a:cubicBezTo>
                  <a:pt x="11" y="5"/>
                  <a:pt x="7" y="6"/>
                  <a:pt x="6" y="6"/>
                </a:cubicBezTo>
                <a:cubicBezTo>
                  <a:pt x="6" y="6"/>
                  <a:pt x="5" y="6"/>
                  <a:pt x="4" y="5"/>
                </a:cubicBezTo>
                <a:cubicBezTo>
                  <a:pt x="3" y="4"/>
                  <a:pt x="2" y="3"/>
                  <a:pt x="0" y="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Freeform 15"/>
          <p:cNvSpPr/>
          <p:nvPr/>
        </p:nvSpPr>
        <p:spPr>
          <a:xfrm flipH="1">
            <a:off x="4384800" y="3994200"/>
            <a:ext cx="15840" cy="311040"/>
          </a:xfrm>
          <a:custGeom>
            <a:avLst/>
            <a:gdLst/>
            <a:ahLst/>
            <a:rect l="l" t="t" r="r" b="b"/>
            <a:pathLst>
              <a:path w="10" h="210">
                <a:moveTo>
                  <a:pt x="8" y="14"/>
                </a:moveTo>
                <a:cubicBezTo>
                  <a:pt x="8" y="16"/>
                  <a:pt x="8" y="19"/>
                  <a:pt x="8" y="21"/>
                </a:cubicBezTo>
                <a:cubicBezTo>
                  <a:pt x="8" y="21"/>
                  <a:pt x="8" y="21"/>
                  <a:pt x="8" y="21"/>
                </a:cubicBezTo>
                <a:cubicBezTo>
                  <a:pt x="8" y="21"/>
                  <a:pt x="8" y="21"/>
                  <a:pt x="8" y="21"/>
                </a:cubicBezTo>
                <a:cubicBezTo>
                  <a:pt x="8" y="21"/>
                  <a:pt x="8" y="21"/>
                  <a:pt x="8" y="21"/>
                </a:cubicBezTo>
                <a:cubicBezTo>
                  <a:pt x="8" y="23"/>
                  <a:pt x="8" y="25"/>
                  <a:pt x="7" y="27"/>
                </a:cubicBezTo>
                <a:cubicBezTo>
                  <a:pt x="7" y="27"/>
                  <a:pt x="7" y="27"/>
                  <a:pt x="7" y="27"/>
                </a:cubicBezTo>
                <a:cubicBezTo>
                  <a:pt x="7" y="27"/>
                  <a:pt x="7" y="27"/>
                  <a:pt x="7" y="27"/>
                </a:cubicBezTo>
                <a:cubicBezTo>
                  <a:pt x="7" y="27"/>
                  <a:pt x="7" y="27"/>
                  <a:pt x="7" y="27"/>
                </a:cubicBezTo>
                <a:cubicBezTo>
                  <a:pt x="7" y="52"/>
                  <a:pt x="6" y="77"/>
                  <a:pt x="5" y="101"/>
                </a:cubicBezTo>
                <a:cubicBezTo>
                  <a:pt x="0" y="210"/>
                  <a:pt x="0" y="210"/>
                  <a:pt x="0" y="210"/>
                </a:cubicBezTo>
                <a:cubicBezTo>
                  <a:pt x="0" y="210"/>
                  <a:pt x="0" y="210"/>
                  <a:pt x="0" y="210"/>
                </a:cubicBezTo>
                <a:cubicBezTo>
                  <a:pt x="0" y="209"/>
                  <a:pt x="1" y="207"/>
                  <a:pt x="1" y="205"/>
                </a:cubicBezTo>
                <a:cubicBezTo>
                  <a:pt x="1" y="205"/>
                  <a:pt x="1" y="204"/>
                  <a:pt x="1" y="203"/>
                </a:cubicBezTo>
                <a:cubicBezTo>
                  <a:pt x="1" y="203"/>
                  <a:pt x="1" y="203"/>
                  <a:pt x="1" y="203"/>
                </a:cubicBezTo>
                <a:cubicBezTo>
                  <a:pt x="1" y="201"/>
                  <a:pt x="1" y="199"/>
                  <a:pt x="1" y="196"/>
                </a:cubicBezTo>
                <a:cubicBezTo>
                  <a:pt x="2" y="194"/>
                  <a:pt x="2" y="192"/>
                  <a:pt x="2" y="189"/>
                </a:cubicBezTo>
                <a:cubicBezTo>
                  <a:pt x="2" y="189"/>
                  <a:pt x="2" y="189"/>
                  <a:pt x="2" y="189"/>
                </a:cubicBezTo>
                <a:cubicBezTo>
                  <a:pt x="2" y="189"/>
                  <a:pt x="2" y="189"/>
                  <a:pt x="2" y="189"/>
                </a:cubicBezTo>
                <a:cubicBezTo>
                  <a:pt x="2" y="188"/>
                  <a:pt x="2" y="188"/>
                  <a:pt x="2" y="188"/>
                </a:cubicBezTo>
                <a:cubicBezTo>
                  <a:pt x="2" y="186"/>
                  <a:pt x="2" y="184"/>
                  <a:pt x="2" y="182"/>
                </a:cubicBezTo>
                <a:cubicBezTo>
                  <a:pt x="2" y="182"/>
                  <a:pt x="2" y="182"/>
                  <a:pt x="2" y="182"/>
                </a:cubicBezTo>
                <a:cubicBezTo>
                  <a:pt x="2" y="182"/>
                  <a:pt x="2" y="182"/>
                  <a:pt x="2" y="182"/>
                </a:cubicBezTo>
                <a:cubicBezTo>
                  <a:pt x="2" y="182"/>
                  <a:pt x="2" y="182"/>
                  <a:pt x="2" y="182"/>
                </a:cubicBezTo>
                <a:cubicBezTo>
                  <a:pt x="5" y="121"/>
                  <a:pt x="7" y="61"/>
                  <a:pt x="10" y="1"/>
                </a:cubicBezTo>
                <a:cubicBezTo>
                  <a:pt x="10" y="1"/>
                  <a:pt x="10" y="1"/>
                  <a:pt x="10" y="1"/>
                </a:cubicBezTo>
                <a:cubicBezTo>
                  <a:pt x="10" y="0"/>
                  <a:pt x="10" y="0"/>
                  <a:pt x="10" y="0"/>
                </a:cubicBezTo>
                <a:cubicBezTo>
                  <a:pt x="9" y="2"/>
                  <a:pt x="9" y="3"/>
                  <a:pt x="9" y="4"/>
                </a:cubicBezTo>
                <a:cubicBezTo>
                  <a:pt x="9" y="5"/>
                  <a:pt x="9" y="6"/>
                  <a:pt x="9" y="7"/>
                </a:cubicBezTo>
                <a:cubicBezTo>
                  <a:pt x="9" y="10"/>
                  <a:pt x="9" y="12"/>
                  <a:pt x="8" y="1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Freeform 16"/>
          <p:cNvSpPr/>
          <p:nvPr/>
        </p:nvSpPr>
        <p:spPr>
          <a:xfrm flipH="1">
            <a:off x="4109400" y="3940200"/>
            <a:ext cx="104760" cy="372960"/>
          </a:xfrm>
          <a:custGeom>
            <a:avLst/>
            <a:gdLst/>
            <a:ahLst/>
            <a:rect l="l" t="t" r="r" b="b"/>
            <a:pathLst>
              <a:path w="70" h="251">
                <a:moveTo>
                  <a:pt x="46" y="34"/>
                </a:moveTo>
                <a:cubicBezTo>
                  <a:pt x="39" y="29"/>
                  <a:pt x="32" y="24"/>
                  <a:pt x="26" y="19"/>
                </a:cubicBezTo>
                <a:cubicBezTo>
                  <a:pt x="20" y="14"/>
                  <a:pt x="15" y="10"/>
                  <a:pt x="12" y="6"/>
                </a:cubicBezTo>
                <a:cubicBezTo>
                  <a:pt x="11" y="6"/>
                  <a:pt x="11" y="5"/>
                  <a:pt x="11" y="5"/>
                </a:cubicBezTo>
                <a:cubicBezTo>
                  <a:pt x="10" y="4"/>
                  <a:pt x="10" y="4"/>
                  <a:pt x="10" y="3"/>
                </a:cubicBezTo>
                <a:cubicBezTo>
                  <a:pt x="10" y="3"/>
                  <a:pt x="9" y="2"/>
                  <a:pt x="9" y="2"/>
                </a:cubicBezTo>
                <a:cubicBezTo>
                  <a:pt x="9" y="1"/>
                  <a:pt x="9" y="1"/>
                  <a:pt x="9" y="0"/>
                </a:cubicBezTo>
                <a:cubicBezTo>
                  <a:pt x="6" y="60"/>
                  <a:pt x="3" y="120"/>
                  <a:pt x="0" y="179"/>
                </a:cubicBezTo>
                <a:cubicBezTo>
                  <a:pt x="0" y="180"/>
                  <a:pt x="0" y="180"/>
                  <a:pt x="0" y="181"/>
                </a:cubicBezTo>
                <a:cubicBezTo>
                  <a:pt x="0" y="181"/>
                  <a:pt x="0" y="182"/>
                  <a:pt x="1" y="182"/>
                </a:cubicBezTo>
                <a:cubicBezTo>
                  <a:pt x="1" y="183"/>
                  <a:pt x="1" y="183"/>
                  <a:pt x="1" y="184"/>
                </a:cubicBezTo>
                <a:cubicBezTo>
                  <a:pt x="2" y="184"/>
                  <a:pt x="2" y="185"/>
                  <a:pt x="3" y="185"/>
                </a:cubicBezTo>
                <a:cubicBezTo>
                  <a:pt x="6" y="189"/>
                  <a:pt x="11" y="194"/>
                  <a:pt x="17" y="199"/>
                </a:cubicBezTo>
                <a:cubicBezTo>
                  <a:pt x="23" y="204"/>
                  <a:pt x="30" y="210"/>
                  <a:pt x="36" y="216"/>
                </a:cubicBezTo>
                <a:cubicBezTo>
                  <a:pt x="42" y="222"/>
                  <a:pt x="48" y="228"/>
                  <a:pt x="52" y="234"/>
                </a:cubicBezTo>
                <a:cubicBezTo>
                  <a:pt x="57" y="240"/>
                  <a:pt x="59" y="246"/>
                  <a:pt x="59" y="251"/>
                </a:cubicBezTo>
                <a:cubicBezTo>
                  <a:pt x="63" y="190"/>
                  <a:pt x="66" y="129"/>
                  <a:pt x="70" y="67"/>
                </a:cubicBezTo>
                <a:cubicBezTo>
                  <a:pt x="70" y="62"/>
                  <a:pt x="67" y="57"/>
                  <a:pt x="63" y="51"/>
                </a:cubicBezTo>
                <a:cubicBezTo>
                  <a:pt x="58" y="46"/>
                  <a:pt x="52" y="40"/>
                  <a:pt x="46" y="3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Freeform 17"/>
          <p:cNvSpPr/>
          <p:nvPr/>
        </p:nvSpPr>
        <p:spPr>
          <a:xfrm flipH="1">
            <a:off x="3365640" y="3946680"/>
            <a:ext cx="1738080" cy="920520"/>
          </a:xfrm>
          <a:custGeom>
            <a:avLst/>
            <a:gdLst/>
            <a:ahLst/>
            <a:rect l="l" t="t" r="r" b="b"/>
            <a:pathLst>
              <a:path w="1177" h="623">
                <a:moveTo>
                  <a:pt x="1177" y="192"/>
                </a:moveTo>
                <a:cubicBezTo>
                  <a:pt x="1176" y="193"/>
                  <a:pt x="1176" y="194"/>
                  <a:pt x="1176" y="195"/>
                </a:cubicBezTo>
                <a:cubicBezTo>
                  <a:pt x="1176" y="195"/>
                  <a:pt x="1176" y="195"/>
                  <a:pt x="1176" y="195"/>
                </a:cubicBezTo>
                <a:cubicBezTo>
                  <a:pt x="1176" y="196"/>
                  <a:pt x="1176" y="197"/>
                  <a:pt x="1175" y="197"/>
                </a:cubicBezTo>
                <a:cubicBezTo>
                  <a:pt x="1175" y="197"/>
                  <a:pt x="1175" y="197"/>
                  <a:pt x="1175" y="197"/>
                </a:cubicBezTo>
                <a:cubicBezTo>
                  <a:pt x="1175" y="198"/>
                  <a:pt x="1175" y="199"/>
                  <a:pt x="1174" y="200"/>
                </a:cubicBezTo>
                <a:cubicBezTo>
                  <a:pt x="1174" y="201"/>
                  <a:pt x="1173" y="202"/>
                  <a:pt x="1173" y="203"/>
                </a:cubicBezTo>
                <a:cubicBezTo>
                  <a:pt x="1173" y="203"/>
                  <a:pt x="1173" y="203"/>
                  <a:pt x="1173" y="203"/>
                </a:cubicBezTo>
                <a:cubicBezTo>
                  <a:pt x="1172" y="204"/>
                  <a:pt x="1172" y="204"/>
                  <a:pt x="1171" y="205"/>
                </a:cubicBezTo>
                <a:cubicBezTo>
                  <a:pt x="1171" y="205"/>
                  <a:pt x="1171" y="205"/>
                  <a:pt x="1171" y="205"/>
                </a:cubicBezTo>
                <a:cubicBezTo>
                  <a:pt x="1170" y="206"/>
                  <a:pt x="1169" y="207"/>
                  <a:pt x="1168" y="208"/>
                </a:cubicBezTo>
                <a:cubicBezTo>
                  <a:pt x="1168" y="208"/>
                  <a:pt x="1168" y="208"/>
                  <a:pt x="1168" y="208"/>
                </a:cubicBezTo>
                <a:cubicBezTo>
                  <a:pt x="1167" y="209"/>
                  <a:pt x="1166" y="210"/>
                  <a:pt x="1165" y="211"/>
                </a:cubicBezTo>
                <a:cubicBezTo>
                  <a:pt x="1165" y="211"/>
                  <a:pt x="1165" y="211"/>
                  <a:pt x="1165" y="211"/>
                </a:cubicBezTo>
                <a:cubicBezTo>
                  <a:pt x="1164" y="212"/>
                  <a:pt x="1163" y="212"/>
                  <a:pt x="1161" y="213"/>
                </a:cubicBezTo>
                <a:cubicBezTo>
                  <a:pt x="1161" y="214"/>
                  <a:pt x="1161" y="214"/>
                  <a:pt x="1161" y="214"/>
                </a:cubicBezTo>
                <a:cubicBezTo>
                  <a:pt x="1160" y="214"/>
                  <a:pt x="1159" y="215"/>
                  <a:pt x="1158" y="215"/>
                </a:cubicBezTo>
                <a:cubicBezTo>
                  <a:pt x="1156" y="216"/>
                  <a:pt x="1155" y="217"/>
                  <a:pt x="1153" y="217"/>
                </a:cubicBezTo>
                <a:cubicBezTo>
                  <a:pt x="1153" y="218"/>
                  <a:pt x="1153" y="218"/>
                  <a:pt x="1152" y="218"/>
                </a:cubicBezTo>
                <a:cubicBezTo>
                  <a:pt x="1150" y="219"/>
                  <a:pt x="1148" y="220"/>
                  <a:pt x="1146" y="220"/>
                </a:cubicBezTo>
                <a:cubicBezTo>
                  <a:pt x="1146" y="221"/>
                  <a:pt x="1145" y="221"/>
                  <a:pt x="1144" y="221"/>
                </a:cubicBezTo>
                <a:cubicBezTo>
                  <a:pt x="1143" y="222"/>
                  <a:pt x="1141" y="222"/>
                  <a:pt x="1140" y="223"/>
                </a:cubicBezTo>
                <a:cubicBezTo>
                  <a:pt x="1139" y="223"/>
                  <a:pt x="1138" y="223"/>
                  <a:pt x="1137" y="223"/>
                </a:cubicBezTo>
                <a:cubicBezTo>
                  <a:pt x="1135" y="224"/>
                  <a:pt x="1134" y="224"/>
                  <a:pt x="1132" y="225"/>
                </a:cubicBezTo>
                <a:cubicBezTo>
                  <a:pt x="1131" y="225"/>
                  <a:pt x="1129" y="225"/>
                  <a:pt x="1128" y="226"/>
                </a:cubicBezTo>
                <a:cubicBezTo>
                  <a:pt x="1128" y="226"/>
                  <a:pt x="1128" y="226"/>
                  <a:pt x="1128" y="226"/>
                </a:cubicBezTo>
                <a:cubicBezTo>
                  <a:pt x="1125" y="226"/>
                  <a:pt x="1123" y="227"/>
                  <a:pt x="1121" y="227"/>
                </a:cubicBezTo>
                <a:cubicBezTo>
                  <a:pt x="1120" y="227"/>
                  <a:pt x="1120" y="227"/>
                  <a:pt x="1120" y="227"/>
                </a:cubicBezTo>
                <a:cubicBezTo>
                  <a:pt x="1118" y="227"/>
                  <a:pt x="1116" y="228"/>
                  <a:pt x="1113" y="228"/>
                </a:cubicBezTo>
                <a:cubicBezTo>
                  <a:pt x="1113" y="228"/>
                  <a:pt x="1113" y="228"/>
                  <a:pt x="1113" y="228"/>
                </a:cubicBezTo>
                <a:cubicBezTo>
                  <a:pt x="1110" y="228"/>
                  <a:pt x="1108" y="229"/>
                  <a:pt x="1105" y="229"/>
                </a:cubicBezTo>
                <a:cubicBezTo>
                  <a:pt x="1105" y="229"/>
                  <a:pt x="1105" y="229"/>
                  <a:pt x="1105" y="229"/>
                </a:cubicBezTo>
                <a:cubicBezTo>
                  <a:pt x="1102" y="229"/>
                  <a:pt x="1099" y="229"/>
                  <a:pt x="1097" y="229"/>
                </a:cubicBezTo>
                <a:cubicBezTo>
                  <a:pt x="1096" y="229"/>
                  <a:pt x="1096" y="229"/>
                  <a:pt x="1096" y="229"/>
                </a:cubicBezTo>
                <a:cubicBezTo>
                  <a:pt x="1093" y="229"/>
                  <a:pt x="1091" y="230"/>
                  <a:pt x="1088" y="230"/>
                </a:cubicBezTo>
                <a:cubicBezTo>
                  <a:pt x="1083" y="230"/>
                  <a:pt x="1079" y="229"/>
                  <a:pt x="1074" y="229"/>
                </a:cubicBezTo>
                <a:cubicBezTo>
                  <a:pt x="1074" y="229"/>
                  <a:pt x="1074" y="229"/>
                  <a:pt x="1074" y="229"/>
                </a:cubicBezTo>
                <a:cubicBezTo>
                  <a:pt x="1069" y="229"/>
                  <a:pt x="1065" y="229"/>
                  <a:pt x="1060" y="228"/>
                </a:cubicBezTo>
                <a:cubicBezTo>
                  <a:pt x="1060" y="228"/>
                  <a:pt x="1060" y="228"/>
                  <a:pt x="1060" y="228"/>
                </a:cubicBezTo>
                <a:cubicBezTo>
                  <a:pt x="1055" y="228"/>
                  <a:pt x="1050" y="227"/>
                  <a:pt x="1045" y="226"/>
                </a:cubicBezTo>
                <a:cubicBezTo>
                  <a:pt x="1045" y="226"/>
                  <a:pt x="1045" y="226"/>
                  <a:pt x="1045" y="226"/>
                </a:cubicBezTo>
                <a:cubicBezTo>
                  <a:pt x="1039" y="226"/>
                  <a:pt x="1034" y="225"/>
                  <a:pt x="1029" y="224"/>
                </a:cubicBezTo>
                <a:cubicBezTo>
                  <a:pt x="1028" y="224"/>
                  <a:pt x="1028" y="224"/>
                  <a:pt x="1028" y="224"/>
                </a:cubicBezTo>
                <a:cubicBezTo>
                  <a:pt x="1027" y="223"/>
                  <a:pt x="1027" y="223"/>
                  <a:pt x="1027" y="223"/>
                </a:cubicBezTo>
                <a:cubicBezTo>
                  <a:pt x="1026" y="223"/>
                  <a:pt x="1026" y="223"/>
                  <a:pt x="1026" y="223"/>
                </a:cubicBezTo>
                <a:cubicBezTo>
                  <a:pt x="1026" y="223"/>
                  <a:pt x="1026" y="223"/>
                  <a:pt x="1026" y="223"/>
                </a:cubicBezTo>
                <a:cubicBezTo>
                  <a:pt x="1024" y="223"/>
                  <a:pt x="1023" y="223"/>
                  <a:pt x="1022" y="223"/>
                </a:cubicBezTo>
                <a:cubicBezTo>
                  <a:pt x="1022" y="222"/>
                  <a:pt x="1021" y="222"/>
                  <a:pt x="1021" y="222"/>
                </a:cubicBezTo>
                <a:cubicBezTo>
                  <a:pt x="1020" y="222"/>
                  <a:pt x="1020" y="222"/>
                  <a:pt x="1020" y="222"/>
                </a:cubicBezTo>
                <a:cubicBezTo>
                  <a:pt x="1020" y="222"/>
                  <a:pt x="1019" y="222"/>
                  <a:pt x="1019" y="222"/>
                </a:cubicBezTo>
                <a:cubicBezTo>
                  <a:pt x="1018" y="222"/>
                  <a:pt x="1016" y="222"/>
                  <a:pt x="1015" y="221"/>
                </a:cubicBezTo>
                <a:cubicBezTo>
                  <a:pt x="1015" y="221"/>
                  <a:pt x="1014" y="221"/>
                  <a:pt x="1013" y="221"/>
                </a:cubicBezTo>
                <a:cubicBezTo>
                  <a:pt x="1013" y="221"/>
                  <a:pt x="1013" y="221"/>
                  <a:pt x="1013" y="221"/>
                </a:cubicBezTo>
                <a:cubicBezTo>
                  <a:pt x="1013" y="221"/>
                  <a:pt x="1013" y="221"/>
                  <a:pt x="1013" y="221"/>
                </a:cubicBezTo>
                <a:cubicBezTo>
                  <a:pt x="1012" y="221"/>
                  <a:pt x="1012" y="221"/>
                  <a:pt x="1012" y="221"/>
                </a:cubicBezTo>
                <a:cubicBezTo>
                  <a:pt x="1011" y="221"/>
                  <a:pt x="1010" y="221"/>
                  <a:pt x="1010" y="220"/>
                </a:cubicBezTo>
                <a:cubicBezTo>
                  <a:pt x="1009" y="220"/>
                  <a:pt x="1008" y="220"/>
                  <a:pt x="1007" y="220"/>
                </a:cubicBezTo>
                <a:cubicBezTo>
                  <a:pt x="1006" y="220"/>
                  <a:pt x="1006" y="220"/>
                  <a:pt x="1006" y="220"/>
                </a:cubicBezTo>
                <a:cubicBezTo>
                  <a:pt x="1006" y="220"/>
                  <a:pt x="1006" y="220"/>
                  <a:pt x="1006" y="220"/>
                </a:cubicBezTo>
                <a:cubicBezTo>
                  <a:pt x="1005" y="220"/>
                  <a:pt x="1005" y="220"/>
                  <a:pt x="1005" y="220"/>
                </a:cubicBezTo>
                <a:cubicBezTo>
                  <a:pt x="1004" y="220"/>
                  <a:pt x="1003" y="220"/>
                  <a:pt x="1002" y="219"/>
                </a:cubicBezTo>
                <a:cubicBezTo>
                  <a:pt x="1002" y="219"/>
                  <a:pt x="1001" y="219"/>
                  <a:pt x="1000" y="219"/>
                </a:cubicBezTo>
                <a:cubicBezTo>
                  <a:pt x="999" y="219"/>
                  <a:pt x="999" y="219"/>
                  <a:pt x="999" y="219"/>
                </a:cubicBezTo>
                <a:cubicBezTo>
                  <a:pt x="999" y="219"/>
                  <a:pt x="999" y="219"/>
                  <a:pt x="999" y="219"/>
                </a:cubicBezTo>
                <a:cubicBezTo>
                  <a:pt x="999" y="219"/>
                  <a:pt x="999" y="219"/>
                  <a:pt x="999" y="219"/>
                </a:cubicBezTo>
                <a:cubicBezTo>
                  <a:pt x="999" y="219"/>
                  <a:pt x="999" y="219"/>
                  <a:pt x="999" y="219"/>
                </a:cubicBezTo>
                <a:cubicBezTo>
                  <a:pt x="998" y="219"/>
                  <a:pt x="997" y="219"/>
                  <a:pt x="997" y="219"/>
                </a:cubicBezTo>
                <a:cubicBezTo>
                  <a:pt x="996" y="219"/>
                  <a:pt x="996" y="219"/>
                  <a:pt x="995" y="219"/>
                </a:cubicBezTo>
                <a:cubicBezTo>
                  <a:pt x="994" y="219"/>
                  <a:pt x="994" y="218"/>
                  <a:pt x="993" y="218"/>
                </a:cubicBezTo>
                <a:cubicBezTo>
                  <a:pt x="993" y="218"/>
                  <a:pt x="993" y="218"/>
                  <a:pt x="993" y="218"/>
                </a:cubicBezTo>
                <a:cubicBezTo>
                  <a:pt x="993" y="218"/>
                  <a:pt x="993" y="218"/>
                  <a:pt x="993" y="218"/>
                </a:cubicBezTo>
                <a:cubicBezTo>
                  <a:pt x="992" y="218"/>
                  <a:pt x="992" y="218"/>
                  <a:pt x="992" y="218"/>
                </a:cubicBezTo>
                <a:cubicBezTo>
                  <a:pt x="991" y="218"/>
                  <a:pt x="991" y="218"/>
                  <a:pt x="991" y="218"/>
                </a:cubicBezTo>
                <a:cubicBezTo>
                  <a:pt x="990" y="218"/>
                  <a:pt x="990" y="218"/>
                  <a:pt x="989" y="218"/>
                </a:cubicBezTo>
                <a:cubicBezTo>
                  <a:pt x="989" y="218"/>
                  <a:pt x="988" y="218"/>
                  <a:pt x="988" y="218"/>
                </a:cubicBezTo>
                <a:cubicBezTo>
                  <a:pt x="987" y="218"/>
                  <a:pt x="987" y="218"/>
                  <a:pt x="987" y="218"/>
                </a:cubicBezTo>
                <a:cubicBezTo>
                  <a:pt x="986" y="218"/>
                  <a:pt x="986" y="218"/>
                  <a:pt x="985" y="218"/>
                </a:cubicBezTo>
                <a:cubicBezTo>
                  <a:pt x="985" y="218"/>
                  <a:pt x="985" y="218"/>
                  <a:pt x="984" y="218"/>
                </a:cubicBezTo>
                <a:cubicBezTo>
                  <a:pt x="984" y="218"/>
                  <a:pt x="983" y="218"/>
                  <a:pt x="983" y="218"/>
                </a:cubicBezTo>
                <a:cubicBezTo>
                  <a:pt x="982" y="218"/>
                  <a:pt x="982" y="218"/>
                  <a:pt x="982" y="218"/>
                </a:cubicBezTo>
                <a:cubicBezTo>
                  <a:pt x="982" y="218"/>
                  <a:pt x="982" y="218"/>
                  <a:pt x="982" y="218"/>
                </a:cubicBezTo>
                <a:cubicBezTo>
                  <a:pt x="981" y="218"/>
                  <a:pt x="981" y="218"/>
                  <a:pt x="981" y="218"/>
                </a:cubicBezTo>
                <a:cubicBezTo>
                  <a:pt x="980" y="218"/>
                  <a:pt x="980" y="218"/>
                  <a:pt x="980" y="218"/>
                </a:cubicBezTo>
                <a:cubicBezTo>
                  <a:pt x="979" y="218"/>
                  <a:pt x="979" y="218"/>
                  <a:pt x="979" y="218"/>
                </a:cubicBezTo>
                <a:cubicBezTo>
                  <a:pt x="979" y="218"/>
                  <a:pt x="979" y="218"/>
                  <a:pt x="979" y="218"/>
                </a:cubicBezTo>
                <a:cubicBezTo>
                  <a:pt x="978" y="218"/>
                  <a:pt x="978" y="218"/>
                  <a:pt x="978" y="218"/>
                </a:cubicBezTo>
                <a:cubicBezTo>
                  <a:pt x="978" y="218"/>
                  <a:pt x="978" y="218"/>
                  <a:pt x="978" y="218"/>
                </a:cubicBezTo>
                <a:cubicBezTo>
                  <a:pt x="977" y="218"/>
                  <a:pt x="977" y="218"/>
                  <a:pt x="977" y="218"/>
                </a:cubicBezTo>
                <a:cubicBezTo>
                  <a:pt x="977" y="218"/>
                  <a:pt x="977" y="218"/>
                  <a:pt x="977" y="218"/>
                </a:cubicBezTo>
                <a:cubicBezTo>
                  <a:pt x="977" y="218"/>
                  <a:pt x="977" y="218"/>
                  <a:pt x="977" y="218"/>
                </a:cubicBezTo>
                <a:cubicBezTo>
                  <a:pt x="976" y="218"/>
                  <a:pt x="976" y="218"/>
                  <a:pt x="976" y="218"/>
                </a:cubicBezTo>
                <a:cubicBezTo>
                  <a:pt x="975" y="218"/>
                  <a:pt x="975" y="218"/>
                  <a:pt x="975" y="218"/>
                </a:cubicBezTo>
                <a:cubicBezTo>
                  <a:pt x="974" y="218"/>
                  <a:pt x="974" y="218"/>
                  <a:pt x="974" y="218"/>
                </a:cubicBezTo>
                <a:cubicBezTo>
                  <a:pt x="974" y="218"/>
                  <a:pt x="974" y="218"/>
                  <a:pt x="974" y="218"/>
                </a:cubicBezTo>
                <a:cubicBezTo>
                  <a:pt x="973" y="218"/>
                  <a:pt x="973" y="218"/>
                  <a:pt x="973" y="218"/>
                </a:cubicBezTo>
                <a:cubicBezTo>
                  <a:pt x="972" y="218"/>
                  <a:pt x="972" y="218"/>
                  <a:pt x="972" y="218"/>
                </a:cubicBezTo>
                <a:cubicBezTo>
                  <a:pt x="971" y="218"/>
                  <a:pt x="971" y="218"/>
                  <a:pt x="971" y="218"/>
                </a:cubicBezTo>
                <a:cubicBezTo>
                  <a:pt x="970" y="218"/>
                  <a:pt x="970" y="218"/>
                  <a:pt x="970" y="218"/>
                </a:cubicBezTo>
                <a:cubicBezTo>
                  <a:pt x="969" y="218"/>
                  <a:pt x="969" y="218"/>
                  <a:pt x="969" y="218"/>
                </a:cubicBezTo>
                <a:cubicBezTo>
                  <a:pt x="969" y="218"/>
                  <a:pt x="969" y="218"/>
                  <a:pt x="969" y="218"/>
                </a:cubicBezTo>
                <a:cubicBezTo>
                  <a:pt x="968" y="218"/>
                  <a:pt x="968" y="218"/>
                  <a:pt x="968" y="218"/>
                </a:cubicBezTo>
                <a:cubicBezTo>
                  <a:pt x="968" y="218"/>
                  <a:pt x="968" y="218"/>
                  <a:pt x="968" y="218"/>
                </a:cubicBezTo>
                <a:cubicBezTo>
                  <a:pt x="968" y="218"/>
                  <a:pt x="968" y="218"/>
                  <a:pt x="968" y="218"/>
                </a:cubicBezTo>
                <a:cubicBezTo>
                  <a:pt x="967" y="218"/>
                  <a:pt x="967" y="218"/>
                  <a:pt x="967" y="218"/>
                </a:cubicBezTo>
                <a:cubicBezTo>
                  <a:pt x="966" y="218"/>
                  <a:pt x="966" y="218"/>
                  <a:pt x="966" y="218"/>
                </a:cubicBezTo>
                <a:cubicBezTo>
                  <a:pt x="966" y="219"/>
                  <a:pt x="965" y="219"/>
                  <a:pt x="965" y="219"/>
                </a:cubicBezTo>
                <a:cubicBezTo>
                  <a:pt x="964" y="219"/>
                  <a:pt x="964" y="219"/>
                  <a:pt x="964" y="219"/>
                </a:cubicBezTo>
                <a:cubicBezTo>
                  <a:pt x="963" y="219"/>
                  <a:pt x="963" y="219"/>
                  <a:pt x="963" y="219"/>
                </a:cubicBezTo>
                <a:cubicBezTo>
                  <a:pt x="962" y="219"/>
                  <a:pt x="962" y="219"/>
                  <a:pt x="961" y="219"/>
                </a:cubicBezTo>
                <a:cubicBezTo>
                  <a:pt x="961" y="220"/>
                  <a:pt x="961" y="220"/>
                  <a:pt x="961" y="220"/>
                </a:cubicBezTo>
                <a:cubicBezTo>
                  <a:pt x="960" y="220"/>
                  <a:pt x="960" y="220"/>
                  <a:pt x="960" y="220"/>
                </a:cubicBezTo>
                <a:cubicBezTo>
                  <a:pt x="959" y="220"/>
                  <a:pt x="959" y="220"/>
                  <a:pt x="959" y="220"/>
                </a:cubicBezTo>
                <a:cubicBezTo>
                  <a:pt x="958" y="220"/>
                  <a:pt x="958" y="220"/>
                  <a:pt x="958" y="220"/>
                </a:cubicBezTo>
                <a:cubicBezTo>
                  <a:pt x="958" y="220"/>
                  <a:pt x="958" y="220"/>
                  <a:pt x="957" y="220"/>
                </a:cubicBezTo>
                <a:cubicBezTo>
                  <a:pt x="957" y="221"/>
                  <a:pt x="957" y="221"/>
                  <a:pt x="956" y="221"/>
                </a:cubicBezTo>
                <a:cubicBezTo>
                  <a:pt x="956" y="221"/>
                  <a:pt x="956" y="221"/>
                  <a:pt x="956" y="221"/>
                </a:cubicBezTo>
                <a:cubicBezTo>
                  <a:pt x="955" y="221"/>
                  <a:pt x="955" y="221"/>
                  <a:pt x="954" y="222"/>
                </a:cubicBezTo>
                <a:cubicBezTo>
                  <a:pt x="954" y="222"/>
                  <a:pt x="954" y="222"/>
                  <a:pt x="954" y="222"/>
                </a:cubicBezTo>
                <a:cubicBezTo>
                  <a:pt x="953" y="222"/>
                  <a:pt x="953" y="222"/>
                  <a:pt x="953" y="222"/>
                </a:cubicBezTo>
                <a:cubicBezTo>
                  <a:pt x="953" y="222"/>
                  <a:pt x="952" y="223"/>
                  <a:pt x="951" y="223"/>
                </a:cubicBezTo>
                <a:cubicBezTo>
                  <a:pt x="951" y="223"/>
                  <a:pt x="950" y="224"/>
                  <a:pt x="949" y="224"/>
                </a:cubicBezTo>
                <a:cubicBezTo>
                  <a:pt x="949" y="224"/>
                  <a:pt x="949" y="224"/>
                  <a:pt x="949" y="224"/>
                </a:cubicBezTo>
                <a:cubicBezTo>
                  <a:pt x="949" y="224"/>
                  <a:pt x="949" y="224"/>
                  <a:pt x="949" y="224"/>
                </a:cubicBezTo>
                <a:cubicBezTo>
                  <a:pt x="949" y="225"/>
                  <a:pt x="949" y="225"/>
                  <a:pt x="949" y="225"/>
                </a:cubicBezTo>
                <a:cubicBezTo>
                  <a:pt x="948" y="225"/>
                  <a:pt x="948" y="225"/>
                  <a:pt x="948" y="225"/>
                </a:cubicBezTo>
                <a:cubicBezTo>
                  <a:pt x="948" y="225"/>
                  <a:pt x="947" y="225"/>
                  <a:pt x="947" y="226"/>
                </a:cubicBezTo>
                <a:cubicBezTo>
                  <a:pt x="946" y="226"/>
                  <a:pt x="946" y="226"/>
                  <a:pt x="945" y="227"/>
                </a:cubicBezTo>
                <a:cubicBezTo>
                  <a:pt x="945" y="227"/>
                  <a:pt x="945" y="227"/>
                  <a:pt x="945" y="227"/>
                </a:cubicBezTo>
                <a:cubicBezTo>
                  <a:pt x="944" y="228"/>
                  <a:pt x="944" y="228"/>
                  <a:pt x="943" y="228"/>
                </a:cubicBezTo>
                <a:cubicBezTo>
                  <a:pt x="943" y="229"/>
                  <a:pt x="942" y="229"/>
                  <a:pt x="942" y="230"/>
                </a:cubicBezTo>
                <a:cubicBezTo>
                  <a:pt x="942" y="230"/>
                  <a:pt x="941" y="230"/>
                  <a:pt x="941" y="231"/>
                </a:cubicBezTo>
                <a:cubicBezTo>
                  <a:pt x="940" y="231"/>
                  <a:pt x="940" y="231"/>
                  <a:pt x="940" y="231"/>
                </a:cubicBezTo>
                <a:cubicBezTo>
                  <a:pt x="940" y="232"/>
                  <a:pt x="939" y="232"/>
                  <a:pt x="938" y="233"/>
                </a:cubicBezTo>
                <a:cubicBezTo>
                  <a:pt x="938" y="234"/>
                  <a:pt x="937" y="234"/>
                  <a:pt x="936" y="235"/>
                </a:cubicBezTo>
                <a:cubicBezTo>
                  <a:pt x="935" y="236"/>
                  <a:pt x="934" y="237"/>
                  <a:pt x="933" y="238"/>
                </a:cubicBezTo>
                <a:cubicBezTo>
                  <a:pt x="932" y="238"/>
                  <a:pt x="932" y="238"/>
                  <a:pt x="932" y="238"/>
                </a:cubicBezTo>
                <a:cubicBezTo>
                  <a:pt x="932" y="238"/>
                  <a:pt x="932" y="238"/>
                  <a:pt x="932" y="238"/>
                </a:cubicBezTo>
                <a:cubicBezTo>
                  <a:pt x="932" y="238"/>
                  <a:pt x="932" y="238"/>
                  <a:pt x="932" y="238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1" y="239"/>
                  <a:pt x="931" y="239"/>
                  <a:pt x="931" y="239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1"/>
                  <a:pt x="931" y="241"/>
                  <a:pt x="931" y="241"/>
                </a:cubicBezTo>
                <a:cubicBezTo>
                  <a:pt x="931" y="241"/>
                  <a:pt x="931" y="241"/>
                  <a:pt x="931" y="241"/>
                </a:cubicBezTo>
                <a:cubicBezTo>
                  <a:pt x="931" y="241"/>
                  <a:pt x="931" y="241"/>
                  <a:pt x="931" y="241"/>
                </a:cubicBezTo>
                <a:cubicBezTo>
                  <a:pt x="931" y="241"/>
                  <a:pt x="931" y="241"/>
                  <a:pt x="931" y="241"/>
                </a:cubicBezTo>
                <a:cubicBezTo>
                  <a:pt x="931" y="242"/>
                  <a:pt x="931" y="242"/>
                  <a:pt x="931" y="242"/>
                </a:cubicBezTo>
                <a:cubicBezTo>
                  <a:pt x="931" y="242"/>
                  <a:pt x="931" y="242"/>
                  <a:pt x="931" y="242"/>
                </a:cubicBezTo>
                <a:cubicBezTo>
                  <a:pt x="931" y="242"/>
                  <a:pt x="931" y="242"/>
                  <a:pt x="931" y="242"/>
                </a:cubicBezTo>
                <a:cubicBezTo>
                  <a:pt x="917" y="408"/>
                  <a:pt x="917" y="408"/>
                  <a:pt x="917" y="408"/>
                </a:cubicBezTo>
                <a:cubicBezTo>
                  <a:pt x="726" y="412"/>
                  <a:pt x="726" y="412"/>
                  <a:pt x="726" y="412"/>
                </a:cubicBezTo>
                <a:cubicBezTo>
                  <a:pt x="722" y="412"/>
                  <a:pt x="701" y="412"/>
                  <a:pt x="669" y="413"/>
                </a:cubicBezTo>
                <a:cubicBezTo>
                  <a:pt x="638" y="413"/>
                  <a:pt x="596" y="413"/>
                  <a:pt x="552" y="413"/>
                </a:cubicBezTo>
                <a:cubicBezTo>
                  <a:pt x="507" y="414"/>
                  <a:pt x="460" y="414"/>
                  <a:pt x="417" y="414"/>
                </a:cubicBezTo>
                <a:cubicBezTo>
                  <a:pt x="374" y="415"/>
                  <a:pt x="336" y="415"/>
                  <a:pt x="310" y="416"/>
                </a:cubicBezTo>
                <a:cubicBezTo>
                  <a:pt x="309" y="416"/>
                  <a:pt x="308" y="416"/>
                  <a:pt x="306" y="416"/>
                </a:cubicBezTo>
                <a:cubicBezTo>
                  <a:pt x="305" y="416"/>
                  <a:pt x="304" y="416"/>
                  <a:pt x="303" y="416"/>
                </a:cubicBezTo>
                <a:cubicBezTo>
                  <a:pt x="302" y="416"/>
                  <a:pt x="301" y="416"/>
                  <a:pt x="300" y="416"/>
                </a:cubicBezTo>
                <a:cubicBezTo>
                  <a:pt x="298" y="416"/>
                  <a:pt x="297" y="416"/>
                  <a:pt x="296" y="416"/>
                </a:cubicBezTo>
                <a:cubicBezTo>
                  <a:pt x="294" y="416"/>
                  <a:pt x="291" y="416"/>
                  <a:pt x="289" y="416"/>
                </a:cubicBezTo>
                <a:cubicBezTo>
                  <a:pt x="288" y="416"/>
                  <a:pt x="288" y="416"/>
                  <a:pt x="287" y="416"/>
                </a:cubicBezTo>
                <a:cubicBezTo>
                  <a:pt x="285" y="416"/>
                  <a:pt x="283" y="416"/>
                  <a:pt x="281" y="416"/>
                </a:cubicBezTo>
                <a:cubicBezTo>
                  <a:pt x="280" y="416"/>
                  <a:pt x="280" y="416"/>
                  <a:pt x="279" y="416"/>
                </a:cubicBezTo>
                <a:cubicBezTo>
                  <a:pt x="277" y="416"/>
                  <a:pt x="276" y="416"/>
                  <a:pt x="275" y="416"/>
                </a:cubicBezTo>
                <a:cubicBezTo>
                  <a:pt x="274" y="416"/>
                  <a:pt x="273" y="416"/>
                  <a:pt x="273" y="416"/>
                </a:cubicBezTo>
                <a:cubicBezTo>
                  <a:pt x="270" y="416"/>
                  <a:pt x="268" y="416"/>
                  <a:pt x="266" y="416"/>
                </a:cubicBezTo>
                <a:cubicBezTo>
                  <a:pt x="266" y="416"/>
                  <a:pt x="266" y="416"/>
                  <a:pt x="266" y="416"/>
                </a:cubicBezTo>
                <a:cubicBezTo>
                  <a:pt x="264" y="415"/>
                  <a:pt x="262" y="415"/>
                  <a:pt x="261" y="415"/>
                </a:cubicBezTo>
                <a:cubicBezTo>
                  <a:pt x="260" y="415"/>
                  <a:pt x="259" y="415"/>
                  <a:pt x="259" y="415"/>
                </a:cubicBezTo>
                <a:cubicBezTo>
                  <a:pt x="257" y="415"/>
                  <a:pt x="256" y="415"/>
                  <a:pt x="254" y="415"/>
                </a:cubicBezTo>
                <a:cubicBezTo>
                  <a:pt x="254" y="415"/>
                  <a:pt x="254" y="415"/>
                  <a:pt x="254" y="415"/>
                </a:cubicBezTo>
                <a:cubicBezTo>
                  <a:pt x="252" y="415"/>
                  <a:pt x="251" y="415"/>
                  <a:pt x="249" y="415"/>
                </a:cubicBezTo>
                <a:cubicBezTo>
                  <a:pt x="248" y="415"/>
                  <a:pt x="248" y="415"/>
                  <a:pt x="248" y="415"/>
                </a:cubicBezTo>
                <a:cubicBezTo>
                  <a:pt x="247" y="415"/>
                  <a:pt x="245" y="414"/>
                  <a:pt x="244" y="414"/>
                </a:cubicBezTo>
                <a:cubicBezTo>
                  <a:pt x="242" y="414"/>
                  <a:pt x="241" y="414"/>
                  <a:pt x="239" y="414"/>
                </a:cubicBezTo>
                <a:cubicBezTo>
                  <a:pt x="239" y="414"/>
                  <a:pt x="239" y="414"/>
                  <a:pt x="239" y="414"/>
                </a:cubicBezTo>
                <a:cubicBezTo>
                  <a:pt x="237" y="414"/>
                  <a:pt x="236" y="414"/>
                  <a:pt x="235" y="413"/>
                </a:cubicBezTo>
                <a:cubicBezTo>
                  <a:pt x="235" y="413"/>
                  <a:pt x="235" y="413"/>
                  <a:pt x="235" y="413"/>
                </a:cubicBezTo>
                <a:cubicBezTo>
                  <a:pt x="232" y="413"/>
                  <a:pt x="230" y="413"/>
                  <a:pt x="227" y="412"/>
                </a:cubicBezTo>
                <a:cubicBezTo>
                  <a:pt x="227" y="412"/>
                  <a:pt x="227" y="412"/>
                  <a:pt x="227" y="412"/>
                </a:cubicBezTo>
                <a:cubicBezTo>
                  <a:pt x="226" y="412"/>
                  <a:pt x="225" y="412"/>
                  <a:pt x="224" y="412"/>
                </a:cubicBezTo>
                <a:cubicBezTo>
                  <a:pt x="224" y="412"/>
                  <a:pt x="224" y="412"/>
                  <a:pt x="224" y="412"/>
                </a:cubicBezTo>
                <a:cubicBezTo>
                  <a:pt x="224" y="412"/>
                  <a:pt x="223" y="412"/>
                  <a:pt x="223" y="412"/>
                </a:cubicBezTo>
                <a:cubicBezTo>
                  <a:pt x="224" y="359"/>
                  <a:pt x="224" y="306"/>
                  <a:pt x="225" y="253"/>
                </a:cubicBezTo>
                <a:cubicBezTo>
                  <a:pt x="225" y="252"/>
                  <a:pt x="225" y="250"/>
                  <a:pt x="225" y="249"/>
                </a:cubicBezTo>
                <a:cubicBezTo>
                  <a:pt x="225" y="249"/>
                  <a:pt x="225" y="248"/>
                  <a:pt x="225" y="248"/>
                </a:cubicBezTo>
                <a:cubicBezTo>
                  <a:pt x="224" y="247"/>
                  <a:pt x="224" y="246"/>
                  <a:pt x="224" y="246"/>
                </a:cubicBezTo>
                <a:cubicBezTo>
                  <a:pt x="224" y="246"/>
                  <a:pt x="224" y="246"/>
                  <a:pt x="224" y="246"/>
                </a:cubicBezTo>
                <a:cubicBezTo>
                  <a:pt x="224" y="245"/>
                  <a:pt x="224" y="245"/>
                  <a:pt x="223" y="244"/>
                </a:cubicBezTo>
                <a:cubicBezTo>
                  <a:pt x="223" y="244"/>
                  <a:pt x="223" y="243"/>
                  <a:pt x="223" y="242"/>
                </a:cubicBezTo>
                <a:cubicBezTo>
                  <a:pt x="222" y="242"/>
                  <a:pt x="222" y="242"/>
                  <a:pt x="222" y="241"/>
                </a:cubicBezTo>
                <a:cubicBezTo>
                  <a:pt x="222" y="241"/>
                  <a:pt x="221" y="240"/>
                  <a:pt x="221" y="240"/>
                </a:cubicBezTo>
                <a:cubicBezTo>
                  <a:pt x="221" y="240"/>
                  <a:pt x="221" y="240"/>
                  <a:pt x="221" y="240"/>
                </a:cubicBezTo>
                <a:cubicBezTo>
                  <a:pt x="221" y="239"/>
                  <a:pt x="221" y="239"/>
                  <a:pt x="221" y="239"/>
                </a:cubicBezTo>
                <a:cubicBezTo>
                  <a:pt x="220" y="238"/>
                  <a:pt x="220" y="238"/>
                  <a:pt x="220" y="238"/>
                </a:cubicBezTo>
                <a:cubicBezTo>
                  <a:pt x="219" y="238"/>
                  <a:pt x="219" y="237"/>
                  <a:pt x="219" y="237"/>
                </a:cubicBezTo>
                <a:cubicBezTo>
                  <a:pt x="218" y="237"/>
                  <a:pt x="218" y="237"/>
                  <a:pt x="218" y="237"/>
                </a:cubicBezTo>
                <a:cubicBezTo>
                  <a:pt x="220" y="108"/>
                  <a:pt x="220" y="108"/>
                  <a:pt x="220" y="108"/>
                </a:cubicBezTo>
                <a:cubicBezTo>
                  <a:pt x="189" y="0"/>
                  <a:pt x="189" y="0"/>
                  <a:pt x="189" y="0"/>
                </a:cubicBezTo>
                <a:cubicBezTo>
                  <a:pt x="188" y="178"/>
                  <a:pt x="188" y="178"/>
                  <a:pt x="188" y="178"/>
                </a:cubicBezTo>
                <a:cubicBezTo>
                  <a:pt x="200" y="228"/>
                  <a:pt x="200" y="228"/>
                  <a:pt x="200" y="228"/>
                </a:cubicBezTo>
                <a:cubicBezTo>
                  <a:pt x="200" y="228"/>
                  <a:pt x="200" y="228"/>
                  <a:pt x="200" y="228"/>
                </a:cubicBezTo>
                <a:cubicBezTo>
                  <a:pt x="200" y="228"/>
                  <a:pt x="200" y="228"/>
                  <a:pt x="200" y="228"/>
                </a:cubicBezTo>
                <a:cubicBezTo>
                  <a:pt x="199" y="228"/>
                  <a:pt x="199" y="228"/>
                  <a:pt x="199" y="228"/>
                </a:cubicBezTo>
                <a:cubicBezTo>
                  <a:pt x="199" y="228"/>
                  <a:pt x="199" y="228"/>
                  <a:pt x="199" y="228"/>
                </a:cubicBezTo>
                <a:cubicBezTo>
                  <a:pt x="199" y="228"/>
                  <a:pt x="199" y="228"/>
                  <a:pt x="199" y="228"/>
                </a:cubicBezTo>
                <a:cubicBezTo>
                  <a:pt x="198" y="228"/>
                  <a:pt x="198" y="228"/>
                  <a:pt x="198" y="228"/>
                </a:cubicBezTo>
                <a:cubicBezTo>
                  <a:pt x="198" y="227"/>
                  <a:pt x="198" y="227"/>
                  <a:pt x="198" y="227"/>
                </a:cubicBezTo>
                <a:cubicBezTo>
                  <a:pt x="197" y="227"/>
                  <a:pt x="197" y="227"/>
                  <a:pt x="197" y="227"/>
                </a:cubicBezTo>
                <a:cubicBezTo>
                  <a:pt x="196" y="227"/>
                  <a:pt x="196" y="227"/>
                  <a:pt x="196" y="227"/>
                </a:cubicBezTo>
                <a:cubicBezTo>
                  <a:pt x="196" y="227"/>
                  <a:pt x="196" y="227"/>
                  <a:pt x="196" y="227"/>
                </a:cubicBezTo>
                <a:cubicBezTo>
                  <a:pt x="195" y="227"/>
                  <a:pt x="195" y="227"/>
                  <a:pt x="195" y="227"/>
                </a:cubicBezTo>
                <a:cubicBezTo>
                  <a:pt x="195" y="227"/>
                  <a:pt x="195" y="227"/>
                  <a:pt x="195" y="227"/>
                </a:cubicBezTo>
                <a:cubicBezTo>
                  <a:pt x="194" y="227"/>
                  <a:pt x="194" y="227"/>
                  <a:pt x="194" y="227"/>
                </a:cubicBezTo>
                <a:cubicBezTo>
                  <a:pt x="194" y="227"/>
                  <a:pt x="194" y="227"/>
                  <a:pt x="194" y="227"/>
                </a:cubicBezTo>
                <a:cubicBezTo>
                  <a:pt x="194" y="227"/>
                  <a:pt x="194" y="227"/>
                  <a:pt x="194" y="227"/>
                </a:cubicBezTo>
                <a:cubicBezTo>
                  <a:pt x="194" y="227"/>
                  <a:pt x="194" y="227"/>
                  <a:pt x="194" y="227"/>
                </a:cubicBezTo>
                <a:cubicBezTo>
                  <a:pt x="193" y="227"/>
                  <a:pt x="193" y="227"/>
                  <a:pt x="193" y="227"/>
                </a:cubicBezTo>
                <a:cubicBezTo>
                  <a:pt x="192" y="226"/>
                  <a:pt x="192" y="226"/>
                  <a:pt x="192" y="226"/>
                </a:cubicBezTo>
                <a:cubicBezTo>
                  <a:pt x="192" y="226"/>
                  <a:pt x="192" y="226"/>
                  <a:pt x="192" y="226"/>
                </a:cubicBezTo>
                <a:cubicBezTo>
                  <a:pt x="191" y="226"/>
                  <a:pt x="191" y="226"/>
                  <a:pt x="191" y="226"/>
                </a:cubicBezTo>
                <a:cubicBezTo>
                  <a:pt x="190" y="226"/>
                  <a:pt x="190" y="226"/>
                  <a:pt x="190" y="226"/>
                </a:cubicBezTo>
                <a:cubicBezTo>
                  <a:pt x="189" y="226"/>
                  <a:pt x="189" y="226"/>
                  <a:pt x="189" y="226"/>
                </a:cubicBezTo>
                <a:cubicBezTo>
                  <a:pt x="188" y="226"/>
                  <a:pt x="188" y="226"/>
                  <a:pt x="188" y="226"/>
                </a:cubicBezTo>
                <a:cubicBezTo>
                  <a:pt x="188" y="226"/>
                  <a:pt x="188" y="226"/>
                  <a:pt x="188" y="226"/>
                </a:cubicBezTo>
                <a:cubicBezTo>
                  <a:pt x="187" y="226"/>
                  <a:pt x="187" y="226"/>
                  <a:pt x="187" y="226"/>
                </a:cubicBezTo>
                <a:cubicBezTo>
                  <a:pt x="186" y="226"/>
                  <a:pt x="186" y="226"/>
                  <a:pt x="186" y="226"/>
                </a:cubicBezTo>
                <a:cubicBezTo>
                  <a:pt x="186" y="226"/>
                  <a:pt x="186" y="226"/>
                  <a:pt x="186" y="226"/>
                </a:cubicBezTo>
                <a:cubicBezTo>
                  <a:pt x="185" y="226"/>
                  <a:pt x="185" y="226"/>
                  <a:pt x="185" y="226"/>
                </a:cubicBezTo>
                <a:cubicBezTo>
                  <a:pt x="185" y="226"/>
                  <a:pt x="185" y="226"/>
                  <a:pt x="185" y="226"/>
                </a:cubicBezTo>
                <a:cubicBezTo>
                  <a:pt x="184" y="226"/>
                  <a:pt x="184" y="226"/>
                  <a:pt x="184" y="226"/>
                </a:cubicBezTo>
                <a:cubicBezTo>
                  <a:pt x="183" y="226"/>
                  <a:pt x="183" y="226"/>
                  <a:pt x="183" y="226"/>
                </a:cubicBezTo>
                <a:cubicBezTo>
                  <a:pt x="182" y="226"/>
                  <a:pt x="182" y="226"/>
                  <a:pt x="182" y="226"/>
                </a:cubicBezTo>
                <a:cubicBezTo>
                  <a:pt x="182" y="226"/>
                  <a:pt x="182" y="226"/>
                  <a:pt x="182" y="226"/>
                </a:cubicBezTo>
                <a:cubicBezTo>
                  <a:pt x="181" y="226"/>
                  <a:pt x="181" y="226"/>
                  <a:pt x="181" y="226"/>
                </a:cubicBezTo>
                <a:cubicBezTo>
                  <a:pt x="180" y="226"/>
                  <a:pt x="180" y="226"/>
                  <a:pt x="180" y="226"/>
                </a:cubicBezTo>
                <a:cubicBezTo>
                  <a:pt x="179" y="225"/>
                  <a:pt x="179" y="225"/>
                  <a:pt x="179" y="225"/>
                </a:cubicBezTo>
                <a:cubicBezTo>
                  <a:pt x="178" y="225"/>
                  <a:pt x="178" y="225"/>
                  <a:pt x="178" y="225"/>
                </a:cubicBezTo>
                <a:cubicBezTo>
                  <a:pt x="177" y="225"/>
                  <a:pt x="177" y="225"/>
                  <a:pt x="177" y="225"/>
                </a:cubicBezTo>
                <a:cubicBezTo>
                  <a:pt x="177" y="225"/>
                  <a:pt x="177" y="225"/>
                  <a:pt x="177" y="225"/>
                </a:cubicBezTo>
                <a:cubicBezTo>
                  <a:pt x="176" y="225"/>
                  <a:pt x="176" y="225"/>
                  <a:pt x="176" y="225"/>
                </a:cubicBezTo>
                <a:cubicBezTo>
                  <a:pt x="176" y="225"/>
                  <a:pt x="176" y="225"/>
                  <a:pt x="176" y="225"/>
                </a:cubicBezTo>
                <a:cubicBezTo>
                  <a:pt x="175" y="225"/>
                  <a:pt x="175" y="225"/>
                  <a:pt x="175" y="225"/>
                </a:cubicBezTo>
                <a:cubicBezTo>
                  <a:pt x="175" y="226"/>
                  <a:pt x="175" y="226"/>
                  <a:pt x="175" y="226"/>
                </a:cubicBezTo>
                <a:cubicBezTo>
                  <a:pt x="174" y="226"/>
                  <a:pt x="174" y="226"/>
                  <a:pt x="174" y="226"/>
                </a:cubicBezTo>
                <a:cubicBezTo>
                  <a:pt x="174" y="226"/>
                  <a:pt x="173" y="226"/>
                  <a:pt x="173" y="226"/>
                </a:cubicBezTo>
                <a:cubicBezTo>
                  <a:pt x="173" y="226"/>
                  <a:pt x="172" y="226"/>
                  <a:pt x="172" y="226"/>
                </a:cubicBezTo>
                <a:cubicBezTo>
                  <a:pt x="171" y="226"/>
                  <a:pt x="171" y="226"/>
                  <a:pt x="171" y="226"/>
                </a:cubicBezTo>
                <a:cubicBezTo>
                  <a:pt x="170" y="226"/>
                  <a:pt x="170" y="226"/>
                  <a:pt x="169" y="226"/>
                </a:cubicBezTo>
                <a:cubicBezTo>
                  <a:pt x="169" y="226"/>
                  <a:pt x="168" y="226"/>
                  <a:pt x="168" y="226"/>
                </a:cubicBezTo>
                <a:cubicBezTo>
                  <a:pt x="168" y="226"/>
                  <a:pt x="167" y="226"/>
                  <a:pt x="167" y="226"/>
                </a:cubicBezTo>
                <a:cubicBezTo>
                  <a:pt x="167" y="226"/>
                  <a:pt x="167" y="226"/>
                  <a:pt x="167" y="226"/>
                </a:cubicBezTo>
                <a:cubicBezTo>
                  <a:pt x="167" y="226"/>
                  <a:pt x="167" y="226"/>
                  <a:pt x="167" y="226"/>
                </a:cubicBezTo>
                <a:cubicBezTo>
                  <a:pt x="166" y="226"/>
                  <a:pt x="166" y="226"/>
                  <a:pt x="165" y="226"/>
                </a:cubicBezTo>
                <a:cubicBezTo>
                  <a:pt x="165" y="226"/>
                  <a:pt x="164" y="226"/>
                  <a:pt x="164" y="226"/>
                </a:cubicBezTo>
                <a:cubicBezTo>
                  <a:pt x="163" y="226"/>
                  <a:pt x="163" y="226"/>
                  <a:pt x="162" y="226"/>
                </a:cubicBezTo>
                <a:cubicBezTo>
                  <a:pt x="162" y="226"/>
                  <a:pt x="162" y="226"/>
                  <a:pt x="162" y="226"/>
                </a:cubicBezTo>
                <a:cubicBezTo>
                  <a:pt x="162" y="226"/>
                  <a:pt x="162" y="226"/>
                  <a:pt x="162" y="226"/>
                </a:cubicBezTo>
                <a:cubicBezTo>
                  <a:pt x="162" y="226"/>
                  <a:pt x="162" y="226"/>
                  <a:pt x="162" y="226"/>
                </a:cubicBezTo>
                <a:cubicBezTo>
                  <a:pt x="161" y="226"/>
                  <a:pt x="161" y="226"/>
                  <a:pt x="160" y="226"/>
                </a:cubicBezTo>
                <a:cubicBezTo>
                  <a:pt x="160" y="227"/>
                  <a:pt x="159" y="227"/>
                  <a:pt x="159" y="227"/>
                </a:cubicBezTo>
                <a:cubicBezTo>
                  <a:pt x="158" y="227"/>
                  <a:pt x="158" y="227"/>
                  <a:pt x="157" y="227"/>
                </a:cubicBezTo>
                <a:cubicBezTo>
                  <a:pt x="155" y="227"/>
                  <a:pt x="153" y="227"/>
                  <a:pt x="151" y="228"/>
                </a:cubicBezTo>
                <a:cubicBezTo>
                  <a:pt x="150" y="228"/>
                  <a:pt x="148" y="228"/>
                  <a:pt x="147" y="228"/>
                </a:cubicBezTo>
                <a:cubicBezTo>
                  <a:pt x="144" y="229"/>
                  <a:pt x="141" y="229"/>
                  <a:pt x="139" y="229"/>
                </a:cubicBezTo>
                <a:cubicBezTo>
                  <a:pt x="138" y="229"/>
                  <a:pt x="138" y="229"/>
                  <a:pt x="137" y="229"/>
                </a:cubicBezTo>
                <a:cubicBezTo>
                  <a:pt x="134" y="230"/>
                  <a:pt x="131" y="230"/>
                  <a:pt x="128" y="230"/>
                </a:cubicBezTo>
                <a:cubicBezTo>
                  <a:pt x="128" y="230"/>
                  <a:pt x="128" y="230"/>
                  <a:pt x="128" y="230"/>
                </a:cubicBezTo>
                <a:cubicBezTo>
                  <a:pt x="125" y="230"/>
                  <a:pt x="121" y="231"/>
                  <a:pt x="118" y="231"/>
                </a:cubicBezTo>
                <a:cubicBezTo>
                  <a:pt x="115" y="231"/>
                  <a:pt x="112" y="231"/>
                  <a:pt x="109" y="230"/>
                </a:cubicBezTo>
                <a:cubicBezTo>
                  <a:pt x="109" y="230"/>
                  <a:pt x="109" y="230"/>
                  <a:pt x="109" y="230"/>
                </a:cubicBezTo>
                <a:cubicBezTo>
                  <a:pt x="106" y="230"/>
                  <a:pt x="104" y="230"/>
                  <a:pt x="101" y="230"/>
                </a:cubicBezTo>
                <a:cubicBezTo>
                  <a:pt x="100" y="230"/>
                  <a:pt x="100" y="230"/>
                  <a:pt x="100" y="230"/>
                </a:cubicBezTo>
                <a:cubicBezTo>
                  <a:pt x="97" y="229"/>
                  <a:pt x="94" y="229"/>
                  <a:pt x="91" y="229"/>
                </a:cubicBezTo>
                <a:cubicBezTo>
                  <a:pt x="91" y="229"/>
                  <a:pt x="91" y="229"/>
                  <a:pt x="91" y="229"/>
                </a:cubicBezTo>
                <a:cubicBezTo>
                  <a:pt x="88" y="228"/>
                  <a:pt x="85" y="227"/>
                  <a:pt x="81" y="227"/>
                </a:cubicBezTo>
                <a:cubicBezTo>
                  <a:pt x="81" y="227"/>
                  <a:pt x="81" y="227"/>
                  <a:pt x="81" y="227"/>
                </a:cubicBezTo>
                <a:cubicBezTo>
                  <a:pt x="79" y="226"/>
                  <a:pt x="78" y="226"/>
                  <a:pt x="76" y="225"/>
                </a:cubicBezTo>
                <a:cubicBezTo>
                  <a:pt x="76" y="225"/>
                  <a:pt x="76" y="225"/>
                  <a:pt x="76" y="225"/>
                </a:cubicBezTo>
                <a:cubicBezTo>
                  <a:pt x="74" y="225"/>
                  <a:pt x="72" y="225"/>
                  <a:pt x="71" y="224"/>
                </a:cubicBezTo>
                <a:cubicBezTo>
                  <a:pt x="70" y="224"/>
                  <a:pt x="70" y="224"/>
                  <a:pt x="70" y="224"/>
                </a:cubicBezTo>
                <a:cubicBezTo>
                  <a:pt x="67" y="223"/>
                  <a:pt x="63" y="222"/>
                  <a:pt x="59" y="221"/>
                </a:cubicBezTo>
                <a:cubicBezTo>
                  <a:pt x="59" y="221"/>
                  <a:pt x="59" y="221"/>
                  <a:pt x="59" y="221"/>
                </a:cubicBezTo>
                <a:cubicBezTo>
                  <a:pt x="57" y="220"/>
                  <a:pt x="55" y="219"/>
                  <a:pt x="53" y="219"/>
                </a:cubicBezTo>
                <a:cubicBezTo>
                  <a:pt x="52" y="218"/>
                  <a:pt x="52" y="218"/>
                  <a:pt x="52" y="218"/>
                </a:cubicBezTo>
                <a:cubicBezTo>
                  <a:pt x="50" y="218"/>
                  <a:pt x="48" y="217"/>
                  <a:pt x="46" y="216"/>
                </a:cubicBezTo>
                <a:cubicBezTo>
                  <a:pt x="46" y="216"/>
                  <a:pt x="46" y="216"/>
                  <a:pt x="46" y="216"/>
                </a:cubicBezTo>
                <a:cubicBezTo>
                  <a:pt x="44" y="216"/>
                  <a:pt x="42" y="215"/>
                  <a:pt x="40" y="214"/>
                </a:cubicBezTo>
                <a:cubicBezTo>
                  <a:pt x="40" y="214"/>
                  <a:pt x="39" y="214"/>
                  <a:pt x="39" y="213"/>
                </a:cubicBezTo>
                <a:cubicBezTo>
                  <a:pt x="37" y="213"/>
                  <a:pt x="35" y="212"/>
                  <a:pt x="33" y="211"/>
                </a:cubicBezTo>
                <a:cubicBezTo>
                  <a:pt x="32" y="211"/>
                  <a:pt x="31" y="210"/>
                  <a:pt x="30" y="210"/>
                </a:cubicBezTo>
                <a:cubicBezTo>
                  <a:pt x="29" y="209"/>
                  <a:pt x="28" y="209"/>
                  <a:pt x="28" y="209"/>
                </a:cubicBezTo>
                <a:cubicBezTo>
                  <a:pt x="27" y="208"/>
                  <a:pt x="26" y="208"/>
                  <a:pt x="26" y="208"/>
                </a:cubicBezTo>
                <a:cubicBezTo>
                  <a:pt x="25" y="207"/>
                  <a:pt x="24" y="207"/>
                  <a:pt x="24" y="207"/>
                </a:cubicBezTo>
                <a:cubicBezTo>
                  <a:pt x="23" y="206"/>
                  <a:pt x="23" y="206"/>
                  <a:pt x="22" y="206"/>
                </a:cubicBezTo>
                <a:cubicBezTo>
                  <a:pt x="22" y="205"/>
                  <a:pt x="21" y="205"/>
                  <a:pt x="20" y="205"/>
                </a:cubicBezTo>
                <a:cubicBezTo>
                  <a:pt x="20" y="204"/>
                  <a:pt x="19" y="204"/>
                  <a:pt x="19" y="204"/>
                </a:cubicBezTo>
                <a:cubicBezTo>
                  <a:pt x="18" y="203"/>
                  <a:pt x="18" y="203"/>
                  <a:pt x="17" y="203"/>
                </a:cubicBezTo>
                <a:cubicBezTo>
                  <a:pt x="17" y="202"/>
                  <a:pt x="16" y="202"/>
                  <a:pt x="16" y="202"/>
                </a:cubicBezTo>
                <a:cubicBezTo>
                  <a:pt x="15" y="201"/>
                  <a:pt x="15" y="201"/>
                  <a:pt x="14" y="201"/>
                </a:cubicBezTo>
                <a:cubicBezTo>
                  <a:pt x="14" y="200"/>
                  <a:pt x="14" y="200"/>
                  <a:pt x="13" y="200"/>
                </a:cubicBezTo>
                <a:cubicBezTo>
                  <a:pt x="13" y="199"/>
                  <a:pt x="12" y="199"/>
                  <a:pt x="12" y="199"/>
                </a:cubicBezTo>
                <a:cubicBezTo>
                  <a:pt x="11" y="198"/>
                  <a:pt x="11" y="198"/>
                  <a:pt x="11" y="197"/>
                </a:cubicBezTo>
                <a:cubicBezTo>
                  <a:pt x="10" y="196"/>
                  <a:pt x="10" y="196"/>
                  <a:pt x="10" y="196"/>
                </a:cubicBezTo>
                <a:cubicBezTo>
                  <a:pt x="9" y="196"/>
                  <a:pt x="9" y="196"/>
                  <a:pt x="8" y="195"/>
                </a:cubicBezTo>
                <a:cubicBezTo>
                  <a:pt x="8" y="194"/>
                  <a:pt x="8" y="194"/>
                  <a:pt x="8" y="194"/>
                </a:cubicBezTo>
                <a:cubicBezTo>
                  <a:pt x="7" y="194"/>
                  <a:pt x="7" y="193"/>
                  <a:pt x="7" y="193"/>
                </a:cubicBezTo>
                <a:cubicBezTo>
                  <a:pt x="6" y="192"/>
                  <a:pt x="6" y="192"/>
                  <a:pt x="6" y="192"/>
                </a:cubicBezTo>
                <a:cubicBezTo>
                  <a:pt x="6" y="192"/>
                  <a:pt x="5" y="191"/>
                  <a:pt x="5" y="191"/>
                </a:cubicBezTo>
                <a:cubicBezTo>
                  <a:pt x="4" y="190"/>
                  <a:pt x="4" y="190"/>
                  <a:pt x="4" y="190"/>
                </a:cubicBezTo>
                <a:cubicBezTo>
                  <a:pt x="4" y="189"/>
                  <a:pt x="4" y="189"/>
                  <a:pt x="4" y="188"/>
                </a:cubicBezTo>
                <a:cubicBezTo>
                  <a:pt x="3" y="187"/>
                  <a:pt x="3" y="187"/>
                  <a:pt x="3" y="187"/>
                </a:cubicBezTo>
                <a:cubicBezTo>
                  <a:pt x="3" y="187"/>
                  <a:pt x="3" y="187"/>
                  <a:pt x="3" y="186"/>
                </a:cubicBezTo>
                <a:cubicBezTo>
                  <a:pt x="2" y="185"/>
                  <a:pt x="2" y="185"/>
                  <a:pt x="2" y="185"/>
                </a:cubicBezTo>
                <a:cubicBezTo>
                  <a:pt x="2" y="185"/>
                  <a:pt x="2" y="185"/>
                  <a:pt x="2" y="185"/>
                </a:cubicBezTo>
                <a:cubicBezTo>
                  <a:pt x="1" y="183"/>
                  <a:pt x="1" y="182"/>
                  <a:pt x="1" y="181"/>
                </a:cubicBezTo>
                <a:cubicBezTo>
                  <a:pt x="1" y="180"/>
                  <a:pt x="1" y="180"/>
                  <a:pt x="1" y="180"/>
                </a:cubicBezTo>
                <a:cubicBezTo>
                  <a:pt x="1" y="179"/>
                  <a:pt x="0" y="177"/>
                  <a:pt x="0" y="176"/>
                </a:cubicBezTo>
                <a:cubicBezTo>
                  <a:pt x="1" y="239"/>
                  <a:pt x="1" y="303"/>
                  <a:pt x="2" y="366"/>
                </a:cubicBezTo>
                <a:cubicBezTo>
                  <a:pt x="2" y="368"/>
                  <a:pt x="2" y="369"/>
                  <a:pt x="2" y="371"/>
                </a:cubicBezTo>
                <a:cubicBezTo>
                  <a:pt x="2" y="371"/>
                  <a:pt x="2" y="371"/>
                  <a:pt x="2" y="371"/>
                </a:cubicBezTo>
                <a:cubicBezTo>
                  <a:pt x="3" y="373"/>
                  <a:pt x="3" y="374"/>
                  <a:pt x="3" y="376"/>
                </a:cubicBezTo>
                <a:cubicBezTo>
                  <a:pt x="4" y="376"/>
                  <a:pt x="4" y="376"/>
                  <a:pt x="4" y="376"/>
                </a:cubicBezTo>
                <a:cubicBezTo>
                  <a:pt x="4" y="376"/>
                  <a:pt x="4" y="376"/>
                  <a:pt x="4" y="376"/>
                </a:cubicBezTo>
                <a:cubicBezTo>
                  <a:pt x="4" y="376"/>
                  <a:pt x="4" y="376"/>
                  <a:pt x="4" y="376"/>
                </a:cubicBezTo>
                <a:cubicBezTo>
                  <a:pt x="4" y="377"/>
                  <a:pt x="4" y="377"/>
                  <a:pt x="4" y="377"/>
                </a:cubicBezTo>
                <a:cubicBezTo>
                  <a:pt x="4" y="378"/>
                  <a:pt x="4" y="378"/>
                  <a:pt x="5" y="378"/>
                </a:cubicBezTo>
                <a:cubicBezTo>
                  <a:pt x="5" y="379"/>
                  <a:pt x="5" y="379"/>
                  <a:pt x="5" y="380"/>
                </a:cubicBezTo>
                <a:cubicBezTo>
                  <a:pt x="5" y="380"/>
                  <a:pt x="6" y="380"/>
                  <a:pt x="6" y="381"/>
                </a:cubicBezTo>
                <a:cubicBezTo>
                  <a:pt x="6" y="381"/>
                  <a:pt x="6" y="382"/>
                  <a:pt x="6" y="382"/>
                </a:cubicBezTo>
                <a:cubicBezTo>
                  <a:pt x="7" y="382"/>
                  <a:pt x="7" y="383"/>
                  <a:pt x="7" y="383"/>
                </a:cubicBezTo>
                <a:cubicBezTo>
                  <a:pt x="8" y="384"/>
                  <a:pt x="8" y="384"/>
                  <a:pt x="8" y="384"/>
                </a:cubicBezTo>
                <a:cubicBezTo>
                  <a:pt x="9" y="385"/>
                  <a:pt x="9" y="385"/>
                  <a:pt x="9" y="385"/>
                </a:cubicBezTo>
                <a:cubicBezTo>
                  <a:pt x="9" y="386"/>
                  <a:pt x="9" y="386"/>
                  <a:pt x="9" y="386"/>
                </a:cubicBezTo>
                <a:cubicBezTo>
                  <a:pt x="9" y="386"/>
                  <a:pt x="9" y="386"/>
                  <a:pt x="9" y="386"/>
                </a:cubicBezTo>
                <a:cubicBezTo>
                  <a:pt x="10" y="387"/>
                  <a:pt x="10" y="387"/>
                  <a:pt x="10" y="387"/>
                </a:cubicBezTo>
                <a:cubicBezTo>
                  <a:pt x="10" y="387"/>
                  <a:pt x="11" y="388"/>
                  <a:pt x="11" y="388"/>
                </a:cubicBezTo>
                <a:cubicBezTo>
                  <a:pt x="12" y="389"/>
                  <a:pt x="12" y="389"/>
                  <a:pt x="12" y="389"/>
                </a:cubicBezTo>
                <a:cubicBezTo>
                  <a:pt x="12" y="389"/>
                  <a:pt x="13" y="390"/>
                  <a:pt x="13" y="390"/>
                </a:cubicBezTo>
                <a:cubicBezTo>
                  <a:pt x="14" y="391"/>
                  <a:pt x="14" y="391"/>
                  <a:pt x="14" y="391"/>
                </a:cubicBezTo>
                <a:cubicBezTo>
                  <a:pt x="15" y="392"/>
                  <a:pt x="15" y="392"/>
                  <a:pt x="16" y="393"/>
                </a:cubicBezTo>
                <a:cubicBezTo>
                  <a:pt x="16" y="393"/>
                  <a:pt x="17" y="393"/>
                  <a:pt x="17" y="394"/>
                </a:cubicBezTo>
                <a:cubicBezTo>
                  <a:pt x="18" y="394"/>
                  <a:pt x="18" y="394"/>
                  <a:pt x="18" y="394"/>
                </a:cubicBezTo>
                <a:cubicBezTo>
                  <a:pt x="19" y="395"/>
                  <a:pt x="19" y="395"/>
                  <a:pt x="19" y="395"/>
                </a:cubicBezTo>
                <a:cubicBezTo>
                  <a:pt x="19" y="395"/>
                  <a:pt x="19" y="395"/>
                  <a:pt x="19" y="395"/>
                </a:cubicBezTo>
                <a:cubicBezTo>
                  <a:pt x="20" y="396"/>
                  <a:pt x="20" y="396"/>
                  <a:pt x="20" y="396"/>
                </a:cubicBezTo>
                <a:cubicBezTo>
                  <a:pt x="20" y="396"/>
                  <a:pt x="21" y="397"/>
                  <a:pt x="22" y="397"/>
                </a:cubicBezTo>
                <a:cubicBezTo>
                  <a:pt x="22" y="397"/>
                  <a:pt x="23" y="398"/>
                  <a:pt x="23" y="398"/>
                </a:cubicBezTo>
                <a:cubicBezTo>
                  <a:pt x="24" y="398"/>
                  <a:pt x="24" y="399"/>
                  <a:pt x="25" y="399"/>
                </a:cubicBezTo>
                <a:cubicBezTo>
                  <a:pt x="26" y="399"/>
                  <a:pt x="26" y="400"/>
                  <a:pt x="27" y="400"/>
                </a:cubicBezTo>
                <a:cubicBezTo>
                  <a:pt x="27" y="400"/>
                  <a:pt x="28" y="401"/>
                  <a:pt x="29" y="401"/>
                </a:cubicBezTo>
                <a:cubicBezTo>
                  <a:pt x="29" y="401"/>
                  <a:pt x="30" y="402"/>
                  <a:pt x="30" y="402"/>
                </a:cubicBezTo>
                <a:cubicBezTo>
                  <a:pt x="31" y="402"/>
                  <a:pt x="31" y="402"/>
                  <a:pt x="31" y="402"/>
                </a:cubicBezTo>
                <a:cubicBezTo>
                  <a:pt x="32" y="403"/>
                  <a:pt x="32" y="403"/>
                  <a:pt x="32" y="403"/>
                </a:cubicBezTo>
                <a:cubicBezTo>
                  <a:pt x="33" y="403"/>
                  <a:pt x="33" y="403"/>
                  <a:pt x="33" y="403"/>
                </a:cubicBezTo>
                <a:cubicBezTo>
                  <a:pt x="33" y="403"/>
                  <a:pt x="33" y="403"/>
                  <a:pt x="33" y="403"/>
                </a:cubicBezTo>
                <a:cubicBezTo>
                  <a:pt x="34" y="404"/>
                  <a:pt x="34" y="404"/>
                  <a:pt x="34" y="404"/>
                </a:cubicBezTo>
                <a:cubicBezTo>
                  <a:pt x="35" y="404"/>
                  <a:pt x="37" y="405"/>
                  <a:pt x="38" y="406"/>
                </a:cubicBezTo>
                <a:cubicBezTo>
                  <a:pt x="39" y="406"/>
                  <a:pt x="39" y="406"/>
                  <a:pt x="40" y="406"/>
                </a:cubicBezTo>
                <a:cubicBezTo>
                  <a:pt x="40" y="407"/>
                  <a:pt x="41" y="407"/>
                  <a:pt x="41" y="407"/>
                </a:cubicBezTo>
                <a:cubicBezTo>
                  <a:pt x="42" y="407"/>
                  <a:pt x="42" y="407"/>
                  <a:pt x="43" y="408"/>
                </a:cubicBezTo>
                <a:cubicBezTo>
                  <a:pt x="44" y="408"/>
                  <a:pt x="45" y="409"/>
                  <a:pt x="47" y="409"/>
                </a:cubicBezTo>
                <a:cubicBezTo>
                  <a:pt x="47" y="409"/>
                  <a:pt x="47" y="409"/>
                  <a:pt x="47" y="409"/>
                </a:cubicBezTo>
                <a:cubicBezTo>
                  <a:pt x="47" y="409"/>
                  <a:pt x="47" y="409"/>
                  <a:pt x="47" y="409"/>
                </a:cubicBezTo>
                <a:cubicBezTo>
                  <a:pt x="48" y="410"/>
                  <a:pt x="50" y="410"/>
                  <a:pt x="51" y="411"/>
                </a:cubicBezTo>
                <a:cubicBezTo>
                  <a:pt x="52" y="411"/>
                  <a:pt x="52" y="411"/>
                  <a:pt x="52" y="412"/>
                </a:cubicBezTo>
                <a:cubicBezTo>
                  <a:pt x="53" y="412"/>
                  <a:pt x="53" y="412"/>
                  <a:pt x="54" y="412"/>
                </a:cubicBezTo>
                <a:cubicBezTo>
                  <a:pt x="55" y="412"/>
                  <a:pt x="55" y="412"/>
                  <a:pt x="55" y="412"/>
                </a:cubicBezTo>
                <a:cubicBezTo>
                  <a:pt x="56" y="413"/>
                  <a:pt x="57" y="413"/>
                  <a:pt x="58" y="414"/>
                </a:cubicBezTo>
                <a:cubicBezTo>
                  <a:pt x="59" y="414"/>
                  <a:pt x="59" y="414"/>
                  <a:pt x="59" y="414"/>
                </a:cubicBezTo>
                <a:cubicBezTo>
                  <a:pt x="59" y="414"/>
                  <a:pt x="59" y="414"/>
                  <a:pt x="59" y="414"/>
                </a:cubicBezTo>
                <a:cubicBezTo>
                  <a:pt x="60" y="414"/>
                  <a:pt x="60" y="414"/>
                  <a:pt x="60" y="414"/>
                </a:cubicBezTo>
                <a:cubicBezTo>
                  <a:pt x="60" y="414"/>
                  <a:pt x="61" y="415"/>
                  <a:pt x="62" y="415"/>
                </a:cubicBezTo>
                <a:cubicBezTo>
                  <a:pt x="63" y="415"/>
                  <a:pt x="64" y="416"/>
                  <a:pt x="65" y="416"/>
                </a:cubicBezTo>
                <a:cubicBezTo>
                  <a:pt x="65" y="416"/>
                  <a:pt x="65" y="416"/>
                  <a:pt x="65" y="416"/>
                </a:cubicBezTo>
                <a:cubicBezTo>
                  <a:pt x="65" y="416"/>
                  <a:pt x="65" y="416"/>
                  <a:pt x="65" y="416"/>
                </a:cubicBezTo>
                <a:cubicBezTo>
                  <a:pt x="66" y="416"/>
                  <a:pt x="67" y="417"/>
                  <a:pt x="68" y="417"/>
                </a:cubicBezTo>
                <a:cubicBezTo>
                  <a:pt x="68" y="417"/>
                  <a:pt x="69" y="417"/>
                  <a:pt x="70" y="418"/>
                </a:cubicBezTo>
                <a:cubicBezTo>
                  <a:pt x="70" y="418"/>
                  <a:pt x="70" y="418"/>
                  <a:pt x="70" y="418"/>
                </a:cubicBezTo>
                <a:cubicBezTo>
                  <a:pt x="71" y="418"/>
                  <a:pt x="71" y="418"/>
                  <a:pt x="71" y="418"/>
                </a:cubicBezTo>
                <a:cubicBezTo>
                  <a:pt x="71" y="418"/>
                  <a:pt x="72" y="418"/>
                  <a:pt x="72" y="418"/>
                </a:cubicBezTo>
                <a:cubicBezTo>
                  <a:pt x="73" y="418"/>
                  <a:pt x="74" y="419"/>
                  <a:pt x="75" y="419"/>
                </a:cubicBezTo>
                <a:cubicBezTo>
                  <a:pt x="76" y="419"/>
                  <a:pt x="76" y="419"/>
                  <a:pt x="76" y="419"/>
                </a:cubicBezTo>
                <a:cubicBezTo>
                  <a:pt x="76" y="419"/>
                  <a:pt x="76" y="419"/>
                  <a:pt x="76" y="419"/>
                </a:cubicBezTo>
                <a:cubicBezTo>
                  <a:pt x="77" y="419"/>
                  <a:pt x="77" y="419"/>
                  <a:pt x="77" y="419"/>
                </a:cubicBezTo>
                <a:cubicBezTo>
                  <a:pt x="77" y="420"/>
                  <a:pt x="78" y="420"/>
                  <a:pt x="79" y="420"/>
                </a:cubicBezTo>
                <a:cubicBezTo>
                  <a:pt x="79" y="420"/>
                  <a:pt x="80" y="420"/>
                  <a:pt x="81" y="420"/>
                </a:cubicBezTo>
                <a:cubicBezTo>
                  <a:pt x="81" y="420"/>
                  <a:pt x="81" y="420"/>
                  <a:pt x="81" y="420"/>
                </a:cubicBezTo>
                <a:cubicBezTo>
                  <a:pt x="81" y="421"/>
                  <a:pt x="81" y="421"/>
                  <a:pt x="81" y="421"/>
                </a:cubicBezTo>
                <a:cubicBezTo>
                  <a:pt x="81" y="421"/>
                  <a:pt x="81" y="421"/>
                  <a:pt x="81" y="421"/>
                </a:cubicBezTo>
                <a:cubicBezTo>
                  <a:pt x="82" y="421"/>
                  <a:pt x="82" y="421"/>
                  <a:pt x="82" y="421"/>
                </a:cubicBezTo>
                <a:cubicBezTo>
                  <a:pt x="83" y="421"/>
                  <a:pt x="83" y="421"/>
                  <a:pt x="84" y="421"/>
                </a:cubicBezTo>
                <a:cubicBezTo>
                  <a:pt x="85" y="421"/>
                  <a:pt x="85" y="421"/>
                  <a:pt x="86" y="422"/>
                </a:cubicBezTo>
                <a:cubicBezTo>
                  <a:pt x="86" y="422"/>
                  <a:pt x="87" y="422"/>
                  <a:pt x="87" y="422"/>
                </a:cubicBezTo>
                <a:cubicBezTo>
                  <a:pt x="88" y="422"/>
                  <a:pt x="88" y="422"/>
                  <a:pt x="89" y="422"/>
                </a:cubicBezTo>
                <a:cubicBezTo>
                  <a:pt x="89" y="422"/>
                  <a:pt x="90" y="422"/>
                  <a:pt x="90" y="422"/>
                </a:cubicBezTo>
                <a:cubicBezTo>
                  <a:pt x="91" y="423"/>
                  <a:pt x="91" y="423"/>
                  <a:pt x="91" y="423"/>
                </a:cubicBezTo>
                <a:cubicBezTo>
                  <a:pt x="91" y="423"/>
                  <a:pt x="91" y="423"/>
                  <a:pt x="91" y="423"/>
                </a:cubicBezTo>
                <a:cubicBezTo>
                  <a:pt x="92" y="423"/>
                  <a:pt x="92" y="423"/>
                  <a:pt x="92" y="423"/>
                </a:cubicBezTo>
                <a:cubicBezTo>
                  <a:pt x="92" y="423"/>
                  <a:pt x="93" y="423"/>
                  <a:pt x="93" y="423"/>
                </a:cubicBezTo>
                <a:cubicBezTo>
                  <a:pt x="93" y="423"/>
                  <a:pt x="94" y="423"/>
                  <a:pt x="94" y="423"/>
                </a:cubicBezTo>
                <a:cubicBezTo>
                  <a:pt x="95" y="423"/>
                  <a:pt x="95" y="423"/>
                  <a:pt x="96" y="423"/>
                </a:cubicBezTo>
                <a:cubicBezTo>
                  <a:pt x="96" y="423"/>
                  <a:pt x="97" y="423"/>
                  <a:pt x="97" y="423"/>
                </a:cubicBezTo>
                <a:cubicBezTo>
                  <a:pt x="97" y="424"/>
                  <a:pt x="98" y="424"/>
                  <a:pt x="98" y="424"/>
                </a:cubicBezTo>
                <a:cubicBezTo>
                  <a:pt x="99" y="424"/>
                  <a:pt x="99" y="424"/>
                  <a:pt x="100" y="424"/>
                </a:cubicBezTo>
                <a:cubicBezTo>
                  <a:pt x="100" y="424"/>
                  <a:pt x="100" y="424"/>
                  <a:pt x="100" y="424"/>
                </a:cubicBezTo>
                <a:cubicBezTo>
                  <a:pt x="100" y="424"/>
                  <a:pt x="100" y="424"/>
                  <a:pt x="100" y="424"/>
                </a:cubicBezTo>
                <a:cubicBezTo>
                  <a:pt x="100" y="424"/>
                  <a:pt x="100" y="424"/>
                  <a:pt x="100" y="424"/>
                </a:cubicBezTo>
                <a:cubicBezTo>
                  <a:pt x="101" y="424"/>
                  <a:pt x="101" y="424"/>
                  <a:pt x="101" y="424"/>
                </a:cubicBezTo>
                <a:cubicBezTo>
                  <a:pt x="101" y="424"/>
                  <a:pt x="102" y="424"/>
                  <a:pt x="102" y="424"/>
                </a:cubicBezTo>
                <a:cubicBezTo>
                  <a:pt x="102" y="424"/>
                  <a:pt x="103" y="424"/>
                  <a:pt x="103" y="424"/>
                </a:cubicBezTo>
                <a:cubicBezTo>
                  <a:pt x="104" y="424"/>
                  <a:pt x="104" y="424"/>
                  <a:pt x="104" y="424"/>
                </a:cubicBezTo>
                <a:cubicBezTo>
                  <a:pt x="105" y="424"/>
                  <a:pt x="105" y="424"/>
                  <a:pt x="106" y="424"/>
                </a:cubicBezTo>
                <a:cubicBezTo>
                  <a:pt x="106" y="424"/>
                  <a:pt x="107" y="424"/>
                  <a:pt x="107" y="424"/>
                </a:cubicBezTo>
                <a:cubicBezTo>
                  <a:pt x="107" y="425"/>
                  <a:pt x="108" y="425"/>
                  <a:pt x="108" y="425"/>
                </a:cubicBezTo>
                <a:cubicBezTo>
                  <a:pt x="109" y="425"/>
                  <a:pt x="109" y="425"/>
                  <a:pt x="109" y="425"/>
                </a:cubicBezTo>
                <a:cubicBezTo>
                  <a:pt x="109" y="425"/>
                  <a:pt x="109" y="425"/>
                  <a:pt x="109" y="425"/>
                </a:cubicBezTo>
                <a:cubicBezTo>
                  <a:pt x="109" y="425"/>
                  <a:pt x="109" y="425"/>
                  <a:pt x="109" y="425"/>
                </a:cubicBezTo>
                <a:cubicBezTo>
                  <a:pt x="110" y="425"/>
                  <a:pt x="110" y="425"/>
                  <a:pt x="111" y="425"/>
                </a:cubicBezTo>
                <a:cubicBezTo>
                  <a:pt x="111" y="425"/>
                  <a:pt x="111" y="425"/>
                  <a:pt x="112" y="425"/>
                </a:cubicBezTo>
                <a:cubicBezTo>
                  <a:pt x="112" y="425"/>
                  <a:pt x="113" y="425"/>
                  <a:pt x="113" y="425"/>
                </a:cubicBezTo>
                <a:cubicBezTo>
                  <a:pt x="113" y="425"/>
                  <a:pt x="114" y="425"/>
                  <a:pt x="114" y="425"/>
                </a:cubicBezTo>
                <a:cubicBezTo>
                  <a:pt x="115" y="425"/>
                  <a:pt x="115" y="425"/>
                  <a:pt x="115" y="425"/>
                </a:cubicBezTo>
                <a:cubicBezTo>
                  <a:pt x="116" y="425"/>
                  <a:pt x="116" y="425"/>
                  <a:pt x="116" y="425"/>
                </a:cubicBezTo>
                <a:cubicBezTo>
                  <a:pt x="116" y="425"/>
                  <a:pt x="116" y="425"/>
                  <a:pt x="116" y="425"/>
                </a:cubicBezTo>
                <a:cubicBezTo>
                  <a:pt x="117" y="425"/>
                  <a:pt x="117" y="425"/>
                  <a:pt x="117" y="425"/>
                </a:cubicBezTo>
                <a:cubicBezTo>
                  <a:pt x="118" y="425"/>
                  <a:pt x="118" y="425"/>
                  <a:pt x="118" y="425"/>
                </a:cubicBezTo>
                <a:cubicBezTo>
                  <a:pt x="118" y="425"/>
                  <a:pt x="118" y="425"/>
                  <a:pt x="118" y="425"/>
                </a:cubicBezTo>
                <a:cubicBezTo>
                  <a:pt x="119" y="425"/>
                  <a:pt x="119" y="425"/>
                  <a:pt x="119" y="425"/>
                </a:cubicBezTo>
                <a:cubicBezTo>
                  <a:pt x="119" y="425"/>
                  <a:pt x="119" y="425"/>
                  <a:pt x="119" y="425"/>
                </a:cubicBezTo>
                <a:cubicBezTo>
                  <a:pt x="120" y="425"/>
                  <a:pt x="120" y="425"/>
                  <a:pt x="121" y="425"/>
                </a:cubicBezTo>
                <a:cubicBezTo>
                  <a:pt x="121" y="425"/>
                  <a:pt x="122" y="425"/>
                  <a:pt x="122" y="425"/>
                </a:cubicBezTo>
                <a:cubicBezTo>
                  <a:pt x="123" y="425"/>
                  <a:pt x="123" y="425"/>
                  <a:pt x="124" y="425"/>
                </a:cubicBezTo>
                <a:cubicBezTo>
                  <a:pt x="124" y="425"/>
                  <a:pt x="125" y="425"/>
                  <a:pt x="125" y="425"/>
                </a:cubicBezTo>
                <a:cubicBezTo>
                  <a:pt x="126" y="424"/>
                  <a:pt x="126" y="424"/>
                  <a:pt x="127" y="424"/>
                </a:cubicBezTo>
                <a:cubicBezTo>
                  <a:pt x="127" y="424"/>
                  <a:pt x="128" y="424"/>
                  <a:pt x="129" y="424"/>
                </a:cubicBezTo>
                <a:cubicBezTo>
                  <a:pt x="129" y="424"/>
                  <a:pt x="130" y="424"/>
                  <a:pt x="130" y="424"/>
                </a:cubicBezTo>
                <a:cubicBezTo>
                  <a:pt x="131" y="424"/>
                  <a:pt x="132" y="424"/>
                  <a:pt x="132" y="424"/>
                </a:cubicBezTo>
                <a:cubicBezTo>
                  <a:pt x="134" y="424"/>
                  <a:pt x="135" y="424"/>
                  <a:pt x="136" y="424"/>
                </a:cubicBezTo>
                <a:cubicBezTo>
                  <a:pt x="137" y="423"/>
                  <a:pt x="137" y="423"/>
                  <a:pt x="137" y="423"/>
                </a:cubicBezTo>
                <a:cubicBezTo>
                  <a:pt x="138" y="423"/>
                  <a:pt x="138" y="423"/>
                  <a:pt x="138" y="423"/>
                </a:cubicBezTo>
                <a:cubicBezTo>
                  <a:pt x="138" y="423"/>
                  <a:pt x="138" y="423"/>
                  <a:pt x="138" y="423"/>
                </a:cubicBezTo>
                <a:cubicBezTo>
                  <a:pt x="140" y="423"/>
                  <a:pt x="142" y="423"/>
                  <a:pt x="144" y="423"/>
                </a:cubicBezTo>
                <a:cubicBezTo>
                  <a:pt x="145" y="422"/>
                  <a:pt x="145" y="422"/>
                  <a:pt x="146" y="422"/>
                </a:cubicBezTo>
                <a:cubicBezTo>
                  <a:pt x="146" y="422"/>
                  <a:pt x="146" y="422"/>
                  <a:pt x="146" y="422"/>
                </a:cubicBezTo>
                <a:cubicBezTo>
                  <a:pt x="149" y="422"/>
                  <a:pt x="153" y="421"/>
                  <a:pt x="156" y="421"/>
                </a:cubicBezTo>
                <a:cubicBezTo>
                  <a:pt x="157" y="421"/>
                  <a:pt x="159" y="420"/>
                  <a:pt x="160" y="420"/>
                </a:cubicBezTo>
                <a:cubicBezTo>
                  <a:pt x="160" y="420"/>
                  <a:pt x="160" y="420"/>
                  <a:pt x="160" y="420"/>
                </a:cubicBezTo>
                <a:cubicBezTo>
                  <a:pt x="162" y="420"/>
                  <a:pt x="163" y="420"/>
                  <a:pt x="165" y="420"/>
                </a:cubicBezTo>
                <a:cubicBezTo>
                  <a:pt x="165" y="420"/>
                  <a:pt x="165" y="420"/>
                  <a:pt x="165" y="420"/>
                </a:cubicBezTo>
                <a:cubicBezTo>
                  <a:pt x="165" y="420"/>
                  <a:pt x="165" y="420"/>
                  <a:pt x="165" y="420"/>
                </a:cubicBezTo>
                <a:cubicBezTo>
                  <a:pt x="166" y="420"/>
                  <a:pt x="168" y="420"/>
                  <a:pt x="170" y="420"/>
                </a:cubicBezTo>
                <a:cubicBezTo>
                  <a:pt x="170" y="420"/>
                  <a:pt x="170" y="420"/>
                  <a:pt x="170" y="420"/>
                </a:cubicBezTo>
                <a:cubicBezTo>
                  <a:pt x="171" y="419"/>
                  <a:pt x="173" y="419"/>
                  <a:pt x="174" y="419"/>
                </a:cubicBezTo>
                <a:cubicBezTo>
                  <a:pt x="177" y="419"/>
                  <a:pt x="180" y="420"/>
                  <a:pt x="183" y="420"/>
                </a:cubicBezTo>
                <a:cubicBezTo>
                  <a:pt x="184" y="420"/>
                  <a:pt x="184" y="420"/>
                  <a:pt x="184" y="420"/>
                </a:cubicBezTo>
                <a:cubicBezTo>
                  <a:pt x="186" y="420"/>
                  <a:pt x="188" y="420"/>
                  <a:pt x="191" y="421"/>
                </a:cubicBezTo>
                <a:cubicBezTo>
                  <a:pt x="190" y="478"/>
                  <a:pt x="189" y="536"/>
                  <a:pt x="189" y="593"/>
                </a:cubicBezTo>
                <a:cubicBezTo>
                  <a:pt x="189" y="595"/>
                  <a:pt x="189" y="596"/>
                  <a:pt x="189" y="597"/>
                </a:cubicBezTo>
                <a:cubicBezTo>
                  <a:pt x="189" y="598"/>
                  <a:pt x="189" y="599"/>
                  <a:pt x="189" y="600"/>
                </a:cubicBezTo>
                <a:cubicBezTo>
                  <a:pt x="190" y="601"/>
                  <a:pt x="190" y="602"/>
                  <a:pt x="190" y="602"/>
                </a:cubicBezTo>
                <a:cubicBezTo>
                  <a:pt x="191" y="603"/>
                  <a:pt x="191" y="603"/>
                  <a:pt x="192" y="604"/>
                </a:cubicBezTo>
                <a:cubicBezTo>
                  <a:pt x="193" y="604"/>
                  <a:pt x="194" y="605"/>
                  <a:pt x="195" y="606"/>
                </a:cubicBezTo>
                <a:cubicBezTo>
                  <a:pt x="196" y="607"/>
                  <a:pt x="196" y="607"/>
                  <a:pt x="196" y="607"/>
                </a:cubicBezTo>
                <a:cubicBezTo>
                  <a:pt x="196" y="607"/>
                  <a:pt x="197" y="608"/>
                  <a:pt x="198" y="608"/>
                </a:cubicBezTo>
                <a:cubicBezTo>
                  <a:pt x="199" y="609"/>
                  <a:pt x="199" y="609"/>
                  <a:pt x="200" y="610"/>
                </a:cubicBezTo>
                <a:cubicBezTo>
                  <a:pt x="201" y="610"/>
                  <a:pt x="201" y="610"/>
                  <a:pt x="201" y="610"/>
                </a:cubicBezTo>
                <a:cubicBezTo>
                  <a:pt x="201" y="611"/>
                  <a:pt x="201" y="611"/>
                  <a:pt x="201" y="611"/>
                </a:cubicBezTo>
                <a:cubicBezTo>
                  <a:pt x="202" y="611"/>
                  <a:pt x="202" y="611"/>
                  <a:pt x="202" y="611"/>
                </a:cubicBezTo>
                <a:cubicBezTo>
                  <a:pt x="203" y="612"/>
                  <a:pt x="203" y="612"/>
                  <a:pt x="203" y="612"/>
                </a:cubicBezTo>
                <a:cubicBezTo>
                  <a:pt x="204" y="612"/>
                  <a:pt x="204" y="613"/>
                  <a:pt x="205" y="613"/>
                </a:cubicBezTo>
                <a:cubicBezTo>
                  <a:pt x="205" y="613"/>
                  <a:pt x="205" y="613"/>
                  <a:pt x="205" y="613"/>
                </a:cubicBezTo>
                <a:cubicBezTo>
                  <a:pt x="206" y="613"/>
                  <a:pt x="206" y="613"/>
                  <a:pt x="206" y="613"/>
                </a:cubicBezTo>
                <a:cubicBezTo>
                  <a:pt x="206" y="613"/>
                  <a:pt x="206" y="613"/>
                  <a:pt x="206" y="613"/>
                </a:cubicBezTo>
                <a:cubicBezTo>
                  <a:pt x="207" y="614"/>
                  <a:pt x="207" y="614"/>
                  <a:pt x="207" y="614"/>
                </a:cubicBezTo>
                <a:cubicBezTo>
                  <a:pt x="207" y="614"/>
                  <a:pt x="207" y="614"/>
                  <a:pt x="207" y="614"/>
                </a:cubicBezTo>
                <a:cubicBezTo>
                  <a:pt x="208" y="615"/>
                  <a:pt x="208" y="615"/>
                  <a:pt x="208" y="615"/>
                </a:cubicBezTo>
                <a:cubicBezTo>
                  <a:pt x="209" y="615"/>
                  <a:pt x="209" y="615"/>
                  <a:pt x="209" y="615"/>
                </a:cubicBezTo>
                <a:cubicBezTo>
                  <a:pt x="209" y="615"/>
                  <a:pt x="209" y="615"/>
                  <a:pt x="209" y="615"/>
                </a:cubicBezTo>
                <a:cubicBezTo>
                  <a:pt x="209" y="615"/>
                  <a:pt x="209" y="615"/>
                  <a:pt x="209" y="615"/>
                </a:cubicBezTo>
                <a:cubicBezTo>
                  <a:pt x="210" y="615"/>
                  <a:pt x="210" y="615"/>
                  <a:pt x="210" y="615"/>
                </a:cubicBezTo>
                <a:cubicBezTo>
                  <a:pt x="210" y="615"/>
                  <a:pt x="210" y="615"/>
                  <a:pt x="210" y="615"/>
                </a:cubicBezTo>
                <a:cubicBezTo>
                  <a:pt x="211" y="616"/>
                  <a:pt x="211" y="616"/>
                  <a:pt x="211" y="616"/>
                </a:cubicBezTo>
                <a:cubicBezTo>
                  <a:pt x="212" y="616"/>
                  <a:pt x="212" y="616"/>
                  <a:pt x="212" y="616"/>
                </a:cubicBezTo>
                <a:cubicBezTo>
                  <a:pt x="213" y="616"/>
                  <a:pt x="213" y="616"/>
                  <a:pt x="213" y="616"/>
                </a:cubicBezTo>
                <a:cubicBezTo>
                  <a:pt x="213" y="616"/>
                  <a:pt x="213" y="616"/>
                  <a:pt x="213" y="616"/>
                </a:cubicBezTo>
                <a:cubicBezTo>
                  <a:pt x="213" y="616"/>
                  <a:pt x="213" y="616"/>
                  <a:pt x="213" y="616"/>
                </a:cubicBezTo>
                <a:cubicBezTo>
                  <a:pt x="213" y="616"/>
                  <a:pt x="213" y="616"/>
                  <a:pt x="213" y="616"/>
                </a:cubicBezTo>
                <a:cubicBezTo>
                  <a:pt x="213" y="616"/>
                  <a:pt x="213" y="616"/>
                  <a:pt x="213" y="616"/>
                </a:cubicBezTo>
                <a:cubicBezTo>
                  <a:pt x="214" y="617"/>
                  <a:pt x="214" y="617"/>
                  <a:pt x="214" y="617"/>
                </a:cubicBezTo>
                <a:cubicBezTo>
                  <a:pt x="215" y="617"/>
                  <a:pt x="215" y="617"/>
                  <a:pt x="215" y="617"/>
                </a:cubicBezTo>
                <a:cubicBezTo>
                  <a:pt x="215" y="617"/>
                  <a:pt x="215" y="617"/>
                  <a:pt x="215" y="617"/>
                </a:cubicBezTo>
                <a:cubicBezTo>
                  <a:pt x="216" y="617"/>
                  <a:pt x="216" y="617"/>
                  <a:pt x="216" y="617"/>
                </a:cubicBezTo>
                <a:cubicBezTo>
                  <a:pt x="216" y="617"/>
                  <a:pt x="216" y="617"/>
                  <a:pt x="216" y="617"/>
                </a:cubicBezTo>
                <a:cubicBezTo>
                  <a:pt x="217" y="617"/>
                  <a:pt x="217" y="617"/>
                  <a:pt x="217" y="617"/>
                </a:cubicBezTo>
                <a:cubicBezTo>
                  <a:pt x="218" y="617"/>
                  <a:pt x="218" y="617"/>
                  <a:pt x="218" y="617"/>
                </a:cubicBezTo>
                <a:cubicBezTo>
                  <a:pt x="218" y="618"/>
                  <a:pt x="218" y="618"/>
                  <a:pt x="218" y="618"/>
                </a:cubicBezTo>
                <a:cubicBezTo>
                  <a:pt x="218" y="618"/>
                  <a:pt x="218" y="618"/>
                  <a:pt x="218" y="618"/>
                </a:cubicBezTo>
                <a:cubicBezTo>
                  <a:pt x="218" y="618"/>
                  <a:pt x="218" y="618"/>
                  <a:pt x="218" y="618"/>
                </a:cubicBezTo>
                <a:cubicBezTo>
                  <a:pt x="219" y="618"/>
                  <a:pt x="219" y="618"/>
                  <a:pt x="219" y="618"/>
                </a:cubicBezTo>
                <a:cubicBezTo>
                  <a:pt x="220" y="618"/>
                  <a:pt x="220" y="618"/>
                  <a:pt x="220" y="618"/>
                </a:cubicBezTo>
                <a:cubicBezTo>
                  <a:pt x="221" y="618"/>
                  <a:pt x="221" y="618"/>
                  <a:pt x="221" y="618"/>
                </a:cubicBezTo>
                <a:cubicBezTo>
                  <a:pt x="221" y="618"/>
                  <a:pt x="221" y="618"/>
                  <a:pt x="221" y="618"/>
                </a:cubicBezTo>
                <a:cubicBezTo>
                  <a:pt x="221" y="618"/>
                  <a:pt x="221" y="618"/>
                  <a:pt x="221" y="618"/>
                </a:cubicBezTo>
                <a:cubicBezTo>
                  <a:pt x="222" y="618"/>
                  <a:pt x="222" y="619"/>
                  <a:pt x="223" y="619"/>
                </a:cubicBezTo>
                <a:cubicBezTo>
                  <a:pt x="223" y="619"/>
                  <a:pt x="223" y="619"/>
                  <a:pt x="224" y="619"/>
                </a:cubicBezTo>
                <a:cubicBezTo>
                  <a:pt x="224" y="619"/>
                  <a:pt x="224" y="619"/>
                  <a:pt x="224" y="619"/>
                </a:cubicBezTo>
                <a:cubicBezTo>
                  <a:pt x="224" y="619"/>
                  <a:pt x="224" y="619"/>
                  <a:pt x="224" y="619"/>
                </a:cubicBezTo>
                <a:cubicBezTo>
                  <a:pt x="225" y="619"/>
                  <a:pt x="225" y="619"/>
                  <a:pt x="225" y="619"/>
                </a:cubicBezTo>
                <a:cubicBezTo>
                  <a:pt x="225" y="619"/>
                  <a:pt x="226" y="619"/>
                  <a:pt x="226" y="619"/>
                </a:cubicBezTo>
                <a:cubicBezTo>
                  <a:pt x="227" y="619"/>
                  <a:pt x="227" y="619"/>
                  <a:pt x="228" y="619"/>
                </a:cubicBezTo>
                <a:cubicBezTo>
                  <a:pt x="228" y="619"/>
                  <a:pt x="228" y="619"/>
                  <a:pt x="228" y="619"/>
                </a:cubicBezTo>
                <a:cubicBezTo>
                  <a:pt x="228" y="620"/>
                  <a:pt x="228" y="620"/>
                  <a:pt x="228" y="620"/>
                </a:cubicBezTo>
                <a:cubicBezTo>
                  <a:pt x="228" y="620"/>
                  <a:pt x="229" y="620"/>
                  <a:pt x="229" y="620"/>
                </a:cubicBezTo>
                <a:cubicBezTo>
                  <a:pt x="230" y="620"/>
                  <a:pt x="230" y="620"/>
                  <a:pt x="231" y="620"/>
                </a:cubicBezTo>
                <a:cubicBezTo>
                  <a:pt x="231" y="620"/>
                  <a:pt x="231" y="620"/>
                  <a:pt x="231" y="620"/>
                </a:cubicBezTo>
                <a:cubicBezTo>
                  <a:pt x="232" y="620"/>
                  <a:pt x="232" y="620"/>
                  <a:pt x="232" y="620"/>
                </a:cubicBezTo>
                <a:cubicBezTo>
                  <a:pt x="232" y="620"/>
                  <a:pt x="232" y="620"/>
                  <a:pt x="232" y="620"/>
                </a:cubicBezTo>
                <a:cubicBezTo>
                  <a:pt x="233" y="620"/>
                  <a:pt x="234" y="620"/>
                  <a:pt x="234" y="620"/>
                </a:cubicBezTo>
                <a:cubicBezTo>
                  <a:pt x="235" y="620"/>
                  <a:pt x="235" y="620"/>
                  <a:pt x="235" y="620"/>
                </a:cubicBezTo>
                <a:cubicBezTo>
                  <a:pt x="236" y="621"/>
                  <a:pt x="236" y="621"/>
                  <a:pt x="236" y="621"/>
                </a:cubicBezTo>
                <a:cubicBezTo>
                  <a:pt x="236" y="621"/>
                  <a:pt x="236" y="621"/>
                  <a:pt x="236" y="621"/>
                </a:cubicBezTo>
                <a:cubicBezTo>
                  <a:pt x="237" y="621"/>
                  <a:pt x="238" y="621"/>
                  <a:pt x="239" y="621"/>
                </a:cubicBezTo>
                <a:cubicBezTo>
                  <a:pt x="239" y="621"/>
                  <a:pt x="239" y="621"/>
                  <a:pt x="240" y="621"/>
                </a:cubicBezTo>
                <a:cubicBezTo>
                  <a:pt x="240" y="621"/>
                  <a:pt x="240" y="621"/>
                  <a:pt x="240" y="621"/>
                </a:cubicBezTo>
                <a:cubicBezTo>
                  <a:pt x="241" y="621"/>
                  <a:pt x="241" y="621"/>
                  <a:pt x="241" y="621"/>
                </a:cubicBezTo>
                <a:cubicBezTo>
                  <a:pt x="241" y="621"/>
                  <a:pt x="241" y="621"/>
                  <a:pt x="241" y="621"/>
                </a:cubicBezTo>
                <a:cubicBezTo>
                  <a:pt x="242" y="621"/>
                  <a:pt x="243" y="621"/>
                  <a:pt x="244" y="621"/>
                </a:cubicBezTo>
                <a:cubicBezTo>
                  <a:pt x="245" y="621"/>
                  <a:pt x="245" y="621"/>
                  <a:pt x="245" y="621"/>
                </a:cubicBezTo>
                <a:cubicBezTo>
                  <a:pt x="246" y="621"/>
                  <a:pt x="246" y="621"/>
                  <a:pt x="246" y="621"/>
                </a:cubicBezTo>
                <a:cubicBezTo>
                  <a:pt x="246" y="621"/>
                  <a:pt x="246" y="621"/>
                  <a:pt x="247" y="622"/>
                </a:cubicBezTo>
                <a:cubicBezTo>
                  <a:pt x="248" y="622"/>
                  <a:pt x="249" y="622"/>
                  <a:pt x="250" y="622"/>
                </a:cubicBezTo>
                <a:cubicBezTo>
                  <a:pt x="250" y="622"/>
                  <a:pt x="250" y="622"/>
                  <a:pt x="250" y="622"/>
                </a:cubicBezTo>
                <a:cubicBezTo>
                  <a:pt x="251" y="622"/>
                  <a:pt x="251" y="622"/>
                  <a:pt x="251" y="622"/>
                </a:cubicBezTo>
                <a:cubicBezTo>
                  <a:pt x="252" y="622"/>
                  <a:pt x="253" y="622"/>
                  <a:pt x="253" y="622"/>
                </a:cubicBezTo>
                <a:cubicBezTo>
                  <a:pt x="254" y="622"/>
                  <a:pt x="255" y="622"/>
                  <a:pt x="255" y="622"/>
                </a:cubicBezTo>
                <a:cubicBezTo>
                  <a:pt x="256" y="622"/>
                  <a:pt x="256" y="622"/>
                  <a:pt x="257" y="622"/>
                </a:cubicBezTo>
                <a:cubicBezTo>
                  <a:pt x="258" y="622"/>
                  <a:pt x="258" y="622"/>
                  <a:pt x="258" y="622"/>
                </a:cubicBezTo>
                <a:cubicBezTo>
                  <a:pt x="259" y="622"/>
                  <a:pt x="260" y="622"/>
                  <a:pt x="261" y="622"/>
                </a:cubicBezTo>
                <a:cubicBezTo>
                  <a:pt x="262" y="622"/>
                  <a:pt x="262" y="622"/>
                  <a:pt x="263" y="622"/>
                </a:cubicBezTo>
                <a:cubicBezTo>
                  <a:pt x="263" y="622"/>
                  <a:pt x="263" y="622"/>
                  <a:pt x="263" y="622"/>
                </a:cubicBezTo>
                <a:cubicBezTo>
                  <a:pt x="265" y="622"/>
                  <a:pt x="266" y="622"/>
                  <a:pt x="268" y="622"/>
                </a:cubicBezTo>
                <a:cubicBezTo>
                  <a:pt x="268" y="622"/>
                  <a:pt x="268" y="622"/>
                  <a:pt x="268" y="622"/>
                </a:cubicBezTo>
                <a:cubicBezTo>
                  <a:pt x="269" y="623"/>
                  <a:pt x="270" y="623"/>
                  <a:pt x="271" y="623"/>
                </a:cubicBezTo>
                <a:cubicBezTo>
                  <a:pt x="272" y="623"/>
                  <a:pt x="273" y="623"/>
                  <a:pt x="273" y="623"/>
                </a:cubicBezTo>
                <a:cubicBezTo>
                  <a:pt x="274" y="623"/>
                  <a:pt x="274" y="623"/>
                  <a:pt x="275" y="623"/>
                </a:cubicBezTo>
                <a:cubicBezTo>
                  <a:pt x="276" y="623"/>
                  <a:pt x="276" y="623"/>
                  <a:pt x="277" y="623"/>
                </a:cubicBezTo>
                <a:cubicBezTo>
                  <a:pt x="278" y="623"/>
                  <a:pt x="278" y="623"/>
                  <a:pt x="278" y="623"/>
                </a:cubicBezTo>
                <a:cubicBezTo>
                  <a:pt x="279" y="623"/>
                  <a:pt x="281" y="623"/>
                  <a:pt x="282" y="623"/>
                </a:cubicBezTo>
                <a:cubicBezTo>
                  <a:pt x="283" y="623"/>
                  <a:pt x="283" y="623"/>
                  <a:pt x="283" y="623"/>
                </a:cubicBezTo>
                <a:cubicBezTo>
                  <a:pt x="284" y="623"/>
                  <a:pt x="284" y="623"/>
                  <a:pt x="284" y="623"/>
                </a:cubicBezTo>
                <a:cubicBezTo>
                  <a:pt x="285" y="623"/>
                  <a:pt x="286" y="623"/>
                  <a:pt x="287" y="623"/>
                </a:cubicBezTo>
                <a:cubicBezTo>
                  <a:pt x="288" y="623"/>
                  <a:pt x="290" y="623"/>
                  <a:pt x="292" y="623"/>
                </a:cubicBezTo>
                <a:cubicBezTo>
                  <a:pt x="293" y="623"/>
                  <a:pt x="294" y="623"/>
                  <a:pt x="295" y="623"/>
                </a:cubicBezTo>
                <a:cubicBezTo>
                  <a:pt x="296" y="623"/>
                  <a:pt x="297" y="623"/>
                  <a:pt x="298" y="623"/>
                </a:cubicBezTo>
                <a:cubicBezTo>
                  <a:pt x="299" y="623"/>
                  <a:pt x="301" y="623"/>
                  <a:pt x="302" y="623"/>
                </a:cubicBezTo>
                <a:cubicBezTo>
                  <a:pt x="303" y="623"/>
                  <a:pt x="304" y="623"/>
                  <a:pt x="305" y="623"/>
                </a:cubicBezTo>
                <a:cubicBezTo>
                  <a:pt x="331" y="622"/>
                  <a:pt x="368" y="622"/>
                  <a:pt x="410" y="621"/>
                </a:cubicBezTo>
                <a:cubicBezTo>
                  <a:pt x="452" y="621"/>
                  <a:pt x="498" y="621"/>
                  <a:pt x="542" y="621"/>
                </a:cubicBezTo>
                <a:cubicBezTo>
                  <a:pt x="585" y="620"/>
                  <a:pt x="626" y="620"/>
                  <a:pt x="657" y="620"/>
                </a:cubicBezTo>
                <a:cubicBezTo>
                  <a:pt x="688" y="620"/>
                  <a:pt x="709" y="620"/>
                  <a:pt x="713" y="620"/>
                </a:cubicBezTo>
                <a:cubicBezTo>
                  <a:pt x="1004" y="613"/>
                  <a:pt x="1004" y="613"/>
                  <a:pt x="1004" y="613"/>
                </a:cubicBezTo>
                <a:cubicBezTo>
                  <a:pt x="1022" y="422"/>
                  <a:pt x="1022" y="422"/>
                  <a:pt x="1022" y="422"/>
                </a:cubicBezTo>
                <a:cubicBezTo>
                  <a:pt x="1022" y="422"/>
                  <a:pt x="1022" y="422"/>
                  <a:pt x="1022" y="422"/>
                </a:cubicBezTo>
                <a:cubicBezTo>
                  <a:pt x="1023" y="422"/>
                  <a:pt x="1024" y="422"/>
                  <a:pt x="1025" y="422"/>
                </a:cubicBezTo>
                <a:cubicBezTo>
                  <a:pt x="1025" y="422"/>
                  <a:pt x="1025" y="422"/>
                  <a:pt x="1026" y="422"/>
                </a:cubicBezTo>
                <a:cubicBezTo>
                  <a:pt x="1026" y="422"/>
                  <a:pt x="1026" y="422"/>
                  <a:pt x="1026" y="422"/>
                </a:cubicBezTo>
                <a:cubicBezTo>
                  <a:pt x="1026" y="422"/>
                  <a:pt x="1026" y="422"/>
                  <a:pt x="1026" y="422"/>
                </a:cubicBezTo>
                <a:cubicBezTo>
                  <a:pt x="1027" y="423"/>
                  <a:pt x="1027" y="423"/>
                  <a:pt x="1027" y="423"/>
                </a:cubicBezTo>
                <a:cubicBezTo>
                  <a:pt x="1028" y="423"/>
                  <a:pt x="1028" y="423"/>
                  <a:pt x="1029" y="423"/>
                </a:cubicBezTo>
                <a:cubicBezTo>
                  <a:pt x="1030" y="423"/>
                  <a:pt x="1031" y="423"/>
                  <a:pt x="1031" y="423"/>
                </a:cubicBezTo>
                <a:cubicBezTo>
                  <a:pt x="1032" y="423"/>
                  <a:pt x="1033" y="423"/>
                  <a:pt x="1033" y="423"/>
                </a:cubicBezTo>
                <a:cubicBezTo>
                  <a:pt x="1034" y="424"/>
                  <a:pt x="1035" y="424"/>
                  <a:pt x="1036" y="424"/>
                </a:cubicBezTo>
                <a:cubicBezTo>
                  <a:pt x="1036" y="424"/>
                  <a:pt x="1037" y="424"/>
                  <a:pt x="1038" y="424"/>
                </a:cubicBezTo>
                <a:cubicBezTo>
                  <a:pt x="1038" y="424"/>
                  <a:pt x="1039" y="424"/>
                  <a:pt x="1040" y="424"/>
                </a:cubicBezTo>
                <a:cubicBezTo>
                  <a:pt x="1041" y="424"/>
                  <a:pt x="1041" y="424"/>
                  <a:pt x="1041" y="424"/>
                </a:cubicBezTo>
                <a:cubicBezTo>
                  <a:pt x="1041" y="424"/>
                  <a:pt x="1041" y="424"/>
                  <a:pt x="1041" y="424"/>
                </a:cubicBezTo>
                <a:cubicBezTo>
                  <a:pt x="1041" y="424"/>
                  <a:pt x="1041" y="424"/>
                  <a:pt x="1041" y="424"/>
                </a:cubicBezTo>
                <a:cubicBezTo>
                  <a:pt x="1042" y="424"/>
                  <a:pt x="1042" y="424"/>
                  <a:pt x="1042" y="424"/>
                </a:cubicBezTo>
                <a:cubicBezTo>
                  <a:pt x="1042" y="425"/>
                  <a:pt x="1043" y="425"/>
                  <a:pt x="1044" y="425"/>
                </a:cubicBezTo>
                <a:cubicBezTo>
                  <a:pt x="1045" y="425"/>
                  <a:pt x="1045" y="425"/>
                  <a:pt x="1046" y="425"/>
                </a:cubicBezTo>
                <a:cubicBezTo>
                  <a:pt x="1047" y="425"/>
                  <a:pt x="1047" y="425"/>
                  <a:pt x="1048" y="425"/>
                </a:cubicBezTo>
                <a:cubicBezTo>
                  <a:pt x="1049" y="425"/>
                  <a:pt x="1049" y="425"/>
                  <a:pt x="1050" y="425"/>
                </a:cubicBezTo>
                <a:cubicBezTo>
                  <a:pt x="1051" y="425"/>
                  <a:pt x="1051" y="425"/>
                  <a:pt x="1052" y="425"/>
                </a:cubicBezTo>
                <a:cubicBezTo>
                  <a:pt x="1053" y="425"/>
                  <a:pt x="1053" y="425"/>
                  <a:pt x="1054" y="425"/>
                </a:cubicBezTo>
                <a:cubicBezTo>
                  <a:pt x="1055" y="425"/>
                  <a:pt x="1055" y="425"/>
                  <a:pt x="1055" y="425"/>
                </a:cubicBezTo>
                <a:cubicBezTo>
                  <a:pt x="1055" y="425"/>
                  <a:pt x="1055" y="425"/>
                  <a:pt x="1055" y="425"/>
                </a:cubicBezTo>
                <a:cubicBezTo>
                  <a:pt x="1055" y="425"/>
                  <a:pt x="1055" y="425"/>
                  <a:pt x="1055" y="425"/>
                </a:cubicBezTo>
                <a:cubicBezTo>
                  <a:pt x="1056" y="426"/>
                  <a:pt x="1056" y="426"/>
                  <a:pt x="1056" y="426"/>
                </a:cubicBezTo>
                <a:cubicBezTo>
                  <a:pt x="1057" y="426"/>
                  <a:pt x="1057" y="426"/>
                  <a:pt x="1058" y="426"/>
                </a:cubicBezTo>
                <a:cubicBezTo>
                  <a:pt x="1059" y="426"/>
                  <a:pt x="1059" y="426"/>
                  <a:pt x="1060" y="426"/>
                </a:cubicBezTo>
                <a:cubicBezTo>
                  <a:pt x="1060" y="426"/>
                  <a:pt x="1061" y="426"/>
                  <a:pt x="1062" y="426"/>
                </a:cubicBezTo>
                <a:cubicBezTo>
                  <a:pt x="1062" y="426"/>
                  <a:pt x="1063" y="426"/>
                  <a:pt x="1064" y="426"/>
                </a:cubicBezTo>
                <a:cubicBezTo>
                  <a:pt x="1064" y="426"/>
                  <a:pt x="1064" y="426"/>
                  <a:pt x="1065" y="426"/>
                </a:cubicBezTo>
                <a:cubicBezTo>
                  <a:pt x="1065" y="426"/>
                  <a:pt x="1066" y="426"/>
                  <a:pt x="1066" y="426"/>
                </a:cubicBezTo>
                <a:cubicBezTo>
                  <a:pt x="1066" y="426"/>
                  <a:pt x="1067" y="426"/>
                  <a:pt x="1067" y="426"/>
                </a:cubicBezTo>
                <a:cubicBezTo>
                  <a:pt x="1068" y="426"/>
                  <a:pt x="1068" y="426"/>
                  <a:pt x="1068" y="426"/>
                </a:cubicBezTo>
                <a:cubicBezTo>
                  <a:pt x="1069" y="426"/>
                  <a:pt x="1069" y="426"/>
                  <a:pt x="1069" y="426"/>
                </a:cubicBezTo>
                <a:cubicBezTo>
                  <a:pt x="1070" y="426"/>
                  <a:pt x="1070" y="426"/>
                  <a:pt x="1070" y="426"/>
                </a:cubicBezTo>
                <a:cubicBezTo>
                  <a:pt x="1071" y="426"/>
                  <a:pt x="1071" y="426"/>
                  <a:pt x="1071" y="426"/>
                </a:cubicBezTo>
                <a:cubicBezTo>
                  <a:pt x="1072" y="426"/>
                  <a:pt x="1072" y="426"/>
                  <a:pt x="1072" y="426"/>
                </a:cubicBezTo>
                <a:cubicBezTo>
                  <a:pt x="1072" y="426"/>
                  <a:pt x="1073" y="426"/>
                  <a:pt x="1074" y="426"/>
                </a:cubicBezTo>
                <a:cubicBezTo>
                  <a:pt x="1074" y="426"/>
                  <a:pt x="1075" y="426"/>
                  <a:pt x="1076" y="426"/>
                </a:cubicBezTo>
                <a:cubicBezTo>
                  <a:pt x="1076" y="426"/>
                  <a:pt x="1076" y="426"/>
                  <a:pt x="1077" y="426"/>
                </a:cubicBezTo>
                <a:cubicBezTo>
                  <a:pt x="1077" y="426"/>
                  <a:pt x="1077" y="426"/>
                  <a:pt x="1077" y="426"/>
                </a:cubicBezTo>
                <a:cubicBezTo>
                  <a:pt x="1078" y="426"/>
                  <a:pt x="1078" y="426"/>
                  <a:pt x="1078" y="426"/>
                </a:cubicBezTo>
                <a:cubicBezTo>
                  <a:pt x="1078" y="425"/>
                  <a:pt x="1079" y="425"/>
                  <a:pt x="1080" y="425"/>
                </a:cubicBezTo>
                <a:cubicBezTo>
                  <a:pt x="1080" y="425"/>
                  <a:pt x="1081" y="425"/>
                  <a:pt x="1082" y="425"/>
                </a:cubicBezTo>
                <a:cubicBezTo>
                  <a:pt x="1082" y="425"/>
                  <a:pt x="1083" y="425"/>
                  <a:pt x="1084" y="425"/>
                </a:cubicBezTo>
                <a:cubicBezTo>
                  <a:pt x="1084" y="425"/>
                  <a:pt x="1085" y="425"/>
                  <a:pt x="1085" y="425"/>
                </a:cubicBezTo>
                <a:cubicBezTo>
                  <a:pt x="1085" y="425"/>
                  <a:pt x="1085" y="425"/>
                  <a:pt x="1085" y="425"/>
                </a:cubicBezTo>
                <a:cubicBezTo>
                  <a:pt x="1086" y="425"/>
                  <a:pt x="1086" y="425"/>
                  <a:pt x="1086" y="425"/>
                </a:cubicBezTo>
                <a:cubicBezTo>
                  <a:pt x="1087" y="425"/>
                  <a:pt x="1087" y="425"/>
                  <a:pt x="1088" y="425"/>
                </a:cubicBezTo>
                <a:cubicBezTo>
                  <a:pt x="1089" y="425"/>
                  <a:pt x="1089" y="425"/>
                  <a:pt x="1090" y="425"/>
                </a:cubicBezTo>
                <a:cubicBezTo>
                  <a:pt x="1091" y="424"/>
                  <a:pt x="1092" y="424"/>
                  <a:pt x="1093" y="424"/>
                </a:cubicBezTo>
                <a:cubicBezTo>
                  <a:pt x="1093" y="424"/>
                  <a:pt x="1093" y="424"/>
                  <a:pt x="1093" y="424"/>
                </a:cubicBezTo>
                <a:cubicBezTo>
                  <a:pt x="1093" y="424"/>
                  <a:pt x="1093" y="424"/>
                  <a:pt x="1093" y="424"/>
                </a:cubicBezTo>
                <a:cubicBezTo>
                  <a:pt x="1094" y="424"/>
                  <a:pt x="1094" y="424"/>
                  <a:pt x="1095" y="424"/>
                </a:cubicBezTo>
                <a:cubicBezTo>
                  <a:pt x="1096" y="424"/>
                  <a:pt x="1097" y="424"/>
                  <a:pt x="1097" y="424"/>
                </a:cubicBezTo>
                <a:cubicBezTo>
                  <a:pt x="1098" y="423"/>
                  <a:pt x="1100" y="423"/>
                  <a:pt x="1101" y="423"/>
                </a:cubicBezTo>
                <a:cubicBezTo>
                  <a:pt x="1102" y="423"/>
                  <a:pt x="1103" y="423"/>
                  <a:pt x="1104" y="422"/>
                </a:cubicBezTo>
                <a:cubicBezTo>
                  <a:pt x="1105" y="422"/>
                  <a:pt x="1106" y="422"/>
                  <a:pt x="1107" y="422"/>
                </a:cubicBezTo>
                <a:cubicBezTo>
                  <a:pt x="1107" y="422"/>
                  <a:pt x="1107" y="422"/>
                  <a:pt x="1107" y="422"/>
                </a:cubicBezTo>
                <a:cubicBezTo>
                  <a:pt x="1108" y="422"/>
                  <a:pt x="1108" y="422"/>
                  <a:pt x="1108" y="422"/>
                </a:cubicBezTo>
                <a:cubicBezTo>
                  <a:pt x="1109" y="421"/>
                  <a:pt x="1109" y="421"/>
                  <a:pt x="1110" y="421"/>
                </a:cubicBezTo>
                <a:cubicBezTo>
                  <a:pt x="1111" y="421"/>
                  <a:pt x="1111" y="421"/>
                  <a:pt x="1112" y="421"/>
                </a:cubicBezTo>
                <a:cubicBezTo>
                  <a:pt x="1113" y="420"/>
                  <a:pt x="1115" y="420"/>
                  <a:pt x="1117" y="419"/>
                </a:cubicBezTo>
                <a:cubicBezTo>
                  <a:pt x="1117" y="419"/>
                  <a:pt x="1118" y="419"/>
                  <a:pt x="1118" y="419"/>
                </a:cubicBezTo>
                <a:cubicBezTo>
                  <a:pt x="1119" y="419"/>
                  <a:pt x="1119" y="419"/>
                  <a:pt x="1119" y="419"/>
                </a:cubicBezTo>
                <a:cubicBezTo>
                  <a:pt x="1121" y="418"/>
                  <a:pt x="1122" y="417"/>
                  <a:pt x="1124" y="417"/>
                </a:cubicBezTo>
                <a:cubicBezTo>
                  <a:pt x="1125" y="417"/>
                  <a:pt x="1125" y="417"/>
                  <a:pt x="1125" y="416"/>
                </a:cubicBezTo>
                <a:cubicBezTo>
                  <a:pt x="1126" y="416"/>
                  <a:pt x="1126" y="416"/>
                  <a:pt x="1126" y="416"/>
                </a:cubicBezTo>
                <a:cubicBezTo>
                  <a:pt x="1126" y="416"/>
                  <a:pt x="1126" y="416"/>
                  <a:pt x="1126" y="416"/>
                </a:cubicBezTo>
                <a:cubicBezTo>
                  <a:pt x="1128" y="415"/>
                  <a:pt x="1130" y="414"/>
                  <a:pt x="1132" y="414"/>
                </a:cubicBezTo>
                <a:cubicBezTo>
                  <a:pt x="1132" y="414"/>
                  <a:pt x="1132" y="414"/>
                  <a:pt x="1132" y="414"/>
                </a:cubicBezTo>
                <a:cubicBezTo>
                  <a:pt x="1132" y="413"/>
                  <a:pt x="1133" y="413"/>
                  <a:pt x="1133" y="413"/>
                </a:cubicBezTo>
                <a:cubicBezTo>
                  <a:pt x="1134" y="412"/>
                  <a:pt x="1136" y="412"/>
                  <a:pt x="1137" y="411"/>
                </a:cubicBezTo>
                <a:cubicBezTo>
                  <a:pt x="1138" y="410"/>
                  <a:pt x="1138" y="410"/>
                  <a:pt x="1138" y="410"/>
                </a:cubicBezTo>
                <a:cubicBezTo>
                  <a:pt x="1138" y="410"/>
                  <a:pt x="1139" y="410"/>
                  <a:pt x="1140" y="409"/>
                </a:cubicBezTo>
                <a:cubicBezTo>
                  <a:pt x="1140" y="409"/>
                  <a:pt x="1140" y="409"/>
                  <a:pt x="1140" y="409"/>
                </a:cubicBezTo>
                <a:cubicBezTo>
                  <a:pt x="1141" y="409"/>
                  <a:pt x="1141" y="409"/>
                  <a:pt x="1141" y="409"/>
                </a:cubicBezTo>
                <a:cubicBezTo>
                  <a:pt x="1141" y="408"/>
                  <a:pt x="1142" y="408"/>
                  <a:pt x="1142" y="408"/>
                </a:cubicBezTo>
                <a:cubicBezTo>
                  <a:pt x="1143" y="407"/>
                  <a:pt x="1143" y="407"/>
                  <a:pt x="1144" y="406"/>
                </a:cubicBezTo>
                <a:cubicBezTo>
                  <a:pt x="1144" y="406"/>
                  <a:pt x="1144" y="406"/>
                  <a:pt x="1144" y="406"/>
                </a:cubicBezTo>
                <a:cubicBezTo>
                  <a:pt x="1144" y="406"/>
                  <a:pt x="1144" y="406"/>
                  <a:pt x="1144" y="406"/>
                </a:cubicBezTo>
                <a:cubicBezTo>
                  <a:pt x="1144" y="406"/>
                  <a:pt x="1144" y="406"/>
                  <a:pt x="1144" y="406"/>
                </a:cubicBezTo>
                <a:cubicBezTo>
                  <a:pt x="1145" y="406"/>
                  <a:pt x="1145" y="405"/>
                  <a:pt x="1146" y="405"/>
                </a:cubicBezTo>
                <a:cubicBezTo>
                  <a:pt x="1146" y="405"/>
                  <a:pt x="1146" y="405"/>
                  <a:pt x="1146" y="405"/>
                </a:cubicBezTo>
                <a:cubicBezTo>
                  <a:pt x="1146" y="404"/>
                  <a:pt x="1147" y="404"/>
                  <a:pt x="1147" y="404"/>
                </a:cubicBezTo>
                <a:cubicBezTo>
                  <a:pt x="1147" y="403"/>
                  <a:pt x="1147" y="403"/>
                  <a:pt x="1147" y="403"/>
                </a:cubicBezTo>
                <a:cubicBezTo>
                  <a:pt x="1147" y="403"/>
                  <a:pt x="1147" y="403"/>
                  <a:pt x="1147" y="403"/>
                </a:cubicBezTo>
                <a:cubicBezTo>
                  <a:pt x="1148" y="403"/>
                  <a:pt x="1148" y="403"/>
                  <a:pt x="1148" y="403"/>
                </a:cubicBezTo>
                <a:cubicBezTo>
                  <a:pt x="1149" y="402"/>
                  <a:pt x="1149" y="402"/>
                  <a:pt x="1149" y="402"/>
                </a:cubicBezTo>
                <a:cubicBezTo>
                  <a:pt x="1150" y="400"/>
                  <a:pt x="1150" y="400"/>
                  <a:pt x="1150" y="400"/>
                </a:cubicBezTo>
                <a:cubicBezTo>
                  <a:pt x="1150" y="400"/>
                  <a:pt x="1150" y="400"/>
                  <a:pt x="1150" y="400"/>
                </a:cubicBezTo>
                <a:cubicBezTo>
                  <a:pt x="1150" y="400"/>
                  <a:pt x="1150" y="400"/>
                  <a:pt x="1150" y="400"/>
                </a:cubicBezTo>
                <a:cubicBezTo>
                  <a:pt x="1150" y="400"/>
                  <a:pt x="1150" y="400"/>
                  <a:pt x="1150" y="400"/>
                </a:cubicBezTo>
                <a:cubicBezTo>
                  <a:pt x="1151" y="399"/>
                  <a:pt x="1151" y="399"/>
                  <a:pt x="1151" y="399"/>
                </a:cubicBezTo>
                <a:cubicBezTo>
                  <a:pt x="1151" y="398"/>
                  <a:pt x="1151" y="398"/>
                  <a:pt x="1151" y="398"/>
                </a:cubicBezTo>
                <a:cubicBezTo>
                  <a:pt x="1152" y="397"/>
                  <a:pt x="1152" y="397"/>
                  <a:pt x="1152" y="397"/>
                </a:cubicBezTo>
                <a:cubicBezTo>
                  <a:pt x="1152" y="397"/>
                  <a:pt x="1152" y="397"/>
                  <a:pt x="1152" y="397"/>
                </a:cubicBezTo>
                <a:cubicBezTo>
                  <a:pt x="1152" y="397"/>
                  <a:pt x="1152" y="397"/>
                  <a:pt x="1152" y="397"/>
                </a:cubicBezTo>
                <a:cubicBezTo>
                  <a:pt x="1152" y="397"/>
                  <a:pt x="1152" y="397"/>
                  <a:pt x="1152" y="397"/>
                </a:cubicBezTo>
                <a:cubicBezTo>
                  <a:pt x="1153" y="396"/>
                  <a:pt x="1153" y="396"/>
                  <a:pt x="1153" y="396"/>
                </a:cubicBezTo>
                <a:cubicBezTo>
                  <a:pt x="1153" y="395"/>
                  <a:pt x="1153" y="395"/>
                  <a:pt x="1153" y="395"/>
                </a:cubicBezTo>
                <a:cubicBezTo>
                  <a:pt x="1153" y="394"/>
                  <a:pt x="1153" y="394"/>
                  <a:pt x="1153" y="394"/>
                </a:cubicBezTo>
                <a:cubicBezTo>
                  <a:pt x="1153" y="394"/>
                  <a:pt x="1153" y="394"/>
                  <a:pt x="1153" y="394"/>
                </a:cubicBezTo>
                <a:cubicBezTo>
                  <a:pt x="1154" y="394"/>
                  <a:pt x="1154" y="394"/>
                  <a:pt x="1154" y="394"/>
                </a:cubicBezTo>
                <a:cubicBezTo>
                  <a:pt x="1154" y="394"/>
                  <a:pt x="1154" y="394"/>
                  <a:pt x="1154" y="394"/>
                </a:cubicBezTo>
                <a:cubicBezTo>
                  <a:pt x="1154" y="394"/>
                  <a:pt x="1154" y="394"/>
                  <a:pt x="1154" y="394"/>
                </a:cubicBezTo>
                <a:cubicBezTo>
                  <a:pt x="1154" y="394"/>
                  <a:pt x="1154" y="393"/>
                  <a:pt x="1154" y="393"/>
                </a:cubicBezTo>
                <a:cubicBezTo>
                  <a:pt x="1154" y="393"/>
                  <a:pt x="1154" y="392"/>
                  <a:pt x="1154" y="392"/>
                </a:cubicBezTo>
                <a:cubicBezTo>
                  <a:pt x="1154" y="391"/>
                  <a:pt x="1155" y="391"/>
                  <a:pt x="1155" y="391"/>
                </a:cubicBezTo>
                <a:cubicBezTo>
                  <a:pt x="1155" y="390"/>
                  <a:pt x="1155" y="390"/>
                  <a:pt x="1155" y="390"/>
                </a:cubicBezTo>
                <a:cubicBezTo>
                  <a:pt x="1155" y="389"/>
                  <a:pt x="1155" y="389"/>
                  <a:pt x="1155" y="389"/>
                </a:cubicBezTo>
                <a:cubicBezTo>
                  <a:pt x="1155" y="389"/>
                  <a:pt x="1155" y="389"/>
                  <a:pt x="1155" y="389"/>
                </a:cubicBezTo>
                <a:cubicBezTo>
                  <a:pt x="1155" y="389"/>
                  <a:pt x="1155" y="389"/>
                  <a:pt x="1155" y="389"/>
                </a:cubicBezTo>
                <a:cubicBezTo>
                  <a:pt x="1155" y="388"/>
                  <a:pt x="1155" y="388"/>
                  <a:pt x="1155" y="388"/>
                </a:cubicBezTo>
                <a:cubicBezTo>
                  <a:pt x="1155" y="388"/>
                  <a:pt x="1156" y="387"/>
                  <a:pt x="1156" y="387"/>
                </a:cubicBezTo>
                <a:cubicBezTo>
                  <a:pt x="1156" y="386"/>
                  <a:pt x="1156" y="386"/>
                  <a:pt x="1156" y="386"/>
                </a:cubicBezTo>
                <a:cubicBezTo>
                  <a:pt x="1156" y="386"/>
                  <a:pt x="1156" y="386"/>
                  <a:pt x="1156" y="386"/>
                </a:cubicBezTo>
                <a:cubicBezTo>
                  <a:pt x="1156" y="386"/>
                  <a:pt x="1156" y="386"/>
                  <a:pt x="1156" y="386"/>
                </a:cubicBezTo>
                <a:cubicBezTo>
                  <a:pt x="1156" y="386"/>
                  <a:pt x="1156" y="386"/>
                  <a:pt x="1156" y="386"/>
                </a:cubicBezTo>
                <a:cubicBezTo>
                  <a:pt x="1156" y="385"/>
                  <a:pt x="1156" y="385"/>
                  <a:pt x="1156" y="384"/>
                </a:cubicBezTo>
                <a:cubicBezTo>
                  <a:pt x="1156" y="384"/>
                  <a:pt x="1156" y="384"/>
                  <a:pt x="1156" y="384"/>
                </a:cubicBezTo>
                <a:cubicBezTo>
                  <a:pt x="1156" y="384"/>
                  <a:pt x="1156" y="384"/>
                  <a:pt x="1156" y="384"/>
                </a:cubicBezTo>
                <a:cubicBezTo>
                  <a:pt x="1156" y="384"/>
                  <a:pt x="1156" y="384"/>
                  <a:pt x="1156" y="384"/>
                </a:cubicBezTo>
                <a:cubicBezTo>
                  <a:pt x="1156" y="384"/>
                  <a:pt x="1156" y="384"/>
                  <a:pt x="1156" y="384"/>
                </a:cubicBezTo>
                <a:cubicBezTo>
                  <a:pt x="1177" y="190"/>
                  <a:pt x="1177" y="190"/>
                  <a:pt x="1177" y="190"/>
                </a:cubicBezTo>
                <a:cubicBezTo>
                  <a:pt x="1177" y="191"/>
                  <a:pt x="1177" y="192"/>
                  <a:pt x="1177" y="192"/>
                </a:cubicBezTo>
                <a:close/>
              </a:path>
            </a:pathLst>
          </a:custGeom>
          <a:gradFill rotWithShape="0">
            <a:gsLst>
              <a:gs pos="0">
                <a:srgbClr val="292929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Freeform 18"/>
          <p:cNvSpPr/>
          <p:nvPr/>
        </p:nvSpPr>
        <p:spPr>
          <a:xfrm flipH="1">
            <a:off x="6387480" y="2546280"/>
            <a:ext cx="772920" cy="166680"/>
          </a:xfrm>
          <a:custGeom>
            <a:avLst/>
            <a:gdLst/>
            <a:ahLst/>
            <a:rect l="l" t="t" r="r" b="b"/>
            <a:pathLst>
              <a:path w="523" h="113">
                <a:moveTo>
                  <a:pt x="4" y="111"/>
                </a:moveTo>
                <a:cubicBezTo>
                  <a:pt x="6" y="112"/>
                  <a:pt x="10" y="112"/>
                  <a:pt x="17" y="112"/>
                </a:cubicBezTo>
                <a:cubicBezTo>
                  <a:pt x="24" y="113"/>
                  <a:pt x="34" y="113"/>
                  <a:pt x="47" y="113"/>
                </a:cubicBezTo>
                <a:cubicBezTo>
                  <a:pt x="47" y="113"/>
                  <a:pt x="48" y="113"/>
                  <a:pt x="48" y="113"/>
                </a:cubicBezTo>
                <a:cubicBezTo>
                  <a:pt x="49" y="113"/>
                  <a:pt x="49" y="113"/>
                  <a:pt x="50" y="113"/>
                </a:cubicBezTo>
                <a:cubicBezTo>
                  <a:pt x="50" y="113"/>
                  <a:pt x="51" y="113"/>
                  <a:pt x="52" y="113"/>
                </a:cubicBezTo>
                <a:cubicBezTo>
                  <a:pt x="52" y="113"/>
                  <a:pt x="53" y="113"/>
                  <a:pt x="53" y="113"/>
                </a:cubicBezTo>
                <a:cubicBezTo>
                  <a:pt x="71" y="112"/>
                  <a:pt x="105" y="112"/>
                  <a:pt x="147" y="111"/>
                </a:cubicBezTo>
                <a:cubicBezTo>
                  <a:pt x="189" y="111"/>
                  <a:pt x="239" y="110"/>
                  <a:pt x="286" y="109"/>
                </a:cubicBezTo>
                <a:cubicBezTo>
                  <a:pt x="334" y="109"/>
                  <a:pt x="381" y="108"/>
                  <a:pt x="416" y="108"/>
                </a:cubicBezTo>
                <a:cubicBezTo>
                  <a:pt x="451" y="107"/>
                  <a:pt x="476" y="107"/>
                  <a:pt x="481" y="107"/>
                </a:cubicBezTo>
                <a:cubicBezTo>
                  <a:pt x="481" y="107"/>
                  <a:pt x="481" y="107"/>
                  <a:pt x="482" y="107"/>
                </a:cubicBezTo>
                <a:cubicBezTo>
                  <a:pt x="483" y="107"/>
                  <a:pt x="483" y="107"/>
                  <a:pt x="483" y="107"/>
                </a:cubicBezTo>
                <a:cubicBezTo>
                  <a:pt x="484" y="107"/>
                  <a:pt x="484" y="107"/>
                  <a:pt x="484" y="107"/>
                </a:cubicBezTo>
                <a:cubicBezTo>
                  <a:pt x="485" y="107"/>
                  <a:pt x="485" y="107"/>
                  <a:pt x="485" y="107"/>
                </a:cubicBezTo>
                <a:cubicBezTo>
                  <a:pt x="489" y="107"/>
                  <a:pt x="493" y="107"/>
                  <a:pt x="496" y="106"/>
                </a:cubicBezTo>
                <a:cubicBezTo>
                  <a:pt x="500" y="106"/>
                  <a:pt x="503" y="106"/>
                  <a:pt x="505" y="105"/>
                </a:cubicBezTo>
                <a:cubicBezTo>
                  <a:pt x="508" y="104"/>
                  <a:pt x="510" y="103"/>
                  <a:pt x="511" y="102"/>
                </a:cubicBezTo>
                <a:cubicBezTo>
                  <a:pt x="513" y="101"/>
                  <a:pt x="514" y="99"/>
                  <a:pt x="514" y="97"/>
                </a:cubicBezTo>
                <a:cubicBezTo>
                  <a:pt x="515" y="94"/>
                  <a:pt x="516" y="92"/>
                  <a:pt x="517" y="89"/>
                </a:cubicBezTo>
                <a:cubicBezTo>
                  <a:pt x="517" y="86"/>
                  <a:pt x="518" y="83"/>
                  <a:pt x="518" y="80"/>
                </a:cubicBezTo>
                <a:cubicBezTo>
                  <a:pt x="519" y="77"/>
                  <a:pt x="519" y="74"/>
                  <a:pt x="518" y="72"/>
                </a:cubicBezTo>
                <a:cubicBezTo>
                  <a:pt x="517" y="71"/>
                  <a:pt x="516" y="69"/>
                  <a:pt x="513" y="69"/>
                </a:cubicBezTo>
                <a:cubicBezTo>
                  <a:pt x="512" y="69"/>
                  <a:pt x="511" y="69"/>
                  <a:pt x="510" y="69"/>
                </a:cubicBezTo>
                <a:cubicBezTo>
                  <a:pt x="509" y="68"/>
                  <a:pt x="507" y="68"/>
                  <a:pt x="506" y="68"/>
                </a:cubicBezTo>
                <a:cubicBezTo>
                  <a:pt x="504" y="68"/>
                  <a:pt x="503" y="68"/>
                  <a:pt x="501" y="68"/>
                </a:cubicBezTo>
                <a:cubicBezTo>
                  <a:pt x="500" y="68"/>
                  <a:pt x="498" y="68"/>
                  <a:pt x="497" y="68"/>
                </a:cubicBezTo>
                <a:cubicBezTo>
                  <a:pt x="495" y="68"/>
                  <a:pt x="492" y="68"/>
                  <a:pt x="490" y="68"/>
                </a:cubicBezTo>
                <a:cubicBezTo>
                  <a:pt x="487" y="69"/>
                  <a:pt x="485" y="69"/>
                  <a:pt x="483" y="69"/>
                </a:cubicBezTo>
                <a:cubicBezTo>
                  <a:pt x="480" y="69"/>
                  <a:pt x="478" y="70"/>
                  <a:pt x="476" y="70"/>
                </a:cubicBezTo>
                <a:cubicBezTo>
                  <a:pt x="473" y="71"/>
                  <a:pt x="471" y="71"/>
                  <a:pt x="469" y="72"/>
                </a:cubicBezTo>
                <a:cubicBezTo>
                  <a:pt x="467" y="72"/>
                  <a:pt x="465" y="73"/>
                  <a:pt x="462" y="73"/>
                </a:cubicBezTo>
                <a:cubicBezTo>
                  <a:pt x="460" y="74"/>
                  <a:pt x="457" y="74"/>
                  <a:pt x="454" y="74"/>
                </a:cubicBezTo>
                <a:cubicBezTo>
                  <a:pt x="451" y="75"/>
                  <a:pt x="447" y="75"/>
                  <a:pt x="444" y="75"/>
                </a:cubicBezTo>
                <a:cubicBezTo>
                  <a:pt x="440" y="75"/>
                  <a:pt x="437" y="76"/>
                  <a:pt x="433" y="76"/>
                </a:cubicBezTo>
                <a:cubicBezTo>
                  <a:pt x="429" y="76"/>
                  <a:pt x="425" y="76"/>
                  <a:pt x="421" y="75"/>
                </a:cubicBezTo>
                <a:cubicBezTo>
                  <a:pt x="417" y="75"/>
                  <a:pt x="413" y="75"/>
                  <a:pt x="409" y="75"/>
                </a:cubicBezTo>
                <a:cubicBezTo>
                  <a:pt x="406" y="74"/>
                  <a:pt x="403" y="73"/>
                  <a:pt x="401" y="73"/>
                </a:cubicBezTo>
                <a:cubicBezTo>
                  <a:pt x="399" y="72"/>
                  <a:pt x="397" y="71"/>
                  <a:pt x="397" y="70"/>
                </a:cubicBezTo>
                <a:cubicBezTo>
                  <a:pt x="395" y="68"/>
                  <a:pt x="395" y="65"/>
                  <a:pt x="396" y="63"/>
                </a:cubicBezTo>
                <a:cubicBezTo>
                  <a:pt x="397" y="61"/>
                  <a:pt x="400" y="59"/>
                  <a:pt x="403" y="57"/>
                </a:cubicBezTo>
                <a:cubicBezTo>
                  <a:pt x="406" y="54"/>
                  <a:pt x="410" y="53"/>
                  <a:pt x="416" y="51"/>
                </a:cubicBezTo>
                <a:cubicBezTo>
                  <a:pt x="421" y="49"/>
                  <a:pt x="428" y="48"/>
                  <a:pt x="436" y="48"/>
                </a:cubicBezTo>
                <a:cubicBezTo>
                  <a:pt x="443" y="47"/>
                  <a:pt x="451" y="47"/>
                  <a:pt x="459" y="46"/>
                </a:cubicBezTo>
                <a:cubicBezTo>
                  <a:pt x="467" y="46"/>
                  <a:pt x="474" y="46"/>
                  <a:pt x="481" y="45"/>
                </a:cubicBezTo>
                <a:cubicBezTo>
                  <a:pt x="488" y="45"/>
                  <a:pt x="495" y="44"/>
                  <a:pt x="500" y="44"/>
                </a:cubicBezTo>
                <a:cubicBezTo>
                  <a:pt x="506" y="43"/>
                  <a:pt x="510" y="42"/>
                  <a:pt x="513" y="41"/>
                </a:cubicBezTo>
                <a:cubicBezTo>
                  <a:pt x="516" y="40"/>
                  <a:pt x="518" y="38"/>
                  <a:pt x="519" y="36"/>
                </a:cubicBezTo>
                <a:cubicBezTo>
                  <a:pt x="521" y="35"/>
                  <a:pt x="522" y="33"/>
                  <a:pt x="522" y="31"/>
                </a:cubicBezTo>
                <a:cubicBezTo>
                  <a:pt x="523" y="29"/>
                  <a:pt x="523" y="27"/>
                  <a:pt x="523" y="25"/>
                </a:cubicBezTo>
                <a:cubicBezTo>
                  <a:pt x="522" y="23"/>
                  <a:pt x="522" y="22"/>
                  <a:pt x="521" y="20"/>
                </a:cubicBezTo>
                <a:cubicBezTo>
                  <a:pt x="520" y="19"/>
                  <a:pt x="520" y="18"/>
                  <a:pt x="519" y="17"/>
                </a:cubicBezTo>
                <a:cubicBezTo>
                  <a:pt x="518" y="16"/>
                  <a:pt x="517" y="15"/>
                  <a:pt x="517" y="14"/>
                </a:cubicBezTo>
                <a:cubicBezTo>
                  <a:pt x="516" y="14"/>
                  <a:pt x="516" y="13"/>
                  <a:pt x="515" y="13"/>
                </a:cubicBezTo>
                <a:cubicBezTo>
                  <a:pt x="515" y="12"/>
                  <a:pt x="515" y="12"/>
                  <a:pt x="515" y="12"/>
                </a:cubicBezTo>
                <a:cubicBezTo>
                  <a:pt x="513" y="12"/>
                  <a:pt x="506" y="13"/>
                  <a:pt x="494" y="14"/>
                </a:cubicBezTo>
                <a:cubicBezTo>
                  <a:pt x="483" y="15"/>
                  <a:pt x="468" y="17"/>
                  <a:pt x="452" y="18"/>
                </a:cubicBezTo>
                <a:cubicBezTo>
                  <a:pt x="437" y="19"/>
                  <a:pt x="420" y="21"/>
                  <a:pt x="406" y="22"/>
                </a:cubicBezTo>
                <a:cubicBezTo>
                  <a:pt x="392" y="23"/>
                  <a:pt x="380" y="24"/>
                  <a:pt x="374" y="24"/>
                </a:cubicBezTo>
                <a:cubicBezTo>
                  <a:pt x="373" y="24"/>
                  <a:pt x="373" y="24"/>
                  <a:pt x="373" y="24"/>
                </a:cubicBezTo>
                <a:cubicBezTo>
                  <a:pt x="372" y="24"/>
                  <a:pt x="372" y="24"/>
                  <a:pt x="372" y="24"/>
                </a:cubicBezTo>
                <a:cubicBezTo>
                  <a:pt x="371" y="24"/>
                  <a:pt x="371" y="24"/>
                  <a:pt x="371" y="24"/>
                </a:cubicBezTo>
                <a:cubicBezTo>
                  <a:pt x="370" y="24"/>
                  <a:pt x="370" y="24"/>
                  <a:pt x="370" y="24"/>
                </a:cubicBezTo>
                <a:cubicBezTo>
                  <a:pt x="366" y="24"/>
                  <a:pt x="362" y="23"/>
                  <a:pt x="359" y="23"/>
                </a:cubicBezTo>
                <a:cubicBezTo>
                  <a:pt x="355" y="22"/>
                  <a:pt x="353" y="22"/>
                  <a:pt x="351" y="21"/>
                </a:cubicBezTo>
                <a:cubicBezTo>
                  <a:pt x="350" y="20"/>
                  <a:pt x="349" y="20"/>
                  <a:pt x="349" y="19"/>
                </a:cubicBezTo>
                <a:cubicBezTo>
                  <a:pt x="349" y="18"/>
                  <a:pt x="350" y="17"/>
                  <a:pt x="352" y="16"/>
                </a:cubicBezTo>
                <a:cubicBezTo>
                  <a:pt x="354" y="15"/>
                  <a:pt x="357" y="14"/>
                  <a:pt x="361" y="13"/>
                </a:cubicBezTo>
                <a:cubicBezTo>
                  <a:pt x="364" y="12"/>
                  <a:pt x="368" y="10"/>
                  <a:pt x="370" y="9"/>
                </a:cubicBezTo>
                <a:cubicBezTo>
                  <a:pt x="373" y="7"/>
                  <a:pt x="375" y="6"/>
                  <a:pt x="374" y="5"/>
                </a:cubicBezTo>
                <a:cubicBezTo>
                  <a:pt x="374" y="3"/>
                  <a:pt x="372" y="2"/>
                  <a:pt x="367" y="1"/>
                </a:cubicBezTo>
                <a:cubicBezTo>
                  <a:pt x="365" y="1"/>
                  <a:pt x="363" y="1"/>
                  <a:pt x="360" y="0"/>
                </a:cubicBezTo>
                <a:cubicBezTo>
                  <a:pt x="358" y="0"/>
                  <a:pt x="355" y="0"/>
                  <a:pt x="352" y="0"/>
                </a:cubicBezTo>
                <a:cubicBezTo>
                  <a:pt x="349" y="0"/>
                  <a:pt x="346" y="0"/>
                  <a:pt x="342" y="0"/>
                </a:cubicBezTo>
                <a:cubicBezTo>
                  <a:pt x="339" y="0"/>
                  <a:pt x="335" y="0"/>
                  <a:pt x="332" y="0"/>
                </a:cubicBezTo>
                <a:cubicBezTo>
                  <a:pt x="326" y="0"/>
                  <a:pt x="320" y="0"/>
                  <a:pt x="315" y="0"/>
                </a:cubicBezTo>
                <a:cubicBezTo>
                  <a:pt x="309" y="1"/>
                  <a:pt x="303" y="1"/>
                  <a:pt x="298" y="2"/>
                </a:cubicBezTo>
                <a:cubicBezTo>
                  <a:pt x="293" y="2"/>
                  <a:pt x="288" y="3"/>
                  <a:pt x="284" y="4"/>
                </a:cubicBezTo>
                <a:cubicBezTo>
                  <a:pt x="280" y="5"/>
                  <a:pt x="277" y="6"/>
                  <a:pt x="275" y="7"/>
                </a:cubicBezTo>
                <a:cubicBezTo>
                  <a:pt x="271" y="8"/>
                  <a:pt x="268" y="10"/>
                  <a:pt x="266" y="11"/>
                </a:cubicBezTo>
                <a:cubicBezTo>
                  <a:pt x="264" y="12"/>
                  <a:pt x="262" y="14"/>
                  <a:pt x="262" y="15"/>
                </a:cubicBezTo>
                <a:cubicBezTo>
                  <a:pt x="261" y="16"/>
                  <a:pt x="260" y="17"/>
                  <a:pt x="260" y="18"/>
                </a:cubicBezTo>
                <a:cubicBezTo>
                  <a:pt x="260" y="19"/>
                  <a:pt x="260" y="19"/>
                  <a:pt x="261" y="20"/>
                </a:cubicBezTo>
                <a:cubicBezTo>
                  <a:pt x="261" y="21"/>
                  <a:pt x="261" y="22"/>
                  <a:pt x="261" y="23"/>
                </a:cubicBezTo>
                <a:cubicBezTo>
                  <a:pt x="261" y="24"/>
                  <a:pt x="260" y="25"/>
                  <a:pt x="258" y="26"/>
                </a:cubicBezTo>
                <a:cubicBezTo>
                  <a:pt x="256" y="27"/>
                  <a:pt x="253" y="28"/>
                  <a:pt x="250" y="29"/>
                </a:cubicBezTo>
                <a:cubicBezTo>
                  <a:pt x="246" y="29"/>
                  <a:pt x="241" y="30"/>
                  <a:pt x="235" y="30"/>
                </a:cubicBezTo>
                <a:cubicBezTo>
                  <a:pt x="235" y="30"/>
                  <a:pt x="235" y="30"/>
                  <a:pt x="235" y="30"/>
                </a:cubicBezTo>
                <a:cubicBezTo>
                  <a:pt x="234" y="30"/>
                  <a:pt x="234" y="30"/>
                  <a:pt x="234" y="30"/>
                </a:cubicBezTo>
                <a:cubicBezTo>
                  <a:pt x="233" y="30"/>
                  <a:pt x="233" y="30"/>
                  <a:pt x="233" y="30"/>
                </a:cubicBezTo>
                <a:cubicBezTo>
                  <a:pt x="232" y="30"/>
                  <a:pt x="232" y="30"/>
                  <a:pt x="232" y="30"/>
                </a:cubicBezTo>
                <a:cubicBezTo>
                  <a:pt x="228" y="30"/>
                  <a:pt x="224" y="30"/>
                  <a:pt x="219" y="30"/>
                </a:cubicBezTo>
                <a:cubicBezTo>
                  <a:pt x="214" y="30"/>
                  <a:pt x="208" y="30"/>
                  <a:pt x="202" y="30"/>
                </a:cubicBezTo>
                <a:cubicBezTo>
                  <a:pt x="196" y="30"/>
                  <a:pt x="190" y="30"/>
                  <a:pt x="183" y="30"/>
                </a:cubicBezTo>
                <a:cubicBezTo>
                  <a:pt x="176" y="30"/>
                  <a:pt x="169" y="30"/>
                  <a:pt x="162" y="30"/>
                </a:cubicBezTo>
                <a:cubicBezTo>
                  <a:pt x="155" y="30"/>
                  <a:pt x="148" y="30"/>
                  <a:pt x="142" y="30"/>
                </a:cubicBezTo>
                <a:cubicBezTo>
                  <a:pt x="135" y="30"/>
                  <a:pt x="129" y="30"/>
                  <a:pt x="123" y="30"/>
                </a:cubicBezTo>
                <a:cubicBezTo>
                  <a:pt x="117" y="30"/>
                  <a:pt x="111" y="31"/>
                  <a:pt x="107" y="31"/>
                </a:cubicBezTo>
                <a:cubicBezTo>
                  <a:pt x="102" y="31"/>
                  <a:pt x="98" y="31"/>
                  <a:pt x="95" y="31"/>
                </a:cubicBezTo>
                <a:cubicBezTo>
                  <a:pt x="94" y="31"/>
                  <a:pt x="94" y="31"/>
                  <a:pt x="93" y="31"/>
                </a:cubicBezTo>
                <a:cubicBezTo>
                  <a:pt x="92" y="31"/>
                  <a:pt x="92" y="31"/>
                  <a:pt x="92" y="31"/>
                </a:cubicBezTo>
                <a:cubicBezTo>
                  <a:pt x="91" y="31"/>
                  <a:pt x="91" y="31"/>
                  <a:pt x="90" y="31"/>
                </a:cubicBezTo>
                <a:cubicBezTo>
                  <a:pt x="89" y="31"/>
                  <a:pt x="89" y="31"/>
                  <a:pt x="89" y="31"/>
                </a:cubicBezTo>
                <a:cubicBezTo>
                  <a:pt x="87" y="31"/>
                  <a:pt x="85" y="31"/>
                  <a:pt x="83" y="32"/>
                </a:cubicBezTo>
                <a:cubicBezTo>
                  <a:pt x="81" y="32"/>
                  <a:pt x="80" y="33"/>
                  <a:pt x="79" y="33"/>
                </a:cubicBezTo>
                <a:cubicBezTo>
                  <a:pt x="78" y="34"/>
                  <a:pt x="77" y="34"/>
                  <a:pt x="77" y="35"/>
                </a:cubicBezTo>
                <a:cubicBezTo>
                  <a:pt x="77" y="35"/>
                  <a:pt x="76" y="35"/>
                  <a:pt x="76" y="35"/>
                </a:cubicBezTo>
                <a:cubicBezTo>
                  <a:pt x="74" y="38"/>
                  <a:pt x="74" y="38"/>
                  <a:pt x="74" y="38"/>
                </a:cubicBezTo>
                <a:cubicBezTo>
                  <a:pt x="0" y="108"/>
                  <a:pt x="0" y="108"/>
                  <a:pt x="0" y="108"/>
                </a:cubicBezTo>
                <a:cubicBezTo>
                  <a:pt x="0" y="108"/>
                  <a:pt x="0" y="109"/>
                  <a:pt x="0" y="109"/>
                </a:cubicBezTo>
                <a:cubicBezTo>
                  <a:pt x="0" y="110"/>
                  <a:pt x="1" y="110"/>
                  <a:pt x="4" y="111"/>
                </a:cubicBez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Freeform 19"/>
          <p:cNvSpPr/>
          <p:nvPr/>
        </p:nvSpPr>
        <p:spPr>
          <a:xfrm flipH="1">
            <a:off x="5573880" y="2682720"/>
            <a:ext cx="653760" cy="243000"/>
          </a:xfrm>
          <a:custGeom>
            <a:avLst/>
            <a:gdLst/>
            <a:ahLst/>
            <a:rect l="l" t="t" r="r" b="b"/>
            <a:pathLst>
              <a:path w="442" h="164">
                <a:moveTo>
                  <a:pt x="1" y="112"/>
                </a:moveTo>
                <a:cubicBezTo>
                  <a:pt x="1" y="114"/>
                  <a:pt x="2" y="116"/>
                  <a:pt x="2" y="117"/>
                </a:cubicBezTo>
                <a:cubicBezTo>
                  <a:pt x="3" y="119"/>
                  <a:pt x="3" y="120"/>
                  <a:pt x="4" y="121"/>
                </a:cubicBezTo>
                <a:cubicBezTo>
                  <a:pt x="4" y="122"/>
                  <a:pt x="5" y="122"/>
                  <a:pt x="5" y="122"/>
                </a:cubicBezTo>
                <a:cubicBezTo>
                  <a:pt x="5" y="123"/>
                  <a:pt x="5" y="123"/>
                  <a:pt x="5" y="123"/>
                </a:cubicBezTo>
                <a:cubicBezTo>
                  <a:pt x="5" y="123"/>
                  <a:pt x="6" y="124"/>
                  <a:pt x="8" y="124"/>
                </a:cubicBezTo>
                <a:cubicBezTo>
                  <a:pt x="9" y="125"/>
                  <a:pt x="12" y="125"/>
                  <a:pt x="15" y="125"/>
                </a:cubicBezTo>
                <a:cubicBezTo>
                  <a:pt x="19" y="126"/>
                  <a:pt x="24" y="126"/>
                  <a:pt x="31" y="126"/>
                </a:cubicBezTo>
                <a:cubicBezTo>
                  <a:pt x="34" y="126"/>
                  <a:pt x="38" y="125"/>
                  <a:pt x="43" y="125"/>
                </a:cubicBezTo>
                <a:cubicBezTo>
                  <a:pt x="47" y="125"/>
                  <a:pt x="53" y="125"/>
                  <a:pt x="58" y="125"/>
                </a:cubicBezTo>
                <a:cubicBezTo>
                  <a:pt x="64" y="125"/>
                  <a:pt x="70" y="125"/>
                  <a:pt x="76" y="124"/>
                </a:cubicBezTo>
                <a:cubicBezTo>
                  <a:pt x="82" y="124"/>
                  <a:pt x="88" y="124"/>
                  <a:pt x="94" y="124"/>
                </a:cubicBezTo>
                <a:cubicBezTo>
                  <a:pt x="101" y="124"/>
                  <a:pt x="107" y="124"/>
                  <a:pt x="113" y="124"/>
                </a:cubicBezTo>
                <a:cubicBezTo>
                  <a:pt x="119" y="124"/>
                  <a:pt x="124" y="124"/>
                  <a:pt x="129" y="124"/>
                </a:cubicBezTo>
                <a:cubicBezTo>
                  <a:pt x="134" y="124"/>
                  <a:pt x="138" y="125"/>
                  <a:pt x="141" y="125"/>
                </a:cubicBezTo>
                <a:cubicBezTo>
                  <a:pt x="144" y="126"/>
                  <a:pt x="146" y="126"/>
                  <a:pt x="146" y="127"/>
                </a:cubicBezTo>
                <a:cubicBezTo>
                  <a:pt x="147" y="128"/>
                  <a:pt x="147" y="130"/>
                  <a:pt x="147" y="131"/>
                </a:cubicBezTo>
                <a:cubicBezTo>
                  <a:pt x="147" y="132"/>
                  <a:pt x="146" y="133"/>
                  <a:pt x="145" y="134"/>
                </a:cubicBezTo>
                <a:cubicBezTo>
                  <a:pt x="144" y="135"/>
                  <a:pt x="143" y="136"/>
                  <a:pt x="141" y="137"/>
                </a:cubicBezTo>
                <a:cubicBezTo>
                  <a:pt x="139" y="138"/>
                  <a:pt x="137" y="139"/>
                  <a:pt x="135" y="140"/>
                </a:cubicBezTo>
                <a:cubicBezTo>
                  <a:pt x="132" y="141"/>
                  <a:pt x="130" y="143"/>
                  <a:pt x="129" y="145"/>
                </a:cubicBezTo>
                <a:cubicBezTo>
                  <a:pt x="127" y="146"/>
                  <a:pt x="126" y="148"/>
                  <a:pt x="126" y="150"/>
                </a:cubicBezTo>
                <a:cubicBezTo>
                  <a:pt x="126" y="152"/>
                  <a:pt x="127" y="154"/>
                  <a:pt x="129" y="156"/>
                </a:cubicBezTo>
                <a:cubicBezTo>
                  <a:pt x="131" y="158"/>
                  <a:pt x="135" y="159"/>
                  <a:pt x="140" y="160"/>
                </a:cubicBezTo>
                <a:cubicBezTo>
                  <a:pt x="143" y="161"/>
                  <a:pt x="147" y="161"/>
                  <a:pt x="150" y="162"/>
                </a:cubicBezTo>
                <a:cubicBezTo>
                  <a:pt x="154" y="162"/>
                  <a:pt x="158" y="163"/>
                  <a:pt x="163" y="163"/>
                </a:cubicBezTo>
                <a:cubicBezTo>
                  <a:pt x="167" y="164"/>
                  <a:pt x="171" y="164"/>
                  <a:pt x="176" y="164"/>
                </a:cubicBezTo>
                <a:cubicBezTo>
                  <a:pt x="180" y="164"/>
                  <a:pt x="185" y="164"/>
                  <a:pt x="190" y="164"/>
                </a:cubicBezTo>
                <a:cubicBezTo>
                  <a:pt x="193" y="164"/>
                  <a:pt x="197" y="164"/>
                  <a:pt x="200" y="164"/>
                </a:cubicBezTo>
                <a:cubicBezTo>
                  <a:pt x="203" y="164"/>
                  <a:pt x="207" y="163"/>
                  <a:pt x="210" y="163"/>
                </a:cubicBezTo>
                <a:cubicBezTo>
                  <a:pt x="213" y="163"/>
                  <a:pt x="216" y="162"/>
                  <a:pt x="219" y="162"/>
                </a:cubicBezTo>
                <a:cubicBezTo>
                  <a:pt x="222" y="161"/>
                  <a:pt x="225" y="161"/>
                  <a:pt x="228" y="160"/>
                </a:cubicBezTo>
                <a:cubicBezTo>
                  <a:pt x="234" y="158"/>
                  <a:pt x="239" y="157"/>
                  <a:pt x="243" y="155"/>
                </a:cubicBezTo>
                <a:cubicBezTo>
                  <a:pt x="247" y="154"/>
                  <a:pt x="251" y="153"/>
                  <a:pt x="253" y="151"/>
                </a:cubicBezTo>
                <a:cubicBezTo>
                  <a:pt x="255" y="150"/>
                  <a:pt x="257" y="148"/>
                  <a:pt x="257" y="147"/>
                </a:cubicBezTo>
                <a:cubicBezTo>
                  <a:pt x="257" y="145"/>
                  <a:pt x="256" y="143"/>
                  <a:pt x="254" y="141"/>
                </a:cubicBezTo>
                <a:cubicBezTo>
                  <a:pt x="252" y="139"/>
                  <a:pt x="250" y="137"/>
                  <a:pt x="249" y="135"/>
                </a:cubicBezTo>
                <a:cubicBezTo>
                  <a:pt x="248" y="133"/>
                  <a:pt x="247" y="131"/>
                  <a:pt x="247" y="130"/>
                </a:cubicBezTo>
                <a:cubicBezTo>
                  <a:pt x="248" y="128"/>
                  <a:pt x="249" y="126"/>
                  <a:pt x="252" y="125"/>
                </a:cubicBezTo>
                <a:cubicBezTo>
                  <a:pt x="255" y="124"/>
                  <a:pt x="260" y="123"/>
                  <a:pt x="267" y="123"/>
                </a:cubicBezTo>
                <a:cubicBezTo>
                  <a:pt x="268" y="123"/>
                  <a:pt x="270" y="123"/>
                  <a:pt x="271" y="123"/>
                </a:cubicBezTo>
                <a:cubicBezTo>
                  <a:pt x="272" y="123"/>
                  <a:pt x="273" y="123"/>
                  <a:pt x="274" y="123"/>
                </a:cubicBezTo>
                <a:cubicBezTo>
                  <a:pt x="276" y="123"/>
                  <a:pt x="277" y="123"/>
                  <a:pt x="279" y="123"/>
                </a:cubicBezTo>
                <a:cubicBezTo>
                  <a:pt x="280" y="122"/>
                  <a:pt x="281" y="122"/>
                  <a:pt x="283" y="122"/>
                </a:cubicBezTo>
                <a:cubicBezTo>
                  <a:pt x="292" y="122"/>
                  <a:pt x="303" y="122"/>
                  <a:pt x="315" y="122"/>
                </a:cubicBezTo>
                <a:cubicBezTo>
                  <a:pt x="326" y="122"/>
                  <a:pt x="338" y="122"/>
                  <a:pt x="349" y="122"/>
                </a:cubicBezTo>
                <a:cubicBezTo>
                  <a:pt x="359" y="122"/>
                  <a:pt x="369" y="123"/>
                  <a:pt x="376" y="123"/>
                </a:cubicBezTo>
                <a:cubicBezTo>
                  <a:pt x="383" y="123"/>
                  <a:pt x="388" y="123"/>
                  <a:pt x="389" y="123"/>
                </a:cubicBezTo>
                <a:cubicBezTo>
                  <a:pt x="389" y="123"/>
                  <a:pt x="389" y="123"/>
                  <a:pt x="389" y="123"/>
                </a:cubicBezTo>
                <a:cubicBezTo>
                  <a:pt x="390" y="123"/>
                  <a:pt x="390" y="123"/>
                  <a:pt x="390" y="123"/>
                </a:cubicBezTo>
                <a:cubicBezTo>
                  <a:pt x="390" y="123"/>
                  <a:pt x="390" y="123"/>
                  <a:pt x="391" y="123"/>
                </a:cubicBezTo>
                <a:cubicBezTo>
                  <a:pt x="391" y="123"/>
                  <a:pt x="392" y="123"/>
                  <a:pt x="392" y="123"/>
                </a:cubicBezTo>
                <a:cubicBezTo>
                  <a:pt x="393" y="123"/>
                  <a:pt x="395" y="123"/>
                  <a:pt x="397" y="123"/>
                </a:cubicBezTo>
                <a:cubicBezTo>
                  <a:pt x="398" y="122"/>
                  <a:pt x="400" y="122"/>
                  <a:pt x="402" y="121"/>
                </a:cubicBezTo>
                <a:cubicBezTo>
                  <a:pt x="404" y="121"/>
                  <a:pt x="406" y="120"/>
                  <a:pt x="408" y="119"/>
                </a:cubicBezTo>
                <a:cubicBezTo>
                  <a:pt x="410" y="118"/>
                  <a:pt x="412" y="116"/>
                  <a:pt x="413" y="114"/>
                </a:cubicBezTo>
                <a:cubicBezTo>
                  <a:pt x="415" y="112"/>
                  <a:pt x="417" y="108"/>
                  <a:pt x="420" y="104"/>
                </a:cubicBezTo>
                <a:cubicBezTo>
                  <a:pt x="423" y="100"/>
                  <a:pt x="425" y="96"/>
                  <a:pt x="428" y="92"/>
                </a:cubicBezTo>
                <a:cubicBezTo>
                  <a:pt x="430" y="88"/>
                  <a:pt x="432" y="85"/>
                  <a:pt x="434" y="82"/>
                </a:cubicBezTo>
                <a:cubicBezTo>
                  <a:pt x="435" y="79"/>
                  <a:pt x="436" y="78"/>
                  <a:pt x="437" y="77"/>
                </a:cubicBezTo>
                <a:cubicBezTo>
                  <a:pt x="437" y="77"/>
                  <a:pt x="437" y="77"/>
                  <a:pt x="437" y="76"/>
                </a:cubicBezTo>
                <a:cubicBezTo>
                  <a:pt x="437" y="76"/>
                  <a:pt x="437" y="75"/>
                  <a:pt x="437" y="74"/>
                </a:cubicBezTo>
                <a:cubicBezTo>
                  <a:pt x="436" y="74"/>
                  <a:pt x="435" y="73"/>
                  <a:pt x="432" y="72"/>
                </a:cubicBezTo>
                <a:cubicBezTo>
                  <a:pt x="430" y="71"/>
                  <a:pt x="427" y="71"/>
                  <a:pt x="422" y="70"/>
                </a:cubicBezTo>
                <a:cubicBezTo>
                  <a:pt x="420" y="70"/>
                  <a:pt x="418" y="69"/>
                  <a:pt x="416" y="69"/>
                </a:cubicBezTo>
                <a:cubicBezTo>
                  <a:pt x="414" y="69"/>
                  <a:pt x="412" y="69"/>
                  <a:pt x="410" y="68"/>
                </a:cubicBezTo>
                <a:cubicBezTo>
                  <a:pt x="409" y="68"/>
                  <a:pt x="407" y="68"/>
                  <a:pt x="405" y="68"/>
                </a:cubicBezTo>
                <a:cubicBezTo>
                  <a:pt x="404" y="68"/>
                  <a:pt x="402" y="68"/>
                  <a:pt x="401" y="68"/>
                </a:cubicBezTo>
                <a:cubicBezTo>
                  <a:pt x="399" y="68"/>
                  <a:pt x="397" y="68"/>
                  <a:pt x="396" y="68"/>
                </a:cubicBezTo>
                <a:cubicBezTo>
                  <a:pt x="394" y="68"/>
                  <a:pt x="392" y="69"/>
                  <a:pt x="390" y="69"/>
                </a:cubicBezTo>
                <a:cubicBezTo>
                  <a:pt x="388" y="69"/>
                  <a:pt x="386" y="69"/>
                  <a:pt x="384" y="70"/>
                </a:cubicBezTo>
                <a:cubicBezTo>
                  <a:pt x="382" y="70"/>
                  <a:pt x="379" y="70"/>
                  <a:pt x="377" y="70"/>
                </a:cubicBezTo>
                <a:cubicBezTo>
                  <a:pt x="375" y="71"/>
                  <a:pt x="374" y="71"/>
                  <a:pt x="372" y="71"/>
                </a:cubicBezTo>
                <a:cubicBezTo>
                  <a:pt x="371" y="71"/>
                  <a:pt x="369" y="71"/>
                  <a:pt x="368" y="71"/>
                </a:cubicBezTo>
                <a:cubicBezTo>
                  <a:pt x="366" y="71"/>
                  <a:pt x="364" y="72"/>
                  <a:pt x="363" y="72"/>
                </a:cubicBezTo>
                <a:cubicBezTo>
                  <a:pt x="361" y="72"/>
                  <a:pt x="360" y="72"/>
                  <a:pt x="358" y="72"/>
                </a:cubicBezTo>
                <a:cubicBezTo>
                  <a:pt x="355" y="72"/>
                  <a:pt x="352" y="72"/>
                  <a:pt x="348" y="72"/>
                </a:cubicBezTo>
                <a:cubicBezTo>
                  <a:pt x="345" y="71"/>
                  <a:pt x="342" y="71"/>
                  <a:pt x="339" y="71"/>
                </a:cubicBezTo>
                <a:cubicBezTo>
                  <a:pt x="337" y="70"/>
                  <a:pt x="334" y="70"/>
                  <a:pt x="331" y="69"/>
                </a:cubicBezTo>
                <a:cubicBezTo>
                  <a:pt x="329" y="68"/>
                  <a:pt x="327" y="68"/>
                  <a:pt x="325" y="67"/>
                </a:cubicBezTo>
                <a:cubicBezTo>
                  <a:pt x="323" y="65"/>
                  <a:pt x="321" y="64"/>
                  <a:pt x="321" y="62"/>
                </a:cubicBezTo>
                <a:cubicBezTo>
                  <a:pt x="321" y="60"/>
                  <a:pt x="321" y="58"/>
                  <a:pt x="323" y="56"/>
                </a:cubicBezTo>
                <a:cubicBezTo>
                  <a:pt x="324" y="55"/>
                  <a:pt x="327" y="53"/>
                  <a:pt x="330" y="51"/>
                </a:cubicBezTo>
                <a:cubicBezTo>
                  <a:pt x="332" y="50"/>
                  <a:pt x="336" y="49"/>
                  <a:pt x="339" y="48"/>
                </a:cubicBezTo>
                <a:cubicBezTo>
                  <a:pt x="342" y="48"/>
                  <a:pt x="344" y="47"/>
                  <a:pt x="347" y="47"/>
                </a:cubicBezTo>
                <a:cubicBezTo>
                  <a:pt x="349" y="47"/>
                  <a:pt x="352" y="46"/>
                  <a:pt x="355" y="46"/>
                </a:cubicBezTo>
                <a:cubicBezTo>
                  <a:pt x="357" y="46"/>
                  <a:pt x="360" y="45"/>
                  <a:pt x="363" y="45"/>
                </a:cubicBezTo>
                <a:cubicBezTo>
                  <a:pt x="365" y="45"/>
                  <a:pt x="368" y="45"/>
                  <a:pt x="371" y="45"/>
                </a:cubicBezTo>
                <a:cubicBezTo>
                  <a:pt x="373" y="45"/>
                  <a:pt x="374" y="45"/>
                  <a:pt x="375" y="45"/>
                </a:cubicBezTo>
                <a:cubicBezTo>
                  <a:pt x="377" y="45"/>
                  <a:pt x="378" y="45"/>
                  <a:pt x="380" y="45"/>
                </a:cubicBezTo>
                <a:cubicBezTo>
                  <a:pt x="381" y="45"/>
                  <a:pt x="383" y="45"/>
                  <a:pt x="385" y="45"/>
                </a:cubicBezTo>
                <a:cubicBezTo>
                  <a:pt x="386" y="45"/>
                  <a:pt x="388" y="45"/>
                  <a:pt x="390" y="45"/>
                </a:cubicBezTo>
                <a:cubicBezTo>
                  <a:pt x="391" y="45"/>
                  <a:pt x="392" y="46"/>
                  <a:pt x="393" y="46"/>
                </a:cubicBezTo>
                <a:cubicBezTo>
                  <a:pt x="394" y="46"/>
                  <a:pt x="395" y="46"/>
                  <a:pt x="397" y="46"/>
                </a:cubicBezTo>
                <a:cubicBezTo>
                  <a:pt x="398" y="46"/>
                  <a:pt x="399" y="46"/>
                  <a:pt x="400" y="46"/>
                </a:cubicBezTo>
                <a:cubicBezTo>
                  <a:pt x="402" y="46"/>
                  <a:pt x="403" y="46"/>
                  <a:pt x="404" y="46"/>
                </a:cubicBezTo>
                <a:cubicBezTo>
                  <a:pt x="409" y="46"/>
                  <a:pt x="413" y="45"/>
                  <a:pt x="418" y="45"/>
                </a:cubicBezTo>
                <a:cubicBezTo>
                  <a:pt x="422" y="45"/>
                  <a:pt x="426" y="44"/>
                  <a:pt x="430" y="44"/>
                </a:cubicBezTo>
                <a:cubicBezTo>
                  <a:pt x="433" y="43"/>
                  <a:pt x="436" y="42"/>
                  <a:pt x="438" y="41"/>
                </a:cubicBezTo>
                <a:cubicBezTo>
                  <a:pt x="440" y="40"/>
                  <a:pt x="442" y="39"/>
                  <a:pt x="442" y="38"/>
                </a:cubicBezTo>
                <a:cubicBezTo>
                  <a:pt x="442" y="37"/>
                  <a:pt x="441" y="34"/>
                  <a:pt x="439" y="30"/>
                </a:cubicBezTo>
                <a:cubicBezTo>
                  <a:pt x="438" y="27"/>
                  <a:pt x="437" y="22"/>
                  <a:pt x="435" y="18"/>
                </a:cubicBezTo>
                <a:cubicBezTo>
                  <a:pt x="433" y="14"/>
                  <a:pt x="432" y="11"/>
                  <a:pt x="430" y="8"/>
                </a:cubicBezTo>
                <a:cubicBezTo>
                  <a:pt x="429" y="5"/>
                  <a:pt x="428" y="3"/>
                  <a:pt x="428" y="2"/>
                </a:cubicBezTo>
                <a:cubicBezTo>
                  <a:pt x="428" y="2"/>
                  <a:pt x="429" y="2"/>
                  <a:pt x="429" y="2"/>
                </a:cubicBezTo>
                <a:cubicBezTo>
                  <a:pt x="430" y="2"/>
                  <a:pt x="430" y="1"/>
                  <a:pt x="429" y="1"/>
                </a:cubicBezTo>
                <a:cubicBezTo>
                  <a:pt x="427" y="1"/>
                  <a:pt x="425" y="0"/>
                  <a:pt x="420" y="0"/>
                </a:cubicBezTo>
                <a:cubicBezTo>
                  <a:pt x="415" y="0"/>
                  <a:pt x="408" y="0"/>
                  <a:pt x="398" y="0"/>
                </a:cubicBezTo>
                <a:cubicBezTo>
                  <a:pt x="397" y="0"/>
                  <a:pt x="397" y="0"/>
                  <a:pt x="397" y="0"/>
                </a:cubicBezTo>
                <a:cubicBezTo>
                  <a:pt x="397" y="0"/>
                  <a:pt x="397" y="0"/>
                  <a:pt x="397" y="0"/>
                </a:cubicBezTo>
                <a:cubicBezTo>
                  <a:pt x="396" y="0"/>
                  <a:pt x="396" y="0"/>
                  <a:pt x="396" y="0"/>
                </a:cubicBezTo>
                <a:cubicBezTo>
                  <a:pt x="396" y="0"/>
                  <a:pt x="396" y="0"/>
                  <a:pt x="396" y="0"/>
                </a:cubicBezTo>
                <a:cubicBezTo>
                  <a:pt x="384" y="0"/>
                  <a:pt x="358" y="1"/>
                  <a:pt x="325" y="2"/>
                </a:cubicBezTo>
                <a:cubicBezTo>
                  <a:pt x="292" y="3"/>
                  <a:pt x="253" y="4"/>
                  <a:pt x="215" y="5"/>
                </a:cubicBezTo>
                <a:cubicBezTo>
                  <a:pt x="177" y="6"/>
                  <a:pt x="140" y="7"/>
                  <a:pt x="112" y="8"/>
                </a:cubicBezTo>
                <a:cubicBezTo>
                  <a:pt x="83" y="9"/>
                  <a:pt x="64" y="10"/>
                  <a:pt x="60" y="10"/>
                </a:cubicBezTo>
                <a:cubicBezTo>
                  <a:pt x="59" y="10"/>
                  <a:pt x="57" y="13"/>
                  <a:pt x="53" y="17"/>
                </a:cubicBezTo>
                <a:cubicBezTo>
                  <a:pt x="49" y="21"/>
                  <a:pt x="44" y="25"/>
                  <a:pt x="39" y="30"/>
                </a:cubicBezTo>
                <a:cubicBezTo>
                  <a:pt x="34" y="35"/>
                  <a:pt x="29" y="41"/>
                  <a:pt x="26" y="45"/>
                </a:cubicBezTo>
                <a:cubicBezTo>
                  <a:pt x="23" y="49"/>
                  <a:pt x="21" y="52"/>
                  <a:pt x="22" y="53"/>
                </a:cubicBezTo>
                <a:cubicBezTo>
                  <a:pt x="23" y="54"/>
                  <a:pt x="24" y="54"/>
                  <a:pt x="25" y="55"/>
                </a:cubicBezTo>
                <a:cubicBezTo>
                  <a:pt x="27" y="55"/>
                  <a:pt x="29" y="56"/>
                  <a:pt x="31" y="56"/>
                </a:cubicBezTo>
                <a:cubicBezTo>
                  <a:pt x="33" y="56"/>
                  <a:pt x="35" y="57"/>
                  <a:pt x="38" y="57"/>
                </a:cubicBezTo>
                <a:cubicBezTo>
                  <a:pt x="40" y="57"/>
                  <a:pt x="43" y="57"/>
                  <a:pt x="46" y="57"/>
                </a:cubicBezTo>
                <a:cubicBezTo>
                  <a:pt x="47" y="57"/>
                  <a:pt x="48" y="57"/>
                  <a:pt x="49" y="57"/>
                </a:cubicBezTo>
                <a:cubicBezTo>
                  <a:pt x="50" y="57"/>
                  <a:pt x="51" y="57"/>
                  <a:pt x="52" y="57"/>
                </a:cubicBezTo>
                <a:cubicBezTo>
                  <a:pt x="53" y="57"/>
                  <a:pt x="54" y="57"/>
                  <a:pt x="55" y="56"/>
                </a:cubicBezTo>
                <a:cubicBezTo>
                  <a:pt x="56" y="56"/>
                  <a:pt x="57" y="56"/>
                  <a:pt x="58" y="56"/>
                </a:cubicBezTo>
                <a:cubicBezTo>
                  <a:pt x="60" y="56"/>
                  <a:pt x="62" y="56"/>
                  <a:pt x="65" y="56"/>
                </a:cubicBezTo>
                <a:cubicBezTo>
                  <a:pt x="67" y="56"/>
                  <a:pt x="70" y="56"/>
                  <a:pt x="73" y="55"/>
                </a:cubicBezTo>
                <a:cubicBezTo>
                  <a:pt x="75" y="55"/>
                  <a:pt x="78" y="55"/>
                  <a:pt x="81" y="55"/>
                </a:cubicBezTo>
                <a:cubicBezTo>
                  <a:pt x="84" y="55"/>
                  <a:pt x="87" y="55"/>
                  <a:pt x="90" y="55"/>
                </a:cubicBezTo>
                <a:cubicBezTo>
                  <a:pt x="93" y="55"/>
                  <a:pt x="97" y="55"/>
                  <a:pt x="100" y="55"/>
                </a:cubicBezTo>
                <a:cubicBezTo>
                  <a:pt x="103" y="55"/>
                  <a:pt x="106" y="55"/>
                  <a:pt x="109" y="55"/>
                </a:cubicBezTo>
                <a:cubicBezTo>
                  <a:pt x="111" y="56"/>
                  <a:pt x="114" y="56"/>
                  <a:pt x="116" y="57"/>
                </a:cubicBezTo>
                <a:cubicBezTo>
                  <a:pt x="118" y="57"/>
                  <a:pt x="119" y="58"/>
                  <a:pt x="120" y="58"/>
                </a:cubicBezTo>
                <a:cubicBezTo>
                  <a:pt x="122" y="60"/>
                  <a:pt x="123" y="62"/>
                  <a:pt x="124" y="64"/>
                </a:cubicBezTo>
                <a:cubicBezTo>
                  <a:pt x="125" y="65"/>
                  <a:pt x="126" y="67"/>
                  <a:pt x="125" y="70"/>
                </a:cubicBezTo>
                <a:cubicBezTo>
                  <a:pt x="125" y="72"/>
                  <a:pt x="123" y="74"/>
                  <a:pt x="120" y="76"/>
                </a:cubicBezTo>
                <a:cubicBezTo>
                  <a:pt x="117" y="78"/>
                  <a:pt x="113" y="79"/>
                  <a:pt x="107" y="81"/>
                </a:cubicBezTo>
                <a:cubicBezTo>
                  <a:pt x="104" y="82"/>
                  <a:pt x="100" y="83"/>
                  <a:pt x="97" y="84"/>
                </a:cubicBezTo>
                <a:cubicBezTo>
                  <a:pt x="94" y="84"/>
                  <a:pt x="91" y="85"/>
                  <a:pt x="89" y="85"/>
                </a:cubicBezTo>
                <a:cubicBezTo>
                  <a:pt x="86" y="86"/>
                  <a:pt x="84" y="86"/>
                  <a:pt x="82" y="86"/>
                </a:cubicBezTo>
                <a:cubicBezTo>
                  <a:pt x="79" y="87"/>
                  <a:pt x="77" y="87"/>
                  <a:pt x="75" y="87"/>
                </a:cubicBezTo>
                <a:cubicBezTo>
                  <a:pt x="74" y="87"/>
                  <a:pt x="73" y="87"/>
                  <a:pt x="71" y="87"/>
                </a:cubicBezTo>
                <a:cubicBezTo>
                  <a:pt x="70" y="87"/>
                  <a:pt x="69" y="87"/>
                  <a:pt x="68" y="86"/>
                </a:cubicBezTo>
                <a:cubicBezTo>
                  <a:pt x="66" y="86"/>
                  <a:pt x="65" y="86"/>
                  <a:pt x="64" y="86"/>
                </a:cubicBezTo>
                <a:cubicBezTo>
                  <a:pt x="63" y="86"/>
                  <a:pt x="61" y="86"/>
                  <a:pt x="60" y="85"/>
                </a:cubicBezTo>
                <a:cubicBezTo>
                  <a:pt x="58" y="85"/>
                  <a:pt x="56" y="85"/>
                  <a:pt x="53" y="84"/>
                </a:cubicBezTo>
                <a:cubicBezTo>
                  <a:pt x="51" y="84"/>
                  <a:pt x="48" y="84"/>
                  <a:pt x="46" y="83"/>
                </a:cubicBezTo>
                <a:cubicBezTo>
                  <a:pt x="44" y="83"/>
                  <a:pt x="41" y="83"/>
                  <a:pt x="39" y="83"/>
                </a:cubicBezTo>
                <a:cubicBezTo>
                  <a:pt x="36" y="82"/>
                  <a:pt x="34" y="82"/>
                  <a:pt x="31" y="82"/>
                </a:cubicBezTo>
                <a:cubicBezTo>
                  <a:pt x="30" y="82"/>
                  <a:pt x="28" y="82"/>
                  <a:pt x="27" y="83"/>
                </a:cubicBezTo>
                <a:cubicBezTo>
                  <a:pt x="25" y="83"/>
                  <a:pt x="24" y="83"/>
                  <a:pt x="22" y="83"/>
                </a:cubicBezTo>
                <a:cubicBezTo>
                  <a:pt x="21" y="83"/>
                  <a:pt x="19" y="83"/>
                  <a:pt x="18" y="84"/>
                </a:cubicBezTo>
                <a:cubicBezTo>
                  <a:pt x="17" y="84"/>
                  <a:pt x="15" y="84"/>
                  <a:pt x="14" y="85"/>
                </a:cubicBezTo>
                <a:cubicBezTo>
                  <a:pt x="10" y="86"/>
                  <a:pt x="8" y="87"/>
                  <a:pt x="6" y="89"/>
                </a:cubicBezTo>
                <a:cubicBezTo>
                  <a:pt x="4" y="90"/>
                  <a:pt x="3" y="91"/>
                  <a:pt x="2" y="93"/>
                </a:cubicBezTo>
                <a:cubicBezTo>
                  <a:pt x="1" y="95"/>
                  <a:pt x="1" y="96"/>
                  <a:pt x="0" y="98"/>
                </a:cubicBezTo>
                <a:cubicBezTo>
                  <a:pt x="0" y="100"/>
                  <a:pt x="0" y="103"/>
                  <a:pt x="0" y="105"/>
                </a:cubicBezTo>
                <a:cubicBezTo>
                  <a:pt x="0" y="108"/>
                  <a:pt x="0" y="110"/>
                  <a:pt x="1" y="112"/>
                </a:cubicBez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Freeform 20"/>
          <p:cNvSpPr/>
          <p:nvPr/>
        </p:nvSpPr>
        <p:spPr>
          <a:xfrm flipH="1">
            <a:off x="6443640" y="2805120"/>
            <a:ext cx="1008000" cy="192240"/>
          </a:xfrm>
          <a:custGeom>
            <a:avLst/>
            <a:gdLst/>
            <a:ahLst/>
            <a:rect l="l" t="t" r="r" b="b"/>
            <a:pathLst>
              <a:path w="682" h="131">
                <a:moveTo>
                  <a:pt x="680" y="65"/>
                </a:moveTo>
                <a:cubicBezTo>
                  <a:pt x="681" y="63"/>
                  <a:pt x="682" y="61"/>
                  <a:pt x="681" y="58"/>
                </a:cubicBezTo>
                <a:cubicBezTo>
                  <a:pt x="681" y="56"/>
                  <a:pt x="679" y="54"/>
                  <a:pt x="677" y="53"/>
                </a:cubicBezTo>
                <a:cubicBezTo>
                  <a:pt x="676" y="52"/>
                  <a:pt x="673" y="51"/>
                  <a:pt x="670" y="50"/>
                </a:cubicBezTo>
                <a:cubicBezTo>
                  <a:pt x="667" y="49"/>
                  <a:pt x="663" y="48"/>
                  <a:pt x="659" y="48"/>
                </a:cubicBezTo>
                <a:cubicBezTo>
                  <a:pt x="655" y="48"/>
                  <a:pt x="650" y="47"/>
                  <a:pt x="646" y="47"/>
                </a:cubicBezTo>
                <a:cubicBezTo>
                  <a:pt x="641" y="47"/>
                  <a:pt x="637" y="47"/>
                  <a:pt x="632" y="47"/>
                </a:cubicBezTo>
                <a:cubicBezTo>
                  <a:pt x="631" y="47"/>
                  <a:pt x="629" y="47"/>
                  <a:pt x="627" y="47"/>
                </a:cubicBezTo>
                <a:cubicBezTo>
                  <a:pt x="626" y="47"/>
                  <a:pt x="624" y="47"/>
                  <a:pt x="623" y="47"/>
                </a:cubicBezTo>
                <a:cubicBezTo>
                  <a:pt x="621" y="47"/>
                  <a:pt x="620" y="47"/>
                  <a:pt x="618" y="48"/>
                </a:cubicBezTo>
                <a:cubicBezTo>
                  <a:pt x="617" y="48"/>
                  <a:pt x="616" y="48"/>
                  <a:pt x="615" y="48"/>
                </a:cubicBezTo>
                <a:cubicBezTo>
                  <a:pt x="612" y="48"/>
                  <a:pt x="610" y="48"/>
                  <a:pt x="608" y="49"/>
                </a:cubicBezTo>
                <a:cubicBezTo>
                  <a:pt x="606" y="49"/>
                  <a:pt x="604" y="49"/>
                  <a:pt x="601" y="49"/>
                </a:cubicBezTo>
                <a:cubicBezTo>
                  <a:pt x="599" y="50"/>
                  <a:pt x="597" y="50"/>
                  <a:pt x="595" y="50"/>
                </a:cubicBezTo>
                <a:cubicBezTo>
                  <a:pt x="593" y="50"/>
                  <a:pt x="590" y="50"/>
                  <a:pt x="588" y="50"/>
                </a:cubicBezTo>
                <a:cubicBezTo>
                  <a:pt x="586" y="50"/>
                  <a:pt x="585" y="50"/>
                  <a:pt x="583" y="50"/>
                </a:cubicBezTo>
                <a:cubicBezTo>
                  <a:pt x="582" y="50"/>
                  <a:pt x="580" y="50"/>
                  <a:pt x="578" y="50"/>
                </a:cubicBezTo>
                <a:cubicBezTo>
                  <a:pt x="576" y="50"/>
                  <a:pt x="575" y="50"/>
                  <a:pt x="573" y="50"/>
                </a:cubicBezTo>
                <a:cubicBezTo>
                  <a:pt x="571" y="49"/>
                  <a:pt x="569" y="49"/>
                  <a:pt x="568" y="49"/>
                </a:cubicBezTo>
                <a:cubicBezTo>
                  <a:pt x="563" y="48"/>
                  <a:pt x="562" y="47"/>
                  <a:pt x="563" y="44"/>
                </a:cubicBezTo>
                <a:cubicBezTo>
                  <a:pt x="564" y="41"/>
                  <a:pt x="567" y="38"/>
                  <a:pt x="571" y="35"/>
                </a:cubicBezTo>
                <a:cubicBezTo>
                  <a:pt x="574" y="31"/>
                  <a:pt x="579" y="28"/>
                  <a:pt x="583" y="24"/>
                </a:cubicBezTo>
                <a:cubicBezTo>
                  <a:pt x="587" y="21"/>
                  <a:pt x="591" y="19"/>
                  <a:pt x="593" y="17"/>
                </a:cubicBezTo>
                <a:cubicBezTo>
                  <a:pt x="595" y="15"/>
                  <a:pt x="596" y="14"/>
                  <a:pt x="596" y="13"/>
                </a:cubicBezTo>
                <a:cubicBezTo>
                  <a:pt x="596" y="11"/>
                  <a:pt x="595" y="11"/>
                  <a:pt x="594" y="10"/>
                </a:cubicBezTo>
                <a:cubicBezTo>
                  <a:pt x="593" y="10"/>
                  <a:pt x="592" y="9"/>
                  <a:pt x="591" y="9"/>
                </a:cubicBezTo>
                <a:cubicBezTo>
                  <a:pt x="590" y="9"/>
                  <a:pt x="589" y="9"/>
                  <a:pt x="589" y="9"/>
                </a:cubicBezTo>
                <a:cubicBezTo>
                  <a:pt x="588" y="9"/>
                  <a:pt x="587" y="9"/>
                  <a:pt x="584" y="9"/>
                </a:cubicBezTo>
                <a:cubicBezTo>
                  <a:pt x="582" y="8"/>
                  <a:pt x="578" y="8"/>
                  <a:pt x="573" y="8"/>
                </a:cubicBezTo>
                <a:cubicBezTo>
                  <a:pt x="568" y="7"/>
                  <a:pt x="563" y="7"/>
                  <a:pt x="556" y="6"/>
                </a:cubicBezTo>
                <a:cubicBezTo>
                  <a:pt x="549" y="6"/>
                  <a:pt x="542" y="5"/>
                  <a:pt x="534" y="5"/>
                </a:cubicBezTo>
                <a:cubicBezTo>
                  <a:pt x="529" y="4"/>
                  <a:pt x="524" y="4"/>
                  <a:pt x="519" y="4"/>
                </a:cubicBezTo>
                <a:cubicBezTo>
                  <a:pt x="515" y="4"/>
                  <a:pt x="511" y="3"/>
                  <a:pt x="507" y="3"/>
                </a:cubicBezTo>
                <a:cubicBezTo>
                  <a:pt x="503" y="3"/>
                  <a:pt x="499" y="3"/>
                  <a:pt x="495" y="3"/>
                </a:cubicBezTo>
                <a:cubicBezTo>
                  <a:pt x="492" y="3"/>
                  <a:pt x="489" y="3"/>
                  <a:pt x="485" y="3"/>
                </a:cubicBezTo>
                <a:cubicBezTo>
                  <a:pt x="483" y="3"/>
                  <a:pt x="481" y="3"/>
                  <a:pt x="480" y="3"/>
                </a:cubicBezTo>
                <a:cubicBezTo>
                  <a:pt x="478" y="3"/>
                  <a:pt x="476" y="3"/>
                  <a:pt x="474" y="3"/>
                </a:cubicBezTo>
                <a:cubicBezTo>
                  <a:pt x="472" y="3"/>
                  <a:pt x="470" y="4"/>
                  <a:pt x="468" y="4"/>
                </a:cubicBezTo>
                <a:cubicBezTo>
                  <a:pt x="467" y="4"/>
                  <a:pt x="465" y="4"/>
                  <a:pt x="463" y="5"/>
                </a:cubicBezTo>
                <a:cubicBezTo>
                  <a:pt x="458" y="5"/>
                  <a:pt x="455" y="6"/>
                  <a:pt x="452" y="7"/>
                </a:cubicBezTo>
                <a:cubicBezTo>
                  <a:pt x="450" y="8"/>
                  <a:pt x="449" y="9"/>
                  <a:pt x="448" y="11"/>
                </a:cubicBezTo>
                <a:cubicBezTo>
                  <a:pt x="448" y="12"/>
                  <a:pt x="448" y="13"/>
                  <a:pt x="449" y="14"/>
                </a:cubicBezTo>
                <a:cubicBezTo>
                  <a:pt x="449" y="15"/>
                  <a:pt x="450" y="16"/>
                  <a:pt x="452" y="17"/>
                </a:cubicBezTo>
                <a:cubicBezTo>
                  <a:pt x="453" y="19"/>
                  <a:pt x="453" y="19"/>
                  <a:pt x="453" y="20"/>
                </a:cubicBezTo>
                <a:cubicBezTo>
                  <a:pt x="453" y="21"/>
                  <a:pt x="452" y="22"/>
                  <a:pt x="450" y="23"/>
                </a:cubicBezTo>
                <a:cubicBezTo>
                  <a:pt x="448" y="24"/>
                  <a:pt x="445" y="25"/>
                  <a:pt x="441" y="26"/>
                </a:cubicBezTo>
                <a:cubicBezTo>
                  <a:pt x="436" y="27"/>
                  <a:pt x="431" y="29"/>
                  <a:pt x="423" y="30"/>
                </a:cubicBezTo>
                <a:cubicBezTo>
                  <a:pt x="421" y="31"/>
                  <a:pt x="418" y="31"/>
                  <a:pt x="415" y="31"/>
                </a:cubicBezTo>
                <a:cubicBezTo>
                  <a:pt x="412" y="32"/>
                  <a:pt x="410" y="32"/>
                  <a:pt x="407" y="32"/>
                </a:cubicBezTo>
                <a:cubicBezTo>
                  <a:pt x="404" y="33"/>
                  <a:pt x="401" y="33"/>
                  <a:pt x="398" y="33"/>
                </a:cubicBezTo>
                <a:cubicBezTo>
                  <a:pt x="395" y="33"/>
                  <a:pt x="393" y="33"/>
                  <a:pt x="390" y="33"/>
                </a:cubicBezTo>
                <a:cubicBezTo>
                  <a:pt x="385" y="33"/>
                  <a:pt x="380" y="33"/>
                  <a:pt x="375" y="33"/>
                </a:cubicBezTo>
                <a:cubicBezTo>
                  <a:pt x="371" y="33"/>
                  <a:pt x="366" y="33"/>
                  <a:pt x="362" y="32"/>
                </a:cubicBezTo>
                <a:cubicBezTo>
                  <a:pt x="358" y="32"/>
                  <a:pt x="354" y="32"/>
                  <a:pt x="350" y="31"/>
                </a:cubicBezTo>
                <a:cubicBezTo>
                  <a:pt x="346" y="31"/>
                  <a:pt x="343" y="30"/>
                  <a:pt x="340" y="30"/>
                </a:cubicBezTo>
                <a:cubicBezTo>
                  <a:pt x="335" y="29"/>
                  <a:pt x="333" y="28"/>
                  <a:pt x="332" y="26"/>
                </a:cubicBezTo>
                <a:cubicBezTo>
                  <a:pt x="332" y="25"/>
                  <a:pt x="333" y="23"/>
                  <a:pt x="335" y="21"/>
                </a:cubicBezTo>
                <a:cubicBezTo>
                  <a:pt x="337" y="19"/>
                  <a:pt x="340" y="18"/>
                  <a:pt x="343" y="16"/>
                </a:cubicBezTo>
                <a:cubicBezTo>
                  <a:pt x="346" y="14"/>
                  <a:pt x="349" y="13"/>
                  <a:pt x="352" y="11"/>
                </a:cubicBezTo>
                <a:cubicBezTo>
                  <a:pt x="354" y="10"/>
                  <a:pt x="356" y="9"/>
                  <a:pt x="357" y="8"/>
                </a:cubicBezTo>
                <a:cubicBezTo>
                  <a:pt x="359" y="7"/>
                  <a:pt x="359" y="6"/>
                  <a:pt x="360" y="5"/>
                </a:cubicBezTo>
                <a:cubicBezTo>
                  <a:pt x="360" y="4"/>
                  <a:pt x="359" y="3"/>
                  <a:pt x="358" y="3"/>
                </a:cubicBezTo>
                <a:cubicBezTo>
                  <a:pt x="356" y="2"/>
                  <a:pt x="354" y="1"/>
                  <a:pt x="351" y="1"/>
                </a:cubicBezTo>
                <a:cubicBezTo>
                  <a:pt x="350" y="0"/>
                  <a:pt x="347" y="0"/>
                  <a:pt x="344" y="0"/>
                </a:cubicBezTo>
                <a:cubicBezTo>
                  <a:pt x="340" y="0"/>
                  <a:pt x="336" y="0"/>
                  <a:pt x="330" y="0"/>
                </a:cubicBezTo>
                <a:cubicBezTo>
                  <a:pt x="325" y="0"/>
                  <a:pt x="319" y="0"/>
                  <a:pt x="312" y="0"/>
                </a:cubicBezTo>
                <a:cubicBezTo>
                  <a:pt x="306" y="0"/>
                  <a:pt x="299" y="0"/>
                  <a:pt x="291" y="0"/>
                </a:cubicBezTo>
                <a:cubicBezTo>
                  <a:pt x="279" y="1"/>
                  <a:pt x="267" y="1"/>
                  <a:pt x="254" y="1"/>
                </a:cubicBezTo>
                <a:cubicBezTo>
                  <a:pt x="242" y="1"/>
                  <a:pt x="230" y="2"/>
                  <a:pt x="220" y="2"/>
                </a:cubicBezTo>
                <a:cubicBezTo>
                  <a:pt x="209" y="2"/>
                  <a:pt x="201" y="2"/>
                  <a:pt x="194" y="3"/>
                </a:cubicBezTo>
                <a:cubicBezTo>
                  <a:pt x="187" y="3"/>
                  <a:pt x="183" y="3"/>
                  <a:pt x="183" y="3"/>
                </a:cubicBezTo>
                <a:cubicBezTo>
                  <a:pt x="181" y="4"/>
                  <a:pt x="171" y="10"/>
                  <a:pt x="157" y="18"/>
                </a:cubicBezTo>
                <a:cubicBezTo>
                  <a:pt x="142" y="27"/>
                  <a:pt x="124" y="38"/>
                  <a:pt x="104" y="50"/>
                </a:cubicBezTo>
                <a:cubicBezTo>
                  <a:pt x="84" y="62"/>
                  <a:pt x="63" y="74"/>
                  <a:pt x="46" y="85"/>
                </a:cubicBezTo>
                <a:cubicBezTo>
                  <a:pt x="29" y="96"/>
                  <a:pt x="15" y="104"/>
                  <a:pt x="10" y="108"/>
                </a:cubicBezTo>
                <a:cubicBezTo>
                  <a:pt x="7" y="110"/>
                  <a:pt x="4" y="112"/>
                  <a:pt x="3" y="113"/>
                </a:cubicBezTo>
                <a:cubicBezTo>
                  <a:pt x="1" y="115"/>
                  <a:pt x="1" y="116"/>
                  <a:pt x="0" y="117"/>
                </a:cubicBezTo>
                <a:cubicBezTo>
                  <a:pt x="0" y="118"/>
                  <a:pt x="1" y="118"/>
                  <a:pt x="1" y="118"/>
                </a:cubicBezTo>
                <a:cubicBezTo>
                  <a:pt x="2" y="119"/>
                  <a:pt x="3" y="119"/>
                  <a:pt x="4" y="119"/>
                </a:cubicBezTo>
                <a:cubicBezTo>
                  <a:pt x="4" y="119"/>
                  <a:pt x="5" y="119"/>
                  <a:pt x="5" y="119"/>
                </a:cubicBezTo>
                <a:cubicBezTo>
                  <a:pt x="6" y="119"/>
                  <a:pt x="6" y="119"/>
                  <a:pt x="6" y="119"/>
                </a:cubicBezTo>
                <a:cubicBezTo>
                  <a:pt x="7" y="118"/>
                  <a:pt x="7" y="118"/>
                  <a:pt x="7" y="118"/>
                </a:cubicBezTo>
                <a:cubicBezTo>
                  <a:pt x="7" y="118"/>
                  <a:pt x="7" y="118"/>
                  <a:pt x="7" y="118"/>
                </a:cubicBezTo>
                <a:cubicBezTo>
                  <a:pt x="9" y="118"/>
                  <a:pt x="17" y="119"/>
                  <a:pt x="29" y="120"/>
                </a:cubicBezTo>
                <a:cubicBezTo>
                  <a:pt x="40" y="121"/>
                  <a:pt x="56" y="122"/>
                  <a:pt x="72" y="123"/>
                </a:cubicBezTo>
                <a:cubicBezTo>
                  <a:pt x="88" y="124"/>
                  <a:pt x="104" y="125"/>
                  <a:pt x="118" y="126"/>
                </a:cubicBezTo>
                <a:cubicBezTo>
                  <a:pt x="132" y="127"/>
                  <a:pt x="144" y="128"/>
                  <a:pt x="150" y="128"/>
                </a:cubicBezTo>
                <a:cubicBezTo>
                  <a:pt x="150" y="128"/>
                  <a:pt x="150" y="128"/>
                  <a:pt x="150" y="128"/>
                </a:cubicBezTo>
                <a:cubicBezTo>
                  <a:pt x="151" y="128"/>
                  <a:pt x="151" y="128"/>
                  <a:pt x="151" y="128"/>
                </a:cubicBezTo>
                <a:cubicBezTo>
                  <a:pt x="152" y="128"/>
                  <a:pt x="152" y="128"/>
                  <a:pt x="152" y="128"/>
                </a:cubicBezTo>
                <a:cubicBezTo>
                  <a:pt x="153" y="128"/>
                  <a:pt x="153" y="128"/>
                  <a:pt x="153" y="128"/>
                </a:cubicBezTo>
                <a:cubicBezTo>
                  <a:pt x="159" y="128"/>
                  <a:pt x="164" y="127"/>
                  <a:pt x="169" y="126"/>
                </a:cubicBezTo>
                <a:cubicBezTo>
                  <a:pt x="174" y="125"/>
                  <a:pt x="179" y="124"/>
                  <a:pt x="183" y="122"/>
                </a:cubicBezTo>
                <a:cubicBezTo>
                  <a:pt x="187" y="120"/>
                  <a:pt x="191" y="119"/>
                  <a:pt x="193" y="117"/>
                </a:cubicBezTo>
                <a:cubicBezTo>
                  <a:pt x="196" y="115"/>
                  <a:pt x="198" y="113"/>
                  <a:pt x="198" y="111"/>
                </a:cubicBezTo>
                <a:cubicBezTo>
                  <a:pt x="199" y="109"/>
                  <a:pt x="200" y="108"/>
                  <a:pt x="202" y="106"/>
                </a:cubicBezTo>
                <a:cubicBezTo>
                  <a:pt x="204" y="105"/>
                  <a:pt x="206" y="103"/>
                  <a:pt x="208" y="102"/>
                </a:cubicBezTo>
                <a:cubicBezTo>
                  <a:pt x="211" y="101"/>
                  <a:pt x="214" y="100"/>
                  <a:pt x="217" y="99"/>
                </a:cubicBezTo>
                <a:cubicBezTo>
                  <a:pt x="220" y="97"/>
                  <a:pt x="224" y="96"/>
                  <a:pt x="228" y="95"/>
                </a:cubicBezTo>
                <a:cubicBezTo>
                  <a:pt x="230" y="95"/>
                  <a:pt x="232" y="94"/>
                  <a:pt x="236" y="94"/>
                </a:cubicBezTo>
                <a:cubicBezTo>
                  <a:pt x="239" y="93"/>
                  <a:pt x="242" y="93"/>
                  <a:pt x="246" y="92"/>
                </a:cubicBezTo>
                <a:cubicBezTo>
                  <a:pt x="249" y="92"/>
                  <a:pt x="253" y="92"/>
                  <a:pt x="257" y="92"/>
                </a:cubicBezTo>
                <a:cubicBezTo>
                  <a:pt x="261" y="91"/>
                  <a:pt x="265" y="91"/>
                  <a:pt x="269" y="91"/>
                </a:cubicBezTo>
                <a:cubicBezTo>
                  <a:pt x="273" y="91"/>
                  <a:pt x="276" y="91"/>
                  <a:pt x="279" y="91"/>
                </a:cubicBezTo>
                <a:cubicBezTo>
                  <a:pt x="282" y="91"/>
                  <a:pt x="285" y="91"/>
                  <a:pt x="288" y="91"/>
                </a:cubicBezTo>
                <a:cubicBezTo>
                  <a:pt x="291" y="92"/>
                  <a:pt x="294" y="92"/>
                  <a:pt x="296" y="92"/>
                </a:cubicBezTo>
                <a:cubicBezTo>
                  <a:pt x="298" y="93"/>
                  <a:pt x="301" y="93"/>
                  <a:pt x="303" y="93"/>
                </a:cubicBezTo>
                <a:cubicBezTo>
                  <a:pt x="307" y="94"/>
                  <a:pt x="310" y="96"/>
                  <a:pt x="311" y="97"/>
                </a:cubicBezTo>
                <a:cubicBezTo>
                  <a:pt x="313" y="98"/>
                  <a:pt x="314" y="100"/>
                  <a:pt x="313" y="101"/>
                </a:cubicBezTo>
                <a:cubicBezTo>
                  <a:pt x="313" y="103"/>
                  <a:pt x="312" y="104"/>
                  <a:pt x="309" y="106"/>
                </a:cubicBezTo>
                <a:cubicBezTo>
                  <a:pt x="307" y="107"/>
                  <a:pt x="304" y="109"/>
                  <a:pt x="299" y="111"/>
                </a:cubicBezTo>
                <a:cubicBezTo>
                  <a:pt x="295" y="112"/>
                  <a:pt x="292" y="113"/>
                  <a:pt x="289" y="115"/>
                </a:cubicBezTo>
                <a:cubicBezTo>
                  <a:pt x="286" y="116"/>
                  <a:pt x="284" y="117"/>
                  <a:pt x="283" y="118"/>
                </a:cubicBezTo>
                <a:cubicBezTo>
                  <a:pt x="282" y="119"/>
                  <a:pt x="281" y="120"/>
                  <a:pt x="281" y="121"/>
                </a:cubicBezTo>
                <a:cubicBezTo>
                  <a:pt x="280" y="122"/>
                  <a:pt x="281" y="124"/>
                  <a:pt x="282" y="125"/>
                </a:cubicBezTo>
                <a:cubicBezTo>
                  <a:pt x="283" y="127"/>
                  <a:pt x="284" y="128"/>
                  <a:pt x="286" y="129"/>
                </a:cubicBezTo>
                <a:cubicBezTo>
                  <a:pt x="288" y="129"/>
                  <a:pt x="290" y="130"/>
                  <a:pt x="292" y="130"/>
                </a:cubicBezTo>
                <a:cubicBezTo>
                  <a:pt x="295" y="131"/>
                  <a:pt x="297" y="131"/>
                  <a:pt x="299" y="131"/>
                </a:cubicBezTo>
                <a:cubicBezTo>
                  <a:pt x="301" y="131"/>
                  <a:pt x="303" y="131"/>
                  <a:pt x="305" y="131"/>
                </a:cubicBezTo>
                <a:cubicBezTo>
                  <a:pt x="306" y="131"/>
                  <a:pt x="313" y="131"/>
                  <a:pt x="324" y="131"/>
                </a:cubicBezTo>
                <a:cubicBezTo>
                  <a:pt x="335" y="131"/>
                  <a:pt x="349" y="130"/>
                  <a:pt x="364" y="130"/>
                </a:cubicBezTo>
                <a:cubicBezTo>
                  <a:pt x="380" y="130"/>
                  <a:pt x="396" y="129"/>
                  <a:pt x="411" y="129"/>
                </a:cubicBezTo>
                <a:cubicBezTo>
                  <a:pt x="426" y="129"/>
                  <a:pt x="440" y="128"/>
                  <a:pt x="450" y="128"/>
                </a:cubicBezTo>
                <a:cubicBezTo>
                  <a:pt x="460" y="128"/>
                  <a:pt x="467" y="127"/>
                  <a:pt x="473" y="126"/>
                </a:cubicBezTo>
                <a:cubicBezTo>
                  <a:pt x="478" y="126"/>
                  <a:pt x="482" y="125"/>
                  <a:pt x="484" y="124"/>
                </a:cubicBezTo>
                <a:cubicBezTo>
                  <a:pt x="486" y="123"/>
                  <a:pt x="487" y="123"/>
                  <a:pt x="488" y="122"/>
                </a:cubicBezTo>
                <a:cubicBezTo>
                  <a:pt x="488" y="122"/>
                  <a:pt x="488" y="121"/>
                  <a:pt x="488" y="121"/>
                </a:cubicBezTo>
                <a:cubicBezTo>
                  <a:pt x="488" y="121"/>
                  <a:pt x="490" y="119"/>
                  <a:pt x="492" y="116"/>
                </a:cubicBezTo>
                <a:cubicBezTo>
                  <a:pt x="494" y="113"/>
                  <a:pt x="497" y="109"/>
                  <a:pt x="501" y="105"/>
                </a:cubicBezTo>
                <a:cubicBezTo>
                  <a:pt x="504" y="101"/>
                  <a:pt x="508" y="97"/>
                  <a:pt x="512" y="93"/>
                </a:cubicBezTo>
                <a:cubicBezTo>
                  <a:pt x="515" y="89"/>
                  <a:pt x="519" y="86"/>
                  <a:pt x="522" y="84"/>
                </a:cubicBezTo>
                <a:cubicBezTo>
                  <a:pt x="523" y="83"/>
                  <a:pt x="525" y="82"/>
                  <a:pt x="527" y="82"/>
                </a:cubicBezTo>
                <a:cubicBezTo>
                  <a:pt x="528" y="81"/>
                  <a:pt x="530" y="80"/>
                  <a:pt x="532" y="80"/>
                </a:cubicBezTo>
                <a:cubicBezTo>
                  <a:pt x="534" y="80"/>
                  <a:pt x="536" y="79"/>
                  <a:pt x="538" y="79"/>
                </a:cubicBezTo>
                <a:cubicBezTo>
                  <a:pt x="541" y="79"/>
                  <a:pt x="543" y="79"/>
                  <a:pt x="545" y="79"/>
                </a:cubicBezTo>
                <a:cubicBezTo>
                  <a:pt x="549" y="79"/>
                  <a:pt x="552" y="79"/>
                  <a:pt x="556" y="79"/>
                </a:cubicBezTo>
                <a:cubicBezTo>
                  <a:pt x="559" y="79"/>
                  <a:pt x="563" y="80"/>
                  <a:pt x="567" y="80"/>
                </a:cubicBezTo>
                <a:cubicBezTo>
                  <a:pt x="570" y="80"/>
                  <a:pt x="574" y="81"/>
                  <a:pt x="578" y="81"/>
                </a:cubicBezTo>
                <a:cubicBezTo>
                  <a:pt x="581" y="82"/>
                  <a:pt x="585" y="82"/>
                  <a:pt x="588" y="83"/>
                </a:cubicBezTo>
                <a:cubicBezTo>
                  <a:pt x="590" y="83"/>
                  <a:pt x="592" y="83"/>
                  <a:pt x="594" y="83"/>
                </a:cubicBezTo>
                <a:cubicBezTo>
                  <a:pt x="596" y="84"/>
                  <a:pt x="598" y="84"/>
                  <a:pt x="600" y="84"/>
                </a:cubicBezTo>
                <a:cubicBezTo>
                  <a:pt x="602" y="84"/>
                  <a:pt x="604" y="84"/>
                  <a:pt x="606" y="84"/>
                </a:cubicBezTo>
                <a:cubicBezTo>
                  <a:pt x="607" y="84"/>
                  <a:pt x="609" y="84"/>
                  <a:pt x="611" y="84"/>
                </a:cubicBezTo>
                <a:cubicBezTo>
                  <a:pt x="614" y="84"/>
                  <a:pt x="618" y="84"/>
                  <a:pt x="621" y="84"/>
                </a:cubicBezTo>
                <a:cubicBezTo>
                  <a:pt x="625" y="83"/>
                  <a:pt x="628" y="83"/>
                  <a:pt x="632" y="82"/>
                </a:cubicBezTo>
                <a:cubicBezTo>
                  <a:pt x="635" y="82"/>
                  <a:pt x="639" y="81"/>
                  <a:pt x="643" y="80"/>
                </a:cubicBezTo>
                <a:cubicBezTo>
                  <a:pt x="647" y="79"/>
                  <a:pt x="651" y="78"/>
                  <a:pt x="656" y="77"/>
                </a:cubicBezTo>
                <a:cubicBezTo>
                  <a:pt x="662" y="76"/>
                  <a:pt x="668" y="74"/>
                  <a:pt x="672" y="72"/>
                </a:cubicBezTo>
                <a:cubicBezTo>
                  <a:pt x="675" y="70"/>
                  <a:pt x="678" y="68"/>
                  <a:pt x="680" y="65"/>
                </a:cubicBez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Freeform 21"/>
          <p:cNvSpPr/>
          <p:nvPr/>
        </p:nvSpPr>
        <p:spPr>
          <a:xfrm flipH="1">
            <a:off x="4572000" y="2819520"/>
            <a:ext cx="714240" cy="295200"/>
          </a:xfrm>
          <a:custGeom>
            <a:avLst/>
            <a:gdLst/>
            <a:ahLst/>
            <a:rect l="l" t="t" r="r" b="b"/>
            <a:pathLst>
              <a:path w="482" h="199">
                <a:moveTo>
                  <a:pt x="106" y="150"/>
                </a:moveTo>
                <a:cubicBezTo>
                  <a:pt x="113" y="150"/>
                  <a:pt x="120" y="149"/>
                  <a:pt x="127" y="149"/>
                </a:cubicBezTo>
                <a:cubicBezTo>
                  <a:pt x="134" y="149"/>
                  <a:pt x="141" y="149"/>
                  <a:pt x="148" y="149"/>
                </a:cubicBezTo>
                <a:cubicBezTo>
                  <a:pt x="154" y="149"/>
                  <a:pt x="161" y="149"/>
                  <a:pt x="166" y="150"/>
                </a:cubicBezTo>
                <a:cubicBezTo>
                  <a:pt x="172" y="150"/>
                  <a:pt x="176" y="150"/>
                  <a:pt x="180" y="151"/>
                </a:cubicBezTo>
                <a:cubicBezTo>
                  <a:pt x="183" y="151"/>
                  <a:pt x="186" y="152"/>
                  <a:pt x="187" y="153"/>
                </a:cubicBezTo>
                <a:cubicBezTo>
                  <a:pt x="189" y="155"/>
                  <a:pt x="190" y="156"/>
                  <a:pt x="191" y="158"/>
                </a:cubicBezTo>
                <a:cubicBezTo>
                  <a:pt x="191" y="159"/>
                  <a:pt x="191" y="161"/>
                  <a:pt x="190" y="162"/>
                </a:cubicBezTo>
                <a:cubicBezTo>
                  <a:pt x="190" y="163"/>
                  <a:pt x="189" y="164"/>
                  <a:pt x="187" y="166"/>
                </a:cubicBezTo>
                <a:cubicBezTo>
                  <a:pt x="186" y="167"/>
                  <a:pt x="184" y="168"/>
                  <a:pt x="182" y="169"/>
                </a:cubicBezTo>
                <a:cubicBezTo>
                  <a:pt x="180" y="171"/>
                  <a:pt x="179" y="172"/>
                  <a:pt x="178" y="175"/>
                </a:cubicBezTo>
                <a:cubicBezTo>
                  <a:pt x="178" y="177"/>
                  <a:pt x="178" y="179"/>
                  <a:pt x="179" y="181"/>
                </a:cubicBezTo>
                <a:cubicBezTo>
                  <a:pt x="180" y="184"/>
                  <a:pt x="182" y="186"/>
                  <a:pt x="186" y="188"/>
                </a:cubicBezTo>
                <a:cubicBezTo>
                  <a:pt x="190" y="191"/>
                  <a:pt x="195" y="192"/>
                  <a:pt x="201" y="194"/>
                </a:cubicBezTo>
                <a:cubicBezTo>
                  <a:pt x="205" y="195"/>
                  <a:pt x="209" y="195"/>
                  <a:pt x="214" y="196"/>
                </a:cubicBezTo>
                <a:cubicBezTo>
                  <a:pt x="218" y="197"/>
                  <a:pt x="223" y="197"/>
                  <a:pt x="228" y="197"/>
                </a:cubicBezTo>
                <a:cubicBezTo>
                  <a:pt x="233" y="198"/>
                  <a:pt x="238" y="198"/>
                  <a:pt x="244" y="198"/>
                </a:cubicBezTo>
                <a:cubicBezTo>
                  <a:pt x="249" y="199"/>
                  <a:pt x="254" y="199"/>
                  <a:pt x="259" y="199"/>
                </a:cubicBezTo>
                <a:cubicBezTo>
                  <a:pt x="263" y="199"/>
                  <a:pt x="267" y="198"/>
                  <a:pt x="271" y="198"/>
                </a:cubicBezTo>
                <a:cubicBezTo>
                  <a:pt x="275" y="198"/>
                  <a:pt x="278" y="198"/>
                  <a:pt x="282" y="197"/>
                </a:cubicBezTo>
                <a:cubicBezTo>
                  <a:pt x="285" y="197"/>
                  <a:pt x="288" y="196"/>
                  <a:pt x="291" y="196"/>
                </a:cubicBezTo>
                <a:cubicBezTo>
                  <a:pt x="294" y="195"/>
                  <a:pt x="297" y="194"/>
                  <a:pt x="300" y="194"/>
                </a:cubicBezTo>
                <a:cubicBezTo>
                  <a:pt x="305" y="192"/>
                  <a:pt x="310" y="190"/>
                  <a:pt x="314" y="188"/>
                </a:cubicBezTo>
                <a:cubicBezTo>
                  <a:pt x="318" y="186"/>
                  <a:pt x="321" y="185"/>
                  <a:pt x="323" y="183"/>
                </a:cubicBezTo>
                <a:cubicBezTo>
                  <a:pt x="325" y="181"/>
                  <a:pt x="325" y="179"/>
                  <a:pt x="324" y="177"/>
                </a:cubicBezTo>
                <a:cubicBezTo>
                  <a:pt x="324" y="176"/>
                  <a:pt x="322" y="173"/>
                  <a:pt x="318" y="171"/>
                </a:cubicBezTo>
                <a:cubicBezTo>
                  <a:pt x="315" y="169"/>
                  <a:pt x="311" y="166"/>
                  <a:pt x="308" y="164"/>
                </a:cubicBezTo>
                <a:cubicBezTo>
                  <a:pt x="306" y="161"/>
                  <a:pt x="303" y="159"/>
                  <a:pt x="303" y="157"/>
                </a:cubicBezTo>
                <a:cubicBezTo>
                  <a:pt x="302" y="155"/>
                  <a:pt x="303" y="153"/>
                  <a:pt x="305" y="151"/>
                </a:cubicBezTo>
                <a:cubicBezTo>
                  <a:pt x="308" y="150"/>
                  <a:pt x="313" y="149"/>
                  <a:pt x="321" y="148"/>
                </a:cubicBezTo>
                <a:cubicBezTo>
                  <a:pt x="322" y="148"/>
                  <a:pt x="323" y="148"/>
                  <a:pt x="325" y="148"/>
                </a:cubicBezTo>
                <a:cubicBezTo>
                  <a:pt x="326" y="148"/>
                  <a:pt x="327" y="148"/>
                  <a:pt x="329" y="148"/>
                </a:cubicBezTo>
                <a:cubicBezTo>
                  <a:pt x="330" y="148"/>
                  <a:pt x="332" y="148"/>
                  <a:pt x="333" y="148"/>
                </a:cubicBezTo>
                <a:cubicBezTo>
                  <a:pt x="335" y="148"/>
                  <a:pt x="337" y="148"/>
                  <a:pt x="338" y="148"/>
                </a:cubicBezTo>
                <a:cubicBezTo>
                  <a:pt x="349" y="148"/>
                  <a:pt x="361" y="148"/>
                  <a:pt x="374" y="148"/>
                </a:cubicBezTo>
                <a:cubicBezTo>
                  <a:pt x="387" y="148"/>
                  <a:pt x="400" y="148"/>
                  <a:pt x="412" y="148"/>
                </a:cubicBezTo>
                <a:cubicBezTo>
                  <a:pt x="424" y="148"/>
                  <a:pt x="435" y="148"/>
                  <a:pt x="444" y="148"/>
                </a:cubicBezTo>
                <a:cubicBezTo>
                  <a:pt x="452" y="149"/>
                  <a:pt x="457" y="149"/>
                  <a:pt x="458" y="149"/>
                </a:cubicBezTo>
                <a:cubicBezTo>
                  <a:pt x="458" y="149"/>
                  <a:pt x="458" y="149"/>
                  <a:pt x="458" y="149"/>
                </a:cubicBezTo>
                <a:cubicBezTo>
                  <a:pt x="459" y="149"/>
                  <a:pt x="459" y="149"/>
                  <a:pt x="459" y="149"/>
                </a:cubicBezTo>
                <a:cubicBezTo>
                  <a:pt x="459" y="149"/>
                  <a:pt x="460" y="149"/>
                  <a:pt x="460" y="149"/>
                </a:cubicBezTo>
                <a:cubicBezTo>
                  <a:pt x="461" y="149"/>
                  <a:pt x="461" y="149"/>
                  <a:pt x="462" y="149"/>
                </a:cubicBezTo>
                <a:cubicBezTo>
                  <a:pt x="463" y="149"/>
                  <a:pt x="465" y="149"/>
                  <a:pt x="467" y="148"/>
                </a:cubicBezTo>
                <a:cubicBezTo>
                  <a:pt x="469" y="148"/>
                  <a:pt x="471" y="148"/>
                  <a:pt x="472" y="147"/>
                </a:cubicBezTo>
                <a:cubicBezTo>
                  <a:pt x="474" y="146"/>
                  <a:pt x="476" y="145"/>
                  <a:pt x="477" y="144"/>
                </a:cubicBezTo>
                <a:cubicBezTo>
                  <a:pt x="478" y="142"/>
                  <a:pt x="479" y="140"/>
                  <a:pt x="480" y="138"/>
                </a:cubicBezTo>
                <a:cubicBezTo>
                  <a:pt x="480" y="135"/>
                  <a:pt x="481" y="131"/>
                  <a:pt x="481" y="126"/>
                </a:cubicBezTo>
                <a:cubicBezTo>
                  <a:pt x="481" y="121"/>
                  <a:pt x="482" y="116"/>
                  <a:pt x="482" y="111"/>
                </a:cubicBezTo>
                <a:cubicBezTo>
                  <a:pt x="482" y="107"/>
                  <a:pt x="482" y="102"/>
                  <a:pt x="482" y="99"/>
                </a:cubicBezTo>
                <a:cubicBezTo>
                  <a:pt x="482" y="96"/>
                  <a:pt x="482" y="94"/>
                  <a:pt x="482" y="93"/>
                </a:cubicBezTo>
                <a:cubicBezTo>
                  <a:pt x="482" y="93"/>
                  <a:pt x="482" y="93"/>
                  <a:pt x="482" y="92"/>
                </a:cubicBezTo>
                <a:cubicBezTo>
                  <a:pt x="482" y="92"/>
                  <a:pt x="482" y="91"/>
                  <a:pt x="481" y="90"/>
                </a:cubicBezTo>
                <a:cubicBezTo>
                  <a:pt x="479" y="89"/>
                  <a:pt x="477" y="88"/>
                  <a:pt x="474" y="87"/>
                </a:cubicBezTo>
                <a:cubicBezTo>
                  <a:pt x="471" y="86"/>
                  <a:pt x="467" y="85"/>
                  <a:pt x="461" y="85"/>
                </a:cubicBezTo>
                <a:cubicBezTo>
                  <a:pt x="459" y="84"/>
                  <a:pt x="456" y="84"/>
                  <a:pt x="454" y="83"/>
                </a:cubicBezTo>
                <a:cubicBezTo>
                  <a:pt x="451" y="83"/>
                  <a:pt x="449" y="83"/>
                  <a:pt x="447" y="83"/>
                </a:cubicBezTo>
                <a:cubicBezTo>
                  <a:pt x="445" y="83"/>
                  <a:pt x="443" y="82"/>
                  <a:pt x="441" y="82"/>
                </a:cubicBezTo>
                <a:cubicBezTo>
                  <a:pt x="440" y="82"/>
                  <a:pt x="438" y="82"/>
                  <a:pt x="436" y="82"/>
                </a:cubicBezTo>
                <a:cubicBezTo>
                  <a:pt x="434" y="82"/>
                  <a:pt x="432" y="82"/>
                  <a:pt x="431" y="83"/>
                </a:cubicBezTo>
                <a:cubicBezTo>
                  <a:pt x="429" y="83"/>
                  <a:pt x="427" y="83"/>
                  <a:pt x="425" y="83"/>
                </a:cubicBezTo>
                <a:cubicBezTo>
                  <a:pt x="423" y="83"/>
                  <a:pt x="421" y="84"/>
                  <a:pt x="418" y="84"/>
                </a:cubicBezTo>
                <a:cubicBezTo>
                  <a:pt x="416" y="84"/>
                  <a:pt x="414" y="85"/>
                  <a:pt x="411" y="85"/>
                </a:cubicBezTo>
                <a:cubicBezTo>
                  <a:pt x="409" y="85"/>
                  <a:pt x="408" y="85"/>
                  <a:pt x="406" y="86"/>
                </a:cubicBezTo>
                <a:cubicBezTo>
                  <a:pt x="404" y="86"/>
                  <a:pt x="403" y="86"/>
                  <a:pt x="401" y="86"/>
                </a:cubicBezTo>
                <a:cubicBezTo>
                  <a:pt x="399" y="86"/>
                  <a:pt x="398" y="86"/>
                  <a:pt x="396" y="86"/>
                </a:cubicBezTo>
                <a:cubicBezTo>
                  <a:pt x="394" y="87"/>
                  <a:pt x="393" y="87"/>
                  <a:pt x="391" y="87"/>
                </a:cubicBezTo>
                <a:cubicBezTo>
                  <a:pt x="387" y="87"/>
                  <a:pt x="383" y="87"/>
                  <a:pt x="380" y="86"/>
                </a:cubicBezTo>
                <a:cubicBezTo>
                  <a:pt x="376" y="86"/>
                  <a:pt x="372" y="86"/>
                  <a:pt x="369" y="85"/>
                </a:cubicBezTo>
                <a:cubicBezTo>
                  <a:pt x="365" y="85"/>
                  <a:pt x="362" y="84"/>
                  <a:pt x="359" y="83"/>
                </a:cubicBezTo>
                <a:cubicBezTo>
                  <a:pt x="356" y="82"/>
                  <a:pt x="353" y="81"/>
                  <a:pt x="350" y="80"/>
                </a:cubicBezTo>
                <a:cubicBezTo>
                  <a:pt x="347" y="79"/>
                  <a:pt x="344" y="77"/>
                  <a:pt x="343" y="74"/>
                </a:cubicBezTo>
                <a:cubicBezTo>
                  <a:pt x="341" y="72"/>
                  <a:pt x="341" y="70"/>
                  <a:pt x="341" y="68"/>
                </a:cubicBezTo>
                <a:cubicBezTo>
                  <a:pt x="342" y="66"/>
                  <a:pt x="344" y="64"/>
                  <a:pt x="346" y="62"/>
                </a:cubicBezTo>
                <a:cubicBezTo>
                  <a:pt x="348" y="60"/>
                  <a:pt x="351" y="59"/>
                  <a:pt x="355" y="58"/>
                </a:cubicBezTo>
                <a:cubicBezTo>
                  <a:pt x="357" y="58"/>
                  <a:pt x="360" y="57"/>
                  <a:pt x="362" y="57"/>
                </a:cubicBezTo>
                <a:cubicBezTo>
                  <a:pt x="365" y="56"/>
                  <a:pt x="368" y="56"/>
                  <a:pt x="370" y="56"/>
                </a:cubicBezTo>
                <a:cubicBezTo>
                  <a:pt x="373" y="55"/>
                  <a:pt x="376" y="55"/>
                  <a:pt x="379" y="55"/>
                </a:cubicBezTo>
                <a:cubicBezTo>
                  <a:pt x="382" y="54"/>
                  <a:pt x="385" y="54"/>
                  <a:pt x="388" y="54"/>
                </a:cubicBezTo>
                <a:cubicBezTo>
                  <a:pt x="390" y="54"/>
                  <a:pt x="391" y="54"/>
                  <a:pt x="393" y="54"/>
                </a:cubicBezTo>
                <a:cubicBezTo>
                  <a:pt x="395" y="54"/>
                  <a:pt x="396" y="54"/>
                  <a:pt x="398" y="54"/>
                </a:cubicBezTo>
                <a:cubicBezTo>
                  <a:pt x="400" y="54"/>
                  <a:pt x="402" y="55"/>
                  <a:pt x="403" y="55"/>
                </a:cubicBezTo>
                <a:cubicBezTo>
                  <a:pt x="405" y="55"/>
                  <a:pt x="407" y="55"/>
                  <a:pt x="409" y="55"/>
                </a:cubicBezTo>
                <a:cubicBezTo>
                  <a:pt x="410" y="55"/>
                  <a:pt x="412" y="55"/>
                  <a:pt x="413" y="55"/>
                </a:cubicBezTo>
                <a:cubicBezTo>
                  <a:pt x="415" y="55"/>
                  <a:pt x="416" y="55"/>
                  <a:pt x="417" y="55"/>
                </a:cubicBezTo>
                <a:cubicBezTo>
                  <a:pt x="419" y="55"/>
                  <a:pt x="420" y="55"/>
                  <a:pt x="421" y="55"/>
                </a:cubicBezTo>
                <a:cubicBezTo>
                  <a:pt x="423" y="55"/>
                  <a:pt x="424" y="55"/>
                  <a:pt x="426" y="55"/>
                </a:cubicBezTo>
                <a:cubicBezTo>
                  <a:pt x="431" y="55"/>
                  <a:pt x="436" y="55"/>
                  <a:pt x="441" y="55"/>
                </a:cubicBezTo>
                <a:cubicBezTo>
                  <a:pt x="445" y="54"/>
                  <a:pt x="449" y="54"/>
                  <a:pt x="453" y="53"/>
                </a:cubicBezTo>
                <a:cubicBezTo>
                  <a:pt x="457" y="52"/>
                  <a:pt x="459" y="51"/>
                  <a:pt x="461" y="50"/>
                </a:cubicBezTo>
                <a:cubicBezTo>
                  <a:pt x="463" y="49"/>
                  <a:pt x="463" y="48"/>
                  <a:pt x="463" y="46"/>
                </a:cubicBezTo>
                <a:cubicBezTo>
                  <a:pt x="462" y="45"/>
                  <a:pt x="459" y="41"/>
                  <a:pt x="455" y="37"/>
                </a:cubicBezTo>
                <a:cubicBezTo>
                  <a:pt x="452" y="33"/>
                  <a:pt x="447" y="28"/>
                  <a:pt x="443" y="23"/>
                </a:cubicBezTo>
                <a:cubicBezTo>
                  <a:pt x="438" y="18"/>
                  <a:pt x="434" y="13"/>
                  <a:pt x="431" y="10"/>
                </a:cubicBezTo>
                <a:cubicBezTo>
                  <a:pt x="427" y="6"/>
                  <a:pt x="425" y="4"/>
                  <a:pt x="425" y="3"/>
                </a:cubicBezTo>
                <a:cubicBezTo>
                  <a:pt x="426" y="3"/>
                  <a:pt x="426" y="3"/>
                  <a:pt x="426" y="3"/>
                </a:cubicBezTo>
                <a:cubicBezTo>
                  <a:pt x="426" y="3"/>
                  <a:pt x="426" y="2"/>
                  <a:pt x="424" y="2"/>
                </a:cubicBezTo>
                <a:cubicBezTo>
                  <a:pt x="423" y="1"/>
                  <a:pt x="420" y="1"/>
                  <a:pt x="414" y="1"/>
                </a:cubicBezTo>
                <a:cubicBezTo>
                  <a:pt x="409" y="1"/>
                  <a:pt x="401" y="0"/>
                  <a:pt x="389" y="1"/>
                </a:cubicBezTo>
                <a:cubicBezTo>
                  <a:pt x="389" y="1"/>
                  <a:pt x="389" y="1"/>
                  <a:pt x="389" y="1"/>
                </a:cubicBezTo>
                <a:cubicBezTo>
                  <a:pt x="388" y="1"/>
                  <a:pt x="388" y="1"/>
                  <a:pt x="388" y="1"/>
                </a:cubicBezTo>
                <a:cubicBezTo>
                  <a:pt x="388" y="1"/>
                  <a:pt x="388" y="1"/>
                  <a:pt x="388" y="1"/>
                </a:cubicBezTo>
                <a:cubicBezTo>
                  <a:pt x="387" y="1"/>
                  <a:pt x="387" y="1"/>
                  <a:pt x="387" y="1"/>
                </a:cubicBezTo>
                <a:cubicBezTo>
                  <a:pt x="374" y="1"/>
                  <a:pt x="345" y="2"/>
                  <a:pt x="309" y="3"/>
                </a:cubicBezTo>
                <a:cubicBezTo>
                  <a:pt x="274" y="4"/>
                  <a:pt x="231" y="5"/>
                  <a:pt x="189" y="6"/>
                </a:cubicBezTo>
                <a:cubicBezTo>
                  <a:pt x="147" y="8"/>
                  <a:pt x="107" y="9"/>
                  <a:pt x="76" y="10"/>
                </a:cubicBezTo>
                <a:cubicBezTo>
                  <a:pt x="45" y="11"/>
                  <a:pt x="23" y="12"/>
                  <a:pt x="19" y="12"/>
                </a:cubicBezTo>
                <a:cubicBezTo>
                  <a:pt x="19" y="12"/>
                  <a:pt x="17" y="15"/>
                  <a:pt x="15" y="20"/>
                </a:cubicBezTo>
                <a:cubicBezTo>
                  <a:pt x="13" y="24"/>
                  <a:pt x="10" y="30"/>
                  <a:pt x="8" y="36"/>
                </a:cubicBezTo>
                <a:cubicBezTo>
                  <a:pt x="5" y="42"/>
                  <a:pt x="3" y="48"/>
                  <a:pt x="2" y="53"/>
                </a:cubicBezTo>
                <a:cubicBezTo>
                  <a:pt x="0" y="58"/>
                  <a:pt x="0" y="62"/>
                  <a:pt x="2" y="63"/>
                </a:cubicBezTo>
                <a:cubicBezTo>
                  <a:pt x="4" y="64"/>
                  <a:pt x="5" y="65"/>
                  <a:pt x="7" y="65"/>
                </a:cubicBezTo>
                <a:cubicBezTo>
                  <a:pt x="9" y="66"/>
                  <a:pt x="12" y="67"/>
                  <a:pt x="14" y="67"/>
                </a:cubicBezTo>
                <a:cubicBezTo>
                  <a:pt x="17" y="67"/>
                  <a:pt x="19" y="68"/>
                  <a:pt x="22" y="68"/>
                </a:cubicBezTo>
                <a:cubicBezTo>
                  <a:pt x="25" y="68"/>
                  <a:pt x="28" y="68"/>
                  <a:pt x="31" y="68"/>
                </a:cubicBezTo>
                <a:cubicBezTo>
                  <a:pt x="32" y="68"/>
                  <a:pt x="33" y="68"/>
                  <a:pt x="34" y="68"/>
                </a:cubicBezTo>
                <a:cubicBezTo>
                  <a:pt x="36" y="68"/>
                  <a:pt x="37" y="68"/>
                  <a:pt x="38" y="68"/>
                </a:cubicBezTo>
                <a:cubicBezTo>
                  <a:pt x="39" y="68"/>
                  <a:pt x="40" y="67"/>
                  <a:pt x="41" y="67"/>
                </a:cubicBezTo>
                <a:cubicBezTo>
                  <a:pt x="42" y="67"/>
                  <a:pt x="43" y="67"/>
                  <a:pt x="44" y="67"/>
                </a:cubicBezTo>
                <a:cubicBezTo>
                  <a:pt x="47" y="67"/>
                  <a:pt x="49" y="67"/>
                  <a:pt x="52" y="67"/>
                </a:cubicBezTo>
                <a:cubicBezTo>
                  <a:pt x="55" y="67"/>
                  <a:pt x="57" y="66"/>
                  <a:pt x="60" y="66"/>
                </a:cubicBezTo>
                <a:cubicBezTo>
                  <a:pt x="63" y="66"/>
                  <a:pt x="67" y="66"/>
                  <a:pt x="70" y="66"/>
                </a:cubicBezTo>
                <a:cubicBezTo>
                  <a:pt x="73" y="66"/>
                  <a:pt x="76" y="66"/>
                  <a:pt x="79" y="66"/>
                </a:cubicBezTo>
                <a:cubicBezTo>
                  <a:pt x="83" y="65"/>
                  <a:pt x="87" y="65"/>
                  <a:pt x="91" y="66"/>
                </a:cubicBezTo>
                <a:cubicBezTo>
                  <a:pt x="94" y="66"/>
                  <a:pt x="98" y="66"/>
                  <a:pt x="101" y="66"/>
                </a:cubicBezTo>
                <a:cubicBezTo>
                  <a:pt x="104" y="67"/>
                  <a:pt x="107" y="67"/>
                  <a:pt x="109" y="68"/>
                </a:cubicBezTo>
                <a:cubicBezTo>
                  <a:pt x="112" y="68"/>
                  <a:pt x="114" y="69"/>
                  <a:pt x="115" y="70"/>
                </a:cubicBezTo>
                <a:cubicBezTo>
                  <a:pt x="118" y="72"/>
                  <a:pt x="121" y="74"/>
                  <a:pt x="123" y="76"/>
                </a:cubicBezTo>
                <a:cubicBezTo>
                  <a:pt x="126" y="78"/>
                  <a:pt x="127" y="81"/>
                  <a:pt x="128" y="83"/>
                </a:cubicBezTo>
                <a:cubicBezTo>
                  <a:pt x="129" y="86"/>
                  <a:pt x="128" y="88"/>
                  <a:pt x="126" y="91"/>
                </a:cubicBezTo>
                <a:cubicBezTo>
                  <a:pt x="124" y="93"/>
                  <a:pt x="121" y="95"/>
                  <a:pt x="115" y="97"/>
                </a:cubicBezTo>
                <a:cubicBezTo>
                  <a:pt x="111" y="98"/>
                  <a:pt x="108" y="99"/>
                  <a:pt x="105" y="100"/>
                </a:cubicBezTo>
                <a:cubicBezTo>
                  <a:pt x="102" y="101"/>
                  <a:pt x="100" y="102"/>
                  <a:pt x="97" y="102"/>
                </a:cubicBezTo>
                <a:cubicBezTo>
                  <a:pt x="94" y="103"/>
                  <a:pt x="92" y="103"/>
                  <a:pt x="89" y="104"/>
                </a:cubicBezTo>
                <a:cubicBezTo>
                  <a:pt x="87" y="104"/>
                  <a:pt x="85" y="104"/>
                  <a:pt x="83" y="104"/>
                </a:cubicBezTo>
                <a:cubicBezTo>
                  <a:pt x="81" y="104"/>
                  <a:pt x="80" y="104"/>
                  <a:pt x="78" y="104"/>
                </a:cubicBezTo>
                <a:cubicBezTo>
                  <a:pt x="77" y="104"/>
                  <a:pt x="75" y="104"/>
                  <a:pt x="74" y="104"/>
                </a:cubicBezTo>
                <a:cubicBezTo>
                  <a:pt x="72" y="103"/>
                  <a:pt x="71" y="103"/>
                  <a:pt x="69" y="103"/>
                </a:cubicBezTo>
                <a:cubicBezTo>
                  <a:pt x="68" y="103"/>
                  <a:pt x="66" y="103"/>
                  <a:pt x="64" y="102"/>
                </a:cubicBezTo>
                <a:cubicBezTo>
                  <a:pt x="62" y="102"/>
                  <a:pt x="59" y="101"/>
                  <a:pt x="56" y="101"/>
                </a:cubicBezTo>
                <a:cubicBezTo>
                  <a:pt x="53" y="100"/>
                  <a:pt x="50" y="100"/>
                  <a:pt x="48" y="100"/>
                </a:cubicBezTo>
                <a:cubicBezTo>
                  <a:pt x="45" y="99"/>
                  <a:pt x="42" y="99"/>
                  <a:pt x="39" y="99"/>
                </a:cubicBezTo>
                <a:cubicBezTo>
                  <a:pt x="36" y="99"/>
                  <a:pt x="33" y="99"/>
                  <a:pt x="30" y="99"/>
                </a:cubicBezTo>
                <a:cubicBezTo>
                  <a:pt x="29" y="99"/>
                  <a:pt x="27" y="99"/>
                  <a:pt x="25" y="99"/>
                </a:cubicBezTo>
                <a:cubicBezTo>
                  <a:pt x="24" y="99"/>
                  <a:pt x="22" y="99"/>
                  <a:pt x="21" y="99"/>
                </a:cubicBezTo>
                <a:cubicBezTo>
                  <a:pt x="19" y="100"/>
                  <a:pt x="18" y="100"/>
                  <a:pt x="16" y="100"/>
                </a:cubicBezTo>
                <a:cubicBezTo>
                  <a:pt x="15" y="101"/>
                  <a:pt x="14" y="101"/>
                  <a:pt x="12" y="102"/>
                </a:cubicBezTo>
                <a:cubicBezTo>
                  <a:pt x="9" y="103"/>
                  <a:pt x="7" y="104"/>
                  <a:pt x="6" y="106"/>
                </a:cubicBezTo>
                <a:cubicBezTo>
                  <a:pt x="4" y="108"/>
                  <a:pt x="4" y="109"/>
                  <a:pt x="4" y="111"/>
                </a:cubicBezTo>
                <a:cubicBezTo>
                  <a:pt x="4" y="113"/>
                  <a:pt x="4" y="116"/>
                  <a:pt x="5" y="118"/>
                </a:cubicBezTo>
                <a:cubicBezTo>
                  <a:pt x="6" y="120"/>
                  <a:pt x="8" y="123"/>
                  <a:pt x="9" y="126"/>
                </a:cubicBezTo>
                <a:cubicBezTo>
                  <a:pt x="11" y="129"/>
                  <a:pt x="12" y="132"/>
                  <a:pt x="14" y="134"/>
                </a:cubicBezTo>
                <a:cubicBezTo>
                  <a:pt x="16" y="137"/>
                  <a:pt x="17" y="139"/>
                  <a:pt x="19" y="141"/>
                </a:cubicBezTo>
                <a:cubicBezTo>
                  <a:pt x="20" y="143"/>
                  <a:pt x="22" y="144"/>
                  <a:pt x="23" y="145"/>
                </a:cubicBezTo>
                <a:cubicBezTo>
                  <a:pt x="24" y="146"/>
                  <a:pt x="25" y="147"/>
                  <a:pt x="25" y="147"/>
                </a:cubicBezTo>
                <a:cubicBezTo>
                  <a:pt x="25" y="147"/>
                  <a:pt x="25" y="148"/>
                  <a:pt x="25" y="148"/>
                </a:cubicBezTo>
                <a:cubicBezTo>
                  <a:pt x="26" y="148"/>
                  <a:pt x="27" y="149"/>
                  <a:pt x="29" y="149"/>
                </a:cubicBezTo>
                <a:cubicBezTo>
                  <a:pt x="31" y="150"/>
                  <a:pt x="34" y="150"/>
                  <a:pt x="39" y="151"/>
                </a:cubicBezTo>
                <a:cubicBezTo>
                  <a:pt x="43" y="151"/>
                  <a:pt x="49" y="151"/>
                  <a:pt x="56" y="151"/>
                </a:cubicBezTo>
                <a:cubicBezTo>
                  <a:pt x="60" y="151"/>
                  <a:pt x="64" y="151"/>
                  <a:pt x="69" y="151"/>
                </a:cubicBezTo>
                <a:cubicBezTo>
                  <a:pt x="74" y="151"/>
                  <a:pt x="80" y="150"/>
                  <a:pt x="87" y="150"/>
                </a:cubicBezTo>
                <a:cubicBezTo>
                  <a:pt x="93" y="150"/>
                  <a:pt x="99" y="150"/>
                  <a:pt x="106" y="150"/>
                </a:cubicBez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Freeform 22"/>
          <p:cNvSpPr/>
          <p:nvPr/>
        </p:nvSpPr>
        <p:spPr>
          <a:xfrm flipH="1">
            <a:off x="5333400" y="3060720"/>
            <a:ext cx="1152360" cy="291960"/>
          </a:xfrm>
          <a:custGeom>
            <a:avLst/>
            <a:gdLst/>
            <a:ahLst/>
            <a:rect l="l" t="t" r="r" b="b"/>
            <a:pathLst>
              <a:path w="779" h="196">
                <a:moveTo>
                  <a:pt x="766" y="69"/>
                </a:moveTo>
                <a:cubicBezTo>
                  <a:pt x="761" y="66"/>
                  <a:pt x="754" y="63"/>
                  <a:pt x="748" y="60"/>
                </a:cubicBezTo>
                <a:cubicBezTo>
                  <a:pt x="746" y="60"/>
                  <a:pt x="744" y="59"/>
                  <a:pt x="742" y="59"/>
                </a:cubicBezTo>
                <a:cubicBezTo>
                  <a:pt x="740" y="58"/>
                  <a:pt x="738" y="58"/>
                  <a:pt x="736" y="58"/>
                </a:cubicBezTo>
                <a:cubicBezTo>
                  <a:pt x="733" y="58"/>
                  <a:pt x="731" y="57"/>
                  <a:pt x="729" y="57"/>
                </a:cubicBezTo>
                <a:cubicBezTo>
                  <a:pt x="726" y="57"/>
                  <a:pt x="724" y="57"/>
                  <a:pt x="722" y="57"/>
                </a:cubicBezTo>
                <a:cubicBezTo>
                  <a:pt x="716" y="57"/>
                  <a:pt x="710" y="58"/>
                  <a:pt x="704" y="58"/>
                </a:cubicBezTo>
                <a:cubicBezTo>
                  <a:pt x="698" y="59"/>
                  <a:pt x="692" y="60"/>
                  <a:pt x="686" y="61"/>
                </a:cubicBezTo>
                <a:cubicBezTo>
                  <a:pt x="680" y="62"/>
                  <a:pt x="675" y="63"/>
                  <a:pt x="670" y="64"/>
                </a:cubicBezTo>
                <a:cubicBezTo>
                  <a:pt x="665" y="65"/>
                  <a:pt x="660" y="66"/>
                  <a:pt x="656" y="67"/>
                </a:cubicBezTo>
                <a:cubicBezTo>
                  <a:pt x="656" y="67"/>
                  <a:pt x="655" y="67"/>
                  <a:pt x="655" y="67"/>
                </a:cubicBezTo>
                <a:cubicBezTo>
                  <a:pt x="654" y="67"/>
                  <a:pt x="654" y="67"/>
                  <a:pt x="653" y="67"/>
                </a:cubicBezTo>
                <a:cubicBezTo>
                  <a:pt x="652" y="68"/>
                  <a:pt x="652" y="68"/>
                  <a:pt x="651" y="68"/>
                </a:cubicBezTo>
                <a:cubicBezTo>
                  <a:pt x="651" y="68"/>
                  <a:pt x="650" y="68"/>
                  <a:pt x="650" y="68"/>
                </a:cubicBezTo>
                <a:cubicBezTo>
                  <a:pt x="646" y="68"/>
                  <a:pt x="643" y="67"/>
                  <a:pt x="640" y="66"/>
                </a:cubicBezTo>
                <a:cubicBezTo>
                  <a:pt x="638" y="65"/>
                  <a:pt x="636" y="64"/>
                  <a:pt x="634" y="62"/>
                </a:cubicBezTo>
                <a:cubicBezTo>
                  <a:pt x="632" y="61"/>
                  <a:pt x="631" y="59"/>
                  <a:pt x="631" y="58"/>
                </a:cubicBezTo>
                <a:cubicBezTo>
                  <a:pt x="630" y="57"/>
                  <a:pt x="630" y="56"/>
                  <a:pt x="630" y="56"/>
                </a:cubicBezTo>
                <a:cubicBezTo>
                  <a:pt x="649" y="5"/>
                  <a:pt x="649" y="5"/>
                  <a:pt x="649" y="5"/>
                </a:cubicBezTo>
                <a:cubicBezTo>
                  <a:pt x="647" y="5"/>
                  <a:pt x="639" y="5"/>
                  <a:pt x="628" y="5"/>
                </a:cubicBezTo>
                <a:cubicBezTo>
                  <a:pt x="616" y="4"/>
                  <a:pt x="601" y="4"/>
                  <a:pt x="584" y="4"/>
                </a:cubicBezTo>
                <a:cubicBezTo>
                  <a:pt x="567" y="4"/>
                  <a:pt x="549" y="3"/>
                  <a:pt x="532" y="3"/>
                </a:cubicBezTo>
                <a:cubicBezTo>
                  <a:pt x="515" y="3"/>
                  <a:pt x="498" y="3"/>
                  <a:pt x="486" y="3"/>
                </a:cubicBezTo>
                <a:cubicBezTo>
                  <a:pt x="484" y="3"/>
                  <a:pt x="483" y="3"/>
                  <a:pt x="481" y="3"/>
                </a:cubicBezTo>
                <a:cubicBezTo>
                  <a:pt x="480" y="3"/>
                  <a:pt x="478" y="3"/>
                  <a:pt x="477" y="3"/>
                </a:cubicBezTo>
                <a:cubicBezTo>
                  <a:pt x="476" y="3"/>
                  <a:pt x="475" y="4"/>
                  <a:pt x="473" y="4"/>
                </a:cubicBezTo>
                <a:cubicBezTo>
                  <a:pt x="472" y="4"/>
                  <a:pt x="471" y="4"/>
                  <a:pt x="470" y="4"/>
                </a:cubicBezTo>
                <a:cubicBezTo>
                  <a:pt x="460" y="4"/>
                  <a:pt x="454" y="6"/>
                  <a:pt x="450" y="9"/>
                </a:cubicBezTo>
                <a:cubicBezTo>
                  <a:pt x="447" y="12"/>
                  <a:pt x="446" y="15"/>
                  <a:pt x="446" y="20"/>
                </a:cubicBezTo>
                <a:cubicBezTo>
                  <a:pt x="446" y="24"/>
                  <a:pt x="447" y="28"/>
                  <a:pt x="448" y="32"/>
                </a:cubicBezTo>
                <a:cubicBezTo>
                  <a:pt x="449" y="36"/>
                  <a:pt x="449" y="40"/>
                  <a:pt x="449" y="43"/>
                </a:cubicBezTo>
                <a:cubicBezTo>
                  <a:pt x="448" y="44"/>
                  <a:pt x="447" y="46"/>
                  <a:pt x="444" y="47"/>
                </a:cubicBezTo>
                <a:cubicBezTo>
                  <a:pt x="441" y="48"/>
                  <a:pt x="437" y="49"/>
                  <a:pt x="433" y="50"/>
                </a:cubicBezTo>
                <a:cubicBezTo>
                  <a:pt x="428" y="51"/>
                  <a:pt x="423" y="52"/>
                  <a:pt x="417" y="52"/>
                </a:cubicBezTo>
                <a:cubicBezTo>
                  <a:pt x="411" y="53"/>
                  <a:pt x="405" y="53"/>
                  <a:pt x="398" y="53"/>
                </a:cubicBezTo>
                <a:cubicBezTo>
                  <a:pt x="394" y="53"/>
                  <a:pt x="389" y="53"/>
                  <a:pt x="384" y="53"/>
                </a:cubicBezTo>
                <a:cubicBezTo>
                  <a:pt x="379" y="53"/>
                  <a:pt x="375" y="53"/>
                  <a:pt x="370" y="52"/>
                </a:cubicBezTo>
                <a:cubicBezTo>
                  <a:pt x="365" y="52"/>
                  <a:pt x="360" y="52"/>
                  <a:pt x="355" y="51"/>
                </a:cubicBezTo>
                <a:cubicBezTo>
                  <a:pt x="351" y="51"/>
                  <a:pt x="346" y="50"/>
                  <a:pt x="341" y="50"/>
                </a:cubicBezTo>
                <a:cubicBezTo>
                  <a:pt x="330" y="48"/>
                  <a:pt x="325" y="45"/>
                  <a:pt x="324" y="42"/>
                </a:cubicBezTo>
                <a:cubicBezTo>
                  <a:pt x="323" y="39"/>
                  <a:pt x="325" y="35"/>
                  <a:pt x="329" y="32"/>
                </a:cubicBezTo>
                <a:cubicBezTo>
                  <a:pt x="334" y="28"/>
                  <a:pt x="340" y="24"/>
                  <a:pt x="345" y="21"/>
                </a:cubicBezTo>
                <a:cubicBezTo>
                  <a:pt x="351" y="17"/>
                  <a:pt x="356" y="14"/>
                  <a:pt x="358" y="12"/>
                </a:cubicBezTo>
                <a:cubicBezTo>
                  <a:pt x="361" y="10"/>
                  <a:pt x="360" y="8"/>
                  <a:pt x="356" y="6"/>
                </a:cubicBezTo>
                <a:cubicBezTo>
                  <a:pt x="353" y="5"/>
                  <a:pt x="348" y="4"/>
                  <a:pt x="342" y="3"/>
                </a:cubicBezTo>
                <a:cubicBezTo>
                  <a:pt x="336" y="2"/>
                  <a:pt x="329" y="1"/>
                  <a:pt x="324" y="1"/>
                </a:cubicBezTo>
                <a:cubicBezTo>
                  <a:pt x="319" y="1"/>
                  <a:pt x="315" y="0"/>
                  <a:pt x="315" y="0"/>
                </a:cubicBezTo>
                <a:cubicBezTo>
                  <a:pt x="314" y="0"/>
                  <a:pt x="307" y="0"/>
                  <a:pt x="298" y="0"/>
                </a:cubicBezTo>
                <a:cubicBezTo>
                  <a:pt x="289" y="0"/>
                  <a:pt x="277" y="0"/>
                  <a:pt x="264" y="0"/>
                </a:cubicBezTo>
                <a:cubicBezTo>
                  <a:pt x="250" y="0"/>
                  <a:pt x="236" y="0"/>
                  <a:pt x="224" y="0"/>
                </a:cubicBezTo>
                <a:cubicBezTo>
                  <a:pt x="211" y="0"/>
                  <a:pt x="199" y="0"/>
                  <a:pt x="191" y="0"/>
                </a:cubicBezTo>
                <a:cubicBezTo>
                  <a:pt x="184" y="1"/>
                  <a:pt x="178" y="1"/>
                  <a:pt x="174" y="3"/>
                </a:cubicBezTo>
                <a:cubicBezTo>
                  <a:pt x="170" y="4"/>
                  <a:pt x="168" y="6"/>
                  <a:pt x="166" y="8"/>
                </a:cubicBezTo>
                <a:cubicBezTo>
                  <a:pt x="164" y="9"/>
                  <a:pt x="164" y="11"/>
                  <a:pt x="163" y="12"/>
                </a:cubicBezTo>
                <a:cubicBezTo>
                  <a:pt x="163" y="14"/>
                  <a:pt x="163" y="15"/>
                  <a:pt x="163" y="15"/>
                </a:cubicBezTo>
                <a:cubicBezTo>
                  <a:pt x="164" y="15"/>
                  <a:pt x="164" y="18"/>
                  <a:pt x="165" y="21"/>
                </a:cubicBezTo>
                <a:cubicBezTo>
                  <a:pt x="166" y="25"/>
                  <a:pt x="167" y="30"/>
                  <a:pt x="168" y="35"/>
                </a:cubicBezTo>
                <a:cubicBezTo>
                  <a:pt x="170" y="40"/>
                  <a:pt x="171" y="46"/>
                  <a:pt x="173" y="50"/>
                </a:cubicBezTo>
                <a:cubicBezTo>
                  <a:pt x="174" y="55"/>
                  <a:pt x="176" y="60"/>
                  <a:pt x="177" y="62"/>
                </a:cubicBezTo>
                <a:cubicBezTo>
                  <a:pt x="178" y="64"/>
                  <a:pt x="177" y="66"/>
                  <a:pt x="175" y="68"/>
                </a:cubicBezTo>
                <a:cubicBezTo>
                  <a:pt x="173" y="70"/>
                  <a:pt x="170" y="71"/>
                  <a:pt x="167" y="72"/>
                </a:cubicBezTo>
                <a:cubicBezTo>
                  <a:pt x="163" y="73"/>
                  <a:pt x="159" y="74"/>
                  <a:pt x="154" y="75"/>
                </a:cubicBezTo>
                <a:cubicBezTo>
                  <a:pt x="149" y="75"/>
                  <a:pt x="145" y="76"/>
                  <a:pt x="140" y="76"/>
                </a:cubicBezTo>
                <a:cubicBezTo>
                  <a:pt x="138" y="76"/>
                  <a:pt x="137" y="76"/>
                  <a:pt x="135" y="76"/>
                </a:cubicBezTo>
                <a:cubicBezTo>
                  <a:pt x="134" y="76"/>
                  <a:pt x="132" y="76"/>
                  <a:pt x="131" y="75"/>
                </a:cubicBezTo>
                <a:cubicBezTo>
                  <a:pt x="129" y="75"/>
                  <a:pt x="128" y="75"/>
                  <a:pt x="127" y="75"/>
                </a:cubicBezTo>
                <a:cubicBezTo>
                  <a:pt x="126" y="75"/>
                  <a:pt x="124" y="74"/>
                  <a:pt x="123" y="74"/>
                </a:cubicBezTo>
                <a:cubicBezTo>
                  <a:pt x="122" y="74"/>
                  <a:pt x="119" y="73"/>
                  <a:pt x="117" y="73"/>
                </a:cubicBezTo>
                <a:cubicBezTo>
                  <a:pt x="114" y="72"/>
                  <a:pt x="111" y="72"/>
                  <a:pt x="108" y="72"/>
                </a:cubicBezTo>
                <a:cubicBezTo>
                  <a:pt x="105" y="72"/>
                  <a:pt x="101" y="71"/>
                  <a:pt x="98" y="71"/>
                </a:cubicBezTo>
                <a:cubicBezTo>
                  <a:pt x="94" y="71"/>
                  <a:pt x="90" y="71"/>
                  <a:pt x="86" y="71"/>
                </a:cubicBezTo>
                <a:cubicBezTo>
                  <a:pt x="81" y="71"/>
                  <a:pt x="76" y="71"/>
                  <a:pt x="71" y="72"/>
                </a:cubicBezTo>
                <a:cubicBezTo>
                  <a:pt x="66" y="72"/>
                  <a:pt x="62" y="73"/>
                  <a:pt x="57" y="73"/>
                </a:cubicBezTo>
                <a:cubicBezTo>
                  <a:pt x="52" y="74"/>
                  <a:pt x="47" y="74"/>
                  <a:pt x="43" y="75"/>
                </a:cubicBezTo>
                <a:cubicBezTo>
                  <a:pt x="38" y="76"/>
                  <a:pt x="34" y="77"/>
                  <a:pt x="30" y="78"/>
                </a:cubicBezTo>
                <a:cubicBezTo>
                  <a:pt x="22" y="80"/>
                  <a:pt x="17" y="83"/>
                  <a:pt x="12" y="85"/>
                </a:cubicBezTo>
                <a:cubicBezTo>
                  <a:pt x="8" y="88"/>
                  <a:pt x="5" y="91"/>
                  <a:pt x="3" y="93"/>
                </a:cubicBezTo>
                <a:cubicBezTo>
                  <a:pt x="1" y="96"/>
                  <a:pt x="0" y="99"/>
                  <a:pt x="1" y="102"/>
                </a:cubicBezTo>
                <a:cubicBezTo>
                  <a:pt x="1" y="105"/>
                  <a:pt x="2" y="107"/>
                  <a:pt x="4" y="110"/>
                </a:cubicBezTo>
                <a:cubicBezTo>
                  <a:pt x="6" y="111"/>
                  <a:pt x="8" y="113"/>
                  <a:pt x="12" y="114"/>
                </a:cubicBezTo>
                <a:cubicBezTo>
                  <a:pt x="15" y="116"/>
                  <a:pt x="20" y="117"/>
                  <a:pt x="25" y="118"/>
                </a:cubicBezTo>
                <a:cubicBezTo>
                  <a:pt x="30" y="119"/>
                  <a:pt x="36" y="120"/>
                  <a:pt x="42" y="121"/>
                </a:cubicBezTo>
                <a:cubicBezTo>
                  <a:pt x="49" y="122"/>
                  <a:pt x="56" y="122"/>
                  <a:pt x="64" y="122"/>
                </a:cubicBezTo>
                <a:cubicBezTo>
                  <a:pt x="67" y="122"/>
                  <a:pt x="70" y="122"/>
                  <a:pt x="73" y="121"/>
                </a:cubicBezTo>
                <a:cubicBezTo>
                  <a:pt x="76" y="121"/>
                  <a:pt x="79" y="121"/>
                  <a:pt x="82" y="121"/>
                </a:cubicBezTo>
                <a:cubicBezTo>
                  <a:pt x="85" y="121"/>
                  <a:pt x="88" y="120"/>
                  <a:pt x="91" y="120"/>
                </a:cubicBezTo>
                <a:cubicBezTo>
                  <a:pt x="95" y="119"/>
                  <a:pt x="98" y="119"/>
                  <a:pt x="101" y="119"/>
                </a:cubicBezTo>
                <a:cubicBezTo>
                  <a:pt x="105" y="118"/>
                  <a:pt x="108" y="117"/>
                  <a:pt x="111" y="117"/>
                </a:cubicBezTo>
                <a:cubicBezTo>
                  <a:pt x="114" y="117"/>
                  <a:pt x="117" y="116"/>
                  <a:pt x="120" y="116"/>
                </a:cubicBezTo>
                <a:cubicBezTo>
                  <a:pt x="123" y="116"/>
                  <a:pt x="125" y="116"/>
                  <a:pt x="128" y="115"/>
                </a:cubicBezTo>
                <a:cubicBezTo>
                  <a:pt x="130" y="115"/>
                  <a:pt x="132" y="115"/>
                  <a:pt x="134" y="115"/>
                </a:cubicBezTo>
                <a:cubicBezTo>
                  <a:pt x="139" y="115"/>
                  <a:pt x="142" y="115"/>
                  <a:pt x="146" y="116"/>
                </a:cubicBezTo>
                <a:cubicBezTo>
                  <a:pt x="149" y="116"/>
                  <a:pt x="151" y="117"/>
                  <a:pt x="154" y="118"/>
                </a:cubicBezTo>
                <a:cubicBezTo>
                  <a:pt x="156" y="119"/>
                  <a:pt x="158" y="120"/>
                  <a:pt x="159" y="121"/>
                </a:cubicBezTo>
                <a:cubicBezTo>
                  <a:pt x="161" y="122"/>
                  <a:pt x="163" y="123"/>
                  <a:pt x="165" y="124"/>
                </a:cubicBezTo>
                <a:cubicBezTo>
                  <a:pt x="168" y="125"/>
                  <a:pt x="167" y="130"/>
                  <a:pt x="164" y="137"/>
                </a:cubicBezTo>
                <a:cubicBezTo>
                  <a:pt x="161" y="143"/>
                  <a:pt x="156" y="152"/>
                  <a:pt x="150" y="160"/>
                </a:cubicBezTo>
                <a:cubicBezTo>
                  <a:pt x="144" y="169"/>
                  <a:pt x="137" y="177"/>
                  <a:pt x="132" y="184"/>
                </a:cubicBezTo>
                <a:cubicBezTo>
                  <a:pt x="127" y="191"/>
                  <a:pt x="123" y="195"/>
                  <a:pt x="122" y="196"/>
                </a:cubicBezTo>
                <a:cubicBezTo>
                  <a:pt x="311" y="196"/>
                  <a:pt x="311" y="196"/>
                  <a:pt x="311" y="196"/>
                </a:cubicBezTo>
                <a:cubicBezTo>
                  <a:pt x="314" y="196"/>
                  <a:pt x="328" y="196"/>
                  <a:pt x="348" y="196"/>
                </a:cubicBezTo>
                <a:cubicBezTo>
                  <a:pt x="368" y="195"/>
                  <a:pt x="395" y="195"/>
                  <a:pt x="423" y="195"/>
                </a:cubicBezTo>
                <a:cubicBezTo>
                  <a:pt x="452" y="194"/>
                  <a:pt x="482" y="194"/>
                  <a:pt x="509" y="194"/>
                </a:cubicBezTo>
                <a:cubicBezTo>
                  <a:pt x="537" y="193"/>
                  <a:pt x="561" y="193"/>
                  <a:pt x="578" y="193"/>
                </a:cubicBezTo>
                <a:cubicBezTo>
                  <a:pt x="579" y="193"/>
                  <a:pt x="580" y="193"/>
                  <a:pt x="580" y="193"/>
                </a:cubicBezTo>
                <a:cubicBezTo>
                  <a:pt x="581" y="193"/>
                  <a:pt x="582" y="193"/>
                  <a:pt x="583" y="193"/>
                </a:cubicBezTo>
                <a:cubicBezTo>
                  <a:pt x="583" y="193"/>
                  <a:pt x="584" y="193"/>
                  <a:pt x="585" y="193"/>
                </a:cubicBezTo>
                <a:cubicBezTo>
                  <a:pt x="586" y="193"/>
                  <a:pt x="586" y="193"/>
                  <a:pt x="587" y="193"/>
                </a:cubicBezTo>
                <a:cubicBezTo>
                  <a:pt x="602" y="193"/>
                  <a:pt x="613" y="192"/>
                  <a:pt x="621" y="192"/>
                </a:cubicBezTo>
                <a:cubicBezTo>
                  <a:pt x="629" y="191"/>
                  <a:pt x="635" y="191"/>
                  <a:pt x="639" y="190"/>
                </a:cubicBezTo>
                <a:cubicBezTo>
                  <a:pt x="643" y="189"/>
                  <a:pt x="645" y="188"/>
                  <a:pt x="647" y="187"/>
                </a:cubicBezTo>
                <a:cubicBezTo>
                  <a:pt x="649" y="186"/>
                  <a:pt x="651" y="185"/>
                  <a:pt x="653" y="185"/>
                </a:cubicBezTo>
                <a:cubicBezTo>
                  <a:pt x="655" y="184"/>
                  <a:pt x="655" y="180"/>
                  <a:pt x="654" y="176"/>
                </a:cubicBezTo>
                <a:cubicBezTo>
                  <a:pt x="652" y="171"/>
                  <a:pt x="650" y="165"/>
                  <a:pt x="646" y="158"/>
                </a:cubicBezTo>
                <a:cubicBezTo>
                  <a:pt x="643" y="152"/>
                  <a:pt x="640" y="145"/>
                  <a:pt x="637" y="139"/>
                </a:cubicBezTo>
                <a:cubicBezTo>
                  <a:pt x="634" y="133"/>
                  <a:pt x="631" y="128"/>
                  <a:pt x="630" y="125"/>
                </a:cubicBezTo>
                <a:cubicBezTo>
                  <a:pt x="629" y="122"/>
                  <a:pt x="629" y="119"/>
                  <a:pt x="631" y="117"/>
                </a:cubicBezTo>
                <a:cubicBezTo>
                  <a:pt x="632" y="115"/>
                  <a:pt x="634" y="114"/>
                  <a:pt x="638" y="113"/>
                </a:cubicBezTo>
                <a:cubicBezTo>
                  <a:pt x="641" y="111"/>
                  <a:pt x="644" y="111"/>
                  <a:pt x="648" y="110"/>
                </a:cubicBezTo>
                <a:cubicBezTo>
                  <a:pt x="652" y="109"/>
                  <a:pt x="657" y="109"/>
                  <a:pt x="661" y="109"/>
                </a:cubicBezTo>
                <a:cubicBezTo>
                  <a:pt x="663" y="109"/>
                  <a:pt x="664" y="109"/>
                  <a:pt x="665" y="109"/>
                </a:cubicBezTo>
                <a:cubicBezTo>
                  <a:pt x="666" y="109"/>
                  <a:pt x="667" y="109"/>
                  <a:pt x="668" y="109"/>
                </a:cubicBezTo>
                <a:cubicBezTo>
                  <a:pt x="669" y="109"/>
                  <a:pt x="670" y="109"/>
                  <a:pt x="671" y="109"/>
                </a:cubicBezTo>
                <a:cubicBezTo>
                  <a:pt x="672" y="109"/>
                  <a:pt x="673" y="109"/>
                  <a:pt x="674" y="109"/>
                </a:cubicBezTo>
                <a:cubicBezTo>
                  <a:pt x="676" y="110"/>
                  <a:pt x="678" y="110"/>
                  <a:pt x="681" y="110"/>
                </a:cubicBezTo>
                <a:cubicBezTo>
                  <a:pt x="683" y="110"/>
                  <a:pt x="685" y="110"/>
                  <a:pt x="687" y="110"/>
                </a:cubicBezTo>
                <a:cubicBezTo>
                  <a:pt x="689" y="110"/>
                  <a:pt x="691" y="111"/>
                  <a:pt x="694" y="111"/>
                </a:cubicBezTo>
                <a:cubicBezTo>
                  <a:pt x="696" y="111"/>
                  <a:pt x="698" y="111"/>
                  <a:pt x="700" y="111"/>
                </a:cubicBezTo>
                <a:cubicBezTo>
                  <a:pt x="704" y="111"/>
                  <a:pt x="708" y="110"/>
                  <a:pt x="712" y="110"/>
                </a:cubicBezTo>
                <a:cubicBezTo>
                  <a:pt x="716" y="110"/>
                  <a:pt x="720" y="109"/>
                  <a:pt x="725" y="108"/>
                </a:cubicBezTo>
                <a:cubicBezTo>
                  <a:pt x="729" y="108"/>
                  <a:pt x="734" y="107"/>
                  <a:pt x="740" y="105"/>
                </a:cubicBezTo>
                <a:cubicBezTo>
                  <a:pt x="745" y="104"/>
                  <a:pt x="751" y="103"/>
                  <a:pt x="757" y="101"/>
                </a:cubicBezTo>
                <a:cubicBezTo>
                  <a:pt x="767" y="98"/>
                  <a:pt x="773" y="94"/>
                  <a:pt x="776" y="91"/>
                </a:cubicBezTo>
                <a:cubicBezTo>
                  <a:pt x="779" y="87"/>
                  <a:pt x="779" y="83"/>
                  <a:pt x="777" y="79"/>
                </a:cubicBezTo>
                <a:cubicBezTo>
                  <a:pt x="775" y="76"/>
                  <a:pt x="771" y="72"/>
                  <a:pt x="766" y="69"/>
                </a:cubicBez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Freeform 23"/>
          <p:cNvSpPr/>
          <p:nvPr/>
        </p:nvSpPr>
        <p:spPr>
          <a:xfrm flipH="1">
            <a:off x="3960720" y="3206880"/>
            <a:ext cx="1222560" cy="388800"/>
          </a:xfrm>
          <a:custGeom>
            <a:avLst/>
            <a:gdLst/>
            <a:ahLst/>
            <a:rect l="l" t="t" r="r" b="b"/>
            <a:pathLst>
              <a:path w="826" h="262">
                <a:moveTo>
                  <a:pt x="88" y="89"/>
                </a:moveTo>
                <a:cubicBezTo>
                  <a:pt x="91" y="88"/>
                  <a:pt x="94" y="88"/>
                  <a:pt x="97" y="86"/>
                </a:cubicBezTo>
                <a:cubicBezTo>
                  <a:pt x="100" y="85"/>
                  <a:pt x="103" y="84"/>
                  <a:pt x="105" y="83"/>
                </a:cubicBezTo>
                <a:cubicBezTo>
                  <a:pt x="107" y="82"/>
                  <a:pt x="110" y="81"/>
                  <a:pt x="113" y="80"/>
                </a:cubicBezTo>
                <a:cubicBezTo>
                  <a:pt x="116" y="79"/>
                  <a:pt x="120" y="78"/>
                  <a:pt x="125" y="77"/>
                </a:cubicBezTo>
                <a:cubicBezTo>
                  <a:pt x="129" y="76"/>
                  <a:pt x="134" y="76"/>
                  <a:pt x="140" y="75"/>
                </a:cubicBezTo>
                <a:cubicBezTo>
                  <a:pt x="145" y="75"/>
                  <a:pt x="150" y="75"/>
                  <a:pt x="156" y="75"/>
                </a:cubicBezTo>
                <a:cubicBezTo>
                  <a:pt x="162" y="75"/>
                  <a:pt x="168" y="75"/>
                  <a:pt x="174" y="75"/>
                </a:cubicBezTo>
                <a:cubicBezTo>
                  <a:pt x="180" y="76"/>
                  <a:pt x="185" y="76"/>
                  <a:pt x="191" y="77"/>
                </a:cubicBezTo>
                <a:cubicBezTo>
                  <a:pt x="196" y="78"/>
                  <a:pt x="201" y="79"/>
                  <a:pt x="206" y="81"/>
                </a:cubicBezTo>
                <a:cubicBezTo>
                  <a:pt x="210" y="82"/>
                  <a:pt x="214" y="84"/>
                  <a:pt x="217" y="86"/>
                </a:cubicBezTo>
                <a:cubicBezTo>
                  <a:pt x="223" y="91"/>
                  <a:pt x="227" y="96"/>
                  <a:pt x="230" y="100"/>
                </a:cubicBezTo>
                <a:cubicBezTo>
                  <a:pt x="233" y="105"/>
                  <a:pt x="234" y="110"/>
                  <a:pt x="233" y="115"/>
                </a:cubicBezTo>
                <a:cubicBezTo>
                  <a:pt x="232" y="120"/>
                  <a:pt x="229" y="124"/>
                  <a:pt x="224" y="128"/>
                </a:cubicBezTo>
                <a:cubicBezTo>
                  <a:pt x="218" y="131"/>
                  <a:pt x="210" y="134"/>
                  <a:pt x="199" y="135"/>
                </a:cubicBezTo>
                <a:cubicBezTo>
                  <a:pt x="188" y="137"/>
                  <a:pt x="177" y="138"/>
                  <a:pt x="165" y="139"/>
                </a:cubicBezTo>
                <a:cubicBezTo>
                  <a:pt x="153" y="140"/>
                  <a:pt x="142" y="141"/>
                  <a:pt x="131" y="142"/>
                </a:cubicBezTo>
                <a:cubicBezTo>
                  <a:pt x="121" y="143"/>
                  <a:pt x="111" y="144"/>
                  <a:pt x="104" y="145"/>
                </a:cubicBezTo>
                <a:cubicBezTo>
                  <a:pt x="96" y="147"/>
                  <a:pt x="91" y="149"/>
                  <a:pt x="89" y="152"/>
                </a:cubicBezTo>
                <a:cubicBezTo>
                  <a:pt x="86" y="155"/>
                  <a:pt x="85" y="159"/>
                  <a:pt x="86" y="163"/>
                </a:cubicBezTo>
                <a:cubicBezTo>
                  <a:pt x="86" y="167"/>
                  <a:pt x="88" y="172"/>
                  <a:pt x="91" y="177"/>
                </a:cubicBezTo>
                <a:cubicBezTo>
                  <a:pt x="93" y="182"/>
                  <a:pt x="97" y="187"/>
                  <a:pt x="100" y="191"/>
                </a:cubicBezTo>
                <a:cubicBezTo>
                  <a:pt x="104" y="196"/>
                  <a:pt x="108" y="200"/>
                  <a:pt x="112" y="204"/>
                </a:cubicBezTo>
                <a:cubicBezTo>
                  <a:pt x="115" y="207"/>
                  <a:pt x="119" y="211"/>
                  <a:pt x="122" y="213"/>
                </a:cubicBezTo>
                <a:cubicBezTo>
                  <a:pt x="125" y="216"/>
                  <a:pt x="128" y="218"/>
                  <a:pt x="130" y="220"/>
                </a:cubicBezTo>
                <a:cubicBezTo>
                  <a:pt x="133" y="222"/>
                  <a:pt x="135" y="224"/>
                  <a:pt x="136" y="225"/>
                </a:cubicBezTo>
                <a:cubicBezTo>
                  <a:pt x="137" y="226"/>
                  <a:pt x="138" y="226"/>
                  <a:pt x="138" y="226"/>
                </a:cubicBezTo>
                <a:cubicBezTo>
                  <a:pt x="140" y="226"/>
                  <a:pt x="153" y="224"/>
                  <a:pt x="170" y="220"/>
                </a:cubicBezTo>
                <a:cubicBezTo>
                  <a:pt x="188" y="217"/>
                  <a:pt x="211" y="213"/>
                  <a:pt x="235" y="209"/>
                </a:cubicBezTo>
                <a:cubicBezTo>
                  <a:pt x="259" y="205"/>
                  <a:pt x="284" y="201"/>
                  <a:pt x="305" y="198"/>
                </a:cubicBezTo>
                <a:cubicBezTo>
                  <a:pt x="327" y="196"/>
                  <a:pt x="345" y="194"/>
                  <a:pt x="355" y="193"/>
                </a:cubicBezTo>
                <a:cubicBezTo>
                  <a:pt x="355" y="193"/>
                  <a:pt x="356" y="193"/>
                  <a:pt x="356" y="193"/>
                </a:cubicBezTo>
                <a:cubicBezTo>
                  <a:pt x="357" y="193"/>
                  <a:pt x="357" y="193"/>
                  <a:pt x="357" y="193"/>
                </a:cubicBezTo>
                <a:cubicBezTo>
                  <a:pt x="358" y="193"/>
                  <a:pt x="358" y="193"/>
                  <a:pt x="358" y="193"/>
                </a:cubicBezTo>
                <a:cubicBezTo>
                  <a:pt x="359" y="193"/>
                  <a:pt x="359" y="193"/>
                  <a:pt x="359" y="193"/>
                </a:cubicBezTo>
                <a:cubicBezTo>
                  <a:pt x="367" y="194"/>
                  <a:pt x="375" y="195"/>
                  <a:pt x="381" y="196"/>
                </a:cubicBezTo>
                <a:cubicBezTo>
                  <a:pt x="388" y="197"/>
                  <a:pt x="394" y="199"/>
                  <a:pt x="399" y="201"/>
                </a:cubicBezTo>
                <a:cubicBezTo>
                  <a:pt x="404" y="203"/>
                  <a:pt x="407" y="205"/>
                  <a:pt x="409" y="207"/>
                </a:cubicBezTo>
                <a:cubicBezTo>
                  <a:pt x="411" y="209"/>
                  <a:pt x="412" y="212"/>
                  <a:pt x="411" y="214"/>
                </a:cubicBezTo>
                <a:cubicBezTo>
                  <a:pt x="410" y="216"/>
                  <a:pt x="407" y="220"/>
                  <a:pt x="404" y="223"/>
                </a:cubicBezTo>
                <a:cubicBezTo>
                  <a:pt x="402" y="227"/>
                  <a:pt x="399" y="231"/>
                  <a:pt x="398" y="235"/>
                </a:cubicBezTo>
                <a:cubicBezTo>
                  <a:pt x="398" y="239"/>
                  <a:pt x="398" y="243"/>
                  <a:pt x="402" y="247"/>
                </a:cubicBezTo>
                <a:cubicBezTo>
                  <a:pt x="406" y="250"/>
                  <a:pt x="413" y="254"/>
                  <a:pt x="425" y="257"/>
                </a:cubicBezTo>
                <a:cubicBezTo>
                  <a:pt x="429" y="257"/>
                  <a:pt x="434" y="258"/>
                  <a:pt x="438" y="259"/>
                </a:cubicBezTo>
                <a:cubicBezTo>
                  <a:pt x="443" y="260"/>
                  <a:pt x="448" y="260"/>
                  <a:pt x="454" y="261"/>
                </a:cubicBezTo>
                <a:cubicBezTo>
                  <a:pt x="459" y="261"/>
                  <a:pt x="464" y="261"/>
                  <a:pt x="470" y="262"/>
                </a:cubicBezTo>
                <a:cubicBezTo>
                  <a:pt x="475" y="262"/>
                  <a:pt x="481" y="262"/>
                  <a:pt x="487" y="262"/>
                </a:cubicBezTo>
                <a:cubicBezTo>
                  <a:pt x="497" y="262"/>
                  <a:pt x="508" y="261"/>
                  <a:pt x="518" y="260"/>
                </a:cubicBezTo>
                <a:cubicBezTo>
                  <a:pt x="528" y="259"/>
                  <a:pt x="538" y="258"/>
                  <a:pt x="546" y="256"/>
                </a:cubicBezTo>
                <a:cubicBezTo>
                  <a:pt x="554" y="254"/>
                  <a:pt x="561" y="252"/>
                  <a:pt x="567" y="250"/>
                </a:cubicBezTo>
                <a:cubicBezTo>
                  <a:pt x="572" y="247"/>
                  <a:pt x="575" y="244"/>
                  <a:pt x="576" y="241"/>
                </a:cubicBezTo>
                <a:cubicBezTo>
                  <a:pt x="577" y="236"/>
                  <a:pt x="577" y="232"/>
                  <a:pt x="577" y="228"/>
                </a:cubicBezTo>
                <a:cubicBezTo>
                  <a:pt x="576" y="224"/>
                  <a:pt x="575" y="221"/>
                  <a:pt x="573" y="218"/>
                </a:cubicBezTo>
                <a:cubicBezTo>
                  <a:pt x="572" y="215"/>
                  <a:pt x="569" y="212"/>
                  <a:pt x="567" y="210"/>
                </a:cubicBezTo>
                <a:cubicBezTo>
                  <a:pt x="564" y="207"/>
                  <a:pt x="561" y="205"/>
                  <a:pt x="557" y="202"/>
                </a:cubicBezTo>
                <a:cubicBezTo>
                  <a:pt x="553" y="200"/>
                  <a:pt x="550" y="197"/>
                  <a:pt x="548" y="195"/>
                </a:cubicBezTo>
                <a:cubicBezTo>
                  <a:pt x="545" y="192"/>
                  <a:pt x="544" y="189"/>
                  <a:pt x="544" y="187"/>
                </a:cubicBezTo>
                <a:cubicBezTo>
                  <a:pt x="545" y="185"/>
                  <a:pt x="547" y="183"/>
                  <a:pt x="551" y="181"/>
                </a:cubicBezTo>
                <a:cubicBezTo>
                  <a:pt x="555" y="179"/>
                  <a:pt x="562" y="178"/>
                  <a:pt x="572" y="178"/>
                </a:cubicBezTo>
                <a:cubicBezTo>
                  <a:pt x="575" y="178"/>
                  <a:pt x="578" y="178"/>
                  <a:pt x="582" y="177"/>
                </a:cubicBezTo>
                <a:cubicBezTo>
                  <a:pt x="586" y="177"/>
                  <a:pt x="591" y="177"/>
                  <a:pt x="596" y="177"/>
                </a:cubicBezTo>
                <a:cubicBezTo>
                  <a:pt x="601" y="177"/>
                  <a:pt x="607" y="177"/>
                  <a:pt x="613" y="177"/>
                </a:cubicBezTo>
                <a:cubicBezTo>
                  <a:pt x="619" y="177"/>
                  <a:pt x="626" y="177"/>
                  <a:pt x="632" y="177"/>
                </a:cubicBezTo>
                <a:cubicBezTo>
                  <a:pt x="637" y="177"/>
                  <a:pt x="643" y="177"/>
                  <a:pt x="648" y="176"/>
                </a:cubicBezTo>
                <a:cubicBezTo>
                  <a:pt x="653" y="176"/>
                  <a:pt x="658" y="176"/>
                  <a:pt x="664" y="176"/>
                </a:cubicBezTo>
                <a:cubicBezTo>
                  <a:pt x="669" y="176"/>
                  <a:pt x="675" y="176"/>
                  <a:pt x="680" y="176"/>
                </a:cubicBezTo>
                <a:cubicBezTo>
                  <a:pt x="686" y="176"/>
                  <a:pt x="691" y="176"/>
                  <a:pt x="697" y="176"/>
                </a:cubicBezTo>
                <a:cubicBezTo>
                  <a:pt x="702" y="176"/>
                  <a:pt x="707" y="176"/>
                  <a:pt x="713" y="176"/>
                </a:cubicBezTo>
                <a:cubicBezTo>
                  <a:pt x="718" y="176"/>
                  <a:pt x="723" y="176"/>
                  <a:pt x="728" y="176"/>
                </a:cubicBezTo>
                <a:cubicBezTo>
                  <a:pt x="733" y="176"/>
                  <a:pt x="739" y="176"/>
                  <a:pt x="743" y="176"/>
                </a:cubicBezTo>
                <a:cubicBezTo>
                  <a:pt x="748" y="175"/>
                  <a:pt x="753" y="175"/>
                  <a:pt x="758" y="175"/>
                </a:cubicBezTo>
                <a:cubicBezTo>
                  <a:pt x="765" y="175"/>
                  <a:pt x="773" y="175"/>
                  <a:pt x="779" y="175"/>
                </a:cubicBezTo>
                <a:cubicBezTo>
                  <a:pt x="786" y="175"/>
                  <a:pt x="792" y="175"/>
                  <a:pt x="797" y="175"/>
                </a:cubicBezTo>
                <a:cubicBezTo>
                  <a:pt x="802" y="175"/>
                  <a:pt x="806" y="175"/>
                  <a:pt x="810" y="174"/>
                </a:cubicBezTo>
                <a:cubicBezTo>
                  <a:pt x="813" y="174"/>
                  <a:pt x="815" y="174"/>
                  <a:pt x="817" y="174"/>
                </a:cubicBezTo>
                <a:cubicBezTo>
                  <a:pt x="821" y="174"/>
                  <a:pt x="823" y="173"/>
                  <a:pt x="824" y="172"/>
                </a:cubicBezTo>
                <a:cubicBezTo>
                  <a:pt x="826" y="171"/>
                  <a:pt x="826" y="169"/>
                  <a:pt x="826" y="168"/>
                </a:cubicBezTo>
                <a:cubicBezTo>
                  <a:pt x="826" y="167"/>
                  <a:pt x="825" y="166"/>
                  <a:pt x="824" y="165"/>
                </a:cubicBezTo>
                <a:cubicBezTo>
                  <a:pt x="824" y="164"/>
                  <a:pt x="823" y="163"/>
                  <a:pt x="823" y="163"/>
                </a:cubicBezTo>
                <a:cubicBezTo>
                  <a:pt x="817" y="156"/>
                  <a:pt x="817" y="156"/>
                  <a:pt x="817" y="156"/>
                </a:cubicBezTo>
                <a:cubicBezTo>
                  <a:pt x="706" y="8"/>
                  <a:pt x="706" y="8"/>
                  <a:pt x="706" y="8"/>
                </a:cubicBezTo>
                <a:cubicBezTo>
                  <a:pt x="706" y="8"/>
                  <a:pt x="705" y="7"/>
                  <a:pt x="704" y="7"/>
                </a:cubicBezTo>
                <a:cubicBezTo>
                  <a:pt x="702" y="6"/>
                  <a:pt x="700" y="5"/>
                  <a:pt x="696" y="4"/>
                </a:cubicBezTo>
                <a:cubicBezTo>
                  <a:pt x="691" y="3"/>
                  <a:pt x="685" y="2"/>
                  <a:pt x="676" y="1"/>
                </a:cubicBezTo>
                <a:cubicBezTo>
                  <a:pt x="667" y="1"/>
                  <a:pt x="656" y="0"/>
                  <a:pt x="641" y="1"/>
                </a:cubicBezTo>
                <a:cubicBezTo>
                  <a:pt x="640" y="1"/>
                  <a:pt x="639" y="1"/>
                  <a:pt x="638" y="1"/>
                </a:cubicBezTo>
                <a:cubicBezTo>
                  <a:pt x="637" y="1"/>
                  <a:pt x="636" y="1"/>
                  <a:pt x="635" y="1"/>
                </a:cubicBezTo>
                <a:cubicBezTo>
                  <a:pt x="633" y="1"/>
                  <a:pt x="632" y="1"/>
                  <a:pt x="631" y="1"/>
                </a:cubicBezTo>
                <a:cubicBezTo>
                  <a:pt x="630" y="1"/>
                  <a:pt x="629" y="1"/>
                  <a:pt x="628" y="1"/>
                </a:cubicBezTo>
                <a:cubicBezTo>
                  <a:pt x="610" y="1"/>
                  <a:pt x="565" y="3"/>
                  <a:pt x="508" y="4"/>
                </a:cubicBezTo>
                <a:cubicBezTo>
                  <a:pt x="451" y="6"/>
                  <a:pt x="382" y="7"/>
                  <a:pt x="314" y="9"/>
                </a:cubicBezTo>
                <a:cubicBezTo>
                  <a:pt x="247" y="11"/>
                  <a:pt x="180" y="13"/>
                  <a:pt x="129" y="14"/>
                </a:cubicBezTo>
                <a:cubicBezTo>
                  <a:pt x="78" y="15"/>
                  <a:pt x="43" y="16"/>
                  <a:pt x="36" y="16"/>
                </a:cubicBezTo>
                <a:cubicBezTo>
                  <a:pt x="30" y="16"/>
                  <a:pt x="24" y="17"/>
                  <a:pt x="19" y="17"/>
                </a:cubicBezTo>
                <a:cubicBezTo>
                  <a:pt x="14" y="17"/>
                  <a:pt x="10" y="18"/>
                  <a:pt x="7" y="19"/>
                </a:cubicBezTo>
                <a:cubicBezTo>
                  <a:pt x="3" y="21"/>
                  <a:pt x="1" y="22"/>
                  <a:pt x="1" y="25"/>
                </a:cubicBezTo>
                <a:cubicBezTo>
                  <a:pt x="0" y="27"/>
                  <a:pt x="0" y="30"/>
                  <a:pt x="3" y="35"/>
                </a:cubicBezTo>
                <a:cubicBezTo>
                  <a:pt x="5" y="39"/>
                  <a:pt x="8" y="44"/>
                  <a:pt x="10" y="50"/>
                </a:cubicBezTo>
                <a:cubicBezTo>
                  <a:pt x="13" y="56"/>
                  <a:pt x="16" y="62"/>
                  <a:pt x="20" y="67"/>
                </a:cubicBezTo>
                <a:cubicBezTo>
                  <a:pt x="23" y="73"/>
                  <a:pt x="27" y="78"/>
                  <a:pt x="31" y="82"/>
                </a:cubicBezTo>
                <a:cubicBezTo>
                  <a:pt x="35" y="86"/>
                  <a:pt x="39" y="89"/>
                  <a:pt x="43" y="89"/>
                </a:cubicBezTo>
                <a:cubicBezTo>
                  <a:pt x="45" y="90"/>
                  <a:pt x="47" y="90"/>
                  <a:pt x="48" y="90"/>
                </a:cubicBezTo>
                <a:cubicBezTo>
                  <a:pt x="50" y="90"/>
                  <a:pt x="52" y="90"/>
                  <a:pt x="54" y="91"/>
                </a:cubicBezTo>
                <a:cubicBezTo>
                  <a:pt x="56" y="91"/>
                  <a:pt x="58" y="91"/>
                  <a:pt x="60" y="91"/>
                </a:cubicBezTo>
                <a:cubicBezTo>
                  <a:pt x="62" y="91"/>
                  <a:pt x="65" y="91"/>
                  <a:pt x="67" y="91"/>
                </a:cubicBezTo>
                <a:cubicBezTo>
                  <a:pt x="70" y="91"/>
                  <a:pt x="74" y="91"/>
                  <a:pt x="77" y="90"/>
                </a:cubicBezTo>
                <a:cubicBezTo>
                  <a:pt x="81" y="90"/>
                  <a:pt x="84" y="90"/>
                  <a:pt x="88" y="89"/>
                </a:cubicBez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Freeform 24"/>
          <p:cNvSpPr/>
          <p:nvPr/>
        </p:nvSpPr>
        <p:spPr>
          <a:xfrm flipH="1">
            <a:off x="3044880" y="3498840"/>
            <a:ext cx="154080" cy="331920"/>
          </a:xfrm>
          <a:custGeom>
            <a:avLst/>
            <a:gdLst/>
            <a:ahLst/>
            <a:rect l="l" t="t" r="r" b="b"/>
            <a:pathLst>
              <a:path w="104" h="225">
                <a:moveTo>
                  <a:pt x="7" y="172"/>
                </a:moveTo>
                <a:cubicBezTo>
                  <a:pt x="10" y="174"/>
                  <a:pt x="13" y="175"/>
                  <a:pt x="17" y="177"/>
                </a:cubicBezTo>
                <a:cubicBezTo>
                  <a:pt x="21" y="179"/>
                  <a:pt x="25" y="181"/>
                  <a:pt x="30" y="184"/>
                </a:cubicBezTo>
                <a:cubicBezTo>
                  <a:pt x="37" y="187"/>
                  <a:pt x="44" y="190"/>
                  <a:pt x="51" y="193"/>
                </a:cubicBezTo>
                <a:cubicBezTo>
                  <a:pt x="57" y="196"/>
                  <a:pt x="62" y="198"/>
                  <a:pt x="67" y="201"/>
                </a:cubicBezTo>
                <a:cubicBezTo>
                  <a:pt x="71" y="204"/>
                  <a:pt x="75" y="207"/>
                  <a:pt x="77" y="211"/>
                </a:cubicBezTo>
                <a:cubicBezTo>
                  <a:pt x="80" y="214"/>
                  <a:pt x="81" y="218"/>
                  <a:pt x="82" y="223"/>
                </a:cubicBezTo>
                <a:cubicBezTo>
                  <a:pt x="82" y="223"/>
                  <a:pt x="82" y="223"/>
                  <a:pt x="82" y="223"/>
                </a:cubicBezTo>
                <a:cubicBezTo>
                  <a:pt x="82" y="224"/>
                  <a:pt x="82" y="224"/>
                  <a:pt x="82" y="224"/>
                </a:cubicBezTo>
                <a:cubicBezTo>
                  <a:pt x="82" y="224"/>
                  <a:pt x="82" y="224"/>
                  <a:pt x="82" y="224"/>
                </a:cubicBezTo>
                <a:cubicBezTo>
                  <a:pt x="82" y="225"/>
                  <a:pt x="82" y="225"/>
                  <a:pt x="82" y="225"/>
                </a:cubicBezTo>
                <a:cubicBezTo>
                  <a:pt x="89" y="170"/>
                  <a:pt x="97" y="114"/>
                  <a:pt x="104" y="59"/>
                </a:cubicBezTo>
                <a:cubicBezTo>
                  <a:pt x="104" y="59"/>
                  <a:pt x="104" y="59"/>
                  <a:pt x="104" y="59"/>
                </a:cubicBezTo>
                <a:cubicBezTo>
                  <a:pt x="104" y="59"/>
                  <a:pt x="104" y="59"/>
                  <a:pt x="104" y="59"/>
                </a:cubicBezTo>
                <a:cubicBezTo>
                  <a:pt x="104" y="58"/>
                  <a:pt x="104" y="58"/>
                  <a:pt x="104" y="58"/>
                </a:cubicBezTo>
                <a:cubicBezTo>
                  <a:pt x="104" y="58"/>
                  <a:pt x="104" y="58"/>
                  <a:pt x="104" y="58"/>
                </a:cubicBezTo>
                <a:cubicBezTo>
                  <a:pt x="104" y="53"/>
                  <a:pt x="102" y="50"/>
                  <a:pt x="99" y="46"/>
                </a:cubicBezTo>
                <a:cubicBezTo>
                  <a:pt x="97" y="43"/>
                  <a:pt x="93" y="40"/>
                  <a:pt x="88" y="38"/>
                </a:cubicBezTo>
                <a:cubicBezTo>
                  <a:pt x="84" y="35"/>
                  <a:pt x="78" y="32"/>
                  <a:pt x="72" y="30"/>
                </a:cubicBezTo>
                <a:cubicBezTo>
                  <a:pt x="66" y="27"/>
                  <a:pt x="59" y="24"/>
                  <a:pt x="51" y="21"/>
                </a:cubicBezTo>
                <a:cubicBezTo>
                  <a:pt x="46" y="19"/>
                  <a:pt x="41" y="17"/>
                  <a:pt x="38" y="16"/>
                </a:cubicBezTo>
                <a:cubicBezTo>
                  <a:pt x="34" y="14"/>
                  <a:pt x="30" y="12"/>
                  <a:pt x="28" y="10"/>
                </a:cubicBezTo>
                <a:cubicBezTo>
                  <a:pt x="25" y="9"/>
                  <a:pt x="23" y="7"/>
                  <a:pt x="22" y="5"/>
                </a:cubicBezTo>
                <a:cubicBezTo>
                  <a:pt x="20" y="4"/>
                  <a:pt x="20" y="2"/>
                  <a:pt x="20" y="0"/>
                </a:cubicBezTo>
                <a:cubicBezTo>
                  <a:pt x="13" y="54"/>
                  <a:pt x="7" y="107"/>
                  <a:pt x="0" y="161"/>
                </a:cubicBezTo>
                <a:cubicBezTo>
                  <a:pt x="0" y="163"/>
                  <a:pt x="0" y="164"/>
                  <a:pt x="1" y="166"/>
                </a:cubicBezTo>
                <a:cubicBezTo>
                  <a:pt x="3" y="168"/>
                  <a:pt x="5" y="170"/>
                  <a:pt x="7" y="17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Freeform 25"/>
          <p:cNvSpPr/>
          <p:nvPr/>
        </p:nvSpPr>
        <p:spPr>
          <a:xfrm flipH="1">
            <a:off x="2251800" y="3595680"/>
            <a:ext cx="1739880" cy="736560"/>
          </a:xfrm>
          <a:custGeom>
            <a:avLst/>
            <a:gdLst/>
            <a:ahLst/>
            <a:rect l="l" t="t" r="r" b="b"/>
            <a:pathLst>
              <a:path w="1175" h="499">
                <a:moveTo>
                  <a:pt x="333" y="403"/>
                </a:moveTo>
                <a:cubicBezTo>
                  <a:pt x="333" y="404"/>
                  <a:pt x="334" y="405"/>
                  <a:pt x="335" y="406"/>
                </a:cubicBezTo>
                <a:cubicBezTo>
                  <a:pt x="335" y="406"/>
                  <a:pt x="335" y="406"/>
                  <a:pt x="335" y="406"/>
                </a:cubicBezTo>
                <a:cubicBezTo>
                  <a:pt x="339" y="410"/>
                  <a:pt x="342" y="414"/>
                  <a:pt x="345" y="417"/>
                </a:cubicBezTo>
                <a:cubicBezTo>
                  <a:pt x="345" y="418"/>
                  <a:pt x="346" y="418"/>
                  <a:pt x="346" y="419"/>
                </a:cubicBezTo>
                <a:cubicBezTo>
                  <a:pt x="349" y="422"/>
                  <a:pt x="353" y="426"/>
                  <a:pt x="356" y="430"/>
                </a:cubicBezTo>
                <a:cubicBezTo>
                  <a:pt x="357" y="431"/>
                  <a:pt x="359" y="433"/>
                  <a:pt x="360" y="434"/>
                </a:cubicBezTo>
                <a:cubicBezTo>
                  <a:pt x="360" y="434"/>
                  <a:pt x="361" y="435"/>
                  <a:pt x="361" y="435"/>
                </a:cubicBezTo>
                <a:cubicBezTo>
                  <a:pt x="362" y="436"/>
                  <a:pt x="363" y="436"/>
                  <a:pt x="363" y="437"/>
                </a:cubicBezTo>
                <a:cubicBezTo>
                  <a:pt x="364" y="437"/>
                  <a:pt x="364" y="437"/>
                  <a:pt x="364" y="437"/>
                </a:cubicBezTo>
                <a:cubicBezTo>
                  <a:pt x="364" y="438"/>
                  <a:pt x="365" y="438"/>
                  <a:pt x="366" y="439"/>
                </a:cubicBezTo>
                <a:cubicBezTo>
                  <a:pt x="366" y="439"/>
                  <a:pt x="367" y="440"/>
                  <a:pt x="368" y="441"/>
                </a:cubicBezTo>
                <a:cubicBezTo>
                  <a:pt x="369" y="441"/>
                  <a:pt x="369" y="441"/>
                  <a:pt x="370" y="442"/>
                </a:cubicBezTo>
                <a:cubicBezTo>
                  <a:pt x="370" y="442"/>
                  <a:pt x="371" y="442"/>
                  <a:pt x="371" y="443"/>
                </a:cubicBezTo>
                <a:cubicBezTo>
                  <a:pt x="372" y="443"/>
                  <a:pt x="372" y="443"/>
                  <a:pt x="372" y="443"/>
                </a:cubicBezTo>
                <a:cubicBezTo>
                  <a:pt x="373" y="444"/>
                  <a:pt x="373" y="444"/>
                  <a:pt x="373" y="444"/>
                </a:cubicBezTo>
                <a:cubicBezTo>
                  <a:pt x="374" y="445"/>
                  <a:pt x="374" y="445"/>
                  <a:pt x="374" y="445"/>
                </a:cubicBezTo>
                <a:cubicBezTo>
                  <a:pt x="375" y="445"/>
                  <a:pt x="376" y="445"/>
                  <a:pt x="377" y="446"/>
                </a:cubicBezTo>
                <a:cubicBezTo>
                  <a:pt x="377" y="446"/>
                  <a:pt x="378" y="447"/>
                  <a:pt x="379" y="447"/>
                </a:cubicBezTo>
                <a:cubicBezTo>
                  <a:pt x="379" y="447"/>
                  <a:pt x="379" y="447"/>
                  <a:pt x="379" y="447"/>
                </a:cubicBezTo>
                <a:cubicBezTo>
                  <a:pt x="380" y="448"/>
                  <a:pt x="381" y="448"/>
                  <a:pt x="381" y="448"/>
                </a:cubicBezTo>
                <a:cubicBezTo>
                  <a:pt x="382" y="448"/>
                  <a:pt x="382" y="449"/>
                  <a:pt x="383" y="449"/>
                </a:cubicBezTo>
                <a:cubicBezTo>
                  <a:pt x="384" y="449"/>
                  <a:pt x="385" y="450"/>
                  <a:pt x="386" y="450"/>
                </a:cubicBezTo>
                <a:cubicBezTo>
                  <a:pt x="386" y="450"/>
                  <a:pt x="387" y="450"/>
                  <a:pt x="387" y="451"/>
                </a:cubicBezTo>
                <a:cubicBezTo>
                  <a:pt x="388" y="451"/>
                  <a:pt x="388" y="451"/>
                  <a:pt x="388" y="451"/>
                </a:cubicBezTo>
                <a:cubicBezTo>
                  <a:pt x="388" y="451"/>
                  <a:pt x="389" y="451"/>
                  <a:pt x="389" y="451"/>
                </a:cubicBezTo>
                <a:cubicBezTo>
                  <a:pt x="389" y="451"/>
                  <a:pt x="390" y="451"/>
                  <a:pt x="390" y="452"/>
                </a:cubicBezTo>
                <a:cubicBezTo>
                  <a:pt x="391" y="452"/>
                  <a:pt x="391" y="452"/>
                  <a:pt x="391" y="452"/>
                </a:cubicBezTo>
                <a:cubicBezTo>
                  <a:pt x="392" y="452"/>
                  <a:pt x="392" y="452"/>
                  <a:pt x="392" y="452"/>
                </a:cubicBezTo>
                <a:cubicBezTo>
                  <a:pt x="392" y="452"/>
                  <a:pt x="392" y="452"/>
                  <a:pt x="392" y="452"/>
                </a:cubicBezTo>
                <a:cubicBezTo>
                  <a:pt x="392" y="452"/>
                  <a:pt x="392" y="452"/>
                  <a:pt x="392" y="452"/>
                </a:cubicBezTo>
                <a:cubicBezTo>
                  <a:pt x="392" y="452"/>
                  <a:pt x="392" y="452"/>
                  <a:pt x="392" y="452"/>
                </a:cubicBezTo>
                <a:cubicBezTo>
                  <a:pt x="393" y="453"/>
                  <a:pt x="393" y="453"/>
                  <a:pt x="393" y="453"/>
                </a:cubicBezTo>
                <a:cubicBezTo>
                  <a:pt x="394" y="453"/>
                  <a:pt x="394" y="453"/>
                  <a:pt x="394" y="453"/>
                </a:cubicBezTo>
                <a:cubicBezTo>
                  <a:pt x="395" y="453"/>
                  <a:pt x="395" y="453"/>
                  <a:pt x="395" y="453"/>
                </a:cubicBezTo>
                <a:cubicBezTo>
                  <a:pt x="396" y="453"/>
                  <a:pt x="396" y="453"/>
                  <a:pt x="396" y="453"/>
                </a:cubicBezTo>
                <a:cubicBezTo>
                  <a:pt x="396" y="453"/>
                  <a:pt x="396" y="453"/>
                  <a:pt x="396" y="453"/>
                </a:cubicBezTo>
                <a:cubicBezTo>
                  <a:pt x="397" y="454"/>
                  <a:pt x="397" y="454"/>
                  <a:pt x="397" y="454"/>
                </a:cubicBezTo>
                <a:cubicBezTo>
                  <a:pt x="398" y="454"/>
                  <a:pt x="398" y="454"/>
                  <a:pt x="398" y="454"/>
                </a:cubicBezTo>
                <a:cubicBezTo>
                  <a:pt x="399" y="454"/>
                  <a:pt x="399" y="454"/>
                  <a:pt x="399" y="454"/>
                </a:cubicBezTo>
                <a:cubicBezTo>
                  <a:pt x="400" y="454"/>
                  <a:pt x="400" y="454"/>
                  <a:pt x="400" y="454"/>
                </a:cubicBezTo>
                <a:cubicBezTo>
                  <a:pt x="401" y="454"/>
                  <a:pt x="401" y="454"/>
                  <a:pt x="401" y="454"/>
                </a:cubicBezTo>
                <a:cubicBezTo>
                  <a:pt x="401" y="454"/>
                  <a:pt x="401" y="454"/>
                  <a:pt x="401" y="454"/>
                </a:cubicBezTo>
                <a:cubicBezTo>
                  <a:pt x="401" y="454"/>
                  <a:pt x="401" y="454"/>
                  <a:pt x="401" y="454"/>
                </a:cubicBezTo>
                <a:cubicBezTo>
                  <a:pt x="401" y="455"/>
                  <a:pt x="401" y="455"/>
                  <a:pt x="401" y="455"/>
                </a:cubicBezTo>
                <a:cubicBezTo>
                  <a:pt x="402" y="455"/>
                  <a:pt x="402" y="455"/>
                  <a:pt x="402" y="455"/>
                </a:cubicBezTo>
                <a:cubicBezTo>
                  <a:pt x="403" y="455"/>
                  <a:pt x="403" y="455"/>
                  <a:pt x="403" y="455"/>
                </a:cubicBezTo>
                <a:cubicBezTo>
                  <a:pt x="404" y="455"/>
                  <a:pt x="404" y="455"/>
                  <a:pt x="404" y="455"/>
                </a:cubicBezTo>
                <a:cubicBezTo>
                  <a:pt x="405" y="455"/>
                  <a:pt x="405" y="455"/>
                  <a:pt x="405" y="455"/>
                </a:cubicBezTo>
                <a:cubicBezTo>
                  <a:pt x="405" y="455"/>
                  <a:pt x="405" y="455"/>
                  <a:pt x="405" y="455"/>
                </a:cubicBezTo>
                <a:cubicBezTo>
                  <a:pt x="405" y="455"/>
                  <a:pt x="405" y="455"/>
                  <a:pt x="405" y="455"/>
                </a:cubicBezTo>
                <a:cubicBezTo>
                  <a:pt x="406" y="455"/>
                  <a:pt x="406" y="455"/>
                  <a:pt x="406" y="455"/>
                </a:cubicBezTo>
                <a:cubicBezTo>
                  <a:pt x="407" y="455"/>
                  <a:pt x="407" y="455"/>
                  <a:pt x="407" y="455"/>
                </a:cubicBezTo>
                <a:cubicBezTo>
                  <a:pt x="408" y="456"/>
                  <a:pt x="408" y="456"/>
                  <a:pt x="408" y="456"/>
                </a:cubicBezTo>
                <a:cubicBezTo>
                  <a:pt x="408" y="456"/>
                  <a:pt x="408" y="456"/>
                  <a:pt x="408" y="456"/>
                </a:cubicBezTo>
                <a:cubicBezTo>
                  <a:pt x="409" y="456"/>
                  <a:pt x="409" y="456"/>
                  <a:pt x="409" y="456"/>
                </a:cubicBezTo>
                <a:cubicBezTo>
                  <a:pt x="410" y="456"/>
                  <a:pt x="410" y="456"/>
                  <a:pt x="410" y="456"/>
                </a:cubicBezTo>
                <a:cubicBezTo>
                  <a:pt x="411" y="456"/>
                  <a:pt x="411" y="456"/>
                  <a:pt x="411" y="456"/>
                </a:cubicBezTo>
                <a:cubicBezTo>
                  <a:pt x="412" y="456"/>
                  <a:pt x="412" y="456"/>
                  <a:pt x="412" y="456"/>
                </a:cubicBezTo>
                <a:cubicBezTo>
                  <a:pt x="412" y="456"/>
                  <a:pt x="412" y="456"/>
                  <a:pt x="412" y="456"/>
                </a:cubicBezTo>
                <a:cubicBezTo>
                  <a:pt x="413" y="456"/>
                  <a:pt x="413" y="456"/>
                  <a:pt x="413" y="456"/>
                </a:cubicBezTo>
                <a:cubicBezTo>
                  <a:pt x="414" y="456"/>
                  <a:pt x="414" y="456"/>
                  <a:pt x="414" y="456"/>
                </a:cubicBezTo>
                <a:cubicBezTo>
                  <a:pt x="414" y="456"/>
                  <a:pt x="414" y="456"/>
                  <a:pt x="414" y="456"/>
                </a:cubicBezTo>
                <a:cubicBezTo>
                  <a:pt x="414" y="456"/>
                  <a:pt x="414" y="456"/>
                  <a:pt x="414" y="456"/>
                </a:cubicBezTo>
                <a:cubicBezTo>
                  <a:pt x="415" y="456"/>
                  <a:pt x="415" y="456"/>
                  <a:pt x="415" y="456"/>
                </a:cubicBezTo>
                <a:cubicBezTo>
                  <a:pt x="416" y="456"/>
                  <a:pt x="416" y="456"/>
                  <a:pt x="416" y="456"/>
                </a:cubicBezTo>
                <a:cubicBezTo>
                  <a:pt x="417" y="457"/>
                  <a:pt x="417" y="457"/>
                  <a:pt x="417" y="457"/>
                </a:cubicBezTo>
                <a:cubicBezTo>
                  <a:pt x="417" y="457"/>
                  <a:pt x="417" y="457"/>
                  <a:pt x="417" y="457"/>
                </a:cubicBezTo>
                <a:cubicBezTo>
                  <a:pt x="418" y="457"/>
                  <a:pt x="418" y="457"/>
                  <a:pt x="418" y="457"/>
                </a:cubicBezTo>
                <a:cubicBezTo>
                  <a:pt x="419" y="457"/>
                  <a:pt x="419" y="457"/>
                  <a:pt x="419" y="457"/>
                </a:cubicBezTo>
                <a:cubicBezTo>
                  <a:pt x="420" y="457"/>
                  <a:pt x="420" y="457"/>
                  <a:pt x="420" y="457"/>
                </a:cubicBezTo>
                <a:cubicBezTo>
                  <a:pt x="421" y="457"/>
                  <a:pt x="421" y="457"/>
                  <a:pt x="421" y="457"/>
                </a:cubicBezTo>
                <a:cubicBezTo>
                  <a:pt x="422" y="457"/>
                  <a:pt x="422" y="457"/>
                  <a:pt x="422" y="457"/>
                </a:cubicBezTo>
                <a:cubicBezTo>
                  <a:pt x="422" y="457"/>
                  <a:pt x="422" y="457"/>
                  <a:pt x="422" y="457"/>
                </a:cubicBezTo>
                <a:cubicBezTo>
                  <a:pt x="423" y="457"/>
                  <a:pt x="423" y="457"/>
                  <a:pt x="423" y="457"/>
                </a:cubicBezTo>
                <a:cubicBezTo>
                  <a:pt x="423" y="457"/>
                  <a:pt x="423" y="457"/>
                  <a:pt x="423" y="457"/>
                </a:cubicBezTo>
                <a:cubicBezTo>
                  <a:pt x="424" y="457"/>
                  <a:pt x="424" y="457"/>
                  <a:pt x="424" y="457"/>
                </a:cubicBezTo>
                <a:cubicBezTo>
                  <a:pt x="425" y="457"/>
                  <a:pt x="425" y="457"/>
                  <a:pt x="425" y="457"/>
                </a:cubicBezTo>
                <a:cubicBezTo>
                  <a:pt x="425" y="457"/>
                  <a:pt x="425" y="457"/>
                  <a:pt x="425" y="457"/>
                </a:cubicBezTo>
                <a:cubicBezTo>
                  <a:pt x="425" y="457"/>
                  <a:pt x="425" y="457"/>
                  <a:pt x="425" y="457"/>
                </a:cubicBezTo>
                <a:cubicBezTo>
                  <a:pt x="426" y="457"/>
                  <a:pt x="426" y="457"/>
                  <a:pt x="426" y="457"/>
                </a:cubicBezTo>
                <a:cubicBezTo>
                  <a:pt x="426" y="457"/>
                  <a:pt x="426" y="457"/>
                  <a:pt x="426" y="457"/>
                </a:cubicBezTo>
                <a:cubicBezTo>
                  <a:pt x="427" y="457"/>
                  <a:pt x="427" y="457"/>
                  <a:pt x="427" y="457"/>
                </a:cubicBezTo>
                <a:cubicBezTo>
                  <a:pt x="427" y="457"/>
                  <a:pt x="428" y="457"/>
                  <a:pt x="428" y="457"/>
                </a:cubicBezTo>
                <a:cubicBezTo>
                  <a:pt x="428" y="457"/>
                  <a:pt x="428" y="457"/>
                  <a:pt x="428" y="457"/>
                </a:cubicBezTo>
                <a:cubicBezTo>
                  <a:pt x="428" y="457"/>
                  <a:pt x="428" y="457"/>
                  <a:pt x="428" y="457"/>
                </a:cubicBezTo>
                <a:cubicBezTo>
                  <a:pt x="429" y="457"/>
                  <a:pt x="429" y="457"/>
                  <a:pt x="429" y="457"/>
                </a:cubicBezTo>
                <a:cubicBezTo>
                  <a:pt x="430" y="457"/>
                  <a:pt x="430" y="457"/>
                  <a:pt x="430" y="457"/>
                </a:cubicBezTo>
                <a:cubicBezTo>
                  <a:pt x="431" y="457"/>
                  <a:pt x="431" y="457"/>
                  <a:pt x="431" y="457"/>
                </a:cubicBezTo>
                <a:cubicBezTo>
                  <a:pt x="431" y="457"/>
                  <a:pt x="432" y="457"/>
                  <a:pt x="432" y="457"/>
                </a:cubicBezTo>
                <a:cubicBezTo>
                  <a:pt x="432" y="456"/>
                  <a:pt x="433" y="456"/>
                  <a:pt x="433" y="456"/>
                </a:cubicBezTo>
                <a:cubicBezTo>
                  <a:pt x="434" y="456"/>
                  <a:pt x="434" y="456"/>
                  <a:pt x="434" y="456"/>
                </a:cubicBezTo>
                <a:cubicBezTo>
                  <a:pt x="434" y="456"/>
                  <a:pt x="434" y="456"/>
                  <a:pt x="434" y="456"/>
                </a:cubicBezTo>
                <a:cubicBezTo>
                  <a:pt x="434" y="456"/>
                  <a:pt x="434" y="456"/>
                  <a:pt x="434" y="456"/>
                </a:cubicBezTo>
                <a:cubicBezTo>
                  <a:pt x="435" y="456"/>
                  <a:pt x="435" y="456"/>
                  <a:pt x="435" y="456"/>
                </a:cubicBezTo>
                <a:cubicBezTo>
                  <a:pt x="436" y="456"/>
                  <a:pt x="436" y="456"/>
                  <a:pt x="436" y="456"/>
                </a:cubicBezTo>
                <a:cubicBezTo>
                  <a:pt x="436" y="456"/>
                  <a:pt x="436" y="456"/>
                  <a:pt x="436" y="456"/>
                </a:cubicBezTo>
                <a:cubicBezTo>
                  <a:pt x="436" y="456"/>
                  <a:pt x="436" y="456"/>
                  <a:pt x="436" y="456"/>
                </a:cubicBezTo>
                <a:cubicBezTo>
                  <a:pt x="436" y="456"/>
                  <a:pt x="436" y="456"/>
                  <a:pt x="436" y="456"/>
                </a:cubicBezTo>
                <a:cubicBezTo>
                  <a:pt x="437" y="456"/>
                  <a:pt x="437" y="456"/>
                  <a:pt x="437" y="456"/>
                </a:cubicBezTo>
                <a:cubicBezTo>
                  <a:pt x="438" y="456"/>
                  <a:pt x="438" y="456"/>
                  <a:pt x="438" y="456"/>
                </a:cubicBezTo>
                <a:cubicBezTo>
                  <a:pt x="438" y="456"/>
                  <a:pt x="438" y="456"/>
                  <a:pt x="438" y="456"/>
                </a:cubicBezTo>
                <a:cubicBezTo>
                  <a:pt x="438" y="456"/>
                  <a:pt x="438" y="456"/>
                  <a:pt x="438" y="456"/>
                </a:cubicBezTo>
                <a:cubicBezTo>
                  <a:pt x="439" y="456"/>
                  <a:pt x="439" y="456"/>
                  <a:pt x="439" y="456"/>
                </a:cubicBezTo>
                <a:cubicBezTo>
                  <a:pt x="439" y="456"/>
                  <a:pt x="439" y="456"/>
                  <a:pt x="439" y="456"/>
                </a:cubicBezTo>
                <a:cubicBezTo>
                  <a:pt x="439" y="456"/>
                  <a:pt x="439" y="456"/>
                  <a:pt x="439" y="456"/>
                </a:cubicBezTo>
                <a:cubicBezTo>
                  <a:pt x="439" y="456"/>
                  <a:pt x="439" y="456"/>
                  <a:pt x="439" y="456"/>
                </a:cubicBezTo>
                <a:cubicBezTo>
                  <a:pt x="439" y="456"/>
                  <a:pt x="439" y="456"/>
                  <a:pt x="439" y="456"/>
                </a:cubicBezTo>
                <a:cubicBezTo>
                  <a:pt x="440" y="456"/>
                  <a:pt x="440" y="456"/>
                  <a:pt x="440" y="456"/>
                </a:cubicBezTo>
                <a:cubicBezTo>
                  <a:pt x="440" y="456"/>
                  <a:pt x="441" y="456"/>
                  <a:pt x="441" y="456"/>
                </a:cubicBezTo>
                <a:cubicBezTo>
                  <a:pt x="442" y="456"/>
                  <a:pt x="442" y="456"/>
                  <a:pt x="442" y="456"/>
                </a:cubicBezTo>
                <a:cubicBezTo>
                  <a:pt x="444" y="455"/>
                  <a:pt x="449" y="455"/>
                  <a:pt x="455" y="455"/>
                </a:cubicBezTo>
                <a:cubicBezTo>
                  <a:pt x="460" y="455"/>
                  <a:pt x="466" y="455"/>
                  <a:pt x="473" y="455"/>
                </a:cubicBezTo>
                <a:cubicBezTo>
                  <a:pt x="474" y="455"/>
                  <a:pt x="475" y="454"/>
                  <a:pt x="476" y="454"/>
                </a:cubicBezTo>
                <a:cubicBezTo>
                  <a:pt x="477" y="454"/>
                  <a:pt x="479" y="454"/>
                  <a:pt x="480" y="454"/>
                </a:cubicBezTo>
                <a:cubicBezTo>
                  <a:pt x="481" y="454"/>
                  <a:pt x="481" y="454"/>
                  <a:pt x="481" y="454"/>
                </a:cubicBezTo>
                <a:cubicBezTo>
                  <a:pt x="483" y="454"/>
                  <a:pt x="486" y="454"/>
                  <a:pt x="488" y="454"/>
                </a:cubicBezTo>
                <a:cubicBezTo>
                  <a:pt x="488" y="454"/>
                  <a:pt x="488" y="454"/>
                  <a:pt x="488" y="454"/>
                </a:cubicBezTo>
                <a:cubicBezTo>
                  <a:pt x="490" y="454"/>
                  <a:pt x="492" y="454"/>
                  <a:pt x="495" y="454"/>
                </a:cubicBezTo>
                <a:cubicBezTo>
                  <a:pt x="495" y="454"/>
                  <a:pt x="496" y="454"/>
                  <a:pt x="497" y="454"/>
                </a:cubicBezTo>
                <a:cubicBezTo>
                  <a:pt x="498" y="454"/>
                  <a:pt x="498" y="454"/>
                  <a:pt x="498" y="454"/>
                </a:cubicBezTo>
                <a:cubicBezTo>
                  <a:pt x="512" y="453"/>
                  <a:pt x="527" y="453"/>
                  <a:pt x="543" y="452"/>
                </a:cubicBezTo>
                <a:cubicBezTo>
                  <a:pt x="544" y="452"/>
                  <a:pt x="545" y="452"/>
                  <a:pt x="545" y="452"/>
                </a:cubicBezTo>
                <a:cubicBezTo>
                  <a:pt x="551" y="452"/>
                  <a:pt x="557" y="451"/>
                  <a:pt x="562" y="451"/>
                </a:cubicBezTo>
                <a:cubicBezTo>
                  <a:pt x="563" y="451"/>
                  <a:pt x="564" y="451"/>
                  <a:pt x="565" y="451"/>
                </a:cubicBezTo>
                <a:cubicBezTo>
                  <a:pt x="569" y="451"/>
                  <a:pt x="572" y="451"/>
                  <a:pt x="575" y="451"/>
                </a:cubicBezTo>
                <a:cubicBezTo>
                  <a:pt x="577" y="451"/>
                  <a:pt x="579" y="450"/>
                  <a:pt x="580" y="450"/>
                </a:cubicBezTo>
                <a:cubicBezTo>
                  <a:pt x="583" y="450"/>
                  <a:pt x="586" y="450"/>
                  <a:pt x="589" y="450"/>
                </a:cubicBezTo>
                <a:cubicBezTo>
                  <a:pt x="593" y="450"/>
                  <a:pt x="597" y="450"/>
                  <a:pt x="602" y="449"/>
                </a:cubicBezTo>
                <a:cubicBezTo>
                  <a:pt x="604" y="449"/>
                  <a:pt x="606" y="449"/>
                  <a:pt x="608" y="449"/>
                </a:cubicBezTo>
                <a:cubicBezTo>
                  <a:pt x="614" y="449"/>
                  <a:pt x="621" y="449"/>
                  <a:pt x="627" y="448"/>
                </a:cubicBezTo>
                <a:cubicBezTo>
                  <a:pt x="627" y="448"/>
                  <a:pt x="628" y="448"/>
                  <a:pt x="628" y="448"/>
                </a:cubicBezTo>
                <a:cubicBezTo>
                  <a:pt x="632" y="448"/>
                  <a:pt x="637" y="448"/>
                  <a:pt x="641" y="447"/>
                </a:cubicBezTo>
                <a:cubicBezTo>
                  <a:pt x="642" y="447"/>
                  <a:pt x="642" y="447"/>
                  <a:pt x="643" y="447"/>
                </a:cubicBezTo>
                <a:cubicBezTo>
                  <a:pt x="643" y="447"/>
                  <a:pt x="644" y="447"/>
                  <a:pt x="644" y="447"/>
                </a:cubicBezTo>
                <a:cubicBezTo>
                  <a:pt x="652" y="447"/>
                  <a:pt x="659" y="446"/>
                  <a:pt x="666" y="446"/>
                </a:cubicBezTo>
                <a:cubicBezTo>
                  <a:pt x="666" y="446"/>
                  <a:pt x="667" y="446"/>
                  <a:pt x="668" y="446"/>
                </a:cubicBezTo>
                <a:cubicBezTo>
                  <a:pt x="669" y="446"/>
                  <a:pt x="670" y="446"/>
                  <a:pt x="671" y="446"/>
                </a:cubicBezTo>
                <a:cubicBezTo>
                  <a:pt x="673" y="446"/>
                  <a:pt x="674" y="445"/>
                  <a:pt x="675" y="445"/>
                </a:cubicBezTo>
                <a:cubicBezTo>
                  <a:pt x="676" y="445"/>
                  <a:pt x="676" y="445"/>
                  <a:pt x="677" y="445"/>
                </a:cubicBezTo>
                <a:cubicBezTo>
                  <a:pt x="678" y="445"/>
                  <a:pt x="679" y="445"/>
                  <a:pt x="680" y="445"/>
                </a:cubicBezTo>
                <a:cubicBezTo>
                  <a:pt x="682" y="445"/>
                  <a:pt x="684" y="445"/>
                  <a:pt x="685" y="445"/>
                </a:cubicBezTo>
                <a:cubicBezTo>
                  <a:pt x="686" y="445"/>
                  <a:pt x="687" y="445"/>
                  <a:pt x="689" y="444"/>
                </a:cubicBezTo>
                <a:cubicBezTo>
                  <a:pt x="689" y="444"/>
                  <a:pt x="690" y="444"/>
                  <a:pt x="690" y="444"/>
                </a:cubicBezTo>
                <a:cubicBezTo>
                  <a:pt x="691" y="444"/>
                  <a:pt x="692" y="444"/>
                  <a:pt x="694" y="444"/>
                </a:cubicBezTo>
                <a:cubicBezTo>
                  <a:pt x="695" y="444"/>
                  <a:pt x="696" y="444"/>
                  <a:pt x="697" y="444"/>
                </a:cubicBezTo>
                <a:cubicBezTo>
                  <a:pt x="699" y="444"/>
                  <a:pt x="702" y="443"/>
                  <a:pt x="704" y="443"/>
                </a:cubicBezTo>
                <a:cubicBezTo>
                  <a:pt x="705" y="443"/>
                  <a:pt x="705" y="443"/>
                  <a:pt x="705" y="443"/>
                </a:cubicBezTo>
                <a:cubicBezTo>
                  <a:pt x="706" y="443"/>
                  <a:pt x="706" y="443"/>
                  <a:pt x="706" y="443"/>
                </a:cubicBezTo>
                <a:cubicBezTo>
                  <a:pt x="706" y="443"/>
                  <a:pt x="706" y="443"/>
                  <a:pt x="706" y="443"/>
                </a:cubicBezTo>
                <a:cubicBezTo>
                  <a:pt x="707" y="443"/>
                  <a:pt x="707" y="443"/>
                  <a:pt x="707" y="443"/>
                </a:cubicBezTo>
                <a:cubicBezTo>
                  <a:pt x="708" y="443"/>
                  <a:pt x="708" y="443"/>
                  <a:pt x="708" y="443"/>
                </a:cubicBezTo>
                <a:cubicBezTo>
                  <a:pt x="709" y="443"/>
                  <a:pt x="709" y="443"/>
                  <a:pt x="709" y="443"/>
                </a:cubicBezTo>
                <a:cubicBezTo>
                  <a:pt x="709" y="443"/>
                  <a:pt x="709" y="443"/>
                  <a:pt x="709" y="443"/>
                </a:cubicBezTo>
                <a:cubicBezTo>
                  <a:pt x="710" y="443"/>
                  <a:pt x="711" y="443"/>
                  <a:pt x="711" y="443"/>
                </a:cubicBezTo>
                <a:cubicBezTo>
                  <a:pt x="712" y="442"/>
                  <a:pt x="712" y="442"/>
                  <a:pt x="713" y="442"/>
                </a:cubicBezTo>
                <a:cubicBezTo>
                  <a:pt x="713" y="442"/>
                  <a:pt x="713" y="442"/>
                  <a:pt x="713" y="442"/>
                </a:cubicBezTo>
                <a:cubicBezTo>
                  <a:pt x="713" y="442"/>
                  <a:pt x="713" y="442"/>
                  <a:pt x="713" y="442"/>
                </a:cubicBezTo>
                <a:cubicBezTo>
                  <a:pt x="714" y="442"/>
                  <a:pt x="715" y="442"/>
                  <a:pt x="715" y="442"/>
                </a:cubicBezTo>
                <a:cubicBezTo>
                  <a:pt x="716" y="442"/>
                  <a:pt x="716" y="442"/>
                  <a:pt x="716" y="442"/>
                </a:cubicBezTo>
                <a:cubicBezTo>
                  <a:pt x="717" y="442"/>
                  <a:pt x="717" y="442"/>
                  <a:pt x="717" y="442"/>
                </a:cubicBezTo>
                <a:cubicBezTo>
                  <a:pt x="718" y="442"/>
                  <a:pt x="718" y="442"/>
                  <a:pt x="718" y="442"/>
                </a:cubicBezTo>
                <a:cubicBezTo>
                  <a:pt x="719" y="442"/>
                  <a:pt x="719" y="441"/>
                  <a:pt x="720" y="441"/>
                </a:cubicBezTo>
                <a:cubicBezTo>
                  <a:pt x="720" y="441"/>
                  <a:pt x="720" y="441"/>
                  <a:pt x="720" y="441"/>
                </a:cubicBezTo>
                <a:cubicBezTo>
                  <a:pt x="720" y="441"/>
                  <a:pt x="720" y="441"/>
                  <a:pt x="720" y="441"/>
                </a:cubicBezTo>
                <a:cubicBezTo>
                  <a:pt x="721" y="441"/>
                  <a:pt x="721" y="441"/>
                  <a:pt x="721" y="441"/>
                </a:cubicBezTo>
                <a:cubicBezTo>
                  <a:pt x="721" y="441"/>
                  <a:pt x="722" y="441"/>
                  <a:pt x="722" y="441"/>
                </a:cubicBezTo>
                <a:cubicBezTo>
                  <a:pt x="723" y="441"/>
                  <a:pt x="723" y="441"/>
                  <a:pt x="723" y="441"/>
                </a:cubicBezTo>
                <a:cubicBezTo>
                  <a:pt x="724" y="440"/>
                  <a:pt x="724" y="440"/>
                  <a:pt x="724" y="440"/>
                </a:cubicBezTo>
                <a:cubicBezTo>
                  <a:pt x="724" y="440"/>
                  <a:pt x="724" y="440"/>
                  <a:pt x="724" y="440"/>
                </a:cubicBezTo>
                <a:cubicBezTo>
                  <a:pt x="725" y="440"/>
                  <a:pt x="725" y="440"/>
                  <a:pt x="725" y="440"/>
                </a:cubicBezTo>
                <a:cubicBezTo>
                  <a:pt x="726" y="440"/>
                  <a:pt x="726" y="440"/>
                  <a:pt x="727" y="440"/>
                </a:cubicBezTo>
                <a:cubicBezTo>
                  <a:pt x="727" y="440"/>
                  <a:pt x="727" y="440"/>
                  <a:pt x="727" y="440"/>
                </a:cubicBezTo>
                <a:cubicBezTo>
                  <a:pt x="728" y="439"/>
                  <a:pt x="728" y="439"/>
                  <a:pt x="728" y="439"/>
                </a:cubicBezTo>
                <a:cubicBezTo>
                  <a:pt x="729" y="439"/>
                  <a:pt x="729" y="439"/>
                  <a:pt x="730" y="439"/>
                </a:cubicBezTo>
                <a:cubicBezTo>
                  <a:pt x="730" y="439"/>
                  <a:pt x="730" y="439"/>
                  <a:pt x="730" y="439"/>
                </a:cubicBezTo>
                <a:cubicBezTo>
                  <a:pt x="731" y="438"/>
                  <a:pt x="731" y="438"/>
                  <a:pt x="731" y="438"/>
                </a:cubicBezTo>
                <a:cubicBezTo>
                  <a:pt x="731" y="438"/>
                  <a:pt x="731" y="438"/>
                  <a:pt x="731" y="438"/>
                </a:cubicBezTo>
                <a:cubicBezTo>
                  <a:pt x="732" y="438"/>
                  <a:pt x="732" y="438"/>
                  <a:pt x="732" y="438"/>
                </a:cubicBezTo>
                <a:cubicBezTo>
                  <a:pt x="733" y="438"/>
                  <a:pt x="733" y="438"/>
                  <a:pt x="733" y="438"/>
                </a:cubicBezTo>
                <a:cubicBezTo>
                  <a:pt x="733" y="437"/>
                  <a:pt x="733" y="437"/>
                  <a:pt x="733" y="437"/>
                </a:cubicBezTo>
                <a:cubicBezTo>
                  <a:pt x="734" y="437"/>
                  <a:pt x="734" y="437"/>
                  <a:pt x="734" y="437"/>
                </a:cubicBezTo>
                <a:cubicBezTo>
                  <a:pt x="735" y="436"/>
                  <a:pt x="735" y="436"/>
                  <a:pt x="735" y="436"/>
                </a:cubicBezTo>
                <a:cubicBezTo>
                  <a:pt x="735" y="436"/>
                  <a:pt x="735" y="436"/>
                  <a:pt x="735" y="436"/>
                </a:cubicBezTo>
                <a:cubicBezTo>
                  <a:pt x="735" y="436"/>
                  <a:pt x="735" y="436"/>
                  <a:pt x="735" y="436"/>
                </a:cubicBezTo>
                <a:cubicBezTo>
                  <a:pt x="736" y="436"/>
                  <a:pt x="736" y="436"/>
                  <a:pt x="736" y="436"/>
                </a:cubicBezTo>
                <a:cubicBezTo>
                  <a:pt x="737" y="435"/>
                  <a:pt x="737" y="435"/>
                  <a:pt x="737" y="435"/>
                </a:cubicBezTo>
                <a:cubicBezTo>
                  <a:pt x="737" y="435"/>
                  <a:pt x="737" y="435"/>
                  <a:pt x="737" y="435"/>
                </a:cubicBezTo>
                <a:cubicBezTo>
                  <a:pt x="737" y="435"/>
                  <a:pt x="737" y="435"/>
                  <a:pt x="737" y="435"/>
                </a:cubicBezTo>
                <a:cubicBezTo>
                  <a:pt x="737" y="435"/>
                  <a:pt x="737" y="435"/>
                  <a:pt x="737" y="435"/>
                </a:cubicBezTo>
                <a:cubicBezTo>
                  <a:pt x="738" y="434"/>
                  <a:pt x="738" y="434"/>
                  <a:pt x="738" y="434"/>
                </a:cubicBezTo>
                <a:cubicBezTo>
                  <a:pt x="738" y="434"/>
                  <a:pt x="738" y="434"/>
                  <a:pt x="738" y="434"/>
                </a:cubicBezTo>
                <a:cubicBezTo>
                  <a:pt x="738" y="434"/>
                  <a:pt x="738" y="434"/>
                  <a:pt x="738" y="434"/>
                </a:cubicBezTo>
                <a:cubicBezTo>
                  <a:pt x="738" y="434"/>
                  <a:pt x="738" y="434"/>
                  <a:pt x="738" y="434"/>
                </a:cubicBezTo>
                <a:cubicBezTo>
                  <a:pt x="738" y="434"/>
                  <a:pt x="738" y="434"/>
                  <a:pt x="738" y="434"/>
                </a:cubicBezTo>
                <a:cubicBezTo>
                  <a:pt x="739" y="433"/>
                  <a:pt x="739" y="433"/>
                  <a:pt x="739" y="433"/>
                </a:cubicBezTo>
                <a:cubicBezTo>
                  <a:pt x="739" y="433"/>
                  <a:pt x="739" y="433"/>
                  <a:pt x="739" y="433"/>
                </a:cubicBezTo>
                <a:cubicBezTo>
                  <a:pt x="739" y="433"/>
                  <a:pt x="739" y="433"/>
                  <a:pt x="739" y="433"/>
                </a:cubicBezTo>
                <a:cubicBezTo>
                  <a:pt x="739" y="433"/>
                  <a:pt x="739" y="433"/>
                  <a:pt x="739" y="433"/>
                </a:cubicBezTo>
                <a:cubicBezTo>
                  <a:pt x="739" y="433"/>
                  <a:pt x="739" y="433"/>
                  <a:pt x="739" y="433"/>
                </a:cubicBezTo>
                <a:cubicBezTo>
                  <a:pt x="739" y="433"/>
                  <a:pt x="739" y="433"/>
                  <a:pt x="739" y="433"/>
                </a:cubicBezTo>
                <a:cubicBezTo>
                  <a:pt x="740" y="432"/>
                  <a:pt x="740" y="432"/>
                  <a:pt x="740" y="432"/>
                </a:cubicBezTo>
                <a:cubicBezTo>
                  <a:pt x="740" y="432"/>
                  <a:pt x="740" y="432"/>
                  <a:pt x="740" y="432"/>
                </a:cubicBezTo>
                <a:cubicBezTo>
                  <a:pt x="740" y="432"/>
                  <a:pt x="740" y="432"/>
                  <a:pt x="740" y="432"/>
                </a:cubicBezTo>
                <a:cubicBezTo>
                  <a:pt x="740" y="432"/>
                  <a:pt x="740" y="432"/>
                  <a:pt x="740" y="432"/>
                </a:cubicBezTo>
                <a:cubicBezTo>
                  <a:pt x="740" y="432"/>
                  <a:pt x="740" y="432"/>
                  <a:pt x="740" y="432"/>
                </a:cubicBezTo>
                <a:cubicBezTo>
                  <a:pt x="740" y="431"/>
                  <a:pt x="740" y="431"/>
                  <a:pt x="740" y="431"/>
                </a:cubicBezTo>
                <a:cubicBezTo>
                  <a:pt x="740" y="431"/>
                  <a:pt x="740" y="431"/>
                  <a:pt x="740" y="431"/>
                </a:cubicBezTo>
                <a:cubicBezTo>
                  <a:pt x="740" y="431"/>
                  <a:pt x="740" y="431"/>
                  <a:pt x="740" y="431"/>
                </a:cubicBezTo>
                <a:cubicBezTo>
                  <a:pt x="740" y="431"/>
                  <a:pt x="740" y="431"/>
                  <a:pt x="740" y="431"/>
                </a:cubicBezTo>
                <a:cubicBezTo>
                  <a:pt x="741" y="430"/>
                  <a:pt x="741" y="430"/>
                  <a:pt x="741" y="430"/>
                </a:cubicBezTo>
                <a:cubicBezTo>
                  <a:pt x="741" y="430"/>
                  <a:pt x="741" y="430"/>
                  <a:pt x="741" y="430"/>
                </a:cubicBezTo>
                <a:cubicBezTo>
                  <a:pt x="741" y="430"/>
                  <a:pt x="741" y="430"/>
                  <a:pt x="741" y="430"/>
                </a:cubicBezTo>
                <a:cubicBezTo>
                  <a:pt x="741" y="430"/>
                  <a:pt x="741" y="430"/>
                  <a:pt x="741" y="430"/>
                </a:cubicBezTo>
                <a:cubicBezTo>
                  <a:pt x="741" y="430"/>
                  <a:pt x="741" y="430"/>
                  <a:pt x="741" y="430"/>
                </a:cubicBezTo>
                <a:cubicBezTo>
                  <a:pt x="746" y="392"/>
                  <a:pt x="752" y="355"/>
                  <a:pt x="758" y="317"/>
                </a:cubicBezTo>
                <a:cubicBezTo>
                  <a:pt x="763" y="317"/>
                  <a:pt x="768" y="318"/>
                  <a:pt x="773" y="318"/>
                </a:cubicBezTo>
                <a:cubicBezTo>
                  <a:pt x="773" y="318"/>
                  <a:pt x="773" y="318"/>
                  <a:pt x="773" y="318"/>
                </a:cubicBezTo>
                <a:cubicBezTo>
                  <a:pt x="776" y="319"/>
                  <a:pt x="780" y="319"/>
                  <a:pt x="783" y="320"/>
                </a:cubicBezTo>
                <a:cubicBezTo>
                  <a:pt x="786" y="321"/>
                  <a:pt x="790" y="321"/>
                  <a:pt x="793" y="322"/>
                </a:cubicBezTo>
                <a:cubicBezTo>
                  <a:pt x="793" y="322"/>
                  <a:pt x="793" y="322"/>
                  <a:pt x="793" y="322"/>
                </a:cubicBezTo>
                <a:cubicBezTo>
                  <a:pt x="796" y="323"/>
                  <a:pt x="799" y="324"/>
                  <a:pt x="802" y="324"/>
                </a:cubicBezTo>
                <a:cubicBezTo>
                  <a:pt x="802" y="324"/>
                  <a:pt x="802" y="324"/>
                  <a:pt x="802" y="324"/>
                </a:cubicBezTo>
                <a:cubicBezTo>
                  <a:pt x="804" y="325"/>
                  <a:pt x="806" y="326"/>
                  <a:pt x="808" y="326"/>
                </a:cubicBezTo>
                <a:cubicBezTo>
                  <a:pt x="810" y="327"/>
                  <a:pt x="812" y="328"/>
                  <a:pt x="814" y="328"/>
                </a:cubicBezTo>
                <a:cubicBezTo>
                  <a:pt x="815" y="329"/>
                  <a:pt x="816" y="329"/>
                  <a:pt x="817" y="330"/>
                </a:cubicBezTo>
                <a:cubicBezTo>
                  <a:pt x="819" y="330"/>
                  <a:pt x="821" y="331"/>
                  <a:pt x="823" y="332"/>
                </a:cubicBezTo>
                <a:cubicBezTo>
                  <a:pt x="824" y="333"/>
                  <a:pt x="825" y="333"/>
                  <a:pt x="826" y="333"/>
                </a:cubicBezTo>
                <a:cubicBezTo>
                  <a:pt x="829" y="335"/>
                  <a:pt x="831" y="336"/>
                  <a:pt x="834" y="337"/>
                </a:cubicBezTo>
                <a:cubicBezTo>
                  <a:pt x="834" y="338"/>
                  <a:pt x="834" y="338"/>
                  <a:pt x="834" y="338"/>
                </a:cubicBezTo>
                <a:cubicBezTo>
                  <a:pt x="837" y="339"/>
                  <a:pt x="839" y="341"/>
                  <a:pt x="841" y="342"/>
                </a:cubicBezTo>
                <a:cubicBezTo>
                  <a:pt x="843" y="343"/>
                  <a:pt x="844" y="344"/>
                  <a:pt x="846" y="345"/>
                </a:cubicBezTo>
                <a:cubicBezTo>
                  <a:pt x="846" y="346"/>
                  <a:pt x="846" y="346"/>
                  <a:pt x="846" y="346"/>
                </a:cubicBezTo>
                <a:cubicBezTo>
                  <a:pt x="850" y="349"/>
                  <a:pt x="853" y="351"/>
                  <a:pt x="855" y="354"/>
                </a:cubicBezTo>
                <a:cubicBezTo>
                  <a:pt x="856" y="355"/>
                  <a:pt x="856" y="355"/>
                  <a:pt x="856" y="355"/>
                </a:cubicBezTo>
                <a:cubicBezTo>
                  <a:pt x="857" y="356"/>
                  <a:pt x="859" y="358"/>
                  <a:pt x="860" y="359"/>
                </a:cubicBezTo>
                <a:cubicBezTo>
                  <a:pt x="860" y="360"/>
                  <a:pt x="860" y="360"/>
                  <a:pt x="860" y="360"/>
                </a:cubicBezTo>
                <a:cubicBezTo>
                  <a:pt x="861" y="361"/>
                  <a:pt x="862" y="363"/>
                  <a:pt x="863" y="364"/>
                </a:cubicBezTo>
                <a:cubicBezTo>
                  <a:pt x="864" y="366"/>
                  <a:pt x="865" y="368"/>
                  <a:pt x="867" y="370"/>
                </a:cubicBezTo>
                <a:cubicBezTo>
                  <a:pt x="867" y="370"/>
                  <a:pt x="867" y="371"/>
                  <a:pt x="868" y="371"/>
                </a:cubicBezTo>
                <a:cubicBezTo>
                  <a:pt x="869" y="373"/>
                  <a:pt x="870" y="374"/>
                  <a:pt x="870" y="375"/>
                </a:cubicBezTo>
                <a:cubicBezTo>
                  <a:pt x="871" y="376"/>
                  <a:pt x="871" y="376"/>
                  <a:pt x="871" y="376"/>
                </a:cubicBezTo>
                <a:cubicBezTo>
                  <a:pt x="872" y="377"/>
                  <a:pt x="872" y="377"/>
                  <a:pt x="872" y="377"/>
                </a:cubicBezTo>
                <a:cubicBezTo>
                  <a:pt x="873" y="378"/>
                  <a:pt x="874" y="379"/>
                  <a:pt x="875" y="380"/>
                </a:cubicBezTo>
                <a:cubicBezTo>
                  <a:pt x="876" y="380"/>
                  <a:pt x="876" y="381"/>
                  <a:pt x="876" y="381"/>
                </a:cubicBezTo>
                <a:cubicBezTo>
                  <a:pt x="877" y="382"/>
                  <a:pt x="877" y="382"/>
                  <a:pt x="877" y="382"/>
                </a:cubicBezTo>
                <a:cubicBezTo>
                  <a:pt x="878" y="383"/>
                  <a:pt x="880" y="384"/>
                  <a:pt x="881" y="385"/>
                </a:cubicBezTo>
                <a:cubicBezTo>
                  <a:pt x="881" y="385"/>
                  <a:pt x="881" y="385"/>
                  <a:pt x="881" y="385"/>
                </a:cubicBezTo>
                <a:cubicBezTo>
                  <a:pt x="881" y="385"/>
                  <a:pt x="881" y="385"/>
                  <a:pt x="881" y="385"/>
                </a:cubicBezTo>
                <a:cubicBezTo>
                  <a:pt x="883" y="387"/>
                  <a:pt x="885" y="388"/>
                  <a:pt x="887" y="389"/>
                </a:cubicBezTo>
                <a:cubicBezTo>
                  <a:pt x="888" y="389"/>
                  <a:pt x="888" y="390"/>
                  <a:pt x="889" y="390"/>
                </a:cubicBezTo>
                <a:cubicBezTo>
                  <a:pt x="890" y="391"/>
                  <a:pt x="892" y="392"/>
                  <a:pt x="893" y="393"/>
                </a:cubicBezTo>
                <a:cubicBezTo>
                  <a:pt x="894" y="393"/>
                  <a:pt x="894" y="393"/>
                  <a:pt x="894" y="393"/>
                </a:cubicBezTo>
                <a:cubicBezTo>
                  <a:pt x="895" y="393"/>
                  <a:pt x="895" y="393"/>
                  <a:pt x="895" y="394"/>
                </a:cubicBezTo>
                <a:cubicBezTo>
                  <a:pt x="896" y="394"/>
                  <a:pt x="897" y="394"/>
                  <a:pt x="897" y="395"/>
                </a:cubicBezTo>
                <a:cubicBezTo>
                  <a:pt x="898" y="395"/>
                  <a:pt x="899" y="395"/>
                  <a:pt x="900" y="396"/>
                </a:cubicBezTo>
                <a:cubicBezTo>
                  <a:pt x="901" y="396"/>
                  <a:pt x="902" y="396"/>
                  <a:pt x="903" y="397"/>
                </a:cubicBezTo>
                <a:cubicBezTo>
                  <a:pt x="905" y="398"/>
                  <a:pt x="907" y="398"/>
                  <a:pt x="909" y="399"/>
                </a:cubicBezTo>
                <a:cubicBezTo>
                  <a:pt x="909" y="399"/>
                  <a:pt x="910" y="399"/>
                  <a:pt x="910" y="399"/>
                </a:cubicBezTo>
                <a:cubicBezTo>
                  <a:pt x="910" y="400"/>
                  <a:pt x="910" y="400"/>
                  <a:pt x="910" y="400"/>
                </a:cubicBezTo>
                <a:cubicBezTo>
                  <a:pt x="911" y="400"/>
                  <a:pt x="911" y="400"/>
                  <a:pt x="911" y="400"/>
                </a:cubicBezTo>
                <a:cubicBezTo>
                  <a:pt x="911" y="400"/>
                  <a:pt x="911" y="400"/>
                  <a:pt x="912" y="400"/>
                </a:cubicBezTo>
                <a:cubicBezTo>
                  <a:pt x="913" y="400"/>
                  <a:pt x="913" y="400"/>
                  <a:pt x="914" y="401"/>
                </a:cubicBezTo>
                <a:cubicBezTo>
                  <a:pt x="914" y="401"/>
                  <a:pt x="915" y="401"/>
                  <a:pt x="916" y="401"/>
                </a:cubicBezTo>
                <a:cubicBezTo>
                  <a:pt x="916" y="401"/>
                  <a:pt x="917" y="401"/>
                  <a:pt x="918" y="402"/>
                </a:cubicBezTo>
                <a:cubicBezTo>
                  <a:pt x="918" y="402"/>
                  <a:pt x="918" y="402"/>
                  <a:pt x="918" y="402"/>
                </a:cubicBezTo>
                <a:cubicBezTo>
                  <a:pt x="918" y="402"/>
                  <a:pt x="918" y="402"/>
                  <a:pt x="918" y="402"/>
                </a:cubicBezTo>
                <a:cubicBezTo>
                  <a:pt x="918" y="402"/>
                  <a:pt x="919" y="402"/>
                  <a:pt x="919" y="402"/>
                </a:cubicBezTo>
                <a:cubicBezTo>
                  <a:pt x="920" y="402"/>
                  <a:pt x="921" y="402"/>
                  <a:pt x="921" y="403"/>
                </a:cubicBezTo>
                <a:cubicBezTo>
                  <a:pt x="922" y="403"/>
                  <a:pt x="922" y="403"/>
                  <a:pt x="923" y="403"/>
                </a:cubicBezTo>
                <a:cubicBezTo>
                  <a:pt x="924" y="403"/>
                  <a:pt x="924" y="403"/>
                  <a:pt x="925" y="403"/>
                </a:cubicBezTo>
                <a:cubicBezTo>
                  <a:pt x="926" y="404"/>
                  <a:pt x="926" y="404"/>
                  <a:pt x="926" y="404"/>
                </a:cubicBezTo>
                <a:cubicBezTo>
                  <a:pt x="926" y="404"/>
                  <a:pt x="926" y="404"/>
                  <a:pt x="926" y="404"/>
                </a:cubicBezTo>
                <a:cubicBezTo>
                  <a:pt x="926" y="404"/>
                  <a:pt x="926" y="404"/>
                  <a:pt x="926" y="404"/>
                </a:cubicBezTo>
                <a:cubicBezTo>
                  <a:pt x="927" y="404"/>
                  <a:pt x="927" y="404"/>
                  <a:pt x="927" y="404"/>
                </a:cubicBezTo>
                <a:cubicBezTo>
                  <a:pt x="927" y="404"/>
                  <a:pt x="928" y="404"/>
                  <a:pt x="929" y="404"/>
                </a:cubicBezTo>
                <a:cubicBezTo>
                  <a:pt x="929" y="404"/>
                  <a:pt x="930" y="405"/>
                  <a:pt x="931" y="405"/>
                </a:cubicBezTo>
                <a:cubicBezTo>
                  <a:pt x="931" y="405"/>
                  <a:pt x="932" y="405"/>
                  <a:pt x="933" y="405"/>
                </a:cubicBezTo>
                <a:cubicBezTo>
                  <a:pt x="933" y="405"/>
                  <a:pt x="934" y="405"/>
                  <a:pt x="935" y="406"/>
                </a:cubicBezTo>
                <a:cubicBezTo>
                  <a:pt x="935" y="406"/>
                  <a:pt x="935" y="406"/>
                  <a:pt x="935" y="406"/>
                </a:cubicBezTo>
                <a:cubicBezTo>
                  <a:pt x="935" y="406"/>
                  <a:pt x="935" y="406"/>
                  <a:pt x="935" y="406"/>
                </a:cubicBezTo>
                <a:cubicBezTo>
                  <a:pt x="936" y="406"/>
                  <a:pt x="936" y="406"/>
                  <a:pt x="937" y="406"/>
                </a:cubicBezTo>
                <a:cubicBezTo>
                  <a:pt x="938" y="406"/>
                  <a:pt x="939" y="406"/>
                  <a:pt x="940" y="406"/>
                </a:cubicBezTo>
                <a:cubicBezTo>
                  <a:pt x="940" y="407"/>
                  <a:pt x="941" y="407"/>
                  <a:pt x="942" y="407"/>
                </a:cubicBezTo>
                <a:cubicBezTo>
                  <a:pt x="943" y="407"/>
                  <a:pt x="944" y="407"/>
                  <a:pt x="945" y="407"/>
                </a:cubicBezTo>
                <a:cubicBezTo>
                  <a:pt x="946" y="408"/>
                  <a:pt x="947" y="408"/>
                  <a:pt x="948" y="408"/>
                </a:cubicBezTo>
                <a:cubicBezTo>
                  <a:pt x="949" y="408"/>
                  <a:pt x="950" y="408"/>
                  <a:pt x="951" y="408"/>
                </a:cubicBezTo>
                <a:cubicBezTo>
                  <a:pt x="952" y="408"/>
                  <a:pt x="953" y="409"/>
                  <a:pt x="954" y="409"/>
                </a:cubicBezTo>
                <a:cubicBezTo>
                  <a:pt x="954" y="409"/>
                  <a:pt x="954" y="409"/>
                  <a:pt x="954" y="409"/>
                </a:cubicBezTo>
                <a:cubicBezTo>
                  <a:pt x="954" y="409"/>
                  <a:pt x="954" y="409"/>
                  <a:pt x="954" y="409"/>
                </a:cubicBezTo>
                <a:cubicBezTo>
                  <a:pt x="955" y="409"/>
                  <a:pt x="956" y="409"/>
                  <a:pt x="957" y="409"/>
                </a:cubicBezTo>
                <a:cubicBezTo>
                  <a:pt x="957" y="409"/>
                  <a:pt x="958" y="409"/>
                  <a:pt x="959" y="410"/>
                </a:cubicBezTo>
                <a:cubicBezTo>
                  <a:pt x="960" y="410"/>
                  <a:pt x="961" y="410"/>
                  <a:pt x="962" y="410"/>
                </a:cubicBezTo>
                <a:cubicBezTo>
                  <a:pt x="963" y="410"/>
                  <a:pt x="964" y="410"/>
                  <a:pt x="965" y="410"/>
                </a:cubicBezTo>
                <a:cubicBezTo>
                  <a:pt x="965" y="410"/>
                  <a:pt x="965" y="410"/>
                  <a:pt x="965" y="410"/>
                </a:cubicBezTo>
                <a:cubicBezTo>
                  <a:pt x="965" y="410"/>
                  <a:pt x="965" y="410"/>
                  <a:pt x="965" y="410"/>
                </a:cubicBezTo>
                <a:cubicBezTo>
                  <a:pt x="966" y="410"/>
                  <a:pt x="966" y="410"/>
                  <a:pt x="966" y="410"/>
                </a:cubicBezTo>
                <a:cubicBezTo>
                  <a:pt x="966" y="410"/>
                  <a:pt x="966" y="410"/>
                  <a:pt x="966" y="410"/>
                </a:cubicBezTo>
                <a:cubicBezTo>
                  <a:pt x="966" y="410"/>
                  <a:pt x="966" y="410"/>
                  <a:pt x="966" y="410"/>
                </a:cubicBezTo>
                <a:cubicBezTo>
                  <a:pt x="967" y="410"/>
                  <a:pt x="967" y="410"/>
                  <a:pt x="967" y="410"/>
                </a:cubicBezTo>
                <a:cubicBezTo>
                  <a:pt x="968" y="411"/>
                  <a:pt x="968" y="411"/>
                  <a:pt x="968" y="411"/>
                </a:cubicBezTo>
                <a:cubicBezTo>
                  <a:pt x="968" y="411"/>
                  <a:pt x="968" y="411"/>
                  <a:pt x="968" y="411"/>
                </a:cubicBezTo>
                <a:cubicBezTo>
                  <a:pt x="969" y="411"/>
                  <a:pt x="969" y="411"/>
                  <a:pt x="969" y="411"/>
                </a:cubicBezTo>
                <a:cubicBezTo>
                  <a:pt x="969" y="411"/>
                  <a:pt x="969" y="411"/>
                  <a:pt x="969" y="411"/>
                </a:cubicBezTo>
                <a:cubicBezTo>
                  <a:pt x="969" y="411"/>
                  <a:pt x="969" y="411"/>
                  <a:pt x="969" y="411"/>
                </a:cubicBezTo>
                <a:cubicBezTo>
                  <a:pt x="969" y="411"/>
                  <a:pt x="969" y="411"/>
                  <a:pt x="969" y="411"/>
                </a:cubicBezTo>
                <a:cubicBezTo>
                  <a:pt x="970" y="411"/>
                  <a:pt x="970" y="411"/>
                  <a:pt x="970" y="411"/>
                </a:cubicBezTo>
                <a:cubicBezTo>
                  <a:pt x="970" y="411"/>
                  <a:pt x="970" y="411"/>
                  <a:pt x="970" y="411"/>
                </a:cubicBezTo>
                <a:cubicBezTo>
                  <a:pt x="971" y="411"/>
                  <a:pt x="971" y="411"/>
                  <a:pt x="971" y="411"/>
                </a:cubicBezTo>
                <a:cubicBezTo>
                  <a:pt x="972" y="411"/>
                  <a:pt x="972" y="411"/>
                  <a:pt x="972" y="411"/>
                </a:cubicBezTo>
                <a:cubicBezTo>
                  <a:pt x="973" y="411"/>
                  <a:pt x="973" y="411"/>
                  <a:pt x="973" y="411"/>
                </a:cubicBezTo>
                <a:cubicBezTo>
                  <a:pt x="973" y="411"/>
                  <a:pt x="973" y="411"/>
                  <a:pt x="973" y="411"/>
                </a:cubicBezTo>
                <a:cubicBezTo>
                  <a:pt x="973" y="411"/>
                  <a:pt x="973" y="411"/>
                  <a:pt x="973" y="411"/>
                </a:cubicBezTo>
                <a:cubicBezTo>
                  <a:pt x="974" y="411"/>
                  <a:pt x="974" y="411"/>
                  <a:pt x="974" y="411"/>
                </a:cubicBezTo>
                <a:cubicBezTo>
                  <a:pt x="974" y="411"/>
                  <a:pt x="974" y="411"/>
                  <a:pt x="974" y="411"/>
                </a:cubicBezTo>
                <a:cubicBezTo>
                  <a:pt x="975" y="411"/>
                  <a:pt x="975" y="411"/>
                  <a:pt x="975" y="411"/>
                </a:cubicBezTo>
                <a:cubicBezTo>
                  <a:pt x="976" y="411"/>
                  <a:pt x="976" y="411"/>
                  <a:pt x="976" y="411"/>
                </a:cubicBezTo>
                <a:cubicBezTo>
                  <a:pt x="977" y="411"/>
                  <a:pt x="977" y="411"/>
                  <a:pt x="977" y="411"/>
                </a:cubicBezTo>
                <a:cubicBezTo>
                  <a:pt x="977" y="411"/>
                  <a:pt x="977" y="411"/>
                  <a:pt x="977" y="411"/>
                </a:cubicBezTo>
                <a:cubicBezTo>
                  <a:pt x="977" y="411"/>
                  <a:pt x="977" y="411"/>
                  <a:pt x="977" y="411"/>
                </a:cubicBezTo>
                <a:cubicBezTo>
                  <a:pt x="978" y="411"/>
                  <a:pt x="978" y="411"/>
                  <a:pt x="978" y="411"/>
                </a:cubicBezTo>
                <a:cubicBezTo>
                  <a:pt x="979" y="411"/>
                  <a:pt x="979" y="411"/>
                  <a:pt x="979" y="411"/>
                </a:cubicBezTo>
                <a:cubicBezTo>
                  <a:pt x="980" y="411"/>
                  <a:pt x="980" y="411"/>
                  <a:pt x="980" y="411"/>
                </a:cubicBezTo>
                <a:cubicBezTo>
                  <a:pt x="980" y="411"/>
                  <a:pt x="980" y="411"/>
                  <a:pt x="980" y="411"/>
                </a:cubicBezTo>
                <a:cubicBezTo>
                  <a:pt x="981" y="411"/>
                  <a:pt x="981" y="411"/>
                  <a:pt x="981" y="411"/>
                </a:cubicBezTo>
                <a:cubicBezTo>
                  <a:pt x="982" y="411"/>
                  <a:pt x="982" y="411"/>
                  <a:pt x="982" y="411"/>
                </a:cubicBezTo>
                <a:cubicBezTo>
                  <a:pt x="982" y="411"/>
                  <a:pt x="982" y="411"/>
                  <a:pt x="982" y="411"/>
                </a:cubicBezTo>
                <a:cubicBezTo>
                  <a:pt x="983" y="411"/>
                  <a:pt x="983" y="411"/>
                  <a:pt x="983" y="411"/>
                </a:cubicBezTo>
                <a:cubicBezTo>
                  <a:pt x="984" y="411"/>
                  <a:pt x="984" y="411"/>
                  <a:pt x="984" y="411"/>
                </a:cubicBezTo>
                <a:cubicBezTo>
                  <a:pt x="984" y="411"/>
                  <a:pt x="985" y="411"/>
                  <a:pt x="985" y="411"/>
                </a:cubicBezTo>
                <a:cubicBezTo>
                  <a:pt x="986" y="411"/>
                  <a:pt x="986" y="411"/>
                  <a:pt x="987" y="411"/>
                </a:cubicBezTo>
                <a:cubicBezTo>
                  <a:pt x="987" y="411"/>
                  <a:pt x="988" y="411"/>
                  <a:pt x="988" y="411"/>
                </a:cubicBezTo>
                <a:cubicBezTo>
                  <a:pt x="989" y="411"/>
                  <a:pt x="990" y="411"/>
                  <a:pt x="990" y="411"/>
                </a:cubicBezTo>
                <a:cubicBezTo>
                  <a:pt x="991" y="411"/>
                  <a:pt x="992" y="411"/>
                  <a:pt x="992" y="411"/>
                </a:cubicBezTo>
                <a:cubicBezTo>
                  <a:pt x="993" y="411"/>
                  <a:pt x="993" y="411"/>
                  <a:pt x="993" y="411"/>
                </a:cubicBezTo>
                <a:cubicBezTo>
                  <a:pt x="993" y="411"/>
                  <a:pt x="993" y="411"/>
                  <a:pt x="993" y="411"/>
                </a:cubicBezTo>
                <a:cubicBezTo>
                  <a:pt x="994" y="411"/>
                  <a:pt x="994" y="411"/>
                  <a:pt x="995" y="411"/>
                </a:cubicBezTo>
                <a:cubicBezTo>
                  <a:pt x="995" y="410"/>
                  <a:pt x="996" y="410"/>
                  <a:pt x="997" y="410"/>
                </a:cubicBezTo>
                <a:cubicBezTo>
                  <a:pt x="998" y="410"/>
                  <a:pt x="999" y="410"/>
                  <a:pt x="999" y="410"/>
                </a:cubicBezTo>
                <a:cubicBezTo>
                  <a:pt x="1001" y="410"/>
                  <a:pt x="1002" y="410"/>
                  <a:pt x="1003" y="410"/>
                </a:cubicBezTo>
                <a:cubicBezTo>
                  <a:pt x="1004" y="410"/>
                  <a:pt x="1005" y="410"/>
                  <a:pt x="1006" y="409"/>
                </a:cubicBezTo>
                <a:cubicBezTo>
                  <a:pt x="1006" y="409"/>
                  <a:pt x="1006" y="409"/>
                  <a:pt x="1006" y="409"/>
                </a:cubicBezTo>
                <a:cubicBezTo>
                  <a:pt x="1007" y="409"/>
                  <a:pt x="1007" y="409"/>
                  <a:pt x="1007" y="409"/>
                </a:cubicBezTo>
                <a:cubicBezTo>
                  <a:pt x="1008" y="409"/>
                  <a:pt x="1009" y="409"/>
                  <a:pt x="1010" y="409"/>
                </a:cubicBezTo>
                <a:cubicBezTo>
                  <a:pt x="1012" y="409"/>
                  <a:pt x="1013" y="408"/>
                  <a:pt x="1014" y="408"/>
                </a:cubicBezTo>
                <a:cubicBezTo>
                  <a:pt x="1015" y="408"/>
                  <a:pt x="1016" y="408"/>
                  <a:pt x="1017" y="408"/>
                </a:cubicBezTo>
                <a:cubicBezTo>
                  <a:pt x="1018" y="408"/>
                  <a:pt x="1020" y="407"/>
                  <a:pt x="1021" y="407"/>
                </a:cubicBezTo>
                <a:cubicBezTo>
                  <a:pt x="1022" y="407"/>
                  <a:pt x="1022" y="407"/>
                  <a:pt x="1023" y="407"/>
                </a:cubicBezTo>
                <a:cubicBezTo>
                  <a:pt x="1026" y="406"/>
                  <a:pt x="1029" y="406"/>
                  <a:pt x="1031" y="405"/>
                </a:cubicBezTo>
                <a:cubicBezTo>
                  <a:pt x="1032" y="405"/>
                  <a:pt x="1032" y="405"/>
                  <a:pt x="1032" y="405"/>
                </a:cubicBezTo>
                <a:cubicBezTo>
                  <a:pt x="1032" y="405"/>
                  <a:pt x="1032" y="405"/>
                  <a:pt x="1032" y="405"/>
                </a:cubicBezTo>
                <a:cubicBezTo>
                  <a:pt x="1032" y="405"/>
                  <a:pt x="1032" y="405"/>
                  <a:pt x="1032" y="405"/>
                </a:cubicBezTo>
                <a:cubicBezTo>
                  <a:pt x="1035" y="405"/>
                  <a:pt x="1038" y="404"/>
                  <a:pt x="1041" y="403"/>
                </a:cubicBezTo>
                <a:cubicBezTo>
                  <a:pt x="1042" y="403"/>
                  <a:pt x="1043" y="403"/>
                  <a:pt x="1044" y="403"/>
                </a:cubicBezTo>
                <a:cubicBezTo>
                  <a:pt x="1045" y="402"/>
                  <a:pt x="1046" y="402"/>
                  <a:pt x="1047" y="402"/>
                </a:cubicBezTo>
                <a:cubicBezTo>
                  <a:pt x="1048" y="402"/>
                  <a:pt x="1049" y="401"/>
                  <a:pt x="1051" y="401"/>
                </a:cubicBezTo>
                <a:cubicBezTo>
                  <a:pt x="1053" y="401"/>
                  <a:pt x="1055" y="400"/>
                  <a:pt x="1057" y="399"/>
                </a:cubicBezTo>
                <a:cubicBezTo>
                  <a:pt x="1058" y="399"/>
                  <a:pt x="1058" y="399"/>
                  <a:pt x="1059" y="399"/>
                </a:cubicBezTo>
                <a:cubicBezTo>
                  <a:pt x="1062" y="398"/>
                  <a:pt x="1066" y="397"/>
                  <a:pt x="1070" y="396"/>
                </a:cubicBezTo>
                <a:cubicBezTo>
                  <a:pt x="1071" y="396"/>
                  <a:pt x="1072" y="396"/>
                  <a:pt x="1072" y="395"/>
                </a:cubicBezTo>
                <a:cubicBezTo>
                  <a:pt x="1076" y="395"/>
                  <a:pt x="1079" y="394"/>
                  <a:pt x="1082" y="393"/>
                </a:cubicBezTo>
                <a:cubicBezTo>
                  <a:pt x="1083" y="392"/>
                  <a:pt x="1083" y="392"/>
                  <a:pt x="1083" y="392"/>
                </a:cubicBezTo>
                <a:cubicBezTo>
                  <a:pt x="1083" y="392"/>
                  <a:pt x="1083" y="392"/>
                  <a:pt x="1083" y="392"/>
                </a:cubicBezTo>
                <a:cubicBezTo>
                  <a:pt x="1084" y="392"/>
                  <a:pt x="1084" y="392"/>
                  <a:pt x="1084" y="392"/>
                </a:cubicBezTo>
                <a:cubicBezTo>
                  <a:pt x="1085" y="392"/>
                  <a:pt x="1085" y="392"/>
                  <a:pt x="1085" y="392"/>
                </a:cubicBezTo>
                <a:cubicBezTo>
                  <a:pt x="1087" y="391"/>
                  <a:pt x="1089" y="391"/>
                  <a:pt x="1090" y="390"/>
                </a:cubicBezTo>
                <a:cubicBezTo>
                  <a:pt x="1091" y="390"/>
                  <a:pt x="1092" y="390"/>
                  <a:pt x="1092" y="390"/>
                </a:cubicBezTo>
                <a:cubicBezTo>
                  <a:pt x="1094" y="389"/>
                  <a:pt x="1096" y="389"/>
                  <a:pt x="1098" y="388"/>
                </a:cubicBezTo>
                <a:cubicBezTo>
                  <a:pt x="1098" y="388"/>
                  <a:pt x="1099" y="388"/>
                  <a:pt x="1099" y="388"/>
                </a:cubicBezTo>
                <a:cubicBezTo>
                  <a:pt x="1103" y="386"/>
                  <a:pt x="1107" y="385"/>
                  <a:pt x="1111" y="384"/>
                </a:cubicBezTo>
                <a:cubicBezTo>
                  <a:pt x="1112" y="383"/>
                  <a:pt x="1112" y="383"/>
                  <a:pt x="1112" y="383"/>
                </a:cubicBezTo>
                <a:cubicBezTo>
                  <a:pt x="1112" y="383"/>
                  <a:pt x="1112" y="383"/>
                  <a:pt x="1112" y="383"/>
                </a:cubicBezTo>
                <a:cubicBezTo>
                  <a:pt x="1114" y="383"/>
                  <a:pt x="1116" y="382"/>
                  <a:pt x="1117" y="382"/>
                </a:cubicBezTo>
                <a:cubicBezTo>
                  <a:pt x="1118" y="381"/>
                  <a:pt x="1118" y="381"/>
                  <a:pt x="1118" y="381"/>
                </a:cubicBezTo>
                <a:cubicBezTo>
                  <a:pt x="1120" y="381"/>
                  <a:pt x="1121" y="380"/>
                  <a:pt x="1123" y="380"/>
                </a:cubicBezTo>
                <a:cubicBezTo>
                  <a:pt x="1123" y="380"/>
                  <a:pt x="1123" y="380"/>
                  <a:pt x="1123" y="380"/>
                </a:cubicBezTo>
                <a:cubicBezTo>
                  <a:pt x="1123" y="379"/>
                  <a:pt x="1123" y="379"/>
                  <a:pt x="1123" y="379"/>
                </a:cubicBezTo>
                <a:cubicBezTo>
                  <a:pt x="1125" y="379"/>
                  <a:pt x="1126" y="378"/>
                  <a:pt x="1128" y="378"/>
                </a:cubicBezTo>
                <a:cubicBezTo>
                  <a:pt x="1128" y="378"/>
                  <a:pt x="1128" y="378"/>
                  <a:pt x="1128" y="378"/>
                </a:cubicBezTo>
                <a:cubicBezTo>
                  <a:pt x="1132" y="376"/>
                  <a:pt x="1135" y="375"/>
                  <a:pt x="1138" y="374"/>
                </a:cubicBezTo>
                <a:cubicBezTo>
                  <a:pt x="1138" y="374"/>
                  <a:pt x="1138" y="374"/>
                  <a:pt x="1138" y="374"/>
                </a:cubicBezTo>
                <a:cubicBezTo>
                  <a:pt x="1139" y="374"/>
                  <a:pt x="1139" y="374"/>
                  <a:pt x="1139" y="374"/>
                </a:cubicBezTo>
                <a:cubicBezTo>
                  <a:pt x="1140" y="373"/>
                  <a:pt x="1140" y="373"/>
                  <a:pt x="1140" y="373"/>
                </a:cubicBezTo>
                <a:cubicBezTo>
                  <a:pt x="1141" y="373"/>
                  <a:pt x="1141" y="373"/>
                  <a:pt x="1141" y="373"/>
                </a:cubicBezTo>
                <a:cubicBezTo>
                  <a:pt x="1175" y="192"/>
                  <a:pt x="1175" y="192"/>
                  <a:pt x="1175" y="192"/>
                </a:cubicBezTo>
                <a:cubicBezTo>
                  <a:pt x="1175" y="192"/>
                  <a:pt x="1174" y="192"/>
                  <a:pt x="1174" y="192"/>
                </a:cubicBezTo>
                <a:cubicBezTo>
                  <a:pt x="1174" y="192"/>
                  <a:pt x="1174" y="192"/>
                  <a:pt x="1174" y="192"/>
                </a:cubicBezTo>
                <a:cubicBezTo>
                  <a:pt x="1173" y="192"/>
                  <a:pt x="1173" y="193"/>
                  <a:pt x="1172" y="193"/>
                </a:cubicBezTo>
                <a:cubicBezTo>
                  <a:pt x="1172" y="193"/>
                  <a:pt x="1172" y="193"/>
                  <a:pt x="1172" y="193"/>
                </a:cubicBezTo>
                <a:cubicBezTo>
                  <a:pt x="1171" y="193"/>
                  <a:pt x="1170" y="193"/>
                  <a:pt x="1170" y="194"/>
                </a:cubicBezTo>
                <a:cubicBezTo>
                  <a:pt x="1169" y="194"/>
                  <a:pt x="1169" y="194"/>
                  <a:pt x="1169" y="194"/>
                </a:cubicBezTo>
                <a:cubicBezTo>
                  <a:pt x="1168" y="194"/>
                  <a:pt x="1167" y="195"/>
                  <a:pt x="1166" y="195"/>
                </a:cubicBezTo>
                <a:cubicBezTo>
                  <a:pt x="1166" y="195"/>
                  <a:pt x="1166" y="195"/>
                  <a:pt x="1166" y="195"/>
                </a:cubicBezTo>
                <a:cubicBezTo>
                  <a:pt x="1164" y="195"/>
                  <a:pt x="1163" y="196"/>
                  <a:pt x="1162" y="196"/>
                </a:cubicBezTo>
                <a:cubicBezTo>
                  <a:pt x="1162" y="196"/>
                  <a:pt x="1162" y="196"/>
                  <a:pt x="1162" y="196"/>
                </a:cubicBezTo>
                <a:cubicBezTo>
                  <a:pt x="1159" y="197"/>
                  <a:pt x="1155" y="198"/>
                  <a:pt x="1152" y="200"/>
                </a:cubicBezTo>
                <a:cubicBezTo>
                  <a:pt x="1151" y="200"/>
                  <a:pt x="1151" y="200"/>
                  <a:pt x="1151" y="200"/>
                </a:cubicBezTo>
                <a:cubicBezTo>
                  <a:pt x="1149" y="200"/>
                  <a:pt x="1148" y="201"/>
                  <a:pt x="1146" y="202"/>
                </a:cubicBezTo>
                <a:cubicBezTo>
                  <a:pt x="1145" y="202"/>
                  <a:pt x="1145" y="202"/>
                  <a:pt x="1145" y="202"/>
                </a:cubicBezTo>
                <a:cubicBezTo>
                  <a:pt x="1143" y="202"/>
                  <a:pt x="1141" y="203"/>
                  <a:pt x="1139" y="203"/>
                </a:cubicBezTo>
                <a:cubicBezTo>
                  <a:pt x="1139" y="204"/>
                  <a:pt x="1139" y="204"/>
                  <a:pt x="1139" y="204"/>
                </a:cubicBezTo>
                <a:cubicBezTo>
                  <a:pt x="1137" y="204"/>
                  <a:pt x="1135" y="205"/>
                  <a:pt x="1133" y="206"/>
                </a:cubicBezTo>
                <a:cubicBezTo>
                  <a:pt x="1132" y="206"/>
                  <a:pt x="1132" y="206"/>
                  <a:pt x="1131" y="206"/>
                </a:cubicBezTo>
                <a:cubicBezTo>
                  <a:pt x="1129" y="206"/>
                  <a:pt x="1128" y="207"/>
                  <a:pt x="1126" y="207"/>
                </a:cubicBezTo>
                <a:cubicBezTo>
                  <a:pt x="1125" y="208"/>
                  <a:pt x="1125" y="208"/>
                  <a:pt x="1124" y="208"/>
                </a:cubicBezTo>
                <a:cubicBezTo>
                  <a:pt x="1122" y="209"/>
                  <a:pt x="1120" y="209"/>
                  <a:pt x="1118" y="210"/>
                </a:cubicBezTo>
                <a:cubicBezTo>
                  <a:pt x="1118" y="210"/>
                  <a:pt x="1117" y="210"/>
                  <a:pt x="1117" y="210"/>
                </a:cubicBezTo>
                <a:cubicBezTo>
                  <a:pt x="1116" y="210"/>
                  <a:pt x="1116" y="210"/>
                  <a:pt x="1116" y="210"/>
                </a:cubicBezTo>
                <a:cubicBezTo>
                  <a:pt x="1113" y="211"/>
                  <a:pt x="1109" y="212"/>
                  <a:pt x="1106" y="213"/>
                </a:cubicBezTo>
                <a:cubicBezTo>
                  <a:pt x="1105" y="213"/>
                  <a:pt x="1104" y="213"/>
                  <a:pt x="1103" y="214"/>
                </a:cubicBezTo>
                <a:cubicBezTo>
                  <a:pt x="1099" y="215"/>
                  <a:pt x="1096" y="215"/>
                  <a:pt x="1092" y="216"/>
                </a:cubicBezTo>
                <a:cubicBezTo>
                  <a:pt x="1091" y="217"/>
                  <a:pt x="1091" y="217"/>
                  <a:pt x="1090" y="217"/>
                </a:cubicBezTo>
                <a:cubicBezTo>
                  <a:pt x="1087" y="218"/>
                  <a:pt x="1083" y="218"/>
                  <a:pt x="1080" y="219"/>
                </a:cubicBezTo>
                <a:cubicBezTo>
                  <a:pt x="1079" y="219"/>
                  <a:pt x="1078" y="219"/>
                  <a:pt x="1077" y="220"/>
                </a:cubicBezTo>
                <a:cubicBezTo>
                  <a:pt x="1073" y="221"/>
                  <a:pt x="1069" y="221"/>
                  <a:pt x="1065" y="222"/>
                </a:cubicBezTo>
                <a:cubicBezTo>
                  <a:pt x="1065" y="222"/>
                  <a:pt x="1064" y="222"/>
                  <a:pt x="1064" y="222"/>
                </a:cubicBezTo>
                <a:cubicBezTo>
                  <a:pt x="1060" y="223"/>
                  <a:pt x="1057" y="223"/>
                  <a:pt x="1053" y="224"/>
                </a:cubicBezTo>
                <a:cubicBezTo>
                  <a:pt x="1052" y="224"/>
                  <a:pt x="1051" y="224"/>
                  <a:pt x="1050" y="225"/>
                </a:cubicBezTo>
                <a:cubicBezTo>
                  <a:pt x="1046" y="225"/>
                  <a:pt x="1042" y="226"/>
                  <a:pt x="1038" y="226"/>
                </a:cubicBezTo>
                <a:cubicBezTo>
                  <a:pt x="1038" y="226"/>
                  <a:pt x="1038" y="226"/>
                  <a:pt x="1038" y="226"/>
                </a:cubicBezTo>
                <a:cubicBezTo>
                  <a:pt x="1034" y="227"/>
                  <a:pt x="1029" y="227"/>
                  <a:pt x="1025" y="227"/>
                </a:cubicBezTo>
                <a:cubicBezTo>
                  <a:pt x="1025" y="227"/>
                  <a:pt x="1025" y="227"/>
                  <a:pt x="1025" y="227"/>
                </a:cubicBezTo>
                <a:cubicBezTo>
                  <a:pt x="1021" y="228"/>
                  <a:pt x="1017" y="228"/>
                  <a:pt x="1013" y="228"/>
                </a:cubicBezTo>
                <a:cubicBezTo>
                  <a:pt x="1011" y="228"/>
                  <a:pt x="1010" y="228"/>
                  <a:pt x="1009" y="228"/>
                </a:cubicBezTo>
                <a:cubicBezTo>
                  <a:pt x="1008" y="228"/>
                  <a:pt x="1008" y="228"/>
                  <a:pt x="1008" y="228"/>
                </a:cubicBezTo>
                <a:cubicBezTo>
                  <a:pt x="1007" y="228"/>
                  <a:pt x="1006" y="228"/>
                  <a:pt x="1004" y="228"/>
                </a:cubicBezTo>
                <a:cubicBezTo>
                  <a:pt x="1003" y="228"/>
                  <a:pt x="1002" y="227"/>
                  <a:pt x="1000" y="227"/>
                </a:cubicBezTo>
                <a:cubicBezTo>
                  <a:pt x="1000" y="227"/>
                  <a:pt x="1000" y="227"/>
                  <a:pt x="1000" y="227"/>
                </a:cubicBezTo>
                <a:cubicBezTo>
                  <a:pt x="999" y="227"/>
                  <a:pt x="998" y="227"/>
                  <a:pt x="997" y="227"/>
                </a:cubicBezTo>
                <a:cubicBezTo>
                  <a:pt x="993" y="227"/>
                  <a:pt x="989" y="226"/>
                  <a:pt x="986" y="226"/>
                </a:cubicBezTo>
                <a:cubicBezTo>
                  <a:pt x="985" y="226"/>
                  <a:pt x="985" y="226"/>
                  <a:pt x="985" y="226"/>
                </a:cubicBezTo>
                <a:cubicBezTo>
                  <a:pt x="982" y="225"/>
                  <a:pt x="979" y="225"/>
                  <a:pt x="975" y="224"/>
                </a:cubicBezTo>
                <a:cubicBezTo>
                  <a:pt x="975" y="224"/>
                  <a:pt x="975" y="224"/>
                  <a:pt x="975" y="224"/>
                </a:cubicBezTo>
                <a:cubicBezTo>
                  <a:pt x="972" y="224"/>
                  <a:pt x="969" y="223"/>
                  <a:pt x="966" y="223"/>
                </a:cubicBezTo>
                <a:cubicBezTo>
                  <a:pt x="965" y="223"/>
                  <a:pt x="965" y="223"/>
                  <a:pt x="965" y="223"/>
                </a:cubicBezTo>
                <a:cubicBezTo>
                  <a:pt x="962" y="222"/>
                  <a:pt x="959" y="222"/>
                  <a:pt x="957" y="221"/>
                </a:cubicBezTo>
                <a:cubicBezTo>
                  <a:pt x="957" y="221"/>
                  <a:pt x="957" y="221"/>
                  <a:pt x="957" y="221"/>
                </a:cubicBezTo>
                <a:cubicBezTo>
                  <a:pt x="954" y="220"/>
                  <a:pt x="951" y="220"/>
                  <a:pt x="949" y="219"/>
                </a:cubicBezTo>
                <a:cubicBezTo>
                  <a:pt x="948" y="219"/>
                  <a:pt x="948" y="219"/>
                  <a:pt x="948" y="219"/>
                </a:cubicBezTo>
                <a:cubicBezTo>
                  <a:pt x="946" y="218"/>
                  <a:pt x="943" y="218"/>
                  <a:pt x="941" y="217"/>
                </a:cubicBezTo>
                <a:cubicBezTo>
                  <a:pt x="941" y="217"/>
                  <a:pt x="941" y="217"/>
                  <a:pt x="941" y="217"/>
                </a:cubicBezTo>
                <a:cubicBezTo>
                  <a:pt x="940" y="217"/>
                  <a:pt x="940" y="217"/>
                  <a:pt x="939" y="217"/>
                </a:cubicBezTo>
                <a:cubicBezTo>
                  <a:pt x="937" y="216"/>
                  <a:pt x="935" y="215"/>
                  <a:pt x="933" y="214"/>
                </a:cubicBezTo>
                <a:cubicBezTo>
                  <a:pt x="932" y="214"/>
                  <a:pt x="931" y="214"/>
                  <a:pt x="930" y="214"/>
                </a:cubicBezTo>
                <a:cubicBezTo>
                  <a:pt x="929" y="213"/>
                  <a:pt x="927" y="212"/>
                  <a:pt x="925" y="212"/>
                </a:cubicBezTo>
                <a:cubicBezTo>
                  <a:pt x="925" y="211"/>
                  <a:pt x="924" y="211"/>
                  <a:pt x="923" y="211"/>
                </a:cubicBezTo>
                <a:cubicBezTo>
                  <a:pt x="922" y="210"/>
                  <a:pt x="920" y="209"/>
                  <a:pt x="919" y="208"/>
                </a:cubicBezTo>
                <a:cubicBezTo>
                  <a:pt x="918" y="208"/>
                  <a:pt x="917" y="208"/>
                  <a:pt x="917" y="207"/>
                </a:cubicBezTo>
                <a:cubicBezTo>
                  <a:pt x="915" y="206"/>
                  <a:pt x="913" y="205"/>
                  <a:pt x="911" y="204"/>
                </a:cubicBezTo>
                <a:cubicBezTo>
                  <a:pt x="911" y="204"/>
                  <a:pt x="911" y="204"/>
                  <a:pt x="911" y="204"/>
                </a:cubicBezTo>
                <a:cubicBezTo>
                  <a:pt x="909" y="202"/>
                  <a:pt x="907" y="201"/>
                  <a:pt x="906" y="200"/>
                </a:cubicBezTo>
                <a:cubicBezTo>
                  <a:pt x="905" y="200"/>
                  <a:pt x="905" y="199"/>
                  <a:pt x="904" y="199"/>
                </a:cubicBezTo>
                <a:cubicBezTo>
                  <a:pt x="903" y="198"/>
                  <a:pt x="902" y="197"/>
                  <a:pt x="901" y="196"/>
                </a:cubicBezTo>
                <a:cubicBezTo>
                  <a:pt x="901" y="195"/>
                  <a:pt x="900" y="195"/>
                  <a:pt x="900" y="194"/>
                </a:cubicBezTo>
                <a:cubicBezTo>
                  <a:pt x="899" y="193"/>
                  <a:pt x="898" y="192"/>
                  <a:pt x="897" y="191"/>
                </a:cubicBezTo>
                <a:cubicBezTo>
                  <a:pt x="897" y="190"/>
                  <a:pt x="896" y="190"/>
                  <a:pt x="896" y="189"/>
                </a:cubicBezTo>
                <a:cubicBezTo>
                  <a:pt x="894" y="188"/>
                  <a:pt x="893" y="186"/>
                  <a:pt x="892" y="184"/>
                </a:cubicBezTo>
                <a:cubicBezTo>
                  <a:pt x="891" y="183"/>
                  <a:pt x="890" y="182"/>
                  <a:pt x="889" y="180"/>
                </a:cubicBezTo>
                <a:cubicBezTo>
                  <a:pt x="888" y="180"/>
                  <a:pt x="888" y="180"/>
                  <a:pt x="888" y="180"/>
                </a:cubicBezTo>
                <a:cubicBezTo>
                  <a:pt x="887" y="178"/>
                  <a:pt x="886" y="177"/>
                  <a:pt x="885" y="176"/>
                </a:cubicBezTo>
                <a:cubicBezTo>
                  <a:pt x="884" y="175"/>
                  <a:pt x="884" y="175"/>
                  <a:pt x="884" y="175"/>
                </a:cubicBezTo>
                <a:cubicBezTo>
                  <a:pt x="884" y="175"/>
                  <a:pt x="883" y="174"/>
                  <a:pt x="883" y="174"/>
                </a:cubicBezTo>
                <a:cubicBezTo>
                  <a:pt x="882" y="173"/>
                  <a:pt x="881" y="172"/>
                  <a:pt x="880" y="171"/>
                </a:cubicBezTo>
                <a:cubicBezTo>
                  <a:pt x="880" y="171"/>
                  <a:pt x="880" y="171"/>
                  <a:pt x="880" y="171"/>
                </a:cubicBezTo>
                <a:cubicBezTo>
                  <a:pt x="878" y="170"/>
                  <a:pt x="877" y="169"/>
                  <a:pt x="875" y="167"/>
                </a:cubicBezTo>
                <a:cubicBezTo>
                  <a:pt x="874" y="167"/>
                  <a:pt x="874" y="167"/>
                  <a:pt x="874" y="167"/>
                </a:cubicBezTo>
                <a:cubicBezTo>
                  <a:pt x="874" y="167"/>
                  <a:pt x="874" y="167"/>
                  <a:pt x="874" y="167"/>
                </a:cubicBezTo>
                <a:cubicBezTo>
                  <a:pt x="873" y="166"/>
                  <a:pt x="871" y="165"/>
                  <a:pt x="870" y="164"/>
                </a:cubicBezTo>
                <a:cubicBezTo>
                  <a:pt x="869" y="164"/>
                  <a:pt x="869" y="164"/>
                  <a:pt x="869" y="164"/>
                </a:cubicBezTo>
                <a:cubicBezTo>
                  <a:pt x="867" y="162"/>
                  <a:pt x="865" y="161"/>
                  <a:pt x="862" y="160"/>
                </a:cubicBezTo>
                <a:cubicBezTo>
                  <a:pt x="862" y="159"/>
                  <a:pt x="862" y="159"/>
                  <a:pt x="862" y="159"/>
                </a:cubicBezTo>
                <a:cubicBezTo>
                  <a:pt x="859" y="158"/>
                  <a:pt x="857" y="157"/>
                  <a:pt x="854" y="156"/>
                </a:cubicBezTo>
                <a:cubicBezTo>
                  <a:pt x="853" y="155"/>
                  <a:pt x="853" y="155"/>
                  <a:pt x="853" y="155"/>
                </a:cubicBezTo>
                <a:cubicBezTo>
                  <a:pt x="853" y="155"/>
                  <a:pt x="852" y="155"/>
                  <a:pt x="851" y="155"/>
                </a:cubicBezTo>
                <a:cubicBezTo>
                  <a:pt x="850" y="154"/>
                  <a:pt x="848" y="153"/>
                  <a:pt x="847" y="153"/>
                </a:cubicBezTo>
                <a:cubicBezTo>
                  <a:pt x="846" y="153"/>
                  <a:pt x="846" y="152"/>
                  <a:pt x="845" y="152"/>
                </a:cubicBezTo>
                <a:cubicBezTo>
                  <a:pt x="844" y="152"/>
                  <a:pt x="843" y="151"/>
                  <a:pt x="842" y="151"/>
                </a:cubicBezTo>
                <a:cubicBezTo>
                  <a:pt x="840" y="150"/>
                  <a:pt x="838" y="150"/>
                  <a:pt x="835" y="149"/>
                </a:cubicBezTo>
                <a:cubicBezTo>
                  <a:pt x="835" y="149"/>
                  <a:pt x="834" y="149"/>
                  <a:pt x="833" y="148"/>
                </a:cubicBezTo>
                <a:cubicBezTo>
                  <a:pt x="833" y="148"/>
                  <a:pt x="832" y="148"/>
                  <a:pt x="831" y="148"/>
                </a:cubicBezTo>
                <a:cubicBezTo>
                  <a:pt x="831" y="148"/>
                  <a:pt x="830" y="148"/>
                  <a:pt x="830" y="147"/>
                </a:cubicBezTo>
                <a:cubicBezTo>
                  <a:pt x="829" y="147"/>
                  <a:pt x="829" y="147"/>
                  <a:pt x="829" y="147"/>
                </a:cubicBezTo>
                <a:cubicBezTo>
                  <a:pt x="829" y="147"/>
                  <a:pt x="828" y="147"/>
                  <a:pt x="828" y="147"/>
                </a:cubicBezTo>
                <a:cubicBezTo>
                  <a:pt x="827" y="147"/>
                  <a:pt x="826" y="147"/>
                  <a:pt x="826" y="146"/>
                </a:cubicBezTo>
                <a:cubicBezTo>
                  <a:pt x="825" y="146"/>
                  <a:pt x="825" y="146"/>
                  <a:pt x="824" y="146"/>
                </a:cubicBezTo>
                <a:cubicBezTo>
                  <a:pt x="823" y="146"/>
                  <a:pt x="823" y="146"/>
                  <a:pt x="822" y="146"/>
                </a:cubicBezTo>
                <a:cubicBezTo>
                  <a:pt x="822" y="145"/>
                  <a:pt x="821" y="145"/>
                  <a:pt x="821" y="145"/>
                </a:cubicBezTo>
                <a:cubicBezTo>
                  <a:pt x="820" y="145"/>
                  <a:pt x="820" y="145"/>
                  <a:pt x="820" y="145"/>
                </a:cubicBezTo>
                <a:cubicBezTo>
                  <a:pt x="820" y="145"/>
                  <a:pt x="820" y="145"/>
                  <a:pt x="820" y="145"/>
                </a:cubicBezTo>
                <a:cubicBezTo>
                  <a:pt x="819" y="145"/>
                  <a:pt x="819" y="145"/>
                  <a:pt x="819" y="145"/>
                </a:cubicBezTo>
                <a:cubicBezTo>
                  <a:pt x="819" y="145"/>
                  <a:pt x="818" y="145"/>
                  <a:pt x="818" y="145"/>
                </a:cubicBezTo>
                <a:cubicBezTo>
                  <a:pt x="817" y="145"/>
                  <a:pt x="817" y="144"/>
                  <a:pt x="816" y="144"/>
                </a:cubicBezTo>
                <a:cubicBezTo>
                  <a:pt x="816" y="144"/>
                  <a:pt x="815" y="144"/>
                  <a:pt x="815" y="144"/>
                </a:cubicBezTo>
                <a:cubicBezTo>
                  <a:pt x="814" y="144"/>
                  <a:pt x="814" y="144"/>
                  <a:pt x="813" y="144"/>
                </a:cubicBezTo>
                <a:cubicBezTo>
                  <a:pt x="813" y="144"/>
                  <a:pt x="812" y="144"/>
                  <a:pt x="812" y="144"/>
                </a:cubicBezTo>
                <a:cubicBezTo>
                  <a:pt x="811" y="143"/>
                  <a:pt x="811" y="143"/>
                  <a:pt x="810" y="143"/>
                </a:cubicBezTo>
                <a:cubicBezTo>
                  <a:pt x="810" y="143"/>
                  <a:pt x="810" y="143"/>
                  <a:pt x="810" y="143"/>
                </a:cubicBezTo>
                <a:cubicBezTo>
                  <a:pt x="810" y="143"/>
                  <a:pt x="810" y="143"/>
                  <a:pt x="810" y="143"/>
                </a:cubicBezTo>
                <a:cubicBezTo>
                  <a:pt x="810" y="143"/>
                  <a:pt x="810" y="143"/>
                  <a:pt x="810" y="143"/>
                </a:cubicBezTo>
                <a:cubicBezTo>
                  <a:pt x="809" y="143"/>
                  <a:pt x="809" y="143"/>
                  <a:pt x="809" y="143"/>
                </a:cubicBezTo>
                <a:cubicBezTo>
                  <a:pt x="809" y="143"/>
                  <a:pt x="808" y="143"/>
                  <a:pt x="808" y="143"/>
                </a:cubicBezTo>
                <a:cubicBezTo>
                  <a:pt x="807" y="143"/>
                  <a:pt x="807" y="143"/>
                  <a:pt x="806" y="143"/>
                </a:cubicBezTo>
                <a:cubicBezTo>
                  <a:pt x="806" y="143"/>
                  <a:pt x="805" y="143"/>
                  <a:pt x="805" y="142"/>
                </a:cubicBezTo>
                <a:cubicBezTo>
                  <a:pt x="804" y="142"/>
                  <a:pt x="804" y="142"/>
                  <a:pt x="803" y="142"/>
                </a:cubicBezTo>
                <a:cubicBezTo>
                  <a:pt x="803" y="142"/>
                  <a:pt x="802" y="142"/>
                  <a:pt x="802" y="142"/>
                </a:cubicBezTo>
                <a:cubicBezTo>
                  <a:pt x="801" y="142"/>
                  <a:pt x="801" y="142"/>
                  <a:pt x="801" y="142"/>
                </a:cubicBezTo>
                <a:cubicBezTo>
                  <a:pt x="800" y="142"/>
                  <a:pt x="800" y="142"/>
                  <a:pt x="800" y="142"/>
                </a:cubicBezTo>
                <a:cubicBezTo>
                  <a:pt x="800" y="142"/>
                  <a:pt x="800" y="142"/>
                  <a:pt x="800" y="142"/>
                </a:cubicBezTo>
                <a:cubicBezTo>
                  <a:pt x="799" y="142"/>
                  <a:pt x="799" y="142"/>
                  <a:pt x="799" y="142"/>
                </a:cubicBezTo>
                <a:cubicBezTo>
                  <a:pt x="799" y="142"/>
                  <a:pt x="798" y="142"/>
                  <a:pt x="798" y="142"/>
                </a:cubicBezTo>
                <a:cubicBezTo>
                  <a:pt x="797" y="142"/>
                  <a:pt x="797" y="141"/>
                  <a:pt x="796" y="141"/>
                </a:cubicBezTo>
                <a:cubicBezTo>
                  <a:pt x="796" y="141"/>
                  <a:pt x="795" y="141"/>
                  <a:pt x="795" y="141"/>
                </a:cubicBezTo>
                <a:cubicBezTo>
                  <a:pt x="794" y="141"/>
                  <a:pt x="794" y="141"/>
                  <a:pt x="793" y="141"/>
                </a:cubicBezTo>
                <a:cubicBezTo>
                  <a:pt x="793" y="141"/>
                  <a:pt x="792" y="141"/>
                  <a:pt x="792" y="141"/>
                </a:cubicBezTo>
                <a:cubicBezTo>
                  <a:pt x="791" y="141"/>
                  <a:pt x="791" y="141"/>
                  <a:pt x="790" y="141"/>
                </a:cubicBezTo>
                <a:cubicBezTo>
                  <a:pt x="790" y="141"/>
                  <a:pt x="789" y="141"/>
                  <a:pt x="789" y="141"/>
                </a:cubicBezTo>
                <a:cubicBezTo>
                  <a:pt x="789" y="141"/>
                  <a:pt x="789" y="141"/>
                  <a:pt x="789" y="141"/>
                </a:cubicBezTo>
                <a:cubicBezTo>
                  <a:pt x="788" y="141"/>
                  <a:pt x="788" y="141"/>
                  <a:pt x="787" y="141"/>
                </a:cubicBezTo>
                <a:cubicBezTo>
                  <a:pt x="787" y="141"/>
                  <a:pt x="786" y="141"/>
                  <a:pt x="786" y="141"/>
                </a:cubicBezTo>
                <a:cubicBezTo>
                  <a:pt x="785" y="141"/>
                  <a:pt x="785" y="141"/>
                  <a:pt x="784" y="140"/>
                </a:cubicBezTo>
                <a:cubicBezTo>
                  <a:pt x="784" y="140"/>
                  <a:pt x="783" y="140"/>
                  <a:pt x="782" y="140"/>
                </a:cubicBezTo>
                <a:cubicBezTo>
                  <a:pt x="782" y="140"/>
                  <a:pt x="781" y="140"/>
                  <a:pt x="781" y="140"/>
                </a:cubicBezTo>
                <a:cubicBezTo>
                  <a:pt x="780" y="140"/>
                  <a:pt x="780" y="140"/>
                  <a:pt x="779" y="140"/>
                </a:cubicBezTo>
                <a:cubicBezTo>
                  <a:pt x="779" y="140"/>
                  <a:pt x="778" y="140"/>
                  <a:pt x="777" y="140"/>
                </a:cubicBezTo>
                <a:cubicBezTo>
                  <a:pt x="777" y="140"/>
                  <a:pt x="777" y="140"/>
                  <a:pt x="777" y="140"/>
                </a:cubicBezTo>
                <a:cubicBezTo>
                  <a:pt x="777" y="140"/>
                  <a:pt x="776" y="140"/>
                  <a:pt x="776" y="140"/>
                </a:cubicBezTo>
                <a:cubicBezTo>
                  <a:pt x="775" y="140"/>
                  <a:pt x="774" y="140"/>
                  <a:pt x="774" y="140"/>
                </a:cubicBezTo>
                <a:cubicBezTo>
                  <a:pt x="773" y="140"/>
                  <a:pt x="773" y="140"/>
                  <a:pt x="772" y="140"/>
                </a:cubicBezTo>
                <a:cubicBezTo>
                  <a:pt x="771" y="140"/>
                  <a:pt x="771" y="140"/>
                  <a:pt x="770" y="140"/>
                </a:cubicBezTo>
                <a:cubicBezTo>
                  <a:pt x="770" y="140"/>
                  <a:pt x="769" y="140"/>
                  <a:pt x="769" y="140"/>
                </a:cubicBezTo>
                <a:cubicBezTo>
                  <a:pt x="769" y="140"/>
                  <a:pt x="768" y="140"/>
                  <a:pt x="768" y="140"/>
                </a:cubicBezTo>
                <a:cubicBezTo>
                  <a:pt x="768" y="140"/>
                  <a:pt x="767" y="140"/>
                  <a:pt x="767" y="140"/>
                </a:cubicBezTo>
                <a:cubicBezTo>
                  <a:pt x="766" y="140"/>
                  <a:pt x="766" y="140"/>
                  <a:pt x="766" y="140"/>
                </a:cubicBezTo>
                <a:cubicBezTo>
                  <a:pt x="765" y="140"/>
                  <a:pt x="765" y="140"/>
                  <a:pt x="765" y="140"/>
                </a:cubicBezTo>
                <a:cubicBezTo>
                  <a:pt x="765" y="140"/>
                  <a:pt x="765" y="140"/>
                  <a:pt x="765" y="140"/>
                </a:cubicBezTo>
                <a:cubicBezTo>
                  <a:pt x="764" y="140"/>
                  <a:pt x="764" y="140"/>
                  <a:pt x="764" y="140"/>
                </a:cubicBezTo>
                <a:cubicBezTo>
                  <a:pt x="764" y="140"/>
                  <a:pt x="764" y="140"/>
                  <a:pt x="764" y="140"/>
                </a:cubicBezTo>
                <a:cubicBezTo>
                  <a:pt x="763" y="140"/>
                  <a:pt x="763" y="140"/>
                  <a:pt x="763" y="140"/>
                </a:cubicBezTo>
                <a:cubicBezTo>
                  <a:pt x="763" y="140"/>
                  <a:pt x="763" y="140"/>
                  <a:pt x="763" y="140"/>
                </a:cubicBezTo>
                <a:cubicBezTo>
                  <a:pt x="763" y="140"/>
                  <a:pt x="763" y="140"/>
                  <a:pt x="763" y="140"/>
                </a:cubicBezTo>
                <a:cubicBezTo>
                  <a:pt x="763" y="140"/>
                  <a:pt x="763" y="140"/>
                  <a:pt x="763" y="140"/>
                </a:cubicBezTo>
                <a:cubicBezTo>
                  <a:pt x="762" y="140"/>
                  <a:pt x="762" y="140"/>
                  <a:pt x="762" y="140"/>
                </a:cubicBezTo>
                <a:cubicBezTo>
                  <a:pt x="762" y="140"/>
                  <a:pt x="762" y="140"/>
                  <a:pt x="762" y="140"/>
                </a:cubicBezTo>
                <a:cubicBezTo>
                  <a:pt x="762" y="140"/>
                  <a:pt x="762" y="140"/>
                  <a:pt x="762" y="140"/>
                </a:cubicBezTo>
                <a:cubicBezTo>
                  <a:pt x="762" y="140"/>
                  <a:pt x="762" y="140"/>
                  <a:pt x="762" y="140"/>
                </a:cubicBezTo>
                <a:cubicBezTo>
                  <a:pt x="762" y="140"/>
                  <a:pt x="761" y="140"/>
                  <a:pt x="760" y="140"/>
                </a:cubicBezTo>
                <a:cubicBezTo>
                  <a:pt x="760" y="140"/>
                  <a:pt x="759" y="140"/>
                  <a:pt x="759" y="140"/>
                </a:cubicBezTo>
                <a:cubicBezTo>
                  <a:pt x="758" y="140"/>
                  <a:pt x="757" y="140"/>
                  <a:pt x="757" y="140"/>
                </a:cubicBezTo>
                <a:cubicBezTo>
                  <a:pt x="756" y="140"/>
                  <a:pt x="756" y="140"/>
                  <a:pt x="755" y="140"/>
                </a:cubicBezTo>
                <a:cubicBezTo>
                  <a:pt x="754" y="140"/>
                  <a:pt x="753" y="140"/>
                  <a:pt x="753" y="141"/>
                </a:cubicBezTo>
                <a:cubicBezTo>
                  <a:pt x="752" y="141"/>
                  <a:pt x="751" y="141"/>
                  <a:pt x="751" y="141"/>
                </a:cubicBezTo>
                <a:cubicBezTo>
                  <a:pt x="750" y="141"/>
                  <a:pt x="749" y="141"/>
                  <a:pt x="748" y="141"/>
                </a:cubicBezTo>
                <a:cubicBezTo>
                  <a:pt x="748" y="141"/>
                  <a:pt x="747" y="141"/>
                  <a:pt x="746" y="141"/>
                </a:cubicBezTo>
                <a:cubicBezTo>
                  <a:pt x="745" y="141"/>
                  <a:pt x="744" y="141"/>
                  <a:pt x="743" y="141"/>
                </a:cubicBezTo>
                <a:cubicBezTo>
                  <a:pt x="742" y="141"/>
                  <a:pt x="741" y="141"/>
                  <a:pt x="740" y="142"/>
                </a:cubicBezTo>
                <a:cubicBezTo>
                  <a:pt x="739" y="142"/>
                  <a:pt x="738" y="142"/>
                  <a:pt x="737" y="142"/>
                </a:cubicBezTo>
                <a:cubicBezTo>
                  <a:pt x="736" y="142"/>
                  <a:pt x="735" y="142"/>
                  <a:pt x="734" y="142"/>
                </a:cubicBezTo>
                <a:cubicBezTo>
                  <a:pt x="733" y="143"/>
                  <a:pt x="731" y="143"/>
                  <a:pt x="729" y="143"/>
                </a:cubicBezTo>
                <a:cubicBezTo>
                  <a:pt x="728" y="143"/>
                  <a:pt x="727" y="143"/>
                  <a:pt x="726" y="144"/>
                </a:cubicBezTo>
                <a:cubicBezTo>
                  <a:pt x="725" y="144"/>
                  <a:pt x="725" y="144"/>
                  <a:pt x="725" y="144"/>
                </a:cubicBezTo>
                <a:cubicBezTo>
                  <a:pt x="725" y="144"/>
                  <a:pt x="725" y="144"/>
                  <a:pt x="725" y="144"/>
                </a:cubicBezTo>
                <a:cubicBezTo>
                  <a:pt x="724" y="144"/>
                  <a:pt x="724" y="144"/>
                  <a:pt x="724" y="144"/>
                </a:cubicBezTo>
                <a:cubicBezTo>
                  <a:pt x="723" y="144"/>
                  <a:pt x="721" y="144"/>
                  <a:pt x="720" y="145"/>
                </a:cubicBezTo>
                <a:cubicBezTo>
                  <a:pt x="719" y="145"/>
                  <a:pt x="718" y="145"/>
                  <a:pt x="717" y="145"/>
                </a:cubicBezTo>
                <a:cubicBezTo>
                  <a:pt x="716" y="145"/>
                  <a:pt x="716" y="145"/>
                  <a:pt x="716" y="145"/>
                </a:cubicBezTo>
                <a:cubicBezTo>
                  <a:pt x="715" y="145"/>
                  <a:pt x="715" y="146"/>
                  <a:pt x="715" y="146"/>
                </a:cubicBezTo>
                <a:cubicBezTo>
                  <a:pt x="712" y="146"/>
                  <a:pt x="710" y="147"/>
                  <a:pt x="708" y="147"/>
                </a:cubicBezTo>
                <a:cubicBezTo>
                  <a:pt x="707" y="147"/>
                  <a:pt x="707" y="147"/>
                  <a:pt x="706" y="148"/>
                </a:cubicBezTo>
                <a:cubicBezTo>
                  <a:pt x="705" y="148"/>
                  <a:pt x="703" y="148"/>
                  <a:pt x="702" y="149"/>
                </a:cubicBezTo>
                <a:cubicBezTo>
                  <a:pt x="701" y="149"/>
                  <a:pt x="701" y="149"/>
                  <a:pt x="700" y="149"/>
                </a:cubicBezTo>
                <a:cubicBezTo>
                  <a:pt x="699" y="149"/>
                  <a:pt x="699" y="150"/>
                  <a:pt x="698" y="150"/>
                </a:cubicBezTo>
                <a:cubicBezTo>
                  <a:pt x="696" y="150"/>
                  <a:pt x="694" y="151"/>
                  <a:pt x="692" y="151"/>
                </a:cubicBezTo>
                <a:cubicBezTo>
                  <a:pt x="692" y="152"/>
                  <a:pt x="691" y="152"/>
                  <a:pt x="691" y="152"/>
                </a:cubicBezTo>
                <a:cubicBezTo>
                  <a:pt x="690" y="152"/>
                  <a:pt x="690" y="152"/>
                  <a:pt x="690" y="152"/>
                </a:cubicBezTo>
                <a:cubicBezTo>
                  <a:pt x="690" y="152"/>
                  <a:pt x="690" y="152"/>
                  <a:pt x="690" y="152"/>
                </a:cubicBezTo>
                <a:cubicBezTo>
                  <a:pt x="689" y="152"/>
                  <a:pt x="689" y="152"/>
                  <a:pt x="689" y="152"/>
                </a:cubicBezTo>
                <a:cubicBezTo>
                  <a:pt x="688" y="153"/>
                  <a:pt x="686" y="153"/>
                  <a:pt x="685" y="154"/>
                </a:cubicBezTo>
                <a:cubicBezTo>
                  <a:pt x="684" y="154"/>
                  <a:pt x="684" y="154"/>
                  <a:pt x="684" y="154"/>
                </a:cubicBezTo>
                <a:cubicBezTo>
                  <a:pt x="682" y="155"/>
                  <a:pt x="681" y="155"/>
                  <a:pt x="679" y="156"/>
                </a:cubicBezTo>
                <a:cubicBezTo>
                  <a:pt x="679" y="156"/>
                  <a:pt x="679" y="156"/>
                  <a:pt x="679" y="156"/>
                </a:cubicBezTo>
                <a:cubicBezTo>
                  <a:pt x="679" y="156"/>
                  <a:pt x="679" y="156"/>
                  <a:pt x="679" y="156"/>
                </a:cubicBezTo>
                <a:cubicBezTo>
                  <a:pt x="677" y="157"/>
                  <a:pt x="676" y="157"/>
                  <a:pt x="675" y="158"/>
                </a:cubicBezTo>
                <a:cubicBezTo>
                  <a:pt x="674" y="158"/>
                  <a:pt x="674" y="158"/>
                  <a:pt x="674" y="158"/>
                </a:cubicBezTo>
                <a:cubicBezTo>
                  <a:pt x="673" y="159"/>
                  <a:pt x="671" y="160"/>
                  <a:pt x="670" y="160"/>
                </a:cubicBezTo>
                <a:cubicBezTo>
                  <a:pt x="670" y="160"/>
                  <a:pt x="670" y="160"/>
                  <a:pt x="670" y="160"/>
                </a:cubicBezTo>
                <a:cubicBezTo>
                  <a:pt x="669" y="161"/>
                  <a:pt x="669" y="161"/>
                  <a:pt x="669" y="161"/>
                </a:cubicBezTo>
                <a:cubicBezTo>
                  <a:pt x="669" y="161"/>
                  <a:pt x="668" y="161"/>
                  <a:pt x="668" y="162"/>
                </a:cubicBezTo>
                <a:cubicBezTo>
                  <a:pt x="667" y="162"/>
                  <a:pt x="667" y="162"/>
                  <a:pt x="667" y="162"/>
                </a:cubicBezTo>
                <a:cubicBezTo>
                  <a:pt x="666" y="162"/>
                  <a:pt x="666" y="162"/>
                  <a:pt x="666" y="162"/>
                </a:cubicBezTo>
                <a:cubicBezTo>
                  <a:pt x="665" y="163"/>
                  <a:pt x="665" y="163"/>
                  <a:pt x="665" y="163"/>
                </a:cubicBezTo>
                <a:cubicBezTo>
                  <a:pt x="665" y="163"/>
                  <a:pt x="665" y="163"/>
                  <a:pt x="665" y="163"/>
                </a:cubicBezTo>
                <a:cubicBezTo>
                  <a:pt x="665" y="163"/>
                  <a:pt x="665" y="163"/>
                  <a:pt x="665" y="163"/>
                </a:cubicBezTo>
                <a:cubicBezTo>
                  <a:pt x="664" y="164"/>
                  <a:pt x="664" y="164"/>
                  <a:pt x="664" y="164"/>
                </a:cubicBezTo>
                <a:cubicBezTo>
                  <a:pt x="664" y="164"/>
                  <a:pt x="663" y="164"/>
                  <a:pt x="663" y="165"/>
                </a:cubicBezTo>
                <a:cubicBezTo>
                  <a:pt x="662" y="165"/>
                  <a:pt x="662" y="165"/>
                  <a:pt x="662" y="165"/>
                </a:cubicBezTo>
                <a:cubicBezTo>
                  <a:pt x="662" y="165"/>
                  <a:pt x="662" y="165"/>
                  <a:pt x="662" y="165"/>
                </a:cubicBezTo>
                <a:cubicBezTo>
                  <a:pt x="661" y="166"/>
                  <a:pt x="661" y="166"/>
                  <a:pt x="661" y="166"/>
                </a:cubicBezTo>
                <a:cubicBezTo>
                  <a:pt x="660" y="167"/>
                  <a:pt x="660" y="167"/>
                  <a:pt x="660" y="167"/>
                </a:cubicBezTo>
                <a:cubicBezTo>
                  <a:pt x="660" y="167"/>
                  <a:pt x="660" y="167"/>
                  <a:pt x="660" y="167"/>
                </a:cubicBezTo>
                <a:cubicBezTo>
                  <a:pt x="659" y="168"/>
                  <a:pt x="659" y="168"/>
                  <a:pt x="659" y="168"/>
                </a:cubicBezTo>
                <a:cubicBezTo>
                  <a:pt x="659" y="168"/>
                  <a:pt x="659" y="168"/>
                  <a:pt x="659" y="168"/>
                </a:cubicBezTo>
                <a:cubicBezTo>
                  <a:pt x="659" y="168"/>
                  <a:pt x="659" y="168"/>
                  <a:pt x="659" y="168"/>
                </a:cubicBezTo>
                <a:cubicBezTo>
                  <a:pt x="658" y="169"/>
                  <a:pt x="658" y="169"/>
                  <a:pt x="658" y="169"/>
                </a:cubicBezTo>
                <a:cubicBezTo>
                  <a:pt x="658" y="169"/>
                  <a:pt x="658" y="169"/>
                  <a:pt x="658" y="169"/>
                </a:cubicBezTo>
                <a:cubicBezTo>
                  <a:pt x="658" y="169"/>
                  <a:pt x="658" y="169"/>
                  <a:pt x="658" y="169"/>
                </a:cubicBezTo>
                <a:cubicBezTo>
                  <a:pt x="657" y="170"/>
                  <a:pt x="657" y="170"/>
                  <a:pt x="657" y="170"/>
                </a:cubicBezTo>
                <a:cubicBezTo>
                  <a:pt x="657" y="170"/>
                  <a:pt x="657" y="170"/>
                  <a:pt x="657" y="170"/>
                </a:cubicBezTo>
                <a:cubicBezTo>
                  <a:pt x="656" y="171"/>
                  <a:pt x="656" y="171"/>
                  <a:pt x="656" y="171"/>
                </a:cubicBezTo>
                <a:cubicBezTo>
                  <a:pt x="656" y="171"/>
                  <a:pt x="656" y="171"/>
                  <a:pt x="656" y="171"/>
                </a:cubicBezTo>
                <a:cubicBezTo>
                  <a:pt x="656" y="171"/>
                  <a:pt x="656" y="171"/>
                  <a:pt x="656" y="171"/>
                </a:cubicBezTo>
                <a:cubicBezTo>
                  <a:pt x="656" y="172"/>
                  <a:pt x="656" y="172"/>
                  <a:pt x="656" y="172"/>
                </a:cubicBezTo>
                <a:cubicBezTo>
                  <a:pt x="655" y="172"/>
                  <a:pt x="655" y="172"/>
                  <a:pt x="655" y="172"/>
                </a:cubicBezTo>
                <a:cubicBezTo>
                  <a:pt x="655" y="172"/>
                  <a:pt x="655" y="172"/>
                  <a:pt x="655" y="172"/>
                </a:cubicBezTo>
                <a:cubicBezTo>
                  <a:pt x="655" y="172"/>
                  <a:pt x="655" y="172"/>
                  <a:pt x="655" y="172"/>
                </a:cubicBezTo>
                <a:cubicBezTo>
                  <a:pt x="655" y="173"/>
                  <a:pt x="655" y="173"/>
                  <a:pt x="655" y="173"/>
                </a:cubicBezTo>
                <a:cubicBezTo>
                  <a:pt x="655" y="173"/>
                  <a:pt x="655" y="173"/>
                  <a:pt x="655" y="173"/>
                </a:cubicBezTo>
                <a:cubicBezTo>
                  <a:pt x="655" y="174"/>
                  <a:pt x="655" y="174"/>
                  <a:pt x="655" y="174"/>
                </a:cubicBezTo>
                <a:cubicBezTo>
                  <a:pt x="655" y="174"/>
                  <a:pt x="655" y="174"/>
                  <a:pt x="655" y="174"/>
                </a:cubicBezTo>
                <a:cubicBezTo>
                  <a:pt x="655" y="174"/>
                  <a:pt x="655" y="174"/>
                  <a:pt x="655" y="174"/>
                </a:cubicBezTo>
                <a:cubicBezTo>
                  <a:pt x="654" y="175"/>
                  <a:pt x="654" y="175"/>
                  <a:pt x="654" y="175"/>
                </a:cubicBezTo>
                <a:cubicBezTo>
                  <a:pt x="654" y="175"/>
                  <a:pt x="654" y="175"/>
                  <a:pt x="654" y="175"/>
                </a:cubicBezTo>
                <a:cubicBezTo>
                  <a:pt x="654" y="176"/>
                  <a:pt x="654" y="176"/>
                  <a:pt x="654" y="176"/>
                </a:cubicBezTo>
                <a:cubicBezTo>
                  <a:pt x="650" y="205"/>
                  <a:pt x="646" y="234"/>
                  <a:pt x="642" y="264"/>
                </a:cubicBezTo>
                <a:cubicBezTo>
                  <a:pt x="640" y="264"/>
                  <a:pt x="637" y="264"/>
                  <a:pt x="635" y="264"/>
                </a:cubicBezTo>
                <a:cubicBezTo>
                  <a:pt x="634" y="264"/>
                  <a:pt x="634" y="264"/>
                  <a:pt x="634" y="264"/>
                </a:cubicBezTo>
                <a:cubicBezTo>
                  <a:pt x="629" y="264"/>
                  <a:pt x="623" y="264"/>
                  <a:pt x="618" y="265"/>
                </a:cubicBezTo>
                <a:cubicBezTo>
                  <a:pt x="617" y="265"/>
                  <a:pt x="617" y="265"/>
                  <a:pt x="617" y="265"/>
                </a:cubicBezTo>
                <a:cubicBezTo>
                  <a:pt x="611" y="265"/>
                  <a:pt x="606" y="265"/>
                  <a:pt x="600" y="266"/>
                </a:cubicBezTo>
                <a:cubicBezTo>
                  <a:pt x="598" y="266"/>
                  <a:pt x="595" y="266"/>
                  <a:pt x="593" y="266"/>
                </a:cubicBezTo>
                <a:cubicBezTo>
                  <a:pt x="592" y="266"/>
                  <a:pt x="592" y="266"/>
                  <a:pt x="591" y="266"/>
                </a:cubicBezTo>
                <a:cubicBezTo>
                  <a:pt x="589" y="266"/>
                  <a:pt x="588" y="266"/>
                  <a:pt x="586" y="266"/>
                </a:cubicBezTo>
                <a:cubicBezTo>
                  <a:pt x="584" y="266"/>
                  <a:pt x="582" y="266"/>
                  <a:pt x="580" y="266"/>
                </a:cubicBezTo>
                <a:cubicBezTo>
                  <a:pt x="579" y="266"/>
                  <a:pt x="578" y="266"/>
                  <a:pt x="577" y="266"/>
                </a:cubicBezTo>
                <a:cubicBezTo>
                  <a:pt x="575" y="267"/>
                  <a:pt x="572" y="267"/>
                  <a:pt x="570" y="267"/>
                </a:cubicBezTo>
                <a:cubicBezTo>
                  <a:pt x="569" y="267"/>
                  <a:pt x="568" y="267"/>
                  <a:pt x="567" y="267"/>
                </a:cubicBezTo>
                <a:cubicBezTo>
                  <a:pt x="550" y="268"/>
                  <a:pt x="534" y="268"/>
                  <a:pt x="520" y="269"/>
                </a:cubicBezTo>
                <a:cubicBezTo>
                  <a:pt x="519" y="269"/>
                  <a:pt x="519" y="269"/>
                  <a:pt x="519" y="269"/>
                </a:cubicBezTo>
                <a:cubicBezTo>
                  <a:pt x="517" y="269"/>
                  <a:pt x="514" y="269"/>
                  <a:pt x="512" y="269"/>
                </a:cubicBezTo>
                <a:cubicBezTo>
                  <a:pt x="511" y="269"/>
                  <a:pt x="511" y="269"/>
                  <a:pt x="511" y="269"/>
                </a:cubicBezTo>
                <a:cubicBezTo>
                  <a:pt x="506" y="269"/>
                  <a:pt x="501" y="269"/>
                  <a:pt x="496" y="269"/>
                </a:cubicBezTo>
                <a:cubicBezTo>
                  <a:pt x="492" y="270"/>
                  <a:pt x="488" y="270"/>
                  <a:pt x="484" y="270"/>
                </a:cubicBezTo>
                <a:cubicBezTo>
                  <a:pt x="472" y="270"/>
                  <a:pt x="464" y="270"/>
                  <a:pt x="462" y="270"/>
                </a:cubicBezTo>
                <a:cubicBezTo>
                  <a:pt x="462" y="270"/>
                  <a:pt x="462" y="270"/>
                  <a:pt x="462" y="270"/>
                </a:cubicBezTo>
                <a:cubicBezTo>
                  <a:pt x="462" y="270"/>
                  <a:pt x="462" y="270"/>
                  <a:pt x="462" y="270"/>
                </a:cubicBezTo>
                <a:cubicBezTo>
                  <a:pt x="462" y="271"/>
                  <a:pt x="462" y="271"/>
                  <a:pt x="462" y="271"/>
                </a:cubicBezTo>
                <a:cubicBezTo>
                  <a:pt x="461" y="271"/>
                  <a:pt x="461" y="271"/>
                  <a:pt x="461" y="271"/>
                </a:cubicBezTo>
                <a:cubicBezTo>
                  <a:pt x="461" y="271"/>
                  <a:pt x="461" y="271"/>
                  <a:pt x="461" y="271"/>
                </a:cubicBezTo>
                <a:cubicBezTo>
                  <a:pt x="460" y="271"/>
                  <a:pt x="460" y="271"/>
                  <a:pt x="460" y="271"/>
                </a:cubicBezTo>
                <a:cubicBezTo>
                  <a:pt x="460" y="271"/>
                  <a:pt x="460" y="271"/>
                  <a:pt x="460" y="271"/>
                </a:cubicBezTo>
                <a:cubicBezTo>
                  <a:pt x="459" y="271"/>
                  <a:pt x="459" y="271"/>
                  <a:pt x="458" y="271"/>
                </a:cubicBezTo>
                <a:cubicBezTo>
                  <a:pt x="458" y="271"/>
                  <a:pt x="458" y="271"/>
                  <a:pt x="458" y="271"/>
                </a:cubicBezTo>
                <a:cubicBezTo>
                  <a:pt x="457" y="271"/>
                  <a:pt x="457" y="271"/>
                  <a:pt x="456" y="271"/>
                </a:cubicBezTo>
                <a:cubicBezTo>
                  <a:pt x="456" y="271"/>
                  <a:pt x="456" y="271"/>
                  <a:pt x="456" y="271"/>
                </a:cubicBezTo>
                <a:cubicBezTo>
                  <a:pt x="455" y="271"/>
                  <a:pt x="454" y="271"/>
                  <a:pt x="453" y="271"/>
                </a:cubicBezTo>
                <a:cubicBezTo>
                  <a:pt x="453" y="271"/>
                  <a:pt x="453" y="271"/>
                  <a:pt x="453" y="271"/>
                </a:cubicBezTo>
                <a:cubicBezTo>
                  <a:pt x="453" y="271"/>
                  <a:pt x="452" y="271"/>
                  <a:pt x="451" y="271"/>
                </a:cubicBezTo>
                <a:cubicBezTo>
                  <a:pt x="450" y="271"/>
                  <a:pt x="450" y="271"/>
                  <a:pt x="450" y="271"/>
                </a:cubicBezTo>
                <a:cubicBezTo>
                  <a:pt x="449" y="271"/>
                  <a:pt x="448" y="272"/>
                  <a:pt x="447" y="272"/>
                </a:cubicBezTo>
                <a:cubicBezTo>
                  <a:pt x="446" y="272"/>
                  <a:pt x="445" y="272"/>
                  <a:pt x="444" y="272"/>
                </a:cubicBezTo>
                <a:cubicBezTo>
                  <a:pt x="444" y="272"/>
                  <a:pt x="444" y="272"/>
                  <a:pt x="444" y="272"/>
                </a:cubicBezTo>
                <a:cubicBezTo>
                  <a:pt x="442" y="271"/>
                  <a:pt x="441" y="271"/>
                  <a:pt x="440" y="271"/>
                </a:cubicBezTo>
                <a:cubicBezTo>
                  <a:pt x="440" y="271"/>
                  <a:pt x="440" y="271"/>
                  <a:pt x="440" y="271"/>
                </a:cubicBezTo>
                <a:cubicBezTo>
                  <a:pt x="438" y="271"/>
                  <a:pt x="437" y="271"/>
                  <a:pt x="436" y="271"/>
                </a:cubicBezTo>
                <a:cubicBezTo>
                  <a:pt x="436" y="271"/>
                  <a:pt x="436" y="271"/>
                  <a:pt x="436" y="271"/>
                </a:cubicBezTo>
                <a:cubicBezTo>
                  <a:pt x="434" y="271"/>
                  <a:pt x="433" y="271"/>
                  <a:pt x="432" y="271"/>
                </a:cubicBezTo>
                <a:cubicBezTo>
                  <a:pt x="431" y="271"/>
                  <a:pt x="431" y="271"/>
                  <a:pt x="431" y="271"/>
                </a:cubicBezTo>
                <a:cubicBezTo>
                  <a:pt x="430" y="271"/>
                  <a:pt x="429" y="270"/>
                  <a:pt x="427" y="270"/>
                </a:cubicBezTo>
                <a:cubicBezTo>
                  <a:pt x="427" y="270"/>
                  <a:pt x="427" y="270"/>
                  <a:pt x="427" y="270"/>
                </a:cubicBezTo>
                <a:cubicBezTo>
                  <a:pt x="426" y="270"/>
                  <a:pt x="424" y="270"/>
                  <a:pt x="423" y="269"/>
                </a:cubicBezTo>
                <a:cubicBezTo>
                  <a:pt x="423" y="269"/>
                  <a:pt x="423" y="269"/>
                  <a:pt x="423" y="269"/>
                </a:cubicBezTo>
                <a:cubicBezTo>
                  <a:pt x="419" y="269"/>
                  <a:pt x="416" y="268"/>
                  <a:pt x="413" y="267"/>
                </a:cubicBezTo>
                <a:cubicBezTo>
                  <a:pt x="413" y="267"/>
                  <a:pt x="413" y="267"/>
                  <a:pt x="413" y="267"/>
                </a:cubicBezTo>
                <a:cubicBezTo>
                  <a:pt x="412" y="267"/>
                  <a:pt x="410" y="266"/>
                  <a:pt x="409" y="266"/>
                </a:cubicBezTo>
                <a:cubicBezTo>
                  <a:pt x="408" y="266"/>
                  <a:pt x="408" y="266"/>
                  <a:pt x="407" y="265"/>
                </a:cubicBezTo>
                <a:cubicBezTo>
                  <a:pt x="406" y="265"/>
                  <a:pt x="405" y="265"/>
                  <a:pt x="404" y="264"/>
                </a:cubicBezTo>
                <a:cubicBezTo>
                  <a:pt x="404" y="264"/>
                  <a:pt x="403" y="264"/>
                  <a:pt x="402" y="264"/>
                </a:cubicBezTo>
                <a:cubicBezTo>
                  <a:pt x="401" y="263"/>
                  <a:pt x="401" y="263"/>
                  <a:pt x="400" y="262"/>
                </a:cubicBezTo>
                <a:cubicBezTo>
                  <a:pt x="399" y="262"/>
                  <a:pt x="398" y="262"/>
                  <a:pt x="398" y="261"/>
                </a:cubicBezTo>
                <a:cubicBezTo>
                  <a:pt x="397" y="261"/>
                  <a:pt x="396" y="261"/>
                  <a:pt x="395" y="260"/>
                </a:cubicBezTo>
                <a:cubicBezTo>
                  <a:pt x="395" y="260"/>
                  <a:pt x="394" y="260"/>
                  <a:pt x="393" y="259"/>
                </a:cubicBezTo>
                <a:cubicBezTo>
                  <a:pt x="392" y="259"/>
                  <a:pt x="392" y="258"/>
                  <a:pt x="391" y="258"/>
                </a:cubicBezTo>
                <a:cubicBezTo>
                  <a:pt x="390" y="257"/>
                  <a:pt x="390" y="257"/>
                  <a:pt x="389" y="257"/>
                </a:cubicBezTo>
                <a:cubicBezTo>
                  <a:pt x="388" y="256"/>
                  <a:pt x="387" y="255"/>
                  <a:pt x="386" y="255"/>
                </a:cubicBezTo>
                <a:cubicBezTo>
                  <a:pt x="386" y="254"/>
                  <a:pt x="385" y="254"/>
                  <a:pt x="385" y="254"/>
                </a:cubicBezTo>
                <a:cubicBezTo>
                  <a:pt x="384" y="253"/>
                  <a:pt x="383" y="252"/>
                  <a:pt x="382" y="252"/>
                </a:cubicBezTo>
                <a:cubicBezTo>
                  <a:pt x="381" y="251"/>
                  <a:pt x="381" y="251"/>
                  <a:pt x="381" y="250"/>
                </a:cubicBezTo>
                <a:cubicBezTo>
                  <a:pt x="379" y="249"/>
                  <a:pt x="378" y="248"/>
                  <a:pt x="377" y="247"/>
                </a:cubicBezTo>
                <a:cubicBezTo>
                  <a:pt x="373" y="243"/>
                  <a:pt x="369" y="239"/>
                  <a:pt x="365" y="235"/>
                </a:cubicBezTo>
                <a:cubicBezTo>
                  <a:pt x="363" y="233"/>
                  <a:pt x="362" y="232"/>
                  <a:pt x="360" y="230"/>
                </a:cubicBezTo>
                <a:cubicBezTo>
                  <a:pt x="358" y="227"/>
                  <a:pt x="355" y="225"/>
                  <a:pt x="353" y="222"/>
                </a:cubicBezTo>
                <a:cubicBezTo>
                  <a:pt x="353" y="221"/>
                  <a:pt x="352" y="221"/>
                  <a:pt x="352" y="221"/>
                </a:cubicBezTo>
                <a:cubicBezTo>
                  <a:pt x="351" y="220"/>
                  <a:pt x="350" y="218"/>
                  <a:pt x="349" y="217"/>
                </a:cubicBezTo>
                <a:cubicBezTo>
                  <a:pt x="348" y="216"/>
                  <a:pt x="347" y="216"/>
                  <a:pt x="346" y="215"/>
                </a:cubicBezTo>
                <a:cubicBezTo>
                  <a:pt x="345" y="213"/>
                  <a:pt x="344" y="212"/>
                  <a:pt x="343" y="211"/>
                </a:cubicBezTo>
                <a:cubicBezTo>
                  <a:pt x="342" y="210"/>
                  <a:pt x="342" y="209"/>
                  <a:pt x="341" y="209"/>
                </a:cubicBezTo>
                <a:cubicBezTo>
                  <a:pt x="340" y="208"/>
                  <a:pt x="339" y="206"/>
                  <a:pt x="337" y="205"/>
                </a:cubicBezTo>
                <a:cubicBezTo>
                  <a:pt x="337" y="204"/>
                  <a:pt x="336" y="204"/>
                  <a:pt x="335" y="203"/>
                </a:cubicBezTo>
                <a:cubicBezTo>
                  <a:pt x="335" y="203"/>
                  <a:pt x="335" y="202"/>
                  <a:pt x="334" y="202"/>
                </a:cubicBezTo>
                <a:cubicBezTo>
                  <a:pt x="333" y="201"/>
                  <a:pt x="333" y="200"/>
                  <a:pt x="332" y="200"/>
                </a:cubicBezTo>
                <a:cubicBezTo>
                  <a:pt x="332" y="199"/>
                  <a:pt x="331" y="199"/>
                  <a:pt x="331" y="198"/>
                </a:cubicBezTo>
                <a:cubicBezTo>
                  <a:pt x="330" y="198"/>
                  <a:pt x="330" y="198"/>
                  <a:pt x="330" y="198"/>
                </a:cubicBezTo>
                <a:cubicBezTo>
                  <a:pt x="329" y="197"/>
                  <a:pt x="328" y="195"/>
                  <a:pt x="327" y="194"/>
                </a:cubicBezTo>
                <a:cubicBezTo>
                  <a:pt x="326" y="194"/>
                  <a:pt x="325" y="193"/>
                  <a:pt x="325" y="193"/>
                </a:cubicBezTo>
                <a:cubicBezTo>
                  <a:pt x="324" y="192"/>
                  <a:pt x="322" y="191"/>
                  <a:pt x="321" y="190"/>
                </a:cubicBezTo>
                <a:cubicBezTo>
                  <a:pt x="321" y="189"/>
                  <a:pt x="320" y="188"/>
                  <a:pt x="319" y="188"/>
                </a:cubicBezTo>
                <a:cubicBezTo>
                  <a:pt x="318" y="187"/>
                  <a:pt x="316" y="185"/>
                  <a:pt x="315" y="184"/>
                </a:cubicBezTo>
                <a:cubicBezTo>
                  <a:pt x="314" y="184"/>
                  <a:pt x="314" y="184"/>
                  <a:pt x="314" y="184"/>
                </a:cubicBezTo>
                <a:cubicBezTo>
                  <a:pt x="314" y="184"/>
                  <a:pt x="314" y="184"/>
                  <a:pt x="314" y="184"/>
                </a:cubicBezTo>
                <a:cubicBezTo>
                  <a:pt x="312" y="182"/>
                  <a:pt x="311" y="181"/>
                  <a:pt x="309" y="180"/>
                </a:cubicBezTo>
                <a:cubicBezTo>
                  <a:pt x="309" y="180"/>
                  <a:pt x="309" y="180"/>
                  <a:pt x="309" y="180"/>
                </a:cubicBezTo>
                <a:cubicBezTo>
                  <a:pt x="308" y="179"/>
                  <a:pt x="308" y="179"/>
                  <a:pt x="307" y="179"/>
                </a:cubicBezTo>
                <a:cubicBezTo>
                  <a:pt x="306" y="178"/>
                  <a:pt x="305" y="177"/>
                  <a:pt x="304" y="177"/>
                </a:cubicBezTo>
                <a:cubicBezTo>
                  <a:pt x="303" y="176"/>
                  <a:pt x="302" y="176"/>
                  <a:pt x="302" y="176"/>
                </a:cubicBezTo>
                <a:cubicBezTo>
                  <a:pt x="300" y="175"/>
                  <a:pt x="299" y="175"/>
                  <a:pt x="298" y="174"/>
                </a:cubicBezTo>
                <a:cubicBezTo>
                  <a:pt x="297" y="174"/>
                  <a:pt x="297" y="174"/>
                  <a:pt x="296" y="173"/>
                </a:cubicBezTo>
                <a:cubicBezTo>
                  <a:pt x="295" y="173"/>
                  <a:pt x="294" y="173"/>
                  <a:pt x="294" y="172"/>
                </a:cubicBezTo>
                <a:cubicBezTo>
                  <a:pt x="293" y="172"/>
                  <a:pt x="293" y="172"/>
                  <a:pt x="293" y="172"/>
                </a:cubicBezTo>
                <a:cubicBezTo>
                  <a:pt x="292" y="172"/>
                  <a:pt x="292" y="172"/>
                  <a:pt x="292" y="172"/>
                </a:cubicBezTo>
                <a:cubicBezTo>
                  <a:pt x="292" y="172"/>
                  <a:pt x="292" y="172"/>
                  <a:pt x="292" y="172"/>
                </a:cubicBezTo>
                <a:cubicBezTo>
                  <a:pt x="291" y="172"/>
                  <a:pt x="291" y="172"/>
                  <a:pt x="291" y="172"/>
                </a:cubicBezTo>
                <a:cubicBezTo>
                  <a:pt x="291" y="172"/>
                  <a:pt x="291" y="172"/>
                  <a:pt x="291" y="172"/>
                </a:cubicBezTo>
                <a:cubicBezTo>
                  <a:pt x="290" y="171"/>
                  <a:pt x="290" y="171"/>
                  <a:pt x="290" y="171"/>
                </a:cubicBezTo>
                <a:cubicBezTo>
                  <a:pt x="290" y="171"/>
                  <a:pt x="290" y="171"/>
                  <a:pt x="290" y="171"/>
                </a:cubicBezTo>
                <a:cubicBezTo>
                  <a:pt x="290" y="171"/>
                  <a:pt x="290" y="171"/>
                  <a:pt x="290" y="171"/>
                </a:cubicBezTo>
                <a:cubicBezTo>
                  <a:pt x="289" y="171"/>
                  <a:pt x="289" y="171"/>
                  <a:pt x="289" y="171"/>
                </a:cubicBezTo>
                <a:cubicBezTo>
                  <a:pt x="289" y="171"/>
                  <a:pt x="289" y="171"/>
                  <a:pt x="289" y="171"/>
                </a:cubicBezTo>
                <a:cubicBezTo>
                  <a:pt x="289" y="171"/>
                  <a:pt x="289" y="171"/>
                  <a:pt x="289" y="171"/>
                </a:cubicBezTo>
                <a:cubicBezTo>
                  <a:pt x="288" y="171"/>
                  <a:pt x="288" y="171"/>
                  <a:pt x="288" y="171"/>
                </a:cubicBezTo>
                <a:cubicBezTo>
                  <a:pt x="288" y="171"/>
                  <a:pt x="288" y="171"/>
                  <a:pt x="288" y="171"/>
                </a:cubicBezTo>
                <a:cubicBezTo>
                  <a:pt x="288" y="171"/>
                  <a:pt x="288" y="171"/>
                  <a:pt x="288" y="171"/>
                </a:cubicBezTo>
                <a:cubicBezTo>
                  <a:pt x="287" y="171"/>
                  <a:pt x="287" y="171"/>
                  <a:pt x="287" y="171"/>
                </a:cubicBezTo>
                <a:cubicBezTo>
                  <a:pt x="287" y="171"/>
                  <a:pt x="287" y="171"/>
                  <a:pt x="287" y="171"/>
                </a:cubicBezTo>
                <a:cubicBezTo>
                  <a:pt x="287" y="171"/>
                  <a:pt x="287" y="171"/>
                  <a:pt x="287" y="171"/>
                </a:cubicBezTo>
                <a:cubicBezTo>
                  <a:pt x="287" y="171"/>
                  <a:pt x="287" y="171"/>
                  <a:pt x="287" y="171"/>
                </a:cubicBezTo>
                <a:cubicBezTo>
                  <a:pt x="286" y="171"/>
                  <a:pt x="286" y="171"/>
                  <a:pt x="286" y="171"/>
                </a:cubicBezTo>
                <a:cubicBezTo>
                  <a:pt x="286" y="171"/>
                  <a:pt x="286" y="171"/>
                  <a:pt x="286" y="171"/>
                </a:cubicBezTo>
                <a:cubicBezTo>
                  <a:pt x="286" y="171"/>
                  <a:pt x="285" y="170"/>
                  <a:pt x="285" y="170"/>
                </a:cubicBezTo>
                <a:cubicBezTo>
                  <a:pt x="284" y="170"/>
                  <a:pt x="284" y="170"/>
                  <a:pt x="283" y="170"/>
                </a:cubicBezTo>
                <a:cubicBezTo>
                  <a:pt x="283" y="170"/>
                  <a:pt x="282" y="170"/>
                  <a:pt x="282" y="170"/>
                </a:cubicBezTo>
                <a:cubicBezTo>
                  <a:pt x="281" y="170"/>
                  <a:pt x="281" y="170"/>
                  <a:pt x="280" y="170"/>
                </a:cubicBezTo>
                <a:cubicBezTo>
                  <a:pt x="279" y="170"/>
                  <a:pt x="279" y="170"/>
                  <a:pt x="278" y="169"/>
                </a:cubicBezTo>
                <a:cubicBezTo>
                  <a:pt x="277" y="169"/>
                  <a:pt x="276" y="169"/>
                  <a:pt x="275" y="169"/>
                </a:cubicBezTo>
                <a:cubicBezTo>
                  <a:pt x="275" y="169"/>
                  <a:pt x="274" y="169"/>
                  <a:pt x="273" y="169"/>
                </a:cubicBezTo>
                <a:cubicBezTo>
                  <a:pt x="272" y="169"/>
                  <a:pt x="272" y="169"/>
                  <a:pt x="271" y="169"/>
                </a:cubicBezTo>
                <a:cubicBezTo>
                  <a:pt x="271" y="169"/>
                  <a:pt x="270" y="169"/>
                  <a:pt x="270" y="169"/>
                </a:cubicBezTo>
                <a:cubicBezTo>
                  <a:pt x="269" y="168"/>
                  <a:pt x="269" y="168"/>
                  <a:pt x="269" y="168"/>
                </a:cubicBezTo>
                <a:cubicBezTo>
                  <a:pt x="269" y="168"/>
                  <a:pt x="269" y="168"/>
                  <a:pt x="269" y="168"/>
                </a:cubicBezTo>
                <a:cubicBezTo>
                  <a:pt x="269" y="168"/>
                  <a:pt x="269" y="168"/>
                  <a:pt x="269" y="168"/>
                </a:cubicBezTo>
                <a:cubicBezTo>
                  <a:pt x="268" y="168"/>
                  <a:pt x="268" y="168"/>
                  <a:pt x="268" y="168"/>
                </a:cubicBezTo>
                <a:cubicBezTo>
                  <a:pt x="268" y="168"/>
                  <a:pt x="267" y="168"/>
                  <a:pt x="267" y="168"/>
                </a:cubicBezTo>
                <a:cubicBezTo>
                  <a:pt x="267" y="168"/>
                  <a:pt x="266" y="168"/>
                  <a:pt x="266" y="168"/>
                </a:cubicBezTo>
                <a:cubicBezTo>
                  <a:pt x="266" y="168"/>
                  <a:pt x="266" y="168"/>
                  <a:pt x="266" y="168"/>
                </a:cubicBezTo>
                <a:cubicBezTo>
                  <a:pt x="265" y="168"/>
                  <a:pt x="265" y="168"/>
                  <a:pt x="265" y="168"/>
                </a:cubicBezTo>
                <a:cubicBezTo>
                  <a:pt x="264" y="168"/>
                  <a:pt x="264" y="168"/>
                  <a:pt x="264" y="168"/>
                </a:cubicBezTo>
                <a:cubicBezTo>
                  <a:pt x="263" y="168"/>
                  <a:pt x="263" y="168"/>
                  <a:pt x="263" y="168"/>
                </a:cubicBezTo>
                <a:cubicBezTo>
                  <a:pt x="262" y="168"/>
                  <a:pt x="262" y="168"/>
                  <a:pt x="262" y="168"/>
                </a:cubicBezTo>
                <a:cubicBezTo>
                  <a:pt x="261" y="168"/>
                  <a:pt x="261" y="168"/>
                  <a:pt x="261" y="168"/>
                </a:cubicBezTo>
                <a:cubicBezTo>
                  <a:pt x="260" y="168"/>
                  <a:pt x="260" y="168"/>
                  <a:pt x="260" y="168"/>
                </a:cubicBezTo>
                <a:cubicBezTo>
                  <a:pt x="259" y="168"/>
                  <a:pt x="259" y="168"/>
                  <a:pt x="259" y="168"/>
                </a:cubicBezTo>
                <a:cubicBezTo>
                  <a:pt x="259" y="168"/>
                  <a:pt x="259" y="168"/>
                  <a:pt x="259" y="168"/>
                </a:cubicBezTo>
                <a:cubicBezTo>
                  <a:pt x="258" y="168"/>
                  <a:pt x="258" y="168"/>
                  <a:pt x="258" y="168"/>
                </a:cubicBezTo>
                <a:cubicBezTo>
                  <a:pt x="257" y="168"/>
                  <a:pt x="257" y="168"/>
                  <a:pt x="257" y="168"/>
                </a:cubicBezTo>
                <a:cubicBezTo>
                  <a:pt x="256" y="168"/>
                  <a:pt x="256" y="168"/>
                  <a:pt x="256" y="168"/>
                </a:cubicBezTo>
                <a:cubicBezTo>
                  <a:pt x="256" y="168"/>
                  <a:pt x="256" y="168"/>
                  <a:pt x="256" y="168"/>
                </a:cubicBezTo>
                <a:cubicBezTo>
                  <a:pt x="255" y="168"/>
                  <a:pt x="255" y="168"/>
                  <a:pt x="255" y="168"/>
                </a:cubicBezTo>
                <a:cubicBezTo>
                  <a:pt x="255" y="168"/>
                  <a:pt x="255" y="168"/>
                  <a:pt x="255" y="168"/>
                </a:cubicBezTo>
                <a:cubicBezTo>
                  <a:pt x="255" y="168"/>
                  <a:pt x="255" y="168"/>
                  <a:pt x="255" y="168"/>
                </a:cubicBezTo>
                <a:cubicBezTo>
                  <a:pt x="254" y="168"/>
                  <a:pt x="254" y="168"/>
                  <a:pt x="254" y="168"/>
                </a:cubicBezTo>
                <a:cubicBezTo>
                  <a:pt x="254" y="168"/>
                  <a:pt x="254" y="168"/>
                  <a:pt x="254" y="168"/>
                </a:cubicBezTo>
                <a:cubicBezTo>
                  <a:pt x="253" y="168"/>
                  <a:pt x="253" y="168"/>
                  <a:pt x="253" y="168"/>
                </a:cubicBezTo>
                <a:cubicBezTo>
                  <a:pt x="253" y="168"/>
                  <a:pt x="253" y="168"/>
                  <a:pt x="253" y="168"/>
                </a:cubicBezTo>
                <a:cubicBezTo>
                  <a:pt x="253" y="168"/>
                  <a:pt x="253" y="168"/>
                  <a:pt x="253" y="168"/>
                </a:cubicBezTo>
                <a:cubicBezTo>
                  <a:pt x="252" y="168"/>
                  <a:pt x="252" y="168"/>
                  <a:pt x="252" y="168"/>
                </a:cubicBezTo>
                <a:cubicBezTo>
                  <a:pt x="251" y="168"/>
                  <a:pt x="251" y="168"/>
                  <a:pt x="251" y="168"/>
                </a:cubicBezTo>
                <a:cubicBezTo>
                  <a:pt x="251" y="168"/>
                  <a:pt x="251" y="168"/>
                  <a:pt x="251" y="168"/>
                </a:cubicBezTo>
                <a:cubicBezTo>
                  <a:pt x="250" y="168"/>
                  <a:pt x="250" y="168"/>
                  <a:pt x="250" y="168"/>
                </a:cubicBezTo>
                <a:cubicBezTo>
                  <a:pt x="250" y="168"/>
                  <a:pt x="250" y="168"/>
                  <a:pt x="250" y="168"/>
                </a:cubicBezTo>
                <a:cubicBezTo>
                  <a:pt x="249" y="168"/>
                  <a:pt x="249" y="168"/>
                  <a:pt x="249" y="168"/>
                </a:cubicBezTo>
                <a:cubicBezTo>
                  <a:pt x="249" y="168"/>
                  <a:pt x="249" y="168"/>
                  <a:pt x="249" y="168"/>
                </a:cubicBezTo>
                <a:cubicBezTo>
                  <a:pt x="249" y="168"/>
                  <a:pt x="249" y="168"/>
                  <a:pt x="249" y="168"/>
                </a:cubicBezTo>
                <a:cubicBezTo>
                  <a:pt x="248" y="168"/>
                  <a:pt x="248" y="168"/>
                  <a:pt x="248" y="168"/>
                </a:cubicBezTo>
                <a:cubicBezTo>
                  <a:pt x="248" y="168"/>
                  <a:pt x="248" y="168"/>
                  <a:pt x="248" y="168"/>
                </a:cubicBezTo>
                <a:cubicBezTo>
                  <a:pt x="247" y="168"/>
                  <a:pt x="247" y="168"/>
                  <a:pt x="247" y="168"/>
                </a:cubicBezTo>
                <a:cubicBezTo>
                  <a:pt x="246" y="168"/>
                  <a:pt x="246" y="168"/>
                  <a:pt x="246" y="168"/>
                </a:cubicBezTo>
                <a:cubicBezTo>
                  <a:pt x="246" y="168"/>
                  <a:pt x="246" y="168"/>
                  <a:pt x="246" y="168"/>
                </a:cubicBezTo>
                <a:cubicBezTo>
                  <a:pt x="245" y="168"/>
                  <a:pt x="245" y="168"/>
                  <a:pt x="245" y="168"/>
                </a:cubicBezTo>
                <a:cubicBezTo>
                  <a:pt x="244" y="168"/>
                  <a:pt x="244" y="168"/>
                  <a:pt x="244" y="168"/>
                </a:cubicBezTo>
                <a:cubicBezTo>
                  <a:pt x="243" y="169"/>
                  <a:pt x="243" y="169"/>
                  <a:pt x="243" y="169"/>
                </a:cubicBezTo>
                <a:cubicBezTo>
                  <a:pt x="242" y="169"/>
                  <a:pt x="242" y="169"/>
                  <a:pt x="242" y="169"/>
                </a:cubicBezTo>
                <a:cubicBezTo>
                  <a:pt x="241" y="169"/>
                  <a:pt x="240" y="169"/>
                  <a:pt x="240" y="169"/>
                </a:cubicBezTo>
                <a:cubicBezTo>
                  <a:pt x="239" y="169"/>
                  <a:pt x="239" y="169"/>
                  <a:pt x="239" y="169"/>
                </a:cubicBezTo>
                <a:cubicBezTo>
                  <a:pt x="239" y="169"/>
                  <a:pt x="239" y="169"/>
                  <a:pt x="239" y="169"/>
                </a:cubicBezTo>
                <a:cubicBezTo>
                  <a:pt x="238" y="170"/>
                  <a:pt x="238" y="170"/>
                  <a:pt x="237" y="170"/>
                </a:cubicBezTo>
                <a:cubicBezTo>
                  <a:pt x="236" y="170"/>
                  <a:pt x="236" y="171"/>
                  <a:pt x="235" y="171"/>
                </a:cubicBezTo>
                <a:cubicBezTo>
                  <a:pt x="235" y="171"/>
                  <a:pt x="235" y="171"/>
                  <a:pt x="235" y="171"/>
                </a:cubicBezTo>
                <a:cubicBezTo>
                  <a:pt x="235" y="171"/>
                  <a:pt x="235" y="171"/>
                  <a:pt x="235" y="171"/>
                </a:cubicBezTo>
                <a:cubicBezTo>
                  <a:pt x="234" y="171"/>
                  <a:pt x="234" y="171"/>
                  <a:pt x="234" y="171"/>
                </a:cubicBezTo>
                <a:cubicBezTo>
                  <a:pt x="233" y="171"/>
                  <a:pt x="232" y="172"/>
                  <a:pt x="232" y="172"/>
                </a:cubicBezTo>
                <a:cubicBezTo>
                  <a:pt x="231" y="173"/>
                  <a:pt x="231" y="173"/>
                  <a:pt x="231" y="173"/>
                </a:cubicBezTo>
                <a:cubicBezTo>
                  <a:pt x="231" y="173"/>
                  <a:pt x="231" y="173"/>
                  <a:pt x="231" y="173"/>
                </a:cubicBezTo>
                <a:cubicBezTo>
                  <a:pt x="230" y="173"/>
                  <a:pt x="230" y="173"/>
                  <a:pt x="230" y="173"/>
                </a:cubicBezTo>
                <a:cubicBezTo>
                  <a:pt x="230" y="173"/>
                  <a:pt x="229" y="174"/>
                  <a:pt x="229" y="174"/>
                </a:cubicBezTo>
                <a:cubicBezTo>
                  <a:pt x="228" y="174"/>
                  <a:pt x="228" y="174"/>
                  <a:pt x="227" y="175"/>
                </a:cubicBezTo>
                <a:cubicBezTo>
                  <a:pt x="227" y="175"/>
                  <a:pt x="227" y="175"/>
                  <a:pt x="227" y="175"/>
                </a:cubicBezTo>
                <a:cubicBezTo>
                  <a:pt x="227" y="175"/>
                  <a:pt x="227" y="175"/>
                  <a:pt x="227" y="175"/>
                </a:cubicBezTo>
                <a:cubicBezTo>
                  <a:pt x="227" y="175"/>
                  <a:pt x="227" y="175"/>
                  <a:pt x="227" y="175"/>
                </a:cubicBezTo>
                <a:cubicBezTo>
                  <a:pt x="226" y="176"/>
                  <a:pt x="226" y="176"/>
                  <a:pt x="226" y="176"/>
                </a:cubicBezTo>
                <a:cubicBezTo>
                  <a:pt x="225" y="176"/>
                  <a:pt x="225" y="176"/>
                  <a:pt x="224" y="177"/>
                </a:cubicBezTo>
                <a:cubicBezTo>
                  <a:pt x="224" y="177"/>
                  <a:pt x="224" y="177"/>
                  <a:pt x="223" y="178"/>
                </a:cubicBezTo>
                <a:cubicBezTo>
                  <a:pt x="223" y="178"/>
                  <a:pt x="223" y="178"/>
                  <a:pt x="223" y="178"/>
                </a:cubicBezTo>
                <a:cubicBezTo>
                  <a:pt x="223" y="178"/>
                  <a:pt x="223" y="178"/>
                  <a:pt x="223" y="178"/>
                </a:cubicBezTo>
                <a:cubicBezTo>
                  <a:pt x="222" y="179"/>
                  <a:pt x="222" y="179"/>
                  <a:pt x="222" y="179"/>
                </a:cubicBezTo>
                <a:cubicBezTo>
                  <a:pt x="221" y="179"/>
                  <a:pt x="221" y="180"/>
                  <a:pt x="221" y="180"/>
                </a:cubicBezTo>
                <a:cubicBezTo>
                  <a:pt x="220" y="181"/>
                  <a:pt x="220" y="181"/>
                  <a:pt x="220" y="181"/>
                </a:cubicBezTo>
                <a:cubicBezTo>
                  <a:pt x="220" y="181"/>
                  <a:pt x="220" y="181"/>
                  <a:pt x="220" y="181"/>
                </a:cubicBezTo>
                <a:cubicBezTo>
                  <a:pt x="219" y="181"/>
                  <a:pt x="219" y="181"/>
                  <a:pt x="219" y="181"/>
                </a:cubicBezTo>
                <a:cubicBezTo>
                  <a:pt x="219" y="182"/>
                  <a:pt x="219" y="182"/>
                  <a:pt x="219" y="182"/>
                </a:cubicBezTo>
                <a:cubicBezTo>
                  <a:pt x="218" y="182"/>
                  <a:pt x="218" y="183"/>
                  <a:pt x="217" y="184"/>
                </a:cubicBezTo>
                <a:cubicBezTo>
                  <a:pt x="217" y="184"/>
                  <a:pt x="217" y="184"/>
                  <a:pt x="217" y="184"/>
                </a:cubicBezTo>
                <a:cubicBezTo>
                  <a:pt x="216" y="184"/>
                  <a:pt x="216" y="185"/>
                  <a:pt x="215" y="185"/>
                </a:cubicBezTo>
                <a:cubicBezTo>
                  <a:pt x="215" y="186"/>
                  <a:pt x="215" y="186"/>
                  <a:pt x="215" y="186"/>
                </a:cubicBezTo>
                <a:cubicBezTo>
                  <a:pt x="214" y="186"/>
                  <a:pt x="213" y="187"/>
                  <a:pt x="212" y="187"/>
                </a:cubicBezTo>
                <a:cubicBezTo>
                  <a:pt x="212" y="187"/>
                  <a:pt x="212" y="187"/>
                  <a:pt x="212" y="187"/>
                </a:cubicBezTo>
                <a:cubicBezTo>
                  <a:pt x="211" y="188"/>
                  <a:pt x="210" y="188"/>
                  <a:pt x="209" y="189"/>
                </a:cubicBezTo>
                <a:cubicBezTo>
                  <a:pt x="209" y="189"/>
                  <a:pt x="209" y="189"/>
                  <a:pt x="209" y="189"/>
                </a:cubicBezTo>
                <a:cubicBezTo>
                  <a:pt x="208" y="189"/>
                  <a:pt x="208" y="190"/>
                  <a:pt x="207" y="190"/>
                </a:cubicBezTo>
                <a:cubicBezTo>
                  <a:pt x="206" y="190"/>
                  <a:pt x="205" y="191"/>
                  <a:pt x="204" y="191"/>
                </a:cubicBezTo>
                <a:cubicBezTo>
                  <a:pt x="203" y="192"/>
                  <a:pt x="203" y="192"/>
                  <a:pt x="203" y="192"/>
                </a:cubicBezTo>
                <a:cubicBezTo>
                  <a:pt x="201" y="192"/>
                  <a:pt x="199" y="193"/>
                  <a:pt x="198" y="194"/>
                </a:cubicBezTo>
                <a:cubicBezTo>
                  <a:pt x="197" y="194"/>
                  <a:pt x="197" y="194"/>
                  <a:pt x="196" y="194"/>
                </a:cubicBezTo>
                <a:cubicBezTo>
                  <a:pt x="195" y="194"/>
                  <a:pt x="193" y="195"/>
                  <a:pt x="192" y="195"/>
                </a:cubicBezTo>
                <a:cubicBezTo>
                  <a:pt x="191" y="195"/>
                  <a:pt x="191" y="195"/>
                  <a:pt x="190" y="196"/>
                </a:cubicBezTo>
                <a:cubicBezTo>
                  <a:pt x="188" y="196"/>
                  <a:pt x="187" y="196"/>
                  <a:pt x="185" y="197"/>
                </a:cubicBezTo>
                <a:cubicBezTo>
                  <a:pt x="184" y="197"/>
                  <a:pt x="184" y="197"/>
                  <a:pt x="184" y="197"/>
                </a:cubicBezTo>
                <a:cubicBezTo>
                  <a:pt x="184" y="197"/>
                  <a:pt x="184" y="197"/>
                  <a:pt x="184" y="197"/>
                </a:cubicBezTo>
                <a:cubicBezTo>
                  <a:pt x="181" y="198"/>
                  <a:pt x="177" y="198"/>
                  <a:pt x="174" y="199"/>
                </a:cubicBezTo>
                <a:cubicBezTo>
                  <a:pt x="173" y="199"/>
                  <a:pt x="173" y="199"/>
                  <a:pt x="173" y="199"/>
                </a:cubicBezTo>
                <a:cubicBezTo>
                  <a:pt x="172" y="199"/>
                  <a:pt x="170" y="199"/>
                  <a:pt x="168" y="199"/>
                </a:cubicBezTo>
                <a:cubicBezTo>
                  <a:pt x="168" y="199"/>
                  <a:pt x="168" y="199"/>
                  <a:pt x="168" y="199"/>
                </a:cubicBezTo>
                <a:cubicBezTo>
                  <a:pt x="168" y="199"/>
                  <a:pt x="168" y="199"/>
                  <a:pt x="168" y="199"/>
                </a:cubicBezTo>
                <a:cubicBezTo>
                  <a:pt x="171" y="161"/>
                  <a:pt x="175" y="123"/>
                  <a:pt x="178" y="85"/>
                </a:cubicBezTo>
                <a:cubicBezTo>
                  <a:pt x="179" y="84"/>
                  <a:pt x="178" y="82"/>
                  <a:pt x="178" y="80"/>
                </a:cubicBezTo>
                <a:cubicBezTo>
                  <a:pt x="177" y="79"/>
                  <a:pt x="176" y="77"/>
                  <a:pt x="175" y="76"/>
                </a:cubicBezTo>
                <a:cubicBezTo>
                  <a:pt x="174" y="74"/>
                  <a:pt x="172" y="72"/>
                  <a:pt x="170" y="70"/>
                </a:cubicBezTo>
                <a:cubicBezTo>
                  <a:pt x="168" y="69"/>
                  <a:pt x="166" y="67"/>
                  <a:pt x="163" y="65"/>
                </a:cubicBezTo>
                <a:cubicBezTo>
                  <a:pt x="157" y="60"/>
                  <a:pt x="149" y="55"/>
                  <a:pt x="141" y="49"/>
                </a:cubicBezTo>
                <a:cubicBezTo>
                  <a:pt x="133" y="43"/>
                  <a:pt x="125" y="36"/>
                  <a:pt x="118" y="30"/>
                </a:cubicBezTo>
                <a:cubicBezTo>
                  <a:pt x="111" y="24"/>
                  <a:pt x="104" y="19"/>
                  <a:pt x="100" y="15"/>
                </a:cubicBezTo>
                <a:cubicBezTo>
                  <a:pt x="95" y="11"/>
                  <a:pt x="92" y="9"/>
                  <a:pt x="91" y="8"/>
                </a:cubicBezTo>
                <a:cubicBezTo>
                  <a:pt x="91" y="8"/>
                  <a:pt x="90" y="8"/>
                  <a:pt x="90" y="7"/>
                </a:cubicBezTo>
                <a:cubicBezTo>
                  <a:pt x="89" y="7"/>
                  <a:pt x="88" y="6"/>
                  <a:pt x="87" y="6"/>
                </a:cubicBezTo>
                <a:cubicBezTo>
                  <a:pt x="86" y="5"/>
                  <a:pt x="86" y="4"/>
                  <a:pt x="85" y="3"/>
                </a:cubicBezTo>
                <a:cubicBezTo>
                  <a:pt x="84" y="2"/>
                  <a:pt x="84" y="1"/>
                  <a:pt x="84" y="0"/>
                </a:cubicBezTo>
                <a:cubicBezTo>
                  <a:pt x="80" y="55"/>
                  <a:pt x="75" y="110"/>
                  <a:pt x="71" y="164"/>
                </a:cubicBezTo>
                <a:cubicBezTo>
                  <a:pt x="71" y="166"/>
                  <a:pt x="71" y="167"/>
                  <a:pt x="71" y="168"/>
                </a:cubicBezTo>
                <a:cubicBezTo>
                  <a:pt x="72" y="169"/>
                  <a:pt x="73" y="170"/>
                  <a:pt x="74" y="170"/>
                </a:cubicBezTo>
                <a:cubicBezTo>
                  <a:pt x="74" y="171"/>
                  <a:pt x="75" y="172"/>
                  <a:pt x="76" y="172"/>
                </a:cubicBezTo>
                <a:cubicBezTo>
                  <a:pt x="77" y="173"/>
                  <a:pt x="77" y="173"/>
                  <a:pt x="77" y="173"/>
                </a:cubicBezTo>
                <a:cubicBezTo>
                  <a:pt x="78" y="174"/>
                  <a:pt x="81" y="176"/>
                  <a:pt x="86" y="181"/>
                </a:cubicBezTo>
                <a:cubicBezTo>
                  <a:pt x="90" y="185"/>
                  <a:pt x="96" y="190"/>
                  <a:pt x="102" y="196"/>
                </a:cubicBezTo>
                <a:cubicBezTo>
                  <a:pt x="101" y="196"/>
                  <a:pt x="100" y="195"/>
                  <a:pt x="100" y="195"/>
                </a:cubicBezTo>
                <a:cubicBezTo>
                  <a:pt x="99" y="195"/>
                  <a:pt x="99" y="195"/>
                  <a:pt x="99" y="195"/>
                </a:cubicBezTo>
                <a:cubicBezTo>
                  <a:pt x="96" y="194"/>
                  <a:pt x="92" y="194"/>
                  <a:pt x="89" y="193"/>
                </a:cubicBezTo>
                <a:cubicBezTo>
                  <a:pt x="89" y="193"/>
                  <a:pt x="89" y="193"/>
                  <a:pt x="89" y="193"/>
                </a:cubicBezTo>
                <a:cubicBezTo>
                  <a:pt x="85" y="192"/>
                  <a:pt x="82" y="191"/>
                  <a:pt x="78" y="190"/>
                </a:cubicBezTo>
                <a:cubicBezTo>
                  <a:pt x="78" y="190"/>
                  <a:pt x="78" y="190"/>
                  <a:pt x="78" y="190"/>
                </a:cubicBezTo>
                <a:cubicBezTo>
                  <a:pt x="74" y="189"/>
                  <a:pt x="71" y="187"/>
                  <a:pt x="67" y="186"/>
                </a:cubicBezTo>
                <a:cubicBezTo>
                  <a:pt x="58" y="183"/>
                  <a:pt x="49" y="179"/>
                  <a:pt x="42" y="175"/>
                </a:cubicBezTo>
                <a:cubicBezTo>
                  <a:pt x="36" y="171"/>
                  <a:pt x="30" y="166"/>
                  <a:pt x="26" y="162"/>
                </a:cubicBezTo>
                <a:cubicBezTo>
                  <a:pt x="21" y="158"/>
                  <a:pt x="18" y="153"/>
                  <a:pt x="16" y="149"/>
                </a:cubicBezTo>
                <a:cubicBezTo>
                  <a:pt x="14" y="144"/>
                  <a:pt x="13" y="140"/>
                  <a:pt x="14" y="136"/>
                </a:cubicBezTo>
                <a:cubicBezTo>
                  <a:pt x="9" y="194"/>
                  <a:pt x="5" y="252"/>
                  <a:pt x="0" y="310"/>
                </a:cubicBezTo>
                <a:cubicBezTo>
                  <a:pt x="0" y="315"/>
                  <a:pt x="1" y="320"/>
                  <a:pt x="3" y="324"/>
                </a:cubicBezTo>
                <a:cubicBezTo>
                  <a:pt x="5" y="329"/>
                  <a:pt x="8" y="334"/>
                  <a:pt x="12" y="338"/>
                </a:cubicBezTo>
                <a:cubicBezTo>
                  <a:pt x="15" y="342"/>
                  <a:pt x="20" y="346"/>
                  <a:pt x="25" y="350"/>
                </a:cubicBezTo>
                <a:cubicBezTo>
                  <a:pt x="21" y="399"/>
                  <a:pt x="17" y="449"/>
                  <a:pt x="13" y="499"/>
                </a:cubicBezTo>
                <a:cubicBezTo>
                  <a:pt x="13" y="498"/>
                  <a:pt x="13" y="498"/>
                  <a:pt x="13" y="498"/>
                </a:cubicBezTo>
                <a:cubicBezTo>
                  <a:pt x="13" y="498"/>
                  <a:pt x="13" y="498"/>
                  <a:pt x="13" y="498"/>
                </a:cubicBezTo>
                <a:cubicBezTo>
                  <a:pt x="13" y="498"/>
                  <a:pt x="13" y="498"/>
                  <a:pt x="13" y="498"/>
                </a:cubicBezTo>
                <a:cubicBezTo>
                  <a:pt x="13" y="498"/>
                  <a:pt x="13" y="498"/>
                  <a:pt x="13" y="498"/>
                </a:cubicBezTo>
                <a:cubicBezTo>
                  <a:pt x="13" y="498"/>
                  <a:pt x="13" y="498"/>
                  <a:pt x="13" y="498"/>
                </a:cubicBezTo>
                <a:cubicBezTo>
                  <a:pt x="13" y="498"/>
                  <a:pt x="13" y="498"/>
                  <a:pt x="13" y="498"/>
                </a:cubicBezTo>
                <a:cubicBezTo>
                  <a:pt x="13" y="497"/>
                  <a:pt x="14" y="497"/>
                  <a:pt x="14" y="496"/>
                </a:cubicBezTo>
                <a:cubicBezTo>
                  <a:pt x="14" y="496"/>
                  <a:pt x="14" y="495"/>
                  <a:pt x="14" y="494"/>
                </a:cubicBezTo>
                <a:cubicBezTo>
                  <a:pt x="14" y="494"/>
                  <a:pt x="14" y="494"/>
                  <a:pt x="14" y="494"/>
                </a:cubicBezTo>
                <a:cubicBezTo>
                  <a:pt x="14" y="493"/>
                  <a:pt x="14" y="493"/>
                  <a:pt x="14" y="493"/>
                </a:cubicBezTo>
                <a:cubicBezTo>
                  <a:pt x="14" y="493"/>
                  <a:pt x="14" y="493"/>
                  <a:pt x="14" y="493"/>
                </a:cubicBezTo>
                <a:cubicBezTo>
                  <a:pt x="14" y="493"/>
                  <a:pt x="14" y="493"/>
                  <a:pt x="14" y="493"/>
                </a:cubicBezTo>
                <a:cubicBezTo>
                  <a:pt x="14" y="492"/>
                  <a:pt x="14" y="492"/>
                  <a:pt x="14" y="491"/>
                </a:cubicBezTo>
                <a:cubicBezTo>
                  <a:pt x="14" y="490"/>
                  <a:pt x="14" y="490"/>
                  <a:pt x="14" y="489"/>
                </a:cubicBezTo>
                <a:cubicBezTo>
                  <a:pt x="15" y="488"/>
                  <a:pt x="15" y="488"/>
                  <a:pt x="15" y="488"/>
                </a:cubicBezTo>
                <a:cubicBezTo>
                  <a:pt x="15" y="488"/>
                  <a:pt x="15" y="488"/>
                  <a:pt x="15" y="488"/>
                </a:cubicBezTo>
                <a:cubicBezTo>
                  <a:pt x="15" y="488"/>
                  <a:pt x="15" y="488"/>
                  <a:pt x="15" y="488"/>
                </a:cubicBezTo>
                <a:cubicBezTo>
                  <a:pt x="15" y="486"/>
                  <a:pt x="15" y="485"/>
                  <a:pt x="15" y="484"/>
                </a:cubicBezTo>
                <a:cubicBezTo>
                  <a:pt x="15" y="484"/>
                  <a:pt x="15" y="483"/>
                  <a:pt x="15" y="483"/>
                </a:cubicBezTo>
                <a:cubicBezTo>
                  <a:pt x="15" y="483"/>
                  <a:pt x="15" y="483"/>
                  <a:pt x="15" y="483"/>
                </a:cubicBezTo>
                <a:cubicBezTo>
                  <a:pt x="15" y="482"/>
                  <a:pt x="15" y="482"/>
                  <a:pt x="15" y="482"/>
                </a:cubicBezTo>
                <a:cubicBezTo>
                  <a:pt x="15" y="482"/>
                  <a:pt x="15" y="481"/>
                  <a:pt x="15" y="480"/>
                </a:cubicBezTo>
                <a:cubicBezTo>
                  <a:pt x="15" y="479"/>
                  <a:pt x="16" y="478"/>
                  <a:pt x="16" y="477"/>
                </a:cubicBezTo>
                <a:cubicBezTo>
                  <a:pt x="19" y="434"/>
                  <a:pt x="22" y="392"/>
                  <a:pt x="26" y="350"/>
                </a:cubicBezTo>
                <a:cubicBezTo>
                  <a:pt x="27" y="351"/>
                  <a:pt x="27" y="351"/>
                  <a:pt x="28" y="352"/>
                </a:cubicBezTo>
                <a:cubicBezTo>
                  <a:pt x="35" y="356"/>
                  <a:pt x="43" y="361"/>
                  <a:pt x="53" y="364"/>
                </a:cubicBezTo>
                <a:cubicBezTo>
                  <a:pt x="53" y="365"/>
                  <a:pt x="54" y="365"/>
                  <a:pt x="54" y="365"/>
                </a:cubicBezTo>
                <a:cubicBezTo>
                  <a:pt x="55" y="365"/>
                  <a:pt x="55" y="365"/>
                  <a:pt x="56" y="366"/>
                </a:cubicBezTo>
                <a:cubicBezTo>
                  <a:pt x="56" y="366"/>
                  <a:pt x="57" y="366"/>
                  <a:pt x="57" y="366"/>
                </a:cubicBezTo>
                <a:cubicBezTo>
                  <a:pt x="58" y="366"/>
                  <a:pt x="58" y="367"/>
                  <a:pt x="59" y="367"/>
                </a:cubicBezTo>
                <a:cubicBezTo>
                  <a:pt x="60" y="367"/>
                  <a:pt x="61" y="367"/>
                  <a:pt x="62" y="368"/>
                </a:cubicBezTo>
                <a:cubicBezTo>
                  <a:pt x="62" y="368"/>
                  <a:pt x="63" y="368"/>
                  <a:pt x="63" y="368"/>
                </a:cubicBezTo>
                <a:cubicBezTo>
                  <a:pt x="63" y="368"/>
                  <a:pt x="63" y="368"/>
                  <a:pt x="63" y="368"/>
                </a:cubicBezTo>
                <a:cubicBezTo>
                  <a:pt x="64" y="368"/>
                  <a:pt x="64" y="369"/>
                  <a:pt x="65" y="369"/>
                </a:cubicBezTo>
                <a:cubicBezTo>
                  <a:pt x="66" y="369"/>
                  <a:pt x="67" y="369"/>
                  <a:pt x="68" y="370"/>
                </a:cubicBezTo>
                <a:cubicBezTo>
                  <a:pt x="69" y="370"/>
                  <a:pt x="70" y="370"/>
                  <a:pt x="71" y="371"/>
                </a:cubicBezTo>
                <a:cubicBezTo>
                  <a:pt x="71" y="371"/>
                  <a:pt x="72" y="371"/>
                  <a:pt x="73" y="371"/>
                </a:cubicBezTo>
                <a:cubicBezTo>
                  <a:pt x="74" y="371"/>
                  <a:pt x="74" y="371"/>
                  <a:pt x="74" y="371"/>
                </a:cubicBezTo>
                <a:cubicBezTo>
                  <a:pt x="74" y="372"/>
                  <a:pt x="74" y="372"/>
                  <a:pt x="74" y="372"/>
                </a:cubicBezTo>
                <a:cubicBezTo>
                  <a:pt x="74" y="372"/>
                  <a:pt x="74" y="372"/>
                  <a:pt x="74" y="372"/>
                </a:cubicBezTo>
                <a:cubicBezTo>
                  <a:pt x="74" y="372"/>
                  <a:pt x="75" y="372"/>
                  <a:pt x="75" y="372"/>
                </a:cubicBezTo>
                <a:cubicBezTo>
                  <a:pt x="76" y="372"/>
                  <a:pt x="76" y="372"/>
                  <a:pt x="77" y="372"/>
                </a:cubicBezTo>
                <a:cubicBezTo>
                  <a:pt x="78" y="373"/>
                  <a:pt x="79" y="373"/>
                  <a:pt x="79" y="373"/>
                </a:cubicBezTo>
                <a:cubicBezTo>
                  <a:pt x="80" y="373"/>
                  <a:pt x="81" y="373"/>
                  <a:pt x="81" y="374"/>
                </a:cubicBezTo>
                <a:cubicBezTo>
                  <a:pt x="82" y="374"/>
                  <a:pt x="83" y="374"/>
                  <a:pt x="83" y="374"/>
                </a:cubicBezTo>
                <a:cubicBezTo>
                  <a:pt x="84" y="374"/>
                  <a:pt x="84" y="374"/>
                  <a:pt x="84" y="374"/>
                </a:cubicBezTo>
                <a:cubicBezTo>
                  <a:pt x="84" y="374"/>
                  <a:pt x="84" y="374"/>
                  <a:pt x="84" y="374"/>
                </a:cubicBezTo>
                <a:cubicBezTo>
                  <a:pt x="85" y="374"/>
                  <a:pt x="85" y="374"/>
                  <a:pt x="85" y="374"/>
                </a:cubicBezTo>
                <a:cubicBezTo>
                  <a:pt x="86" y="375"/>
                  <a:pt x="86" y="375"/>
                  <a:pt x="87" y="375"/>
                </a:cubicBezTo>
                <a:cubicBezTo>
                  <a:pt x="89" y="375"/>
                  <a:pt x="89" y="375"/>
                  <a:pt x="89" y="375"/>
                </a:cubicBezTo>
                <a:cubicBezTo>
                  <a:pt x="89" y="375"/>
                  <a:pt x="90" y="375"/>
                  <a:pt x="91" y="376"/>
                </a:cubicBezTo>
                <a:cubicBezTo>
                  <a:pt x="91" y="376"/>
                  <a:pt x="92" y="376"/>
                  <a:pt x="92" y="376"/>
                </a:cubicBezTo>
                <a:cubicBezTo>
                  <a:pt x="93" y="376"/>
                  <a:pt x="93" y="376"/>
                  <a:pt x="94" y="376"/>
                </a:cubicBezTo>
                <a:cubicBezTo>
                  <a:pt x="94" y="376"/>
                  <a:pt x="94" y="376"/>
                  <a:pt x="94" y="376"/>
                </a:cubicBezTo>
                <a:cubicBezTo>
                  <a:pt x="95" y="376"/>
                  <a:pt x="95" y="376"/>
                  <a:pt x="95" y="376"/>
                </a:cubicBezTo>
                <a:cubicBezTo>
                  <a:pt x="95" y="376"/>
                  <a:pt x="95" y="376"/>
                  <a:pt x="95" y="376"/>
                </a:cubicBezTo>
                <a:cubicBezTo>
                  <a:pt x="96" y="377"/>
                  <a:pt x="96" y="377"/>
                  <a:pt x="96" y="377"/>
                </a:cubicBezTo>
                <a:cubicBezTo>
                  <a:pt x="96" y="377"/>
                  <a:pt x="97" y="377"/>
                  <a:pt x="97" y="377"/>
                </a:cubicBezTo>
                <a:cubicBezTo>
                  <a:pt x="98" y="377"/>
                  <a:pt x="98" y="377"/>
                  <a:pt x="99" y="377"/>
                </a:cubicBezTo>
                <a:cubicBezTo>
                  <a:pt x="99" y="377"/>
                  <a:pt x="100" y="377"/>
                  <a:pt x="100" y="377"/>
                </a:cubicBezTo>
                <a:cubicBezTo>
                  <a:pt x="102" y="378"/>
                  <a:pt x="102" y="378"/>
                  <a:pt x="102" y="378"/>
                </a:cubicBezTo>
                <a:cubicBezTo>
                  <a:pt x="102" y="378"/>
                  <a:pt x="103" y="378"/>
                  <a:pt x="103" y="378"/>
                </a:cubicBezTo>
                <a:cubicBezTo>
                  <a:pt x="104" y="378"/>
                  <a:pt x="104" y="378"/>
                  <a:pt x="105" y="378"/>
                </a:cubicBezTo>
                <a:cubicBezTo>
                  <a:pt x="105" y="378"/>
                  <a:pt x="105" y="378"/>
                  <a:pt x="105" y="378"/>
                </a:cubicBezTo>
                <a:cubicBezTo>
                  <a:pt x="105" y="378"/>
                  <a:pt x="105" y="378"/>
                  <a:pt x="105" y="378"/>
                </a:cubicBezTo>
                <a:cubicBezTo>
                  <a:pt x="105" y="378"/>
                  <a:pt x="106" y="378"/>
                  <a:pt x="106" y="378"/>
                </a:cubicBezTo>
                <a:cubicBezTo>
                  <a:pt x="107" y="378"/>
                  <a:pt x="107" y="378"/>
                  <a:pt x="108" y="378"/>
                </a:cubicBezTo>
                <a:cubicBezTo>
                  <a:pt x="109" y="379"/>
                  <a:pt x="109" y="379"/>
                  <a:pt x="109" y="379"/>
                </a:cubicBezTo>
                <a:cubicBezTo>
                  <a:pt x="110" y="379"/>
                  <a:pt x="110" y="379"/>
                  <a:pt x="111" y="379"/>
                </a:cubicBezTo>
                <a:cubicBezTo>
                  <a:pt x="112" y="379"/>
                  <a:pt x="112" y="379"/>
                  <a:pt x="112" y="379"/>
                </a:cubicBezTo>
                <a:cubicBezTo>
                  <a:pt x="113" y="379"/>
                  <a:pt x="113" y="379"/>
                  <a:pt x="114" y="379"/>
                </a:cubicBezTo>
                <a:cubicBezTo>
                  <a:pt x="115" y="379"/>
                  <a:pt x="115" y="379"/>
                  <a:pt x="115" y="379"/>
                </a:cubicBezTo>
                <a:cubicBezTo>
                  <a:pt x="115" y="379"/>
                  <a:pt x="115" y="379"/>
                  <a:pt x="115" y="379"/>
                </a:cubicBezTo>
                <a:cubicBezTo>
                  <a:pt x="115" y="379"/>
                  <a:pt x="115" y="379"/>
                  <a:pt x="115" y="379"/>
                </a:cubicBezTo>
                <a:cubicBezTo>
                  <a:pt x="115" y="379"/>
                  <a:pt x="115" y="379"/>
                  <a:pt x="115" y="379"/>
                </a:cubicBezTo>
                <a:cubicBezTo>
                  <a:pt x="116" y="379"/>
                  <a:pt x="116" y="379"/>
                  <a:pt x="117" y="379"/>
                </a:cubicBezTo>
                <a:cubicBezTo>
                  <a:pt x="117" y="379"/>
                  <a:pt x="118" y="379"/>
                  <a:pt x="118" y="379"/>
                </a:cubicBezTo>
                <a:cubicBezTo>
                  <a:pt x="119" y="379"/>
                  <a:pt x="119" y="379"/>
                  <a:pt x="120" y="379"/>
                </a:cubicBezTo>
                <a:cubicBezTo>
                  <a:pt x="120" y="379"/>
                  <a:pt x="121" y="379"/>
                  <a:pt x="121" y="379"/>
                </a:cubicBezTo>
                <a:cubicBezTo>
                  <a:pt x="122" y="380"/>
                  <a:pt x="122" y="380"/>
                  <a:pt x="123" y="380"/>
                </a:cubicBezTo>
                <a:cubicBezTo>
                  <a:pt x="123" y="380"/>
                  <a:pt x="124" y="380"/>
                  <a:pt x="124" y="380"/>
                </a:cubicBezTo>
                <a:cubicBezTo>
                  <a:pt x="124" y="380"/>
                  <a:pt x="124" y="380"/>
                  <a:pt x="124" y="380"/>
                </a:cubicBezTo>
                <a:cubicBezTo>
                  <a:pt x="125" y="380"/>
                  <a:pt x="125" y="380"/>
                  <a:pt x="126" y="380"/>
                </a:cubicBezTo>
                <a:cubicBezTo>
                  <a:pt x="127" y="380"/>
                  <a:pt x="127" y="380"/>
                  <a:pt x="127" y="380"/>
                </a:cubicBezTo>
                <a:cubicBezTo>
                  <a:pt x="128" y="380"/>
                  <a:pt x="128" y="380"/>
                  <a:pt x="129" y="380"/>
                </a:cubicBezTo>
                <a:cubicBezTo>
                  <a:pt x="129" y="380"/>
                  <a:pt x="130" y="380"/>
                  <a:pt x="130" y="380"/>
                </a:cubicBezTo>
                <a:cubicBezTo>
                  <a:pt x="131" y="380"/>
                  <a:pt x="131" y="380"/>
                  <a:pt x="131" y="380"/>
                </a:cubicBezTo>
                <a:cubicBezTo>
                  <a:pt x="132" y="380"/>
                  <a:pt x="132" y="380"/>
                  <a:pt x="132" y="380"/>
                </a:cubicBezTo>
                <a:cubicBezTo>
                  <a:pt x="133" y="380"/>
                  <a:pt x="133" y="380"/>
                  <a:pt x="133" y="380"/>
                </a:cubicBezTo>
                <a:cubicBezTo>
                  <a:pt x="134" y="380"/>
                  <a:pt x="134" y="380"/>
                  <a:pt x="134" y="380"/>
                </a:cubicBezTo>
                <a:cubicBezTo>
                  <a:pt x="134" y="380"/>
                  <a:pt x="134" y="380"/>
                  <a:pt x="134" y="380"/>
                </a:cubicBezTo>
                <a:cubicBezTo>
                  <a:pt x="135" y="380"/>
                  <a:pt x="135" y="380"/>
                  <a:pt x="135" y="380"/>
                </a:cubicBezTo>
                <a:cubicBezTo>
                  <a:pt x="136" y="380"/>
                  <a:pt x="136" y="380"/>
                  <a:pt x="136" y="380"/>
                </a:cubicBezTo>
                <a:cubicBezTo>
                  <a:pt x="136" y="380"/>
                  <a:pt x="136" y="380"/>
                  <a:pt x="136" y="380"/>
                </a:cubicBezTo>
                <a:cubicBezTo>
                  <a:pt x="137" y="380"/>
                  <a:pt x="137" y="380"/>
                  <a:pt x="138" y="380"/>
                </a:cubicBezTo>
                <a:cubicBezTo>
                  <a:pt x="138" y="380"/>
                  <a:pt x="139" y="380"/>
                  <a:pt x="139" y="380"/>
                </a:cubicBezTo>
                <a:cubicBezTo>
                  <a:pt x="140" y="380"/>
                  <a:pt x="140" y="380"/>
                  <a:pt x="141" y="380"/>
                </a:cubicBezTo>
                <a:cubicBezTo>
                  <a:pt x="141" y="380"/>
                  <a:pt x="142" y="380"/>
                  <a:pt x="142" y="380"/>
                </a:cubicBezTo>
                <a:cubicBezTo>
                  <a:pt x="143" y="379"/>
                  <a:pt x="144" y="379"/>
                  <a:pt x="144" y="379"/>
                </a:cubicBezTo>
                <a:cubicBezTo>
                  <a:pt x="145" y="379"/>
                  <a:pt x="145" y="379"/>
                  <a:pt x="146" y="379"/>
                </a:cubicBezTo>
                <a:cubicBezTo>
                  <a:pt x="146" y="379"/>
                  <a:pt x="146" y="379"/>
                  <a:pt x="146" y="379"/>
                </a:cubicBezTo>
                <a:cubicBezTo>
                  <a:pt x="146" y="379"/>
                  <a:pt x="146" y="379"/>
                  <a:pt x="146" y="379"/>
                </a:cubicBezTo>
                <a:cubicBezTo>
                  <a:pt x="146" y="379"/>
                  <a:pt x="147" y="379"/>
                  <a:pt x="148" y="379"/>
                </a:cubicBezTo>
                <a:cubicBezTo>
                  <a:pt x="148" y="379"/>
                  <a:pt x="149" y="379"/>
                  <a:pt x="149" y="379"/>
                </a:cubicBezTo>
                <a:cubicBezTo>
                  <a:pt x="150" y="379"/>
                  <a:pt x="150" y="379"/>
                  <a:pt x="151" y="379"/>
                </a:cubicBezTo>
                <a:cubicBezTo>
                  <a:pt x="151" y="379"/>
                  <a:pt x="151" y="379"/>
                  <a:pt x="151" y="379"/>
                </a:cubicBezTo>
                <a:cubicBezTo>
                  <a:pt x="152" y="379"/>
                  <a:pt x="152" y="379"/>
                  <a:pt x="152" y="379"/>
                </a:cubicBezTo>
                <a:cubicBezTo>
                  <a:pt x="152" y="379"/>
                  <a:pt x="153" y="379"/>
                  <a:pt x="153" y="379"/>
                </a:cubicBezTo>
                <a:cubicBezTo>
                  <a:pt x="154" y="379"/>
                  <a:pt x="154" y="378"/>
                  <a:pt x="155" y="378"/>
                </a:cubicBezTo>
                <a:cubicBezTo>
                  <a:pt x="156" y="378"/>
                  <a:pt x="156" y="378"/>
                  <a:pt x="157" y="378"/>
                </a:cubicBezTo>
                <a:cubicBezTo>
                  <a:pt x="157" y="378"/>
                  <a:pt x="157" y="378"/>
                  <a:pt x="157" y="378"/>
                </a:cubicBezTo>
                <a:cubicBezTo>
                  <a:pt x="157" y="378"/>
                  <a:pt x="157" y="378"/>
                  <a:pt x="157" y="378"/>
                </a:cubicBezTo>
                <a:cubicBezTo>
                  <a:pt x="157" y="378"/>
                  <a:pt x="157" y="378"/>
                  <a:pt x="157" y="378"/>
                </a:cubicBezTo>
                <a:cubicBezTo>
                  <a:pt x="158" y="378"/>
                  <a:pt x="159" y="378"/>
                  <a:pt x="160" y="378"/>
                </a:cubicBezTo>
                <a:cubicBezTo>
                  <a:pt x="160" y="378"/>
                  <a:pt x="161" y="377"/>
                  <a:pt x="162" y="377"/>
                </a:cubicBezTo>
                <a:cubicBezTo>
                  <a:pt x="162" y="377"/>
                  <a:pt x="162" y="377"/>
                  <a:pt x="162" y="377"/>
                </a:cubicBezTo>
                <a:cubicBezTo>
                  <a:pt x="163" y="377"/>
                  <a:pt x="164" y="377"/>
                  <a:pt x="165" y="377"/>
                </a:cubicBezTo>
                <a:cubicBezTo>
                  <a:pt x="166" y="377"/>
                  <a:pt x="166" y="376"/>
                  <a:pt x="167" y="376"/>
                </a:cubicBezTo>
                <a:cubicBezTo>
                  <a:pt x="167" y="376"/>
                  <a:pt x="167" y="376"/>
                  <a:pt x="167" y="376"/>
                </a:cubicBezTo>
                <a:cubicBezTo>
                  <a:pt x="168" y="376"/>
                  <a:pt x="168" y="376"/>
                  <a:pt x="168" y="376"/>
                </a:cubicBezTo>
                <a:cubicBezTo>
                  <a:pt x="168" y="376"/>
                  <a:pt x="168" y="376"/>
                  <a:pt x="168" y="376"/>
                </a:cubicBezTo>
                <a:cubicBezTo>
                  <a:pt x="170" y="376"/>
                  <a:pt x="172" y="375"/>
                  <a:pt x="173" y="375"/>
                </a:cubicBezTo>
                <a:cubicBezTo>
                  <a:pt x="174" y="375"/>
                  <a:pt x="174" y="375"/>
                  <a:pt x="174" y="375"/>
                </a:cubicBezTo>
                <a:cubicBezTo>
                  <a:pt x="175" y="374"/>
                  <a:pt x="175" y="374"/>
                  <a:pt x="175" y="374"/>
                </a:cubicBezTo>
                <a:cubicBezTo>
                  <a:pt x="176" y="374"/>
                  <a:pt x="176" y="374"/>
                  <a:pt x="177" y="374"/>
                </a:cubicBezTo>
                <a:cubicBezTo>
                  <a:pt x="178" y="374"/>
                  <a:pt x="179" y="373"/>
                  <a:pt x="180" y="373"/>
                </a:cubicBezTo>
                <a:cubicBezTo>
                  <a:pt x="180" y="373"/>
                  <a:pt x="180" y="373"/>
                  <a:pt x="180" y="373"/>
                </a:cubicBezTo>
                <a:cubicBezTo>
                  <a:pt x="181" y="373"/>
                  <a:pt x="181" y="373"/>
                  <a:pt x="181" y="373"/>
                </a:cubicBezTo>
                <a:cubicBezTo>
                  <a:pt x="182" y="372"/>
                  <a:pt x="184" y="371"/>
                  <a:pt x="186" y="371"/>
                </a:cubicBezTo>
                <a:cubicBezTo>
                  <a:pt x="186" y="371"/>
                  <a:pt x="186" y="371"/>
                  <a:pt x="186" y="371"/>
                </a:cubicBezTo>
                <a:cubicBezTo>
                  <a:pt x="187" y="370"/>
                  <a:pt x="187" y="370"/>
                  <a:pt x="187" y="370"/>
                </a:cubicBezTo>
                <a:cubicBezTo>
                  <a:pt x="188" y="370"/>
                  <a:pt x="189" y="369"/>
                  <a:pt x="190" y="369"/>
                </a:cubicBezTo>
                <a:cubicBezTo>
                  <a:pt x="191" y="368"/>
                  <a:pt x="191" y="368"/>
                  <a:pt x="191" y="368"/>
                </a:cubicBezTo>
                <a:cubicBezTo>
                  <a:pt x="192" y="368"/>
                  <a:pt x="192" y="368"/>
                  <a:pt x="192" y="368"/>
                </a:cubicBezTo>
                <a:cubicBezTo>
                  <a:pt x="192" y="368"/>
                  <a:pt x="192" y="368"/>
                  <a:pt x="192" y="368"/>
                </a:cubicBezTo>
                <a:cubicBezTo>
                  <a:pt x="192" y="367"/>
                  <a:pt x="192" y="367"/>
                  <a:pt x="192" y="367"/>
                </a:cubicBezTo>
                <a:cubicBezTo>
                  <a:pt x="193" y="367"/>
                  <a:pt x="193" y="367"/>
                  <a:pt x="193" y="367"/>
                </a:cubicBezTo>
                <a:cubicBezTo>
                  <a:pt x="193" y="367"/>
                  <a:pt x="194" y="366"/>
                  <a:pt x="195" y="366"/>
                </a:cubicBezTo>
                <a:cubicBezTo>
                  <a:pt x="195" y="366"/>
                  <a:pt x="195" y="366"/>
                  <a:pt x="195" y="366"/>
                </a:cubicBezTo>
                <a:cubicBezTo>
                  <a:pt x="195" y="366"/>
                  <a:pt x="195" y="366"/>
                  <a:pt x="195" y="366"/>
                </a:cubicBezTo>
                <a:cubicBezTo>
                  <a:pt x="196" y="365"/>
                  <a:pt x="196" y="365"/>
                  <a:pt x="196" y="365"/>
                </a:cubicBezTo>
                <a:cubicBezTo>
                  <a:pt x="197" y="365"/>
                  <a:pt x="197" y="364"/>
                  <a:pt x="197" y="364"/>
                </a:cubicBezTo>
                <a:cubicBezTo>
                  <a:pt x="198" y="364"/>
                  <a:pt x="198" y="364"/>
                  <a:pt x="198" y="364"/>
                </a:cubicBezTo>
                <a:cubicBezTo>
                  <a:pt x="198" y="364"/>
                  <a:pt x="198" y="364"/>
                  <a:pt x="198" y="364"/>
                </a:cubicBezTo>
                <a:cubicBezTo>
                  <a:pt x="199" y="363"/>
                  <a:pt x="199" y="363"/>
                  <a:pt x="199" y="363"/>
                </a:cubicBezTo>
                <a:cubicBezTo>
                  <a:pt x="200" y="362"/>
                  <a:pt x="200" y="362"/>
                  <a:pt x="200" y="362"/>
                </a:cubicBezTo>
                <a:cubicBezTo>
                  <a:pt x="200" y="362"/>
                  <a:pt x="200" y="362"/>
                  <a:pt x="200" y="362"/>
                </a:cubicBezTo>
                <a:cubicBezTo>
                  <a:pt x="200" y="362"/>
                  <a:pt x="200" y="362"/>
                  <a:pt x="200" y="362"/>
                </a:cubicBezTo>
                <a:cubicBezTo>
                  <a:pt x="200" y="362"/>
                  <a:pt x="200" y="362"/>
                  <a:pt x="200" y="362"/>
                </a:cubicBezTo>
                <a:cubicBezTo>
                  <a:pt x="201" y="361"/>
                  <a:pt x="201" y="361"/>
                  <a:pt x="201" y="361"/>
                </a:cubicBezTo>
                <a:cubicBezTo>
                  <a:pt x="201" y="361"/>
                  <a:pt x="201" y="361"/>
                  <a:pt x="201" y="361"/>
                </a:cubicBezTo>
                <a:cubicBezTo>
                  <a:pt x="201" y="360"/>
                  <a:pt x="201" y="360"/>
                  <a:pt x="201" y="360"/>
                </a:cubicBezTo>
                <a:cubicBezTo>
                  <a:pt x="202" y="360"/>
                  <a:pt x="202" y="360"/>
                  <a:pt x="202" y="360"/>
                </a:cubicBezTo>
                <a:cubicBezTo>
                  <a:pt x="202" y="360"/>
                  <a:pt x="202" y="360"/>
                  <a:pt x="202" y="360"/>
                </a:cubicBezTo>
                <a:cubicBezTo>
                  <a:pt x="203" y="359"/>
                  <a:pt x="204" y="357"/>
                  <a:pt x="205" y="356"/>
                </a:cubicBezTo>
                <a:cubicBezTo>
                  <a:pt x="206" y="356"/>
                  <a:pt x="206" y="356"/>
                  <a:pt x="206" y="356"/>
                </a:cubicBezTo>
                <a:cubicBezTo>
                  <a:pt x="207" y="355"/>
                  <a:pt x="208" y="354"/>
                  <a:pt x="209" y="353"/>
                </a:cubicBezTo>
                <a:cubicBezTo>
                  <a:pt x="209" y="353"/>
                  <a:pt x="209" y="353"/>
                  <a:pt x="209" y="353"/>
                </a:cubicBezTo>
                <a:cubicBezTo>
                  <a:pt x="211" y="352"/>
                  <a:pt x="212" y="351"/>
                  <a:pt x="213" y="350"/>
                </a:cubicBezTo>
                <a:cubicBezTo>
                  <a:pt x="214" y="350"/>
                  <a:pt x="214" y="350"/>
                  <a:pt x="214" y="350"/>
                </a:cubicBezTo>
                <a:cubicBezTo>
                  <a:pt x="215" y="350"/>
                  <a:pt x="216" y="349"/>
                  <a:pt x="217" y="348"/>
                </a:cubicBezTo>
                <a:cubicBezTo>
                  <a:pt x="218" y="348"/>
                  <a:pt x="218" y="348"/>
                  <a:pt x="218" y="348"/>
                </a:cubicBezTo>
                <a:cubicBezTo>
                  <a:pt x="219" y="348"/>
                  <a:pt x="221" y="347"/>
                  <a:pt x="222" y="347"/>
                </a:cubicBezTo>
                <a:cubicBezTo>
                  <a:pt x="222" y="347"/>
                  <a:pt x="222" y="347"/>
                  <a:pt x="222" y="347"/>
                </a:cubicBezTo>
                <a:cubicBezTo>
                  <a:pt x="224" y="346"/>
                  <a:pt x="225" y="346"/>
                  <a:pt x="227" y="346"/>
                </a:cubicBezTo>
                <a:cubicBezTo>
                  <a:pt x="227" y="346"/>
                  <a:pt x="227" y="346"/>
                  <a:pt x="227" y="346"/>
                </a:cubicBezTo>
                <a:cubicBezTo>
                  <a:pt x="230" y="345"/>
                  <a:pt x="233" y="345"/>
                  <a:pt x="237" y="345"/>
                </a:cubicBezTo>
                <a:cubicBezTo>
                  <a:pt x="239" y="345"/>
                  <a:pt x="241" y="345"/>
                  <a:pt x="244" y="345"/>
                </a:cubicBezTo>
                <a:cubicBezTo>
                  <a:pt x="244" y="345"/>
                  <a:pt x="244" y="345"/>
                  <a:pt x="244" y="345"/>
                </a:cubicBezTo>
                <a:cubicBezTo>
                  <a:pt x="246" y="345"/>
                  <a:pt x="249" y="346"/>
                  <a:pt x="251" y="346"/>
                </a:cubicBezTo>
                <a:cubicBezTo>
                  <a:pt x="251" y="346"/>
                  <a:pt x="251" y="346"/>
                  <a:pt x="251" y="346"/>
                </a:cubicBezTo>
                <a:cubicBezTo>
                  <a:pt x="254" y="346"/>
                  <a:pt x="256" y="347"/>
                  <a:pt x="259" y="347"/>
                </a:cubicBezTo>
                <a:cubicBezTo>
                  <a:pt x="259" y="347"/>
                  <a:pt x="259" y="347"/>
                  <a:pt x="259" y="347"/>
                </a:cubicBezTo>
                <a:cubicBezTo>
                  <a:pt x="262" y="347"/>
                  <a:pt x="265" y="348"/>
                  <a:pt x="268" y="348"/>
                </a:cubicBezTo>
                <a:cubicBezTo>
                  <a:pt x="270" y="349"/>
                  <a:pt x="272" y="349"/>
                  <a:pt x="274" y="350"/>
                </a:cubicBezTo>
                <a:cubicBezTo>
                  <a:pt x="274" y="350"/>
                  <a:pt x="274" y="350"/>
                  <a:pt x="274" y="350"/>
                </a:cubicBezTo>
                <a:cubicBezTo>
                  <a:pt x="275" y="350"/>
                  <a:pt x="276" y="351"/>
                  <a:pt x="277" y="351"/>
                </a:cubicBezTo>
                <a:cubicBezTo>
                  <a:pt x="278" y="351"/>
                  <a:pt x="279" y="352"/>
                  <a:pt x="280" y="352"/>
                </a:cubicBezTo>
                <a:cubicBezTo>
                  <a:pt x="281" y="353"/>
                  <a:pt x="282" y="353"/>
                  <a:pt x="283" y="354"/>
                </a:cubicBezTo>
                <a:cubicBezTo>
                  <a:pt x="284" y="354"/>
                  <a:pt x="284" y="354"/>
                  <a:pt x="285" y="355"/>
                </a:cubicBezTo>
                <a:cubicBezTo>
                  <a:pt x="286" y="356"/>
                  <a:pt x="287" y="356"/>
                  <a:pt x="289" y="357"/>
                </a:cubicBezTo>
                <a:cubicBezTo>
                  <a:pt x="289" y="358"/>
                  <a:pt x="290" y="358"/>
                  <a:pt x="290" y="358"/>
                </a:cubicBezTo>
                <a:cubicBezTo>
                  <a:pt x="292" y="360"/>
                  <a:pt x="294" y="361"/>
                  <a:pt x="295" y="362"/>
                </a:cubicBezTo>
                <a:cubicBezTo>
                  <a:pt x="296" y="362"/>
                  <a:pt x="296" y="362"/>
                  <a:pt x="296" y="362"/>
                </a:cubicBezTo>
                <a:cubicBezTo>
                  <a:pt x="297" y="364"/>
                  <a:pt x="299" y="365"/>
                  <a:pt x="300" y="367"/>
                </a:cubicBezTo>
                <a:cubicBezTo>
                  <a:pt x="301" y="367"/>
                  <a:pt x="301" y="368"/>
                  <a:pt x="302" y="368"/>
                </a:cubicBezTo>
                <a:cubicBezTo>
                  <a:pt x="303" y="369"/>
                  <a:pt x="304" y="371"/>
                  <a:pt x="306" y="372"/>
                </a:cubicBezTo>
                <a:cubicBezTo>
                  <a:pt x="306" y="373"/>
                  <a:pt x="307" y="373"/>
                  <a:pt x="308" y="374"/>
                </a:cubicBezTo>
                <a:cubicBezTo>
                  <a:pt x="309" y="375"/>
                  <a:pt x="310" y="376"/>
                  <a:pt x="311" y="377"/>
                </a:cubicBezTo>
                <a:cubicBezTo>
                  <a:pt x="311" y="378"/>
                  <a:pt x="312" y="379"/>
                  <a:pt x="313" y="380"/>
                </a:cubicBezTo>
                <a:cubicBezTo>
                  <a:pt x="314" y="381"/>
                  <a:pt x="315" y="382"/>
                  <a:pt x="316" y="383"/>
                </a:cubicBezTo>
                <a:cubicBezTo>
                  <a:pt x="317" y="384"/>
                  <a:pt x="317" y="385"/>
                  <a:pt x="318" y="386"/>
                </a:cubicBezTo>
                <a:cubicBezTo>
                  <a:pt x="319" y="387"/>
                  <a:pt x="320" y="388"/>
                  <a:pt x="321" y="389"/>
                </a:cubicBezTo>
                <a:cubicBezTo>
                  <a:pt x="322" y="390"/>
                  <a:pt x="323" y="391"/>
                  <a:pt x="324" y="392"/>
                </a:cubicBezTo>
                <a:cubicBezTo>
                  <a:pt x="325" y="393"/>
                  <a:pt x="326" y="394"/>
                  <a:pt x="327" y="396"/>
                </a:cubicBezTo>
                <a:cubicBezTo>
                  <a:pt x="327" y="396"/>
                  <a:pt x="328" y="397"/>
                  <a:pt x="329" y="398"/>
                </a:cubicBezTo>
                <a:cubicBezTo>
                  <a:pt x="330" y="400"/>
                  <a:pt x="331" y="401"/>
                  <a:pt x="333" y="403"/>
                </a:cubicBezTo>
                <a:close/>
              </a:path>
            </a:pathLst>
          </a:custGeom>
          <a:gradFill rotWithShape="0">
            <a:gsLst>
              <a:gs pos="0">
                <a:srgbClr val="292929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Freeform 26"/>
          <p:cNvSpPr/>
          <p:nvPr/>
        </p:nvSpPr>
        <p:spPr>
          <a:xfrm flipH="1">
            <a:off x="2252520" y="3460680"/>
            <a:ext cx="1719360" cy="536760"/>
          </a:xfrm>
          <a:custGeom>
            <a:avLst/>
            <a:gdLst/>
            <a:ahLst/>
            <a:rect l="l" t="t" r="r" b="b"/>
            <a:pathLst>
              <a:path w="1162" h="362">
                <a:moveTo>
                  <a:pt x="364" y="337"/>
                </a:moveTo>
                <a:cubicBezTo>
                  <a:pt x="369" y="342"/>
                  <a:pt x="375" y="346"/>
                  <a:pt x="381" y="350"/>
                </a:cubicBezTo>
                <a:cubicBezTo>
                  <a:pt x="387" y="353"/>
                  <a:pt x="394" y="355"/>
                  <a:pt x="400" y="357"/>
                </a:cubicBezTo>
                <a:cubicBezTo>
                  <a:pt x="406" y="359"/>
                  <a:pt x="413" y="360"/>
                  <a:pt x="418" y="361"/>
                </a:cubicBezTo>
                <a:cubicBezTo>
                  <a:pt x="424" y="361"/>
                  <a:pt x="430" y="362"/>
                  <a:pt x="434" y="362"/>
                </a:cubicBezTo>
                <a:cubicBezTo>
                  <a:pt x="436" y="362"/>
                  <a:pt x="439" y="361"/>
                  <a:pt x="440" y="361"/>
                </a:cubicBezTo>
                <a:cubicBezTo>
                  <a:pt x="442" y="361"/>
                  <a:pt x="444" y="361"/>
                  <a:pt x="445" y="361"/>
                </a:cubicBezTo>
                <a:cubicBezTo>
                  <a:pt x="447" y="361"/>
                  <a:pt x="448" y="361"/>
                  <a:pt x="448" y="361"/>
                </a:cubicBezTo>
                <a:cubicBezTo>
                  <a:pt x="449" y="361"/>
                  <a:pt x="449" y="360"/>
                  <a:pt x="449" y="360"/>
                </a:cubicBezTo>
                <a:cubicBezTo>
                  <a:pt x="452" y="360"/>
                  <a:pt x="464" y="360"/>
                  <a:pt x="483" y="359"/>
                </a:cubicBezTo>
                <a:cubicBezTo>
                  <a:pt x="502" y="359"/>
                  <a:pt x="527" y="358"/>
                  <a:pt x="555" y="357"/>
                </a:cubicBezTo>
                <a:cubicBezTo>
                  <a:pt x="582" y="356"/>
                  <a:pt x="612" y="354"/>
                  <a:pt x="641" y="353"/>
                </a:cubicBezTo>
                <a:cubicBezTo>
                  <a:pt x="669" y="352"/>
                  <a:pt x="697" y="350"/>
                  <a:pt x="718" y="348"/>
                </a:cubicBezTo>
                <a:cubicBezTo>
                  <a:pt x="740" y="347"/>
                  <a:pt x="751" y="343"/>
                  <a:pt x="754" y="338"/>
                </a:cubicBezTo>
                <a:cubicBezTo>
                  <a:pt x="758" y="333"/>
                  <a:pt x="753" y="327"/>
                  <a:pt x="744" y="321"/>
                </a:cubicBezTo>
                <a:cubicBezTo>
                  <a:pt x="735" y="314"/>
                  <a:pt x="722" y="307"/>
                  <a:pt x="707" y="301"/>
                </a:cubicBezTo>
                <a:cubicBezTo>
                  <a:pt x="692" y="294"/>
                  <a:pt x="676" y="288"/>
                  <a:pt x="661" y="283"/>
                </a:cubicBezTo>
                <a:cubicBezTo>
                  <a:pt x="647" y="278"/>
                  <a:pt x="641" y="272"/>
                  <a:pt x="641" y="266"/>
                </a:cubicBezTo>
                <a:cubicBezTo>
                  <a:pt x="642" y="260"/>
                  <a:pt x="648" y="254"/>
                  <a:pt x="659" y="249"/>
                </a:cubicBezTo>
                <a:cubicBezTo>
                  <a:pt x="670" y="244"/>
                  <a:pt x="684" y="239"/>
                  <a:pt x="700" y="236"/>
                </a:cubicBezTo>
                <a:cubicBezTo>
                  <a:pt x="716" y="233"/>
                  <a:pt x="733" y="230"/>
                  <a:pt x="749" y="230"/>
                </a:cubicBezTo>
                <a:cubicBezTo>
                  <a:pt x="750" y="230"/>
                  <a:pt x="750" y="230"/>
                  <a:pt x="750" y="230"/>
                </a:cubicBezTo>
                <a:cubicBezTo>
                  <a:pt x="751" y="230"/>
                  <a:pt x="751" y="230"/>
                  <a:pt x="751" y="230"/>
                </a:cubicBezTo>
                <a:cubicBezTo>
                  <a:pt x="752" y="230"/>
                  <a:pt x="752" y="230"/>
                  <a:pt x="752" y="230"/>
                </a:cubicBezTo>
                <a:cubicBezTo>
                  <a:pt x="753" y="230"/>
                  <a:pt x="753" y="230"/>
                  <a:pt x="753" y="230"/>
                </a:cubicBezTo>
                <a:cubicBezTo>
                  <a:pt x="769" y="230"/>
                  <a:pt x="784" y="231"/>
                  <a:pt x="797" y="233"/>
                </a:cubicBezTo>
                <a:cubicBezTo>
                  <a:pt x="811" y="235"/>
                  <a:pt x="823" y="239"/>
                  <a:pt x="834" y="243"/>
                </a:cubicBezTo>
                <a:cubicBezTo>
                  <a:pt x="845" y="247"/>
                  <a:pt x="854" y="252"/>
                  <a:pt x="861" y="257"/>
                </a:cubicBezTo>
                <a:cubicBezTo>
                  <a:pt x="869" y="262"/>
                  <a:pt x="875" y="268"/>
                  <a:pt x="879" y="274"/>
                </a:cubicBezTo>
                <a:cubicBezTo>
                  <a:pt x="883" y="281"/>
                  <a:pt x="888" y="286"/>
                  <a:pt x="894" y="291"/>
                </a:cubicBezTo>
                <a:cubicBezTo>
                  <a:pt x="899" y="295"/>
                  <a:pt x="906" y="299"/>
                  <a:pt x="914" y="303"/>
                </a:cubicBezTo>
                <a:cubicBezTo>
                  <a:pt x="923" y="306"/>
                  <a:pt x="932" y="309"/>
                  <a:pt x="944" y="311"/>
                </a:cubicBezTo>
                <a:cubicBezTo>
                  <a:pt x="955" y="313"/>
                  <a:pt x="968" y="315"/>
                  <a:pt x="984" y="317"/>
                </a:cubicBezTo>
                <a:cubicBezTo>
                  <a:pt x="985" y="317"/>
                  <a:pt x="986" y="317"/>
                  <a:pt x="987" y="317"/>
                </a:cubicBezTo>
                <a:cubicBezTo>
                  <a:pt x="989" y="317"/>
                  <a:pt x="990" y="318"/>
                  <a:pt x="991" y="318"/>
                </a:cubicBezTo>
                <a:cubicBezTo>
                  <a:pt x="993" y="318"/>
                  <a:pt x="994" y="318"/>
                  <a:pt x="996" y="318"/>
                </a:cubicBezTo>
                <a:cubicBezTo>
                  <a:pt x="997" y="318"/>
                  <a:pt x="998" y="318"/>
                  <a:pt x="1000" y="318"/>
                </a:cubicBezTo>
                <a:cubicBezTo>
                  <a:pt x="1016" y="318"/>
                  <a:pt x="1034" y="315"/>
                  <a:pt x="1052" y="312"/>
                </a:cubicBezTo>
                <a:cubicBezTo>
                  <a:pt x="1070" y="309"/>
                  <a:pt x="1088" y="304"/>
                  <a:pt x="1103" y="300"/>
                </a:cubicBezTo>
                <a:cubicBezTo>
                  <a:pt x="1119" y="296"/>
                  <a:pt x="1133" y="291"/>
                  <a:pt x="1144" y="288"/>
                </a:cubicBezTo>
                <a:cubicBezTo>
                  <a:pt x="1154" y="285"/>
                  <a:pt x="1161" y="282"/>
                  <a:pt x="1162" y="282"/>
                </a:cubicBezTo>
                <a:cubicBezTo>
                  <a:pt x="797" y="1"/>
                  <a:pt x="797" y="1"/>
                  <a:pt x="797" y="1"/>
                </a:cubicBezTo>
                <a:cubicBezTo>
                  <a:pt x="762" y="0"/>
                  <a:pt x="762" y="0"/>
                  <a:pt x="762" y="0"/>
                </a:cubicBezTo>
                <a:cubicBezTo>
                  <a:pt x="762" y="0"/>
                  <a:pt x="762" y="0"/>
                  <a:pt x="761" y="0"/>
                </a:cubicBezTo>
                <a:cubicBezTo>
                  <a:pt x="761" y="0"/>
                  <a:pt x="760" y="0"/>
                  <a:pt x="759" y="0"/>
                </a:cubicBezTo>
                <a:cubicBezTo>
                  <a:pt x="758" y="0"/>
                  <a:pt x="756" y="0"/>
                  <a:pt x="755" y="0"/>
                </a:cubicBezTo>
                <a:cubicBezTo>
                  <a:pt x="753" y="0"/>
                  <a:pt x="752" y="0"/>
                  <a:pt x="750" y="0"/>
                </a:cubicBezTo>
                <a:cubicBezTo>
                  <a:pt x="739" y="0"/>
                  <a:pt x="724" y="0"/>
                  <a:pt x="706" y="1"/>
                </a:cubicBezTo>
                <a:cubicBezTo>
                  <a:pt x="689" y="1"/>
                  <a:pt x="669" y="2"/>
                  <a:pt x="649" y="3"/>
                </a:cubicBezTo>
                <a:cubicBezTo>
                  <a:pt x="629" y="4"/>
                  <a:pt x="610" y="5"/>
                  <a:pt x="595" y="6"/>
                </a:cubicBezTo>
                <a:cubicBezTo>
                  <a:pt x="579" y="8"/>
                  <a:pt x="566" y="10"/>
                  <a:pt x="560" y="12"/>
                </a:cubicBezTo>
                <a:cubicBezTo>
                  <a:pt x="553" y="15"/>
                  <a:pt x="548" y="18"/>
                  <a:pt x="545" y="21"/>
                </a:cubicBezTo>
                <a:cubicBezTo>
                  <a:pt x="543" y="24"/>
                  <a:pt x="542" y="26"/>
                  <a:pt x="544" y="29"/>
                </a:cubicBezTo>
                <a:cubicBezTo>
                  <a:pt x="546" y="32"/>
                  <a:pt x="549" y="34"/>
                  <a:pt x="554" y="37"/>
                </a:cubicBezTo>
                <a:cubicBezTo>
                  <a:pt x="559" y="40"/>
                  <a:pt x="566" y="43"/>
                  <a:pt x="574" y="46"/>
                </a:cubicBezTo>
                <a:cubicBezTo>
                  <a:pt x="582" y="49"/>
                  <a:pt x="589" y="52"/>
                  <a:pt x="595" y="55"/>
                </a:cubicBezTo>
                <a:cubicBezTo>
                  <a:pt x="601" y="57"/>
                  <a:pt x="607" y="60"/>
                  <a:pt x="611" y="63"/>
                </a:cubicBezTo>
                <a:cubicBezTo>
                  <a:pt x="616" y="65"/>
                  <a:pt x="620" y="68"/>
                  <a:pt x="622" y="71"/>
                </a:cubicBezTo>
                <a:cubicBezTo>
                  <a:pt x="625" y="75"/>
                  <a:pt x="627" y="78"/>
                  <a:pt x="627" y="83"/>
                </a:cubicBezTo>
                <a:cubicBezTo>
                  <a:pt x="627" y="86"/>
                  <a:pt x="626" y="89"/>
                  <a:pt x="622" y="91"/>
                </a:cubicBezTo>
                <a:cubicBezTo>
                  <a:pt x="618" y="93"/>
                  <a:pt x="613" y="96"/>
                  <a:pt x="606" y="97"/>
                </a:cubicBezTo>
                <a:cubicBezTo>
                  <a:pt x="599" y="99"/>
                  <a:pt x="591" y="101"/>
                  <a:pt x="582" y="102"/>
                </a:cubicBezTo>
                <a:cubicBezTo>
                  <a:pt x="572" y="103"/>
                  <a:pt x="562" y="103"/>
                  <a:pt x="551" y="103"/>
                </a:cubicBezTo>
                <a:cubicBezTo>
                  <a:pt x="545" y="103"/>
                  <a:pt x="539" y="103"/>
                  <a:pt x="533" y="103"/>
                </a:cubicBezTo>
                <a:cubicBezTo>
                  <a:pt x="527" y="103"/>
                  <a:pt x="521" y="102"/>
                  <a:pt x="514" y="102"/>
                </a:cubicBezTo>
                <a:cubicBezTo>
                  <a:pt x="508" y="101"/>
                  <a:pt x="502" y="101"/>
                  <a:pt x="495" y="100"/>
                </a:cubicBezTo>
                <a:cubicBezTo>
                  <a:pt x="489" y="99"/>
                  <a:pt x="483" y="98"/>
                  <a:pt x="476" y="97"/>
                </a:cubicBezTo>
                <a:cubicBezTo>
                  <a:pt x="459" y="94"/>
                  <a:pt x="446" y="89"/>
                  <a:pt x="438" y="84"/>
                </a:cubicBezTo>
                <a:cubicBezTo>
                  <a:pt x="429" y="79"/>
                  <a:pt x="424" y="74"/>
                  <a:pt x="421" y="68"/>
                </a:cubicBezTo>
                <a:cubicBezTo>
                  <a:pt x="417" y="63"/>
                  <a:pt x="416" y="57"/>
                  <a:pt x="414" y="52"/>
                </a:cubicBezTo>
                <a:cubicBezTo>
                  <a:pt x="411" y="48"/>
                  <a:pt x="409" y="43"/>
                  <a:pt x="404" y="40"/>
                </a:cubicBezTo>
                <a:cubicBezTo>
                  <a:pt x="401" y="38"/>
                  <a:pt x="398" y="37"/>
                  <a:pt x="394" y="36"/>
                </a:cubicBezTo>
                <a:cubicBezTo>
                  <a:pt x="390" y="34"/>
                  <a:pt x="385" y="34"/>
                  <a:pt x="380" y="33"/>
                </a:cubicBezTo>
                <a:cubicBezTo>
                  <a:pt x="376" y="32"/>
                  <a:pt x="371" y="32"/>
                  <a:pt x="366" y="32"/>
                </a:cubicBezTo>
                <a:cubicBezTo>
                  <a:pt x="361" y="31"/>
                  <a:pt x="356" y="31"/>
                  <a:pt x="352" y="31"/>
                </a:cubicBezTo>
                <a:cubicBezTo>
                  <a:pt x="350" y="32"/>
                  <a:pt x="347" y="32"/>
                  <a:pt x="345" y="32"/>
                </a:cubicBezTo>
                <a:cubicBezTo>
                  <a:pt x="343" y="32"/>
                  <a:pt x="341" y="32"/>
                  <a:pt x="339" y="32"/>
                </a:cubicBezTo>
                <a:cubicBezTo>
                  <a:pt x="338" y="32"/>
                  <a:pt x="336" y="32"/>
                  <a:pt x="335" y="32"/>
                </a:cubicBezTo>
                <a:cubicBezTo>
                  <a:pt x="334" y="32"/>
                  <a:pt x="334" y="32"/>
                  <a:pt x="334" y="32"/>
                </a:cubicBezTo>
                <a:cubicBezTo>
                  <a:pt x="332" y="33"/>
                  <a:pt x="319" y="35"/>
                  <a:pt x="301" y="38"/>
                </a:cubicBezTo>
                <a:cubicBezTo>
                  <a:pt x="283" y="42"/>
                  <a:pt x="259" y="46"/>
                  <a:pt x="233" y="51"/>
                </a:cubicBezTo>
                <a:cubicBezTo>
                  <a:pt x="208" y="56"/>
                  <a:pt x="181" y="61"/>
                  <a:pt x="158" y="65"/>
                </a:cubicBezTo>
                <a:cubicBezTo>
                  <a:pt x="134" y="70"/>
                  <a:pt x="114" y="74"/>
                  <a:pt x="102" y="76"/>
                </a:cubicBezTo>
                <a:cubicBezTo>
                  <a:pt x="90" y="78"/>
                  <a:pt x="82" y="81"/>
                  <a:pt x="77" y="83"/>
                </a:cubicBezTo>
                <a:cubicBezTo>
                  <a:pt x="73" y="86"/>
                  <a:pt x="71" y="88"/>
                  <a:pt x="71" y="90"/>
                </a:cubicBezTo>
                <a:cubicBezTo>
                  <a:pt x="71" y="92"/>
                  <a:pt x="73" y="94"/>
                  <a:pt x="74" y="96"/>
                </a:cubicBezTo>
                <a:cubicBezTo>
                  <a:pt x="76" y="97"/>
                  <a:pt x="78" y="98"/>
                  <a:pt x="78" y="98"/>
                </a:cubicBezTo>
                <a:cubicBezTo>
                  <a:pt x="79" y="99"/>
                  <a:pt x="82" y="101"/>
                  <a:pt x="87" y="105"/>
                </a:cubicBezTo>
                <a:cubicBezTo>
                  <a:pt x="91" y="109"/>
                  <a:pt x="98" y="114"/>
                  <a:pt x="105" y="120"/>
                </a:cubicBezTo>
                <a:cubicBezTo>
                  <a:pt x="112" y="126"/>
                  <a:pt x="120" y="133"/>
                  <a:pt x="128" y="139"/>
                </a:cubicBezTo>
                <a:cubicBezTo>
                  <a:pt x="136" y="145"/>
                  <a:pt x="144" y="150"/>
                  <a:pt x="150" y="155"/>
                </a:cubicBezTo>
                <a:cubicBezTo>
                  <a:pt x="157" y="159"/>
                  <a:pt x="161" y="163"/>
                  <a:pt x="163" y="167"/>
                </a:cubicBezTo>
                <a:cubicBezTo>
                  <a:pt x="166" y="171"/>
                  <a:pt x="166" y="175"/>
                  <a:pt x="165" y="178"/>
                </a:cubicBezTo>
                <a:cubicBezTo>
                  <a:pt x="163" y="181"/>
                  <a:pt x="160" y="184"/>
                  <a:pt x="156" y="186"/>
                </a:cubicBezTo>
                <a:cubicBezTo>
                  <a:pt x="152" y="188"/>
                  <a:pt x="146" y="190"/>
                  <a:pt x="139" y="191"/>
                </a:cubicBezTo>
                <a:cubicBezTo>
                  <a:pt x="138" y="191"/>
                  <a:pt x="137" y="191"/>
                  <a:pt x="136" y="191"/>
                </a:cubicBezTo>
                <a:cubicBezTo>
                  <a:pt x="135" y="192"/>
                  <a:pt x="133" y="192"/>
                  <a:pt x="132" y="192"/>
                </a:cubicBezTo>
                <a:cubicBezTo>
                  <a:pt x="131" y="192"/>
                  <a:pt x="130" y="192"/>
                  <a:pt x="129" y="192"/>
                </a:cubicBezTo>
                <a:cubicBezTo>
                  <a:pt x="128" y="192"/>
                  <a:pt x="127" y="192"/>
                  <a:pt x="125" y="192"/>
                </a:cubicBezTo>
                <a:cubicBezTo>
                  <a:pt x="124" y="192"/>
                  <a:pt x="122" y="192"/>
                  <a:pt x="120" y="192"/>
                </a:cubicBezTo>
                <a:cubicBezTo>
                  <a:pt x="118" y="192"/>
                  <a:pt x="116" y="192"/>
                  <a:pt x="114" y="192"/>
                </a:cubicBezTo>
                <a:cubicBezTo>
                  <a:pt x="113" y="192"/>
                  <a:pt x="111" y="192"/>
                  <a:pt x="109" y="192"/>
                </a:cubicBezTo>
                <a:cubicBezTo>
                  <a:pt x="107" y="191"/>
                  <a:pt x="105" y="191"/>
                  <a:pt x="103" y="191"/>
                </a:cubicBezTo>
                <a:cubicBezTo>
                  <a:pt x="101" y="191"/>
                  <a:pt x="99" y="191"/>
                  <a:pt x="97" y="191"/>
                </a:cubicBezTo>
                <a:cubicBezTo>
                  <a:pt x="95" y="191"/>
                  <a:pt x="93" y="191"/>
                  <a:pt x="91" y="190"/>
                </a:cubicBezTo>
                <a:cubicBezTo>
                  <a:pt x="88" y="190"/>
                  <a:pt x="86" y="190"/>
                  <a:pt x="84" y="190"/>
                </a:cubicBezTo>
                <a:cubicBezTo>
                  <a:pt x="82" y="190"/>
                  <a:pt x="80" y="190"/>
                  <a:pt x="77" y="190"/>
                </a:cubicBezTo>
                <a:cubicBezTo>
                  <a:pt x="74" y="190"/>
                  <a:pt x="71" y="190"/>
                  <a:pt x="67" y="191"/>
                </a:cubicBezTo>
                <a:cubicBezTo>
                  <a:pt x="64" y="191"/>
                  <a:pt x="60" y="191"/>
                  <a:pt x="56" y="192"/>
                </a:cubicBezTo>
                <a:cubicBezTo>
                  <a:pt x="52" y="192"/>
                  <a:pt x="49" y="193"/>
                  <a:pt x="45" y="194"/>
                </a:cubicBezTo>
                <a:cubicBezTo>
                  <a:pt x="41" y="194"/>
                  <a:pt x="37" y="195"/>
                  <a:pt x="33" y="197"/>
                </a:cubicBezTo>
                <a:cubicBezTo>
                  <a:pt x="21" y="200"/>
                  <a:pt x="13" y="205"/>
                  <a:pt x="7" y="211"/>
                </a:cubicBezTo>
                <a:cubicBezTo>
                  <a:pt x="2" y="217"/>
                  <a:pt x="0" y="224"/>
                  <a:pt x="1" y="232"/>
                </a:cubicBezTo>
                <a:cubicBezTo>
                  <a:pt x="2" y="240"/>
                  <a:pt x="7" y="248"/>
                  <a:pt x="16" y="255"/>
                </a:cubicBezTo>
                <a:cubicBezTo>
                  <a:pt x="25" y="263"/>
                  <a:pt x="37" y="270"/>
                  <a:pt x="54" y="276"/>
                </a:cubicBezTo>
                <a:cubicBezTo>
                  <a:pt x="61" y="279"/>
                  <a:pt x="69" y="281"/>
                  <a:pt x="76" y="283"/>
                </a:cubicBezTo>
                <a:cubicBezTo>
                  <a:pt x="83" y="285"/>
                  <a:pt x="90" y="286"/>
                  <a:pt x="97" y="287"/>
                </a:cubicBezTo>
                <a:cubicBezTo>
                  <a:pt x="104" y="288"/>
                  <a:pt x="111" y="289"/>
                  <a:pt x="117" y="290"/>
                </a:cubicBezTo>
                <a:cubicBezTo>
                  <a:pt x="124" y="290"/>
                  <a:pt x="131" y="290"/>
                  <a:pt x="137" y="290"/>
                </a:cubicBezTo>
                <a:cubicBezTo>
                  <a:pt x="145" y="290"/>
                  <a:pt x="153" y="290"/>
                  <a:pt x="161" y="289"/>
                </a:cubicBezTo>
                <a:cubicBezTo>
                  <a:pt x="168" y="288"/>
                  <a:pt x="175" y="286"/>
                  <a:pt x="181" y="285"/>
                </a:cubicBezTo>
                <a:cubicBezTo>
                  <a:pt x="187" y="283"/>
                  <a:pt x="192" y="281"/>
                  <a:pt x="196" y="279"/>
                </a:cubicBezTo>
                <a:cubicBezTo>
                  <a:pt x="200" y="277"/>
                  <a:pt x="204" y="274"/>
                  <a:pt x="206" y="272"/>
                </a:cubicBezTo>
                <a:cubicBezTo>
                  <a:pt x="208" y="269"/>
                  <a:pt x="211" y="267"/>
                  <a:pt x="214" y="265"/>
                </a:cubicBezTo>
                <a:cubicBezTo>
                  <a:pt x="216" y="263"/>
                  <a:pt x="219" y="262"/>
                  <a:pt x="222" y="261"/>
                </a:cubicBezTo>
                <a:cubicBezTo>
                  <a:pt x="225" y="260"/>
                  <a:pt x="228" y="259"/>
                  <a:pt x="231" y="258"/>
                </a:cubicBezTo>
                <a:cubicBezTo>
                  <a:pt x="234" y="258"/>
                  <a:pt x="238" y="258"/>
                  <a:pt x="241" y="258"/>
                </a:cubicBezTo>
                <a:cubicBezTo>
                  <a:pt x="244" y="258"/>
                  <a:pt x="246" y="258"/>
                  <a:pt x="248" y="258"/>
                </a:cubicBezTo>
                <a:cubicBezTo>
                  <a:pt x="251" y="258"/>
                  <a:pt x="253" y="258"/>
                  <a:pt x="256" y="258"/>
                </a:cubicBezTo>
                <a:cubicBezTo>
                  <a:pt x="259" y="259"/>
                  <a:pt x="262" y="259"/>
                  <a:pt x="264" y="259"/>
                </a:cubicBezTo>
                <a:cubicBezTo>
                  <a:pt x="267" y="260"/>
                  <a:pt x="270" y="260"/>
                  <a:pt x="273" y="261"/>
                </a:cubicBezTo>
                <a:cubicBezTo>
                  <a:pt x="281" y="262"/>
                  <a:pt x="288" y="265"/>
                  <a:pt x="296" y="270"/>
                </a:cubicBezTo>
                <a:cubicBezTo>
                  <a:pt x="303" y="275"/>
                  <a:pt x="310" y="281"/>
                  <a:pt x="318" y="288"/>
                </a:cubicBezTo>
                <a:cubicBezTo>
                  <a:pt x="325" y="295"/>
                  <a:pt x="332" y="304"/>
                  <a:pt x="340" y="312"/>
                </a:cubicBezTo>
                <a:cubicBezTo>
                  <a:pt x="348" y="320"/>
                  <a:pt x="355" y="329"/>
                  <a:pt x="364" y="337"/>
                </a:cubicBez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Freeform 27"/>
          <p:cNvSpPr/>
          <p:nvPr/>
        </p:nvSpPr>
        <p:spPr>
          <a:xfrm flipH="1">
            <a:off x="3363840" y="3902040"/>
            <a:ext cx="1743120" cy="658800"/>
          </a:xfrm>
          <a:custGeom>
            <a:avLst/>
            <a:gdLst/>
            <a:ahLst/>
            <a:rect l="l" t="t" r="r" b="b"/>
            <a:pathLst>
              <a:path w="1179" h="445">
                <a:moveTo>
                  <a:pt x="1171" y="192"/>
                </a:moveTo>
                <a:cubicBezTo>
                  <a:pt x="1167" y="186"/>
                  <a:pt x="1161" y="180"/>
                  <a:pt x="1154" y="175"/>
                </a:cubicBezTo>
                <a:cubicBezTo>
                  <a:pt x="1146" y="169"/>
                  <a:pt x="1136" y="164"/>
                  <a:pt x="1124" y="160"/>
                </a:cubicBezTo>
                <a:cubicBezTo>
                  <a:pt x="1118" y="157"/>
                  <a:pt x="1111" y="155"/>
                  <a:pt x="1104" y="154"/>
                </a:cubicBezTo>
                <a:cubicBezTo>
                  <a:pt x="1097" y="152"/>
                  <a:pt x="1089" y="151"/>
                  <a:pt x="1082" y="150"/>
                </a:cubicBezTo>
                <a:cubicBezTo>
                  <a:pt x="1074" y="149"/>
                  <a:pt x="1067" y="148"/>
                  <a:pt x="1059" y="148"/>
                </a:cubicBezTo>
                <a:cubicBezTo>
                  <a:pt x="1051" y="147"/>
                  <a:pt x="1044" y="147"/>
                  <a:pt x="1037" y="147"/>
                </a:cubicBezTo>
                <a:cubicBezTo>
                  <a:pt x="1031" y="147"/>
                  <a:pt x="1025" y="147"/>
                  <a:pt x="1019" y="148"/>
                </a:cubicBezTo>
                <a:cubicBezTo>
                  <a:pt x="1014" y="148"/>
                  <a:pt x="1008" y="149"/>
                  <a:pt x="1004" y="149"/>
                </a:cubicBezTo>
                <a:cubicBezTo>
                  <a:pt x="999" y="150"/>
                  <a:pt x="995" y="151"/>
                  <a:pt x="991" y="152"/>
                </a:cubicBezTo>
                <a:cubicBezTo>
                  <a:pt x="987" y="153"/>
                  <a:pt x="984" y="154"/>
                  <a:pt x="981" y="155"/>
                </a:cubicBezTo>
                <a:cubicBezTo>
                  <a:pt x="980" y="156"/>
                  <a:pt x="978" y="156"/>
                  <a:pt x="976" y="157"/>
                </a:cubicBezTo>
                <a:cubicBezTo>
                  <a:pt x="975" y="157"/>
                  <a:pt x="973" y="158"/>
                  <a:pt x="971" y="158"/>
                </a:cubicBezTo>
                <a:cubicBezTo>
                  <a:pt x="968" y="158"/>
                  <a:pt x="966" y="159"/>
                  <a:pt x="964" y="159"/>
                </a:cubicBezTo>
                <a:cubicBezTo>
                  <a:pt x="962" y="159"/>
                  <a:pt x="959" y="159"/>
                  <a:pt x="957" y="159"/>
                </a:cubicBezTo>
                <a:cubicBezTo>
                  <a:pt x="950" y="159"/>
                  <a:pt x="942" y="159"/>
                  <a:pt x="935" y="157"/>
                </a:cubicBezTo>
                <a:cubicBezTo>
                  <a:pt x="928" y="156"/>
                  <a:pt x="921" y="155"/>
                  <a:pt x="915" y="152"/>
                </a:cubicBezTo>
                <a:cubicBezTo>
                  <a:pt x="910" y="150"/>
                  <a:pt x="905" y="147"/>
                  <a:pt x="901" y="143"/>
                </a:cubicBezTo>
                <a:cubicBezTo>
                  <a:pt x="898" y="140"/>
                  <a:pt x="896" y="136"/>
                  <a:pt x="897" y="132"/>
                </a:cubicBezTo>
                <a:cubicBezTo>
                  <a:pt x="898" y="126"/>
                  <a:pt x="899" y="116"/>
                  <a:pt x="900" y="105"/>
                </a:cubicBezTo>
                <a:cubicBezTo>
                  <a:pt x="901" y="95"/>
                  <a:pt x="901" y="83"/>
                  <a:pt x="902" y="72"/>
                </a:cubicBezTo>
                <a:cubicBezTo>
                  <a:pt x="902" y="61"/>
                  <a:pt x="903" y="51"/>
                  <a:pt x="903" y="43"/>
                </a:cubicBezTo>
                <a:cubicBezTo>
                  <a:pt x="903" y="35"/>
                  <a:pt x="903" y="30"/>
                  <a:pt x="903" y="29"/>
                </a:cubicBezTo>
                <a:cubicBezTo>
                  <a:pt x="903" y="29"/>
                  <a:pt x="903" y="27"/>
                  <a:pt x="902" y="24"/>
                </a:cubicBezTo>
                <a:cubicBezTo>
                  <a:pt x="901" y="21"/>
                  <a:pt x="900" y="17"/>
                  <a:pt x="897" y="14"/>
                </a:cubicBezTo>
                <a:cubicBezTo>
                  <a:pt x="894" y="10"/>
                  <a:pt x="889" y="7"/>
                  <a:pt x="883" y="4"/>
                </a:cubicBezTo>
                <a:cubicBezTo>
                  <a:pt x="876" y="2"/>
                  <a:pt x="867" y="0"/>
                  <a:pt x="856" y="0"/>
                </a:cubicBezTo>
                <a:cubicBezTo>
                  <a:pt x="844" y="0"/>
                  <a:pt x="828" y="1"/>
                  <a:pt x="809" y="1"/>
                </a:cubicBezTo>
                <a:cubicBezTo>
                  <a:pt x="791" y="2"/>
                  <a:pt x="771" y="3"/>
                  <a:pt x="751" y="3"/>
                </a:cubicBezTo>
                <a:cubicBezTo>
                  <a:pt x="732" y="4"/>
                  <a:pt x="714" y="4"/>
                  <a:pt x="701" y="5"/>
                </a:cubicBezTo>
                <a:cubicBezTo>
                  <a:pt x="687" y="5"/>
                  <a:pt x="678" y="5"/>
                  <a:pt x="677" y="5"/>
                </a:cubicBezTo>
                <a:cubicBezTo>
                  <a:pt x="676" y="5"/>
                  <a:pt x="670" y="6"/>
                  <a:pt x="663" y="7"/>
                </a:cubicBezTo>
                <a:cubicBezTo>
                  <a:pt x="656" y="8"/>
                  <a:pt x="646" y="9"/>
                  <a:pt x="638" y="11"/>
                </a:cubicBezTo>
                <a:cubicBezTo>
                  <a:pt x="629" y="13"/>
                  <a:pt x="621" y="16"/>
                  <a:pt x="617" y="19"/>
                </a:cubicBezTo>
                <a:cubicBezTo>
                  <a:pt x="612" y="22"/>
                  <a:pt x="610" y="26"/>
                  <a:pt x="615" y="31"/>
                </a:cubicBezTo>
                <a:cubicBezTo>
                  <a:pt x="619" y="36"/>
                  <a:pt x="627" y="42"/>
                  <a:pt x="636" y="49"/>
                </a:cubicBezTo>
                <a:cubicBezTo>
                  <a:pt x="645" y="56"/>
                  <a:pt x="655" y="64"/>
                  <a:pt x="662" y="72"/>
                </a:cubicBezTo>
                <a:cubicBezTo>
                  <a:pt x="669" y="80"/>
                  <a:pt x="674" y="87"/>
                  <a:pt x="672" y="94"/>
                </a:cubicBezTo>
                <a:cubicBezTo>
                  <a:pt x="671" y="101"/>
                  <a:pt x="664" y="107"/>
                  <a:pt x="648" y="111"/>
                </a:cubicBezTo>
                <a:cubicBezTo>
                  <a:pt x="641" y="112"/>
                  <a:pt x="634" y="114"/>
                  <a:pt x="627" y="115"/>
                </a:cubicBezTo>
                <a:cubicBezTo>
                  <a:pt x="621" y="116"/>
                  <a:pt x="613" y="117"/>
                  <a:pt x="606" y="118"/>
                </a:cubicBezTo>
                <a:cubicBezTo>
                  <a:pt x="599" y="119"/>
                  <a:pt x="592" y="120"/>
                  <a:pt x="585" y="120"/>
                </a:cubicBezTo>
                <a:cubicBezTo>
                  <a:pt x="578" y="120"/>
                  <a:pt x="571" y="121"/>
                  <a:pt x="564" y="121"/>
                </a:cubicBezTo>
                <a:cubicBezTo>
                  <a:pt x="554" y="121"/>
                  <a:pt x="544" y="120"/>
                  <a:pt x="536" y="120"/>
                </a:cubicBezTo>
                <a:cubicBezTo>
                  <a:pt x="527" y="119"/>
                  <a:pt x="519" y="118"/>
                  <a:pt x="512" y="116"/>
                </a:cubicBezTo>
                <a:cubicBezTo>
                  <a:pt x="505" y="114"/>
                  <a:pt x="499" y="112"/>
                  <a:pt x="495" y="109"/>
                </a:cubicBezTo>
                <a:cubicBezTo>
                  <a:pt x="491" y="107"/>
                  <a:pt x="488" y="104"/>
                  <a:pt x="487" y="100"/>
                </a:cubicBezTo>
                <a:cubicBezTo>
                  <a:pt x="486" y="94"/>
                  <a:pt x="486" y="86"/>
                  <a:pt x="487" y="78"/>
                </a:cubicBezTo>
                <a:cubicBezTo>
                  <a:pt x="488" y="69"/>
                  <a:pt x="489" y="60"/>
                  <a:pt x="488" y="51"/>
                </a:cubicBezTo>
                <a:cubicBezTo>
                  <a:pt x="488" y="42"/>
                  <a:pt x="485" y="35"/>
                  <a:pt x="480" y="29"/>
                </a:cubicBezTo>
                <a:cubicBezTo>
                  <a:pt x="474" y="23"/>
                  <a:pt x="465" y="19"/>
                  <a:pt x="450" y="19"/>
                </a:cubicBezTo>
                <a:cubicBezTo>
                  <a:pt x="449" y="19"/>
                  <a:pt x="447" y="19"/>
                  <a:pt x="445" y="19"/>
                </a:cubicBezTo>
                <a:cubicBezTo>
                  <a:pt x="444" y="19"/>
                  <a:pt x="442" y="19"/>
                  <a:pt x="440" y="19"/>
                </a:cubicBezTo>
                <a:cubicBezTo>
                  <a:pt x="438" y="19"/>
                  <a:pt x="436" y="19"/>
                  <a:pt x="434" y="19"/>
                </a:cubicBezTo>
                <a:cubicBezTo>
                  <a:pt x="432" y="19"/>
                  <a:pt x="430" y="19"/>
                  <a:pt x="427" y="19"/>
                </a:cubicBezTo>
                <a:cubicBezTo>
                  <a:pt x="408" y="19"/>
                  <a:pt x="385" y="20"/>
                  <a:pt x="360" y="21"/>
                </a:cubicBezTo>
                <a:cubicBezTo>
                  <a:pt x="335" y="22"/>
                  <a:pt x="308" y="23"/>
                  <a:pt x="284" y="24"/>
                </a:cubicBezTo>
                <a:cubicBezTo>
                  <a:pt x="259" y="25"/>
                  <a:pt x="237" y="27"/>
                  <a:pt x="220" y="28"/>
                </a:cubicBezTo>
                <a:cubicBezTo>
                  <a:pt x="204" y="28"/>
                  <a:pt x="192" y="29"/>
                  <a:pt x="190" y="29"/>
                </a:cubicBezTo>
                <a:cubicBezTo>
                  <a:pt x="221" y="137"/>
                  <a:pt x="221" y="137"/>
                  <a:pt x="221" y="137"/>
                </a:cubicBezTo>
                <a:cubicBezTo>
                  <a:pt x="221" y="137"/>
                  <a:pt x="221" y="139"/>
                  <a:pt x="220" y="142"/>
                </a:cubicBezTo>
                <a:cubicBezTo>
                  <a:pt x="219" y="144"/>
                  <a:pt x="217" y="147"/>
                  <a:pt x="215" y="150"/>
                </a:cubicBezTo>
                <a:cubicBezTo>
                  <a:pt x="213" y="153"/>
                  <a:pt x="210" y="156"/>
                  <a:pt x="206" y="159"/>
                </a:cubicBezTo>
                <a:cubicBezTo>
                  <a:pt x="203" y="161"/>
                  <a:pt x="198" y="163"/>
                  <a:pt x="192" y="163"/>
                </a:cubicBezTo>
                <a:cubicBezTo>
                  <a:pt x="192" y="163"/>
                  <a:pt x="191" y="163"/>
                  <a:pt x="190" y="163"/>
                </a:cubicBezTo>
                <a:cubicBezTo>
                  <a:pt x="189" y="163"/>
                  <a:pt x="188" y="163"/>
                  <a:pt x="188" y="162"/>
                </a:cubicBezTo>
                <a:cubicBezTo>
                  <a:pt x="187" y="162"/>
                  <a:pt x="186" y="162"/>
                  <a:pt x="185" y="162"/>
                </a:cubicBezTo>
                <a:cubicBezTo>
                  <a:pt x="184" y="162"/>
                  <a:pt x="183" y="162"/>
                  <a:pt x="182" y="161"/>
                </a:cubicBezTo>
                <a:cubicBezTo>
                  <a:pt x="177" y="160"/>
                  <a:pt x="170" y="158"/>
                  <a:pt x="163" y="156"/>
                </a:cubicBezTo>
                <a:cubicBezTo>
                  <a:pt x="155" y="154"/>
                  <a:pt x="147" y="152"/>
                  <a:pt x="138" y="150"/>
                </a:cubicBezTo>
                <a:cubicBezTo>
                  <a:pt x="130" y="148"/>
                  <a:pt x="121" y="146"/>
                  <a:pt x="112" y="145"/>
                </a:cubicBezTo>
                <a:cubicBezTo>
                  <a:pt x="103" y="144"/>
                  <a:pt x="94" y="143"/>
                  <a:pt x="86" y="143"/>
                </a:cubicBezTo>
                <a:cubicBezTo>
                  <a:pt x="82" y="143"/>
                  <a:pt x="78" y="143"/>
                  <a:pt x="75" y="143"/>
                </a:cubicBezTo>
                <a:cubicBezTo>
                  <a:pt x="72" y="144"/>
                  <a:pt x="68" y="144"/>
                  <a:pt x="65" y="145"/>
                </a:cubicBezTo>
                <a:cubicBezTo>
                  <a:pt x="62" y="146"/>
                  <a:pt x="59" y="146"/>
                  <a:pt x="56" y="147"/>
                </a:cubicBezTo>
                <a:cubicBezTo>
                  <a:pt x="53" y="148"/>
                  <a:pt x="50" y="150"/>
                  <a:pt x="47" y="151"/>
                </a:cubicBezTo>
                <a:cubicBezTo>
                  <a:pt x="37" y="156"/>
                  <a:pt x="28" y="163"/>
                  <a:pt x="20" y="170"/>
                </a:cubicBezTo>
                <a:cubicBezTo>
                  <a:pt x="13" y="177"/>
                  <a:pt x="7" y="185"/>
                  <a:pt x="4" y="193"/>
                </a:cubicBezTo>
                <a:cubicBezTo>
                  <a:pt x="0" y="202"/>
                  <a:pt x="0" y="210"/>
                  <a:pt x="5" y="218"/>
                </a:cubicBezTo>
                <a:cubicBezTo>
                  <a:pt x="10" y="226"/>
                  <a:pt x="19" y="234"/>
                  <a:pt x="34" y="240"/>
                </a:cubicBezTo>
                <a:cubicBezTo>
                  <a:pt x="43" y="244"/>
                  <a:pt x="52" y="247"/>
                  <a:pt x="60" y="250"/>
                </a:cubicBezTo>
                <a:cubicBezTo>
                  <a:pt x="68" y="252"/>
                  <a:pt x="75" y="254"/>
                  <a:pt x="82" y="256"/>
                </a:cubicBezTo>
                <a:cubicBezTo>
                  <a:pt x="89" y="257"/>
                  <a:pt x="95" y="258"/>
                  <a:pt x="102" y="259"/>
                </a:cubicBezTo>
                <a:cubicBezTo>
                  <a:pt x="108" y="259"/>
                  <a:pt x="113" y="260"/>
                  <a:pt x="119" y="260"/>
                </a:cubicBezTo>
                <a:cubicBezTo>
                  <a:pt x="122" y="260"/>
                  <a:pt x="126" y="259"/>
                  <a:pt x="129" y="259"/>
                </a:cubicBezTo>
                <a:cubicBezTo>
                  <a:pt x="132" y="259"/>
                  <a:pt x="136" y="259"/>
                  <a:pt x="139" y="258"/>
                </a:cubicBezTo>
                <a:cubicBezTo>
                  <a:pt x="142" y="258"/>
                  <a:pt x="145" y="258"/>
                  <a:pt x="149" y="257"/>
                </a:cubicBezTo>
                <a:cubicBezTo>
                  <a:pt x="152" y="257"/>
                  <a:pt x="155" y="256"/>
                  <a:pt x="158" y="256"/>
                </a:cubicBezTo>
                <a:cubicBezTo>
                  <a:pt x="160" y="256"/>
                  <a:pt x="161" y="255"/>
                  <a:pt x="163" y="255"/>
                </a:cubicBezTo>
                <a:cubicBezTo>
                  <a:pt x="164" y="255"/>
                  <a:pt x="166" y="255"/>
                  <a:pt x="168" y="255"/>
                </a:cubicBezTo>
                <a:cubicBezTo>
                  <a:pt x="169" y="255"/>
                  <a:pt x="171" y="255"/>
                  <a:pt x="172" y="255"/>
                </a:cubicBezTo>
                <a:cubicBezTo>
                  <a:pt x="174" y="255"/>
                  <a:pt x="176" y="254"/>
                  <a:pt x="177" y="254"/>
                </a:cubicBezTo>
                <a:cubicBezTo>
                  <a:pt x="184" y="254"/>
                  <a:pt x="191" y="255"/>
                  <a:pt x="197" y="256"/>
                </a:cubicBezTo>
                <a:cubicBezTo>
                  <a:pt x="203" y="257"/>
                  <a:pt x="209" y="259"/>
                  <a:pt x="213" y="261"/>
                </a:cubicBezTo>
                <a:cubicBezTo>
                  <a:pt x="218" y="264"/>
                  <a:pt x="222" y="267"/>
                  <a:pt x="224" y="272"/>
                </a:cubicBezTo>
                <a:cubicBezTo>
                  <a:pt x="226" y="276"/>
                  <a:pt x="227" y="281"/>
                  <a:pt x="225" y="288"/>
                </a:cubicBezTo>
                <a:cubicBezTo>
                  <a:pt x="224" y="296"/>
                  <a:pt x="220" y="308"/>
                  <a:pt x="216" y="322"/>
                </a:cubicBezTo>
                <a:cubicBezTo>
                  <a:pt x="212" y="335"/>
                  <a:pt x="207" y="351"/>
                  <a:pt x="203" y="366"/>
                </a:cubicBezTo>
                <a:cubicBezTo>
                  <a:pt x="199" y="381"/>
                  <a:pt x="195" y="395"/>
                  <a:pt x="193" y="406"/>
                </a:cubicBezTo>
                <a:cubicBezTo>
                  <a:pt x="191" y="418"/>
                  <a:pt x="191" y="425"/>
                  <a:pt x="195" y="427"/>
                </a:cubicBezTo>
                <a:cubicBezTo>
                  <a:pt x="198" y="429"/>
                  <a:pt x="201" y="431"/>
                  <a:pt x="204" y="433"/>
                </a:cubicBezTo>
                <a:cubicBezTo>
                  <a:pt x="207" y="435"/>
                  <a:pt x="211" y="437"/>
                  <a:pt x="217" y="439"/>
                </a:cubicBezTo>
                <a:cubicBezTo>
                  <a:pt x="223" y="441"/>
                  <a:pt x="232" y="442"/>
                  <a:pt x="245" y="443"/>
                </a:cubicBezTo>
                <a:cubicBezTo>
                  <a:pt x="257" y="444"/>
                  <a:pt x="274" y="445"/>
                  <a:pt x="297" y="445"/>
                </a:cubicBezTo>
                <a:cubicBezTo>
                  <a:pt x="298" y="445"/>
                  <a:pt x="299" y="445"/>
                  <a:pt x="301" y="445"/>
                </a:cubicBezTo>
                <a:cubicBezTo>
                  <a:pt x="302" y="445"/>
                  <a:pt x="303" y="445"/>
                  <a:pt x="304" y="445"/>
                </a:cubicBezTo>
                <a:cubicBezTo>
                  <a:pt x="305" y="445"/>
                  <a:pt x="306" y="445"/>
                  <a:pt x="307" y="445"/>
                </a:cubicBezTo>
                <a:cubicBezTo>
                  <a:pt x="309" y="445"/>
                  <a:pt x="310" y="445"/>
                  <a:pt x="311" y="445"/>
                </a:cubicBezTo>
                <a:cubicBezTo>
                  <a:pt x="337" y="444"/>
                  <a:pt x="375" y="444"/>
                  <a:pt x="418" y="443"/>
                </a:cubicBezTo>
                <a:cubicBezTo>
                  <a:pt x="461" y="443"/>
                  <a:pt x="508" y="443"/>
                  <a:pt x="553" y="442"/>
                </a:cubicBezTo>
                <a:cubicBezTo>
                  <a:pt x="597" y="442"/>
                  <a:pt x="639" y="442"/>
                  <a:pt x="670" y="442"/>
                </a:cubicBezTo>
                <a:cubicBezTo>
                  <a:pt x="702" y="441"/>
                  <a:pt x="723" y="441"/>
                  <a:pt x="727" y="441"/>
                </a:cubicBezTo>
                <a:cubicBezTo>
                  <a:pt x="1025" y="434"/>
                  <a:pt x="1025" y="434"/>
                  <a:pt x="1025" y="434"/>
                </a:cubicBezTo>
                <a:cubicBezTo>
                  <a:pt x="1023" y="432"/>
                  <a:pt x="1016" y="421"/>
                  <a:pt x="1005" y="405"/>
                </a:cubicBezTo>
                <a:cubicBezTo>
                  <a:pt x="994" y="390"/>
                  <a:pt x="981" y="370"/>
                  <a:pt x="969" y="350"/>
                </a:cubicBezTo>
                <a:cubicBezTo>
                  <a:pt x="957" y="331"/>
                  <a:pt x="946" y="312"/>
                  <a:pt x="939" y="296"/>
                </a:cubicBezTo>
                <a:cubicBezTo>
                  <a:pt x="932" y="281"/>
                  <a:pt x="929" y="270"/>
                  <a:pt x="934" y="267"/>
                </a:cubicBezTo>
                <a:cubicBezTo>
                  <a:pt x="936" y="265"/>
                  <a:pt x="939" y="262"/>
                  <a:pt x="941" y="260"/>
                </a:cubicBezTo>
                <a:cubicBezTo>
                  <a:pt x="944" y="258"/>
                  <a:pt x="946" y="255"/>
                  <a:pt x="950" y="253"/>
                </a:cubicBezTo>
                <a:cubicBezTo>
                  <a:pt x="953" y="252"/>
                  <a:pt x="956" y="250"/>
                  <a:pt x="961" y="249"/>
                </a:cubicBezTo>
                <a:cubicBezTo>
                  <a:pt x="966" y="247"/>
                  <a:pt x="971" y="247"/>
                  <a:pt x="979" y="247"/>
                </a:cubicBezTo>
                <a:cubicBezTo>
                  <a:pt x="982" y="247"/>
                  <a:pt x="985" y="247"/>
                  <a:pt x="989" y="247"/>
                </a:cubicBezTo>
                <a:cubicBezTo>
                  <a:pt x="992" y="247"/>
                  <a:pt x="996" y="248"/>
                  <a:pt x="1000" y="248"/>
                </a:cubicBezTo>
                <a:cubicBezTo>
                  <a:pt x="1004" y="249"/>
                  <a:pt x="1009" y="249"/>
                  <a:pt x="1014" y="250"/>
                </a:cubicBezTo>
                <a:cubicBezTo>
                  <a:pt x="1019" y="251"/>
                  <a:pt x="1024" y="252"/>
                  <a:pt x="1030" y="253"/>
                </a:cubicBezTo>
                <a:cubicBezTo>
                  <a:pt x="1035" y="254"/>
                  <a:pt x="1040" y="255"/>
                  <a:pt x="1046" y="255"/>
                </a:cubicBezTo>
                <a:cubicBezTo>
                  <a:pt x="1051" y="256"/>
                  <a:pt x="1056" y="257"/>
                  <a:pt x="1061" y="257"/>
                </a:cubicBezTo>
                <a:cubicBezTo>
                  <a:pt x="1065" y="258"/>
                  <a:pt x="1070" y="258"/>
                  <a:pt x="1075" y="258"/>
                </a:cubicBezTo>
                <a:cubicBezTo>
                  <a:pt x="1080" y="258"/>
                  <a:pt x="1084" y="259"/>
                  <a:pt x="1089" y="259"/>
                </a:cubicBezTo>
                <a:cubicBezTo>
                  <a:pt x="1101" y="258"/>
                  <a:pt x="1112" y="258"/>
                  <a:pt x="1122" y="256"/>
                </a:cubicBezTo>
                <a:cubicBezTo>
                  <a:pt x="1131" y="254"/>
                  <a:pt x="1140" y="252"/>
                  <a:pt x="1148" y="249"/>
                </a:cubicBezTo>
                <a:cubicBezTo>
                  <a:pt x="1155" y="247"/>
                  <a:pt x="1161" y="243"/>
                  <a:pt x="1166" y="240"/>
                </a:cubicBezTo>
                <a:cubicBezTo>
                  <a:pt x="1171" y="236"/>
                  <a:pt x="1174" y="233"/>
                  <a:pt x="1175" y="229"/>
                </a:cubicBezTo>
                <a:cubicBezTo>
                  <a:pt x="1178" y="223"/>
                  <a:pt x="1179" y="217"/>
                  <a:pt x="1178" y="211"/>
                </a:cubicBezTo>
                <a:cubicBezTo>
                  <a:pt x="1177" y="205"/>
                  <a:pt x="1175" y="199"/>
                  <a:pt x="1171" y="192"/>
                </a:cubicBez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0" name="Group 28"/>
          <p:cNvGrpSpPr/>
          <p:nvPr/>
        </p:nvGrpSpPr>
        <p:grpSpPr>
          <a:xfrm>
            <a:off x="1118880" y="4267080"/>
            <a:ext cx="2233800" cy="1981080"/>
            <a:chOff x="1118880" y="4267080"/>
            <a:chExt cx="2233800" cy="1981080"/>
          </a:xfrm>
        </p:grpSpPr>
        <p:sp>
          <p:nvSpPr>
            <p:cNvPr id="481" name="Freeform 29"/>
            <p:cNvSpPr/>
            <p:nvPr/>
          </p:nvSpPr>
          <p:spPr>
            <a:xfrm flipH="1">
              <a:off x="1118520" y="5315040"/>
              <a:ext cx="2197080" cy="933120"/>
            </a:xfrm>
            <a:custGeom>
              <a:avLst/>
              <a:gdLst/>
              <a:ahLst/>
              <a:rect l="l" t="t" r="r" b="b"/>
              <a:pathLst>
                <a:path w="1487" h="632">
                  <a:moveTo>
                    <a:pt x="1486" y="593"/>
                  </a:moveTo>
                  <a:cubicBezTo>
                    <a:pt x="1484" y="590"/>
                    <a:pt x="1482" y="588"/>
                    <a:pt x="1481" y="587"/>
                  </a:cubicBezTo>
                  <a:cubicBezTo>
                    <a:pt x="1091" y="173"/>
                    <a:pt x="1091" y="173"/>
                    <a:pt x="1091" y="173"/>
                  </a:cubicBezTo>
                  <a:cubicBezTo>
                    <a:pt x="1077" y="159"/>
                    <a:pt x="1077" y="159"/>
                    <a:pt x="1077" y="159"/>
                  </a:cubicBezTo>
                  <a:cubicBezTo>
                    <a:pt x="1077" y="158"/>
                    <a:pt x="1076" y="157"/>
                    <a:pt x="1074" y="155"/>
                  </a:cubicBezTo>
                  <a:cubicBezTo>
                    <a:pt x="1072" y="153"/>
                    <a:pt x="1069" y="150"/>
                    <a:pt x="1066" y="148"/>
                  </a:cubicBezTo>
                  <a:cubicBezTo>
                    <a:pt x="1062" y="145"/>
                    <a:pt x="1058" y="143"/>
                    <a:pt x="1053" y="141"/>
                  </a:cubicBezTo>
                  <a:cubicBezTo>
                    <a:pt x="1048" y="139"/>
                    <a:pt x="1042" y="137"/>
                    <a:pt x="1035" y="137"/>
                  </a:cubicBezTo>
                  <a:cubicBezTo>
                    <a:pt x="1035" y="136"/>
                    <a:pt x="1034" y="136"/>
                    <a:pt x="1033" y="136"/>
                  </a:cubicBezTo>
                  <a:cubicBezTo>
                    <a:pt x="1032" y="136"/>
                    <a:pt x="1031" y="136"/>
                    <a:pt x="1030" y="136"/>
                  </a:cubicBezTo>
                  <a:cubicBezTo>
                    <a:pt x="1029" y="136"/>
                    <a:pt x="1027" y="136"/>
                    <a:pt x="1026" y="136"/>
                  </a:cubicBezTo>
                  <a:cubicBezTo>
                    <a:pt x="1025" y="136"/>
                    <a:pt x="1023" y="136"/>
                    <a:pt x="1022" y="136"/>
                  </a:cubicBezTo>
                  <a:cubicBezTo>
                    <a:pt x="1014" y="136"/>
                    <a:pt x="1005" y="137"/>
                    <a:pt x="993" y="137"/>
                  </a:cubicBezTo>
                  <a:cubicBezTo>
                    <a:pt x="982" y="137"/>
                    <a:pt x="969" y="137"/>
                    <a:pt x="955" y="138"/>
                  </a:cubicBezTo>
                  <a:cubicBezTo>
                    <a:pt x="941" y="138"/>
                    <a:pt x="925" y="139"/>
                    <a:pt x="910" y="139"/>
                  </a:cubicBezTo>
                  <a:cubicBezTo>
                    <a:pt x="894" y="140"/>
                    <a:pt x="877" y="141"/>
                    <a:pt x="860" y="141"/>
                  </a:cubicBezTo>
                  <a:cubicBezTo>
                    <a:pt x="844" y="142"/>
                    <a:pt x="827" y="142"/>
                    <a:pt x="811" y="143"/>
                  </a:cubicBezTo>
                  <a:cubicBezTo>
                    <a:pt x="795" y="143"/>
                    <a:pt x="779" y="144"/>
                    <a:pt x="765" y="144"/>
                  </a:cubicBezTo>
                  <a:cubicBezTo>
                    <a:pt x="750" y="145"/>
                    <a:pt x="737" y="145"/>
                    <a:pt x="725" y="146"/>
                  </a:cubicBezTo>
                  <a:cubicBezTo>
                    <a:pt x="713" y="146"/>
                    <a:pt x="703" y="146"/>
                    <a:pt x="695" y="146"/>
                  </a:cubicBezTo>
                  <a:cubicBezTo>
                    <a:pt x="694" y="146"/>
                    <a:pt x="693" y="146"/>
                    <a:pt x="692" y="146"/>
                  </a:cubicBezTo>
                  <a:cubicBezTo>
                    <a:pt x="692" y="146"/>
                    <a:pt x="691" y="146"/>
                    <a:pt x="690" y="146"/>
                  </a:cubicBezTo>
                  <a:cubicBezTo>
                    <a:pt x="689" y="146"/>
                    <a:pt x="689" y="146"/>
                    <a:pt x="688" y="146"/>
                  </a:cubicBezTo>
                  <a:cubicBezTo>
                    <a:pt x="687" y="146"/>
                    <a:pt x="687" y="146"/>
                    <a:pt x="686" y="146"/>
                  </a:cubicBezTo>
                  <a:cubicBezTo>
                    <a:pt x="671" y="146"/>
                    <a:pt x="659" y="144"/>
                    <a:pt x="650" y="141"/>
                  </a:cubicBezTo>
                  <a:cubicBezTo>
                    <a:pt x="640" y="138"/>
                    <a:pt x="632" y="134"/>
                    <a:pt x="626" y="130"/>
                  </a:cubicBezTo>
                  <a:cubicBezTo>
                    <a:pt x="620" y="125"/>
                    <a:pt x="616" y="120"/>
                    <a:pt x="613" y="115"/>
                  </a:cubicBezTo>
                  <a:cubicBezTo>
                    <a:pt x="611" y="109"/>
                    <a:pt x="609" y="104"/>
                    <a:pt x="608" y="99"/>
                  </a:cubicBezTo>
                  <a:cubicBezTo>
                    <a:pt x="608" y="94"/>
                    <a:pt x="607" y="90"/>
                    <a:pt x="605" y="85"/>
                  </a:cubicBezTo>
                  <a:cubicBezTo>
                    <a:pt x="603" y="80"/>
                    <a:pt x="600" y="75"/>
                    <a:pt x="596" y="69"/>
                  </a:cubicBezTo>
                  <a:cubicBezTo>
                    <a:pt x="592" y="64"/>
                    <a:pt x="586" y="58"/>
                    <a:pt x="579" y="52"/>
                  </a:cubicBezTo>
                  <a:cubicBezTo>
                    <a:pt x="571" y="45"/>
                    <a:pt x="562" y="38"/>
                    <a:pt x="551" y="30"/>
                  </a:cubicBezTo>
                  <a:cubicBezTo>
                    <a:pt x="544" y="25"/>
                    <a:pt x="535" y="20"/>
                    <a:pt x="524" y="17"/>
                  </a:cubicBezTo>
                  <a:cubicBezTo>
                    <a:pt x="513" y="13"/>
                    <a:pt x="501" y="10"/>
                    <a:pt x="489" y="7"/>
                  </a:cubicBezTo>
                  <a:cubicBezTo>
                    <a:pt x="476" y="5"/>
                    <a:pt x="462" y="3"/>
                    <a:pt x="449" y="2"/>
                  </a:cubicBezTo>
                  <a:cubicBezTo>
                    <a:pt x="435" y="1"/>
                    <a:pt x="422" y="0"/>
                    <a:pt x="408" y="1"/>
                  </a:cubicBezTo>
                  <a:cubicBezTo>
                    <a:pt x="400" y="1"/>
                    <a:pt x="392" y="1"/>
                    <a:pt x="385" y="1"/>
                  </a:cubicBezTo>
                  <a:cubicBezTo>
                    <a:pt x="377" y="2"/>
                    <a:pt x="370" y="3"/>
                    <a:pt x="363" y="4"/>
                  </a:cubicBezTo>
                  <a:cubicBezTo>
                    <a:pt x="357" y="5"/>
                    <a:pt x="350" y="6"/>
                    <a:pt x="345" y="8"/>
                  </a:cubicBezTo>
                  <a:cubicBezTo>
                    <a:pt x="340" y="9"/>
                    <a:pt x="335" y="11"/>
                    <a:pt x="331" y="13"/>
                  </a:cubicBezTo>
                  <a:cubicBezTo>
                    <a:pt x="321" y="18"/>
                    <a:pt x="317" y="24"/>
                    <a:pt x="319" y="31"/>
                  </a:cubicBezTo>
                  <a:cubicBezTo>
                    <a:pt x="320" y="37"/>
                    <a:pt x="326" y="44"/>
                    <a:pt x="335" y="51"/>
                  </a:cubicBezTo>
                  <a:cubicBezTo>
                    <a:pt x="343" y="58"/>
                    <a:pt x="353" y="65"/>
                    <a:pt x="363" y="71"/>
                  </a:cubicBezTo>
                  <a:cubicBezTo>
                    <a:pt x="373" y="77"/>
                    <a:pt x="382" y="83"/>
                    <a:pt x="389" y="87"/>
                  </a:cubicBezTo>
                  <a:cubicBezTo>
                    <a:pt x="395" y="92"/>
                    <a:pt x="399" y="96"/>
                    <a:pt x="400" y="100"/>
                  </a:cubicBezTo>
                  <a:cubicBezTo>
                    <a:pt x="402" y="105"/>
                    <a:pt x="401" y="109"/>
                    <a:pt x="398" y="113"/>
                  </a:cubicBezTo>
                  <a:cubicBezTo>
                    <a:pt x="395" y="116"/>
                    <a:pt x="390" y="120"/>
                    <a:pt x="383" y="123"/>
                  </a:cubicBezTo>
                  <a:cubicBezTo>
                    <a:pt x="376" y="125"/>
                    <a:pt x="368" y="128"/>
                    <a:pt x="358" y="129"/>
                  </a:cubicBezTo>
                  <a:cubicBezTo>
                    <a:pt x="357" y="129"/>
                    <a:pt x="357" y="129"/>
                    <a:pt x="356" y="130"/>
                  </a:cubicBezTo>
                  <a:cubicBezTo>
                    <a:pt x="355" y="130"/>
                    <a:pt x="355" y="130"/>
                    <a:pt x="354" y="130"/>
                  </a:cubicBezTo>
                  <a:cubicBezTo>
                    <a:pt x="354" y="130"/>
                    <a:pt x="353" y="130"/>
                    <a:pt x="352" y="130"/>
                  </a:cubicBezTo>
                  <a:cubicBezTo>
                    <a:pt x="351" y="130"/>
                    <a:pt x="350" y="130"/>
                    <a:pt x="350" y="130"/>
                  </a:cubicBezTo>
                  <a:cubicBezTo>
                    <a:pt x="334" y="130"/>
                    <a:pt x="305" y="127"/>
                    <a:pt x="270" y="123"/>
                  </a:cubicBezTo>
                  <a:cubicBezTo>
                    <a:pt x="236" y="118"/>
                    <a:pt x="195" y="113"/>
                    <a:pt x="157" y="107"/>
                  </a:cubicBezTo>
                  <a:cubicBezTo>
                    <a:pt x="119" y="101"/>
                    <a:pt x="83" y="95"/>
                    <a:pt x="55" y="90"/>
                  </a:cubicBezTo>
                  <a:cubicBezTo>
                    <a:pt x="27" y="86"/>
                    <a:pt x="9" y="83"/>
                    <a:pt x="5" y="82"/>
                  </a:cubicBezTo>
                  <a:cubicBezTo>
                    <a:pt x="5" y="82"/>
                    <a:pt x="5" y="83"/>
                    <a:pt x="4" y="85"/>
                  </a:cubicBezTo>
                  <a:cubicBezTo>
                    <a:pt x="4" y="87"/>
                    <a:pt x="3" y="90"/>
                    <a:pt x="3" y="93"/>
                  </a:cubicBezTo>
                  <a:cubicBezTo>
                    <a:pt x="2" y="97"/>
                    <a:pt x="1" y="102"/>
                    <a:pt x="1" y="107"/>
                  </a:cubicBezTo>
                  <a:cubicBezTo>
                    <a:pt x="0" y="112"/>
                    <a:pt x="0" y="119"/>
                    <a:pt x="0" y="126"/>
                  </a:cubicBezTo>
                  <a:cubicBezTo>
                    <a:pt x="0" y="133"/>
                    <a:pt x="0" y="142"/>
                    <a:pt x="1" y="151"/>
                  </a:cubicBezTo>
                  <a:cubicBezTo>
                    <a:pt x="3" y="161"/>
                    <a:pt x="5" y="171"/>
                    <a:pt x="9" y="182"/>
                  </a:cubicBezTo>
                  <a:cubicBezTo>
                    <a:pt x="12" y="192"/>
                    <a:pt x="16" y="202"/>
                    <a:pt x="22" y="212"/>
                  </a:cubicBezTo>
                  <a:cubicBezTo>
                    <a:pt x="28" y="221"/>
                    <a:pt x="34" y="230"/>
                    <a:pt x="42" y="236"/>
                  </a:cubicBezTo>
                  <a:cubicBezTo>
                    <a:pt x="50" y="242"/>
                    <a:pt x="62" y="247"/>
                    <a:pt x="76" y="250"/>
                  </a:cubicBezTo>
                  <a:cubicBezTo>
                    <a:pt x="90" y="253"/>
                    <a:pt x="106" y="255"/>
                    <a:pt x="123" y="256"/>
                  </a:cubicBezTo>
                  <a:cubicBezTo>
                    <a:pt x="141" y="258"/>
                    <a:pt x="160" y="259"/>
                    <a:pt x="179" y="260"/>
                  </a:cubicBezTo>
                  <a:cubicBezTo>
                    <a:pt x="198" y="262"/>
                    <a:pt x="218" y="263"/>
                    <a:pt x="237" y="266"/>
                  </a:cubicBezTo>
                  <a:cubicBezTo>
                    <a:pt x="257" y="268"/>
                    <a:pt x="274" y="274"/>
                    <a:pt x="290" y="282"/>
                  </a:cubicBezTo>
                  <a:cubicBezTo>
                    <a:pt x="306" y="291"/>
                    <a:pt x="319" y="301"/>
                    <a:pt x="331" y="313"/>
                  </a:cubicBezTo>
                  <a:cubicBezTo>
                    <a:pt x="342" y="324"/>
                    <a:pt x="351" y="337"/>
                    <a:pt x="357" y="351"/>
                  </a:cubicBezTo>
                  <a:cubicBezTo>
                    <a:pt x="364" y="364"/>
                    <a:pt x="367" y="377"/>
                    <a:pt x="368" y="390"/>
                  </a:cubicBezTo>
                  <a:cubicBezTo>
                    <a:pt x="368" y="397"/>
                    <a:pt x="365" y="403"/>
                    <a:pt x="361" y="407"/>
                  </a:cubicBezTo>
                  <a:cubicBezTo>
                    <a:pt x="357" y="412"/>
                    <a:pt x="351" y="416"/>
                    <a:pt x="343" y="420"/>
                  </a:cubicBezTo>
                  <a:cubicBezTo>
                    <a:pt x="336" y="423"/>
                    <a:pt x="327" y="425"/>
                    <a:pt x="317" y="426"/>
                  </a:cubicBezTo>
                  <a:cubicBezTo>
                    <a:pt x="307" y="428"/>
                    <a:pt x="296" y="429"/>
                    <a:pt x="285" y="429"/>
                  </a:cubicBezTo>
                  <a:cubicBezTo>
                    <a:pt x="276" y="429"/>
                    <a:pt x="267" y="428"/>
                    <a:pt x="258" y="427"/>
                  </a:cubicBezTo>
                  <a:cubicBezTo>
                    <a:pt x="249" y="427"/>
                    <a:pt x="240" y="425"/>
                    <a:pt x="232" y="424"/>
                  </a:cubicBezTo>
                  <a:cubicBezTo>
                    <a:pt x="224" y="422"/>
                    <a:pt x="216" y="420"/>
                    <a:pt x="209" y="418"/>
                  </a:cubicBezTo>
                  <a:cubicBezTo>
                    <a:pt x="202" y="415"/>
                    <a:pt x="196" y="413"/>
                    <a:pt x="191" y="410"/>
                  </a:cubicBezTo>
                  <a:cubicBezTo>
                    <a:pt x="184" y="406"/>
                    <a:pt x="178" y="403"/>
                    <a:pt x="171" y="401"/>
                  </a:cubicBezTo>
                  <a:cubicBezTo>
                    <a:pt x="165" y="398"/>
                    <a:pt x="158" y="396"/>
                    <a:pt x="152" y="395"/>
                  </a:cubicBezTo>
                  <a:cubicBezTo>
                    <a:pt x="145" y="393"/>
                    <a:pt x="139" y="392"/>
                    <a:pt x="133" y="391"/>
                  </a:cubicBezTo>
                  <a:cubicBezTo>
                    <a:pt x="127" y="391"/>
                    <a:pt x="121" y="390"/>
                    <a:pt x="115" y="390"/>
                  </a:cubicBezTo>
                  <a:cubicBezTo>
                    <a:pt x="111" y="390"/>
                    <a:pt x="107" y="391"/>
                    <a:pt x="104" y="391"/>
                  </a:cubicBezTo>
                  <a:cubicBezTo>
                    <a:pt x="100" y="391"/>
                    <a:pt x="96" y="392"/>
                    <a:pt x="93" y="392"/>
                  </a:cubicBezTo>
                  <a:cubicBezTo>
                    <a:pt x="90" y="393"/>
                    <a:pt x="86" y="394"/>
                    <a:pt x="83" y="394"/>
                  </a:cubicBezTo>
                  <a:cubicBezTo>
                    <a:pt x="81" y="395"/>
                    <a:pt x="78" y="396"/>
                    <a:pt x="75" y="397"/>
                  </a:cubicBezTo>
                  <a:cubicBezTo>
                    <a:pt x="69" y="399"/>
                    <a:pt x="67" y="407"/>
                    <a:pt x="68" y="419"/>
                  </a:cubicBezTo>
                  <a:cubicBezTo>
                    <a:pt x="69" y="431"/>
                    <a:pt x="72" y="446"/>
                    <a:pt x="76" y="464"/>
                  </a:cubicBezTo>
                  <a:cubicBezTo>
                    <a:pt x="81" y="481"/>
                    <a:pt x="87" y="500"/>
                    <a:pt x="93" y="518"/>
                  </a:cubicBezTo>
                  <a:cubicBezTo>
                    <a:pt x="99" y="537"/>
                    <a:pt x="104" y="555"/>
                    <a:pt x="109" y="570"/>
                  </a:cubicBezTo>
                  <a:cubicBezTo>
                    <a:pt x="113" y="584"/>
                    <a:pt x="118" y="594"/>
                    <a:pt x="124" y="603"/>
                  </a:cubicBezTo>
                  <a:cubicBezTo>
                    <a:pt x="130" y="611"/>
                    <a:pt x="137" y="618"/>
                    <a:pt x="145" y="622"/>
                  </a:cubicBezTo>
                  <a:cubicBezTo>
                    <a:pt x="152" y="626"/>
                    <a:pt x="161" y="629"/>
                    <a:pt x="170" y="630"/>
                  </a:cubicBezTo>
                  <a:cubicBezTo>
                    <a:pt x="179" y="632"/>
                    <a:pt x="190" y="632"/>
                    <a:pt x="200" y="632"/>
                  </a:cubicBezTo>
                  <a:cubicBezTo>
                    <a:pt x="201" y="632"/>
                    <a:pt x="202" y="632"/>
                    <a:pt x="203" y="632"/>
                  </a:cubicBezTo>
                  <a:cubicBezTo>
                    <a:pt x="204" y="632"/>
                    <a:pt x="205" y="632"/>
                    <a:pt x="206" y="632"/>
                  </a:cubicBezTo>
                  <a:cubicBezTo>
                    <a:pt x="207" y="632"/>
                    <a:pt x="208" y="632"/>
                    <a:pt x="209" y="632"/>
                  </a:cubicBezTo>
                  <a:cubicBezTo>
                    <a:pt x="210" y="632"/>
                    <a:pt x="211" y="632"/>
                    <a:pt x="212" y="632"/>
                  </a:cubicBezTo>
                  <a:cubicBezTo>
                    <a:pt x="224" y="632"/>
                    <a:pt x="288" y="631"/>
                    <a:pt x="382" y="630"/>
                  </a:cubicBezTo>
                  <a:cubicBezTo>
                    <a:pt x="476" y="629"/>
                    <a:pt x="598" y="628"/>
                    <a:pt x="725" y="627"/>
                  </a:cubicBezTo>
                  <a:cubicBezTo>
                    <a:pt x="853" y="626"/>
                    <a:pt x="985" y="625"/>
                    <a:pt x="1098" y="624"/>
                  </a:cubicBezTo>
                  <a:cubicBezTo>
                    <a:pt x="1211" y="623"/>
                    <a:pt x="1304" y="622"/>
                    <a:pt x="1353" y="622"/>
                  </a:cubicBezTo>
                  <a:cubicBezTo>
                    <a:pt x="1355" y="622"/>
                    <a:pt x="1357" y="622"/>
                    <a:pt x="1359" y="622"/>
                  </a:cubicBezTo>
                  <a:cubicBezTo>
                    <a:pt x="1360" y="622"/>
                    <a:pt x="1362" y="622"/>
                    <a:pt x="1364" y="622"/>
                  </a:cubicBezTo>
                  <a:cubicBezTo>
                    <a:pt x="1366" y="622"/>
                    <a:pt x="1368" y="622"/>
                    <a:pt x="1370" y="622"/>
                  </a:cubicBezTo>
                  <a:cubicBezTo>
                    <a:pt x="1371" y="622"/>
                    <a:pt x="1373" y="622"/>
                    <a:pt x="1375" y="622"/>
                  </a:cubicBezTo>
                  <a:cubicBezTo>
                    <a:pt x="1411" y="622"/>
                    <a:pt x="1435" y="620"/>
                    <a:pt x="1452" y="617"/>
                  </a:cubicBezTo>
                  <a:cubicBezTo>
                    <a:pt x="1469" y="614"/>
                    <a:pt x="1478" y="609"/>
                    <a:pt x="1482" y="605"/>
                  </a:cubicBezTo>
                  <a:cubicBezTo>
                    <a:pt x="1487" y="601"/>
                    <a:pt x="1487" y="597"/>
                    <a:pt x="1486" y="59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dddd">
                    <a:alpha val="0"/>
                  </a:srgbClr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30"/>
            <p:cNvSpPr/>
            <p:nvPr/>
          </p:nvSpPr>
          <p:spPr>
            <a:xfrm flipH="1">
              <a:off x="2723400" y="4305240"/>
              <a:ext cx="165240" cy="419040"/>
            </a:xfrm>
            <a:custGeom>
              <a:avLst/>
              <a:gdLst/>
              <a:ahLst/>
              <a:rect l="l" t="t" r="r" b="b"/>
              <a:pathLst>
                <a:path w="111" h="284">
                  <a:moveTo>
                    <a:pt x="80" y="284"/>
                  </a:moveTo>
                  <a:cubicBezTo>
                    <a:pt x="111" y="80"/>
                    <a:pt x="111" y="80"/>
                    <a:pt x="111" y="80"/>
                  </a:cubicBezTo>
                  <a:cubicBezTo>
                    <a:pt x="111" y="79"/>
                    <a:pt x="111" y="77"/>
                    <a:pt x="110" y="76"/>
                  </a:cubicBezTo>
                  <a:cubicBezTo>
                    <a:pt x="110" y="74"/>
                    <a:pt x="109" y="72"/>
                    <a:pt x="108" y="71"/>
                  </a:cubicBezTo>
                  <a:cubicBezTo>
                    <a:pt x="107" y="69"/>
                    <a:pt x="106" y="68"/>
                    <a:pt x="104" y="66"/>
                  </a:cubicBezTo>
                  <a:cubicBezTo>
                    <a:pt x="103" y="64"/>
                    <a:pt x="101" y="63"/>
                    <a:pt x="99" y="61"/>
                  </a:cubicBezTo>
                  <a:cubicBezTo>
                    <a:pt x="94" y="58"/>
                    <a:pt x="86" y="53"/>
                    <a:pt x="79" y="48"/>
                  </a:cubicBezTo>
                  <a:cubicBezTo>
                    <a:pt x="71" y="44"/>
                    <a:pt x="62" y="38"/>
                    <a:pt x="55" y="33"/>
                  </a:cubicBezTo>
                  <a:cubicBezTo>
                    <a:pt x="47" y="27"/>
                    <a:pt x="40" y="22"/>
                    <a:pt x="35" y="16"/>
                  </a:cubicBezTo>
                  <a:cubicBezTo>
                    <a:pt x="31" y="11"/>
                    <a:pt x="28" y="5"/>
                    <a:pt x="29" y="0"/>
                  </a:cubicBezTo>
                  <a:cubicBezTo>
                    <a:pt x="1" y="198"/>
                    <a:pt x="1" y="198"/>
                    <a:pt x="1" y="198"/>
                  </a:cubicBezTo>
                  <a:cubicBezTo>
                    <a:pt x="0" y="204"/>
                    <a:pt x="2" y="209"/>
                    <a:pt x="7" y="215"/>
                  </a:cubicBezTo>
                  <a:cubicBezTo>
                    <a:pt x="12" y="221"/>
                    <a:pt x="18" y="227"/>
                    <a:pt x="26" y="233"/>
                  </a:cubicBezTo>
                  <a:cubicBezTo>
                    <a:pt x="33" y="239"/>
                    <a:pt x="41" y="245"/>
                    <a:pt x="49" y="250"/>
                  </a:cubicBezTo>
                  <a:cubicBezTo>
                    <a:pt x="56" y="255"/>
                    <a:pt x="63" y="260"/>
                    <a:pt x="68" y="263"/>
                  </a:cubicBezTo>
                  <a:cubicBezTo>
                    <a:pt x="70" y="265"/>
                    <a:pt x="72" y="267"/>
                    <a:pt x="74" y="269"/>
                  </a:cubicBezTo>
                  <a:cubicBezTo>
                    <a:pt x="76" y="270"/>
                    <a:pt x="77" y="272"/>
                    <a:pt x="78" y="274"/>
                  </a:cubicBezTo>
                  <a:cubicBezTo>
                    <a:pt x="79" y="275"/>
                    <a:pt x="79" y="277"/>
                    <a:pt x="80" y="279"/>
                  </a:cubicBezTo>
                  <a:cubicBezTo>
                    <a:pt x="80" y="280"/>
                    <a:pt x="80" y="280"/>
                    <a:pt x="80" y="281"/>
                  </a:cubicBezTo>
                  <a:cubicBezTo>
                    <a:pt x="80" y="282"/>
                    <a:pt x="80" y="283"/>
                    <a:pt x="80" y="28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31"/>
            <p:cNvSpPr/>
            <p:nvPr/>
          </p:nvSpPr>
          <p:spPr>
            <a:xfrm flipH="1">
              <a:off x="1119240" y="4419360"/>
              <a:ext cx="2233440" cy="1130400"/>
            </a:xfrm>
            <a:custGeom>
              <a:avLst/>
              <a:gdLst/>
              <a:ahLst/>
              <a:rect l="l" t="t" r="r" b="b"/>
              <a:pathLst>
                <a:path w="1509" h="763">
                  <a:moveTo>
                    <a:pt x="1508" y="497"/>
                  </a:moveTo>
                  <a:cubicBezTo>
                    <a:pt x="1508" y="497"/>
                    <a:pt x="1508" y="497"/>
                    <a:pt x="1508" y="497"/>
                  </a:cubicBezTo>
                  <a:cubicBezTo>
                    <a:pt x="1508" y="498"/>
                    <a:pt x="1507" y="499"/>
                    <a:pt x="1507" y="499"/>
                  </a:cubicBezTo>
                  <a:cubicBezTo>
                    <a:pt x="1507" y="499"/>
                    <a:pt x="1507" y="499"/>
                    <a:pt x="1507" y="499"/>
                  </a:cubicBezTo>
                  <a:cubicBezTo>
                    <a:pt x="1507" y="500"/>
                    <a:pt x="1506" y="500"/>
                    <a:pt x="1506" y="501"/>
                  </a:cubicBezTo>
                  <a:cubicBezTo>
                    <a:pt x="1505" y="501"/>
                    <a:pt x="1505" y="502"/>
                    <a:pt x="1504" y="502"/>
                  </a:cubicBezTo>
                  <a:cubicBezTo>
                    <a:pt x="1504" y="502"/>
                    <a:pt x="1503" y="503"/>
                    <a:pt x="1503" y="503"/>
                  </a:cubicBezTo>
                  <a:cubicBezTo>
                    <a:pt x="1502" y="503"/>
                    <a:pt x="1502" y="503"/>
                    <a:pt x="1502" y="503"/>
                  </a:cubicBezTo>
                  <a:cubicBezTo>
                    <a:pt x="1502" y="504"/>
                    <a:pt x="1502" y="504"/>
                    <a:pt x="1502" y="504"/>
                  </a:cubicBezTo>
                  <a:cubicBezTo>
                    <a:pt x="1501" y="504"/>
                    <a:pt x="1501" y="504"/>
                    <a:pt x="1501" y="504"/>
                  </a:cubicBezTo>
                  <a:cubicBezTo>
                    <a:pt x="1500" y="505"/>
                    <a:pt x="1500" y="505"/>
                    <a:pt x="1500" y="505"/>
                  </a:cubicBezTo>
                  <a:cubicBezTo>
                    <a:pt x="1500" y="505"/>
                    <a:pt x="1499" y="505"/>
                    <a:pt x="1499" y="506"/>
                  </a:cubicBezTo>
                  <a:cubicBezTo>
                    <a:pt x="1498" y="506"/>
                    <a:pt x="1498" y="506"/>
                    <a:pt x="1498" y="506"/>
                  </a:cubicBezTo>
                  <a:cubicBezTo>
                    <a:pt x="1497" y="506"/>
                    <a:pt x="1497" y="506"/>
                    <a:pt x="1496" y="507"/>
                  </a:cubicBezTo>
                  <a:cubicBezTo>
                    <a:pt x="1496" y="507"/>
                    <a:pt x="1496" y="507"/>
                    <a:pt x="1496" y="507"/>
                  </a:cubicBezTo>
                  <a:cubicBezTo>
                    <a:pt x="1495" y="507"/>
                    <a:pt x="1494" y="508"/>
                    <a:pt x="1493" y="508"/>
                  </a:cubicBezTo>
                  <a:cubicBezTo>
                    <a:pt x="1492" y="508"/>
                    <a:pt x="1492" y="508"/>
                    <a:pt x="1492" y="508"/>
                  </a:cubicBezTo>
                  <a:cubicBezTo>
                    <a:pt x="1492" y="508"/>
                    <a:pt x="1491" y="509"/>
                    <a:pt x="1491" y="509"/>
                  </a:cubicBezTo>
                  <a:cubicBezTo>
                    <a:pt x="1490" y="509"/>
                    <a:pt x="1490" y="509"/>
                    <a:pt x="1489" y="509"/>
                  </a:cubicBezTo>
                  <a:cubicBezTo>
                    <a:pt x="1489" y="509"/>
                    <a:pt x="1488" y="510"/>
                    <a:pt x="1488" y="510"/>
                  </a:cubicBezTo>
                  <a:cubicBezTo>
                    <a:pt x="1487" y="510"/>
                    <a:pt x="1487" y="510"/>
                    <a:pt x="1486" y="510"/>
                  </a:cubicBezTo>
                  <a:cubicBezTo>
                    <a:pt x="1486" y="510"/>
                    <a:pt x="1485" y="510"/>
                    <a:pt x="1484" y="511"/>
                  </a:cubicBezTo>
                  <a:cubicBezTo>
                    <a:pt x="1484" y="511"/>
                    <a:pt x="1483" y="511"/>
                    <a:pt x="1483" y="511"/>
                  </a:cubicBezTo>
                  <a:cubicBezTo>
                    <a:pt x="1482" y="511"/>
                    <a:pt x="1481" y="511"/>
                    <a:pt x="1481" y="512"/>
                  </a:cubicBezTo>
                  <a:cubicBezTo>
                    <a:pt x="1480" y="512"/>
                    <a:pt x="1480" y="512"/>
                    <a:pt x="1479" y="512"/>
                  </a:cubicBezTo>
                  <a:cubicBezTo>
                    <a:pt x="1479" y="512"/>
                    <a:pt x="1478" y="512"/>
                    <a:pt x="1477" y="512"/>
                  </a:cubicBezTo>
                  <a:cubicBezTo>
                    <a:pt x="1476" y="512"/>
                    <a:pt x="1476" y="513"/>
                    <a:pt x="1475" y="513"/>
                  </a:cubicBezTo>
                  <a:cubicBezTo>
                    <a:pt x="1474" y="513"/>
                    <a:pt x="1474" y="513"/>
                    <a:pt x="1474" y="513"/>
                  </a:cubicBezTo>
                  <a:cubicBezTo>
                    <a:pt x="1473" y="513"/>
                    <a:pt x="1472" y="513"/>
                    <a:pt x="1471" y="513"/>
                  </a:cubicBezTo>
                  <a:cubicBezTo>
                    <a:pt x="1471" y="513"/>
                    <a:pt x="1470" y="514"/>
                    <a:pt x="1470" y="514"/>
                  </a:cubicBezTo>
                  <a:cubicBezTo>
                    <a:pt x="1469" y="514"/>
                    <a:pt x="1468" y="514"/>
                    <a:pt x="1467" y="514"/>
                  </a:cubicBezTo>
                  <a:cubicBezTo>
                    <a:pt x="1467" y="514"/>
                    <a:pt x="1466" y="514"/>
                    <a:pt x="1465" y="514"/>
                  </a:cubicBezTo>
                  <a:cubicBezTo>
                    <a:pt x="1465" y="514"/>
                    <a:pt x="1464" y="514"/>
                    <a:pt x="1463" y="515"/>
                  </a:cubicBezTo>
                  <a:cubicBezTo>
                    <a:pt x="1462" y="515"/>
                    <a:pt x="1462" y="515"/>
                    <a:pt x="1461" y="515"/>
                  </a:cubicBezTo>
                  <a:cubicBezTo>
                    <a:pt x="1460" y="515"/>
                    <a:pt x="1459" y="515"/>
                    <a:pt x="1458" y="515"/>
                  </a:cubicBezTo>
                  <a:cubicBezTo>
                    <a:pt x="1458" y="515"/>
                    <a:pt x="1457" y="515"/>
                    <a:pt x="1456" y="515"/>
                  </a:cubicBezTo>
                  <a:cubicBezTo>
                    <a:pt x="1455" y="515"/>
                    <a:pt x="1454" y="516"/>
                    <a:pt x="1454" y="516"/>
                  </a:cubicBezTo>
                  <a:cubicBezTo>
                    <a:pt x="1453" y="516"/>
                    <a:pt x="1452" y="516"/>
                    <a:pt x="1451" y="516"/>
                  </a:cubicBezTo>
                  <a:cubicBezTo>
                    <a:pt x="1450" y="516"/>
                    <a:pt x="1449" y="516"/>
                    <a:pt x="1448" y="516"/>
                  </a:cubicBezTo>
                  <a:cubicBezTo>
                    <a:pt x="1447" y="516"/>
                    <a:pt x="1447" y="516"/>
                    <a:pt x="1446" y="516"/>
                  </a:cubicBezTo>
                  <a:cubicBezTo>
                    <a:pt x="1445" y="516"/>
                    <a:pt x="1444" y="516"/>
                    <a:pt x="1443" y="517"/>
                  </a:cubicBezTo>
                  <a:cubicBezTo>
                    <a:pt x="1442" y="517"/>
                    <a:pt x="1441" y="517"/>
                    <a:pt x="1440" y="517"/>
                  </a:cubicBezTo>
                  <a:cubicBezTo>
                    <a:pt x="1439" y="517"/>
                    <a:pt x="1438" y="517"/>
                    <a:pt x="1437" y="517"/>
                  </a:cubicBezTo>
                  <a:cubicBezTo>
                    <a:pt x="1436" y="517"/>
                    <a:pt x="1435" y="517"/>
                    <a:pt x="1434" y="517"/>
                  </a:cubicBezTo>
                  <a:cubicBezTo>
                    <a:pt x="1433" y="517"/>
                    <a:pt x="1432" y="517"/>
                    <a:pt x="1431" y="517"/>
                  </a:cubicBezTo>
                  <a:cubicBezTo>
                    <a:pt x="1430" y="517"/>
                    <a:pt x="1429" y="517"/>
                    <a:pt x="1427" y="517"/>
                  </a:cubicBezTo>
                  <a:cubicBezTo>
                    <a:pt x="1427" y="517"/>
                    <a:pt x="1426" y="517"/>
                    <a:pt x="1425" y="518"/>
                  </a:cubicBezTo>
                  <a:cubicBezTo>
                    <a:pt x="1424" y="518"/>
                    <a:pt x="1422" y="518"/>
                    <a:pt x="1421" y="518"/>
                  </a:cubicBezTo>
                  <a:cubicBezTo>
                    <a:pt x="1419" y="518"/>
                    <a:pt x="1418" y="518"/>
                    <a:pt x="1416" y="518"/>
                  </a:cubicBezTo>
                  <a:cubicBezTo>
                    <a:pt x="1415" y="518"/>
                    <a:pt x="1415" y="518"/>
                    <a:pt x="1414" y="518"/>
                  </a:cubicBezTo>
                  <a:cubicBezTo>
                    <a:pt x="1411" y="518"/>
                    <a:pt x="1409" y="518"/>
                    <a:pt x="1407" y="518"/>
                  </a:cubicBezTo>
                  <a:cubicBezTo>
                    <a:pt x="1406" y="518"/>
                    <a:pt x="1406" y="518"/>
                    <a:pt x="1406" y="518"/>
                  </a:cubicBezTo>
                  <a:cubicBezTo>
                    <a:pt x="1404" y="518"/>
                    <a:pt x="1401" y="518"/>
                    <a:pt x="1398" y="518"/>
                  </a:cubicBezTo>
                  <a:cubicBezTo>
                    <a:pt x="1396" y="518"/>
                    <a:pt x="1394" y="518"/>
                    <a:pt x="1393" y="518"/>
                  </a:cubicBezTo>
                  <a:cubicBezTo>
                    <a:pt x="1391" y="518"/>
                    <a:pt x="1389" y="518"/>
                    <a:pt x="1387" y="518"/>
                  </a:cubicBezTo>
                  <a:cubicBezTo>
                    <a:pt x="1385" y="518"/>
                    <a:pt x="1383" y="518"/>
                    <a:pt x="1382" y="518"/>
                  </a:cubicBezTo>
                  <a:cubicBezTo>
                    <a:pt x="1380" y="518"/>
                    <a:pt x="1378" y="518"/>
                    <a:pt x="1376" y="518"/>
                  </a:cubicBezTo>
                  <a:cubicBezTo>
                    <a:pt x="1327" y="518"/>
                    <a:pt x="1234" y="519"/>
                    <a:pt x="1121" y="520"/>
                  </a:cubicBezTo>
                  <a:cubicBezTo>
                    <a:pt x="1008" y="521"/>
                    <a:pt x="876" y="522"/>
                    <a:pt x="748" y="523"/>
                  </a:cubicBezTo>
                  <a:cubicBezTo>
                    <a:pt x="621" y="524"/>
                    <a:pt x="499" y="525"/>
                    <a:pt x="405" y="526"/>
                  </a:cubicBezTo>
                  <a:cubicBezTo>
                    <a:pt x="311" y="527"/>
                    <a:pt x="247" y="528"/>
                    <a:pt x="235" y="528"/>
                  </a:cubicBezTo>
                  <a:cubicBezTo>
                    <a:pt x="234" y="528"/>
                    <a:pt x="233" y="528"/>
                    <a:pt x="232" y="528"/>
                  </a:cubicBezTo>
                  <a:cubicBezTo>
                    <a:pt x="231" y="528"/>
                    <a:pt x="230" y="528"/>
                    <a:pt x="229" y="528"/>
                  </a:cubicBezTo>
                  <a:cubicBezTo>
                    <a:pt x="228" y="528"/>
                    <a:pt x="227" y="528"/>
                    <a:pt x="226" y="528"/>
                  </a:cubicBezTo>
                  <a:cubicBezTo>
                    <a:pt x="225" y="528"/>
                    <a:pt x="224" y="528"/>
                    <a:pt x="223" y="528"/>
                  </a:cubicBezTo>
                  <a:cubicBezTo>
                    <a:pt x="221" y="528"/>
                    <a:pt x="218" y="528"/>
                    <a:pt x="216" y="528"/>
                  </a:cubicBezTo>
                  <a:cubicBezTo>
                    <a:pt x="215" y="528"/>
                    <a:pt x="215" y="528"/>
                    <a:pt x="215" y="528"/>
                  </a:cubicBezTo>
                  <a:cubicBezTo>
                    <a:pt x="213" y="528"/>
                    <a:pt x="210" y="528"/>
                    <a:pt x="208" y="528"/>
                  </a:cubicBezTo>
                  <a:cubicBezTo>
                    <a:pt x="208" y="528"/>
                    <a:pt x="208" y="528"/>
                    <a:pt x="208" y="528"/>
                  </a:cubicBezTo>
                  <a:cubicBezTo>
                    <a:pt x="205" y="528"/>
                    <a:pt x="203" y="527"/>
                    <a:pt x="200" y="527"/>
                  </a:cubicBezTo>
                  <a:cubicBezTo>
                    <a:pt x="200" y="527"/>
                    <a:pt x="200" y="527"/>
                    <a:pt x="200" y="527"/>
                  </a:cubicBezTo>
                  <a:cubicBezTo>
                    <a:pt x="198" y="527"/>
                    <a:pt x="196" y="527"/>
                    <a:pt x="193" y="526"/>
                  </a:cubicBezTo>
                  <a:cubicBezTo>
                    <a:pt x="193" y="526"/>
                    <a:pt x="193" y="526"/>
                    <a:pt x="193" y="526"/>
                  </a:cubicBezTo>
                  <a:cubicBezTo>
                    <a:pt x="188" y="525"/>
                    <a:pt x="184" y="524"/>
                    <a:pt x="180" y="523"/>
                  </a:cubicBezTo>
                  <a:cubicBezTo>
                    <a:pt x="180" y="523"/>
                    <a:pt x="180" y="523"/>
                    <a:pt x="180" y="523"/>
                  </a:cubicBezTo>
                  <a:cubicBezTo>
                    <a:pt x="178" y="522"/>
                    <a:pt x="176" y="522"/>
                    <a:pt x="174" y="521"/>
                  </a:cubicBezTo>
                  <a:cubicBezTo>
                    <a:pt x="174" y="521"/>
                    <a:pt x="174" y="521"/>
                    <a:pt x="174" y="521"/>
                  </a:cubicBezTo>
                  <a:cubicBezTo>
                    <a:pt x="172" y="520"/>
                    <a:pt x="170" y="519"/>
                    <a:pt x="168" y="518"/>
                  </a:cubicBezTo>
                  <a:cubicBezTo>
                    <a:pt x="168" y="518"/>
                    <a:pt x="167" y="518"/>
                    <a:pt x="167" y="517"/>
                  </a:cubicBezTo>
                  <a:cubicBezTo>
                    <a:pt x="166" y="517"/>
                    <a:pt x="166" y="517"/>
                    <a:pt x="166" y="517"/>
                  </a:cubicBezTo>
                  <a:cubicBezTo>
                    <a:pt x="165" y="516"/>
                    <a:pt x="165" y="516"/>
                    <a:pt x="164" y="516"/>
                  </a:cubicBezTo>
                  <a:cubicBezTo>
                    <a:pt x="164" y="515"/>
                    <a:pt x="163" y="515"/>
                    <a:pt x="163" y="515"/>
                  </a:cubicBezTo>
                  <a:cubicBezTo>
                    <a:pt x="162" y="514"/>
                    <a:pt x="162" y="514"/>
                    <a:pt x="161" y="513"/>
                  </a:cubicBezTo>
                  <a:cubicBezTo>
                    <a:pt x="161" y="513"/>
                    <a:pt x="160" y="513"/>
                    <a:pt x="160" y="512"/>
                  </a:cubicBezTo>
                  <a:cubicBezTo>
                    <a:pt x="159" y="512"/>
                    <a:pt x="159" y="512"/>
                    <a:pt x="158" y="511"/>
                  </a:cubicBezTo>
                  <a:cubicBezTo>
                    <a:pt x="158" y="511"/>
                    <a:pt x="157" y="510"/>
                    <a:pt x="157" y="510"/>
                  </a:cubicBezTo>
                  <a:cubicBezTo>
                    <a:pt x="156" y="510"/>
                    <a:pt x="156" y="509"/>
                    <a:pt x="155" y="508"/>
                  </a:cubicBezTo>
                  <a:cubicBezTo>
                    <a:pt x="154" y="508"/>
                    <a:pt x="154" y="508"/>
                    <a:pt x="154" y="508"/>
                  </a:cubicBezTo>
                  <a:cubicBezTo>
                    <a:pt x="154" y="507"/>
                    <a:pt x="153" y="506"/>
                    <a:pt x="152" y="505"/>
                  </a:cubicBezTo>
                  <a:cubicBezTo>
                    <a:pt x="151" y="504"/>
                    <a:pt x="151" y="504"/>
                    <a:pt x="151" y="504"/>
                  </a:cubicBezTo>
                  <a:cubicBezTo>
                    <a:pt x="151" y="503"/>
                    <a:pt x="150" y="503"/>
                    <a:pt x="149" y="502"/>
                  </a:cubicBezTo>
                  <a:cubicBezTo>
                    <a:pt x="149" y="501"/>
                    <a:pt x="149" y="501"/>
                    <a:pt x="148" y="501"/>
                  </a:cubicBezTo>
                  <a:cubicBezTo>
                    <a:pt x="148" y="500"/>
                    <a:pt x="147" y="499"/>
                    <a:pt x="147" y="498"/>
                  </a:cubicBezTo>
                  <a:cubicBezTo>
                    <a:pt x="147" y="498"/>
                    <a:pt x="146" y="498"/>
                    <a:pt x="146" y="497"/>
                  </a:cubicBezTo>
                  <a:cubicBezTo>
                    <a:pt x="146" y="496"/>
                    <a:pt x="145" y="496"/>
                    <a:pt x="145" y="495"/>
                  </a:cubicBezTo>
                  <a:cubicBezTo>
                    <a:pt x="144" y="494"/>
                    <a:pt x="144" y="494"/>
                    <a:pt x="144" y="493"/>
                  </a:cubicBezTo>
                  <a:cubicBezTo>
                    <a:pt x="143" y="493"/>
                    <a:pt x="143" y="492"/>
                    <a:pt x="142" y="491"/>
                  </a:cubicBezTo>
                  <a:cubicBezTo>
                    <a:pt x="142" y="491"/>
                    <a:pt x="142" y="490"/>
                    <a:pt x="142" y="490"/>
                  </a:cubicBezTo>
                  <a:cubicBezTo>
                    <a:pt x="141" y="489"/>
                    <a:pt x="141" y="488"/>
                    <a:pt x="140" y="487"/>
                  </a:cubicBezTo>
                  <a:cubicBezTo>
                    <a:pt x="140" y="486"/>
                    <a:pt x="140" y="486"/>
                    <a:pt x="139" y="485"/>
                  </a:cubicBezTo>
                  <a:cubicBezTo>
                    <a:pt x="139" y="484"/>
                    <a:pt x="139" y="484"/>
                    <a:pt x="138" y="483"/>
                  </a:cubicBezTo>
                  <a:cubicBezTo>
                    <a:pt x="138" y="482"/>
                    <a:pt x="138" y="481"/>
                    <a:pt x="137" y="481"/>
                  </a:cubicBezTo>
                  <a:cubicBezTo>
                    <a:pt x="137" y="480"/>
                    <a:pt x="137" y="479"/>
                    <a:pt x="136" y="478"/>
                  </a:cubicBezTo>
                  <a:cubicBezTo>
                    <a:pt x="136" y="477"/>
                    <a:pt x="136" y="477"/>
                    <a:pt x="136" y="476"/>
                  </a:cubicBezTo>
                  <a:cubicBezTo>
                    <a:pt x="135" y="475"/>
                    <a:pt x="135" y="474"/>
                    <a:pt x="134" y="473"/>
                  </a:cubicBezTo>
                  <a:cubicBezTo>
                    <a:pt x="134" y="472"/>
                    <a:pt x="134" y="472"/>
                    <a:pt x="134" y="471"/>
                  </a:cubicBezTo>
                  <a:cubicBezTo>
                    <a:pt x="133" y="469"/>
                    <a:pt x="133" y="468"/>
                    <a:pt x="132" y="466"/>
                  </a:cubicBezTo>
                  <a:cubicBezTo>
                    <a:pt x="128" y="454"/>
                    <a:pt x="124" y="439"/>
                    <a:pt x="119" y="424"/>
                  </a:cubicBezTo>
                  <a:cubicBezTo>
                    <a:pt x="114" y="409"/>
                    <a:pt x="109" y="393"/>
                    <a:pt x="104" y="378"/>
                  </a:cubicBezTo>
                  <a:cubicBezTo>
                    <a:pt x="103" y="373"/>
                    <a:pt x="101" y="368"/>
                    <a:pt x="100" y="363"/>
                  </a:cubicBezTo>
                  <a:cubicBezTo>
                    <a:pt x="101" y="363"/>
                    <a:pt x="101" y="363"/>
                    <a:pt x="101" y="363"/>
                  </a:cubicBezTo>
                  <a:cubicBezTo>
                    <a:pt x="102" y="363"/>
                    <a:pt x="103" y="363"/>
                    <a:pt x="104" y="364"/>
                  </a:cubicBezTo>
                  <a:cubicBezTo>
                    <a:pt x="105" y="364"/>
                    <a:pt x="106" y="364"/>
                    <a:pt x="106" y="364"/>
                  </a:cubicBezTo>
                  <a:cubicBezTo>
                    <a:pt x="107" y="364"/>
                    <a:pt x="107" y="364"/>
                    <a:pt x="107" y="364"/>
                  </a:cubicBezTo>
                  <a:cubicBezTo>
                    <a:pt x="108" y="364"/>
                    <a:pt x="108" y="364"/>
                    <a:pt x="109" y="364"/>
                  </a:cubicBezTo>
                  <a:cubicBezTo>
                    <a:pt x="110" y="364"/>
                    <a:pt x="112" y="364"/>
                    <a:pt x="113" y="365"/>
                  </a:cubicBezTo>
                  <a:cubicBezTo>
                    <a:pt x="115" y="365"/>
                    <a:pt x="116" y="365"/>
                    <a:pt x="118" y="365"/>
                  </a:cubicBezTo>
                  <a:cubicBezTo>
                    <a:pt x="118" y="365"/>
                    <a:pt x="119" y="365"/>
                    <a:pt x="119" y="365"/>
                  </a:cubicBezTo>
                  <a:cubicBezTo>
                    <a:pt x="119" y="365"/>
                    <a:pt x="119" y="365"/>
                    <a:pt x="119" y="365"/>
                  </a:cubicBezTo>
                  <a:cubicBezTo>
                    <a:pt x="120" y="365"/>
                    <a:pt x="120" y="365"/>
                    <a:pt x="120" y="365"/>
                  </a:cubicBezTo>
                  <a:cubicBezTo>
                    <a:pt x="121" y="365"/>
                    <a:pt x="122" y="365"/>
                    <a:pt x="123" y="365"/>
                  </a:cubicBezTo>
                  <a:cubicBezTo>
                    <a:pt x="124" y="366"/>
                    <a:pt x="125" y="366"/>
                    <a:pt x="126" y="366"/>
                  </a:cubicBezTo>
                  <a:cubicBezTo>
                    <a:pt x="130" y="366"/>
                    <a:pt x="134" y="366"/>
                    <a:pt x="137" y="367"/>
                  </a:cubicBezTo>
                  <a:cubicBezTo>
                    <a:pt x="138" y="367"/>
                    <a:pt x="139" y="367"/>
                    <a:pt x="140" y="367"/>
                  </a:cubicBezTo>
                  <a:cubicBezTo>
                    <a:pt x="141" y="367"/>
                    <a:pt x="142" y="367"/>
                    <a:pt x="143" y="367"/>
                  </a:cubicBezTo>
                  <a:cubicBezTo>
                    <a:pt x="147" y="367"/>
                    <a:pt x="152" y="368"/>
                    <a:pt x="156" y="368"/>
                  </a:cubicBezTo>
                  <a:cubicBezTo>
                    <a:pt x="156" y="368"/>
                    <a:pt x="156" y="368"/>
                    <a:pt x="157" y="368"/>
                  </a:cubicBezTo>
                  <a:cubicBezTo>
                    <a:pt x="163" y="368"/>
                    <a:pt x="169" y="369"/>
                    <a:pt x="174" y="369"/>
                  </a:cubicBezTo>
                  <a:cubicBezTo>
                    <a:pt x="175" y="369"/>
                    <a:pt x="175" y="369"/>
                    <a:pt x="175" y="369"/>
                  </a:cubicBezTo>
                  <a:cubicBezTo>
                    <a:pt x="180" y="370"/>
                    <a:pt x="185" y="370"/>
                    <a:pt x="190" y="371"/>
                  </a:cubicBezTo>
                  <a:cubicBezTo>
                    <a:pt x="194" y="371"/>
                    <a:pt x="198" y="371"/>
                    <a:pt x="202" y="372"/>
                  </a:cubicBezTo>
                  <a:cubicBezTo>
                    <a:pt x="203" y="372"/>
                    <a:pt x="203" y="372"/>
                    <a:pt x="203" y="372"/>
                  </a:cubicBezTo>
                  <a:cubicBezTo>
                    <a:pt x="208" y="372"/>
                    <a:pt x="212" y="373"/>
                    <a:pt x="217" y="373"/>
                  </a:cubicBezTo>
                  <a:cubicBezTo>
                    <a:pt x="217" y="373"/>
                    <a:pt x="217" y="373"/>
                    <a:pt x="217" y="373"/>
                  </a:cubicBezTo>
                  <a:cubicBezTo>
                    <a:pt x="222" y="374"/>
                    <a:pt x="226" y="375"/>
                    <a:pt x="231" y="375"/>
                  </a:cubicBezTo>
                  <a:cubicBezTo>
                    <a:pt x="233" y="376"/>
                    <a:pt x="236" y="376"/>
                    <a:pt x="238" y="376"/>
                  </a:cubicBezTo>
                  <a:cubicBezTo>
                    <a:pt x="238" y="376"/>
                    <a:pt x="238" y="376"/>
                    <a:pt x="238" y="376"/>
                  </a:cubicBezTo>
                  <a:cubicBezTo>
                    <a:pt x="240" y="377"/>
                    <a:pt x="243" y="377"/>
                    <a:pt x="245" y="378"/>
                  </a:cubicBezTo>
                  <a:cubicBezTo>
                    <a:pt x="245" y="378"/>
                    <a:pt x="245" y="378"/>
                    <a:pt x="245" y="378"/>
                  </a:cubicBezTo>
                  <a:cubicBezTo>
                    <a:pt x="247" y="379"/>
                    <a:pt x="249" y="379"/>
                    <a:pt x="252" y="380"/>
                  </a:cubicBezTo>
                  <a:cubicBezTo>
                    <a:pt x="252" y="380"/>
                    <a:pt x="252" y="380"/>
                    <a:pt x="252" y="380"/>
                  </a:cubicBezTo>
                  <a:cubicBezTo>
                    <a:pt x="254" y="380"/>
                    <a:pt x="256" y="381"/>
                    <a:pt x="258" y="382"/>
                  </a:cubicBezTo>
                  <a:cubicBezTo>
                    <a:pt x="258" y="382"/>
                    <a:pt x="258" y="382"/>
                    <a:pt x="258" y="382"/>
                  </a:cubicBezTo>
                  <a:cubicBezTo>
                    <a:pt x="260" y="383"/>
                    <a:pt x="262" y="384"/>
                    <a:pt x="264" y="384"/>
                  </a:cubicBezTo>
                  <a:cubicBezTo>
                    <a:pt x="264" y="384"/>
                    <a:pt x="264" y="384"/>
                    <a:pt x="264" y="384"/>
                  </a:cubicBezTo>
                  <a:cubicBezTo>
                    <a:pt x="266" y="385"/>
                    <a:pt x="267" y="385"/>
                    <a:pt x="268" y="386"/>
                  </a:cubicBezTo>
                  <a:cubicBezTo>
                    <a:pt x="271" y="387"/>
                    <a:pt x="274" y="389"/>
                    <a:pt x="277" y="390"/>
                  </a:cubicBezTo>
                  <a:cubicBezTo>
                    <a:pt x="277" y="390"/>
                    <a:pt x="277" y="390"/>
                    <a:pt x="277" y="390"/>
                  </a:cubicBezTo>
                  <a:cubicBezTo>
                    <a:pt x="280" y="392"/>
                    <a:pt x="283" y="393"/>
                    <a:pt x="285" y="395"/>
                  </a:cubicBezTo>
                  <a:cubicBezTo>
                    <a:pt x="286" y="395"/>
                    <a:pt x="286" y="396"/>
                    <a:pt x="287" y="396"/>
                  </a:cubicBezTo>
                  <a:cubicBezTo>
                    <a:pt x="289" y="397"/>
                    <a:pt x="292" y="399"/>
                    <a:pt x="295" y="401"/>
                  </a:cubicBezTo>
                  <a:cubicBezTo>
                    <a:pt x="295" y="401"/>
                    <a:pt x="296" y="402"/>
                    <a:pt x="296" y="402"/>
                  </a:cubicBezTo>
                  <a:cubicBezTo>
                    <a:pt x="299" y="404"/>
                    <a:pt x="301" y="406"/>
                    <a:pt x="304" y="408"/>
                  </a:cubicBezTo>
                  <a:cubicBezTo>
                    <a:pt x="304" y="408"/>
                    <a:pt x="304" y="408"/>
                    <a:pt x="304" y="408"/>
                  </a:cubicBezTo>
                  <a:cubicBezTo>
                    <a:pt x="306" y="410"/>
                    <a:pt x="309" y="412"/>
                    <a:pt x="311" y="414"/>
                  </a:cubicBezTo>
                  <a:cubicBezTo>
                    <a:pt x="312" y="415"/>
                    <a:pt x="312" y="415"/>
                    <a:pt x="312" y="415"/>
                  </a:cubicBezTo>
                  <a:cubicBezTo>
                    <a:pt x="314" y="417"/>
                    <a:pt x="316" y="420"/>
                    <a:pt x="319" y="422"/>
                  </a:cubicBezTo>
                  <a:cubicBezTo>
                    <a:pt x="319" y="422"/>
                    <a:pt x="319" y="423"/>
                    <a:pt x="320" y="423"/>
                  </a:cubicBezTo>
                  <a:cubicBezTo>
                    <a:pt x="322" y="425"/>
                    <a:pt x="324" y="428"/>
                    <a:pt x="326" y="430"/>
                  </a:cubicBezTo>
                  <a:cubicBezTo>
                    <a:pt x="326" y="430"/>
                    <a:pt x="326" y="430"/>
                    <a:pt x="326" y="430"/>
                  </a:cubicBezTo>
                  <a:cubicBezTo>
                    <a:pt x="328" y="433"/>
                    <a:pt x="330" y="435"/>
                    <a:pt x="331" y="437"/>
                  </a:cubicBezTo>
                  <a:cubicBezTo>
                    <a:pt x="332" y="438"/>
                    <a:pt x="332" y="438"/>
                    <a:pt x="332" y="439"/>
                  </a:cubicBezTo>
                  <a:cubicBezTo>
                    <a:pt x="334" y="441"/>
                    <a:pt x="336" y="444"/>
                    <a:pt x="337" y="446"/>
                  </a:cubicBezTo>
                  <a:cubicBezTo>
                    <a:pt x="337" y="447"/>
                    <a:pt x="338" y="447"/>
                    <a:pt x="338" y="448"/>
                  </a:cubicBezTo>
                  <a:cubicBezTo>
                    <a:pt x="339" y="450"/>
                    <a:pt x="341" y="453"/>
                    <a:pt x="342" y="455"/>
                  </a:cubicBezTo>
                  <a:cubicBezTo>
                    <a:pt x="342" y="455"/>
                    <a:pt x="342" y="455"/>
                    <a:pt x="342" y="455"/>
                  </a:cubicBezTo>
                  <a:cubicBezTo>
                    <a:pt x="344" y="458"/>
                    <a:pt x="345" y="460"/>
                    <a:pt x="346" y="463"/>
                  </a:cubicBezTo>
                  <a:cubicBezTo>
                    <a:pt x="346" y="464"/>
                    <a:pt x="347" y="464"/>
                    <a:pt x="347" y="465"/>
                  </a:cubicBezTo>
                  <a:cubicBezTo>
                    <a:pt x="348" y="467"/>
                    <a:pt x="349" y="470"/>
                    <a:pt x="350" y="472"/>
                  </a:cubicBezTo>
                  <a:cubicBezTo>
                    <a:pt x="350" y="473"/>
                    <a:pt x="350" y="473"/>
                    <a:pt x="350" y="474"/>
                  </a:cubicBezTo>
                  <a:cubicBezTo>
                    <a:pt x="351" y="476"/>
                    <a:pt x="352" y="479"/>
                    <a:pt x="353" y="482"/>
                  </a:cubicBezTo>
                  <a:cubicBezTo>
                    <a:pt x="353" y="482"/>
                    <a:pt x="353" y="482"/>
                    <a:pt x="353" y="482"/>
                  </a:cubicBezTo>
                  <a:cubicBezTo>
                    <a:pt x="354" y="484"/>
                    <a:pt x="354" y="487"/>
                    <a:pt x="355" y="489"/>
                  </a:cubicBezTo>
                  <a:cubicBezTo>
                    <a:pt x="355" y="490"/>
                    <a:pt x="355" y="490"/>
                    <a:pt x="355" y="491"/>
                  </a:cubicBezTo>
                  <a:cubicBezTo>
                    <a:pt x="356" y="493"/>
                    <a:pt x="356" y="496"/>
                    <a:pt x="356" y="498"/>
                  </a:cubicBezTo>
                  <a:cubicBezTo>
                    <a:pt x="356" y="499"/>
                    <a:pt x="356" y="499"/>
                    <a:pt x="356" y="500"/>
                  </a:cubicBezTo>
                  <a:cubicBezTo>
                    <a:pt x="357" y="502"/>
                    <a:pt x="357" y="505"/>
                    <a:pt x="357" y="507"/>
                  </a:cubicBezTo>
                  <a:cubicBezTo>
                    <a:pt x="357" y="508"/>
                    <a:pt x="357" y="508"/>
                    <a:pt x="357" y="509"/>
                  </a:cubicBezTo>
                  <a:cubicBezTo>
                    <a:pt x="357" y="509"/>
                    <a:pt x="357" y="509"/>
                    <a:pt x="357" y="510"/>
                  </a:cubicBezTo>
                  <a:cubicBezTo>
                    <a:pt x="357" y="510"/>
                    <a:pt x="357" y="511"/>
                    <a:pt x="357" y="511"/>
                  </a:cubicBezTo>
                  <a:cubicBezTo>
                    <a:pt x="357" y="511"/>
                    <a:pt x="357" y="512"/>
                    <a:pt x="356" y="512"/>
                  </a:cubicBezTo>
                  <a:cubicBezTo>
                    <a:pt x="390" y="290"/>
                    <a:pt x="390" y="290"/>
                    <a:pt x="390" y="290"/>
                  </a:cubicBezTo>
                  <a:cubicBezTo>
                    <a:pt x="390" y="290"/>
                    <a:pt x="390" y="290"/>
                    <a:pt x="390" y="289"/>
                  </a:cubicBezTo>
                  <a:cubicBezTo>
                    <a:pt x="390" y="289"/>
                    <a:pt x="390" y="289"/>
                    <a:pt x="391" y="288"/>
                  </a:cubicBezTo>
                  <a:cubicBezTo>
                    <a:pt x="391" y="288"/>
                    <a:pt x="391" y="287"/>
                    <a:pt x="391" y="287"/>
                  </a:cubicBezTo>
                  <a:cubicBezTo>
                    <a:pt x="391" y="287"/>
                    <a:pt x="391" y="286"/>
                    <a:pt x="391" y="286"/>
                  </a:cubicBezTo>
                  <a:cubicBezTo>
                    <a:pt x="391" y="283"/>
                    <a:pt x="390" y="281"/>
                    <a:pt x="390" y="279"/>
                  </a:cubicBezTo>
                  <a:cubicBezTo>
                    <a:pt x="390" y="278"/>
                    <a:pt x="390" y="278"/>
                    <a:pt x="390" y="277"/>
                  </a:cubicBezTo>
                  <a:cubicBezTo>
                    <a:pt x="390" y="275"/>
                    <a:pt x="389" y="273"/>
                    <a:pt x="389" y="270"/>
                  </a:cubicBezTo>
                  <a:cubicBezTo>
                    <a:pt x="389" y="270"/>
                    <a:pt x="388" y="269"/>
                    <a:pt x="388" y="269"/>
                  </a:cubicBezTo>
                  <a:cubicBezTo>
                    <a:pt x="387" y="264"/>
                    <a:pt x="386" y="259"/>
                    <a:pt x="384" y="254"/>
                  </a:cubicBezTo>
                  <a:cubicBezTo>
                    <a:pt x="383" y="253"/>
                    <a:pt x="383" y="253"/>
                    <a:pt x="383" y="253"/>
                  </a:cubicBezTo>
                  <a:cubicBezTo>
                    <a:pt x="383" y="253"/>
                    <a:pt x="383" y="253"/>
                    <a:pt x="383" y="253"/>
                  </a:cubicBezTo>
                  <a:cubicBezTo>
                    <a:pt x="382" y="251"/>
                    <a:pt x="381" y="249"/>
                    <a:pt x="380" y="247"/>
                  </a:cubicBezTo>
                  <a:cubicBezTo>
                    <a:pt x="380" y="246"/>
                    <a:pt x="380" y="246"/>
                    <a:pt x="380" y="246"/>
                  </a:cubicBezTo>
                  <a:cubicBezTo>
                    <a:pt x="380" y="245"/>
                    <a:pt x="379" y="245"/>
                    <a:pt x="379" y="244"/>
                  </a:cubicBezTo>
                  <a:cubicBezTo>
                    <a:pt x="378" y="242"/>
                    <a:pt x="377" y="239"/>
                    <a:pt x="375" y="237"/>
                  </a:cubicBezTo>
                  <a:cubicBezTo>
                    <a:pt x="375" y="237"/>
                    <a:pt x="375" y="237"/>
                    <a:pt x="375" y="237"/>
                  </a:cubicBezTo>
                  <a:cubicBezTo>
                    <a:pt x="374" y="234"/>
                    <a:pt x="372" y="232"/>
                    <a:pt x="371" y="230"/>
                  </a:cubicBezTo>
                  <a:cubicBezTo>
                    <a:pt x="370" y="229"/>
                    <a:pt x="370" y="229"/>
                    <a:pt x="370" y="228"/>
                  </a:cubicBezTo>
                  <a:cubicBezTo>
                    <a:pt x="368" y="226"/>
                    <a:pt x="366" y="224"/>
                    <a:pt x="365" y="221"/>
                  </a:cubicBezTo>
                  <a:cubicBezTo>
                    <a:pt x="364" y="221"/>
                    <a:pt x="364" y="221"/>
                    <a:pt x="364" y="221"/>
                  </a:cubicBezTo>
                  <a:cubicBezTo>
                    <a:pt x="364" y="220"/>
                    <a:pt x="364" y="220"/>
                    <a:pt x="364" y="220"/>
                  </a:cubicBezTo>
                  <a:cubicBezTo>
                    <a:pt x="362" y="218"/>
                    <a:pt x="360" y="216"/>
                    <a:pt x="358" y="213"/>
                  </a:cubicBezTo>
                  <a:cubicBezTo>
                    <a:pt x="358" y="213"/>
                    <a:pt x="358" y="213"/>
                    <a:pt x="358" y="213"/>
                  </a:cubicBezTo>
                  <a:cubicBezTo>
                    <a:pt x="356" y="212"/>
                    <a:pt x="355" y="210"/>
                    <a:pt x="354" y="209"/>
                  </a:cubicBezTo>
                  <a:cubicBezTo>
                    <a:pt x="353" y="208"/>
                    <a:pt x="353" y="208"/>
                    <a:pt x="352" y="207"/>
                  </a:cubicBezTo>
                  <a:cubicBezTo>
                    <a:pt x="351" y="206"/>
                    <a:pt x="349" y="204"/>
                    <a:pt x="347" y="202"/>
                  </a:cubicBezTo>
                  <a:cubicBezTo>
                    <a:pt x="346" y="201"/>
                    <a:pt x="345" y="200"/>
                    <a:pt x="344" y="200"/>
                  </a:cubicBezTo>
                  <a:cubicBezTo>
                    <a:pt x="341" y="197"/>
                    <a:pt x="338" y="195"/>
                    <a:pt x="335" y="192"/>
                  </a:cubicBezTo>
                  <a:cubicBezTo>
                    <a:pt x="335" y="192"/>
                    <a:pt x="335" y="192"/>
                    <a:pt x="335" y="192"/>
                  </a:cubicBezTo>
                  <a:cubicBezTo>
                    <a:pt x="335" y="192"/>
                    <a:pt x="334" y="192"/>
                    <a:pt x="334" y="191"/>
                  </a:cubicBezTo>
                  <a:cubicBezTo>
                    <a:pt x="331" y="189"/>
                    <a:pt x="328" y="187"/>
                    <a:pt x="325" y="186"/>
                  </a:cubicBezTo>
                  <a:cubicBezTo>
                    <a:pt x="324" y="185"/>
                    <a:pt x="323" y="184"/>
                    <a:pt x="322" y="183"/>
                  </a:cubicBezTo>
                  <a:cubicBezTo>
                    <a:pt x="319" y="182"/>
                    <a:pt x="317" y="181"/>
                    <a:pt x="315" y="179"/>
                  </a:cubicBezTo>
                  <a:cubicBezTo>
                    <a:pt x="314" y="179"/>
                    <a:pt x="314" y="179"/>
                    <a:pt x="313" y="178"/>
                  </a:cubicBezTo>
                  <a:cubicBezTo>
                    <a:pt x="311" y="177"/>
                    <a:pt x="310" y="177"/>
                    <a:pt x="308" y="176"/>
                  </a:cubicBezTo>
                  <a:cubicBezTo>
                    <a:pt x="307" y="176"/>
                    <a:pt x="307" y="176"/>
                    <a:pt x="307" y="176"/>
                  </a:cubicBezTo>
                  <a:cubicBezTo>
                    <a:pt x="304" y="174"/>
                    <a:pt x="301" y="173"/>
                    <a:pt x="298" y="172"/>
                  </a:cubicBezTo>
                  <a:cubicBezTo>
                    <a:pt x="297" y="171"/>
                    <a:pt x="297" y="171"/>
                    <a:pt x="297" y="171"/>
                  </a:cubicBezTo>
                  <a:cubicBezTo>
                    <a:pt x="296" y="171"/>
                    <a:pt x="296" y="171"/>
                    <a:pt x="295" y="170"/>
                  </a:cubicBezTo>
                  <a:cubicBezTo>
                    <a:pt x="295" y="170"/>
                    <a:pt x="295" y="170"/>
                    <a:pt x="295" y="170"/>
                  </a:cubicBezTo>
                  <a:cubicBezTo>
                    <a:pt x="294" y="170"/>
                    <a:pt x="294" y="170"/>
                    <a:pt x="294" y="170"/>
                  </a:cubicBezTo>
                  <a:cubicBezTo>
                    <a:pt x="294" y="170"/>
                    <a:pt x="293" y="170"/>
                    <a:pt x="293" y="170"/>
                  </a:cubicBezTo>
                  <a:cubicBezTo>
                    <a:pt x="292" y="169"/>
                    <a:pt x="292" y="169"/>
                    <a:pt x="291" y="169"/>
                  </a:cubicBezTo>
                  <a:cubicBezTo>
                    <a:pt x="290" y="169"/>
                    <a:pt x="290" y="168"/>
                    <a:pt x="289" y="168"/>
                  </a:cubicBezTo>
                  <a:cubicBezTo>
                    <a:pt x="288" y="168"/>
                    <a:pt x="288" y="168"/>
                    <a:pt x="288" y="168"/>
                  </a:cubicBezTo>
                  <a:cubicBezTo>
                    <a:pt x="288" y="168"/>
                    <a:pt x="288" y="168"/>
                    <a:pt x="288" y="168"/>
                  </a:cubicBezTo>
                  <a:cubicBezTo>
                    <a:pt x="287" y="168"/>
                    <a:pt x="287" y="168"/>
                    <a:pt x="287" y="168"/>
                  </a:cubicBezTo>
                  <a:cubicBezTo>
                    <a:pt x="287" y="168"/>
                    <a:pt x="286" y="167"/>
                    <a:pt x="285" y="167"/>
                  </a:cubicBezTo>
                  <a:cubicBezTo>
                    <a:pt x="285" y="167"/>
                    <a:pt x="284" y="167"/>
                    <a:pt x="284" y="167"/>
                  </a:cubicBezTo>
                  <a:cubicBezTo>
                    <a:pt x="283" y="166"/>
                    <a:pt x="283" y="166"/>
                    <a:pt x="282" y="166"/>
                  </a:cubicBezTo>
                  <a:cubicBezTo>
                    <a:pt x="282" y="166"/>
                    <a:pt x="282" y="166"/>
                    <a:pt x="282" y="166"/>
                  </a:cubicBezTo>
                  <a:cubicBezTo>
                    <a:pt x="281" y="166"/>
                    <a:pt x="281" y="166"/>
                    <a:pt x="281" y="166"/>
                  </a:cubicBezTo>
                  <a:cubicBezTo>
                    <a:pt x="281" y="166"/>
                    <a:pt x="281" y="166"/>
                    <a:pt x="281" y="166"/>
                  </a:cubicBezTo>
                  <a:cubicBezTo>
                    <a:pt x="280" y="166"/>
                    <a:pt x="280" y="166"/>
                    <a:pt x="279" y="165"/>
                  </a:cubicBezTo>
                  <a:cubicBezTo>
                    <a:pt x="279" y="165"/>
                    <a:pt x="278" y="165"/>
                    <a:pt x="278" y="165"/>
                  </a:cubicBezTo>
                  <a:cubicBezTo>
                    <a:pt x="278" y="165"/>
                    <a:pt x="277" y="165"/>
                    <a:pt x="277" y="165"/>
                  </a:cubicBezTo>
                  <a:cubicBezTo>
                    <a:pt x="276" y="165"/>
                    <a:pt x="276" y="165"/>
                    <a:pt x="275" y="164"/>
                  </a:cubicBezTo>
                  <a:cubicBezTo>
                    <a:pt x="275" y="164"/>
                    <a:pt x="275" y="164"/>
                    <a:pt x="275" y="164"/>
                  </a:cubicBezTo>
                  <a:cubicBezTo>
                    <a:pt x="274" y="164"/>
                    <a:pt x="274" y="164"/>
                    <a:pt x="274" y="164"/>
                  </a:cubicBezTo>
                  <a:cubicBezTo>
                    <a:pt x="274" y="164"/>
                    <a:pt x="274" y="164"/>
                    <a:pt x="274" y="164"/>
                  </a:cubicBezTo>
                  <a:cubicBezTo>
                    <a:pt x="273" y="164"/>
                    <a:pt x="273" y="164"/>
                    <a:pt x="273" y="164"/>
                  </a:cubicBezTo>
                  <a:cubicBezTo>
                    <a:pt x="272" y="164"/>
                    <a:pt x="272" y="164"/>
                    <a:pt x="271" y="164"/>
                  </a:cubicBezTo>
                  <a:cubicBezTo>
                    <a:pt x="270" y="163"/>
                    <a:pt x="270" y="163"/>
                    <a:pt x="270" y="163"/>
                  </a:cubicBezTo>
                  <a:cubicBezTo>
                    <a:pt x="270" y="163"/>
                    <a:pt x="269" y="163"/>
                    <a:pt x="269" y="163"/>
                  </a:cubicBezTo>
                  <a:cubicBezTo>
                    <a:pt x="268" y="163"/>
                    <a:pt x="268" y="163"/>
                    <a:pt x="268" y="163"/>
                  </a:cubicBezTo>
                  <a:cubicBezTo>
                    <a:pt x="268" y="163"/>
                    <a:pt x="268" y="163"/>
                    <a:pt x="268" y="163"/>
                  </a:cubicBezTo>
                  <a:cubicBezTo>
                    <a:pt x="267" y="163"/>
                    <a:pt x="267" y="163"/>
                    <a:pt x="267" y="163"/>
                  </a:cubicBezTo>
                  <a:cubicBezTo>
                    <a:pt x="266" y="163"/>
                    <a:pt x="266" y="163"/>
                    <a:pt x="266" y="163"/>
                  </a:cubicBezTo>
                  <a:cubicBezTo>
                    <a:pt x="266" y="163"/>
                    <a:pt x="265" y="162"/>
                    <a:pt x="265" y="162"/>
                  </a:cubicBezTo>
                  <a:cubicBezTo>
                    <a:pt x="264" y="162"/>
                    <a:pt x="264" y="162"/>
                    <a:pt x="264" y="162"/>
                  </a:cubicBezTo>
                  <a:cubicBezTo>
                    <a:pt x="263" y="162"/>
                    <a:pt x="263" y="162"/>
                    <a:pt x="262" y="162"/>
                  </a:cubicBezTo>
                  <a:cubicBezTo>
                    <a:pt x="262" y="162"/>
                    <a:pt x="262" y="162"/>
                    <a:pt x="261" y="162"/>
                  </a:cubicBezTo>
                  <a:cubicBezTo>
                    <a:pt x="261" y="162"/>
                    <a:pt x="261" y="162"/>
                    <a:pt x="261" y="162"/>
                  </a:cubicBezTo>
                  <a:cubicBezTo>
                    <a:pt x="261" y="162"/>
                    <a:pt x="261" y="162"/>
                    <a:pt x="261" y="162"/>
                  </a:cubicBezTo>
                  <a:cubicBezTo>
                    <a:pt x="261" y="162"/>
                    <a:pt x="261" y="162"/>
                    <a:pt x="261" y="162"/>
                  </a:cubicBezTo>
                  <a:cubicBezTo>
                    <a:pt x="260" y="162"/>
                    <a:pt x="260" y="162"/>
                    <a:pt x="260" y="162"/>
                  </a:cubicBezTo>
                  <a:cubicBezTo>
                    <a:pt x="259" y="162"/>
                    <a:pt x="258" y="161"/>
                    <a:pt x="257" y="161"/>
                  </a:cubicBezTo>
                  <a:cubicBezTo>
                    <a:pt x="255" y="161"/>
                    <a:pt x="254" y="161"/>
                    <a:pt x="253" y="161"/>
                  </a:cubicBezTo>
                  <a:cubicBezTo>
                    <a:pt x="252" y="161"/>
                    <a:pt x="251" y="160"/>
                    <a:pt x="249" y="160"/>
                  </a:cubicBezTo>
                  <a:cubicBezTo>
                    <a:pt x="248" y="160"/>
                    <a:pt x="247" y="160"/>
                    <a:pt x="246" y="160"/>
                  </a:cubicBezTo>
                  <a:cubicBezTo>
                    <a:pt x="246" y="160"/>
                    <a:pt x="246" y="160"/>
                    <a:pt x="246" y="160"/>
                  </a:cubicBezTo>
                  <a:cubicBezTo>
                    <a:pt x="246" y="160"/>
                    <a:pt x="246" y="160"/>
                    <a:pt x="246" y="160"/>
                  </a:cubicBezTo>
                  <a:cubicBezTo>
                    <a:pt x="243" y="160"/>
                    <a:pt x="241" y="159"/>
                    <a:pt x="239" y="159"/>
                  </a:cubicBezTo>
                  <a:cubicBezTo>
                    <a:pt x="237" y="159"/>
                    <a:pt x="235" y="159"/>
                    <a:pt x="233" y="159"/>
                  </a:cubicBezTo>
                  <a:cubicBezTo>
                    <a:pt x="232" y="158"/>
                    <a:pt x="232" y="158"/>
                    <a:pt x="232" y="158"/>
                  </a:cubicBezTo>
                  <a:cubicBezTo>
                    <a:pt x="231" y="158"/>
                    <a:pt x="231" y="158"/>
                    <a:pt x="231" y="158"/>
                  </a:cubicBezTo>
                  <a:cubicBezTo>
                    <a:pt x="229" y="158"/>
                    <a:pt x="228" y="158"/>
                    <a:pt x="227" y="158"/>
                  </a:cubicBezTo>
                  <a:cubicBezTo>
                    <a:pt x="225" y="158"/>
                    <a:pt x="223" y="158"/>
                    <a:pt x="221" y="158"/>
                  </a:cubicBezTo>
                  <a:cubicBezTo>
                    <a:pt x="220" y="158"/>
                    <a:pt x="219" y="157"/>
                    <a:pt x="219" y="157"/>
                  </a:cubicBezTo>
                  <a:cubicBezTo>
                    <a:pt x="214" y="157"/>
                    <a:pt x="210" y="157"/>
                    <a:pt x="205" y="156"/>
                  </a:cubicBezTo>
                  <a:cubicBezTo>
                    <a:pt x="204" y="156"/>
                    <a:pt x="203" y="156"/>
                    <a:pt x="203" y="156"/>
                  </a:cubicBezTo>
                  <a:cubicBezTo>
                    <a:pt x="201" y="156"/>
                    <a:pt x="199" y="156"/>
                    <a:pt x="197" y="156"/>
                  </a:cubicBezTo>
                  <a:cubicBezTo>
                    <a:pt x="193" y="156"/>
                    <a:pt x="189" y="155"/>
                    <a:pt x="186" y="155"/>
                  </a:cubicBezTo>
                  <a:cubicBezTo>
                    <a:pt x="185" y="155"/>
                    <a:pt x="185" y="155"/>
                    <a:pt x="184" y="155"/>
                  </a:cubicBezTo>
                  <a:cubicBezTo>
                    <a:pt x="180" y="155"/>
                    <a:pt x="175" y="155"/>
                    <a:pt x="170" y="154"/>
                  </a:cubicBezTo>
                  <a:cubicBezTo>
                    <a:pt x="168" y="154"/>
                    <a:pt x="167" y="154"/>
                    <a:pt x="165" y="154"/>
                  </a:cubicBezTo>
                  <a:cubicBezTo>
                    <a:pt x="161" y="154"/>
                    <a:pt x="157" y="153"/>
                    <a:pt x="154" y="153"/>
                  </a:cubicBezTo>
                  <a:cubicBezTo>
                    <a:pt x="151" y="153"/>
                    <a:pt x="149" y="153"/>
                    <a:pt x="146" y="153"/>
                  </a:cubicBezTo>
                  <a:cubicBezTo>
                    <a:pt x="146" y="152"/>
                    <a:pt x="146" y="152"/>
                    <a:pt x="146" y="152"/>
                  </a:cubicBezTo>
                  <a:cubicBezTo>
                    <a:pt x="142" y="152"/>
                    <a:pt x="138" y="152"/>
                    <a:pt x="134" y="151"/>
                  </a:cubicBezTo>
                  <a:cubicBezTo>
                    <a:pt x="133" y="151"/>
                    <a:pt x="133" y="151"/>
                    <a:pt x="133" y="151"/>
                  </a:cubicBezTo>
                  <a:cubicBezTo>
                    <a:pt x="129" y="151"/>
                    <a:pt x="125" y="150"/>
                    <a:pt x="121" y="150"/>
                  </a:cubicBezTo>
                  <a:cubicBezTo>
                    <a:pt x="121" y="150"/>
                    <a:pt x="121" y="150"/>
                    <a:pt x="121" y="150"/>
                  </a:cubicBezTo>
                  <a:cubicBezTo>
                    <a:pt x="117" y="149"/>
                    <a:pt x="113" y="149"/>
                    <a:pt x="110" y="148"/>
                  </a:cubicBezTo>
                  <a:cubicBezTo>
                    <a:pt x="109" y="148"/>
                    <a:pt x="109" y="148"/>
                    <a:pt x="109" y="148"/>
                  </a:cubicBezTo>
                  <a:cubicBezTo>
                    <a:pt x="106" y="147"/>
                    <a:pt x="102" y="147"/>
                    <a:pt x="99" y="146"/>
                  </a:cubicBezTo>
                  <a:cubicBezTo>
                    <a:pt x="99" y="146"/>
                    <a:pt x="99" y="146"/>
                    <a:pt x="99" y="146"/>
                  </a:cubicBezTo>
                  <a:cubicBezTo>
                    <a:pt x="97" y="145"/>
                    <a:pt x="95" y="145"/>
                    <a:pt x="94" y="145"/>
                  </a:cubicBezTo>
                  <a:cubicBezTo>
                    <a:pt x="93" y="145"/>
                    <a:pt x="93" y="145"/>
                    <a:pt x="93" y="145"/>
                  </a:cubicBezTo>
                  <a:cubicBezTo>
                    <a:pt x="92" y="144"/>
                    <a:pt x="90" y="144"/>
                    <a:pt x="89" y="143"/>
                  </a:cubicBezTo>
                  <a:cubicBezTo>
                    <a:pt x="89" y="143"/>
                    <a:pt x="89" y="143"/>
                    <a:pt x="89" y="143"/>
                  </a:cubicBezTo>
                  <a:cubicBezTo>
                    <a:pt x="87" y="143"/>
                    <a:pt x="86" y="142"/>
                    <a:pt x="84" y="142"/>
                  </a:cubicBezTo>
                  <a:cubicBezTo>
                    <a:pt x="84" y="142"/>
                    <a:pt x="84" y="142"/>
                    <a:pt x="84" y="142"/>
                  </a:cubicBezTo>
                  <a:cubicBezTo>
                    <a:pt x="83" y="141"/>
                    <a:pt x="82" y="141"/>
                    <a:pt x="80" y="140"/>
                  </a:cubicBezTo>
                  <a:cubicBezTo>
                    <a:pt x="80" y="140"/>
                    <a:pt x="79" y="140"/>
                    <a:pt x="78" y="139"/>
                  </a:cubicBezTo>
                  <a:cubicBezTo>
                    <a:pt x="77" y="139"/>
                    <a:pt x="77" y="139"/>
                    <a:pt x="76" y="138"/>
                  </a:cubicBezTo>
                  <a:cubicBezTo>
                    <a:pt x="75" y="138"/>
                    <a:pt x="75" y="138"/>
                    <a:pt x="74" y="137"/>
                  </a:cubicBezTo>
                  <a:cubicBezTo>
                    <a:pt x="73" y="137"/>
                    <a:pt x="73" y="137"/>
                    <a:pt x="72" y="136"/>
                  </a:cubicBezTo>
                  <a:cubicBezTo>
                    <a:pt x="72" y="136"/>
                    <a:pt x="71" y="136"/>
                    <a:pt x="70" y="135"/>
                  </a:cubicBezTo>
                  <a:cubicBezTo>
                    <a:pt x="70" y="135"/>
                    <a:pt x="69" y="135"/>
                    <a:pt x="69" y="134"/>
                  </a:cubicBezTo>
                  <a:cubicBezTo>
                    <a:pt x="68" y="133"/>
                    <a:pt x="66" y="133"/>
                    <a:pt x="65" y="132"/>
                  </a:cubicBezTo>
                  <a:cubicBezTo>
                    <a:pt x="57" y="126"/>
                    <a:pt x="51" y="117"/>
                    <a:pt x="45" y="108"/>
                  </a:cubicBezTo>
                  <a:cubicBezTo>
                    <a:pt x="39" y="98"/>
                    <a:pt x="35" y="88"/>
                    <a:pt x="32" y="78"/>
                  </a:cubicBezTo>
                  <a:cubicBezTo>
                    <a:pt x="28" y="67"/>
                    <a:pt x="26" y="57"/>
                    <a:pt x="24" y="47"/>
                  </a:cubicBezTo>
                  <a:cubicBezTo>
                    <a:pt x="23" y="38"/>
                    <a:pt x="23" y="29"/>
                    <a:pt x="23" y="22"/>
                  </a:cubicBezTo>
                  <a:cubicBezTo>
                    <a:pt x="23" y="20"/>
                    <a:pt x="23" y="18"/>
                    <a:pt x="23" y="16"/>
                  </a:cubicBezTo>
                  <a:cubicBezTo>
                    <a:pt x="23" y="14"/>
                    <a:pt x="23" y="12"/>
                    <a:pt x="23" y="10"/>
                  </a:cubicBezTo>
                  <a:cubicBezTo>
                    <a:pt x="23" y="8"/>
                    <a:pt x="24" y="6"/>
                    <a:pt x="24" y="5"/>
                  </a:cubicBezTo>
                  <a:cubicBezTo>
                    <a:pt x="24" y="3"/>
                    <a:pt x="24" y="1"/>
                    <a:pt x="24" y="0"/>
                  </a:cubicBezTo>
                  <a:cubicBezTo>
                    <a:pt x="17" y="67"/>
                    <a:pt x="9" y="135"/>
                    <a:pt x="2" y="202"/>
                  </a:cubicBezTo>
                  <a:cubicBezTo>
                    <a:pt x="1" y="204"/>
                    <a:pt x="1" y="206"/>
                    <a:pt x="1" y="208"/>
                  </a:cubicBezTo>
                  <a:cubicBezTo>
                    <a:pt x="1" y="209"/>
                    <a:pt x="1" y="211"/>
                    <a:pt x="1" y="213"/>
                  </a:cubicBezTo>
                  <a:cubicBezTo>
                    <a:pt x="0" y="215"/>
                    <a:pt x="0" y="217"/>
                    <a:pt x="0" y="219"/>
                  </a:cubicBezTo>
                  <a:cubicBezTo>
                    <a:pt x="0" y="221"/>
                    <a:pt x="0" y="224"/>
                    <a:pt x="0" y="226"/>
                  </a:cubicBezTo>
                  <a:cubicBezTo>
                    <a:pt x="0" y="234"/>
                    <a:pt x="0" y="243"/>
                    <a:pt x="1" y="253"/>
                  </a:cubicBezTo>
                  <a:cubicBezTo>
                    <a:pt x="3" y="263"/>
                    <a:pt x="5" y="274"/>
                    <a:pt x="8" y="285"/>
                  </a:cubicBezTo>
                  <a:cubicBezTo>
                    <a:pt x="11" y="297"/>
                    <a:pt x="15" y="307"/>
                    <a:pt x="21" y="317"/>
                  </a:cubicBezTo>
                  <a:cubicBezTo>
                    <a:pt x="26" y="327"/>
                    <a:pt x="33" y="336"/>
                    <a:pt x="41" y="343"/>
                  </a:cubicBezTo>
                  <a:cubicBezTo>
                    <a:pt x="42" y="344"/>
                    <a:pt x="43" y="345"/>
                    <a:pt x="44" y="346"/>
                  </a:cubicBezTo>
                  <a:cubicBezTo>
                    <a:pt x="44" y="346"/>
                    <a:pt x="44" y="346"/>
                    <a:pt x="44" y="346"/>
                  </a:cubicBezTo>
                  <a:cubicBezTo>
                    <a:pt x="45" y="346"/>
                    <a:pt x="45" y="346"/>
                    <a:pt x="45" y="346"/>
                  </a:cubicBezTo>
                  <a:cubicBezTo>
                    <a:pt x="46" y="347"/>
                    <a:pt x="46" y="347"/>
                    <a:pt x="47" y="348"/>
                  </a:cubicBezTo>
                  <a:cubicBezTo>
                    <a:pt x="47" y="348"/>
                    <a:pt x="47" y="348"/>
                    <a:pt x="47" y="348"/>
                  </a:cubicBezTo>
                  <a:cubicBezTo>
                    <a:pt x="48" y="348"/>
                    <a:pt x="48" y="349"/>
                    <a:pt x="49" y="349"/>
                  </a:cubicBezTo>
                  <a:cubicBezTo>
                    <a:pt x="49" y="349"/>
                    <a:pt x="50" y="350"/>
                    <a:pt x="51" y="350"/>
                  </a:cubicBezTo>
                  <a:cubicBezTo>
                    <a:pt x="51" y="350"/>
                    <a:pt x="51" y="350"/>
                    <a:pt x="51" y="350"/>
                  </a:cubicBezTo>
                  <a:cubicBezTo>
                    <a:pt x="52" y="350"/>
                    <a:pt x="52" y="351"/>
                    <a:pt x="53" y="351"/>
                  </a:cubicBezTo>
                  <a:cubicBezTo>
                    <a:pt x="54" y="351"/>
                    <a:pt x="54" y="352"/>
                    <a:pt x="55" y="352"/>
                  </a:cubicBezTo>
                  <a:cubicBezTo>
                    <a:pt x="56" y="352"/>
                    <a:pt x="56" y="352"/>
                    <a:pt x="56" y="352"/>
                  </a:cubicBezTo>
                  <a:cubicBezTo>
                    <a:pt x="56" y="352"/>
                    <a:pt x="57" y="353"/>
                    <a:pt x="57" y="353"/>
                  </a:cubicBezTo>
                  <a:cubicBezTo>
                    <a:pt x="57" y="353"/>
                    <a:pt x="58" y="353"/>
                    <a:pt x="58" y="353"/>
                  </a:cubicBezTo>
                  <a:cubicBezTo>
                    <a:pt x="59" y="354"/>
                    <a:pt x="59" y="354"/>
                    <a:pt x="59" y="354"/>
                  </a:cubicBezTo>
                  <a:cubicBezTo>
                    <a:pt x="59" y="354"/>
                    <a:pt x="59" y="354"/>
                    <a:pt x="59" y="354"/>
                  </a:cubicBezTo>
                  <a:cubicBezTo>
                    <a:pt x="60" y="354"/>
                    <a:pt x="60" y="354"/>
                    <a:pt x="60" y="354"/>
                  </a:cubicBezTo>
                  <a:cubicBezTo>
                    <a:pt x="60" y="354"/>
                    <a:pt x="61" y="354"/>
                    <a:pt x="61" y="354"/>
                  </a:cubicBezTo>
                  <a:cubicBezTo>
                    <a:pt x="62" y="355"/>
                    <a:pt x="62" y="355"/>
                    <a:pt x="62" y="355"/>
                  </a:cubicBezTo>
                  <a:cubicBezTo>
                    <a:pt x="63" y="355"/>
                    <a:pt x="63" y="355"/>
                    <a:pt x="63" y="355"/>
                  </a:cubicBezTo>
                  <a:cubicBezTo>
                    <a:pt x="63" y="355"/>
                    <a:pt x="63" y="355"/>
                    <a:pt x="63" y="355"/>
                  </a:cubicBezTo>
                  <a:cubicBezTo>
                    <a:pt x="64" y="355"/>
                    <a:pt x="64" y="355"/>
                    <a:pt x="64" y="355"/>
                  </a:cubicBezTo>
                  <a:cubicBezTo>
                    <a:pt x="64" y="355"/>
                    <a:pt x="64" y="356"/>
                    <a:pt x="65" y="356"/>
                  </a:cubicBezTo>
                  <a:cubicBezTo>
                    <a:pt x="65" y="356"/>
                    <a:pt x="66" y="356"/>
                    <a:pt x="66" y="356"/>
                  </a:cubicBezTo>
                  <a:cubicBezTo>
                    <a:pt x="67" y="356"/>
                    <a:pt x="67" y="356"/>
                    <a:pt x="67" y="357"/>
                  </a:cubicBezTo>
                  <a:cubicBezTo>
                    <a:pt x="68" y="357"/>
                    <a:pt x="68" y="357"/>
                    <a:pt x="68" y="357"/>
                  </a:cubicBezTo>
                  <a:cubicBezTo>
                    <a:pt x="68" y="357"/>
                    <a:pt x="68" y="357"/>
                    <a:pt x="68" y="357"/>
                  </a:cubicBezTo>
                  <a:cubicBezTo>
                    <a:pt x="69" y="357"/>
                    <a:pt x="69" y="357"/>
                    <a:pt x="69" y="357"/>
                  </a:cubicBezTo>
                  <a:cubicBezTo>
                    <a:pt x="69" y="357"/>
                    <a:pt x="70" y="357"/>
                    <a:pt x="70" y="357"/>
                  </a:cubicBezTo>
                  <a:cubicBezTo>
                    <a:pt x="71" y="357"/>
                    <a:pt x="71" y="358"/>
                    <a:pt x="71" y="358"/>
                  </a:cubicBezTo>
                  <a:cubicBezTo>
                    <a:pt x="72" y="358"/>
                    <a:pt x="72" y="358"/>
                    <a:pt x="73" y="358"/>
                  </a:cubicBezTo>
                  <a:cubicBezTo>
                    <a:pt x="73" y="358"/>
                    <a:pt x="73" y="358"/>
                    <a:pt x="73" y="358"/>
                  </a:cubicBezTo>
                  <a:cubicBezTo>
                    <a:pt x="73" y="358"/>
                    <a:pt x="73" y="358"/>
                    <a:pt x="73" y="358"/>
                  </a:cubicBezTo>
                  <a:cubicBezTo>
                    <a:pt x="73" y="358"/>
                    <a:pt x="73" y="358"/>
                    <a:pt x="73" y="358"/>
                  </a:cubicBezTo>
                  <a:cubicBezTo>
                    <a:pt x="74" y="358"/>
                    <a:pt x="74" y="358"/>
                    <a:pt x="74" y="358"/>
                  </a:cubicBezTo>
                  <a:cubicBezTo>
                    <a:pt x="75" y="358"/>
                    <a:pt x="75" y="359"/>
                    <a:pt x="76" y="359"/>
                  </a:cubicBezTo>
                  <a:cubicBezTo>
                    <a:pt x="76" y="359"/>
                    <a:pt x="77" y="359"/>
                    <a:pt x="77" y="359"/>
                  </a:cubicBezTo>
                  <a:cubicBezTo>
                    <a:pt x="78" y="359"/>
                    <a:pt x="78" y="359"/>
                    <a:pt x="79" y="359"/>
                  </a:cubicBezTo>
                  <a:cubicBezTo>
                    <a:pt x="80" y="360"/>
                    <a:pt x="80" y="360"/>
                    <a:pt x="81" y="360"/>
                  </a:cubicBezTo>
                  <a:cubicBezTo>
                    <a:pt x="81" y="360"/>
                    <a:pt x="82" y="360"/>
                    <a:pt x="82" y="360"/>
                  </a:cubicBezTo>
                  <a:cubicBezTo>
                    <a:pt x="83" y="360"/>
                    <a:pt x="83" y="360"/>
                    <a:pt x="83" y="360"/>
                  </a:cubicBezTo>
                  <a:cubicBezTo>
                    <a:pt x="84" y="360"/>
                    <a:pt x="84" y="360"/>
                    <a:pt x="84" y="360"/>
                  </a:cubicBezTo>
                  <a:cubicBezTo>
                    <a:pt x="84" y="360"/>
                    <a:pt x="84" y="360"/>
                    <a:pt x="84" y="360"/>
                  </a:cubicBezTo>
                  <a:cubicBezTo>
                    <a:pt x="85" y="361"/>
                    <a:pt x="85" y="361"/>
                    <a:pt x="85" y="361"/>
                  </a:cubicBezTo>
                  <a:cubicBezTo>
                    <a:pt x="78" y="416"/>
                    <a:pt x="71" y="472"/>
                    <a:pt x="64" y="528"/>
                  </a:cubicBezTo>
                  <a:cubicBezTo>
                    <a:pt x="63" y="536"/>
                    <a:pt x="64" y="547"/>
                    <a:pt x="66" y="560"/>
                  </a:cubicBezTo>
                  <a:cubicBezTo>
                    <a:pt x="69" y="573"/>
                    <a:pt x="72" y="589"/>
                    <a:pt x="76" y="604"/>
                  </a:cubicBezTo>
                  <a:cubicBezTo>
                    <a:pt x="80" y="620"/>
                    <a:pt x="85" y="637"/>
                    <a:pt x="90" y="653"/>
                  </a:cubicBezTo>
                  <a:cubicBezTo>
                    <a:pt x="94" y="669"/>
                    <a:pt x="99" y="684"/>
                    <a:pt x="102" y="697"/>
                  </a:cubicBezTo>
                  <a:cubicBezTo>
                    <a:pt x="103" y="699"/>
                    <a:pt x="103" y="701"/>
                    <a:pt x="104" y="703"/>
                  </a:cubicBezTo>
                  <a:cubicBezTo>
                    <a:pt x="104" y="704"/>
                    <a:pt x="104" y="704"/>
                    <a:pt x="104" y="705"/>
                  </a:cubicBezTo>
                  <a:cubicBezTo>
                    <a:pt x="105" y="706"/>
                    <a:pt x="105" y="707"/>
                    <a:pt x="106" y="708"/>
                  </a:cubicBezTo>
                  <a:cubicBezTo>
                    <a:pt x="106" y="709"/>
                    <a:pt x="106" y="710"/>
                    <a:pt x="106" y="710"/>
                  </a:cubicBezTo>
                  <a:cubicBezTo>
                    <a:pt x="107" y="711"/>
                    <a:pt x="107" y="712"/>
                    <a:pt x="107" y="713"/>
                  </a:cubicBezTo>
                  <a:cubicBezTo>
                    <a:pt x="108" y="714"/>
                    <a:pt x="108" y="715"/>
                    <a:pt x="108" y="715"/>
                  </a:cubicBezTo>
                  <a:cubicBezTo>
                    <a:pt x="109" y="716"/>
                    <a:pt x="109" y="717"/>
                    <a:pt x="109" y="718"/>
                  </a:cubicBezTo>
                  <a:cubicBezTo>
                    <a:pt x="110" y="719"/>
                    <a:pt x="110" y="719"/>
                    <a:pt x="110" y="719"/>
                  </a:cubicBezTo>
                  <a:cubicBezTo>
                    <a:pt x="110" y="720"/>
                    <a:pt x="110" y="720"/>
                    <a:pt x="110" y="720"/>
                  </a:cubicBezTo>
                  <a:cubicBezTo>
                    <a:pt x="110" y="721"/>
                    <a:pt x="111" y="722"/>
                    <a:pt x="111" y="722"/>
                  </a:cubicBezTo>
                  <a:cubicBezTo>
                    <a:pt x="112" y="723"/>
                    <a:pt x="112" y="724"/>
                    <a:pt x="112" y="724"/>
                  </a:cubicBezTo>
                  <a:cubicBezTo>
                    <a:pt x="113" y="725"/>
                    <a:pt x="113" y="726"/>
                    <a:pt x="113" y="727"/>
                  </a:cubicBezTo>
                  <a:cubicBezTo>
                    <a:pt x="114" y="727"/>
                    <a:pt x="114" y="728"/>
                    <a:pt x="114" y="728"/>
                  </a:cubicBezTo>
                  <a:cubicBezTo>
                    <a:pt x="115" y="729"/>
                    <a:pt x="115" y="730"/>
                    <a:pt x="116" y="730"/>
                  </a:cubicBezTo>
                  <a:cubicBezTo>
                    <a:pt x="116" y="731"/>
                    <a:pt x="116" y="731"/>
                    <a:pt x="116" y="732"/>
                  </a:cubicBezTo>
                  <a:cubicBezTo>
                    <a:pt x="117" y="732"/>
                    <a:pt x="117" y="732"/>
                    <a:pt x="117" y="732"/>
                  </a:cubicBezTo>
                  <a:cubicBezTo>
                    <a:pt x="117" y="733"/>
                    <a:pt x="118" y="734"/>
                    <a:pt x="118" y="734"/>
                  </a:cubicBezTo>
                  <a:cubicBezTo>
                    <a:pt x="119" y="735"/>
                    <a:pt x="119" y="735"/>
                    <a:pt x="119" y="735"/>
                  </a:cubicBezTo>
                  <a:cubicBezTo>
                    <a:pt x="119" y="735"/>
                    <a:pt x="119" y="735"/>
                    <a:pt x="119" y="735"/>
                  </a:cubicBezTo>
                  <a:cubicBezTo>
                    <a:pt x="119" y="736"/>
                    <a:pt x="120" y="737"/>
                    <a:pt x="121" y="738"/>
                  </a:cubicBezTo>
                  <a:cubicBezTo>
                    <a:pt x="121" y="739"/>
                    <a:pt x="121" y="739"/>
                    <a:pt x="121" y="739"/>
                  </a:cubicBezTo>
                  <a:cubicBezTo>
                    <a:pt x="122" y="740"/>
                    <a:pt x="123" y="741"/>
                    <a:pt x="124" y="742"/>
                  </a:cubicBezTo>
                  <a:cubicBezTo>
                    <a:pt x="124" y="742"/>
                    <a:pt x="124" y="742"/>
                    <a:pt x="124" y="742"/>
                  </a:cubicBezTo>
                  <a:cubicBezTo>
                    <a:pt x="125" y="743"/>
                    <a:pt x="126" y="744"/>
                    <a:pt x="126" y="744"/>
                  </a:cubicBezTo>
                  <a:cubicBezTo>
                    <a:pt x="127" y="745"/>
                    <a:pt x="127" y="745"/>
                    <a:pt x="127" y="745"/>
                  </a:cubicBezTo>
                  <a:cubicBezTo>
                    <a:pt x="128" y="746"/>
                    <a:pt x="128" y="746"/>
                    <a:pt x="129" y="747"/>
                  </a:cubicBezTo>
                  <a:cubicBezTo>
                    <a:pt x="129" y="747"/>
                    <a:pt x="129" y="747"/>
                    <a:pt x="129" y="747"/>
                  </a:cubicBezTo>
                  <a:cubicBezTo>
                    <a:pt x="130" y="748"/>
                    <a:pt x="130" y="748"/>
                    <a:pt x="130" y="748"/>
                  </a:cubicBezTo>
                  <a:cubicBezTo>
                    <a:pt x="131" y="748"/>
                    <a:pt x="131" y="749"/>
                    <a:pt x="132" y="749"/>
                  </a:cubicBezTo>
                  <a:cubicBezTo>
                    <a:pt x="132" y="749"/>
                    <a:pt x="132" y="750"/>
                    <a:pt x="133" y="750"/>
                  </a:cubicBezTo>
                  <a:cubicBezTo>
                    <a:pt x="133" y="750"/>
                    <a:pt x="134" y="751"/>
                    <a:pt x="134" y="751"/>
                  </a:cubicBezTo>
                  <a:cubicBezTo>
                    <a:pt x="135" y="751"/>
                    <a:pt x="135" y="752"/>
                    <a:pt x="136" y="752"/>
                  </a:cubicBezTo>
                  <a:cubicBezTo>
                    <a:pt x="137" y="752"/>
                    <a:pt x="137" y="752"/>
                    <a:pt x="137" y="752"/>
                  </a:cubicBezTo>
                  <a:cubicBezTo>
                    <a:pt x="137" y="753"/>
                    <a:pt x="137" y="753"/>
                    <a:pt x="137" y="753"/>
                  </a:cubicBezTo>
                  <a:cubicBezTo>
                    <a:pt x="138" y="754"/>
                    <a:pt x="140" y="754"/>
                    <a:pt x="141" y="755"/>
                  </a:cubicBezTo>
                  <a:cubicBezTo>
                    <a:pt x="142" y="756"/>
                    <a:pt x="142" y="756"/>
                    <a:pt x="142" y="756"/>
                  </a:cubicBezTo>
                  <a:cubicBezTo>
                    <a:pt x="142" y="756"/>
                    <a:pt x="142" y="756"/>
                    <a:pt x="142" y="756"/>
                  </a:cubicBezTo>
                  <a:cubicBezTo>
                    <a:pt x="142" y="756"/>
                    <a:pt x="142" y="756"/>
                    <a:pt x="142" y="756"/>
                  </a:cubicBezTo>
                  <a:cubicBezTo>
                    <a:pt x="143" y="756"/>
                    <a:pt x="143" y="756"/>
                    <a:pt x="143" y="756"/>
                  </a:cubicBezTo>
                  <a:cubicBezTo>
                    <a:pt x="144" y="756"/>
                    <a:pt x="144" y="756"/>
                    <a:pt x="144" y="756"/>
                  </a:cubicBezTo>
                  <a:cubicBezTo>
                    <a:pt x="145" y="757"/>
                    <a:pt x="145" y="757"/>
                    <a:pt x="145" y="757"/>
                  </a:cubicBezTo>
                  <a:cubicBezTo>
                    <a:pt x="146" y="757"/>
                    <a:pt x="146" y="757"/>
                    <a:pt x="146" y="757"/>
                  </a:cubicBezTo>
                  <a:cubicBezTo>
                    <a:pt x="146" y="757"/>
                    <a:pt x="146" y="757"/>
                    <a:pt x="146" y="757"/>
                  </a:cubicBezTo>
                  <a:cubicBezTo>
                    <a:pt x="147" y="758"/>
                    <a:pt x="147" y="758"/>
                    <a:pt x="147" y="758"/>
                  </a:cubicBezTo>
                  <a:cubicBezTo>
                    <a:pt x="148" y="758"/>
                    <a:pt x="148" y="758"/>
                    <a:pt x="148" y="758"/>
                  </a:cubicBezTo>
                  <a:cubicBezTo>
                    <a:pt x="148" y="758"/>
                    <a:pt x="148" y="758"/>
                    <a:pt x="148" y="758"/>
                  </a:cubicBezTo>
                  <a:cubicBezTo>
                    <a:pt x="148" y="758"/>
                    <a:pt x="148" y="758"/>
                    <a:pt x="148" y="758"/>
                  </a:cubicBezTo>
                  <a:cubicBezTo>
                    <a:pt x="149" y="758"/>
                    <a:pt x="149" y="758"/>
                    <a:pt x="149" y="758"/>
                  </a:cubicBezTo>
                  <a:cubicBezTo>
                    <a:pt x="149" y="758"/>
                    <a:pt x="149" y="758"/>
                    <a:pt x="149" y="758"/>
                  </a:cubicBezTo>
                  <a:cubicBezTo>
                    <a:pt x="150" y="759"/>
                    <a:pt x="150" y="759"/>
                    <a:pt x="150" y="759"/>
                  </a:cubicBezTo>
                  <a:cubicBezTo>
                    <a:pt x="151" y="759"/>
                    <a:pt x="151" y="759"/>
                    <a:pt x="151" y="759"/>
                  </a:cubicBezTo>
                  <a:cubicBezTo>
                    <a:pt x="152" y="759"/>
                    <a:pt x="152" y="759"/>
                    <a:pt x="152" y="759"/>
                  </a:cubicBezTo>
                  <a:cubicBezTo>
                    <a:pt x="152" y="759"/>
                    <a:pt x="152" y="759"/>
                    <a:pt x="152" y="759"/>
                  </a:cubicBezTo>
                  <a:cubicBezTo>
                    <a:pt x="153" y="760"/>
                    <a:pt x="153" y="760"/>
                    <a:pt x="153" y="760"/>
                  </a:cubicBezTo>
                  <a:cubicBezTo>
                    <a:pt x="154" y="760"/>
                    <a:pt x="154" y="760"/>
                    <a:pt x="154" y="760"/>
                  </a:cubicBezTo>
                  <a:cubicBezTo>
                    <a:pt x="155" y="760"/>
                    <a:pt x="155" y="760"/>
                    <a:pt x="155" y="760"/>
                  </a:cubicBezTo>
                  <a:cubicBezTo>
                    <a:pt x="155" y="760"/>
                    <a:pt x="155" y="760"/>
                    <a:pt x="155" y="760"/>
                  </a:cubicBezTo>
                  <a:cubicBezTo>
                    <a:pt x="155" y="760"/>
                    <a:pt x="155" y="760"/>
                    <a:pt x="155" y="760"/>
                  </a:cubicBezTo>
                  <a:cubicBezTo>
                    <a:pt x="155" y="760"/>
                    <a:pt x="155" y="760"/>
                    <a:pt x="155" y="760"/>
                  </a:cubicBezTo>
                  <a:cubicBezTo>
                    <a:pt x="156" y="760"/>
                    <a:pt x="156" y="760"/>
                    <a:pt x="156" y="760"/>
                  </a:cubicBezTo>
                  <a:cubicBezTo>
                    <a:pt x="157" y="761"/>
                    <a:pt x="157" y="761"/>
                    <a:pt x="157" y="761"/>
                  </a:cubicBezTo>
                  <a:cubicBezTo>
                    <a:pt x="158" y="761"/>
                    <a:pt x="158" y="761"/>
                    <a:pt x="158" y="761"/>
                  </a:cubicBezTo>
                  <a:cubicBezTo>
                    <a:pt x="159" y="761"/>
                    <a:pt x="159" y="761"/>
                    <a:pt x="159" y="761"/>
                  </a:cubicBezTo>
                  <a:cubicBezTo>
                    <a:pt x="160" y="761"/>
                    <a:pt x="160" y="761"/>
                    <a:pt x="160" y="761"/>
                  </a:cubicBezTo>
                  <a:cubicBezTo>
                    <a:pt x="160" y="761"/>
                    <a:pt x="160" y="761"/>
                    <a:pt x="160" y="761"/>
                  </a:cubicBezTo>
                  <a:cubicBezTo>
                    <a:pt x="161" y="761"/>
                    <a:pt x="161" y="761"/>
                    <a:pt x="161" y="761"/>
                  </a:cubicBezTo>
                  <a:cubicBezTo>
                    <a:pt x="161" y="761"/>
                    <a:pt x="161" y="761"/>
                    <a:pt x="161" y="761"/>
                  </a:cubicBezTo>
                  <a:cubicBezTo>
                    <a:pt x="161" y="761"/>
                    <a:pt x="161" y="761"/>
                    <a:pt x="161" y="761"/>
                  </a:cubicBezTo>
                  <a:cubicBezTo>
                    <a:pt x="161" y="761"/>
                    <a:pt x="161" y="761"/>
                    <a:pt x="161" y="761"/>
                  </a:cubicBezTo>
                  <a:cubicBezTo>
                    <a:pt x="162" y="762"/>
                    <a:pt x="162" y="762"/>
                    <a:pt x="162" y="762"/>
                  </a:cubicBezTo>
                  <a:cubicBezTo>
                    <a:pt x="163" y="762"/>
                    <a:pt x="163" y="762"/>
                    <a:pt x="163" y="762"/>
                  </a:cubicBezTo>
                  <a:cubicBezTo>
                    <a:pt x="164" y="762"/>
                    <a:pt x="164" y="762"/>
                    <a:pt x="164" y="762"/>
                  </a:cubicBezTo>
                  <a:cubicBezTo>
                    <a:pt x="165" y="762"/>
                    <a:pt x="165" y="762"/>
                    <a:pt x="165" y="762"/>
                  </a:cubicBezTo>
                  <a:cubicBezTo>
                    <a:pt x="166" y="762"/>
                    <a:pt x="166" y="762"/>
                    <a:pt x="167" y="762"/>
                  </a:cubicBezTo>
                  <a:cubicBezTo>
                    <a:pt x="167" y="762"/>
                    <a:pt x="167" y="762"/>
                    <a:pt x="168" y="762"/>
                  </a:cubicBezTo>
                  <a:cubicBezTo>
                    <a:pt x="168" y="762"/>
                    <a:pt x="168" y="762"/>
                    <a:pt x="168" y="762"/>
                  </a:cubicBezTo>
                  <a:cubicBezTo>
                    <a:pt x="168" y="762"/>
                    <a:pt x="168" y="762"/>
                    <a:pt x="168" y="762"/>
                  </a:cubicBezTo>
                  <a:cubicBezTo>
                    <a:pt x="169" y="762"/>
                    <a:pt x="169" y="762"/>
                    <a:pt x="169" y="762"/>
                  </a:cubicBezTo>
                  <a:cubicBezTo>
                    <a:pt x="169" y="762"/>
                    <a:pt x="170" y="762"/>
                    <a:pt x="170" y="763"/>
                  </a:cubicBezTo>
                  <a:cubicBezTo>
                    <a:pt x="171" y="763"/>
                    <a:pt x="171" y="763"/>
                    <a:pt x="172" y="763"/>
                  </a:cubicBezTo>
                  <a:cubicBezTo>
                    <a:pt x="172" y="763"/>
                    <a:pt x="173" y="763"/>
                    <a:pt x="173" y="763"/>
                  </a:cubicBezTo>
                  <a:cubicBezTo>
                    <a:pt x="174" y="763"/>
                    <a:pt x="174" y="763"/>
                    <a:pt x="175" y="763"/>
                  </a:cubicBezTo>
                  <a:cubicBezTo>
                    <a:pt x="175" y="763"/>
                    <a:pt x="175" y="763"/>
                    <a:pt x="175" y="763"/>
                  </a:cubicBezTo>
                  <a:cubicBezTo>
                    <a:pt x="176" y="763"/>
                    <a:pt x="176" y="763"/>
                    <a:pt x="176" y="763"/>
                  </a:cubicBezTo>
                  <a:cubicBezTo>
                    <a:pt x="176" y="763"/>
                    <a:pt x="176" y="763"/>
                    <a:pt x="177" y="763"/>
                  </a:cubicBezTo>
                  <a:cubicBezTo>
                    <a:pt x="177" y="763"/>
                    <a:pt x="178" y="763"/>
                    <a:pt x="179" y="763"/>
                  </a:cubicBezTo>
                  <a:cubicBezTo>
                    <a:pt x="179" y="763"/>
                    <a:pt x="180" y="763"/>
                    <a:pt x="181" y="763"/>
                  </a:cubicBezTo>
                  <a:cubicBezTo>
                    <a:pt x="182" y="763"/>
                    <a:pt x="182" y="763"/>
                    <a:pt x="183" y="763"/>
                  </a:cubicBezTo>
                  <a:cubicBezTo>
                    <a:pt x="183" y="763"/>
                    <a:pt x="183" y="763"/>
                    <a:pt x="183" y="763"/>
                  </a:cubicBezTo>
                  <a:cubicBezTo>
                    <a:pt x="184" y="763"/>
                    <a:pt x="184" y="763"/>
                    <a:pt x="185" y="763"/>
                  </a:cubicBezTo>
                  <a:cubicBezTo>
                    <a:pt x="186" y="763"/>
                    <a:pt x="186" y="763"/>
                    <a:pt x="187" y="763"/>
                  </a:cubicBezTo>
                  <a:cubicBezTo>
                    <a:pt x="187" y="763"/>
                    <a:pt x="188" y="763"/>
                    <a:pt x="189" y="763"/>
                  </a:cubicBezTo>
                  <a:cubicBezTo>
                    <a:pt x="189" y="763"/>
                    <a:pt x="190" y="763"/>
                    <a:pt x="191" y="763"/>
                  </a:cubicBezTo>
                  <a:cubicBezTo>
                    <a:pt x="192" y="763"/>
                    <a:pt x="192" y="763"/>
                    <a:pt x="193" y="763"/>
                  </a:cubicBezTo>
                  <a:cubicBezTo>
                    <a:pt x="194" y="763"/>
                    <a:pt x="195" y="763"/>
                    <a:pt x="196" y="763"/>
                  </a:cubicBezTo>
                  <a:cubicBezTo>
                    <a:pt x="197" y="763"/>
                    <a:pt x="198" y="763"/>
                    <a:pt x="199" y="763"/>
                  </a:cubicBezTo>
                  <a:cubicBezTo>
                    <a:pt x="200" y="763"/>
                    <a:pt x="201" y="763"/>
                    <a:pt x="202" y="763"/>
                  </a:cubicBezTo>
                  <a:cubicBezTo>
                    <a:pt x="213" y="763"/>
                    <a:pt x="276" y="762"/>
                    <a:pt x="368" y="762"/>
                  </a:cubicBezTo>
                  <a:cubicBezTo>
                    <a:pt x="459" y="761"/>
                    <a:pt x="579" y="760"/>
                    <a:pt x="703" y="759"/>
                  </a:cubicBezTo>
                  <a:cubicBezTo>
                    <a:pt x="827" y="758"/>
                    <a:pt x="956" y="757"/>
                    <a:pt x="1066" y="756"/>
                  </a:cubicBezTo>
                  <a:cubicBezTo>
                    <a:pt x="1176" y="756"/>
                    <a:pt x="1267" y="755"/>
                    <a:pt x="1315" y="755"/>
                  </a:cubicBezTo>
                  <a:cubicBezTo>
                    <a:pt x="1317" y="755"/>
                    <a:pt x="1318" y="755"/>
                    <a:pt x="1320" y="755"/>
                  </a:cubicBezTo>
                  <a:cubicBezTo>
                    <a:pt x="1322" y="755"/>
                    <a:pt x="1324" y="755"/>
                    <a:pt x="1325" y="755"/>
                  </a:cubicBezTo>
                  <a:cubicBezTo>
                    <a:pt x="1327" y="755"/>
                    <a:pt x="1329" y="755"/>
                    <a:pt x="1331" y="755"/>
                  </a:cubicBezTo>
                  <a:cubicBezTo>
                    <a:pt x="1333" y="755"/>
                    <a:pt x="1334" y="755"/>
                    <a:pt x="1336" y="755"/>
                  </a:cubicBezTo>
                  <a:cubicBezTo>
                    <a:pt x="1338" y="755"/>
                    <a:pt x="1339" y="755"/>
                    <a:pt x="1340" y="755"/>
                  </a:cubicBezTo>
                  <a:cubicBezTo>
                    <a:pt x="1341" y="755"/>
                    <a:pt x="1343" y="755"/>
                    <a:pt x="1344" y="755"/>
                  </a:cubicBezTo>
                  <a:cubicBezTo>
                    <a:pt x="1344" y="755"/>
                    <a:pt x="1345" y="755"/>
                    <a:pt x="1345" y="755"/>
                  </a:cubicBezTo>
                  <a:cubicBezTo>
                    <a:pt x="1346" y="755"/>
                    <a:pt x="1347" y="755"/>
                    <a:pt x="1347" y="755"/>
                  </a:cubicBezTo>
                  <a:cubicBezTo>
                    <a:pt x="1349" y="755"/>
                    <a:pt x="1350" y="755"/>
                    <a:pt x="1351" y="755"/>
                  </a:cubicBezTo>
                  <a:cubicBezTo>
                    <a:pt x="1351" y="755"/>
                    <a:pt x="1351" y="755"/>
                    <a:pt x="1351" y="755"/>
                  </a:cubicBezTo>
                  <a:cubicBezTo>
                    <a:pt x="1352" y="755"/>
                    <a:pt x="1353" y="755"/>
                    <a:pt x="1353" y="755"/>
                  </a:cubicBezTo>
                  <a:cubicBezTo>
                    <a:pt x="1355" y="755"/>
                    <a:pt x="1356" y="755"/>
                    <a:pt x="1358" y="755"/>
                  </a:cubicBezTo>
                  <a:cubicBezTo>
                    <a:pt x="1358" y="755"/>
                    <a:pt x="1358" y="755"/>
                    <a:pt x="1358" y="755"/>
                  </a:cubicBezTo>
                  <a:cubicBezTo>
                    <a:pt x="1359" y="755"/>
                    <a:pt x="1360" y="755"/>
                    <a:pt x="1361" y="755"/>
                  </a:cubicBezTo>
                  <a:cubicBezTo>
                    <a:pt x="1362" y="755"/>
                    <a:pt x="1363" y="755"/>
                    <a:pt x="1364" y="755"/>
                  </a:cubicBezTo>
                  <a:cubicBezTo>
                    <a:pt x="1365" y="755"/>
                    <a:pt x="1365" y="755"/>
                    <a:pt x="1365" y="755"/>
                  </a:cubicBezTo>
                  <a:cubicBezTo>
                    <a:pt x="1366" y="754"/>
                    <a:pt x="1366" y="754"/>
                    <a:pt x="1367" y="754"/>
                  </a:cubicBezTo>
                  <a:cubicBezTo>
                    <a:pt x="1368" y="754"/>
                    <a:pt x="1370" y="754"/>
                    <a:pt x="1371" y="754"/>
                  </a:cubicBezTo>
                  <a:cubicBezTo>
                    <a:pt x="1371" y="754"/>
                    <a:pt x="1371" y="754"/>
                    <a:pt x="1371" y="754"/>
                  </a:cubicBezTo>
                  <a:cubicBezTo>
                    <a:pt x="1372" y="754"/>
                    <a:pt x="1373" y="754"/>
                    <a:pt x="1374" y="754"/>
                  </a:cubicBezTo>
                  <a:cubicBezTo>
                    <a:pt x="1375" y="754"/>
                    <a:pt x="1376" y="754"/>
                    <a:pt x="1377" y="754"/>
                  </a:cubicBezTo>
                  <a:cubicBezTo>
                    <a:pt x="1377" y="754"/>
                    <a:pt x="1377" y="754"/>
                    <a:pt x="1377" y="754"/>
                  </a:cubicBezTo>
                  <a:cubicBezTo>
                    <a:pt x="1378" y="754"/>
                    <a:pt x="1379" y="754"/>
                    <a:pt x="1380" y="754"/>
                  </a:cubicBezTo>
                  <a:cubicBezTo>
                    <a:pt x="1380" y="754"/>
                    <a:pt x="1381" y="754"/>
                    <a:pt x="1382" y="753"/>
                  </a:cubicBezTo>
                  <a:cubicBezTo>
                    <a:pt x="1382" y="753"/>
                    <a:pt x="1382" y="753"/>
                    <a:pt x="1382" y="753"/>
                  </a:cubicBezTo>
                  <a:cubicBezTo>
                    <a:pt x="1383" y="753"/>
                    <a:pt x="1384" y="753"/>
                    <a:pt x="1385" y="753"/>
                  </a:cubicBezTo>
                  <a:cubicBezTo>
                    <a:pt x="1386" y="753"/>
                    <a:pt x="1386" y="753"/>
                    <a:pt x="1387" y="753"/>
                  </a:cubicBezTo>
                  <a:cubicBezTo>
                    <a:pt x="1388" y="753"/>
                    <a:pt x="1388" y="753"/>
                    <a:pt x="1388" y="753"/>
                  </a:cubicBezTo>
                  <a:cubicBezTo>
                    <a:pt x="1389" y="753"/>
                    <a:pt x="1389" y="753"/>
                    <a:pt x="1389" y="753"/>
                  </a:cubicBezTo>
                  <a:cubicBezTo>
                    <a:pt x="1389" y="753"/>
                    <a:pt x="1390" y="753"/>
                    <a:pt x="1390" y="753"/>
                  </a:cubicBezTo>
                  <a:cubicBezTo>
                    <a:pt x="1391" y="753"/>
                    <a:pt x="1391" y="753"/>
                    <a:pt x="1392" y="753"/>
                  </a:cubicBezTo>
                  <a:cubicBezTo>
                    <a:pt x="1393" y="752"/>
                    <a:pt x="1393" y="752"/>
                    <a:pt x="1393" y="752"/>
                  </a:cubicBezTo>
                  <a:cubicBezTo>
                    <a:pt x="1393" y="752"/>
                    <a:pt x="1394" y="752"/>
                    <a:pt x="1395" y="752"/>
                  </a:cubicBezTo>
                  <a:cubicBezTo>
                    <a:pt x="1395" y="752"/>
                    <a:pt x="1396" y="752"/>
                    <a:pt x="1396" y="752"/>
                  </a:cubicBezTo>
                  <a:cubicBezTo>
                    <a:pt x="1397" y="752"/>
                    <a:pt x="1397" y="752"/>
                    <a:pt x="1398" y="752"/>
                  </a:cubicBezTo>
                  <a:cubicBezTo>
                    <a:pt x="1398" y="752"/>
                    <a:pt x="1399" y="752"/>
                    <a:pt x="1399" y="752"/>
                  </a:cubicBezTo>
                  <a:cubicBezTo>
                    <a:pt x="1400" y="751"/>
                    <a:pt x="1400" y="751"/>
                    <a:pt x="1400" y="751"/>
                  </a:cubicBezTo>
                  <a:cubicBezTo>
                    <a:pt x="1401" y="751"/>
                    <a:pt x="1401" y="751"/>
                    <a:pt x="1402" y="751"/>
                  </a:cubicBezTo>
                  <a:cubicBezTo>
                    <a:pt x="1402" y="751"/>
                    <a:pt x="1403" y="751"/>
                    <a:pt x="1404" y="751"/>
                  </a:cubicBezTo>
                  <a:cubicBezTo>
                    <a:pt x="1404" y="751"/>
                    <a:pt x="1404" y="751"/>
                    <a:pt x="1404" y="751"/>
                  </a:cubicBezTo>
                  <a:cubicBezTo>
                    <a:pt x="1405" y="751"/>
                    <a:pt x="1406" y="751"/>
                    <a:pt x="1406" y="751"/>
                  </a:cubicBezTo>
                  <a:cubicBezTo>
                    <a:pt x="1407" y="750"/>
                    <a:pt x="1407" y="750"/>
                    <a:pt x="1408" y="750"/>
                  </a:cubicBezTo>
                  <a:cubicBezTo>
                    <a:pt x="1408" y="750"/>
                    <a:pt x="1408" y="750"/>
                    <a:pt x="1408" y="750"/>
                  </a:cubicBezTo>
                  <a:cubicBezTo>
                    <a:pt x="1409" y="750"/>
                    <a:pt x="1410" y="750"/>
                    <a:pt x="1410" y="750"/>
                  </a:cubicBezTo>
                  <a:cubicBezTo>
                    <a:pt x="1411" y="750"/>
                    <a:pt x="1411" y="750"/>
                    <a:pt x="1411" y="750"/>
                  </a:cubicBezTo>
                  <a:cubicBezTo>
                    <a:pt x="1412" y="750"/>
                    <a:pt x="1412" y="750"/>
                    <a:pt x="1412" y="750"/>
                  </a:cubicBezTo>
                  <a:cubicBezTo>
                    <a:pt x="1412" y="749"/>
                    <a:pt x="1413" y="749"/>
                    <a:pt x="1413" y="749"/>
                  </a:cubicBezTo>
                  <a:cubicBezTo>
                    <a:pt x="1414" y="749"/>
                    <a:pt x="1415" y="749"/>
                    <a:pt x="1415" y="749"/>
                  </a:cubicBezTo>
                  <a:cubicBezTo>
                    <a:pt x="1416" y="749"/>
                    <a:pt x="1416" y="749"/>
                    <a:pt x="1416" y="749"/>
                  </a:cubicBezTo>
                  <a:cubicBezTo>
                    <a:pt x="1417" y="748"/>
                    <a:pt x="1417" y="748"/>
                    <a:pt x="1417" y="748"/>
                  </a:cubicBezTo>
                  <a:cubicBezTo>
                    <a:pt x="1418" y="748"/>
                    <a:pt x="1418" y="748"/>
                    <a:pt x="1419" y="748"/>
                  </a:cubicBezTo>
                  <a:cubicBezTo>
                    <a:pt x="1420" y="748"/>
                    <a:pt x="1420" y="748"/>
                    <a:pt x="1420" y="748"/>
                  </a:cubicBezTo>
                  <a:cubicBezTo>
                    <a:pt x="1420" y="747"/>
                    <a:pt x="1420" y="747"/>
                    <a:pt x="1420" y="747"/>
                  </a:cubicBezTo>
                  <a:cubicBezTo>
                    <a:pt x="1421" y="747"/>
                    <a:pt x="1421" y="747"/>
                    <a:pt x="1421" y="747"/>
                  </a:cubicBezTo>
                  <a:cubicBezTo>
                    <a:pt x="1422" y="747"/>
                    <a:pt x="1422" y="747"/>
                    <a:pt x="1422" y="747"/>
                  </a:cubicBezTo>
                  <a:cubicBezTo>
                    <a:pt x="1423" y="747"/>
                    <a:pt x="1423" y="747"/>
                    <a:pt x="1423" y="747"/>
                  </a:cubicBezTo>
                  <a:cubicBezTo>
                    <a:pt x="1424" y="747"/>
                    <a:pt x="1424" y="747"/>
                    <a:pt x="1424" y="747"/>
                  </a:cubicBezTo>
                  <a:cubicBezTo>
                    <a:pt x="1424" y="746"/>
                    <a:pt x="1425" y="746"/>
                    <a:pt x="1425" y="746"/>
                  </a:cubicBezTo>
                  <a:cubicBezTo>
                    <a:pt x="1426" y="746"/>
                    <a:pt x="1426" y="746"/>
                    <a:pt x="1426" y="746"/>
                  </a:cubicBezTo>
                  <a:cubicBezTo>
                    <a:pt x="1426" y="746"/>
                    <a:pt x="1426" y="746"/>
                    <a:pt x="1426" y="746"/>
                  </a:cubicBezTo>
                  <a:cubicBezTo>
                    <a:pt x="1427" y="745"/>
                    <a:pt x="1428" y="745"/>
                    <a:pt x="1428" y="745"/>
                  </a:cubicBezTo>
                  <a:cubicBezTo>
                    <a:pt x="1429" y="745"/>
                    <a:pt x="1429" y="745"/>
                    <a:pt x="1429" y="745"/>
                  </a:cubicBezTo>
                  <a:cubicBezTo>
                    <a:pt x="1430" y="744"/>
                    <a:pt x="1431" y="744"/>
                    <a:pt x="1432" y="744"/>
                  </a:cubicBezTo>
                  <a:cubicBezTo>
                    <a:pt x="1432" y="744"/>
                    <a:pt x="1432" y="744"/>
                    <a:pt x="1432" y="744"/>
                  </a:cubicBezTo>
                  <a:cubicBezTo>
                    <a:pt x="1432" y="743"/>
                    <a:pt x="1432" y="743"/>
                    <a:pt x="1432" y="743"/>
                  </a:cubicBezTo>
                  <a:cubicBezTo>
                    <a:pt x="1433" y="743"/>
                    <a:pt x="1433" y="743"/>
                    <a:pt x="1434" y="743"/>
                  </a:cubicBezTo>
                  <a:cubicBezTo>
                    <a:pt x="1434" y="742"/>
                    <a:pt x="1434" y="742"/>
                    <a:pt x="1434" y="742"/>
                  </a:cubicBezTo>
                  <a:cubicBezTo>
                    <a:pt x="1435" y="742"/>
                    <a:pt x="1435" y="742"/>
                    <a:pt x="1436" y="741"/>
                  </a:cubicBezTo>
                  <a:cubicBezTo>
                    <a:pt x="1436" y="741"/>
                    <a:pt x="1436" y="741"/>
                    <a:pt x="1436" y="741"/>
                  </a:cubicBezTo>
                  <a:cubicBezTo>
                    <a:pt x="1436" y="741"/>
                    <a:pt x="1436" y="741"/>
                    <a:pt x="1436" y="741"/>
                  </a:cubicBezTo>
                  <a:cubicBezTo>
                    <a:pt x="1437" y="740"/>
                    <a:pt x="1437" y="740"/>
                    <a:pt x="1437" y="740"/>
                  </a:cubicBezTo>
                  <a:cubicBezTo>
                    <a:pt x="1438" y="740"/>
                    <a:pt x="1438" y="740"/>
                    <a:pt x="1438" y="740"/>
                  </a:cubicBezTo>
                  <a:cubicBezTo>
                    <a:pt x="1438" y="740"/>
                    <a:pt x="1438" y="740"/>
                    <a:pt x="1438" y="740"/>
                  </a:cubicBezTo>
                  <a:cubicBezTo>
                    <a:pt x="1439" y="739"/>
                    <a:pt x="1439" y="739"/>
                    <a:pt x="1439" y="739"/>
                  </a:cubicBezTo>
                  <a:cubicBezTo>
                    <a:pt x="1439" y="739"/>
                    <a:pt x="1439" y="739"/>
                    <a:pt x="1439" y="739"/>
                  </a:cubicBezTo>
                  <a:cubicBezTo>
                    <a:pt x="1440" y="738"/>
                    <a:pt x="1440" y="738"/>
                    <a:pt x="1440" y="738"/>
                  </a:cubicBezTo>
                  <a:cubicBezTo>
                    <a:pt x="1440" y="738"/>
                    <a:pt x="1441" y="738"/>
                    <a:pt x="1441" y="737"/>
                  </a:cubicBezTo>
                  <a:cubicBezTo>
                    <a:pt x="1442" y="737"/>
                    <a:pt x="1442" y="737"/>
                    <a:pt x="1442" y="737"/>
                  </a:cubicBezTo>
                  <a:cubicBezTo>
                    <a:pt x="1443" y="736"/>
                    <a:pt x="1443" y="736"/>
                    <a:pt x="1443" y="736"/>
                  </a:cubicBezTo>
                  <a:cubicBezTo>
                    <a:pt x="1443" y="736"/>
                    <a:pt x="1443" y="736"/>
                    <a:pt x="1443" y="736"/>
                  </a:cubicBezTo>
                  <a:cubicBezTo>
                    <a:pt x="1443" y="736"/>
                    <a:pt x="1443" y="736"/>
                    <a:pt x="1443" y="736"/>
                  </a:cubicBezTo>
                  <a:cubicBezTo>
                    <a:pt x="1443" y="735"/>
                    <a:pt x="1443" y="735"/>
                    <a:pt x="1443" y="735"/>
                  </a:cubicBezTo>
                  <a:cubicBezTo>
                    <a:pt x="1444" y="734"/>
                    <a:pt x="1444" y="734"/>
                    <a:pt x="1444" y="734"/>
                  </a:cubicBezTo>
                  <a:cubicBezTo>
                    <a:pt x="1444" y="734"/>
                    <a:pt x="1444" y="734"/>
                    <a:pt x="1444" y="734"/>
                  </a:cubicBezTo>
                  <a:cubicBezTo>
                    <a:pt x="1444" y="733"/>
                    <a:pt x="1444" y="733"/>
                    <a:pt x="1444" y="733"/>
                  </a:cubicBezTo>
                  <a:cubicBezTo>
                    <a:pt x="1444" y="733"/>
                    <a:pt x="1444" y="733"/>
                    <a:pt x="1444" y="733"/>
                  </a:cubicBezTo>
                  <a:cubicBezTo>
                    <a:pt x="1444" y="733"/>
                    <a:pt x="1444" y="733"/>
                    <a:pt x="1444" y="733"/>
                  </a:cubicBezTo>
                  <a:cubicBezTo>
                    <a:pt x="1444" y="732"/>
                    <a:pt x="1444" y="732"/>
                    <a:pt x="1444" y="732"/>
                  </a:cubicBezTo>
                  <a:cubicBezTo>
                    <a:pt x="1445" y="732"/>
                    <a:pt x="1445" y="732"/>
                    <a:pt x="1445" y="732"/>
                  </a:cubicBezTo>
                  <a:cubicBezTo>
                    <a:pt x="1445" y="732"/>
                    <a:pt x="1445" y="732"/>
                    <a:pt x="1445" y="732"/>
                  </a:cubicBezTo>
                  <a:cubicBezTo>
                    <a:pt x="1454" y="697"/>
                    <a:pt x="1464" y="662"/>
                    <a:pt x="1473" y="627"/>
                  </a:cubicBezTo>
                  <a:cubicBezTo>
                    <a:pt x="1485" y="583"/>
                    <a:pt x="1497" y="539"/>
                    <a:pt x="1509" y="496"/>
                  </a:cubicBezTo>
                  <a:cubicBezTo>
                    <a:pt x="1509" y="496"/>
                    <a:pt x="1509" y="497"/>
                    <a:pt x="1508" y="497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32"/>
            <p:cNvSpPr/>
            <p:nvPr/>
          </p:nvSpPr>
          <p:spPr>
            <a:xfrm flipH="1">
              <a:off x="1118520" y="4267080"/>
              <a:ext cx="2197080" cy="933480"/>
            </a:xfrm>
            <a:custGeom>
              <a:avLst/>
              <a:gdLst/>
              <a:ahLst/>
              <a:rect l="l" t="t" r="r" b="b"/>
              <a:pathLst>
                <a:path w="1487" h="632">
                  <a:moveTo>
                    <a:pt x="1486" y="593"/>
                  </a:moveTo>
                  <a:cubicBezTo>
                    <a:pt x="1484" y="590"/>
                    <a:pt x="1482" y="588"/>
                    <a:pt x="1481" y="587"/>
                  </a:cubicBezTo>
                  <a:cubicBezTo>
                    <a:pt x="1091" y="173"/>
                    <a:pt x="1091" y="173"/>
                    <a:pt x="1091" y="173"/>
                  </a:cubicBezTo>
                  <a:cubicBezTo>
                    <a:pt x="1077" y="159"/>
                    <a:pt x="1077" y="159"/>
                    <a:pt x="1077" y="159"/>
                  </a:cubicBezTo>
                  <a:cubicBezTo>
                    <a:pt x="1077" y="158"/>
                    <a:pt x="1076" y="157"/>
                    <a:pt x="1074" y="155"/>
                  </a:cubicBezTo>
                  <a:cubicBezTo>
                    <a:pt x="1072" y="153"/>
                    <a:pt x="1069" y="150"/>
                    <a:pt x="1066" y="148"/>
                  </a:cubicBezTo>
                  <a:cubicBezTo>
                    <a:pt x="1062" y="145"/>
                    <a:pt x="1058" y="143"/>
                    <a:pt x="1053" y="141"/>
                  </a:cubicBezTo>
                  <a:cubicBezTo>
                    <a:pt x="1048" y="139"/>
                    <a:pt x="1042" y="137"/>
                    <a:pt x="1035" y="137"/>
                  </a:cubicBezTo>
                  <a:cubicBezTo>
                    <a:pt x="1035" y="136"/>
                    <a:pt x="1034" y="136"/>
                    <a:pt x="1033" y="136"/>
                  </a:cubicBezTo>
                  <a:cubicBezTo>
                    <a:pt x="1032" y="136"/>
                    <a:pt x="1031" y="136"/>
                    <a:pt x="1030" y="136"/>
                  </a:cubicBezTo>
                  <a:cubicBezTo>
                    <a:pt x="1029" y="136"/>
                    <a:pt x="1027" y="136"/>
                    <a:pt x="1026" y="136"/>
                  </a:cubicBezTo>
                  <a:cubicBezTo>
                    <a:pt x="1025" y="136"/>
                    <a:pt x="1023" y="136"/>
                    <a:pt x="1022" y="136"/>
                  </a:cubicBezTo>
                  <a:cubicBezTo>
                    <a:pt x="1014" y="136"/>
                    <a:pt x="1005" y="137"/>
                    <a:pt x="993" y="137"/>
                  </a:cubicBezTo>
                  <a:cubicBezTo>
                    <a:pt x="982" y="137"/>
                    <a:pt x="969" y="137"/>
                    <a:pt x="955" y="138"/>
                  </a:cubicBezTo>
                  <a:cubicBezTo>
                    <a:pt x="941" y="138"/>
                    <a:pt x="925" y="139"/>
                    <a:pt x="910" y="139"/>
                  </a:cubicBezTo>
                  <a:cubicBezTo>
                    <a:pt x="894" y="140"/>
                    <a:pt x="877" y="141"/>
                    <a:pt x="860" y="141"/>
                  </a:cubicBezTo>
                  <a:cubicBezTo>
                    <a:pt x="844" y="142"/>
                    <a:pt x="827" y="142"/>
                    <a:pt x="811" y="143"/>
                  </a:cubicBezTo>
                  <a:cubicBezTo>
                    <a:pt x="795" y="143"/>
                    <a:pt x="779" y="144"/>
                    <a:pt x="765" y="144"/>
                  </a:cubicBezTo>
                  <a:cubicBezTo>
                    <a:pt x="750" y="145"/>
                    <a:pt x="737" y="145"/>
                    <a:pt x="725" y="146"/>
                  </a:cubicBezTo>
                  <a:cubicBezTo>
                    <a:pt x="713" y="146"/>
                    <a:pt x="703" y="146"/>
                    <a:pt x="695" y="146"/>
                  </a:cubicBezTo>
                  <a:cubicBezTo>
                    <a:pt x="694" y="146"/>
                    <a:pt x="693" y="146"/>
                    <a:pt x="692" y="146"/>
                  </a:cubicBezTo>
                  <a:cubicBezTo>
                    <a:pt x="692" y="146"/>
                    <a:pt x="691" y="146"/>
                    <a:pt x="690" y="146"/>
                  </a:cubicBezTo>
                  <a:cubicBezTo>
                    <a:pt x="689" y="146"/>
                    <a:pt x="689" y="146"/>
                    <a:pt x="688" y="146"/>
                  </a:cubicBezTo>
                  <a:cubicBezTo>
                    <a:pt x="687" y="146"/>
                    <a:pt x="687" y="146"/>
                    <a:pt x="686" y="146"/>
                  </a:cubicBezTo>
                  <a:cubicBezTo>
                    <a:pt x="671" y="146"/>
                    <a:pt x="659" y="144"/>
                    <a:pt x="650" y="141"/>
                  </a:cubicBezTo>
                  <a:cubicBezTo>
                    <a:pt x="640" y="138"/>
                    <a:pt x="632" y="134"/>
                    <a:pt x="626" y="130"/>
                  </a:cubicBezTo>
                  <a:cubicBezTo>
                    <a:pt x="620" y="125"/>
                    <a:pt x="616" y="120"/>
                    <a:pt x="613" y="115"/>
                  </a:cubicBezTo>
                  <a:cubicBezTo>
                    <a:pt x="611" y="109"/>
                    <a:pt x="609" y="104"/>
                    <a:pt x="608" y="99"/>
                  </a:cubicBezTo>
                  <a:cubicBezTo>
                    <a:pt x="608" y="94"/>
                    <a:pt x="607" y="90"/>
                    <a:pt x="605" y="85"/>
                  </a:cubicBezTo>
                  <a:cubicBezTo>
                    <a:pt x="603" y="80"/>
                    <a:pt x="600" y="75"/>
                    <a:pt x="596" y="69"/>
                  </a:cubicBezTo>
                  <a:cubicBezTo>
                    <a:pt x="592" y="64"/>
                    <a:pt x="586" y="58"/>
                    <a:pt x="579" y="52"/>
                  </a:cubicBezTo>
                  <a:cubicBezTo>
                    <a:pt x="571" y="45"/>
                    <a:pt x="562" y="38"/>
                    <a:pt x="551" y="30"/>
                  </a:cubicBezTo>
                  <a:cubicBezTo>
                    <a:pt x="544" y="25"/>
                    <a:pt x="535" y="20"/>
                    <a:pt x="524" y="17"/>
                  </a:cubicBezTo>
                  <a:cubicBezTo>
                    <a:pt x="513" y="13"/>
                    <a:pt x="501" y="10"/>
                    <a:pt x="489" y="7"/>
                  </a:cubicBezTo>
                  <a:cubicBezTo>
                    <a:pt x="476" y="5"/>
                    <a:pt x="462" y="3"/>
                    <a:pt x="449" y="2"/>
                  </a:cubicBezTo>
                  <a:cubicBezTo>
                    <a:pt x="435" y="1"/>
                    <a:pt x="422" y="0"/>
                    <a:pt x="408" y="1"/>
                  </a:cubicBezTo>
                  <a:cubicBezTo>
                    <a:pt x="400" y="1"/>
                    <a:pt x="392" y="1"/>
                    <a:pt x="385" y="1"/>
                  </a:cubicBezTo>
                  <a:cubicBezTo>
                    <a:pt x="377" y="2"/>
                    <a:pt x="370" y="3"/>
                    <a:pt x="363" y="4"/>
                  </a:cubicBezTo>
                  <a:cubicBezTo>
                    <a:pt x="357" y="5"/>
                    <a:pt x="350" y="6"/>
                    <a:pt x="345" y="8"/>
                  </a:cubicBezTo>
                  <a:cubicBezTo>
                    <a:pt x="340" y="9"/>
                    <a:pt x="335" y="11"/>
                    <a:pt x="331" y="13"/>
                  </a:cubicBezTo>
                  <a:cubicBezTo>
                    <a:pt x="321" y="18"/>
                    <a:pt x="317" y="24"/>
                    <a:pt x="319" y="31"/>
                  </a:cubicBezTo>
                  <a:cubicBezTo>
                    <a:pt x="320" y="37"/>
                    <a:pt x="326" y="44"/>
                    <a:pt x="335" y="51"/>
                  </a:cubicBezTo>
                  <a:cubicBezTo>
                    <a:pt x="343" y="58"/>
                    <a:pt x="353" y="65"/>
                    <a:pt x="363" y="71"/>
                  </a:cubicBezTo>
                  <a:cubicBezTo>
                    <a:pt x="373" y="77"/>
                    <a:pt x="382" y="83"/>
                    <a:pt x="389" y="87"/>
                  </a:cubicBezTo>
                  <a:cubicBezTo>
                    <a:pt x="395" y="92"/>
                    <a:pt x="399" y="96"/>
                    <a:pt x="400" y="100"/>
                  </a:cubicBezTo>
                  <a:cubicBezTo>
                    <a:pt x="402" y="105"/>
                    <a:pt x="401" y="109"/>
                    <a:pt x="398" y="113"/>
                  </a:cubicBezTo>
                  <a:cubicBezTo>
                    <a:pt x="395" y="116"/>
                    <a:pt x="390" y="120"/>
                    <a:pt x="383" y="123"/>
                  </a:cubicBezTo>
                  <a:cubicBezTo>
                    <a:pt x="376" y="125"/>
                    <a:pt x="368" y="128"/>
                    <a:pt x="358" y="129"/>
                  </a:cubicBezTo>
                  <a:cubicBezTo>
                    <a:pt x="357" y="129"/>
                    <a:pt x="357" y="129"/>
                    <a:pt x="356" y="130"/>
                  </a:cubicBezTo>
                  <a:cubicBezTo>
                    <a:pt x="355" y="130"/>
                    <a:pt x="355" y="130"/>
                    <a:pt x="354" y="130"/>
                  </a:cubicBezTo>
                  <a:cubicBezTo>
                    <a:pt x="354" y="130"/>
                    <a:pt x="353" y="130"/>
                    <a:pt x="352" y="130"/>
                  </a:cubicBezTo>
                  <a:cubicBezTo>
                    <a:pt x="351" y="130"/>
                    <a:pt x="350" y="130"/>
                    <a:pt x="350" y="130"/>
                  </a:cubicBezTo>
                  <a:cubicBezTo>
                    <a:pt x="334" y="130"/>
                    <a:pt x="305" y="127"/>
                    <a:pt x="270" y="123"/>
                  </a:cubicBezTo>
                  <a:cubicBezTo>
                    <a:pt x="236" y="118"/>
                    <a:pt x="195" y="113"/>
                    <a:pt x="157" y="107"/>
                  </a:cubicBezTo>
                  <a:cubicBezTo>
                    <a:pt x="119" y="101"/>
                    <a:pt x="83" y="95"/>
                    <a:pt x="55" y="90"/>
                  </a:cubicBezTo>
                  <a:cubicBezTo>
                    <a:pt x="27" y="86"/>
                    <a:pt x="9" y="83"/>
                    <a:pt x="5" y="82"/>
                  </a:cubicBezTo>
                  <a:cubicBezTo>
                    <a:pt x="5" y="82"/>
                    <a:pt x="5" y="83"/>
                    <a:pt x="4" y="85"/>
                  </a:cubicBezTo>
                  <a:cubicBezTo>
                    <a:pt x="4" y="87"/>
                    <a:pt x="3" y="90"/>
                    <a:pt x="3" y="93"/>
                  </a:cubicBezTo>
                  <a:cubicBezTo>
                    <a:pt x="2" y="97"/>
                    <a:pt x="1" y="102"/>
                    <a:pt x="1" y="107"/>
                  </a:cubicBezTo>
                  <a:cubicBezTo>
                    <a:pt x="0" y="112"/>
                    <a:pt x="0" y="119"/>
                    <a:pt x="0" y="126"/>
                  </a:cubicBezTo>
                  <a:cubicBezTo>
                    <a:pt x="0" y="133"/>
                    <a:pt x="0" y="142"/>
                    <a:pt x="1" y="151"/>
                  </a:cubicBezTo>
                  <a:cubicBezTo>
                    <a:pt x="3" y="161"/>
                    <a:pt x="5" y="171"/>
                    <a:pt x="9" y="182"/>
                  </a:cubicBezTo>
                  <a:cubicBezTo>
                    <a:pt x="12" y="192"/>
                    <a:pt x="16" y="202"/>
                    <a:pt x="22" y="212"/>
                  </a:cubicBezTo>
                  <a:cubicBezTo>
                    <a:pt x="28" y="221"/>
                    <a:pt x="34" y="230"/>
                    <a:pt x="42" y="236"/>
                  </a:cubicBezTo>
                  <a:cubicBezTo>
                    <a:pt x="50" y="242"/>
                    <a:pt x="62" y="247"/>
                    <a:pt x="76" y="250"/>
                  </a:cubicBezTo>
                  <a:cubicBezTo>
                    <a:pt x="90" y="253"/>
                    <a:pt x="106" y="255"/>
                    <a:pt x="123" y="256"/>
                  </a:cubicBezTo>
                  <a:cubicBezTo>
                    <a:pt x="141" y="258"/>
                    <a:pt x="160" y="259"/>
                    <a:pt x="179" y="260"/>
                  </a:cubicBezTo>
                  <a:cubicBezTo>
                    <a:pt x="198" y="262"/>
                    <a:pt x="218" y="263"/>
                    <a:pt x="237" y="266"/>
                  </a:cubicBezTo>
                  <a:cubicBezTo>
                    <a:pt x="257" y="268"/>
                    <a:pt x="274" y="274"/>
                    <a:pt x="290" y="282"/>
                  </a:cubicBezTo>
                  <a:cubicBezTo>
                    <a:pt x="306" y="291"/>
                    <a:pt x="319" y="301"/>
                    <a:pt x="331" y="313"/>
                  </a:cubicBezTo>
                  <a:cubicBezTo>
                    <a:pt x="342" y="324"/>
                    <a:pt x="351" y="337"/>
                    <a:pt x="357" y="351"/>
                  </a:cubicBezTo>
                  <a:cubicBezTo>
                    <a:pt x="364" y="364"/>
                    <a:pt x="367" y="377"/>
                    <a:pt x="368" y="390"/>
                  </a:cubicBezTo>
                  <a:cubicBezTo>
                    <a:pt x="368" y="397"/>
                    <a:pt x="365" y="403"/>
                    <a:pt x="361" y="407"/>
                  </a:cubicBezTo>
                  <a:cubicBezTo>
                    <a:pt x="357" y="412"/>
                    <a:pt x="351" y="416"/>
                    <a:pt x="343" y="420"/>
                  </a:cubicBezTo>
                  <a:cubicBezTo>
                    <a:pt x="336" y="423"/>
                    <a:pt x="327" y="425"/>
                    <a:pt x="317" y="426"/>
                  </a:cubicBezTo>
                  <a:cubicBezTo>
                    <a:pt x="307" y="428"/>
                    <a:pt x="296" y="429"/>
                    <a:pt x="285" y="429"/>
                  </a:cubicBezTo>
                  <a:cubicBezTo>
                    <a:pt x="276" y="429"/>
                    <a:pt x="267" y="428"/>
                    <a:pt x="258" y="427"/>
                  </a:cubicBezTo>
                  <a:cubicBezTo>
                    <a:pt x="249" y="427"/>
                    <a:pt x="240" y="425"/>
                    <a:pt x="232" y="424"/>
                  </a:cubicBezTo>
                  <a:cubicBezTo>
                    <a:pt x="224" y="422"/>
                    <a:pt x="216" y="420"/>
                    <a:pt x="209" y="418"/>
                  </a:cubicBezTo>
                  <a:cubicBezTo>
                    <a:pt x="202" y="415"/>
                    <a:pt x="196" y="413"/>
                    <a:pt x="191" y="410"/>
                  </a:cubicBezTo>
                  <a:cubicBezTo>
                    <a:pt x="184" y="406"/>
                    <a:pt x="178" y="403"/>
                    <a:pt x="171" y="401"/>
                  </a:cubicBezTo>
                  <a:cubicBezTo>
                    <a:pt x="165" y="398"/>
                    <a:pt x="158" y="396"/>
                    <a:pt x="152" y="395"/>
                  </a:cubicBezTo>
                  <a:cubicBezTo>
                    <a:pt x="145" y="393"/>
                    <a:pt x="139" y="392"/>
                    <a:pt x="133" y="391"/>
                  </a:cubicBezTo>
                  <a:cubicBezTo>
                    <a:pt x="127" y="391"/>
                    <a:pt x="121" y="390"/>
                    <a:pt x="115" y="390"/>
                  </a:cubicBezTo>
                  <a:cubicBezTo>
                    <a:pt x="111" y="390"/>
                    <a:pt x="107" y="391"/>
                    <a:pt x="104" y="391"/>
                  </a:cubicBezTo>
                  <a:cubicBezTo>
                    <a:pt x="100" y="391"/>
                    <a:pt x="96" y="392"/>
                    <a:pt x="93" y="392"/>
                  </a:cubicBezTo>
                  <a:cubicBezTo>
                    <a:pt x="90" y="393"/>
                    <a:pt x="86" y="394"/>
                    <a:pt x="83" y="394"/>
                  </a:cubicBezTo>
                  <a:cubicBezTo>
                    <a:pt x="81" y="395"/>
                    <a:pt x="78" y="396"/>
                    <a:pt x="75" y="397"/>
                  </a:cubicBezTo>
                  <a:cubicBezTo>
                    <a:pt x="69" y="399"/>
                    <a:pt x="67" y="407"/>
                    <a:pt x="68" y="419"/>
                  </a:cubicBezTo>
                  <a:cubicBezTo>
                    <a:pt x="69" y="431"/>
                    <a:pt x="72" y="446"/>
                    <a:pt x="76" y="464"/>
                  </a:cubicBezTo>
                  <a:cubicBezTo>
                    <a:pt x="81" y="481"/>
                    <a:pt x="87" y="500"/>
                    <a:pt x="93" y="518"/>
                  </a:cubicBezTo>
                  <a:cubicBezTo>
                    <a:pt x="99" y="537"/>
                    <a:pt x="104" y="555"/>
                    <a:pt x="109" y="570"/>
                  </a:cubicBezTo>
                  <a:cubicBezTo>
                    <a:pt x="113" y="584"/>
                    <a:pt x="118" y="594"/>
                    <a:pt x="124" y="603"/>
                  </a:cubicBezTo>
                  <a:cubicBezTo>
                    <a:pt x="130" y="611"/>
                    <a:pt x="137" y="618"/>
                    <a:pt x="145" y="622"/>
                  </a:cubicBezTo>
                  <a:cubicBezTo>
                    <a:pt x="152" y="626"/>
                    <a:pt x="161" y="629"/>
                    <a:pt x="170" y="630"/>
                  </a:cubicBezTo>
                  <a:cubicBezTo>
                    <a:pt x="179" y="632"/>
                    <a:pt x="190" y="632"/>
                    <a:pt x="200" y="632"/>
                  </a:cubicBezTo>
                  <a:cubicBezTo>
                    <a:pt x="201" y="632"/>
                    <a:pt x="202" y="632"/>
                    <a:pt x="203" y="632"/>
                  </a:cubicBezTo>
                  <a:cubicBezTo>
                    <a:pt x="204" y="632"/>
                    <a:pt x="205" y="632"/>
                    <a:pt x="206" y="632"/>
                  </a:cubicBezTo>
                  <a:cubicBezTo>
                    <a:pt x="207" y="632"/>
                    <a:pt x="208" y="632"/>
                    <a:pt x="209" y="632"/>
                  </a:cubicBezTo>
                  <a:cubicBezTo>
                    <a:pt x="210" y="632"/>
                    <a:pt x="211" y="632"/>
                    <a:pt x="212" y="632"/>
                  </a:cubicBezTo>
                  <a:cubicBezTo>
                    <a:pt x="224" y="632"/>
                    <a:pt x="288" y="631"/>
                    <a:pt x="382" y="630"/>
                  </a:cubicBezTo>
                  <a:cubicBezTo>
                    <a:pt x="476" y="629"/>
                    <a:pt x="598" y="628"/>
                    <a:pt x="725" y="627"/>
                  </a:cubicBezTo>
                  <a:cubicBezTo>
                    <a:pt x="853" y="626"/>
                    <a:pt x="985" y="625"/>
                    <a:pt x="1098" y="624"/>
                  </a:cubicBezTo>
                  <a:cubicBezTo>
                    <a:pt x="1211" y="623"/>
                    <a:pt x="1304" y="622"/>
                    <a:pt x="1353" y="622"/>
                  </a:cubicBezTo>
                  <a:cubicBezTo>
                    <a:pt x="1355" y="622"/>
                    <a:pt x="1357" y="622"/>
                    <a:pt x="1359" y="622"/>
                  </a:cubicBezTo>
                  <a:cubicBezTo>
                    <a:pt x="1360" y="622"/>
                    <a:pt x="1362" y="622"/>
                    <a:pt x="1364" y="622"/>
                  </a:cubicBezTo>
                  <a:cubicBezTo>
                    <a:pt x="1366" y="622"/>
                    <a:pt x="1368" y="622"/>
                    <a:pt x="1370" y="622"/>
                  </a:cubicBezTo>
                  <a:cubicBezTo>
                    <a:pt x="1371" y="622"/>
                    <a:pt x="1373" y="622"/>
                    <a:pt x="1375" y="622"/>
                  </a:cubicBezTo>
                  <a:cubicBezTo>
                    <a:pt x="1411" y="622"/>
                    <a:pt x="1435" y="620"/>
                    <a:pt x="1452" y="617"/>
                  </a:cubicBezTo>
                  <a:cubicBezTo>
                    <a:pt x="1469" y="614"/>
                    <a:pt x="1478" y="609"/>
                    <a:pt x="1482" y="605"/>
                  </a:cubicBezTo>
                  <a:cubicBezTo>
                    <a:pt x="1487" y="601"/>
                    <a:pt x="1487" y="597"/>
                    <a:pt x="1486" y="593"/>
                  </a:cubicBez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5" name="Freeform 33"/>
          <p:cNvSpPr/>
          <p:nvPr/>
        </p:nvSpPr>
        <p:spPr>
          <a:xfrm>
            <a:off x="5651640" y="1843200"/>
            <a:ext cx="517320" cy="1474560"/>
          </a:xfrm>
          <a:custGeom>
            <a:avLst/>
            <a:gdLst/>
            <a:ahLst/>
            <a:rect l="l" t="t" r="r" b="b"/>
            <a:pathLst>
              <a:path w="630" h="1795">
                <a:moveTo>
                  <a:pt x="28" y="785"/>
                </a:moveTo>
                <a:cubicBezTo>
                  <a:pt x="28" y="809"/>
                  <a:pt x="36" y="827"/>
                  <a:pt x="35" y="834"/>
                </a:cubicBezTo>
                <a:cubicBezTo>
                  <a:pt x="35" y="842"/>
                  <a:pt x="28" y="852"/>
                  <a:pt x="31" y="858"/>
                </a:cubicBezTo>
                <a:cubicBezTo>
                  <a:pt x="34" y="863"/>
                  <a:pt x="41" y="857"/>
                  <a:pt x="47" y="848"/>
                </a:cubicBezTo>
                <a:cubicBezTo>
                  <a:pt x="52" y="839"/>
                  <a:pt x="61" y="840"/>
                  <a:pt x="61" y="840"/>
                </a:cubicBezTo>
                <a:cubicBezTo>
                  <a:pt x="61" y="840"/>
                  <a:pt x="62" y="861"/>
                  <a:pt x="61" y="882"/>
                </a:cubicBezTo>
                <a:cubicBezTo>
                  <a:pt x="61" y="903"/>
                  <a:pt x="74" y="922"/>
                  <a:pt x="78" y="929"/>
                </a:cubicBezTo>
                <a:cubicBezTo>
                  <a:pt x="82" y="937"/>
                  <a:pt x="93" y="943"/>
                  <a:pt x="93" y="943"/>
                </a:cubicBezTo>
                <a:cubicBezTo>
                  <a:pt x="93" y="943"/>
                  <a:pt x="93" y="943"/>
                  <a:pt x="97" y="948"/>
                </a:cubicBezTo>
                <a:cubicBezTo>
                  <a:pt x="101" y="954"/>
                  <a:pt x="113" y="958"/>
                  <a:pt x="113" y="958"/>
                </a:cubicBezTo>
                <a:cubicBezTo>
                  <a:pt x="113" y="958"/>
                  <a:pt x="113" y="965"/>
                  <a:pt x="113" y="977"/>
                </a:cubicBezTo>
                <a:cubicBezTo>
                  <a:pt x="112" y="990"/>
                  <a:pt x="115" y="1007"/>
                  <a:pt x="126" y="1026"/>
                </a:cubicBezTo>
                <a:cubicBezTo>
                  <a:pt x="137" y="1044"/>
                  <a:pt x="127" y="1073"/>
                  <a:pt x="127" y="1087"/>
                </a:cubicBezTo>
                <a:cubicBezTo>
                  <a:pt x="128" y="1101"/>
                  <a:pt x="130" y="1115"/>
                  <a:pt x="130" y="1151"/>
                </a:cubicBezTo>
                <a:cubicBezTo>
                  <a:pt x="130" y="1187"/>
                  <a:pt x="118" y="1242"/>
                  <a:pt x="119" y="1267"/>
                </a:cubicBezTo>
                <a:cubicBezTo>
                  <a:pt x="121" y="1291"/>
                  <a:pt x="116" y="1292"/>
                  <a:pt x="106" y="1342"/>
                </a:cubicBezTo>
                <a:cubicBezTo>
                  <a:pt x="96" y="1392"/>
                  <a:pt x="104" y="1418"/>
                  <a:pt x="108" y="1460"/>
                </a:cubicBezTo>
                <a:cubicBezTo>
                  <a:pt x="111" y="1502"/>
                  <a:pt x="106" y="1541"/>
                  <a:pt x="113" y="1551"/>
                </a:cubicBezTo>
                <a:cubicBezTo>
                  <a:pt x="120" y="1560"/>
                  <a:pt x="114" y="1560"/>
                  <a:pt x="96" y="1569"/>
                </a:cubicBezTo>
                <a:cubicBezTo>
                  <a:pt x="77" y="1577"/>
                  <a:pt x="84" y="1578"/>
                  <a:pt x="81" y="1604"/>
                </a:cubicBezTo>
                <a:cubicBezTo>
                  <a:pt x="79" y="1631"/>
                  <a:pt x="94" y="1644"/>
                  <a:pt x="94" y="1644"/>
                </a:cubicBezTo>
                <a:cubicBezTo>
                  <a:pt x="94" y="1644"/>
                  <a:pt x="83" y="1682"/>
                  <a:pt x="78" y="1713"/>
                </a:cubicBezTo>
                <a:cubicBezTo>
                  <a:pt x="74" y="1743"/>
                  <a:pt x="75" y="1757"/>
                  <a:pt x="89" y="1776"/>
                </a:cubicBezTo>
                <a:cubicBezTo>
                  <a:pt x="102" y="1795"/>
                  <a:pt x="134" y="1794"/>
                  <a:pt x="155" y="1787"/>
                </a:cubicBezTo>
                <a:cubicBezTo>
                  <a:pt x="176" y="1781"/>
                  <a:pt x="179" y="1759"/>
                  <a:pt x="183" y="1742"/>
                </a:cubicBezTo>
                <a:cubicBezTo>
                  <a:pt x="186" y="1725"/>
                  <a:pt x="187" y="1648"/>
                  <a:pt x="187" y="1648"/>
                </a:cubicBezTo>
                <a:cubicBezTo>
                  <a:pt x="187" y="1648"/>
                  <a:pt x="187" y="1648"/>
                  <a:pt x="196" y="1641"/>
                </a:cubicBezTo>
                <a:cubicBezTo>
                  <a:pt x="204" y="1634"/>
                  <a:pt x="207" y="1623"/>
                  <a:pt x="208" y="1608"/>
                </a:cubicBezTo>
                <a:cubicBezTo>
                  <a:pt x="208" y="1592"/>
                  <a:pt x="216" y="1581"/>
                  <a:pt x="229" y="1562"/>
                </a:cubicBezTo>
                <a:cubicBezTo>
                  <a:pt x="241" y="1542"/>
                  <a:pt x="235" y="1519"/>
                  <a:pt x="232" y="1492"/>
                </a:cubicBezTo>
                <a:cubicBezTo>
                  <a:pt x="229" y="1464"/>
                  <a:pt x="229" y="1379"/>
                  <a:pt x="240" y="1358"/>
                </a:cubicBezTo>
                <a:cubicBezTo>
                  <a:pt x="250" y="1337"/>
                  <a:pt x="235" y="1298"/>
                  <a:pt x="239" y="1280"/>
                </a:cubicBezTo>
                <a:cubicBezTo>
                  <a:pt x="243" y="1262"/>
                  <a:pt x="253" y="1238"/>
                  <a:pt x="253" y="1221"/>
                </a:cubicBezTo>
                <a:cubicBezTo>
                  <a:pt x="253" y="1203"/>
                  <a:pt x="262" y="1173"/>
                  <a:pt x="275" y="1145"/>
                </a:cubicBezTo>
                <a:cubicBezTo>
                  <a:pt x="287" y="1117"/>
                  <a:pt x="314" y="1026"/>
                  <a:pt x="315" y="1022"/>
                </a:cubicBezTo>
                <a:cubicBezTo>
                  <a:pt x="315" y="1019"/>
                  <a:pt x="320" y="1019"/>
                  <a:pt x="322" y="1030"/>
                </a:cubicBezTo>
                <a:cubicBezTo>
                  <a:pt x="324" y="1042"/>
                  <a:pt x="323" y="1042"/>
                  <a:pt x="321" y="1085"/>
                </a:cubicBezTo>
                <a:cubicBezTo>
                  <a:pt x="320" y="1129"/>
                  <a:pt x="341" y="1192"/>
                  <a:pt x="342" y="1218"/>
                </a:cubicBezTo>
                <a:cubicBezTo>
                  <a:pt x="343" y="1244"/>
                  <a:pt x="349" y="1285"/>
                  <a:pt x="339" y="1331"/>
                </a:cubicBezTo>
                <a:cubicBezTo>
                  <a:pt x="329" y="1376"/>
                  <a:pt x="341" y="1439"/>
                  <a:pt x="341" y="1449"/>
                </a:cubicBezTo>
                <a:cubicBezTo>
                  <a:pt x="340" y="1473"/>
                  <a:pt x="340" y="1473"/>
                  <a:pt x="340" y="1473"/>
                </a:cubicBezTo>
                <a:cubicBezTo>
                  <a:pt x="340" y="1483"/>
                  <a:pt x="337" y="1480"/>
                  <a:pt x="335" y="1486"/>
                </a:cubicBezTo>
                <a:cubicBezTo>
                  <a:pt x="333" y="1492"/>
                  <a:pt x="336" y="1500"/>
                  <a:pt x="337" y="1518"/>
                </a:cubicBezTo>
                <a:cubicBezTo>
                  <a:pt x="338" y="1535"/>
                  <a:pt x="338" y="1544"/>
                  <a:pt x="338" y="1544"/>
                </a:cubicBezTo>
                <a:cubicBezTo>
                  <a:pt x="338" y="1544"/>
                  <a:pt x="339" y="1548"/>
                  <a:pt x="343" y="1555"/>
                </a:cubicBezTo>
                <a:cubicBezTo>
                  <a:pt x="347" y="1562"/>
                  <a:pt x="383" y="1568"/>
                  <a:pt x="410" y="1578"/>
                </a:cubicBezTo>
                <a:cubicBezTo>
                  <a:pt x="438" y="1588"/>
                  <a:pt x="453" y="1607"/>
                  <a:pt x="478" y="1618"/>
                </a:cubicBezTo>
                <a:cubicBezTo>
                  <a:pt x="502" y="1628"/>
                  <a:pt x="534" y="1626"/>
                  <a:pt x="547" y="1619"/>
                </a:cubicBezTo>
                <a:cubicBezTo>
                  <a:pt x="561" y="1611"/>
                  <a:pt x="561" y="1600"/>
                  <a:pt x="554" y="1586"/>
                </a:cubicBezTo>
                <a:cubicBezTo>
                  <a:pt x="547" y="1571"/>
                  <a:pt x="509" y="1547"/>
                  <a:pt x="496" y="1541"/>
                </a:cubicBezTo>
                <a:cubicBezTo>
                  <a:pt x="482" y="1535"/>
                  <a:pt x="465" y="1502"/>
                  <a:pt x="465" y="1502"/>
                </a:cubicBezTo>
                <a:cubicBezTo>
                  <a:pt x="465" y="1502"/>
                  <a:pt x="467" y="1484"/>
                  <a:pt x="463" y="1473"/>
                </a:cubicBezTo>
                <a:cubicBezTo>
                  <a:pt x="459" y="1461"/>
                  <a:pt x="456" y="1442"/>
                  <a:pt x="446" y="1399"/>
                </a:cubicBezTo>
                <a:cubicBezTo>
                  <a:pt x="436" y="1357"/>
                  <a:pt x="452" y="1321"/>
                  <a:pt x="461" y="1288"/>
                </a:cubicBezTo>
                <a:cubicBezTo>
                  <a:pt x="470" y="1256"/>
                  <a:pt x="462" y="1239"/>
                  <a:pt x="456" y="1233"/>
                </a:cubicBezTo>
                <a:cubicBezTo>
                  <a:pt x="451" y="1226"/>
                  <a:pt x="447" y="1225"/>
                  <a:pt x="452" y="1213"/>
                </a:cubicBezTo>
                <a:cubicBezTo>
                  <a:pt x="457" y="1201"/>
                  <a:pt x="453" y="1186"/>
                  <a:pt x="450" y="1179"/>
                </a:cubicBezTo>
                <a:cubicBezTo>
                  <a:pt x="447" y="1173"/>
                  <a:pt x="461" y="1154"/>
                  <a:pt x="472" y="1136"/>
                </a:cubicBezTo>
                <a:cubicBezTo>
                  <a:pt x="482" y="1119"/>
                  <a:pt x="480" y="1078"/>
                  <a:pt x="481" y="1065"/>
                </a:cubicBezTo>
                <a:cubicBezTo>
                  <a:pt x="481" y="1052"/>
                  <a:pt x="489" y="1018"/>
                  <a:pt x="495" y="996"/>
                </a:cubicBezTo>
                <a:cubicBezTo>
                  <a:pt x="501" y="974"/>
                  <a:pt x="495" y="929"/>
                  <a:pt x="495" y="929"/>
                </a:cubicBezTo>
                <a:cubicBezTo>
                  <a:pt x="495" y="929"/>
                  <a:pt x="496" y="929"/>
                  <a:pt x="498" y="927"/>
                </a:cubicBezTo>
                <a:cubicBezTo>
                  <a:pt x="501" y="925"/>
                  <a:pt x="500" y="905"/>
                  <a:pt x="499" y="852"/>
                </a:cubicBezTo>
                <a:cubicBezTo>
                  <a:pt x="498" y="799"/>
                  <a:pt x="484" y="687"/>
                  <a:pt x="484" y="687"/>
                </a:cubicBezTo>
                <a:cubicBezTo>
                  <a:pt x="484" y="687"/>
                  <a:pt x="487" y="698"/>
                  <a:pt x="488" y="710"/>
                </a:cubicBezTo>
                <a:cubicBezTo>
                  <a:pt x="490" y="721"/>
                  <a:pt x="514" y="804"/>
                  <a:pt x="515" y="818"/>
                </a:cubicBezTo>
                <a:cubicBezTo>
                  <a:pt x="517" y="832"/>
                  <a:pt x="540" y="874"/>
                  <a:pt x="540" y="874"/>
                </a:cubicBezTo>
                <a:cubicBezTo>
                  <a:pt x="540" y="874"/>
                  <a:pt x="540" y="874"/>
                  <a:pt x="546" y="886"/>
                </a:cubicBezTo>
                <a:cubicBezTo>
                  <a:pt x="551" y="897"/>
                  <a:pt x="558" y="901"/>
                  <a:pt x="558" y="901"/>
                </a:cubicBezTo>
                <a:cubicBezTo>
                  <a:pt x="558" y="901"/>
                  <a:pt x="558" y="901"/>
                  <a:pt x="558" y="904"/>
                </a:cubicBezTo>
                <a:cubicBezTo>
                  <a:pt x="558" y="907"/>
                  <a:pt x="557" y="914"/>
                  <a:pt x="558" y="925"/>
                </a:cubicBezTo>
                <a:cubicBezTo>
                  <a:pt x="558" y="937"/>
                  <a:pt x="565" y="934"/>
                  <a:pt x="569" y="932"/>
                </a:cubicBezTo>
                <a:cubicBezTo>
                  <a:pt x="572" y="930"/>
                  <a:pt x="576" y="901"/>
                  <a:pt x="576" y="901"/>
                </a:cubicBezTo>
                <a:cubicBezTo>
                  <a:pt x="576" y="901"/>
                  <a:pt x="578" y="901"/>
                  <a:pt x="583" y="901"/>
                </a:cubicBezTo>
                <a:cubicBezTo>
                  <a:pt x="589" y="901"/>
                  <a:pt x="592" y="899"/>
                  <a:pt x="594" y="902"/>
                </a:cubicBezTo>
                <a:cubicBezTo>
                  <a:pt x="596" y="905"/>
                  <a:pt x="599" y="913"/>
                  <a:pt x="599" y="916"/>
                </a:cubicBezTo>
                <a:cubicBezTo>
                  <a:pt x="599" y="919"/>
                  <a:pt x="599" y="926"/>
                  <a:pt x="599" y="926"/>
                </a:cubicBezTo>
                <a:cubicBezTo>
                  <a:pt x="599" y="926"/>
                  <a:pt x="599" y="926"/>
                  <a:pt x="598" y="926"/>
                </a:cubicBezTo>
                <a:cubicBezTo>
                  <a:pt x="596" y="926"/>
                  <a:pt x="589" y="932"/>
                  <a:pt x="589" y="932"/>
                </a:cubicBezTo>
                <a:cubicBezTo>
                  <a:pt x="585" y="932"/>
                  <a:pt x="585" y="932"/>
                  <a:pt x="585" y="932"/>
                </a:cubicBezTo>
                <a:cubicBezTo>
                  <a:pt x="585" y="932"/>
                  <a:pt x="575" y="932"/>
                  <a:pt x="573" y="933"/>
                </a:cubicBezTo>
                <a:cubicBezTo>
                  <a:pt x="571" y="935"/>
                  <a:pt x="570" y="940"/>
                  <a:pt x="572" y="942"/>
                </a:cubicBezTo>
                <a:cubicBezTo>
                  <a:pt x="575" y="944"/>
                  <a:pt x="581" y="944"/>
                  <a:pt x="581" y="944"/>
                </a:cubicBezTo>
                <a:cubicBezTo>
                  <a:pt x="581" y="944"/>
                  <a:pt x="576" y="945"/>
                  <a:pt x="571" y="945"/>
                </a:cubicBezTo>
                <a:cubicBezTo>
                  <a:pt x="567" y="945"/>
                  <a:pt x="565" y="946"/>
                  <a:pt x="564" y="950"/>
                </a:cubicBezTo>
                <a:cubicBezTo>
                  <a:pt x="562" y="954"/>
                  <a:pt x="570" y="959"/>
                  <a:pt x="570" y="959"/>
                </a:cubicBezTo>
                <a:cubicBezTo>
                  <a:pt x="570" y="959"/>
                  <a:pt x="570" y="959"/>
                  <a:pt x="567" y="960"/>
                </a:cubicBezTo>
                <a:cubicBezTo>
                  <a:pt x="565" y="962"/>
                  <a:pt x="565" y="964"/>
                  <a:pt x="568" y="966"/>
                </a:cubicBezTo>
                <a:cubicBezTo>
                  <a:pt x="570" y="968"/>
                  <a:pt x="584" y="967"/>
                  <a:pt x="592" y="963"/>
                </a:cubicBezTo>
                <a:cubicBezTo>
                  <a:pt x="600" y="958"/>
                  <a:pt x="618" y="942"/>
                  <a:pt x="622" y="927"/>
                </a:cubicBezTo>
                <a:cubicBezTo>
                  <a:pt x="627" y="913"/>
                  <a:pt x="629" y="901"/>
                  <a:pt x="630" y="895"/>
                </a:cubicBezTo>
                <a:cubicBezTo>
                  <a:pt x="630" y="888"/>
                  <a:pt x="622" y="873"/>
                  <a:pt x="622" y="873"/>
                </a:cubicBezTo>
                <a:cubicBezTo>
                  <a:pt x="622" y="873"/>
                  <a:pt x="622" y="873"/>
                  <a:pt x="624" y="873"/>
                </a:cubicBezTo>
                <a:cubicBezTo>
                  <a:pt x="627" y="873"/>
                  <a:pt x="628" y="865"/>
                  <a:pt x="623" y="851"/>
                </a:cubicBezTo>
                <a:cubicBezTo>
                  <a:pt x="618" y="837"/>
                  <a:pt x="609" y="788"/>
                  <a:pt x="606" y="777"/>
                </a:cubicBezTo>
                <a:cubicBezTo>
                  <a:pt x="604" y="767"/>
                  <a:pt x="591" y="704"/>
                  <a:pt x="591" y="704"/>
                </a:cubicBezTo>
                <a:cubicBezTo>
                  <a:pt x="581" y="685"/>
                  <a:pt x="565" y="612"/>
                  <a:pt x="545" y="545"/>
                </a:cubicBezTo>
                <a:cubicBezTo>
                  <a:pt x="526" y="478"/>
                  <a:pt x="510" y="357"/>
                  <a:pt x="506" y="350"/>
                </a:cubicBezTo>
                <a:cubicBezTo>
                  <a:pt x="502" y="343"/>
                  <a:pt x="438" y="316"/>
                  <a:pt x="425" y="305"/>
                </a:cubicBezTo>
                <a:cubicBezTo>
                  <a:pt x="412" y="293"/>
                  <a:pt x="381" y="273"/>
                  <a:pt x="381" y="273"/>
                </a:cubicBezTo>
                <a:cubicBezTo>
                  <a:pt x="372" y="245"/>
                  <a:pt x="372" y="245"/>
                  <a:pt x="372" y="245"/>
                </a:cubicBezTo>
                <a:cubicBezTo>
                  <a:pt x="372" y="245"/>
                  <a:pt x="372" y="245"/>
                  <a:pt x="375" y="231"/>
                </a:cubicBezTo>
                <a:cubicBezTo>
                  <a:pt x="377" y="216"/>
                  <a:pt x="392" y="189"/>
                  <a:pt x="392" y="189"/>
                </a:cubicBezTo>
                <a:cubicBezTo>
                  <a:pt x="392" y="189"/>
                  <a:pt x="405" y="181"/>
                  <a:pt x="407" y="166"/>
                </a:cubicBezTo>
                <a:cubicBezTo>
                  <a:pt x="410" y="152"/>
                  <a:pt x="407" y="138"/>
                  <a:pt x="407" y="138"/>
                </a:cubicBezTo>
                <a:cubicBezTo>
                  <a:pt x="407" y="138"/>
                  <a:pt x="413" y="86"/>
                  <a:pt x="402" y="51"/>
                </a:cubicBezTo>
                <a:cubicBezTo>
                  <a:pt x="392" y="16"/>
                  <a:pt x="356" y="0"/>
                  <a:pt x="344" y="0"/>
                </a:cubicBezTo>
                <a:cubicBezTo>
                  <a:pt x="331" y="1"/>
                  <a:pt x="309" y="0"/>
                  <a:pt x="270" y="30"/>
                </a:cubicBezTo>
                <a:cubicBezTo>
                  <a:pt x="232" y="59"/>
                  <a:pt x="247" y="108"/>
                  <a:pt x="242" y="122"/>
                </a:cubicBezTo>
                <a:cubicBezTo>
                  <a:pt x="238" y="136"/>
                  <a:pt x="250" y="166"/>
                  <a:pt x="257" y="172"/>
                </a:cubicBezTo>
                <a:cubicBezTo>
                  <a:pt x="264" y="179"/>
                  <a:pt x="258" y="220"/>
                  <a:pt x="258" y="220"/>
                </a:cubicBezTo>
                <a:cubicBezTo>
                  <a:pt x="258" y="220"/>
                  <a:pt x="247" y="228"/>
                  <a:pt x="220" y="245"/>
                </a:cubicBezTo>
                <a:cubicBezTo>
                  <a:pt x="193" y="261"/>
                  <a:pt x="111" y="254"/>
                  <a:pt x="101" y="253"/>
                </a:cubicBezTo>
                <a:cubicBezTo>
                  <a:pt x="90" y="253"/>
                  <a:pt x="63" y="301"/>
                  <a:pt x="63" y="319"/>
                </a:cubicBezTo>
                <a:cubicBezTo>
                  <a:pt x="62" y="336"/>
                  <a:pt x="55" y="339"/>
                  <a:pt x="47" y="375"/>
                </a:cubicBezTo>
                <a:cubicBezTo>
                  <a:pt x="39" y="412"/>
                  <a:pt x="29" y="465"/>
                  <a:pt x="29" y="465"/>
                </a:cubicBezTo>
                <a:cubicBezTo>
                  <a:pt x="29" y="465"/>
                  <a:pt x="13" y="564"/>
                  <a:pt x="7" y="622"/>
                </a:cubicBezTo>
                <a:cubicBezTo>
                  <a:pt x="0" y="680"/>
                  <a:pt x="27" y="760"/>
                  <a:pt x="28" y="785"/>
                </a:cubicBezTo>
                <a:close/>
                <a:moveTo>
                  <a:pt x="121" y="611"/>
                </a:moveTo>
                <a:cubicBezTo>
                  <a:pt x="122" y="593"/>
                  <a:pt x="135" y="551"/>
                  <a:pt x="135" y="551"/>
                </a:cubicBezTo>
                <a:cubicBezTo>
                  <a:pt x="135" y="551"/>
                  <a:pt x="136" y="562"/>
                  <a:pt x="141" y="600"/>
                </a:cubicBezTo>
                <a:cubicBezTo>
                  <a:pt x="145" y="638"/>
                  <a:pt x="123" y="706"/>
                  <a:pt x="123" y="706"/>
                </a:cubicBezTo>
                <a:cubicBezTo>
                  <a:pt x="123" y="706"/>
                  <a:pt x="122" y="694"/>
                  <a:pt x="120" y="676"/>
                </a:cubicBezTo>
                <a:cubicBezTo>
                  <a:pt x="118" y="658"/>
                  <a:pt x="120" y="629"/>
                  <a:pt x="121" y="611"/>
                </a:cubicBez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6" name="Group 34"/>
          <p:cNvGrpSpPr/>
          <p:nvPr/>
        </p:nvGrpSpPr>
        <p:grpSpPr>
          <a:xfrm>
            <a:off x="1884240" y="2484360"/>
            <a:ext cx="759960" cy="2552040"/>
            <a:chOff x="1884240" y="2484360"/>
            <a:chExt cx="759960" cy="2552040"/>
          </a:xfrm>
        </p:grpSpPr>
        <p:sp>
          <p:nvSpPr>
            <p:cNvPr id="487" name="Freeform 35"/>
            <p:cNvSpPr/>
            <p:nvPr/>
          </p:nvSpPr>
          <p:spPr>
            <a:xfrm>
              <a:off x="1884240" y="2484360"/>
              <a:ext cx="759960" cy="2552040"/>
            </a:xfrm>
            <a:custGeom>
              <a:avLst/>
              <a:gdLst/>
              <a:ahLst/>
              <a:rect l="l" t="t" r="r" b="b"/>
              <a:pathLst>
                <a:path w="283" h="949">
                  <a:moveTo>
                    <a:pt x="91" y="143"/>
                  </a:moveTo>
                  <a:cubicBezTo>
                    <a:pt x="92" y="143"/>
                    <a:pt x="97" y="140"/>
                    <a:pt x="99" y="135"/>
                  </a:cubicBezTo>
                  <a:cubicBezTo>
                    <a:pt x="100" y="130"/>
                    <a:pt x="102" y="118"/>
                    <a:pt x="102" y="118"/>
                  </a:cubicBezTo>
                  <a:cubicBezTo>
                    <a:pt x="106" y="117"/>
                    <a:pt x="106" y="117"/>
                    <a:pt x="106" y="117"/>
                  </a:cubicBezTo>
                  <a:cubicBezTo>
                    <a:pt x="107" y="88"/>
                    <a:pt x="107" y="88"/>
                    <a:pt x="107" y="88"/>
                  </a:cubicBezTo>
                  <a:cubicBezTo>
                    <a:pt x="107" y="88"/>
                    <a:pt x="99" y="88"/>
                    <a:pt x="98" y="81"/>
                  </a:cubicBezTo>
                  <a:cubicBezTo>
                    <a:pt x="97" y="75"/>
                    <a:pt x="98" y="64"/>
                    <a:pt x="101" y="63"/>
                  </a:cubicBezTo>
                  <a:cubicBezTo>
                    <a:pt x="103" y="62"/>
                    <a:pt x="103" y="62"/>
                    <a:pt x="103" y="62"/>
                  </a:cubicBezTo>
                  <a:cubicBezTo>
                    <a:pt x="103" y="62"/>
                    <a:pt x="100" y="29"/>
                    <a:pt x="106" y="21"/>
                  </a:cubicBezTo>
                  <a:cubicBezTo>
                    <a:pt x="112" y="13"/>
                    <a:pt x="121" y="5"/>
                    <a:pt x="129" y="2"/>
                  </a:cubicBezTo>
                  <a:cubicBezTo>
                    <a:pt x="137" y="0"/>
                    <a:pt x="147" y="2"/>
                    <a:pt x="149" y="2"/>
                  </a:cubicBezTo>
                  <a:cubicBezTo>
                    <a:pt x="150" y="2"/>
                    <a:pt x="152" y="2"/>
                    <a:pt x="155" y="2"/>
                  </a:cubicBezTo>
                  <a:cubicBezTo>
                    <a:pt x="158" y="3"/>
                    <a:pt x="177" y="17"/>
                    <a:pt x="180" y="23"/>
                  </a:cubicBezTo>
                  <a:cubicBezTo>
                    <a:pt x="183" y="29"/>
                    <a:pt x="190" y="50"/>
                    <a:pt x="188" y="58"/>
                  </a:cubicBezTo>
                  <a:cubicBezTo>
                    <a:pt x="187" y="66"/>
                    <a:pt x="186" y="69"/>
                    <a:pt x="186" y="69"/>
                  </a:cubicBezTo>
                  <a:cubicBezTo>
                    <a:pt x="186" y="69"/>
                    <a:pt x="191" y="73"/>
                    <a:pt x="190" y="77"/>
                  </a:cubicBezTo>
                  <a:cubicBezTo>
                    <a:pt x="189" y="81"/>
                    <a:pt x="185" y="100"/>
                    <a:pt x="182" y="100"/>
                  </a:cubicBezTo>
                  <a:cubicBezTo>
                    <a:pt x="180" y="99"/>
                    <a:pt x="178" y="98"/>
                    <a:pt x="178" y="98"/>
                  </a:cubicBezTo>
                  <a:cubicBezTo>
                    <a:pt x="178" y="98"/>
                    <a:pt x="167" y="120"/>
                    <a:pt x="166" y="125"/>
                  </a:cubicBezTo>
                  <a:cubicBezTo>
                    <a:pt x="166" y="129"/>
                    <a:pt x="165" y="133"/>
                    <a:pt x="165" y="133"/>
                  </a:cubicBezTo>
                  <a:cubicBezTo>
                    <a:pt x="173" y="155"/>
                    <a:pt x="173" y="155"/>
                    <a:pt x="173" y="155"/>
                  </a:cubicBezTo>
                  <a:cubicBezTo>
                    <a:pt x="173" y="155"/>
                    <a:pt x="224" y="162"/>
                    <a:pt x="230" y="173"/>
                  </a:cubicBezTo>
                  <a:cubicBezTo>
                    <a:pt x="237" y="183"/>
                    <a:pt x="239" y="191"/>
                    <a:pt x="241" y="195"/>
                  </a:cubicBezTo>
                  <a:cubicBezTo>
                    <a:pt x="244" y="199"/>
                    <a:pt x="249" y="204"/>
                    <a:pt x="250" y="209"/>
                  </a:cubicBezTo>
                  <a:cubicBezTo>
                    <a:pt x="250" y="214"/>
                    <a:pt x="253" y="223"/>
                    <a:pt x="257" y="228"/>
                  </a:cubicBezTo>
                  <a:cubicBezTo>
                    <a:pt x="260" y="232"/>
                    <a:pt x="279" y="250"/>
                    <a:pt x="279" y="268"/>
                  </a:cubicBezTo>
                  <a:cubicBezTo>
                    <a:pt x="279" y="287"/>
                    <a:pt x="281" y="311"/>
                    <a:pt x="266" y="311"/>
                  </a:cubicBezTo>
                  <a:cubicBezTo>
                    <a:pt x="251" y="312"/>
                    <a:pt x="235" y="310"/>
                    <a:pt x="235" y="310"/>
                  </a:cubicBezTo>
                  <a:cubicBezTo>
                    <a:pt x="225" y="310"/>
                    <a:pt x="225" y="310"/>
                    <a:pt x="225" y="310"/>
                  </a:cubicBezTo>
                  <a:cubicBezTo>
                    <a:pt x="225" y="310"/>
                    <a:pt x="214" y="363"/>
                    <a:pt x="215" y="368"/>
                  </a:cubicBezTo>
                  <a:cubicBezTo>
                    <a:pt x="216" y="374"/>
                    <a:pt x="227" y="443"/>
                    <a:pt x="224" y="450"/>
                  </a:cubicBezTo>
                  <a:cubicBezTo>
                    <a:pt x="221" y="457"/>
                    <a:pt x="219" y="461"/>
                    <a:pt x="219" y="467"/>
                  </a:cubicBezTo>
                  <a:cubicBezTo>
                    <a:pt x="218" y="472"/>
                    <a:pt x="220" y="487"/>
                    <a:pt x="220" y="487"/>
                  </a:cubicBezTo>
                  <a:cubicBezTo>
                    <a:pt x="220" y="487"/>
                    <a:pt x="211" y="634"/>
                    <a:pt x="212" y="650"/>
                  </a:cubicBezTo>
                  <a:cubicBezTo>
                    <a:pt x="212" y="667"/>
                    <a:pt x="218" y="715"/>
                    <a:pt x="216" y="739"/>
                  </a:cubicBezTo>
                  <a:cubicBezTo>
                    <a:pt x="214" y="763"/>
                    <a:pt x="214" y="793"/>
                    <a:pt x="214" y="793"/>
                  </a:cubicBezTo>
                  <a:cubicBezTo>
                    <a:pt x="214" y="793"/>
                    <a:pt x="223" y="801"/>
                    <a:pt x="225" y="811"/>
                  </a:cubicBezTo>
                  <a:cubicBezTo>
                    <a:pt x="228" y="821"/>
                    <a:pt x="230" y="833"/>
                    <a:pt x="231" y="834"/>
                  </a:cubicBezTo>
                  <a:cubicBezTo>
                    <a:pt x="232" y="835"/>
                    <a:pt x="248" y="845"/>
                    <a:pt x="253" y="847"/>
                  </a:cubicBezTo>
                  <a:cubicBezTo>
                    <a:pt x="258" y="849"/>
                    <a:pt x="278" y="849"/>
                    <a:pt x="280" y="855"/>
                  </a:cubicBezTo>
                  <a:cubicBezTo>
                    <a:pt x="283" y="861"/>
                    <a:pt x="283" y="864"/>
                    <a:pt x="283" y="864"/>
                  </a:cubicBezTo>
                  <a:cubicBezTo>
                    <a:pt x="283" y="864"/>
                    <a:pt x="267" y="875"/>
                    <a:pt x="254" y="875"/>
                  </a:cubicBezTo>
                  <a:cubicBezTo>
                    <a:pt x="241" y="874"/>
                    <a:pt x="227" y="872"/>
                    <a:pt x="217" y="866"/>
                  </a:cubicBezTo>
                  <a:cubicBezTo>
                    <a:pt x="207" y="860"/>
                    <a:pt x="191" y="854"/>
                    <a:pt x="191" y="854"/>
                  </a:cubicBezTo>
                  <a:cubicBezTo>
                    <a:pt x="188" y="862"/>
                    <a:pt x="188" y="862"/>
                    <a:pt x="188" y="862"/>
                  </a:cubicBezTo>
                  <a:cubicBezTo>
                    <a:pt x="188" y="862"/>
                    <a:pt x="158" y="862"/>
                    <a:pt x="153" y="859"/>
                  </a:cubicBezTo>
                  <a:cubicBezTo>
                    <a:pt x="148" y="856"/>
                    <a:pt x="148" y="854"/>
                    <a:pt x="148" y="854"/>
                  </a:cubicBezTo>
                  <a:cubicBezTo>
                    <a:pt x="150" y="841"/>
                    <a:pt x="150" y="841"/>
                    <a:pt x="150" y="841"/>
                  </a:cubicBezTo>
                  <a:cubicBezTo>
                    <a:pt x="150" y="841"/>
                    <a:pt x="148" y="823"/>
                    <a:pt x="150" y="817"/>
                  </a:cubicBezTo>
                  <a:cubicBezTo>
                    <a:pt x="153" y="811"/>
                    <a:pt x="152" y="811"/>
                    <a:pt x="154" y="807"/>
                  </a:cubicBezTo>
                  <a:cubicBezTo>
                    <a:pt x="156" y="803"/>
                    <a:pt x="162" y="799"/>
                    <a:pt x="161" y="796"/>
                  </a:cubicBezTo>
                  <a:cubicBezTo>
                    <a:pt x="161" y="793"/>
                    <a:pt x="158" y="754"/>
                    <a:pt x="154" y="743"/>
                  </a:cubicBezTo>
                  <a:cubicBezTo>
                    <a:pt x="149" y="733"/>
                    <a:pt x="144" y="714"/>
                    <a:pt x="144" y="710"/>
                  </a:cubicBezTo>
                  <a:cubicBezTo>
                    <a:pt x="144" y="705"/>
                    <a:pt x="137" y="651"/>
                    <a:pt x="135" y="634"/>
                  </a:cubicBezTo>
                  <a:cubicBezTo>
                    <a:pt x="132" y="617"/>
                    <a:pt x="126" y="574"/>
                    <a:pt x="126" y="574"/>
                  </a:cubicBezTo>
                  <a:cubicBezTo>
                    <a:pt x="126" y="574"/>
                    <a:pt x="118" y="595"/>
                    <a:pt x="114" y="608"/>
                  </a:cubicBezTo>
                  <a:cubicBezTo>
                    <a:pt x="109" y="621"/>
                    <a:pt x="95" y="691"/>
                    <a:pt x="93" y="710"/>
                  </a:cubicBezTo>
                  <a:cubicBezTo>
                    <a:pt x="90" y="730"/>
                    <a:pt x="88" y="737"/>
                    <a:pt x="87" y="743"/>
                  </a:cubicBezTo>
                  <a:cubicBezTo>
                    <a:pt x="87" y="750"/>
                    <a:pt x="88" y="826"/>
                    <a:pt x="86" y="836"/>
                  </a:cubicBezTo>
                  <a:cubicBezTo>
                    <a:pt x="84" y="846"/>
                    <a:pt x="86" y="856"/>
                    <a:pt x="77" y="865"/>
                  </a:cubicBezTo>
                  <a:cubicBezTo>
                    <a:pt x="68" y="874"/>
                    <a:pt x="58" y="885"/>
                    <a:pt x="58" y="885"/>
                  </a:cubicBezTo>
                  <a:cubicBezTo>
                    <a:pt x="58" y="885"/>
                    <a:pt x="73" y="929"/>
                    <a:pt x="69" y="937"/>
                  </a:cubicBezTo>
                  <a:cubicBezTo>
                    <a:pt x="64" y="945"/>
                    <a:pt x="51" y="949"/>
                    <a:pt x="40" y="948"/>
                  </a:cubicBezTo>
                  <a:cubicBezTo>
                    <a:pt x="29" y="948"/>
                    <a:pt x="15" y="944"/>
                    <a:pt x="10" y="932"/>
                  </a:cubicBezTo>
                  <a:cubicBezTo>
                    <a:pt x="6" y="921"/>
                    <a:pt x="9" y="882"/>
                    <a:pt x="9" y="882"/>
                  </a:cubicBezTo>
                  <a:cubicBezTo>
                    <a:pt x="0" y="853"/>
                    <a:pt x="0" y="853"/>
                    <a:pt x="0" y="853"/>
                  </a:cubicBezTo>
                  <a:cubicBezTo>
                    <a:pt x="0" y="853"/>
                    <a:pt x="3" y="841"/>
                    <a:pt x="8" y="838"/>
                  </a:cubicBezTo>
                  <a:cubicBezTo>
                    <a:pt x="13" y="835"/>
                    <a:pt x="18" y="828"/>
                    <a:pt x="15" y="820"/>
                  </a:cubicBezTo>
                  <a:cubicBezTo>
                    <a:pt x="11" y="811"/>
                    <a:pt x="15" y="713"/>
                    <a:pt x="16" y="708"/>
                  </a:cubicBezTo>
                  <a:cubicBezTo>
                    <a:pt x="17" y="704"/>
                    <a:pt x="18" y="680"/>
                    <a:pt x="18" y="676"/>
                  </a:cubicBezTo>
                  <a:cubicBezTo>
                    <a:pt x="19" y="672"/>
                    <a:pt x="36" y="598"/>
                    <a:pt x="34" y="586"/>
                  </a:cubicBezTo>
                  <a:cubicBezTo>
                    <a:pt x="33" y="574"/>
                    <a:pt x="37" y="535"/>
                    <a:pt x="37" y="532"/>
                  </a:cubicBezTo>
                  <a:cubicBezTo>
                    <a:pt x="37" y="529"/>
                    <a:pt x="39" y="470"/>
                    <a:pt x="40" y="468"/>
                  </a:cubicBezTo>
                  <a:cubicBezTo>
                    <a:pt x="41" y="466"/>
                    <a:pt x="42" y="447"/>
                    <a:pt x="42" y="447"/>
                  </a:cubicBezTo>
                  <a:cubicBezTo>
                    <a:pt x="42" y="447"/>
                    <a:pt x="30" y="421"/>
                    <a:pt x="37" y="402"/>
                  </a:cubicBezTo>
                  <a:cubicBezTo>
                    <a:pt x="43" y="383"/>
                    <a:pt x="57" y="332"/>
                    <a:pt x="57" y="331"/>
                  </a:cubicBezTo>
                  <a:cubicBezTo>
                    <a:pt x="57" y="330"/>
                    <a:pt x="58" y="321"/>
                    <a:pt x="58" y="321"/>
                  </a:cubicBezTo>
                  <a:cubicBezTo>
                    <a:pt x="58" y="321"/>
                    <a:pt x="49" y="296"/>
                    <a:pt x="43" y="286"/>
                  </a:cubicBezTo>
                  <a:cubicBezTo>
                    <a:pt x="38" y="276"/>
                    <a:pt x="21" y="240"/>
                    <a:pt x="24" y="219"/>
                  </a:cubicBezTo>
                  <a:cubicBezTo>
                    <a:pt x="27" y="198"/>
                    <a:pt x="25" y="193"/>
                    <a:pt x="28" y="184"/>
                  </a:cubicBezTo>
                  <a:cubicBezTo>
                    <a:pt x="31" y="176"/>
                    <a:pt x="34" y="168"/>
                    <a:pt x="36" y="165"/>
                  </a:cubicBezTo>
                  <a:cubicBezTo>
                    <a:pt x="37" y="163"/>
                    <a:pt x="52" y="153"/>
                    <a:pt x="58" y="151"/>
                  </a:cubicBezTo>
                  <a:cubicBezTo>
                    <a:pt x="65" y="148"/>
                    <a:pt x="73" y="149"/>
                    <a:pt x="78" y="148"/>
                  </a:cubicBezTo>
                  <a:cubicBezTo>
                    <a:pt x="84" y="147"/>
                    <a:pt x="91" y="143"/>
                    <a:pt x="91" y="143"/>
                  </a:cubicBez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36"/>
            <p:cNvSpPr/>
            <p:nvPr/>
          </p:nvSpPr>
          <p:spPr>
            <a:xfrm>
              <a:off x="2248560" y="2904120"/>
              <a:ext cx="206640" cy="552600"/>
            </a:xfrm>
            <a:custGeom>
              <a:avLst/>
              <a:gdLst/>
              <a:ahLst/>
              <a:rect l="l" t="t" r="r" b="b"/>
              <a:pathLst>
                <a:path w="77" h="206">
                  <a:moveTo>
                    <a:pt x="7" y="0"/>
                  </a:moveTo>
                  <a:cubicBezTo>
                    <a:pt x="7" y="0"/>
                    <a:pt x="16" y="3"/>
                    <a:pt x="19" y="2"/>
                  </a:cubicBezTo>
                  <a:cubicBezTo>
                    <a:pt x="21" y="0"/>
                    <a:pt x="21" y="0"/>
                    <a:pt x="21" y="0"/>
                  </a:cubicBezTo>
                  <a:cubicBezTo>
                    <a:pt x="21" y="0"/>
                    <a:pt x="28" y="6"/>
                    <a:pt x="29" y="8"/>
                  </a:cubicBezTo>
                  <a:cubicBezTo>
                    <a:pt x="30" y="10"/>
                    <a:pt x="27" y="24"/>
                    <a:pt x="27" y="24"/>
                  </a:cubicBezTo>
                  <a:cubicBezTo>
                    <a:pt x="27" y="24"/>
                    <a:pt x="30" y="41"/>
                    <a:pt x="37" y="48"/>
                  </a:cubicBezTo>
                  <a:cubicBezTo>
                    <a:pt x="44" y="55"/>
                    <a:pt x="58" y="94"/>
                    <a:pt x="58" y="94"/>
                  </a:cubicBezTo>
                  <a:cubicBezTo>
                    <a:pt x="58" y="94"/>
                    <a:pt x="71" y="165"/>
                    <a:pt x="74" y="171"/>
                  </a:cubicBezTo>
                  <a:cubicBezTo>
                    <a:pt x="77" y="178"/>
                    <a:pt x="77" y="179"/>
                    <a:pt x="77" y="179"/>
                  </a:cubicBezTo>
                  <a:cubicBezTo>
                    <a:pt x="61" y="206"/>
                    <a:pt x="61" y="206"/>
                    <a:pt x="61" y="206"/>
                  </a:cubicBezTo>
                  <a:cubicBezTo>
                    <a:pt x="61" y="206"/>
                    <a:pt x="34" y="182"/>
                    <a:pt x="29" y="171"/>
                  </a:cubicBezTo>
                  <a:cubicBezTo>
                    <a:pt x="23" y="161"/>
                    <a:pt x="14" y="74"/>
                    <a:pt x="15" y="66"/>
                  </a:cubicBezTo>
                  <a:cubicBezTo>
                    <a:pt x="15" y="59"/>
                    <a:pt x="13" y="32"/>
                    <a:pt x="13" y="32"/>
                  </a:cubicBezTo>
                  <a:cubicBezTo>
                    <a:pt x="14" y="25"/>
                    <a:pt x="14" y="25"/>
                    <a:pt x="14" y="25"/>
                  </a:cubicBezTo>
                  <a:cubicBezTo>
                    <a:pt x="0" y="8"/>
                    <a:pt x="0" y="8"/>
                    <a:pt x="0" y="8"/>
                  </a:cubicBezTo>
                  <a:lnTo>
                    <a:pt x="7" y="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9" name="Group 37"/>
          <p:cNvGrpSpPr/>
          <p:nvPr/>
        </p:nvGrpSpPr>
        <p:grpSpPr>
          <a:xfrm>
            <a:off x="4765680" y="1843200"/>
            <a:ext cx="374400" cy="1132920"/>
            <a:chOff x="4765680" y="1843200"/>
            <a:chExt cx="374400" cy="1132920"/>
          </a:xfrm>
        </p:grpSpPr>
        <p:sp>
          <p:nvSpPr>
            <p:cNvPr id="490" name="Freeform 38"/>
            <p:cNvSpPr/>
            <p:nvPr/>
          </p:nvSpPr>
          <p:spPr>
            <a:xfrm>
              <a:off x="4765680" y="1843200"/>
              <a:ext cx="374400" cy="1132920"/>
            </a:xfrm>
            <a:custGeom>
              <a:avLst/>
              <a:gdLst/>
              <a:ahLst/>
              <a:rect l="l" t="t" r="r" b="b"/>
              <a:pathLst>
                <a:path w="330" h="995">
                  <a:moveTo>
                    <a:pt x="196" y="71"/>
                  </a:moveTo>
                  <a:cubicBezTo>
                    <a:pt x="196" y="71"/>
                    <a:pt x="193" y="41"/>
                    <a:pt x="190" y="37"/>
                  </a:cubicBezTo>
                  <a:cubicBezTo>
                    <a:pt x="188" y="33"/>
                    <a:pt x="187" y="31"/>
                    <a:pt x="183" y="24"/>
                  </a:cubicBezTo>
                  <a:cubicBezTo>
                    <a:pt x="178" y="18"/>
                    <a:pt x="175" y="14"/>
                    <a:pt x="171" y="11"/>
                  </a:cubicBezTo>
                  <a:cubicBezTo>
                    <a:pt x="167" y="8"/>
                    <a:pt x="167" y="7"/>
                    <a:pt x="163" y="5"/>
                  </a:cubicBezTo>
                  <a:cubicBezTo>
                    <a:pt x="159" y="4"/>
                    <a:pt x="157" y="3"/>
                    <a:pt x="155" y="4"/>
                  </a:cubicBezTo>
                  <a:cubicBezTo>
                    <a:pt x="153" y="4"/>
                    <a:pt x="153" y="4"/>
                    <a:pt x="150" y="4"/>
                  </a:cubicBezTo>
                  <a:cubicBezTo>
                    <a:pt x="148" y="3"/>
                    <a:pt x="146" y="1"/>
                    <a:pt x="145" y="1"/>
                  </a:cubicBezTo>
                  <a:cubicBezTo>
                    <a:pt x="143" y="2"/>
                    <a:pt x="142" y="2"/>
                    <a:pt x="140" y="2"/>
                  </a:cubicBezTo>
                  <a:cubicBezTo>
                    <a:pt x="138" y="2"/>
                    <a:pt x="137" y="2"/>
                    <a:pt x="134" y="2"/>
                  </a:cubicBezTo>
                  <a:cubicBezTo>
                    <a:pt x="131" y="3"/>
                    <a:pt x="130" y="0"/>
                    <a:pt x="127" y="4"/>
                  </a:cubicBezTo>
                  <a:cubicBezTo>
                    <a:pt x="124" y="7"/>
                    <a:pt x="122" y="8"/>
                    <a:pt x="119" y="10"/>
                  </a:cubicBezTo>
                  <a:cubicBezTo>
                    <a:pt x="116" y="12"/>
                    <a:pt x="115" y="13"/>
                    <a:pt x="113" y="15"/>
                  </a:cubicBezTo>
                  <a:cubicBezTo>
                    <a:pt x="112" y="18"/>
                    <a:pt x="100" y="45"/>
                    <a:pt x="100" y="52"/>
                  </a:cubicBezTo>
                  <a:cubicBezTo>
                    <a:pt x="100" y="60"/>
                    <a:pt x="100" y="67"/>
                    <a:pt x="101" y="75"/>
                  </a:cubicBezTo>
                  <a:cubicBezTo>
                    <a:pt x="103" y="82"/>
                    <a:pt x="103" y="82"/>
                    <a:pt x="103" y="82"/>
                  </a:cubicBezTo>
                  <a:cubicBezTo>
                    <a:pt x="103" y="82"/>
                    <a:pt x="98" y="83"/>
                    <a:pt x="98" y="91"/>
                  </a:cubicBezTo>
                  <a:cubicBezTo>
                    <a:pt x="99" y="99"/>
                    <a:pt x="102" y="107"/>
                    <a:pt x="103" y="111"/>
                  </a:cubicBezTo>
                  <a:cubicBezTo>
                    <a:pt x="103" y="115"/>
                    <a:pt x="106" y="118"/>
                    <a:pt x="109" y="116"/>
                  </a:cubicBezTo>
                  <a:cubicBezTo>
                    <a:pt x="112" y="115"/>
                    <a:pt x="112" y="115"/>
                    <a:pt x="112" y="115"/>
                  </a:cubicBezTo>
                  <a:cubicBezTo>
                    <a:pt x="112" y="115"/>
                    <a:pt x="120" y="140"/>
                    <a:pt x="120" y="145"/>
                  </a:cubicBezTo>
                  <a:cubicBezTo>
                    <a:pt x="120" y="149"/>
                    <a:pt x="121" y="151"/>
                    <a:pt x="121" y="151"/>
                  </a:cubicBezTo>
                  <a:cubicBezTo>
                    <a:pt x="121" y="151"/>
                    <a:pt x="118" y="157"/>
                    <a:pt x="118" y="159"/>
                  </a:cubicBezTo>
                  <a:cubicBezTo>
                    <a:pt x="118" y="160"/>
                    <a:pt x="118" y="160"/>
                    <a:pt x="118" y="160"/>
                  </a:cubicBezTo>
                  <a:cubicBezTo>
                    <a:pt x="118" y="160"/>
                    <a:pt x="107" y="172"/>
                    <a:pt x="101" y="176"/>
                  </a:cubicBezTo>
                  <a:cubicBezTo>
                    <a:pt x="95" y="179"/>
                    <a:pt x="28" y="198"/>
                    <a:pt x="28" y="205"/>
                  </a:cubicBezTo>
                  <a:cubicBezTo>
                    <a:pt x="27" y="211"/>
                    <a:pt x="23" y="254"/>
                    <a:pt x="17" y="273"/>
                  </a:cubicBezTo>
                  <a:cubicBezTo>
                    <a:pt x="11" y="293"/>
                    <a:pt x="11" y="325"/>
                    <a:pt x="8" y="343"/>
                  </a:cubicBezTo>
                  <a:cubicBezTo>
                    <a:pt x="5" y="362"/>
                    <a:pt x="0" y="397"/>
                    <a:pt x="4" y="409"/>
                  </a:cubicBezTo>
                  <a:cubicBezTo>
                    <a:pt x="8" y="421"/>
                    <a:pt x="9" y="432"/>
                    <a:pt x="10" y="443"/>
                  </a:cubicBezTo>
                  <a:cubicBezTo>
                    <a:pt x="11" y="454"/>
                    <a:pt x="22" y="494"/>
                    <a:pt x="30" y="504"/>
                  </a:cubicBezTo>
                  <a:cubicBezTo>
                    <a:pt x="39" y="514"/>
                    <a:pt x="40" y="515"/>
                    <a:pt x="40" y="515"/>
                  </a:cubicBezTo>
                  <a:cubicBezTo>
                    <a:pt x="40" y="515"/>
                    <a:pt x="39" y="508"/>
                    <a:pt x="42" y="508"/>
                  </a:cubicBezTo>
                  <a:cubicBezTo>
                    <a:pt x="45" y="507"/>
                    <a:pt x="45" y="507"/>
                    <a:pt x="45" y="507"/>
                  </a:cubicBezTo>
                  <a:cubicBezTo>
                    <a:pt x="45" y="507"/>
                    <a:pt x="47" y="514"/>
                    <a:pt x="48" y="521"/>
                  </a:cubicBezTo>
                  <a:cubicBezTo>
                    <a:pt x="48" y="528"/>
                    <a:pt x="52" y="570"/>
                    <a:pt x="52" y="589"/>
                  </a:cubicBezTo>
                  <a:cubicBezTo>
                    <a:pt x="51" y="608"/>
                    <a:pt x="55" y="624"/>
                    <a:pt x="53" y="641"/>
                  </a:cubicBezTo>
                  <a:cubicBezTo>
                    <a:pt x="52" y="659"/>
                    <a:pt x="50" y="672"/>
                    <a:pt x="54" y="684"/>
                  </a:cubicBezTo>
                  <a:cubicBezTo>
                    <a:pt x="57" y="697"/>
                    <a:pt x="60" y="713"/>
                    <a:pt x="56" y="730"/>
                  </a:cubicBezTo>
                  <a:cubicBezTo>
                    <a:pt x="52" y="747"/>
                    <a:pt x="51" y="759"/>
                    <a:pt x="52" y="766"/>
                  </a:cubicBezTo>
                  <a:cubicBezTo>
                    <a:pt x="53" y="774"/>
                    <a:pt x="49" y="801"/>
                    <a:pt x="52" y="813"/>
                  </a:cubicBezTo>
                  <a:cubicBezTo>
                    <a:pt x="55" y="826"/>
                    <a:pt x="57" y="847"/>
                    <a:pt x="53" y="855"/>
                  </a:cubicBezTo>
                  <a:cubicBezTo>
                    <a:pt x="48" y="862"/>
                    <a:pt x="41" y="878"/>
                    <a:pt x="38" y="885"/>
                  </a:cubicBezTo>
                  <a:cubicBezTo>
                    <a:pt x="36" y="892"/>
                    <a:pt x="33" y="904"/>
                    <a:pt x="36" y="911"/>
                  </a:cubicBezTo>
                  <a:cubicBezTo>
                    <a:pt x="40" y="918"/>
                    <a:pt x="40" y="918"/>
                    <a:pt x="40" y="918"/>
                  </a:cubicBezTo>
                  <a:cubicBezTo>
                    <a:pt x="40" y="918"/>
                    <a:pt x="28" y="949"/>
                    <a:pt x="22" y="957"/>
                  </a:cubicBezTo>
                  <a:cubicBezTo>
                    <a:pt x="16" y="965"/>
                    <a:pt x="13" y="982"/>
                    <a:pt x="16" y="988"/>
                  </a:cubicBezTo>
                  <a:cubicBezTo>
                    <a:pt x="20" y="993"/>
                    <a:pt x="45" y="995"/>
                    <a:pt x="54" y="990"/>
                  </a:cubicBezTo>
                  <a:cubicBezTo>
                    <a:pt x="62" y="984"/>
                    <a:pt x="71" y="976"/>
                    <a:pt x="75" y="965"/>
                  </a:cubicBezTo>
                  <a:cubicBezTo>
                    <a:pt x="79" y="954"/>
                    <a:pt x="84" y="948"/>
                    <a:pt x="93" y="940"/>
                  </a:cubicBezTo>
                  <a:cubicBezTo>
                    <a:pt x="101" y="932"/>
                    <a:pt x="107" y="930"/>
                    <a:pt x="107" y="924"/>
                  </a:cubicBezTo>
                  <a:cubicBezTo>
                    <a:pt x="107" y="917"/>
                    <a:pt x="107" y="917"/>
                    <a:pt x="107" y="917"/>
                  </a:cubicBezTo>
                  <a:cubicBezTo>
                    <a:pt x="107" y="917"/>
                    <a:pt x="111" y="905"/>
                    <a:pt x="110" y="900"/>
                  </a:cubicBezTo>
                  <a:cubicBezTo>
                    <a:pt x="110" y="896"/>
                    <a:pt x="105" y="890"/>
                    <a:pt x="109" y="885"/>
                  </a:cubicBezTo>
                  <a:cubicBezTo>
                    <a:pt x="114" y="880"/>
                    <a:pt x="116" y="880"/>
                    <a:pt x="115" y="874"/>
                  </a:cubicBezTo>
                  <a:cubicBezTo>
                    <a:pt x="113" y="868"/>
                    <a:pt x="112" y="853"/>
                    <a:pt x="111" y="837"/>
                  </a:cubicBezTo>
                  <a:cubicBezTo>
                    <a:pt x="111" y="820"/>
                    <a:pt x="114" y="784"/>
                    <a:pt x="118" y="771"/>
                  </a:cubicBezTo>
                  <a:cubicBezTo>
                    <a:pt x="122" y="758"/>
                    <a:pt x="115" y="761"/>
                    <a:pt x="118" y="749"/>
                  </a:cubicBezTo>
                  <a:cubicBezTo>
                    <a:pt x="121" y="736"/>
                    <a:pt x="124" y="737"/>
                    <a:pt x="128" y="729"/>
                  </a:cubicBezTo>
                  <a:cubicBezTo>
                    <a:pt x="133" y="721"/>
                    <a:pt x="129" y="706"/>
                    <a:pt x="134" y="695"/>
                  </a:cubicBezTo>
                  <a:cubicBezTo>
                    <a:pt x="140" y="685"/>
                    <a:pt x="137" y="678"/>
                    <a:pt x="141" y="668"/>
                  </a:cubicBezTo>
                  <a:cubicBezTo>
                    <a:pt x="146" y="659"/>
                    <a:pt x="148" y="627"/>
                    <a:pt x="152" y="618"/>
                  </a:cubicBezTo>
                  <a:cubicBezTo>
                    <a:pt x="155" y="609"/>
                    <a:pt x="164" y="589"/>
                    <a:pt x="164" y="583"/>
                  </a:cubicBezTo>
                  <a:cubicBezTo>
                    <a:pt x="164" y="578"/>
                    <a:pt x="164" y="576"/>
                    <a:pt x="167" y="580"/>
                  </a:cubicBezTo>
                  <a:cubicBezTo>
                    <a:pt x="169" y="585"/>
                    <a:pt x="171" y="578"/>
                    <a:pt x="174" y="594"/>
                  </a:cubicBezTo>
                  <a:cubicBezTo>
                    <a:pt x="176" y="609"/>
                    <a:pt x="180" y="616"/>
                    <a:pt x="182" y="628"/>
                  </a:cubicBezTo>
                  <a:cubicBezTo>
                    <a:pt x="183" y="641"/>
                    <a:pt x="182" y="676"/>
                    <a:pt x="188" y="688"/>
                  </a:cubicBezTo>
                  <a:cubicBezTo>
                    <a:pt x="194" y="700"/>
                    <a:pt x="193" y="702"/>
                    <a:pt x="193" y="710"/>
                  </a:cubicBezTo>
                  <a:cubicBezTo>
                    <a:pt x="193" y="717"/>
                    <a:pt x="194" y="720"/>
                    <a:pt x="195" y="726"/>
                  </a:cubicBezTo>
                  <a:cubicBezTo>
                    <a:pt x="196" y="733"/>
                    <a:pt x="197" y="755"/>
                    <a:pt x="191" y="766"/>
                  </a:cubicBezTo>
                  <a:cubicBezTo>
                    <a:pt x="186" y="777"/>
                    <a:pt x="182" y="783"/>
                    <a:pt x="179" y="794"/>
                  </a:cubicBezTo>
                  <a:cubicBezTo>
                    <a:pt x="176" y="804"/>
                    <a:pt x="175" y="831"/>
                    <a:pt x="173" y="845"/>
                  </a:cubicBezTo>
                  <a:cubicBezTo>
                    <a:pt x="172" y="859"/>
                    <a:pt x="168" y="871"/>
                    <a:pt x="173" y="884"/>
                  </a:cubicBezTo>
                  <a:cubicBezTo>
                    <a:pt x="177" y="897"/>
                    <a:pt x="175" y="905"/>
                    <a:pt x="179" y="910"/>
                  </a:cubicBezTo>
                  <a:cubicBezTo>
                    <a:pt x="182" y="914"/>
                    <a:pt x="184" y="917"/>
                    <a:pt x="184" y="917"/>
                  </a:cubicBezTo>
                  <a:cubicBezTo>
                    <a:pt x="184" y="917"/>
                    <a:pt x="184" y="922"/>
                    <a:pt x="188" y="928"/>
                  </a:cubicBezTo>
                  <a:cubicBezTo>
                    <a:pt x="192" y="934"/>
                    <a:pt x="194" y="937"/>
                    <a:pt x="195" y="946"/>
                  </a:cubicBezTo>
                  <a:cubicBezTo>
                    <a:pt x="197" y="954"/>
                    <a:pt x="197" y="976"/>
                    <a:pt x="210" y="982"/>
                  </a:cubicBezTo>
                  <a:cubicBezTo>
                    <a:pt x="223" y="988"/>
                    <a:pt x="233" y="988"/>
                    <a:pt x="240" y="985"/>
                  </a:cubicBezTo>
                  <a:cubicBezTo>
                    <a:pt x="247" y="981"/>
                    <a:pt x="259" y="974"/>
                    <a:pt x="254" y="956"/>
                  </a:cubicBezTo>
                  <a:cubicBezTo>
                    <a:pt x="249" y="937"/>
                    <a:pt x="237" y="916"/>
                    <a:pt x="237" y="916"/>
                  </a:cubicBezTo>
                  <a:cubicBezTo>
                    <a:pt x="237" y="916"/>
                    <a:pt x="245" y="903"/>
                    <a:pt x="245" y="902"/>
                  </a:cubicBezTo>
                  <a:cubicBezTo>
                    <a:pt x="246" y="900"/>
                    <a:pt x="248" y="899"/>
                    <a:pt x="245" y="895"/>
                  </a:cubicBezTo>
                  <a:cubicBezTo>
                    <a:pt x="242" y="890"/>
                    <a:pt x="241" y="891"/>
                    <a:pt x="236" y="884"/>
                  </a:cubicBezTo>
                  <a:cubicBezTo>
                    <a:pt x="231" y="877"/>
                    <a:pt x="229" y="875"/>
                    <a:pt x="234" y="867"/>
                  </a:cubicBezTo>
                  <a:cubicBezTo>
                    <a:pt x="238" y="860"/>
                    <a:pt x="253" y="836"/>
                    <a:pt x="253" y="810"/>
                  </a:cubicBezTo>
                  <a:cubicBezTo>
                    <a:pt x="252" y="785"/>
                    <a:pt x="251" y="789"/>
                    <a:pt x="254" y="772"/>
                  </a:cubicBezTo>
                  <a:cubicBezTo>
                    <a:pt x="258" y="755"/>
                    <a:pt x="263" y="691"/>
                    <a:pt x="265" y="679"/>
                  </a:cubicBezTo>
                  <a:cubicBezTo>
                    <a:pt x="267" y="666"/>
                    <a:pt x="285" y="594"/>
                    <a:pt x="283" y="563"/>
                  </a:cubicBezTo>
                  <a:cubicBezTo>
                    <a:pt x="281" y="531"/>
                    <a:pt x="285" y="525"/>
                    <a:pt x="285" y="525"/>
                  </a:cubicBezTo>
                  <a:cubicBezTo>
                    <a:pt x="292" y="531"/>
                    <a:pt x="292" y="531"/>
                    <a:pt x="292" y="531"/>
                  </a:cubicBezTo>
                  <a:cubicBezTo>
                    <a:pt x="288" y="516"/>
                    <a:pt x="288" y="516"/>
                    <a:pt x="288" y="516"/>
                  </a:cubicBezTo>
                  <a:cubicBezTo>
                    <a:pt x="288" y="516"/>
                    <a:pt x="294" y="512"/>
                    <a:pt x="294" y="508"/>
                  </a:cubicBezTo>
                  <a:cubicBezTo>
                    <a:pt x="294" y="504"/>
                    <a:pt x="301" y="495"/>
                    <a:pt x="301" y="494"/>
                  </a:cubicBezTo>
                  <a:cubicBezTo>
                    <a:pt x="302" y="493"/>
                    <a:pt x="303" y="502"/>
                    <a:pt x="303" y="502"/>
                  </a:cubicBezTo>
                  <a:cubicBezTo>
                    <a:pt x="303" y="502"/>
                    <a:pt x="330" y="448"/>
                    <a:pt x="329" y="438"/>
                  </a:cubicBezTo>
                  <a:cubicBezTo>
                    <a:pt x="329" y="428"/>
                    <a:pt x="328" y="416"/>
                    <a:pt x="328" y="412"/>
                  </a:cubicBezTo>
                  <a:cubicBezTo>
                    <a:pt x="328" y="407"/>
                    <a:pt x="323" y="349"/>
                    <a:pt x="316" y="310"/>
                  </a:cubicBezTo>
                  <a:cubicBezTo>
                    <a:pt x="309" y="271"/>
                    <a:pt x="309" y="263"/>
                    <a:pt x="301" y="241"/>
                  </a:cubicBezTo>
                  <a:cubicBezTo>
                    <a:pt x="294" y="219"/>
                    <a:pt x="289" y="212"/>
                    <a:pt x="289" y="203"/>
                  </a:cubicBezTo>
                  <a:cubicBezTo>
                    <a:pt x="288" y="193"/>
                    <a:pt x="287" y="187"/>
                    <a:pt x="284" y="184"/>
                  </a:cubicBezTo>
                  <a:cubicBezTo>
                    <a:pt x="281" y="181"/>
                    <a:pt x="219" y="171"/>
                    <a:pt x="213" y="167"/>
                  </a:cubicBezTo>
                  <a:cubicBezTo>
                    <a:pt x="206" y="164"/>
                    <a:pt x="198" y="157"/>
                    <a:pt x="195" y="152"/>
                  </a:cubicBezTo>
                  <a:cubicBezTo>
                    <a:pt x="191" y="148"/>
                    <a:pt x="188" y="145"/>
                    <a:pt x="188" y="145"/>
                  </a:cubicBezTo>
                  <a:cubicBezTo>
                    <a:pt x="188" y="145"/>
                    <a:pt x="189" y="135"/>
                    <a:pt x="189" y="123"/>
                  </a:cubicBezTo>
                  <a:cubicBezTo>
                    <a:pt x="189" y="111"/>
                    <a:pt x="190" y="107"/>
                    <a:pt x="193" y="108"/>
                  </a:cubicBezTo>
                  <a:cubicBezTo>
                    <a:pt x="196" y="108"/>
                    <a:pt x="201" y="103"/>
                    <a:pt x="202" y="95"/>
                  </a:cubicBezTo>
                  <a:cubicBezTo>
                    <a:pt x="204" y="86"/>
                    <a:pt x="204" y="79"/>
                    <a:pt x="202" y="76"/>
                  </a:cubicBezTo>
                  <a:cubicBezTo>
                    <a:pt x="200" y="73"/>
                    <a:pt x="196" y="71"/>
                    <a:pt x="196" y="71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39"/>
            <p:cNvSpPr/>
            <p:nvPr/>
          </p:nvSpPr>
          <p:spPr>
            <a:xfrm>
              <a:off x="4898160" y="2010960"/>
              <a:ext cx="87480" cy="204480"/>
            </a:xfrm>
            <a:custGeom>
              <a:avLst/>
              <a:gdLst/>
              <a:ahLst/>
              <a:rect l="l" t="t" r="r" b="b"/>
              <a:pathLst>
                <a:path w="78" h="181">
                  <a:moveTo>
                    <a:pt x="43" y="27"/>
                  </a:moveTo>
                  <a:cubicBezTo>
                    <a:pt x="43" y="27"/>
                    <a:pt x="43" y="27"/>
                    <a:pt x="43" y="27"/>
                  </a:cubicBezTo>
                  <a:close/>
                  <a:moveTo>
                    <a:pt x="38" y="27"/>
                  </a:moveTo>
                  <a:cubicBezTo>
                    <a:pt x="38" y="27"/>
                    <a:pt x="32" y="28"/>
                    <a:pt x="24" y="24"/>
                  </a:cubicBezTo>
                  <a:cubicBezTo>
                    <a:pt x="19" y="22"/>
                    <a:pt x="10" y="12"/>
                    <a:pt x="4" y="5"/>
                  </a:cubicBezTo>
                  <a:cubicBezTo>
                    <a:pt x="4" y="5"/>
                    <a:pt x="4" y="5"/>
                    <a:pt x="4" y="5"/>
                  </a:cubicBezTo>
                  <a:cubicBezTo>
                    <a:pt x="4" y="5"/>
                    <a:pt x="3" y="8"/>
                    <a:pt x="2" y="10"/>
                  </a:cubicBezTo>
                  <a:cubicBezTo>
                    <a:pt x="3" y="12"/>
                    <a:pt x="2" y="19"/>
                    <a:pt x="1" y="42"/>
                  </a:cubicBezTo>
                  <a:cubicBezTo>
                    <a:pt x="0" y="66"/>
                    <a:pt x="11" y="109"/>
                    <a:pt x="11" y="109"/>
                  </a:cubicBezTo>
                  <a:cubicBezTo>
                    <a:pt x="11" y="109"/>
                    <a:pt x="11" y="109"/>
                    <a:pt x="12" y="100"/>
                  </a:cubicBezTo>
                  <a:cubicBezTo>
                    <a:pt x="12" y="92"/>
                    <a:pt x="25" y="61"/>
                    <a:pt x="27" y="56"/>
                  </a:cubicBezTo>
                  <a:cubicBezTo>
                    <a:pt x="30" y="50"/>
                    <a:pt x="24" y="45"/>
                    <a:pt x="26" y="38"/>
                  </a:cubicBezTo>
                  <a:cubicBezTo>
                    <a:pt x="28" y="31"/>
                    <a:pt x="31" y="31"/>
                    <a:pt x="35" y="31"/>
                  </a:cubicBezTo>
                  <a:cubicBezTo>
                    <a:pt x="39" y="30"/>
                    <a:pt x="38" y="27"/>
                    <a:pt x="38" y="27"/>
                  </a:cubicBezTo>
                  <a:close/>
                  <a:moveTo>
                    <a:pt x="78" y="6"/>
                  </a:moveTo>
                  <a:cubicBezTo>
                    <a:pt x="75" y="3"/>
                    <a:pt x="73" y="1"/>
                    <a:pt x="72" y="0"/>
                  </a:cubicBezTo>
                  <a:cubicBezTo>
                    <a:pt x="70" y="5"/>
                    <a:pt x="66" y="11"/>
                    <a:pt x="61" y="15"/>
                  </a:cubicBezTo>
                  <a:cubicBezTo>
                    <a:pt x="53" y="22"/>
                    <a:pt x="45" y="26"/>
                    <a:pt x="43" y="27"/>
                  </a:cubicBezTo>
                  <a:cubicBezTo>
                    <a:pt x="44" y="26"/>
                    <a:pt x="48" y="26"/>
                    <a:pt x="55" y="31"/>
                  </a:cubicBezTo>
                  <a:cubicBezTo>
                    <a:pt x="63" y="38"/>
                    <a:pt x="63" y="38"/>
                    <a:pt x="63" y="38"/>
                  </a:cubicBezTo>
                  <a:cubicBezTo>
                    <a:pt x="63" y="38"/>
                    <a:pt x="48" y="42"/>
                    <a:pt x="45" y="48"/>
                  </a:cubicBezTo>
                  <a:cubicBezTo>
                    <a:pt x="43" y="55"/>
                    <a:pt x="41" y="60"/>
                    <a:pt x="41" y="60"/>
                  </a:cubicBezTo>
                  <a:cubicBezTo>
                    <a:pt x="41" y="60"/>
                    <a:pt x="55" y="78"/>
                    <a:pt x="56" y="92"/>
                  </a:cubicBezTo>
                  <a:cubicBezTo>
                    <a:pt x="58" y="106"/>
                    <a:pt x="59" y="157"/>
                    <a:pt x="59" y="169"/>
                  </a:cubicBezTo>
                  <a:cubicBezTo>
                    <a:pt x="58" y="180"/>
                    <a:pt x="58" y="181"/>
                    <a:pt x="58" y="181"/>
                  </a:cubicBezTo>
                  <a:cubicBezTo>
                    <a:pt x="58" y="181"/>
                    <a:pt x="65" y="104"/>
                    <a:pt x="70" y="74"/>
                  </a:cubicBezTo>
                  <a:cubicBezTo>
                    <a:pt x="74" y="43"/>
                    <a:pt x="75" y="28"/>
                    <a:pt x="76" y="21"/>
                  </a:cubicBezTo>
                  <a:cubicBezTo>
                    <a:pt x="77" y="14"/>
                    <a:pt x="77" y="13"/>
                    <a:pt x="78" y="8"/>
                  </a:cubicBezTo>
                  <a:cubicBezTo>
                    <a:pt x="78" y="7"/>
                    <a:pt x="78" y="7"/>
                    <a:pt x="78" y="7"/>
                  </a:cubicBezTo>
                  <a:lnTo>
                    <a:pt x="78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2" name="Group 40"/>
          <p:cNvGrpSpPr/>
          <p:nvPr/>
        </p:nvGrpSpPr>
        <p:grpSpPr>
          <a:xfrm>
            <a:off x="3863880" y="2309760"/>
            <a:ext cx="726840" cy="2214360"/>
            <a:chOff x="3863880" y="2309760"/>
            <a:chExt cx="726840" cy="2214360"/>
          </a:xfrm>
        </p:grpSpPr>
        <p:sp>
          <p:nvSpPr>
            <p:cNvPr id="493" name="Freeform 41"/>
            <p:cNvSpPr/>
            <p:nvPr/>
          </p:nvSpPr>
          <p:spPr>
            <a:xfrm>
              <a:off x="3863880" y="2309760"/>
              <a:ext cx="726840" cy="2214360"/>
            </a:xfrm>
            <a:custGeom>
              <a:avLst/>
              <a:gdLst/>
              <a:ahLst/>
              <a:rect l="l" t="t" r="r" b="b"/>
              <a:pathLst>
                <a:path w="527" h="1608">
                  <a:moveTo>
                    <a:pt x="9" y="593"/>
                  </a:moveTo>
                  <a:cubicBezTo>
                    <a:pt x="9" y="611"/>
                    <a:pt x="0" y="664"/>
                    <a:pt x="1" y="689"/>
                  </a:cubicBezTo>
                  <a:cubicBezTo>
                    <a:pt x="2" y="714"/>
                    <a:pt x="18" y="758"/>
                    <a:pt x="23" y="772"/>
                  </a:cubicBezTo>
                  <a:cubicBezTo>
                    <a:pt x="28" y="786"/>
                    <a:pt x="28" y="770"/>
                    <a:pt x="28" y="770"/>
                  </a:cubicBezTo>
                  <a:cubicBezTo>
                    <a:pt x="28" y="770"/>
                    <a:pt x="39" y="792"/>
                    <a:pt x="39" y="802"/>
                  </a:cubicBezTo>
                  <a:cubicBezTo>
                    <a:pt x="40" y="811"/>
                    <a:pt x="45" y="796"/>
                    <a:pt x="45" y="796"/>
                  </a:cubicBezTo>
                  <a:cubicBezTo>
                    <a:pt x="45" y="796"/>
                    <a:pt x="46" y="799"/>
                    <a:pt x="47" y="802"/>
                  </a:cubicBezTo>
                  <a:cubicBezTo>
                    <a:pt x="48" y="805"/>
                    <a:pt x="48" y="814"/>
                    <a:pt x="50" y="827"/>
                  </a:cubicBezTo>
                  <a:cubicBezTo>
                    <a:pt x="53" y="841"/>
                    <a:pt x="47" y="865"/>
                    <a:pt x="47" y="871"/>
                  </a:cubicBezTo>
                  <a:cubicBezTo>
                    <a:pt x="48" y="877"/>
                    <a:pt x="53" y="898"/>
                    <a:pt x="56" y="912"/>
                  </a:cubicBezTo>
                  <a:cubicBezTo>
                    <a:pt x="60" y="925"/>
                    <a:pt x="70" y="989"/>
                    <a:pt x="72" y="1006"/>
                  </a:cubicBezTo>
                  <a:cubicBezTo>
                    <a:pt x="74" y="1023"/>
                    <a:pt x="87" y="1080"/>
                    <a:pt x="90" y="1089"/>
                  </a:cubicBezTo>
                  <a:cubicBezTo>
                    <a:pt x="92" y="1098"/>
                    <a:pt x="88" y="1100"/>
                    <a:pt x="91" y="1120"/>
                  </a:cubicBezTo>
                  <a:cubicBezTo>
                    <a:pt x="93" y="1139"/>
                    <a:pt x="99" y="1179"/>
                    <a:pt x="89" y="1202"/>
                  </a:cubicBezTo>
                  <a:cubicBezTo>
                    <a:pt x="80" y="1226"/>
                    <a:pt x="112" y="1316"/>
                    <a:pt x="115" y="1325"/>
                  </a:cubicBezTo>
                  <a:cubicBezTo>
                    <a:pt x="117" y="1334"/>
                    <a:pt x="122" y="1338"/>
                    <a:pt x="116" y="1353"/>
                  </a:cubicBezTo>
                  <a:cubicBezTo>
                    <a:pt x="110" y="1368"/>
                    <a:pt x="111" y="1383"/>
                    <a:pt x="111" y="1393"/>
                  </a:cubicBezTo>
                  <a:cubicBezTo>
                    <a:pt x="111" y="1402"/>
                    <a:pt x="110" y="1408"/>
                    <a:pt x="110" y="1408"/>
                  </a:cubicBezTo>
                  <a:cubicBezTo>
                    <a:pt x="110" y="1408"/>
                    <a:pt x="81" y="1442"/>
                    <a:pt x="64" y="1461"/>
                  </a:cubicBezTo>
                  <a:cubicBezTo>
                    <a:pt x="47" y="1480"/>
                    <a:pt x="50" y="1490"/>
                    <a:pt x="54" y="1499"/>
                  </a:cubicBezTo>
                  <a:cubicBezTo>
                    <a:pt x="57" y="1508"/>
                    <a:pt x="71" y="1514"/>
                    <a:pt x="92" y="1515"/>
                  </a:cubicBezTo>
                  <a:cubicBezTo>
                    <a:pt x="113" y="1516"/>
                    <a:pt x="138" y="1499"/>
                    <a:pt x="150" y="1484"/>
                  </a:cubicBezTo>
                  <a:cubicBezTo>
                    <a:pt x="162" y="1469"/>
                    <a:pt x="176" y="1461"/>
                    <a:pt x="192" y="1453"/>
                  </a:cubicBezTo>
                  <a:cubicBezTo>
                    <a:pt x="208" y="1445"/>
                    <a:pt x="214" y="1437"/>
                    <a:pt x="214" y="1437"/>
                  </a:cubicBezTo>
                  <a:cubicBezTo>
                    <a:pt x="214" y="1410"/>
                    <a:pt x="214" y="1410"/>
                    <a:pt x="214" y="1410"/>
                  </a:cubicBezTo>
                  <a:cubicBezTo>
                    <a:pt x="214" y="1410"/>
                    <a:pt x="218" y="1406"/>
                    <a:pt x="222" y="1398"/>
                  </a:cubicBezTo>
                  <a:cubicBezTo>
                    <a:pt x="226" y="1390"/>
                    <a:pt x="227" y="1368"/>
                    <a:pt x="224" y="1360"/>
                  </a:cubicBezTo>
                  <a:cubicBezTo>
                    <a:pt x="221" y="1351"/>
                    <a:pt x="218" y="1346"/>
                    <a:pt x="223" y="1334"/>
                  </a:cubicBezTo>
                  <a:cubicBezTo>
                    <a:pt x="227" y="1322"/>
                    <a:pt x="223" y="1291"/>
                    <a:pt x="220" y="1263"/>
                  </a:cubicBezTo>
                  <a:cubicBezTo>
                    <a:pt x="217" y="1235"/>
                    <a:pt x="202" y="1176"/>
                    <a:pt x="199" y="1173"/>
                  </a:cubicBezTo>
                  <a:cubicBezTo>
                    <a:pt x="195" y="1169"/>
                    <a:pt x="198" y="1163"/>
                    <a:pt x="200" y="1156"/>
                  </a:cubicBezTo>
                  <a:cubicBezTo>
                    <a:pt x="203" y="1148"/>
                    <a:pt x="200" y="1151"/>
                    <a:pt x="196" y="1144"/>
                  </a:cubicBezTo>
                  <a:cubicBezTo>
                    <a:pt x="192" y="1138"/>
                    <a:pt x="191" y="1139"/>
                    <a:pt x="195" y="1133"/>
                  </a:cubicBezTo>
                  <a:cubicBezTo>
                    <a:pt x="198" y="1126"/>
                    <a:pt x="203" y="1124"/>
                    <a:pt x="199" y="1114"/>
                  </a:cubicBezTo>
                  <a:cubicBezTo>
                    <a:pt x="194" y="1104"/>
                    <a:pt x="197" y="1093"/>
                    <a:pt x="201" y="1086"/>
                  </a:cubicBezTo>
                  <a:cubicBezTo>
                    <a:pt x="206" y="1079"/>
                    <a:pt x="205" y="1072"/>
                    <a:pt x="207" y="1060"/>
                  </a:cubicBezTo>
                  <a:cubicBezTo>
                    <a:pt x="208" y="1048"/>
                    <a:pt x="218" y="1008"/>
                    <a:pt x="221" y="993"/>
                  </a:cubicBezTo>
                  <a:cubicBezTo>
                    <a:pt x="224" y="978"/>
                    <a:pt x="221" y="949"/>
                    <a:pt x="222" y="938"/>
                  </a:cubicBezTo>
                  <a:cubicBezTo>
                    <a:pt x="224" y="927"/>
                    <a:pt x="231" y="916"/>
                    <a:pt x="231" y="916"/>
                  </a:cubicBezTo>
                  <a:cubicBezTo>
                    <a:pt x="231" y="916"/>
                    <a:pt x="231" y="917"/>
                    <a:pt x="234" y="930"/>
                  </a:cubicBezTo>
                  <a:cubicBezTo>
                    <a:pt x="237" y="943"/>
                    <a:pt x="253" y="998"/>
                    <a:pt x="256" y="1007"/>
                  </a:cubicBezTo>
                  <a:cubicBezTo>
                    <a:pt x="259" y="1016"/>
                    <a:pt x="271" y="1075"/>
                    <a:pt x="274" y="1089"/>
                  </a:cubicBezTo>
                  <a:cubicBezTo>
                    <a:pt x="278" y="1103"/>
                    <a:pt x="275" y="1110"/>
                    <a:pt x="283" y="1129"/>
                  </a:cubicBezTo>
                  <a:cubicBezTo>
                    <a:pt x="292" y="1148"/>
                    <a:pt x="289" y="1181"/>
                    <a:pt x="288" y="1187"/>
                  </a:cubicBezTo>
                  <a:cubicBezTo>
                    <a:pt x="287" y="1193"/>
                    <a:pt x="288" y="1197"/>
                    <a:pt x="294" y="1217"/>
                  </a:cubicBezTo>
                  <a:cubicBezTo>
                    <a:pt x="301" y="1238"/>
                    <a:pt x="300" y="1264"/>
                    <a:pt x="301" y="1298"/>
                  </a:cubicBezTo>
                  <a:cubicBezTo>
                    <a:pt x="303" y="1331"/>
                    <a:pt x="318" y="1374"/>
                    <a:pt x="327" y="1388"/>
                  </a:cubicBezTo>
                  <a:cubicBezTo>
                    <a:pt x="335" y="1403"/>
                    <a:pt x="333" y="1417"/>
                    <a:pt x="326" y="1428"/>
                  </a:cubicBezTo>
                  <a:cubicBezTo>
                    <a:pt x="319" y="1438"/>
                    <a:pt x="328" y="1457"/>
                    <a:pt x="331" y="1466"/>
                  </a:cubicBezTo>
                  <a:cubicBezTo>
                    <a:pt x="333" y="1476"/>
                    <a:pt x="352" y="1496"/>
                    <a:pt x="352" y="1496"/>
                  </a:cubicBezTo>
                  <a:cubicBezTo>
                    <a:pt x="352" y="1496"/>
                    <a:pt x="352" y="1496"/>
                    <a:pt x="357" y="1509"/>
                  </a:cubicBezTo>
                  <a:cubicBezTo>
                    <a:pt x="363" y="1522"/>
                    <a:pt x="358" y="1534"/>
                    <a:pt x="357" y="1558"/>
                  </a:cubicBezTo>
                  <a:cubicBezTo>
                    <a:pt x="356" y="1581"/>
                    <a:pt x="367" y="1589"/>
                    <a:pt x="380" y="1598"/>
                  </a:cubicBezTo>
                  <a:cubicBezTo>
                    <a:pt x="392" y="1608"/>
                    <a:pt x="433" y="1606"/>
                    <a:pt x="440" y="1599"/>
                  </a:cubicBezTo>
                  <a:cubicBezTo>
                    <a:pt x="448" y="1592"/>
                    <a:pt x="449" y="1567"/>
                    <a:pt x="448" y="1556"/>
                  </a:cubicBezTo>
                  <a:cubicBezTo>
                    <a:pt x="447" y="1545"/>
                    <a:pt x="440" y="1488"/>
                    <a:pt x="440" y="1488"/>
                  </a:cubicBezTo>
                  <a:cubicBezTo>
                    <a:pt x="440" y="1488"/>
                    <a:pt x="439" y="1480"/>
                    <a:pt x="442" y="1467"/>
                  </a:cubicBezTo>
                  <a:cubicBezTo>
                    <a:pt x="446" y="1454"/>
                    <a:pt x="437" y="1430"/>
                    <a:pt x="434" y="1421"/>
                  </a:cubicBezTo>
                  <a:cubicBezTo>
                    <a:pt x="431" y="1413"/>
                    <a:pt x="424" y="1411"/>
                    <a:pt x="418" y="1402"/>
                  </a:cubicBezTo>
                  <a:cubicBezTo>
                    <a:pt x="413" y="1393"/>
                    <a:pt x="418" y="1389"/>
                    <a:pt x="424" y="1375"/>
                  </a:cubicBezTo>
                  <a:cubicBezTo>
                    <a:pt x="431" y="1361"/>
                    <a:pt x="427" y="1345"/>
                    <a:pt x="424" y="1332"/>
                  </a:cubicBezTo>
                  <a:cubicBezTo>
                    <a:pt x="421" y="1318"/>
                    <a:pt x="424" y="1316"/>
                    <a:pt x="425" y="1308"/>
                  </a:cubicBezTo>
                  <a:cubicBezTo>
                    <a:pt x="426" y="1300"/>
                    <a:pt x="423" y="1252"/>
                    <a:pt x="422" y="1243"/>
                  </a:cubicBezTo>
                  <a:cubicBezTo>
                    <a:pt x="420" y="1235"/>
                    <a:pt x="418" y="1232"/>
                    <a:pt x="423" y="1223"/>
                  </a:cubicBezTo>
                  <a:cubicBezTo>
                    <a:pt x="428" y="1213"/>
                    <a:pt x="421" y="1199"/>
                    <a:pt x="418" y="1192"/>
                  </a:cubicBezTo>
                  <a:cubicBezTo>
                    <a:pt x="416" y="1185"/>
                    <a:pt x="410" y="1172"/>
                    <a:pt x="418" y="1156"/>
                  </a:cubicBezTo>
                  <a:cubicBezTo>
                    <a:pt x="426" y="1140"/>
                    <a:pt x="416" y="1151"/>
                    <a:pt x="413" y="1134"/>
                  </a:cubicBezTo>
                  <a:cubicBezTo>
                    <a:pt x="410" y="1117"/>
                    <a:pt x="409" y="1090"/>
                    <a:pt x="405" y="1080"/>
                  </a:cubicBezTo>
                  <a:cubicBezTo>
                    <a:pt x="402" y="1069"/>
                    <a:pt x="401" y="1065"/>
                    <a:pt x="401" y="1052"/>
                  </a:cubicBezTo>
                  <a:cubicBezTo>
                    <a:pt x="401" y="1040"/>
                    <a:pt x="400" y="1040"/>
                    <a:pt x="400" y="1025"/>
                  </a:cubicBezTo>
                  <a:cubicBezTo>
                    <a:pt x="399" y="1011"/>
                    <a:pt x="404" y="955"/>
                    <a:pt x="405" y="940"/>
                  </a:cubicBezTo>
                  <a:cubicBezTo>
                    <a:pt x="406" y="924"/>
                    <a:pt x="408" y="860"/>
                    <a:pt x="408" y="860"/>
                  </a:cubicBezTo>
                  <a:cubicBezTo>
                    <a:pt x="408" y="860"/>
                    <a:pt x="411" y="858"/>
                    <a:pt x="414" y="858"/>
                  </a:cubicBezTo>
                  <a:cubicBezTo>
                    <a:pt x="416" y="857"/>
                    <a:pt x="412" y="840"/>
                    <a:pt x="412" y="840"/>
                  </a:cubicBezTo>
                  <a:cubicBezTo>
                    <a:pt x="412" y="840"/>
                    <a:pt x="412" y="840"/>
                    <a:pt x="414" y="837"/>
                  </a:cubicBezTo>
                  <a:cubicBezTo>
                    <a:pt x="417" y="834"/>
                    <a:pt x="424" y="818"/>
                    <a:pt x="424" y="818"/>
                  </a:cubicBezTo>
                  <a:cubicBezTo>
                    <a:pt x="424" y="818"/>
                    <a:pt x="424" y="818"/>
                    <a:pt x="425" y="816"/>
                  </a:cubicBezTo>
                  <a:cubicBezTo>
                    <a:pt x="427" y="813"/>
                    <a:pt x="432" y="808"/>
                    <a:pt x="436" y="807"/>
                  </a:cubicBezTo>
                  <a:cubicBezTo>
                    <a:pt x="439" y="807"/>
                    <a:pt x="442" y="810"/>
                    <a:pt x="441" y="816"/>
                  </a:cubicBezTo>
                  <a:cubicBezTo>
                    <a:pt x="440" y="822"/>
                    <a:pt x="440" y="835"/>
                    <a:pt x="440" y="835"/>
                  </a:cubicBezTo>
                  <a:cubicBezTo>
                    <a:pt x="440" y="835"/>
                    <a:pt x="436" y="839"/>
                    <a:pt x="434" y="844"/>
                  </a:cubicBezTo>
                  <a:cubicBezTo>
                    <a:pt x="432" y="848"/>
                    <a:pt x="428" y="860"/>
                    <a:pt x="423" y="865"/>
                  </a:cubicBezTo>
                  <a:cubicBezTo>
                    <a:pt x="418" y="871"/>
                    <a:pt x="425" y="876"/>
                    <a:pt x="425" y="876"/>
                  </a:cubicBezTo>
                  <a:cubicBezTo>
                    <a:pt x="425" y="876"/>
                    <a:pt x="425" y="878"/>
                    <a:pt x="427" y="880"/>
                  </a:cubicBezTo>
                  <a:cubicBezTo>
                    <a:pt x="429" y="881"/>
                    <a:pt x="432" y="881"/>
                    <a:pt x="438" y="879"/>
                  </a:cubicBezTo>
                  <a:cubicBezTo>
                    <a:pt x="443" y="877"/>
                    <a:pt x="453" y="870"/>
                    <a:pt x="453" y="870"/>
                  </a:cubicBezTo>
                  <a:cubicBezTo>
                    <a:pt x="453" y="870"/>
                    <a:pt x="453" y="870"/>
                    <a:pt x="456" y="870"/>
                  </a:cubicBezTo>
                  <a:cubicBezTo>
                    <a:pt x="460" y="870"/>
                    <a:pt x="468" y="865"/>
                    <a:pt x="468" y="865"/>
                  </a:cubicBezTo>
                  <a:cubicBezTo>
                    <a:pt x="468" y="865"/>
                    <a:pt x="468" y="865"/>
                    <a:pt x="469" y="865"/>
                  </a:cubicBezTo>
                  <a:cubicBezTo>
                    <a:pt x="471" y="865"/>
                    <a:pt x="479" y="861"/>
                    <a:pt x="487" y="858"/>
                  </a:cubicBezTo>
                  <a:cubicBezTo>
                    <a:pt x="494" y="854"/>
                    <a:pt x="500" y="829"/>
                    <a:pt x="503" y="822"/>
                  </a:cubicBezTo>
                  <a:cubicBezTo>
                    <a:pt x="505" y="815"/>
                    <a:pt x="505" y="798"/>
                    <a:pt x="505" y="798"/>
                  </a:cubicBezTo>
                  <a:cubicBezTo>
                    <a:pt x="507" y="798"/>
                    <a:pt x="508" y="790"/>
                    <a:pt x="510" y="780"/>
                  </a:cubicBezTo>
                  <a:cubicBezTo>
                    <a:pt x="511" y="770"/>
                    <a:pt x="512" y="748"/>
                    <a:pt x="516" y="728"/>
                  </a:cubicBezTo>
                  <a:cubicBezTo>
                    <a:pt x="520" y="709"/>
                    <a:pt x="527" y="637"/>
                    <a:pt x="527" y="607"/>
                  </a:cubicBezTo>
                  <a:cubicBezTo>
                    <a:pt x="527" y="577"/>
                    <a:pt x="509" y="488"/>
                    <a:pt x="501" y="460"/>
                  </a:cubicBezTo>
                  <a:cubicBezTo>
                    <a:pt x="493" y="432"/>
                    <a:pt x="468" y="338"/>
                    <a:pt x="466" y="315"/>
                  </a:cubicBezTo>
                  <a:cubicBezTo>
                    <a:pt x="465" y="292"/>
                    <a:pt x="450" y="285"/>
                    <a:pt x="435" y="282"/>
                  </a:cubicBezTo>
                  <a:cubicBezTo>
                    <a:pt x="420" y="279"/>
                    <a:pt x="347" y="263"/>
                    <a:pt x="339" y="259"/>
                  </a:cubicBezTo>
                  <a:cubicBezTo>
                    <a:pt x="332" y="254"/>
                    <a:pt x="311" y="236"/>
                    <a:pt x="311" y="236"/>
                  </a:cubicBezTo>
                  <a:cubicBezTo>
                    <a:pt x="311" y="236"/>
                    <a:pt x="311" y="236"/>
                    <a:pt x="311" y="233"/>
                  </a:cubicBezTo>
                  <a:cubicBezTo>
                    <a:pt x="311" y="231"/>
                    <a:pt x="305" y="227"/>
                    <a:pt x="305" y="227"/>
                  </a:cubicBezTo>
                  <a:cubicBezTo>
                    <a:pt x="305" y="227"/>
                    <a:pt x="305" y="227"/>
                    <a:pt x="306" y="216"/>
                  </a:cubicBezTo>
                  <a:cubicBezTo>
                    <a:pt x="307" y="205"/>
                    <a:pt x="312" y="171"/>
                    <a:pt x="312" y="171"/>
                  </a:cubicBezTo>
                  <a:cubicBezTo>
                    <a:pt x="312" y="171"/>
                    <a:pt x="312" y="171"/>
                    <a:pt x="317" y="171"/>
                  </a:cubicBezTo>
                  <a:cubicBezTo>
                    <a:pt x="323" y="171"/>
                    <a:pt x="327" y="151"/>
                    <a:pt x="329" y="140"/>
                  </a:cubicBezTo>
                  <a:cubicBezTo>
                    <a:pt x="331" y="128"/>
                    <a:pt x="329" y="117"/>
                    <a:pt x="326" y="116"/>
                  </a:cubicBezTo>
                  <a:cubicBezTo>
                    <a:pt x="324" y="116"/>
                    <a:pt x="318" y="121"/>
                    <a:pt x="318" y="121"/>
                  </a:cubicBezTo>
                  <a:cubicBezTo>
                    <a:pt x="318" y="121"/>
                    <a:pt x="320" y="89"/>
                    <a:pt x="318" y="84"/>
                  </a:cubicBezTo>
                  <a:cubicBezTo>
                    <a:pt x="317" y="78"/>
                    <a:pt x="320" y="71"/>
                    <a:pt x="317" y="64"/>
                  </a:cubicBezTo>
                  <a:cubicBezTo>
                    <a:pt x="315" y="56"/>
                    <a:pt x="308" y="33"/>
                    <a:pt x="305" y="29"/>
                  </a:cubicBezTo>
                  <a:cubicBezTo>
                    <a:pt x="302" y="24"/>
                    <a:pt x="300" y="25"/>
                    <a:pt x="295" y="22"/>
                  </a:cubicBezTo>
                  <a:cubicBezTo>
                    <a:pt x="291" y="20"/>
                    <a:pt x="291" y="15"/>
                    <a:pt x="288" y="10"/>
                  </a:cubicBezTo>
                  <a:cubicBezTo>
                    <a:pt x="284" y="6"/>
                    <a:pt x="281" y="9"/>
                    <a:pt x="277" y="7"/>
                  </a:cubicBezTo>
                  <a:cubicBezTo>
                    <a:pt x="274" y="6"/>
                    <a:pt x="272" y="5"/>
                    <a:pt x="269" y="3"/>
                  </a:cubicBezTo>
                  <a:cubicBezTo>
                    <a:pt x="265" y="2"/>
                    <a:pt x="264" y="3"/>
                    <a:pt x="261" y="2"/>
                  </a:cubicBezTo>
                  <a:cubicBezTo>
                    <a:pt x="259" y="2"/>
                    <a:pt x="254" y="1"/>
                    <a:pt x="250" y="0"/>
                  </a:cubicBezTo>
                  <a:cubicBezTo>
                    <a:pt x="245" y="0"/>
                    <a:pt x="242" y="3"/>
                    <a:pt x="239" y="2"/>
                  </a:cubicBezTo>
                  <a:cubicBezTo>
                    <a:pt x="236" y="2"/>
                    <a:pt x="234" y="2"/>
                    <a:pt x="234" y="2"/>
                  </a:cubicBezTo>
                  <a:cubicBezTo>
                    <a:pt x="234" y="2"/>
                    <a:pt x="230" y="2"/>
                    <a:pt x="227" y="4"/>
                  </a:cubicBezTo>
                  <a:cubicBezTo>
                    <a:pt x="223" y="5"/>
                    <a:pt x="220" y="7"/>
                    <a:pt x="220" y="7"/>
                  </a:cubicBezTo>
                  <a:cubicBezTo>
                    <a:pt x="220" y="7"/>
                    <a:pt x="219" y="7"/>
                    <a:pt x="211" y="10"/>
                  </a:cubicBezTo>
                  <a:cubicBezTo>
                    <a:pt x="203" y="13"/>
                    <a:pt x="205" y="16"/>
                    <a:pt x="199" y="19"/>
                  </a:cubicBezTo>
                  <a:cubicBezTo>
                    <a:pt x="194" y="22"/>
                    <a:pt x="194" y="22"/>
                    <a:pt x="190" y="26"/>
                  </a:cubicBezTo>
                  <a:cubicBezTo>
                    <a:pt x="185" y="30"/>
                    <a:pt x="188" y="32"/>
                    <a:pt x="186" y="33"/>
                  </a:cubicBezTo>
                  <a:cubicBezTo>
                    <a:pt x="185" y="34"/>
                    <a:pt x="182" y="36"/>
                    <a:pt x="179" y="39"/>
                  </a:cubicBezTo>
                  <a:cubicBezTo>
                    <a:pt x="176" y="42"/>
                    <a:pt x="176" y="47"/>
                    <a:pt x="174" y="58"/>
                  </a:cubicBezTo>
                  <a:cubicBezTo>
                    <a:pt x="172" y="68"/>
                    <a:pt x="172" y="73"/>
                    <a:pt x="172" y="91"/>
                  </a:cubicBezTo>
                  <a:cubicBezTo>
                    <a:pt x="172" y="106"/>
                    <a:pt x="176" y="126"/>
                    <a:pt x="177" y="130"/>
                  </a:cubicBezTo>
                  <a:cubicBezTo>
                    <a:pt x="177" y="130"/>
                    <a:pt x="176" y="129"/>
                    <a:pt x="176" y="128"/>
                  </a:cubicBezTo>
                  <a:cubicBezTo>
                    <a:pt x="176" y="125"/>
                    <a:pt x="169" y="125"/>
                    <a:pt x="166" y="131"/>
                  </a:cubicBezTo>
                  <a:cubicBezTo>
                    <a:pt x="163" y="137"/>
                    <a:pt x="171" y="165"/>
                    <a:pt x="174" y="175"/>
                  </a:cubicBezTo>
                  <a:cubicBezTo>
                    <a:pt x="177" y="185"/>
                    <a:pt x="187" y="180"/>
                    <a:pt x="187" y="180"/>
                  </a:cubicBezTo>
                  <a:cubicBezTo>
                    <a:pt x="187" y="180"/>
                    <a:pt x="187" y="180"/>
                    <a:pt x="189" y="185"/>
                  </a:cubicBezTo>
                  <a:cubicBezTo>
                    <a:pt x="191" y="189"/>
                    <a:pt x="201" y="218"/>
                    <a:pt x="201" y="218"/>
                  </a:cubicBezTo>
                  <a:cubicBezTo>
                    <a:pt x="201" y="218"/>
                    <a:pt x="201" y="221"/>
                    <a:pt x="197" y="235"/>
                  </a:cubicBezTo>
                  <a:cubicBezTo>
                    <a:pt x="192" y="248"/>
                    <a:pt x="175" y="262"/>
                    <a:pt x="175" y="262"/>
                  </a:cubicBezTo>
                  <a:cubicBezTo>
                    <a:pt x="175" y="262"/>
                    <a:pt x="150" y="270"/>
                    <a:pt x="129" y="277"/>
                  </a:cubicBezTo>
                  <a:cubicBezTo>
                    <a:pt x="107" y="284"/>
                    <a:pt x="72" y="298"/>
                    <a:pt x="66" y="303"/>
                  </a:cubicBezTo>
                  <a:cubicBezTo>
                    <a:pt x="60" y="309"/>
                    <a:pt x="55" y="341"/>
                    <a:pt x="52" y="360"/>
                  </a:cubicBezTo>
                  <a:cubicBezTo>
                    <a:pt x="50" y="379"/>
                    <a:pt x="41" y="395"/>
                    <a:pt x="38" y="403"/>
                  </a:cubicBezTo>
                  <a:cubicBezTo>
                    <a:pt x="35" y="410"/>
                    <a:pt x="35" y="413"/>
                    <a:pt x="31" y="442"/>
                  </a:cubicBezTo>
                  <a:cubicBezTo>
                    <a:pt x="27" y="471"/>
                    <a:pt x="22" y="498"/>
                    <a:pt x="15" y="529"/>
                  </a:cubicBezTo>
                  <a:cubicBezTo>
                    <a:pt x="9" y="560"/>
                    <a:pt x="8" y="576"/>
                    <a:pt x="9" y="593"/>
                  </a:cubicBezTo>
                  <a:close/>
                  <a:moveTo>
                    <a:pt x="408" y="514"/>
                  </a:moveTo>
                  <a:cubicBezTo>
                    <a:pt x="408" y="514"/>
                    <a:pt x="408" y="520"/>
                    <a:pt x="409" y="532"/>
                  </a:cubicBezTo>
                  <a:cubicBezTo>
                    <a:pt x="410" y="544"/>
                    <a:pt x="413" y="567"/>
                    <a:pt x="417" y="576"/>
                  </a:cubicBezTo>
                  <a:cubicBezTo>
                    <a:pt x="421" y="585"/>
                    <a:pt x="419" y="613"/>
                    <a:pt x="423" y="644"/>
                  </a:cubicBezTo>
                  <a:cubicBezTo>
                    <a:pt x="428" y="675"/>
                    <a:pt x="435" y="697"/>
                    <a:pt x="431" y="706"/>
                  </a:cubicBezTo>
                  <a:cubicBezTo>
                    <a:pt x="427" y="716"/>
                    <a:pt x="427" y="731"/>
                    <a:pt x="427" y="743"/>
                  </a:cubicBezTo>
                  <a:cubicBezTo>
                    <a:pt x="428" y="755"/>
                    <a:pt x="422" y="768"/>
                    <a:pt x="421" y="774"/>
                  </a:cubicBezTo>
                  <a:cubicBezTo>
                    <a:pt x="420" y="781"/>
                    <a:pt x="414" y="788"/>
                    <a:pt x="414" y="788"/>
                  </a:cubicBezTo>
                  <a:cubicBezTo>
                    <a:pt x="414" y="788"/>
                    <a:pt x="413" y="727"/>
                    <a:pt x="412" y="716"/>
                  </a:cubicBezTo>
                  <a:cubicBezTo>
                    <a:pt x="411" y="706"/>
                    <a:pt x="406" y="653"/>
                    <a:pt x="398" y="605"/>
                  </a:cubicBezTo>
                  <a:cubicBezTo>
                    <a:pt x="390" y="557"/>
                    <a:pt x="408" y="514"/>
                    <a:pt x="408" y="514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42"/>
            <p:cNvSpPr/>
            <p:nvPr/>
          </p:nvSpPr>
          <p:spPr>
            <a:xfrm>
              <a:off x="4125600" y="2618280"/>
              <a:ext cx="167400" cy="443160"/>
            </a:xfrm>
            <a:custGeom>
              <a:avLst/>
              <a:gdLst/>
              <a:ahLst/>
              <a:rect l="l" t="t" r="r" b="b"/>
              <a:pathLst>
                <a:path w="122" h="321">
                  <a:moveTo>
                    <a:pt x="2" y="18"/>
                  </a:moveTo>
                  <a:cubicBezTo>
                    <a:pt x="4" y="15"/>
                    <a:pt x="6" y="12"/>
                    <a:pt x="7" y="9"/>
                  </a:cubicBezTo>
                  <a:cubicBezTo>
                    <a:pt x="8" y="6"/>
                    <a:pt x="8" y="4"/>
                    <a:pt x="9" y="2"/>
                  </a:cubicBezTo>
                  <a:cubicBezTo>
                    <a:pt x="9" y="3"/>
                    <a:pt x="10" y="6"/>
                    <a:pt x="10" y="11"/>
                  </a:cubicBezTo>
                  <a:cubicBezTo>
                    <a:pt x="10" y="23"/>
                    <a:pt x="34" y="41"/>
                    <a:pt x="39" y="43"/>
                  </a:cubicBezTo>
                  <a:cubicBezTo>
                    <a:pt x="42" y="44"/>
                    <a:pt x="48" y="46"/>
                    <a:pt x="53" y="47"/>
                  </a:cubicBezTo>
                  <a:cubicBezTo>
                    <a:pt x="54" y="47"/>
                    <a:pt x="54" y="47"/>
                    <a:pt x="54" y="47"/>
                  </a:cubicBezTo>
                  <a:cubicBezTo>
                    <a:pt x="54" y="48"/>
                    <a:pt x="54" y="48"/>
                    <a:pt x="54" y="48"/>
                  </a:cubicBezTo>
                  <a:cubicBezTo>
                    <a:pt x="56" y="48"/>
                    <a:pt x="57" y="49"/>
                    <a:pt x="57" y="49"/>
                  </a:cubicBezTo>
                  <a:cubicBezTo>
                    <a:pt x="57" y="49"/>
                    <a:pt x="57" y="49"/>
                    <a:pt x="60" y="46"/>
                  </a:cubicBezTo>
                  <a:cubicBezTo>
                    <a:pt x="63" y="44"/>
                    <a:pt x="76" y="43"/>
                    <a:pt x="80" y="39"/>
                  </a:cubicBezTo>
                  <a:cubicBezTo>
                    <a:pt x="84" y="35"/>
                    <a:pt x="99" y="17"/>
                    <a:pt x="105" y="13"/>
                  </a:cubicBezTo>
                  <a:cubicBezTo>
                    <a:pt x="109" y="11"/>
                    <a:pt x="113" y="5"/>
                    <a:pt x="115" y="0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5" y="1"/>
                    <a:pt x="121" y="5"/>
                    <a:pt x="121" y="7"/>
                  </a:cubicBezTo>
                  <a:cubicBezTo>
                    <a:pt x="121" y="10"/>
                    <a:pt x="121" y="10"/>
                    <a:pt x="121" y="10"/>
                  </a:cubicBezTo>
                  <a:cubicBezTo>
                    <a:pt x="121" y="10"/>
                    <a:pt x="122" y="10"/>
                    <a:pt x="122" y="11"/>
                  </a:cubicBezTo>
                  <a:cubicBezTo>
                    <a:pt x="122" y="22"/>
                    <a:pt x="122" y="26"/>
                    <a:pt x="117" y="36"/>
                  </a:cubicBezTo>
                  <a:cubicBezTo>
                    <a:pt x="111" y="47"/>
                    <a:pt x="113" y="65"/>
                    <a:pt x="112" y="70"/>
                  </a:cubicBezTo>
                  <a:cubicBezTo>
                    <a:pt x="112" y="75"/>
                    <a:pt x="105" y="86"/>
                    <a:pt x="105" y="92"/>
                  </a:cubicBezTo>
                  <a:cubicBezTo>
                    <a:pt x="105" y="98"/>
                    <a:pt x="98" y="121"/>
                    <a:pt x="98" y="121"/>
                  </a:cubicBezTo>
                  <a:cubicBezTo>
                    <a:pt x="98" y="121"/>
                    <a:pt x="98" y="121"/>
                    <a:pt x="95" y="117"/>
                  </a:cubicBezTo>
                  <a:cubicBezTo>
                    <a:pt x="92" y="113"/>
                    <a:pt x="77" y="94"/>
                    <a:pt x="77" y="94"/>
                  </a:cubicBezTo>
                  <a:cubicBezTo>
                    <a:pt x="77" y="94"/>
                    <a:pt x="73" y="79"/>
                    <a:pt x="73" y="78"/>
                  </a:cubicBezTo>
                  <a:cubicBezTo>
                    <a:pt x="73" y="77"/>
                    <a:pt x="75" y="73"/>
                    <a:pt x="78" y="70"/>
                  </a:cubicBezTo>
                  <a:cubicBezTo>
                    <a:pt x="63" y="51"/>
                    <a:pt x="63" y="51"/>
                    <a:pt x="63" y="51"/>
                  </a:cubicBezTo>
                  <a:cubicBezTo>
                    <a:pt x="59" y="49"/>
                    <a:pt x="55" y="49"/>
                    <a:pt x="53" y="49"/>
                  </a:cubicBezTo>
                  <a:cubicBezTo>
                    <a:pt x="32" y="65"/>
                    <a:pt x="32" y="65"/>
                    <a:pt x="32" y="65"/>
                  </a:cubicBezTo>
                  <a:cubicBezTo>
                    <a:pt x="38" y="71"/>
                    <a:pt x="51" y="86"/>
                    <a:pt x="51" y="86"/>
                  </a:cubicBezTo>
                  <a:cubicBezTo>
                    <a:pt x="53" y="98"/>
                    <a:pt x="53" y="98"/>
                    <a:pt x="53" y="98"/>
                  </a:cubicBezTo>
                  <a:cubicBezTo>
                    <a:pt x="53" y="98"/>
                    <a:pt x="45" y="114"/>
                    <a:pt x="40" y="132"/>
                  </a:cubicBezTo>
                  <a:cubicBezTo>
                    <a:pt x="35" y="150"/>
                    <a:pt x="39" y="197"/>
                    <a:pt x="42" y="214"/>
                  </a:cubicBezTo>
                  <a:cubicBezTo>
                    <a:pt x="45" y="230"/>
                    <a:pt x="46" y="256"/>
                    <a:pt x="44" y="273"/>
                  </a:cubicBezTo>
                  <a:cubicBezTo>
                    <a:pt x="41" y="290"/>
                    <a:pt x="33" y="321"/>
                    <a:pt x="33" y="321"/>
                  </a:cubicBezTo>
                  <a:cubicBezTo>
                    <a:pt x="33" y="321"/>
                    <a:pt x="32" y="318"/>
                    <a:pt x="29" y="302"/>
                  </a:cubicBezTo>
                  <a:cubicBezTo>
                    <a:pt x="27" y="287"/>
                    <a:pt x="17" y="226"/>
                    <a:pt x="13" y="210"/>
                  </a:cubicBezTo>
                  <a:cubicBezTo>
                    <a:pt x="10" y="194"/>
                    <a:pt x="2" y="117"/>
                    <a:pt x="1" y="102"/>
                  </a:cubicBezTo>
                  <a:cubicBezTo>
                    <a:pt x="1" y="88"/>
                    <a:pt x="0" y="48"/>
                    <a:pt x="1" y="43"/>
                  </a:cubicBezTo>
                  <a:cubicBezTo>
                    <a:pt x="2" y="37"/>
                    <a:pt x="5" y="32"/>
                    <a:pt x="2" y="26"/>
                  </a:cubicBezTo>
                  <a:cubicBezTo>
                    <a:pt x="1" y="23"/>
                    <a:pt x="2" y="21"/>
                    <a:pt x="2" y="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5" name="Freeform 43"/>
          <p:cNvSpPr/>
          <p:nvPr/>
        </p:nvSpPr>
        <p:spPr>
          <a:xfrm>
            <a:off x="6608880" y="1733400"/>
            <a:ext cx="398520" cy="939960"/>
          </a:xfrm>
          <a:custGeom>
            <a:avLst/>
            <a:gdLst/>
            <a:ahLst/>
            <a:rect l="l" t="t" r="r" b="b"/>
            <a:pathLst>
              <a:path w="486" h="1145">
                <a:moveTo>
                  <a:pt x="56" y="1136"/>
                </a:moveTo>
                <a:cubicBezTo>
                  <a:pt x="67" y="1145"/>
                  <a:pt x="102" y="1144"/>
                  <a:pt x="117" y="1131"/>
                </a:cubicBezTo>
                <a:cubicBezTo>
                  <a:pt x="132" y="1118"/>
                  <a:pt x="147" y="1089"/>
                  <a:pt x="153" y="1084"/>
                </a:cubicBezTo>
                <a:cubicBezTo>
                  <a:pt x="160" y="1078"/>
                  <a:pt x="164" y="1076"/>
                  <a:pt x="164" y="1076"/>
                </a:cubicBezTo>
                <a:cubicBezTo>
                  <a:pt x="165" y="1096"/>
                  <a:pt x="165" y="1096"/>
                  <a:pt x="165" y="1096"/>
                </a:cubicBezTo>
                <a:cubicBezTo>
                  <a:pt x="172" y="1095"/>
                  <a:pt x="172" y="1095"/>
                  <a:pt x="172" y="1095"/>
                </a:cubicBezTo>
                <a:cubicBezTo>
                  <a:pt x="172" y="1095"/>
                  <a:pt x="171" y="1071"/>
                  <a:pt x="175" y="1066"/>
                </a:cubicBezTo>
                <a:cubicBezTo>
                  <a:pt x="180" y="1060"/>
                  <a:pt x="185" y="1036"/>
                  <a:pt x="177" y="1023"/>
                </a:cubicBezTo>
                <a:cubicBezTo>
                  <a:pt x="169" y="1011"/>
                  <a:pt x="166" y="966"/>
                  <a:pt x="167" y="951"/>
                </a:cubicBezTo>
                <a:cubicBezTo>
                  <a:pt x="168" y="935"/>
                  <a:pt x="173" y="869"/>
                  <a:pt x="167" y="846"/>
                </a:cubicBezTo>
                <a:cubicBezTo>
                  <a:pt x="162" y="823"/>
                  <a:pt x="170" y="775"/>
                  <a:pt x="177" y="762"/>
                </a:cubicBezTo>
                <a:cubicBezTo>
                  <a:pt x="183" y="749"/>
                  <a:pt x="191" y="723"/>
                  <a:pt x="191" y="723"/>
                </a:cubicBezTo>
                <a:cubicBezTo>
                  <a:pt x="240" y="731"/>
                  <a:pt x="240" y="731"/>
                  <a:pt x="240" y="731"/>
                </a:cubicBezTo>
                <a:cubicBezTo>
                  <a:pt x="240" y="731"/>
                  <a:pt x="240" y="770"/>
                  <a:pt x="247" y="799"/>
                </a:cubicBezTo>
                <a:cubicBezTo>
                  <a:pt x="253" y="828"/>
                  <a:pt x="251" y="872"/>
                  <a:pt x="251" y="882"/>
                </a:cubicBezTo>
                <a:cubicBezTo>
                  <a:pt x="251" y="892"/>
                  <a:pt x="255" y="934"/>
                  <a:pt x="247" y="955"/>
                </a:cubicBezTo>
                <a:cubicBezTo>
                  <a:pt x="240" y="976"/>
                  <a:pt x="235" y="999"/>
                  <a:pt x="236" y="1008"/>
                </a:cubicBezTo>
                <a:cubicBezTo>
                  <a:pt x="236" y="1017"/>
                  <a:pt x="243" y="1091"/>
                  <a:pt x="258" y="1102"/>
                </a:cubicBezTo>
                <a:cubicBezTo>
                  <a:pt x="273" y="1113"/>
                  <a:pt x="299" y="1111"/>
                  <a:pt x="297" y="1088"/>
                </a:cubicBezTo>
                <a:cubicBezTo>
                  <a:pt x="296" y="1066"/>
                  <a:pt x="287" y="1045"/>
                  <a:pt x="285" y="1034"/>
                </a:cubicBezTo>
                <a:cubicBezTo>
                  <a:pt x="282" y="1023"/>
                  <a:pt x="277" y="1020"/>
                  <a:pt x="277" y="1010"/>
                </a:cubicBezTo>
                <a:cubicBezTo>
                  <a:pt x="277" y="1000"/>
                  <a:pt x="276" y="1003"/>
                  <a:pt x="276" y="992"/>
                </a:cubicBezTo>
                <a:cubicBezTo>
                  <a:pt x="276" y="980"/>
                  <a:pt x="281" y="963"/>
                  <a:pt x="281" y="963"/>
                </a:cubicBezTo>
                <a:cubicBezTo>
                  <a:pt x="281" y="963"/>
                  <a:pt x="316" y="886"/>
                  <a:pt x="315" y="843"/>
                </a:cubicBezTo>
                <a:cubicBezTo>
                  <a:pt x="314" y="800"/>
                  <a:pt x="313" y="786"/>
                  <a:pt x="313" y="768"/>
                </a:cubicBezTo>
                <a:cubicBezTo>
                  <a:pt x="314" y="751"/>
                  <a:pt x="322" y="736"/>
                  <a:pt x="322" y="736"/>
                </a:cubicBezTo>
                <a:cubicBezTo>
                  <a:pt x="359" y="724"/>
                  <a:pt x="359" y="724"/>
                  <a:pt x="359" y="724"/>
                </a:cubicBezTo>
                <a:cubicBezTo>
                  <a:pt x="342" y="561"/>
                  <a:pt x="342" y="561"/>
                  <a:pt x="342" y="561"/>
                </a:cubicBezTo>
                <a:cubicBezTo>
                  <a:pt x="342" y="561"/>
                  <a:pt x="356" y="551"/>
                  <a:pt x="363" y="552"/>
                </a:cubicBezTo>
                <a:cubicBezTo>
                  <a:pt x="370" y="552"/>
                  <a:pt x="386" y="548"/>
                  <a:pt x="391" y="545"/>
                </a:cubicBezTo>
                <a:cubicBezTo>
                  <a:pt x="396" y="542"/>
                  <a:pt x="410" y="535"/>
                  <a:pt x="415" y="527"/>
                </a:cubicBezTo>
                <a:cubicBezTo>
                  <a:pt x="421" y="519"/>
                  <a:pt x="486" y="431"/>
                  <a:pt x="485" y="418"/>
                </a:cubicBezTo>
                <a:cubicBezTo>
                  <a:pt x="484" y="404"/>
                  <a:pt x="467" y="355"/>
                  <a:pt x="433" y="302"/>
                </a:cubicBezTo>
                <a:cubicBezTo>
                  <a:pt x="400" y="249"/>
                  <a:pt x="383" y="234"/>
                  <a:pt x="371" y="229"/>
                </a:cubicBezTo>
                <a:cubicBezTo>
                  <a:pt x="359" y="224"/>
                  <a:pt x="347" y="213"/>
                  <a:pt x="347" y="213"/>
                </a:cubicBezTo>
                <a:cubicBezTo>
                  <a:pt x="347" y="213"/>
                  <a:pt x="346" y="212"/>
                  <a:pt x="346" y="209"/>
                </a:cubicBezTo>
                <a:cubicBezTo>
                  <a:pt x="349" y="206"/>
                  <a:pt x="352" y="203"/>
                  <a:pt x="354" y="200"/>
                </a:cubicBezTo>
                <a:cubicBezTo>
                  <a:pt x="358" y="193"/>
                  <a:pt x="354" y="178"/>
                  <a:pt x="347" y="168"/>
                </a:cubicBezTo>
                <a:cubicBezTo>
                  <a:pt x="347" y="162"/>
                  <a:pt x="346" y="157"/>
                  <a:pt x="340" y="144"/>
                </a:cubicBezTo>
                <a:cubicBezTo>
                  <a:pt x="331" y="126"/>
                  <a:pt x="330" y="123"/>
                  <a:pt x="330" y="114"/>
                </a:cubicBezTo>
                <a:cubicBezTo>
                  <a:pt x="331" y="113"/>
                  <a:pt x="331" y="111"/>
                  <a:pt x="331" y="110"/>
                </a:cubicBezTo>
                <a:cubicBezTo>
                  <a:pt x="333" y="122"/>
                  <a:pt x="348" y="147"/>
                  <a:pt x="354" y="156"/>
                </a:cubicBezTo>
                <a:cubicBezTo>
                  <a:pt x="360" y="166"/>
                  <a:pt x="355" y="195"/>
                  <a:pt x="355" y="195"/>
                </a:cubicBezTo>
                <a:cubicBezTo>
                  <a:pt x="355" y="195"/>
                  <a:pt x="355" y="195"/>
                  <a:pt x="357" y="185"/>
                </a:cubicBezTo>
                <a:cubicBezTo>
                  <a:pt x="359" y="175"/>
                  <a:pt x="362" y="160"/>
                  <a:pt x="351" y="143"/>
                </a:cubicBezTo>
                <a:cubicBezTo>
                  <a:pt x="340" y="126"/>
                  <a:pt x="339" y="119"/>
                  <a:pt x="338" y="100"/>
                </a:cubicBezTo>
                <a:cubicBezTo>
                  <a:pt x="338" y="95"/>
                  <a:pt x="336" y="90"/>
                  <a:pt x="332" y="85"/>
                </a:cubicBezTo>
                <a:cubicBezTo>
                  <a:pt x="331" y="78"/>
                  <a:pt x="329" y="71"/>
                  <a:pt x="324" y="63"/>
                </a:cubicBezTo>
                <a:cubicBezTo>
                  <a:pt x="319" y="56"/>
                  <a:pt x="311" y="50"/>
                  <a:pt x="303" y="45"/>
                </a:cubicBezTo>
                <a:cubicBezTo>
                  <a:pt x="288" y="30"/>
                  <a:pt x="253" y="7"/>
                  <a:pt x="253" y="7"/>
                </a:cubicBezTo>
                <a:cubicBezTo>
                  <a:pt x="253" y="7"/>
                  <a:pt x="215" y="0"/>
                  <a:pt x="199" y="27"/>
                </a:cubicBezTo>
                <a:cubicBezTo>
                  <a:pt x="183" y="55"/>
                  <a:pt x="169" y="72"/>
                  <a:pt x="158" y="90"/>
                </a:cubicBezTo>
                <a:cubicBezTo>
                  <a:pt x="147" y="108"/>
                  <a:pt x="140" y="117"/>
                  <a:pt x="150" y="137"/>
                </a:cubicBezTo>
                <a:cubicBezTo>
                  <a:pt x="151" y="139"/>
                  <a:pt x="152" y="142"/>
                  <a:pt x="153" y="144"/>
                </a:cubicBezTo>
                <a:cubicBezTo>
                  <a:pt x="149" y="152"/>
                  <a:pt x="146" y="160"/>
                  <a:pt x="149" y="166"/>
                </a:cubicBezTo>
                <a:cubicBezTo>
                  <a:pt x="152" y="175"/>
                  <a:pt x="155" y="183"/>
                  <a:pt x="155" y="191"/>
                </a:cubicBezTo>
                <a:cubicBezTo>
                  <a:pt x="154" y="194"/>
                  <a:pt x="154" y="196"/>
                  <a:pt x="154" y="198"/>
                </a:cubicBezTo>
                <a:cubicBezTo>
                  <a:pt x="153" y="201"/>
                  <a:pt x="151" y="204"/>
                  <a:pt x="148" y="206"/>
                </a:cubicBezTo>
                <a:cubicBezTo>
                  <a:pt x="137" y="216"/>
                  <a:pt x="137" y="216"/>
                  <a:pt x="137" y="216"/>
                </a:cubicBezTo>
                <a:cubicBezTo>
                  <a:pt x="137" y="216"/>
                  <a:pt x="150" y="212"/>
                  <a:pt x="155" y="204"/>
                </a:cubicBezTo>
                <a:cubicBezTo>
                  <a:pt x="157" y="210"/>
                  <a:pt x="157" y="210"/>
                  <a:pt x="157" y="210"/>
                </a:cubicBezTo>
                <a:cubicBezTo>
                  <a:pt x="157" y="210"/>
                  <a:pt x="118" y="230"/>
                  <a:pt x="111" y="265"/>
                </a:cubicBezTo>
                <a:cubicBezTo>
                  <a:pt x="103" y="300"/>
                  <a:pt x="100" y="313"/>
                  <a:pt x="100" y="313"/>
                </a:cubicBezTo>
                <a:cubicBezTo>
                  <a:pt x="14" y="265"/>
                  <a:pt x="14" y="265"/>
                  <a:pt x="14" y="265"/>
                </a:cubicBezTo>
                <a:cubicBezTo>
                  <a:pt x="0" y="296"/>
                  <a:pt x="0" y="296"/>
                  <a:pt x="0" y="296"/>
                </a:cubicBezTo>
                <a:cubicBezTo>
                  <a:pt x="85" y="376"/>
                  <a:pt x="85" y="376"/>
                  <a:pt x="85" y="376"/>
                </a:cubicBezTo>
                <a:cubicBezTo>
                  <a:pt x="85" y="376"/>
                  <a:pt x="71" y="428"/>
                  <a:pt x="81" y="435"/>
                </a:cubicBezTo>
                <a:cubicBezTo>
                  <a:pt x="91" y="442"/>
                  <a:pt x="131" y="461"/>
                  <a:pt x="139" y="461"/>
                </a:cubicBezTo>
                <a:cubicBezTo>
                  <a:pt x="147" y="461"/>
                  <a:pt x="154" y="461"/>
                  <a:pt x="154" y="461"/>
                </a:cubicBezTo>
                <a:cubicBezTo>
                  <a:pt x="154" y="461"/>
                  <a:pt x="138" y="522"/>
                  <a:pt x="139" y="528"/>
                </a:cubicBezTo>
                <a:cubicBezTo>
                  <a:pt x="139" y="534"/>
                  <a:pt x="139" y="534"/>
                  <a:pt x="139" y="534"/>
                </a:cubicBezTo>
                <a:cubicBezTo>
                  <a:pt x="139" y="534"/>
                  <a:pt x="125" y="599"/>
                  <a:pt x="119" y="617"/>
                </a:cubicBezTo>
                <a:cubicBezTo>
                  <a:pt x="113" y="634"/>
                  <a:pt x="107" y="658"/>
                  <a:pt x="103" y="671"/>
                </a:cubicBezTo>
                <a:cubicBezTo>
                  <a:pt x="100" y="684"/>
                  <a:pt x="95" y="701"/>
                  <a:pt x="95" y="701"/>
                </a:cubicBezTo>
                <a:cubicBezTo>
                  <a:pt x="97" y="706"/>
                  <a:pt x="97" y="706"/>
                  <a:pt x="97" y="706"/>
                </a:cubicBezTo>
                <a:cubicBezTo>
                  <a:pt x="97" y="706"/>
                  <a:pt x="87" y="803"/>
                  <a:pt x="94" y="830"/>
                </a:cubicBezTo>
                <a:cubicBezTo>
                  <a:pt x="101" y="857"/>
                  <a:pt x="123" y="1003"/>
                  <a:pt x="121" y="1024"/>
                </a:cubicBezTo>
                <a:cubicBezTo>
                  <a:pt x="120" y="1045"/>
                  <a:pt x="110" y="1078"/>
                  <a:pt x="92" y="1091"/>
                </a:cubicBezTo>
                <a:cubicBezTo>
                  <a:pt x="73" y="1105"/>
                  <a:pt x="46" y="1128"/>
                  <a:pt x="56" y="1136"/>
                </a:cubicBezTo>
                <a:close/>
                <a:moveTo>
                  <a:pt x="328" y="92"/>
                </a:moveTo>
                <a:cubicBezTo>
                  <a:pt x="328" y="93"/>
                  <a:pt x="328" y="95"/>
                  <a:pt x="328" y="98"/>
                </a:cubicBezTo>
                <a:cubicBezTo>
                  <a:pt x="326" y="92"/>
                  <a:pt x="323" y="84"/>
                  <a:pt x="320" y="76"/>
                </a:cubicBezTo>
                <a:cubicBezTo>
                  <a:pt x="321" y="77"/>
                  <a:pt x="322" y="78"/>
                  <a:pt x="323" y="79"/>
                </a:cubicBezTo>
                <a:cubicBezTo>
                  <a:pt x="325" y="80"/>
                  <a:pt x="327" y="82"/>
                  <a:pt x="328" y="83"/>
                </a:cubicBezTo>
                <a:cubicBezTo>
                  <a:pt x="328" y="87"/>
                  <a:pt x="328" y="90"/>
                  <a:pt x="328" y="92"/>
                </a:cubicBezTo>
                <a:close/>
                <a:moveTo>
                  <a:pt x="346" y="207"/>
                </a:moveTo>
                <a:cubicBezTo>
                  <a:pt x="344" y="200"/>
                  <a:pt x="343" y="189"/>
                  <a:pt x="344" y="179"/>
                </a:cubicBezTo>
                <a:cubicBezTo>
                  <a:pt x="347" y="183"/>
                  <a:pt x="349" y="186"/>
                  <a:pt x="351" y="189"/>
                </a:cubicBezTo>
                <a:cubicBezTo>
                  <a:pt x="354" y="194"/>
                  <a:pt x="350" y="201"/>
                  <a:pt x="346" y="207"/>
                </a:cubicBezTo>
                <a:close/>
                <a:moveTo>
                  <a:pt x="334" y="392"/>
                </a:moveTo>
                <a:cubicBezTo>
                  <a:pt x="359" y="339"/>
                  <a:pt x="361" y="336"/>
                  <a:pt x="379" y="346"/>
                </a:cubicBezTo>
                <a:cubicBezTo>
                  <a:pt x="397" y="356"/>
                  <a:pt x="410" y="370"/>
                  <a:pt x="416" y="381"/>
                </a:cubicBezTo>
                <a:cubicBezTo>
                  <a:pt x="421" y="392"/>
                  <a:pt x="417" y="391"/>
                  <a:pt x="425" y="399"/>
                </a:cubicBezTo>
                <a:cubicBezTo>
                  <a:pt x="432" y="407"/>
                  <a:pt x="435" y="410"/>
                  <a:pt x="432" y="415"/>
                </a:cubicBezTo>
                <a:cubicBezTo>
                  <a:pt x="430" y="420"/>
                  <a:pt x="420" y="437"/>
                  <a:pt x="419" y="440"/>
                </a:cubicBezTo>
                <a:cubicBezTo>
                  <a:pt x="417" y="443"/>
                  <a:pt x="422" y="438"/>
                  <a:pt x="412" y="451"/>
                </a:cubicBezTo>
                <a:cubicBezTo>
                  <a:pt x="402" y="463"/>
                  <a:pt x="396" y="479"/>
                  <a:pt x="393" y="485"/>
                </a:cubicBezTo>
                <a:cubicBezTo>
                  <a:pt x="389" y="491"/>
                  <a:pt x="378" y="493"/>
                  <a:pt x="376" y="499"/>
                </a:cubicBezTo>
                <a:cubicBezTo>
                  <a:pt x="375" y="506"/>
                  <a:pt x="366" y="511"/>
                  <a:pt x="364" y="511"/>
                </a:cubicBezTo>
                <a:cubicBezTo>
                  <a:pt x="362" y="511"/>
                  <a:pt x="357" y="510"/>
                  <a:pt x="357" y="510"/>
                </a:cubicBezTo>
                <a:cubicBezTo>
                  <a:pt x="336" y="504"/>
                  <a:pt x="336" y="504"/>
                  <a:pt x="336" y="504"/>
                </a:cubicBezTo>
                <a:cubicBezTo>
                  <a:pt x="336" y="504"/>
                  <a:pt x="309" y="445"/>
                  <a:pt x="334" y="392"/>
                </a:cubicBezTo>
                <a:close/>
                <a:moveTo>
                  <a:pt x="312" y="59"/>
                </a:moveTo>
                <a:cubicBezTo>
                  <a:pt x="320" y="64"/>
                  <a:pt x="324" y="70"/>
                  <a:pt x="326" y="76"/>
                </a:cubicBezTo>
                <a:cubicBezTo>
                  <a:pt x="322" y="71"/>
                  <a:pt x="318" y="67"/>
                  <a:pt x="314" y="63"/>
                </a:cubicBezTo>
                <a:cubicBezTo>
                  <a:pt x="314" y="61"/>
                  <a:pt x="313" y="60"/>
                  <a:pt x="312" y="59"/>
                </a:cubicBezTo>
                <a:close/>
                <a:moveTo>
                  <a:pt x="158" y="133"/>
                </a:moveTo>
                <a:cubicBezTo>
                  <a:pt x="159" y="134"/>
                  <a:pt x="159" y="134"/>
                  <a:pt x="159" y="135"/>
                </a:cubicBezTo>
                <a:cubicBezTo>
                  <a:pt x="157" y="137"/>
                  <a:pt x="156" y="139"/>
                  <a:pt x="154" y="142"/>
                </a:cubicBezTo>
                <a:cubicBezTo>
                  <a:pt x="151" y="131"/>
                  <a:pt x="149" y="117"/>
                  <a:pt x="153" y="110"/>
                </a:cubicBezTo>
                <a:cubicBezTo>
                  <a:pt x="160" y="96"/>
                  <a:pt x="174" y="85"/>
                  <a:pt x="174" y="85"/>
                </a:cubicBezTo>
                <a:cubicBezTo>
                  <a:pt x="174" y="85"/>
                  <a:pt x="154" y="110"/>
                  <a:pt x="158" y="133"/>
                </a:cubicBezTo>
                <a:close/>
                <a:moveTo>
                  <a:pt x="156" y="188"/>
                </a:moveTo>
                <a:cubicBezTo>
                  <a:pt x="155" y="178"/>
                  <a:pt x="155" y="167"/>
                  <a:pt x="155" y="164"/>
                </a:cubicBezTo>
                <a:cubicBezTo>
                  <a:pt x="156" y="162"/>
                  <a:pt x="157" y="159"/>
                  <a:pt x="159" y="156"/>
                </a:cubicBezTo>
                <a:cubicBezTo>
                  <a:pt x="159" y="156"/>
                  <a:pt x="159" y="156"/>
                  <a:pt x="159" y="156"/>
                </a:cubicBezTo>
                <a:cubicBezTo>
                  <a:pt x="159" y="156"/>
                  <a:pt x="159" y="156"/>
                  <a:pt x="159" y="156"/>
                </a:cubicBezTo>
                <a:cubicBezTo>
                  <a:pt x="160" y="154"/>
                  <a:pt x="161" y="152"/>
                  <a:pt x="163" y="151"/>
                </a:cubicBezTo>
                <a:cubicBezTo>
                  <a:pt x="166" y="160"/>
                  <a:pt x="167" y="164"/>
                  <a:pt x="163" y="170"/>
                </a:cubicBezTo>
                <a:cubicBezTo>
                  <a:pt x="160" y="175"/>
                  <a:pt x="158" y="182"/>
                  <a:pt x="156" y="188"/>
                </a:cubicBezTo>
                <a:close/>
                <a:moveTo>
                  <a:pt x="155" y="358"/>
                </a:moveTo>
                <a:cubicBezTo>
                  <a:pt x="144" y="345"/>
                  <a:pt x="144" y="345"/>
                  <a:pt x="144" y="345"/>
                </a:cubicBezTo>
                <a:cubicBezTo>
                  <a:pt x="151" y="326"/>
                  <a:pt x="151" y="326"/>
                  <a:pt x="151" y="326"/>
                </a:cubicBezTo>
                <a:cubicBezTo>
                  <a:pt x="151" y="326"/>
                  <a:pt x="147" y="340"/>
                  <a:pt x="151" y="349"/>
                </a:cubicBezTo>
                <a:cubicBezTo>
                  <a:pt x="155" y="358"/>
                  <a:pt x="155" y="358"/>
                  <a:pt x="155" y="358"/>
                </a:cubicBez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6" name=""/>
          <p:cNvGrpSpPr/>
          <p:nvPr/>
        </p:nvGrpSpPr>
        <p:grpSpPr>
          <a:xfrm>
            <a:off x="5137200" y="4929120"/>
            <a:ext cx="3182760" cy="1800"/>
            <a:chOff x="5137200" y="4929120"/>
            <a:chExt cx="3182760" cy="1800"/>
          </a:xfrm>
        </p:grpSpPr>
        <p:sp>
          <p:nvSpPr>
            <p:cNvPr id="497" name="Line 44"/>
            <p:cNvSpPr/>
            <p:nvPr/>
          </p:nvSpPr>
          <p:spPr>
            <a:xfrm>
              <a:off x="5137200" y="4929120"/>
              <a:ext cx="3182760" cy="1800"/>
            </a:xfrm>
            <a:prstGeom prst="line">
              <a:avLst/>
            </a:prstGeom>
            <a:ln w="15840">
              <a:solidFill>
                <a:srgbClr val="333333"/>
              </a:solidFill>
              <a:prstDash val="dash"/>
              <a:round/>
              <a:headEnd len="med" type="triangle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 txBox="1"/>
            <p:nvPr/>
          </p:nvSpPr>
          <p:spPr>
            <a:xfrm>
              <a:off x="5137200" y="4929120"/>
              <a:ext cx="318276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9" name="Rectangle 45"/>
          <p:cNvSpPr/>
          <p:nvPr/>
        </p:nvSpPr>
        <p:spPr>
          <a:xfrm>
            <a:off x="6348240" y="450216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80808"/>
                </a:solidFill>
                <a:latin typeface="Arial"/>
                <a:ea typeface="华文细黑"/>
              </a:rPr>
              <a:t>单击此处添加标题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46"/>
          <p:cNvSpPr/>
          <p:nvPr/>
        </p:nvSpPr>
        <p:spPr>
          <a:xfrm>
            <a:off x="5329080" y="4971960"/>
            <a:ext cx="28800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80808"/>
                </a:solidFill>
                <a:latin typeface="Arial"/>
                <a:ea typeface="华文细黑"/>
              </a:rPr>
              <a:t>单击此处添加文字内容   单击此处添加文字内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80808"/>
                </a:solidFill>
                <a:latin typeface="Arial"/>
                <a:ea typeface="华文细黑"/>
              </a:rPr>
              <a:t>单击此处添加文字内容   单击此处添加文字内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80808"/>
                </a:solidFill>
                <a:latin typeface="Arial"/>
                <a:ea typeface="华文细黑"/>
              </a:rPr>
              <a:t>单击此处添加文字内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 spokes="3"/>
    <p:sndAc>
      <p:stSnd>
        <p:snd r:embed="rId1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Freeform 3"/>
          <p:cNvSpPr/>
          <p:nvPr/>
        </p:nvSpPr>
        <p:spPr>
          <a:xfrm flipH="1">
            <a:off x="4832280" y="2846520"/>
            <a:ext cx="3168720" cy="289548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e0c3ff"/>
              </a:gs>
              <a:gs pos="100000">
                <a:srgbClr val="af67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3" name="Group 4"/>
          <p:cNvGrpSpPr/>
          <p:nvPr/>
        </p:nvGrpSpPr>
        <p:grpSpPr>
          <a:xfrm>
            <a:off x="1273320" y="1981080"/>
            <a:ext cx="4061880" cy="3858480"/>
            <a:chOff x="1273320" y="1981080"/>
            <a:chExt cx="4061880" cy="3858480"/>
          </a:xfrm>
        </p:grpSpPr>
        <p:sp>
          <p:nvSpPr>
            <p:cNvPr id="504" name="AutoShape 5"/>
            <p:cNvSpPr/>
            <p:nvPr/>
          </p:nvSpPr>
          <p:spPr>
            <a:xfrm rot="16200000">
              <a:off x="3878640" y="3252240"/>
              <a:ext cx="1560600" cy="1352160"/>
            </a:xfrm>
            <a:prstGeom prst="hexagon">
              <a:avLst>
                <a:gd name="adj" fmla="val 28854"/>
                <a:gd name="vf" fmla="val 115470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475e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AutoShape 6"/>
            <p:cNvSpPr/>
            <p:nvPr/>
          </p:nvSpPr>
          <p:spPr>
            <a:xfrm rot="16200000">
              <a:off x="3193560" y="2083320"/>
              <a:ext cx="1558800" cy="1353960"/>
            </a:xfrm>
            <a:prstGeom prst="hexagon">
              <a:avLst>
                <a:gd name="adj" fmla="val 28782"/>
                <a:gd name="vf" fmla="val 115470"/>
              </a:avLst>
            </a:prstGeom>
            <a:gradFill rotWithShape="0">
              <a:gsLst>
                <a:gs pos="0">
                  <a:srgbClr val="18185e"/>
                </a:gs>
                <a:gs pos="50000">
                  <a:srgbClr val="3333cc"/>
                </a:gs>
                <a:gs pos="100000">
                  <a:srgbClr val="18185e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Arial"/>
                  <a:ea typeface="Gulim"/>
                </a:rPr>
                <a:t>文本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AutoShape 7"/>
            <p:cNvSpPr/>
            <p:nvPr/>
          </p:nvSpPr>
          <p:spPr>
            <a:xfrm rot="16200000">
              <a:off x="3238920" y="4384440"/>
              <a:ext cx="1558440" cy="1351800"/>
            </a:xfrm>
            <a:prstGeom prst="hexagon">
              <a:avLst>
                <a:gd name="adj" fmla="val 28822"/>
                <a:gd name="vf" fmla="val 115470"/>
              </a:avLst>
            </a:prstGeom>
            <a:gradFill rotWithShape="0">
              <a:gsLst>
                <a:gs pos="0">
                  <a:srgbClr val="18185e"/>
                </a:gs>
                <a:gs pos="50000">
                  <a:srgbClr val="3333cc"/>
                </a:gs>
                <a:gs pos="100000">
                  <a:srgbClr val="18185e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AutoShape 8"/>
            <p:cNvSpPr/>
            <p:nvPr/>
          </p:nvSpPr>
          <p:spPr>
            <a:xfrm rot="16200000">
              <a:off x="2520720" y="3255120"/>
              <a:ext cx="1556280" cy="1353960"/>
            </a:xfrm>
            <a:prstGeom prst="hexagon">
              <a:avLst>
                <a:gd name="adj" fmla="val 28767"/>
                <a:gd name="vf" fmla="val 115470"/>
              </a:avLst>
            </a:prstGeom>
            <a:gradFill rotWithShape="0">
              <a:gsLst>
                <a:gs pos="0">
                  <a:srgbClr val="5e5e76"/>
                </a:gs>
                <a:gs pos="50000">
                  <a:srgbClr val="ccccff"/>
                </a:gs>
                <a:gs pos="100000">
                  <a:srgbClr val="5e5e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AutoShape 9"/>
            <p:cNvSpPr/>
            <p:nvPr/>
          </p:nvSpPr>
          <p:spPr>
            <a:xfrm rot="16200000">
              <a:off x="1842120" y="2084400"/>
              <a:ext cx="1558800" cy="1351800"/>
            </a:xfrm>
            <a:prstGeom prst="hexagon">
              <a:avLst>
                <a:gd name="adj" fmla="val 28828"/>
                <a:gd name="vf" fmla="val 115470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475e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AutoShape 10"/>
            <p:cNvSpPr/>
            <p:nvPr/>
          </p:nvSpPr>
          <p:spPr>
            <a:xfrm rot="16200000">
              <a:off x="1842480" y="4384440"/>
              <a:ext cx="1558440" cy="1351800"/>
            </a:xfrm>
            <a:prstGeom prst="hexagon">
              <a:avLst>
                <a:gd name="adj" fmla="val 28822"/>
                <a:gd name="vf" fmla="val 115470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475e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AutoShape 11"/>
            <p:cNvSpPr/>
            <p:nvPr/>
          </p:nvSpPr>
          <p:spPr>
            <a:xfrm rot="16200000">
              <a:off x="1168920" y="3252600"/>
              <a:ext cx="1560600" cy="1351800"/>
            </a:xfrm>
            <a:prstGeom prst="hexagon">
              <a:avLst>
                <a:gd name="adj" fmla="val 28862"/>
                <a:gd name="vf" fmla="val 115470"/>
              </a:avLst>
            </a:prstGeom>
            <a:gradFill rotWithShape="0">
              <a:gsLst>
                <a:gs pos="0">
                  <a:srgbClr val="18185e"/>
                </a:gs>
                <a:gs pos="50000">
                  <a:srgbClr val="3333cc"/>
                </a:gs>
                <a:gs pos="100000">
                  <a:srgbClr val="18185e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1" name="Text Box 12"/>
          <p:cNvSpPr/>
          <p:nvPr/>
        </p:nvSpPr>
        <p:spPr>
          <a:xfrm rot="16200000">
            <a:off x="5812560" y="1289160"/>
            <a:ext cx="1277640" cy="29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000000"/>
                </a:solidFill>
                <a:latin typeface="Arial"/>
                <a:ea typeface="Gulim"/>
              </a:rPr>
              <a:t>点击添加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 spokes="3"/>
    <p:sndAc>
      <p:stSnd>
        <p:snd r:embed="rId1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AutoShape 3"/>
          <p:cNvSpPr/>
          <p:nvPr/>
        </p:nvSpPr>
        <p:spPr>
          <a:xfrm flipH="1">
            <a:off x="3402720" y="2143080"/>
            <a:ext cx="995400" cy="835200"/>
          </a:xfrm>
          <a:custGeom>
            <a:avLst/>
            <a:gdLst>
              <a:gd name="textAreaLeft" fmla="*/ 133200 w 995400"/>
              <a:gd name="textAreaRight" fmla="*/ 862200 w 995400"/>
              <a:gd name="textAreaTop" fmla="*/ 150840 h 835200"/>
              <a:gd name="textAreaBottom" fmla="*/ 590760 h 835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802" stAng="-5400000" swAng="-5400000"/>
                <a:lnTo>
                  <a:pt x="0" y="11375"/>
                </a:lnTo>
                <a:arcTo wR="21600" hR="7802" stAng="10800000" swAng="-3039262"/>
                <a:lnTo>
                  <a:pt x="15467" y="21279"/>
                </a:lnTo>
                <a:lnTo>
                  <a:pt x="21600" y="17391"/>
                </a:lnTo>
                <a:lnTo>
                  <a:pt x="15467" y="12860"/>
                </a:lnTo>
                <a:lnTo>
                  <a:pt x="15467" y="15283"/>
                </a:lnTo>
                <a:arcTo wR="21600" hR="7802" stAng="7760738" swAng="2747871"/>
                <a:lnTo>
                  <a:pt x="574" y="9589"/>
                </a:lnTo>
                <a:arcTo wR="21600" hR="7802" stAng="-10508609" swAng="5108609"/>
                <a:close/>
              </a:path>
              <a:path fill="darkenLess" w="21600" h="21600">
                <a:moveTo>
                  <a:pt x="21600" y="0"/>
                </a:moveTo>
                <a:arcTo wR="21600" hR="7802" stAng="-5400000" swAng="-5400000"/>
                <a:lnTo>
                  <a:pt x="0" y="7802"/>
                </a:lnTo>
                <a:arcTo wR="21600" hR="7802" stAng="10800000" swAng="-291391"/>
                <a:lnTo>
                  <a:pt x="574" y="9589"/>
                </a:lnTo>
                <a:arcTo wR="21600" hR="7802" stAng="-10508609" swAng="5108609"/>
                <a:close/>
              </a:path>
            </a:pathLst>
          </a:custGeom>
          <a:gradFill rotWithShape="0">
            <a:gsLst>
              <a:gs pos="0">
                <a:srgbClr val="b8dbff"/>
              </a:gs>
              <a:gs pos="100000">
                <a:srgbClr val="99cc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AutoShape 4"/>
          <p:cNvSpPr/>
          <p:nvPr/>
        </p:nvSpPr>
        <p:spPr>
          <a:xfrm>
            <a:off x="1452600" y="2203560"/>
            <a:ext cx="995400" cy="834840"/>
          </a:xfrm>
          <a:custGeom>
            <a:avLst/>
            <a:gdLst>
              <a:gd name="textAreaLeft" fmla="*/ 133200 w 995400"/>
              <a:gd name="textAreaRight" fmla="*/ 862200 w 995400"/>
              <a:gd name="textAreaTop" fmla="*/ 141480 h 834840"/>
              <a:gd name="textAreaBottom" fmla="*/ 588600 h 834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330" stAng="-5400000" swAng="-5400000"/>
                <a:lnTo>
                  <a:pt x="0" y="11560"/>
                </a:lnTo>
                <a:arcTo wR="21600" hR="7330" stAng="10800000" swAng="-2944394"/>
                <a:lnTo>
                  <a:pt x="15503" y="21302"/>
                </a:lnTo>
                <a:lnTo>
                  <a:pt x="21600" y="16775"/>
                </a:lnTo>
                <a:lnTo>
                  <a:pt x="15503" y="11652"/>
                </a:lnTo>
                <a:lnTo>
                  <a:pt x="15503" y="14362"/>
                </a:lnTo>
                <a:arcTo wR="21600" hR="7330" stAng="7855606" swAng="2594046"/>
                <a:lnTo>
                  <a:pt x="919" y="9445"/>
                </a:lnTo>
                <a:arcTo wR="21600" hR="7330" stAng="-10449652" swAng="5049652"/>
                <a:close/>
              </a:path>
              <a:path fill="darkenLess" w="21600" h="21600">
                <a:moveTo>
                  <a:pt x="21600" y="0"/>
                </a:moveTo>
                <a:arcTo wR="21600" hR="7330" stAng="-5400000" swAng="-5400000"/>
                <a:lnTo>
                  <a:pt x="0" y="7330"/>
                </a:lnTo>
                <a:arcTo wR="21600" hR="7330" stAng="10800000" swAng="-350348"/>
                <a:lnTo>
                  <a:pt x="919" y="9445"/>
                </a:lnTo>
                <a:arcTo wR="21600" hR="7330" stAng="-10449652" swAng="5049652"/>
                <a:close/>
              </a:path>
            </a:pathLst>
          </a:custGeom>
          <a:gradFill rotWithShape="0">
            <a:gsLst>
              <a:gs pos="0">
                <a:srgbClr val="c4e2ff"/>
              </a:gs>
              <a:gs pos="100000">
                <a:srgbClr val="99cc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5" name="Group 5"/>
          <p:cNvGrpSpPr/>
          <p:nvPr/>
        </p:nvGrpSpPr>
        <p:grpSpPr>
          <a:xfrm>
            <a:off x="1490760" y="3400560"/>
            <a:ext cx="3003480" cy="2771280"/>
            <a:chOff x="1490760" y="3400560"/>
            <a:chExt cx="3003480" cy="2771280"/>
          </a:xfrm>
        </p:grpSpPr>
        <p:grpSp>
          <p:nvGrpSpPr>
            <p:cNvPr id="516" name="Group 6"/>
            <p:cNvGrpSpPr/>
            <p:nvPr/>
          </p:nvGrpSpPr>
          <p:grpSpPr>
            <a:xfrm>
              <a:off x="1665360" y="4589280"/>
              <a:ext cx="2706480" cy="1582560"/>
              <a:chOff x="1665360" y="4589280"/>
              <a:chExt cx="2706480" cy="1582560"/>
            </a:xfrm>
          </p:grpSpPr>
          <p:sp>
            <p:nvSpPr>
              <p:cNvPr id="517" name="Freeform 7"/>
              <p:cNvSpPr/>
              <p:nvPr/>
            </p:nvSpPr>
            <p:spPr>
              <a:xfrm>
                <a:off x="1665360" y="5122080"/>
                <a:ext cx="1063080" cy="1049760"/>
              </a:xfrm>
              <a:custGeom>
                <a:avLst/>
                <a:gdLst/>
                <a:ahLst/>
                <a:rect l="l" t="t" r="r" b="b"/>
                <a:pathLst>
                  <a:path w="1323" h="1322">
                    <a:moveTo>
                      <a:pt x="51" y="367"/>
                    </a:moveTo>
                    <a:lnTo>
                      <a:pt x="1323" y="1322"/>
                    </a:lnTo>
                    <a:lnTo>
                      <a:pt x="1323" y="974"/>
                    </a:lnTo>
                    <a:lnTo>
                      <a:pt x="0" y="0"/>
                    </a:lnTo>
                    <a:lnTo>
                      <a:pt x="51" y="367"/>
                    </a:lnTo>
                    <a:close/>
                  </a:path>
                </a:pathLst>
              </a:custGeom>
              <a:solidFill>
                <a:srgbClr val="c5c1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Freeform 8"/>
              <p:cNvSpPr/>
              <p:nvPr/>
            </p:nvSpPr>
            <p:spPr>
              <a:xfrm>
                <a:off x="2716560" y="5041080"/>
                <a:ext cx="1655280" cy="1126080"/>
              </a:xfrm>
              <a:custGeom>
                <a:avLst/>
                <a:gdLst/>
                <a:ahLst/>
                <a:rect l="l" t="t" r="r" b="b"/>
                <a:pathLst>
                  <a:path w="2083" h="1418">
                    <a:moveTo>
                      <a:pt x="0" y="1070"/>
                    </a:moveTo>
                    <a:lnTo>
                      <a:pt x="2083" y="0"/>
                    </a:lnTo>
                    <a:lnTo>
                      <a:pt x="2045" y="355"/>
                    </a:lnTo>
                    <a:lnTo>
                      <a:pt x="7" y="1418"/>
                    </a:lnTo>
                    <a:lnTo>
                      <a:pt x="0" y="1070"/>
                    </a:lnTo>
                    <a:close/>
                  </a:path>
                </a:pathLst>
              </a:custGeom>
              <a:solidFill>
                <a:srgbClr val="f2f3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Freeform 9"/>
              <p:cNvSpPr/>
              <p:nvPr/>
            </p:nvSpPr>
            <p:spPr>
              <a:xfrm>
                <a:off x="1665360" y="4589280"/>
                <a:ext cx="2706480" cy="1301760"/>
              </a:xfrm>
              <a:custGeom>
                <a:avLst/>
                <a:gdLst/>
                <a:ahLst/>
                <a:rect l="l" t="t" r="r" b="b"/>
                <a:pathLst>
                  <a:path w="3406" h="1639">
                    <a:moveTo>
                      <a:pt x="1323" y="1639"/>
                    </a:moveTo>
                    <a:lnTo>
                      <a:pt x="0" y="671"/>
                    </a:lnTo>
                    <a:lnTo>
                      <a:pt x="1969" y="0"/>
                    </a:lnTo>
                    <a:lnTo>
                      <a:pt x="3406" y="569"/>
                    </a:lnTo>
                    <a:lnTo>
                      <a:pt x="1323" y="1639"/>
                    </a:lnTo>
                    <a:close/>
                  </a:path>
                </a:pathLst>
              </a:custGeom>
              <a:solidFill>
                <a:srgbClr val="bdc5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0" name="Group 10"/>
            <p:cNvGrpSpPr/>
            <p:nvPr/>
          </p:nvGrpSpPr>
          <p:grpSpPr>
            <a:xfrm>
              <a:off x="1607400" y="4202640"/>
              <a:ext cx="2802600" cy="1582560"/>
              <a:chOff x="1607400" y="4202640"/>
              <a:chExt cx="2802600" cy="1582560"/>
            </a:xfrm>
          </p:grpSpPr>
          <p:sp>
            <p:nvSpPr>
              <p:cNvPr id="521" name="Freeform 11"/>
              <p:cNvSpPr/>
              <p:nvPr/>
            </p:nvSpPr>
            <p:spPr>
              <a:xfrm>
                <a:off x="1607400" y="4735440"/>
                <a:ext cx="1100880" cy="1049760"/>
              </a:xfrm>
              <a:custGeom>
                <a:avLst/>
                <a:gdLst/>
                <a:ahLst/>
                <a:rect l="l" t="t" r="r" b="b"/>
                <a:pathLst>
                  <a:path w="1323" h="1322">
                    <a:moveTo>
                      <a:pt x="51" y="367"/>
                    </a:moveTo>
                    <a:lnTo>
                      <a:pt x="1323" y="1322"/>
                    </a:lnTo>
                    <a:lnTo>
                      <a:pt x="1323" y="974"/>
                    </a:lnTo>
                    <a:lnTo>
                      <a:pt x="0" y="0"/>
                    </a:lnTo>
                    <a:lnTo>
                      <a:pt x="51" y="367"/>
                    </a:lnTo>
                    <a:close/>
                  </a:path>
                </a:pathLst>
              </a:custGeom>
              <a:solidFill>
                <a:srgbClr val="ccb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Freeform 12"/>
              <p:cNvSpPr/>
              <p:nvPr/>
            </p:nvSpPr>
            <p:spPr>
              <a:xfrm>
                <a:off x="2696040" y="4654440"/>
                <a:ext cx="1713960" cy="1126080"/>
              </a:xfrm>
              <a:custGeom>
                <a:avLst/>
                <a:gdLst/>
                <a:ahLst/>
                <a:rect l="l" t="t" r="r" b="b"/>
                <a:pathLst>
                  <a:path w="2083" h="1418">
                    <a:moveTo>
                      <a:pt x="0" y="1070"/>
                    </a:moveTo>
                    <a:lnTo>
                      <a:pt x="2083" y="0"/>
                    </a:lnTo>
                    <a:lnTo>
                      <a:pt x="2045" y="355"/>
                    </a:lnTo>
                    <a:lnTo>
                      <a:pt x="7" y="1418"/>
                    </a:lnTo>
                    <a:lnTo>
                      <a:pt x="0" y="1070"/>
                    </a:lnTo>
                    <a:close/>
                  </a:path>
                </a:pathLst>
              </a:custGeom>
              <a:solidFill>
                <a:srgbClr val="fdef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Freeform 13"/>
              <p:cNvSpPr/>
              <p:nvPr/>
            </p:nvSpPr>
            <p:spPr>
              <a:xfrm>
                <a:off x="1607400" y="4202640"/>
                <a:ext cx="2802600" cy="1301760"/>
              </a:xfrm>
              <a:custGeom>
                <a:avLst/>
                <a:gdLst/>
                <a:ahLst/>
                <a:rect l="l" t="t" r="r" b="b"/>
                <a:pathLst>
                  <a:path w="3406" h="1639">
                    <a:moveTo>
                      <a:pt x="1323" y="1639"/>
                    </a:moveTo>
                    <a:lnTo>
                      <a:pt x="0" y="671"/>
                    </a:lnTo>
                    <a:lnTo>
                      <a:pt x="1969" y="0"/>
                    </a:lnTo>
                    <a:lnTo>
                      <a:pt x="3406" y="569"/>
                    </a:lnTo>
                    <a:lnTo>
                      <a:pt x="1323" y="1639"/>
                    </a:lnTo>
                    <a:close/>
                  </a:path>
                </a:pathLst>
              </a:custGeom>
              <a:solidFill>
                <a:srgbClr val="fdd5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4" name="Group 14"/>
            <p:cNvGrpSpPr/>
            <p:nvPr/>
          </p:nvGrpSpPr>
          <p:grpSpPr>
            <a:xfrm>
              <a:off x="1548720" y="3802320"/>
              <a:ext cx="2902680" cy="1582560"/>
              <a:chOff x="1548720" y="3802320"/>
              <a:chExt cx="2902680" cy="1582560"/>
            </a:xfrm>
          </p:grpSpPr>
          <p:sp>
            <p:nvSpPr>
              <p:cNvPr id="525" name="Freeform 15"/>
              <p:cNvSpPr/>
              <p:nvPr/>
            </p:nvSpPr>
            <p:spPr>
              <a:xfrm>
                <a:off x="1548720" y="4335120"/>
                <a:ext cx="1140120" cy="1049760"/>
              </a:xfrm>
              <a:custGeom>
                <a:avLst/>
                <a:gdLst/>
                <a:ahLst/>
                <a:rect l="l" t="t" r="r" b="b"/>
                <a:pathLst>
                  <a:path w="1323" h="1322">
                    <a:moveTo>
                      <a:pt x="51" y="367"/>
                    </a:moveTo>
                    <a:lnTo>
                      <a:pt x="1323" y="1322"/>
                    </a:lnTo>
                    <a:lnTo>
                      <a:pt x="1323" y="974"/>
                    </a:lnTo>
                    <a:lnTo>
                      <a:pt x="0" y="0"/>
                    </a:lnTo>
                    <a:lnTo>
                      <a:pt x="51" y="367"/>
                    </a:lnTo>
                    <a:close/>
                  </a:path>
                </a:pathLst>
              </a:custGeom>
              <a:solidFill>
                <a:srgbClr val="49a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Freeform 16"/>
              <p:cNvSpPr/>
              <p:nvPr/>
            </p:nvSpPr>
            <p:spPr>
              <a:xfrm>
                <a:off x="2675880" y="4254120"/>
                <a:ext cx="1775160" cy="1126080"/>
              </a:xfrm>
              <a:custGeom>
                <a:avLst/>
                <a:gdLst/>
                <a:ahLst/>
                <a:rect l="l" t="t" r="r" b="b"/>
                <a:pathLst>
                  <a:path w="2083" h="1418">
                    <a:moveTo>
                      <a:pt x="0" y="1070"/>
                    </a:moveTo>
                    <a:lnTo>
                      <a:pt x="2083" y="0"/>
                    </a:lnTo>
                    <a:lnTo>
                      <a:pt x="2045" y="355"/>
                    </a:lnTo>
                    <a:lnTo>
                      <a:pt x="7" y="1418"/>
                    </a:lnTo>
                    <a:lnTo>
                      <a:pt x="0" y="1070"/>
                    </a:lnTo>
                    <a:close/>
                  </a:path>
                </a:pathLst>
              </a:custGeom>
              <a:solidFill>
                <a:srgbClr val="a2ec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Freeform 17"/>
              <p:cNvSpPr/>
              <p:nvPr/>
            </p:nvSpPr>
            <p:spPr>
              <a:xfrm>
                <a:off x="1548720" y="3802320"/>
                <a:ext cx="2902680" cy="1301760"/>
              </a:xfrm>
              <a:custGeom>
                <a:avLst/>
                <a:gdLst/>
                <a:ahLst/>
                <a:rect l="l" t="t" r="r" b="b"/>
                <a:pathLst>
                  <a:path w="3406" h="1639">
                    <a:moveTo>
                      <a:pt x="1323" y="1639"/>
                    </a:moveTo>
                    <a:lnTo>
                      <a:pt x="0" y="671"/>
                    </a:lnTo>
                    <a:lnTo>
                      <a:pt x="1969" y="0"/>
                    </a:lnTo>
                    <a:lnTo>
                      <a:pt x="3406" y="569"/>
                    </a:lnTo>
                    <a:lnTo>
                      <a:pt x="1323" y="1639"/>
                    </a:lnTo>
                    <a:close/>
                  </a:path>
                </a:pathLst>
              </a:custGeom>
              <a:solidFill>
                <a:srgbClr val="38c8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8" name="Group 18"/>
            <p:cNvGrpSpPr/>
            <p:nvPr/>
          </p:nvGrpSpPr>
          <p:grpSpPr>
            <a:xfrm>
              <a:off x="1490760" y="3400560"/>
              <a:ext cx="3003480" cy="1582560"/>
              <a:chOff x="1490760" y="3400560"/>
              <a:chExt cx="3003480" cy="1582560"/>
            </a:xfrm>
          </p:grpSpPr>
          <p:sp>
            <p:nvSpPr>
              <p:cNvPr id="529" name="Freeform 19"/>
              <p:cNvSpPr/>
              <p:nvPr/>
            </p:nvSpPr>
            <p:spPr>
              <a:xfrm>
                <a:off x="1490760" y="3933360"/>
                <a:ext cx="1179720" cy="1049760"/>
              </a:xfrm>
              <a:custGeom>
                <a:avLst/>
                <a:gdLst/>
                <a:ahLst/>
                <a:rect l="l" t="t" r="r" b="b"/>
                <a:pathLst>
                  <a:path w="1323" h="1322">
                    <a:moveTo>
                      <a:pt x="51" y="367"/>
                    </a:moveTo>
                    <a:lnTo>
                      <a:pt x="1323" y="1322"/>
                    </a:lnTo>
                    <a:lnTo>
                      <a:pt x="1323" y="974"/>
                    </a:lnTo>
                    <a:lnTo>
                      <a:pt x="0" y="0"/>
                    </a:lnTo>
                    <a:lnTo>
                      <a:pt x="51" y="367"/>
                    </a:lnTo>
                    <a:close/>
                  </a:path>
                </a:pathLst>
              </a:custGeom>
              <a:solidFill>
                <a:srgbClr val="3065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Freeform 20"/>
              <p:cNvSpPr/>
              <p:nvPr/>
            </p:nvSpPr>
            <p:spPr>
              <a:xfrm>
                <a:off x="2657160" y="3852360"/>
                <a:ext cx="1836720" cy="1126080"/>
              </a:xfrm>
              <a:custGeom>
                <a:avLst/>
                <a:gdLst/>
                <a:ahLst/>
                <a:rect l="l" t="t" r="r" b="b"/>
                <a:pathLst>
                  <a:path w="2083" h="1418">
                    <a:moveTo>
                      <a:pt x="0" y="1070"/>
                    </a:moveTo>
                    <a:lnTo>
                      <a:pt x="2083" y="0"/>
                    </a:lnTo>
                    <a:lnTo>
                      <a:pt x="2045" y="355"/>
                    </a:lnTo>
                    <a:lnTo>
                      <a:pt x="7" y="1418"/>
                    </a:lnTo>
                    <a:lnTo>
                      <a:pt x="0" y="1070"/>
                    </a:lnTo>
                    <a:close/>
                  </a:path>
                </a:pathLst>
              </a:custGeom>
              <a:solidFill>
                <a:srgbClr val="8bd3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Freeform 21"/>
              <p:cNvSpPr/>
              <p:nvPr/>
            </p:nvSpPr>
            <p:spPr>
              <a:xfrm>
                <a:off x="1490760" y="3400560"/>
                <a:ext cx="3003480" cy="1301760"/>
              </a:xfrm>
              <a:custGeom>
                <a:avLst/>
                <a:gdLst/>
                <a:ahLst/>
                <a:rect l="l" t="t" r="r" b="b"/>
                <a:pathLst>
                  <a:path w="3406" h="1639">
                    <a:moveTo>
                      <a:pt x="1323" y="1639"/>
                    </a:moveTo>
                    <a:lnTo>
                      <a:pt x="0" y="671"/>
                    </a:lnTo>
                    <a:lnTo>
                      <a:pt x="1969" y="0"/>
                    </a:lnTo>
                    <a:lnTo>
                      <a:pt x="3406" y="569"/>
                    </a:lnTo>
                    <a:lnTo>
                      <a:pt x="1323" y="163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09ed0"/>
                  </a:gs>
                  <a:gs pos="100000">
                    <a:srgbClr val="66b7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2" name="AutoShape 22"/>
          <p:cNvSpPr/>
          <p:nvPr/>
        </p:nvSpPr>
        <p:spPr>
          <a:xfrm>
            <a:off x="4986360" y="3376440"/>
            <a:ext cx="3146400" cy="42876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添加文本内容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AutoShape 23"/>
          <p:cNvSpPr/>
          <p:nvPr/>
        </p:nvSpPr>
        <p:spPr>
          <a:xfrm>
            <a:off x="4967280" y="3943440"/>
            <a:ext cx="3257640" cy="42696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添加文本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AutoShape 24"/>
          <p:cNvSpPr/>
          <p:nvPr/>
        </p:nvSpPr>
        <p:spPr>
          <a:xfrm>
            <a:off x="4943520" y="5057640"/>
            <a:ext cx="3065400" cy="43992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添加文本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AutoShape 25"/>
          <p:cNvSpPr/>
          <p:nvPr/>
        </p:nvSpPr>
        <p:spPr>
          <a:xfrm>
            <a:off x="4952880" y="4500720"/>
            <a:ext cx="3065760" cy="37908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添加文本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AutoShape 26"/>
          <p:cNvSpPr/>
          <p:nvPr/>
        </p:nvSpPr>
        <p:spPr>
          <a:xfrm rot="21055800">
            <a:off x="1060200" y="3600000"/>
            <a:ext cx="393480" cy="1920960"/>
          </a:xfrm>
          <a:prstGeom prst="upArrow">
            <a:avLst>
              <a:gd name="adj1" fmla="val 32231"/>
              <a:gd name="adj2" fmla="val 93390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27"/>
          <p:cNvSpPr/>
          <p:nvPr/>
        </p:nvSpPr>
        <p:spPr>
          <a:xfrm>
            <a:off x="604800" y="5634000"/>
            <a:ext cx="159552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点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8" name="Picture 28" descr="num-1_t1"/>
          <p:cNvPicPr/>
          <p:nvPr/>
        </p:nvPicPr>
        <p:blipFill>
          <a:blip r:embed="rId1"/>
          <a:stretch/>
        </p:blipFill>
        <p:spPr>
          <a:xfrm>
            <a:off x="1366920" y="1657440"/>
            <a:ext cx="2244600" cy="2533680"/>
          </a:xfrm>
          <a:prstGeom prst="rect">
            <a:avLst/>
          </a:prstGeom>
          <a:ln w="0">
            <a:noFill/>
          </a:ln>
        </p:spPr>
      </p:pic>
      <p:sp>
        <p:nvSpPr>
          <p:cNvPr id="539" name="Rectangle 29"/>
          <p:cNvSpPr/>
          <p:nvPr/>
        </p:nvSpPr>
        <p:spPr>
          <a:xfrm>
            <a:off x="5014800" y="1600200"/>
            <a:ext cx="3768840" cy="12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xxxxxxxxxxxxxxxxxxxxxxxxxxxxxxxxxxxxxxxxxxxxxxxxxxxxxxxxxxxxxxxxxxxxxxxxxxxxxxxxx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 spokes="3"/>
    <p:sndAc>
      <p:stSnd>
        <p:snd r:embed="rId2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3962160" y="456840"/>
            <a:ext cx="3733560" cy="108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-1" strike="noStrike" u="sng">
                <a:solidFill>
                  <a:srgbClr val="000000"/>
                </a:solidFill>
                <a:uFillTx/>
                <a:latin typeface="方正大黑繁体"/>
                <a:ea typeface="方正大黑繁体"/>
              </a:rPr>
              <a:t>谢谢观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 spokes="3"/>
    <p:sndAc>
      <p:stSnd>
        <p:snd r:embed="rId1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谢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 spokes="3"/>
    <p:sndAc>
      <p:stSnd>
        <p:snd r:embed="rId1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4"/>
          <p:cNvSpPr/>
          <p:nvPr/>
        </p:nvSpPr>
        <p:spPr>
          <a:xfrm>
            <a:off x="673200" y="1768320"/>
            <a:ext cx="7859520" cy="42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配色方案修改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配色方案在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格式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--&gt;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幻灯片设计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--&gt;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配色方案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--&gt;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编辑配色方案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下调整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LOGO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的添加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Logo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添加修改在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视图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--&gt;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母版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--&gt;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幻灯片母版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下调整。直接选择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logo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图片删除或修改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字体格式的设置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括标题和文本格式的设置在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视图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--&gt;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母版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--&gt;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幻灯片母版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下调整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2544840" y="762120"/>
            <a:ext cx="391788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修改方案  仅做参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 spokes="3"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Group 3"/>
          <p:cNvGrpSpPr/>
          <p:nvPr/>
        </p:nvGrpSpPr>
        <p:grpSpPr>
          <a:xfrm>
            <a:off x="1927080" y="2886120"/>
            <a:ext cx="5311800" cy="689040"/>
            <a:chOff x="1927080" y="2886120"/>
            <a:chExt cx="5311800" cy="689040"/>
          </a:xfrm>
        </p:grpSpPr>
        <p:sp>
          <p:nvSpPr>
            <p:cNvPr id="133" name="AutoShape 4"/>
            <p:cNvSpPr/>
            <p:nvPr/>
          </p:nvSpPr>
          <p:spPr>
            <a:xfrm>
              <a:off x="1927080" y="2886120"/>
              <a:ext cx="5311800" cy="689040"/>
            </a:xfrm>
            <a:prstGeom prst="roundRect">
              <a:avLst>
                <a:gd name="adj" fmla="val 17509"/>
              </a:avLst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4" name="Group 5"/>
            <p:cNvGrpSpPr/>
            <p:nvPr/>
          </p:nvGrpSpPr>
          <p:grpSpPr>
            <a:xfrm>
              <a:off x="1940040" y="2907360"/>
              <a:ext cx="5292000" cy="636840"/>
              <a:chOff x="1940040" y="2907360"/>
              <a:chExt cx="5292000" cy="636840"/>
            </a:xfrm>
          </p:grpSpPr>
          <p:sp>
            <p:nvSpPr>
              <p:cNvPr id="135" name="AutoShape 6"/>
              <p:cNvSpPr/>
              <p:nvPr/>
            </p:nvSpPr>
            <p:spPr>
              <a:xfrm>
                <a:off x="1940040" y="337932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ccccff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AutoShape 7"/>
              <p:cNvSpPr/>
              <p:nvPr/>
            </p:nvSpPr>
            <p:spPr>
              <a:xfrm>
                <a:off x="1940040" y="2907360"/>
                <a:ext cx="5292000" cy="165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7" name="Group 8"/>
          <p:cNvGrpSpPr/>
          <p:nvPr/>
        </p:nvGrpSpPr>
        <p:grpSpPr>
          <a:xfrm>
            <a:off x="1927080" y="3751200"/>
            <a:ext cx="5311800" cy="689040"/>
            <a:chOff x="1927080" y="3751200"/>
            <a:chExt cx="5311800" cy="689040"/>
          </a:xfrm>
        </p:grpSpPr>
        <p:sp>
          <p:nvSpPr>
            <p:cNvPr id="138" name="AutoShape 9"/>
            <p:cNvSpPr/>
            <p:nvPr/>
          </p:nvSpPr>
          <p:spPr>
            <a:xfrm>
              <a:off x="1927080" y="3751200"/>
              <a:ext cx="5311800" cy="689040"/>
            </a:xfrm>
            <a:prstGeom prst="roundRect">
              <a:avLst>
                <a:gd name="adj" fmla="val 17509"/>
              </a:avLst>
            </a:prstGeom>
            <a:solidFill>
              <a:srgbClr val="00db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9" name="Group 10"/>
            <p:cNvGrpSpPr/>
            <p:nvPr/>
          </p:nvGrpSpPr>
          <p:grpSpPr>
            <a:xfrm>
              <a:off x="1940040" y="3772440"/>
              <a:ext cx="5292000" cy="636840"/>
              <a:chOff x="1940040" y="3772440"/>
              <a:chExt cx="5292000" cy="636840"/>
            </a:xfrm>
          </p:grpSpPr>
          <p:sp>
            <p:nvSpPr>
              <p:cNvPr id="140" name="AutoShape 11"/>
              <p:cNvSpPr/>
              <p:nvPr/>
            </p:nvSpPr>
            <p:spPr>
              <a:xfrm>
                <a:off x="1940040" y="424440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3333cc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AutoShape 12"/>
              <p:cNvSpPr/>
              <p:nvPr/>
            </p:nvSpPr>
            <p:spPr>
              <a:xfrm>
                <a:off x="1940040" y="3772440"/>
                <a:ext cx="5292000" cy="165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2" name="Group 13"/>
          <p:cNvGrpSpPr/>
          <p:nvPr/>
        </p:nvGrpSpPr>
        <p:grpSpPr>
          <a:xfrm>
            <a:off x="1927080" y="4608360"/>
            <a:ext cx="5311800" cy="689040"/>
            <a:chOff x="1927080" y="4608360"/>
            <a:chExt cx="5311800" cy="689040"/>
          </a:xfrm>
        </p:grpSpPr>
        <p:sp>
          <p:nvSpPr>
            <p:cNvPr id="143" name="AutoShape 14"/>
            <p:cNvSpPr/>
            <p:nvPr/>
          </p:nvSpPr>
          <p:spPr>
            <a:xfrm>
              <a:off x="1927080" y="4608360"/>
              <a:ext cx="53118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af67ff"/>
                </a:gs>
                <a:gs pos="50000">
                  <a:srgbClr val="a15feb"/>
                </a:gs>
                <a:gs pos="100000">
                  <a:srgbClr val="af6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4" name="Group 15"/>
            <p:cNvGrpSpPr/>
            <p:nvPr/>
          </p:nvGrpSpPr>
          <p:grpSpPr>
            <a:xfrm>
              <a:off x="1940040" y="4629600"/>
              <a:ext cx="5292000" cy="636840"/>
              <a:chOff x="1940040" y="4629600"/>
              <a:chExt cx="5292000" cy="636840"/>
            </a:xfrm>
          </p:grpSpPr>
          <p:sp>
            <p:nvSpPr>
              <p:cNvPr id="145" name="AutoShape 16"/>
              <p:cNvSpPr/>
              <p:nvPr/>
            </p:nvSpPr>
            <p:spPr>
              <a:xfrm>
                <a:off x="1940040" y="510156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af67ff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AutoShape 17"/>
              <p:cNvSpPr/>
              <p:nvPr/>
            </p:nvSpPr>
            <p:spPr>
              <a:xfrm>
                <a:off x="1940040" y="4629600"/>
                <a:ext cx="5292000" cy="165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f67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7" name="Group 18"/>
          <p:cNvGrpSpPr/>
          <p:nvPr/>
        </p:nvGrpSpPr>
        <p:grpSpPr>
          <a:xfrm>
            <a:off x="1927080" y="2022480"/>
            <a:ext cx="5311800" cy="689040"/>
            <a:chOff x="1927080" y="2022480"/>
            <a:chExt cx="5311800" cy="689040"/>
          </a:xfrm>
        </p:grpSpPr>
        <p:sp>
          <p:nvSpPr>
            <p:cNvPr id="148" name="AutoShape 19"/>
            <p:cNvSpPr/>
            <p:nvPr/>
          </p:nvSpPr>
          <p:spPr>
            <a:xfrm>
              <a:off x="1927080" y="2022480"/>
              <a:ext cx="53118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99ccff"/>
                </a:gs>
                <a:gs pos="50000">
                  <a:srgbClr val="8dbceb"/>
                </a:gs>
                <a:gs pos="100000">
                  <a:srgbClr val="99c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" name="Group 20"/>
            <p:cNvGrpSpPr/>
            <p:nvPr/>
          </p:nvGrpSpPr>
          <p:grpSpPr>
            <a:xfrm>
              <a:off x="1940040" y="2043720"/>
              <a:ext cx="5292000" cy="636840"/>
              <a:chOff x="1940040" y="2043720"/>
              <a:chExt cx="5292000" cy="636840"/>
            </a:xfrm>
          </p:grpSpPr>
          <p:sp>
            <p:nvSpPr>
              <p:cNvPr id="150" name="AutoShape 21"/>
              <p:cNvSpPr/>
              <p:nvPr/>
            </p:nvSpPr>
            <p:spPr>
              <a:xfrm>
                <a:off x="1940040" y="251568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99ccff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AutoShape 22"/>
              <p:cNvSpPr/>
              <p:nvPr/>
            </p:nvSpPr>
            <p:spPr>
              <a:xfrm>
                <a:off x="1940040" y="2043720"/>
                <a:ext cx="5292000" cy="165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9cc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2" name="Text Box 23"/>
          <p:cNvSpPr/>
          <p:nvPr/>
        </p:nvSpPr>
        <p:spPr>
          <a:xfrm>
            <a:off x="2394000" y="21366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Arial"/>
              </a:rPr>
              <a:t>单击此处添加文本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24"/>
          <p:cNvSpPr/>
          <p:nvPr/>
        </p:nvSpPr>
        <p:spPr>
          <a:xfrm>
            <a:off x="2405160" y="2994120"/>
            <a:ext cx="4495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单击此处添加文本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25"/>
          <p:cNvSpPr/>
          <p:nvPr/>
        </p:nvSpPr>
        <p:spPr>
          <a:xfrm>
            <a:off x="2405160" y="385272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单击此处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26"/>
          <p:cNvSpPr/>
          <p:nvPr/>
        </p:nvSpPr>
        <p:spPr>
          <a:xfrm>
            <a:off x="2405160" y="470052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单击此处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27" descr="1"/>
          <p:cNvPicPr/>
          <p:nvPr/>
        </p:nvPicPr>
        <p:blipFill>
          <a:blip r:embed="rId1"/>
          <a:srcRect l="42620" t="64489" r="19467" b="0"/>
          <a:stretch/>
        </p:blipFill>
        <p:spPr>
          <a:xfrm>
            <a:off x="1743120" y="3726000"/>
            <a:ext cx="792000" cy="9493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28" descr="1"/>
          <p:cNvPicPr/>
          <p:nvPr/>
        </p:nvPicPr>
        <p:blipFill>
          <a:blip r:embed="rId2"/>
          <a:srcRect l="42620" t="64489" r="19467" b="0"/>
          <a:stretch/>
        </p:blipFill>
        <p:spPr>
          <a:xfrm>
            <a:off x="1743120" y="2874960"/>
            <a:ext cx="792000" cy="9493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9" descr="1"/>
          <p:cNvPicPr/>
          <p:nvPr/>
        </p:nvPicPr>
        <p:blipFill>
          <a:blip r:embed="rId3"/>
          <a:srcRect l="42620" t="64489" r="19467" b="0"/>
          <a:stretch/>
        </p:blipFill>
        <p:spPr>
          <a:xfrm>
            <a:off x="1731960" y="2017800"/>
            <a:ext cx="792000" cy="94932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30"/>
          <p:cNvSpPr/>
          <p:nvPr/>
        </p:nvSpPr>
        <p:spPr>
          <a:xfrm>
            <a:off x="2073240" y="470844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1"/>
          <p:cNvSpPr/>
          <p:nvPr/>
        </p:nvSpPr>
        <p:spPr>
          <a:xfrm>
            <a:off x="2052720" y="211464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2"/>
          <p:cNvSpPr/>
          <p:nvPr/>
        </p:nvSpPr>
        <p:spPr>
          <a:xfrm>
            <a:off x="2065320" y="297324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33"/>
          <p:cNvSpPr/>
          <p:nvPr/>
        </p:nvSpPr>
        <p:spPr>
          <a:xfrm>
            <a:off x="2065320" y="386064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 spokes="3"/>
    <p:sndAc>
      <p:stSnd>
        <p:snd r:embed="rId4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3"/>
          <p:cNvSpPr/>
          <p:nvPr/>
        </p:nvSpPr>
        <p:spPr>
          <a:xfrm>
            <a:off x="5297400" y="2217600"/>
            <a:ext cx="2971800" cy="2971800"/>
          </a:xfrm>
          <a:prstGeom prst="ellipse">
            <a:avLst/>
          </a:prstGeom>
          <a:noFill/>
          <a:ln w="38160">
            <a:solidFill>
              <a:srgbClr val="af67ff"/>
            </a:solidFill>
            <a:round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4"/>
          <p:cNvSpPr/>
          <p:nvPr/>
        </p:nvSpPr>
        <p:spPr>
          <a:xfrm>
            <a:off x="936720" y="2217600"/>
            <a:ext cx="2971800" cy="2971800"/>
          </a:xfrm>
          <a:prstGeom prst="ellipse">
            <a:avLst/>
          </a:prstGeom>
          <a:noFill/>
          <a:ln w="38160">
            <a:solidFill>
              <a:srgbClr val="3333cc"/>
            </a:solidFill>
            <a:round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1333440" y="3524400"/>
            <a:ext cx="16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Group 15"/>
          <p:cNvGrpSpPr/>
          <p:nvPr/>
        </p:nvGrpSpPr>
        <p:grpSpPr>
          <a:xfrm>
            <a:off x="1362240" y="1828800"/>
            <a:ext cx="1000080" cy="977760"/>
            <a:chOff x="1362240" y="1828800"/>
            <a:chExt cx="1000080" cy="977760"/>
          </a:xfrm>
        </p:grpSpPr>
        <p:grpSp>
          <p:nvGrpSpPr>
            <p:cNvPr id="168" name="Group 16"/>
            <p:cNvGrpSpPr/>
            <p:nvPr/>
          </p:nvGrpSpPr>
          <p:grpSpPr>
            <a:xfrm>
              <a:off x="1362240" y="1828800"/>
              <a:ext cx="1000080" cy="977760"/>
              <a:chOff x="1362240" y="1828800"/>
              <a:chExt cx="1000080" cy="977760"/>
            </a:xfrm>
          </p:grpSpPr>
          <p:pic>
            <p:nvPicPr>
              <p:cNvPr id="169" name="Picture 17" descr="circuler_1"/>
              <p:cNvPicPr/>
              <p:nvPr/>
            </p:nvPicPr>
            <p:blipFill>
              <a:blip r:embed="rId1"/>
              <a:stretch/>
            </p:blipFill>
            <p:spPr>
              <a:xfrm>
                <a:off x="1362240" y="1828800"/>
                <a:ext cx="1000080" cy="97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0" name="Oval 18"/>
              <p:cNvSpPr/>
              <p:nvPr/>
            </p:nvSpPr>
            <p:spPr>
              <a:xfrm>
                <a:off x="1362240" y="1828800"/>
                <a:ext cx="993240" cy="977760"/>
              </a:xfrm>
              <a:prstGeom prst="ellipse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18185e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71" name="Picture 19" descr="Picture2"/>
            <p:cNvPicPr/>
            <p:nvPr/>
          </p:nvPicPr>
          <p:blipFill>
            <a:blip r:embed="rId2"/>
            <a:stretch/>
          </p:blipFill>
          <p:spPr>
            <a:xfrm>
              <a:off x="1461600" y="183816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2" name="Text Box 9"/>
          <p:cNvSpPr/>
          <p:nvPr/>
        </p:nvSpPr>
        <p:spPr>
          <a:xfrm>
            <a:off x="6168960" y="3457440"/>
            <a:ext cx="16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Group 45"/>
          <p:cNvGrpSpPr/>
          <p:nvPr/>
        </p:nvGrpSpPr>
        <p:grpSpPr>
          <a:xfrm>
            <a:off x="6875640" y="1859040"/>
            <a:ext cx="1000080" cy="977760"/>
            <a:chOff x="6875640" y="1859040"/>
            <a:chExt cx="1000080" cy="977760"/>
          </a:xfrm>
        </p:grpSpPr>
        <p:grpSp>
          <p:nvGrpSpPr>
            <p:cNvPr id="174" name="Group 46"/>
            <p:cNvGrpSpPr/>
            <p:nvPr/>
          </p:nvGrpSpPr>
          <p:grpSpPr>
            <a:xfrm>
              <a:off x="6875640" y="1859040"/>
              <a:ext cx="1000080" cy="977760"/>
              <a:chOff x="6875640" y="1859040"/>
              <a:chExt cx="1000080" cy="977760"/>
            </a:xfrm>
          </p:grpSpPr>
          <p:pic>
            <p:nvPicPr>
              <p:cNvPr id="175" name="Picture 47" descr="circuler_1"/>
              <p:cNvPicPr/>
              <p:nvPr/>
            </p:nvPicPr>
            <p:blipFill>
              <a:blip r:embed="rId3"/>
              <a:stretch/>
            </p:blipFill>
            <p:spPr>
              <a:xfrm>
                <a:off x="6875640" y="1859040"/>
                <a:ext cx="1000080" cy="97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6" name="Oval 48"/>
              <p:cNvSpPr/>
              <p:nvPr/>
            </p:nvSpPr>
            <p:spPr>
              <a:xfrm>
                <a:off x="6875640" y="1859040"/>
                <a:ext cx="993240" cy="977760"/>
              </a:xfrm>
              <a:prstGeom prst="ellipse">
                <a:avLst/>
              </a:prstGeom>
              <a:gradFill rotWithShape="0">
                <a:gsLst>
                  <a:gs pos="0">
                    <a:srgbClr val="af67ff"/>
                  </a:gs>
                  <a:gs pos="50000">
                    <a:srgbClr val="5f388a"/>
                  </a:gs>
                  <a:gs pos="100000">
                    <a:srgbClr val="af67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77" name="Picture 49" descr="Picture2"/>
            <p:cNvPicPr/>
            <p:nvPr/>
          </p:nvPicPr>
          <p:blipFill>
            <a:blip r:embed="rId4"/>
            <a:stretch/>
          </p:blipFill>
          <p:spPr>
            <a:xfrm>
              <a:off x="6975000" y="186840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8" name="Text Box 50"/>
          <p:cNvSpPr/>
          <p:nvPr/>
        </p:nvSpPr>
        <p:spPr>
          <a:xfrm>
            <a:off x="6842160" y="2149560"/>
            <a:ext cx="106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Group 15"/>
          <p:cNvGrpSpPr/>
          <p:nvPr/>
        </p:nvGrpSpPr>
        <p:grpSpPr>
          <a:xfrm>
            <a:off x="1362240" y="4581360"/>
            <a:ext cx="1000080" cy="978120"/>
            <a:chOff x="1362240" y="4581360"/>
            <a:chExt cx="1000080" cy="978120"/>
          </a:xfrm>
        </p:grpSpPr>
        <p:grpSp>
          <p:nvGrpSpPr>
            <p:cNvPr id="180" name="Group 16"/>
            <p:cNvGrpSpPr/>
            <p:nvPr/>
          </p:nvGrpSpPr>
          <p:grpSpPr>
            <a:xfrm>
              <a:off x="1362240" y="4581360"/>
              <a:ext cx="1000080" cy="978120"/>
              <a:chOff x="1362240" y="4581360"/>
              <a:chExt cx="1000080" cy="978120"/>
            </a:xfrm>
          </p:grpSpPr>
          <p:pic>
            <p:nvPicPr>
              <p:cNvPr id="181" name="Picture 17" descr="circuler_1"/>
              <p:cNvPicPr/>
              <p:nvPr/>
            </p:nvPicPr>
            <p:blipFill>
              <a:blip r:embed="rId5"/>
              <a:stretch/>
            </p:blipFill>
            <p:spPr>
              <a:xfrm>
                <a:off x="1362240" y="4581360"/>
                <a:ext cx="1000080" cy="97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2" name="Oval 18"/>
              <p:cNvSpPr/>
              <p:nvPr/>
            </p:nvSpPr>
            <p:spPr>
              <a:xfrm>
                <a:off x="1362240" y="4581360"/>
                <a:ext cx="993240" cy="978120"/>
              </a:xfrm>
              <a:prstGeom prst="ellipse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1d1d72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83" name="Picture 19" descr="Picture2"/>
            <p:cNvPicPr/>
            <p:nvPr/>
          </p:nvPicPr>
          <p:blipFill>
            <a:blip r:embed="rId6"/>
            <a:stretch/>
          </p:blipFill>
          <p:spPr>
            <a:xfrm>
              <a:off x="1461600" y="459072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4" name="Group 15"/>
          <p:cNvGrpSpPr/>
          <p:nvPr/>
        </p:nvGrpSpPr>
        <p:grpSpPr>
          <a:xfrm>
            <a:off x="457200" y="3286080"/>
            <a:ext cx="1000080" cy="978120"/>
            <a:chOff x="457200" y="3286080"/>
            <a:chExt cx="1000080" cy="978120"/>
          </a:xfrm>
        </p:grpSpPr>
        <p:grpSp>
          <p:nvGrpSpPr>
            <p:cNvPr id="185" name="Group 16"/>
            <p:cNvGrpSpPr/>
            <p:nvPr/>
          </p:nvGrpSpPr>
          <p:grpSpPr>
            <a:xfrm>
              <a:off x="457200" y="3286080"/>
              <a:ext cx="1000080" cy="978120"/>
              <a:chOff x="457200" y="3286080"/>
              <a:chExt cx="1000080" cy="978120"/>
            </a:xfrm>
          </p:grpSpPr>
          <p:pic>
            <p:nvPicPr>
              <p:cNvPr id="186" name="Picture 17" descr="circuler_1"/>
              <p:cNvPicPr/>
              <p:nvPr/>
            </p:nvPicPr>
            <p:blipFill>
              <a:blip r:embed="rId7"/>
              <a:stretch/>
            </p:blipFill>
            <p:spPr>
              <a:xfrm>
                <a:off x="457200" y="3286080"/>
                <a:ext cx="1000080" cy="97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7" name="Oval 18"/>
              <p:cNvSpPr/>
              <p:nvPr/>
            </p:nvSpPr>
            <p:spPr>
              <a:xfrm>
                <a:off x="457200" y="3286080"/>
                <a:ext cx="993240" cy="978120"/>
              </a:xfrm>
              <a:prstGeom prst="ellipse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1d1d72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88" name="Picture 19" descr="Picture2"/>
            <p:cNvPicPr/>
            <p:nvPr/>
          </p:nvPicPr>
          <p:blipFill>
            <a:blip r:embed="rId8"/>
            <a:stretch/>
          </p:blipFill>
          <p:spPr>
            <a:xfrm>
              <a:off x="556560" y="329544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9" name="Group 45"/>
          <p:cNvGrpSpPr/>
          <p:nvPr/>
        </p:nvGrpSpPr>
        <p:grpSpPr>
          <a:xfrm>
            <a:off x="6875640" y="4468680"/>
            <a:ext cx="1000080" cy="978120"/>
            <a:chOff x="6875640" y="4468680"/>
            <a:chExt cx="1000080" cy="978120"/>
          </a:xfrm>
        </p:grpSpPr>
        <p:grpSp>
          <p:nvGrpSpPr>
            <p:cNvPr id="190" name="Group 46"/>
            <p:cNvGrpSpPr/>
            <p:nvPr/>
          </p:nvGrpSpPr>
          <p:grpSpPr>
            <a:xfrm>
              <a:off x="6875640" y="4468680"/>
              <a:ext cx="1000080" cy="978120"/>
              <a:chOff x="6875640" y="4468680"/>
              <a:chExt cx="1000080" cy="978120"/>
            </a:xfrm>
          </p:grpSpPr>
          <p:pic>
            <p:nvPicPr>
              <p:cNvPr id="191" name="Picture 47" descr="circuler_1"/>
              <p:cNvPicPr/>
              <p:nvPr/>
            </p:nvPicPr>
            <p:blipFill>
              <a:blip r:embed="rId9"/>
              <a:stretch/>
            </p:blipFill>
            <p:spPr>
              <a:xfrm>
                <a:off x="6875640" y="4468680"/>
                <a:ext cx="1000080" cy="97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2" name="Oval 48"/>
              <p:cNvSpPr/>
              <p:nvPr/>
            </p:nvSpPr>
            <p:spPr>
              <a:xfrm>
                <a:off x="6875640" y="4468680"/>
                <a:ext cx="993240" cy="978120"/>
              </a:xfrm>
              <a:prstGeom prst="ellipse">
                <a:avLst/>
              </a:prstGeom>
              <a:gradFill rotWithShape="0">
                <a:gsLst>
                  <a:gs pos="0">
                    <a:srgbClr val="af67ff"/>
                  </a:gs>
                  <a:gs pos="50000">
                    <a:srgbClr val="5f388a"/>
                  </a:gs>
                  <a:gs pos="100000">
                    <a:srgbClr val="af67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93" name="Picture 49" descr="Picture2"/>
            <p:cNvPicPr/>
            <p:nvPr/>
          </p:nvPicPr>
          <p:blipFill>
            <a:blip r:embed="rId10"/>
            <a:stretch/>
          </p:blipFill>
          <p:spPr>
            <a:xfrm>
              <a:off x="6975000" y="447804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4" name="Text Box 50"/>
          <p:cNvSpPr/>
          <p:nvPr/>
        </p:nvSpPr>
        <p:spPr>
          <a:xfrm>
            <a:off x="6842160" y="4740120"/>
            <a:ext cx="106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Group 45"/>
          <p:cNvGrpSpPr/>
          <p:nvPr/>
        </p:nvGrpSpPr>
        <p:grpSpPr>
          <a:xfrm>
            <a:off x="7723080" y="3230640"/>
            <a:ext cx="1000080" cy="977760"/>
            <a:chOff x="7723080" y="3230640"/>
            <a:chExt cx="1000080" cy="977760"/>
          </a:xfrm>
        </p:grpSpPr>
        <p:grpSp>
          <p:nvGrpSpPr>
            <p:cNvPr id="196" name="Group 46"/>
            <p:cNvGrpSpPr/>
            <p:nvPr/>
          </p:nvGrpSpPr>
          <p:grpSpPr>
            <a:xfrm>
              <a:off x="7723080" y="3230640"/>
              <a:ext cx="1000080" cy="977760"/>
              <a:chOff x="7723080" y="3230640"/>
              <a:chExt cx="1000080" cy="977760"/>
            </a:xfrm>
          </p:grpSpPr>
          <p:pic>
            <p:nvPicPr>
              <p:cNvPr id="197" name="Picture 47" descr="circuler_1"/>
              <p:cNvPicPr/>
              <p:nvPr/>
            </p:nvPicPr>
            <p:blipFill>
              <a:blip r:embed="rId11"/>
              <a:stretch/>
            </p:blipFill>
            <p:spPr>
              <a:xfrm>
                <a:off x="7723080" y="3230640"/>
                <a:ext cx="1000080" cy="97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8" name="Oval 48"/>
              <p:cNvSpPr/>
              <p:nvPr/>
            </p:nvSpPr>
            <p:spPr>
              <a:xfrm>
                <a:off x="7723080" y="3230640"/>
                <a:ext cx="993240" cy="977760"/>
              </a:xfrm>
              <a:prstGeom prst="ellipse">
                <a:avLst/>
              </a:prstGeom>
              <a:gradFill rotWithShape="0">
                <a:gsLst>
                  <a:gs pos="0">
                    <a:srgbClr val="af67ff"/>
                  </a:gs>
                  <a:gs pos="50000">
                    <a:srgbClr val="5f388a"/>
                  </a:gs>
                  <a:gs pos="100000">
                    <a:srgbClr val="af67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99" name="Picture 49" descr="Picture2"/>
            <p:cNvPicPr/>
            <p:nvPr/>
          </p:nvPicPr>
          <p:blipFill>
            <a:blip r:embed="rId12"/>
            <a:stretch/>
          </p:blipFill>
          <p:spPr>
            <a:xfrm>
              <a:off x="7822440" y="324000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0" name="Text Box 50"/>
          <p:cNvSpPr/>
          <p:nvPr/>
        </p:nvSpPr>
        <p:spPr>
          <a:xfrm>
            <a:off x="7689960" y="3516480"/>
            <a:ext cx="106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40"/>
          <p:cNvSpPr/>
          <p:nvPr/>
        </p:nvSpPr>
        <p:spPr>
          <a:xfrm>
            <a:off x="3908520" y="2293920"/>
            <a:ext cx="1371600" cy="1162080"/>
          </a:xfrm>
          <a:custGeom>
            <a:avLst/>
            <a:gdLst/>
            <a:ahLst/>
            <a:rect l="l" t="t" r="r" b="b"/>
            <a:pathLst>
              <a:path w="22942" h="10292">
                <a:moveTo>
                  <a:pt x="18112" y="7246"/>
                </a:moveTo>
                <a:cubicBezTo>
                  <a:pt x="16751" y="4446"/>
                  <a:pt x="13912" y="2670"/>
                  <a:pt x="10800" y="2670"/>
                </a:cubicBezTo>
                <a:cubicBezTo>
                  <a:pt x="6548" y="2669"/>
                  <a:pt x="3014" y="5945"/>
                  <a:pt x="2693" y="10185"/>
                </a:cubicBezTo>
                <a:lnTo>
                  <a:pt x="30" y="9983"/>
                </a:lnTo>
                <a:cubicBezTo>
                  <a:pt x="458" y="4351"/>
                  <a:pt x="5152" y="-1"/>
                  <a:pt x="10800" y="0"/>
                </a:cubicBezTo>
                <a:cubicBezTo>
                  <a:pt x="14934" y="0"/>
                  <a:pt x="18706" y="2360"/>
                  <a:pt x="20513" y="6079"/>
                </a:cubicBezTo>
                <a:lnTo>
                  <a:pt x="22942" y="4899"/>
                </a:lnTo>
                <a:lnTo>
                  <a:pt x="21076" y="10291"/>
                </a:lnTo>
                <a:lnTo>
                  <a:pt x="15683" y="8426"/>
                </a:lnTo>
                <a:lnTo>
                  <a:pt x="18112" y="7246"/>
                </a:lnTo>
                <a:close/>
              </a:path>
            </a:pathLst>
          </a:custGeom>
          <a:gradFill rotWithShape="0">
            <a:gsLst>
              <a:gs pos="0">
                <a:srgbClr val="9191e3">
                  <a:alpha val="80000"/>
                </a:srgbClr>
              </a:gs>
              <a:gs pos="100000">
                <a:srgbClr val="3333c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Group 41"/>
          <p:cNvGrpSpPr/>
          <p:nvPr/>
        </p:nvGrpSpPr>
        <p:grpSpPr>
          <a:xfrm>
            <a:off x="4641840" y="3000240"/>
            <a:ext cx="1676520" cy="1403280"/>
            <a:chOff x="4641840" y="3000240"/>
            <a:chExt cx="1676520" cy="1403280"/>
          </a:xfrm>
        </p:grpSpPr>
        <p:sp>
          <p:nvSpPr>
            <p:cNvPr id="203" name="AutoShape 42"/>
            <p:cNvSpPr/>
            <p:nvPr/>
          </p:nvSpPr>
          <p:spPr>
            <a:xfrm>
              <a:off x="4641840" y="3000240"/>
              <a:ext cx="1676520" cy="1403280"/>
            </a:xfrm>
            <a:custGeom>
              <a:avLst/>
              <a:gdLst>
                <a:gd name="textAreaLeft" fmla="*/ 0 w 1676520"/>
                <a:gd name="textAreaRight" fmla="*/ 1676880 w 1676520"/>
                <a:gd name="textAreaTop" fmla="*/ 0 h 1403280"/>
                <a:gd name="textAreaBottom" fmla="*/ 1403640 h 140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dec0ff"/>
                </a:gs>
                <a:gs pos="100000">
                  <a:srgbClr val="af67ff"/>
                </a:gs>
              </a:gsLst>
              <a:lin ang="18900000"/>
            </a:gradFill>
            <a:ln w="25560">
              <a:solidFill>
                <a:srgbClr val="f8f8f8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AutoShape 43"/>
            <p:cNvSpPr/>
            <p:nvPr/>
          </p:nvSpPr>
          <p:spPr>
            <a:xfrm>
              <a:off x="4696920" y="3055680"/>
              <a:ext cx="1551240" cy="1287360"/>
            </a:xfrm>
            <a:custGeom>
              <a:avLst/>
              <a:gdLst>
                <a:gd name="textAreaLeft" fmla="*/ 0 w 1551240"/>
                <a:gd name="textAreaRight" fmla="*/ 1551600 w 1551240"/>
                <a:gd name="textAreaTop" fmla="*/ 0 h 1287360"/>
                <a:gd name="textAreaBottom" fmla="*/ 1287720 h 1287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7a48b2"/>
                </a:gs>
                <a:gs pos="100000">
                  <a:srgbClr val="af67ff"/>
                </a:gs>
              </a:gsLst>
              <a:lin ang="18900000"/>
            </a:gradFill>
            <a:ln w="12600">
              <a:solidFill>
                <a:srgbClr val="f8f8f8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Group 44"/>
          <p:cNvGrpSpPr/>
          <p:nvPr/>
        </p:nvGrpSpPr>
        <p:grpSpPr>
          <a:xfrm>
            <a:off x="2917440" y="3017880"/>
            <a:ext cx="1676520" cy="1403280"/>
            <a:chOff x="2917440" y="3017880"/>
            <a:chExt cx="1676520" cy="1403280"/>
          </a:xfrm>
        </p:grpSpPr>
        <p:sp>
          <p:nvSpPr>
            <p:cNvPr id="206" name="AutoShape 45"/>
            <p:cNvSpPr/>
            <p:nvPr/>
          </p:nvSpPr>
          <p:spPr>
            <a:xfrm flipH="1">
              <a:off x="2917080" y="3017880"/>
              <a:ext cx="1676520" cy="1403280"/>
            </a:xfrm>
            <a:custGeom>
              <a:avLst/>
              <a:gdLst>
                <a:gd name="textAreaLeft" fmla="*/ -360 w 1676520"/>
                <a:gd name="textAreaRight" fmla="*/ 1676520 w 1676520"/>
                <a:gd name="textAreaTop" fmla="*/ 0 h 1403280"/>
                <a:gd name="textAreaBottom" fmla="*/ 1403640 h 140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100000">
                  <a:srgbClr val="9797e5"/>
                </a:gs>
              </a:gsLst>
              <a:lin ang="2700000"/>
            </a:gradFill>
            <a:ln w="25560">
              <a:solidFill>
                <a:srgbClr val="f8f8f8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AutoShape 46"/>
            <p:cNvSpPr/>
            <p:nvPr/>
          </p:nvSpPr>
          <p:spPr>
            <a:xfrm flipH="1">
              <a:off x="2987280" y="3073320"/>
              <a:ext cx="1551240" cy="1287360"/>
            </a:xfrm>
            <a:custGeom>
              <a:avLst/>
              <a:gdLst>
                <a:gd name="textAreaLeft" fmla="*/ -360 w 1551240"/>
                <a:gd name="textAreaRight" fmla="*/ 1551240 w 1551240"/>
                <a:gd name="textAreaTop" fmla="*/ 0 h 1287360"/>
                <a:gd name="textAreaBottom" fmla="*/ 1287720 h 1287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100000">
                  <a:srgbClr val="222288"/>
                </a:gs>
              </a:gsLst>
              <a:lin ang="2700000"/>
            </a:gradFill>
            <a:ln w="12600">
              <a:solidFill>
                <a:srgbClr val="f8f8f8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Text Box 8"/>
          <p:cNvSpPr/>
          <p:nvPr/>
        </p:nvSpPr>
        <p:spPr>
          <a:xfrm>
            <a:off x="3182760" y="3295800"/>
            <a:ext cx="128124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8f8f8"/>
                </a:solidFill>
                <a:latin typeface="Calibri"/>
                <a:ea typeface="Arial"/>
              </a:rPr>
              <a:t>点击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4768920" y="3295800"/>
            <a:ext cx="12808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8f8f8"/>
                </a:solidFill>
                <a:latin typeface="Calibri"/>
                <a:ea typeface="Arial"/>
              </a:rPr>
              <a:t>点击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30"/>
          <p:cNvSpPr/>
          <p:nvPr/>
        </p:nvSpPr>
        <p:spPr>
          <a:xfrm>
            <a:off x="3679920" y="191304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30"/>
          <p:cNvSpPr/>
          <p:nvPr/>
        </p:nvSpPr>
        <p:spPr>
          <a:xfrm>
            <a:off x="3679920" y="51436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51"/>
          <p:cNvSpPr/>
          <p:nvPr/>
        </p:nvSpPr>
        <p:spPr>
          <a:xfrm flipH="1" flipV="1">
            <a:off x="3908520" y="3951360"/>
            <a:ext cx="1371600" cy="1162080"/>
          </a:xfrm>
          <a:custGeom>
            <a:avLst/>
            <a:gdLst/>
            <a:ahLst/>
            <a:rect l="l" t="t" r="r" b="b"/>
            <a:pathLst>
              <a:path w="22942" h="10292">
                <a:moveTo>
                  <a:pt x="18112" y="7246"/>
                </a:moveTo>
                <a:cubicBezTo>
                  <a:pt x="16751" y="4446"/>
                  <a:pt x="13912" y="2670"/>
                  <a:pt x="10800" y="2670"/>
                </a:cubicBezTo>
                <a:cubicBezTo>
                  <a:pt x="6776" y="2669"/>
                  <a:pt x="3358" y="5613"/>
                  <a:pt x="2760" y="9591"/>
                </a:cubicBezTo>
                <a:lnTo>
                  <a:pt x="119" y="9195"/>
                </a:lnTo>
                <a:cubicBezTo>
                  <a:pt x="914" y="3909"/>
                  <a:pt x="5455" y="-1"/>
                  <a:pt x="10800" y="0"/>
                </a:cubicBezTo>
                <a:cubicBezTo>
                  <a:pt x="14934" y="0"/>
                  <a:pt x="18706" y="2360"/>
                  <a:pt x="20513" y="6079"/>
                </a:cubicBezTo>
                <a:lnTo>
                  <a:pt x="22942" y="4899"/>
                </a:lnTo>
                <a:lnTo>
                  <a:pt x="21076" y="10291"/>
                </a:lnTo>
                <a:lnTo>
                  <a:pt x="15683" y="8426"/>
                </a:lnTo>
                <a:lnTo>
                  <a:pt x="18112" y="7246"/>
                </a:lnTo>
                <a:close/>
              </a:path>
            </a:pathLst>
          </a:custGeom>
          <a:gradFill rotWithShape="0">
            <a:gsLst>
              <a:gs pos="0">
                <a:srgbClr val="cc9eff">
                  <a:alpha val="80000"/>
                </a:srgbClr>
              </a:gs>
              <a:gs pos="100000">
                <a:srgbClr val="af67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30"/>
          <p:cNvSpPr/>
          <p:nvPr/>
        </p:nvSpPr>
        <p:spPr>
          <a:xfrm>
            <a:off x="1333440" y="21495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30"/>
          <p:cNvSpPr/>
          <p:nvPr/>
        </p:nvSpPr>
        <p:spPr>
          <a:xfrm>
            <a:off x="1390680" y="48848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30"/>
          <p:cNvSpPr/>
          <p:nvPr/>
        </p:nvSpPr>
        <p:spPr>
          <a:xfrm>
            <a:off x="469800" y="358920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 spokes="3"/>
    <p:sndAc>
      <p:stSnd>
        <p:snd r:embed="rId13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3"/>
          <p:cNvSpPr/>
          <p:nvPr/>
        </p:nvSpPr>
        <p:spPr>
          <a:xfrm>
            <a:off x="5757840" y="2344680"/>
            <a:ext cx="2166840" cy="2994120"/>
          </a:xfrm>
          <a:custGeom>
            <a:avLst/>
            <a:gdLst>
              <a:gd name="textAreaLeft" fmla="*/ 79560 w 2166840"/>
              <a:gd name="textAreaRight" fmla="*/ 2087280 w 2166840"/>
              <a:gd name="textAreaTop" fmla="*/ 79560 h 2994120"/>
              <a:gd name="textAreaBottom" fmla="*/ 2914560 h 2994120"/>
            </a:gdLst>
            <a:ahLst/>
            <a:rect l="textAreaLeft" t="textAreaTop" r="textAreaRight" b="textAreaBottom"/>
            <a:pathLst>
              <a:path w="21600" h="29845">
                <a:moveTo>
                  <a:pt x="2716" y="0"/>
                </a:moveTo>
                <a:arcTo wR="2716" hR="2716" stAng="16200000" swAng="-5400000"/>
                <a:lnTo>
                  <a:pt x="0" y="27129"/>
                </a:lnTo>
                <a:arcTo wR="2716" hR="2716" stAng="10800000" swAng="-5400000"/>
                <a:lnTo>
                  <a:pt x="18884" y="29845"/>
                </a:lnTo>
                <a:arcTo wR="2716" hR="2716" stAng="5400000" swAng="-5400000"/>
                <a:lnTo>
                  <a:pt x="21600" y="2716"/>
                </a:lnTo>
                <a:arcTo wR="2716" hR="2716" stAng="0" swAng="-5400000"/>
                <a:close/>
              </a:path>
            </a:pathLst>
          </a:custGeom>
          <a:solidFill>
            <a:srgbClr val="af6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4"/>
          <p:cNvSpPr/>
          <p:nvPr/>
        </p:nvSpPr>
        <p:spPr>
          <a:xfrm>
            <a:off x="3421080" y="2625840"/>
            <a:ext cx="2166840" cy="2712960"/>
          </a:xfrm>
          <a:custGeom>
            <a:avLst/>
            <a:gdLst>
              <a:gd name="textAreaLeft" fmla="*/ 79560 w 2166840"/>
              <a:gd name="textAreaRight" fmla="*/ 2087280 w 2166840"/>
              <a:gd name="textAreaTop" fmla="*/ 79560 h 2712960"/>
              <a:gd name="textAreaBottom" fmla="*/ 2633400 h 2712960"/>
            </a:gdLst>
            <a:ahLst/>
            <a:rect l="textAreaLeft" t="textAreaTop" r="textAreaRight" b="textAreaBottom"/>
            <a:pathLst>
              <a:path w="21600" h="27043">
                <a:moveTo>
                  <a:pt x="2716" y="0"/>
                </a:moveTo>
                <a:arcTo wR="2716" hR="2716" stAng="16200000" swAng="-5400000"/>
                <a:lnTo>
                  <a:pt x="0" y="24327"/>
                </a:lnTo>
                <a:arcTo wR="2716" hR="2716" stAng="10800000" swAng="-5400000"/>
                <a:lnTo>
                  <a:pt x="18884" y="27043"/>
                </a:lnTo>
                <a:arcTo wR="2716" hR="2716" stAng="5400000" swAng="-5400000"/>
                <a:lnTo>
                  <a:pt x="21600" y="2716"/>
                </a:lnTo>
                <a:arcTo wR="2716" hR="2716" stAng="0" swAng="-5400000"/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5"/>
          <p:cNvSpPr/>
          <p:nvPr/>
        </p:nvSpPr>
        <p:spPr>
          <a:xfrm>
            <a:off x="3417840" y="4635360"/>
            <a:ext cx="2168640" cy="696960"/>
          </a:xfrm>
          <a:prstGeom prst="roundRect">
            <a:avLst>
              <a:gd name="adj" fmla="val 42588"/>
            </a:avLst>
          </a:prstGeom>
          <a:gradFill rotWithShape="0">
            <a:gsLst>
              <a:gs pos="0">
                <a:srgbClr val="ccccff">
                  <a:alpha val="0"/>
                </a:srgbClr>
              </a:gs>
              <a:gs pos="100000">
                <a:srgbClr val="eaea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6"/>
          <p:cNvSpPr/>
          <p:nvPr/>
        </p:nvSpPr>
        <p:spPr>
          <a:xfrm>
            <a:off x="3427560" y="2635200"/>
            <a:ext cx="2151000" cy="696960"/>
          </a:xfrm>
          <a:prstGeom prst="roundRect">
            <a:avLst>
              <a:gd name="adj" fmla="val 35907"/>
            </a:avLst>
          </a:prstGeom>
          <a:gradFill rotWithShape="0">
            <a:gsLst>
              <a:gs pos="0">
                <a:srgbClr val="eeeeff"/>
              </a:gs>
              <a:gs pos="100000">
                <a:srgbClr val="cccc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Group 7"/>
          <p:cNvGrpSpPr/>
          <p:nvPr/>
        </p:nvGrpSpPr>
        <p:grpSpPr>
          <a:xfrm>
            <a:off x="1111320" y="3030480"/>
            <a:ext cx="2169720" cy="2308320"/>
            <a:chOff x="1111320" y="3030480"/>
            <a:chExt cx="2169720" cy="2308320"/>
          </a:xfrm>
        </p:grpSpPr>
        <p:sp>
          <p:nvSpPr>
            <p:cNvPr id="222" name="AutoShape 8"/>
            <p:cNvSpPr/>
            <p:nvPr/>
          </p:nvSpPr>
          <p:spPr>
            <a:xfrm>
              <a:off x="1113840" y="3030480"/>
              <a:ext cx="2167200" cy="2308320"/>
            </a:xfrm>
            <a:custGeom>
              <a:avLst/>
              <a:gdLst>
                <a:gd name="textAreaLeft" fmla="*/ 79560 w 2167200"/>
                <a:gd name="textAreaRight" fmla="*/ 2087640 w 2167200"/>
                <a:gd name="textAreaTop" fmla="*/ 79560 h 2308320"/>
                <a:gd name="textAreaBottom" fmla="*/ 2228760 h 2308320"/>
              </a:gdLst>
              <a:ahLst/>
              <a:rect l="textAreaLeft" t="textAreaTop" r="textAreaRight" b="textAreaBottom"/>
              <a:pathLst>
                <a:path w="21600" h="23006">
                  <a:moveTo>
                    <a:pt x="2716" y="0"/>
                  </a:moveTo>
                  <a:arcTo wR="2716" hR="2716" stAng="16200000" swAng="-5400000"/>
                  <a:lnTo>
                    <a:pt x="0" y="20290"/>
                  </a:lnTo>
                  <a:arcTo wR="2716" hR="2716" stAng="10800000" swAng="-5400000"/>
                  <a:lnTo>
                    <a:pt x="18884" y="23006"/>
                  </a:lnTo>
                  <a:arcTo wR="2716" hR="2716" stAng="5400000" swAng="-5400000"/>
                  <a:lnTo>
                    <a:pt x="21600" y="2716"/>
                  </a:lnTo>
                  <a:arcTo wR="2716" hR="2716" stAng="0" swAng="-5400000"/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AutoShape 9"/>
            <p:cNvSpPr/>
            <p:nvPr/>
          </p:nvSpPr>
          <p:spPr>
            <a:xfrm>
              <a:off x="1111320" y="4739760"/>
              <a:ext cx="2168280" cy="589680"/>
            </a:xfrm>
            <a:prstGeom prst="roundRect">
              <a:avLst>
                <a:gd name="adj" fmla="val 49755"/>
              </a:avLst>
            </a:prstGeom>
            <a:gradFill rotWithShape="0">
              <a:gsLst>
                <a:gs pos="0">
                  <a:srgbClr val="99ccff">
                    <a:alpha val="0"/>
                  </a:srgbClr>
                </a:gs>
                <a:gs pos="100000">
                  <a:srgbClr val="d5ea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AutoShape 10"/>
            <p:cNvSpPr/>
            <p:nvPr/>
          </p:nvSpPr>
          <p:spPr>
            <a:xfrm>
              <a:off x="1140120" y="3037680"/>
              <a:ext cx="2131920" cy="590040"/>
            </a:xfrm>
            <a:prstGeom prst="roundRect">
              <a:avLst>
                <a:gd name="adj" fmla="val 38727"/>
              </a:avLst>
            </a:prstGeom>
            <a:gradFill rotWithShape="0">
              <a:gsLst>
                <a:gs pos="0">
                  <a:srgbClr val="ddeeff"/>
                </a:gs>
                <a:gs pos="100000">
                  <a:srgbClr val="99cc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Text Box 11"/>
          <p:cNvSpPr/>
          <p:nvPr/>
        </p:nvSpPr>
        <p:spPr>
          <a:xfrm>
            <a:off x="1211400" y="4108320"/>
            <a:ext cx="195876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Arial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2"/>
          <p:cNvSpPr/>
          <p:nvPr/>
        </p:nvSpPr>
        <p:spPr>
          <a:xfrm>
            <a:off x="3516480" y="3648240"/>
            <a:ext cx="1957320" cy="13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3"/>
          <p:cNvSpPr/>
          <p:nvPr/>
        </p:nvSpPr>
        <p:spPr>
          <a:xfrm>
            <a:off x="1244520" y="2552760"/>
            <a:ext cx="160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4"/>
          <p:cNvSpPr/>
          <p:nvPr/>
        </p:nvSpPr>
        <p:spPr>
          <a:xfrm>
            <a:off x="3645000" y="2120760"/>
            <a:ext cx="160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5"/>
          <p:cNvSpPr/>
          <p:nvPr/>
        </p:nvSpPr>
        <p:spPr>
          <a:xfrm>
            <a:off x="6000840" y="1905120"/>
            <a:ext cx="160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WordArt 16"/>
          <p:cNvSpPr txBox="1"/>
          <p:nvPr/>
        </p:nvSpPr>
        <p:spPr>
          <a:xfrm>
            <a:off x="1238400" y="3122640"/>
            <a:ext cx="558720" cy="53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ln w="0">
                  <a:noFill/>
                </a:ln>
                <a:solidFill>
                  <a:srgbClr val="ffffff">
                    <a:alpha val="50000"/>
                  </a:srgbClr>
                </a:solidFill>
                <a:latin typeface="Arial Black"/>
              </a:rPr>
              <a:t>01</a:t>
            </a:r>
            <a:endParaRPr b="0" i="1" lang="en-US" sz="1800" spc="-1" strike="noStrike">
              <a:ln w="0">
                <a:noFill/>
              </a:ln>
              <a:solidFill>
                <a:srgbClr val="ffffff">
                  <a:alpha val="5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231" name="WordArt 17"/>
          <p:cNvSpPr txBox="1"/>
          <p:nvPr/>
        </p:nvSpPr>
        <p:spPr>
          <a:xfrm>
            <a:off x="3537000" y="2700360"/>
            <a:ext cx="5601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ln w="0">
                  <a:noFill/>
                </a:ln>
                <a:solidFill>
                  <a:srgbClr val="ffffff">
                    <a:alpha val="50000"/>
                  </a:srgbClr>
                </a:solidFill>
                <a:latin typeface="Arial Black"/>
              </a:rPr>
              <a:t>02</a:t>
            </a:r>
            <a:endParaRPr b="0" i="1" lang="en-US" sz="1800" spc="-1" strike="noStrike">
              <a:ln w="0">
                <a:noFill/>
              </a:ln>
              <a:solidFill>
                <a:srgbClr val="ffffff">
                  <a:alpha val="5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232" name="AutoShape 18"/>
          <p:cNvSpPr/>
          <p:nvPr/>
        </p:nvSpPr>
        <p:spPr>
          <a:xfrm>
            <a:off x="5759280" y="2347920"/>
            <a:ext cx="2151360" cy="696960"/>
          </a:xfrm>
          <a:prstGeom prst="roundRect">
            <a:avLst>
              <a:gd name="adj" fmla="val 35907"/>
            </a:avLst>
          </a:prstGeom>
          <a:gradFill rotWithShape="0">
            <a:gsLst>
              <a:gs pos="0">
                <a:srgbClr val="e4ccff"/>
              </a:gs>
              <a:gs pos="100000">
                <a:srgbClr val="af67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19"/>
          <p:cNvSpPr/>
          <p:nvPr/>
        </p:nvSpPr>
        <p:spPr>
          <a:xfrm rot="10800000">
            <a:off x="5759280" y="4643280"/>
            <a:ext cx="2151360" cy="696960"/>
          </a:xfrm>
          <a:prstGeom prst="roundRect">
            <a:avLst>
              <a:gd name="adj" fmla="val 35907"/>
            </a:avLst>
          </a:prstGeom>
          <a:gradFill rotWithShape="0">
            <a:gsLst>
              <a:gs pos="0">
                <a:srgbClr val="e4ccff"/>
              </a:gs>
              <a:gs pos="100000">
                <a:srgbClr val="af67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20"/>
          <p:cNvSpPr/>
          <p:nvPr/>
        </p:nvSpPr>
        <p:spPr>
          <a:xfrm>
            <a:off x="5854680" y="2997360"/>
            <a:ext cx="1957320" cy="20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WordArt 21"/>
          <p:cNvSpPr txBox="1"/>
          <p:nvPr/>
        </p:nvSpPr>
        <p:spPr>
          <a:xfrm>
            <a:off x="5842080" y="2425680"/>
            <a:ext cx="5601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ln w="0">
                  <a:noFill/>
                </a:ln>
                <a:solidFill>
                  <a:srgbClr val="ffffff">
                    <a:alpha val="50000"/>
                  </a:srgbClr>
                </a:solidFill>
                <a:latin typeface="Arial Black"/>
              </a:rPr>
              <a:t>03</a:t>
            </a:r>
            <a:endParaRPr b="0" i="1" lang="en-US" sz="1800" spc="-1" strike="noStrike">
              <a:ln w="0">
                <a:noFill/>
              </a:ln>
              <a:solidFill>
                <a:srgbClr val="ffffff">
                  <a:alpha val="50000"/>
                </a:srgbClr>
              </a:solidFill>
              <a:latin typeface="Arial Black"/>
              <a:ea typeface="Arial Black"/>
            </a:endParaRPr>
          </a:p>
        </p:txBody>
      </p:sp>
    </p:spTree>
  </p:cSld>
  <p:transition spd="med" advTm="2000">
    <p:wheel spokes="3"/>
    <p:sndAc>
      <p:stSnd>
        <p:snd r:embed="rId1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3"/>
          <p:cNvSpPr/>
          <p:nvPr/>
        </p:nvSpPr>
        <p:spPr>
          <a:xfrm>
            <a:off x="5721480" y="1762200"/>
            <a:ext cx="2508120" cy="533160"/>
          </a:xfrm>
          <a:prstGeom prst="rect">
            <a:avLst/>
          </a:prstGeom>
          <a:gradFill rotWithShape="0">
            <a:gsLst>
              <a:gs pos="0">
                <a:srgbClr val="ffffff">
                  <a:alpha val="70196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4"/>
          <p:cNvSpPr/>
          <p:nvPr/>
        </p:nvSpPr>
        <p:spPr>
          <a:xfrm>
            <a:off x="1616040" y="1762200"/>
            <a:ext cx="2508120" cy="533160"/>
          </a:xfrm>
          <a:prstGeom prst="rect">
            <a:avLst/>
          </a:prstGeom>
          <a:gradFill rotWithShape="0">
            <a:gsLst>
              <a:gs pos="0">
                <a:srgbClr val="ffffff">
                  <a:alpha val="70196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5" descr="cylinder03"/>
          <p:cNvPicPr/>
          <p:nvPr/>
        </p:nvPicPr>
        <p:blipFill>
          <a:blip r:embed="rId1"/>
          <a:stretch/>
        </p:blipFill>
        <p:spPr>
          <a:xfrm>
            <a:off x="1235160" y="4419720"/>
            <a:ext cx="2778120" cy="171432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6" descr="cylinder03"/>
          <p:cNvPicPr/>
          <p:nvPr/>
        </p:nvPicPr>
        <p:blipFill>
          <a:blip r:embed="rId2"/>
          <a:stretch/>
        </p:blipFill>
        <p:spPr>
          <a:xfrm>
            <a:off x="4959360" y="4419720"/>
            <a:ext cx="2778120" cy="1714320"/>
          </a:xfrm>
          <a:prstGeom prst="rect">
            <a:avLst/>
          </a:prstGeom>
          <a:ln w="0">
            <a:noFill/>
          </a:ln>
        </p:spPr>
      </p:pic>
      <p:sp>
        <p:nvSpPr>
          <p:cNvPr id="241" name="Freeform 7"/>
          <p:cNvSpPr/>
          <p:nvPr/>
        </p:nvSpPr>
        <p:spPr>
          <a:xfrm>
            <a:off x="1830240" y="2384280"/>
            <a:ext cx="1067040" cy="2330640"/>
          </a:xfrm>
          <a:custGeom>
            <a:avLst/>
            <a:gdLst/>
            <a:ahLst/>
            <a:rect l="l" t="t" r="r" b="b"/>
            <a:pathLst>
              <a:path w="1416" h="3094">
                <a:moveTo>
                  <a:pt x="609" y="378"/>
                </a:moveTo>
                <a:cubicBezTo>
                  <a:pt x="609" y="378"/>
                  <a:pt x="645" y="364"/>
                  <a:pt x="682" y="350"/>
                </a:cubicBezTo>
                <a:cubicBezTo>
                  <a:pt x="672" y="314"/>
                  <a:pt x="692" y="278"/>
                  <a:pt x="692" y="278"/>
                </a:cubicBezTo>
                <a:cubicBezTo>
                  <a:pt x="698" y="260"/>
                  <a:pt x="715" y="264"/>
                  <a:pt x="720" y="242"/>
                </a:cubicBezTo>
                <a:cubicBezTo>
                  <a:pt x="746" y="212"/>
                  <a:pt x="730" y="180"/>
                  <a:pt x="720" y="146"/>
                </a:cubicBezTo>
                <a:cubicBezTo>
                  <a:pt x="732" y="106"/>
                  <a:pt x="703" y="61"/>
                  <a:pt x="660" y="39"/>
                </a:cubicBezTo>
                <a:cubicBezTo>
                  <a:pt x="617" y="10"/>
                  <a:pt x="531" y="0"/>
                  <a:pt x="483" y="16"/>
                </a:cubicBezTo>
                <a:cubicBezTo>
                  <a:pt x="435" y="32"/>
                  <a:pt x="422" y="83"/>
                  <a:pt x="409" y="118"/>
                </a:cubicBezTo>
                <a:lnTo>
                  <a:pt x="384" y="223"/>
                </a:lnTo>
                <a:cubicBezTo>
                  <a:pt x="384" y="223"/>
                  <a:pt x="376" y="324"/>
                  <a:pt x="330" y="348"/>
                </a:cubicBezTo>
                <a:cubicBezTo>
                  <a:pt x="386" y="358"/>
                  <a:pt x="415" y="391"/>
                  <a:pt x="415" y="391"/>
                </a:cubicBezTo>
                <a:lnTo>
                  <a:pt x="319" y="450"/>
                </a:lnTo>
                <a:lnTo>
                  <a:pt x="244" y="550"/>
                </a:lnTo>
                <a:lnTo>
                  <a:pt x="42" y="826"/>
                </a:lnTo>
                <a:cubicBezTo>
                  <a:pt x="2" y="886"/>
                  <a:pt x="0" y="892"/>
                  <a:pt x="4" y="907"/>
                </a:cubicBezTo>
                <a:cubicBezTo>
                  <a:pt x="8" y="922"/>
                  <a:pt x="70" y="943"/>
                  <a:pt x="126" y="994"/>
                </a:cubicBezTo>
                <a:lnTo>
                  <a:pt x="368" y="1150"/>
                </a:lnTo>
                <a:lnTo>
                  <a:pt x="397" y="1105"/>
                </a:lnTo>
                <a:lnTo>
                  <a:pt x="265" y="1008"/>
                </a:lnTo>
                <a:lnTo>
                  <a:pt x="126" y="879"/>
                </a:lnTo>
                <a:lnTo>
                  <a:pt x="147" y="841"/>
                </a:lnTo>
                <a:cubicBezTo>
                  <a:pt x="147" y="841"/>
                  <a:pt x="247" y="748"/>
                  <a:pt x="348" y="655"/>
                </a:cubicBezTo>
                <a:cubicBezTo>
                  <a:pt x="384" y="708"/>
                  <a:pt x="404" y="724"/>
                  <a:pt x="426" y="774"/>
                </a:cubicBezTo>
                <a:cubicBezTo>
                  <a:pt x="448" y="824"/>
                  <a:pt x="484" y="902"/>
                  <a:pt x="480" y="957"/>
                </a:cubicBezTo>
                <a:lnTo>
                  <a:pt x="399" y="1102"/>
                </a:lnTo>
                <a:lnTo>
                  <a:pt x="336" y="1212"/>
                </a:lnTo>
                <a:cubicBezTo>
                  <a:pt x="322" y="1244"/>
                  <a:pt x="314" y="1268"/>
                  <a:pt x="315" y="1293"/>
                </a:cubicBezTo>
                <a:cubicBezTo>
                  <a:pt x="316" y="1318"/>
                  <a:pt x="334" y="1618"/>
                  <a:pt x="343" y="1683"/>
                </a:cubicBezTo>
                <a:lnTo>
                  <a:pt x="367" y="1686"/>
                </a:lnTo>
                <a:cubicBezTo>
                  <a:pt x="367" y="1686"/>
                  <a:pt x="414" y="1852"/>
                  <a:pt x="462" y="2019"/>
                </a:cubicBezTo>
                <a:cubicBezTo>
                  <a:pt x="417" y="2130"/>
                  <a:pt x="413" y="2159"/>
                  <a:pt x="409" y="2274"/>
                </a:cubicBezTo>
                <a:cubicBezTo>
                  <a:pt x="405" y="2389"/>
                  <a:pt x="430" y="2635"/>
                  <a:pt x="427" y="2716"/>
                </a:cubicBezTo>
                <a:lnTo>
                  <a:pt x="402" y="2755"/>
                </a:lnTo>
                <a:lnTo>
                  <a:pt x="354" y="2784"/>
                </a:lnTo>
                <a:cubicBezTo>
                  <a:pt x="354" y="2784"/>
                  <a:pt x="347" y="2819"/>
                  <a:pt x="340" y="2854"/>
                </a:cubicBezTo>
                <a:cubicBezTo>
                  <a:pt x="375" y="2899"/>
                  <a:pt x="376" y="3013"/>
                  <a:pt x="376" y="3013"/>
                </a:cubicBezTo>
                <a:lnTo>
                  <a:pt x="393" y="3009"/>
                </a:lnTo>
                <a:lnTo>
                  <a:pt x="402" y="2959"/>
                </a:lnTo>
                <a:lnTo>
                  <a:pt x="424" y="2961"/>
                </a:lnTo>
                <a:lnTo>
                  <a:pt x="430" y="2925"/>
                </a:lnTo>
                <a:lnTo>
                  <a:pt x="487" y="3058"/>
                </a:lnTo>
                <a:cubicBezTo>
                  <a:pt x="520" y="3086"/>
                  <a:pt x="599" y="3091"/>
                  <a:pt x="628" y="3094"/>
                </a:cubicBezTo>
                <a:lnTo>
                  <a:pt x="661" y="3075"/>
                </a:lnTo>
                <a:lnTo>
                  <a:pt x="636" y="3036"/>
                </a:lnTo>
                <a:lnTo>
                  <a:pt x="690" y="3021"/>
                </a:lnTo>
                <a:lnTo>
                  <a:pt x="604" y="2913"/>
                </a:lnTo>
                <a:cubicBezTo>
                  <a:pt x="578" y="2861"/>
                  <a:pt x="574" y="2833"/>
                  <a:pt x="532" y="2710"/>
                </a:cubicBezTo>
                <a:cubicBezTo>
                  <a:pt x="534" y="2582"/>
                  <a:pt x="602" y="2260"/>
                  <a:pt x="619" y="2146"/>
                </a:cubicBezTo>
                <a:cubicBezTo>
                  <a:pt x="635" y="2031"/>
                  <a:pt x="634" y="2055"/>
                  <a:pt x="637" y="2025"/>
                </a:cubicBezTo>
                <a:cubicBezTo>
                  <a:pt x="640" y="1995"/>
                  <a:pt x="642" y="1980"/>
                  <a:pt x="639" y="1968"/>
                </a:cubicBezTo>
                <a:cubicBezTo>
                  <a:pt x="670" y="1830"/>
                  <a:pt x="702" y="1693"/>
                  <a:pt x="702" y="1693"/>
                </a:cubicBezTo>
                <a:lnTo>
                  <a:pt x="724" y="1692"/>
                </a:lnTo>
                <a:cubicBezTo>
                  <a:pt x="724" y="1692"/>
                  <a:pt x="763" y="1505"/>
                  <a:pt x="771" y="1413"/>
                </a:cubicBezTo>
                <a:cubicBezTo>
                  <a:pt x="779" y="1321"/>
                  <a:pt x="778" y="1218"/>
                  <a:pt x="772" y="1138"/>
                </a:cubicBezTo>
                <a:cubicBezTo>
                  <a:pt x="766" y="1082"/>
                  <a:pt x="745" y="994"/>
                  <a:pt x="735" y="934"/>
                </a:cubicBezTo>
                <a:lnTo>
                  <a:pt x="712" y="816"/>
                </a:lnTo>
                <a:lnTo>
                  <a:pt x="735" y="786"/>
                </a:lnTo>
                <a:lnTo>
                  <a:pt x="820" y="934"/>
                </a:lnTo>
                <a:cubicBezTo>
                  <a:pt x="849" y="968"/>
                  <a:pt x="867" y="1006"/>
                  <a:pt x="907" y="990"/>
                </a:cubicBezTo>
                <a:cubicBezTo>
                  <a:pt x="947" y="974"/>
                  <a:pt x="1004" y="894"/>
                  <a:pt x="1060" y="838"/>
                </a:cubicBezTo>
                <a:lnTo>
                  <a:pt x="1204" y="646"/>
                </a:lnTo>
                <a:cubicBezTo>
                  <a:pt x="1246" y="605"/>
                  <a:pt x="1286" y="608"/>
                  <a:pt x="1314" y="592"/>
                </a:cubicBezTo>
                <a:cubicBezTo>
                  <a:pt x="1342" y="576"/>
                  <a:pt x="1357" y="572"/>
                  <a:pt x="1374" y="547"/>
                </a:cubicBezTo>
                <a:cubicBezTo>
                  <a:pt x="1391" y="522"/>
                  <a:pt x="1416" y="462"/>
                  <a:pt x="1414" y="445"/>
                </a:cubicBezTo>
                <a:cubicBezTo>
                  <a:pt x="1401" y="435"/>
                  <a:pt x="1386" y="436"/>
                  <a:pt x="1365" y="445"/>
                </a:cubicBezTo>
                <a:lnTo>
                  <a:pt x="1288" y="501"/>
                </a:lnTo>
                <a:lnTo>
                  <a:pt x="1209" y="528"/>
                </a:lnTo>
                <a:lnTo>
                  <a:pt x="1234" y="445"/>
                </a:lnTo>
                <a:cubicBezTo>
                  <a:pt x="1231" y="435"/>
                  <a:pt x="1203" y="447"/>
                  <a:pt x="1192" y="468"/>
                </a:cubicBezTo>
                <a:lnTo>
                  <a:pt x="1167" y="573"/>
                </a:lnTo>
                <a:cubicBezTo>
                  <a:pt x="1117" y="639"/>
                  <a:pt x="957" y="856"/>
                  <a:pt x="892" y="862"/>
                </a:cubicBezTo>
                <a:cubicBezTo>
                  <a:pt x="852" y="790"/>
                  <a:pt x="801" y="672"/>
                  <a:pt x="775" y="607"/>
                </a:cubicBezTo>
                <a:cubicBezTo>
                  <a:pt x="751" y="543"/>
                  <a:pt x="766" y="508"/>
                  <a:pt x="747" y="480"/>
                </a:cubicBezTo>
                <a:cubicBezTo>
                  <a:pt x="728" y="449"/>
                  <a:pt x="683" y="452"/>
                  <a:pt x="664" y="439"/>
                </a:cubicBezTo>
                <a:cubicBezTo>
                  <a:pt x="645" y="426"/>
                  <a:pt x="643" y="412"/>
                  <a:pt x="634" y="402"/>
                </a:cubicBezTo>
                <a:lnTo>
                  <a:pt x="609" y="378"/>
                </a:lnTo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100000">
                <a:srgbClr val="5e5e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Freeform 8"/>
          <p:cNvSpPr/>
          <p:nvPr/>
        </p:nvSpPr>
        <p:spPr>
          <a:xfrm>
            <a:off x="2328840" y="3270240"/>
            <a:ext cx="660600" cy="1444680"/>
          </a:xfrm>
          <a:custGeom>
            <a:avLst/>
            <a:gdLst/>
            <a:ahLst/>
            <a:rect l="l" t="t" r="r" b="b"/>
            <a:pathLst>
              <a:path w="1416" h="3094">
                <a:moveTo>
                  <a:pt x="609" y="378"/>
                </a:moveTo>
                <a:cubicBezTo>
                  <a:pt x="609" y="378"/>
                  <a:pt x="645" y="364"/>
                  <a:pt x="682" y="350"/>
                </a:cubicBezTo>
                <a:cubicBezTo>
                  <a:pt x="672" y="314"/>
                  <a:pt x="692" y="278"/>
                  <a:pt x="692" y="278"/>
                </a:cubicBezTo>
                <a:cubicBezTo>
                  <a:pt x="698" y="260"/>
                  <a:pt x="715" y="264"/>
                  <a:pt x="720" y="242"/>
                </a:cubicBezTo>
                <a:cubicBezTo>
                  <a:pt x="746" y="212"/>
                  <a:pt x="730" y="180"/>
                  <a:pt x="720" y="146"/>
                </a:cubicBezTo>
                <a:cubicBezTo>
                  <a:pt x="732" y="106"/>
                  <a:pt x="703" y="61"/>
                  <a:pt x="660" y="39"/>
                </a:cubicBezTo>
                <a:cubicBezTo>
                  <a:pt x="617" y="10"/>
                  <a:pt x="531" y="0"/>
                  <a:pt x="483" y="16"/>
                </a:cubicBezTo>
                <a:cubicBezTo>
                  <a:pt x="435" y="32"/>
                  <a:pt x="422" y="83"/>
                  <a:pt x="409" y="118"/>
                </a:cubicBezTo>
                <a:lnTo>
                  <a:pt x="384" y="223"/>
                </a:lnTo>
                <a:cubicBezTo>
                  <a:pt x="384" y="223"/>
                  <a:pt x="376" y="324"/>
                  <a:pt x="330" y="348"/>
                </a:cubicBezTo>
                <a:cubicBezTo>
                  <a:pt x="386" y="358"/>
                  <a:pt x="415" y="391"/>
                  <a:pt x="415" y="391"/>
                </a:cubicBezTo>
                <a:lnTo>
                  <a:pt x="319" y="450"/>
                </a:lnTo>
                <a:lnTo>
                  <a:pt x="244" y="550"/>
                </a:lnTo>
                <a:lnTo>
                  <a:pt x="42" y="826"/>
                </a:lnTo>
                <a:cubicBezTo>
                  <a:pt x="2" y="886"/>
                  <a:pt x="0" y="892"/>
                  <a:pt x="4" y="907"/>
                </a:cubicBezTo>
                <a:cubicBezTo>
                  <a:pt x="8" y="922"/>
                  <a:pt x="70" y="943"/>
                  <a:pt x="126" y="994"/>
                </a:cubicBezTo>
                <a:lnTo>
                  <a:pt x="368" y="1150"/>
                </a:lnTo>
                <a:lnTo>
                  <a:pt x="397" y="1105"/>
                </a:lnTo>
                <a:lnTo>
                  <a:pt x="265" y="1008"/>
                </a:lnTo>
                <a:lnTo>
                  <a:pt x="126" y="879"/>
                </a:lnTo>
                <a:lnTo>
                  <a:pt x="147" y="841"/>
                </a:lnTo>
                <a:cubicBezTo>
                  <a:pt x="147" y="841"/>
                  <a:pt x="247" y="748"/>
                  <a:pt x="348" y="655"/>
                </a:cubicBezTo>
                <a:cubicBezTo>
                  <a:pt x="384" y="708"/>
                  <a:pt x="404" y="724"/>
                  <a:pt x="426" y="774"/>
                </a:cubicBezTo>
                <a:cubicBezTo>
                  <a:pt x="448" y="824"/>
                  <a:pt x="484" y="902"/>
                  <a:pt x="480" y="957"/>
                </a:cubicBezTo>
                <a:lnTo>
                  <a:pt x="399" y="1102"/>
                </a:lnTo>
                <a:lnTo>
                  <a:pt x="336" y="1212"/>
                </a:lnTo>
                <a:cubicBezTo>
                  <a:pt x="322" y="1244"/>
                  <a:pt x="314" y="1268"/>
                  <a:pt x="315" y="1293"/>
                </a:cubicBezTo>
                <a:cubicBezTo>
                  <a:pt x="316" y="1318"/>
                  <a:pt x="334" y="1618"/>
                  <a:pt x="343" y="1683"/>
                </a:cubicBezTo>
                <a:lnTo>
                  <a:pt x="367" y="1686"/>
                </a:lnTo>
                <a:cubicBezTo>
                  <a:pt x="367" y="1686"/>
                  <a:pt x="414" y="1852"/>
                  <a:pt x="462" y="2019"/>
                </a:cubicBezTo>
                <a:cubicBezTo>
                  <a:pt x="417" y="2130"/>
                  <a:pt x="413" y="2159"/>
                  <a:pt x="409" y="2274"/>
                </a:cubicBezTo>
                <a:cubicBezTo>
                  <a:pt x="405" y="2389"/>
                  <a:pt x="430" y="2635"/>
                  <a:pt x="427" y="2716"/>
                </a:cubicBezTo>
                <a:lnTo>
                  <a:pt x="402" y="2755"/>
                </a:lnTo>
                <a:lnTo>
                  <a:pt x="354" y="2784"/>
                </a:lnTo>
                <a:cubicBezTo>
                  <a:pt x="354" y="2784"/>
                  <a:pt x="347" y="2819"/>
                  <a:pt x="340" y="2854"/>
                </a:cubicBezTo>
                <a:cubicBezTo>
                  <a:pt x="375" y="2899"/>
                  <a:pt x="376" y="3013"/>
                  <a:pt x="376" y="3013"/>
                </a:cubicBezTo>
                <a:lnTo>
                  <a:pt x="393" y="3009"/>
                </a:lnTo>
                <a:lnTo>
                  <a:pt x="402" y="2959"/>
                </a:lnTo>
                <a:lnTo>
                  <a:pt x="424" y="2961"/>
                </a:lnTo>
                <a:lnTo>
                  <a:pt x="430" y="2925"/>
                </a:lnTo>
                <a:lnTo>
                  <a:pt x="487" y="3058"/>
                </a:lnTo>
                <a:cubicBezTo>
                  <a:pt x="520" y="3086"/>
                  <a:pt x="599" y="3091"/>
                  <a:pt x="628" y="3094"/>
                </a:cubicBezTo>
                <a:lnTo>
                  <a:pt x="661" y="3075"/>
                </a:lnTo>
                <a:lnTo>
                  <a:pt x="636" y="3036"/>
                </a:lnTo>
                <a:lnTo>
                  <a:pt x="690" y="3021"/>
                </a:lnTo>
                <a:lnTo>
                  <a:pt x="604" y="2913"/>
                </a:lnTo>
                <a:cubicBezTo>
                  <a:pt x="578" y="2861"/>
                  <a:pt x="574" y="2833"/>
                  <a:pt x="532" y="2710"/>
                </a:cubicBezTo>
                <a:cubicBezTo>
                  <a:pt x="534" y="2582"/>
                  <a:pt x="602" y="2260"/>
                  <a:pt x="619" y="2146"/>
                </a:cubicBezTo>
                <a:cubicBezTo>
                  <a:pt x="635" y="2031"/>
                  <a:pt x="634" y="2055"/>
                  <a:pt x="637" y="2025"/>
                </a:cubicBezTo>
                <a:cubicBezTo>
                  <a:pt x="640" y="1995"/>
                  <a:pt x="642" y="1980"/>
                  <a:pt x="639" y="1968"/>
                </a:cubicBezTo>
                <a:cubicBezTo>
                  <a:pt x="670" y="1830"/>
                  <a:pt x="702" y="1693"/>
                  <a:pt x="702" y="1693"/>
                </a:cubicBezTo>
                <a:lnTo>
                  <a:pt x="724" y="1692"/>
                </a:lnTo>
                <a:cubicBezTo>
                  <a:pt x="724" y="1692"/>
                  <a:pt x="763" y="1505"/>
                  <a:pt x="771" y="1413"/>
                </a:cubicBezTo>
                <a:cubicBezTo>
                  <a:pt x="779" y="1321"/>
                  <a:pt x="778" y="1218"/>
                  <a:pt x="772" y="1138"/>
                </a:cubicBezTo>
                <a:cubicBezTo>
                  <a:pt x="766" y="1082"/>
                  <a:pt x="745" y="994"/>
                  <a:pt x="735" y="934"/>
                </a:cubicBezTo>
                <a:lnTo>
                  <a:pt x="712" y="816"/>
                </a:lnTo>
                <a:lnTo>
                  <a:pt x="735" y="786"/>
                </a:lnTo>
                <a:lnTo>
                  <a:pt x="820" y="934"/>
                </a:lnTo>
                <a:cubicBezTo>
                  <a:pt x="849" y="968"/>
                  <a:pt x="867" y="1006"/>
                  <a:pt x="907" y="990"/>
                </a:cubicBezTo>
                <a:cubicBezTo>
                  <a:pt x="947" y="974"/>
                  <a:pt x="1004" y="894"/>
                  <a:pt x="1060" y="838"/>
                </a:cubicBezTo>
                <a:lnTo>
                  <a:pt x="1204" y="646"/>
                </a:lnTo>
                <a:cubicBezTo>
                  <a:pt x="1246" y="605"/>
                  <a:pt x="1286" y="608"/>
                  <a:pt x="1314" y="592"/>
                </a:cubicBezTo>
                <a:cubicBezTo>
                  <a:pt x="1342" y="576"/>
                  <a:pt x="1357" y="572"/>
                  <a:pt x="1374" y="547"/>
                </a:cubicBezTo>
                <a:cubicBezTo>
                  <a:pt x="1391" y="522"/>
                  <a:pt x="1416" y="462"/>
                  <a:pt x="1414" y="445"/>
                </a:cubicBezTo>
                <a:cubicBezTo>
                  <a:pt x="1401" y="435"/>
                  <a:pt x="1386" y="436"/>
                  <a:pt x="1365" y="445"/>
                </a:cubicBezTo>
                <a:lnTo>
                  <a:pt x="1288" y="501"/>
                </a:lnTo>
                <a:lnTo>
                  <a:pt x="1209" y="528"/>
                </a:lnTo>
                <a:lnTo>
                  <a:pt x="1234" y="445"/>
                </a:lnTo>
                <a:cubicBezTo>
                  <a:pt x="1231" y="435"/>
                  <a:pt x="1203" y="447"/>
                  <a:pt x="1192" y="468"/>
                </a:cubicBezTo>
                <a:lnTo>
                  <a:pt x="1167" y="573"/>
                </a:lnTo>
                <a:cubicBezTo>
                  <a:pt x="1117" y="639"/>
                  <a:pt x="957" y="856"/>
                  <a:pt x="892" y="862"/>
                </a:cubicBezTo>
                <a:cubicBezTo>
                  <a:pt x="852" y="790"/>
                  <a:pt x="801" y="672"/>
                  <a:pt x="775" y="607"/>
                </a:cubicBezTo>
                <a:cubicBezTo>
                  <a:pt x="751" y="543"/>
                  <a:pt x="766" y="508"/>
                  <a:pt x="747" y="480"/>
                </a:cubicBezTo>
                <a:cubicBezTo>
                  <a:pt x="728" y="449"/>
                  <a:pt x="683" y="452"/>
                  <a:pt x="664" y="439"/>
                </a:cubicBezTo>
                <a:cubicBezTo>
                  <a:pt x="645" y="426"/>
                  <a:pt x="643" y="412"/>
                  <a:pt x="634" y="402"/>
                </a:cubicBezTo>
                <a:lnTo>
                  <a:pt x="609" y="378"/>
                </a:lnTo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100000">
                <a:srgbClr val="5e5e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Freeform 9"/>
          <p:cNvSpPr/>
          <p:nvPr/>
        </p:nvSpPr>
        <p:spPr>
          <a:xfrm>
            <a:off x="5986440" y="2529000"/>
            <a:ext cx="777960" cy="2185920"/>
          </a:xfrm>
          <a:custGeom>
            <a:avLst/>
            <a:gdLst/>
            <a:ahLst/>
            <a:rect l="l" t="t" r="r" b="b"/>
            <a:pathLst>
              <a:path w="1155" h="3334">
                <a:moveTo>
                  <a:pt x="1155" y="1096"/>
                </a:moveTo>
                <a:lnTo>
                  <a:pt x="1149" y="1074"/>
                </a:lnTo>
                <a:lnTo>
                  <a:pt x="1148" y="1054"/>
                </a:lnTo>
                <a:lnTo>
                  <a:pt x="1148" y="1054"/>
                </a:lnTo>
                <a:lnTo>
                  <a:pt x="1143" y="1037"/>
                </a:lnTo>
                <a:lnTo>
                  <a:pt x="1138" y="1022"/>
                </a:lnTo>
                <a:lnTo>
                  <a:pt x="1133" y="1009"/>
                </a:lnTo>
                <a:lnTo>
                  <a:pt x="1128" y="998"/>
                </a:lnTo>
                <a:lnTo>
                  <a:pt x="1120" y="982"/>
                </a:lnTo>
                <a:lnTo>
                  <a:pt x="1117" y="977"/>
                </a:lnTo>
                <a:lnTo>
                  <a:pt x="1095" y="931"/>
                </a:lnTo>
                <a:lnTo>
                  <a:pt x="1085" y="892"/>
                </a:lnTo>
                <a:lnTo>
                  <a:pt x="1056" y="857"/>
                </a:lnTo>
                <a:lnTo>
                  <a:pt x="1038" y="809"/>
                </a:lnTo>
                <a:lnTo>
                  <a:pt x="1036" y="783"/>
                </a:lnTo>
                <a:lnTo>
                  <a:pt x="1036" y="783"/>
                </a:lnTo>
                <a:lnTo>
                  <a:pt x="1019" y="749"/>
                </a:lnTo>
                <a:lnTo>
                  <a:pt x="991" y="699"/>
                </a:lnTo>
                <a:lnTo>
                  <a:pt x="957" y="637"/>
                </a:lnTo>
                <a:lnTo>
                  <a:pt x="942" y="620"/>
                </a:lnTo>
                <a:lnTo>
                  <a:pt x="938" y="618"/>
                </a:lnTo>
                <a:lnTo>
                  <a:pt x="918" y="598"/>
                </a:lnTo>
                <a:lnTo>
                  <a:pt x="894" y="581"/>
                </a:lnTo>
                <a:lnTo>
                  <a:pt x="876" y="566"/>
                </a:lnTo>
                <a:lnTo>
                  <a:pt x="863" y="563"/>
                </a:lnTo>
                <a:lnTo>
                  <a:pt x="824" y="544"/>
                </a:lnTo>
                <a:lnTo>
                  <a:pt x="808" y="523"/>
                </a:lnTo>
                <a:lnTo>
                  <a:pt x="787" y="522"/>
                </a:lnTo>
                <a:lnTo>
                  <a:pt x="786" y="522"/>
                </a:lnTo>
                <a:lnTo>
                  <a:pt x="778" y="519"/>
                </a:lnTo>
                <a:lnTo>
                  <a:pt x="745" y="473"/>
                </a:lnTo>
                <a:lnTo>
                  <a:pt x="731" y="471"/>
                </a:lnTo>
                <a:lnTo>
                  <a:pt x="734" y="452"/>
                </a:lnTo>
                <a:lnTo>
                  <a:pt x="735" y="453"/>
                </a:lnTo>
                <a:lnTo>
                  <a:pt x="742" y="439"/>
                </a:lnTo>
                <a:lnTo>
                  <a:pt x="750" y="463"/>
                </a:lnTo>
                <a:lnTo>
                  <a:pt x="755" y="463"/>
                </a:lnTo>
                <a:lnTo>
                  <a:pt x="779" y="411"/>
                </a:lnTo>
                <a:lnTo>
                  <a:pt x="807" y="326"/>
                </a:lnTo>
                <a:lnTo>
                  <a:pt x="807" y="326"/>
                </a:lnTo>
                <a:lnTo>
                  <a:pt x="814" y="305"/>
                </a:lnTo>
                <a:lnTo>
                  <a:pt x="821" y="279"/>
                </a:lnTo>
                <a:lnTo>
                  <a:pt x="829" y="249"/>
                </a:lnTo>
                <a:lnTo>
                  <a:pt x="829" y="249"/>
                </a:lnTo>
                <a:lnTo>
                  <a:pt x="828" y="236"/>
                </a:lnTo>
                <a:lnTo>
                  <a:pt x="825" y="222"/>
                </a:lnTo>
                <a:lnTo>
                  <a:pt x="821" y="210"/>
                </a:lnTo>
                <a:lnTo>
                  <a:pt x="818" y="199"/>
                </a:lnTo>
                <a:lnTo>
                  <a:pt x="809" y="184"/>
                </a:lnTo>
                <a:lnTo>
                  <a:pt x="805" y="178"/>
                </a:lnTo>
                <a:lnTo>
                  <a:pt x="805" y="178"/>
                </a:lnTo>
                <a:lnTo>
                  <a:pt x="794" y="163"/>
                </a:lnTo>
                <a:lnTo>
                  <a:pt x="783" y="148"/>
                </a:lnTo>
                <a:lnTo>
                  <a:pt x="773" y="132"/>
                </a:lnTo>
                <a:lnTo>
                  <a:pt x="760" y="89"/>
                </a:lnTo>
                <a:lnTo>
                  <a:pt x="754" y="87"/>
                </a:lnTo>
                <a:lnTo>
                  <a:pt x="730" y="57"/>
                </a:lnTo>
                <a:lnTo>
                  <a:pt x="696" y="51"/>
                </a:lnTo>
                <a:lnTo>
                  <a:pt x="635" y="10"/>
                </a:lnTo>
                <a:lnTo>
                  <a:pt x="629" y="10"/>
                </a:lnTo>
                <a:lnTo>
                  <a:pt x="634" y="25"/>
                </a:lnTo>
                <a:lnTo>
                  <a:pt x="588" y="0"/>
                </a:lnTo>
                <a:lnTo>
                  <a:pt x="598" y="25"/>
                </a:lnTo>
                <a:lnTo>
                  <a:pt x="575" y="7"/>
                </a:lnTo>
                <a:lnTo>
                  <a:pt x="579" y="29"/>
                </a:lnTo>
                <a:lnTo>
                  <a:pt x="574" y="26"/>
                </a:lnTo>
                <a:lnTo>
                  <a:pt x="534" y="14"/>
                </a:lnTo>
                <a:lnTo>
                  <a:pt x="556" y="39"/>
                </a:lnTo>
                <a:lnTo>
                  <a:pt x="554" y="41"/>
                </a:lnTo>
                <a:lnTo>
                  <a:pt x="519" y="19"/>
                </a:lnTo>
                <a:lnTo>
                  <a:pt x="532" y="47"/>
                </a:lnTo>
                <a:lnTo>
                  <a:pt x="529" y="49"/>
                </a:lnTo>
                <a:lnTo>
                  <a:pt x="508" y="19"/>
                </a:lnTo>
                <a:lnTo>
                  <a:pt x="508" y="24"/>
                </a:lnTo>
                <a:lnTo>
                  <a:pt x="507" y="56"/>
                </a:lnTo>
                <a:lnTo>
                  <a:pt x="476" y="46"/>
                </a:lnTo>
                <a:lnTo>
                  <a:pt x="479" y="50"/>
                </a:lnTo>
                <a:lnTo>
                  <a:pt x="505" y="73"/>
                </a:lnTo>
                <a:lnTo>
                  <a:pt x="461" y="74"/>
                </a:lnTo>
                <a:lnTo>
                  <a:pt x="465" y="78"/>
                </a:lnTo>
                <a:lnTo>
                  <a:pt x="489" y="90"/>
                </a:lnTo>
                <a:lnTo>
                  <a:pt x="468" y="94"/>
                </a:lnTo>
                <a:lnTo>
                  <a:pt x="491" y="103"/>
                </a:lnTo>
                <a:lnTo>
                  <a:pt x="458" y="115"/>
                </a:lnTo>
                <a:lnTo>
                  <a:pt x="482" y="126"/>
                </a:lnTo>
                <a:lnTo>
                  <a:pt x="468" y="137"/>
                </a:lnTo>
                <a:lnTo>
                  <a:pt x="482" y="139"/>
                </a:lnTo>
                <a:lnTo>
                  <a:pt x="461" y="166"/>
                </a:lnTo>
                <a:lnTo>
                  <a:pt x="464" y="164"/>
                </a:lnTo>
                <a:lnTo>
                  <a:pt x="479" y="158"/>
                </a:lnTo>
                <a:lnTo>
                  <a:pt x="479" y="158"/>
                </a:lnTo>
                <a:lnTo>
                  <a:pt x="476" y="167"/>
                </a:lnTo>
                <a:lnTo>
                  <a:pt x="474" y="178"/>
                </a:lnTo>
                <a:lnTo>
                  <a:pt x="473" y="190"/>
                </a:lnTo>
                <a:lnTo>
                  <a:pt x="473" y="198"/>
                </a:lnTo>
                <a:lnTo>
                  <a:pt x="474" y="204"/>
                </a:lnTo>
                <a:lnTo>
                  <a:pt x="471" y="216"/>
                </a:lnTo>
                <a:lnTo>
                  <a:pt x="471" y="229"/>
                </a:lnTo>
                <a:lnTo>
                  <a:pt x="471" y="229"/>
                </a:lnTo>
                <a:lnTo>
                  <a:pt x="466" y="240"/>
                </a:lnTo>
                <a:lnTo>
                  <a:pt x="460" y="252"/>
                </a:lnTo>
                <a:lnTo>
                  <a:pt x="469" y="304"/>
                </a:lnTo>
                <a:lnTo>
                  <a:pt x="471" y="353"/>
                </a:lnTo>
                <a:lnTo>
                  <a:pt x="471" y="353"/>
                </a:lnTo>
                <a:lnTo>
                  <a:pt x="473" y="359"/>
                </a:lnTo>
                <a:lnTo>
                  <a:pt x="474" y="365"/>
                </a:lnTo>
                <a:lnTo>
                  <a:pt x="477" y="374"/>
                </a:lnTo>
                <a:lnTo>
                  <a:pt x="481" y="383"/>
                </a:lnTo>
                <a:lnTo>
                  <a:pt x="487" y="391"/>
                </a:lnTo>
                <a:lnTo>
                  <a:pt x="495" y="399"/>
                </a:lnTo>
                <a:lnTo>
                  <a:pt x="505" y="406"/>
                </a:lnTo>
                <a:lnTo>
                  <a:pt x="519" y="416"/>
                </a:lnTo>
                <a:lnTo>
                  <a:pt x="521" y="428"/>
                </a:lnTo>
                <a:lnTo>
                  <a:pt x="519" y="439"/>
                </a:lnTo>
                <a:lnTo>
                  <a:pt x="510" y="441"/>
                </a:lnTo>
                <a:lnTo>
                  <a:pt x="438" y="505"/>
                </a:lnTo>
                <a:lnTo>
                  <a:pt x="415" y="507"/>
                </a:lnTo>
                <a:lnTo>
                  <a:pt x="388" y="523"/>
                </a:lnTo>
                <a:lnTo>
                  <a:pt x="355" y="527"/>
                </a:lnTo>
                <a:lnTo>
                  <a:pt x="355" y="527"/>
                </a:lnTo>
                <a:lnTo>
                  <a:pt x="343" y="529"/>
                </a:lnTo>
                <a:lnTo>
                  <a:pt x="332" y="532"/>
                </a:lnTo>
                <a:lnTo>
                  <a:pt x="310" y="538"/>
                </a:lnTo>
                <a:lnTo>
                  <a:pt x="289" y="547"/>
                </a:lnTo>
                <a:lnTo>
                  <a:pt x="270" y="556"/>
                </a:lnTo>
                <a:lnTo>
                  <a:pt x="256" y="565"/>
                </a:lnTo>
                <a:lnTo>
                  <a:pt x="245" y="574"/>
                </a:lnTo>
                <a:lnTo>
                  <a:pt x="235" y="581"/>
                </a:lnTo>
                <a:lnTo>
                  <a:pt x="232" y="619"/>
                </a:lnTo>
                <a:lnTo>
                  <a:pt x="205" y="690"/>
                </a:lnTo>
                <a:lnTo>
                  <a:pt x="195" y="731"/>
                </a:lnTo>
                <a:lnTo>
                  <a:pt x="187" y="793"/>
                </a:lnTo>
                <a:lnTo>
                  <a:pt x="183" y="809"/>
                </a:lnTo>
                <a:lnTo>
                  <a:pt x="183" y="809"/>
                </a:lnTo>
                <a:lnTo>
                  <a:pt x="178" y="837"/>
                </a:lnTo>
                <a:lnTo>
                  <a:pt x="174" y="867"/>
                </a:lnTo>
                <a:lnTo>
                  <a:pt x="169" y="921"/>
                </a:lnTo>
                <a:lnTo>
                  <a:pt x="168" y="962"/>
                </a:lnTo>
                <a:lnTo>
                  <a:pt x="168" y="978"/>
                </a:lnTo>
                <a:lnTo>
                  <a:pt x="155" y="1017"/>
                </a:lnTo>
                <a:lnTo>
                  <a:pt x="146" y="1063"/>
                </a:lnTo>
                <a:lnTo>
                  <a:pt x="137" y="1079"/>
                </a:lnTo>
                <a:lnTo>
                  <a:pt x="134" y="1141"/>
                </a:lnTo>
                <a:lnTo>
                  <a:pt x="136" y="1159"/>
                </a:lnTo>
                <a:lnTo>
                  <a:pt x="130" y="1173"/>
                </a:lnTo>
                <a:lnTo>
                  <a:pt x="113" y="1231"/>
                </a:lnTo>
                <a:lnTo>
                  <a:pt x="116" y="1249"/>
                </a:lnTo>
                <a:lnTo>
                  <a:pt x="121" y="1277"/>
                </a:lnTo>
                <a:lnTo>
                  <a:pt x="111" y="1297"/>
                </a:lnTo>
                <a:lnTo>
                  <a:pt x="113" y="1340"/>
                </a:lnTo>
                <a:lnTo>
                  <a:pt x="114" y="1456"/>
                </a:lnTo>
                <a:lnTo>
                  <a:pt x="114" y="1456"/>
                </a:lnTo>
                <a:lnTo>
                  <a:pt x="113" y="1466"/>
                </a:lnTo>
                <a:lnTo>
                  <a:pt x="113" y="1466"/>
                </a:lnTo>
                <a:lnTo>
                  <a:pt x="97" y="1477"/>
                </a:lnTo>
                <a:lnTo>
                  <a:pt x="102" y="1530"/>
                </a:lnTo>
                <a:lnTo>
                  <a:pt x="111" y="1539"/>
                </a:lnTo>
                <a:lnTo>
                  <a:pt x="111" y="1539"/>
                </a:lnTo>
                <a:lnTo>
                  <a:pt x="114" y="1536"/>
                </a:lnTo>
                <a:lnTo>
                  <a:pt x="114" y="1536"/>
                </a:lnTo>
                <a:lnTo>
                  <a:pt x="116" y="1579"/>
                </a:lnTo>
                <a:lnTo>
                  <a:pt x="119" y="1597"/>
                </a:lnTo>
                <a:lnTo>
                  <a:pt x="120" y="1597"/>
                </a:lnTo>
                <a:lnTo>
                  <a:pt x="114" y="1644"/>
                </a:lnTo>
                <a:lnTo>
                  <a:pt x="126" y="1679"/>
                </a:lnTo>
                <a:lnTo>
                  <a:pt x="146" y="1705"/>
                </a:lnTo>
                <a:lnTo>
                  <a:pt x="164" y="1718"/>
                </a:lnTo>
                <a:lnTo>
                  <a:pt x="177" y="1709"/>
                </a:lnTo>
                <a:lnTo>
                  <a:pt x="184" y="1709"/>
                </a:lnTo>
                <a:lnTo>
                  <a:pt x="184" y="1709"/>
                </a:lnTo>
                <a:lnTo>
                  <a:pt x="185" y="1722"/>
                </a:lnTo>
                <a:lnTo>
                  <a:pt x="183" y="1720"/>
                </a:lnTo>
                <a:lnTo>
                  <a:pt x="179" y="1727"/>
                </a:lnTo>
                <a:lnTo>
                  <a:pt x="179" y="1727"/>
                </a:lnTo>
                <a:lnTo>
                  <a:pt x="174" y="1727"/>
                </a:lnTo>
                <a:lnTo>
                  <a:pt x="174" y="1727"/>
                </a:lnTo>
                <a:lnTo>
                  <a:pt x="166" y="1734"/>
                </a:lnTo>
                <a:lnTo>
                  <a:pt x="159" y="1740"/>
                </a:lnTo>
                <a:lnTo>
                  <a:pt x="152" y="1747"/>
                </a:lnTo>
                <a:lnTo>
                  <a:pt x="146" y="1755"/>
                </a:lnTo>
                <a:lnTo>
                  <a:pt x="137" y="176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1" y="1782"/>
                </a:lnTo>
                <a:lnTo>
                  <a:pt x="131" y="1782"/>
                </a:lnTo>
                <a:lnTo>
                  <a:pt x="33" y="2244"/>
                </a:lnTo>
                <a:lnTo>
                  <a:pt x="30" y="2255"/>
                </a:lnTo>
                <a:lnTo>
                  <a:pt x="30" y="2255"/>
                </a:lnTo>
                <a:lnTo>
                  <a:pt x="44" y="2243"/>
                </a:lnTo>
                <a:lnTo>
                  <a:pt x="56" y="2233"/>
                </a:lnTo>
                <a:lnTo>
                  <a:pt x="68" y="2227"/>
                </a:lnTo>
                <a:lnTo>
                  <a:pt x="79" y="2223"/>
                </a:lnTo>
                <a:lnTo>
                  <a:pt x="89" y="2222"/>
                </a:lnTo>
                <a:lnTo>
                  <a:pt x="95" y="2220"/>
                </a:lnTo>
                <a:lnTo>
                  <a:pt x="102" y="2220"/>
                </a:lnTo>
                <a:lnTo>
                  <a:pt x="102" y="2220"/>
                </a:lnTo>
                <a:lnTo>
                  <a:pt x="108" y="2220"/>
                </a:lnTo>
                <a:lnTo>
                  <a:pt x="115" y="2222"/>
                </a:lnTo>
                <a:lnTo>
                  <a:pt x="122" y="2224"/>
                </a:lnTo>
                <a:lnTo>
                  <a:pt x="131" y="2228"/>
                </a:lnTo>
                <a:lnTo>
                  <a:pt x="148" y="2238"/>
                </a:lnTo>
                <a:lnTo>
                  <a:pt x="164" y="2249"/>
                </a:lnTo>
                <a:lnTo>
                  <a:pt x="159" y="2260"/>
                </a:lnTo>
                <a:lnTo>
                  <a:pt x="158" y="2307"/>
                </a:lnTo>
                <a:lnTo>
                  <a:pt x="131" y="2376"/>
                </a:lnTo>
                <a:lnTo>
                  <a:pt x="97" y="2580"/>
                </a:lnTo>
                <a:lnTo>
                  <a:pt x="77" y="2662"/>
                </a:lnTo>
                <a:lnTo>
                  <a:pt x="51" y="2826"/>
                </a:lnTo>
                <a:lnTo>
                  <a:pt x="37" y="2850"/>
                </a:lnTo>
                <a:lnTo>
                  <a:pt x="35" y="2896"/>
                </a:lnTo>
                <a:lnTo>
                  <a:pt x="34" y="2913"/>
                </a:lnTo>
                <a:lnTo>
                  <a:pt x="28" y="2938"/>
                </a:lnTo>
                <a:lnTo>
                  <a:pt x="28" y="3062"/>
                </a:lnTo>
                <a:lnTo>
                  <a:pt x="35" y="3081"/>
                </a:lnTo>
                <a:lnTo>
                  <a:pt x="35" y="3081"/>
                </a:lnTo>
                <a:lnTo>
                  <a:pt x="21" y="3108"/>
                </a:lnTo>
                <a:lnTo>
                  <a:pt x="10" y="3133"/>
                </a:lnTo>
                <a:lnTo>
                  <a:pt x="2" y="3156"/>
                </a:lnTo>
                <a:lnTo>
                  <a:pt x="2" y="3156"/>
                </a:lnTo>
                <a:lnTo>
                  <a:pt x="0" y="3173"/>
                </a:lnTo>
                <a:lnTo>
                  <a:pt x="0" y="3191"/>
                </a:lnTo>
                <a:lnTo>
                  <a:pt x="3" y="3208"/>
                </a:lnTo>
                <a:lnTo>
                  <a:pt x="5" y="3223"/>
                </a:lnTo>
                <a:lnTo>
                  <a:pt x="13" y="3245"/>
                </a:lnTo>
                <a:lnTo>
                  <a:pt x="15" y="3253"/>
                </a:lnTo>
                <a:lnTo>
                  <a:pt x="15" y="3253"/>
                </a:lnTo>
                <a:lnTo>
                  <a:pt x="23" y="3262"/>
                </a:lnTo>
                <a:lnTo>
                  <a:pt x="29" y="3269"/>
                </a:lnTo>
                <a:lnTo>
                  <a:pt x="36" y="3276"/>
                </a:lnTo>
                <a:lnTo>
                  <a:pt x="45" y="3281"/>
                </a:lnTo>
                <a:lnTo>
                  <a:pt x="52" y="3284"/>
                </a:lnTo>
                <a:lnTo>
                  <a:pt x="60" y="3287"/>
                </a:lnTo>
                <a:lnTo>
                  <a:pt x="74" y="3289"/>
                </a:lnTo>
                <a:lnTo>
                  <a:pt x="88" y="3289"/>
                </a:lnTo>
                <a:lnTo>
                  <a:pt x="99" y="3288"/>
                </a:lnTo>
                <a:lnTo>
                  <a:pt x="109" y="3287"/>
                </a:lnTo>
                <a:lnTo>
                  <a:pt x="109" y="3287"/>
                </a:lnTo>
                <a:lnTo>
                  <a:pt x="125" y="3283"/>
                </a:lnTo>
                <a:lnTo>
                  <a:pt x="140" y="3278"/>
                </a:lnTo>
                <a:lnTo>
                  <a:pt x="152" y="3272"/>
                </a:lnTo>
                <a:lnTo>
                  <a:pt x="163" y="3266"/>
                </a:lnTo>
                <a:lnTo>
                  <a:pt x="173" y="3260"/>
                </a:lnTo>
                <a:lnTo>
                  <a:pt x="182" y="3252"/>
                </a:lnTo>
                <a:lnTo>
                  <a:pt x="189" y="3246"/>
                </a:lnTo>
                <a:lnTo>
                  <a:pt x="196" y="3239"/>
                </a:lnTo>
                <a:lnTo>
                  <a:pt x="205" y="3226"/>
                </a:lnTo>
                <a:lnTo>
                  <a:pt x="211" y="3215"/>
                </a:lnTo>
                <a:lnTo>
                  <a:pt x="215" y="3205"/>
                </a:lnTo>
                <a:lnTo>
                  <a:pt x="216" y="3154"/>
                </a:lnTo>
                <a:lnTo>
                  <a:pt x="216" y="3154"/>
                </a:lnTo>
                <a:lnTo>
                  <a:pt x="216" y="3155"/>
                </a:lnTo>
                <a:lnTo>
                  <a:pt x="240" y="3145"/>
                </a:lnTo>
                <a:lnTo>
                  <a:pt x="256" y="3093"/>
                </a:lnTo>
                <a:lnTo>
                  <a:pt x="254" y="3041"/>
                </a:lnTo>
                <a:lnTo>
                  <a:pt x="254" y="3041"/>
                </a:lnTo>
                <a:lnTo>
                  <a:pt x="262" y="3036"/>
                </a:lnTo>
                <a:lnTo>
                  <a:pt x="269" y="3032"/>
                </a:lnTo>
                <a:lnTo>
                  <a:pt x="275" y="3027"/>
                </a:lnTo>
                <a:lnTo>
                  <a:pt x="279" y="3020"/>
                </a:lnTo>
                <a:lnTo>
                  <a:pt x="283" y="3014"/>
                </a:lnTo>
                <a:lnTo>
                  <a:pt x="285" y="3008"/>
                </a:lnTo>
                <a:lnTo>
                  <a:pt x="289" y="2996"/>
                </a:lnTo>
                <a:lnTo>
                  <a:pt x="289" y="2985"/>
                </a:lnTo>
                <a:lnTo>
                  <a:pt x="289" y="2975"/>
                </a:lnTo>
                <a:lnTo>
                  <a:pt x="286" y="2967"/>
                </a:lnTo>
                <a:lnTo>
                  <a:pt x="286" y="2967"/>
                </a:lnTo>
                <a:lnTo>
                  <a:pt x="306" y="2923"/>
                </a:lnTo>
                <a:lnTo>
                  <a:pt x="335" y="2855"/>
                </a:lnTo>
                <a:lnTo>
                  <a:pt x="373" y="2764"/>
                </a:lnTo>
                <a:lnTo>
                  <a:pt x="434" y="2578"/>
                </a:lnTo>
                <a:lnTo>
                  <a:pt x="469" y="2347"/>
                </a:lnTo>
                <a:lnTo>
                  <a:pt x="528" y="2040"/>
                </a:lnTo>
                <a:lnTo>
                  <a:pt x="528" y="2040"/>
                </a:lnTo>
                <a:lnTo>
                  <a:pt x="542" y="1992"/>
                </a:lnTo>
                <a:lnTo>
                  <a:pt x="556" y="1947"/>
                </a:lnTo>
                <a:lnTo>
                  <a:pt x="574" y="1902"/>
                </a:lnTo>
                <a:lnTo>
                  <a:pt x="590" y="1862"/>
                </a:lnTo>
                <a:lnTo>
                  <a:pt x="616" y="1800"/>
                </a:lnTo>
                <a:lnTo>
                  <a:pt x="627" y="1777"/>
                </a:lnTo>
                <a:lnTo>
                  <a:pt x="646" y="1795"/>
                </a:lnTo>
                <a:lnTo>
                  <a:pt x="651" y="1820"/>
                </a:lnTo>
                <a:lnTo>
                  <a:pt x="697" y="1915"/>
                </a:lnTo>
                <a:lnTo>
                  <a:pt x="714" y="2033"/>
                </a:lnTo>
                <a:lnTo>
                  <a:pt x="720" y="2055"/>
                </a:lnTo>
                <a:lnTo>
                  <a:pt x="725" y="2087"/>
                </a:lnTo>
                <a:lnTo>
                  <a:pt x="725" y="2087"/>
                </a:lnTo>
                <a:lnTo>
                  <a:pt x="725" y="2110"/>
                </a:lnTo>
                <a:lnTo>
                  <a:pt x="726" y="2138"/>
                </a:lnTo>
                <a:lnTo>
                  <a:pt x="729" y="2169"/>
                </a:lnTo>
                <a:lnTo>
                  <a:pt x="733" y="2201"/>
                </a:lnTo>
                <a:lnTo>
                  <a:pt x="739" y="2253"/>
                </a:lnTo>
                <a:lnTo>
                  <a:pt x="742" y="2275"/>
                </a:lnTo>
                <a:lnTo>
                  <a:pt x="765" y="2409"/>
                </a:lnTo>
                <a:lnTo>
                  <a:pt x="765" y="2409"/>
                </a:lnTo>
                <a:lnTo>
                  <a:pt x="812" y="2637"/>
                </a:lnTo>
                <a:lnTo>
                  <a:pt x="798" y="2869"/>
                </a:lnTo>
                <a:lnTo>
                  <a:pt x="814" y="2930"/>
                </a:lnTo>
                <a:lnTo>
                  <a:pt x="812" y="2987"/>
                </a:lnTo>
                <a:lnTo>
                  <a:pt x="775" y="3016"/>
                </a:lnTo>
                <a:lnTo>
                  <a:pt x="772" y="3059"/>
                </a:lnTo>
                <a:lnTo>
                  <a:pt x="772" y="3059"/>
                </a:lnTo>
                <a:lnTo>
                  <a:pt x="773" y="3081"/>
                </a:lnTo>
                <a:lnTo>
                  <a:pt x="777" y="3098"/>
                </a:lnTo>
                <a:lnTo>
                  <a:pt x="782" y="3112"/>
                </a:lnTo>
                <a:lnTo>
                  <a:pt x="788" y="3120"/>
                </a:lnTo>
                <a:lnTo>
                  <a:pt x="794" y="3128"/>
                </a:lnTo>
                <a:lnTo>
                  <a:pt x="800" y="3131"/>
                </a:lnTo>
                <a:lnTo>
                  <a:pt x="805" y="3134"/>
                </a:lnTo>
                <a:lnTo>
                  <a:pt x="810" y="3135"/>
                </a:lnTo>
                <a:lnTo>
                  <a:pt x="799" y="3208"/>
                </a:lnTo>
                <a:lnTo>
                  <a:pt x="799" y="3208"/>
                </a:lnTo>
                <a:lnTo>
                  <a:pt x="798" y="3212"/>
                </a:lnTo>
                <a:lnTo>
                  <a:pt x="795" y="3220"/>
                </a:lnTo>
                <a:lnTo>
                  <a:pt x="795" y="3232"/>
                </a:lnTo>
                <a:lnTo>
                  <a:pt x="797" y="3241"/>
                </a:lnTo>
                <a:lnTo>
                  <a:pt x="798" y="3250"/>
                </a:lnTo>
                <a:lnTo>
                  <a:pt x="802" y="3260"/>
                </a:lnTo>
                <a:lnTo>
                  <a:pt x="805" y="3269"/>
                </a:lnTo>
                <a:lnTo>
                  <a:pt x="812" y="3279"/>
                </a:lnTo>
                <a:lnTo>
                  <a:pt x="820" y="3290"/>
                </a:lnTo>
                <a:lnTo>
                  <a:pt x="830" y="3300"/>
                </a:lnTo>
                <a:lnTo>
                  <a:pt x="842" y="3311"/>
                </a:lnTo>
                <a:lnTo>
                  <a:pt x="857" y="3322"/>
                </a:lnTo>
                <a:lnTo>
                  <a:pt x="876" y="3332"/>
                </a:lnTo>
                <a:lnTo>
                  <a:pt x="876" y="3332"/>
                </a:lnTo>
                <a:lnTo>
                  <a:pt x="878" y="3334"/>
                </a:lnTo>
                <a:lnTo>
                  <a:pt x="887" y="3334"/>
                </a:lnTo>
                <a:lnTo>
                  <a:pt x="902" y="3332"/>
                </a:lnTo>
                <a:lnTo>
                  <a:pt x="919" y="3329"/>
                </a:lnTo>
                <a:lnTo>
                  <a:pt x="929" y="3325"/>
                </a:lnTo>
                <a:lnTo>
                  <a:pt x="940" y="3321"/>
                </a:lnTo>
                <a:lnTo>
                  <a:pt x="951" y="3315"/>
                </a:lnTo>
                <a:lnTo>
                  <a:pt x="962" y="3309"/>
                </a:lnTo>
                <a:lnTo>
                  <a:pt x="974" y="3300"/>
                </a:lnTo>
                <a:lnTo>
                  <a:pt x="985" y="3289"/>
                </a:lnTo>
                <a:lnTo>
                  <a:pt x="998" y="3278"/>
                </a:lnTo>
                <a:lnTo>
                  <a:pt x="1009" y="3263"/>
                </a:lnTo>
                <a:lnTo>
                  <a:pt x="1011" y="3225"/>
                </a:lnTo>
                <a:lnTo>
                  <a:pt x="1009" y="3214"/>
                </a:lnTo>
                <a:lnTo>
                  <a:pt x="1009" y="3179"/>
                </a:lnTo>
                <a:lnTo>
                  <a:pt x="1006" y="3141"/>
                </a:lnTo>
                <a:lnTo>
                  <a:pt x="1019" y="3146"/>
                </a:lnTo>
                <a:lnTo>
                  <a:pt x="1019" y="3146"/>
                </a:lnTo>
                <a:lnTo>
                  <a:pt x="1024" y="3142"/>
                </a:lnTo>
                <a:lnTo>
                  <a:pt x="1028" y="3138"/>
                </a:lnTo>
                <a:lnTo>
                  <a:pt x="1033" y="3131"/>
                </a:lnTo>
                <a:lnTo>
                  <a:pt x="1037" y="3124"/>
                </a:lnTo>
                <a:lnTo>
                  <a:pt x="1043" y="3108"/>
                </a:lnTo>
                <a:lnTo>
                  <a:pt x="1048" y="3091"/>
                </a:lnTo>
                <a:lnTo>
                  <a:pt x="1052" y="3075"/>
                </a:lnTo>
                <a:lnTo>
                  <a:pt x="1054" y="3060"/>
                </a:lnTo>
                <a:lnTo>
                  <a:pt x="1057" y="3046"/>
                </a:lnTo>
                <a:lnTo>
                  <a:pt x="1058" y="3032"/>
                </a:lnTo>
                <a:lnTo>
                  <a:pt x="1058" y="3032"/>
                </a:lnTo>
                <a:lnTo>
                  <a:pt x="1057" y="3027"/>
                </a:lnTo>
                <a:lnTo>
                  <a:pt x="1054" y="3023"/>
                </a:lnTo>
                <a:lnTo>
                  <a:pt x="1048" y="3014"/>
                </a:lnTo>
                <a:lnTo>
                  <a:pt x="1041" y="3008"/>
                </a:lnTo>
                <a:lnTo>
                  <a:pt x="1033" y="3002"/>
                </a:lnTo>
                <a:lnTo>
                  <a:pt x="1019" y="2995"/>
                </a:lnTo>
                <a:lnTo>
                  <a:pt x="1012" y="2992"/>
                </a:lnTo>
                <a:lnTo>
                  <a:pt x="1021" y="2908"/>
                </a:lnTo>
                <a:lnTo>
                  <a:pt x="1036" y="2718"/>
                </a:lnTo>
                <a:lnTo>
                  <a:pt x="1036" y="2718"/>
                </a:lnTo>
                <a:lnTo>
                  <a:pt x="1036" y="2702"/>
                </a:lnTo>
                <a:lnTo>
                  <a:pt x="1035" y="2680"/>
                </a:lnTo>
                <a:lnTo>
                  <a:pt x="1031" y="2626"/>
                </a:lnTo>
                <a:lnTo>
                  <a:pt x="1026" y="2558"/>
                </a:lnTo>
                <a:lnTo>
                  <a:pt x="1026" y="2531"/>
                </a:lnTo>
                <a:lnTo>
                  <a:pt x="1015" y="2386"/>
                </a:lnTo>
                <a:lnTo>
                  <a:pt x="1005" y="2256"/>
                </a:lnTo>
                <a:lnTo>
                  <a:pt x="995" y="2169"/>
                </a:lnTo>
                <a:lnTo>
                  <a:pt x="993" y="2132"/>
                </a:lnTo>
                <a:lnTo>
                  <a:pt x="990" y="2097"/>
                </a:lnTo>
                <a:lnTo>
                  <a:pt x="988" y="2047"/>
                </a:lnTo>
                <a:lnTo>
                  <a:pt x="984" y="1932"/>
                </a:lnTo>
                <a:lnTo>
                  <a:pt x="984" y="1878"/>
                </a:lnTo>
                <a:lnTo>
                  <a:pt x="982" y="1720"/>
                </a:lnTo>
                <a:lnTo>
                  <a:pt x="974" y="1594"/>
                </a:lnTo>
                <a:lnTo>
                  <a:pt x="977" y="1560"/>
                </a:lnTo>
                <a:lnTo>
                  <a:pt x="977" y="1560"/>
                </a:lnTo>
                <a:lnTo>
                  <a:pt x="974" y="1543"/>
                </a:lnTo>
                <a:lnTo>
                  <a:pt x="971" y="1529"/>
                </a:lnTo>
                <a:lnTo>
                  <a:pt x="967" y="1519"/>
                </a:lnTo>
                <a:lnTo>
                  <a:pt x="963" y="1513"/>
                </a:lnTo>
                <a:lnTo>
                  <a:pt x="941" y="1386"/>
                </a:lnTo>
                <a:lnTo>
                  <a:pt x="909" y="1343"/>
                </a:lnTo>
                <a:lnTo>
                  <a:pt x="909" y="1326"/>
                </a:lnTo>
                <a:lnTo>
                  <a:pt x="915" y="1317"/>
                </a:lnTo>
                <a:lnTo>
                  <a:pt x="915" y="1298"/>
                </a:lnTo>
                <a:lnTo>
                  <a:pt x="922" y="1298"/>
                </a:lnTo>
                <a:lnTo>
                  <a:pt x="925" y="1290"/>
                </a:lnTo>
                <a:lnTo>
                  <a:pt x="920" y="1249"/>
                </a:lnTo>
                <a:lnTo>
                  <a:pt x="925" y="1247"/>
                </a:lnTo>
                <a:lnTo>
                  <a:pt x="1012" y="1229"/>
                </a:lnTo>
                <a:lnTo>
                  <a:pt x="1041" y="1222"/>
                </a:lnTo>
                <a:lnTo>
                  <a:pt x="1093" y="1217"/>
                </a:lnTo>
                <a:lnTo>
                  <a:pt x="1093" y="1217"/>
                </a:lnTo>
                <a:lnTo>
                  <a:pt x="1104" y="1212"/>
                </a:lnTo>
                <a:lnTo>
                  <a:pt x="1115" y="1207"/>
                </a:lnTo>
                <a:lnTo>
                  <a:pt x="1131" y="1197"/>
                </a:lnTo>
                <a:lnTo>
                  <a:pt x="1141" y="1190"/>
                </a:lnTo>
                <a:lnTo>
                  <a:pt x="1144" y="1186"/>
                </a:lnTo>
                <a:lnTo>
                  <a:pt x="1144" y="1186"/>
                </a:lnTo>
                <a:lnTo>
                  <a:pt x="1147" y="1181"/>
                </a:lnTo>
                <a:lnTo>
                  <a:pt x="1148" y="1176"/>
                </a:lnTo>
                <a:lnTo>
                  <a:pt x="1152" y="1163"/>
                </a:lnTo>
                <a:lnTo>
                  <a:pt x="1154" y="1148"/>
                </a:lnTo>
                <a:lnTo>
                  <a:pt x="1155" y="1133"/>
                </a:lnTo>
                <a:lnTo>
                  <a:pt x="1155" y="1107"/>
                </a:lnTo>
                <a:lnTo>
                  <a:pt x="1155" y="1096"/>
                </a:lnTo>
                <a:lnTo>
                  <a:pt x="1155" y="1096"/>
                </a:lnTo>
                <a:close/>
                <a:moveTo>
                  <a:pt x="286" y="1152"/>
                </a:moveTo>
                <a:lnTo>
                  <a:pt x="284" y="1127"/>
                </a:lnTo>
                <a:lnTo>
                  <a:pt x="295" y="1109"/>
                </a:lnTo>
                <a:lnTo>
                  <a:pt x="295" y="1068"/>
                </a:lnTo>
                <a:lnTo>
                  <a:pt x="300" y="1056"/>
                </a:lnTo>
                <a:lnTo>
                  <a:pt x="300" y="1056"/>
                </a:lnTo>
                <a:lnTo>
                  <a:pt x="301" y="1056"/>
                </a:lnTo>
                <a:lnTo>
                  <a:pt x="302" y="1057"/>
                </a:lnTo>
                <a:lnTo>
                  <a:pt x="304" y="1059"/>
                </a:lnTo>
                <a:lnTo>
                  <a:pt x="299" y="1107"/>
                </a:lnTo>
                <a:lnTo>
                  <a:pt x="295" y="1155"/>
                </a:lnTo>
                <a:lnTo>
                  <a:pt x="284" y="1189"/>
                </a:lnTo>
                <a:lnTo>
                  <a:pt x="286" y="1162"/>
                </a:lnTo>
                <a:lnTo>
                  <a:pt x="286" y="1152"/>
                </a:lnTo>
                <a:close/>
                <a:moveTo>
                  <a:pt x="190" y="1636"/>
                </a:moveTo>
                <a:lnTo>
                  <a:pt x="194" y="1631"/>
                </a:lnTo>
                <a:lnTo>
                  <a:pt x="203" y="1637"/>
                </a:lnTo>
                <a:lnTo>
                  <a:pt x="205" y="1657"/>
                </a:lnTo>
                <a:lnTo>
                  <a:pt x="205" y="1657"/>
                </a:lnTo>
                <a:lnTo>
                  <a:pt x="201" y="1655"/>
                </a:lnTo>
                <a:lnTo>
                  <a:pt x="196" y="1653"/>
                </a:lnTo>
                <a:lnTo>
                  <a:pt x="193" y="1655"/>
                </a:lnTo>
                <a:lnTo>
                  <a:pt x="189" y="1657"/>
                </a:lnTo>
                <a:lnTo>
                  <a:pt x="190" y="1636"/>
                </a:lnTo>
                <a:close/>
                <a:moveTo>
                  <a:pt x="210" y="2070"/>
                </a:moveTo>
                <a:lnTo>
                  <a:pt x="219" y="1995"/>
                </a:lnTo>
                <a:lnTo>
                  <a:pt x="224" y="2028"/>
                </a:lnTo>
                <a:lnTo>
                  <a:pt x="210" y="2070"/>
                </a:lnTo>
                <a:close/>
                <a:moveTo>
                  <a:pt x="301" y="1489"/>
                </a:moveTo>
                <a:lnTo>
                  <a:pt x="293" y="1531"/>
                </a:lnTo>
                <a:lnTo>
                  <a:pt x="288" y="1552"/>
                </a:lnTo>
                <a:lnTo>
                  <a:pt x="268" y="1584"/>
                </a:lnTo>
                <a:lnTo>
                  <a:pt x="269" y="1649"/>
                </a:lnTo>
                <a:lnTo>
                  <a:pt x="254" y="1725"/>
                </a:lnTo>
                <a:lnTo>
                  <a:pt x="249" y="1794"/>
                </a:lnTo>
                <a:lnTo>
                  <a:pt x="231" y="1906"/>
                </a:lnTo>
                <a:lnTo>
                  <a:pt x="245" y="1796"/>
                </a:lnTo>
                <a:lnTo>
                  <a:pt x="240" y="1766"/>
                </a:lnTo>
                <a:lnTo>
                  <a:pt x="240" y="1766"/>
                </a:lnTo>
                <a:lnTo>
                  <a:pt x="237" y="1759"/>
                </a:lnTo>
                <a:lnTo>
                  <a:pt x="235" y="1755"/>
                </a:lnTo>
                <a:lnTo>
                  <a:pt x="227" y="1746"/>
                </a:lnTo>
                <a:lnTo>
                  <a:pt x="228" y="1742"/>
                </a:lnTo>
                <a:lnTo>
                  <a:pt x="224" y="1741"/>
                </a:lnTo>
                <a:lnTo>
                  <a:pt x="224" y="1690"/>
                </a:lnTo>
                <a:lnTo>
                  <a:pt x="228" y="1688"/>
                </a:lnTo>
                <a:lnTo>
                  <a:pt x="228" y="1688"/>
                </a:lnTo>
                <a:lnTo>
                  <a:pt x="233" y="1687"/>
                </a:lnTo>
                <a:lnTo>
                  <a:pt x="237" y="1685"/>
                </a:lnTo>
                <a:lnTo>
                  <a:pt x="242" y="1681"/>
                </a:lnTo>
                <a:lnTo>
                  <a:pt x="245" y="1677"/>
                </a:lnTo>
                <a:lnTo>
                  <a:pt x="246" y="1674"/>
                </a:lnTo>
                <a:lnTo>
                  <a:pt x="246" y="1639"/>
                </a:lnTo>
                <a:lnTo>
                  <a:pt x="251" y="1603"/>
                </a:lnTo>
                <a:lnTo>
                  <a:pt x="251" y="1577"/>
                </a:lnTo>
                <a:lnTo>
                  <a:pt x="251" y="1577"/>
                </a:lnTo>
                <a:lnTo>
                  <a:pt x="259" y="1579"/>
                </a:lnTo>
                <a:lnTo>
                  <a:pt x="263" y="1575"/>
                </a:lnTo>
                <a:lnTo>
                  <a:pt x="268" y="1510"/>
                </a:lnTo>
                <a:lnTo>
                  <a:pt x="268" y="1510"/>
                </a:lnTo>
                <a:lnTo>
                  <a:pt x="270" y="1512"/>
                </a:lnTo>
                <a:lnTo>
                  <a:pt x="277" y="1448"/>
                </a:lnTo>
                <a:lnTo>
                  <a:pt x="274" y="1444"/>
                </a:lnTo>
                <a:lnTo>
                  <a:pt x="277" y="1441"/>
                </a:lnTo>
                <a:lnTo>
                  <a:pt x="291" y="1476"/>
                </a:lnTo>
                <a:lnTo>
                  <a:pt x="307" y="1477"/>
                </a:lnTo>
                <a:lnTo>
                  <a:pt x="307" y="1477"/>
                </a:lnTo>
                <a:lnTo>
                  <a:pt x="301" y="1489"/>
                </a:lnTo>
                <a:close/>
                <a:moveTo>
                  <a:pt x="952" y="1067"/>
                </a:moveTo>
                <a:lnTo>
                  <a:pt x="946" y="1068"/>
                </a:lnTo>
                <a:lnTo>
                  <a:pt x="932" y="1063"/>
                </a:lnTo>
                <a:lnTo>
                  <a:pt x="902" y="1059"/>
                </a:lnTo>
                <a:lnTo>
                  <a:pt x="894" y="1063"/>
                </a:lnTo>
                <a:lnTo>
                  <a:pt x="893" y="1032"/>
                </a:lnTo>
                <a:lnTo>
                  <a:pt x="883" y="1010"/>
                </a:lnTo>
                <a:lnTo>
                  <a:pt x="884" y="980"/>
                </a:lnTo>
                <a:lnTo>
                  <a:pt x="889" y="961"/>
                </a:lnTo>
                <a:lnTo>
                  <a:pt x="894" y="918"/>
                </a:lnTo>
                <a:lnTo>
                  <a:pt x="908" y="961"/>
                </a:lnTo>
                <a:lnTo>
                  <a:pt x="940" y="1025"/>
                </a:lnTo>
                <a:lnTo>
                  <a:pt x="953" y="1049"/>
                </a:lnTo>
                <a:lnTo>
                  <a:pt x="952" y="1067"/>
                </a:ln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475e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Freeform 10"/>
          <p:cNvSpPr/>
          <p:nvPr/>
        </p:nvSpPr>
        <p:spPr>
          <a:xfrm>
            <a:off x="5349960" y="3475080"/>
            <a:ext cx="444240" cy="1244520"/>
          </a:xfrm>
          <a:custGeom>
            <a:avLst/>
            <a:gdLst/>
            <a:ahLst/>
            <a:rect l="l" t="t" r="r" b="b"/>
            <a:pathLst>
              <a:path w="1155" h="3334">
                <a:moveTo>
                  <a:pt x="1155" y="1096"/>
                </a:moveTo>
                <a:lnTo>
                  <a:pt x="1149" y="1074"/>
                </a:lnTo>
                <a:lnTo>
                  <a:pt x="1148" y="1054"/>
                </a:lnTo>
                <a:lnTo>
                  <a:pt x="1148" y="1054"/>
                </a:lnTo>
                <a:lnTo>
                  <a:pt x="1143" y="1037"/>
                </a:lnTo>
                <a:lnTo>
                  <a:pt x="1138" y="1022"/>
                </a:lnTo>
                <a:lnTo>
                  <a:pt x="1133" y="1009"/>
                </a:lnTo>
                <a:lnTo>
                  <a:pt x="1128" y="998"/>
                </a:lnTo>
                <a:lnTo>
                  <a:pt x="1120" y="982"/>
                </a:lnTo>
                <a:lnTo>
                  <a:pt x="1117" y="977"/>
                </a:lnTo>
                <a:lnTo>
                  <a:pt x="1095" y="931"/>
                </a:lnTo>
                <a:lnTo>
                  <a:pt x="1085" y="892"/>
                </a:lnTo>
                <a:lnTo>
                  <a:pt x="1056" y="857"/>
                </a:lnTo>
                <a:lnTo>
                  <a:pt x="1038" y="809"/>
                </a:lnTo>
                <a:lnTo>
                  <a:pt x="1036" y="783"/>
                </a:lnTo>
                <a:lnTo>
                  <a:pt x="1036" y="783"/>
                </a:lnTo>
                <a:lnTo>
                  <a:pt x="1019" y="749"/>
                </a:lnTo>
                <a:lnTo>
                  <a:pt x="991" y="699"/>
                </a:lnTo>
                <a:lnTo>
                  <a:pt x="957" y="637"/>
                </a:lnTo>
                <a:lnTo>
                  <a:pt x="942" y="620"/>
                </a:lnTo>
                <a:lnTo>
                  <a:pt x="938" y="618"/>
                </a:lnTo>
                <a:lnTo>
                  <a:pt x="918" y="598"/>
                </a:lnTo>
                <a:lnTo>
                  <a:pt x="894" y="581"/>
                </a:lnTo>
                <a:lnTo>
                  <a:pt x="876" y="566"/>
                </a:lnTo>
                <a:lnTo>
                  <a:pt x="863" y="563"/>
                </a:lnTo>
                <a:lnTo>
                  <a:pt x="824" y="544"/>
                </a:lnTo>
                <a:lnTo>
                  <a:pt x="808" y="523"/>
                </a:lnTo>
                <a:lnTo>
                  <a:pt x="787" y="522"/>
                </a:lnTo>
                <a:lnTo>
                  <a:pt x="786" y="522"/>
                </a:lnTo>
                <a:lnTo>
                  <a:pt x="778" y="519"/>
                </a:lnTo>
                <a:lnTo>
                  <a:pt x="745" y="473"/>
                </a:lnTo>
                <a:lnTo>
                  <a:pt x="731" y="471"/>
                </a:lnTo>
                <a:lnTo>
                  <a:pt x="734" y="452"/>
                </a:lnTo>
                <a:lnTo>
                  <a:pt x="735" y="453"/>
                </a:lnTo>
                <a:lnTo>
                  <a:pt x="742" y="439"/>
                </a:lnTo>
                <a:lnTo>
                  <a:pt x="750" y="463"/>
                </a:lnTo>
                <a:lnTo>
                  <a:pt x="755" y="463"/>
                </a:lnTo>
                <a:lnTo>
                  <a:pt x="779" y="411"/>
                </a:lnTo>
                <a:lnTo>
                  <a:pt x="807" y="326"/>
                </a:lnTo>
                <a:lnTo>
                  <a:pt x="807" y="326"/>
                </a:lnTo>
                <a:lnTo>
                  <a:pt x="814" y="305"/>
                </a:lnTo>
                <a:lnTo>
                  <a:pt x="821" y="279"/>
                </a:lnTo>
                <a:lnTo>
                  <a:pt x="829" y="249"/>
                </a:lnTo>
                <a:lnTo>
                  <a:pt x="829" y="249"/>
                </a:lnTo>
                <a:lnTo>
                  <a:pt x="828" y="236"/>
                </a:lnTo>
                <a:lnTo>
                  <a:pt x="825" y="222"/>
                </a:lnTo>
                <a:lnTo>
                  <a:pt x="821" y="210"/>
                </a:lnTo>
                <a:lnTo>
                  <a:pt x="818" y="199"/>
                </a:lnTo>
                <a:lnTo>
                  <a:pt x="809" y="184"/>
                </a:lnTo>
                <a:lnTo>
                  <a:pt x="805" y="178"/>
                </a:lnTo>
                <a:lnTo>
                  <a:pt x="805" y="178"/>
                </a:lnTo>
                <a:lnTo>
                  <a:pt x="794" y="163"/>
                </a:lnTo>
                <a:lnTo>
                  <a:pt x="783" y="148"/>
                </a:lnTo>
                <a:lnTo>
                  <a:pt x="773" y="132"/>
                </a:lnTo>
                <a:lnTo>
                  <a:pt x="760" y="89"/>
                </a:lnTo>
                <a:lnTo>
                  <a:pt x="754" y="87"/>
                </a:lnTo>
                <a:lnTo>
                  <a:pt x="730" y="57"/>
                </a:lnTo>
                <a:lnTo>
                  <a:pt x="696" y="51"/>
                </a:lnTo>
                <a:lnTo>
                  <a:pt x="635" y="10"/>
                </a:lnTo>
                <a:lnTo>
                  <a:pt x="629" y="10"/>
                </a:lnTo>
                <a:lnTo>
                  <a:pt x="634" y="25"/>
                </a:lnTo>
                <a:lnTo>
                  <a:pt x="588" y="0"/>
                </a:lnTo>
                <a:lnTo>
                  <a:pt x="598" y="25"/>
                </a:lnTo>
                <a:lnTo>
                  <a:pt x="575" y="7"/>
                </a:lnTo>
                <a:lnTo>
                  <a:pt x="579" y="29"/>
                </a:lnTo>
                <a:lnTo>
                  <a:pt x="574" y="26"/>
                </a:lnTo>
                <a:lnTo>
                  <a:pt x="534" y="14"/>
                </a:lnTo>
                <a:lnTo>
                  <a:pt x="556" y="39"/>
                </a:lnTo>
                <a:lnTo>
                  <a:pt x="554" y="41"/>
                </a:lnTo>
                <a:lnTo>
                  <a:pt x="519" y="19"/>
                </a:lnTo>
                <a:lnTo>
                  <a:pt x="532" y="47"/>
                </a:lnTo>
                <a:lnTo>
                  <a:pt x="529" y="49"/>
                </a:lnTo>
                <a:lnTo>
                  <a:pt x="508" y="19"/>
                </a:lnTo>
                <a:lnTo>
                  <a:pt x="508" y="24"/>
                </a:lnTo>
                <a:lnTo>
                  <a:pt x="507" y="56"/>
                </a:lnTo>
                <a:lnTo>
                  <a:pt x="476" y="46"/>
                </a:lnTo>
                <a:lnTo>
                  <a:pt x="479" y="50"/>
                </a:lnTo>
                <a:lnTo>
                  <a:pt x="505" y="73"/>
                </a:lnTo>
                <a:lnTo>
                  <a:pt x="461" y="74"/>
                </a:lnTo>
                <a:lnTo>
                  <a:pt x="465" y="78"/>
                </a:lnTo>
                <a:lnTo>
                  <a:pt x="489" y="90"/>
                </a:lnTo>
                <a:lnTo>
                  <a:pt x="468" y="94"/>
                </a:lnTo>
                <a:lnTo>
                  <a:pt x="491" y="103"/>
                </a:lnTo>
                <a:lnTo>
                  <a:pt x="458" y="115"/>
                </a:lnTo>
                <a:lnTo>
                  <a:pt x="482" y="126"/>
                </a:lnTo>
                <a:lnTo>
                  <a:pt x="468" y="137"/>
                </a:lnTo>
                <a:lnTo>
                  <a:pt x="482" y="139"/>
                </a:lnTo>
                <a:lnTo>
                  <a:pt x="461" y="166"/>
                </a:lnTo>
                <a:lnTo>
                  <a:pt x="464" y="164"/>
                </a:lnTo>
                <a:lnTo>
                  <a:pt x="479" y="158"/>
                </a:lnTo>
                <a:lnTo>
                  <a:pt x="479" y="158"/>
                </a:lnTo>
                <a:lnTo>
                  <a:pt x="476" y="167"/>
                </a:lnTo>
                <a:lnTo>
                  <a:pt x="474" y="178"/>
                </a:lnTo>
                <a:lnTo>
                  <a:pt x="473" y="190"/>
                </a:lnTo>
                <a:lnTo>
                  <a:pt x="473" y="198"/>
                </a:lnTo>
                <a:lnTo>
                  <a:pt x="474" y="204"/>
                </a:lnTo>
                <a:lnTo>
                  <a:pt x="471" y="216"/>
                </a:lnTo>
                <a:lnTo>
                  <a:pt x="471" y="229"/>
                </a:lnTo>
                <a:lnTo>
                  <a:pt x="471" y="229"/>
                </a:lnTo>
                <a:lnTo>
                  <a:pt x="466" y="240"/>
                </a:lnTo>
                <a:lnTo>
                  <a:pt x="460" y="252"/>
                </a:lnTo>
                <a:lnTo>
                  <a:pt x="469" y="304"/>
                </a:lnTo>
                <a:lnTo>
                  <a:pt x="471" y="353"/>
                </a:lnTo>
                <a:lnTo>
                  <a:pt x="471" y="353"/>
                </a:lnTo>
                <a:lnTo>
                  <a:pt x="473" y="359"/>
                </a:lnTo>
                <a:lnTo>
                  <a:pt x="474" y="365"/>
                </a:lnTo>
                <a:lnTo>
                  <a:pt x="477" y="374"/>
                </a:lnTo>
                <a:lnTo>
                  <a:pt x="481" y="383"/>
                </a:lnTo>
                <a:lnTo>
                  <a:pt x="487" y="391"/>
                </a:lnTo>
                <a:lnTo>
                  <a:pt x="495" y="399"/>
                </a:lnTo>
                <a:lnTo>
                  <a:pt x="505" y="406"/>
                </a:lnTo>
                <a:lnTo>
                  <a:pt x="519" y="416"/>
                </a:lnTo>
                <a:lnTo>
                  <a:pt x="521" y="428"/>
                </a:lnTo>
                <a:lnTo>
                  <a:pt x="519" y="439"/>
                </a:lnTo>
                <a:lnTo>
                  <a:pt x="510" y="441"/>
                </a:lnTo>
                <a:lnTo>
                  <a:pt x="438" y="505"/>
                </a:lnTo>
                <a:lnTo>
                  <a:pt x="415" y="507"/>
                </a:lnTo>
                <a:lnTo>
                  <a:pt x="388" y="523"/>
                </a:lnTo>
                <a:lnTo>
                  <a:pt x="355" y="527"/>
                </a:lnTo>
                <a:lnTo>
                  <a:pt x="355" y="527"/>
                </a:lnTo>
                <a:lnTo>
                  <a:pt x="343" y="529"/>
                </a:lnTo>
                <a:lnTo>
                  <a:pt x="332" y="532"/>
                </a:lnTo>
                <a:lnTo>
                  <a:pt x="310" y="538"/>
                </a:lnTo>
                <a:lnTo>
                  <a:pt x="289" y="547"/>
                </a:lnTo>
                <a:lnTo>
                  <a:pt x="270" y="556"/>
                </a:lnTo>
                <a:lnTo>
                  <a:pt x="256" y="565"/>
                </a:lnTo>
                <a:lnTo>
                  <a:pt x="245" y="574"/>
                </a:lnTo>
                <a:lnTo>
                  <a:pt x="235" y="581"/>
                </a:lnTo>
                <a:lnTo>
                  <a:pt x="232" y="619"/>
                </a:lnTo>
                <a:lnTo>
                  <a:pt x="205" y="690"/>
                </a:lnTo>
                <a:lnTo>
                  <a:pt x="195" y="731"/>
                </a:lnTo>
                <a:lnTo>
                  <a:pt x="187" y="793"/>
                </a:lnTo>
                <a:lnTo>
                  <a:pt x="183" y="809"/>
                </a:lnTo>
                <a:lnTo>
                  <a:pt x="183" y="809"/>
                </a:lnTo>
                <a:lnTo>
                  <a:pt x="178" y="837"/>
                </a:lnTo>
                <a:lnTo>
                  <a:pt x="174" y="867"/>
                </a:lnTo>
                <a:lnTo>
                  <a:pt x="169" y="921"/>
                </a:lnTo>
                <a:lnTo>
                  <a:pt x="168" y="962"/>
                </a:lnTo>
                <a:lnTo>
                  <a:pt x="168" y="978"/>
                </a:lnTo>
                <a:lnTo>
                  <a:pt x="155" y="1017"/>
                </a:lnTo>
                <a:lnTo>
                  <a:pt x="146" y="1063"/>
                </a:lnTo>
                <a:lnTo>
                  <a:pt x="137" y="1079"/>
                </a:lnTo>
                <a:lnTo>
                  <a:pt x="134" y="1141"/>
                </a:lnTo>
                <a:lnTo>
                  <a:pt x="136" y="1159"/>
                </a:lnTo>
                <a:lnTo>
                  <a:pt x="130" y="1173"/>
                </a:lnTo>
                <a:lnTo>
                  <a:pt x="113" y="1231"/>
                </a:lnTo>
                <a:lnTo>
                  <a:pt x="116" y="1249"/>
                </a:lnTo>
                <a:lnTo>
                  <a:pt x="121" y="1277"/>
                </a:lnTo>
                <a:lnTo>
                  <a:pt x="111" y="1297"/>
                </a:lnTo>
                <a:lnTo>
                  <a:pt x="113" y="1340"/>
                </a:lnTo>
                <a:lnTo>
                  <a:pt x="114" y="1456"/>
                </a:lnTo>
                <a:lnTo>
                  <a:pt x="114" y="1456"/>
                </a:lnTo>
                <a:lnTo>
                  <a:pt x="113" y="1466"/>
                </a:lnTo>
                <a:lnTo>
                  <a:pt x="113" y="1466"/>
                </a:lnTo>
                <a:lnTo>
                  <a:pt x="97" y="1477"/>
                </a:lnTo>
                <a:lnTo>
                  <a:pt x="102" y="1530"/>
                </a:lnTo>
                <a:lnTo>
                  <a:pt x="111" y="1539"/>
                </a:lnTo>
                <a:lnTo>
                  <a:pt x="111" y="1539"/>
                </a:lnTo>
                <a:lnTo>
                  <a:pt x="114" y="1536"/>
                </a:lnTo>
                <a:lnTo>
                  <a:pt x="114" y="1536"/>
                </a:lnTo>
                <a:lnTo>
                  <a:pt x="116" y="1579"/>
                </a:lnTo>
                <a:lnTo>
                  <a:pt x="119" y="1597"/>
                </a:lnTo>
                <a:lnTo>
                  <a:pt x="120" y="1597"/>
                </a:lnTo>
                <a:lnTo>
                  <a:pt x="114" y="1644"/>
                </a:lnTo>
                <a:lnTo>
                  <a:pt x="126" y="1679"/>
                </a:lnTo>
                <a:lnTo>
                  <a:pt x="146" y="1705"/>
                </a:lnTo>
                <a:lnTo>
                  <a:pt x="164" y="1718"/>
                </a:lnTo>
                <a:lnTo>
                  <a:pt x="177" y="1709"/>
                </a:lnTo>
                <a:lnTo>
                  <a:pt x="184" y="1709"/>
                </a:lnTo>
                <a:lnTo>
                  <a:pt x="184" y="1709"/>
                </a:lnTo>
                <a:lnTo>
                  <a:pt x="185" y="1722"/>
                </a:lnTo>
                <a:lnTo>
                  <a:pt x="183" y="1720"/>
                </a:lnTo>
                <a:lnTo>
                  <a:pt x="179" y="1727"/>
                </a:lnTo>
                <a:lnTo>
                  <a:pt x="179" y="1727"/>
                </a:lnTo>
                <a:lnTo>
                  <a:pt x="174" y="1727"/>
                </a:lnTo>
                <a:lnTo>
                  <a:pt x="174" y="1727"/>
                </a:lnTo>
                <a:lnTo>
                  <a:pt x="166" y="1734"/>
                </a:lnTo>
                <a:lnTo>
                  <a:pt x="159" y="1740"/>
                </a:lnTo>
                <a:lnTo>
                  <a:pt x="152" y="1747"/>
                </a:lnTo>
                <a:lnTo>
                  <a:pt x="146" y="1755"/>
                </a:lnTo>
                <a:lnTo>
                  <a:pt x="137" y="176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1" y="1782"/>
                </a:lnTo>
                <a:lnTo>
                  <a:pt x="131" y="1782"/>
                </a:lnTo>
                <a:lnTo>
                  <a:pt x="33" y="2244"/>
                </a:lnTo>
                <a:lnTo>
                  <a:pt x="30" y="2255"/>
                </a:lnTo>
                <a:lnTo>
                  <a:pt x="30" y="2255"/>
                </a:lnTo>
                <a:lnTo>
                  <a:pt x="44" y="2243"/>
                </a:lnTo>
                <a:lnTo>
                  <a:pt x="56" y="2233"/>
                </a:lnTo>
                <a:lnTo>
                  <a:pt x="68" y="2227"/>
                </a:lnTo>
                <a:lnTo>
                  <a:pt x="79" y="2223"/>
                </a:lnTo>
                <a:lnTo>
                  <a:pt x="89" y="2222"/>
                </a:lnTo>
                <a:lnTo>
                  <a:pt x="95" y="2220"/>
                </a:lnTo>
                <a:lnTo>
                  <a:pt x="102" y="2220"/>
                </a:lnTo>
                <a:lnTo>
                  <a:pt x="102" y="2220"/>
                </a:lnTo>
                <a:lnTo>
                  <a:pt x="108" y="2220"/>
                </a:lnTo>
                <a:lnTo>
                  <a:pt x="115" y="2222"/>
                </a:lnTo>
                <a:lnTo>
                  <a:pt x="122" y="2224"/>
                </a:lnTo>
                <a:lnTo>
                  <a:pt x="131" y="2228"/>
                </a:lnTo>
                <a:lnTo>
                  <a:pt x="148" y="2238"/>
                </a:lnTo>
                <a:lnTo>
                  <a:pt x="164" y="2249"/>
                </a:lnTo>
                <a:lnTo>
                  <a:pt x="159" y="2260"/>
                </a:lnTo>
                <a:lnTo>
                  <a:pt x="158" y="2307"/>
                </a:lnTo>
                <a:lnTo>
                  <a:pt x="131" y="2376"/>
                </a:lnTo>
                <a:lnTo>
                  <a:pt x="97" y="2580"/>
                </a:lnTo>
                <a:lnTo>
                  <a:pt x="77" y="2662"/>
                </a:lnTo>
                <a:lnTo>
                  <a:pt x="51" y="2826"/>
                </a:lnTo>
                <a:lnTo>
                  <a:pt x="37" y="2850"/>
                </a:lnTo>
                <a:lnTo>
                  <a:pt x="35" y="2896"/>
                </a:lnTo>
                <a:lnTo>
                  <a:pt x="34" y="2913"/>
                </a:lnTo>
                <a:lnTo>
                  <a:pt x="28" y="2938"/>
                </a:lnTo>
                <a:lnTo>
                  <a:pt x="28" y="3062"/>
                </a:lnTo>
                <a:lnTo>
                  <a:pt x="35" y="3081"/>
                </a:lnTo>
                <a:lnTo>
                  <a:pt x="35" y="3081"/>
                </a:lnTo>
                <a:lnTo>
                  <a:pt x="21" y="3108"/>
                </a:lnTo>
                <a:lnTo>
                  <a:pt x="10" y="3133"/>
                </a:lnTo>
                <a:lnTo>
                  <a:pt x="2" y="3156"/>
                </a:lnTo>
                <a:lnTo>
                  <a:pt x="2" y="3156"/>
                </a:lnTo>
                <a:lnTo>
                  <a:pt x="0" y="3173"/>
                </a:lnTo>
                <a:lnTo>
                  <a:pt x="0" y="3191"/>
                </a:lnTo>
                <a:lnTo>
                  <a:pt x="3" y="3208"/>
                </a:lnTo>
                <a:lnTo>
                  <a:pt x="5" y="3223"/>
                </a:lnTo>
                <a:lnTo>
                  <a:pt x="13" y="3245"/>
                </a:lnTo>
                <a:lnTo>
                  <a:pt x="15" y="3253"/>
                </a:lnTo>
                <a:lnTo>
                  <a:pt x="15" y="3253"/>
                </a:lnTo>
                <a:lnTo>
                  <a:pt x="23" y="3262"/>
                </a:lnTo>
                <a:lnTo>
                  <a:pt x="29" y="3269"/>
                </a:lnTo>
                <a:lnTo>
                  <a:pt x="36" y="3276"/>
                </a:lnTo>
                <a:lnTo>
                  <a:pt x="45" y="3281"/>
                </a:lnTo>
                <a:lnTo>
                  <a:pt x="52" y="3284"/>
                </a:lnTo>
                <a:lnTo>
                  <a:pt x="60" y="3287"/>
                </a:lnTo>
                <a:lnTo>
                  <a:pt x="74" y="3289"/>
                </a:lnTo>
                <a:lnTo>
                  <a:pt x="88" y="3289"/>
                </a:lnTo>
                <a:lnTo>
                  <a:pt x="99" y="3288"/>
                </a:lnTo>
                <a:lnTo>
                  <a:pt x="109" y="3287"/>
                </a:lnTo>
                <a:lnTo>
                  <a:pt x="109" y="3287"/>
                </a:lnTo>
                <a:lnTo>
                  <a:pt x="125" y="3283"/>
                </a:lnTo>
                <a:lnTo>
                  <a:pt x="140" y="3278"/>
                </a:lnTo>
                <a:lnTo>
                  <a:pt x="152" y="3272"/>
                </a:lnTo>
                <a:lnTo>
                  <a:pt x="163" y="3266"/>
                </a:lnTo>
                <a:lnTo>
                  <a:pt x="173" y="3260"/>
                </a:lnTo>
                <a:lnTo>
                  <a:pt x="182" y="3252"/>
                </a:lnTo>
                <a:lnTo>
                  <a:pt x="189" y="3246"/>
                </a:lnTo>
                <a:lnTo>
                  <a:pt x="196" y="3239"/>
                </a:lnTo>
                <a:lnTo>
                  <a:pt x="205" y="3226"/>
                </a:lnTo>
                <a:lnTo>
                  <a:pt x="211" y="3215"/>
                </a:lnTo>
                <a:lnTo>
                  <a:pt x="215" y="3205"/>
                </a:lnTo>
                <a:lnTo>
                  <a:pt x="216" y="3154"/>
                </a:lnTo>
                <a:lnTo>
                  <a:pt x="216" y="3154"/>
                </a:lnTo>
                <a:lnTo>
                  <a:pt x="216" y="3155"/>
                </a:lnTo>
                <a:lnTo>
                  <a:pt x="240" y="3145"/>
                </a:lnTo>
                <a:lnTo>
                  <a:pt x="256" y="3093"/>
                </a:lnTo>
                <a:lnTo>
                  <a:pt x="254" y="3041"/>
                </a:lnTo>
                <a:lnTo>
                  <a:pt x="254" y="3041"/>
                </a:lnTo>
                <a:lnTo>
                  <a:pt x="262" y="3036"/>
                </a:lnTo>
                <a:lnTo>
                  <a:pt x="269" y="3032"/>
                </a:lnTo>
                <a:lnTo>
                  <a:pt x="275" y="3027"/>
                </a:lnTo>
                <a:lnTo>
                  <a:pt x="279" y="3020"/>
                </a:lnTo>
                <a:lnTo>
                  <a:pt x="283" y="3014"/>
                </a:lnTo>
                <a:lnTo>
                  <a:pt x="285" y="3008"/>
                </a:lnTo>
                <a:lnTo>
                  <a:pt x="289" y="2996"/>
                </a:lnTo>
                <a:lnTo>
                  <a:pt x="289" y="2985"/>
                </a:lnTo>
                <a:lnTo>
                  <a:pt x="289" y="2975"/>
                </a:lnTo>
                <a:lnTo>
                  <a:pt x="286" y="2967"/>
                </a:lnTo>
                <a:lnTo>
                  <a:pt x="286" y="2967"/>
                </a:lnTo>
                <a:lnTo>
                  <a:pt x="306" y="2923"/>
                </a:lnTo>
                <a:lnTo>
                  <a:pt x="335" y="2855"/>
                </a:lnTo>
                <a:lnTo>
                  <a:pt x="373" y="2764"/>
                </a:lnTo>
                <a:lnTo>
                  <a:pt x="434" y="2578"/>
                </a:lnTo>
                <a:lnTo>
                  <a:pt x="469" y="2347"/>
                </a:lnTo>
                <a:lnTo>
                  <a:pt x="528" y="2040"/>
                </a:lnTo>
                <a:lnTo>
                  <a:pt x="528" y="2040"/>
                </a:lnTo>
                <a:lnTo>
                  <a:pt x="542" y="1992"/>
                </a:lnTo>
                <a:lnTo>
                  <a:pt x="556" y="1947"/>
                </a:lnTo>
                <a:lnTo>
                  <a:pt x="574" y="1902"/>
                </a:lnTo>
                <a:lnTo>
                  <a:pt x="590" y="1862"/>
                </a:lnTo>
                <a:lnTo>
                  <a:pt x="616" y="1800"/>
                </a:lnTo>
                <a:lnTo>
                  <a:pt x="627" y="1777"/>
                </a:lnTo>
                <a:lnTo>
                  <a:pt x="646" y="1795"/>
                </a:lnTo>
                <a:lnTo>
                  <a:pt x="651" y="1820"/>
                </a:lnTo>
                <a:lnTo>
                  <a:pt x="697" y="1915"/>
                </a:lnTo>
                <a:lnTo>
                  <a:pt x="714" y="2033"/>
                </a:lnTo>
                <a:lnTo>
                  <a:pt x="720" y="2055"/>
                </a:lnTo>
                <a:lnTo>
                  <a:pt x="725" y="2087"/>
                </a:lnTo>
                <a:lnTo>
                  <a:pt x="725" y="2087"/>
                </a:lnTo>
                <a:lnTo>
                  <a:pt x="725" y="2110"/>
                </a:lnTo>
                <a:lnTo>
                  <a:pt x="726" y="2138"/>
                </a:lnTo>
                <a:lnTo>
                  <a:pt x="729" y="2169"/>
                </a:lnTo>
                <a:lnTo>
                  <a:pt x="733" y="2201"/>
                </a:lnTo>
                <a:lnTo>
                  <a:pt x="739" y="2253"/>
                </a:lnTo>
                <a:lnTo>
                  <a:pt x="742" y="2275"/>
                </a:lnTo>
                <a:lnTo>
                  <a:pt x="765" y="2409"/>
                </a:lnTo>
                <a:lnTo>
                  <a:pt x="765" y="2409"/>
                </a:lnTo>
                <a:lnTo>
                  <a:pt x="812" y="2637"/>
                </a:lnTo>
                <a:lnTo>
                  <a:pt x="798" y="2869"/>
                </a:lnTo>
                <a:lnTo>
                  <a:pt x="814" y="2930"/>
                </a:lnTo>
                <a:lnTo>
                  <a:pt x="812" y="2987"/>
                </a:lnTo>
                <a:lnTo>
                  <a:pt x="775" y="3016"/>
                </a:lnTo>
                <a:lnTo>
                  <a:pt x="772" y="3059"/>
                </a:lnTo>
                <a:lnTo>
                  <a:pt x="772" y="3059"/>
                </a:lnTo>
                <a:lnTo>
                  <a:pt x="773" y="3081"/>
                </a:lnTo>
                <a:lnTo>
                  <a:pt x="777" y="3098"/>
                </a:lnTo>
                <a:lnTo>
                  <a:pt x="782" y="3112"/>
                </a:lnTo>
                <a:lnTo>
                  <a:pt x="788" y="3120"/>
                </a:lnTo>
                <a:lnTo>
                  <a:pt x="794" y="3128"/>
                </a:lnTo>
                <a:lnTo>
                  <a:pt x="800" y="3131"/>
                </a:lnTo>
                <a:lnTo>
                  <a:pt x="805" y="3134"/>
                </a:lnTo>
                <a:lnTo>
                  <a:pt x="810" y="3135"/>
                </a:lnTo>
                <a:lnTo>
                  <a:pt x="799" y="3208"/>
                </a:lnTo>
                <a:lnTo>
                  <a:pt x="799" y="3208"/>
                </a:lnTo>
                <a:lnTo>
                  <a:pt x="798" y="3212"/>
                </a:lnTo>
                <a:lnTo>
                  <a:pt x="795" y="3220"/>
                </a:lnTo>
                <a:lnTo>
                  <a:pt x="795" y="3232"/>
                </a:lnTo>
                <a:lnTo>
                  <a:pt x="797" y="3241"/>
                </a:lnTo>
                <a:lnTo>
                  <a:pt x="798" y="3250"/>
                </a:lnTo>
                <a:lnTo>
                  <a:pt x="802" y="3260"/>
                </a:lnTo>
                <a:lnTo>
                  <a:pt x="805" y="3269"/>
                </a:lnTo>
                <a:lnTo>
                  <a:pt x="812" y="3279"/>
                </a:lnTo>
                <a:lnTo>
                  <a:pt x="820" y="3290"/>
                </a:lnTo>
                <a:lnTo>
                  <a:pt x="830" y="3300"/>
                </a:lnTo>
                <a:lnTo>
                  <a:pt x="842" y="3311"/>
                </a:lnTo>
                <a:lnTo>
                  <a:pt x="857" y="3322"/>
                </a:lnTo>
                <a:lnTo>
                  <a:pt x="876" y="3332"/>
                </a:lnTo>
                <a:lnTo>
                  <a:pt x="876" y="3332"/>
                </a:lnTo>
                <a:lnTo>
                  <a:pt x="878" y="3334"/>
                </a:lnTo>
                <a:lnTo>
                  <a:pt x="887" y="3334"/>
                </a:lnTo>
                <a:lnTo>
                  <a:pt x="902" y="3332"/>
                </a:lnTo>
                <a:lnTo>
                  <a:pt x="919" y="3329"/>
                </a:lnTo>
                <a:lnTo>
                  <a:pt x="929" y="3325"/>
                </a:lnTo>
                <a:lnTo>
                  <a:pt x="940" y="3321"/>
                </a:lnTo>
                <a:lnTo>
                  <a:pt x="951" y="3315"/>
                </a:lnTo>
                <a:lnTo>
                  <a:pt x="962" y="3309"/>
                </a:lnTo>
                <a:lnTo>
                  <a:pt x="974" y="3300"/>
                </a:lnTo>
                <a:lnTo>
                  <a:pt x="985" y="3289"/>
                </a:lnTo>
                <a:lnTo>
                  <a:pt x="998" y="3278"/>
                </a:lnTo>
                <a:lnTo>
                  <a:pt x="1009" y="3263"/>
                </a:lnTo>
                <a:lnTo>
                  <a:pt x="1011" y="3225"/>
                </a:lnTo>
                <a:lnTo>
                  <a:pt x="1009" y="3214"/>
                </a:lnTo>
                <a:lnTo>
                  <a:pt x="1009" y="3179"/>
                </a:lnTo>
                <a:lnTo>
                  <a:pt x="1006" y="3141"/>
                </a:lnTo>
                <a:lnTo>
                  <a:pt x="1019" y="3146"/>
                </a:lnTo>
                <a:lnTo>
                  <a:pt x="1019" y="3146"/>
                </a:lnTo>
                <a:lnTo>
                  <a:pt x="1024" y="3142"/>
                </a:lnTo>
                <a:lnTo>
                  <a:pt x="1028" y="3138"/>
                </a:lnTo>
                <a:lnTo>
                  <a:pt x="1033" y="3131"/>
                </a:lnTo>
                <a:lnTo>
                  <a:pt x="1037" y="3124"/>
                </a:lnTo>
                <a:lnTo>
                  <a:pt x="1043" y="3108"/>
                </a:lnTo>
                <a:lnTo>
                  <a:pt x="1048" y="3091"/>
                </a:lnTo>
                <a:lnTo>
                  <a:pt x="1052" y="3075"/>
                </a:lnTo>
                <a:lnTo>
                  <a:pt x="1054" y="3060"/>
                </a:lnTo>
                <a:lnTo>
                  <a:pt x="1057" y="3046"/>
                </a:lnTo>
                <a:lnTo>
                  <a:pt x="1058" y="3032"/>
                </a:lnTo>
                <a:lnTo>
                  <a:pt x="1058" y="3032"/>
                </a:lnTo>
                <a:lnTo>
                  <a:pt x="1057" y="3027"/>
                </a:lnTo>
                <a:lnTo>
                  <a:pt x="1054" y="3023"/>
                </a:lnTo>
                <a:lnTo>
                  <a:pt x="1048" y="3014"/>
                </a:lnTo>
                <a:lnTo>
                  <a:pt x="1041" y="3008"/>
                </a:lnTo>
                <a:lnTo>
                  <a:pt x="1033" y="3002"/>
                </a:lnTo>
                <a:lnTo>
                  <a:pt x="1019" y="2995"/>
                </a:lnTo>
                <a:lnTo>
                  <a:pt x="1012" y="2992"/>
                </a:lnTo>
                <a:lnTo>
                  <a:pt x="1021" y="2908"/>
                </a:lnTo>
                <a:lnTo>
                  <a:pt x="1036" y="2718"/>
                </a:lnTo>
                <a:lnTo>
                  <a:pt x="1036" y="2718"/>
                </a:lnTo>
                <a:lnTo>
                  <a:pt x="1036" y="2702"/>
                </a:lnTo>
                <a:lnTo>
                  <a:pt x="1035" y="2680"/>
                </a:lnTo>
                <a:lnTo>
                  <a:pt x="1031" y="2626"/>
                </a:lnTo>
                <a:lnTo>
                  <a:pt x="1026" y="2558"/>
                </a:lnTo>
                <a:lnTo>
                  <a:pt x="1026" y="2531"/>
                </a:lnTo>
                <a:lnTo>
                  <a:pt x="1015" y="2386"/>
                </a:lnTo>
                <a:lnTo>
                  <a:pt x="1005" y="2256"/>
                </a:lnTo>
                <a:lnTo>
                  <a:pt x="995" y="2169"/>
                </a:lnTo>
                <a:lnTo>
                  <a:pt x="993" y="2132"/>
                </a:lnTo>
                <a:lnTo>
                  <a:pt x="990" y="2097"/>
                </a:lnTo>
                <a:lnTo>
                  <a:pt x="988" y="2047"/>
                </a:lnTo>
                <a:lnTo>
                  <a:pt x="984" y="1932"/>
                </a:lnTo>
                <a:lnTo>
                  <a:pt x="984" y="1878"/>
                </a:lnTo>
                <a:lnTo>
                  <a:pt x="982" y="1720"/>
                </a:lnTo>
                <a:lnTo>
                  <a:pt x="974" y="1594"/>
                </a:lnTo>
                <a:lnTo>
                  <a:pt x="977" y="1560"/>
                </a:lnTo>
                <a:lnTo>
                  <a:pt x="977" y="1560"/>
                </a:lnTo>
                <a:lnTo>
                  <a:pt x="974" y="1543"/>
                </a:lnTo>
                <a:lnTo>
                  <a:pt x="971" y="1529"/>
                </a:lnTo>
                <a:lnTo>
                  <a:pt x="967" y="1519"/>
                </a:lnTo>
                <a:lnTo>
                  <a:pt x="963" y="1513"/>
                </a:lnTo>
                <a:lnTo>
                  <a:pt x="941" y="1386"/>
                </a:lnTo>
                <a:lnTo>
                  <a:pt x="909" y="1343"/>
                </a:lnTo>
                <a:lnTo>
                  <a:pt x="909" y="1326"/>
                </a:lnTo>
                <a:lnTo>
                  <a:pt x="915" y="1317"/>
                </a:lnTo>
                <a:lnTo>
                  <a:pt x="915" y="1298"/>
                </a:lnTo>
                <a:lnTo>
                  <a:pt x="922" y="1298"/>
                </a:lnTo>
                <a:lnTo>
                  <a:pt x="925" y="1290"/>
                </a:lnTo>
                <a:lnTo>
                  <a:pt x="920" y="1249"/>
                </a:lnTo>
                <a:lnTo>
                  <a:pt x="925" y="1247"/>
                </a:lnTo>
                <a:lnTo>
                  <a:pt x="1012" y="1229"/>
                </a:lnTo>
                <a:lnTo>
                  <a:pt x="1041" y="1222"/>
                </a:lnTo>
                <a:lnTo>
                  <a:pt x="1093" y="1217"/>
                </a:lnTo>
                <a:lnTo>
                  <a:pt x="1093" y="1217"/>
                </a:lnTo>
                <a:lnTo>
                  <a:pt x="1104" y="1212"/>
                </a:lnTo>
                <a:lnTo>
                  <a:pt x="1115" y="1207"/>
                </a:lnTo>
                <a:lnTo>
                  <a:pt x="1131" y="1197"/>
                </a:lnTo>
                <a:lnTo>
                  <a:pt x="1141" y="1190"/>
                </a:lnTo>
                <a:lnTo>
                  <a:pt x="1144" y="1186"/>
                </a:lnTo>
                <a:lnTo>
                  <a:pt x="1144" y="1186"/>
                </a:lnTo>
                <a:lnTo>
                  <a:pt x="1147" y="1181"/>
                </a:lnTo>
                <a:lnTo>
                  <a:pt x="1148" y="1176"/>
                </a:lnTo>
                <a:lnTo>
                  <a:pt x="1152" y="1163"/>
                </a:lnTo>
                <a:lnTo>
                  <a:pt x="1154" y="1148"/>
                </a:lnTo>
                <a:lnTo>
                  <a:pt x="1155" y="1133"/>
                </a:lnTo>
                <a:lnTo>
                  <a:pt x="1155" y="1107"/>
                </a:lnTo>
                <a:lnTo>
                  <a:pt x="1155" y="1096"/>
                </a:lnTo>
                <a:lnTo>
                  <a:pt x="1155" y="1096"/>
                </a:lnTo>
                <a:close/>
                <a:moveTo>
                  <a:pt x="286" y="1152"/>
                </a:moveTo>
                <a:lnTo>
                  <a:pt x="284" y="1127"/>
                </a:lnTo>
                <a:lnTo>
                  <a:pt x="295" y="1109"/>
                </a:lnTo>
                <a:lnTo>
                  <a:pt x="295" y="1068"/>
                </a:lnTo>
                <a:lnTo>
                  <a:pt x="300" y="1056"/>
                </a:lnTo>
                <a:lnTo>
                  <a:pt x="300" y="1056"/>
                </a:lnTo>
                <a:lnTo>
                  <a:pt x="301" y="1056"/>
                </a:lnTo>
                <a:lnTo>
                  <a:pt x="302" y="1057"/>
                </a:lnTo>
                <a:lnTo>
                  <a:pt x="304" y="1059"/>
                </a:lnTo>
                <a:lnTo>
                  <a:pt x="299" y="1107"/>
                </a:lnTo>
                <a:lnTo>
                  <a:pt x="295" y="1155"/>
                </a:lnTo>
                <a:lnTo>
                  <a:pt x="284" y="1189"/>
                </a:lnTo>
                <a:lnTo>
                  <a:pt x="286" y="1162"/>
                </a:lnTo>
                <a:lnTo>
                  <a:pt x="286" y="1152"/>
                </a:lnTo>
                <a:close/>
                <a:moveTo>
                  <a:pt x="190" y="1636"/>
                </a:moveTo>
                <a:lnTo>
                  <a:pt x="194" y="1631"/>
                </a:lnTo>
                <a:lnTo>
                  <a:pt x="203" y="1637"/>
                </a:lnTo>
                <a:lnTo>
                  <a:pt x="205" y="1657"/>
                </a:lnTo>
                <a:lnTo>
                  <a:pt x="205" y="1657"/>
                </a:lnTo>
                <a:lnTo>
                  <a:pt x="201" y="1655"/>
                </a:lnTo>
                <a:lnTo>
                  <a:pt x="196" y="1653"/>
                </a:lnTo>
                <a:lnTo>
                  <a:pt x="193" y="1655"/>
                </a:lnTo>
                <a:lnTo>
                  <a:pt x="189" y="1657"/>
                </a:lnTo>
                <a:lnTo>
                  <a:pt x="190" y="1636"/>
                </a:lnTo>
                <a:close/>
                <a:moveTo>
                  <a:pt x="210" y="2070"/>
                </a:moveTo>
                <a:lnTo>
                  <a:pt x="219" y="1995"/>
                </a:lnTo>
                <a:lnTo>
                  <a:pt x="224" y="2028"/>
                </a:lnTo>
                <a:lnTo>
                  <a:pt x="210" y="2070"/>
                </a:lnTo>
                <a:close/>
                <a:moveTo>
                  <a:pt x="301" y="1489"/>
                </a:moveTo>
                <a:lnTo>
                  <a:pt x="293" y="1531"/>
                </a:lnTo>
                <a:lnTo>
                  <a:pt x="288" y="1552"/>
                </a:lnTo>
                <a:lnTo>
                  <a:pt x="268" y="1584"/>
                </a:lnTo>
                <a:lnTo>
                  <a:pt x="269" y="1649"/>
                </a:lnTo>
                <a:lnTo>
                  <a:pt x="254" y="1725"/>
                </a:lnTo>
                <a:lnTo>
                  <a:pt x="249" y="1794"/>
                </a:lnTo>
                <a:lnTo>
                  <a:pt x="231" y="1906"/>
                </a:lnTo>
                <a:lnTo>
                  <a:pt x="245" y="1796"/>
                </a:lnTo>
                <a:lnTo>
                  <a:pt x="240" y="1766"/>
                </a:lnTo>
                <a:lnTo>
                  <a:pt x="240" y="1766"/>
                </a:lnTo>
                <a:lnTo>
                  <a:pt x="237" y="1759"/>
                </a:lnTo>
                <a:lnTo>
                  <a:pt x="235" y="1755"/>
                </a:lnTo>
                <a:lnTo>
                  <a:pt x="227" y="1746"/>
                </a:lnTo>
                <a:lnTo>
                  <a:pt x="228" y="1742"/>
                </a:lnTo>
                <a:lnTo>
                  <a:pt x="224" y="1741"/>
                </a:lnTo>
                <a:lnTo>
                  <a:pt x="224" y="1690"/>
                </a:lnTo>
                <a:lnTo>
                  <a:pt x="228" y="1688"/>
                </a:lnTo>
                <a:lnTo>
                  <a:pt x="228" y="1688"/>
                </a:lnTo>
                <a:lnTo>
                  <a:pt x="233" y="1687"/>
                </a:lnTo>
                <a:lnTo>
                  <a:pt x="237" y="1685"/>
                </a:lnTo>
                <a:lnTo>
                  <a:pt x="242" y="1681"/>
                </a:lnTo>
                <a:lnTo>
                  <a:pt x="245" y="1677"/>
                </a:lnTo>
                <a:lnTo>
                  <a:pt x="246" y="1674"/>
                </a:lnTo>
                <a:lnTo>
                  <a:pt x="246" y="1639"/>
                </a:lnTo>
                <a:lnTo>
                  <a:pt x="251" y="1603"/>
                </a:lnTo>
                <a:lnTo>
                  <a:pt x="251" y="1577"/>
                </a:lnTo>
                <a:lnTo>
                  <a:pt x="251" y="1577"/>
                </a:lnTo>
                <a:lnTo>
                  <a:pt x="259" y="1579"/>
                </a:lnTo>
                <a:lnTo>
                  <a:pt x="263" y="1575"/>
                </a:lnTo>
                <a:lnTo>
                  <a:pt x="268" y="1510"/>
                </a:lnTo>
                <a:lnTo>
                  <a:pt x="268" y="1510"/>
                </a:lnTo>
                <a:lnTo>
                  <a:pt x="270" y="1512"/>
                </a:lnTo>
                <a:lnTo>
                  <a:pt x="277" y="1448"/>
                </a:lnTo>
                <a:lnTo>
                  <a:pt x="274" y="1444"/>
                </a:lnTo>
                <a:lnTo>
                  <a:pt x="277" y="1441"/>
                </a:lnTo>
                <a:lnTo>
                  <a:pt x="291" y="1476"/>
                </a:lnTo>
                <a:lnTo>
                  <a:pt x="307" y="1477"/>
                </a:lnTo>
                <a:lnTo>
                  <a:pt x="307" y="1477"/>
                </a:lnTo>
                <a:lnTo>
                  <a:pt x="301" y="1489"/>
                </a:lnTo>
                <a:close/>
                <a:moveTo>
                  <a:pt x="952" y="1067"/>
                </a:moveTo>
                <a:lnTo>
                  <a:pt x="946" y="1068"/>
                </a:lnTo>
                <a:lnTo>
                  <a:pt x="932" y="1063"/>
                </a:lnTo>
                <a:lnTo>
                  <a:pt x="902" y="1059"/>
                </a:lnTo>
                <a:lnTo>
                  <a:pt x="894" y="1063"/>
                </a:lnTo>
                <a:lnTo>
                  <a:pt x="893" y="1032"/>
                </a:lnTo>
                <a:lnTo>
                  <a:pt x="883" y="1010"/>
                </a:lnTo>
                <a:lnTo>
                  <a:pt x="884" y="980"/>
                </a:lnTo>
                <a:lnTo>
                  <a:pt x="889" y="961"/>
                </a:lnTo>
                <a:lnTo>
                  <a:pt x="894" y="918"/>
                </a:lnTo>
                <a:lnTo>
                  <a:pt x="908" y="961"/>
                </a:lnTo>
                <a:lnTo>
                  <a:pt x="940" y="1025"/>
                </a:lnTo>
                <a:lnTo>
                  <a:pt x="953" y="1049"/>
                </a:lnTo>
                <a:lnTo>
                  <a:pt x="952" y="1067"/>
                </a:ln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475e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Freeform 11"/>
          <p:cNvSpPr/>
          <p:nvPr/>
        </p:nvSpPr>
        <p:spPr>
          <a:xfrm>
            <a:off x="5651640" y="3475080"/>
            <a:ext cx="442800" cy="1244520"/>
          </a:xfrm>
          <a:custGeom>
            <a:avLst/>
            <a:gdLst/>
            <a:ahLst/>
            <a:rect l="l" t="t" r="r" b="b"/>
            <a:pathLst>
              <a:path w="1155" h="3334">
                <a:moveTo>
                  <a:pt x="1155" y="1096"/>
                </a:moveTo>
                <a:lnTo>
                  <a:pt x="1149" y="1074"/>
                </a:lnTo>
                <a:lnTo>
                  <a:pt x="1148" y="1054"/>
                </a:lnTo>
                <a:lnTo>
                  <a:pt x="1148" y="1054"/>
                </a:lnTo>
                <a:lnTo>
                  <a:pt x="1143" y="1037"/>
                </a:lnTo>
                <a:lnTo>
                  <a:pt x="1138" y="1022"/>
                </a:lnTo>
                <a:lnTo>
                  <a:pt x="1133" y="1009"/>
                </a:lnTo>
                <a:lnTo>
                  <a:pt x="1128" y="998"/>
                </a:lnTo>
                <a:lnTo>
                  <a:pt x="1120" y="982"/>
                </a:lnTo>
                <a:lnTo>
                  <a:pt x="1117" y="977"/>
                </a:lnTo>
                <a:lnTo>
                  <a:pt x="1095" y="931"/>
                </a:lnTo>
                <a:lnTo>
                  <a:pt x="1085" y="892"/>
                </a:lnTo>
                <a:lnTo>
                  <a:pt x="1056" y="857"/>
                </a:lnTo>
                <a:lnTo>
                  <a:pt x="1038" y="809"/>
                </a:lnTo>
                <a:lnTo>
                  <a:pt x="1036" y="783"/>
                </a:lnTo>
                <a:lnTo>
                  <a:pt x="1036" y="783"/>
                </a:lnTo>
                <a:lnTo>
                  <a:pt x="1019" y="749"/>
                </a:lnTo>
                <a:lnTo>
                  <a:pt x="991" y="699"/>
                </a:lnTo>
                <a:lnTo>
                  <a:pt x="957" y="637"/>
                </a:lnTo>
                <a:lnTo>
                  <a:pt x="942" y="620"/>
                </a:lnTo>
                <a:lnTo>
                  <a:pt x="938" y="618"/>
                </a:lnTo>
                <a:lnTo>
                  <a:pt x="918" y="598"/>
                </a:lnTo>
                <a:lnTo>
                  <a:pt x="894" y="581"/>
                </a:lnTo>
                <a:lnTo>
                  <a:pt x="876" y="566"/>
                </a:lnTo>
                <a:lnTo>
                  <a:pt x="863" y="563"/>
                </a:lnTo>
                <a:lnTo>
                  <a:pt x="824" y="544"/>
                </a:lnTo>
                <a:lnTo>
                  <a:pt x="808" y="523"/>
                </a:lnTo>
                <a:lnTo>
                  <a:pt x="787" y="522"/>
                </a:lnTo>
                <a:lnTo>
                  <a:pt x="786" y="522"/>
                </a:lnTo>
                <a:lnTo>
                  <a:pt x="778" y="519"/>
                </a:lnTo>
                <a:lnTo>
                  <a:pt x="745" y="473"/>
                </a:lnTo>
                <a:lnTo>
                  <a:pt x="731" y="471"/>
                </a:lnTo>
                <a:lnTo>
                  <a:pt x="734" y="452"/>
                </a:lnTo>
                <a:lnTo>
                  <a:pt x="735" y="453"/>
                </a:lnTo>
                <a:lnTo>
                  <a:pt x="742" y="439"/>
                </a:lnTo>
                <a:lnTo>
                  <a:pt x="750" y="463"/>
                </a:lnTo>
                <a:lnTo>
                  <a:pt x="755" y="463"/>
                </a:lnTo>
                <a:lnTo>
                  <a:pt x="779" y="411"/>
                </a:lnTo>
                <a:lnTo>
                  <a:pt x="807" y="326"/>
                </a:lnTo>
                <a:lnTo>
                  <a:pt x="807" y="326"/>
                </a:lnTo>
                <a:lnTo>
                  <a:pt x="814" y="305"/>
                </a:lnTo>
                <a:lnTo>
                  <a:pt x="821" y="279"/>
                </a:lnTo>
                <a:lnTo>
                  <a:pt x="829" y="249"/>
                </a:lnTo>
                <a:lnTo>
                  <a:pt x="829" y="249"/>
                </a:lnTo>
                <a:lnTo>
                  <a:pt x="828" y="236"/>
                </a:lnTo>
                <a:lnTo>
                  <a:pt x="825" y="222"/>
                </a:lnTo>
                <a:lnTo>
                  <a:pt x="821" y="210"/>
                </a:lnTo>
                <a:lnTo>
                  <a:pt x="818" y="199"/>
                </a:lnTo>
                <a:lnTo>
                  <a:pt x="809" y="184"/>
                </a:lnTo>
                <a:lnTo>
                  <a:pt x="805" y="178"/>
                </a:lnTo>
                <a:lnTo>
                  <a:pt x="805" y="178"/>
                </a:lnTo>
                <a:lnTo>
                  <a:pt x="794" y="163"/>
                </a:lnTo>
                <a:lnTo>
                  <a:pt x="783" y="148"/>
                </a:lnTo>
                <a:lnTo>
                  <a:pt x="773" y="132"/>
                </a:lnTo>
                <a:lnTo>
                  <a:pt x="760" y="89"/>
                </a:lnTo>
                <a:lnTo>
                  <a:pt x="754" y="87"/>
                </a:lnTo>
                <a:lnTo>
                  <a:pt x="730" y="57"/>
                </a:lnTo>
                <a:lnTo>
                  <a:pt x="696" y="51"/>
                </a:lnTo>
                <a:lnTo>
                  <a:pt x="635" y="10"/>
                </a:lnTo>
                <a:lnTo>
                  <a:pt x="629" y="10"/>
                </a:lnTo>
                <a:lnTo>
                  <a:pt x="634" y="25"/>
                </a:lnTo>
                <a:lnTo>
                  <a:pt x="588" y="0"/>
                </a:lnTo>
                <a:lnTo>
                  <a:pt x="598" y="25"/>
                </a:lnTo>
                <a:lnTo>
                  <a:pt x="575" y="7"/>
                </a:lnTo>
                <a:lnTo>
                  <a:pt x="579" y="29"/>
                </a:lnTo>
                <a:lnTo>
                  <a:pt x="574" y="26"/>
                </a:lnTo>
                <a:lnTo>
                  <a:pt x="534" y="14"/>
                </a:lnTo>
                <a:lnTo>
                  <a:pt x="556" y="39"/>
                </a:lnTo>
                <a:lnTo>
                  <a:pt x="554" y="41"/>
                </a:lnTo>
                <a:lnTo>
                  <a:pt x="519" y="19"/>
                </a:lnTo>
                <a:lnTo>
                  <a:pt x="532" y="47"/>
                </a:lnTo>
                <a:lnTo>
                  <a:pt x="529" y="49"/>
                </a:lnTo>
                <a:lnTo>
                  <a:pt x="508" y="19"/>
                </a:lnTo>
                <a:lnTo>
                  <a:pt x="508" y="24"/>
                </a:lnTo>
                <a:lnTo>
                  <a:pt x="507" y="56"/>
                </a:lnTo>
                <a:lnTo>
                  <a:pt x="476" y="46"/>
                </a:lnTo>
                <a:lnTo>
                  <a:pt x="479" y="50"/>
                </a:lnTo>
                <a:lnTo>
                  <a:pt x="505" y="73"/>
                </a:lnTo>
                <a:lnTo>
                  <a:pt x="461" y="74"/>
                </a:lnTo>
                <a:lnTo>
                  <a:pt x="465" y="78"/>
                </a:lnTo>
                <a:lnTo>
                  <a:pt x="489" y="90"/>
                </a:lnTo>
                <a:lnTo>
                  <a:pt x="468" y="94"/>
                </a:lnTo>
                <a:lnTo>
                  <a:pt x="491" y="103"/>
                </a:lnTo>
                <a:lnTo>
                  <a:pt x="458" y="115"/>
                </a:lnTo>
                <a:lnTo>
                  <a:pt x="482" y="126"/>
                </a:lnTo>
                <a:lnTo>
                  <a:pt x="468" y="137"/>
                </a:lnTo>
                <a:lnTo>
                  <a:pt x="482" y="139"/>
                </a:lnTo>
                <a:lnTo>
                  <a:pt x="461" y="166"/>
                </a:lnTo>
                <a:lnTo>
                  <a:pt x="464" y="164"/>
                </a:lnTo>
                <a:lnTo>
                  <a:pt x="479" y="158"/>
                </a:lnTo>
                <a:lnTo>
                  <a:pt x="479" y="158"/>
                </a:lnTo>
                <a:lnTo>
                  <a:pt x="476" y="167"/>
                </a:lnTo>
                <a:lnTo>
                  <a:pt x="474" y="178"/>
                </a:lnTo>
                <a:lnTo>
                  <a:pt x="473" y="190"/>
                </a:lnTo>
                <a:lnTo>
                  <a:pt x="473" y="198"/>
                </a:lnTo>
                <a:lnTo>
                  <a:pt x="474" y="204"/>
                </a:lnTo>
                <a:lnTo>
                  <a:pt x="471" y="216"/>
                </a:lnTo>
                <a:lnTo>
                  <a:pt x="471" y="229"/>
                </a:lnTo>
                <a:lnTo>
                  <a:pt x="471" y="229"/>
                </a:lnTo>
                <a:lnTo>
                  <a:pt x="466" y="240"/>
                </a:lnTo>
                <a:lnTo>
                  <a:pt x="460" y="252"/>
                </a:lnTo>
                <a:lnTo>
                  <a:pt x="469" y="304"/>
                </a:lnTo>
                <a:lnTo>
                  <a:pt x="471" y="353"/>
                </a:lnTo>
                <a:lnTo>
                  <a:pt x="471" y="353"/>
                </a:lnTo>
                <a:lnTo>
                  <a:pt x="473" y="359"/>
                </a:lnTo>
                <a:lnTo>
                  <a:pt x="474" y="365"/>
                </a:lnTo>
                <a:lnTo>
                  <a:pt x="477" y="374"/>
                </a:lnTo>
                <a:lnTo>
                  <a:pt x="481" y="383"/>
                </a:lnTo>
                <a:lnTo>
                  <a:pt x="487" y="391"/>
                </a:lnTo>
                <a:lnTo>
                  <a:pt x="495" y="399"/>
                </a:lnTo>
                <a:lnTo>
                  <a:pt x="505" y="406"/>
                </a:lnTo>
                <a:lnTo>
                  <a:pt x="519" y="416"/>
                </a:lnTo>
                <a:lnTo>
                  <a:pt x="521" y="428"/>
                </a:lnTo>
                <a:lnTo>
                  <a:pt x="519" y="439"/>
                </a:lnTo>
                <a:lnTo>
                  <a:pt x="510" y="441"/>
                </a:lnTo>
                <a:lnTo>
                  <a:pt x="438" y="505"/>
                </a:lnTo>
                <a:lnTo>
                  <a:pt x="415" y="507"/>
                </a:lnTo>
                <a:lnTo>
                  <a:pt x="388" y="523"/>
                </a:lnTo>
                <a:lnTo>
                  <a:pt x="355" y="527"/>
                </a:lnTo>
                <a:lnTo>
                  <a:pt x="355" y="527"/>
                </a:lnTo>
                <a:lnTo>
                  <a:pt x="343" y="529"/>
                </a:lnTo>
                <a:lnTo>
                  <a:pt x="332" y="532"/>
                </a:lnTo>
                <a:lnTo>
                  <a:pt x="310" y="538"/>
                </a:lnTo>
                <a:lnTo>
                  <a:pt x="289" y="547"/>
                </a:lnTo>
                <a:lnTo>
                  <a:pt x="270" y="556"/>
                </a:lnTo>
                <a:lnTo>
                  <a:pt x="256" y="565"/>
                </a:lnTo>
                <a:lnTo>
                  <a:pt x="245" y="574"/>
                </a:lnTo>
                <a:lnTo>
                  <a:pt x="235" y="581"/>
                </a:lnTo>
                <a:lnTo>
                  <a:pt x="232" y="619"/>
                </a:lnTo>
                <a:lnTo>
                  <a:pt x="205" y="690"/>
                </a:lnTo>
                <a:lnTo>
                  <a:pt x="195" y="731"/>
                </a:lnTo>
                <a:lnTo>
                  <a:pt x="187" y="793"/>
                </a:lnTo>
                <a:lnTo>
                  <a:pt x="183" y="809"/>
                </a:lnTo>
                <a:lnTo>
                  <a:pt x="183" y="809"/>
                </a:lnTo>
                <a:lnTo>
                  <a:pt x="178" y="837"/>
                </a:lnTo>
                <a:lnTo>
                  <a:pt x="174" y="867"/>
                </a:lnTo>
                <a:lnTo>
                  <a:pt x="169" y="921"/>
                </a:lnTo>
                <a:lnTo>
                  <a:pt x="168" y="962"/>
                </a:lnTo>
                <a:lnTo>
                  <a:pt x="168" y="978"/>
                </a:lnTo>
                <a:lnTo>
                  <a:pt x="155" y="1017"/>
                </a:lnTo>
                <a:lnTo>
                  <a:pt x="146" y="1063"/>
                </a:lnTo>
                <a:lnTo>
                  <a:pt x="137" y="1079"/>
                </a:lnTo>
                <a:lnTo>
                  <a:pt x="134" y="1141"/>
                </a:lnTo>
                <a:lnTo>
                  <a:pt x="136" y="1159"/>
                </a:lnTo>
                <a:lnTo>
                  <a:pt x="130" y="1173"/>
                </a:lnTo>
                <a:lnTo>
                  <a:pt x="113" y="1231"/>
                </a:lnTo>
                <a:lnTo>
                  <a:pt x="116" y="1249"/>
                </a:lnTo>
                <a:lnTo>
                  <a:pt x="121" y="1277"/>
                </a:lnTo>
                <a:lnTo>
                  <a:pt x="111" y="1297"/>
                </a:lnTo>
                <a:lnTo>
                  <a:pt x="113" y="1340"/>
                </a:lnTo>
                <a:lnTo>
                  <a:pt x="114" y="1456"/>
                </a:lnTo>
                <a:lnTo>
                  <a:pt x="114" y="1456"/>
                </a:lnTo>
                <a:lnTo>
                  <a:pt x="113" y="1466"/>
                </a:lnTo>
                <a:lnTo>
                  <a:pt x="113" y="1466"/>
                </a:lnTo>
                <a:lnTo>
                  <a:pt x="97" y="1477"/>
                </a:lnTo>
                <a:lnTo>
                  <a:pt x="102" y="1530"/>
                </a:lnTo>
                <a:lnTo>
                  <a:pt x="111" y="1539"/>
                </a:lnTo>
                <a:lnTo>
                  <a:pt x="111" y="1539"/>
                </a:lnTo>
                <a:lnTo>
                  <a:pt x="114" y="1536"/>
                </a:lnTo>
                <a:lnTo>
                  <a:pt x="114" y="1536"/>
                </a:lnTo>
                <a:lnTo>
                  <a:pt x="116" y="1579"/>
                </a:lnTo>
                <a:lnTo>
                  <a:pt x="119" y="1597"/>
                </a:lnTo>
                <a:lnTo>
                  <a:pt x="120" y="1597"/>
                </a:lnTo>
                <a:lnTo>
                  <a:pt x="114" y="1644"/>
                </a:lnTo>
                <a:lnTo>
                  <a:pt x="126" y="1679"/>
                </a:lnTo>
                <a:lnTo>
                  <a:pt x="146" y="1705"/>
                </a:lnTo>
                <a:lnTo>
                  <a:pt x="164" y="1718"/>
                </a:lnTo>
                <a:lnTo>
                  <a:pt x="177" y="1709"/>
                </a:lnTo>
                <a:lnTo>
                  <a:pt x="184" y="1709"/>
                </a:lnTo>
                <a:lnTo>
                  <a:pt x="184" y="1709"/>
                </a:lnTo>
                <a:lnTo>
                  <a:pt x="185" y="1722"/>
                </a:lnTo>
                <a:lnTo>
                  <a:pt x="183" y="1720"/>
                </a:lnTo>
                <a:lnTo>
                  <a:pt x="179" y="1727"/>
                </a:lnTo>
                <a:lnTo>
                  <a:pt x="179" y="1727"/>
                </a:lnTo>
                <a:lnTo>
                  <a:pt x="174" y="1727"/>
                </a:lnTo>
                <a:lnTo>
                  <a:pt x="174" y="1727"/>
                </a:lnTo>
                <a:lnTo>
                  <a:pt x="166" y="1734"/>
                </a:lnTo>
                <a:lnTo>
                  <a:pt x="159" y="1740"/>
                </a:lnTo>
                <a:lnTo>
                  <a:pt x="152" y="1747"/>
                </a:lnTo>
                <a:lnTo>
                  <a:pt x="146" y="1755"/>
                </a:lnTo>
                <a:lnTo>
                  <a:pt x="137" y="176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1" y="1782"/>
                </a:lnTo>
                <a:lnTo>
                  <a:pt x="131" y="1782"/>
                </a:lnTo>
                <a:lnTo>
                  <a:pt x="33" y="2244"/>
                </a:lnTo>
                <a:lnTo>
                  <a:pt x="30" y="2255"/>
                </a:lnTo>
                <a:lnTo>
                  <a:pt x="30" y="2255"/>
                </a:lnTo>
                <a:lnTo>
                  <a:pt x="44" y="2243"/>
                </a:lnTo>
                <a:lnTo>
                  <a:pt x="56" y="2233"/>
                </a:lnTo>
                <a:lnTo>
                  <a:pt x="68" y="2227"/>
                </a:lnTo>
                <a:lnTo>
                  <a:pt x="79" y="2223"/>
                </a:lnTo>
                <a:lnTo>
                  <a:pt x="89" y="2222"/>
                </a:lnTo>
                <a:lnTo>
                  <a:pt x="95" y="2220"/>
                </a:lnTo>
                <a:lnTo>
                  <a:pt x="102" y="2220"/>
                </a:lnTo>
                <a:lnTo>
                  <a:pt x="102" y="2220"/>
                </a:lnTo>
                <a:lnTo>
                  <a:pt x="108" y="2220"/>
                </a:lnTo>
                <a:lnTo>
                  <a:pt x="115" y="2222"/>
                </a:lnTo>
                <a:lnTo>
                  <a:pt x="122" y="2224"/>
                </a:lnTo>
                <a:lnTo>
                  <a:pt x="131" y="2228"/>
                </a:lnTo>
                <a:lnTo>
                  <a:pt x="148" y="2238"/>
                </a:lnTo>
                <a:lnTo>
                  <a:pt x="164" y="2249"/>
                </a:lnTo>
                <a:lnTo>
                  <a:pt x="159" y="2260"/>
                </a:lnTo>
                <a:lnTo>
                  <a:pt x="158" y="2307"/>
                </a:lnTo>
                <a:lnTo>
                  <a:pt x="131" y="2376"/>
                </a:lnTo>
                <a:lnTo>
                  <a:pt x="97" y="2580"/>
                </a:lnTo>
                <a:lnTo>
                  <a:pt x="77" y="2662"/>
                </a:lnTo>
                <a:lnTo>
                  <a:pt x="51" y="2826"/>
                </a:lnTo>
                <a:lnTo>
                  <a:pt x="37" y="2850"/>
                </a:lnTo>
                <a:lnTo>
                  <a:pt x="35" y="2896"/>
                </a:lnTo>
                <a:lnTo>
                  <a:pt x="34" y="2913"/>
                </a:lnTo>
                <a:lnTo>
                  <a:pt x="28" y="2938"/>
                </a:lnTo>
                <a:lnTo>
                  <a:pt x="28" y="3062"/>
                </a:lnTo>
                <a:lnTo>
                  <a:pt x="35" y="3081"/>
                </a:lnTo>
                <a:lnTo>
                  <a:pt x="35" y="3081"/>
                </a:lnTo>
                <a:lnTo>
                  <a:pt x="21" y="3108"/>
                </a:lnTo>
                <a:lnTo>
                  <a:pt x="10" y="3133"/>
                </a:lnTo>
                <a:lnTo>
                  <a:pt x="2" y="3156"/>
                </a:lnTo>
                <a:lnTo>
                  <a:pt x="2" y="3156"/>
                </a:lnTo>
                <a:lnTo>
                  <a:pt x="0" y="3173"/>
                </a:lnTo>
                <a:lnTo>
                  <a:pt x="0" y="3191"/>
                </a:lnTo>
                <a:lnTo>
                  <a:pt x="3" y="3208"/>
                </a:lnTo>
                <a:lnTo>
                  <a:pt x="5" y="3223"/>
                </a:lnTo>
                <a:lnTo>
                  <a:pt x="13" y="3245"/>
                </a:lnTo>
                <a:lnTo>
                  <a:pt x="15" y="3253"/>
                </a:lnTo>
                <a:lnTo>
                  <a:pt x="15" y="3253"/>
                </a:lnTo>
                <a:lnTo>
                  <a:pt x="23" y="3262"/>
                </a:lnTo>
                <a:lnTo>
                  <a:pt x="29" y="3269"/>
                </a:lnTo>
                <a:lnTo>
                  <a:pt x="36" y="3276"/>
                </a:lnTo>
                <a:lnTo>
                  <a:pt x="45" y="3281"/>
                </a:lnTo>
                <a:lnTo>
                  <a:pt x="52" y="3284"/>
                </a:lnTo>
                <a:lnTo>
                  <a:pt x="60" y="3287"/>
                </a:lnTo>
                <a:lnTo>
                  <a:pt x="74" y="3289"/>
                </a:lnTo>
                <a:lnTo>
                  <a:pt x="88" y="3289"/>
                </a:lnTo>
                <a:lnTo>
                  <a:pt x="99" y="3288"/>
                </a:lnTo>
                <a:lnTo>
                  <a:pt x="109" y="3287"/>
                </a:lnTo>
                <a:lnTo>
                  <a:pt x="109" y="3287"/>
                </a:lnTo>
                <a:lnTo>
                  <a:pt x="125" y="3283"/>
                </a:lnTo>
                <a:lnTo>
                  <a:pt x="140" y="3278"/>
                </a:lnTo>
                <a:lnTo>
                  <a:pt x="152" y="3272"/>
                </a:lnTo>
                <a:lnTo>
                  <a:pt x="163" y="3266"/>
                </a:lnTo>
                <a:lnTo>
                  <a:pt x="173" y="3260"/>
                </a:lnTo>
                <a:lnTo>
                  <a:pt x="182" y="3252"/>
                </a:lnTo>
                <a:lnTo>
                  <a:pt x="189" y="3246"/>
                </a:lnTo>
                <a:lnTo>
                  <a:pt x="196" y="3239"/>
                </a:lnTo>
                <a:lnTo>
                  <a:pt x="205" y="3226"/>
                </a:lnTo>
                <a:lnTo>
                  <a:pt x="211" y="3215"/>
                </a:lnTo>
                <a:lnTo>
                  <a:pt x="215" y="3205"/>
                </a:lnTo>
                <a:lnTo>
                  <a:pt x="216" y="3154"/>
                </a:lnTo>
                <a:lnTo>
                  <a:pt x="216" y="3154"/>
                </a:lnTo>
                <a:lnTo>
                  <a:pt x="216" y="3155"/>
                </a:lnTo>
                <a:lnTo>
                  <a:pt x="240" y="3145"/>
                </a:lnTo>
                <a:lnTo>
                  <a:pt x="256" y="3093"/>
                </a:lnTo>
                <a:lnTo>
                  <a:pt x="254" y="3041"/>
                </a:lnTo>
                <a:lnTo>
                  <a:pt x="254" y="3041"/>
                </a:lnTo>
                <a:lnTo>
                  <a:pt x="262" y="3036"/>
                </a:lnTo>
                <a:lnTo>
                  <a:pt x="269" y="3032"/>
                </a:lnTo>
                <a:lnTo>
                  <a:pt x="275" y="3027"/>
                </a:lnTo>
                <a:lnTo>
                  <a:pt x="279" y="3020"/>
                </a:lnTo>
                <a:lnTo>
                  <a:pt x="283" y="3014"/>
                </a:lnTo>
                <a:lnTo>
                  <a:pt x="285" y="3008"/>
                </a:lnTo>
                <a:lnTo>
                  <a:pt x="289" y="2996"/>
                </a:lnTo>
                <a:lnTo>
                  <a:pt x="289" y="2985"/>
                </a:lnTo>
                <a:lnTo>
                  <a:pt x="289" y="2975"/>
                </a:lnTo>
                <a:lnTo>
                  <a:pt x="286" y="2967"/>
                </a:lnTo>
                <a:lnTo>
                  <a:pt x="286" y="2967"/>
                </a:lnTo>
                <a:lnTo>
                  <a:pt x="306" y="2923"/>
                </a:lnTo>
                <a:lnTo>
                  <a:pt x="335" y="2855"/>
                </a:lnTo>
                <a:lnTo>
                  <a:pt x="373" y="2764"/>
                </a:lnTo>
                <a:lnTo>
                  <a:pt x="434" y="2578"/>
                </a:lnTo>
                <a:lnTo>
                  <a:pt x="469" y="2347"/>
                </a:lnTo>
                <a:lnTo>
                  <a:pt x="528" y="2040"/>
                </a:lnTo>
                <a:lnTo>
                  <a:pt x="528" y="2040"/>
                </a:lnTo>
                <a:lnTo>
                  <a:pt x="542" y="1992"/>
                </a:lnTo>
                <a:lnTo>
                  <a:pt x="556" y="1947"/>
                </a:lnTo>
                <a:lnTo>
                  <a:pt x="574" y="1902"/>
                </a:lnTo>
                <a:lnTo>
                  <a:pt x="590" y="1862"/>
                </a:lnTo>
                <a:lnTo>
                  <a:pt x="616" y="1800"/>
                </a:lnTo>
                <a:lnTo>
                  <a:pt x="627" y="1777"/>
                </a:lnTo>
                <a:lnTo>
                  <a:pt x="646" y="1795"/>
                </a:lnTo>
                <a:lnTo>
                  <a:pt x="651" y="1820"/>
                </a:lnTo>
                <a:lnTo>
                  <a:pt x="697" y="1915"/>
                </a:lnTo>
                <a:lnTo>
                  <a:pt x="714" y="2033"/>
                </a:lnTo>
                <a:lnTo>
                  <a:pt x="720" y="2055"/>
                </a:lnTo>
                <a:lnTo>
                  <a:pt x="725" y="2087"/>
                </a:lnTo>
                <a:lnTo>
                  <a:pt x="725" y="2087"/>
                </a:lnTo>
                <a:lnTo>
                  <a:pt x="725" y="2110"/>
                </a:lnTo>
                <a:lnTo>
                  <a:pt x="726" y="2138"/>
                </a:lnTo>
                <a:lnTo>
                  <a:pt x="729" y="2169"/>
                </a:lnTo>
                <a:lnTo>
                  <a:pt x="733" y="2201"/>
                </a:lnTo>
                <a:lnTo>
                  <a:pt x="739" y="2253"/>
                </a:lnTo>
                <a:lnTo>
                  <a:pt x="742" y="2275"/>
                </a:lnTo>
                <a:lnTo>
                  <a:pt x="765" y="2409"/>
                </a:lnTo>
                <a:lnTo>
                  <a:pt x="765" y="2409"/>
                </a:lnTo>
                <a:lnTo>
                  <a:pt x="812" y="2637"/>
                </a:lnTo>
                <a:lnTo>
                  <a:pt x="798" y="2869"/>
                </a:lnTo>
                <a:lnTo>
                  <a:pt x="814" y="2930"/>
                </a:lnTo>
                <a:lnTo>
                  <a:pt x="812" y="2987"/>
                </a:lnTo>
                <a:lnTo>
                  <a:pt x="775" y="3016"/>
                </a:lnTo>
                <a:lnTo>
                  <a:pt x="772" y="3059"/>
                </a:lnTo>
                <a:lnTo>
                  <a:pt x="772" y="3059"/>
                </a:lnTo>
                <a:lnTo>
                  <a:pt x="773" y="3081"/>
                </a:lnTo>
                <a:lnTo>
                  <a:pt x="777" y="3098"/>
                </a:lnTo>
                <a:lnTo>
                  <a:pt x="782" y="3112"/>
                </a:lnTo>
                <a:lnTo>
                  <a:pt x="788" y="3120"/>
                </a:lnTo>
                <a:lnTo>
                  <a:pt x="794" y="3128"/>
                </a:lnTo>
                <a:lnTo>
                  <a:pt x="800" y="3131"/>
                </a:lnTo>
                <a:lnTo>
                  <a:pt x="805" y="3134"/>
                </a:lnTo>
                <a:lnTo>
                  <a:pt x="810" y="3135"/>
                </a:lnTo>
                <a:lnTo>
                  <a:pt x="799" y="3208"/>
                </a:lnTo>
                <a:lnTo>
                  <a:pt x="799" y="3208"/>
                </a:lnTo>
                <a:lnTo>
                  <a:pt x="798" y="3212"/>
                </a:lnTo>
                <a:lnTo>
                  <a:pt x="795" y="3220"/>
                </a:lnTo>
                <a:lnTo>
                  <a:pt x="795" y="3232"/>
                </a:lnTo>
                <a:lnTo>
                  <a:pt x="797" y="3241"/>
                </a:lnTo>
                <a:lnTo>
                  <a:pt x="798" y="3250"/>
                </a:lnTo>
                <a:lnTo>
                  <a:pt x="802" y="3260"/>
                </a:lnTo>
                <a:lnTo>
                  <a:pt x="805" y="3269"/>
                </a:lnTo>
                <a:lnTo>
                  <a:pt x="812" y="3279"/>
                </a:lnTo>
                <a:lnTo>
                  <a:pt x="820" y="3290"/>
                </a:lnTo>
                <a:lnTo>
                  <a:pt x="830" y="3300"/>
                </a:lnTo>
                <a:lnTo>
                  <a:pt x="842" y="3311"/>
                </a:lnTo>
                <a:lnTo>
                  <a:pt x="857" y="3322"/>
                </a:lnTo>
                <a:lnTo>
                  <a:pt x="876" y="3332"/>
                </a:lnTo>
                <a:lnTo>
                  <a:pt x="876" y="3332"/>
                </a:lnTo>
                <a:lnTo>
                  <a:pt x="878" y="3334"/>
                </a:lnTo>
                <a:lnTo>
                  <a:pt x="887" y="3334"/>
                </a:lnTo>
                <a:lnTo>
                  <a:pt x="902" y="3332"/>
                </a:lnTo>
                <a:lnTo>
                  <a:pt x="919" y="3329"/>
                </a:lnTo>
                <a:lnTo>
                  <a:pt x="929" y="3325"/>
                </a:lnTo>
                <a:lnTo>
                  <a:pt x="940" y="3321"/>
                </a:lnTo>
                <a:lnTo>
                  <a:pt x="951" y="3315"/>
                </a:lnTo>
                <a:lnTo>
                  <a:pt x="962" y="3309"/>
                </a:lnTo>
                <a:lnTo>
                  <a:pt x="974" y="3300"/>
                </a:lnTo>
                <a:lnTo>
                  <a:pt x="985" y="3289"/>
                </a:lnTo>
                <a:lnTo>
                  <a:pt x="998" y="3278"/>
                </a:lnTo>
                <a:lnTo>
                  <a:pt x="1009" y="3263"/>
                </a:lnTo>
                <a:lnTo>
                  <a:pt x="1011" y="3225"/>
                </a:lnTo>
                <a:lnTo>
                  <a:pt x="1009" y="3214"/>
                </a:lnTo>
                <a:lnTo>
                  <a:pt x="1009" y="3179"/>
                </a:lnTo>
                <a:lnTo>
                  <a:pt x="1006" y="3141"/>
                </a:lnTo>
                <a:lnTo>
                  <a:pt x="1019" y="3146"/>
                </a:lnTo>
                <a:lnTo>
                  <a:pt x="1019" y="3146"/>
                </a:lnTo>
                <a:lnTo>
                  <a:pt x="1024" y="3142"/>
                </a:lnTo>
                <a:lnTo>
                  <a:pt x="1028" y="3138"/>
                </a:lnTo>
                <a:lnTo>
                  <a:pt x="1033" y="3131"/>
                </a:lnTo>
                <a:lnTo>
                  <a:pt x="1037" y="3124"/>
                </a:lnTo>
                <a:lnTo>
                  <a:pt x="1043" y="3108"/>
                </a:lnTo>
                <a:lnTo>
                  <a:pt x="1048" y="3091"/>
                </a:lnTo>
                <a:lnTo>
                  <a:pt x="1052" y="3075"/>
                </a:lnTo>
                <a:lnTo>
                  <a:pt x="1054" y="3060"/>
                </a:lnTo>
                <a:lnTo>
                  <a:pt x="1057" y="3046"/>
                </a:lnTo>
                <a:lnTo>
                  <a:pt x="1058" y="3032"/>
                </a:lnTo>
                <a:lnTo>
                  <a:pt x="1058" y="3032"/>
                </a:lnTo>
                <a:lnTo>
                  <a:pt x="1057" y="3027"/>
                </a:lnTo>
                <a:lnTo>
                  <a:pt x="1054" y="3023"/>
                </a:lnTo>
                <a:lnTo>
                  <a:pt x="1048" y="3014"/>
                </a:lnTo>
                <a:lnTo>
                  <a:pt x="1041" y="3008"/>
                </a:lnTo>
                <a:lnTo>
                  <a:pt x="1033" y="3002"/>
                </a:lnTo>
                <a:lnTo>
                  <a:pt x="1019" y="2995"/>
                </a:lnTo>
                <a:lnTo>
                  <a:pt x="1012" y="2992"/>
                </a:lnTo>
                <a:lnTo>
                  <a:pt x="1021" y="2908"/>
                </a:lnTo>
                <a:lnTo>
                  <a:pt x="1036" y="2718"/>
                </a:lnTo>
                <a:lnTo>
                  <a:pt x="1036" y="2718"/>
                </a:lnTo>
                <a:lnTo>
                  <a:pt x="1036" y="2702"/>
                </a:lnTo>
                <a:lnTo>
                  <a:pt x="1035" y="2680"/>
                </a:lnTo>
                <a:lnTo>
                  <a:pt x="1031" y="2626"/>
                </a:lnTo>
                <a:lnTo>
                  <a:pt x="1026" y="2558"/>
                </a:lnTo>
                <a:lnTo>
                  <a:pt x="1026" y="2531"/>
                </a:lnTo>
                <a:lnTo>
                  <a:pt x="1015" y="2386"/>
                </a:lnTo>
                <a:lnTo>
                  <a:pt x="1005" y="2256"/>
                </a:lnTo>
                <a:lnTo>
                  <a:pt x="995" y="2169"/>
                </a:lnTo>
                <a:lnTo>
                  <a:pt x="993" y="2132"/>
                </a:lnTo>
                <a:lnTo>
                  <a:pt x="990" y="2097"/>
                </a:lnTo>
                <a:lnTo>
                  <a:pt x="988" y="2047"/>
                </a:lnTo>
                <a:lnTo>
                  <a:pt x="984" y="1932"/>
                </a:lnTo>
                <a:lnTo>
                  <a:pt x="984" y="1878"/>
                </a:lnTo>
                <a:lnTo>
                  <a:pt x="982" y="1720"/>
                </a:lnTo>
                <a:lnTo>
                  <a:pt x="974" y="1594"/>
                </a:lnTo>
                <a:lnTo>
                  <a:pt x="977" y="1560"/>
                </a:lnTo>
                <a:lnTo>
                  <a:pt x="977" y="1560"/>
                </a:lnTo>
                <a:lnTo>
                  <a:pt x="974" y="1543"/>
                </a:lnTo>
                <a:lnTo>
                  <a:pt x="971" y="1529"/>
                </a:lnTo>
                <a:lnTo>
                  <a:pt x="967" y="1519"/>
                </a:lnTo>
                <a:lnTo>
                  <a:pt x="963" y="1513"/>
                </a:lnTo>
                <a:lnTo>
                  <a:pt x="941" y="1386"/>
                </a:lnTo>
                <a:lnTo>
                  <a:pt x="909" y="1343"/>
                </a:lnTo>
                <a:lnTo>
                  <a:pt x="909" y="1326"/>
                </a:lnTo>
                <a:lnTo>
                  <a:pt x="915" y="1317"/>
                </a:lnTo>
                <a:lnTo>
                  <a:pt x="915" y="1298"/>
                </a:lnTo>
                <a:lnTo>
                  <a:pt x="922" y="1298"/>
                </a:lnTo>
                <a:lnTo>
                  <a:pt x="925" y="1290"/>
                </a:lnTo>
                <a:lnTo>
                  <a:pt x="920" y="1249"/>
                </a:lnTo>
                <a:lnTo>
                  <a:pt x="925" y="1247"/>
                </a:lnTo>
                <a:lnTo>
                  <a:pt x="1012" y="1229"/>
                </a:lnTo>
                <a:lnTo>
                  <a:pt x="1041" y="1222"/>
                </a:lnTo>
                <a:lnTo>
                  <a:pt x="1093" y="1217"/>
                </a:lnTo>
                <a:lnTo>
                  <a:pt x="1093" y="1217"/>
                </a:lnTo>
                <a:lnTo>
                  <a:pt x="1104" y="1212"/>
                </a:lnTo>
                <a:lnTo>
                  <a:pt x="1115" y="1207"/>
                </a:lnTo>
                <a:lnTo>
                  <a:pt x="1131" y="1197"/>
                </a:lnTo>
                <a:lnTo>
                  <a:pt x="1141" y="1190"/>
                </a:lnTo>
                <a:lnTo>
                  <a:pt x="1144" y="1186"/>
                </a:lnTo>
                <a:lnTo>
                  <a:pt x="1144" y="1186"/>
                </a:lnTo>
                <a:lnTo>
                  <a:pt x="1147" y="1181"/>
                </a:lnTo>
                <a:lnTo>
                  <a:pt x="1148" y="1176"/>
                </a:lnTo>
                <a:lnTo>
                  <a:pt x="1152" y="1163"/>
                </a:lnTo>
                <a:lnTo>
                  <a:pt x="1154" y="1148"/>
                </a:lnTo>
                <a:lnTo>
                  <a:pt x="1155" y="1133"/>
                </a:lnTo>
                <a:lnTo>
                  <a:pt x="1155" y="1107"/>
                </a:lnTo>
                <a:lnTo>
                  <a:pt x="1155" y="1096"/>
                </a:lnTo>
                <a:lnTo>
                  <a:pt x="1155" y="1096"/>
                </a:lnTo>
                <a:close/>
                <a:moveTo>
                  <a:pt x="286" y="1152"/>
                </a:moveTo>
                <a:lnTo>
                  <a:pt x="284" y="1127"/>
                </a:lnTo>
                <a:lnTo>
                  <a:pt x="295" y="1109"/>
                </a:lnTo>
                <a:lnTo>
                  <a:pt x="295" y="1068"/>
                </a:lnTo>
                <a:lnTo>
                  <a:pt x="300" y="1056"/>
                </a:lnTo>
                <a:lnTo>
                  <a:pt x="300" y="1056"/>
                </a:lnTo>
                <a:lnTo>
                  <a:pt x="301" y="1056"/>
                </a:lnTo>
                <a:lnTo>
                  <a:pt x="302" y="1057"/>
                </a:lnTo>
                <a:lnTo>
                  <a:pt x="304" y="1059"/>
                </a:lnTo>
                <a:lnTo>
                  <a:pt x="299" y="1107"/>
                </a:lnTo>
                <a:lnTo>
                  <a:pt x="295" y="1155"/>
                </a:lnTo>
                <a:lnTo>
                  <a:pt x="284" y="1189"/>
                </a:lnTo>
                <a:lnTo>
                  <a:pt x="286" y="1162"/>
                </a:lnTo>
                <a:lnTo>
                  <a:pt x="286" y="1152"/>
                </a:lnTo>
                <a:close/>
                <a:moveTo>
                  <a:pt x="190" y="1636"/>
                </a:moveTo>
                <a:lnTo>
                  <a:pt x="194" y="1631"/>
                </a:lnTo>
                <a:lnTo>
                  <a:pt x="203" y="1637"/>
                </a:lnTo>
                <a:lnTo>
                  <a:pt x="205" y="1657"/>
                </a:lnTo>
                <a:lnTo>
                  <a:pt x="205" y="1657"/>
                </a:lnTo>
                <a:lnTo>
                  <a:pt x="201" y="1655"/>
                </a:lnTo>
                <a:lnTo>
                  <a:pt x="196" y="1653"/>
                </a:lnTo>
                <a:lnTo>
                  <a:pt x="193" y="1655"/>
                </a:lnTo>
                <a:lnTo>
                  <a:pt x="189" y="1657"/>
                </a:lnTo>
                <a:lnTo>
                  <a:pt x="190" y="1636"/>
                </a:lnTo>
                <a:close/>
                <a:moveTo>
                  <a:pt x="210" y="2070"/>
                </a:moveTo>
                <a:lnTo>
                  <a:pt x="219" y="1995"/>
                </a:lnTo>
                <a:lnTo>
                  <a:pt x="224" y="2028"/>
                </a:lnTo>
                <a:lnTo>
                  <a:pt x="210" y="2070"/>
                </a:lnTo>
                <a:close/>
                <a:moveTo>
                  <a:pt x="301" y="1489"/>
                </a:moveTo>
                <a:lnTo>
                  <a:pt x="293" y="1531"/>
                </a:lnTo>
                <a:lnTo>
                  <a:pt x="288" y="1552"/>
                </a:lnTo>
                <a:lnTo>
                  <a:pt x="268" y="1584"/>
                </a:lnTo>
                <a:lnTo>
                  <a:pt x="269" y="1649"/>
                </a:lnTo>
                <a:lnTo>
                  <a:pt x="254" y="1725"/>
                </a:lnTo>
                <a:lnTo>
                  <a:pt x="249" y="1794"/>
                </a:lnTo>
                <a:lnTo>
                  <a:pt x="231" y="1906"/>
                </a:lnTo>
                <a:lnTo>
                  <a:pt x="245" y="1796"/>
                </a:lnTo>
                <a:lnTo>
                  <a:pt x="240" y="1766"/>
                </a:lnTo>
                <a:lnTo>
                  <a:pt x="240" y="1766"/>
                </a:lnTo>
                <a:lnTo>
                  <a:pt x="237" y="1759"/>
                </a:lnTo>
                <a:lnTo>
                  <a:pt x="235" y="1755"/>
                </a:lnTo>
                <a:lnTo>
                  <a:pt x="227" y="1746"/>
                </a:lnTo>
                <a:lnTo>
                  <a:pt x="228" y="1742"/>
                </a:lnTo>
                <a:lnTo>
                  <a:pt x="224" y="1741"/>
                </a:lnTo>
                <a:lnTo>
                  <a:pt x="224" y="1690"/>
                </a:lnTo>
                <a:lnTo>
                  <a:pt x="228" y="1688"/>
                </a:lnTo>
                <a:lnTo>
                  <a:pt x="228" y="1688"/>
                </a:lnTo>
                <a:lnTo>
                  <a:pt x="233" y="1687"/>
                </a:lnTo>
                <a:lnTo>
                  <a:pt x="237" y="1685"/>
                </a:lnTo>
                <a:lnTo>
                  <a:pt x="242" y="1681"/>
                </a:lnTo>
                <a:lnTo>
                  <a:pt x="245" y="1677"/>
                </a:lnTo>
                <a:lnTo>
                  <a:pt x="246" y="1674"/>
                </a:lnTo>
                <a:lnTo>
                  <a:pt x="246" y="1639"/>
                </a:lnTo>
                <a:lnTo>
                  <a:pt x="251" y="1603"/>
                </a:lnTo>
                <a:lnTo>
                  <a:pt x="251" y="1577"/>
                </a:lnTo>
                <a:lnTo>
                  <a:pt x="251" y="1577"/>
                </a:lnTo>
                <a:lnTo>
                  <a:pt x="259" y="1579"/>
                </a:lnTo>
                <a:lnTo>
                  <a:pt x="263" y="1575"/>
                </a:lnTo>
                <a:lnTo>
                  <a:pt x="268" y="1510"/>
                </a:lnTo>
                <a:lnTo>
                  <a:pt x="268" y="1510"/>
                </a:lnTo>
                <a:lnTo>
                  <a:pt x="270" y="1512"/>
                </a:lnTo>
                <a:lnTo>
                  <a:pt x="277" y="1448"/>
                </a:lnTo>
                <a:lnTo>
                  <a:pt x="274" y="1444"/>
                </a:lnTo>
                <a:lnTo>
                  <a:pt x="277" y="1441"/>
                </a:lnTo>
                <a:lnTo>
                  <a:pt x="291" y="1476"/>
                </a:lnTo>
                <a:lnTo>
                  <a:pt x="307" y="1477"/>
                </a:lnTo>
                <a:lnTo>
                  <a:pt x="307" y="1477"/>
                </a:lnTo>
                <a:lnTo>
                  <a:pt x="301" y="1489"/>
                </a:lnTo>
                <a:close/>
                <a:moveTo>
                  <a:pt x="952" y="1067"/>
                </a:moveTo>
                <a:lnTo>
                  <a:pt x="946" y="1068"/>
                </a:lnTo>
                <a:lnTo>
                  <a:pt x="932" y="1063"/>
                </a:lnTo>
                <a:lnTo>
                  <a:pt x="902" y="1059"/>
                </a:lnTo>
                <a:lnTo>
                  <a:pt x="894" y="1063"/>
                </a:lnTo>
                <a:lnTo>
                  <a:pt x="893" y="1032"/>
                </a:lnTo>
                <a:lnTo>
                  <a:pt x="883" y="1010"/>
                </a:lnTo>
                <a:lnTo>
                  <a:pt x="884" y="980"/>
                </a:lnTo>
                <a:lnTo>
                  <a:pt x="889" y="961"/>
                </a:lnTo>
                <a:lnTo>
                  <a:pt x="894" y="918"/>
                </a:lnTo>
                <a:lnTo>
                  <a:pt x="908" y="961"/>
                </a:lnTo>
                <a:lnTo>
                  <a:pt x="940" y="1025"/>
                </a:lnTo>
                <a:lnTo>
                  <a:pt x="953" y="1049"/>
                </a:lnTo>
                <a:lnTo>
                  <a:pt x="952" y="1067"/>
                </a:ln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475e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reeform 12"/>
          <p:cNvSpPr/>
          <p:nvPr/>
        </p:nvSpPr>
        <p:spPr>
          <a:xfrm>
            <a:off x="6586560" y="3475080"/>
            <a:ext cx="442800" cy="1244520"/>
          </a:xfrm>
          <a:custGeom>
            <a:avLst/>
            <a:gdLst/>
            <a:ahLst/>
            <a:rect l="l" t="t" r="r" b="b"/>
            <a:pathLst>
              <a:path w="1155" h="3334">
                <a:moveTo>
                  <a:pt x="1155" y="1096"/>
                </a:moveTo>
                <a:lnTo>
                  <a:pt x="1149" y="1074"/>
                </a:lnTo>
                <a:lnTo>
                  <a:pt x="1148" y="1054"/>
                </a:lnTo>
                <a:lnTo>
                  <a:pt x="1148" y="1054"/>
                </a:lnTo>
                <a:lnTo>
                  <a:pt x="1143" y="1037"/>
                </a:lnTo>
                <a:lnTo>
                  <a:pt x="1138" y="1022"/>
                </a:lnTo>
                <a:lnTo>
                  <a:pt x="1133" y="1009"/>
                </a:lnTo>
                <a:lnTo>
                  <a:pt x="1128" y="998"/>
                </a:lnTo>
                <a:lnTo>
                  <a:pt x="1120" y="982"/>
                </a:lnTo>
                <a:lnTo>
                  <a:pt x="1117" y="977"/>
                </a:lnTo>
                <a:lnTo>
                  <a:pt x="1095" y="931"/>
                </a:lnTo>
                <a:lnTo>
                  <a:pt x="1085" y="892"/>
                </a:lnTo>
                <a:lnTo>
                  <a:pt x="1056" y="857"/>
                </a:lnTo>
                <a:lnTo>
                  <a:pt x="1038" y="809"/>
                </a:lnTo>
                <a:lnTo>
                  <a:pt x="1036" y="783"/>
                </a:lnTo>
                <a:lnTo>
                  <a:pt x="1036" y="783"/>
                </a:lnTo>
                <a:lnTo>
                  <a:pt x="1019" y="749"/>
                </a:lnTo>
                <a:lnTo>
                  <a:pt x="991" y="699"/>
                </a:lnTo>
                <a:lnTo>
                  <a:pt x="957" y="637"/>
                </a:lnTo>
                <a:lnTo>
                  <a:pt x="942" y="620"/>
                </a:lnTo>
                <a:lnTo>
                  <a:pt x="938" y="618"/>
                </a:lnTo>
                <a:lnTo>
                  <a:pt x="918" y="598"/>
                </a:lnTo>
                <a:lnTo>
                  <a:pt x="894" y="581"/>
                </a:lnTo>
                <a:lnTo>
                  <a:pt x="876" y="566"/>
                </a:lnTo>
                <a:lnTo>
                  <a:pt x="863" y="563"/>
                </a:lnTo>
                <a:lnTo>
                  <a:pt x="824" y="544"/>
                </a:lnTo>
                <a:lnTo>
                  <a:pt x="808" y="523"/>
                </a:lnTo>
                <a:lnTo>
                  <a:pt x="787" y="522"/>
                </a:lnTo>
                <a:lnTo>
                  <a:pt x="786" y="522"/>
                </a:lnTo>
                <a:lnTo>
                  <a:pt x="778" y="519"/>
                </a:lnTo>
                <a:lnTo>
                  <a:pt x="745" y="473"/>
                </a:lnTo>
                <a:lnTo>
                  <a:pt x="731" y="471"/>
                </a:lnTo>
                <a:lnTo>
                  <a:pt x="734" y="452"/>
                </a:lnTo>
                <a:lnTo>
                  <a:pt x="735" y="453"/>
                </a:lnTo>
                <a:lnTo>
                  <a:pt x="742" y="439"/>
                </a:lnTo>
                <a:lnTo>
                  <a:pt x="750" y="463"/>
                </a:lnTo>
                <a:lnTo>
                  <a:pt x="755" y="463"/>
                </a:lnTo>
                <a:lnTo>
                  <a:pt x="779" y="411"/>
                </a:lnTo>
                <a:lnTo>
                  <a:pt x="807" y="326"/>
                </a:lnTo>
                <a:lnTo>
                  <a:pt x="807" y="326"/>
                </a:lnTo>
                <a:lnTo>
                  <a:pt x="814" y="305"/>
                </a:lnTo>
                <a:lnTo>
                  <a:pt x="821" y="279"/>
                </a:lnTo>
                <a:lnTo>
                  <a:pt x="829" y="249"/>
                </a:lnTo>
                <a:lnTo>
                  <a:pt x="829" y="249"/>
                </a:lnTo>
                <a:lnTo>
                  <a:pt x="828" y="236"/>
                </a:lnTo>
                <a:lnTo>
                  <a:pt x="825" y="222"/>
                </a:lnTo>
                <a:lnTo>
                  <a:pt x="821" y="210"/>
                </a:lnTo>
                <a:lnTo>
                  <a:pt x="818" y="199"/>
                </a:lnTo>
                <a:lnTo>
                  <a:pt x="809" y="184"/>
                </a:lnTo>
                <a:lnTo>
                  <a:pt x="805" y="178"/>
                </a:lnTo>
                <a:lnTo>
                  <a:pt x="805" y="178"/>
                </a:lnTo>
                <a:lnTo>
                  <a:pt x="794" y="163"/>
                </a:lnTo>
                <a:lnTo>
                  <a:pt x="783" y="148"/>
                </a:lnTo>
                <a:lnTo>
                  <a:pt x="773" y="132"/>
                </a:lnTo>
                <a:lnTo>
                  <a:pt x="760" y="89"/>
                </a:lnTo>
                <a:lnTo>
                  <a:pt x="754" y="87"/>
                </a:lnTo>
                <a:lnTo>
                  <a:pt x="730" y="57"/>
                </a:lnTo>
                <a:lnTo>
                  <a:pt x="696" y="51"/>
                </a:lnTo>
                <a:lnTo>
                  <a:pt x="635" y="10"/>
                </a:lnTo>
                <a:lnTo>
                  <a:pt x="629" y="10"/>
                </a:lnTo>
                <a:lnTo>
                  <a:pt x="634" y="25"/>
                </a:lnTo>
                <a:lnTo>
                  <a:pt x="588" y="0"/>
                </a:lnTo>
                <a:lnTo>
                  <a:pt x="598" y="25"/>
                </a:lnTo>
                <a:lnTo>
                  <a:pt x="575" y="7"/>
                </a:lnTo>
                <a:lnTo>
                  <a:pt x="579" y="29"/>
                </a:lnTo>
                <a:lnTo>
                  <a:pt x="574" y="26"/>
                </a:lnTo>
                <a:lnTo>
                  <a:pt x="534" y="14"/>
                </a:lnTo>
                <a:lnTo>
                  <a:pt x="556" y="39"/>
                </a:lnTo>
                <a:lnTo>
                  <a:pt x="554" y="41"/>
                </a:lnTo>
                <a:lnTo>
                  <a:pt x="519" y="19"/>
                </a:lnTo>
                <a:lnTo>
                  <a:pt x="532" y="47"/>
                </a:lnTo>
                <a:lnTo>
                  <a:pt x="529" y="49"/>
                </a:lnTo>
                <a:lnTo>
                  <a:pt x="508" y="19"/>
                </a:lnTo>
                <a:lnTo>
                  <a:pt x="508" y="24"/>
                </a:lnTo>
                <a:lnTo>
                  <a:pt x="507" y="56"/>
                </a:lnTo>
                <a:lnTo>
                  <a:pt x="476" y="46"/>
                </a:lnTo>
                <a:lnTo>
                  <a:pt x="479" y="50"/>
                </a:lnTo>
                <a:lnTo>
                  <a:pt x="505" y="73"/>
                </a:lnTo>
                <a:lnTo>
                  <a:pt x="461" y="74"/>
                </a:lnTo>
                <a:lnTo>
                  <a:pt x="465" y="78"/>
                </a:lnTo>
                <a:lnTo>
                  <a:pt x="489" y="90"/>
                </a:lnTo>
                <a:lnTo>
                  <a:pt x="468" y="94"/>
                </a:lnTo>
                <a:lnTo>
                  <a:pt x="491" y="103"/>
                </a:lnTo>
                <a:lnTo>
                  <a:pt x="458" y="115"/>
                </a:lnTo>
                <a:lnTo>
                  <a:pt x="482" y="126"/>
                </a:lnTo>
                <a:lnTo>
                  <a:pt x="468" y="137"/>
                </a:lnTo>
                <a:lnTo>
                  <a:pt x="482" y="139"/>
                </a:lnTo>
                <a:lnTo>
                  <a:pt x="461" y="166"/>
                </a:lnTo>
                <a:lnTo>
                  <a:pt x="464" y="164"/>
                </a:lnTo>
                <a:lnTo>
                  <a:pt x="479" y="158"/>
                </a:lnTo>
                <a:lnTo>
                  <a:pt x="479" y="158"/>
                </a:lnTo>
                <a:lnTo>
                  <a:pt x="476" y="167"/>
                </a:lnTo>
                <a:lnTo>
                  <a:pt x="474" y="178"/>
                </a:lnTo>
                <a:lnTo>
                  <a:pt x="473" y="190"/>
                </a:lnTo>
                <a:lnTo>
                  <a:pt x="473" y="198"/>
                </a:lnTo>
                <a:lnTo>
                  <a:pt x="474" y="204"/>
                </a:lnTo>
                <a:lnTo>
                  <a:pt x="471" y="216"/>
                </a:lnTo>
                <a:lnTo>
                  <a:pt x="471" y="229"/>
                </a:lnTo>
                <a:lnTo>
                  <a:pt x="471" y="229"/>
                </a:lnTo>
                <a:lnTo>
                  <a:pt x="466" y="240"/>
                </a:lnTo>
                <a:lnTo>
                  <a:pt x="460" y="252"/>
                </a:lnTo>
                <a:lnTo>
                  <a:pt x="469" y="304"/>
                </a:lnTo>
                <a:lnTo>
                  <a:pt x="471" y="353"/>
                </a:lnTo>
                <a:lnTo>
                  <a:pt x="471" y="353"/>
                </a:lnTo>
                <a:lnTo>
                  <a:pt x="473" y="359"/>
                </a:lnTo>
                <a:lnTo>
                  <a:pt x="474" y="365"/>
                </a:lnTo>
                <a:lnTo>
                  <a:pt x="477" y="374"/>
                </a:lnTo>
                <a:lnTo>
                  <a:pt x="481" y="383"/>
                </a:lnTo>
                <a:lnTo>
                  <a:pt x="487" y="391"/>
                </a:lnTo>
                <a:lnTo>
                  <a:pt x="495" y="399"/>
                </a:lnTo>
                <a:lnTo>
                  <a:pt x="505" y="406"/>
                </a:lnTo>
                <a:lnTo>
                  <a:pt x="519" y="416"/>
                </a:lnTo>
                <a:lnTo>
                  <a:pt x="521" y="428"/>
                </a:lnTo>
                <a:lnTo>
                  <a:pt x="519" y="439"/>
                </a:lnTo>
                <a:lnTo>
                  <a:pt x="510" y="441"/>
                </a:lnTo>
                <a:lnTo>
                  <a:pt x="438" y="505"/>
                </a:lnTo>
                <a:lnTo>
                  <a:pt x="415" y="507"/>
                </a:lnTo>
                <a:lnTo>
                  <a:pt x="388" y="523"/>
                </a:lnTo>
                <a:lnTo>
                  <a:pt x="355" y="527"/>
                </a:lnTo>
                <a:lnTo>
                  <a:pt x="355" y="527"/>
                </a:lnTo>
                <a:lnTo>
                  <a:pt x="343" y="529"/>
                </a:lnTo>
                <a:lnTo>
                  <a:pt x="332" y="532"/>
                </a:lnTo>
                <a:lnTo>
                  <a:pt x="310" y="538"/>
                </a:lnTo>
                <a:lnTo>
                  <a:pt x="289" y="547"/>
                </a:lnTo>
                <a:lnTo>
                  <a:pt x="270" y="556"/>
                </a:lnTo>
                <a:lnTo>
                  <a:pt x="256" y="565"/>
                </a:lnTo>
                <a:lnTo>
                  <a:pt x="245" y="574"/>
                </a:lnTo>
                <a:lnTo>
                  <a:pt x="235" y="581"/>
                </a:lnTo>
                <a:lnTo>
                  <a:pt x="232" y="619"/>
                </a:lnTo>
                <a:lnTo>
                  <a:pt x="205" y="690"/>
                </a:lnTo>
                <a:lnTo>
                  <a:pt x="195" y="731"/>
                </a:lnTo>
                <a:lnTo>
                  <a:pt x="187" y="793"/>
                </a:lnTo>
                <a:lnTo>
                  <a:pt x="183" y="809"/>
                </a:lnTo>
                <a:lnTo>
                  <a:pt x="183" y="809"/>
                </a:lnTo>
                <a:lnTo>
                  <a:pt x="178" y="837"/>
                </a:lnTo>
                <a:lnTo>
                  <a:pt x="174" y="867"/>
                </a:lnTo>
                <a:lnTo>
                  <a:pt x="169" y="921"/>
                </a:lnTo>
                <a:lnTo>
                  <a:pt x="168" y="962"/>
                </a:lnTo>
                <a:lnTo>
                  <a:pt x="168" y="978"/>
                </a:lnTo>
                <a:lnTo>
                  <a:pt x="155" y="1017"/>
                </a:lnTo>
                <a:lnTo>
                  <a:pt x="146" y="1063"/>
                </a:lnTo>
                <a:lnTo>
                  <a:pt x="137" y="1079"/>
                </a:lnTo>
                <a:lnTo>
                  <a:pt x="134" y="1141"/>
                </a:lnTo>
                <a:lnTo>
                  <a:pt x="136" y="1159"/>
                </a:lnTo>
                <a:lnTo>
                  <a:pt x="130" y="1173"/>
                </a:lnTo>
                <a:lnTo>
                  <a:pt x="113" y="1231"/>
                </a:lnTo>
                <a:lnTo>
                  <a:pt x="116" y="1249"/>
                </a:lnTo>
                <a:lnTo>
                  <a:pt x="121" y="1277"/>
                </a:lnTo>
                <a:lnTo>
                  <a:pt x="111" y="1297"/>
                </a:lnTo>
                <a:lnTo>
                  <a:pt x="113" y="1340"/>
                </a:lnTo>
                <a:lnTo>
                  <a:pt x="114" y="1456"/>
                </a:lnTo>
                <a:lnTo>
                  <a:pt x="114" y="1456"/>
                </a:lnTo>
                <a:lnTo>
                  <a:pt x="113" y="1466"/>
                </a:lnTo>
                <a:lnTo>
                  <a:pt x="113" y="1466"/>
                </a:lnTo>
                <a:lnTo>
                  <a:pt x="97" y="1477"/>
                </a:lnTo>
                <a:lnTo>
                  <a:pt x="102" y="1530"/>
                </a:lnTo>
                <a:lnTo>
                  <a:pt x="111" y="1539"/>
                </a:lnTo>
                <a:lnTo>
                  <a:pt x="111" y="1539"/>
                </a:lnTo>
                <a:lnTo>
                  <a:pt x="114" y="1536"/>
                </a:lnTo>
                <a:lnTo>
                  <a:pt x="114" y="1536"/>
                </a:lnTo>
                <a:lnTo>
                  <a:pt x="116" y="1579"/>
                </a:lnTo>
                <a:lnTo>
                  <a:pt x="119" y="1597"/>
                </a:lnTo>
                <a:lnTo>
                  <a:pt x="120" y="1597"/>
                </a:lnTo>
                <a:lnTo>
                  <a:pt x="114" y="1644"/>
                </a:lnTo>
                <a:lnTo>
                  <a:pt x="126" y="1679"/>
                </a:lnTo>
                <a:lnTo>
                  <a:pt x="146" y="1705"/>
                </a:lnTo>
                <a:lnTo>
                  <a:pt x="164" y="1718"/>
                </a:lnTo>
                <a:lnTo>
                  <a:pt x="177" y="1709"/>
                </a:lnTo>
                <a:lnTo>
                  <a:pt x="184" y="1709"/>
                </a:lnTo>
                <a:lnTo>
                  <a:pt x="184" y="1709"/>
                </a:lnTo>
                <a:lnTo>
                  <a:pt x="185" y="1722"/>
                </a:lnTo>
                <a:lnTo>
                  <a:pt x="183" y="1720"/>
                </a:lnTo>
                <a:lnTo>
                  <a:pt x="179" y="1727"/>
                </a:lnTo>
                <a:lnTo>
                  <a:pt x="179" y="1727"/>
                </a:lnTo>
                <a:lnTo>
                  <a:pt x="174" y="1727"/>
                </a:lnTo>
                <a:lnTo>
                  <a:pt x="174" y="1727"/>
                </a:lnTo>
                <a:lnTo>
                  <a:pt x="166" y="1734"/>
                </a:lnTo>
                <a:lnTo>
                  <a:pt x="159" y="1740"/>
                </a:lnTo>
                <a:lnTo>
                  <a:pt x="152" y="1747"/>
                </a:lnTo>
                <a:lnTo>
                  <a:pt x="146" y="1755"/>
                </a:lnTo>
                <a:lnTo>
                  <a:pt x="137" y="176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1" y="1782"/>
                </a:lnTo>
                <a:lnTo>
                  <a:pt x="131" y="1782"/>
                </a:lnTo>
                <a:lnTo>
                  <a:pt x="33" y="2244"/>
                </a:lnTo>
                <a:lnTo>
                  <a:pt x="30" y="2255"/>
                </a:lnTo>
                <a:lnTo>
                  <a:pt x="30" y="2255"/>
                </a:lnTo>
                <a:lnTo>
                  <a:pt x="44" y="2243"/>
                </a:lnTo>
                <a:lnTo>
                  <a:pt x="56" y="2233"/>
                </a:lnTo>
                <a:lnTo>
                  <a:pt x="68" y="2227"/>
                </a:lnTo>
                <a:lnTo>
                  <a:pt x="79" y="2223"/>
                </a:lnTo>
                <a:lnTo>
                  <a:pt x="89" y="2222"/>
                </a:lnTo>
                <a:lnTo>
                  <a:pt x="95" y="2220"/>
                </a:lnTo>
                <a:lnTo>
                  <a:pt x="102" y="2220"/>
                </a:lnTo>
                <a:lnTo>
                  <a:pt x="102" y="2220"/>
                </a:lnTo>
                <a:lnTo>
                  <a:pt x="108" y="2220"/>
                </a:lnTo>
                <a:lnTo>
                  <a:pt x="115" y="2222"/>
                </a:lnTo>
                <a:lnTo>
                  <a:pt x="122" y="2224"/>
                </a:lnTo>
                <a:lnTo>
                  <a:pt x="131" y="2228"/>
                </a:lnTo>
                <a:lnTo>
                  <a:pt x="148" y="2238"/>
                </a:lnTo>
                <a:lnTo>
                  <a:pt x="164" y="2249"/>
                </a:lnTo>
                <a:lnTo>
                  <a:pt x="159" y="2260"/>
                </a:lnTo>
                <a:lnTo>
                  <a:pt x="158" y="2307"/>
                </a:lnTo>
                <a:lnTo>
                  <a:pt x="131" y="2376"/>
                </a:lnTo>
                <a:lnTo>
                  <a:pt x="97" y="2580"/>
                </a:lnTo>
                <a:lnTo>
                  <a:pt x="77" y="2662"/>
                </a:lnTo>
                <a:lnTo>
                  <a:pt x="51" y="2826"/>
                </a:lnTo>
                <a:lnTo>
                  <a:pt x="37" y="2850"/>
                </a:lnTo>
                <a:lnTo>
                  <a:pt x="35" y="2896"/>
                </a:lnTo>
                <a:lnTo>
                  <a:pt x="34" y="2913"/>
                </a:lnTo>
                <a:lnTo>
                  <a:pt x="28" y="2938"/>
                </a:lnTo>
                <a:lnTo>
                  <a:pt x="28" y="3062"/>
                </a:lnTo>
                <a:lnTo>
                  <a:pt x="35" y="3081"/>
                </a:lnTo>
                <a:lnTo>
                  <a:pt x="35" y="3081"/>
                </a:lnTo>
                <a:lnTo>
                  <a:pt x="21" y="3108"/>
                </a:lnTo>
                <a:lnTo>
                  <a:pt x="10" y="3133"/>
                </a:lnTo>
                <a:lnTo>
                  <a:pt x="2" y="3156"/>
                </a:lnTo>
                <a:lnTo>
                  <a:pt x="2" y="3156"/>
                </a:lnTo>
                <a:lnTo>
                  <a:pt x="0" y="3173"/>
                </a:lnTo>
                <a:lnTo>
                  <a:pt x="0" y="3191"/>
                </a:lnTo>
                <a:lnTo>
                  <a:pt x="3" y="3208"/>
                </a:lnTo>
                <a:lnTo>
                  <a:pt x="5" y="3223"/>
                </a:lnTo>
                <a:lnTo>
                  <a:pt x="13" y="3245"/>
                </a:lnTo>
                <a:lnTo>
                  <a:pt x="15" y="3253"/>
                </a:lnTo>
                <a:lnTo>
                  <a:pt x="15" y="3253"/>
                </a:lnTo>
                <a:lnTo>
                  <a:pt x="23" y="3262"/>
                </a:lnTo>
                <a:lnTo>
                  <a:pt x="29" y="3269"/>
                </a:lnTo>
                <a:lnTo>
                  <a:pt x="36" y="3276"/>
                </a:lnTo>
                <a:lnTo>
                  <a:pt x="45" y="3281"/>
                </a:lnTo>
                <a:lnTo>
                  <a:pt x="52" y="3284"/>
                </a:lnTo>
                <a:lnTo>
                  <a:pt x="60" y="3287"/>
                </a:lnTo>
                <a:lnTo>
                  <a:pt x="74" y="3289"/>
                </a:lnTo>
                <a:lnTo>
                  <a:pt x="88" y="3289"/>
                </a:lnTo>
                <a:lnTo>
                  <a:pt x="99" y="3288"/>
                </a:lnTo>
                <a:lnTo>
                  <a:pt x="109" y="3287"/>
                </a:lnTo>
                <a:lnTo>
                  <a:pt x="109" y="3287"/>
                </a:lnTo>
                <a:lnTo>
                  <a:pt x="125" y="3283"/>
                </a:lnTo>
                <a:lnTo>
                  <a:pt x="140" y="3278"/>
                </a:lnTo>
                <a:lnTo>
                  <a:pt x="152" y="3272"/>
                </a:lnTo>
                <a:lnTo>
                  <a:pt x="163" y="3266"/>
                </a:lnTo>
                <a:lnTo>
                  <a:pt x="173" y="3260"/>
                </a:lnTo>
                <a:lnTo>
                  <a:pt x="182" y="3252"/>
                </a:lnTo>
                <a:lnTo>
                  <a:pt x="189" y="3246"/>
                </a:lnTo>
                <a:lnTo>
                  <a:pt x="196" y="3239"/>
                </a:lnTo>
                <a:lnTo>
                  <a:pt x="205" y="3226"/>
                </a:lnTo>
                <a:lnTo>
                  <a:pt x="211" y="3215"/>
                </a:lnTo>
                <a:lnTo>
                  <a:pt x="215" y="3205"/>
                </a:lnTo>
                <a:lnTo>
                  <a:pt x="216" y="3154"/>
                </a:lnTo>
                <a:lnTo>
                  <a:pt x="216" y="3154"/>
                </a:lnTo>
                <a:lnTo>
                  <a:pt x="216" y="3155"/>
                </a:lnTo>
                <a:lnTo>
                  <a:pt x="240" y="3145"/>
                </a:lnTo>
                <a:lnTo>
                  <a:pt x="256" y="3093"/>
                </a:lnTo>
                <a:lnTo>
                  <a:pt x="254" y="3041"/>
                </a:lnTo>
                <a:lnTo>
                  <a:pt x="254" y="3041"/>
                </a:lnTo>
                <a:lnTo>
                  <a:pt x="262" y="3036"/>
                </a:lnTo>
                <a:lnTo>
                  <a:pt x="269" y="3032"/>
                </a:lnTo>
                <a:lnTo>
                  <a:pt x="275" y="3027"/>
                </a:lnTo>
                <a:lnTo>
                  <a:pt x="279" y="3020"/>
                </a:lnTo>
                <a:lnTo>
                  <a:pt x="283" y="3014"/>
                </a:lnTo>
                <a:lnTo>
                  <a:pt x="285" y="3008"/>
                </a:lnTo>
                <a:lnTo>
                  <a:pt x="289" y="2996"/>
                </a:lnTo>
                <a:lnTo>
                  <a:pt x="289" y="2985"/>
                </a:lnTo>
                <a:lnTo>
                  <a:pt x="289" y="2975"/>
                </a:lnTo>
                <a:lnTo>
                  <a:pt x="286" y="2967"/>
                </a:lnTo>
                <a:lnTo>
                  <a:pt x="286" y="2967"/>
                </a:lnTo>
                <a:lnTo>
                  <a:pt x="306" y="2923"/>
                </a:lnTo>
                <a:lnTo>
                  <a:pt x="335" y="2855"/>
                </a:lnTo>
                <a:lnTo>
                  <a:pt x="373" y="2764"/>
                </a:lnTo>
                <a:lnTo>
                  <a:pt x="434" y="2578"/>
                </a:lnTo>
                <a:lnTo>
                  <a:pt x="469" y="2347"/>
                </a:lnTo>
                <a:lnTo>
                  <a:pt x="528" y="2040"/>
                </a:lnTo>
                <a:lnTo>
                  <a:pt x="528" y="2040"/>
                </a:lnTo>
                <a:lnTo>
                  <a:pt x="542" y="1992"/>
                </a:lnTo>
                <a:lnTo>
                  <a:pt x="556" y="1947"/>
                </a:lnTo>
                <a:lnTo>
                  <a:pt x="574" y="1902"/>
                </a:lnTo>
                <a:lnTo>
                  <a:pt x="590" y="1862"/>
                </a:lnTo>
                <a:lnTo>
                  <a:pt x="616" y="1800"/>
                </a:lnTo>
                <a:lnTo>
                  <a:pt x="627" y="1777"/>
                </a:lnTo>
                <a:lnTo>
                  <a:pt x="646" y="1795"/>
                </a:lnTo>
                <a:lnTo>
                  <a:pt x="651" y="1820"/>
                </a:lnTo>
                <a:lnTo>
                  <a:pt x="697" y="1915"/>
                </a:lnTo>
                <a:lnTo>
                  <a:pt x="714" y="2033"/>
                </a:lnTo>
                <a:lnTo>
                  <a:pt x="720" y="2055"/>
                </a:lnTo>
                <a:lnTo>
                  <a:pt x="725" y="2087"/>
                </a:lnTo>
                <a:lnTo>
                  <a:pt x="725" y="2087"/>
                </a:lnTo>
                <a:lnTo>
                  <a:pt x="725" y="2110"/>
                </a:lnTo>
                <a:lnTo>
                  <a:pt x="726" y="2138"/>
                </a:lnTo>
                <a:lnTo>
                  <a:pt x="729" y="2169"/>
                </a:lnTo>
                <a:lnTo>
                  <a:pt x="733" y="2201"/>
                </a:lnTo>
                <a:lnTo>
                  <a:pt x="739" y="2253"/>
                </a:lnTo>
                <a:lnTo>
                  <a:pt x="742" y="2275"/>
                </a:lnTo>
                <a:lnTo>
                  <a:pt x="765" y="2409"/>
                </a:lnTo>
                <a:lnTo>
                  <a:pt x="765" y="2409"/>
                </a:lnTo>
                <a:lnTo>
                  <a:pt x="812" y="2637"/>
                </a:lnTo>
                <a:lnTo>
                  <a:pt x="798" y="2869"/>
                </a:lnTo>
                <a:lnTo>
                  <a:pt x="814" y="2930"/>
                </a:lnTo>
                <a:lnTo>
                  <a:pt x="812" y="2987"/>
                </a:lnTo>
                <a:lnTo>
                  <a:pt x="775" y="3016"/>
                </a:lnTo>
                <a:lnTo>
                  <a:pt x="772" y="3059"/>
                </a:lnTo>
                <a:lnTo>
                  <a:pt x="772" y="3059"/>
                </a:lnTo>
                <a:lnTo>
                  <a:pt x="773" y="3081"/>
                </a:lnTo>
                <a:lnTo>
                  <a:pt x="777" y="3098"/>
                </a:lnTo>
                <a:lnTo>
                  <a:pt x="782" y="3112"/>
                </a:lnTo>
                <a:lnTo>
                  <a:pt x="788" y="3120"/>
                </a:lnTo>
                <a:lnTo>
                  <a:pt x="794" y="3128"/>
                </a:lnTo>
                <a:lnTo>
                  <a:pt x="800" y="3131"/>
                </a:lnTo>
                <a:lnTo>
                  <a:pt x="805" y="3134"/>
                </a:lnTo>
                <a:lnTo>
                  <a:pt x="810" y="3135"/>
                </a:lnTo>
                <a:lnTo>
                  <a:pt x="799" y="3208"/>
                </a:lnTo>
                <a:lnTo>
                  <a:pt x="799" y="3208"/>
                </a:lnTo>
                <a:lnTo>
                  <a:pt x="798" y="3212"/>
                </a:lnTo>
                <a:lnTo>
                  <a:pt x="795" y="3220"/>
                </a:lnTo>
                <a:lnTo>
                  <a:pt x="795" y="3232"/>
                </a:lnTo>
                <a:lnTo>
                  <a:pt x="797" y="3241"/>
                </a:lnTo>
                <a:lnTo>
                  <a:pt x="798" y="3250"/>
                </a:lnTo>
                <a:lnTo>
                  <a:pt x="802" y="3260"/>
                </a:lnTo>
                <a:lnTo>
                  <a:pt x="805" y="3269"/>
                </a:lnTo>
                <a:lnTo>
                  <a:pt x="812" y="3279"/>
                </a:lnTo>
                <a:lnTo>
                  <a:pt x="820" y="3290"/>
                </a:lnTo>
                <a:lnTo>
                  <a:pt x="830" y="3300"/>
                </a:lnTo>
                <a:lnTo>
                  <a:pt x="842" y="3311"/>
                </a:lnTo>
                <a:lnTo>
                  <a:pt x="857" y="3322"/>
                </a:lnTo>
                <a:lnTo>
                  <a:pt x="876" y="3332"/>
                </a:lnTo>
                <a:lnTo>
                  <a:pt x="876" y="3332"/>
                </a:lnTo>
                <a:lnTo>
                  <a:pt x="878" y="3334"/>
                </a:lnTo>
                <a:lnTo>
                  <a:pt x="887" y="3334"/>
                </a:lnTo>
                <a:lnTo>
                  <a:pt x="902" y="3332"/>
                </a:lnTo>
                <a:lnTo>
                  <a:pt x="919" y="3329"/>
                </a:lnTo>
                <a:lnTo>
                  <a:pt x="929" y="3325"/>
                </a:lnTo>
                <a:lnTo>
                  <a:pt x="940" y="3321"/>
                </a:lnTo>
                <a:lnTo>
                  <a:pt x="951" y="3315"/>
                </a:lnTo>
                <a:lnTo>
                  <a:pt x="962" y="3309"/>
                </a:lnTo>
                <a:lnTo>
                  <a:pt x="974" y="3300"/>
                </a:lnTo>
                <a:lnTo>
                  <a:pt x="985" y="3289"/>
                </a:lnTo>
                <a:lnTo>
                  <a:pt x="998" y="3278"/>
                </a:lnTo>
                <a:lnTo>
                  <a:pt x="1009" y="3263"/>
                </a:lnTo>
                <a:lnTo>
                  <a:pt x="1011" y="3225"/>
                </a:lnTo>
                <a:lnTo>
                  <a:pt x="1009" y="3214"/>
                </a:lnTo>
                <a:lnTo>
                  <a:pt x="1009" y="3179"/>
                </a:lnTo>
                <a:lnTo>
                  <a:pt x="1006" y="3141"/>
                </a:lnTo>
                <a:lnTo>
                  <a:pt x="1019" y="3146"/>
                </a:lnTo>
                <a:lnTo>
                  <a:pt x="1019" y="3146"/>
                </a:lnTo>
                <a:lnTo>
                  <a:pt x="1024" y="3142"/>
                </a:lnTo>
                <a:lnTo>
                  <a:pt x="1028" y="3138"/>
                </a:lnTo>
                <a:lnTo>
                  <a:pt x="1033" y="3131"/>
                </a:lnTo>
                <a:lnTo>
                  <a:pt x="1037" y="3124"/>
                </a:lnTo>
                <a:lnTo>
                  <a:pt x="1043" y="3108"/>
                </a:lnTo>
                <a:lnTo>
                  <a:pt x="1048" y="3091"/>
                </a:lnTo>
                <a:lnTo>
                  <a:pt x="1052" y="3075"/>
                </a:lnTo>
                <a:lnTo>
                  <a:pt x="1054" y="3060"/>
                </a:lnTo>
                <a:lnTo>
                  <a:pt x="1057" y="3046"/>
                </a:lnTo>
                <a:lnTo>
                  <a:pt x="1058" y="3032"/>
                </a:lnTo>
                <a:lnTo>
                  <a:pt x="1058" y="3032"/>
                </a:lnTo>
                <a:lnTo>
                  <a:pt x="1057" y="3027"/>
                </a:lnTo>
                <a:lnTo>
                  <a:pt x="1054" y="3023"/>
                </a:lnTo>
                <a:lnTo>
                  <a:pt x="1048" y="3014"/>
                </a:lnTo>
                <a:lnTo>
                  <a:pt x="1041" y="3008"/>
                </a:lnTo>
                <a:lnTo>
                  <a:pt x="1033" y="3002"/>
                </a:lnTo>
                <a:lnTo>
                  <a:pt x="1019" y="2995"/>
                </a:lnTo>
                <a:lnTo>
                  <a:pt x="1012" y="2992"/>
                </a:lnTo>
                <a:lnTo>
                  <a:pt x="1021" y="2908"/>
                </a:lnTo>
                <a:lnTo>
                  <a:pt x="1036" y="2718"/>
                </a:lnTo>
                <a:lnTo>
                  <a:pt x="1036" y="2718"/>
                </a:lnTo>
                <a:lnTo>
                  <a:pt x="1036" y="2702"/>
                </a:lnTo>
                <a:lnTo>
                  <a:pt x="1035" y="2680"/>
                </a:lnTo>
                <a:lnTo>
                  <a:pt x="1031" y="2626"/>
                </a:lnTo>
                <a:lnTo>
                  <a:pt x="1026" y="2558"/>
                </a:lnTo>
                <a:lnTo>
                  <a:pt x="1026" y="2531"/>
                </a:lnTo>
                <a:lnTo>
                  <a:pt x="1015" y="2386"/>
                </a:lnTo>
                <a:lnTo>
                  <a:pt x="1005" y="2256"/>
                </a:lnTo>
                <a:lnTo>
                  <a:pt x="995" y="2169"/>
                </a:lnTo>
                <a:lnTo>
                  <a:pt x="993" y="2132"/>
                </a:lnTo>
                <a:lnTo>
                  <a:pt x="990" y="2097"/>
                </a:lnTo>
                <a:lnTo>
                  <a:pt x="988" y="2047"/>
                </a:lnTo>
                <a:lnTo>
                  <a:pt x="984" y="1932"/>
                </a:lnTo>
                <a:lnTo>
                  <a:pt x="984" y="1878"/>
                </a:lnTo>
                <a:lnTo>
                  <a:pt x="982" y="1720"/>
                </a:lnTo>
                <a:lnTo>
                  <a:pt x="974" y="1594"/>
                </a:lnTo>
                <a:lnTo>
                  <a:pt x="977" y="1560"/>
                </a:lnTo>
                <a:lnTo>
                  <a:pt x="977" y="1560"/>
                </a:lnTo>
                <a:lnTo>
                  <a:pt x="974" y="1543"/>
                </a:lnTo>
                <a:lnTo>
                  <a:pt x="971" y="1529"/>
                </a:lnTo>
                <a:lnTo>
                  <a:pt x="967" y="1519"/>
                </a:lnTo>
                <a:lnTo>
                  <a:pt x="963" y="1513"/>
                </a:lnTo>
                <a:lnTo>
                  <a:pt x="941" y="1386"/>
                </a:lnTo>
                <a:lnTo>
                  <a:pt x="909" y="1343"/>
                </a:lnTo>
                <a:lnTo>
                  <a:pt x="909" y="1326"/>
                </a:lnTo>
                <a:lnTo>
                  <a:pt x="915" y="1317"/>
                </a:lnTo>
                <a:lnTo>
                  <a:pt x="915" y="1298"/>
                </a:lnTo>
                <a:lnTo>
                  <a:pt x="922" y="1298"/>
                </a:lnTo>
                <a:lnTo>
                  <a:pt x="925" y="1290"/>
                </a:lnTo>
                <a:lnTo>
                  <a:pt x="920" y="1249"/>
                </a:lnTo>
                <a:lnTo>
                  <a:pt x="925" y="1247"/>
                </a:lnTo>
                <a:lnTo>
                  <a:pt x="1012" y="1229"/>
                </a:lnTo>
                <a:lnTo>
                  <a:pt x="1041" y="1222"/>
                </a:lnTo>
                <a:lnTo>
                  <a:pt x="1093" y="1217"/>
                </a:lnTo>
                <a:lnTo>
                  <a:pt x="1093" y="1217"/>
                </a:lnTo>
                <a:lnTo>
                  <a:pt x="1104" y="1212"/>
                </a:lnTo>
                <a:lnTo>
                  <a:pt x="1115" y="1207"/>
                </a:lnTo>
                <a:lnTo>
                  <a:pt x="1131" y="1197"/>
                </a:lnTo>
                <a:lnTo>
                  <a:pt x="1141" y="1190"/>
                </a:lnTo>
                <a:lnTo>
                  <a:pt x="1144" y="1186"/>
                </a:lnTo>
                <a:lnTo>
                  <a:pt x="1144" y="1186"/>
                </a:lnTo>
                <a:lnTo>
                  <a:pt x="1147" y="1181"/>
                </a:lnTo>
                <a:lnTo>
                  <a:pt x="1148" y="1176"/>
                </a:lnTo>
                <a:lnTo>
                  <a:pt x="1152" y="1163"/>
                </a:lnTo>
                <a:lnTo>
                  <a:pt x="1154" y="1148"/>
                </a:lnTo>
                <a:lnTo>
                  <a:pt x="1155" y="1133"/>
                </a:lnTo>
                <a:lnTo>
                  <a:pt x="1155" y="1107"/>
                </a:lnTo>
                <a:lnTo>
                  <a:pt x="1155" y="1096"/>
                </a:lnTo>
                <a:lnTo>
                  <a:pt x="1155" y="1096"/>
                </a:lnTo>
                <a:close/>
                <a:moveTo>
                  <a:pt x="286" y="1152"/>
                </a:moveTo>
                <a:lnTo>
                  <a:pt x="284" y="1127"/>
                </a:lnTo>
                <a:lnTo>
                  <a:pt x="295" y="1109"/>
                </a:lnTo>
                <a:lnTo>
                  <a:pt x="295" y="1068"/>
                </a:lnTo>
                <a:lnTo>
                  <a:pt x="300" y="1056"/>
                </a:lnTo>
                <a:lnTo>
                  <a:pt x="300" y="1056"/>
                </a:lnTo>
                <a:lnTo>
                  <a:pt x="301" y="1056"/>
                </a:lnTo>
                <a:lnTo>
                  <a:pt x="302" y="1057"/>
                </a:lnTo>
                <a:lnTo>
                  <a:pt x="304" y="1059"/>
                </a:lnTo>
                <a:lnTo>
                  <a:pt x="299" y="1107"/>
                </a:lnTo>
                <a:lnTo>
                  <a:pt x="295" y="1155"/>
                </a:lnTo>
                <a:lnTo>
                  <a:pt x="284" y="1189"/>
                </a:lnTo>
                <a:lnTo>
                  <a:pt x="286" y="1162"/>
                </a:lnTo>
                <a:lnTo>
                  <a:pt x="286" y="1152"/>
                </a:lnTo>
                <a:close/>
                <a:moveTo>
                  <a:pt x="190" y="1636"/>
                </a:moveTo>
                <a:lnTo>
                  <a:pt x="194" y="1631"/>
                </a:lnTo>
                <a:lnTo>
                  <a:pt x="203" y="1637"/>
                </a:lnTo>
                <a:lnTo>
                  <a:pt x="205" y="1657"/>
                </a:lnTo>
                <a:lnTo>
                  <a:pt x="205" y="1657"/>
                </a:lnTo>
                <a:lnTo>
                  <a:pt x="201" y="1655"/>
                </a:lnTo>
                <a:lnTo>
                  <a:pt x="196" y="1653"/>
                </a:lnTo>
                <a:lnTo>
                  <a:pt x="193" y="1655"/>
                </a:lnTo>
                <a:lnTo>
                  <a:pt x="189" y="1657"/>
                </a:lnTo>
                <a:lnTo>
                  <a:pt x="190" y="1636"/>
                </a:lnTo>
                <a:close/>
                <a:moveTo>
                  <a:pt x="210" y="2070"/>
                </a:moveTo>
                <a:lnTo>
                  <a:pt x="219" y="1995"/>
                </a:lnTo>
                <a:lnTo>
                  <a:pt x="224" y="2028"/>
                </a:lnTo>
                <a:lnTo>
                  <a:pt x="210" y="2070"/>
                </a:lnTo>
                <a:close/>
                <a:moveTo>
                  <a:pt x="301" y="1489"/>
                </a:moveTo>
                <a:lnTo>
                  <a:pt x="293" y="1531"/>
                </a:lnTo>
                <a:lnTo>
                  <a:pt x="288" y="1552"/>
                </a:lnTo>
                <a:lnTo>
                  <a:pt x="268" y="1584"/>
                </a:lnTo>
                <a:lnTo>
                  <a:pt x="269" y="1649"/>
                </a:lnTo>
                <a:lnTo>
                  <a:pt x="254" y="1725"/>
                </a:lnTo>
                <a:lnTo>
                  <a:pt x="249" y="1794"/>
                </a:lnTo>
                <a:lnTo>
                  <a:pt x="231" y="1906"/>
                </a:lnTo>
                <a:lnTo>
                  <a:pt x="245" y="1796"/>
                </a:lnTo>
                <a:lnTo>
                  <a:pt x="240" y="1766"/>
                </a:lnTo>
                <a:lnTo>
                  <a:pt x="240" y="1766"/>
                </a:lnTo>
                <a:lnTo>
                  <a:pt x="237" y="1759"/>
                </a:lnTo>
                <a:lnTo>
                  <a:pt x="235" y="1755"/>
                </a:lnTo>
                <a:lnTo>
                  <a:pt x="227" y="1746"/>
                </a:lnTo>
                <a:lnTo>
                  <a:pt x="228" y="1742"/>
                </a:lnTo>
                <a:lnTo>
                  <a:pt x="224" y="1741"/>
                </a:lnTo>
                <a:lnTo>
                  <a:pt x="224" y="1690"/>
                </a:lnTo>
                <a:lnTo>
                  <a:pt x="228" y="1688"/>
                </a:lnTo>
                <a:lnTo>
                  <a:pt x="228" y="1688"/>
                </a:lnTo>
                <a:lnTo>
                  <a:pt x="233" y="1687"/>
                </a:lnTo>
                <a:lnTo>
                  <a:pt x="237" y="1685"/>
                </a:lnTo>
                <a:lnTo>
                  <a:pt x="242" y="1681"/>
                </a:lnTo>
                <a:lnTo>
                  <a:pt x="245" y="1677"/>
                </a:lnTo>
                <a:lnTo>
                  <a:pt x="246" y="1674"/>
                </a:lnTo>
                <a:lnTo>
                  <a:pt x="246" y="1639"/>
                </a:lnTo>
                <a:lnTo>
                  <a:pt x="251" y="1603"/>
                </a:lnTo>
                <a:lnTo>
                  <a:pt x="251" y="1577"/>
                </a:lnTo>
                <a:lnTo>
                  <a:pt x="251" y="1577"/>
                </a:lnTo>
                <a:lnTo>
                  <a:pt x="259" y="1579"/>
                </a:lnTo>
                <a:lnTo>
                  <a:pt x="263" y="1575"/>
                </a:lnTo>
                <a:lnTo>
                  <a:pt x="268" y="1510"/>
                </a:lnTo>
                <a:lnTo>
                  <a:pt x="268" y="1510"/>
                </a:lnTo>
                <a:lnTo>
                  <a:pt x="270" y="1512"/>
                </a:lnTo>
                <a:lnTo>
                  <a:pt x="277" y="1448"/>
                </a:lnTo>
                <a:lnTo>
                  <a:pt x="274" y="1444"/>
                </a:lnTo>
                <a:lnTo>
                  <a:pt x="277" y="1441"/>
                </a:lnTo>
                <a:lnTo>
                  <a:pt x="291" y="1476"/>
                </a:lnTo>
                <a:lnTo>
                  <a:pt x="307" y="1477"/>
                </a:lnTo>
                <a:lnTo>
                  <a:pt x="307" y="1477"/>
                </a:lnTo>
                <a:lnTo>
                  <a:pt x="301" y="1489"/>
                </a:lnTo>
                <a:close/>
                <a:moveTo>
                  <a:pt x="952" y="1067"/>
                </a:moveTo>
                <a:lnTo>
                  <a:pt x="946" y="1068"/>
                </a:lnTo>
                <a:lnTo>
                  <a:pt x="932" y="1063"/>
                </a:lnTo>
                <a:lnTo>
                  <a:pt x="902" y="1059"/>
                </a:lnTo>
                <a:lnTo>
                  <a:pt x="894" y="1063"/>
                </a:lnTo>
                <a:lnTo>
                  <a:pt x="893" y="1032"/>
                </a:lnTo>
                <a:lnTo>
                  <a:pt x="883" y="1010"/>
                </a:lnTo>
                <a:lnTo>
                  <a:pt x="884" y="980"/>
                </a:lnTo>
                <a:lnTo>
                  <a:pt x="889" y="961"/>
                </a:lnTo>
                <a:lnTo>
                  <a:pt x="894" y="918"/>
                </a:lnTo>
                <a:lnTo>
                  <a:pt x="908" y="961"/>
                </a:lnTo>
                <a:lnTo>
                  <a:pt x="940" y="1025"/>
                </a:lnTo>
                <a:lnTo>
                  <a:pt x="953" y="1049"/>
                </a:lnTo>
                <a:lnTo>
                  <a:pt x="952" y="1067"/>
                </a:ln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475e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Freeform 13"/>
          <p:cNvSpPr/>
          <p:nvPr/>
        </p:nvSpPr>
        <p:spPr>
          <a:xfrm>
            <a:off x="6880320" y="3475080"/>
            <a:ext cx="442800" cy="1244520"/>
          </a:xfrm>
          <a:custGeom>
            <a:avLst/>
            <a:gdLst/>
            <a:ahLst/>
            <a:rect l="l" t="t" r="r" b="b"/>
            <a:pathLst>
              <a:path w="1155" h="3334">
                <a:moveTo>
                  <a:pt x="1155" y="1096"/>
                </a:moveTo>
                <a:lnTo>
                  <a:pt x="1149" y="1074"/>
                </a:lnTo>
                <a:lnTo>
                  <a:pt x="1148" y="1054"/>
                </a:lnTo>
                <a:lnTo>
                  <a:pt x="1148" y="1054"/>
                </a:lnTo>
                <a:lnTo>
                  <a:pt x="1143" y="1037"/>
                </a:lnTo>
                <a:lnTo>
                  <a:pt x="1138" y="1022"/>
                </a:lnTo>
                <a:lnTo>
                  <a:pt x="1133" y="1009"/>
                </a:lnTo>
                <a:lnTo>
                  <a:pt x="1128" y="998"/>
                </a:lnTo>
                <a:lnTo>
                  <a:pt x="1120" y="982"/>
                </a:lnTo>
                <a:lnTo>
                  <a:pt x="1117" y="977"/>
                </a:lnTo>
                <a:lnTo>
                  <a:pt x="1095" y="931"/>
                </a:lnTo>
                <a:lnTo>
                  <a:pt x="1085" y="892"/>
                </a:lnTo>
                <a:lnTo>
                  <a:pt x="1056" y="857"/>
                </a:lnTo>
                <a:lnTo>
                  <a:pt x="1038" y="809"/>
                </a:lnTo>
                <a:lnTo>
                  <a:pt x="1036" y="783"/>
                </a:lnTo>
                <a:lnTo>
                  <a:pt x="1036" y="783"/>
                </a:lnTo>
                <a:lnTo>
                  <a:pt x="1019" y="749"/>
                </a:lnTo>
                <a:lnTo>
                  <a:pt x="991" y="699"/>
                </a:lnTo>
                <a:lnTo>
                  <a:pt x="957" y="637"/>
                </a:lnTo>
                <a:lnTo>
                  <a:pt x="942" y="620"/>
                </a:lnTo>
                <a:lnTo>
                  <a:pt x="938" y="618"/>
                </a:lnTo>
                <a:lnTo>
                  <a:pt x="918" y="598"/>
                </a:lnTo>
                <a:lnTo>
                  <a:pt x="894" y="581"/>
                </a:lnTo>
                <a:lnTo>
                  <a:pt x="876" y="566"/>
                </a:lnTo>
                <a:lnTo>
                  <a:pt x="863" y="563"/>
                </a:lnTo>
                <a:lnTo>
                  <a:pt x="824" y="544"/>
                </a:lnTo>
                <a:lnTo>
                  <a:pt x="808" y="523"/>
                </a:lnTo>
                <a:lnTo>
                  <a:pt x="787" y="522"/>
                </a:lnTo>
                <a:lnTo>
                  <a:pt x="786" y="522"/>
                </a:lnTo>
                <a:lnTo>
                  <a:pt x="778" y="519"/>
                </a:lnTo>
                <a:lnTo>
                  <a:pt x="745" y="473"/>
                </a:lnTo>
                <a:lnTo>
                  <a:pt x="731" y="471"/>
                </a:lnTo>
                <a:lnTo>
                  <a:pt x="734" y="452"/>
                </a:lnTo>
                <a:lnTo>
                  <a:pt x="735" y="453"/>
                </a:lnTo>
                <a:lnTo>
                  <a:pt x="742" y="439"/>
                </a:lnTo>
                <a:lnTo>
                  <a:pt x="750" y="463"/>
                </a:lnTo>
                <a:lnTo>
                  <a:pt x="755" y="463"/>
                </a:lnTo>
                <a:lnTo>
                  <a:pt x="779" y="411"/>
                </a:lnTo>
                <a:lnTo>
                  <a:pt x="807" y="326"/>
                </a:lnTo>
                <a:lnTo>
                  <a:pt x="807" y="326"/>
                </a:lnTo>
                <a:lnTo>
                  <a:pt x="814" y="305"/>
                </a:lnTo>
                <a:lnTo>
                  <a:pt x="821" y="279"/>
                </a:lnTo>
                <a:lnTo>
                  <a:pt x="829" y="249"/>
                </a:lnTo>
                <a:lnTo>
                  <a:pt x="829" y="249"/>
                </a:lnTo>
                <a:lnTo>
                  <a:pt x="828" y="236"/>
                </a:lnTo>
                <a:lnTo>
                  <a:pt x="825" y="222"/>
                </a:lnTo>
                <a:lnTo>
                  <a:pt x="821" y="210"/>
                </a:lnTo>
                <a:lnTo>
                  <a:pt x="818" y="199"/>
                </a:lnTo>
                <a:lnTo>
                  <a:pt x="809" y="184"/>
                </a:lnTo>
                <a:lnTo>
                  <a:pt x="805" y="178"/>
                </a:lnTo>
                <a:lnTo>
                  <a:pt x="805" y="178"/>
                </a:lnTo>
                <a:lnTo>
                  <a:pt x="794" y="163"/>
                </a:lnTo>
                <a:lnTo>
                  <a:pt x="783" y="148"/>
                </a:lnTo>
                <a:lnTo>
                  <a:pt x="773" y="132"/>
                </a:lnTo>
                <a:lnTo>
                  <a:pt x="760" y="89"/>
                </a:lnTo>
                <a:lnTo>
                  <a:pt x="754" y="87"/>
                </a:lnTo>
                <a:lnTo>
                  <a:pt x="730" y="57"/>
                </a:lnTo>
                <a:lnTo>
                  <a:pt x="696" y="51"/>
                </a:lnTo>
                <a:lnTo>
                  <a:pt x="635" y="10"/>
                </a:lnTo>
                <a:lnTo>
                  <a:pt x="629" y="10"/>
                </a:lnTo>
                <a:lnTo>
                  <a:pt x="634" y="25"/>
                </a:lnTo>
                <a:lnTo>
                  <a:pt x="588" y="0"/>
                </a:lnTo>
                <a:lnTo>
                  <a:pt x="598" y="25"/>
                </a:lnTo>
                <a:lnTo>
                  <a:pt x="575" y="7"/>
                </a:lnTo>
                <a:lnTo>
                  <a:pt x="579" y="29"/>
                </a:lnTo>
                <a:lnTo>
                  <a:pt x="574" y="26"/>
                </a:lnTo>
                <a:lnTo>
                  <a:pt x="534" y="14"/>
                </a:lnTo>
                <a:lnTo>
                  <a:pt x="556" y="39"/>
                </a:lnTo>
                <a:lnTo>
                  <a:pt x="554" y="41"/>
                </a:lnTo>
                <a:lnTo>
                  <a:pt x="519" y="19"/>
                </a:lnTo>
                <a:lnTo>
                  <a:pt x="532" y="47"/>
                </a:lnTo>
                <a:lnTo>
                  <a:pt x="529" y="49"/>
                </a:lnTo>
                <a:lnTo>
                  <a:pt x="508" y="19"/>
                </a:lnTo>
                <a:lnTo>
                  <a:pt x="508" y="24"/>
                </a:lnTo>
                <a:lnTo>
                  <a:pt x="507" y="56"/>
                </a:lnTo>
                <a:lnTo>
                  <a:pt x="476" y="46"/>
                </a:lnTo>
                <a:lnTo>
                  <a:pt x="479" y="50"/>
                </a:lnTo>
                <a:lnTo>
                  <a:pt x="505" y="73"/>
                </a:lnTo>
                <a:lnTo>
                  <a:pt x="461" y="74"/>
                </a:lnTo>
                <a:lnTo>
                  <a:pt x="465" y="78"/>
                </a:lnTo>
                <a:lnTo>
                  <a:pt x="489" y="90"/>
                </a:lnTo>
                <a:lnTo>
                  <a:pt x="468" y="94"/>
                </a:lnTo>
                <a:lnTo>
                  <a:pt x="491" y="103"/>
                </a:lnTo>
                <a:lnTo>
                  <a:pt x="458" y="115"/>
                </a:lnTo>
                <a:lnTo>
                  <a:pt x="482" y="126"/>
                </a:lnTo>
                <a:lnTo>
                  <a:pt x="468" y="137"/>
                </a:lnTo>
                <a:lnTo>
                  <a:pt x="482" y="139"/>
                </a:lnTo>
                <a:lnTo>
                  <a:pt x="461" y="166"/>
                </a:lnTo>
                <a:lnTo>
                  <a:pt x="464" y="164"/>
                </a:lnTo>
                <a:lnTo>
                  <a:pt x="479" y="158"/>
                </a:lnTo>
                <a:lnTo>
                  <a:pt x="479" y="158"/>
                </a:lnTo>
                <a:lnTo>
                  <a:pt x="476" y="167"/>
                </a:lnTo>
                <a:lnTo>
                  <a:pt x="474" y="178"/>
                </a:lnTo>
                <a:lnTo>
                  <a:pt x="473" y="190"/>
                </a:lnTo>
                <a:lnTo>
                  <a:pt x="473" y="198"/>
                </a:lnTo>
                <a:lnTo>
                  <a:pt x="474" y="204"/>
                </a:lnTo>
                <a:lnTo>
                  <a:pt x="471" y="216"/>
                </a:lnTo>
                <a:lnTo>
                  <a:pt x="471" y="229"/>
                </a:lnTo>
                <a:lnTo>
                  <a:pt x="471" y="229"/>
                </a:lnTo>
                <a:lnTo>
                  <a:pt x="466" y="240"/>
                </a:lnTo>
                <a:lnTo>
                  <a:pt x="460" y="252"/>
                </a:lnTo>
                <a:lnTo>
                  <a:pt x="469" y="304"/>
                </a:lnTo>
                <a:lnTo>
                  <a:pt x="471" y="353"/>
                </a:lnTo>
                <a:lnTo>
                  <a:pt x="471" y="353"/>
                </a:lnTo>
                <a:lnTo>
                  <a:pt x="473" y="359"/>
                </a:lnTo>
                <a:lnTo>
                  <a:pt x="474" y="365"/>
                </a:lnTo>
                <a:lnTo>
                  <a:pt x="477" y="374"/>
                </a:lnTo>
                <a:lnTo>
                  <a:pt x="481" y="383"/>
                </a:lnTo>
                <a:lnTo>
                  <a:pt x="487" y="391"/>
                </a:lnTo>
                <a:lnTo>
                  <a:pt x="495" y="399"/>
                </a:lnTo>
                <a:lnTo>
                  <a:pt x="505" y="406"/>
                </a:lnTo>
                <a:lnTo>
                  <a:pt x="519" y="416"/>
                </a:lnTo>
                <a:lnTo>
                  <a:pt x="521" y="428"/>
                </a:lnTo>
                <a:lnTo>
                  <a:pt x="519" y="439"/>
                </a:lnTo>
                <a:lnTo>
                  <a:pt x="510" y="441"/>
                </a:lnTo>
                <a:lnTo>
                  <a:pt x="438" y="505"/>
                </a:lnTo>
                <a:lnTo>
                  <a:pt x="415" y="507"/>
                </a:lnTo>
                <a:lnTo>
                  <a:pt x="388" y="523"/>
                </a:lnTo>
                <a:lnTo>
                  <a:pt x="355" y="527"/>
                </a:lnTo>
                <a:lnTo>
                  <a:pt x="355" y="527"/>
                </a:lnTo>
                <a:lnTo>
                  <a:pt x="343" y="529"/>
                </a:lnTo>
                <a:lnTo>
                  <a:pt x="332" y="532"/>
                </a:lnTo>
                <a:lnTo>
                  <a:pt x="310" y="538"/>
                </a:lnTo>
                <a:lnTo>
                  <a:pt x="289" y="547"/>
                </a:lnTo>
                <a:lnTo>
                  <a:pt x="270" y="556"/>
                </a:lnTo>
                <a:lnTo>
                  <a:pt x="256" y="565"/>
                </a:lnTo>
                <a:lnTo>
                  <a:pt x="245" y="574"/>
                </a:lnTo>
                <a:lnTo>
                  <a:pt x="235" y="581"/>
                </a:lnTo>
                <a:lnTo>
                  <a:pt x="232" y="619"/>
                </a:lnTo>
                <a:lnTo>
                  <a:pt x="205" y="690"/>
                </a:lnTo>
                <a:lnTo>
                  <a:pt x="195" y="731"/>
                </a:lnTo>
                <a:lnTo>
                  <a:pt x="187" y="793"/>
                </a:lnTo>
                <a:lnTo>
                  <a:pt x="183" y="809"/>
                </a:lnTo>
                <a:lnTo>
                  <a:pt x="183" y="809"/>
                </a:lnTo>
                <a:lnTo>
                  <a:pt x="178" y="837"/>
                </a:lnTo>
                <a:lnTo>
                  <a:pt x="174" y="867"/>
                </a:lnTo>
                <a:lnTo>
                  <a:pt x="169" y="921"/>
                </a:lnTo>
                <a:lnTo>
                  <a:pt x="168" y="962"/>
                </a:lnTo>
                <a:lnTo>
                  <a:pt x="168" y="978"/>
                </a:lnTo>
                <a:lnTo>
                  <a:pt x="155" y="1017"/>
                </a:lnTo>
                <a:lnTo>
                  <a:pt x="146" y="1063"/>
                </a:lnTo>
                <a:lnTo>
                  <a:pt x="137" y="1079"/>
                </a:lnTo>
                <a:lnTo>
                  <a:pt x="134" y="1141"/>
                </a:lnTo>
                <a:lnTo>
                  <a:pt x="136" y="1159"/>
                </a:lnTo>
                <a:lnTo>
                  <a:pt x="130" y="1173"/>
                </a:lnTo>
                <a:lnTo>
                  <a:pt x="113" y="1231"/>
                </a:lnTo>
                <a:lnTo>
                  <a:pt x="116" y="1249"/>
                </a:lnTo>
                <a:lnTo>
                  <a:pt x="121" y="1277"/>
                </a:lnTo>
                <a:lnTo>
                  <a:pt x="111" y="1297"/>
                </a:lnTo>
                <a:lnTo>
                  <a:pt x="113" y="1340"/>
                </a:lnTo>
                <a:lnTo>
                  <a:pt x="114" y="1456"/>
                </a:lnTo>
                <a:lnTo>
                  <a:pt x="114" y="1456"/>
                </a:lnTo>
                <a:lnTo>
                  <a:pt x="113" y="1466"/>
                </a:lnTo>
                <a:lnTo>
                  <a:pt x="113" y="1466"/>
                </a:lnTo>
                <a:lnTo>
                  <a:pt x="97" y="1477"/>
                </a:lnTo>
                <a:lnTo>
                  <a:pt x="102" y="1530"/>
                </a:lnTo>
                <a:lnTo>
                  <a:pt x="111" y="1539"/>
                </a:lnTo>
                <a:lnTo>
                  <a:pt x="111" y="1539"/>
                </a:lnTo>
                <a:lnTo>
                  <a:pt x="114" y="1536"/>
                </a:lnTo>
                <a:lnTo>
                  <a:pt x="114" y="1536"/>
                </a:lnTo>
                <a:lnTo>
                  <a:pt x="116" y="1579"/>
                </a:lnTo>
                <a:lnTo>
                  <a:pt x="119" y="1597"/>
                </a:lnTo>
                <a:lnTo>
                  <a:pt x="120" y="1597"/>
                </a:lnTo>
                <a:lnTo>
                  <a:pt x="114" y="1644"/>
                </a:lnTo>
                <a:lnTo>
                  <a:pt x="126" y="1679"/>
                </a:lnTo>
                <a:lnTo>
                  <a:pt x="146" y="1705"/>
                </a:lnTo>
                <a:lnTo>
                  <a:pt x="164" y="1718"/>
                </a:lnTo>
                <a:lnTo>
                  <a:pt x="177" y="1709"/>
                </a:lnTo>
                <a:lnTo>
                  <a:pt x="184" y="1709"/>
                </a:lnTo>
                <a:lnTo>
                  <a:pt x="184" y="1709"/>
                </a:lnTo>
                <a:lnTo>
                  <a:pt x="185" y="1722"/>
                </a:lnTo>
                <a:lnTo>
                  <a:pt x="183" y="1720"/>
                </a:lnTo>
                <a:lnTo>
                  <a:pt x="179" y="1727"/>
                </a:lnTo>
                <a:lnTo>
                  <a:pt x="179" y="1727"/>
                </a:lnTo>
                <a:lnTo>
                  <a:pt x="174" y="1727"/>
                </a:lnTo>
                <a:lnTo>
                  <a:pt x="174" y="1727"/>
                </a:lnTo>
                <a:lnTo>
                  <a:pt x="166" y="1734"/>
                </a:lnTo>
                <a:lnTo>
                  <a:pt x="159" y="1740"/>
                </a:lnTo>
                <a:lnTo>
                  <a:pt x="152" y="1747"/>
                </a:lnTo>
                <a:lnTo>
                  <a:pt x="146" y="1755"/>
                </a:lnTo>
                <a:lnTo>
                  <a:pt x="137" y="176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1" y="1782"/>
                </a:lnTo>
                <a:lnTo>
                  <a:pt x="131" y="1782"/>
                </a:lnTo>
                <a:lnTo>
                  <a:pt x="33" y="2244"/>
                </a:lnTo>
                <a:lnTo>
                  <a:pt x="30" y="2255"/>
                </a:lnTo>
                <a:lnTo>
                  <a:pt x="30" y="2255"/>
                </a:lnTo>
                <a:lnTo>
                  <a:pt x="44" y="2243"/>
                </a:lnTo>
                <a:lnTo>
                  <a:pt x="56" y="2233"/>
                </a:lnTo>
                <a:lnTo>
                  <a:pt x="68" y="2227"/>
                </a:lnTo>
                <a:lnTo>
                  <a:pt x="79" y="2223"/>
                </a:lnTo>
                <a:lnTo>
                  <a:pt x="89" y="2222"/>
                </a:lnTo>
                <a:lnTo>
                  <a:pt x="95" y="2220"/>
                </a:lnTo>
                <a:lnTo>
                  <a:pt x="102" y="2220"/>
                </a:lnTo>
                <a:lnTo>
                  <a:pt x="102" y="2220"/>
                </a:lnTo>
                <a:lnTo>
                  <a:pt x="108" y="2220"/>
                </a:lnTo>
                <a:lnTo>
                  <a:pt x="115" y="2222"/>
                </a:lnTo>
                <a:lnTo>
                  <a:pt x="122" y="2224"/>
                </a:lnTo>
                <a:lnTo>
                  <a:pt x="131" y="2228"/>
                </a:lnTo>
                <a:lnTo>
                  <a:pt x="148" y="2238"/>
                </a:lnTo>
                <a:lnTo>
                  <a:pt x="164" y="2249"/>
                </a:lnTo>
                <a:lnTo>
                  <a:pt x="159" y="2260"/>
                </a:lnTo>
                <a:lnTo>
                  <a:pt x="158" y="2307"/>
                </a:lnTo>
                <a:lnTo>
                  <a:pt x="131" y="2376"/>
                </a:lnTo>
                <a:lnTo>
                  <a:pt x="97" y="2580"/>
                </a:lnTo>
                <a:lnTo>
                  <a:pt x="77" y="2662"/>
                </a:lnTo>
                <a:lnTo>
                  <a:pt x="51" y="2826"/>
                </a:lnTo>
                <a:lnTo>
                  <a:pt x="37" y="2850"/>
                </a:lnTo>
                <a:lnTo>
                  <a:pt x="35" y="2896"/>
                </a:lnTo>
                <a:lnTo>
                  <a:pt x="34" y="2913"/>
                </a:lnTo>
                <a:lnTo>
                  <a:pt x="28" y="2938"/>
                </a:lnTo>
                <a:lnTo>
                  <a:pt x="28" y="3062"/>
                </a:lnTo>
                <a:lnTo>
                  <a:pt x="35" y="3081"/>
                </a:lnTo>
                <a:lnTo>
                  <a:pt x="35" y="3081"/>
                </a:lnTo>
                <a:lnTo>
                  <a:pt x="21" y="3108"/>
                </a:lnTo>
                <a:lnTo>
                  <a:pt x="10" y="3133"/>
                </a:lnTo>
                <a:lnTo>
                  <a:pt x="2" y="3156"/>
                </a:lnTo>
                <a:lnTo>
                  <a:pt x="2" y="3156"/>
                </a:lnTo>
                <a:lnTo>
                  <a:pt x="0" y="3173"/>
                </a:lnTo>
                <a:lnTo>
                  <a:pt x="0" y="3191"/>
                </a:lnTo>
                <a:lnTo>
                  <a:pt x="3" y="3208"/>
                </a:lnTo>
                <a:lnTo>
                  <a:pt x="5" y="3223"/>
                </a:lnTo>
                <a:lnTo>
                  <a:pt x="13" y="3245"/>
                </a:lnTo>
                <a:lnTo>
                  <a:pt x="15" y="3253"/>
                </a:lnTo>
                <a:lnTo>
                  <a:pt x="15" y="3253"/>
                </a:lnTo>
                <a:lnTo>
                  <a:pt x="23" y="3262"/>
                </a:lnTo>
                <a:lnTo>
                  <a:pt x="29" y="3269"/>
                </a:lnTo>
                <a:lnTo>
                  <a:pt x="36" y="3276"/>
                </a:lnTo>
                <a:lnTo>
                  <a:pt x="45" y="3281"/>
                </a:lnTo>
                <a:lnTo>
                  <a:pt x="52" y="3284"/>
                </a:lnTo>
                <a:lnTo>
                  <a:pt x="60" y="3287"/>
                </a:lnTo>
                <a:lnTo>
                  <a:pt x="74" y="3289"/>
                </a:lnTo>
                <a:lnTo>
                  <a:pt x="88" y="3289"/>
                </a:lnTo>
                <a:lnTo>
                  <a:pt x="99" y="3288"/>
                </a:lnTo>
                <a:lnTo>
                  <a:pt x="109" y="3287"/>
                </a:lnTo>
                <a:lnTo>
                  <a:pt x="109" y="3287"/>
                </a:lnTo>
                <a:lnTo>
                  <a:pt x="125" y="3283"/>
                </a:lnTo>
                <a:lnTo>
                  <a:pt x="140" y="3278"/>
                </a:lnTo>
                <a:lnTo>
                  <a:pt x="152" y="3272"/>
                </a:lnTo>
                <a:lnTo>
                  <a:pt x="163" y="3266"/>
                </a:lnTo>
                <a:lnTo>
                  <a:pt x="173" y="3260"/>
                </a:lnTo>
                <a:lnTo>
                  <a:pt x="182" y="3252"/>
                </a:lnTo>
                <a:lnTo>
                  <a:pt x="189" y="3246"/>
                </a:lnTo>
                <a:lnTo>
                  <a:pt x="196" y="3239"/>
                </a:lnTo>
                <a:lnTo>
                  <a:pt x="205" y="3226"/>
                </a:lnTo>
                <a:lnTo>
                  <a:pt x="211" y="3215"/>
                </a:lnTo>
                <a:lnTo>
                  <a:pt x="215" y="3205"/>
                </a:lnTo>
                <a:lnTo>
                  <a:pt x="216" y="3154"/>
                </a:lnTo>
                <a:lnTo>
                  <a:pt x="216" y="3154"/>
                </a:lnTo>
                <a:lnTo>
                  <a:pt x="216" y="3155"/>
                </a:lnTo>
                <a:lnTo>
                  <a:pt x="240" y="3145"/>
                </a:lnTo>
                <a:lnTo>
                  <a:pt x="256" y="3093"/>
                </a:lnTo>
                <a:lnTo>
                  <a:pt x="254" y="3041"/>
                </a:lnTo>
                <a:lnTo>
                  <a:pt x="254" y="3041"/>
                </a:lnTo>
                <a:lnTo>
                  <a:pt x="262" y="3036"/>
                </a:lnTo>
                <a:lnTo>
                  <a:pt x="269" y="3032"/>
                </a:lnTo>
                <a:lnTo>
                  <a:pt x="275" y="3027"/>
                </a:lnTo>
                <a:lnTo>
                  <a:pt x="279" y="3020"/>
                </a:lnTo>
                <a:lnTo>
                  <a:pt x="283" y="3014"/>
                </a:lnTo>
                <a:lnTo>
                  <a:pt x="285" y="3008"/>
                </a:lnTo>
                <a:lnTo>
                  <a:pt x="289" y="2996"/>
                </a:lnTo>
                <a:lnTo>
                  <a:pt x="289" y="2985"/>
                </a:lnTo>
                <a:lnTo>
                  <a:pt x="289" y="2975"/>
                </a:lnTo>
                <a:lnTo>
                  <a:pt x="286" y="2967"/>
                </a:lnTo>
                <a:lnTo>
                  <a:pt x="286" y="2967"/>
                </a:lnTo>
                <a:lnTo>
                  <a:pt x="306" y="2923"/>
                </a:lnTo>
                <a:lnTo>
                  <a:pt x="335" y="2855"/>
                </a:lnTo>
                <a:lnTo>
                  <a:pt x="373" y="2764"/>
                </a:lnTo>
                <a:lnTo>
                  <a:pt x="434" y="2578"/>
                </a:lnTo>
                <a:lnTo>
                  <a:pt x="469" y="2347"/>
                </a:lnTo>
                <a:lnTo>
                  <a:pt x="528" y="2040"/>
                </a:lnTo>
                <a:lnTo>
                  <a:pt x="528" y="2040"/>
                </a:lnTo>
                <a:lnTo>
                  <a:pt x="542" y="1992"/>
                </a:lnTo>
                <a:lnTo>
                  <a:pt x="556" y="1947"/>
                </a:lnTo>
                <a:lnTo>
                  <a:pt x="574" y="1902"/>
                </a:lnTo>
                <a:lnTo>
                  <a:pt x="590" y="1862"/>
                </a:lnTo>
                <a:lnTo>
                  <a:pt x="616" y="1800"/>
                </a:lnTo>
                <a:lnTo>
                  <a:pt x="627" y="1777"/>
                </a:lnTo>
                <a:lnTo>
                  <a:pt x="646" y="1795"/>
                </a:lnTo>
                <a:lnTo>
                  <a:pt x="651" y="1820"/>
                </a:lnTo>
                <a:lnTo>
                  <a:pt x="697" y="1915"/>
                </a:lnTo>
                <a:lnTo>
                  <a:pt x="714" y="2033"/>
                </a:lnTo>
                <a:lnTo>
                  <a:pt x="720" y="2055"/>
                </a:lnTo>
                <a:lnTo>
                  <a:pt x="725" y="2087"/>
                </a:lnTo>
                <a:lnTo>
                  <a:pt x="725" y="2087"/>
                </a:lnTo>
                <a:lnTo>
                  <a:pt x="725" y="2110"/>
                </a:lnTo>
                <a:lnTo>
                  <a:pt x="726" y="2138"/>
                </a:lnTo>
                <a:lnTo>
                  <a:pt x="729" y="2169"/>
                </a:lnTo>
                <a:lnTo>
                  <a:pt x="733" y="2201"/>
                </a:lnTo>
                <a:lnTo>
                  <a:pt x="739" y="2253"/>
                </a:lnTo>
                <a:lnTo>
                  <a:pt x="742" y="2275"/>
                </a:lnTo>
                <a:lnTo>
                  <a:pt x="765" y="2409"/>
                </a:lnTo>
                <a:lnTo>
                  <a:pt x="765" y="2409"/>
                </a:lnTo>
                <a:lnTo>
                  <a:pt x="812" y="2637"/>
                </a:lnTo>
                <a:lnTo>
                  <a:pt x="798" y="2869"/>
                </a:lnTo>
                <a:lnTo>
                  <a:pt x="814" y="2930"/>
                </a:lnTo>
                <a:lnTo>
                  <a:pt x="812" y="2987"/>
                </a:lnTo>
                <a:lnTo>
                  <a:pt x="775" y="3016"/>
                </a:lnTo>
                <a:lnTo>
                  <a:pt x="772" y="3059"/>
                </a:lnTo>
                <a:lnTo>
                  <a:pt x="772" y="3059"/>
                </a:lnTo>
                <a:lnTo>
                  <a:pt x="773" y="3081"/>
                </a:lnTo>
                <a:lnTo>
                  <a:pt x="777" y="3098"/>
                </a:lnTo>
                <a:lnTo>
                  <a:pt x="782" y="3112"/>
                </a:lnTo>
                <a:lnTo>
                  <a:pt x="788" y="3120"/>
                </a:lnTo>
                <a:lnTo>
                  <a:pt x="794" y="3128"/>
                </a:lnTo>
                <a:lnTo>
                  <a:pt x="800" y="3131"/>
                </a:lnTo>
                <a:lnTo>
                  <a:pt x="805" y="3134"/>
                </a:lnTo>
                <a:lnTo>
                  <a:pt x="810" y="3135"/>
                </a:lnTo>
                <a:lnTo>
                  <a:pt x="799" y="3208"/>
                </a:lnTo>
                <a:lnTo>
                  <a:pt x="799" y="3208"/>
                </a:lnTo>
                <a:lnTo>
                  <a:pt x="798" y="3212"/>
                </a:lnTo>
                <a:lnTo>
                  <a:pt x="795" y="3220"/>
                </a:lnTo>
                <a:lnTo>
                  <a:pt x="795" y="3232"/>
                </a:lnTo>
                <a:lnTo>
                  <a:pt x="797" y="3241"/>
                </a:lnTo>
                <a:lnTo>
                  <a:pt x="798" y="3250"/>
                </a:lnTo>
                <a:lnTo>
                  <a:pt x="802" y="3260"/>
                </a:lnTo>
                <a:lnTo>
                  <a:pt x="805" y="3269"/>
                </a:lnTo>
                <a:lnTo>
                  <a:pt x="812" y="3279"/>
                </a:lnTo>
                <a:lnTo>
                  <a:pt x="820" y="3290"/>
                </a:lnTo>
                <a:lnTo>
                  <a:pt x="830" y="3300"/>
                </a:lnTo>
                <a:lnTo>
                  <a:pt x="842" y="3311"/>
                </a:lnTo>
                <a:lnTo>
                  <a:pt x="857" y="3322"/>
                </a:lnTo>
                <a:lnTo>
                  <a:pt x="876" y="3332"/>
                </a:lnTo>
                <a:lnTo>
                  <a:pt x="876" y="3332"/>
                </a:lnTo>
                <a:lnTo>
                  <a:pt x="878" y="3334"/>
                </a:lnTo>
                <a:lnTo>
                  <a:pt x="887" y="3334"/>
                </a:lnTo>
                <a:lnTo>
                  <a:pt x="902" y="3332"/>
                </a:lnTo>
                <a:lnTo>
                  <a:pt x="919" y="3329"/>
                </a:lnTo>
                <a:lnTo>
                  <a:pt x="929" y="3325"/>
                </a:lnTo>
                <a:lnTo>
                  <a:pt x="940" y="3321"/>
                </a:lnTo>
                <a:lnTo>
                  <a:pt x="951" y="3315"/>
                </a:lnTo>
                <a:lnTo>
                  <a:pt x="962" y="3309"/>
                </a:lnTo>
                <a:lnTo>
                  <a:pt x="974" y="3300"/>
                </a:lnTo>
                <a:lnTo>
                  <a:pt x="985" y="3289"/>
                </a:lnTo>
                <a:lnTo>
                  <a:pt x="998" y="3278"/>
                </a:lnTo>
                <a:lnTo>
                  <a:pt x="1009" y="3263"/>
                </a:lnTo>
                <a:lnTo>
                  <a:pt x="1011" y="3225"/>
                </a:lnTo>
                <a:lnTo>
                  <a:pt x="1009" y="3214"/>
                </a:lnTo>
                <a:lnTo>
                  <a:pt x="1009" y="3179"/>
                </a:lnTo>
                <a:lnTo>
                  <a:pt x="1006" y="3141"/>
                </a:lnTo>
                <a:lnTo>
                  <a:pt x="1019" y="3146"/>
                </a:lnTo>
                <a:lnTo>
                  <a:pt x="1019" y="3146"/>
                </a:lnTo>
                <a:lnTo>
                  <a:pt x="1024" y="3142"/>
                </a:lnTo>
                <a:lnTo>
                  <a:pt x="1028" y="3138"/>
                </a:lnTo>
                <a:lnTo>
                  <a:pt x="1033" y="3131"/>
                </a:lnTo>
                <a:lnTo>
                  <a:pt x="1037" y="3124"/>
                </a:lnTo>
                <a:lnTo>
                  <a:pt x="1043" y="3108"/>
                </a:lnTo>
                <a:lnTo>
                  <a:pt x="1048" y="3091"/>
                </a:lnTo>
                <a:lnTo>
                  <a:pt x="1052" y="3075"/>
                </a:lnTo>
                <a:lnTo>
                  <a:pt x="1054" y="3060"/>
                </a:lnTo>
                <a:lnTo>
                  <a:pt x="1057" y="3046"/>
                </a:lnTo>
                <a:lnTo>
                  <a:pt x="1058" y="3032"/>
                </a:lnTo>
                <a:lnTo>
                  <a:pt x="1058" y="3032"/>
                </a:lnTo>
                <a:lnTo>
                  <a:pt x="1057" y="3027"/>
                </a:lnTo>
                <a:lnTo>
                  <a:pt x="1054" y="3023"/>
                </a:lnTo>
                <a:lnTo>
                  <a:pt x="1048" y="3014"/>
                </a:lnTo>
                <a:lnTo>
                  <a:pt x="1041" y="3008"/>
                </a:lnTo>
                <a:lnTo>
                  <a:pt x="1033" y="3002"/>
                </a:lnTo>
                <a:lnTo>
                  <a:pt x="1019" y="2995"/>
                </a:lnTo>
                <a:lnTo>
                  <a:pt x="1012" y="2992"/>
                </a:lnTo>
                <a:lnTo>
                  <a:pt x="1021" y="2908"/>
                </a:lnTo>
                <a:lnTo>
                  <a:pt x="1036" y="2718"/>
                </a:lnTo>
                <a:lnTo>
                  <a:pt x="1036" y="2718"/>
                </a:lnTo>
                <a:lnTo>
                  <a:pt x="1036" y="2702"/>
                </a:lnTo>
                <a:lnTo>
                  <a:pt x="1035" y="2680"/>
                </a:lnTo>
                <a:lnTo>
                  <a:pt x="1031" y="2626"/>
                </a:lnTo>
                <a:lnTo>
                  <a:pt x="1026" y="2558"/>
                </a:lnTo>
                <a:lnTo>
                  <a:pt x="1026" y="2531"/>
                </a:lnTo>
                <a:lnTo>
                  <a:pt x="1015" y="2386"/>
                </a:lnTo>
                <a:lnTo>
                  <a:pt x="1005" y="2256"/>
                </a:lnTo>
                <a:lnTo>
                  <a:pt x="995" y="2169"/>
                </a:lnTo>
                <a:lnTo>
                  <a:pt x="993" y="2132"/>
                </a:lnTo>
                <a:lnTo>
                  <a:pt x="990" y="2097"/>
                </a:lnTo>
                <a:lnTo>
                  <a:pt x="988" y="2047"/>
                </a:lnTo>
                <a:lnTo>
                  <a:pt x="984" y="1932"/>
                </a:lnTo>
                <a:lnTo>
                  <a:pt x="984" y="1878"/>
                </a:lnTo>
                <a:lnTo>
                  <a:pt x="982" y="1720"/>
                </a:lnTo>
                <a:lnTo>
                  <a:pt x="974" y="1594"/>
                </a:lnTo>
                <a:lnTo>
                  <a:pt x="977" y="1560"/>
                </a:lnTo>
                <a:lnTo>
                  <a:pt x="977" y="1560"/>
                </a:lnTo>
                <a:lnTo>
                  <a:pt x="974" y="1543"/>
                </a:lnTo>
                <a:lnTo>
                  <a:pt x="971" y="1529"/>
                </a:lnTo>
                <a:lnTo>
                  <a:pt x="967" y="1519"/>
                </a:lnTo>
                <a:lnTo>
                  <a:pt x="963" y="1513"/>
                </a:lnTo>
                <a:lnTo>
                  <a:pt x="941" y="1386"/>
                </a:lnTo>
                <a:lnTo>
                  <a:pt x="909" y="1343"/>
                </a:lnTo>
                <a:lnTo>
                  <a:pt x="909" y="1326"/>
                </a:lnTo>
                <a:lnTo>
                  <a:pt x="915" y="1317"/>
                </a:lnTo>
                <a:lnTo>
                  <a:pt x="915" y="1298"/>
                </a:lnTo>
                <a:lnTo>
                  <a:pt x="922" y="1298"/>
                </a:lnTo>
                <a:lnTo>
                  <a:pt x="925" y="1290"/>
                </a:lnTo>
                <a:lnTo>
                  <a:pt x="920" y="1249"/>
                </a:lnTo>
                <a:lnTo>
                  <a:pt x="925" y="1247"/>
                </a:lnTo>
                <a:lnTo>
                  <a:pt x="1012" y="1229"/>
                </a:lnTo>
                <a:lnTo>
                  <a:pt x="1041" y="1222"/>
                </a:lnTo>
                <a:lnTo>
                  <a:pt x="1093" y="1217"/>
                </a:lnTo>
                <a:lnTo>
                  <a:pt x="1093" y="1217"/>
                </a:lnTo>
                <a:lnTo>
                  <a:pt x="1104" y="1212"/>
                </a:lnTo>
                <a:lnTo>
                  <a:pt x="1115" y="1207"/>
                </a:lnTo>
                <a:lnTo>
                  <a:pt x="1131" y="1197"/>
                </a:lnTo>
                <a:lnTo>
                  <a:pt x="1141" y="1190"/>
                </a:lnTo>
                <a:lnTo>
                  <a:pt x="1144" y="1186"/>
                </a:lnTo>
                <a:lnTo>
                  <a:pt x="1144" y="1186"/>
                </a:lnTo>
                <a:lnTo>
                  <a:pt x="1147" y="1181"/>
                </a:lnTo>
                <a:lnTo>
                  <a:pt x="1148" y="1176"/>
                </a:lnTo>
                <a:lnTo>
                  <a:pt x="1152" y="1163"/>
                </a:lnTo>
                <a:lnTo>
                  <a:pt x="1154" y="1148"/>
                </a:lnTo>
                <a:lnTo>
                  <a:pt x="1155" y="1133"/>
                </a:lnTo>
                <a:lnTo>
                  <a:pt x="1155" y="1107"/>
                </a:lnTo>
                <a:lnTo>
                  <a:pt x="1155" y="1096"/>
                </a:lnTo>
                <a:lnTo>
                  <a:pt x="1155" y="1096"/>
                </a:lnTo>
                <a:close/>
                <a:moveTo>
                  <a:pt x="286" y="1152"/>
                </a:moveTo>
                <a:lnTo>
                  <a:pt x="284" y="1127"/>
                </a:lnTo>
                <a:lnTo>
                  <a:pt x="295" y="1109"/>
                </a:lnTo>
                <a:lnTo>
                  <a:pt x="295" y="1068"/>
                </a:lnTo>
                <a:lnTo>
                  <a:pt x="300" y="1056"/>
                </a:lnTo>
                <a:lnTo>
                  <a:pt x="300" y="1056"/>
                </a:lnTo>
                <a:lnTo>
                  <a:pt x="301" y="1056"/>
                </a:lnTo>
                <a:lnTo>
                  <a:pt x="302" y="1057"/>
                </a:lnTo>
                <a:lnTo>
                  <a:pt x="304" y="1059"/>
                </a:lnTo>
                <a:lnTo>
                  <a:pt x="299" y="1107"/>
                </a:lnTo>
                <a:lnTo>
                  <a:pt x="295" y="1155"/>
                </a:lnTo>
                <a:lnTo>
                  <a:pt x="284" y="1189"/>
                </a:lnTo>
                <a:lnTo>
                  <a:pt x="286" y="1162"/>
                </a:lnTo>
                <a:lnTo>
                  <a:pt x="286" y="1152"/>
                </a:lnTo>
                <a:close/>
                <a:moveTo>
                  <a:pt x="190" y="1636"/>
                </a:moveTo>
                <a:lnTo>
                  <a:pt x="194" y="1631"/>
                </a:lnTo>
                <a:lnTo>
                  <a:pt x="203" y="1637"/>
                </a:lnTo>
                <a:lnTo>
                  <a:pt x="205" y="1657"/>
                </a:lnTo>
                <a:lnTo>
                  <a:pt x="205" y="1657"/>
                </a:lnTo>
                <a:lnTo>
                  <a:pt x="201" y="1655"/>
                </a:lnTo>
                <a:lnTo>
                  <a:pt x="196" y="1653"/>
                </a:lnTo>
                <a:lnTo>
                  <a:pt x="193" y="1655"/>
                </a:lnTo>
                <a:lnTo>
                  <a:pt x="189" y="1657"/>
                </a:lnTo>
                <a:lnTo>
                  <a:pt x="190" y="1636"/>
                </a:lnTo>
                <a:close/>
                <a:moveTo>
                  <a:pt x="210" y="2070"/>
                </a:moveTo>
                <a:lnTo>
                  <a:pt x="219" y="1995"/>
                </a:lnTo>
                <a:lnTo>
                  <a:pt x="224" y="2028"/>
                </a:lnTo>
                <a:lnTo>
                  <a:pt x="210" y="2070"/>
                </a:lnTo>
                <a:close/>
                <a:moveTo>
                  <a:pt x="301" y="1489"/>
                </a:moveTo>
                <a:lnTo>
                  <a:pt x="293" y="1531"/>
                </a:lnTo>
                <a:lnTo>
                  <a:pt x="288" y="1552"/>
                </a:lnTo>
                <a:lnTo>
                  <a:pt x="268" y="1584"/>
                </a:lnTo>
                <a:lnTo>
                  <a:pt x="269" y="1649"/>
                </a:lnTo>
                <a:lnTo>
                  <a:pt x="254" y="1725"/>
                </a:lnTo>
                <a:lnTo>
                  <a:pt x="249" y="1794"/>
                </a:lnTo>
                <a:lnTo>
                  <a:pt x="231" y="1906"/>
                </a:lnTo>
                <a:lnTo>
                  <a:pt x="245" y="1796"/>
                </a:lnTo>
                <a:lnTo>
                  <a:pt x="240" y="1766"/>
                </a:lnTo>
                <a:lnTo>
                  <a:pt x="240" y="1766"/>
                </a:lnTo>
                <a:lnTo>
                  <a:pt x="237" y="1759"/>
                </a:lnTo>
                <a:lnTo>
                  <a:pt x="235" y="1755"/>
                </a:lnTo>
                <a:lnTo>
                  <a:pt x="227" y="1746"/>
                </a:lnTo>
                <a:lnTo>
                  <a:pt x="228" y="1742"/>
                </a:lnTo>
                <a:lnTo>
                  <a:pt x="224" y="1741"/>
                </a:lnTo>
                <a:lnTo>
                  <a:pt x="224" y="1690"/>
                </a:lnTo>
                <a:lnTo>
                  <a:pt x="228" y="1688"/>
                </a:lnTo>
                <a:lnTo>
                  <a:pt x="228" y="1688"/>
                </a:lnTo>
                <a:lnTo>
                  <a:pt x="233" y="1687"/>
                </a:lnTo>
                <a:lnTo>
                  <a:pt x="237" y="1685"/>
                </a:lnTo>
                <a:lnTo>
                  <a:pt x="242" y="1681"/>
                </a:lnTo>
                <a:lnTo>
                  <a:pt x="245" y="1677"/>
                </a:lnTo>
                <a:lnTo>
                  <a:pt x="246" y="1674"/>
                </a:lnTo>
                <a:lnTo>
                  <a:pt x="246" y="1639"/>
                </a:lnTo>
                <a:lnTo>
                  <a:pt x="251" y="1603"/>
                </a:lnTo>
                <a:lnTo>
                  <a:pt x="251" y="1577"/>
                </a:lnTo>
                <a:lnTo>
                  <a:pt x="251" y="1577"/>
                </a:lnTo>
                <a:lnTo>
                  <a:pt x="259" y="1579"/>
                </a:lnTo>
                <a:lnTo>
                  <a:pt x="263" y="1575"/>
                </a:lnTo>
                <a:lnTo>
                  <a:pt x="268" y="1510"/>
                </a:lnTo>
                <a:lnTo>
                  <a:pt x="268" y="1510"/>
                </a:lnTo>
                <a:lnTo>
                  <a:pt x="270" y="1512"/>
                </a:lnTo>
                <a:lnTo>
                  <a:pt x="277" y="1448"/>
                </a:lnTo>
                <a:lnTo>
                  <a:pt x="274" y="1444"/>
                </a:lnTo>
                <a:lnTo>
                  <a:pt x="277" y="1441"/>
                </a:lnTo>
                <a:lnTo>
                  <a:pt x="291" y="1476"/>
                </a:lnTo>
                <a:lnTo>
                  <a:pt x="307" y="1477"/>
                </a:lnTo>
                <a:lnTo>
                  <a:pt x="307" y="1477"/>
                </a:lnTo>
                <a:lnTo>
                  <a:pt x="301" y="1489"/>
                </a:lnTo>
                <a:close/>
                <a:moveTo>
                  <a:pt x="952" y="1067"/>
                </a:moveTo>
                <a:lnTo>
                  <a:pt x="946" y="1068"/>
                </a:lnTo>
                <a:lnTo>
                  <a:pt x="932" y="1063"/>
                </a:lnTo>
                <a:lnTo>
                  <a:pt x="902" y="1059"/>
                </a:lnTo>
                <a:lnTo>
                  <a:pt x="894" y="1063"/>
                </a:lnTo>
                <a:lnTo>
                  <a:pt x="893" y="1032"/>
                </a:lnTo>
                <a:lnTo>
                  <a:pt x="883" y="1010"/>
                </a:lnTo>
                <a:lnTo>
                  <a:pt x="884" y="980"/>
                </a:lnTo>
                <a:lnTo>
                  <a:pt x="889" y="961"/>
                </a:lnTo>
                <a:lnTo>
                  <a:pt x="894" y="918"/>
                </a:lnTo>
                <a:lnTo>
                  <a:pt x="908" y="961"/>
                </a:lnTo>
                <a:lnTo>
                  <a:pt x="940" y="1025"/>
                </a:lnTo>
                <a:lnTo>
                  <a:pt x="953" y="1049"/>
                </a:lnTo>
                <a:lnTo>
                  <a:pt x="952" y="1067"/>
                </a:ln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475e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Freeform 14"/>
          <p:cNvSpPr/>
          <p:nvPr/>
        </p:nvSpPr>
        <p:spPr>
          <a:xfrm>
            <a:off x="2523960" y="3270240"/>
            <a:ext cx="662040" cy="1444680"/>
          </a:xfrm>
          <a:custGeom>
            <a:avLst/>
            <a:gdLst/>
            <a:ahLst/>
            <a:rect l="l" t="t" r="r" b="b"/>
            <a:pathLst>
              <a:path w="1416" h="3094">
                <a:moveTo>
                  <a:pt x="609" y="378"/>
                </a:moveTo>
                <a:cubicBezTo>
                  <a:pt x="609" y="378"/>
                  <a:pt x="645" y="364"/>
                  <a:pt x="682" y="350"/>
                </a:cubicBezTo>
                <a:cubicBezTo>
                  <a:pt x="672" y="314"/>
                  <a:pt x="692" y="278"/>
                  <a:pt x="692" y="278"/>
                </a:cubicBezTo>
                <a:cubicBezTo>
                  <a:pt x="698" y="260"/>
                  <a:pt x="715" y="264"/>
                  <a:pt x="720" y="242"/>
                </a:cubicBezTo>
                <a:cubicBezTo>
                  <a:pt x="746" y="212"/>
                  <a:pt x="730" y="180"/>
                  <a:pt x="720" y="146"/>
                </a:cubicBezTo>
                <a:cubicBezTo>
                  <a:pt x="732" y="106"/>
                  <a:pt x="703" y="61"/>
                  <a:pt x="660" y="39"/>
                </a:cubicBezTo>
                <a:cubicBezTo>
                  <a:pt x="617" y="10"/>
                  <a:pt x="531" y="0"/>
                  <a:pt x="483" y="16"/>
                </a:cubicBezTo>
                <a:cubicBezTo>
                  <a:pt x="435" y="32"/>
                  <a:pt x="422" y="83"/>
                  <a:pt x="409" y="118"/>
                </a:cubicBezTo>
                <a:lnTo>
                  <a:pt x="384" y="223"/>
                </a:lnTo>
                <a:cubicBezTo>
                  <a:pt x="384" y="223"/>
                  <a:pt x="376" y="324"/>
                  <a:pt x="330" y="348"/>
                </a:cubicBezTo>
                <a:cubicBezTo>
                  <a:pt x="386" y="358"/>
                  <a:pt x="415" y="391"/>
                  <a:pt x="415" y="391"/>
                </a:cubicBezTo>
                <a:lnTo>
                  <a:pt x="319" y="450"/>
                </a:lnTo>
                <a:lnTo>
                  <a:pt x="244" y="550"/>
                </a:lnTo>
                <a:lnTo>
                  <a:pt x="42" y="826"/>
                </a:lnTo>
                <a:cubicBezTo>
                  <a:pt x="2" y="886"/>
                  <a:pt x="0" y="892"/>
                  <a:pt x="4" y="907"/>
                </a:cubicBezTo>
                <a:cubicBezTo>
                  <a:pt x="8" y="922"/>
                  <a:pt x="70" y="943"/>
                  <a:pt x="126" y="994"/>
                </a:cubicBezTo>
                <a:lnTo>
                  <a:pt x="368" y="1150"/>
                </a:lnTo>
                <a:lnTo>
                  <a:pt x="397" y="1105"/>
                </a:lnTo>
                <a:lnTo>
                  <a:pt x="265" y="1008"/>
                </a:lnTo>
                <a:lnTo>
                  <a:pt x="126" y="879"/>
                </a:lnTo>
                <a:lnTo>
                  <a:pt x="147" y="841"/>
                </a:lnTo>
                <a:cubicBezTo>
                  <a:pt x="147" y="841"/>
                  <a:pt x="247" y="748"/>
                  <a:pt x="348" y="655"/>
                </a:cubicBezTo>
                <a:cubicBezTo>
                  <a:pt x="384" y="708"/>
                  <a:pt x="404" y="724"/>
                  <a:pt x="426" y="774"/>
                </a:cubicBezTo>
                <a:cubicBezTo>
                  <a:pt x="448" y="824"/>
                  <a:pt x="484" y="902"/>
                  <a:pt x="480" y="957"/>
                </a:cubicBezTo>
                <a:lnTo>
                  <a:pt x="399" y="1102"/>
                </a:lnTo>
                <a:lnTo>
                  <a:pt x="336" y="1212"/>
                </a:lnTo>
                <a:cubicBezTo>
                  <a:pt x="322" y="1244"/>
                  <a:pt x="314" y="1268"/>
                  <a:pt x="315" y="1293"/>
                </a:cubicBezTo>
                <a:cubicBezTo>
                  <a:pt x="316" y="1318"/>
                  <a:pt x="334" y="1618"/>
                  <a:pt x="343" y="1683"/>
                </a:cubicBezTo>
                <a:lnTo>
                  <a:pt x="367" y="1686"/>
                </a:lnTo>
                <a:cubicBezTo>
                  <a:pt x="367" y="1686"/>
                  <a:pt x="414" y="1852"/>
                  <a:pt x="462" y="2019"/>
                </a:cubicBezTo>
                <a:cubicBezTo>
                  <a:pt x="417" y="2130"/>
                  <a:pt x="413" y="2159"/>
                  <a:pt x="409" y="2274"/>
                </a:cubicBezTo>
                <a:cubicBezTo>
                  <a:pt x="405" y="2389"/>
                  <a:pt x="430" y="2635"/>
                  <a:pt x="427" y="2716"/>
                </a:cubicBezTo>
                <a:lnTo>
                  <a:pt x="402" y="2755"/>
                </a:lnTo>
                <a:lnTo>
                  <a:pt x="354" y="2784"/>
                </a:lnTo>
                <a:cubicBezTo>
                  <a:pt x="354" y="2784"/>
                  <a:pt x="347" y="2819"/>
                  <a:pt x="340" y="2854"/>
                </a:cubicBezTo>
                <a:cubicBezTo>
                  <a:pt x="375" y="2899"/>
                  <a:pt x="376" y="3013"/>
                  <a:pt x="376" y="3013"/>
                </a:cubicBezTo>
                <a:lnTo>
                  <a:pt x="393" y="3009"/>
                </a:lnTo>
                <a:lnTo>
                  <a:pt x="402" y="2959"/>
                </a:lnTo>
                <a:lnTo>
                  <a:pt x="424" y="2961"/>
                </a:lnTo>
                <a:lnTo>
                  <a:pt x="430" y="2925"/>
                </a:lnTo>
                <a:lnTo>
                  <a:pt x="487" y="3058"/>
                </a:lnTo>
                <a:cubicBezTo>
                  <a:pt x="520" y="3086"/>
                  <a:pt x="599" y="3091"/>
                  <a:pt x="628" y="3094"/>
                </a:cubicBezTo>
                <a:lnTo>
                  <a:pt x="661" y="3075"/>
                </a:lnTo>
                <a:lnTo>
                  <a:pt x="636" y="3036"/>
                </a:lnTo>
                <a:lnTo>
                  <a:pt x="690" y="3021"/>
                </a:lnTo>
                <a:lnTo>
                  <a:pt x="604" y="2913"/>
                </a:lnTo>
                <a:cubicBezTo>
                  <a:pt x="578" y="2861"/>
                  <a:pt x="574" y="2833"/>
                  <a:pt x="532" y="2710"/>
                </a:cubicBezTo>
                <a:cubicBezTo>
                  <a:pt x="534" y="2582"/>
                  <a:pt x="602" y="2260"/>
                  <a:pt x="619" y="2146"/>
                </a:cubicBezTo>
                <a:cubicBezTo>
                  <a:pt x="635" y="2031"/>
                  <a:pt x="634" y="2055"/>
                  <a:pt x="637" y="2025"/>
                </a:cubicBezTo>
                <a:cubicBezTo>
                  <a:pt x="640" y="1995"/>
                  <a:pt x="642" y="1980"/>
                  <a:pt x="639" y="1968"/>
                </a:cubicBezTo>
                <a:cubicBezTo>
                  <a:pt x="670" y="1830"/>
                  <a:pt x="702" y="1693"/>
                  <a:pt x="702" y="1693"/>
                </a:cubicBezTo>
                <a:lnTo>
                  <a:pt x="724" y="1692"/>
                </a:lnTo>
                <a:cubicBezTo>
                  <a:pt x="724" y="1692"/>
                  <a:pt x="763" y="1505"/>
                  <a:pt x="771" y="1413"/>
                </a:cubicBezTo>
                <a:cubicBezTo>
                  <a:pt x="779" y="1321"/>
                  <a:pt x="778" y="1218"/>
                  <a:pt x="772" y="1138"/>
                </a:cubicBezTo>
                <a:cubicBezTo>
                  <a:pt x="766" y="1082"/>
                  <a:pt x="745" y="994"/>
                  <a:pt x="735" y="934"/>
                </a:cubicBezTo>
                <a:lnTo>
                  <a:pt x="712" y="816"/>
                </a:lnTo>
                <a:lnTo>
                  <a:pt x="735" y="786"/>
                </a:lnTo>
                <a:lnTo>
                  <a:pt x="820" y="934"/>
                </a:lnTo>
                <a:cubicBezTo>
                  <a:pt x="849" y="968"/>
                  <a:pt x="867" y="1006"/>
                  <a:pt x="907" y="990"/>
                </a:cubicBezTo>
                <a:cubicBezTo>
                  <a:pt x="947" y="974"/>
                  <a:pt x="1004" y="894"/>
                  <a:pt x="1060" y="838"/>
                </a:cubicBezTo>
                <a:lnTo>
                  <a:pt x="1204" y="646"/>
                </a:lnTo>
                <a:cubicBezTo>
                  <a:pt x="1246" y="605"/>
                  <a:pt x="1286" y="608"/>
                  <a:pt x="1314" y="592"/>
                </a:cubicBezTo>
                <a:cubicBezTo>
                  <a:pt x="1342" y="576"/>
                  <a:pt x="1357" y="572"/>
                  <a:pt x="1374" y="547"/>
                </a:cubicBezTo>
                <a:cubicBezTo>
                  <a:pt x="1391" y="522"/>
                  <a:pt x="1416" y="462"/>
                  <a:pt x="1414" y="445"/>
                </a:cubicBezTo>
                <a:cubicBezTo>
                  <a:pt x="1401" y="435"/>
                  <a:pt x="1386" y="436"/>
                  <a:pt x="1365" y="445"/>
                </a:cubicBezTo>
                <a:lnTo>
                  <a:pt x="1288" y="501"/>
                </a:lnTo>
                <a:lnTo>
                  <a:pt x="1209" y="528"/>
                </a:lnTo>
                <a:lnTo>
                  <a:pt x="1234" y="445"/>
                </a:lnTo>
                <a:cubicBezTo>
                  <a:pt x="1231" y="435"/>
                  <a:pt x="1203" y="447"/>
                  <a:pt x="1192" y="468"/>
                </a:cubicBezTo>
                <a:lnTo>
                  <a:pt x="1167" y="573"/>
                </a:lnTo>
                <a:cubicBezTo>
                  <a:pt x="1117" y="639"/>
                  <a:pt x="957" y="856"/>
                  <a:pt x="892" y="862"/>
                </a:cubicBezTo>
                <a:cubicBezTo>
                  <a:pt x="852" y="790"/>
                  <a:pt x="801" y="672"/>
                  <a:pt x="775" y="607"/>
                </a:cubicBezTo>
                <a:cubicBezTo>
                  <a:pt x="751" y="543"/>
                  <a:pt x="766" y="508"/>
                  <a:pt x="747" y="480"/>
                </a:cubicBezTo>
                <a:cubicBezTo>
                  <a:pt x="728" y="449"/>
                  <a:pt x="683" y="452"/>
                  <a:pt x="664" y="439"/>
                </a:cubicBezTo>
                <a:cubicBezTo>
                  <a:pt x="645" y="426"/>
                  <a:pt x="643" y="412"/>
                  <a:pt x="634" y="402"/>
                </a:cubicBezTo>
                <a:lnTo>
                  <a:pt x="609" y="378"/>
                </a:lnTo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100000">
                <a:srgbClr val="5e5e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1374840" y="5126040"/>
            <a:ext cx="2422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16"/>
          <p:cNvSpPr/>
          <p:nvPr/>
        </p:nvSpPr>
        <p:spPr>
          <a:xfrm flipH="1">
            <a:off x="1681920" y="1901880"/>
            <a:ext cx="1096920" cy="26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100" y="9257"/>
                </a:moveTo>
                <a:lnTo>
                  <a:pt x="25913" y="9257"/>
                </a:lnTo>
                <a:lnTo>
                  <a:pt x="25913" y="48085"/>
                </a:lnTo>
                <a:lnTo>
                  <a:pt x="15535" y="82542"/>
                </a:lnTo>
              </a:path>
              <a:path w="21600" h="21600">
                <a:moveTo>
                  <a:pt x="23100" y="0"/>
                </a:moveTo>
                <a:lnTo>
                  <a:pt x="23100" y="21600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Arial"/>
                <a:ea typeface="Arial"/>
              </a:rPr>
              <a:t>12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9"/>
          <p:cNvSpPr/>
          <p:nvPr/>
        </p:nvSpPr>
        <p:spPr>
          <a:xfrm>
            <a:off x="2682720" y="1752480"/>
            <a:ext cx="9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18"/>
          <p:cNvSpPr/>
          <p:nvPr/>
        </p:nvSpPr>
        <p:spPr>
          <a:xfrm flipH="1">
            <a:off x="5788080" y="1878120"/>
            <a:ext cx="1030320" cy="264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197" y="9312"/>
                </a:moveTo>
                <a:lnTo>
                  <a:pt x="26192" y="9312"/>
                </a:lnTo>
                <a:lnTo>
                  <a:pt x="26192" y="50572"/>
                </a:lnTo>
                <a:lnTo>
                  <a:pt x="15143" y="87305"/>
                </a:lnTo>
              </a:path>
              <a:path w="21600" h="21600">
                <a:moveTo>
                  <a:pt x="23197" y="0"/>
                </a:moveTo>
                <a:lnTo>
                  <a:pt x="23197" y="21600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ff"/>
                </a:solidFill>
                <a:latin typeface="Arial"/>
                <a:ea typeface="Arial"/>
              </a:rPr>
              <a:t>14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8"/>
          <p:cNvSpPr/>
          <p:nvPr/>
        </p:nvSpPr>
        <p:spPr>
          <a:xfrm>
            <a:off x="3292560" y="2819520"/>
            <a:ext cx="217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9"/>
          <p:cNvSpPr/>
          <p:nvPr/>
        </p:nvSpPr>
        <p:spPr>
          <a:xfrm>
            <a:off x="6780240" y="1752480"/>
            <a:ext cx="9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4"/>
          <p:cNvSpPr/>
          <p:nvPr/>
        </p:nvSpPr>
        <p:spPr>
          <a:xfrm>
            <a:off x="5124600" y="5126040"/>
            <a:ext cx="2422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 spokes="3"/>
    <p:sndAc>
      <p:stSnd>
        <p:snd r:embed="rId3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Group 3"/>
          <p:cNvGrpSpPr/>
          <p:nvPr/>
        </p:nvGrpSpPr>
        <p:grpSpPr>
          <a:xfrm>
            <a:off x="1100160" y="1905120"/>
            <a:ext cx="1879200" cy="1917720"/>
            <a:chOff x="1100160" y="1905120"/>
            <a:chExt cx="1879200" cy="1917720"/>
          </a:xfrm>
        </p:grpSpPr>
        <p:pic>
          <p:nvPicPr>
            <p:cNvPr id="258" name="Picture 4" descr="circuler_1"/>
            <p:cNvPicPr/>
            <p:nvPr/>
          </p:nvPicPr>
          <p:blipFill>
            <a:blip r:embed="rId1"/>
            <a:stretch/>
          </p:blipFill>
          <p:spPr>
            <a:xfrm>
              <a:off x="1100160" y="1905120"/>
              <a:ext cx="1879200" cy="182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Oval 5"/>
            <p:cNvSpPr/>
            <p:nvPr/>
          </p:nvSpPr>
          <p:spPr>
            <a:xfrm>
              <a:off x="1100160" y="1905120"/>
              <a:ext cx="1866600" cy="1825200"/>
            </a:xfrm>
            <a:prstGeom prst="ellipse">
              <a:avLst/>
            </a:prstGeom>
            <a:gradFill rotWithShape="0">
              <a:gsLst>
                <a:gs pos="0">
                  <a:srgbClr val="414141">
                    <a:alpha val="90196"/>
                  </a:srgbClr>
                </a:gs>
                <a:gs pos="50000">
                  <a:srgbClr val="f8f8f8">
                    <a:alpha val="45098"/>
                  </a:srgbClr>
                </a:gs>
                <a:gs pos="100000">
                  <a:srgbClr val="414141">
                    <a:alpha val="9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6"/>
            <p:cNvSpPr/>
            <p:nvPr/>
          </p:nvSpPr>
          <p:spPr>
            <a:xfrm>
              <a:off x="1293840" y="1942200"/>
              <a:ext cx="1466280" cy="63288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1" name="Group 7"/>
            <p:cNvGrpSpPr/>
            <p:nvPr/>
          </p:nvGrpSpPr>
          <p:grpSpPr>
            <a:xfrm>
              <a:off x="1233360" y="3166200"/>
              <a:ext cx="1648080" cy="656640"/>
              <a:chOff x="1233360" y="3166200"/>
              <a:chExt cx="1648080" cy="656640"/>
            </a:xfrm>
          </p:grpSpPr>
          <p:grpSp>
            <p:nvGrpSpPr>
              <p:cNvPr id="262" name="Group 8"/>
              <p:cNvGrpSpPr/>
              <p:nvPr/>
            </p:nvGrpSpPr>
            <p:grpSpPr>
              <a:xfrm>
                <a:off x="1521000" y="3166200"/>
                <a:ext cx="1360440" cy="616680"/>
                <a:chOff x="1521000" y="3166200"/>
                <a:chExt cx="1360440" cy="616680"/>
              </a:xfrm>
            </p:grpSpPr>
            <p:sp>
              <p:nvSpPr>
                <p:cNvPr id="263" name="AutoShape 9"/>
                <p:cNvSpPr/>
                <p:nvPr/>
              </p:nvSpPr>
              <p:spPr>
                <a:xfrm flipH="1" flipV="1" rot="3964800">
                  <a:off x="2262960" y="2979720"/>
                  <a:ext cx="23616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AutoShape 10"/>
                <p:cNvSpPr/>
                <p:nvPr/>
              </p:nvSpPr>
              <p:spPr>
                <a:xfrm flipH="1" flipV="1" rot="4780200">
                  <a:off x="2109600" y="3039840"/>
                  <a:ext cx="236160" cy="989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AutoShape 11"/>
                <p:cNvSpPr/>
                <p:nvPr/>
              </p:nvSpPr>
              <p:spPr>
                <a:xfrm flipH="1" flipV="1" rot="5076000">
                  <a:off x="2015640" y="3052440"/>
                  <a:ext cx="23616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AutoShape 12"/>
                <p:cNvSpPr/>
                <p:nvPr/>
              </p:nvSpPr>
              <p:spPr>
                <a:xfrm flipH="1" flipV="1" rot="5608200">
                  <a:off x="1903680" y="3064680"/>
                  <a:ext cx="23616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7" name="Group 13"/>
              <p:cNvGrpSpPr/>
              <p:nvPr/>
            </p:nvGrpSpPr>
            <p:grpSpPr>
              <a:xfrm>
                <a:off x="1233360" y="3175200"/>
                <a:ext cx="1358640" cy="647640"/>
                <a:chOff x="1233360" y="3175200"/>
                <a:chExt cx="1358640" cy="647640"/>
              </a:xfrm>
            </p:grpSpPr>
            <p:sp>
              <p:nvSpPr>
                <p:cNvPr id="268" name="AutoShape 14"/>
                <p:cNvSpPr/>
                <p:nvPr/>
              </p:nvSpPr>
              <p:spPr>
                <a:xfrm flipH="1" flipV="1" rot="5317800">
                  <a:off x="1975680" y="3064680"/>
                  <a:ext cx="23760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AutoShape 15"/>
                <p:cNvSpPr/>
                <p:nvPr/>
              </p:nvSpPr>
              <p:spPr>
                <a:xfrm flipH="1" flipV="1" rot="6133800">
                  <a:off x="1811160" y="3063240"/>
                  <a:ext cx="237600" cy="988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AutoShape 16"/>
                <p:cNvSpPr/>
                <p:nvPr/>
              </p:nvSpPr>
              <p:spPr>
                <a:xfrm flipH="1" flipV="1" rot="6429000">
                  <a:off x="1719000" y="3038040"/>
                  <a:ext cx="237600" cy="988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AutoShape 17"/>
                <p:cNvSpPr/>
                <p:nvPr/>
              </p:nvSpPr>
              <p:spPr>
                <a:xfrm flipH="1" flipV="1" rot="6961200">
                  <a:off x="1610280" y="3004200"/>
                  <a:ext cx="237600" cy="988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2" name="Group 18"/>
          <p:cNvGrpSpPr/>
          <p:nvPr/>
        </p:nvGrpSpPr>
        <p:grpSpPr>
          <a:xfrm>
            <a:off x="1147680" y="4260960"/>
            <a:ext cx="1879200" cy="1917720"/>
            <a:chOff x="1147680" y="4260960"/>
            <a:chExt cx="1879200" cy="1917720"/>
          </a:xfrm>
        </p:grpSpPr>
        <p:pic>
          <p:nvPicPr>
            <p:cNvPr id="273" name="Picture 19" descr="circuler_1"/>
            <p:cNvPicPr/>
            <p:nvPr/>
          </p:nvPicPr>
          <p:blipFill>
            <a:blip r:embed="rId2"/>
            <a:stretch/>
          </p:blipFill>
          <p:spPr>
            <a:xfrm>
              <a:off x="1147680" y="4260960"/>
              <a:ext cx="1879200" cy="182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Oval 20"/>
            <p:cNvSpPr/>
            <p:nvPr/>
          </p:nvSpPr>
          <p:spPr>
            <a:xfrm>
              <a:off x="1147680" y="4260960"/>
              <a:ext cx="1866600" cy="1825200"/>
            </a:xfrm>
            <a:prstGeom prst="ellipse">
              <a:avLst/>
            </a:prstGeom>
            <a:gradFill rotWithShape="0">
              <a:gsLst>
                <a:gs pos="0">
                  <a:srgbClr val="414141">
                    <a:alpha val="90196"/>
                  </a:srgbClr>
                </a:gs>
                <a:gs pos="50000">
                  <a:srgbClr val="f8f8f8">
                    <a:alpha val="45098"/>
                  </a:srgbClr>
                </a:gs>
                <a:gs pos="100000">
                  <a:srgbClr val="414141">
                    <a:alpha val="9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21"/>
            <p:cNvSpPr/>
            <p:nvPr/>
          </p:nvSpPr>
          <p:spPr>
            <a:xfrm>
              <a:off x="1341360" y="4298040"/>
              <a:ext cx="1466280" cy="63288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6" name="Group 22"/>
            <p:cNvGrpSpPr/>
            <p:nvPr/>
          </p:nvGrpSpPr>
          <p:grpSpPr>
            <a:xfrm>
              <a:off x="1280880" y="5522040"/>
              <a:ext cx="1648080" cy="656640"/>
              <a:chOff x="1280880" y="5522040"/>
              <a:chExt cx="1648080" cy="656640"/>
            </a:xfrm>
          </p:grpSpPr>
          <p:grpSp>
            <p:nvGrpSpPr>
              <p:cNvPr id="277" name="Group 23"/>
              <p:cNvGrpSpPr/>
              <p:nvPr/>
            </p:nvGrpSpPr>
            <p:grpSpPr>
              <a:xfrm>
                <a:off x="1568520" y="5522040"/>
                <a:ext cx="1360440" cy="616680"/>
                <a:chOff x="1568520" y="5522040"/>
                <a:chExt cx="1360440" cy="616680"/>
              </a:xfrm>
            </p:grpSpPr>
            <p:sp>
              <p:nvSpPr>
                <p:cNvPr id="278" name="AutoShape 24"/>
                <p:cNvSpPr/>
                <p:nvPr/>
              </p:nvSpPr>
              <p:spPr>
                <a:xfrm flipH="1" flipV="1" rot="3964800">
                  <a:off x="2310480" y="5335560"/>
                  <a:ext cx="23616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AutoShape 25"/>
                <p:cNvSpPr/>
                <p:nvPr/>
              </p:nvSpPr>
              <p:spPr>
                <a:xfrm flipH="1" flipV="1" rot="4780200">
                  <a:off x="2157120" y="5395680"/>
                  <a:ext cx="236160" cy="989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AutoShape 26"/>
                <p:cNvSpPr/>
                <p:nvPr/>
              </p:nvSpPr>
              <p:spPr>
                <a:xfrm flipH="1" flipV="1" rot="5076000">
                  <a:off x="2063160" y="5408280"/>
                  <a:ext cx="23616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AutoShape 27"/>
                <p:cNvSpPr/>
                <p:nvPr/>
              </p:nvSpPr>
              <p:spPr>
                <a:xfrm flipH="1" flipV="1" rot="5608200">
                  <a:off x="1951200" y="5420520"/>
                  <a:ext cx="23616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2" name="Group 28"/>
              <p:cNvGrpSpPr/>
              <p:nvPr/>
            </p:nvGrpSpPr>
            <p:grpSpPr>
              <a:xfrm>
                <a:off x="1280880" y="5531040"/>
                <a:ext cx="1358640" cy="647640"/>
                <a:chOff x="1280880" y="5531040"/>
                <a:chExt cx="1358640" cy="647640"/>
              </a:xfrm>
            </p:grpSpPr>
            <p:sp>
              <p:nvSpPr>
                <p:cNvPr id="283" name="AutoShape 29"/>
                <p:cNvSpPr/>
                <p:nvPr/>
              </p:nvSpPr>
              <p:spPr>
                <a:xfrm flipH="1" flipV="1" rot="5317800">
                  <a:off x="2023200" y="5420520"/>
                  <a:ext cx="23760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AutoShape 30"/>
                <p:cNvSpPr/>
                <p:nvPr/>
              </p:nvSpPr>
              <p:spPr>
                <a:xfrm flipH="1" flipV="1" rot="6133800">
                  <a:off x="1858680" y="5419080"/>
                  <a:ext cx="237600" cy="988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AutoShape 31"/>
                <p:cNvSpPr/>
                <p:nvPr/>
              </p:nvSpPr>
              <p:spPr>
                <a:xfrm flipH="1" flipV="1" rot="6429000">
                  <a:off x="1766520" y="5393880"/>
                  <a:ext cx="237600" cy="988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AutoShape 32"/>
                <p:cNvSpPr/>
                <p:nvPr/>
              </p:nvSpPr>
              <p:spPr>
                <a:xfrm flipH="1" flipV="1" rot="6961200">
                  <a:off x="1657800" y="5360040"/>
                  <a:ext cx="237600" cy="988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7" name="Group 33"/>
          <p:cNvGrpSpPr/>
          <p:nvPr/>
        </p:nvGrpSpPr>
        <p:grpSpPr>
          <a:xfrm>
            <a:off x="4295880" y="3465360"/>
            <a:ext cx="3701880" cy="1066680"/>
            <a:chOff x="4295880" y="3465360"/>
            <a:chExt cx="3701880" cy="1066680"/>
          </a:xfrm>
        </p:grpSpPr>
        <p:sp>
          <p:nvSpPr>
            <p:cNvPr id="288" name="AutoShape 34"/>
            <p:cNvSpPr/>
            <p:nvPr/>
          </p:nvSpPr>
          <p:spPr>
            <a:xfrm>
              <a:off x="4295880" y="3465360"/>
              <a:ext cx="3701880" cy="10666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a8a8d2"/>
                </a:gs>
                <a:gs pos="100000">
                  <a:srgbClr val="ccccff"/>
                </a:gs>
              </a:gsLst>
              <a:lin ang="5400000"/>
            </a:gradFill>
            <a:ln w="25560">
              <a:solidFill>
                <a:srgbClr val="feffff"/>
              </a:solidFill>
              <a:round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9" name="Picture 35" descr="Picture4"/>
            <p:cNvPicPr/>
            <p:nvPr/>
          </p:nvPicPr>
          <p:blipFill>
            <a:blip r:embed="rId3"/>
            <a:stretch/>
          </p:blipFill>
          <p:spPr>
            <a:xfrm>
              <a:off x="4356000" y="3519360"/>
              <a:ext cx="793440" cy="67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Rectangle 36"/>
            <p:cNvSpPr/>
            <p:nvPr/>
          </p:nvSpPr>
          <p:spPr>
            <a:xfrm>
              <a:off x="4427280" y="3597120"/>
              <a:ext cx="342576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fff"/>
                  </a:solidFill>
                  <a:latin typeface="Arial"/>
                  <a:ea typeface="宋体"/>
                </a:rPr>
                <a:t>xxxxxxxxxxxxxxxxxxxxxxxxxxxxxxxxxxxxxxxxxxxxxxx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" name="Group 37"/>
          <p:cNvGrpSpPr/>
          <p:nvPr/>
        </p:nvGrpSpPr>
        <p:grpSpPr>
          <a:xfrm>
            <a:off x="4292640" y="2138400"/>
            <a:ext cx="3701880" cy="1066680"/>
            <a:chOff x="4292640" y="2138400"/>
            <a:chExt cx="3701880" cy="1066680"/>
          </a:xfrm>
        </p:grpSpPr>
        <p:sp>
          <p:nvSpPr>
            <p:cNvPr id="292" name="AutoShape 38"/>
            <p:cNvSpPr/>
            <p:nvPr/>
          </p:nvSpPr>
          <p:spPr>
            <a:xfrm>
              <a:off x="4292640" y="2138400"/>
              <a:ext cx="3701880" cy="10666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7ea8d2"/>
                </a:gs>
                <a:gs pos="100000">
                  <a:srgbClr val="99ccff"/>
                </a:gs>
              </a:gsLst>
              <a:lin ang="5400000"/>
            </a:gradFill>
            <a:ln w="25560">
              <a:solidFill>
                <a:srgbClr val="feffff"/>
              </a:solidFill>
              <a:round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3" name="Picture 39" descr="Picture4"/>
            <p:cNvPicPr/>
            <p:nvPr/>
          </p:nvPicPr>
          <p:blipFill>
            <a:blip r:embed="rId4"/>
            <a:stretch/>
          </p:blipFill>
          <p:spPr>
            <a:xfrm>
              <a:off x="4359240" y="2188800"/>
              <a:ext cx="792000" cy="67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Rectangle 40"/>
            <p:cNvSpPr/>
            <p:nvPr/>
          </p:nvSpPr>
          <p:spPr>
            <a:xfrm>
              <a:off x="4427280" y="2261880"/>
              <a:ext cx="342612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fff"/>
                  </a:solidFill>
                  <a:latin typeface="Arial"/>
                  <a:ea typeface="宋体"/>
                </a:rPr>
                <a:t>xxxxxxxxxxxxxxxxxxxxxxxxxxxxxxxxxxxxxxxxxxxxxxx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Group 41"/>
          <p:cNvGrpSpPr/>
          <p:nvPr/>
        </p:nvGrpSpPr>
        <p:grpSpPr>
          <a:xfrm>
            <a:off x="4299120" y="4795920"/>
            <a:ext cx="3701880" cy="1066680"/>
            <a:chOff x="4299120" y="4795920"/>
            <a:chExt cx="3701880" cy="1066680"/>
          </a:xfrm>
        </p:grpSpPr>
        <p:sp>
          <p:nvSpPr>
            <p:cNvPr id="296" name="AutoShape 42"/>
            <p:cNvSpPr/>
            <p:nvPr/>
          </p:nvSpPr>
          <p:spPr>
            <a:xfrm>
              <a:off x="4299120" y="4795920"/>
              <a:ext cx="3701880" cy="10666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055d2"/>
                </a:gs>
                <a:gs pos="100000">
                  <a:srgbClr val="af67ff"/>
                </a:gs>
              </a:gsLst>
              <a:lin ang="5400000"/>
            </a:gradFill>
            <a:ln w="25560">
              <a:solidFill>
                <a:srgbClr val="feffff"/>
              </a:solidFill>
              <a:round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7" name="Picture 43" descr="Picture4"/>
            <p:cNvPicPr/>
            <p:nvPr/>
          </p:nvPicPr>
          <p:blipFill>
            <a:blip r:embed="rId5"/>
            <a:stretch/>
          </p:blipFill>
          <p:spPr>
            <a:xfrm>
              <a:off x="4354200" y="4843440"/>
              <a:ext cx="792000" cy="67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Rectangle 44"/>
            <p:cNvSpPr/>
            <p:nvPr/>
          </p:nvSpPr>
          <p:spPr>
            <a:xfrm>
              <a:off x="4427280" y="4910400"/>
              <a:ext cx="342576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fff"/>
                  </a:solidFill>
                  <a:latin typeface="Arial"/>
                  <a:ea typeface="宋体"/>
                </a:rPr>
                <a:t>xxxxxxxxxxxxxxxxxxxxxxxxxxxxxxxxxxxxxxxxxxxxxxx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" name="Text Box 45"/>
          <p:cNvSpPr/>
          <p:nvPr/>
        </p:nvSpPr>
        <p:spPr>
          <a:xfrm>
            <a:off x="1062000" y="260676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46"/>
          <p:cNvSpPr/>
          <p:nvPr/>
        </p:nvSpPr>
        <p:spPr>
          <a:xfrm>
            <a:off x="1166760" y="505620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Freeform 47"/>
          <p:cNvSpPr/>
          <p:nvPr/>
        </p:nvSpPr>
        <p:spPr>
          <a:xfrm rot="16200000">
            <a:off x="2903400" y="4801680"/>
            <a:ext cx="1622520" cy="96840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Freeform 48"/>
          <p:cNvSpPr/>
          <p:nvPr/>
        </p:nvSpPr>
        <p:spPr>
          <a:xfrm rot="16200000">
            <a:off x="3469320" y="3452760"/>
            <a:ext cx="314280" cy="1097280"/>
          </a:xfrm>
          <a:custGeom>
            <a:avLst/>
            <a:gdLst/>
            <a:ahLst/>
            <a:rect l="l" t="t" r="r" b="b"/>
            <a:pathLst>
              <a:path w="142" h="604">
                <a:moveTo>
                  <a:pt x="37" y="1"/>
                </a:moveTo>
                <a:lnTo>
                  <a:pt x="45" y="472"/>
                </a:lnTo>
                <a:lnTo>
                  <a:pt x="0" y="474"/>
                </a:lnTo>
                <a:lnTo>
                  <a:pt x="72" y="604"/>
                </a:lnTo>
                <a:lnTo>
                  <a:pt x="142" y="474"/>
                </a:lnTo>
                <a:lnTo>
                  <a:pt x="100" y="474"/>
                </a:lnTo>
                <a:lnTo>
                  <a:pt x="99" y="0"/>
                </a:lnTo>
                <a:lnTo>
                  <a:pt x="37" y="1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Freeform 49"/>
          <p:cNvSpPr/>
          <p:nvPr/>
        </p:nvSpPr>
        <p:spPr>
          <a:xfrm flipH="1" rot="16200000">
            <a:off x="2862000" y="2237760"/>
            <a:ext cx="1623960" cy="96804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 spokes="3"/>
    <p:sndAc>
      <p:stSnd>
        <p:snd r:embed="rId6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3"/>
          <p:cNvSpPr/>
          <p:nvPr/>
        </p:nvSpPr>
        <p:spPr>
          <a:xfrm>
            <a:off x="915840" y="474516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4"/>
          <p:cNvSpPr/>
          <p:nvPr/>
        </p:nvSpPr>
        <p:spPr>
          <a:xfrm>
            <a:off x="6629040" y="4745160"/>
            <a:ext cx="5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47"/>
          <p:cNvSpPr/>
          <p:nvPr/>
        </p:nvSpPr>
        <p:spPr>
          <a:xfrm>
            <a:off x="1154160" y="1836720"/>
            <a:ext cx="4191120" cy="703440"/>
          </a:xfrm>
          <a:prstGeom prst="rect">
            <a:avLst/>
          </a:prstGeom>
          <a:solidFill>
            <a:srgbClr val="af67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48"/>
          <p:cNvSpPr/>
          <p:nvPr/>
        </p:nvSpPr>
        <p:spPr>
          <a:xfrm>
            <a:off x="1154160" y="2554200"/>
            <a:ext cx="4267080" cy="822240"/>
          </a:xfrm>
          <a:prstGeom prst="rect">
            <a:avLst/>
          </a:prstGeom>
          <a:solidFill>
            <a:srgbClr val="99cc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49"/>
          <p:cNvSpPr/>
          <p:nvPr/>
        </p:nvSpPr>
        <p:spPr>
          <a:xfrm>
            <a:off x="1154160" y="3382920"/>
            <a:ext cx="3809880" cy="817560"/>
          </a:xfrm>
          <a:prstGeom prst="rect">
            <a:avLst/>
          </a:prstGeom>
          <a:solidFill>
            <a:srgbClr val="af67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50"/>
          <p:cNvSpPr/>
          <p:nvPr/>
        </p:nvSpPr>
        <p:spPr>
          <a:xfrm>
            <a:off x="1154160" y="4222800"/>
            <a:ext cx="3200400" cy="822240"/>
          </a:xfrm>
          <a:prstGeom prst="rect">
            <a:avLst/>
          </a:prstGeom>
          <a:solidFill>
            <a:srgbClr val="99cc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51"/>
          <p:cNvSpPr/>
          <p:nvPr/>
        </p:nvSpPr>
        <p:spPr>
          <a:xfrm>
            <a:off x="1154160" y="5060880"/>
            <a:ext cx="2514600" cy="806400"/>
          </a:xfrm>
          <a:prstGeom prst="rect">
            <a:avLst/>
          </a:prstGeom>
          <a:solidFill>
            <a:srgbClr val="af67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1154160" y="5862600"/>
            <a:ext cx="1854000" cy="1800"/>
            <a:chOff x="1154160" y="5862600"/>
            <a:chExt cx="1854000" cy="1800"/>
          </a:xfrm>
        </p:grpSpPr>
        <p:sp>
          <p:nvSpPr>
            <p:cNvPr id="313" name="Line 52"/>
            <p:cNvSpPr/>
            <p:nvPr/>
          </p:nvSpPr>
          <p:spPr>
            <a:xfrm flipH="1">
              <a:off x="1154160" y="5862600"/>
              <a:ext cx="1854000" cy="180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 txBox="1"/>
            <p:nvPr/>
          </p:nvSpPr>
          <p:spPr>
            <a:xfrm>
              <a:off x="1154160" y="5862600"/>
              <a:ext cx="185400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1153800" y="5051520"/>
            <a:ext cx="2392560" cy="1440"/>
            <a:chOff x="1153800" y="5051520"/>
            <a:chExt cx="2392560" cy="1440"/>
          </a:xfrm>
        </p:grpSpPr>
        <p:sp>
          <p:nvSpPr>
            <p:cNvPr id="316" name="Line 53"/>
            <p:cNvSpPr/>
            <p:nvPr/>
          </p:nvSpPr>
          <p:spPr>
            <a:xfrm flipH="1">
              <a:off x="1153800" y="5051520"/>
              <a:ext cx="2392200" cy="144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 txBox="1"/>
            <p:nvPr/>
          </p:nvSpPr>
          <p:spPr>
            <a:xfrm>
              <a:off x="1154160" y="5051520"/>
              <a:ext cx="239220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1153800" y="4210200"/>
            <a:ext cx="2810160" cy="1440"/>
            <a:chOff x="1153800" y="4210200"/>
            <a:chExt cx="2810160" cy="1440"/>
          </a:xfrm>
        </p:grpSpPr>
        <p:sp>
          <p:nvSpPr>
            <p:cNvPr id="319" name="Line 54"/>
            <p:cNvSpPr/>
            <p:nvPr/>
          </p:nvSpPr>
          <p:spPr>
            <a:xfrm flipH="1">
              <a:off x="1153800" y="4210200"/>
              <a:ext cx="2809800" cy="144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 txBox="1"/>
            <p:nvPr/>
          </p:nvSpPr>
          <p:spPr>
            <a:xfrm>
              <a:off x="1154160" y="4210200"/>
              <a:ext cx="280980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1154160" y="3381480"/>
            <a:ext cx="3287520" cy="1440"/>
            <a:chOff x="1154160" y="3381480"/>
            <a:chExt cx="3287520" cy="1440"/>
          </a:xfrm>
        </p:grpSpPr>
        <p:sp>
          <p:nvSpPr>
            <p:cNvPr id="322" name="Line 55"/>
            <p:cNvSpPr/>
            <p:nvPr/>
          </p:nvSpPr>
          <p:spPr>
            <a:xfrm flipH="1">
              <a:off x="1154160" y="3381480"/>
              <a:ext cx="3287520" cy="144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 txBox="1"/>
            <p:nvPr/>
          </p:nvSpPr>
          <p:spPr>
            <a:xfrm>
              <a:off x="1154160" y="3381480"/>
              <a:ext cx="328752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1154160" y="2548080"/>
            <a:ext cx="3765600" cy="1440"/>
            <a:chOff x="1154160" y="2548080"/>
            <a:chExt cx="3765600" cy="1440"/>
          </a:xfrm>
        </p:grpSpPr>
        <p:sp>
          <p:nvSpPr>
            <p:cNvPr id="325" name="Line 56"/>
            <p:cNvSpPr/>
            <p:nvPr/>
          </p:nvSpPr>
          <p:spPr>
            <a:xfrm flipH="1">
              <a:off x="1154160" y="2548080"/>
              <a:ext cx="3765600" cy="144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 txBox="1"/>
            <p:nvPr/>
          </p:nvSpPr>
          <p:spPr>
            <a:xfrm>
              <a:off x="1154160" y="2548080"/>
              <a:ext cx="376560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" name=""/>
          <p:cNvGrpSpPr/>
          <p:nvPr/>
        </p:nvGrpSpPr>
        <p:grpSpPr>
          <a:xfrm>
            <a:off x="1154160" y="1836720"/>
            <a:ext cx="4184640" cy="1440"/>
            <a:chOff x="1154160" y="1836720"/>
            <a:chExt cx="4184640" cy="1440"/>
          </a:xfrm>
        </p:grpSpPr>
        <p:sp>
          <p:nvSpPr>
            <p:cNvPr id="328" name="Line 57"/>
            <p:cNvSpPr/>
            <p:nvPr/>
          </p:nvSpPr>
          <p:spPr>
            <a:xfrm flipH="1">
              <a:off x="1154160" y="1836720"/>
              <a:ext cx="4184640" cy="144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 txBox="1"/>
            <p:nvPr/>
          </p:nvSpPr>
          <p:spPr>
            <a:xfrm>
              <a:off x="1154160" y="1836720"/>
              <a:ext cx="418464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1392120" y="1836720"/>
            <a:ext cx="1800" cy="711360"/>
            <a:chOff x="1392120" y="1836720"/>
            <a:chExt cx="1800" cy="711360"/>
          </a:xfrm>
        </p:grpSpPr>
        <p:sp>
          <p:nvSpPr>
            <p:cNvPr id="331" name="Line 58"/>
            <p:cNvSpPr/>
            <p:nvPr/>
          </p:nvSpPr>
          <p:spPr>
            <a:xfrm>
              <a:off x="1392120" y="1836720"/>
              <a:ext cx="1800" cy="7113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 txBox="1"/>
            <p:nvPr/>
          </p:nvSpPr>
          <p:spPr>
            <a:xfrm>
              <a:off x="1392120" y="1836720"/>
              <a:ext cx="1800" cy="711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1392120" y="2548080"/>
            <a:ext cx="1800" cy="841320"/>
            <a:chOff x="1392120" y="2548080"/>
            <a:chExt cx="1800" cy="841320"/>
          </a:xfrm>
        </p:grpSpPr>
        <p:sp>
          <p:nvSpPr>
            <p:cNvPr id="334" name="Line 59"/>
            <p:cNvSpPr/>
            <p:nvPr/>
          </p:nvSpPr>
          <p:spPr>
            <a:xfrm>
              <a:off x="1392120" y="2548080"/>
              <a:ext cx="1800" cy="8413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 txBox="1"/>
            <p:nvPr/>
          </p:nvSpPr>
          <p:spPr>
            <a:xfrm>
              <a:off x="1392120" y="2548080"/>
              <a:ext cx="1800" cy="841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" name=""/>
          <p:cNvGrpSpPr/>
          <p:nvPr/>
        </p:nvGrpSpPr>
        <p:grpSpPr>
          <a:xfrm>
            <a:off x="1392120" y="3389400"/>
            <a:ext cx="1800" cy="841320"/>
            <a:chOff x="1392120" y="3389400"/>
            <a:chExt cx="1800" cy="841320"/>
          </a:xfrm>
        </p:grpSpPr>
        <p:sp>
          <p:nvSpPr>
            <p:cNvPr id="337" name="Line 60"/>
            <p:cNvSpPr/>
            <p:nvPr/>
          </p:nvSpPr>
          <p:spPr>
            <a:xfrm>
              <a:off x="1392120" y="3389400"/>
              <a:ext cx="1800" cy="8413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 txBox="1"/>
            <p:nvPr/>
          </p:nvSpPr>
          <p:spPr>
            <a:xfrm>
              <a:off x="1392120" y="3389400"/>
              <a:ext cx="1800" cy="841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1392120" y="4230720"/>
            <a:ext cx="1800" cy="841320"/>
            <a:chOff x="1392120" y="4230720"/>
            <a:chExt cx="1800" cy="841320"/>
          </a:xfrm>
        </p:grpSpPr>
        <p:sp>
          <p:nvSpPr>
            <p:cNvPr id="340" name="Line 61"/>
            <p:cNvSpPr/>
            <p:nvPr/>
          </p:nvSpPr>
          <p:spPr>
            <a:xfrm>
              <a:off x="1392120" y="4230720"/>
              <a:ext cx="1800" cy="8413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 txBox="1"/>
            <p:nvPr/>
          </p:nvSpPr>
          <p:spPr>
            <a:xfrm>
              <a:off x="1392120" y="4230720"/>
              <a:ext cx="1800" cy="841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1392120" y="5072040"/>
            <a:ext cx="1800" cy="776160"/>
            <a:chOff x="1392120" y="5072040"/>
            <a:chExt cx="1800" cy="776160"/>
          </a:xfrm>
        </p:grpSpPr>
        <p:sp>
          <p:nvSpPr>
            <p:cNvPr id="343" name="Line 62"/>
            <p:cNvSpPr/>
            <p:nvPr/>
          </p:nvSpPr>
          <p:spPr>
            <a:xfrm>
              <a:off x="1392120" y="5072040"/>
              <a:ext cx="1800" cy="7761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 txBox="1"/>
            <p:nvPr/>
          </p:nvSpPr>
          <p:spPr>
            <a:xfrm>
              <a:off x="1392120" y="5072040"/>
              <a:ext cx="1800" cy="776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5" name="Text Box 63"/>
          <p:cNvSpPr/>
          <p:nvPr/>
        </p:nvSpPr>
        <p:spPr>
          <a:xfrm>
            <a:off x="1487520" y="2035080"/>
            <a:ext cx="71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  <a:ea typeface="Arial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64"/>
          <p:cNvSpPr/>
          <p:nvPr/>
        </p:nvSpPr>
        <p:spPr>
          <a:xfrm>
            <a:off x="1562760" y="285768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65"/>
          <p:cNvSpPr/>
          <p:nvPr/>
        </p:nvSpPr>
        <p:spPr>
          <a:xfrm>
            <a:off x="1562760" y="36781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66"/>
          <p:cNvSpPr/>
          <p:nvPr/>
        </p:nvSpPr>
        <p:spPr>
          <a:xfrm>
            <a:off x="1562760" y="45007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67"/>
          <p:cNvSpPr/>
          <p:nvPr/>
        </p:nvSpPr>
        <p:spPr>
          <a:xfrm>
            <a:off x="1562760" y="532296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Freeform 71"/>
          <p:cNvSpPr/>
          <p:nvPr/>
        </p:nvSpPr>
        <p:spPr>
          <a:xfrm>
            <a:off x="7221600" y="4630680"/>
            <a:ext cx="895320" cy="1235160"/>
          </a:xfrm>
          <a:custGeom>
            <a:avLst/>
            <a:gdLst/>
            <a:ahLst/>
            <a:rect l="l" t="t" r="r" b="b"/>
            <a:pathLst>
              <a:path w="847" h="1079">
                <a:moveTo>
                  <a:pt x="399" y="1078"/>
                </a:moveTo>
                <a:lnTo>
                  <a:pt x="0" y="459"/>
                </a:lnTo>
                <a:lnTo>
                  <a:pt x="374" y="0"/>
                </a:lnTo>
                <a:lnTo>
                  <a:pt x="846" y="536"/>
                </a:lnTo>
                <a:lnTo>
                  <a:pt x="399" y="1078"/>
                </a:lnTo>
              </a:path>
            </a:pathLst>
          </a:custGeom>
          <a:gradFill rotWithShape="0">
            <a:gsLst>
              <a:gs pos="0">
                <a:srgbClr val="7545aa"/>
              </a:gs>
              <a:gs pos="100000">
                <a:srgbClr val="af67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Freeform 72"/>
          <p:cNvSpPr/>
          <p:nvPr/>
        </p:nvSpPr>
        <p:spPr>
          <a:xfrm>
            <a:off x="3443400" y="4630680"/>
            <a:ext cx="4173480" cy="525600"/>
          </a:xfrm>
          <a:custGeom>
            <a:avLst/>
            <a:gdLst/>
            <a:ahLst/>
            <a:rect l="l" t="t" r="r" b="b"/>
            <a:pathLst>
              <a:path w="3947" h="460">
                <a:moveTo>
                  <a:pt x="0" y="459"/>
                </a:moveTo>
                <a:lnTo>
                  <a:pt x="3573" y="459"/>
                </a:lnTo>
                <a:lnTo>
                  <a:pt x="3946" y="0"/>
                </a:lnTo>
                <a:lnTo>
                  <a:pt x="505" y="0"/>
                </a:lnTo>
                <a:lnTo>
                  <a:pt x="0" y="459"/>
                </a:lnTo>
              </a:path>
            </a:pathLst>
          </a:custGeom>
          <a:gradFill rotWithShape="0">
            <a:gsLst>
              <a:gs pos="0">
                <a:srgbClr val="af67ff"/>
              </a:gs>
              <a:gs pos="100000">
                <a:srgbClr val="623a8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Freeform 73"/>
          <p:cNvSpPr/>
          <p:nvPr/>
        </p:nvSpPr>
        <p:spPr>
          <a:xfrm>
            <a:off x="3036960" y="5154480"/>
            <a:ext cx="4608360" cy="712800"/>
          </a:xfrm>
          <a:custGeom>
            <a:avLst/>
            <a:gdLst/>
            <a:ahLst/>
            <a:rect l="l" t="t" r="r" b="b"/>
            <a:pathLst>
              <a:path w="4357" h="623">
                <a:moveTo>
                  <a:pt x="383" y="0"/>
                </a:moveTo>
                <a:lnTo>
                  <a:pt x="3954" y="0"/>
                </a:lnTo>
                <a:lnTo>
                  <a:pt x="4356" y="622"/>
                </a:lnTo>
                <a:lnTo>
                  <a:pt x="0" y="622"/>
                </a:lnTo>
                <a:lnTo>
                  <a:pt x="383" y="0"/>
                </a:lnTo>
              </a:path>
            </a:pathLst>
          </a:custGeom>
          <a:gradFill rotWithShape="0">
            <a:gsLst>
              <a:gs pos="0">
                <a:srgbClr val="cfa3ff"/>
              </a:gs>
              <a:gs pos="100000">
                <a:srgbClr val="af67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3" name="Group 29"/>
          <p:cNvGrpSpPr/>
          <p:nvPr/>
        </p:nvGrpSpPr>
        <p:grpSpPr>
          <a:xfrm>
            <a:off x="3521160" y="3930480"/>
            <a:ext cx="4024080" cy="1119240"/>
            <a:chOff x="3521160" y="3930480"/>
            <a:chExt cx="4024080" cy="1119240"/>
          </a:xfrm>
        </p:grpSpPr>
        <p:sp>
          <p:nvSpPr>
            <p:cNvPr id="354" name="Freeform 74"/>
            <p:cNvSpPr/>
            <p:nvPr/>
          </p:nvSpPr>
          <p:spPr>
            <a:xfrm>
              <a:off x="6753240" y="3930480"/>
              <a:ext cx="792000" cy="1119240"/>
            </a:xfrm>
            <a:custGeom>
              <a:avLst/>
              <a:gdLst/>
              <a:ahLst/>
              <a:rect l="l" t="t" r="r" b="b"/>
              <a:pathLst>
                <a:path w="749" h="977">
                  <a:moveTo>
                    <a:pt x="382" y="976"/>
                  </a:moveTo>
                  <a:lnTo>
                    <a:pt x="0" y="342"/>
                  </a:lnTo>
                  <a:lnTo>
                    <a:pt x="280" y="0"/>
                  </a:lnTo>
                  <a:lnTo>
                    <a:pt x="748" y="538"/>
                  </a:lnTo>
                  <a:lnTo>
                    <a:pt x="382" y="976"/>
                  </a:lnTo>
                </a:path>
              </a:pathLst>
            </a:custGeom>
            <a:gradFill rotWithShape="0">
              <a:gsLst>
                <a:gs pos="0">
                  <a:srgbClr val="6587a9"/>
                </a:gs>
                <a:gs pos="100000">
                  <a:srgbClr val="99cc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75"/>
            <p:cNvSpPr/>
            <p:nvPr/>
          </p:nvSpPr>
          <p:spPr>
            <a:xfrm>
              <a:off x="3917880" y="3930480"/>
              <a:ext cx="3135240" cy="393840"/>
            </a:xfrm>
            <a:custGeom>
              <a:avLst/>
              <a:gdLst/>
              <a:ahLst/>
              <a:rect l="l" t="t" r="r" b="b"/>
              <a:pathLst>
                <a:path w="2964" h="344">
                  <a:moveTo>
                    <a:pt x="0" y="343"/>
                  </a:moveTo>
                  <a:lnTo>
                    <a:pt x="2684" y="343"/>
                  </a:lnTo>
                  <a:lnTo>
                    <a:pt x="2963" y="0"/>
                  </a:lnTo>
                  <a:lnTo>
                    <a:pt x="531" y="1"/>
                  </a:lnTo>
                  <a:lnTo>
                    <a:pt x="0" y="343"/>
                  </a:lnTo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475e7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76"/>
            <p:cNvSpPr/>
            <p:nvPr/>
          </p:nvSpPr>
          <p:spPr>
            <a:xfrm>
              <a:off x="3521160" y="4324320"/>
              <a:ext cx="3639960" cy="725400"/>
            </a:xfrm>
            <a:custGeom>
              <a:avLst/>
              <a:gdLst/>
              <a:ahLst/>
              <a:rect l="l" t="t" r="r" b="b"/>
              <a:pathLst>
                <a:path w="3443" h="634">
                  <a:moveTo>
                    <a:pt x="0" y="633"/>
                  </a:moveTo>
                  <a:lnTo>
                    <a:pt x="3442" y="633"/>
                  </a:lnTo>
                  <a:lnTo>
                    <a:pt x="3060" y="0"/>
                  </a:lnTo>
                  <a:lnTo>
                    <a:pt x="377" y="0"/>
                  </a:lnTo>
                  <a:lnTo>
                    <a:pt x="0" y="633"/>
                  </a:lnTo>
                </a:path>
              </a:pathLst>
            </a:custGeom>
            <a:gradFill rotWithShape="0">
              <a:gsLst>
                <a:gs pos="0">
                  <a:srgbClr val="cfe7ff"/>
                </a:gs>
                <a:gs pos="100000">
                  <a:srgbClr val="99cc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Freeform 77"/>
          <p:cNvSpPr/>
          <p:nvPr/>
        </p:nvSpPr>
        <p:spPr>
          <a:xfrm>
            <a:off x="6284880" y="3238560"/>
            <a:ext cx="693720" cy="973080"/>
          </a:xfrm>
          <a:custGeom>
            <a:avLst/>
            <a:gdLst/>
            <a:ahLst/>
            <a:rect l="l" t="t" r="r" b="b"/>
            <a:pathLst>
              <a:path w="655" h="849">
                <a:moveTo>
                  <a:pt x="0" y="230"/>
                </a:moveTo>
                <a:lnTo>
                  <a:pt x="387" y="848"/>
                </a:lnTo>
                <a:lnTo>
                  <a:pt x="654" y="531"/>
                </a:lnTo>
                <a:lnTo>
                  <a:pt x="188" y="0"/>
                </a:lnTo>
                <a:lnTo>
                  <a:pt x="0" y="230"/>
                </a:lnTo>
              </a:path>
            </a:pathLst>
          </a:custGeom>
          <a:gradFill rotWithShape="0">
            <a:gsLst>
              <a:gs pos="0">
                <a:srgbClr val="7947b0"/>
              </a:gs>
              <a:gs pos="100000">
                <a:srgbClr val="af67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Freeform 78"/>
          <p:cNvSpPr/>
          <p:nvPr/>
        </p:nvSpPr>
        <p:spPr>
          <a:xfrm>
            <a:off x="4389480" y="3238560"/>
            <a:ext cx="2093760" cy="263520"/>
          </a:xfrm>
          <a:custGeom>
            <a:avLst/>
            <a:gdLst/>
            <a:ahLst/>
            <a:rect l="l" t="t" r="r" b="b"/>
            <a:pathLst>
              <a:path w="1980" h="229">
                <a:moveTo>
                  <a:pt x="0" y="228"/>
                </a:moveTo>
                <a:lnTo>
                  <a:pt x="1791" y="228"/>
                </a:lnTo>
                <a:lnTo>
                  <a:pt x="1979" y="0"/>
                </a:lnTo>
                <a:lnTo>
                  <a:pt x="500" y="0"/>
                </a:lnTo>
                <a:lnTo>
                  <a:pt x="0" y="228"/>
                </a:lnTo>
              </a:path>
            </a:pathLst>
          </a:custGeom>
          <a:gradFill rotWithShape="0">
            <a:gsLst>
              <a:gs pos="0">
                <a:srgbClr val="af67ff"/>
              </a:gs>
              <a:gs pos="100000">
                <a:srgbClr val="502f75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Freeform 79"/>
          <p:cNvSpPr/>
          <p:nvPr/>
        </p:nvSpPr>
        <p:spPr>
          <a:xfrm>
            <a:off x="3986280" y="3500280"/>
            <a:ext cx="2708280" cy="711360"/>
          </a:xfrm>
          <a:custGeom>
            <a:avLst/>
            <a:gdLst/>
            <a:ahLst/>
            <a:rect l="l" t="t" r="r" b="b"/>
            <a:pathLst>
              <a:path w="2561" h="621">
                <a:moveTo>
                  <a:pt x="0" y="620"/>
                </a:moveTo>
                <a:lnTo>
                  <a:pt x="2560" y="620"/>
                </a:lnTo>
                <a:lnTo>
                  <a:pt x="2172" y="0"/>
                </a:lnTo>
                <a:lnTo>
                  <a:pt x="382" y="0"/>
                </a:lnTo>
                <a:lnTo>
                  <a:pt x="0" y="620"/>
                </a:lnTo>
              </a:path>
            </a:pathLst>
          </a:custGeom>
          <a:gradFill rotWithShape="0">
            <a:gsLst>
              <a:gs pos="0">
                <a:srgbClr val="dcbcff"/>
              </a:gs>
              <a:gs pos="100000">
                <a:srgbClr val="af67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Group 36"/>
          <p:cNvGrpSpPr/>
          <p:nvPr/>
        </p:nvGrpSpPr>
        <p:grpSpPr>
          <a:xfrm>
            <a:off x="4457880" y="2536920"/>
            <a:ext cx="1950840" cy="846000"/>
            <a:chOff x="4457880" y="2536920"/>
            <a:chExt cx="1950840" cy="846000"/>
          </a:xfrm>
        </p:grpSpPr>
        <p:sp>
          <p:nvSpPr>
            <p:cNvPr id="361" name="Freeform 80"/>
            <p:cNvSpPr/>
            <p:nvPr/>
          </p:nvSpPr>
          <p:spPr>
            <a:xfrm>
              <a:off x="5811840" y="2536920"/>
              <a:ext cx="596880" cy="846000"/>
            </a:xfrm>
            <a:custGeom>
              <a:avLst/>
              <a:gdLst/>
              <a:ahLst/>
              <a:rect l="l" t="t" r="r" b="b"/>
              <a:pathLst>
                <a:path w="564" h="738">
                  <a:moveTo>
                    <a:pt x="385" y="737"/>
                  </a:moveTo>
                  <a:lnTo>
                    <a:pt x="563" y="527"/>
                  </a:lnTo>
                  <a:lnTo>
                    <a:pt x="97" y="0"/>
                  </a:lnTo>
                  <a:lnTo>
                    <a:pt x="0" y="111"/>
                  </a:lnTo>
                  <a:lnTo>
                    <a:pt x="385" y="737"/>
                  </a:lnTo>
                </a:path>
              </a:pathLst>
            </a:custGeom>
            <a:gradFill rotWithShape="0">
              <a:gsLst>
                <a:gs pos="0">
                  <a:srgbClr val="6587a9"/>
                </a:gs>
                <a:gs pos="100000">
                  <a:srgbClr val="99cc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81"/>
            <p:cNvSpPr/>
            <p:nvPr/>
          </p:nvSpPr>
          <p:spPr>
            <a:xfrm>
              <a:off x="4869000" y="2536920"/>
              <a:ext cx="1044360" cy="126720"/>
            </a:xfrm>
            <a:custGeom>
              <a:avLst/>
              <a:gdLst/>
              <a:ahLst/>
              <a:rect l="l" t="t" r="r" b="b"/>
              <a:pathLst>
                <a:path w="987" h="110">
                  <a:moveTo>
                    <a:pt x="0" y="109"/>
                  </a:moveTo>
                  <a:lnTo>
                    <a:pt x="889" y="109"/>
                  </a:lnTo>
                  <a:lnTo>
                    <a:pt x="986" y="0"/>
                  </a:lnTo>
                  <a:lnTo>
                    <a:pt x="308" y="0"/>
                  </a:lnTo>
                  <a:lnTo>
                    <a:pt x="0" y="109"/>
                  </a:lnTo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475e7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82"/>
            <p:cNvSpPr/>
            <p:nvPr/>
          </p:nvSpPr>
          <p:spPr>
            <a:xfrm>
              <a:off x="4457880" y="2662200"/>
              <a:ext cx="1763640" cy="720720"/>
            </a:xfrm>
            <a:custGeom>
              <a:avLst/>
              <a:gdLst/>
              <a:ahLst/>
              <a:rect l="l" t="t" r="r" b="b"/>
              <a:pathLst>
                <a:path w="1669" h="629">
                  <a:moveTo>
                    <a:pt x="0" y="628"/>
                  </a:moveTo>
                  <a:lnTo>
                    <a:pt x="1668" y="628"/>
                  </a:lnTo>
                  <a:lnTo>
                    <a:pt x="1281" y="0"/>
                  </a:lnTo>
                  <a:lnTo>
                    <a:pt x="388" y="0"/>
                  </a:lnTo>
                  <a:lnTo>
                    <a:pt x="0" y="628"/>
                  </a:lnTo>
                </a:path>
              </a:pathLst>
            </a:custGeom>
            <a:gradFill rotWithShape="0">
              <a:gsLst>
                <a:gs pos="0">
                  <a:srgbClr val="bedeff"/>
                </a:gs>
                <a:gs pos="100000">
                  <a:srgbClr val="99cc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4" name="Freeform 83"/>
          <p:cNvSpPr/>
          <p:nvPr/>
        </p:nvSpPr>
        <p:spPr>
          <a:xfrm>
            <a:off x="5335560" y="1836720"/>
            <a:ext cx="504720" cy="716040"/>
          </a:xfrm>
          <a:custGeom>
            <a:avLst/>
            <a:gdLst/>
            <a:ahLst/>
            <a:rect l="l" t="t" r="r" b="b"/>
            <a:pathLst>
              <a:path w="477" h="625">
                <a:moveTo>
                  <a:pt x="387" y="624"/>
                </a:moveTo>
                <a:lnTo>
                  <a:pt x="476" y="527"/>
                </a:lnTo>
                <a:lnTo>
                  <a:pt x="0" y="0"/>
                </a:lnTo>
                <a:lnTo>
                  <a:pt x="387" y="624"/>
                </a:lnTo>
              </a:path>
            </a:pathLst>
          </a:custGeom>
          <a:gradFill rotWithShape="0">
            <a:gsLst>
              <a:gs pos="0">
                <a:srgbClr val="7444a9"/>
              </a:gs>
              <a:gs pos="100000">
                <a:srgbClr val="af67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Freeform 84"/>
          <p:cNvSpPr/>
          <p:nvPr/>
        </p:nvSpPr>
        <p:spPr>
          <a:xfrm>
            <a:off x="4925880" y="1836720"/>
            <a:ext cx="819360" cy="716040"/>
          </a:xfrm>
          <a:custGeom>
            <a:avLst/>
            <a:gdLst/>
            <a:ahLst/>
            <a:rect l="l" t="t" r="r" b="b"/>
            <a:pathLst>
              <a:path w="773" h="625">
                <a:moveTo>
                  <a:pt x="0" y="624"/>
                </a:moveTo>
                <a:lnTo>
                  <a:pt x="772" y="624"/>
                </a:lnTo>
                <a:lnTo>
                  <a:pt x="387" y="0"/>
                </a:lnTo>
                <a:lnTo>
                  <a:pt x="0" y="624"/>
                </a:lnTo>
              </a:path>
            </a:pathLst>
          </a:custGeom>
          <a:gradFill rotWithShape="0">
            <a:gsLst>
              <a:gs pos="0">
                <a:srgbClr val="d9b7ff"/>
              </a:gs>
              <a:gs pos="100000">
                <a:srgbClr val="af67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85"/>
          <p:cNvSpPr/>
          <p:nvPr/>
        </p:nvSpPr>
        <p:spPr>
          <a:xfrm>
            <a:off x="4916520" y="2217600"/>
            <a:ext cx="76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61616"/>
                </a:solidFill>
                <a:latin typeface="Arial"/>
                <a:ea typeface="Arial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86"/>
          <p:cNvSpPr/>
          <p:nvPr/>
        </p:nvSpPr>
        <p:spPr>
          <a:xfrm>
            <a:off x="4611600" y="297180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61616"/>
                </a:solidFill>
                <a:latin typeface="Times New Roman"/>
                <a:ea typeface="宋体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87"/>
          <p:cNvSpPr/>
          <p:nvPr/>
        </p:nvSpPr>
        <p:spPr>
          <a:xfrm>
            <a:off x="4611600" y="379260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61616"/>
                </a:solidFill>
                <a:latin typeface="Times New Roman"/>
                <a:ea typeface="宋体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88"/>
          <p:cNvSpPr/>
          <p:nvPr/>
        </p:nvSpPr>
        <p:spPr>
          <a:xfrm>
            <a:off x="4611600" y="461484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61616"/>
                </a:solidFill>
                <a:latin typeface="Times New Roman"/>
                <a:ea typeface="宋体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89"/>
          <p:cNvSpPr/>
          <p:nvPr/>
        </p:nvSpPr>
        <p:spPr>
          <a:xfrm>
            <a:off x="4611600" y="543708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61616"/>
                </a:solidFill>
                <a:latin typeface="Times New Roman"/>
                <a:ea typeface="宋体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 spokes="3"/>
    <p:sndAc>
      <p:stSnd>
        <p:snd r:embed="rId1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2"/>
          <p:cNvSpPr/>
          <p:nvPr/>
        </p:nvSpPr>
        <p:spPr>
          <a:xfrm>
            <a:off x="2362320" y="722160"/>
            <a:ext cx="46479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Freeform 3"/>
          <p:cNvSpPr/>
          <p:nvPr/>
        </p:nvSpPr>
        <p:spPr>
          <a:xfrm>
            <a:off x="2538360" y="2762280"/>
            <a:ext cx="1900440" cy="137628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Freeform 4"/>
          <p:cNvSpPr/>
          <p:nvPr/>
        </p:nvSpPr>
        <p:spPr>
          <a:xfrm>
            <a:off x="4457880" y="2697120"/>
            <a:ext cx="366480" cy="1562040"/>
          </a:xfrm>
          <a:custGeom>
            <a:avLst/>
            <a:gdLst/>
            <a:ahLst/>
            <a:rect l="l" t="t" r="r" b="b"/>
            <a:pathLst>
              <a:path w="142" h="604">
                <a:moveTo>
                  <a:pt x="37" y="1"/>
                </a:moveTo>
                <a:lnTo>
                  <a:pt x="45" y="472"/>
                </a:lnTo>
                <a:lnTo>
                  <a:pt x="0" y="474"/>
                </a:lnTo>
                <a:lnTo>
                  <a:pt x="72" y="604"/>
                </a:lnTo>
                <a:lnTo>
                  <a:pt x="142" y="474"/>
                </a:lnTo>
                <a:lnTo>
                  <a:pt x="100" y="474"/>
                </a:lnTo>
                <a:lnTo>
                  <a:pt x="99" y="0"/>
                </a:lnTo>
                <a:lnTo>
                  <a:pt x="37" y="1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Freeform 5"/>
          <p:cNvSpPr/>
          <p:nvPr/>
        </p:nvSpPr>
        <p:spPr>
          <a:xfrm flipH="1">
            <a:off x="4857840" y="2762280"/>
            <a:ext cx="1900080" cy="137628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" name="Group 6"/>
          <p:cNvGrpSpPr/>
          <p:nvPr/>
        </p:nvGrpSpPr>
        <p:grpSpPr>
          <a:xfrm>
            <a:off x="2176560" y="1563840"/>
            <a:ext cx="1361160" cy="1321560"/>
            <a:chOff x="2176560" y="1563840"/>
            <a:chExt cx="1361160" cy="1321560"/>
          </a:xfrm>
        </p:grpSpPr>
        <p:sp>
          <p:nvSpPr>
            <p:cNvPr id="376" name="AutoShape 7"/>
            <p:cNvSpPr/>
            <p:nvPr/>
          </p:nvSpPr>
          <p:spPr>
            <a:xfrm>
              <a:off x="2176560" y="1563840"/>
              <a:ext cx="136116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6b8eb2"/>
                </a:gs>
              </a:gsLst>
              <a:lin ang="5400000"/>
            </a:gradFill>
            <a:ln w="25560">
              <a:solidFill>
                <a:srgbClr val="ffffff"/>
              </a:solidFill>
              <a:round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8"/>
            <p:cNvSpPr/>
            <p:nvPr/>
          </p:nvSpPr>
          <p:spPr>
            <a:xfrm>
              <a:off x="2262240" y="1649520"/>
              <a:ext cx="67680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cde6ff"/>
                </a:gs>
                <a:gs pos="50000">
                  <a:srgbClr val="99ccff">
                    <a:alpha val="0"/>
                  </a:srgbClr>
                </a:gs>
                <a:gs pos="100000">
                  <a:srgbClr val="cde6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8" name="Rectangle 9"/>
          <p:cNvSpPr/>
          <p:nvPr/>
        </p:nvSpPr>
        <p:spPr>
          <a:xfrm>
            <a:off x="2448000" y="1897200"/>
            <a:ext cx="86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Arial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9" name="Group 10"/>
          <p:cNvGrpSpPr/>
          <p:nvPr/>
        </p:nvGrpSpPr>
        <p:grpSpPr>
          <a:xfrm>
            <a:off x="3956040" y="1563840"/>
            <a:ext cx="1361520" cy="1321560"/>
            <a:chOff x="3956040" y="1563840"/>
            <a:chExt cx="1361520" cy="1321560"/>
          </a:xfrm>
        </p:grpSpPr>
        <p:sp>
          <p:nvSpPr>
            <p:cNvPr id="380" name="AutoShape 11"/>
            <p:cNvSpPr/>
            <p:nvPr/>
          </p:nvSpPr>
          <p:spPr>
            <a:xfrm>
              <a:off x="3956040" y="156384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8e8eb2"/>
                </a:gs>
              </a:gsLst>
              <a:lin ang="5400000"/>
            </a:gradFill>
            <a:ln w="25560">
              <a:solidFill>
                <a:srgbClr val="ffffff"/>
              </a:solidFill>
              <a:round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12"/>
            <p:cNvSpPr/>
            <p:nvPr/>
          </p:nvSpPr>
          <p:spPr>
            <a:xfrm>
              <a:off x="4041720" y="1649520"/>
              <a:ext cx="67716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e6e6ff"/>
                </a:gs>
                <a:gs pos="50000">
                  <a:srgbClr val="ccccff">
                    <a:alpha val="0"/>
                  </a:srgbClr>
                </a:gs>
                <a:gs pos="100000">
                  <a:srgbClr val="e6e6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Group 13"/>
          <p:cNvGrpSpPr/>
          <p:nvPr/>
        </p:nvGrpSpPr>
        <p:grpSpPr>
          <a:xfrm>
            <a:off x="5743440" y="1573200"/>
            <a:ext cx="1361520" cy="1321560"/>
            <a:chOff x="5743440" y="1573200"/>
            <a:chExt cx="1361520" cy="1321560"/>
          </a:xfrm>
        </p:grpSpPr>
        <p:sp>
          <p:nvSpPr>
            <p:cNvPr id="383" name="AutoShape 14"/>
            <p:cNvSpPr/>
            <p:nvPr/>
          </p:nvSpPr>
          <p:spPr>
            <a:xfrm>
              <a:off x="5743440" y="157320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3333cc"/>
                </a:gs>
                <a:gs pos="100000">
                  <a:srgbClr val="24248e"/>
                </a:gs>
              </a:gsLst>
              <a:lin ang="5400000"/>
            </a:gradFill>
            <a:ln w="25560">
              <a:solidFill>
                <a:srgbClr val="ffffff"/>
              </a:solidFill>
              <a:round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15"/>
            <p:cNvSpPr/>
            <p:nvPr/>
          </p:nvSpPr>
          <p:spPr>
            <a:xfrm>
              <a:off x="5829120" y="1658880"/>
              <a:ext cx="67716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9c9ce6"/>
                </a:gs>
                <a:gs pos="50000">
                  <a:srgbClr val="3333cc">
                    <a:alpha val="0"/>
                  </a:srgbClr>
                </a:gs>
                <a:gs pos="100000">
                  <a:srgbClr val="9c9c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5" name="Rectangle 16"/>
          <p:cNvSpPr/>
          <p:nvPr/>
        </p:nvSpPr>
        <p:spPr>
          <a:xfrm>
            <a:off x="4181760" y="1897200"/>
            <a:ext cx="86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Arial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17"/>
          <p:cNvSpPr/>
          <p:nvPr/>
        </p:nvSpPr>
        <p:spPr>
          <a:xfrm>
            <a:off x="5999400" y="1906560"/>
            <a:ext cx="86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Arial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utoShape 18"/>
          <p:cNvSpPr/>
          <p:nvPr/>
        </p:nvSpPr>
        <p:spPr>
          <a:xfrm>
            <a:off x="2311560" y="4316400"/>
            <a:ext cx="5548320" cy="124128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19"/>
          <p:cNvSpPr/>
          <p:nvPr/>
        </p:nvSpPr>
        <p:spPr>
          <a:xfrm>
            <a:off x="2830680" y="4457880"/>
            <a:ext cx="4700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xxxxxxxxxxxxxxxxxxxxxxxxxxxxxxxxxxxxxxxxxxxxxxxxxxxxxxxxxxxxxxxxxxxxxxxxxxxxxxxxxxxxxxxxxxxxxxxxxxxxxx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Picture 20" descr="YG_circle001"/>
          <p:cNvPicPr/>
          <p:nvPr/>
        </p:nvPicPr>
        <p:blipFill>
          <a:blip r:embed="rId1"/>
          <a:stretch/>
        </p:blipFill>
        <p:spPr>
          <a:xfrm>
            <a:off x="838080" y="4002120"/>
            <a:ext cx="1936800" cy="1936800"/>
          </a:xfrm>
          <a:prstGeom prst="rect">
            <a:avLst/>
          </a:prstGeom>
          <a:ln w="0">
            <a:noFill/>
          </a:ln>
        </p:spPr>
      </p:pic>
      <p:sp>
        <p:nvSpPr>
          <p:cNvPr id="390" name="Text Box 21"/>
          <p:cNvSpPr/>
          <p:nvPr/>
        </p:nvSpPr>
        <p:spPr>
          <a:xfrm>
            <a:off x="1146240" y="4651200"/>
            <a:ext cx="128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 spokes="3"/>
    <p:sndAc>
      <p:stSnd>
        <p:snd r:embed="rId2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25T04:53:50Z</dcterms:created>
  <dc:creator/>
  <dc:description/>
  <dc:language>en-US</dc:language>
  <cp:lastModifiedBy>Administrator</cp:lastModifiedBy>
  <dcterms:modified xsi:type="dcterms:W3CDTF">2016-03-25T04:54:07Z</dcterms:modified>
  <cp:revision>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9</vt:lpwstr>
  </property>
  <property fmtid="{D5CDD505-2E9C-101B-9397-08002B2CF9AE}" pid="3" name="Version">
    <vt:r8>1</vt:r8>
  </property>
</Properties>
</file>