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wmf" ContentType="image/x-wmf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2A0-7EF7-47D6-8114-13955ABB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3AB-AE20-4B49-B2F9-3DFE15E5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FB4-2F8A-45F3-9DCC-EB81E816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919-3E98-45DF-A7B2-CFBB61F5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6D2-9866-4112-A4BD-835F3A13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A8B-6F51-47A8-8677-27AFDFB7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4E0-0B0C-439F-8044-9F40B397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F361-9030-4ABC-B362-6A9DDF4E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B3F-D69F-45F3-93F1-EEBF8FC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1D33-6067-4AF2-8328-154542C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386-580F-4B84-B6D0-1CEEEAAA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653-44FE-4934-BB56-E3065D0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0120-6DF8-4C21-B493-5AF460F975B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CDC1-3FF0-4ADC-AFE6-D1A7260876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0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0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2.wmf"/><Relationship Id="rId19" Type="http://schemas.openxmlformats.org/officeDocument/2006/relationships/image" Target="../media/image10.wmf"/><Relationship Id="rId20" Type="http://schemas.openxmlformats.org/officeDocument/2006/relationships/image" Target="../media/image12.wmf"/><Relationship Id="rId21" Type="http://schemas.openxmlformats.org/officeDocument/2006/relationships/image" Target="../media/image14.wmf"/><Relationship Id="rId2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18"/>
          <p:cNvSpPr/>
          <p:nvPr/>
        </p:nvSpPr>
        <p:spPr>
          <a:xfrm>
            <a:off x="4506840" y="1851120"/>
            <a:ext cx="7855200" cy="5030640"/>
          </a:xfrm>
          <a:prstGeom prst="triangle">
            <a:avLst>
              <a:gd name="adj" fmla="val 50000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0"/>
          <p:cNvSpPr/>
          <p:nvPr/>
        </p:nvSpPr>
        <p:spPr>
          <a:xfrm>
            <a:off x="-52560" y="4346640"/>
            <a:ext cx="4703760" cy="2536920"/>
          </a:xfrm>
          <a:prstGeom prst="triangle">
            <a:avLst>
              <a:gd name="adj" fmla="val 11764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>
            <a:off x="-33480" y="2303640"/>
            <a:ext cx="4684680" cy="4578120"/>
          </a:xfrm>
          <a:prstGeom prst="triangle">
            <a:avLst>
              <a:gd name="adj" fmla="val 50000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7"/>
          <p:cNvSpPr/>
          <p:nvPr/>
        </p:nvSpPr>
        <p:spPr>
          <a:xfrm>
            <a:off x="5167440" y="4322880"/>
            <a:ext cx="7059600" cy="2558880"/>
          </a:xfrm>
          <a:prstGeom prst="triangle">
            <a:avLst>
              <a:gd name="adj" fmla="val 50000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0" y="0"/>
            <a:ext cx="12192120" cy="284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9"/>
          <p:cNvSpPr/>
          <p:nvPr/>
        </p:nvSpPr>
        <p:spPr>
          <a:xfrm>
            <a:off x="4176000" y="49705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dobe Gothic Std B"/>
              </a:rPr>
              <a:t>MY COLOURFU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1"/>
          <p:cNvSpPr/>
          <p:nvPr/>
        </p:nvSpPr>
        <p:spPr>
          <a:xfrm>
            <a:off x="4855680" y="4467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去年，我过得很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8"/>
          <p:cNvGrpSpPr/>
          <p:nvPr/>
        </p:nvGrpSpPr>
        <p:grpSpPr>
          <a:xfrm>
            <a:off x="3036960" y="2190600"/>
            <a:ext cx="6141960" cy="2148120"/>
            <a:chOff x="3036960" y="2190600"/>
            <a:chExt cx="6141960" cy="2148120"/>
          </a:xfrm>
        </p:grpSpPr>
        <p:grpSp>
          <p:nvGrpSpPr>
            <p:cNvPr id="49" name="组合 27"/>
            <p:cNvGrpSpPr/>
            <p:nvPr/>
          </p:nvGrpSpPr>
          <p:grpSpPr>
            <a:xfrm>
              <a:off x="3036960" y="2190600"/>
              <a:ext cx="6141960" cy="2148120"/>
              <a:chOff x="3036960" y="2190600"/>
              <a:chExt cx="6141960" cy="2148120"/>
            </a:xfrm>
          </p:grpSpPr>
          <p:sp>
            <p:nvSpPr>
              <p:cNvPr id="50" name="流程图: 延期 24"/>
              <p:cNvSpPr/>
              <p:nvPr/>
            </p:nvSpPr>
            <p:spPr>
              <a:xfrm>
                <a:off x="7296120" y="2342520"/>
                <a:ext cx="1781640" cy="1843920"/>
              </a:xfrm>
              <a:prstGeom prst="flowChartDelay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矩形 22"/>
              <p:cNvSpPr/>
              <p:nvPr/>
            </p:nvSpPr>
            <p:spPr>
              <a:xfrm>
                <a:off x="3122280" y="2342520"/>
                <a:ext cx="4956840" cy="184392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23"/>
              <p:cNvSpPr/>
              <p:nvPr/>
            </p:nvSpPr>
            <p:spPr>
              <a:xfrm>
                <a:off x="3036960" y="2190600"/>
                <a:ext cx="115560" cy="214812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椭圆 26"/>
              <p:cNvSpPr/>
              <p:nvPr/>
            </p:nvSpPr>
            <p:spPr>
              <a:xfrm>
                <a:off x="8976960" y="3111480"/>
                <a:ext cx="201960" cy="30600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文本框 25"/>
            <p:cNvSpPr/>
            <p:nvPr/>
          </p:nvSpPr>
          <p:spPr>
            <a:xfrm>
              <a:off x="4521600" y="2480040"/>
              <a:ext cx="2893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c000"/>
                  </a:solidFill>
                  <a:latin typeface="Arial"/>
                </a:rPr>
                <a:t>201</a:t>
              </a:r>
              <a:r>
                <a:rPr b="1" lang="zh-CN" sz="9600" spc="-1" strike="noStrike">
                  <a:solidFill>
                    <a:srgbClr val="ffc000"/>
                  </a:solidFill>
                  <a:latin typeface="Arial"/>
                </a:rPr>
                <a:t>5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42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文本框 5"/>
          <p:cNvSpPr/>
          <p:nvPr/>
        </p:nvSpPr>
        <p:spPr>
          <a:xfrm>
            <a:off x="3142440" y="6033960"/>
            <a:ext cx="6114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6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月进平台后，我用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20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个付费模板，非常暴力地破了</a:t>
            </a:r>
            <a:r>
              <a:rPr b="1" lang="en-US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 STORE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的历史总收入记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8"/>
          <p:cNvSpPr/>
          <p:nvPr/>
        </p:nvSpPr>
        <p:spPr>
          <a:xfrm>
            <a:off x="4494600" y="104760"/>
            <a:ext cx="40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成为了</a:t>
            </a:r>
            <a:r>
              <a:rPr b="1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 STORE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上的怪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9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角三角形 10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表 18" descr=""/>
          <p:cNvPicPr/>
          <p:nvPr/>
        </p:nvPicPr>
        <p:blipFill>
          <a:blip r:embed="rId1"/>
          <a:stretch/>
        </p:blipFill>
        <p:spPr>
          <a:xfrm>
            <a:off x="1231920" y="1474920"/>
            <a:ext cx="9728280" cy="4173480"/>
          </a:xfrm>
          <a:prstGeom prst="rect">
            <a:avLst/>
          </a:prstGeom>
          <a:ln w="0">
            <a:noFill/>
          </a:ln>
        </p:spPr>
      </p:pic>
      <p:grpSp>
        <p:nvGrpSpPr>
          <p:cNvPr id="560" name="组合 13"/>
          <p:cNvGrpSpPr/>
          <p:nvPr/>
        </p:nvGrpSpPr>
        <p:grpSpPr>
          <a:xfrm>
            <a:off x="8280360" y="1228680"/>
            <a:ext cx="1717560" cy="653760"/>
            <a:chOff x="8280360" y="1228680"/>
            <a:chExt cx="1717560" cy="653760"/>
          </a:xfrm>
        </p:grpSpPr>
        <p:sp>
          <p:nvSpPr>
            <p:cNvPr id="561" name="矩形 14"/>
            <p:cNvSpPr/>
            <p:nvPr/>
          </p:nvSpPr>
          <p:spPr>
            <a:xfrm>
              <a:off x="8280360" y="1228680"/>
              <a:ext cx="1717560" cy="51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000"/>
                  </a:solidFill>
                  <a:latin typeface="微软雅黑"/>
                </a:rPr>
                <a:t>22866.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等腰三角形 15"/>
            <p:cNvSpPr/>
            <p:nvPr/>
          </p:nvSpPr>
          <p:spPr>
            <a:xfrm rot="10800000">
              <a:off x="9027000" y="1717200"/>
              <a:ext cx="22356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91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221" descr=""/>
          <p:cNvPicPr/>
          <p:nvPr/>
        </p:nvPicPr>
        <p:blipFill>
          <a:blip r:embed="rId1"/>
          <a:stretch/>
        </p:blipFill>
        <p:spPr>
          <a:xfrm>
            <a:off x="54000" y="1749600"/>
            <a:ext cx="12084120" cy="2949480"/>
          </a:xfrm>
          <a:prstGeom prst="rect">
            <a:avLst/>
          </a:prstGeom>
          <a:ln w="0">
            <a:noFill/>
          </a:ln>
        </p:spPr>
      </p:pic>
      <p:sp>
        <p:nvSpPr>
          <p:cNvPr id="564" name="矩形 1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81920" y="10476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找到了一份可以为之拼命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3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角三角形 4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16"/>
          <p:cNvGrpSpPr/>
          <p:nvPr/>
        </p:nvGrpSpPr>
        <p:grpSpPr>
          <a:xfrm>
            <a:off x="2128680" y="2682720"/>
            <a:ext cx="7934400" cy="1082880"/>
            <a:chOff x="2128680" y="2682720"/>
            <a:chExt cx="7934400" cy="1082880"/>
          </a:xfrm>
        </p:grpSpPr>
        <p:grpSp>
          <p:nvGrpSpPr>
            <p:cNvPr id="569" name="组合 7"/>
            <p:cNvGrpSpPr/>
            <p:nvPr/>
          </p:nvGrpSpPr>
          <p:grpSpPr>
            <a:xfrm>
              <a:off x="2128680" y="2682720"/>
              <a:ext cx="4052160" cy="1082880"/>
              <a:chOff x="2128680" y="2682720"/>
              <a:chExt cx="4052160" cy="1082880"/>
            </a:xfrm>
          </p:grpSpPr>
          <p:sp>
            <p:nvSpPr>
              <p:cNvPr id="570" name="Freeform 5"/>
              <p:cNvSpPr/>
              <p:nvPr/>
            </p:nvSpPr>
            <p:spPr>
              <a:xfrm>
                <a:off x="2128680" y="2682720"/>
                <a:ext cx="1274760" cy="1082880"/>
              </a:xfrm>
              <a:custGeom>
                <a:avLst/>
                <a:gdLst/>
                <a:ahLst/>
                <a:rect l="l" t="t" r="r" b="b"/>
                <a:pathLst>
                  <a:path w="359" h="302">
                    <a:moveTo>
                      <a:pt x="359" y="6"/>
                    </a:moveTo>
                    <a:cubicBezTo>
                      <a:pt x="141" y="6"/>
                      <a:pt x="141" y="6"/>
                      <a:pt x="141" y="6"/>
                    </a:cubicBezTo>
                    <a:cubicBezTo>
                      <a:pt x="141" y="6"/>
                      <a:pt x="59" y="0"/>
                      <a:pt x="39" y="68"/>
                    </a:cubicBezTo>
                    <a:cubicBezTo>
                      <a:pt x="3" y="240"/>
                      <a:pt x="3" y="240"/>
                      <a:pt x="3" y="240"/>
                    </a:cubicBezTo>
                    <a:cubicBezTo>
                      <a:pt x="3" y="240"/>
                      <a:pt x="0" y="295"/>
                      <a:pt x="72" y="302"/>
                    </a:cubicBezTo>
                    <a:cubicBezTo>
                      <a:pt x="79" y="302"/>
                      <a:pt x="89" y="302"/>
                      <a:pt x="89" y="302"/>
                    </a:cubicBezTo>
                    <a:cubicBezTo>
                      <a:pt x="297" y="302"/>
                      <a:pt x="297" y="302"/>
                      <a:pt x="297" y="302"/>
                    </a:cubicBezTo>
                    <a:cubicBezTo>
                      <a:pt x="333" y="129"/>
                      <a:pt x="333" y="129"/>
                      <a:pt x="333" y="129"/>
                    </a:cubicBezTo>
                    <a:cubicBezTo>
                      <a:pt x="183" y="129"/>
                      <a:pt x="183" y="129"/>
                      <a:pt x="183" y="129"/>
                    </a:cubicBezTo>
                    <a:cubicBezTo>
                      <a:pt x="167" y="191"/>
                      <a:pt x="167" y="191"/>
                      <a:pt x="167" y="191"/>
                    </a:cubicBezTo>
                    <a:cubicBezTo>
                      <a:pt x="251" y="191"/>
                      <a:pt x="251" y="191"/>
                      <a:pt x="251" y="191"/>
                    </a:cubicBezTo>
                    <a:cubicBezTo>
                      <a:pt x="242" y="227"/>
                      <a:pt x="242" y="227"/>
                      <a:pt x="242" y="227"/>
                    </a:cubicBezTo>
                    <a:cubicBezTo>
                      <a:pt x="109" y="227"/>
                      <a:pt x="109" y="227"/>
                      <a:pt x="109" y="227"/>
                    </a:cubicBezTo>
                    <a:cubicBezTo>
                      <a:pt x="109" y="227"/>
                      <a:pt x="83" y="224"/>
                      <a:pt x="89" y="191"/>
                    </a:cubicBezTo>
                    <a:cubicBezTo>
                      <a:pt x="105" y="110"/>
                      <a:pt x="105" y="110"/>
                      <a:pt x="105" y="110"/>
                    </a:cubicBezTo>
                    <a:cubicBezTo>
                      <a:pt x="105" y="110"/>
                      <a:pt x="106" y="75"/>
                      <a:pt x="148" y="75"/>
                    </a:cubicBezTo>
                    <a:cubicBezTo>
                      <a:pt x="343" y="75"/>
                      <a:pt x="343" y="75"/>
                      <a:pt x="343" y="75"/>
                    </a:cubicBezTo>
                    <a:lnTo>
                      <a:pt x="35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6"/>
              <p:cNvSpPr/>
              <p:nvPr/>
            </p:nvSpPr>
            <p:spPr>
              <a:xfrm>
                <a:off x="4487400" y="2705040"/>
                <a:ext cx="517680" cy="1060560"/>
              </a:xfrm>
              <a:custGeom>
                <a:avLst/>
                <a:gdLst/>
                <a:ahLst/>
                <a:rect l="l" t="t" r="r" b="b"/>
                <a:pathLst>
                  <a:path w="345" h="706">
                    <a:moveTo>
                      <a:pt x="146" y="0"/>
                    </a:moveTo>
                    <a:lnTo>
                      <a:pt x="345" y="0"/>
                    </a:lnTo>
                    <a:lnTo>
                      <a:pt x="201" y="706"/>
                    </a:lnTo>
                    <a:lnTo>
                      <a:pt x="0" y="706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7"/>
              <p:cNvSpPr/>
              <p:nvPr/>
            </p:nvSpPr>
            <p:spPr>
              <a:xfrm>
                <a:off x="4909320" y="2705040"/>
                <a:ext cx="1271520" cy="1060560"/>
              </a:xfrm>
              <a:custGeom>
                <a:avLst/>
                <a:gdLst/>
                <a:ahLst/>
                <a:rect l="l" t="t" r="r" b="b"/>
                <a:pathLst>
                  <a:path w="358" h="296">
                    <a:moveTo>
                      <a:pt x="331" y="191"/>
                    </a:moveTo>
                    <a:cubicBezTo>
                      <a:pt x="347" y="128"/>
                      <a:pt x="353" y="59"/>
                      <a:pt x="353" y="59"/>
                    </a:cubicBezTo>
                    <a:cubicBezTo>
                      <a:pt x="358" y="0"/>
                      <a:pt x="291" y="0"/>
                      <a:pt x="291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0" y="296"/>
                      <a:pt x="0" y="296"/>
                      <a:pt x="0" y="296"/>
                    </a:cubicBezTo>
                    <a:cubicBezTo>
                      <a:pt x="254" y="296"/>
                      <a:pt x="254" y="296"/>
                      <a:pt x="254" y="296"/>
                    </a:cubicBezTo>
                    <a:cubicBezTo>
                      <a:pt x="309" y="285"/>
                      <a:pt x="315" y="245"/>
                      <a:pt x="331" y="191"/>
                    </a:cubicBezTo>
                    <a:close/>
                    <a:moveTo>
                      <a:pt x="275" y="99"/>
                    </a:moveTo>
                    <a:cubicBezTo>
                      <a:pt x="271" y="125"/>
                      <a:pt x="261" y="223"/>
                      <a:pt x="226" y="225"/>
                    </a:cubicBezTo>
                    <a:cubicBezTo>
                      <a:pt x="99" y="225"/>
                      <a:pt x="99" y="225"/>
                      <a:pt x="99" y="225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255" y="70"/>
                      <a:pt x="255" y="70"/>
                      <a:pt x="255" y="70"/>
                    </a:cubicBezTo>
                    <a:cubicBezTo>
                      <a:pt x="255" y="70"/>
                      <a:pt x="279" y="67"/>
                      <a:pt x="275" y="9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1"/>
              <p:cNvSpPr/>
              <p:nvPr/>
            </p:nvSpPr>
            <p:spPr>
              <a:xfrm>
                <a:off x="3304080" y="2705040"/>
                <a:ext cx="1271520" cy="1060560"/>
              </a:xfrm>
              <a:custGeom>
                <a:avLst/>
                <a:gdLst/>
                <a:ahLst/>
                <a:rect l="l" t="t" r="r" b="b"/>
                <a:pathLst>
                  <a:path w="358" h="296">
                    <a:moveTo>
                      <a:pt x="287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255" y="68"/>
                      <a:pt x="255" y="68"/>
                      <a:pt x="255" y="68"/>
                    </a:cubicBezTo>
                    <a:cubicBezTo>
                      <a:pt x="271" y="67"/>
                      <a:pt x="281" y="74"/>
                      <a:pt x="276" y="97"/>
                    </a:cubicBezTo>
                    <a:cubicBezTo>
                      <a:pt x="271" y="119"/>
                      <a:pt x="253" y="123"/>
                      <a:pt x="253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0" y="296"/>
                      <a:pt x="0" y="296"/>
                      <a:pt x="0" y="296"/>
                    </a:cubicBezTo>
                    <a:cubicBezTo>
                      <a:pt x="82" y="296"/>
                      <a:pt x="82" y="296"/>
                      <a:pt x="82" y="296"/>
                    </a:cubicBezTo>
                    <a:cubicBezTo>
                      <a:pt x="102" y="210"/>
                      <a:pt x="102" y="210"/>
                      <a:pt x="102" y="210"/>
                    </a:cubicBezTo>
                    <a:cubicBezTo>
                      <a:pt x="107" y="185"/>
                      <a:pt x="107" y="185"/>
                      <a:pt x="107" y="185"/>
                    </a:cubicBezTo>
                    <a:cubicBezTo>
                      <a:pt x="182" y="185"/>
                      <a:pt x="182" y="185"/>
                      <a:pt x="182" y="185"/>
                    </a:cubicBezTo>
                    <a:cubicBezTo>
                      <a:pt x="216" y="296"/>
                      <a:pt x="216" y="296"/>
                      <a:pt x="216" y="296"/>
                    </a:cubicBezTo>
                    <a:cubicBezTo>
                      <a:pt x="305" y="296"/>
                      <a:pt x="305" y="296"/>
                      <a:pt x="305" y="296"/>
                    </a:cubicBezTo>
                    <a:cubicBezTo>
                      <a:pt x="268" y="185"/>
                      <a:pt x="268" y="185"/>
                      <a:pt x="268" y="185"/>
                    </a:cubicBezTo>
                    <a:cubicBezTo>
                      <a:pt x="268" y="185"/>
                      <a:pt x="268" y="185"/>
                      <a:pt x="268" y="185"/>
                    </a:cubicBezTo>
                    <a:cubicBezTo>
                      <a:pt x="340" y="168"/>
                      <a:pt x="342" y="126"/>
                      <a:pt x="350" y="68"/>
                    </a:cubicBezTo>
                    <a:cubicBezTo>
                      <a:pt x="358" y="3"/>
                      <a:pt x="287" y="0"/>
                      <a:pt x="28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12"/>
            <p:cNvGrpSpPr/>
            <p:nvPr/>
          </p:nvGrpSpPr>
          <p:grpSpPr>
            <a:xfrm>
              <a:off x="6089040" y="2700720"/>
              <a:ext cx="3974040" cy="1064880"/>
              <a:chOff x="6089040" y="2700720"/>
              <a:chExt cx="3974040" cy="1064880"/>
            </a:xfrm>
          </p:grpSpPr>
          <p:sp>
            <p:nvSpPr>
              <p:cNvPr id="575" name="Freeform 8"/>
              <p:cNvSpPr/>
              <p:nvPr/>
            </p:nvSpPr>
            <p:spPr>
              <a:xfrm>
                <a:off x="6089040" y="2705040"/>
                <a:ext cx="1214640" cy="1060560"/>
              </a:xfrm>
              <a:custGeom>
                <a:avLst/>
                <a:gdLst/>
                <a:ahLst/>
                <a:rect l="l" t="t" r="r" b="b"/>
                <a:pathLst>
                  <a:path w="342" h="296">
                    <a:moveTo>
                      <a:pt x="342" y="0"/>
                    </a:moveTo>
                    <a:cubicBezTo>
                      <a:pt x="126" y="0"/>
                      <a:pt x="126" y="0"/>
                      <a:pt x="126" y="0"/>
                    </a:cubicBezTo>
                    <a:cubicBezTo>
                      <a:pt x="126" y="0"/>
                      <a:pt x="47" y="5"/>
                      <a:pt x="44" y="93"/>
                    </a:cubicBezTo>
                    <a:cubicBezTo>
                      <a:pt x="41" y="156"/>
                      <a:pt x="76" y="173"/>
                      <a:pt x="104" y="177"/>
                    </a:cubicBezTo>
                    <a:cubicBezTo>
                      <a:pt x="215" y="178"/>
                      <a:pt x="215" y="178"/>
                      <a:pt x="215" y="178"/>
                    </a:cubicBezTo>
                    <a:cubicBezTo>
                      <a:pt x="215" y="178"/>
                      <a:pt x="230" y="182"/>
                      <a:pt x="226" y="202"/>
                    </a:cubicBezTo>
                    <a:cubicBezTo>
                      <a:pt x="225" y="212"/>
                      <a:pt x="211" y="226"/>
                      <a:pt x="202" y="225"/>
                    </a:cubicBezTo>
                    <a:cubicBezTo>
                      <a:pt x="15" y="225"/>
                      <a:pt x="15" y="225"/>
                      <a:pt x="15" y="225"/>
                    </a:cubicBezTo>
                    <a:cubicBezTo>
                      <a:pt x="0" y="296"/>
                      <a:pt x="0" y="296"/>
                      <a:pt x="0" y="296"/>
                    </a:cubicBezTo>
                    <a:cubicBezTo>
                      <a:pt x="226" y="296"/>
                      <a:pt x="226" y="296"/>
                      <a:pt x="226" y="296"/>
                    </a:cubicBezTo>
                    <a:cubicBezTo>
                      <a:pt x="226" y="296"/>
                      <a:pt x="310" y="288"/>
                      <a:pt x="307" y="185"/>
                    </a:cubicBezTo>
                    <a:cubicBezTo>
                      <a:pt x="307" y="185"/>
                      <a:pt x="302" y="123"/>
                      <a:pt x="251" y="115"/>
                    </a:cubicBezTo>
                    <a:cubicBezTo>
                      <a:pt x="129" y="114"/>
                      <a:pt x="129" y="114"/>
                      <a:pt x="129" y="114"/>
                    </a:cubicBezTo>
                    <a:cubicBezTo>
                      <a:pt x="129" y="114"/>
                      <a:pt x="113" y="114"/>
                      <a:pt x="114" y="97"/>
                    </a:cubicBezTo>
                    <a:cubicBezTo>
                      <a:pt x="114" y="97"/>
                      <a:pt x="115" y="69"/>
                      <a:pt x="137" y="70"/>
                    </a:cubicBezTo>
                    <a:cubicBezTo>
                      <a:pt x="328" y="70"/>
                      <a:pt x="328" y="70"/>
                      <a:pt x="328" y="70"/>
                    </a:cubicBez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9"/>
              <p:cNvSpPr/>
              <p:nvPr/>
            </p:nvSpPr>
            <p:spPr>
              <a:xfrm>
                <a:off x="7178760" y="2705040"/>
                <a:ext cx="1306080" cy="1060560"/>
              </a:xfrm>
              <a:custGeom>
                <a:avLst/>
                <a:gdLst/>
                <a:ahLst/>
                <a:rect l="l" t="t" r="r" b="b"/>
                <a:pathLst>
                  <a:path w="368" h="296">
                    <a:moveTo>
                      <a:pt x="69" y="0"/>
                    </a:moveTo>
                    <a:cubicBezTo>
                      <a:pt x="26" y="209"/>
                      <a:pt x="26" y="209"/>
                      <a:pt x="26" y="209"/>
                    </a:cubicBezTo>
                    <a:cubicBezTo>
                      <a:pt x="26" y="209"/>
                      <a:pt x="0" y="295"/>
                      <a:pt x="98" y="296"/>
                    </a:cubicBezTo>
                    <a:cubicBezTo>
                      <a:pt x="227" y="296"/>
                      <a:pt x="227" y="296"/>
                      <a:pt x="227" y="296"/>
                    </a:cubicBezTo>
                    <a:cubicBezTo>
                      <a:pt x="227" y="296"/>
                      <a:pt x="301" y="294"/>
                      <a:pt x="321" y="224"/>
                    </a:cubicBezTo>
                    <a:cubicBezTo>
                      <a:pt x="368" y="0"/>
                      <a:pt x="368" y="0"/>
                      <a:pt x="368" y="0"/>
                    </a:cubicBezTo>
                    <a:cubicBezTo>
                      <a:pt x="286" y="0"/>
                      <a:pt x="286" y="0"/>
                      <a:pt x="286" y="0"/>
                    </a:cubicBezTo>
                    <a:cubicBezTo>
                      <a:pt x="247" y="194"/>
                      <a:pt x="247" y="194"/>
                      <a:pt x="247" y="194"/>
                    </a:cubicBezTo>
                    <a:cubicBezTo>
                      <a:pt x="247" y="194"/>
                      <a:pt x="241" y="224"/>
                      <a:pt x="216" y="224"/>
                    </a:cubicBezTo>
                    <a:cubicBezTo>
                      <a:pt x="128" y="224"/>
                      <a:pt x="128" y="224"/>
                      <a:pt x="128" y="224"/>
                    </a:cubicBezTo>
                    <a:cubicBezTo>
                      <a:pt x="128" y="224"/>
                      <a:pt x="103" y="224"/>
                      <a:pt x="105" y="200"/>
                    </a:cubicBezTo>
                    <a:cubicBezTo>
                      <a:pt x="151" y="0"/>
                      <a:pt x="151" y="0"/>
                      <a:pt x="151" y="0"/>
                    </a:cubicBez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8375760" y="2700720"/>
                <a:ext cx="1687320" cy="1064880"/>
              </a:xfrm>
              <a:custGeom>
                <a:avLst/>
                <a:gdLst/>
                <a:ahLst/>
                <a:rect l="l" t="t" r="r" b="b"/>
                <a:pathLst>
                  <a:path w="475" h="297">
                    <a:moveTo>
                      <a:pt x="61" y="1"/>
                    </a:moveTo>
                    <a:cubicBezTo>
                      <a:pt x="0" y="297"/>
                      <a:pt x="0" y="297"/>
                      <a:pt x="0" y="297"/>
                    </a:cubicBezTo>
                    <a:cubicBezTo>
                      <a:pt x="81" y="297"/>
                      <a:pt x="81" y="297"/>
                      <a:pt x="81" y="297"/>
                    </a:cubicBezTo>
                    <a:cubicBezTo>
                      <a:pt x="127" y="74"/>
                      <a:pt x="127" y="74"/>
                      <a:pt x="127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161" y="297"/>
                      <a:pt x="161" y="297"/>
                      <a:pt x="161" y="297"/>
                    </a:cubicBezTo>
                    <a:cubicBezTo>
                      <a:pt x="239" y="297"/>
                      <a:pt x="239" y="297"/>
                      <a:pt x="239" y="297"/>
                    </a:cubicBezTo>
                    <a:cubicBezTo>
                      <a:pt x="286" y="73"/>
                      <a:pt x="286" y="73"/>
                      <a:pt x="286" y="73"/>
                    </a:cubicBezTo>
                    <a:cubicBezTo>
                      <a:pt x="332" y="73"/>
                      <a:pt x="332" y="73"/>
                      <a:pt x="332" y="73"/>
                    </a:cubicBezTo>
                    <a:cubicBezTo>
                      <a:pt x="332" y="73"/>
                      <a:pt x="366" y="72"/>
                      <a:pt x="360" y="98"/>
                    </a:cubicBezTo>
                    <a:cubicBezTo>
                      <a:pt x="319" y="297"/>
                      <a:pt x="319" y="297"/>
                      <a:pt x="319" y="297"/>
                    </a:cubicBezTo>
                    <a:cubicBezTo>
                      <a:pt x="398" y="297"/>
                      <a:pt x="398" y="297"/>
                      <a:pt x="398" y="297"/>
                    </a:cubicBezTo>
                    <a:cubicBezTo>
                      <a:pt x="437" y="113"/>
                      <a:pt x="437" y="113"/>
                      <a:pt x="437" y="113"/>
                    </a:cubicBezTo>
                    <a:cubicBezTo>
                      <a:pt x="437" y="113"/>
                      <a:pt x="475" y="0"/>
                      <a:pt x="378" y="1"/>
                    </a:cubicBez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组合 19"/>
          <p:cNvGrpSpPr/>
          <p:nvPr/>
        </p:nvGrpSpPr>
        <p:grpSpPr>
          <a:xfrm>
            <a:off x="9842400" y="1298520"/>
            <a:ext cx="1662120" cy="1662120"/>
            <a:chOff x="9842400" y="1298520"/>
            <a:chExt cx="1662120" cy="1662120"/>
          </a:xfrm>
        </p:grpSpPr>
        <p:sp>
          <p:nvSpPr>
            <p:cNvPr id="579" name="椭圆 17"/>
            <p:cNvSpPr/>
            <p:nvPr/>
          </p:nvSpPr>
          <p:spPr>
            <a:xfrm>
              <a:off x="9842400" y="1298520"/>
              <a:ext cx="1662120" cy="166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9112"/>
                  </a:solidFill>
                  <a:latin typeface="微软雅黑"/>
                </a:rPr>
                <a:t>BI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9112"/>
                  </a:solidFill>
                  <a:latin typeface="微软雅黑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等腰三角形 18"/>
            <p:cNvSpPr/>
            <p:nvPr/>
          </p:nvSpPr>
          <p:spPr>
            <a:xfrm rot="13077600">
              <a:off x="10083600" y="2595240"/>
              <a:ext cx="232200" cy="32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文本框 20"/>
          <p:cNvSpPr/>
          <p:nvPr/>
        </p:nvSpPr>
        <p:spPr>
          <a:xfrm>
            <a:off x="3604680" y="5543640"/>
            <a:ext cx="5186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证明自己，厉害的不仅仅是</a:t>
            </a:r>
            <a:r>
              <a:rPr b="1" lang="en-US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222"/>
          <p:cNvSpPr/>
          <p:nvPr/>
        </p:nvSpPr>
        <p:spPr>
          <a:xfrm>
            <a:off x="4161600" y="4978440"/>
            <a:ext cx="386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在这家强大得很超级的公司中，我的工作内容是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7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8"/>
          <p:cNvSpPr/>
          <p:nvPr/>
        </p:nvSpPr>
        <p:spPr>
          <a:xfrm>
            <a:off x="5523480" y="104760"/>
            <a:ext cx="13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花光了所有的节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9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角三角形 10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1"/>
          <p:cNvSpPr/>
          <p:nvPr/>
        </p:nvSpPr>
        <p:spPr>
          <a:xfrm>
            <a:off x="2991600" y="5883120"/>
            <a:ext cx="6502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这一年，凭借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《</a:t>
            </a: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我懂个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P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》</a:t>
            </a: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系列微博教程，我成为了有史以来最出色的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PPTer</a:t>
            </a: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2" descr=""/>
          <p:cNvPicPr/>
          <p:nvPr/>
        </p:nvPicPr>
        <p:blipFill>
          <a:blip r:embed="rId1"/>
          <a:stretch/>
        </p:blipFill>
        <p:spPr>
          <a:xfrm>
            <a:off x="3421080" y="1725480"/>
            <a:ext cx="5006880" cy="3756240"/>
          </a:xfrm>
          <a:prstGeom prst="rect">
            <a:avLst/>
          </a:prstGeom>
          <a:ln w="9360">
            <a:solidFill>
              <a:srgbClr val="f2f2f2"/>
            </a:solidFill>
            <a:bevel/>
          </a:ln>
        </p:spPr>
      </p:pic>
      <p:sp>
        <p:nvSpPr>
          <p:cNvPr id="589" name="直接连接符 4"/>
          <p:cNvSpPr/>
          <p:nvPr/>
        </p:nvSpPr>
        <p:spPr>
          <a:xfrm flipV="1">
            <a:off x="6807240" y="2836440"/>
            <a:ext cx="3111480" cy="62388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5"/>
          <p:cNvSpPr/>
          <p:nvPr/>
        </p:nvSpPr>
        <p:spPr>
          <a:xfrm>
            <a:off x="8966160" y="1819440"/>
            <a:ext cx="2033640" cy="203328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12"/>
          <p:cNvSpPr/>
          <p:nvPr/>
        </p:nvSpPr>
        <p:spPr>
          <a:xfrm>
            <a:off x="2373480" y="2643120"/>
            <a:ext cx="2792160" cy="76356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15"/>
          <p:cNvSpPr/>
          <p:nvPr/>
        </p:nvSpPr>
        <p:spPr>
          <a:xfrm>
            <a:off x="1781280" y="2009880"/>
            <a:ext cx="1450800" cy="14508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20"/>
          <p:cNvSpPr/>
          <p:nvPr/>
        </p:nvSpPr>
        <p:spPr>
          <a:xfrm flipV="1">
            <a:off x="6342120" y="1623960"/>
            <a:ext cx="493560" cy="110808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22"/>
          <p:cNvSpPr/>
          <p:nvPr/>
        </p:nvSpPr>
        <p:spPr>
          <a:xfrm>
            <a:off x="6494400" y="1249200"/>
            <a:ext cx="681120" cy="68112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23"/>
          <p:cNvSpPr/>
          <p:nvPr/>
        </p:nvSpPr>
        <p:spPr>
          <a:xfrm flipV="1">
            <a:off x="1781280" y="3903840"/>
            <a:ext cx="3492360" cy="107784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7"/>
          <p:cNvSpPr/>
          <p:nvPr/>
        </p:nvSpPr>
        <p:spPr>
          <a:xfrm>
            <a:off x="1231920" y="4403880"/>
            <a:ext cx="1141560" cy="11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3"/>
          <p:cNvSpPr/>
          <p:nvPr/>
        </p:nvSpPr>
        <p:spPr>
          <a:xfrm>
            <a:off x="9338760" y="24004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12,6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17"/>
          <p:cNvSpPr/>
          <p:nvPr/>
        </p:nvSpPr>
        <p:spPr>
          <a:xfrm>
            <a:off x="9651600" y="2874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Microsoft JhengHei"/>
                <a:ea typeface="微软雅黑"/>
              </a:rPr>
              <a:t>一次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8"/>
          <p:cNvSpPr/>
          <p:nvPr/>
        </p:nvSpPr>
        <p:spPr>
          <a:xfrm>
            <a:off x="2036160" y="23842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1,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9"/>
          <p:cNvSpPr/>
          <p:nvPr/>
        </p:nvSpPr>
        <p:spPr>
          <a:xfrm>
            <a:off x="2233440" y="278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Microsoft JhengHei"/>
                <a:ea typeface="微软雅黑"/>
              </a:rPr>
              <a:t>评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21"/>
          <p:cNvSpPr/>
          <p:nvPr/>
        </p:nvSpPr>
        <p:spPr>
          <a:xfrm>
            <a:off x="1312200" y="4668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19,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4"/>
          <p:cNvSpPr/>
          <p:nvPr/>
        </p:nvSpPr>
        <p:spPr>
          <a:xfrm>
            <a:off x="1537560" y="499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Microsoft JhengHei"/>
                <a:ea typeface="微软雅黑"/>
              </a:rPr>
              <a:t>增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9"/>
          <p:cNvSpPr/>
          <p:nvPr/>
        </p:nvSpPr>
        <p:spPr>
          <a:xfrm>
            <a:off x="6702480" y="1434960"/>
            <a:ext cx="293760" cy="28260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10"/>
          <p:cNvSpPr/>
          <p:nvPr/>
        </p:nvSpPr>
        <p:spPr>
          <a:xfrm>
            <a:off x="2570040" y="668160"/>
            <a:ext cx="7059600" cy="618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"/>
          <p:cNvSpPr/>
          <p:nvPr/>
        </p:nvSpPr>
        <p:spPr>
          <a:xfrm>
            <a:off x="4635720" y="104760"/>
            <a:ext cx="36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收到了多家出版社的约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ff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角三角形 4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13"/>
          <p:cNvGrpSpPr/>
          <p:nvPr/>
        </p:nvGrpSpPr>
        <p:grpSpPr>
          <a:xfrm>
            <a:off x="3579840" y="1255680"/>
            <a:ext cx="3795840" cy="500040"/>
            <a:chOff x="3579840" y="1255680"/>
            <a:chExt cx="3795840" cy="500040"/>
          </a:xfrm>
        </p:grpSpPr>
        <p:sp>
          <p:nvSpPr>
            <p:cNvPr id="610" name="矩形 6"/>
            <p:cNvSpPr/>
            <p:nvPr/>
          </p:nvSpPr>
          <p:spPr>
            <a:xfrm>
              <a:off x="3734280" y="1255680"/>
              <a:ext cx="3641400" cy="500040"/>
            </a:xfrm>
            <a:prstGeom prst="rect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</a:rPr>
                <a:t>阿文，你有出书的计划吗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等腰三角形 12"/>
            <p:cNvSpPr/>
            <p:nvPr/>
          </p:nvSpPr>
          <p:spPr>
            <a:xfrm rot="16200000">
              <a:off x="3588120" y="142596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14"/>
          <p:cNvGrpSpPr/>
          <p:nvPr/>
        </p:nvGrpSpPr>
        <p:grpSpPr>
          <a:xfrm>
            <a:off x="3579840" y="3033720"/>
            <a:ext cx="1542960" cy="500040"/>
            <a:chOff x="3579840" y="3033720"/>
            <a:chExt cx="1542960" cy="500040"/>
          </a:xfrm>
        </p:grpSpPr>
        <p:sp>
          <p:nvSpPr>
            <p:cNvPr id="613" name="矩形 15"/>
            <p:cNvSpPr/>
            <p:nvPr/>
          </p:nvSpPr>
          <p:spPr>
            <a:xfrm>
              <a:off x="3734280" y="3033720"/>
              <a:ext cx="1388520" cy="500040"/>
            </a:xfrm>
            <a:prstGeom prst="rect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</a:rPr>
                <a:t>为什么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等腰三角形 16"/>
            <p:cNvSpPr/>
            <p:nvPr/>
          </p:nvSpPr>
          <p:spPr>
            <a:xfrm rot="16200000">
              <a:off x="3588120" y="32040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18"/>
          <p:cNvGrpSpPr/>
          <p:nvPr/>
        </p:nvGrpSpPr>
        <p:grpSpPr>
          <a:xfrm>
            <a:off x="5973840" y="2185920"/>
            <a:ext cx="2627280" cy="500040"/>
            <a:chOff x="5973840" y="2185920"/>
            <a:chExt cx="2627280" cy="500040"/>
          </a:xfrm>
        </p:grpSpPr>
        <p:sp>
          <p:nvSpPr>
            <p:cNvPr id="616" name="矩形 7"/>
            <p:cNvSpPr/>
            <p:nvPr/>
          </p:nvSpPr>
          <p:spPr>
            <a:xfrm>
              <a:off x="5973840" y="2185920"/>
              <a:ext cx="2481480" cy="500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3b3838"/>
                  </a:solidFill>
                  <a:latin typeface="Arial"/>
                </a:rPr>
                <a:t>有，但不是现在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等腰三角形 17"/>
            <p:cNvSpPr/>
            <p:nvPr/>
          </p:nvSpPr>
          <p:spPr>
            <a:xfrm rot="5400000">
              <a:off x="8439480" y="23508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9"/>
          <p:cNvGrpSpPr/>
          <p:nvPr/>
        </p:nvGrpSpPr>
        <p:grpSpPr>
          <a:xfrm>
            <a:off x="4948200" y="3932280"/>
            <a:ext cx="3652920" cy="844560"/>
            <a:chOff x="4948200" y="3932280"/>
            <a:chExt cx="3652920" cy="844560"/>
          </a:xfrm>
        </p:grpSpPr>
        <p:sp>
          <p:nvSpPr>
            <p:cNvPr id="619" name="矩形 20"/>
            <p:cNvSpPr/>
            <p:nvPr/>
          </p:nvSpPr>
          <p:spPr>
            <a:xfrm>
              <a:off x="4948200" y="3932280"/>
              <a:ext cx="3507120" cy="844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3b3838"/>
                  </a:solidFill>
                  <a:latin typeface="Arial"/>
                </a:rPr>
                <a:t>我觉得我的内容还不够色，所以还在探索中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等腰三角形 21"/>
            <p:cNvSpPr/>
            <p:nvPr/>
          </p:nvSpPr>
          <p:spPr>
            <a:xfrm rot="5400000">
              <a:off x="8439480" y="42696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31"/>
          <p:cNvSpPr/>
          <p:nvPr/>
        </p:nvSpPr>
        <p:spPr>
          <a:xfrm>
            <a:off x="2863800" y="1198440"/>
            <a:ext cx="557280" cy="557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2"/>
          <p:cNvSpPr/>
          <p:nvPr/>
        </p:nvSpPr>
        <p:spPr>
          <a:xfrm>
            <a:off x="2863800" y="2978280"/>
            <a:ext cx="557280" cy="5554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Simon_阿文"/>
          <p:cNvPicPr/>
          <p:nvPr/>
        </p:nvPicPr>
        <p:blipFill>
          <a:blip r:embed="rId1"/>
          <a:stretch/>
        </p:blipFill>
        <p:spPr>
          <a:xfrm>
            <a:off x="8763120" y="2155680"/>
            <a:ext cx="558720" cy="560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Simon_阿文"/>
          <p:cNvPicPr/>
          <p:nvPr/>
        </p:nvPicPr>
        <p:blipFill>
          <a:blip r:embed="rId2"/>
          <a:stretch/>
        </p:blipFill>
        <p:spPr>
          <a:xfrm>
            <a:off x="8763120" y="3932280"/>
            <a:ext cx="558720" cy="560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Simon_阿文"/>
          <p:cNvPicPr/>
          <p:nvPr/>
        </p:nvPicPr>
        <p:blipFill>
          <a:blip r:embed="rId3"/>
          <a:stretch/>
        </p:blipFill>
        <p:spPr>
          <a:xfrm>
            <a:off x="8763120" y="5856120"/>
            <a:ext cx="558720" cy="559080"/>
          </a:xfrm>
          <a:prstGeom prst="rect">
            <a:avLst/>
          </a:prstGeom>
          <a:ln w="0">
            <a:noFill/>
          </a:ln>
        </p:spPr>
      </p:pic>
      <p:sp>
        <p:nvSpPr>
          <p:cNvPr id="626" name="直接连接符 8"/>
          <p:cNvSpPr/>
          <p:nvPr/>
        </p:nvSpPr>
        <p:spPr>
          <a:xfrm>
            <a:off x="2863800" y="5403960"/>
            <a:ext cx="2664000" cy="0"/>
          </a:xfrm>
          <a:prstGeom prst="line">
            <a:avLst/>
          </a:prstGeom>
          <a:ln w="6480">
            <a:solidFill>
              <a:srgbClr val="d0cec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9"/>
          <p:cNvSpPr/>
          <p:nvPr/>
        </p:nvSpPr>
        <p:spPr>
          <a:xfrm>
            <a:off x="5644800" y="521964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分钟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7"/>
          <p:cNvGrpSpPr/>
          <p:nvPr/>
        </p:nvGrpSpPr>
        <p:grpSpPr>
          <a:xfrm>
            <a:off x="6899400" y="5857920"/>
            <a:ext cx="1701720" cy="500040"/>
            <a:chOff x="6899400" y="5857920"/>
            <a:chExt cx="1701720" cy="500040"/>
          </a:xfrm>
        </p:grpSpPr>
        <p:sp>
          <p:nvSpPr>
            <p:cNvPr id="629" name="矩形 48"/>
            <p:cNvSpPr/>
            <p:nvPr/>
          </p:nvSpPr>
          <p:spPr>
            <a:xfrm>
              <a:off x="6899400" y="5857920"/>
              <a:ext cx="1556280" cy="500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3b3838"/>
                  </a:solidFill>
                  <a:latin typeface="Arial"/>
                </a:rPr>
                <a:t>咦？人呢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等腰三角形 49"/>
            <p:cNvSpPr/>
            <p:nvPr/>
          </p:nvSpPr>
          <p:spPr>
            <a:xfrm rot="5400000">
              <a:off x="8439480" y="60228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直接连接符 50"/>
          <p:cNvSpPr/>
          <p:nvPr/>
        </p:nvSpPr>
        <p:spPr>
          <a:xfrm>
            <a:off x="6670800" y="5403960"/>
            <a:ext cx="2665440" cy="0"/>
          </a:xfrm>
          <a:prstGeom prst="line">
            <a:avLst/>
          </a:prstGeom>
          <a:ln w="6480">
            <a:solidFill>
              <a:srgbClr val="d0cec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1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"/>
          <p:cNvSpPr/>
          <p:nvPr/>
        </p:nvSpPr>
        <p:spPr>
          <a:xfrm>
            <a:off x="4511520" y="104760"/>
            <a:ext cx="32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参加了微软的创新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3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c44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角三角形 4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5"/>
          <p:cNvSpPr/>
          <p:nvPr/>
        </p:nvSpPr>
        <p:spPr>
          <a:xfrm>
            <a:off x="2123280" y="1319040"/>
            <a:ext cx="7970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，我用蹩脚的英语认识了</a:t>
            </a:r>
            <a:r>
              <a:rPr b="0" lang="en-US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ower Map</a:t>
            </a:r>
            <a:r>
              <a:rPr b="0" lang="zh-CN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就是</a:t>
            </a:r>
            <a:r>
              <a:rPr b="0" lang="en-US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cel</a:t>
            </a:r>
            <a:r>
              <a:rPr b="0" lang="zh-CN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那个地球）的开发者，</a:t>
            </a:r>
            <a:r>
              <a:rPr b="0" lang="en-US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图片 8" descr=""/>
          <p:cNvPicPr/>
          <p:nvPr/>
        </p:nvPicPr>
        <p:blipFill>
          <a:blip r:embed="rId1"/>
          <a:stretch/>
        </p:blipFill>
        <p:spPr>
          <a:xfrm>
            <a:off x="3978360" y="2243160"/>
            <a:ext cx="4518000" cy="3387600"/>
          </a:xfrm>
          <a:prstGeom prst="rect">
            <a:avLst/>
          </a:prstGeom>
          <a:ln w="9360">
            <a:solidFill>
              <a:srgbClr val="d0cece"/>
            </a:solidFill>
            <a:bevel/>
          </a:ln>
        </p:spPr>
      </p:pic>
      <p:grpSp>
        <p:nvGrpSpPr>
          <p:cNvPr id="638" name="组合 9"/>
          <p:cNvGrpSpPr/>
          <p:nvPr/>
        </p:nvGrpSpPr>
        <p:grpSpPr>
          <a:xfrm>
            <a:off x="5997600" y="2106720"/>
            <a:ext cx="1859040" cy="1950840"/>
            <a:chOff x="5997600" y="2106720"/>
            <a:chExt cx="1859040" cy="1950840"/>
          </a:xfrm>
        </p:grpSpPr>
        <p:sp>
          <p:nvSpPr>
            <p:cNvPr id="639" name="椭圆 10"/>
            <p:cNvSpPr/>
            <p:nvPr/>
          </p:nvSpPr>
          <p:spPr>
            <a:xfrm>
              <a:off x="6240600" y="2604960"/>
              <a:ext cx="1453320" cy="1452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5997600" y="2362680"/>
              <a:ext cx="1859040" cy="106596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12"/>
            <p:cNvSpPr/>
            <p:nvPr/>
          </p:nvSpPr>
          <p:spPr>
            <a:xfrm>
              <a:off x="6429960" y="3415680"/>
              <a:ext cx="496800" cy="5364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13"/>
            <p:cNvSpPr/>
            <p:nvPr/>
          </p:nvSpPr>
          <p:spPr>
            <a:xfrm>
              <a:off x="7057800" y="3415680"/>
              <a:ext cx="496800" cy="5364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"/>
            <p:cNvSpPr/>
            <p:nvPr/>
          </p:nvSpPr>
          <p:spPr>
            <a:xfrm>
              <a:off x="6112080" y="2106720"/>
              <a:ext cx="1598400" cy="1254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15"/>
            <p:cNvSpPr/>
            <p:nvPr/>
          </p:nvSpPr>
          <p:spPr>
            <a:xfrm>
              <a:off x="6509520" y="3415680"/>
              <a:ext cx="138240" cy="943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6"/>
            <p:cNvSpPr/>
            <p:nvPr/>
          </p:nvSpPr>
          <p:spPr>
            <a:xfrm>
              <a:off x="7118280" y="3415680"/>
              <a:ext cx="138240" cy="943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7"/>
          <p:cNvSpPr/>
          <p:nvPr/>
        </p:nvSpPr>
        <p:spPr>
          <a:xfrm>
            <a:off x="681120" y="5951520"/>
            <a:ext cx="10755360" cy="503280"/>
          </a:xfrm>
          <a:prstGeom prst="rect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20"/>
          <p:cNvGrpSpPr/>
          <p:nvPr/>
        </p:nvGrpSpPr>
        <p:grpSpPr>
          <a:xfrm>
            <a:off x="5905440" y="3510000"/>
            <a:ext cx="76320" cy="287280"/>
            <a:chOff x="5905440" y="3510000"/>
            <a:chExt cx="76320" cy="287280"/>
          </a:xfrm>
        </p:grpSpPr>
        <p:sp>
          <p:nvSpPr>
            <p:cNvPr id="648" name="直接连接符 21"/>
            <p:cNvSpPr/>
            <p:nvPr/>
          </p:nvSpPr>
          <p:spPr>
            <a:xfrm>
              <a:off x="5905440" y="3621240"/>
              <a:ext cx="0" cy="1346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23"/>
            <p:cNvSpPr/>
            <p:nvPr/>
          </p:nvSpPr>
          <p:spPr>
            <a:xfrm>
              <a:off x="5947560" y="3510000"/>
              <a:ext cx="0" cy="2462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25"/>
            <p:cNvSpPr/>
            <p:nvPr/>
          </p:nvSpPr>
          <p:spPr>
            <a:xfrm>
              <a:off x="5981760" y="3633120"/>
              <a:ext cx="0" cy="164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28"/>
          <p:cNvGrpSpPr/>
          <p:nvPr/>
        </p:nvGrpSpPr>
        <p:grpSpPr>
          <a:xfrm>
            <a:off x="8079120" y="2850120"/>
            <a:ext cx="2637000" cy="2637360"/>
            <a:chOff x="8079120" y="2850120"/>
            <a:chExt cx="2637000" cy="2637360"/>
          </a:xfrm>
        </p:grpSpPr>
        <p:sp>
          <p:nvSpPr>
            <p:cNvPr id="652" name="椭圆 29"/>
            <p:cNvSpPr/>
            <p:nvPr/>
          </p:nvSpPr>
          <p:spPr>
            <a:xfrm rot="9000000">
              <a:off x="8431920" y="3203280"/>
              <a:ext cx="1930680" cy="1930320"/>
            </a:xfrm>
            <a:prstGeom prst="ellipse">
              <a:avLst/>
            </a:prstGeom>
            <a:solidFill>
              <a:srgbClr val="c44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等腰三角形 30"/>
            <p:cNvSpPr/>
            <p:nvPr/>
          </p:nvSpPr>
          <p:spPr>
            <a:xfrm rot="17047200">
              <a:off x="8337600" y="3743280"/>
              <a:ext cx="269640" cy="380880"/>
            </a:xfrm>
            <a:prstGeom prst="triangle">
              <a:avLst>
                <a:gd name="adj" fmla="val 50000"/>
              </a:avLst>
            </a:prstGeom>
            <a:solidFill>
              <a:srgbClr val="c44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文本框 31"/>
          <p:cNvSpPr/>
          <p:nvPr/>
        </p:nvSpPr>
        <p:spPr>
          <a:xfrm>
            <a:off x="8861400" y="3855960"/>
            <a:ext cx="17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喂，别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剪刀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7"/>
          <p:cNvSpPr/>
          <p:nvPr/>
        </p:nvSpPr>
        <p:spPr>
          <a:xfrm>
            <a:off x="844560" y="5927760"/>
            <a:ext cx="10491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还把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我懂个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推荐给了他的同事们，再次感谢</a:t>
            </a:r>
            <a:r>
              <a:rPr b="1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@</a:t>
            </a:r>
            <a:r>
              <a:rPr b="1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微软亚洲研究院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邀请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~~~~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1"/>
          <p:cNvSpPr/>
          <p:nvPr/>
        </p:nvSpPr>
        <p:spPr>
          <a:xfrm>
            <a:off x="4949280" y="3713040"/>
            <a:ext cx="27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我的</a:t>
            </a:r>
            <a:r>
              <a:rPr b="0" lang="en-US" sz="3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2013</a:t>
            </a:r>
            <a:r>
              <a:rPr b="0" lang="zh-CN" sz="3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大放异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"/>
          <p:cNvSpPr/>
          <p:nvPr/>
        </p:nvSpPr>
        <p:spPr>
          <a:xfrm>
            <a:off x="4916520" y="2651040"/>
            <a:ext cx="311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a3838"/>
                </a:solidFill>
                <a:latin typeface="方正兰亭粗黑简体"/>
                <a:ea typeface="方正兰亭粗黑简体"/>
              </a:rPr>
              <a:t>因为</a:t>
            </a:r>
            <a:r>
              <a:rPr b="0" lang="en-US" sz="7200" spc="-1" strike="noStrike">
                <a:solidFill>
                  <a:srgbClr val="3a3838"/>
                </a:solidFill>
                <a:latin typeface="方正兰亭粗黑简体"/>
                <a:ea typeface="方正兰亭粗黑简体"/>
              </a:rPr>
              <a:t>P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梯形 8"/>
          <p:cNvSpPr/>
          <p:nvPr/>
        </p:nvSpPr>
        <p:spPr>
          <a:xfrm flipV="1" rot="7131600">
            <a:off x="2954520" y="1693440"/>
            <a:ext cx="371520" cy="180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梯形 9"/>
          <p:cNvSpPr/>
          <p:nvPr/>
        </p:nvSpPr>
        <p:spPr>
          <a:xfrm flipV="1" rot="9147600">
            <a:off x="4189320" y="1091880"/>
            <a:ext cx="266760" cy="124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c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梯形 10"/>
          <p:cNvSpPr/>
          <p:nvPr/>
        </p:nvSpPr>
        <p:spPr>
          <a:xfrm flipV="1" rot="10800000">
            <a:off x="6010200" y="817560"/>
            <a:ext cx="457200" cy="13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1b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梯形 11"/>
          <p:cNvSpPr/>
          <p:nvPr/>
        </p:nvSpPr>
        <p:spPr>
          <a:xfrm flipV="1" rot="13096800">
            <a:off x="8056440" y="1249920"/>
            <a:ext cx="2635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梯形 12"/>
          <p:cNvSpPr/>
          <p:nvPr/>
        </p:nvSpPr>
        <p:spPr>
          <a:xfrm flipV="1" rot="14379600">
            <a:off x="9248040" y="1184400"/>
            <a:ext cx="352440" cy="206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5c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梯形 13"/>
          <p:cNvSpPr/>
          <p:nvPr/>
        </p:nvSpPr>
        <p:spPr>
          <a:xfrm flipV="1" rot="17407800">
            <a:off x="9726120" y="3121920"/>
            <a:ext cx="291960" cy="24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梯形 14"/>
          <p:cNvSpPr/>
          <p:nvPr/>
        </p:nvSpPr>
        <p:spPr>
          <a:xfrm flipV="1" rot="19246200">
            <a:off x="8030880" y="4625280"/>
            <a:ext cx="457200" cy="10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5"/>
          <p:cNvSpPr/>
          <p:nvPr/>
        </p:nvSpPr>
        <p:spPr>
          <a:xfrm>
            <a:off x="0" y="0"/>
            <a:ext cx="12192120" cy="1047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6"/>
          <p:cNvSpPr/>
          <p:nvPr/>
        </p:nvSpPr>
        <p:spPr>
          <a:xfrm>
            <a:off x="0" y="6775560"/>
            <a:ext cx="12192120" cy="1047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梯形 17"/>
          <p:cNvSpPr/>
          <p:nvPr/>
        </p:nvSpPr>
        <p:spPr>
          <a:xfrm flipV="1" rot="21025800">
            <a:off x="6238800" y="4825800"/>
            <a:ext cx="457200" cy="102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44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梯形 18"/>
          <p:cNvSpPr/>
          <p:nvPr/>
        </p:nvSpPr>
        <p:spPr>
          <a:xfrm flipV="1" rot="2023200">
            <a:off x="4331160" y="4581000"/>
            <a:ext cx="33948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39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梯形 19"/>
          <p:cNvSpPr/>
          <p:nvPr/>
        </p:nvSpPr>
        <p:spPr>
          <a:xfrm flipV="1" rot="3645600">
            <a:off x="2427840" y="3322440"/>
            <a:ext cx="358920" cy="297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dc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文本框 4"/>
          <p:cNvSpPr/>
          <p:nvPr/>
        </p:nvSpPr>
        <p:spPr>
          <a:xfrm>
            <a:off x="1474920" y="2063880"/>
            <a:ext cx="3698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c000"/>
                </a:solidFill>
                <a:latin typeface="微软雅黑"/>
              </a:rPr>
              <a:t>BU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"/>
          <p:cNvSpPr/>
          <p:nvPr/>
        </p:nvSpPr>
        <p:spPr>
          <a:xfrm>
            <a:off x="1574640" y="40179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PPT</a:t>
            </a:r>
            <a:r>
              <a:rPr b="0" lang="zh-CN" sz="28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并不是我的全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表 8" descr=""/>
          <p:cNvPicPr/>
          <p:nvPr/>
        </p:nvPicPr>
        <p:blipFill>
          <a:blip r:embed="rId1"/>
          <a:stretch/>
        </p:blipFill>
        <p:spPr>
          <a:xfrm>
            <a:off x="5834160" y="781200"/>
            <a:ext cx="5384880" cy="534672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9"/>
          <p:cNvSpPr/>
          <p:nvPr/>
        </p:nvSpPr>
        <p:spPr>
          <a:xfrm>
            <a:off x="6327000" y="330192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8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文本框 1"/>
          <p:cNvSpPr/>
          <p:nvPr/>
        </p:nvSpPr>
        <p:spPr>
          <a:xfrm>
            <a:off x="2294640" y="23414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方正兰亭黑简体"/>
              </a:rPr>
              <a:t>我只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2"/>
          <p:cNvSpPr/>
          <p:nvPr/>
        </p:nvSpPr>
        <p:spPr>
          <a:xfrm>
            <a:off x="4325760" y="3357720"/>
            <a:ext cx="33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碰巧选择了用</a:t>
            </a:r>
            <a:r>
              <a:rPr b="0" lang="en-US" sz="4000" spc="-1" strike="noStrike">
                <a:solidFill>
                  <a:srgbClr val="ffc000"/>
                </a:solidFill>
                <a:latin typeface="方正兰亭黑简体"/>
                <a:ea typeface="方正兰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来表达自己而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片 3" descr=""/>
          <p:cNvPicPr/>
          <p:nvPr/>
        </p:nvPicPr>
        <p:blipFill>
          <a:blip r:embed="rId1"/>
          <a:srcRect l="0" t="0" r="8870" b="14593"/>
          <a:stretch/>
        </p:blipFill>
        <p:spPr>
          <a:xfrm>
            <a:off x="1031760" y="0"/>
            <a:ext cx="11157120" cy="6858000"/>
          </a:xfrm>
          <a:prstGeom prst="rect">
            <a:avLst/>
          </a:prstGeom>
          <a:ln w="0">
            <a:noFill/>
          </a:ln>
        </p:spPr>
      </p:pic>
      <p:sp>
        <p:nvSpPr>
          <p:cNvPr id="677" name="矩形 6"/>
          <p:cNvSpPr/>
          <p:nvPr/>
        </p:nvSpPr>
        <p:spPr>
          <a:xfrm>
            <a:off x="0" y="0"/>
            <a:ext cx="172404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"/>
          <p:cNvSpPr/>
          <p:nvPr/>
        </p:nvSpPr>
        <p:spPr>
          <a:xfrm>
            <a:off x="-511200" y="11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是个重度电影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7"/>
          <p:cNvSpPr/>
          <p:nvPr/>
        </p:nvSpPr>
        <p:spPr>
          <a:xfrm>
            <a:off x="209880" y="1913040"/>
            <a:ext cx="17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了个影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等腰三角形 8"/>
          <p:cNvSpPr/>
          <p:nvPr/>
        </p:nvSpPr>
        <p:spPr>
          <a:xfrm rot="5400000">
            <a:off x="1568520" y="472680"/>
            <a:ext cx="65088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http://pic.pptstore.net/pptpic/59/97/5e694b5f8c863985.jpg"/>
          <p:cNvPicPr/>
          <p:nvPr/>
        </p:nvPicPr>
        <p:blipFill>
          <a:blip r:embed="rId1"/>
          <a:stretch/>
        </p:blipFill>
        <p:spPr>
          <a:xfrm>
            <a:off x="-9036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矩形 12"/>
          <p:cNvSpPr/>
          <p:nvPr/>
        </p:nvSpPr>
        <p:spPr>
          <a:xfrm>
            <a:off x="10468080" y="0"/>
            <a:ext cx="172404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3"/>
          <p:cNvSpPr/>
          <p:nvPr/>
        </p:nvSpPr>
        <p:spPr>
          <a:xfrm>
            <a:off x="9956880" y="690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是个摄影爱好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4"/>
          <p:cNvSpPr/>
          <p:nvPr/>
        </p:nvSpPr>
        <p:spPr>
          <a:xfrm>
            <a:off x="9837360" y="1298520"/>
            <a:ext cx="34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旅游的照片做了个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15"/>
          <p:cNvSpPr/>
          <p:nvPr/>
        </p:nvSpPr>
        <p:spPr>
          <a:xfrm rot="16200000">
            <a:off x="9951120" y="472320"/>
            <a:ext cx="64944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19"/>
          <p:cNvGrpSpPr/>
          <p:nvPr/>
        </p:nvGrpSpPr>
        <p:grpSpPr>
          <a:xfrm>
            <a:off x="3600000" y="1692360"/>
            <a:ext cx="7626960" cy="2912400"/>
            <a:chOff x="3600000" y="1692360"/>
            <a:chExt cx="7626960" cy="2912400"/>
          </a:xfrm>
        </p:grpSpPr>
        <p:sp>
          <p:nvSpPr>
            <p:cNvPr id="56" name="圆角矩形 15"/>
            <p:cNvSpPr/>
            <p:nvPr/>
          </p:nvSpPr>
          <p:spPr>
            <a:xfrm>
              <a:off x="3600360" y="1692360"/>
              <a:ext cx="7626600" cy="251172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6"/>
            <p:cNvSpPr/>
            <p:nvPr/>
          </p:nvSpPr>
          <p:spPr>
            <a:xfrm rot="12600000">
              <a:off x="3715920" y="3957840"/>
              <a:ext cx="428040" cy="578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1317600" y="5764320"/>
            <a:ext cx="1015560" cy="1093680"/>
            <a:chOff x="1317600" y="5764320"/>
            <a:chExt cx="1015560" cy="1093680"/>
          </a:xfrm>
        </p:grpSpPr>
        <p:sp>
          <p:nvSpPr>
            <p:cNvPr id="59" name="Freeform 6"/>
            <p:cNvSpPr/>
            <p:nvPr/>
          </p:nvSpPr>
          <p:spPr>
            <a:xfrm>
              <a:off x="1317600" y="5914440"/>
              <a:ext cx="791280" cy="943200"/>
            </a:xfrm>
            <a:custGeom>
              <a:avLst/>
              <a:gdLst/>
              <a:ahLst/>
              <a:rect l="l" t="t" r="r" b="b"/>
              <a:pathLst>
                <a:path w="190" h="269">
                  <a:moveTo>
                    <a:pt x="34" y="152"/>
                  </a:move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5" y="0"/>
                    <a:pt x="27" y="1"/>
                  </a:cubicBezTo>
                  <a:cubicBezTo>
                    <a:pt x="22" y="1"/>
                    <a:pt x="19" y="7"/>
                    <a:pt x="17" y="13"/>
                  </a:cubicBezTo>
                  <a:cubicBezTo>
                    <a:pt x="8" y="36"/>
                    <a:pt x="0" y="91"/>
                    <a:pt x="20" y="152"/>
                  </a:cubicBezTo>
                  <a:cubicBezTo>
                    <a:pt x="19" y="182"/>
                    <a:pt x="35" y="194"/>
                    <a:pt x="45" y="208"/>
                  </a:cubicBezTo>
                  <a:cubicBezTo>
                    <a:pt x="55" y="221"/>
                    <a:pt x="56" y="232"/>
                    <a:pt x="50" y="249"/>
                  </a:cubicBezTo>
                  <a:cubicBezTo>
                    <a:pt x="45" y="260"/>
                    <a:pt x="45" y="269"/>
                    <a:pt x="45" y="269"/>
                  </a:cubicBezTo>
                  <a:cubicBezTo>
                    <a:pt x="132" y="269"/>
                    <a:pt x="132" y="269"/>
                    <a:pt x="132" y="269"/>
                  </a:cubicBezTo>
                  <a:cubicBezTo>
                    <a:pt x="132" y="260"/>
                    <a:pt x="127" y="257"/>
                    <a:pt x="123" y="250"/>
                  </a:cubicBezTo>
                  <a:cubicBezTo>
                    <a:pt x="118" y="243"/>
                    <a:pt x="115" y="238"/>
                    <a:pt x="115" y="229"/>
                  </a:cubicBezTo>
                  <a:cubicBezTo>
                    <a:pt x="116" y="217"/>
                    <a:pt x="122" y="212"/>
                    <a:pt x="129" y="210"/>
                  </a:cubicBezTo>
                  <a:cubicBezTo>
                    <a:pt x="137" y="209"/>
                    <a:pt x="148" y="207"/>
                    <a:pt x="148" y="207"/>
                  </a:cubicBezTo>
                  <a:cubicBezTo>
                    <a:pt x="178" y="202"/>
                    <a:pt x="183" y="191"/>
                    <a:pt x="190" y="179"/>
                  </a:cubicBezTo>
                  <a:cubicBezTo>
                    <a:pt x="187" y="165"/>
                    <a:pt x="184" y="154"/>
                    <a:pt x="184" y="153"/>
                  </a:cubicBezTo>
                  <a:cubicBezTo>
                    <a:pt x="177" y="152"/>
                    <a:pt x="34" y="152"/>
                    <a:pt x="34" y="15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555200" y="5764320"/>
              <a:ext cx="777960" cy="1093680"/>
            </a:xfrm>
            <a:custGeom>
              <a:avLst/>
              <a:gdLst/>
              <a:ahLst/>
              <a:rect l="l" t="t" r="r" b="b"/>
              <a:pathLst>
                <a:path w="187" h="312">
                  <a:moveTo>
                    <a:pt x="169" y="159"/>
                  </a:moveTo>
                  <a:cubicBezTo>
                    <a:pt x="158" y="140"/>
                    <a:pt x="131" y="138"/>
                    <a:pt x="131" y="138"/>
                  </a:cubicBezTo>
                  <a:cubicBezTo>
                    <a:pt x="85" y="132"/>
                    <a:pt x="85" y="132"/>
                    <a:pt x="85" y="132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165" y="142"/>
                    <a:pt x="165" y="142"/>
                    <a:pt x="165" y="142"/>
                  </a:cubicBezTo>
                  <a:cubicBezTo>
                    <a:pt x="177" y="128"/>
                    <a:pt x="177" y="128"/>
                    <a:pt x="177" y="128"/>
                  </a:cubicBezTo>
                  <a:cubicBezTo>
                    <a:pt x="177" y="128"/>
                    <a:pt x="90" y="27"/>
                    <a:pt x="86" y="24"/>
                  </a:cubicBezTo>
                  <a:cubicBezTo>
                    <a:pt x="65" y="2"/>
                    <a:pt x="55" y="2"/>
                    <a:pt x="45" y="1"/>
                  </a:cubicBezTo>
                  <a:cubicBezTo>
                    <a:pt x="34" y="0"/>
                    <a:pt x="21" y="4"/>
                    <a:pt x="13" y="12"/>
                  </a:cubicBezTo>
                  <a:cubicBezTo>
                    <a:pt x="1" y="25"/>
                    <a:pt x="0" y="41"/>
                    <a:pt x="0" y="50"/>
                  </a:cubicBezTo>
                  <a:cubicBezTo>
                    <a:pt x="0" y="51"/>
                    <a:pt x="0" y="130"/>
                    <a:pt x="0" y="130"/>
                  </a:cubicBezTo>
                  <a:cubicBezTo>
                    <a:pt x="0" y="186"/>
                    <a:pt x="53" y="185"/>
                    <a:pt x="54" y="18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58" y="312"/>
                    <a:pt x="158" y="312"/>
                    <a:pt x="158" y="312"/>
                  </a:cubicBezTo>
                  <a:cubicBezTo>
                    <a:pt x="158" y="312"/>
                    <a:pt x="182" y="312"/>
                    <a:pt x="187" y="312"/>
                  </a:cubicBezTo>
                  <a:cubicBezTo>
                    <a:pt x="187" y="305"/>
                    <a:pt x="179" y="205"/>
                    <a:pt x="179" y="205"/>
                  </a:cubicBezTo>
                  <a:cubicBezTo>
                    <a:pt x="179" y="204"/>
                    <a:pt x="176" y="172"/>
                    <a:pt x="169" y="15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4"/>
          <p:cNvGrpSpPr/>
          <p:nvPr/>
        </p:nvGrpSpPr>
        <p:grpSpPr>
          <a:xfrm>
            <a:off x="884160" y="3948120"/>
            <a:ext cx="1658880" cy="1741320"/>
            <a:chOff x="884160" y="3948120"/>
            <a:chExt cx="1658880" cy="1741320"/>
          </a:xfrm>
        </p:grpSpPr>
        <p:sp>
          <p:nvSpPr>
            <p:cNvPr id="62" name="椭圆 5"/>
            <p:cNvSpPr/>
            <p:nvPr/>
          </p:nvSpPr>
          <p:spPr>
            <a:xfrm>
              <a:off x="1101240" y="4392720"/>
              <a:ext cx="1297080" cy="1296720"/>
            </a:xfrm>
            <a:prstGeom prst="ellipse">
              <a:avLst/>
            </a:prstGeom>
            <a:noFill/>
            <a:ln w="5724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84160" y="4176720"/>
              <a:ext cx="1658880" cy="95148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7"/>
            <p:cNvSpPr/>
            <p:nvPr/>
          </p:nvSpPr>
          <p:spPr>
            <a:xfrm>
              <a:off x="1270080" y="5116680"/>
              <a:ext cx="443520" cy="4788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"/>
            <p:cNvSpPr/>
            <p:nvPr/>
          </p:nvSpPr>
          <p:spPr>
            <a:xfrm>
              <a:off x="1830240" y="5116680"/>
              <a:ext cx="443520" cy="4788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86400" y="3948120"/>
              <a:ext cx="1426320" cy="1119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0"/>
            <p:cNvSpPr/>
            <p:nvPr/>
          </p:nvSpPr>
          <p:spPr>
            <a:xfrm>
              <a:off x="1448280" y="5116680"/>
              <a:ext cx="123480" cy="8424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1"/>
            <p:cNvSpPr/>
            <p:nvPr/>
          </p:nvSpPr>
          <p:spPr>
            <a:xfrm>
              <a:off x="1974240" y="5116680"/>
              <a:ext cx="123480" cy="8424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12"/>
          <p:cNvSpPr/>
          <p:nvPr/>
        </p:nvSpPr>
        <p:spPr>
          <a:xfrm>
            <a:off x="4681440" y="1990800"/>
            <a:ext cx="26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Microsoft JhengHei UI"/>
                <a:ea typeface="Microsoft JhengHei UI"/>
              </a:rPr>
              <a:t>别误会，色的意思是 </a:t>
            </a:r>
            <a:r>
              <a:rPr b="0" lang="en-US" sz="3200" spc="-1" strike="noStrike">
                <a:solidFill>
                  <a:srgbClr val="262626"/>
                </a:solidFill>
                <a:latin typeface="Microsoft JhengHei UI"/>
                <a:ea typeface="Microsoft JhengHei U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"/>
          <p:cNvSpPr/>
          <p:nvPr/>
        </p:nvSpPr>
        <p:spPr>
          <a:xfrm>
            <a:off x="5306040" y="248904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方正兰亭粗黑简体"/>
              </a:rPr>
              <a:t>生活多汁多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0" y="0"/>
            <a:ext cx="12192120" cy="1270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1724040" y="-495360"/>
            <a:ext cx="10468080" cy="7850160"/>
          </a:xfrm>
          <a:prstGeom prst="rect">
            <a:avLst/>
          </a:prstGeom>
          <a:ln w="0">
            <a:noFill/>
          </a:ln>
        </p:spPr>
      </p:pic>
      <p:sp>
        <p:nvSpPr>
          <p:cNvPr id="687" name="矩形 4"/>
          <p:cNvSpPr/>
          <p:nvPr/>
        </p:nvSpPr>
        <p:spPr>
          <a:xfrm>
            <a:off x="0" y="0"/>
            <a:ext cx="172404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5"/>
          <p:cNvSpPr/>
          <p:nvPr/>
        </p:nvSpPr>
        <p:spPr>
          <a:xfrm>
            <a:off x="-419760" y="844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是个三国杀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-538200" y="1450800"/>
            <a:ext cx="32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了一个三国杀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等腰三角形 7"/>
          <p:cNvSpPr/>
          <p:nvPr/>
        </p:nvSpPr>
        <p:spPr>
          <a:xfrm rot="5400000">
            <a:off x="1568520" y="472680"/>
            <a:ext cx="65088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6"/>
          <p:cNvGrpSpPr/>
          <p:nvPr/>
        </p:nvGrpSpPr>
        <p:grpSpPr>
          <a:xfrm>
            <a:off x="60480" y="28440"/>
            <a:ext cx="9937440" cy="6858000"/>
            <a:chOff x="60480" y="28440"/>
            <a:chExt cx="9937440" cy="6858000"/>
          </a:xfrm>
        </p:grpSpPr>
        <p:sp>
          <p:nvSpPr>
            <p:cNvPr id="692" name="矩形 7"/>
            <p:cNvSpPr/>
            <p:nvPr/>
          </p:nvSpPr>
          <p:spPr>
            <a:xfrm rot="16200000">
              <a:off x="-232524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8"/>
            <p:cNvSpPr/>
            <p:nvPr/>
          </p:nvSpPr>
          <p:spPr>
            <a:xfrm rot="16200000">
              <a:off x="-147096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9"/>
            <p:cNvSpPr/>
            <p:nvPr/>
          </p:nvSpPr>
          <p:spPr>
            <a:xfrm rot="16200000">
              <a:off x="-61272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10"/>
            <p:cNvSpPr/>
            <p:nvPr/>
          </p:nvSpPr>
          <p:spPr>
            <a:xfrm rot="16200000">
              <a:off x="23796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11"/>
            <p:cNvSpPr/>
            <p:nvPr/>
          </p:nvSpPr>
          <p:spPr>
            <a:xfrm rot="16200000">
              <a:off x="110268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12"/>
            <p:cNvSpPr/>
            <p:nvPr/>
          </p:nvSpPr>
          <p:spPr>
            <a:xfrm rot="16200000">
              <a:off x="196308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13"/>
            <p:cNvSpPr/>
            <p:nvPr/>
          </p:nvSpPr>
          <p:spPr>
            <a:xfrm rot="16200000">
              <a:off x="282852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14"/>
            <p:cNvSpPr/>
            <p:nvPr/>
          </p:nvSpPr>
          <p:spPr>
            <a:xfrm rot="16200000">
              <a:off x="370332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矩形 15"/>
            <p:cNvSpPr/>
            <p:nvPr/>
          </p:nvSpPr>
          <p:spPr>
            <a:xfrm rot="16200000">
              <a:off x="460404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16"/>
            <p:cNvSpPr/>
            <p:nvPr/>
          </p:nvSpPr>
          <p:spPr>
            <a:xfrm rot="16200000">
              <a:off x="547344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17"/>
            <p:cNvSpPr/>
            <p:nvPr/>
          </p:nvSpPr>
          <p:spPr>
            <a:xfrm rot="16200000">
              <a:off x="634320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18"/>
            <p:cNvSpPr/>
            <p:nvPr/>
          </p:nvSpPr>
          <p:spPr>
            <a:xfrm rot="16200000">
              <a:off x="-3135960" y="323172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19"/>
          <p:cNvGrpSpPr/>
          <p:nvPr/>
        </p:nvGrpSpPr>
        <p:grpSpPr>
          <a:xfrm>
            <a:off x="-7920" y="314280"/>
            <a:ext cx="12200040" cy="6418440"/>
            <a:chOff x="-7920" y="314280"/>
            <a:chExt cx="12200040" cy="6418440"/>
          </a:xfrm>
        </p:grpSpPr>
        <p:sp>
          <p:nvSpPr>
            <p:cNvPr id="705" name="矩形 20"/>
            <p:cNvSpPr/>
            <p:nvPr/>
          </p:nvSpPr>
          <p:spPr>
            <a:xfrm>
              <a:off x="3960" y="83772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21"/>
            <p:cNvSpPr/>
            <p:nvPr/>
          </p:nvSpPr>
          <p:spPr>
            <a:xfrm>
              <a:off x="3960" y="13896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22"/>
            <p:cNvSpPr/>
            <p:nvPr/>
          </p:nvSpPr>
          <p:spPr>
            <a:xfrm>
              <a:off x="3960" y="19440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23"/>
            <p:cNvSpPr/>
            <p:nvPr/>
          </p:nvSpPr>
          <p:spPr>
            <a:xfrm>
              <a:off x="3960" y="249372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24"/>
            <p:cNvSpPr/>
            <p:nvPr/>
          </p:nvSpPr>
          <p:spPr>
            <a:xfrm>
              <a:off x="3960" y="305244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25"/>
            <p:cNvSpPr/>
            <p:nvPr/>
          </p:nvSpPr>
          <p:spPr>
            <a:xfrm>
              <a:off x="3960" y="360792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26"/>
            <p:cNvSpPr/>
            <p:nvPr/>
          </p:nvSpPr>
          <p:spPr>
            <a:xfrm>
              <a:off x="3960" y="41670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27"/>
            <p:cNvSpPr/>
            <p:nvPr/>
          </p:nvSpPr>
          <p:spPr>
            <a:xfrm>
              <a:off x="3960" y="473184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28"/>
            <p:cNvSpPr/>
            <p:nvPr/>
          </p:nvSpPr>
          <p:spPr>
            <a:xfrm>
              <a:off x="3960" y="53136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29"/>
            <p:cNvSpPr/>
            <p:nvPr/>
          </p:nvSpPr>
          <p:spPr>
            <a:xfrm>
              <a:off x="3960" y="58752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30"/>
            <p:cNvSpPr/>
            <p:nvPr/>
          </p:nvSpPr>
          <p:spPr>
            <a:xfrm>
              <a:off x="3960" y="64368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31"/>
            <p:cNvSpPr/>
            <p:nvPr/>
          </p:nvSpPr>
          <p:spPr>
            <a:xfrm>
              <a:off x="-7920" y="31428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组合 32"/>
          <p:cNvGrpSpPr/>
          <p:nvPr/>
        </p:nvGrpSpPr>
        <p:grpSpPr>
          <a:xfrm>
            <a:off x="2486160" y="892080"/>
            <a:ext cx="5178240" cy="5178600"/>
            <a:chOff x="2486160" y="892080"/>
            <a:chExt cx="5178240" cy="5178600"/>
          </a:xfrm>
        </p:grpSpPr>
        <p:sp>
          <p:nvSpPr>
            <p:cNvPr id="718" name="椭圆 33"/>
            <p:cNvSpPr/>
            <p:nvPr/>
          </p:nvSpPr>
          <p:spPr>
            <a:xfrm>
              <a:off x="2486160" y="892080"/>
              <a:ext cx="5178240" cy="517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34"/>
            <p:cNvSpPr/>
            <p:nvPr/>
          </p:nvSpPr>
          <p:spPr>
            <a:xfrm>
              <a:off x="2913480" y="1259280"/>
              <a:ext cx="4407120" cy="440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3"/>
          <p:cNvGrpSpPr/>
          <p:nvPr/>
        </p:nvGrpSpPr>
        <p:grpSpPr>
          <a:xfrm>
            <a:off x="1596960" y="985680"/>
            <a:ext cx="849600" cy="4900680"/>
            <a:chOff x="1596960" y="985680"/>
            <a:chExt cx="849600" cy="4900680"/>
          </a:xfrm>
        </p:grpSpPr>
        <p:sp>
          <p:nvSpPr>
            <p:cNvPr id="721" name="AutoShape 12"/>
            <p:cNvSpPr/>
            <p:nvPr/>
          </p:nvSpPr>
          <p:spPr>
            <a:xfrm>
              <a:off x="1596960" y="1001520"/>
              <a:ext cx="833400" cy="48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4"/>
            <p:cNvSpPr/>
            <p:nvPr/>
          </p:nvSpPr>
          <p:spPr>
            <a:xfrm>
              <a:off x="1596960" y="985680"/>
              <a:ext cx="849600" cy="4884840"/>
            </a:xfrm>
            <a:custGeom>
              <a:avLst/>
              <a:gdLst/>
              <a:ahLst/>
              <a:rect l="l" t="t" r="r" b="b"/>
              <a:pathLst>
                <a:path w="43" h="258">
                  <a:moveTo>
                    <a:pt x="25" y="92"/>
                  </a:moveTo>
                  <a:cubicBezTo>
                    <a:pt x="25" y="91"/>
                    <a:pt x="25" y="90"/>
                    <a:pt x="27" y="89"/>
                  </a:cubicBezTo>
                  <a:cubicBezTo>
                    <a:pt x="39" y="80"/>
                    <a:pt x="43" y="70"/>
                    <a:pt x="43" y="4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58"/>
                    <a:pt x="36" y="58"/>
                    <a:pt x="36" y="58"/>
                  </a:cubicBezTo>
                  <a:cubicBezTo>
                    <a:pt x="36" y="59"/>
                    <a:pt x="35" y="60"/>
                    <a:pt x="34" y="60"/>
                  </a:cubicBezTo>
                  <a:cubicBezTo>
                    <a:pt x="33" y="60"/>
                    <a:pt x="32" y="59"/>
                    <a:pt x="32" y="58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4" y="59"/>
                    <a:pt x="23" y="60"/>
                    <a:pt x="22" y="60"/>
                  </a:cubicBezTo>
                  <a:cubicBezTo>
                    <a:pt x="21" y="60"/>
                    <a:pt x="20" y="59"/>
                    <a:pt x="20" y="58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9"/>
                    <a:pt x="11" y="60"/>
                    <a:pt x="10" y="60"/>
                  </a:cubicBezTo>
                  <a:cubicBezTo>
                    <a:pt x="9" y="60"/>
                    <a:pt x="8" y="59"/>
                    <a:pt x="8" y="5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70"/>
                    <a:pt x="5" y="80"/>
                    <a:pt x="17" y="89"/>
                  </a:cubicBezTo>
                  <a:cubicBezTo>
                    <a:pt x="19" y="90"/>
                    <a:pt x="19" y="91"/>
                    <a:pt x="19" y="92"/>
                  </a:cubicBezTo>
                  <a:cubicBezTo>
                    <a:pt x="21" y="110"/>
                    <a:pt x="10" y="244"/>
                    <a:pt x="10" y="244"/>
                  </a:cubicBezTo>
                  <a:cubicBezTo>
                    <a:pt x="10" y="244"/>
                    <a:pt x="10" y="258"/>
                    <a:pt x="22" y="258"/>
                  </a:cubicBezTo>
                  <a:cubicBezTo>
                    <a:pt x="22" y="258"/>
                    <a:pt x="22" y="258"/>
                    <a:pt x="22" y="258"/>
                  </a:cubicBezTo>
                  <a:cubicBezTo>
                    <a:pt x="22" y="258"/>
                    <a:pt x="22" y="258"/>
                    <a:pt x="22" y="258"/>
                  </a:cubicBezTo>
                  <a:cubicBezTo>
                    <a:pt x="22" y="258"/>
                    <a:pt x="22" y="258"/>
                    <a:pt x="22" y="258"/>
                  </a:cubicBezTo>
                  <a:cubicBezTo>
                    <a:pt x="34" y="258"/>
                    <a:pt x="34" y="244"/>
                    <a:pt x="34" y="244"/>
                  </a:cubicBezTo>
                  <a:cubicBezTo>
                    <a:pt x="34" y="244"/>
                    <a:pt x="23" y="110"/>
                    <a:pt x="25" y="92"/>
                  </a:cubicBezTo>
                  <a:close/>
                </a:path>
              </a:pathLst>
            </a:custGeom>
            <a:solidFill>
              <a:srgbClr val="3a1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3" name="图片 38" descr=""/>
          <p:cNvPicPr/>
          <p:nvPr/>
        </p:nvPicPr>
        <p:blipFill>
          <a:blip r:embed="rId1"/>
          <a:stretch/>
        </p:blipFill>
        <p:spPr>
          <a:xfrm>
            <a:off x="3565440" y="2228760"/>
            <a:ext cx="682560" cy="10526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39" descr=""/>
          <p:cNvPicPr/>
          <p:nvPr/>
        </p:nvPicPr>
        <p:blipFill>
          <a:blip r:embed="rId2"/>
          <a:stretch/>
        </p:blipFill>
        <p:spPr>
          <a:xfrm rot="19578000">
            <a:off x="3495600" y="2825640"/>
            <a:ext cx="760320" cy="11732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40" descr=""/>
          <p:cNvPicPr/>
          <p:nvPr/>
        </p:nvPicPr>
        <p:blipFill>
          <a:blip r:embed="rId3"/>
          <a:stretch/>
        </p:blipFill>
        <p:spPr>
          <a:xfrm>
            <a:off x="5187960" y="1695600"/>
            <a:ext cx="1141560" cy="11430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41" descr=""/>
          <p:cNvPicPr/>
          <p:nvPr/>
        </p:nvPicPr>
        <p:blipFill>
          <a:blip r:embed="rId4"/>
          <a:stretch/>
        </p:blipFill>
        <p:spPr>
          <a:xfrm>
            <a:off x="5575320" y="2136600"/>
            <a:ext cx="1035000" cy="103536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42" descr=""/>
          <p:cNvPicPr/>
          <p:nvPr/>
        </p:nvPicPr>
        <p:blipFill>
          <a:blip r:embed="rId5"/>
          <a:stretch/>
        </p:blipFill>
        <p:spPr>
          <a:xfrm>
            <a:off x="5824440" y="273996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43" descr=""/>
          <p:cNvPicPr/>
          <p:nvPr/>
        </p:nvPicPr>
        <p:blipFill>
          <a:blip r:embed="rId6"/>
          <a:stretch/>
        </p:blipFill>
        <p:spPr>
          <a:xfrm rot="4028400">
            <a:off x="4201560" y="1481040"/>
            <a:ext cx="860400" cy="132732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44" descr=""/>
          <p:cNvPicPr/>
          <p:nvPr/>
        </p:nvPicPr>
        <p:blipFill>
          <a:blip r:embed="rId7"/>
          <a:stretch/>
        </p:blipFill>
        <p:spPr>
          <a:xfrm rot="19374600">
            <a:off x="5868720" y="3604680"/>
            <a:ext cx="630000" cy="70668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45" descr=""/>
          <p:cNvPicPr/>
          <p:nvPr/>
        </p:nvPicPr>
        <p:blipFill>
          <a:blip r:embed="rId8"/>
          <a:stretch/>
        </p:blipFill>
        <p:spPr>
          <a:xfrm rot="2259600">
            <a:off x="3579840" y="3706920"/>
            <a:ext cx="630360" cy="70632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46" descr=""/>
          <p:cNvPicPr/>
          <p:nvPr/>
        </p:nvPicPr>
        <p:blipFill>
          <a:blip r:embed="rId9"/>
          <a:stretch/>
        </p:blipFill>
        <p:spPr>
          <a:xfrm rot="17312400">
            <a:off x="4008600" y="4176360"/>
            <a:ext cx="682560" cy="1054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47" descr=""/>
          <p:cNvPicPr/>
          <p:nvPr/>
        </p:nvPicPr>
        <p:blipFill>
          <a:blip r:embed="rId10"/>
          <a:stretch/>
        </p:blipFill>
        <p:spPr>
          <a:xfrm rot="19872000">
            <a:off x="6311880" y="2771640"/>
            <a:ext cx="480960" cy="58752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8" descr=""/>
          <p:cNvPicPr/>
          <p:nvPr/>
        </p:nvPicPr>
        <p:blipFill>
          <a:blip r:embed="rId11"/>
          <a:stretch/>
        </p:blipFill>
        <p:spPr>
          <a:xfrm rot="16463400">
            <a:off x="3989880" y="1927800"/>
            <a:ext cx="480960" cy="58752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49" descr=""/>
          <p:cNvPicPr/>
          <p:nvPr/>
        </p:nvPicPr>
        <p:blipFill>
          <a:blip r:embed="rId12"/>
          <a:stretch/>
        </p:blipFill>
        <p:spPr>
          <a:xfrm>
            <a:off x="3863880" y="2403360"/>
            <a:ext cx="682560" cy="10540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50" descr=""/>
          <p:cNvPicPr/>
          <p:nvPr/>
        </p:nvPicPr>
        <p:blipFill>
          <a:blip r:embed="rId13"/>
          <a:stretch/>
        </p:blipFill>
        <p:spPr>
          <a:xfrm rot="20731800">
            <a:off x="3652560" y="3549240"/>
            <a:ext cx="304560" cy="37152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51" descr=""/>
          <p:cNvPicPr/>
          <p:nvPr/>
        </p:nvPicPr>
        <p:blipFill>
          <a:blip r:embed="rId14"/>
          <a:stretch/>
        </p:blipFill>
        <p:spPr>
          <a:xfrm rot="4852200">
            <a:off x="6181560" y="4070160"/>
            <a:ext cx="314280" cy="38448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52" descr=""/>
          <p:cNvPicPr/>
          <p:nvPr/>
        </p:nvPicPr>
        <p:blipFill>
          <a:blip r:embed="rId15"/>
          <a:stretch/>
        </p:blipFill>
        <p:spPr>
          <a:xfrm>
            <a:off x="4824360" y="4619520"/>
            <a:ext cx="544680" cy="5428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53" descr=""/>
          <p:cNvPicPr/>
          <p:nvPr/>
        </p:nvPicPr>
        <p:blipFill>
          <a:blip r:embed="rId16"/>
          <a:stretch/>
        </p:blipFill>
        <p:spPr>
          <a:xfrm rot="3025800">
            <a:off x="5370840" y="4704480"/>
            <a:ext cx="303480" cy="30492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54" descr=""/>
          <p:cNvPicPr/>
          <p:nvPr/>
        </p:nvPicPr>
        <p:blipFill>
          <a:blip r:embed="rId17"/>
          <a:stretch/>
        </p:blipFill>
        <p:spPr>
          <a:xfrm rot="3025800">
            <a:off x="5977440" y="443448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55" descr=""/>
          <p:cNvPicPr/>
          <p:nvPr/>
        </p:nvPicPr>
        <p:blipFill>
          <a:blip r:embed="rId18"/>
          <a:stretch/>
        </p:blipFill>
        <p:spPr>
          <a:xfrm rot="18012600">
            <a:off x="6185520" y="4316760"/>
            <a:ext cx="414360" cy="463680"/>
          </a:xfrm>
          <a:prstGeom prst="rect">
            <a:avLst/>
          </a:prstGeom>
          <a:ln w="0">
            <a:noFill/>
          </a:ln>
        </p:spPr>
      </p:pic>
      <p:grpSp>
        <p:nvGrpSpPr>
          <p:cNvPr id="741" name="组合 56"/>
          <p:cNvGrpSpPr/>
          <p:nvPr/>
        </p:nvGrpSpPr>
        <p:grpSpPr>
          <a:xfrm>
            <a:off x="4160880" y="2293920"/>
            <a:ext cx="1901880" cy="2435400"/>
            <a:chOff x="4160880" y="2293920"/>
            <a:chExt cx="1901880" cy="2435400"/>
          </a:xfrm>
        </p:grpSpPr>
        <p:sp>
          <p:nvSpPr>
            <p:cNvPr id="742" name="矩形 57"/>
            <p:cNvSpPr/>
            <p:nvPr/>
          </p:nvSpPr>
          <p:spPr>
            <a:xfrm>
              <a:off x="4160880" y="2293920"/>
              <a:ext cx="1901880" cy="2435400"/>
            </a:xfrm>
            <a:prstGeom prst="rect">
              <a:avLst/>
            </a:prstGeom>
            <a:solidFill>
              <a:srgbClr val="fce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58"/>
            <p:cNvSpPr/>
            <p:nvPr/>
          </p:nvSpPr>
          <p:spPr>
            <a:xfrm>
              <a:off x="4439880" y="4056480"/>
              <a:ext cx="1357200" cy="19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he Practice of Manag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文本框 59"/>
            <p:cNvSpPr/>
            <p:nvPr/>
          </p:nvSpPr>
          <p:spPr>
            <a:xfrm>
              <a:off x="4336560" y="3684240"/>
              <a:ext cx="16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造字工房尚黑 G0v1 粗体"/>
                  <a:ea typeface="造字工房尚黑 G0v1 粗体"/>
                </a:rPr>
                <a:t>管理的实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图片 60" descr=""/>
          <p:cNvPicPr/>
          <p:nvPr/>
        </p:nvPicPr>
        <p:blipFill>
          <a:blip r:embed="rId19"/>
          <a:stretch/>
        </p:blipFill>
        <p:spPr>
          <a:xfrm rot="16420200">
            <a:off x="4258800" y="4331880"/>
            <a:ext cx="682560" cy="105408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61" descr=""/>
          <p:cNvPicPr/>
          <p:nvPr/>
        </p:nvPicPr>
        <p:blipFill>
          <a:blip r:embed="rId20"/>
          <a:stretch/>
        </p:blipFill>
        <p:spPr>
          <a:xfrm rot="11794200">
            <a:off x="3880800" y="4098600"/>
            <a:ext cx="353880" cy="395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62" descr=""/>
          <p:cNvPicPr/>
          <p:nvPr/>
        </p:nvPicPr>
        <p:blipFill>
          <a:blip r:embed="rId21"/>
          <a:stretch/>
        </p:blipFill>
        <p:spPr>
          <a:xfrm>
            <a:off x="5575320" y="4656240"/>
            <a:ext cx="442800" cy="442800"/>
          </a:xfrm>
          <a:prstGeom prst="rect">
            <a:avLst/>
          </a:prstGeom>
          <a:ln w="0">
            <a:noFill/>
          </a:ln>
        </p:spPr>
      </p:pic>
      <p:sp>
        <p:nvSpPr>
          <p:cNvPr id="748" name="椭圆 63"/>
          <p:cNvSpPr/>
          <p:nvPr/>
        </p:nvSpPr>
        <p:spPr>
          <a:xfrm>
            <a:off x="4502160" y="2813040"/>
            <a:ext cx="568440" cy="56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64"/>
          <p:cNvSpPr/>
          <p:nvPr/>
        </p:nvSpPr>
        <p:spPr>
          <a:xfrm>
            <a:off x="5068800" y="2701800"/>
            <a:ext cx="757440" cy="75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65"/>
          <p:cNvGrpSpPr/>
          <p:nvPr/>
        </p:nvGrpSpPr>
        <p:grpSpPr>
          <a:xfrm>
            <a:off x="5486040" y="623160"/>
            <a:ext cx="2147040" cy="2147400"/>
            <a:chOff x="5486040" y="623160"/>
            <a:chExt cx="2147040" cy="2147400"/>
          </a:xfrm>
        </p:grpSpPr>
        <p:sp>
          <p:nvSpPr>
            <p:cNvPr id="751" name="椭圆 66"/>
            <p:cNvSpPr/>
            <p:nvPr/>
          </p:nvSpPr>
          <p:spPr>
            <a:xfrm rot="1524000">
              <a:off x="5753520" y="890640"/>
              <a:ext cx="1611360" cy="1612080"/>
            </a:xfrm>
            <a:prstGeom prst="ellipse">
              <a:avLst/>
            </a:prstGeom>
            <a:solidFill>
              <a:srgbClr val="94b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等腰三角形 67"/>
            <p:cNvSpPr/>
            <p:nvPr/>
          </p:nvSpPr>
          <p:spPr>
            <a:xfrm rot="12531000">
              <a:off x="5938920" y="2023920"/>
              <a:ext cx="339120" cy="492120"/>
            </a:xfrm>
            <a:prstGeom prst="triangle">
              <a:avLst>
                <a:gd name="adj" fmla="val 77139"/>
              </a:avLst>
            </a:prstGeom>
            <a:solidFill>
              <a:srgbClr val="94b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椭圆 68"/>
          <p:cNvSpPr/>
          <p:nvPr/>
        </p:nvSpPr>
        <p:spPr>
          <a:xfrm>
            <a:off x="4879800" y="3043080"/>
            <a:ext cx="158760" cy="1573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69"/>
          <p:cNvSpPr/>
          <p:nvPr/>
        </p:nvSpPr>
        <p:spPr>
          <a:xfrm>
            <a:off x="5099040" y="3044880"/>
            <a:ext cx="157320" cy="158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70"/>
          <p:cNvSpPr/>
          <p:nvPr/>
        </p:nvSpPr>
        <p:spPr>
          <a:xfrm rot="1210800">
            <a:off x="5968800" y="1523880"/>
            <a:ext cx="13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LP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6"/>
          <p:cNvSpPr/>
          <p:nvPr/>
        </p:nvSpPr>
        <p:spPr>
          <a:xfrm rot="1224000">
            <a:off x="4259160" y="2552760"/>
            <a:ext cx="147600" cy="21096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76"/>
          <p:cNvSpPr/>
          <p:nvPr/>
        </p:nvSpPr>
        <p:spPr>
          <a:xfrm rot="1111200">
            <a:off x="4254120" y="2911320"/>
            <a:ext cx="98280" cy="13824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76"/>
          <p:cNvSpPr/>
          <p:nvPr/>
        </p:nvSpPr>
        <p:spPr>
          <a:xfrm rot="20568600">
            <a:off x="5844960" y="2616120"/>
            <a:ext cx="98280" cy="13824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6"/>
          <p:cNvSpPr/>
          <p:nvPr/>
        </p:nvSpPr>
        <p:spPr>
          <a:xfrm rot="19737000">
            <a:off x="6011640" y="2916000"/>
            <a:ext cx="96840" cy="13968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6"/>
          <p:cNvSpPr/>
          <p:nvPr/>
        </p:nvSpPr>
        <p:spPr>
          <a:xfrm rot="344400">
            <a:off x="4586040" y="2376360"/>
            <a:ext cx="147600" cy="21132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6"/>
          <p:cNvSpPr/>
          <p:nvPr/>
        </p:nvSpPr>
        <p:spPr>
          <a:xfrm rot="20605800">
            <a:off x="5640480" y="2355480"/>
            <a:ext cx="149040" cy="21132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79"/>
          <p:cNvGrpSpPr/>
          <p:nvPr/>
        </p:nvGrpSpPr>
        <p:grpSpPr>
          <a:xfrm>
            <a:off x="7738920" y="903240"/>
            <a:ext cx="714600" cy="4970520"/>
            <a:chOff x="7738920" y="903240"/>
            <a:chExt cx="714600" cy="4970520"/>
          </a:xfrm>
        </p:grpSpPr>
        <p:sp>
          <p:nvSpPr>
            <p:cNvPr id="763" name="AutoShape 78"/>
            <p:cNvSpPr/>
            <p:nvPr/>
          </p:nvSpPr>
          <p:spPr>
            <a:xfrm>
              <a:off x="7894080" y="940680"/>
              <a:ext cx="538920" cy="49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7738920" y="903240"/>
              <a:ext cx="714600" cy="4970520"/>
            </a:xfrm>
            <a:custGeom>
              <a:avLst/>
              <a:gdLst/>
              <a:ahLst/>
              <a:rect l="l" t="t" r="r" b="b"/>
              <a:pathLst>
                <a:path w="207" h="1461">
                  <a:moveTo>
                    <a:pt x="112" y="747"/>
                  </a:moveTo>
                  <a:cubicBezTo>
                    <a:pt x="150" y="886"/>
                    <a:pt x="66" y="1157"/>
                    <a:pt x="84" y="1299"/>
                  </a:cubicBezTo>
                  <a:cubicBezTo>
                    <a:pt x="85" y="1344"/>
                    <a:pt x="104" y="1461"/>
                    <a:pt x="142" y="1460"/>
                  </a:cubicBezTo>
                  <a:cubicBezTo>
                    <a:pt x="147" y="1460"/>
                    <a:pt x="147" y="1460"/>
                    <a:pt x="147" y="1460"/>
                  </a:cubicBezTo>
                  <a:cubicBezTo>
                    <a:pt x="185" y="1459"/>
                    <a:pt x="202" y="1340"/>
                    <a:pt x="201" y="1296"/>
                  </a:cubicBezTo>
                  <a:cubicBezTo>
                    <a:pt x="207" y="1134"/>
                    <a:pt x="153" y="907"/>
                    <a:pt x="177" y="740"/>
                  </a:cubicBezTo>
                  <a:cubicBezTo>
                    <a:pt x="176" y="728"/>
                    <a:pt x="176" y="728"/>
                    <a:pt x="176" y="728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83" y="16"/>
                    <a:pt x="159" y="0"/>
                    <a:pt x="132" y="25"/>
                  </a:cubicBezTo>
                  <a:cubicBezTo>
                    <a:pt x="0" y="184"/>
                    <a:pt x="48" y="490"/>
                    <a:pt x="86" y="738"/>
                  </a:cubicBezTo>
                  <a:cubicBezTo>
                    <a:pt x="87" y="744"/>
                    <a:pt x="111" y="741"/>
                    <a:pt x="112" y="747"/>
                  </a:cubicBezTo>
                  <a:close/>
                </a:path>
              </a:pathLst>
            </a:custGeom>
            <a:solidFill>
              <a:srgbClr val="3a1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矩形 1"/>
          <p:cNvSpPr/>
          <p:nvPr/>
        </p:nvSpPr>
        <p:spPr>
          <a:xfrm>
            <a:off x="10468080" y="-25560"/>
            <a:ext cx="1724040" cy="6883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2"/>
          <p:cNvSpPr/>
          <p:nvPr/>
        </p:nvSpPr>
        <p:spPr>
          <a:xfrm>
            <a:off x="9956880" y="690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偶尔也会看看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3"/>
          <p:cNvSpPr/>
          <p:nvPr/>
        </p:nvSpPr>
        <p:spPr>
          <a:xfrm>
            <a:off x="10020240" y="20001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了个读书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等腰三角形 4"/>
          <p:cNvSpPr/>
          <p:nvPr/>
        </p:nvSpPr>
        <p:spPr>
          <a:xfrm rot="16200000">
            <a:off x="9951120" y="472320"/>
            <a:ext cx="64944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梯形 139"/>
          <p:cNvSpPr/>
          <p:nvPr/>
        </p:nvSpPr>
        <p:spPr>
          <a:xfrm flipH="1" rot="3658800">
            <a:off x="3542400" y="-559440"/>
            <a:ext cx="3451320" cy="12047040"/>
          </a:xfrm>
          <a:custGeom>
            <a:avLst/>
            <a:gdLst/>
            <a:ahLst/>
            <a:rect l="l" t="t" r="r" b="b"/>
            <a:pathLst>
              <a:path w="3450656" h="12047585">
                <a:moveTo>
                  <a:pt x="0" y="5876745"/>
                </a:moveTo>
                <a:lnTo>
                  <a:pt x="879338" y="0"/>
                </a:lnTo>
                <a:lnTo>
                  <a:pt x="1171597" y="0"/>
                </a:lnTo>
                <a:lnTo>
                  <a:pt x="3450656" y="12047585"/>
                </a:lnTo>
                <a:lnTo>
                  <a:pt x="0" y="5876745"/>
                </a:lnTo>
                <a:close/>
              </a:path>
            </a:pathLst>
          </a:custGeom>
          <a:solidFill>
            <a:srgbClr val="ffc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梯形 139"/>
          <p:cNvSpPr/>
          <p:nvPr/>
        </p:nvSpPr>
        <p:spPr>
          <a:xfrm rot="17941200">
            <a:off x="5223600" y="-573840"/>
            <a:ext cx="3451320" cy="12047400"/>
          </a:xfrm>
          <a:custGeom>
            <a:avLst/>
            <a:gdLst/>
            <a:ahLst/>
            <a:rect l="l" t="t" r="r" b="b"/>
            <a:pathLst>
              <a:path w="3450656" h="12047585">
                <a:moveTo>
                  <a:pt x="0" y="5876745"/>
                </a:moveTo>
                <a:lnTo>
                  <a:pt x="879338" y="0"/>
                </a:lnTo>
                <a:lnTo>
                  <a:pt x="1171597" y="0"/>
                </a:lnTo>
                <a:lnTo>
                  <a:pt x="3450656" y="12047585"/>
                </a:lnTo>
                <a:lnTo>
                  <a:pt x="0" y="5876745"/>
                </a:lnTo>
                <a:close/>
              </a:path>
            </a:pathLst>
          </a:custGeom>
          <a:solidFill>
            <a:srgbClr val="ffc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35"/>
          <p:cNvSpPr/>
          <p:nvPr/>
        </p:nvSpPr>
        <p:spPr>
          <a:xfrm>
            <a:off x="0" y="190440"/>
            <a:ext cx="12192120" cy="2216160"/>
          </a:xfrm>
          <a:prstGeom prst="rect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352440" y="6153120"/>
            <a:ext cx="247680" cy="704520"/>
            <a:chOff x="352440" y="6153120"/>
            <a:chExt cx="247680" cy="704520"/>
          </a:xfrm>
        </p:grpSpPr>
        <p:sp>
          <p:nvSpPr>
            <p:cNvPr id="773" name="Oval 5"/>
            <p:cNvSpPr/>
            <p:nvPr/>
          </p:nvSpPr>
          <p:spPr>
            <a:xfrm flipH="1">
              <a:off x="42336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"/>
            <p:cNvSpPr/>
            <p:nvPr/>
          </p:nvSpPr>
          <p:spPr>
            <a:xfrm flipH="1">
              <a:off x="35244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"/>
          <p:cNvGrpSpPr/>
          <p:nvPr/>
        </p:nvGrpSpPr>
        <p:grpSpPr>
          <a:xfrm>
            <a:off x="791640" y="6153120"/>
            <a:ext cx="249480" cy="704520"/>
            <a:chOff x="791640" y="6153120"/>
            <a:chExt cx="249480" cy="704520"/>
          </a:xfrm>
        </p:grpSpPr>
        <p:sp>
          <p:nvSpPr>
            <p:cNvPr id="776" name="Oval 5"/>
            <p:cNvSpPr/>
            <p:nvPr/>
          </p:nvSpPr>
          <p:spPr>
            <a:xfrm flipH="1">
              <a:off x="863280" y="6153120"/>
              <a:ext cx="10656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"/>
            <p:cNvSpPr/>
            <p:nvPr/>
          </p:nvSpPr>
          <p:spPr>
            <a:xfrm flipH="1">
              <a:off x="791280" y="6280200"/>
              <a:ext cx="2494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"/>
          <p:cNvGrpSpPr/>
          <p:nvPr/>
        </p:nvGrpSpPr>
        <p:grpSpPr>
          <a:xfrm>
            <a:off x="1231920" y="6153120"/>
            <a:ext cx="247680" cy="704520"/>
            <a:chOff x="1231920" y="6153120"/>
            <a:chExt cx="247680" cy="704520"/>
          </a:xfrm>
        </p:grpSpPr>
        <p:sp>
          <p:nvSpPr>
            <p:cNvPr id="779" name="Oval 5"/>
            <p:cNvSpPr/>
            <p:nvPr/>
          </p:nvSpPr>
          <p:spPr>
            <a:xfrm flipH="1">
              <a:off x="13028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"/>
            <p:cNvSpPr/>
            <p:nvPr/>
          </p:nvSpPr>
          <p:spPr>
            <a:xfrm flipH="1">
              <a:off x="12319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"/>
          <p:cNvGrpSpPr/>
          <p:nvPr/>
        </p:nvGrpSpPr>
        <p:grpSpPr>
          <a:xfrm>
            <a:off x="1671120" y="6153120"/>
            <a:ext cx="249480" cy="704520"/>
            <a:chOff x="1671120" y="6153120"/>
            <a:chExt cx="249480" cy="704520"/>
          </a:xfrm>
        </p:grpSpPr>
        <p:sp>
          <p:nvSpPr>
            <p:cNvPr id="782" name="Oval 5"/>
            <p:cNvSpPr/>
            <p:nvPr/>
          </p:nvSpPr>
          <p:spPr>
            <a:xfrm flipH="1">
              <a:off x="1742760" y="6153120"/>
              <a:ext cx="10656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 flipH="1">
              <a:off x="1670760" y="6280200"/>
              <a:ext cx="2494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"/>
          <p:cNvGrpSpPr/>
          <p:nvPr/>
        </p:nvGrpSpPr>
        <p:grpSpPr>
          <a:xfrm>
            <a:off x="2111400" y="6153120"/>
            <a:ext cx="249120" cy="704520"/>
            <a:chOff x="2111400" y="6153120"/>
            <a:chExt cx="249120" cy="704520"/>
          </a:xfrm>
        </p:grpSpPr>
        <p:sp>
          <p:nvSpPr>
            <p:cNvPr id="785" name="Oval 5"/>
            <p:cNvSpPr/>
            <p:nvPr/>
          </p:nvSpPr>
          <p:spPr>
            <a:xfrm flipH="1">
              <a:off x="218268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 flipH="1">
              <a:off x="211140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"/>
          <p:cNvGrpSpPr/>
          <p:nvPr/>
        </p:nvGrpSpPr>
        <p:grpSpPr>
          <a:xfrm>
            <a:off x="2550600" y="6153120"/>
            <a:ext cx="249480" cy="704520"/>
            <a:chOff x="2550600" y="6153120"/>
            <a:chExt cx="249480" cy="704520"/>
          </a:xfrm>
        </p:grpSpPr>
        <p:sp>
          <p:nvSpPr>
            <p:cNvPr id="788" name="Oval 5"/>
            <p:cNvSpPr/>
            <p:nvPr/>
          </p:nvSpPr>
          <p:spPr>
            <a:xfrm flipH="1">
              <a:off x="2622240" y="6153120"/>
              <a:ext cx="10656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flipH="1">
              <a:off x="2550240" y="6280200"/>
              <a:ext cx="2494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"/>
          <p:cNvGrpSpPr/>
          <p:nvPr/>
        </p:nvGrpSpPr>
        <p:grpSpPr>
          <a:xfrm>
            <a:off x="2987640" y="6153120"/>
            <a:ext cx="247680" cy="704520"/>
            <a:chOff x="2987640" y="6153120"/>
            <a:chExt cx="247680" cy="704520"/>
          </a:xfrm>
        </p:grpSpPr>
        <p:sp>
          <p:nvSpPr>
            <p:cNvPr id="791" name="Oval 5"/>
            <p:cNvSpPr/>
            <p:nvPr/>
          </p:nvSpPr>
          <p:spPr>
            <a:xfrm flipH="1">
              <a:off x="305856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"/>
            <p:cNvSpPr/>
            <p:nvPr/>
          </p:nvSpPr>
          <p:spPr>
            <a:xfrm flipH="1">
              <a:off x="298764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"/>
          <p:cNvGrpSpPr/>
          <p:nvPr/>
        </p:nvGrpSpPr>
        <p:grpSpPr>
          <a:xfrm>
            <a:off x="3427560" y="6153120"/>
            <a:ext cx="247680" cy="704520"/>
            <a:chOff x="3427560" y="6153120"/>
            <a:chExt cx="247680" cy="704520"/>
          </a:xfrm>
        </p:grpSpPr>
        <p:sp>
          <p:nvSpPr>
            <p:cNvPr id="794" name="Oval 5"/>
            <p:cNvSpPr/>
            <p:nvPr/>
          </p:nvSpPr>
          <p:spPr>
            <a:xfrm flipH="1">
              <a:off x="349848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"/>
            <p:cNvSpPr/>
            <p:nvPr/>
          </p:nvSpPr>
          <p:spPr>
            <a:xfrm flipH="1">
              <a:off x="342756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"/>
          <p:cNvGrpSpPr/>
          <p:nvPr/>
        </p:nvGrpSpPr>
        <p:grpSpPr>
          <a:xfrm>
            <a:off x="3867120" y="6153120"/>
            <a:ext cx="247680" cy="704520"/>
            <a:chOff x="3867120" y="6153120"/>
            <a:chExt cx="247680" cy="704520"/>
          </a:xfrm>
        </p:grpSpPr>
        <p:sp>
          <p:nvSpPr>
            <p:cNvPr id="797" name="Oval 5"/>
            <p:cNvSpPr/>
            <p:nvPr/>
          </p:nvSpPr>
          <p:spPr>
            <a:xfrm flipH="1">
              <a:off x="39380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"/>
            <p:cNvSpPr/>
            <p:nvPr/>
          </p:nvSpPr>
          <p:spPr>
            <a:xfrm flipH="1">
              <a:off x="38671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4"/>
          <p:cNvGrpSpPr/>
          <p:nvPr/>
        </p:nvGrpSpPr>
        <p:grpSpPr>
          <a:xfrm>
            <a:off x="4307040" y="6153120"/>
            <a:ext cx="249120" cy="704520"/>
            <a:chOff x="4307040" y="6153120"/>
            <a:chExt cx="249120" cy="704520"/>
          </a:xfrm>
        </p:grpSpPr>
        <p:sp>
          <p:nvSpPr>
            <p:cNvPr id="800" name="Oval 5"/>
            <p:cNvSpPr/>
            <p:nvPr/>
          </p:nvSpPr>
          <p:spPr>
            <a:xfrm flipH="1">
              <a:off x="437832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"/>
            <p:cNvSpPr/>
            <p:nvPr/>
          </p:nvSpPr>
          <p:spPr>
            <a:xfrm flipH="1">
              <a:off x="430704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4"/>
          <p:cNvGrpSpPr/>
          <p:nvPr/>
        </p:nvGrpSpPr>
        <p:grpSpPr>
          <a:xfrm>
            <a:off x="4746600" y="6153120"/>
            <a:ext cx="247680" cy="704520"/>
            <a:chOff x="4746600" y="6153120"/>
            <a:chExt cx="247680" cy="704520"/>
          </a:xfrm>
        </p:grpSpPr>
        <p:sp>
          <p:nvSpPr>
            <p:cNvPr id="803" name="Oval 5"/>
            <p:cNvSpPr/>
            <p:nvPr/>
          </p:nvSpPr>
          <p:spPr>
            <a:xfrm flipH="1">
              <a:off x="481752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 flipH="1">
              <a:off x="474660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4"/>
          <p:cNvGrpSpPr/>
          <p:nvPr/>
        </p:nvGrpSpPr>
        <p:grpSpPr>
          <a:xfrm>
            <a:off x="5186520" y="6153120"/>
            <a:ext cx="249120" cy="704520"/>
            <a:chOff x="5186520" y="6153120"/>
            <a:chExt cx="249120" cy="704520"/>
          </a:xfrm>
        </p:grpSpPr>
        <p:sp>
          <p:nvSpPr>
            <p:cNvPr id="806" name="Oval 5"/>
            <p:cNvSpPr/>
            <p:nvPr/>
          </p:nvSpPr>
          <p:spPr>
            <a:xfrm flipH="1">
              <a:off x="525780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H="1">
              <a:off x="518652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文本框 85"/>
          <p:cNvSpPr/>
          <p:nvPr/>
        </p:nvSpPr>
        <p:spPr>
          <a:xfrm>
            <a:off x="3216960" y="70020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cc0e"/>
                </a:solidFill>
                <a:latin typeface="微软雅黑"/>
                <a:ea typeface="方正兰亭黑简体"/>
              </a:rPr>
              <a:t>我相信，每个人都有自己大放异彩的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4"/>
          <p:cNvGrpSpPr/>
          <p:nvPr/>
        </p:nvGrpSpPr>
        <p:grpSpPr>
          <a:xfrm>
            <a:off x="6705720" y="6153120"/>
            <a:ext cx="247680" cy="704520"/>
            <a:chOff x="6705720" y="6153120"/>
            <a:chExt cx="247680" cy="704520"/>
          </a:xfrm>
        </p:grpSpPr>
        <p:sp>
          <p:nvSpPr>
            <p:cNvPr id="810" name="Oval 5"/>
            <p:cNvSpPr/>
            <p:nvPr/>
          </p:nvSpPr>
          <p:spPr>
            <a:xfrm flipH="1">
              <a:off x="67766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 flipH="1">
              <a:off x="67057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"/>
          <p:cNvGrpSpPr/>
          <p:nvPr/>
        </p:nvGrpSpPr>
        <p:grpSpPr>
          <a:xfrm>
            <a:off x="7145280" y="6153120"/>
            <a:ext cx="247680" cy="704520"/>
            <a:chOff x="7145280" y="6153120"/>
            <a:chExt cx="247680" cy="704520"/>
          </a:xfrm>
        </p:grpSpPr>
        <p:sp>
          <p:nvSpPr>
            <p:cNvPr id="813" name="Oval 5"/>
            <p:cNvSpPr/>
            <p:nvPr/>
          </p:nvSpPr>
          <p:spPr>
            <a:xfrm flipH="1">
              <a:off x="72162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 flipH="1">
              <a:off x="71452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4"/>
          <p:cNvGrpSpPr/>
          <p:nvPr/>
        </p:nvGrpSpPr>
        <p:grpSpPr>
          <a:xfrm>
            <a:off x="7585200" y="6153120"/>
            <a:ext cx="247680" cy="704520"/>
            <a:chOff x="7585200" y="6153120"/>
            <a:chExt cx="247680" cy="704520"/>
          </a:xfrm>
        </p:grpSpPr>
        <p:sp>
          <p:nvSpPr>
            <p:cNvPr id="816" name="Oval 5"/>
            <p:cNvSpPr/>
            <p:nvPr/>
          </p:nvSpPr>
          <p:spPr>
            <a:xfrm flipH="1">
              <a:off x="765612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"/>
            <p:cNvSpPr/>
            <p:nvPr/>
          </p:nvSpPr>
          <p:spPr>
            <a:xfrm flipH="1">
              <a:off x="758520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4"/>
          <p:cNvGrpSpPr/>
          <p:nvPr/>
        </p:nvGrpSpPr>
        <p:grpSpPr>
          <a:xfrm>
            <a:off x="8024760" y="6153120"/>
            <a:ext cx="247680" cy="704520"/>
            <a:chOff x="8024760" y="6153120"/>
            <a:chExt cx="247680" cy="704520"/>
          </a:xfrm>
        </p:grpSpPr>
        <p:sp>
          <p:nvSpPr>
            <p:cNvPr id="819" name="Oval 5"/>
            <p:cNvSpPr/>
            <p:nvPr/>
          </p:nvSpPr>
          <p:spPr>
            <a:xfrm flipH="1">
              <a:off x="809568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 flipH="1">
              <a:off x="802476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4"/>
          <p:cNvGrpSpPr/>
          <p:nvPr/>
        </p:nvGrpSpPr>
        <p:grpSpPr>
          <a:xfrm>
            <a:off x="8464680" y="6153120"/>
            <a:ext cx="247680" cy="704520"/>
            <a:chOff x="8464680" y="6153120"/>
            <a:chExt cx="247680" cy="704520"/>
          </a:xfrm>
        </p:grpSpPr>
        <p:sp>
          <p:nvSpPr>
            <p:cNvPr id="822" name="Oval 5"/>
            <p:cNvSpPr/>
            <p:nvPr/>
          </p:nvSpPr>
          <p:spPr>
            <a:xfrm flipH="1">
              <a:off x="85356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"/>
            <p:cNvSpPr/>
            <p:nvPr/>
          </p:nvSpPr>
          <p:spPr>
            <a:xfrm flipH="1">
              <a:off x="84646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4"/>
          <p:cNvGrpSpPr/>
          <p:nvPr/>
        </p:nvGrpSpPr>
        <p:grpSpPr>
          <a:xfrm>
            <a:off x="8904240" y="6153120"/>
            <a:ext cx="249120" cy="704520"/>
            <a:chOff x="8904240" y="6153120"/>
            <a:chExt cx="249120" cy="704520"/>
          </a:xfrm>
        </p:grpSpPr>
        <p:sp>
          <p:nvSpPr>
            <p:cNvPr id="825" name="Oval 5"/>
            <p:cNvSpPr/>
            <p:nvPr/>
          </p:nvSpPr>
          <p:spPr>
            <a:xfrm flipH="1">
              <a:off x="897552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 flipH="1">
              <a:off x="890424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4"/>
          <p:cNvGrpSpPr/>
          <p:nvPr/>
        </p:nvGrpSpPr>
        <p:grpSpPr>
          <a:xfrm>
            <a:off x="9340920" y="6153120"/>
            <a:ext cx="247680" cy="704520"/>
            <a:chOff x="9340920" y="6153120"/>
            <a:chExt cx="247680" cy="704520"/>
          </a:xfrm>
        </p:grpSpPr>
        <p:sp>
          <p:nvSpPr>
            <p:cNvPr id="828" name="Oval 5"/>
            <p:cNvSpPr/>
            <p:nvPr/>
          </p:nvSpPr>
          <p:spPr>
            <a:xfrm flipH="1">
              <a:off x="94118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"/>
            <p:cNvSpPr/>
            <p:nvPr/>
          </p:nvSpPr>
          <p:spPr>
            <a:xfrm flipH="1">
              <a:off x="93409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4"/>
          <p:cNvGrpSpPr/>
          <p:nvPr/>
        </p:nvGrpSpPr>
        <p:grpSpPr>
          <a:xfrm>
            <a:off x="9780480" y="6153120"/>
            <a:ext cx="247680" cy="704520"/>
            <a:chOff x="9780480" y="6153120"/>
            <a:chExt cx="247680" cy="704520"/>
          </a:xfrm>
        </p:grpSpPr>
        <p:sp>
          <p:nvSpPr>
            <p:cNvPr id="831" name="Oval 5"/>
            <p:cNvSpPr/>
            <p:nvPr/>
          </p:nvSpPr>
          <p:spPr>
            <a:xfrm flipH="1">
              <a:off x="98514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"/>
            <p:cNvSpPr/>
            <p:nvPr/>
          </p:nvSpPr>
          <p:spPr>
            <a:xfrm flipH="1">
              <a:off x="97804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4"/>
          <p:cNvGrpSpPr/>
          <p:nvPr/>
        </p:nvGrpSpPr>
        <p:grpSpPr>
          <a:xfrm>
            <a:off x="10220400" y="6153120"/>
            <a:ext cx="247680" cy="704520"/>
            <a:chOff x="10220400" y="6153120"/>
            <a:chExt cx="247680" cy="704520"/>
          </a:xfrm>
        </p:grpSpPr>
        <p:sp>
          <p:nvSpPr>
            <p:cNvPr id="834" name="Oval 5"/>
            <p:cNvSpPr/>
            <p:nvPr/>
          </p:nvSpPr>
          <p:spPr>
            <a:xfrm flipH="1">
              <a:off x="1029132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"/>
            <p:cNvSpPr/>
            <p:nvPr/>
          </p:nvSpPr>
          <p:spPr>
            <a:xfrm flipH="1">
              <a:off x="1022040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4"/>
          <p:cNvGrpSpPr/>
          <p:nvPr/>
        </p:nvGrpSpPr>
        <p:grpSpPr>
          <a:xfrm>
            <a:off x="10659960" y="6153120"/>
            <a:ext cx="247680" cy="704520"/>
            <a:chOff x="10659960" y="6153120"/>
            <a:chExt cx="247680" cy="704520"/>
          </a:xfrm>
        </p:grpSpPr>
        <p:sp>
          <p:nvSpPr>
            <p:cNvPr id="837" name="Oval 5"/>
            <p:cNvSpPr/>
            <p:nvPr/>
          </p:nvSpPr>
          <p:spPr>
            <a:xfrm flipH="1">
              <a:off x="1073088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"/>
            <p:cNvSpPr/>
            <p:nvPr/>
          </p:nvSpPr>
          <p:spPr>
            <a:xfrm flipH="1">
              <a:off x="1065996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4"/>
          <p:cNvGrpSpPr/>
          <p:nvPr/>
        </p:nvGrpSpPr>
        <p:grpSpPr>
          <a:xfrm>
            <a:off x="11099880" y="6153120"/>
            <a:ext cx="247680" cy="704520"/>
            <a:chOff x="11099880" y="6153120"/>
            <a:chExt cx="247680" cy="704520"/>
          </a:xfrm>
        </p:grpSpPr>
        <p:sp>
          <p:nvSpPr>
            <p:cNvPr id="840" name="Oval 5"/>
            <p:cNvSpPr/>
            <p:nvPr/>
          </p:nvSpPr>
          <p:spPr>
            <a:xfrm flipH="1">
              <a:off x="111708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"/>
            <p:cNvSpPr/>
            <p:nvPr/>
          </p:nvSpPr>
          <p:spPr>
            <a:xfrm flipH="1">
              <a:off x="110998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"/>
          <p:cNvGrpSpPr/>
          <p:nvPr/>
        </p:nvGrpSpPr>
        <p:grpSpPr>
          <a:xfrm>
            <a:off x="11539440" y="6153120"/>
            <a:ext cx="247680" cy="704520"/>
            <a:chOff x="11539440" y="6153120"/>
            <a:chExt cx="247680" cy="704520"/>
          </a:xfrm>
        </p:grpSpPr>
        <p:sp>
          <p:nvSpPr>
            <p:cNvPr id="843" name="Oval 5"/>
            <p:cNvSpPr/>
            <p:nvPr/>
          </p:nvSpPr>
          <p:spPr>
            <a:xfrm flipH="1">
              <a:off x="1161036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 flipH="1">
              <a:off x="1153944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文本框 137"/>
          <p:cNvSpPr/>
          <p:nvPr/>
        </p:nvSpPr>
        <p:spPr>
          <a:xfrm>
            <a:off x="4329360" y="1465200"/>
            <a:ext cx="35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我暂时选择了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你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等腰三角形 138"/>
          <p:cNvSpPr/>
          <p:nvPr/>
        </p:nvSpPr>
        <p:spPr>
          <a:xfrm rot="10800000">
            <a:off x="5398920" y="2000160"/>
            <a:ext cx="1393920" cy="1201680"/>
          </a:xfrm>
          <a:prstGeom prst="triangle">
            <a:avLst>
              <a:gd name="adj" fmla="val 50000"/>
            </a:avLst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组合 144"/>
          <p:cNvGrpSpPr/>
          <p:nvPr/>
        </p:nvGrpSpPr>
        <p:grpSpPr>
          <a:xfrm>
            <a:off x="405000" y="2406600"/>
            <a:ext cx="1052640" cy="925560"/>
            <a:chOff x="405000" y="2406600"/>
            <a:chExt cx="1052640" cy="925560"/>
          </a:xfrm>
        </p:grpSpPr>
        <p:sp>
          <p:nvSpPr>
            <p:cNvPr id="848" name="椭圆 143"/>
            <p:cNvSpPr/>
            <p:nvPr/>
          </p:nvSpPr>
          <p:spPr>
            <a:xfrm rot="1319400">
              <a:off x="1185120" y="2945160"/>
              <a:ext cx="214560" cy="34884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40"/>
            <p:cNvSpPr/>
            <p:nvPr/>
          </p:nvSpPr>
          <p:spPr>
            <a:xfrm rot="1558800">
              <a:off x="446040" y="2713320"/>
              <a:ext cx="74520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41"/>
            <p:cNvSpPr/>
            <p:nvPr/>
          </p:nvSpPr>
          <p:spPr>
            <a:xfrm>
              <a:off x="668520" y="2406600"/>
              <a:ext cx="15588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42"/>
            <p:cNvSpPr/>
            <p:nvPr/>
          </p:nvSpPr>
          <p:spPr>
            <a:xfrm rot="1558800">
              <a:off x="1151280" y="2882520"/>
              <a:ext cx="171720" cy="433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145"/>
          <p:cNvGrpSpPr/>
          <p:nvPr/>
        </p:nvGrpSpPr>
        <p:grpSpPr>
          <a:xfrm>
            <a:off x="10747080" y="2406600"/>
            <a:ext cx="1052640" cy="925560"/>
            <a:chOff x="10747080" y="2406600"/>
            <a:chExt cx="1052640" cy="925560"/>
          </a:xfrm>
        </p:grpSpPr>
        <p:sp>
          <p:nvSpPr>
            <p:cNvPr id="853" name="椭圆 146"/>
            <p:cNvSpPr/>
            <p:nvPr/>
          </p:nvSpPr>
          <p:spPr>
            <a:xfrm flipH="1" rot="20280600">
              <a:off x="10803960" y="2945160"/>
              <a:ext cx="214560" cy="34920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47"/>
            <p:cNvSpPr/>
            <p:nvPr/>
          </p:nvSpPr>
          <p:spPr>
            <a:xfrm flipH="1" rot="20041200">
              <a:off x="11012760" y="2713320"/>
              <a:ext cx="74520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48"/>
            <p:cNvSpPr/>
            <p:nvPr/>
          </p:nvSpPr>
          <p:spPr>
            <a:xfrm flipH="1">
              <a:off x="11379960" y="2406600"/>
              <a:ext cx="15588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149"/>
            <p:cNvSpPr/>
            <p:nvPr/>
          </p:nvSpPr>
          <p:spPr>
            <a:xfrm flipH="1" rot="20041200">
              <a:off x="10881000" y="2882520"/>
              <a:ext cx="171720" cy="433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7" name="图片 154" descr=""/>
          <p:cNvPicPr/>
          <p:nvPr/>
        </p:nvPicPr>
        <p:blipFill>
          <a:blip r:embed="rId1"/>
          <a:stretch/>
        </p:blipFill>
        <p:spPr>
          <a:xfrm>
            <a:off x="5835600" y="5654520"/>
            <a:ext cx="552600" cy="1221120"/>
          </a:xfrm>
          <a:prstGeom prst="rect">
            <a:avLst/>
          </a:prstGeom>
          <a:ln w="0">
            <a:noFill/>
          </a:ln>
        </p:spPr>
      </p:pic>
      <p:grpSp>
        <p:nvGrpSpPr>
          <p:cNvPr id="858" name="组合 91"/>
          <p:cNvGrpSpPr/>
          <p:nvPr/>
        </p:nvGrpSpPr>
        <p:grpSpPr>
          <a:xfrm>
            <a:off x="5356080" y="4378320"/>
            <a:ext cx="1398600" cy="1469880"/>
            <a:chOff x="5356080" y="4378320"/>
            <a:chExt cx="1398600" cy="1469880"/>
          </a:xfrm>
        </p:grpSpPr>
        <p:sp>
          <p:nvSpPr>
            <p:cNvPr id="859" name="椭圆 92"/>
            <p:cNvSpPr/>
            <p:nvPr/>
          </p:nvSpPr>
          <p:spPr>
            <a:xfrm>
              <a:off x="5538960" y="4753800"/>
              <a:ext cx="1093320" cy="1094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"/>
            <p:cNvSpPr/>
            <p:nvPr/>
          </p:nvSpPr>
          <p:spPr>
            <a:xfrm>
              <a:off x="5356080" y="4571280"/>
              <a:ext cx="1398600" cy="80316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94"/>
            <p:cNvSpPr/>
            <p:nvPr/>
          </p:nvSpPr>
          <p:spPr>
            <a:xfrm>
              <a:off x="5681520" y="5364720"/>
              <a:ext cx="373680" cy="403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95"/>
            <p:cNvSpPr/>
            <p:nvPr/>
          </p:nvSpPr>
          <p:spPr>
            <a:xfrm>
              <a:off x="6153480" y="5364720"/>
              <a:ext cx="373680" cy="403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5442120" y="4378320"/>
              <a:ext cx="1202400" cy="94500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椭圆 97"/>
            <p:cNvSpPr/>
            <p:nvPr/>
          </p:nvSpPr>
          <p:spPr>
            <a:xfrm>
              <a:off x="5831640" y="5364720"/>
              <a:ext cx="104040" cy="7128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椭圆 98"/>
            <p:cNvSpPr/>
            <p:nvPr/>
          </p:nvSpPr>
          <p:spPr>
            <a:xfrm>
              <a:off x="6275160" y="5364720"/>
              <a:ext cx="104040" cy="7128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8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文本框 1"/>
          <p:cNvSpPr/>
          <p:nvPr/>
        </p:nvSpPr>
        <p:spPr>
          <a:xfrm>
            <a:off x="4366080" y="1266840"/>
            <a:ext cx="3807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800" spc="-1" strike="noStrike">
                <a:solidFill>
                  <a:srgbClr val="ffc000"/>
                </a:solidFill>
                <a:latin typeface="微软雅黑"/>
                <a:ea typeface="方正兰亭黑简体"/>
              </a:rPr>
              <a:t>最后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2"/>
          <p:cNvSpPr/>
          <p:nvPr/>
        </p:nvSpPr>
        <p:spPr>
          <a:xfrm>
            <a:off x="4853160" y="4716360"/>
            <a:ext cx="27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Microsoft JhengHei"/>
                <a:ea typeface="方正兰亭黑简体"/>
              </a:rPr>
              <a:t>新的一年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方正兰亭黑简体"/>
              </a:rPr>
              <a:t>，祝大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矩形 2"/>
          <p:cNvSpPr/>
          <p:nvPr/>
        </p:nvSpPr>
        <p:spPr>
          <a:xfrm>
            <a:off x="6561000" y="1442880"/>
            <a:ext cx="1152720" cy="1152720"/>
          </a:xfrm>
          <a:prstGeom prst="rect">
            <a:avLst/>
          </a:pr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3"/>
          <p:cNvSpPr/>
          <p:nvPr/>
        </p:nvSpPr>
        <p:spPr>
          <a:xfrm>
            <a:off x="7985160" y="1442880"/>
            <a:ext cx="1152360" cy="1152720"/>
          </a:xfrm>
          <a:prstGeom prst="rect">
            <a:avLst/>
          </a:prstGeom>
          <a:solidFill>
            <a:srgbClr val="95c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4"/>
          <p:cNvSpPr/>
          <p:nvPr/>
        </p:nvSpPr>
        <p:spPr>
          <a:xfrm>
            <a:off x="9407520" y="1442880"/>
            <a:ext cx="1152360" cy="1152720"/>
          </a:xfrm>
          <a:prstGeom prst="rect">
            <a:avLst/>
          </a:pr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5"/>
          <p:cNvSpPr/>
          <p:nvPr/>
        </p:nvSpPr>
        <p:spPr>
          <a:xfrm>
            <a:off x="6561000" y="2852640"/>
            <a:ext cx="1152720" cy="11527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6"/>
          <p:cNvSpPr/>
          <p:nvPr/>
        </p:nvSpPr>
        <p:spPr>
          <a:xfrm>
            <a:off x="7985160" y="2852640"/>
            <a:ext cx="1152360" cy="1152720"/>
          </a:xfrm>
          <a:prstGeom prst="rect">
            <a:avLst/>
          </a:prstGeom>
          <a:solidFill>
            <a:srgbClr val="0c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7"/>
          <p:cNvSpPr/>
          <p:nvPr/>
        </p:nvSpPr>
        <p:spPr>
          <a:xfrm>
            <a:off x="9407520" y="2852640"/>
            <a:ext cx="1152360" cy="1152720"/>
          </a:xfrm>
          <a:prstGeom prst="rect">
            <a:avLst/>
          </a:prstGeom>
          <a:solidFill>
            <a:srgbClr val="01b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8"/>
          <p:cNvSpPr/>
          <p:nvPr/>
        </p:nvSpPr>
        <p:spPr>
          <a:xfrm>
            <a:off x="6561000" y="4260960"/>
            <a:ext cx="1152720" cy="1152360"/>
          </a:xfrm>
          <a:prstGeom prst="rect">
            <a:avLst/>
          </a:prstGeom>
          <a:solidFill>
            <a:srgbClr val="c44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9"/>
          <p:cNvSpPr/>
          <p:nvPr/>
        </p:nvSpPr>
        <p:spPr>
          <a:xfrm>
            <a:off x="7985160" y="4260960"/>
            <a:ext cx="1152360" cy="1152360"/>
          </a:xfrm>
          <a:prstGeom prst="rect">
            <a:avLst/>
          </a:prstGeom>
          <a:solidFill>
            <a:srgbClr val="f39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10"/>
          <p:cNvSpPr/>
          <p:nvPr/>
        </p:nvSpPr>
        <p:spPr>
          <a:xfrm>
            <a:off x="9407520" y="4260960"/>
            <a:ext cx="1152360" cy="1152360"/>
          </a:xfrm>
          <a:prstGeom prst="rect">
            <a:avLst/>
          </a:prstGeom>
          <a:solidFill>
            <a:srgbClr val="fdc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5"/>
          <p:cNvSpPr/>
          <p:nvPr/>
        </p:nvSpPr>
        <p:spPr>
          <a:xfrm>
            <a:off x="6835680" y="4533840"/>
            <a:ext cx="630360" cy="638280"/>
          </a:xfrm>
          <a:custGeom>
            <a:avLst/>
            <a:gdLst/>
            <a:ahLst/>
            <a:rect l="l" t="t" r="r" b="b"/>
            <a:pathLst>
              <a:path w="135" h="137">
                <a:moveTo>
                  <a:pt x="67" y="29"/>
                </a:moveTo>
                <a:cubicBezTo>
                  <a:pt x="88" y="37"/>
                  <a:pt x="101" y="51"/>
                  <a:pt x="108" y="71"/>
                </a:cubicBezTo>
                <a:cubicBezTo>
                  <a:pt x="105" y="74"/>
                  <a:pt x="102" y="77"/>
                  <a:pt x="99" y="79"/>
                </a:cubicBezTo>
                <a:cubicBezTo>
                  <a:pt x="85" y="74"/>
                  <a:pt x="78" y="72"/>
                  <a:pt x="76" y="75"/>
                </a:cubicBezTo>
                <a:cubicBezTo>
                  <a:pt x="75" y="77"/>
                  <a:pt x="80" y="81"/>
                  <a:pt x="89" y="88"/>
                </a:cubicBezTo>
                <a:cubicBezTo>
                  <a:pt x="82" y="95"/>
                  <a:pt x="74" y="101"/>
                  <a:pt x="68" y="106"/>
                </a:cubicBezTo>
                <a:cubicBezTo>
                  <a:pt x="56" y="101"/>
                  <a:pt x="49" y="100"/>
                  <a:pt x="48" y="102"/>
                </a:cubicBezTo>
                <a:cubicBezTo>
                  <a:pt x="47" y="104"/>
                  <a:pt x="50" y="108"/>
                  <a:pt x="58" y="113"/>
                </a:cubicBezTo>
                <a:cubicBezTo>
                  <a:pt x="30" y="132"/>
                  <a:pt x="11" y="137"/>
                  <a:pt x="5" y="130"/>
                </a:cubicBezTo>
                <a:cubicBezTo>
                  <a:pt x="0" y="125"/>
                  <a:pt x="1" y="115"/>
                  <a:pt x="9" y="100"/>
                </a:cubicBezTo>
                <a:cubicBezTo>
                  <a:pt x="14" y="107"/>
                  <a:pt x="17" y="111"/>
                  <a:pt x="19" y="110"/>
                </a:cubicBezTo>
                <a:cubicBezTo>
                  <a:pt x="21" y="109"/>
                  <a:pt x="21" y="101"/>
                  <a:pt x="16" y="88"/>
                </a:cubicBezTo>
                <a:cubicBezTo>
                  <a:pt x="22" y="79"/>
                  <a:pt x="30" y="69"/>
                  <a:pt x="40" y="58"/>
                </a:cubicBezTo>
                <a:cubicBezTo>
                  <a:pt x="45" y="67"/>
                  <a:pt x="49" y="71"/>
                  <a:pt x="51" y="70"/>
                </a:cubicBezTo>
                <a:cubicBezTo>
                  <a:pt x="53" y="69"/>
                  <a:pt x="53" y="62"/>
                  <a:pt x="48" y="49"/>
                </a:cubicBezTo>
                <a:cubicBezTo>
                  <a:pt x="54" y="43"/>
                  <a:pt x="60" y="36"/>
                  <a:pt x="67" y="29"/>
                </a:cubicBezTo>
                <a:close/>
                <a:moveTo>
                  <a:pt x="99" y="0"/>
                </a:moveTo>
                <a:cubicBezTo>
                  <a:pt x="85" y="29"/>
                  <a:pt x="85" y="29"/>
                  <a:pt x="85" y="29"/>
                </a:cubicBezTo>
                <a:cubicBezTo>
                  <a:pt x="91" y="32"/>
                  <a:pt x="96" y="37"/>
                  <a:pt x="100" y="41"/>
                </a:cubicBezTo>
                <a:cubicBezTo>
                  <a:pt x="123" y="23"/>
                  <a:pt x="123" y="23"/>
                  <a:pt x="123" y="23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04" y="25"/>
                  <a:pt x="104" y="25"/>
                  <a:pt x="104" y="25"/>
                </a:cubicBezTo>
                <a:cubicBezTo>
                  <a:pt x="113" y="6"/>
                  <a:pt x="113" y="6"/>
                  <a:pt x="113" y="6"/>
                </a:cubicBezTo>
                <a:cubicBezTo>
                  <a:pt x="99" y="0"/>
                  <a:pt x="99" y="0"/>
                  <a:pt x="99" y="0"/>
                </a:cubicBezTo>
                <a:close/>
                <a:moveTo>
                  <a:pt x="110" y="55"/>
                </a:moveTo>
                <a:cubicBezTo>
                  <a:pt x="135" y="42"/>
                  <a:pt x="135" y="42"/>
                  <a:pt x="135" y="42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5" y="46"/>
                  <a:pt x="108" y="50"/>
                  <a:pt x="11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9"/>
          <p:cNvSpPr/>
          <p:nvPr/>
        </p:nvSpPr>
        <p:spPr>
          <a:xfrm>
            <a:off x="8299440" y="4506840"/>
            <a:ext cx="530280" cy="66672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35" y="46"/>
                </a:moveTo>
                <a:cubicBezTo>
                  <a:pt x="37" y="46"/>
                  <a:pt x="40" y="47"/>
                  <a:pt x="42" y="47"/>
                </a:cubicBezTo>
                <a:cubicBezTo>
                  <a:pt x="8" y="54"/>
                  <a:pt x="7" y="123"/>
                  <a:pt x="40" y="133"/>
                </a:cubicBezTo>
                <a:cubicBezTo>
                  <a:pt x="38" y="134"/>
                  <a:pt x="37" y="134"/>
                  <a:pt x="35" y="134"/>
                </a:cubicBezTo>
                <a:cubicBezTo>
                  <a:pt x="16" y="134"/>
                  <a:pt x="0" y="114"/>
                  <a:pt x="0" y="90"/>
                </a:cubicBezTo>
                <a:cubicBezTo>
                  <a:pt x="0" y="66"/>
                  <a:pt x="16" y="46"/>
                  <a:pt x="35" y="46"/>
                </a:cubicBezTo>
                <a:close/>
                <a:moveTo>
                  <a:pt x="62" y="16"/>
                </a:moveTo>
                <a:cubicBezTo>
                  <a:pt x="70" y="0"/>
                  <a:pt x="89" y="8"/>
                  <a:pt x="106" y="15"/>
                </a:cubicBezTo>
                <a:cubicBezTo>
                  <a:pt x="97" y="26"/>
                  <a:pt x="73" y="35"/>
                  <a:pt x="60" y="27"/>
                </a:cubicBezTo>
                <a:cubicBezTo>
                  <a:pt x="57" y="35"/>
                  <a:pt x="51" y="41"/>
                  <a:pt x="46" y="47"/>
                </a:cubicBezTo>
                <a:cubicBezTo>
                  <a:pt x="44" y="45"/>
                  <a:pt x="44" y="45"/>
                  <a:pt x="44" y="45"/>
                </a:cubicBezTo>
                <a:cubicBezTo>
                  <a:pt x="50" y="32"/>
                  <a:pt x="51" y="22"/>
                  <a:pt x="44" y="8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9"/>
                  <a:pt x="61" y="13"/>
                  <a:pt x="62" y="16"/>
                </a:cubicBezTo>
                <a:close/>
                <a:moveTo>
                  <a:pt x="60" y="47"/>
                </a:moveTo>
                <a:cubicBezTo>
                  <a:pt x="41" y="47"/>
                  <a:pt x="25" y="66"/>
                  <a:pt x="25" y="91"/>
                </a:cubicBezTo>
                <a:cubicBezTo>
                  <a:pt x="25" y="115"/>
                  <a:pt x="41" y="134"/>
                  <a:pt x="60" y="134"/>
                </a:cubicBezTo>
                <a:cubicBezTo>
                  <a:pt x="79" y="134"/>
                  <a:pt x="95" y="115"/>
                  <a:pt x="95" y="91"/>
                </a:cubicBezTo>
                <a:cubicBezTo>
                  <a:pt x="95" y="66"/>
                  <a:pt x="79" y="47"/>
                  <a:pt x="60" y="47"/>
                </a:cubicBezTo>
                <a:close/>
                <a:moveTo>
                  <a:pt x="38" y="82"/>
                </a:moveTo>
                <a:cubicBezTo>
                  <a:pt x="53" y="84"/>
                  <a:pt x="53" y="84"/>
                  <a:pt x="53" y="84"/>
                </a:cubicBezTo>
                <a:cubicBezTo>
                  <a:pt x="54" y="79"/>
                  <a:pt x="54" y="72"/>
                  <a:pt x="56" y="65"/>
                </a:cubicBezTo>
                <a:cubicBezTo>
                  <a:pt x="47" y="61"/>
                  <a:pt x="47" y="61"/>
                  <a:pt x="47" y="61"/>
                </a:cubicBezTo>
                <a:cubicBezTo>
                  <a:pt x="42" y="67"/>
                  <a:pt x="39" y="74"/>
                  <a:pt x="38" y="82"/>
                </a:cubicBezTo>
                <a:close/>
                <a:moveTo>
                  <a:pt x="57" y="62"/>
                </a:moveTo>
                <a:cubicBezTo>
                  <a:pt x="50" y="58"/>
                  <a:pt x="50" y="58"/>
                  <a:pt x="50" y="58"/>
                </a:cubicBezTo>
                <a:cubicBezTo>
                  <a:pt x="53" y="56"/>
                  <a:pt x="57" y="55"/>
                  <a:pt x="61" y="55"/>
                </a:cubicBezTo>
                <a:cubicBezTo>
                  <a:pt x="60" y="57"/>
                  <a:pt x="58" y="59"/>
                  <a:pt x="57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3"/>
          <p:cNvSpPr/>
          <p:nvPr/>
        </p:nvSpPr>
        <p:spPr>
          <a:xfrm>
            <a:off x="6818400" y="1714680"/>
            <a:ext cx="622080" cy="620640"/>
          </a:xfrm>
          <a:custGeom>
            <a:avLst/>
            <a:gdLst/>
            <a:ahLst/>
            <a:rect l="l" t="t" r="r" b="b"/>
            <a:pathLst>
              <a:path w="143" h="143">
                <a:moveTo>
                  <a:pt x="27" y="97"/>
                </a:moveTo>
                <a:cubicBezTo>
                  <a:pt x="34" y="85"/>
                  <a:pt x="46" y="80"/>
                  <a:pt x="54" y="82"/>
                </a:cubicBezTo>
                <a:cubicBezTo>
                  <a:pt x="63" y="66"/>
                  <a:pt x="74" y="54"/>
                  <a:pt x="86" y="44"/>
                </a:cubicBezTo>
                <a:cubicBezTo>
                  <a:pt x="88" y="43"/>
                  <a:pt x="89" y="42"/>
                  <a:pt x="90" y="41"/>
                </a:cubicBezTo>
                <a:cubicBezTo>
                  <a:pt x="69" y="50"/>
                  <a:pt x="16" y="42"/>
                  <a:pt x="9" y="24"/>
                </a:cubicBezTo>
                <a:cubicBezTo>
                  <a:pt x="0" y="0"/>
                  <a:pt x="83" y="32"/>
                  <a:pt x="94" y="38"/>
                </a:cubicBezTo>
                <a:cubicBezTo>
                  <a:pt x="103" y="32"/>
                  <a:pt x="107" y="27"/>
                  <a:pt x="124" y="23"/>
                </a:cubicBezTo>
                <a:cubicBezTo>
                  <a:pt x="126" y="31"/>
                  <a:pt x="126" y="31"/>
                  <a:pt x="126" y="31"/>
                </a:cubicBezTo>
                <a:cubicBezTo>
                  <a:pt x="112" y="36"/>
                  <a:pt x="105" y="40"/>
                  <a:pt x="96" y="47"/>
                </a:cubicBezTo>
                <a:cubicBezTo>
                  <a:pt x="96" y="50"/>
                  <a:pt x="96" y="50"/>
                  <a:pt x="96" y="50"/>
                </a:cubicBezTo>
                <a:cubicBezTo>
                  <a:pt x="95" y="60"/>
                  <a:pt x="95" y="72"/>
                  <a:pt x="94" y="84"/>
                </a:cubicBezTo>
                <a:cubicBezTo>
                  <a:pt x="101" y="87"/>
                  <a:pt x="108" y="96"/>
                  <a:pt x="108" y="110"/>
                </a:cubicBezTo>
                <a:cubicBezTo>
                  <a:pt x="107" y="128"/>
                  <a:pt x="97" y="137"/>
                  <a:pt x="88" y="137"/>
                </a:cubicBezTo>
                <a:cubicBezTo>
                  <a:pt x="79" y="137"/>
                  <a:pt x="68" y="126"/>
                  <a:pt x="69" y="110"/>
                </a:cubicBezTo>
                <a:cubicBezTo>
                  <a:pt x="70" y="94"/>
                  <a:pt x="78" y="85"/>
                  <a:pt x="86" y="83"/>
                </a:cubicBezTo>
                <a:cubicBezTo>
                  <a:pt x="86" y="72"/>
                  <a:pt x="87" y="63"/>
                  <a:pt x="87" y="54"/>
                </a:cubicBezTo>
                <a:cubicBezTo>
                  <a:pt x="78" y="63"/>
                  <a:pt x="69" y="73"/>
                  <a:pt x="61" y="86"/>
                </a:cubicBezTo>
                <a:cubicBezTo>
                  <a:pt x="66" y="93"/>
                  <a:pt x="66" y="106"/>
                  <a:pt x="60" y="116"/>
                </a:cubicBezTo>
                <a:cubicBezTo>
                  <a:pt x="53" y="129"/>
                  <a:pt x="37" y="134"/>
                  <a:pt x="30" y="130"/>
                </a:cubicBezTo>
                <a:cubicBezTo>
                  <a:pt x="22" y="125"/>
                  <a:pt x="20" y="109"/>
                  <a:pt x="27" y="97"/>
                </a:cubicBezTo>
                <a:close/>
                <a:moveTo>
                  <a:pt x="111" y="41"/>
                </a:moveTo>
                <a:cubicBezTo>
                  <a:pt x="110" y="51"/>
                  <a:pt x="107" y="143"/>
                  <a:pt x="127" y="127"/>
                </a:cubicBezTo>
                <a:cubicBezTo>
                  <a:pt x="143" y="113"/>
                  <a:pt x="129" y="53"/>
                  <a:pt x="111" y="41"/>
                </a:cubicBezTo>
                <a:close/>
                <a:moveTo>
                  <a:pt x="80" y="126"/>
                </a:moveTo>
                <a:cubicBezTo>
                  <a:pt x="87" y="122"/>
                  <a:pt x="87" y="122"/>
                  <a:pt x="87" y="122"/>
                </a:cubicBezTo>
                <a:cubicBezTo>
                  <a:pt x="86" y="120"/>
                  <a:pt x="85" y="118"/>
                  <a:pt x="84" y="116"/>
                </a:cubicBezTo>
                <a:cubicBezTo>
                  <a:pt x="84" y="114"/>
                  <a:pt x="84" y="113"/>
                  <a:pt x="84" y="111"/>
                </a:cubicBezTo>
                <a:cubicBezTo>
                  <a:pt x="76" y="110"/>
                  <a:pt x="76" y="110"/>
                  <a:pt x="76" y="110"/>
                </a:cubicBezTo>
                <a:cubicBezTo>
                  <a:pt x="75" y="112"/>
                  <a:pt x="76" y="115"/>
                  <a:pt x="76" y="118"/>
                </a:cubicBezTo>
                <a:cubicBezTo>
                  <a:pt x="77" y="121"/>
                  <a:pt x="78" y="124"/>
                  <a:pt x="80" y="126"/>
                </a:cubicBezTo>
                <a:close/>
                <a:moveTo>
                  <a:pt x="30" y="120"/>
                </a:moveTo>
                <a:cubicBezTo>
                  <a:pt x="38" y="118"/>
                  <a:pt x="38" y="118"/>
                  <a:pt x="38" y="118"/>
                </a:cubicBezTo>
                <a:cubicBezTo>
                  <a:pt x="37" y="116"/>
                  <a:pt x="37" y="114"/>
                  <a:pt x="37" y="112"/>
                </a:cubicBezTo>
                <a:cubicBezTo>
                  <a:pt x="37" y="110"/>
                  <a:pt x="37" y="108"/>
                  <a:pt x="38" y="106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29" y="106"/>
                  <a:pt x="29" y="108"/>
                  <a:pt x="28" y="111"/>
                </a:cubicBezTo>
                <a:cubicBezTo>
                  <a:pt x="28" y="114"/>
                  <a:pt x="29" y="117"/>
                  <a:pt x="3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8299440" y="1630440"/>
            <a:ext cx="555480" cy="747720"/>
          </a:xfrm>
          <a:custGeom>
            <a:avLst/>
            <a:gdLst/>
            <a:ahLst/>
            <a:rect l="l" t="t" r="r" b="b"/>
            <a:pathLst>
              <a:path w="121" h="164">
                <a:moveTo>
                  <a:pt x="49" y="155"/>
                </a:moveTo>
                <a:cubicBezTo>
                  <a:pt x="44" y="164"/>
                  <a:pt x="44" y="164"/>
                  <a:pt x="44" y="164"/>
                </a:cubicBezTo>
                <a:cubicBezTo>
                  <a:pt x="12" y="146"/>
                  <a:pt x="12" y="146"/>
                  <a:pt x="12" y="146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4" y="124"/>
                  <a:pt x="0" y="104"/>
                  <a:pt x="9" y="87"/>
                </a:cubicBezTo>
                <a:cubicBezTo>
                  <a:pt x="29" y="51"/>
                  <a:pt x="54" y="70"/>
                  <a:pt x="66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76" y="5"/>
                  <a:pt x="86" y="0"/>
                  <a:pt x="86" y="36"/>
                </a:cubicBezTo>
                <a:cubicBezTo>
                  <a:pt x="103" y="12"/>
                  <a:pt x="109" y="17"/>
                  <a:pt x="97" y="44"/>
                </a:cubicBezTo>
                <a:cubicBezTo>
                  <a:pt x="120" y="30"/>
                  <a:pt x="121" y="40"/>
                  <a:pt x="93" y="66"/>
                </a:cubicBezTo>
                <a:cubicBezTo>
                  <a:pt x="95" y="67"/>
                  <a:pt x="95" y="67"/>
                  <a:pt x="95" y="67"/>
                </a:cubicBezTo>
                <a:cubicBezTo>
                  <a:pt x="87" y="89"/>
                  <a:pt x="113" y="99"/>
                  <a:pt x="93" y="134"/>
                </a:cubicBezTo>
                <a:cubicBezTo>
                  <a:pt x="84" y="149"/>
                  <a:pt x="67" y="157"/>
                  <a:pt x="49" y="155"/>
                </a:cubicBezTo>
                <a:close/>
                <a:moveTo>
                  <a:pt x="21" y="96"/>
                </a:moveTo>
                <a:cubicBezTo>
                  <a:pt x="39" y="106"/>
                  <a:pt x="39" y="106"/>
                  <a:pt x="39" y="106"/>
                </a:cubicBezTo>
                <a:cubicBezTo>
                  <a:pt x="42" y="100"/>
                  <a:pt x="46" y="92"/>
                  <a:pt x="52" y="85"/>
                </a:cubicBezTo>
                <a:cubicBezTo>
                  <a:pt x="43" y="76"/>
                  <a:pt x="43" y="76"/>
                  <a:pt x="43" y="76"/>
                </a:cubicBezTo>
                <a:cubicBezTo>
                  <a:pt x="34" y="79"/>
                  <a:pt x="26" y="87"/>
                  <a:pt x="21" y="96"/>
                </a:cubicBezTo>
                <a:close/>
                <a:moveTo>
                  <a:pt x="55" y="81"/>
                </a:moveTo>
                <a:cubicBezTo>
                  <a:pt x="58" y="79"/>
                  <a:pt x="61" y="77"/>
                  <a:pt x="64" y="76"/>
                </a:cubicBezTo>
                <a:cubicBezTo>
                  <a:pt x="59" y="73"/>
                  <a:pt x="54" y="73"/>
                  <a:pt x="49" y="74"/>
                </a:cubicBezTo>
                <a:lnTo>
                  <a:pt x="55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1"/>
          <p:cNvSpPr/>
          <p:nvPr/>
        </p:nvSpPr>
        <p:spPr>
          <a:xfrm>
            <a:off x="6824520" y="3214800"/>
            <a:ext cx="627120" cy="514080"/>
          </a:xfrm>
          <a:custGeom>
            <a:avLst/>
            <a:gdLst/>
            <a:ahLst/>
            <a:rect l="l" t="t" r="r" b="b"/>
            <a:pathLst>
              <a:path w="138" h="113">
                <a:moveTo>
                  <a:pt x="51" y="18"/>
                </a:moveTo>
                <a:cubicBezTo>
                  <a:pt x="53" y="19"/>
                  <a:pt x="54" y="19"/>
                  <a:pt x="55" y="20"/>
                </a:cubicBezTo>
                <a:cubicBezTo>
                  <a:pt x="49" y="8"/>
                  <a:pt x="43" y="5"/>
                  <a:pt x="25" y="3"/>
                </a:cubicBezTo>
                <a:cubicBezTo>
                  <a:pt x="43" y="1"/>
                  <a:pt x="55" y="1"/>
                  <a:pt x="63" y="11"/>
                </a:cubicBezTo>
                <a:cubicBezTo>
                  <a:pt x="64" y="4"/>
                  <a:pt x="64" y="4"/>
                  <a:pt x="64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12"/>
                  <a:pt x="72" y="12"/>
                  <a:pt x="72" y="12"/>
                </a:cubicBezTo>
                <a:cubicBezTo>
                  <a:pt x="80" y="1"/>
                  <a:pt x="92" y="0"/>
                  <a:pt x="110" y="3"/>
                </a:cubicBezTo>
                <a:cubicBezTo>
                  <a:pt x="93" y="5"/>
                  <a:pt x="87" y="8"/>
                  <a:pt x="80" y="20"/>
                </a:cubicBezTo>
                <a:cubicBezTo>
                  <a:pt x="82" y="20"/>
                  <a:pt x="84" y="19"/>
                  <a:pt x="87" y="18"/>
                </a:cubicBezTo>
                <a:cubicBezTo>
                  <a:pt x="104" y="13"/>
                  <a:pt x="117" y="24"/>
                  <a:pt x="123" y="38"/>
                </a:cubicBezTo>
                <a:cubicBezTo>
                  <a:pt x="138" y="74"/>
                  <a:pt x="108" y="106"/>
                  <a:pt x="73" y="110"/>
                </a:cubicBezTo>
                <a:cubicBezTo>
                  <a:pt x="52" y="113"/>
                  <a:pt x="29" y="103"/>
                  <a:pt x="15" y="77"/>
                </a:cubicBezTo>
                <a:cubicBezTo>
                  <a:pt x="0" y="50"/>
                  <a:pt x="17" y="7"/>
                  <a:pt x="51" y="18"/>
                </a:cubicBezTo>
                <a:close/>
                <a:moveTo>
                  <a:pt x="30" y="32"/>
                </a:moveTo>
                <a:cubicBezTo>
                  <a:pt x="27" y="40"/>
                  <a:pt x="25" y="51"/>
                  <a:pt x="26" y="59"/>
                </a:cubicBezTo>
                <a:cubicBezTo>
                  <a:pt x="37" y="60"/>
                  <a:pt x="37" y="60"/>
                  <a:pt x="37" y="60"/>
                </a:cubicBezTo>
                <a:cubicBezTo>
                  <a:pt x="39" y="52"/>
                  <a:pt x="43" y="44"/>
                  <a:pt x="46" y="39"/>
                </a:cubicBezTo>
                <a:cubicBezTo>
                  <a:pt x="30" y="32"/>
                  <a:pt x="30" y="32"/>
                  <a:pt x="30" y="32"/>
                </a:cubicBezTo>
                <a:close/>
                <a:moveTo>
                  <a:pt x="36" y="64"/>
                </a:moveTo>
                <a:cubicBezTo>
                  <a:pt x="28" y="64"/>
                  <a:pt x="28" y="64"/>
                  <a:pt x="28" y="64"/>
                </a:cubicBezTo>
                <a:cubicBezTo>
                  <a:pt x="29" y="68"/>
                  <a:pt x="32" y="72"/>
                  <a:pt x="36" y="74"/>
                </a:cubicBezTo>
                <a:cubicBezTo>
                  <a:pt x="35" y="71"/>
                  <a:pt x="35" y="68"/>
                  <a:pt x="36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5"/>
          <p:cNvSpPr/>
          <p:nvPr/>
        </p:nvSpPr>
        <p:spPr>
          <a:xfrm>
            <a:off x="8197920" y="3182760"/>
            <a:ext cx="711000" cy="567000"/>
          </a:xfrm>
          <a:custGeom>
            <a:avLst/>
            <a:gdLst/>
            <a:ahLst/>
            <a:rect l="l" t="t" r="r" b="b"/>
            <a:pathLst>
              <a:path w="159" h="127">
                <a:moveTo>
                  <a:pt x="82" y="5"/>
                </a:moveTo>
                <a:cubicBezTo>
                  <a:pt x="86" y="10"/>
                  <a:pt x="93" y="13"/>
                  <a:pt x="100" y="17"/>
                </a:cubicBezTo>
                <a:cubicBezTo>
                  <a:pt x="159" y="49"/>
                  <a:pt x="141" y="106"/>
                  <a:pt x="91" y="113"/>
                </a:cubicBezTo>
                <a:cubicBezTo>
                  <a:pt x="91" y="113"/>
                  <a:pt x="91" y="114"/>
                  <a:pt x="91" y="114"/>
                </a:cubicBezTo>
                <a:cubicBezTo>
                  <a:pt x="93" y="117"/>
                  <a:pt x="95" y="120"/>
                  <a:pt x="96" y="123"/>
                </a:cubicBezTo>
                <a:cubicBezTo>
                  <a:pt x="88" y="126"/>
                  <a:pt x="88" y="126"/>
                  <a:pt x="88" y="126"/>
                </a:cubicBezTo>
                <a:cubicBezTo>
                  <a:pt x="88" y="123"/>
                  <a:pt x="87" y="120"/>
                  <a:pt x="85" y="118"/>
                </a:cubicBezTo>
                <a:cubicBezTo>
                  <a:pt x="84" y="116"/>
                  <a:pt x="83" y="115"/>
                  <a:pt x="82" y="114"/>
                </a:cubicBezTo>
                <a:cubicBezTo>
                  <a:pt x="81" y="114"/>
                  <a:pt x="81" y="114"/>
                  <a:pt x="80" y="114"/>
                </a:cubicBezTo>
                <a:cubicBezTo>
                  <a:pt x="80" y="114"/>
                  <a:pt x="80" y="115"/>
                  <a:pt x="81" y="116"/>
                </a:cubicBezTo>
                <a:cubicBezTo>
                  <a:pt x="81" y="118"/>
                  <a:pt x="82" y="121"/>
                  <a:pt x="84" y="124"/>
                </a:cubicBezTo>
                <a:cubicBezTo>
                  <a:pt x="77" y="127"/>
                  <a:pt x="77" y="127"/>
                  <a:pt x="77" y="127"/>
                </a:cubicBezTo>
                <a:cubicBezTo>
                  <a:pt x="76" y="124"/>
                  <a:pt x="74" y="121"/>
                  <a:pt x="73" y="118"/>
                </a:cubicBezTo>
                <a:cubicBezTo>
                  <a:pt x="73" y="116"/>
                  <a:pt x="73" y="115"/>
                  <a:pt x="73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5"/>
                  <a:pt x="72" y="116"/>
                  <a:pt x="71" y="117"/>
                </a:cubicBezTo>
                <a:cubicBezTo>
                  <a:pt x="71" y="120"/>
                  <a:pt x="71" y="123"/>
                  <a:pt x="71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3" y="123"/>
                  <a:pt x="63" y="120"/>
                  <a:pt x="64" y="116"/>
                </a:cubicBezTo>
                <a:cubicBezTo>
                  <a:pt x="64" y="115"/>
                  <a:pt x="64" y="114"/>
                  <a:pt x="65" y="113"/>
                </a:cubicBezTo>
                <a:cubicBezTo>
                  <a:pt x="64" y="115"/>
                  <a:pt x="63" y="116"/>
                  <a:pt x="62" y="117"/>
                </a:cubicBezTo>
                <a:cubicBezTo>
                  <a:pt x="61" y="119"/>
                  <a:pt x="60" y="122"/>
                  <a:pt x="59" y="125"/>
                </a:cubicBezTo>
                <a:cubicBezTo>
                  <a:pt x="52" y="123"/>
                  <a:pt x="52" y="123"/>
                  <a:pt x="52" y="123"/>
                </a:cubicBezTo>
                <a:cubicBezTo>
                  <a:pt x="53" y="119"/>
                  <a:pt x="54" y="116"/>
                  <a:pt x="56" y="113"/>
                </a:cubicBezTo>
                <a:cubicBezTo>
                  <a:pt x="56" y="112"/>
                  <a:pt x="57" y="112"/>
                  <a:pt x="57" y="111"/>
                </a:cubicBezTo>
                <a:cubicBezTo>
                  <a:pt x="10" y="98"/>
                  <a:pt x="0" y="39"/>
                  <a:pt x="61" y="12"/>
                </a:cubicBezTo>
                <a:cubicBezTo>
                  <a:pt x="67" y="9"/>
                  <a:pt x="72" y="7"/>
                  <a:pt x="74" y="5"/>
                </a:cubicBezTo>
                <a:cubicBezTo>
                  <a:pt x="78" y="0"/>
                  <a:pt x="78" y="0"/>
                  <a:pt x="78" y="0"/>
                </a:cubicBezTo>
                <a:cubicBezTo>
                  <a:pt x="82" y="5"/>
                  <a:pt x="82" y="5"/>
                  <a:pt x="82" y="5"/>
                </a:cubicBezTo>
                <a:close/>
                <a:moveTo>
                  <a:pt x="96" y="99"/>
                </a:moveTo>
                <a:cubicBezTo>
                  <a:pt x="102" y="92"/>
                  <a:pt x="106" y="86"/>
                  <a:pt x="108" y="80"/>
                </a:cubicBezTo>
                <a:cubicBezTo>
                  <a:pt x="111" y="73"/>
                  <a:pt x="112" y="65"/>
                  <a:pt x="111" y="59"/>
                </a:cubicBezTo>
                <a:cubicBezTo>
                  <a:pt x="110" y="52"/>
                  <a:pt x="108" y="46"/>
                  <a:pt x="104" y="42"/>
                </a:cubicBezTo>
                <a:cubicBezTo>
                  <a:pt x="101" y="37"/>
                  <a:pt x="97" y="33"/>
                  <a:pt x="91" y="29"/>
                </a:cubicBezTo>
                <a:cubicBezTo>
                  <a:pt x="89" y="28"/>
                  <a:pt x="86" y="26"/>
                  <a:pt x="84" y="24"/>
                </a:cubicBezTo>
                <a:cubicBezTo>
                  <a:pt x="84" y="24"/>
                  <a:pt x="83" y="24"/>
                  <a:pt x="83" y="23"/>
                </a:cubicBezTo>
                <a:cubicBezTo>
                  <a:pt x="84" y="26"/>
                  <a:pt x="86" y="28"/>
                  <a:pt x="88" y="31"/>
                </a:cubicBezTo>
                <a:cubicBezTo>
                  <a:pt x="93" y="39"/>
                  <a:pt x="100" y="48"/>
                  <a:pt x="100" y="67"/>
                </a:cubicBezTo>
                <a:cubicBezTo>
                  <a:pt x="100" y="73"/>
                  <a:pt x="99" y="81"/>
                  <a:pt x="96" y="88"/>
                </a:cubicBezTo>
                <a:cubicBezTo>
                  <a:pt x="94" y="93"/>
                  <a:pt x="92" y="97"/>
                  <a:pt x="90" y="101"/>
                </a:cubicBezTo>
                <a:cubicBezTo>
                  <a:pt x="92" y="100"/>
                  <a:pt x="94" y="99"/>
                  <a:pt x="96" y="99"/>
                </a:cubicBezTo>
                <a:close/>
                <a:moveTo>
                  <a:pt x="84" y="102"/>
                </a:moveTo>
                <a:cubicBezTo>
                  <a:pt x="88" y="97"/>
                  <a:pt x="90" y="92"/>
                  <a:pt x="92" y="87"/>
                </a:cubicBezTo>
                <a:cubicBezTo>
                  <a:pt x="95" y="80"/>
                  <a:pt x="97" y="73"/>
                  <a:pt x="97" y="67"/>
                </a:cubicBezTo>
                <a:cubicBezTo>
                  <a:pt x="96" y="49"/>
                  <a:pt x="90" y="40"/>
                  <a:pt x="85" y="33"/>
                </a:cubicBezTo>
                <a:cubicBezTo>
                  <a:pt x="82" y="29"/>
                  <a:pt x="79" y="25"/>
                  <a:pt x="78" y="21"/>
                </a:cubicBezTo>
                <a:cubicBezTo>
                  <a:pt x="76" y="25"/>
                  <a:pt x="74" y="29"/>
                  <a:pt x="71" y="33"/>
                </a:cubicBezTo>
                <a:cubicBezTo>
                  <a:pt x="65" y="40"/>
                  <a:pt x="59" y="49"/>
                  <a:pt x="59" y="67"/>
                </a:cubicBezTo>
                <a:cubicBezTo>
                  <a:pt x="59" y="73"/>
                  <a:pt x="60" y="80"/>
                  <a:pt x="63" y="87"/>
                </a:cubicBezTo>
                <a:cubicBezTo>
                  <a:pt x="65" y="92"/>
                  <a:pt x="68" y="97"/>
                  <a:pt x="71" y="102"/>
                </a:cubicBezTo>
                <a:cubicBezTo>
                  <a:pt x="73" y="102"/>
                  <a:pt x="75" y="102"/>
                  <a:pt x="78" y="102"/>
                </a:cubicBezTo>
                <a:cubicBezTo>
                  <a:pt x="80" y="102"/>
                  <a:pt x="82" y="102"/>
                  <a:pt x="84" y="102"/>
                </a:cubicBezTo>
                <a:close/>
                <a:moveTo>
                  <a:pt x="66" y="101"/>
                </a:moveTo>
                <a:cubicBezTo>
                  <a:pt x="63" y="97"/>
                  <a:pt x="61" y="93"/>
                  <a:pt x="59" y="88"/>
                </a:cubicBezTo>
                <a:cubicBezTo>
                  <a:pt x="57" y="81"/>
                  <a:pt x="55" y="73"/>
                  <a:pt x="55" y="67"/>
                </a:cubicBezTo>
                <a:cubicBezTo>
                  <a:pt x="55" y="48"/>
                  <a:pt x="62" y="39"/>
                  <a:pt x="68" y="31"/>
                </a:cubicBezTo>
                <a:cubicBezTo>
                  <a:pt x="69" y="28"/>
                  <a:pt x="71" y="26"/>
                  <a:pt x="72" y="23"/>
                </a:cubicBezTo>
                <a:cubicBezTo>
                  <a:pt x="72" y="24"/>
                  <a:pt x="72" y="24"/>
                  <a:pt x="71" y="24"/>
                </a:cubicBezTo>
                <a:cubicBezTo>
                  <a:pt x="69" y="26"/>
                  <a:pt x="67" y="28"/>
                  <a:pt x="64" y="29"/>
                </a:cubicBezTo>
                <a:cubicBezTo>
                  <a:pt x="59" y="33"/>
                  <a:pt x="54" y="37"/>
                  <a:pt x="51" y="42"/>
                </a:cubicBezTo>
                <a:cubicBezTo>
                  <a:pt x="48" y="46"/>
                  <a:pt x="46" y="52"/>
                  <a:pt x="45" y="59"/>
                </a:cubicBezTo>
                <a:cubicBezTo>
                  <a:pt x="44" y="65"/>
                  <a:pt x="44" y="73"/>
                  <a:pt x="47" y="80"/>
                </a:cubicBezTo>
                <a:cubicBezTo>
                  <a:pt x="49" y="86"/>
                  <a:pt x="53" y="92"/>
                  <a:pt x="59" y="98"/>
                </a:cubicBezTo>
                <a:cubicBezTo>
                  <a:pt x="61" y="99"/>
                  <a:pt x="63" y="100"/>
                  <a:pt x="66" y="101"/>
                </a:cubicBezTo>
                <a:close/>
                <a:moveTo>
                  <a:pt x="50" y="93"/>
                </a:moveTo>
                <a:cubicBezTo>
                  <a:pt x="47" y="89"/>
                  <a:pt x="45" y="85"/>
                  <a:pt x="44" y="81"/>
                </a:cubicBezTo>
                <a:cubicBezTo>
                  <a:pt x="41" y="73"/>
                  <a:pt x="40" y="65"/>
                  <a:pt x="41" y="58"/>
                </a:cubicBezTo>
                <a:cubicBezTo>
                  <a:pt x="42" y="51"/>
                  <a:pt x="44" y="45"/>
                  <a:pt x="48" y="40"/>
                </a:cubicBezTo>
                <a:cubicBezTo>
                  <a:pt x="51" y="34"/>
                  <a:pt x="56" y="30"/>
                  <a:pt x="62" y="26"/>
                </a:cubicBezTo>
                <a:cubicBezTo>
                  <a:pt x="64" y="25"/>
                  <a:pt x="67" y="23"/>
                  <a:pt x="69" y="21"/>
                </a:cubicBezTo>
                <a:cubicBezTo>
                  <a:pt x="70" y="21"/>
                  <a:pt x="70" y="20"/>
                  <a:pt x="71" y="20"/>
                </a:cubicBezTo>
                <a:cubicBezTo>
                  <a:pt x="69" y="21"/>
                  <a:pt x="67" y="21"/>
                  <a:pt x="66" y="22"/>
                </a:cubicBezTo>
                <a:cubicBezTo>
                  <a:pt x="52" y="29"/>
                  <a:pt x="33" y="37"/>
                  <a:pt x="33" y="61"/>
                </a:cubicBezTo>
                <a:cubicBezTo>
                  <a:pt x="33" y="61"/>
                  <a:pt x="33" y="61"/>
                  <a:pt x="33" y="61"/>
                </a:cubicBezTo>
                <a:cubicBezTo>
                  <a:pt x="33" y="73"/>
                  <a:pt x="38" y="83"/>
                  <a:pt x="46" y="90"/>
                </a:cubicBezTo>
                <a:cubicBezTo>
                  <a:pt x="47" y="91"/>
                  <a:pt x="48" y="92"/>
                  <a:pt x="50" y="93"/>
                </a:cubicBezTo>
                <a:close/>
                <a:moveTo>
                  <a:pt x="94" y="27"/>
                </a:moveTo>
                <a:cubicBezTo>
                  <a:pt x="100" y="31"/>
                  <a:pt x="104" y="35"/>
                  <a:pt x="108" y="40"/>
                </a:cubicBezTo>
                <a:cubicBezTo>
                  <a:pt x="111" y="45"/>
                  <a:pt x="113" y="51"/>
                  <a:pt x="114" y="58"/>
                </a:cubicBezTo>
                <a:cubicBezTo>
                  <a:pt x="115" y="65"/>
                  <a:pt x="115" y="73"/>
                  <a:pt x="112" y="81"/>
                </a:cubicBezTo>
                <a:cubicBezTo>
                  <a:pt x="110" y="85"/>
                  <a:pt x="108" y="89"/>
                  <a:pt x="105" y="94"/>
                </a:cubicBezTo>
                <a:cubicBezTo>
                  <a:pt x="107" y="93"/>
                  <a:pt x="108" y="91"/>
                  <a:pt x="110" y="90"/>
                </a:cubicBezTo>
                <a:cubicBezTo>
                  <a:pt x="118" y="83"/>
                  <a:pt x="123" y="73"/>
                  <a:pt x="123" y="61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43"/>
                  <a:pt x="108" y="34"/>
                  <a:pt x="9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9"/>
          <p:cNvSpPr/>
          <p:nvPr/>
        </p:nvSpPr>
        <p:spPr>
          <a:xfrm>
            <a:off x="9648720" y="4535640"/>
            <a:ext cx="671760" cy="637920"/>
          </a:xfrm>
          <a:custGeom>
            <a:avLst/>
            <a:gdLst/>
            <a:ahLst/>
            <a:rect l="l" t="t" r="r" b="b"/>
            <a:pathLst>
              <a:path w="140" h="133">
                <a:moveTo>
                  <a:pt x="19" y="7"/>
                </a:moveTo>
                <a:cubicBezTo>
                  <a:pt x="26" y="0"/>
                  <a:pt x="42" y="4"/>
                  <a:pt x="59" y="14"/>
                </a:cubicBezTo>
                <a:cubicBezTo>
                  <a:pt x="66" y="18"/>
                  <a:pt x="74" y="24"/>
                  <a:pt x="81" y="30"/>
                </a:cubicBezTo>
                <a:cubicBezTo>
                  <a:pt x="82" y="21"/>
                  <a:pt x="85" y="13"/>
                  <a:pt x="91" y="5"/>
                </a:cubicBezTo>
                <a:cubicBezTo>
                  <a:pt x="95" y="20"/>
                  <a:pt x="98" y="27"/>
                  <a:pt x="107" y="39"/>
                </a:cubicBezTo>
                <a:cubicBezTo>
                  <a:pt x="119" y="56"/>
                  <a:pt x="140" y="81"/>
                  <a:pt x="138" y="93"/>
                </a:cubicBezTo>
                <a:cubicBezTo>
                  <a:pt x="137" y="98"/>
                  <a:pt x="136" y="101"/>
                  <a:pt x="134" y="105"/>
                </a:cubicBezTo>
                <a:cubicBezTo>
                  <a:pt x="134" y="110"/>
                  <a:pt x="136" y="115"/>
                  <a:pt x="140" y="121"/>
                </a:cubicBezTo>
                <a:cubicBezTo>
                  <a:pt x="135" y="125"/>
                  <a:pt x="131" y="129"/>
                  <a:pt x="126" y="133"/>
                </a:cubicBezTo>
                <a:cubicBezTo>
                  <a:pt x="121" y="128"/>
                  <a:pt x="118" y="127"/>
                  <a:pt x="113" y="127"/>
                </a:cubicBezTo>
                <a:cubicBezTo>
                  <a:pt x="109" y="129"/>
                  <a:pt x="104" y="131"/>
                  <a:pt x="97" y="130"/>
                </a:cubicBezTo>
                <a:cubicBezTo>
                  <a:pt x="85" y="129"/>
                  <a:pt x="56" y="100"/>
                  <a:pt x="37" y="83"/>
                </a:cubicBezTo>
                <a:cubicBezTo>
                  <a:pt x="24" y="71"/>
                  <a:pt x="16" y="65"/>
                  <a:pt x="0" y="58"/>
                </a:cubicBezTo>
                <a:cubicBezTo>
                  <a:pt x="10" y="56"/>
                  <a:pt x="20" y="55"/>
                  <a:pt x="28" y="56"/>
                </a:cubicBezTo>
                <a:cubicBezTo>
                  <a:pt x="26" y="53"/>
                  <a:pt x="25" y="50"/>
                  <a:pt x="23" y="47"/>
                </a:cubicBezTo>
                <a:cubicBezTo>
                  <a:pt x="15" y="29"/>
                  <a:pt x="11" y="14"/>
                  <a:pt x="19" y="7"/>
                </a:cubicBezTo>
                <a:close/>
                <a:moveTo>
                  <a:pt x="84" y="68"/>
                </a:moveTo>
                <a:cubicBezTo>
                  <a:pt x="80" y="72"/>
                  <a:pt x="80" y="72"/>
                  <a:pt x="80" y="72"/>
                </a:cubicBezTo>
                <a:cubicBezTo>
                  <a:pt x="88" y="79"/>
                  <a:pt x="88" y="79"/>
                  <a:pt x="88" y="79"/>
                </a:cubicBezTo>
                <a:cubicBezTo>
                  <a:pt x="92" y="75"/>
                  <a:pt x="92" y="75"/>
                  <a:pt x="92" y="75"/>
                </a:cubicBezTo>
                <a:cubicBezTo>
                  <a:pt x="84" y="68"/>
                  <a:pt x="84" y="68"/>
                  <a:pt x="84" y="68"/>
                </a:cubicBezTo>
                <a:close/>
                <a:moveTo>
                  <a:pt x="32" y="16"/>
                </a:moveTo>
                <a:cubicBezTo>
                  <a:pt x="28" y="20"/>
                  <a:pt x="28" y="20"/>
                  <a:pt x="28" y="20"/>
                </a:cubicBezTo>
                <a:cubicBezTo>
                  <a:pt x="35" y="27"/>
                  <a:pt x="35" y="27"/>
                  <a:pt x="35" y="27"/>
                </a:cubicBezTo>
                <a:cubicBezTo>
                  <a:pt x="39" y="24"/>
                  <a:pt x="39" y="24"/>
                  <a:pt x="39" y="24"/>
                </a:cubicBezTo>
                <a:cubicBezTo>
                  <a:pt x="32" y="16"/>
                  <a:pt x="32" y="16"/>
                  <a:pt x="32" y="16"/>
                </a:cubicBezTo>
                <a:close/>
                <a:moveTo>
                  <a:pt x="45" y="23"/>
                </a:moveTo>
                <a:cubicBezTo>
                  <a:pt x="41" y="27"/>
                  <a:pt x="41" y="27"/>
                  <a:pt x="41" y="27"/>
                </a:cubicBezTo>
                <a:cubicBezTo>
                  <a:pt x="48" y="34"/>
                  <a:pt x="48" y="34"/>
                  <a:pt x="48" y="34"/>
                </a:cubicBezTo>
                <a:cubicBezTo>
                  <a:pt x="52" y="31"/>
                  <a:pt x="52" y="31"/>
                  <a:pt x="52" y="31"/>
                </a:cubicBezTo>
                <a:cubicBezTo>
                  <a:pt x="45" y="23"/>
                  <a:pt x="45" y="23"/>
                  <a:pt x="45" y="23"/>
                </a:cubicBezTo>
                <a:close/>
                <a:moveTo>
                  <a:pt x="38" y="30"/>
                </a:moveTo>
                <a:cubicBezTo>
                  <a:pt x="33" y="34"/>
                  <a:pt x="33" y="34"/>
                  <a:pt x="33" y="34"/>
                </a:cubicBezTo>
                <a:cubicBezTo>
                  <a:pt x="41" y="41"/>
                  <a:pt x="41" y="41"/>
                  <a:pt x="41" y="41"/>
                </a:cubicBezTo>
                <a:cubicBezTo>
                  <a:pt x="45" y="38"/>
                  <a:pt x="45" y="38"/>
                  <a:pt x="45" y="3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3" y="44"/>
                </a:moveTo>
                <a:cubicBezTo>
                  <a:pt x="39" y="47"/>
                  <a:pt x="39" y="47"/>
                  <a:pt x="39" y="47"/>
                </a:cubicBezTo>
                <a:cubicBezTo>
                  <a:pt x="46" y="55"/>
                  <a:pt x="46" y="55"/>
                  <a:pt x="46" y="55"/>
                </a:cubicBezTo>
                <a:cubicBezTo>
                  <a:pt x="50" y="52"/>
                  <a:pt x="50" y="52"/>
                  <a:pt x="50" y="52"/>
                </a:cubicBezTo>
                <a:cubicBezTo>
                  <a:pt x="43" y="44"/>
                  <a:pt x="43" y="44"/>
                  <a:pt x="43" y="44"/>
                </a:cubicBezTo>
                <a:close/>
                <a:moveTo>
                  <a:pt x="51" y="37"/>
                </a:moveTo>
                <a:cubicBezTo>
                  <a:pt x="47" y="41"/>
                  <a:pt x="47" y="41"/>
                  <a:pt x="47" y="41"/>
                </a:cubicBezTo>
                <a:cubicBezTo>
                  <a:pt x="54" y="48"/>
                  <a:pt x="54" y="48"/>
                  <a:pt x="54" y="48"/>
                </a:cubicBezTo>
                <a:cubicBezTo>
                  <a:pt x="58" y="45"/>
                  <a:pt x="58" y="45"/>
                  <a:pt x="58" y="45"/>
                </a:cubicBezTo>
                <a:cubicBezTo>
                  <a:pt x="51" y="37"/>
                  <a:pt x="51" y="37"/>
                  <a:pt x="51" y="37"/>
                </a:cubicBezTo>
                <a:close/>
                <a:moveTo>
                  <a:pt x="58" y="29"/>
                </a:moveTo>
                <a:cubicBezTo>
                  <a:pt x="54" y="34"/>
                  <a:pt x="54" y="34"/>
                  <a:pt x="54" y="34"/>
                </a:cubicBezTo>
                <a:cubicBezTo>
                  <a:pt x="62" y="41"/>
                  <a:pt x="62" y="41"/>
                  <a:pt x="62" y="41"/>
                </a:cubicBezTo>
                <a:cubicBezTo>
                  <a:pt x="66" y="36"/>
                  <a:pt x="66" y="36"/>
                  <a:pt x="66" y="36"/>
                </a:cubicBezTo>
                <a:cubicBezTo>
                  <a:pt x="58" y="29"/>
                  <a:pt x="58" y="29"/>
                  <a:pt x="58" y="29"/>
                </a:cubicBezTo>
                <a:close/>
                <a:moveTo>
                  <a:pt x="67" y="62"/>
                </a:moveTo>
                <a:cubicBezTo>
                  <a:pt x="74" y="70"/>
                  <a:pt x="74" y="70"/>
                  <a:pt x="74" y="70"/>
                </a:cubicBezTo>
                <a:cubicBezTo>
                  <a:pt x="72" y="71"/>
                  <a:pt x="72" y="71"/>
                  <a:pt x="72" y="71"/>
                </a:cubicBezTo>
                <a:cubicBezTo>
                  <a:pt x="86" y="80"/>
                  <a:pt x="99" y="94"/>
                  <a:pt x="115" y="112"/>
                </a:cubicBezTo>
                <a:cubicBezTo>
                  <a:pt x="116" y="112"/>
                  <a:pt x="116" y="111"/>
                  <a:pt x="116" y="111"/>
                </a:cubicBezTo>
                <a:cubicBezTo>
                  <a:pt x="118" y="109"/>
                  <a:pt x="119" y="108"/>
                  <a:pt x="121" y="106"/>
                </a:cubicBezTo>
                <a:cubicBezTo>
                  <a:pt x="111" y="95"/>
                  <a:pt x="102" y="86"/>
                  <a:pt x="93" y="78"/>
                </a:cubicBezTo>
                <a:cubicBezTo>
                  <a:pt x="90" y="71"/>
                  <a:pt x="87" y="65"/>
                  <a:pt x="85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76" y="52"/>
                  <a:pt x="76" y="52"/>
                  <a:pt x="76" y="52"/>
                </a:cubicBezTo>
                <a:cubicBezTo>
                  <a:pt x="80" y="48"/>
                  <a:pt x="80" y="48"/>
                  <a:pt x="80" y="48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48"/>
                  <a:pt x="82" y="46"/>
                  <a:pt x="82" y="44"/>
                </a:cubicBezTo>
                <a:cubicBezTo>
                  <a:pt x="72" y="36"/>
                  <a:pt x="62" y="29"/>
                  <a:pt x="53" y="23"/>
                </a:cubicBezTo>
                <a:cubicBezTo>
                  <a:pt x="40" y="16"/>
                  <a:pt x="29" y="12"/>
                  <a:pt x="26" y="14"/>
                </a:cubicBezTo>
                <a:cubicBezTo>
                  <a:pt x="23" y="17"/>
                  <a:pt x="27" y="28"/>
                  <a:pt x="33" y="42"/>
                </a:cubicBezTo>
                <a:cubicBezTo>
                  <a:pt x="36" y="47"/>
                  <a:pt x="39" y="52"/>
                  <a:pt x="42" y="57"/>
                </a:cubicBezTo>
                <a:cubicBezTo>
                  <a:pt x="46" y="58"/>
                  <a:pt x="49" y="59"/>
                  <a:pt x="52" y="60"/>
                </a:cubicBezTo>
                <a:cubicBezTo>
                  <a:pt x="50" y="58"/>
                  <a:pt x="50" y="58"/>
                  <a:pt x="50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61" y="62"/>
                  <a:pt x="61" y="62"/>
                  <a:pt x="61" y="62"/>
                </a:cubicBezTo>
                <a:cubicBezTo>
                  <a:pt x="59" y="63"/>
                  <a:pt x="59" y="63"/>
                  <a:pt x="59" y="63"/>
                </a:cubicBezTo>
                <a:cubicBezTo>
                  <a:pt x="60" y="64"/>
                  <a:pt x="62" y="65"/>
                  <a:pt x="63" y="65"/>
                </a:cubicBezTo>
                <a:cubicBezTo>
                  <a:pt x="67" y="62"/>
                  <a:pt x="67" y="62"/>
                  <a:pt x="67" y="62"/>
                </a:cubicBezTo>
                <a:close/>
                <a:moveTo>
                  <a:pt x="74" y="55"/>
                </a:moveTo>
                <a:cubicBezTo>
                  <a:pt x="70" y="59"/>
                  <a:pt x="70" y="59"/>
                  <a:pt x="70" y="59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62"/>
                  <a:pt x="82" y="62"/>
                  <a:pt x="82" y="62"/>
                </a:cubicBezTo>
                <a:cubicBezTo>
                  <a:pt x="74" y="55"/>
                  <a:pt x="74" y="55"/>
                  <a:pt x="74" y="55"/>
                </a:cubicBezTo>
                <a:close/>
                <a:moveTo>
                  <a:pt x="61" y="48"/>
                </a:moveTo>
                <a:cubicBezTo>
                  <a:pt x="57" y="51"/>
                  <a:pt x="57" y="51"/>
                  <a:pt x="57" y="51"/>
                </a:cubicBezTo>
                <a:cubicBezTo>
                  <a:pt x="64" y="59"/>
                  <a:pt x="64" y="59"/>
                  <a:pt x="64" y="59"/>
                </a:cubicBezTo>
                <a:cubicBezTo>
                  <a:pt x="68" y="55"/>
                  <a:pt x="68" y="55"/>
                  <a:pt x="68" y="55"/>
                </a:cubicBezTo>
                <a:cubicBezTo>
                  <a:pt x="61" y="48"/>
                  <a:pt x="61" y="48"/>
                  <a:pt x="61" y="48"/>
                </a:cubicBezTo>
                <a:close/>
                <a:moveTo>
                  <a:pt x="68" y="41"/>
                </a:moveTo>
                <a:cubicBezTo>
                  <a:pt x="64" y="45"/>
                  <a:pt x="64" y="45"/>
                  <a:pt x="64" y="45"/>
                </a:cubicBezTo>
                <a:cubicBezTo>
                  <a:pt x="71" y="52"/>
                  <a:pt x="71" y="52"/>
                  <a:pt x="71" y="52"/>
                </a:cubicBezTo>
                <a:cubicBezTo>
                  <a:pt x="75" y="48"/>
                  <a:pt x="75" y="48"/>
                  <a:pt x="75" y="48"/>
                </a:cubicBezTo>
                <a:lnTo>
                  <a:pt x="6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3"/>
          <p:cNvSpPr/>
          <p:nvPr/>
        </p:nvSpPr>
        <p:spPr>
          <a:xfrm>
            <a:off x="9671040" y="3084480"/>
            <a:ext cx="568440" cy="692280"/>
          </a:xfrm>
          <a:custGeom>
            <a:avLst/>
            <a:gdLst/>
            <a:ahLst/>
            <a:rect l="l" t="t" r="r" b="b"/>
            <a:pathLst>
              <a:path w="117" h="143">
                <a:moveTo>
                  <a:pt x="59" y="130"/>
                </a:moveTo>
                <a:cubicBezTo>
                  <a:pt x="35" y="143"/>
                  <a:pt x="35" y="130"/>
                  <a:pt x="23" y="112"/>
                </a:cubicBezTo>
                <a:cubicBezTo>
                  <a:pt x="11" y="95"/>
                  <a:pt x="1" y="85"/>
                  <a:pt x="1" y="73"/>
                </a:cubicBezTo>
                <a:cubicBezTo>
                  <a:pt x="0" y="64"/>
                  <a:pt x="3" y="55"/>
                  <a:pt x="11" y="47"/>
                </a:cubicBezTo>
                <a:cubicBezTo>
                  <a:pt x="16" y="42"/>
                  <a:pt x="23" y="38"/>
                  <a:pt x="32" y="37"/>
                </a:cubicBezTo>
                <a:cubicBezTo>
                  <a:pt x="40" y="36"/>
                  <a:pt x="49" y="36"/>
                  <a:pt x="59" y="38"/>
                </a:cubicBezTo>
                <a:cubicBezTo>
                  <a:pt x="68" y="36"/>
                  <a:pt x="77" y="36"/>
                  <a:pt x="85" y="37"/>
                </a:cubicBezTo>
                <a:cubicBezTo>
                  <a:pt x="94" y="38"/>
                  <a:pt x="101" y="42"/>
                  <a:pt x="106" y="47"/>
                </a:cubicBezTo>
                <a:cubicBezTo>
                  <a:pt x="115" y="55"/>
                  <a:pt x="117" y="64"/>
                  <a:pt x="116" y="73"/>
                </a:cubicBezTo>
                <a:cubicBezTo>
                  <a:pt x="116" y="85"/>
                  <a:pt x="98" y="104"/>
                  <a:pt x="91" y="119"/>
                </a:cubicBezTo>
                <a:cubicBezTo>
                  <a:pt x="82" y="135"/>
                  <a:pt x="75" y="139"/>
                  <a:pt x="59" y="130"/>
                </a:cubicBezTo>
                <a:close/>
                <a:moveTo>
                  <a:pt x="73" y="0"/>
                </a:moveTo>
                <a:cubicBezTo>
                  <a:pt x="82" y="15"/>
                  <a:pt x="69" y="25"/>
                  <a:pt x="59" y="34"/>
                </a:cubicBezTo>
                <a:cubicBezTo>
                  <a:pt x="57" y="33"/>
                  <a:pt x="57" y="33"/>
                  <a:pt x="57" y="33"/>
                </a:cubicBezTo>
                <a:cubicBezTo>
                  <a:pt x="63" y="22"/>
                  <a:pt x="65" y="13"/>
                  <a:pt x="58" y="2"/>
                </a:cubicBezTo>
                <a:cubicBezTo>
                  <a:pt x="73" y="0"/>
                  <a:pt x="73" y="0"/>
                  <a:pt x="73" y="0"/>
                </a:cubicBezTo>
                <a:close/>
                <a:moveTo>
                  <a:pt x="56" y="94"/>
                </a:moveTo>
                <a:cubicBezTo>
                  <a:pt x="56" y="94"/>
                  <a:pt x="55" y="77"/>
                  <a:pt x="47" y="76"/>
                </a:cubicBezTo>
                <a:cubicBezTo>
                  <a:pt x="40" y="75"/>
                  <a:pt x="35" y="82"/>
                  <a:pt x="38" y="87"/>
                </a:cubicBezTo>
                <a:cubicBezTo>
                  <a:pt x="40" y="91"/>
                  <a:pt x="56" y="94"/>
                  <a:pt x="56" y="94"/>
                </a:cubicBezTo>
                <a:close/>
                <a:moveTo>
                  <a:pt x="62" y="94"/>
                </a:moveTo>
                <a:cubicBezTo>
                  <a:pt x="62" y="94"/>
                  <a:pt x="78" y="91"/>
                  <a:pt x="80" y="87"/>
                </a:cubicBezTo>
                <a:cubicBezTo>
                  <a:pt x="83" y="82"/>
                  <a:pt x="78" y="75"/>
                  <a:pt x="71" y="76"/>
                </a:cubicBezTo>
                <a:cubicBezTo>
                  <a:pt x="63" y="77"/>
                  <a:pt x="62" y="94"/>
                  <a:pt x="62" y="94"/>
                </a:cubicBezTo>
                <a:close/>
                <a:moveTo>
                  <a:pt x="72" y="118"/>
                </a:moveTo>
                <a:cubicBezTo>
                  <a:pt x="73" y="116"/>
                  <a:pt x="75" y="113"/>
                  <a:pt x="75" y="111"/>
                </a:cubicBezTo>
                <a:cubicBezTo>
                  <a:pt x="79" y="104"/>
                  <a:pt x="83" y="98"/>
                  <a:pt x="88" y="91"/>
                </a:cubicBezTo>
                <a:cubicBezTo>
                  <a:pt x="90" y="88"/>
                  <a:pt x="99" y="76"/>
                  <a:pt x="100" y="72"/>
                </a:cubicBezTo>
                <a:cubicBezTo>
                  <a:pt x="100" y="67"/>
                  <a:pt x="98" y="63"/>
                  <a:pt x="95" y="59"/>
                </a:cubicBezTo>
                <a:cubicBezTo>
                  <a:pt x="91" y="56"/>
                  <a:pt x="87" y="54"/>
                  <a:pt x="82" y="53"/>
                </a:cubicBezTo>
                <a:cubicBezTo>
                  <a:pt x="76" y="52"/>
                  <a:pt x="69" y="53"/>
                  <a:pt x="63" y="55"/>
                </a:cubicBezTo>
                <a:cubicBezTo>
                  <a:pt x="59" y="56"/>
                  <a:pt x="59" y="56"/>
                  <a:pt x="59" y="56"/>
                </a:cubicBezTo>
                <a:cubicBezTo>
                  <a:pt x="55" y="55"/>
                  <a:pt x="55" y="55"/>
                  <a:pt x="55" y="55"/>
                </a:cubicBezTo>
                <a:cubicBezTo>
                  <a:pt x="48" y="53"/>
                  <a:pt x="42" y="52"/>
                  <a:pt x="35" y="53"/>
                </a:cubicBezTo>
                <a:cubicBezTo>
                  <a:pt x="31" y="54"/>
                  <a:pt x="26" y="56"/>
                  <a:pt x="23" y="59"/>
                </a:cubicBezTo>
                <a:cubicBezTo>
                  <a:pt x="19" y="63"/>
                  <a:pt x="17" y="67"/>
                  <a:pt x="18" y="72"/>
                </a:cubicBezTo>
                <a:cubicBezTo>
                  <a:pt x="18" y="78"/>
                  <a:pt x="33" y="97"/>
                  <a:pt x="36" y="103"/>
                </a:cubicBezTo>
                <a:cubicBezTo>
                  <a:pt x="39" y="107"/>
                  <a:pt x="42" y="111"/>
                  <a:pt x="44" y="115"/>
                </a:cubicBezTo>
                <a:cubicBezTo>
                  <a:pt x="44" y="116"/>
                  <a:pt x="45" y="117"/>
                  <a:pt x="46" y="118"/>
                </a:cubicBezTo>
                <a:cubicBezTo>
                  <a:pt x="48" y="117"/>
                  <a:pt x="50" y="116"/>
                  <a:pt x="51" y="115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66" y="115"/>
                  <a:pt x="66" y="115"/>
                  <a:pt x="66" y="115"/>
                </a:cubicBezTo>
                <a:cubicBezTo>
                  <a:pt x="67" y="116"/>
                  <a:pt x="70" y="117"/>
                  <a:pt x="7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37"/>
          <p:cNvSpPr/>
          <p:nvPr/>
        </p:nvSpPr>
        <p:spPr>
          <a:xfrm>
            <a:off x="9734400" y="1692360"/>
            <a:ext cx="471600" cy="684000"/>
          </a:xfrm>
          <a:custGeom>
            <a:avLst/>
            <a:gdLst/>
            <a:ahLst/>
            <a:rect l="l" t="t" r="r" b="b"/>
            <a:pathLst>
              <a:path w="95" h="139">
                <a:moveTo>
                  <a:pt x="46" y="128"/>
                </a:moveTo>
                <a:cubicBezTo>
                  <a:pt x="50" y="132"/>
                  <a:pt x="60" y="139"/>
                  <a:pt x="73" y="133"/>
                </a:cubicBezTo>
                <a:cubicBezTo>
                  <a:pt x="86" y="127"/>
                  <a:pt x="95" y="104"/>
                  <a:pt x="85" y="89"/>
                </a:cubicBezTo>
                <a:cubicBezTo>
                  <a:pt x="75" y="72"/>
                  <a:pt x="74" y="73"/>
                  <a:pt x="71" y="50"/>
                </a:cubicBezTo>
                <a:cubicBezTo>
                  <a:pt x="69" y="41"/>
                  <a:pt x="57" y="37"/>
                  <a:pt x="50" y="40"/>
                </a:cubicBezTo>
                <a:cubicBezTo>
                  <a:pt x="51" y="36"/>
                  <a:pt x="51" y="32"/>
                  <a:pt x="51" y="28"/>
                </a:cubicBezTo>
                <a:cubicBezTo>
                  <a:pt x="64" y="34"/>
                  <a:pt x="87" y="26"/>
                  <a:pt x="95" y="15"/>
                </a:cubicBezTo>
                <a:cubicBezTo>
                  <a:pt x="77" y="8"/>
                  <a:pt x="58" y="0"/>
                  <a:pt x="50" y="18"/>
                </a:cubicBezTo>
                <a:cubicBezTo>
                  <a:pt x="48" y="14"/>
                  <a:pt x="45" y="10"/>
                  <a:pt x="40" y="6"/>
                </a:cubicBezTo>
                <a:cubicBezTo>
                  <a:pt x="30" y="15"/>
                  <a:pt x="30" y="15"/>
                  <a:pt x="30" y="15"/>
                </a:cubicBezTo>
                <a:cubicBezTo>
                  <a:pt x="40" y="22"/>
                  <a:pt x="44" y="30"/>
                  <a:pt x="45" y="42"/>
                </a:cubicBezTo>
                <a:cubicBezTo>
                  <a:pt x="39" y="36"/>
                  <a:pt x="24" y="39"/>
                  <a:pt x="22" y="50"/>
                </a:cubicBezTo>
                <a:cubicBezTo>
                  <a:pt x="18" y="80"/>
                  <a:pt x="13" y="73"/>
                  <a:pt x="7" y="89"/>
                </a:cubicBezTo>
                <a:cubicBezTo>
                  <a:pt x="0" y="105"/>
                  <a:pt x="6" y="127"/>
                  <a:pt x="19" y="133"/>
                </a:cubicBezTo>
                <a:cubicBezTo>
                  <a:pt x="32" y="139"/>
                  <a:pt x="42" y="132"/>
                  <a:pt x="46" y="128"/>
                </a:cubicBezTo>
                <a:close/>
                <a:moveTo>
                  <a:pt x="21" y="125"/>
                </a:moveTo>
                <a:cubicBezTo>
                  <a:pt x="17" y="115"/>
                  <a:pt x="15" y="104"/>
                  <a:pt x="17" y="94"/>
                </a:cubicBezTo>
                <a:cubicBezTo>
                  <a:pt x="29" y="94"/>
                  <a:pt x="29" y="94"/>
                  <a:pt x="29" y="94"/>
                </a:cubicBezTo>
                <a:cubicBezTo>
                  <a:pt x="31" y="102"/>
                  <a:pt x="36" y="111"/>
                  <a:pt x="39" y="118"/>
                </a:cubicBezTo>
                <a:cubicBezTo>
                  <a:pt x="21" y="125"/>
                  <a:pt x="21" y="125"/>
                  <a:pt x="21" y="125"/>
                </a:cubicBezTo>
                <a:close/>
                <a:moveTo>
                  <a:pt x="28" y="88"/>
                </a:moveTo>
                <a:cubicBezTo>
                  <a:pt x="18" y="89"/>
                  <a:pt x="18" y="89"/>
                  <a:pt x="18" y="89"/>
                </a:cubicBezTo>
                <a:cubicBezTo>
                  <a:pt x="20" y="84"/>
                  <a:pt x="23" y="80"/>
                  <a:pt x="28" y="78"/>
                </a:cubicBezTo>
                <a:cubicBezTo>
                  <a:pt x="27" y="81"/>
                  <a:pt x="27" y="84"/>
                  <a:pt x="28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50"/>
          <p:cNvSpPr/>
          <p:nvPr/>
        </p:nvSpPr>
        <p:spPr>
          <a:xfrm>
            <a:off x="219240" y="6840360"/>
            <a:ext cx="11729880" cy="1800"/>
          </a:xfrm>
          <a:prstGeom prst="line">
            <a:avLst/>
          </a:prstGeom>
          <a:ln w="6480">
            <a:solidFill>
              <a:srgbClr val="d8d8d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64"/>
          <p:cNvGrpSpPr/>
          <p:nvPr/>
        </p:nvGrpSpPr>
        <p:grpSpPr>
          <a:xfrm>
            <a:off x="690480" y="2766960"/>
            <a:ext cx="4935240" cy="1312920"/>
            <a:chOff x="690480" y="2766960"/>
            <a:chExt cx="4935240" cy="1312920"/>
          </a:xfrm>
        </p:grpSpPr>
        <p:sp>
          <p:nvSpPr>
            <p:cNvPr id="888" name="文本框 11"/>
            <p:cNvSpPr/>
            <p:nvPr/>
          </p:nvSpPr>
          <p:spPr>
            <a:xfrm>
              <a:off x="1668240" y="2766960"/>
              <a:ext cx="3106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Microsoft JhengHei"/>
                  <a:ea typeface="Microsoft JhengHei"/>
                </a:rPr>
                <a:t>每天吃不同颜色的</a:t>
              </a:r>
              <a:r>
                <a:rPr b="0" lang="zh-CN" sz="8000" spc="-1" strike="noStrike">
                  <a:solidFill>
                    <a:srgbClr val="3b3838"/>
                  </a:solidFill>
                  <a:latin typeface="微软雅黑"/>
                  <a:ea typeface="方正兰亭粗黑简体"/>
                </a:rPr>
                <a:t>蔬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55"/>
            <p:cNvSpPr/>
            <p:nvPr/>
          </p:nvSpPr>
          <p:spPr>
            <a:xfrm>
              <a:off x="726840" y="4053240"/>
              <a:ext cx="489888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58"/>
            <p:cNvSpPr/>
            <p:nvPr/>
          </p:nvSpPr>
          <p:spPr>
            <a:xfrm>
              <a:off x="726840" y="3303000"/>
              <a:ext cx="280476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62"/>
            <p:cNvSpPr/>
            <p:nvPr/>
          </p:nvSpPr>
          <p:spPr>
            <a:xfrm>
              <a:off x="690480" y="2936880"/>
              <a:ext cx="28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bfbfbf"/>
                  </a:solidFill>
                  <a:latin typeface="Microsoft JhengHei"/>
                  <a:ea typeface="微软雅黑"/>
                </a:rPr>
                <a:t>FRUITS </a:t>
              </a:r>
              <a:r>
                <a:rPr b="0" lang="en-US" sz="2000" spc="-1" strike="noStrike">
                  <a:solidFill>
                    <a:srgbClr val="bfbfbf"/>
                  </a:solidFill>
                  <a:latin typeface="Microsoft JhengHei"/>
                  <a:ea typeface="微软雅黑"/>
                </a:rPr>
                <a:t>&amp;</a:t>
              </a:r>
              <a:r>
                <a:rPr b="0" lang="zh-CN" sz="2000" spc="-1" strike="noStrike">
                  <a:solidFill>
                    <a:srgbClr val="bfbfbf"/>
                  </a:solidFill>
                  <a:latin typeface="Microsoft JhengHei"/>
                  <a:ea typeface="微软雅黑"/>
                </a:rPr>
                <a:t> VEGE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直接连接符 33"/>
          <p:cNvSpPr/>
          <p:nvPr/>
        </p:nvSpPr>
        <p:spPr>
          <a:xfrm>
            <a:off x="219240" y="6840360"/>
            <a:ext cx="11729880" cy="1800"/>
          </a:xfrm>
          <a:prstGeom prst="line">
            <a:avLst/>
          </a:prstGeom>
          <a:ln w="6480">
            <a:solidFill>
              <a:srgbClr val="d8d8d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组合 91"/>
          <p:cNvGrpSpPr/>
          <p:nvPr/>
        </p:nvGrpSpPr>
        <p:grpSpPr>
          <a:xfrm>
            <a:off x="1249200" y="1728720"/>
            <a:ext cx="9693360" cy="3909960"/>
            <a:chOff x="1249200" y="1728720"/>
            <a:chExt cx="9693360" cy="3909960"/>
          </a:xfrm>
        </p:grpSpPr>
        <p:grpSp>
          <p:nvGrpSpPr>
            <p:cNvPr id="894" name="组合 34"/>
            <p:cNvGrpSpPr/>
            <p:nvPr/>
          </p:nvGrpSpPr>
          <p:grpSpPr>
            <a:xfrm>
              <a:off x="1249200" y="1728720"/>
              <a:ext cx="9693360" cy="3909960"/>
              <a:chOff x="1249200" y="1728720"/>
              <a:chExt cx="9693360" cy="3909960"/>
            </a:xfrm>
          </p:grpSpPr>
          <p:sp>
            <p:nvSpPr>
              <p:cNvPr id="895" name="矩形 15"/>
              <p:cNvSpPr/>
              <p:nvPr/>
            </p:nvSpPr>
            <p:spPr>
              <a:xfrm>
                <a:off x="1249200" y="1737000"/>
                <a:ext cx="1152720" cy="1152720"/>
              </a:xfrm>
              <a:prstGeom prst="rect">
                <a:avLst/>
              </a:prstGeom>
              <a:solidFill>
                <a:srgbClr val="0d7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矩形 16"/>
              <p:cNvSpPr/>
              <p:nvPr/>
            </p:nvSpPr>
            <p:spPr>
              <a:xfrm>
                <a:off x="2672640" y="1737000"/>
                <a:ext cx="1152720" cy="1152720"/>
              </a:xfrm>
              <a:prstGeom prst="rect">
                <a:avLst/>
              </a:prstGeom>
              <a:solidFill>
                <a:srgbClr val="95c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矩形 17"/>
              <p:cNvSpPr/>
              <p:nvPr/>
            </p:nvSpPr>
            <p:spPr>
              <a:xfrm>
                <a:off x="4096080" y="1737000"/>
                <a:ext cx="1152720" cy="1152720"/>
              </a:xfrm>
              <a:prstGeom prst="rect">
                <a:avLst/>
              </a:prstGeom>
              <a:solidFill>
                <a:srgbClr val="bdd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矩形 18"/>
              <p:cNvSpPr/>
              <p:nvPr/>
            </p:nvSpPr>
            <p:spPr>
              <a:xfrm>
                <a:off x="6942960" y="4485960"/>
                <a:ext cx="1152720" cy="11527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19"/>
              <p:cNvSpPr/>
              <p:nvPr/>
            </p:nvSpPr>
            <p:spPr>
              <a:xfrm>
                <a:off x="8366400" y="4485960"/>
                <a:ext cx="1152720" cy="1152720"/>
              </a:xfrm>
              <a:prstGeom prst="rect">
                <a:avLst/>
              </a:prstGeom>
              <a:solidFill>
                <a:srgbClr val="0c7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0"/>
              <p:cNvSpPr/>
              <p:nvPr/>
            </p:nvSpPr>
            <p:spPr>
              <a:xfrm>
                <a:off x="9789840" y="4485960"/>
                <a:ext cx="1152720" cy="1152720"/>
              </a:xfrm>
              <a:prstGeom prst="rect">
                <a:avLst/>
              </a:prstGeom>
              <a:solidFill>
                <a:srgbClr val="01b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1"/>
              <p:cNvSpPr/>
              <p:nvPr/>
            </p:nvSpPr>
            <p:spPr>
              <a:xfrm>
                <a:off x="5519520" y="1728720"/>
                <a:ext cx="1152720" cy="1152720"/>
              </a:xfrm>
              <a:prstGeom prst="rect">
                <a:avLst/>
              </a:prstGeom>
              <a:solidFill>
                <a:srgbClr val="c442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矩形 22"/>
              <p:cNvSpPr/>
              <p:nvPr/>
            </p:nvSpPr>
            <p:spPr>
              <a:xfrm>
                <a:off x="5519520" y="3107160"/>
                <a:ext cx="1152720" cy="1152720"/>
              </a:xfrm>
              <a:prstGeom prst="rect">
                <a:avLst/>
              </a:prstGeom>
              <a:solidFill>
                <a:srgbClr val="f39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矩形 23"/>
              <p:cNvSpPr/>
              <p:nvPr/>
            </p:nvSpPr>
            <p:spPr>
              <a:xfrm>
                <a:off x="5519520" y="4485960"/>
                <a:ext cx="1152720" cy="1152720"/>
              </a:xfrm>
              <a:prstGeom prst="rect">
                <a:avLst/>
              </a:prstGeom>
              <a:solidFill>
                <a:srgbClr val="fdc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Freeform 5"/>
            <p:cNvSpPr/>
            <p:nvPr/>
          </p:nvSpPr>
          <p:spPr>
            <a:xfrm>
              <a:off x="1487880" y="2027880"/>
              <a:ext cx="698400" cy="63000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26" y="115"/>
                  </a:moveTo>
                  <a:cubicBezTo>
                    <a:pt x="26" y="115"/>
                    <a:pt x="46" y="123"/>
                    <a:pt x="68" y="123"/>
                  </a:cubicBezTo>
                  <a:cubicBezTo>
                    <a:pt x="68" y="123"/>
                    <a:pt x="92" y="122"/>
                    <a:pt x="110" y="116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16" y="43"/>
                    <a:pt x="116" y="43"/>
                    <a:pt x="116" y="43"/>
                  </a:cubicBezTo>
                  <a:cubicBezTo>
                    <a:pt x="116" y="43"/>
                    <a:pt x="118" y="45"/>
                    <a:pt x="120" y="43"/>
                  </a:cubicBezTo>
                  <a:cubicBezTo>
                    <a:pt x="122" y="41"/>
                    <a:pt x="131" y="26"/>
                    <a:pt x="135" y="19"/>
                  </a:cubicBezTo>
                  <a:cubicBezTo>
                    <a:pt x="137" y="16"/>
                    <a:pt x="135" y="16"/>
                    <a:pt x="135" y="16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09" y="0"/>
                    <a:pt x="9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89" y="21"/>
                    <a:pt x="68" y="21"/>
                  </a:cubicBezTo>
                  <a:cubicBezTo>
                    <a:pt x="68" y="21"/>
                    <a:pt x="48" y="19"/>
                    <a:pt x="4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27" y="1"/>
                    <a:pt x="23" y="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0" y="18"/>
                    <a:pt x="2" y="21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3"/>
                    <a:pt x="19" y="45"/>
                    <a:pt x="21" y="42"/>
                  </a:cubicBezTo>
                  <a:cubicBezTo>
                    <a:pt x="34" y="39"/>
                    <a:pt x="34" y="39"/>
                    <a:pt x="34" y="39"/>
                  </a:cubicBezTo>
                  <a:lnTo>
                    <a:pt x="26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"/>
            <p:cNvSpPr/>
            <p:nvPr/>
          </p:nvSpPr>
          <p:spPr>
            <a:xfrm>
              <a:off x="2872800" y="2027880"/>
              <a:ext cx="772920" cy="63000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121" y="53"/>
                  </a:moveTo>
                  <a:cubicBezTo>
                    <a:pt x="121" y="18"/>
                    <a:pt x="121" y="18"/>
                    <a:pt x="121" y="18"/>
                  </a:cubicBezTo>
                  <a:cubicBezTo>
                    <a:pt x="121" y="8"/>
                    <a:pt x="115" y="0"/>
                    <a:pt x="107" y="0"/>
                  </a:cubicBezTo>
                  <a:cubicBezTo>
                    <a:pt x="99" y="0"/>
                    <a:pt x="93" y="8"/>
                    <a:pt x="93" y="18"/>
                  </a:cubicBezTo>
                  <a:cubicBezTo>
                    <a:pt x="93" y="50"/>
                    <a:pt x="93" y="50"/>
                    <a:pt x="93" y="50"/>
                  </a:cubicBezTo>
                  <a:cubicBezTo>
                    <a:pt x="71" y="65"/>
                    <a:pt x="67" y="59"/>
                    <a:pt x="67" y="73"/>
                  </a:cubicBezTo>
                  <a:cubicBezTo>
                    <a:pt x="56" y="73"/>
                    <a:pt x="56" y="73"/>
                    <a:pt x="56" y="73"/>
                  </a:cubicBezTo>
                  <a:cubicBezTo>
                    <a:pt x="56" y="59"/>
                    <a:pt x="51" y="65"/>
                    <a:pt x="30" y="50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8"/>
                    <a:pt x="23" y="0"/>
                    <a:pt x="16" y="0"/>
                  </a:cubicBezTo>
                  <a:cubicBezTo>
                    <a:pt x="8" y="0"/>
                    <a:pt x="1" y="8"/>
                    <a:pt x="1" y="18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60"/>
                    <a:pt x="0" y="67"/>
                    <a:pt x="0" y="73"/>
                  </a:cubicBezTo>
                  <a:cubicBezTo>
                    <a:pt x="0" y="87"/>
                    <a:pt x="11" y="99"/>
                    <a:pt x="26" y="99"/>
                  </a:cubicBezTo>
                  <a:cubicBezTo>
                    <a:pt x="39" y="99"/>
                    <a:pt x="53" y="89"/>
                    <a:pt x="55" y="76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89"/>
                    <a:pt x="83" y="99"/>
                    <a:pt x="97" y="99"/>
                  </a:cubicBezTo>
                  <a:cubicBezTo>
                    <a:pt x="111" y="99"/>
                    <a:pt x="122" y="87"/>
                    <a:pt x="122" y="73"/>
                  </a:cubicBezTo>
                  <a:cubicBezTo>
                    <a:pt x="122" y="67"/>
                    <a:pt x="122" y="60"/>
                    <a:pt x="121" y="53"/>
                  </a:cubicBezTo>
                  <a:moveTo>
                    <a:pt x="5" y="18"/>
                  </a:moveTo>
                  <a:cubicBezTo>
                    <a:pt x="5" y="10"/>
                    <a:pt x="10" y="4"/>
                    <a:pt x="16" y="4"/>
                  </a:cubicBezTo>
                  <a:cubicBezTo>
                    <a:pt x="21" y="4"/>
                    <a:pt x="26" y="10"/>
                    <a:pt x="26" y="18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39"/>
                    <a:pt x="9" y="39"/>
                    <a:pt x="5" y="44"/>
                  </a:cubicBezTo>
                  <a:lnTo>
                    <a:pt x="5" y="18"/>
                  </a:lnTo>
                  <a:close/>
                  <a:moveTo>
                    <a:pt x="97" y="18"/>
                  </a:moveTo>
                  <a:cubicBezTo>
                    <a:pt x="97" y="10"/>
                    <a:pt x="101" y="4"/>
                    <a:pt x="107" y="4"/>
                  </a:cubicBezTo>
                  <a:cubicBezTo>
                    <a:pt x="112" y="4"/>
                    <a:pt x="117" y="10"/>
                    <a:pt x="117" y="18"/>
                  </a:cubicBezTo>
                  <a:cubicBezTo>
                    <a:pt x="117" y="44"/>
                    <a:pt x="117" y="44"/>
                    <a:pt x="117" y="44"/>
                  </a:cubicBezTo>
                  <a:cubicBezTo>
                    <a:pt x="113" y="39"/>
                    <a:pt x="107" y="39"/>
                    <a:pt x="97" y="47"/>
                  </a:cubicBezTo>
                  <a:cubicBezTo>
                    <a:pt x="97" y="47"/>
                    <a:pt x="97" y="47"/>
                    <a:pt x="97" y="47"/>
                  </a:cubicBez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3"/>
            <p:cNvSpPr/>
            <p:nvPr/>
          </p:nvSpPr>
          <p:spPr>
            <a:xfrm>
              <a:off x="4466880" y="1959840"/>
              <a:ext cx="468360" cy="745920"/>
            </a:xfrm>
            <a:custGeom>
              <a:avLst/>
              <a:gdLst/>
              <a:ahLst/>
              <a:rect l="l" t="t" r="r" b="b"/>
              <a:pathLst>
                <a:path w="79" h="128">
                  <a:moveTo>
                    <a:pt x="74" y="46"/>
                  </a:moveTo>
                  <a:cubicBezTo>
                    <a:pt x="74" y="42"/>
                    <a:pt x="74" y="38"/>
                    <a:pt x="73" y="33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3" y="5"/>
                    <a:pt x="69" y="0"/>
                    <a:pt x="65" y="0"/>
                  </a:cubicBezTo>
                  <a:cubicBezTo>
                    <a:pt x="60" y="0"/>
                    <a:pt x="57" y="5"/>
                    <a:pt x="57" y="11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48" y="39"/>
                    <a:pt x="44" y="38"/>
                    <a:pt x="43" y="41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4" y="38"/>
                    <a:pt x="30" y="39"/>
                    <a:pt x="21" y="3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5"/>
                    <a:pt x="17" y="0"/>
                    <a:pt x="13" y="0"/>
                  </a:cubicBezTo>
                  <a:cubicBezTo>
                    <a:pt x="8" y="0"/>
                    <a:pt x="5" y="5"/>
                    <a:pt x="5" y="11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4" y="38"/>
                    <a:pt x="4" y="42"/>
                    <a:pt x="4" y="46"/>
                  </a:cubicBezTo>
                  <a:cubicBezTo>
                    <a:pt x="4" y="52"/>
                    <a:pt x="7" y="58"/>
                    <a:pt x="12" y="60"/>
                  </a:cubicBezTo>
                  <a:cubicBezTo>
                    <a:pt x="0" y="101"/>
                    <a:pt x="15" y="128"/>
                    <a:pt x="15" y="128"/>
                  </a:cubicBezTo>
                  <a:cubicBezTo>
                    <a:pt x="67" y="128"/>
                    <a:pt x="67" y="128"/>
                    <a:pt x="67" y="128"/>
                  </a:cubicBezTo>
                  <a:cubicBezTo>
                    <a:pt x="67" y="128"/>
                    <a:pt x="79" y="100"/>
                    <a:pt x="64" y="61"/>
                  </a:cubicBezTo>
                  <a:cubicBezTo>
                    <a:pt x="70" y="58"/>
                    <a:pt x="74" y="53"/>
                    <a:pt x="74" y="46"/>
                  </a:cubicBezTo>
                  <a:moveTo>
                    <a:pt x="59" y="11"/>
                  </a:moveTo>
                  <a:cubicBezTo>
                    <a:pt x="59" y="6"/>
                    <a:pt x="62" y="2"/>
                    <a:pt x="65" y="2"/>
                  </a:cubicBezTo>
                  <a:cubicBezTo>
                    <a:pt x="68" y="2"/>
                    <a:pt x="71" y="6"/>
                    <a:pt x="71" y="11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69" y="25"/>
                    <a:pt x="65" y="24"/>
                    <a:pt x="59" y="29"/>
                  </a:cubicBezTo>
                  <a:cubicBezTo>
                    <a:pt x="59" y="29"/>
                    <a:pt x="59" y="29"/>
                    <a:pt x="59" y="29"/>
                  </a:cubicBezTo>
                  <a:lnTo>
                    <a:pt x="59" y="11"/>
                  </a:lnTo>
                  <a:close/>
                  <a:moveTo>
                    <a:pt x="7" y="28"/>
                  </a:moveTo>
                  <a:cubicBezTo>
                    <a:pt x="7" y="11"/>
                    <a:pt x="7" y="11"/>
                    <a:pt x="7" y="11"/>
                  </a:cubicBezTo>
                  <a:cubicBezTo>
                    <a:pt x="7" y="6"/>
                    <a:pt x="10" y="2"/>
                    <a:pt x="13" y="2"/>
                  </a:cubicBezTo>
                  <a:cubicBezTo>
                    <a:pt x="16" y="2"/>
                    <a:pt x="19" y="6"/>
                    <a:pt x="19" y="11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3" y="24"/>
                    <a:pt x="9" y="25"/>
                    <a:pt x="7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5742000" y="2153520"/>
              <a:ext cx="720000" cy="50436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115" y="16"/>
                  </a:moveTo>
                  <a:cubicBezTo>
                    <a:pt x="115" y="16"/>
                    <a:pt x="65" y="12"/>
                    <a:pt x="65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8" y="8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8" y="13"/>
                    <a:pt x="115" y="0"/>
                  </a:cubicBezTo>
                  <a:lnTo>
                    <a:pt x="115" y="16"/>
                  </a:lnTo>
                  <a:close/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5697720" y="3377880"/>
              <a:ext cx="798840" cy="69012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95" y="5"/>
                  </a:moveTo>
                  <a:cubicBezTo>
                    <a:pt x="95" y="5"/>
                    <a:pt x="95" y="5"/>
                    <a:pt x="9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4"/>
                    <a:pt x="74" y="4"/>
                    <a:pt x="74" y="3"/>
                  </a:cubicBezTo>
                  <a:cubicBezTo>
                    <a:pt x="74" y="3"/>
                    <a:pt x="75" y="3"/>
                    <a:pt x="75" y="3"/>
                  </a:cubicBezTo>
                  <a:cubicBezTo>
                    <a:pt x="76" y="3"/>
                    <a:pt x="76" y="3"/>
                    <a:pt x="77" y="3"/>
                  </a:cubicBezTo>
                  <a:cubicBezTo>
                    <a:pt x="79" y="3"/>
                    <a:pt x="81" y="2"/>
                    <a:pt x="83" y="1"/>
                  </a:cubicBezTo>
                  <a:cubicBezTo>
                    <a:pt x="83" y="1"/>
                    <a:pt x="83" y="1"/>
                    <a:pt x="83" y="1"/>
                  </a:cubicBezTo>
                  <a:cubicBezTo>
                    <a:pt x="77" y="1"/>
                    <a:pt x="77" y="1"/>
                    <a:pt x="77" y="1"/>
                  </a:cubicBezTo>
                  <a:cubicBezTo>
                    <a:pt x="76" y="1"/>
                    <a:pt x="74" y="0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1"/>
                    <a:pt x="72" y="1"/>
                    <a:pt x="72" y="1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69" y="49"/>
                    <a:pt x="69" y="49"/>
                    <a:pt x="69" y="49"/>
                  </a:cubicBezTo>
                  <a:cubicBezTo>
                    <a:pt x="69" y="55"/>
                    <a:pt x="67" y="60"/>
                    <a:pt x="62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4" y="60"/>
                    <a:pt x="52" y="55"/>
                    <a:pt x="52" y="49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9" y="7"/>
                    <a:pt x="48" y="6"/>
                    <a:pt x="49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7" y="0"/>
                    <a:pt x="45" y="1"/>
                    <a:pt x="43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2"/>
                    <a:pt x="42" y="3"/>
                    <a:pt x="43" y="3"/>
                  </a:cubicBezTo>
                  <a:cubicBezTo>
                    <a:pt x="44" y="3"/>
                    <a:pt x="45" y="3"/>
                    <a:pt x="46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6" y="4"/>
                    <a:pt x="47" y="4"/>
                    <a:pt x="47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6"/>
                    <a:pt x="0" y="24"/>
                    <a:pt x="0" y="74"/>
                  </a:cubicBezTo>
                  <a:cubicBezTo>
                    <a:pt x="15" y="74"/>
                    <a:pt x="15" y="74"/>
                    <a:pt x="15" y="74"/>
                  </a:cubicBezTo>
                  <a:cubicBezTo>
                    <a:pt x="15" y="50"/>
                    <a:pt x="21" y="36"/>
                    <a:pt x="26" y="27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6" y="92"/>
                    <a:pt x="57" y="104"/>
                    <a:pt x="95" y="92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101" y="36"/>
                    <a:pt x="107" y="51"/>
                    <a:pt x="107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121" y="24"/>
                    <a:pt x="96" y="6"/>
                    <a:pt x="95" y="5"/>
                  </a:cubicBezTo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Group 24"/>
            <p:cNvGrpSpPr/>
            <p:nvPr/>
          </p:nvGrpSpPr>
          <p:grpSpPr>
            <a:xfrm>
              <a:off x="5860440" y="4663800"/>
              <a:ext cx="447480" cy="796680"/>
              <a:chOff x="5860440" y="4663800"/>
              <a:chExt cx="447480" cy="796680"/>
            </a:xfrm>
          </p:grpSpPr>
          <p:sp>
            <p:nvSpPr>
              <p:cNvPr id="910" name="Rectangle 25"/>
              <p:cNvSpPr/>
              <p:nvPr/>
            </p:nvSpPr>
            <p:spPr>
              <a:xfrm>
                <a:off x="5911560" y="4663800"/>
                <a:ext cx="338760" cy="50040"/>
              </a:xfrm>
              <a:prstGeom prst="rect">
                <a:avLst/>
              </a:prstGeom>
              <a:solidFill>
                <a:srgbClr val="464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6"/>
              <p:cNvSpPr/>
              <p:nvPr/>
            </p:nvSpPr>
            <p:spPr>
              <a:xfrm>
                <a:off x="5860440" y="4745160"/>
                <a:ext cx="447480" cy="715320"/>
              </a:xfrm>
              <a:custGeom>
                <a:avLst/>
                <a:gdLst/>
                <a:ahLst/>
                <a:rect l="l" t="t" r="r" b="b"/>
                <a:pathLst>
                  <a:path w="428" h="684">
                    <a:moveTo>
                      <a:pt x="263" y="684"/>
                    </a:moveTo>
                    <a:lnTo>
                      <a:pt x="428" y="684"/>
                    </a:lnTo>
                    <a:lnTo>
                      <a:pt x="379" y="78"/>
                    </a:lnTo>
                    <a:lnTo>
                      <a:pt x="379" y="0"/>
                    </a:lnTo>
                    <a:lnTo>
                      <a:pt x="49" y="0"/>
                    </a:lnTo>
                    <a:lnTo>
                      <a:pt x="49" y="66"/>
                    </a:lnTo>
                    <a:lnTo>
                      <a:pt x="0" y="684"/>
                    </a:lnTo>
                    <a:lnTo>
                      <a:pt x="159" y="684"/>
                    </a:lnTo>
                    <a:lnTo>
                      <a:pt x="214" y="78"/>
                    </a:lnTo>
                    <a:lnTo>
                      <a:pt x="263" y="684"/>
                    </a:lnTo>
                    <a:close/>
                    <a:moveTo>
                      <a:pt x="214" y="66"/>
                    </a:moveTo>
                    <a:lnTo>
                      <a:pt x="214" y="66"/>
                    </a:lnTo>
                    <a:lnTo>
                      <a:pt x="208" y="66"/>
                    </a:lnTo>
                    <a:lnTo>
                      <a:pt x="208" y="12"/>
                    </a:lnTo>
                    <a:lnTo>
                      <a:pt x="214" y="12"/>
                    </a:lnTo>
                    <a:lnTo>
                      <a:pt x="214" y="66"/>
                    </a:lnTo>
                    <a:close/>
                  </a:path>
                </a:pathLst>
              </a:custGeom>
              <a:solidFill>
                <a:srgbClr val="464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Freeform 30"/>
            <p:cNvSpPr/>
            <p:nvPr/>
          </p:nvSpPr>
          <p:spPr>
            <a:xfrm>
              <a:off x="7313760" y="4739400"/>
              <a:ext cx="417240" cy="679320"/>
            </a:xfrm>
            <a:custGeom>
              <a:avLst/>
              <a:gdLst/>
              <a:ahLst/>
              <a:rect l="l" t="t" r="r" b="b"/>
              <a:pathLst>
                <a:path w="65" h="108">
                  <a:moveTo>
                    <a:pt x="55" y="24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8" y="24"/>
                    <a:pt x="41" y="24"/>
                  </a:cubicBezTo>
                  <a:cubicBezTo>
                    <a:pt x="33" y="24"/>
                    <a:pt x="28" y="24"/>
                    <a:pt x="22" y="24"/>
                  </a:cubicBezTo>
                  <a:cubicBezTo>
                    <a:pt x="16" y="24"/>
                    <a:pt x="18" y="0"/>
                    <a:pt x="1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8" y="30"/>
                    <a:pt x="0" y="36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56" y="31"/>
                    <a:pt x="55" y="24"/>
                    <a:pt x="5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33"/>
            <p:cNvGrpSpPr/>
            <p:nvPr/>
          </p:nvGrpSpPr>
          <p:grpSpPr>
            <a:xfrm>
              <a:off x="8625960" y="4769280"/>
              <a:ext cx="633600" cy="611640"/>
              <a:chOff x="8625960" y="4769280"/>
              <a:chExt cx="633600" cy="611640"/>
            </a:xfrm>
          </p:grpSpPr>
          <p:sp>
            <p:nvSpPr>
              <p:cNvPr id="914" name="Rectangle 34"/>
              <p:cNvSpPr/>
              <p:nvPr/>
            </p:nvSpPr>
            <p:spPr>
              <a:xfrm>
                <a:off x="8672400" y="4769280"/>
                <a:ext cx="546480" cy="81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5"/>
              <p:cNvSpPr/>
              <p:nvPr/>
            </p:nvSpPr>
            <p:spPr>
              <a:xfrm>
                <a:off x="8625960" y="4889880"/>
                <a:ext cx="317520" cy="491040"/>
              </a:xfrm>
              <a:custGeom>
                <a:avLst/>
                <a:gdLst/>
                <a:ahLst/>
                <a:rect l="l" t="t" r="r" b="b"/>
                <a:pathLst>
                  <a:path w="218" h="337">
                    <a:moveTo>
                      <a:pt x="0" y="337"/>
                    </a:moveTo>
                    <a:lnTo>
                      <a:pt x="186" y="337"/>
                    </a:lnTo>
                    <a:lnTo>
                      <a:pt x="218" y="0"/>
                    </a:lnTo>
                    <a:lnTo>
                      <a:pt x="32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6"/>
              <p:cNvSpPr/>
              <p:nvPr/>
            </p:nvSpPr>
            <p:spPr>
              <a:xfrm>
                <a:off x="8943480" y="4889880"/>
                <a:ext cx="316080" cy="491040"/>
              </a:xfrm>
              <a:custGeom>
                <a:avLst/>
                <a:gdLst/>
                <a:ahLst/>
                <a:rect l="l" t="t" r="r" b="b"/>
                <a:pathLst>
                  <a:path w="217" h="337">
                    <a:moveTo>
                      <a:pt x="189" y="0"/>
                    </a:moveTo>
                    <a:lnTo>
                      <a:pt x="0" y="0"/>
                    </a:lnTo>
                    <a:lnTo>
                      <a:pt x="31" y="337"/>
                    </a:lnTo>
                    <a:lnTo>
                      <a:pt x="217" y="33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39"/>
            <p:cNvGrpSpPr/>
            <p:nvPr/>
          </p:nvGrpSpPr>
          <p:grpSpPr>
            <a:xfrm>
              <a:off x="9964440" y="4771440"/>
              <a:ext cx="799560" cy="689400"/>
              <a:chOff x="9964440" y="4771440"/>
              <a:chExt cx="799560" cy="689400"/>
            </a:xfrm>
          </p:grpSpPr>
          <p:sp>
            <p:nvSpPr>
              <p:cNvPr id="918" name="Freeform 40"/>
              <p:cNvSpPr/>
              <p:nvPr/>
            </p:nvSpPr>
            <p:spPr>
              <a:xfrm>
                <a:off x="9964440" y="4771440"/>
                <a:ext cx="799560" cy="689400"/>
              </a:xfrm>
              <a:custGeom>
                <a:avLst/>
                <a:gdLst/>
                <a:ahLst/>
                <a:rect l="l" t="t" r="r" b="b"/>
                <a:pathLst>
                  <a:path w="118" h="101">
                    <a:moveTo>
                      <a:pt x="93" y="4"/>
                    </a:moveTo>
                    <a:cubicBezTo>
                      <a:pt x="93" y="4"/>
                      <a:pt x="93" y="4"/>
                      <a:pt x="93" y="4"/>
                    </a:cubicBezTo>
                    <a:cubicBezTo>
                      <a:pt x="72" y="4"/>
                      <a:pt x="72" y="4"/>
                      <a:pt x="72" y="4"/>
                    </a:cubicBezTo>
                    <a:cubicBezTo>
                      <a:pt x="72" y="4"/>
                      <a:pt x="72" y="4"/>
                      <a:pt x="72" y="4"/>
                    </a:cubicBezTo>
                    <a:cubicBezTo>
                      <a:pt x="72" y="4"/>
                      <a:pt x="72" y="3"/>
                      <a:pt x="72" y="3"/>
                    </a:cubicBezTo>
                    <a:cubicBezTo>
                      <a:pt x="73" y="3"/>
                      <a:pt x="73" y="3"/>
                      <a:pt x="73" y="3"/>
                    </a:cubicBezTo>
                    <a:cubicBezTo>
                      <a:pt x="74" y="3"/>
                      <a:pt x="74" y="3"/>
                      <a:pt x="75" y="2"/>
                    </a:cubicBezTo>
                    <a:cubicBezTo>
                      <a:pt x="77" y="2"/>
                      <a:pt x="79" y="2"/>
                      <a:pt x="81" y="0"/>
                    </a:cubicBezTo>
                    <a:cubicBezTo>
                      <a:pt x="81" y="0"/>
                      <a:pt x="81" y="0"/>
                      <a:pt x="81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74" y="0"/>
                      <a:pt x="72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70" y="4"/>
                      <a:pt x="70" y="4"/>
                      <a:pt x="70" y="4"/>
                    </a:cubicBezTo>
                    <a:cubicBezTo>
                      <a:pt x="70" y="4"/>
                      <a:pt x="70" y="4"/>
                      <a:pt x="70" y="4"/>
                    </a:cubicBezTo>
                    <a:cubicBezTo>
                      <a:pt x="70" y="4"/>
                      <a:pt x="70" y="4"/>
                      <a:pt x="70" y="4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7" y="48"/>
                      <a:pt x="67" y="48"/>
                      <a:pt x="67" y="48"/>
                    </a:cubicBezTo>
                    <a:cubicBezTo>
                      <a:pt x="67" y="54"/>
                      <a:pt x="65" y="59"/>
                      <a:pt x="59" y="59"/>
                    </a:cubicBezTo>
                    <a:cubicBezTo>
                      <a:pt x="53" y="59"/>
                      <a:pt x="50" y="54"/>
                      <a:pt x="50" y="48"/>
                    </a:cubicBezTo>
                    <a:cubicBezTo>
                      <a:pt x="48" y="7"/>
                      <a:pt x="48" y="7"/>
                      <a:pt x="48" y="7"/>
                    </a:cubicBezTo>
                    <a:cubicBezTo>
                      <a:pt x="48" y="6"/>
                      <a:pt x="47" y="5"/>
                      <a:pt x="47" y="4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6" y="0"/>
                      <a:pt x="44" y="0"/>
                      <a:pt x="42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9" y="2"/>
                      <a:pt x="40" y="2"/>
                      <a:pt x="42" y="2"/>
                    </a:cubicBezTo>
                    <a:cubicBezTo>
                      <a:pt x="43" y="3"/>
                      <a:pt x="44" y="3"/>
                      <a:pt x="45" y="3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3"/>
                      <a:pt x="45" y="4"/>
                      <a:pt x="45" y="4"/>
                    </a:cubicBezTo>
                    <a:cubicBezTo>
                      <a:pt x="45" y="4"/>
                      <a:pt x="45" y="4"/>
                      <a:pt x="45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5" y="5"/>
                      <a:pt x="0" y="22"/>
                      <a:pt x="0" y="72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5" y="49"/>
                      <a:pt x="21" y="34"/>
                      <a:pt x="26" y="26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55" y="101"/>
                      <a:pt x="93" y="89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98" y="34"/>
                      <a:pt x="104" y="49"/>
                      <a:pt x="104" y="72"/>
                    </a:cubicBezTo>
                    <a:cubicBezTo>
                      <a:pt x="118" y="72"/>
                      <a:pt x="118" y="72"/>
                      <a:pt x="118" y="72"/>
                    </a:cubicBezTo>
                    <a:cubicBezTo>
                      <a:pt x="118" y="22"/>
                      <a:pt x="94" y="5"/>
                      <a:pt x="93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Rectangle 41"/>
              <p:cNvSpPr/>
              <p:nvPr/>
            </p:nvSpPr>
            <p:spPr>
              <a:xfrm>
                <a:off x="10329840" y="4771440"/>
                <a:ext cx="61200" cy="2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2"/>
              <p:cNvSpPr/>
              <p:nvPr/>
            </p:nvSpPr>
            <p:spPr>
              <a:xfrm>
                <a:off x="10329840" y="4804920"/>
                <a:ext cx="61200" cy="341280"/>
              </a:xfrm>
              <a:custGeom>
                <a:avLst/>
                <a:gdLst/>
                <a:ahLst/>
                <a:rect l="l" t="t" r="r" b="b"/>
                <a:pathLst>
                  <a:path w="49" h="273">
                    <a:moveTo>
                      <a:pt x="27" y="273"/>
                    </a:moveTo>
                    <a:lnTo>
                      <a:pt x="49" y="218"/>
                    </a:lnTo>
                    <a:lnTo>
                      <a:pt x="22" y="0"/>
                    </a:lnTo>
                    <a:lnTo>
                      <a:pt x="0" y="218"/>
                    </a:lnTo>
                    <a:lnTo>
                      <a:pt x="22" y="273"/>
                    </a:lnTo>
                    <a:lnTo>
                      <a:pt x="27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文本框 83"/>
          <p:cNvSpPr/>
          <p:nvPr/>
        </p:nvSpPr>
        <p:spPr>
          <a:xfrm>
            <a:off x="8630280" y="1670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838"/>
                </a:solidFill>
                <a:latin typeface="Microsoft JhengHei"/>
                <a:ea typeface="Microsoft JhengHei"/>
              </a:rPr>
              <a:t>每天穿不同颜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84"/>
          <p:cNvSpPr/>
          <p:nvPr/>
        </p:nvSpPr>
        <p:spPr>
          <a:xfrm>
            <a:off x="8137440" y="2217600"/>
            <a:ext cx="2805120" cy="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85"/>
          <p:cNvSpPr/>
          <p:nvPr/>
        </p:nvSpPr>
        <p:spPr>
          <a:xfrm>
            <a:off x="9906120" y="3952800"/>
            <a:ext cx="1036440" cy="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86"/>
          <p:cNvSpPr/>
          <p:nvPr/>
        </p:nvSpPr>
        <p:spPr>
          <a:xfrm>
            <a:off x="9746640" y="35305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Microsoft JhengHei"/>
                <a:ea typeface="微软雅黑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87"/>
          <p:cNvSpPr/>
          <p:nvPr/>
        </p:nvSpPr>
        <p:spPr>
          <a:xfrm>
            <a:off x="9252720" y="2170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b3838"/>
                </a:solidFill>
                <a:latin typeface="微软雅黑"/>
                <a:ea typeface="方正兰亭黑简体"/>
              </a:rPr>
              <a:t>衣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89"/>
          <p:cNvSpPr/>
          <p:nvPr/>
        </p:nvSpPr>
        <p:spPr>
          <a:xfrm>
            <a:off x="8852040" y="3451320"/>
            <a:ext cx="2106360" cy="144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组合 1"/>
          <p:cNvGrpSpPr/>
          <p:nvPr/>
        </p:nvGrpSpPr>
        <p:grpSpPr>
          <a:xfrm>
            <a:off x="5317920" y="610560"/>
            <a:ext cx="5635080" cy="5635080"/>
            <a:chOff x="5317920" y="610560"/>
            <a:chExt cx="5635080" cy="5635080"/>
          </a:xfrm>
        </p:grpSpPr>
        <p:sp>
          <p:nvSpPr>
            <p:cNvPr id="928" name="矩形 14"/>
            <p:cNvSpPr/>
            <p:nvPr/>
          </p:nvSpPr>
          <p:spPr>
            <a:xfrm rot="18900000">
              <a:off x="5556600" y="2861640"/>
              <a:ext cx="1152720" cy="115272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15"/>
            <p:cNvSpPr/>
            <p:nvPr/>
          </p:nvSpPr>
          <p:spPr>
            <a:xfrm rot="18900000">
              <a:off x="6562800" y="1855440"/>
              <a:ext cx="1152720" cy="1152720"/>
            </a:xfrm>
            <a:prstGeom prst="rect">
              <a:avLst/>
            </a:prstGeom>
            <a:solidFill>
              <a:srgbClr val="95c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16"/>
            <p:cNvSpPr/>
            <p:nvPr/>
          </p:nvSpPr>
          <p:spPr>
            <a:xfrm rot="18900000">
              <a:off x="7569000" y="849240"/>
              <a:ext cx="1152720" cy="1152720"/>
            </a:xfrm>
            <a:prstGeom prst="rect">
              <a:avLst/>
            </a:prstGeom>
            <a:solidFill>
              <a:srgbClr val="bdd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7"/>
            <p:cNvSpPr/>
            <p:nvPr/>
          </p:nvSpPr>
          <p:spPr>
            <a:xfrm rot="18900000">
              <a:off x="6552720" y="3857760"/>
              <a:ext cx="1152720" cy="115272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8"/>
            <p:cNvSpPr/>
            <p:nvPr/>
          </p:nvSpPr>
          <p:spPr>
            <a:xfrm rot="18900000">
              <a:off x="7558920" y="2851560"/>
              <a:ext cx="1152720" cy="1152720"/>
            </a:xfrm>
            <a:prstGeom prst="rect">
              <a:avLst/>
            </a:prstGeom>
            <a:solidFill>
              <a:srgbClr val="0c7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9"/>
            <p:cNvSpPr/>
            <p:nvPr/>
          </p:nvSpPr>
          <p:spPr>
            <a:xfrm rot="18900000">
              <a:off x="8565120" y="1845360"/>
              <a:ext cx="1152720" cy="1152720"/>
            </a:xfrm>
            <a:prstGeom prst="rect">
              <a:avLst/>
            </a:prstGeom>
            <a:solidFill>
              <a:srgbClr val="01b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20"/>
            <p:cNvSpPr/>
            <p:nvPr/>
          </p:nvSpPr>
          <p:spPr>
            <a:xfrm rot="18900000">
              <a:off x="7548840" y="4854240"/>
              <a:ext cx="1152720" cy="1152720"/>
            </a:xfrm>
            <a:prstGeom prst="rect">
              <a:avLst/>
            </a:prstGeom>
            <a:solidFill>
              <a:srgbClr val="c44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21"/>
            <p:cNvSpPr/>
            <p:nvPr/>
          </p:nvSpPr>
          <p:spPr>
            <a:xfrm rot="18900000">
              <a:off x="8555040" y="3848040"/>
              <a:ext cx="1152720" cy="1152720"/>
            </a:xfrm>
            <a:prstGeom prst="rect">
              <a:avLst/>
            </a:prstGeom>
            <a:solidFill>
              <a:srgbClr val="f39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22"/>
            <p:cNvSpPr/>
            <p:nvPr/>
          </p:nvSpPr>
          <p:spPr>
            <a:xfrm rot="18900000">
              <a:off x="9561600" y="2841480"/>
              <a:ext cx="1152720" cy="1152720"/>
            </a:xfrm>
            <a:prstGeom prst="rect">
              <a:avLst/>
            </a:prstGeom>
            <a:solidFill>
              <a:srgbClr val="fd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直接连接符 23"/>
          <p:cNvSpPr/>
          <p:nvPr/>
        </p:nvSpPr>
        <p:spPr>
          <a:xfrm>
            <a:off x="219240" y="6840360"/>
            <a:ext cx="11729880" cy="1800"/>
          </a:xfrm>
          <a:prstGeom prst="line">
            <a:avLst/>
          </a:prstGeom>
          <a:ln w="6480">
            <a:solidFill>
              <a:srgbClr val="d8d8d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25"/>
          <p:cNvSpPr/>
          <p:nvPr/>
        </p:nvSpPr>
        <p:spPr>
          <a:xfrm>
            <a:off x="1624680" y="2646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838"/>
                </a:solidFill>
                <a:latin typeface="Microsoft JhengHei"/>
                <a:ea typeface="Microsoft JhengHei"/>
              </a:rPr>
              <a:t>每天有不同颜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26"/>
          <p:cNvSpPr/>
          <p:nvPr/>
        </p:nvSpPr>
        <p:spPr>
          <a:xfrm>
            <a:off x="1131840" y="3192480"/>
            <a:ext cx="2803680" cy="144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27"/>
          <p:cNvSpPr/>
          <p:nvPr/>
        </p:nvSpPr>
        <p:spPr>
          <a:xfrm>
            <a:off x="1131840" y="4927680"/>
            <a:ext cx="1036800" cy="144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28"/>
          <p:cNvSpPr/>
          <p:nvPr/>
        </p:nvSpPr>
        <p:spPr>
          <a:xfrm>
            <a:off x="1155960" y="450684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Microsoft JhengHei"/>
                <a:ea typeface="微软雅黑"/>
              </a:rPr>
              <a:t>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29"/>
          <p:cNvSpPr/>
          <p:nvPr/>
        </p:nvSpPr>
        <p:spPr>
          <a:xfrm>
            <a:off x="1446840" y="31464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b3838"/>
                </a:solidFill>
                <a:latin typeface="微软雅黑"/>
                <a:ea typeface="方正兰亭黑简体"/>
              </a:rPr>
              <a:t>心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30"/>
          <p:cNvSpPr/>
          <p:nvPr/>
        </p:nvSpPr>
        <p:spPr>
          <a:xfrm>
            <a:off x="1104840" y="4427640"/>
            <a:ext cx="2106720" cy="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图片 111" descr=""/>
          <p:cNvPicPr/>
          <p:nvPr/>
        </p:nvPicPr>
        <p:blipFill>
          <a:blip r:embed="rId1"/>
          <a:stretch/>
        </p:blipFill>
        <p:spPr>
          <a:xfrm>
            <a:off x="7738920" y="1041480"/>
            <a:ext cx="773280" cy="7729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13" descr=""/>
          <p:cNvPicPr/>
          <p:nvPr/>
        </p:nvPicPr>
        <p:blipFill>
          <a:blip r:embed="rId2"/>
          <a:stretch/>
        </p:blipFill>
        <p:spPr>
          <a:xfrm>
            <a:off x="7759800" y="30574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114" descr=""/>
          <p:cNvPicPr/>
          <p:nvPr/>
        </p:nvPicPr>
        <p:blipFill>
          <a:blip r:embed="rId3"/>
          <a:stretch/>
        </p:blipFill>
        <p:spPr>
          <a:xfrm>
            <a:off x="7759800" y="5045040"/>
            <a:ext cx="771480" cy="7732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118" descr=""/>
          <p:cNvPicPr/>
          <p:nvPr/>
        </p:nvPicPr>
        <p:blipFill>
          <a:blip r:embed="rId4"/>
          <a:stretch/>
        </p:blipFill>
        <p:spPr>
          <a:xfrm>
            <a:off x="9752040" y="3032280"/>
            <a:ext cx="772920" cy="77292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119" descr=""/>
          <p:cNvPicPr/>
          <p:nvPr/>
        </p:nvPicPr>
        <p:blipFill>
          <a:blip r:embed="rId5"/>
          <a:stretch/>
        </p:blipFill>
        <p:spPr>
          <a:xfrm>
            <a:off x="5756400" y="3032280"/>
            <a:ext cx="77292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文本框 1"/>
          <p:cNvSpPr/>
          <p:nvPr/>
        </p:nvSpPr>
        <p:spPr>
          <a:xfrm>
            <a:off x="3922560" y="237636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a3838"/>
                </a:solidFill>
                <a:latin typeface="微软雅黑"/>
                <a:ea typeface="方正兰亭黑简体"/>
              </a:rPr>
              <a:t>每天都过得很色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2"/>
          <p:cNvSpPr/>
          <p:nvPr/>
        </p:nvSpPr>
        <p:spPr>
          <a:xfrm>
            <a:off x="2900160" y="3892680"/>
            <a:ext cx="59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dobe Gothic Std B"/>
              </a:rPr>
              <a:t>MAY YOU HAVE A </a:t>
            </a:r>
            <a:r>
              <a:rPr b="1" lang="en-US" sz="2400" spc="-1" strike="noStrike">
                <a:solidFill>
                  <a:srgbClr val="bdde42"/>
                </a:solidFill>
                <a:latin typeface="Arial"/>
                <a:ea typeface="Adobe Gothic Std B"/>
              </a:rPr>
              <a:t>C</a:t>
            </a:r>
            <a:r>
              <a:rPr b="1" lang="en-US" sz="2400" spc="-1" strike="noStrike">
                <a:solidFill>
                  <a:srgbClr val="95c12e"/>
                </a:solidFill>
                <a:latin typeface="Arial"/>
                <a:ea typeface="Adobe Gothic Std B"/>
              </a:rPr>
              <a:t>O</a:t>
            </a:r>
            <a:r>
              <a:rPr b="1" lang="en-US" sz="2400" spc="-1" strike="noStrike">
                <a:solidFill>
                  <a:srgbClr val="0d7341"/>
                </a:solidFill>
                <a:latin typeface="Arial"/>
                <a:ea typeface="Adobe Gothic Std B"/>
              </a:rPr>
              <a:t>L</a:t>
            </a:r>
            <a:r>
              <a:rPr b="1" lang="en-US" sz="2400" spc="-1" strike="noStrike">
                <a:solidFill>
                  <a:srgbClr val="1f4e79"/>
                </a:solidFill>
                <a:latin typeface="Arial"/>
                <a:ea typeface="Adobe Gothic Std B"/>
              </a:rPr>
              <a:t>O</a:t>
            </a:r>
            <a:r>
              <a:rPr b="1" lang="en-US" sz="2400" spc="-1" strike="noStrike">
                <a:solidFill>
                  <a:srgbClr val="0c7ec4"/>
                </a:solidFill>
                <a:latin typeface="Arial"/>
                <a:ea typeface="Adobe Gothic Std B"/>
              </a:rPr>
              <a:t>U</a:t>
            </a:r>
            <a:r>
              <a:rPr b="1" lang="en-US" sz="2400" spc="-1" strike="noStrike">
                <a:solidFill>
                  <a:srgbClr val="01b6ed"/>
                </a:solidFill>
                <a:latin typeface="Arial"/>
                <a:ea typeface="Adobe Gothic Std B"/>
              </a:rPr>
              <a:t>R</a:t>
            </a:r>
            <a:r>
              <a:rPr b="1" lang="en-US" sz="2400" spc="-1" strike="noStrike">
                <a:solidFill>
                  <a:srgbClr val="c44208"/>
                </a:solidFill>
                <a:latin typeface="Arial"/>
                <a:ea typeface="Adobe Gothic Std B"/>
              </a:rPr>
              <a:t>F</a:t>
            </a:r>
            <a:r>
              <a:rPr b="1" lang="en-US" sz="2400" spc="-1" strike="noStrike">
                <a:solidFill>
                  <a:srgbClr val="f39112"/>
                </a:solidFill>
                <a:latin typeface="Arial"/>
                <a:ea typeface="Adobe Gothic Std B"/>
              </a:rPr>
              <a:t>U</a:t>
            </a:r>
            <a:r>
              <a:rPr b="1" lang="en-US" sz="2400" spc="-1" strike="noStrike">
                <a:solidFill>
                  <a:srgbClr val="fdcc0e"/>
                </a:solidFill>
                <a:latin typeface="Arial"/>
                <a:ea typeface="Adobe Gothic Std B"/>
              </a:rPr>
              <a:t>L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dobe Gothic Std B"/>
              </a:rPr>
              <a:t> YEA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矩形 1"/>
          <p:cNvSpPr/>
          <p:nvPr/>
        </p:nvSpPr>
        <p:spPr>
          <a:xfrm>
            <a:off x="5194440" y="2448000"/>
            <a:ext cx="1622160" cy="1622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3"/>
          <p:cNvSpPr/>
          <p:nvPr/>
        </p:nvSpPr>
        <p:spPr>
          <a:xfrm>
            <a:off x="7023240" y="3165480"/>
            <a:ext cx="904680" cy="90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4"/>
          <p:cNvSpPr/>
          <p:nvPr/>
        </p:nvSpPr>
        <p:spPr>
          <a:xfrm>
            <a:off x="8134200" y="2886120"/>
            <a:ext cx="1182960" cy="1182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6"/>
          <p:cNvSpPr/>
          <p:nvPr/>
        </p:nvSpPr>
        <p:spPr>
          <a:xfrm>
            <a:off x="3597120" y="2678040"/>
            <a:ext cx="1390680" cy="1390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7"/>
          <p:cNvSpPr/>
          <p:nvPr/>
        </p:nvSpPr>
        <p:spPr>
          <a:xfrm>
            <a:off x="2644920" y="3321000"/>
            <a:ext cx="745920" cy="747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8"/>
          <p:cNvSpPr/>
          <p:nvPr/>
        </p:nvSpPr>
        <p:spPr>
          <a:xfrm>
            <a:off x="4593240" y="4606920"/>
            <a:ext cx="42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达人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模板素材</a:t>
            </a: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PPT ,  more than P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9523440" y="3517920"/>
            <a:ext cx="550800" cy="5508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2" descr=""/>
          <p:cNvPicPr/>
          <p:nvPr/>
        </p:nvPicPr>
        <p:blipFill>
          <a:blip r:embed="rId1"/>
          <a:stretch/>
        </p:blipFill>
        <p:spPr>
          <a:xfrm>
            <a:off x="150840" y="150840"/>
            <a:ext cx="2867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e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9"/>
          <p:cNvGrpSpPr/>
          <p:nvPr/>
        </p:nvGrpSpPr>
        <p:grpSpPr>
          <a:xfrm>
            <a:off x="2084040" y="601560"/>
            <a:ext cx="8933040" cy="762120"/>
            <a:chOff x="2084040" y="601560"/>
            <a:chExt cx="8933040" cy="762120"/>
          </a:xfrm>
        </p:grpSpPr>
        <p:sp>
          <p:nvSpPr>
            <p:cNvPr id="73" name="矩形 2"/>
            <p:cNvSpPr/>
            <p:nvPr/>
          </p:nvSpPr>
          <p:spPr>
            <a:xfrm>
              <a:off x="2459880" y="601560"/>
              <a:ext cx="85572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角三角形 5"/>
            <p:cNvSpPr/>
            <p:nvPr/>
          </p:nvSpPr>
          <p:spPr>
            <a:xfrm flipH="1" rot="15412800">
              <a:off x="2229480" y="653040"/>
              <a:ext cx="311040" cy="546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圆角右箭头 10"/>
          <p:cNvSpPr/>
          <p:nvPr/>
        </p:nvSpPr>
        <p:spPr>
          <a:xfrm flipV="1">
            <a:off x="1492200" y="-720"/>
            <a:ext cx="8375760" cy="668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4151160" y="7524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一年，我不小心毕业了</a:t>
            </a:r>
            <a:r>
              <a:rPr b="0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右箭头 11"/>
          <p:cNvSpPr/>
          <p:nvPr/>
        </p:nvSpPr>
        <p:spPr>
          <a:xfrm flipV="1" rot="10800000">
            <a:off x="3487680" y="2919240"/>
            <a:ext cx="83757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25"/>
          <p:cNvGrpSpPr/>
          <p:nvPr/>
        </p:nvGrpSpPr>
        <p:grpSpPr>
          <a:xfrm>
            <a:off x="2460240" y="6024600"/>
            <a:ext cx="8475840" cy="468360"/>
            <a:chOff x="2460240" y="6024600"/>
            <a:chExt cx="8475840" cy="468360"/>
          </a:xfrm>
        </p:grpSpPr>
        <p:sp>
          <p:nvSpPr>
            <p:cNvPr id="79" name="矩形 15"/>
            <p:cNvSpPr/>
            <p:nvPr/>
          </p:nvSpPr>
          <p:spPr>
            <a:xfrm rot="5400000">
              <a:off x="344844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6"/>
            <p:cNvSpPr/>
            <p:nvPr/>
          </p:nvSpPr>
          <p:spPr>
            <a:xfrm rot="5400000">
              <a:off x="225648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8"/>
            <p:cNvSpPr/>
            <p:nvPr/>
          </p:nvSpPr>
          <p:spPr>
            <a:xfrm rot="5400000">
              <a:off x="464976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9"/>
            <p:cNvSpPr/>
            <p:nvPr/>
          </p:nvSpPr>
          <p:spPr>
            <a:xfrm rot="5400000">
              <a:off x="585072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0"/>
            <p:cNvSpPr/>
            <p:nvPr/>
          </p:nvSpPr>
          <p:spPr>
            <a:xfrm rot="5400000">
              <a:off x="705168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1"/>
            <p:cNvSpPr/>
            <p:nvPr/>
          </p:nvSpPr>
          <p:spPr>
            <a:xfrm rot="5400000">
              <a:off x="825840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2"/>
            <p:cNvSpPr/>
            <p:nvPr/>
          </p:nvSpPr>
          <p:spPr>
            <a:xfrm rot="5400000">
              <a:off x="946476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3"/>
            <p:cNvSpPr/>
            <p:nvPr/>
          </p:nvSpPr>
          <p:spPr>
            <a:xfrm rot="5400000">
              <a:off x="1067148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47"/>
          <p:cNvSpPr/>
          <p:nvPr/>
        </p:nvSpPr>
        <p:spPr>
          <a:xfrm>
            <a:off x="3002400" y="4006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经济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5249160" y="40068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90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5178240" y="28116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6"/>
                </a:solidFill>
                <a:latin typeface="微软雅黑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2930400" y="2679840"/>
            <a:ext cx="901800" cy="990000"/>
            <a:chOff x="2930400" y="2679840"/>
            <a:chExt cx="901800" cy="990000"/>
          </a:xfrm>
        </p:grpSpPr>
        <p:sp>
          <p:nvSpPr>
            <p:cNvPr id="91" name="Freeform 12"/>
            <p:cNvSpPr/>
            <p:nvPr/>
          </p:nvSpPr>
          <p:spPr>
            <a:xfrm>
              <a:off x="2948040" y="2679840"/>
              <a:ext cx="866520" cy="282240"/>
            </a:xfrm>
            <a:custGeom>
              <a:avLst/>
              <a:gdLst/>
              <a:ahLst/>
              <a:rect l="l" t="t" r="r" b="b"/>
              <a:pathLst>
                <a:path w="546" h="178">
                  <a:moveTo>
                    <a:pt x="270" y="0"/>
                  </a:moveTo>
                  <a:lnTo>
                    <a:pt x="0" y="178"/>
                  </a:lnTo>
                  <a:lnTo>
                    <a:pt x="546" y="17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2930400" y="2979360"/>
              <a:ext cx="901800" cy="69048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1"/>
                    <a:pt x="4" y="81"/>
                    <a:pt x="4" y="8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30" y="9"/>
                    <a:pt x="30" y="9"/>
                    <a:pt x="30" y="9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4" y="15"/>
                    <a:pt x="38" y="13"/>
                    <a:pt x="43" y="11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61" y="9"/>
                    <a:pt x="61" y="9"/>
                    <a:pt x="61" y="9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6" y="14"/>
                    <a:pt x="70" y="17"/>
                    <a:pt x="74" y="21"/>
                  </a:cubicBezTo>
                  <a:cubicBezTo>
                    <a:pt x="74" y="9"/>
                    <a:pt x="74" y="9"/>
                    <a:pt x="74" y="9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101" y="81"/>
                    <a:pt x="101" y="81"/>
                    <a:pt x="101" y="81"/>
                  </a:cubicBezTo>
                  <a:cubicBezTo>
                    <a:pt x="101" y="9"/>
                    <a:pt x="101" y="9"/>
                    <a:pt x="101" y="9"/>
                  </a:cubicBezTo>
                  <a:cubicBezTo>
                    <a:pt x="105" y="9"/>
                    <a:pt x="105" y="9"/>
                    <a:pt x="105" y="9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3454200" y="3465360"/>
              <a:ext cx="111240" cy="2044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cubicBezTo>
                    <a:pt x="13" y="24"/>
                    <a:pt x="13" y="24"/>
                    <a:pt x="13" y="24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4"/>
                    <a:pt x="5" y="7"/>
                    <a:pt x="0" y="9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3187440" y="3473280"/>
              <a:ext cx="112680" cy="1965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23"/>
                  </a:moveTo>
                  <a:cubicBezTo>
                    <a:pt x="13" y="23"/>
                    <a:pt x="13" y="23"/>
                    <a:pt x="13" y="23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8" y="7"/>
                    <a:pt x="4" y="4"/>
                    <a:pt x="0" y="0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3154320" y="3089160"/>
              <a:ext cx="436320" cy="4438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cubicBezTo>
                    <a:pt x="12" y="0"/>
                    <a:pt x="0" y="12"/>
                    <a:pt x="0" y="26"/>
                  </a:cubicBezTo>
                  <a:cubicBezTo>
                    <a:pt x="0" y="40"/>
                    <a:pt x="12" y="52"/>
                    <a:pt x="26" y="52"/>
                  </a:cubicBezTo>
                  <a:cubicBezTo>
                    <a:pt x="40" y="52"/>
                    <a:pt x="51" y="40"/>
                    <a:pt x="51" y="26"/>
                  </a:cubicBezTo>
                  <a:cubicBezTo>
                    <a:pt x="51" y="12"/>
                    <a:pt x="40" y="0"/>
                    <a:pt x="26" y="0"/>
                  </a:cubicBezTo>
                  <a:moveTo>
                    <a:pt x="26" y="49"/>
                  </a:moveTo>
                  <a:cubicBezTo>
                    <a:pt x="13" y="49"/>
                    <a:pt x="3" y="38"/>
                    <a:pt x="3" y="26"/>
                  </a:cubicBezTo>
                  <a:cubicBezTo>
                    <a:pt x="3" y="14"/>
                    <a:pt x="13" y="3"/>
                    <a:pt x="26" y="3"/>
                  </a:cubicBezTo>
                  <a:cubicBezTo>
                    <a:pt x="38" y="3"/>
                    <a:pt x="48" y="14"/>
                    <a:pt x="48" y="26"/>
                  </a:cubicBezTo>
                  <a:cubicBezTo>
                    <a:pt x="48" y="38"/>
                    <a:pt x="38" y="49"/>
                    <a:pt x="26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273480" y="3192120"/>
              <a:ext cx="206280" cy="27288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9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2" y="12"/>
                    <a:pt x="12" y="13"/>
                    <a:pt x="12" y="14"/>
                  </a:cubicBezTo>
                  <a:cubicBezTo>
                    <a:pt x="11" y="13"/>
                    <a:pt x="11" y="12"/>
                    <a:pt x="11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69"/>
          <p:cNvSpPr/>
          <p:nvPr/>
        </p:nvSpPr>
        <p:spPr>
          <a:xfrm>
            <a:off x="7596000" y="400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屌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7"/>
          <p:cNvSpPr/>
          <p:nvPr/>
        </p:nvSpPr>
        <p:spPr>
          <a:xfrm>
            <a:off x="9651960" y="2638440"/>
            <a:ext cx="862200" cy="1084320"/>
          </a:xfrm>
          <a:custGeom>
            <a:avLst/>
            <a:gdLst/>
            <a:ahLst/>
            <a:rect l="l" t="t" r="r" b="b"/>
            <a:pathLst>
              <a:path w="173" h="218">
                <a:moveTo>
                  <a:pt x="135" y="187"/>
                </a:moveTo>
                <a:cubicBezTo>
                  <a:pt x="66" y="218"/>
                  <a:pt x="28" y="179"/>
                  <a:pt x="28" y="179"/>
                </a:cubicBezTo>
                <a:cubicBezTo>
                  <a:pt x="28" y="179"/>
                  <a:pt x="0" y="174"/>
                  <a:pt x="13" y="150"/>
                </a:cubicBezTo>
                <a:cubicBezTo>
                  <a:pt x="2" y="110"/>
                  <a:pt x="34" y="68"/>
                  <a:pt x="34" y="68"/>
                </a:cubicBezTo>
                <a:cubicBezTo>
                  <a:pt x="34" y="68"/>
                  <a:pt x="27" y="35"/>
                  <a:pt x="71" y="29"/>
                </a:cubicBezTo>
                <a:cubicBezTo>
                  <a:pt x="138" y="0"/>
                  <a:pt x="127" y="57"/>
                  <a:pt x="127" y="60"/>
                </a:cubicBezTo>
                <a:cubicBezTo>
                  <a:pt x="118" y="75"/>
                  <a:pt x="110" y="53"/>
                  <a:pt x="107" y="59"/>
                </a:cubicBezTo>
                <a:cubicBezTo>
                  <a:pt x="91" y="74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54" y="70"/>
                  <a:pt x="77" y="99"/>
                  <a:pt x="75" y="121"/>
                </a:cubicBezTo>
                <a:cubicBezTo>
                  <a:pt x="77" y="121"/>
                  <a:pt x="109" y="88"/>
                  <a:pt x="138" y="126"/>
                </a:cubicBezTo>
                <a:cubicBezTo>
                  <a:pt x="148" y="110"/>
                  <a:pt x="173" y="108"/>
                  <a:pt x="173" y="108"/>
                </a:cubicBezTo>
                <a:cubicBezTo>
                  <a:pt x="173" y="218"/>
                  <a:pt x="173" y="218"/>
                  <a:pt x="173" y="218"/>
                </a:cubicBezTo>
                <a:cubicBezTo>
                  <a:pt x="173" y="218"/>
                  <a:pt x="143" y="212"/>
                  <a:pt x="135" y="187"/>
                </a:cubicBezTo>
                <a:close/>
                <a:moveTo>
                  <a:pt x="67" y="171"/>
                </a:moveTo>
                <a:cubicBezTo>
                  <a:pt x="67" y="171"/>
                  <a:pt x="71" y="185"/>
                  <a:pt x="95" y="185"/>
                </a:cubicBezTo>
                <a:cubicBezTo>
                  <a:pt x="118" y="183"/>
                  <a:pt x="122" y="173"/>
                  <a:pt x="123" y="171"/>
                </a:cubicBezTo>
                <a:cubicBezTo>
                  <a:pt x="90" y="181"/>
                  <a:pt x="67" y="171"/>
                  <a:pt x="67" y="171"/>
                </a:cubicBez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38"/>
          <p:cNvGrpSpPr/>
          <p:nvPr/>
        </p:nvGrpSpPr>
        <p:grpSpPr>
          <a:xfrm>
            <a:off x="1456920" y="633240"/>
            <a:ext cx="468720" cy="4876560"/>
            <a:chOff x="1456920" y="633240"/>
            <a:chExt cx="468720" cy="4876560"/>
          </a:xfrm>
        </p:grpSpPr>
        <p:sp>
          <p:nvSpPr>
            <p:cNvPr id="100" name="矩形 41"/>
            <p:cNvSpPr/>
            <p:nvPr/>
          </p:nvSpPr>
          <p:spPr>
            <a:xfrm rot="10800000">
              <a:off x="1457280" y="63324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2"/>
            <p:cNvSpPr/>
            <p:nvPr/>
          </p:nvSpPr>
          <p:spPr>
            <a:xfrm rot="10800000">
              <a:off x="1456920" y="183384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43"/>
            <p:cNvSpPr/>
            <p:nvPr/>
          </p:nvSpPr>
          <p:spPr>
            <a:xfrm rot="10800000">
              <a:off x="1456920" y="30351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44"/>
            <p:cNvSpPr/>
            <p:nvPr/>
          </p:nvSpPr>
          <p:spPr>
            <a:xfrm rot="10800000">
              <a:off x="1456920" y="424188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45"/>
            <p:cNvSpPr/>
            <p:nvPr/>
          </p:nvSpPr>
          <p:spPr>
            <a:xfrm rot="10800000">
              <a:off x="1456920" y="54489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50"/>
          <p:cNvSpPr/>
          <p:nvPr/>
        </p:nvSpPr>
        <p:spPr>
          <a:xfrm>
            <a:off x="9702360" y="4006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右手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7286760" y="2840040"/>
            <a:ext cx="1230120" cy="843120"/>
          </a:xfrm>
          <a:custGeom>
            <a:avLst/>
            <a:gdLst/>
            <a:ahLst/>
            <a:rect l="l" t="t" r="r" b="b"/>
            <a:pathLst>
              <a:path w="361" h="247">
                <a:moveTo>
                  <a:pt x="264" y="72"/>
                </a:moveTo>
                <a:cubicBezTo>
                  <a:pt x="265" y="54"/>
                  <a:pt x="267" y="38"/>
                  <a:pt x="272" y="13"/>
                </a:cubicBezTo>
                <a:cubicBezTo>
                  <a:pt x="273" y="11"/>
                  <a:pt x="273" y="11"/>
                  <a:pt x="273" y="11"/>
                </a:cubicBezTo>
                <a:cubicBezTo>
                  <a:pt x="270" y="9"/>
                  <a:pt x="270" y="9"/>
                  <a:pt x="270" y="9"/>
                </a:cubicBezTo>
                <a:cubicBezTo>
                  <a:pt x="270" y="9"/>
                  <a:pt x="254" y="0"/>
                  <a:pt x="240" y="8"/>
                </a:cubicBezTo>
                <a:cubicBezTo>
                  <a:pt x="234" y="11"/>
                  <a:pt x="234" y="11"/>
                  <a:pt x="234" y="11"/>
                </a:cubicBezTo>
                <a:cubicBezTo>
                  <a:pt x="226" y="16"/>
                  <a:pt x="223" y="19"/>
                  <a:pt x="211" y="13"/>
                </a:cubicBezTo>
                <a:cubicBezTo>
                  <a:pt x="192" y="4"/>
                  <a:pt x="180" y="16"/>
                  <a:pt x="175" y="21"/>
                </a:cubicBezTo>
                <a:cubicBezTo>
                  <a:pt x="174" y="22"/>
                  <a:pt x="174" y="22"/>
                  <a:pt x="174" y="22"/>
                </a:cubicBezTo>
                <a:cubicBezTo>
                  <a:pt x="169" y="27"/>
                  <a:pt x="165" y="31"/>
                  <a:pt x="151" y="26"/>
                </a:cubicBezTo>
                <a:cubicBezTo>
                  <a:pt x="134" y="21"/>
                  <a:pt x="126" y="27"/>
                  <a:pt x="121" y="30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09" y="38"/>
                  <a:pt x="101" y="37"/>
                  <a:pt x="90" y="36"/>
                </a:cubicBezTo>
                <a:cubicBezTo>
                  <a:pt x="81" y="35"/>
                  <a:pt x="81" y="35"/>
                  <a:pt x="81" y="35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1" y="65"/>
                  <a:pt x="90" y="97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211"/>
                  <a:pt x="0" y="211"/>
                  <a:pt x="0" y="211"/>
                </a:cubicBezTo>
                <a:cubicBezTo>
                  <a:pt x="134" y="247"/>
                  <a:pt x="134" y="247"/>
                  <a:pt x="134" y="247"/>
                </a:cubicBezTo>
                <a:cubicBezTo>
                  <a:pt x="361" y="189"/>
                  <a:pt x="361" y="189"/>
                  <a:pt x="361" y="189"/>
                </a:cubicBezTo>
                <a:cubicBezTo>
                  <a:pt x="361" y="98"/>
                  <a:pt x="361" y="98"/>
                  <a:pt x="361" y="98"/>
                </a:cubicBezTo>
                <a:lnTo>
                  <a:pt x="264" y="72"/>
                </a:lnTo>
                <a:close/>
                <a:moveTo>
                  <a:pt x="140" y="130"/>
                </a:moveTo>
                <a:cubicBezTo>
                  <a:pt x="140" y="130"/>
                  <a:pt x="140" y="130"/>
                  <a:pt x="140" y="130"/>
                </a:cubicBezTo>
                <a:cubicBezTo>
                  <a:pt x="132" y="132"/>
                  <a:pt x="123" y="133"/>
                  <a:pt x="120" y="132"/>
                </a:cubicBezTo>
                <a:cubicBezTo>
                  <a:pt x="120" y="132"/>
                  <a:pt x="119" y="132"/>
                  <a:pt x="117" y="131"/>
                </a:cubicBezTo>
                <a:cubicBezTo>
                  <a:pt x="262" y="95"/>
                  <a:pt x="262" y="95"/>
                  <a:pt x="262" y="95"/>
                </a:cubicBezTo>
                <a:cubicBezTo>
                  <a:pt x="265" y="96"/>
                  <a:pt x="269" y="97"/>
                  <a:pt x="272" y="98"/>
                </a:cubicBezTo>
                <a:cubicBezTo>
                  <a:pt x="272" y="98"/>
                  <a:pt x="272" y="98"/>
                  <a:pt x="272" y="98"/>
                </a:cubicBezTo>
                <a:cubicBezTo>
                  <a:pt x="271" y="98"/>
                  <a:pt x="140" y="130"/>
                  <a:pt x="140" y="130"/>
                </a:cubicBezTo>
                <a:close/>
                <a:moveTo>
                  <a:pt x="125" y="37"/>
                </a:moveTo>
                <a:cubicBezTo>
                  <a:pt x="131" y="34"/>
                  <a:pt x="136" y="30"/>
                  <a:pt x="149" y="34"/>
                </a:cubicBezTo>
                <a:cubicBezTo>
                  <a:pt x="168" y="40"/>
                  <a:pt x="174" y="33"/>
                  <a:pt x="180" y="27"/>
                </a:cubicBezTo>
                <a:cubicBezTo>
                  <a:pt x="181" y="26"/>
                  <a:pt x="181" y="26"/>
                  <a:pt x="181" y="26"/>
                </a:cubicBezTo>
                <a:cubicBezTo>
                  <a:pt x="188" y="20"/>
                  <a:pt x="196" y="14"/>
                  <a:pt x="208" y="20"/>
                </a:cubicBezTo>
                <a:cubicBezTo>
                  <a:pt x="223" y="28"/>
                  <a:pt x="230" y="24"/>
                  <a:pt x="238" y="18"/>
                </a:cubicBezTo>
                <a:cubicBezTo>
                  <a:pt x="244" y="15"/>
                  <a:pt x="244" y="15"/>
                  <a:pt x="244" y="15"/>
                </a:cubicBezTo>
                <a:cubicBezTo>
                  <a:pt x="251" y="11"/>
                  <a:pt x="259" y="13"/>
                  <a:pt x="263" y="15"/>
                </a:cubicBezTo>
                <a:cubicBezTo>
                  <a:pt x="257" y="45"/>
                  <a:pt x="255" y="63"/>
                  <a:pt x="255" y="89"/>
                </a:cubicBezTo>
                <a:cubicBezTo>
                  <a:pt x="254" y="89"/>
                  <a:pt x="247" y="91"/>
                  <a:pt x="237" y="93"/>
                </a:cubicBezTo>
                <a:cubicBezTo>
                  <a:pt x="235" y="68"/>
                  <a:pt x="239" y="32"/>
                  <a:pt x="239" y="32"/>
                </a:cubicBezTo>
                <a:cubicBezTo>
                  <a:pt x="240" y="30"/>
                  <a:pt x="239" y="29"/>
                  <a:pt x="237" y="29"/>
                </a:cubicBezTo>
                <a:cubicBezTo>
                  <a:pt x="236" y="28"/>
                  <a:pt x="234" y="29"/>
                  <a:pt x="234" y="31"/>
                </a:cubicBezTo>
                <a:cubicBezTo>
                  <a:pt x="234" y="33"/>
                  <a:pt x="230" y="69"/>
                  <a:pt x="231" y="94"/>
                </a:cubicBezTo>
                <a:cubicBezTo>
                  <a:pt x="213" y="99"/>
                  <a:pt x="187" y="106"/>
                  <a:pt x="163" y="111"/>
                </a:cubicBezTo>
                <a:cubicBezTo>
                  <a:pt x="154" y="81"/>
                  <a:pt x="152" y="46"/>
                  <a:pt x="152" y="46"/>
                </a:cubicBezTo>
                <a:cubicBezTo>
                  <a:pt x="152" y="44"/>
                  <a:pt x="150" y="43"/>
                  <a:pt x="149" y="43"/>
                </a:cubicBezTo>
                <a:cubicBezTo>
                  <a:pt x="147" y="43"/>
                  <a:pt x="146" y="45"/>
                  <a:pt x="146" y="46"/>
                </a:cubicBezTo>
                <a:cubicBezTo>
                  <a:pt x="146" y="47"/>
                  <a:pt x="148" y="81"/>
                  <a:pt x="158" y="113"/>
                </a:cubicBezTo>
                <a:cubicBezTo>
                  <a:pt x="152" y="114"/>
                  <a:pt x="147" y="115"/>
                  <a:pt x="143" y="116"/>
                </a:cubicBezTo>
                <a:cubicBezTo>
                  <a:pt x="135" y="99"/>
                  <a:pt x="131" y="77"/>
                  <a:pt x="130" y="77"/>
                </a:cubicBezTo>
                <a:cubicBezTo>
                  <a:pt x="130" y="76"/>
                  <a:pt x="129" y="75"/>
                  <a:pt x="127" y="75"/>
                </a:cubicBezTo>
                <a:cubicBezTo>
                  <a:pt x="126" y="75"/>
                  <a:pt x="125" y="77"/>
                  <a:pt x="125" y="78"/>
                </a:cubicBezTo>
                <a:cubicBezTo>
                  <a:pt x="125" y="79"/>
                  <a:pt x="129" y="100"/>
                  <a:pt x="137" y="118"/>
                </a:cubicBezTo>
                <a:cubicBezTo>
                  <a:pt x="122" y="122"/>
                  <a:pt x="110" y="124"/>
                  <a:pt x="109" y="125"/>
                </a:cubicBezTo>
                <a:cubicBezTo>
                  <a:pt x="93" y="89"/>
                  <a:pt x="90" y="56"/>
                  <a:pt x="90" y="44"/>
                </a:cubicBezTo>
                <a:cubicBezTo>
                  <a:pt x="101" y="45"/>
                  <a:pt x="112" y="46"/>
                  <a:pt x="124" y="38"/>
                </a:cubicBezTo>
                <a:lnTo>
                  <a:pt x="125" y="37"/>
                </a:lnTo>
                <a:close/>
                <a:moveTo>
                  <a:pt x="101" y="127"/>
                </a:moveTo>
                <a:cubicBezTo>
                  <a:pt x="97" y="126"/>
                  <a:pt x="94" y="126"/>
                  <a:pt x="91" y="125"/>
                </a:cubicBezTo>
                <a:cubicBezTo>
                  <a:pt x="91" y="125"/>
                  <a:pt x="91" y="125"/>
                  <a:pt x="91" y="125"/>
                </a:cubicBezTo>
                <a:cubicBezTo>
                  <a:pt x="91" y="125"/>
                  <a:pt x="94" y="124"/>
                  <a:pt x="99" y="123"/>
                </a:cubicBezTo>
                <a:cubicBezTo>
                  <a:pt x="100" y="124"/>
                  <a:pt x="100" y="126"/>
                  <a:pt x="101" y="127"/>
                </a:cubicBezTo>
                <a:close/>
                <a:moveTo>
                  <a:pt x="96" y="115"/>
                </a:moveTo>
                <a:cubicBezTo>
                  <a:pt x="89" y="117"/>
                  <a:pt x="89" y="117"/>
                  <a:pt x="89" y="117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80" y="120"/>
                  <a:pt x="77" y="122"/>
                  <a:pt x="77" y="126"/>
                </a:cubicBezTo>
                <a:cubicBezTo>
                  <a:pt x="77" y="127"/>
                  <a:pt x="77" y="130"/>
                  <a:pt x="82" y="131"/>
                </a:cubicBezTo>
                <a:cubicBezTo>
                  <a:pt x="118" y="140"/>
                  <a:pt x="118" y="140"/>
                  <a:pt x="118" y="140"/>
                </a:cubicBezTo>
                <a:cubicBezTo>
                  <a:pt x="124" y="141"/>
                  <a:pt x="135" y="140"/>
                  <a:pt x="142" y="137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82" y="103"/>
                  <a:pt x="286" y="100"/>
                  <a:pt x="286" y="97"/>
                </a:cubicBezTo>
                <a:cubicBezTo>
                  <a:pt x="286" y="95"/>
                  <a:pt x="285" y="93"/>
                  <a:pt x="281" y="92"/>
                </a:cubicBezTo>
                <a:cubicBezTo>
                  <a:pt x="263" y="87"/>
                  <a:pt x="263" y="87"/>
                  <a:pt x="263" y="87"/>
                </a:cubicBezTo>
                <a:cubicBezTo>
                  <a:pt x="263" y="85"/>
                  <a:pt x="263" y="83"/>
                  <a:pt x="263" y="81"/>
                </a:cubicBezTo>
                <a:cubicBezTo>
                  <a:pt x="289" y="88"/>
                  <a:pt x="323" y="97"/>
                  <a:pt x="340" y="101"/>
                </a:cubicBezTo>
                <a:cubicBezTo>
                  <a:pt x="291" y="114"/>
                  <a:pt x="135" y="154"/>
                  <a:pt x="134" y="154"/>
                </a:cubicBezTo>
                <a:cubicBezTo>
                  <a:pt x="132" y="154"/>
                  <a:pt x="54" y="133"/>
                  <a:pt x="20" y="124"/>
                </a:cubicBezTo>
                <a:cubicBezTo>
                  <a:pt x="35" y="120"/>
                  <a:pt x="62" y="113"/>
                  <a:pt x="93" y="105"/>
                </a:cubicBezTo>
                <a:cubicBezTo>
                  <a:pt x="94" y="109"/>
                  <a:pt x="95" y="112"/>
                  <a:pt x="96" y="115"/>
                </a:cubicBezTo>
                <a:close/>
                <a:moveTo>
                  <a:pt x="8" y="129"/>
                </a:moveTo>
                <a:cubicBezTo>
                  <a:pt x="130" y="162"/>
                  <a:pt x="130" y="162"/>
                  <a:pt x="130" y="162"/>
                </a:cubicBezTo>
                <a:cubicBezTo>
                  <a:pt x="130" y="237"/>
                  <a:pt x="130" y="237"/>
                  <a:pt x="130" y="237"/>
                </a:cubicBezTo>
                <a:cubicBezTo>
                  <a:pt x="108" y="232"/>
                  <a:pt x="13" y="206"/>
                  <a:pt x="8" y="205"/>
                </a:cubicBezTo>
                <a:cubicBezTo>
                  <a:pt x="8" y="200"/>
                  <a:pt x="8" y="142"/>
                  <a:pt x="8" y="129"/>
                </a:cubicBezTo>
                <a:close/>
                <a:moveTo>
                  <a:pt x="138" y="237"/>
                </a:moveTo>
                <a:cubicBezTo>
                  <a:pt x="138" y="162"/>
                  <a:pt x="138" y="162"/>
                  <a:pt x="138" y="162"/>
                </a:cubicBezTo>
                <a:cubicBezTo>
                  <a:pt x="352" y="107"/>
                  <a:pt x="352" y="107"/>
                  <a:pt x="352" y="107"/>
                </a:cubicBezTo>
                <a:cubicBezTo>
                  <a:pt x="352" y="119"/>
                  <a:pt x="352" y="177"/>
                  <a:pt x="352" y="182"/>
                </a:cubicBezTo>
                <a:cubicBezTo>
                  <a:pt x="347" y="184"/>
                  <a:pt x="167" y="230"/>
                  <a:pt x="138" y="2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7e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51"/>
          <p:cNvGrpSpPr/>
          <p:nvPr/>
        </p:nvGrpSpPr>
        <p:grpSpPr>
          <a:xfrm>
            <a:off x="1487520" y="627120"/>
            <a:ext cx="9644400" cy="762120"/>
            <a:chOff x="1487520" y="627120"/>
            <a:chExt cx="9644400" cy="762120"/>
          </a:xfrm>
        </p:grpSpPr>
        <p:sp>
          <p:nvSpPr>
            <p:cNvPr id="108" name="矩形 52"/>
            <p:cNvSpPr/>
            <p:nvPr/>
          </p:nvSpPr>
          <p:spPr>
            <a:xfrm flipH="1">
              <a:off x="1487520" y="627120"/>
              <a:ext cx="92685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角三角形 53"/>
            <p:cNvSpPr/>
            <p:nvPr/>
          </p:nvSpPr>
          <p:spPr>
            <a:xfrm rot="6187200">
              <a:off x="10674720" y="678600"/>
              <a:ext cx="311040" cy="546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圆角右箭头 2"/>
          <p:cNvSpPr/>
          <p:nvPr/>
        </p:nvSpPr>
        <p:spPr>
          <a:xfrm flipV="1" rot="10800000">
            <a:off x="3487680" y="-5032440"/>
            <a:ext cx="8375760" cy="668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右箭头 3"/>
          <p:cNvSpPr/>
          <p:nvPr/>
        </p:nvSpPr>
        <p:spPr>
          <a:xfrm rot="10800000">
            <a:off x="3487680" y="1652400"/>
            <a:ext cx="8375760" cy="668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4191840" y="7779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怀着雄心壮志，准备当一名广告狂人 </a:t>
            </a:r>
            <a:r>
              <a:rPr b="0" lang="en-US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右箭头 50"/>
          <p:cNvSpPr/>
          <p:nvPr/>
        </p:nvSpPr>
        <p:spPr>
          <a:xfrm flipH="1" flipV="1" rot="10800000">
            <a:off x="1489680" y="2825640"/>
            <a:ext cx="8375400" cy="668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9"/>
          <p:cNvGrpSpPr/>
          <p:nvPr/>
        </p:nvGrpSpPr>
        <p:grpSpPr>
          <a:xfrm>
            <a:off x="11418840" y="601560"/>
            <a:ext cx="503280" cy="4830840"/>
            <a:chOff x="11418840" y="601560"/>
            <a:chExt cx="503280" cy="4830840"/>
          </a:xfrm>
        </p:grpSpPr>
        <p:sp>
          <p:nvSpPr>
            <p:cNvPr id="115" name="矩形 30"/>
            <p:cNvSpPr/>
            <p:nvPr/>
          </p:nvSpPr>
          <p:spPr>
            <a:xfrm>
              <a:off x="11418840" y="60156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31"/>
            <p:cNvSpPr/>
            <p:nvPr/>
          </p:nvSpPr>
          <p:spPr>
            <a:xfrm>
              <a:off x="11418840" y="179388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1"/>
            <p:cNvSpPr/>
            <p:nvPr/>
          </p:nvSpPr>
          <p:spPr>
            <a:xfrm>
              <a:off x="11418840" y="298656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2"/>
            <p:cNvSpPr/>
            <p:nvPr/>
          </p:nvSpPr>
          <p:spPr>
            <a:xfrm>
              <a:off x="11418840" y="417888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3"/>
            <p:cNvSpPr/>
            <p:nvPr/>
          </p:nvSpPr>
          <p:spPr>
            <a:xfrm>
              <a:off x="11418840" y="537156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"/>
          <p:cNvGrpSpPr/>
          <p:nvPr/>
        </p:nvGrpSpPr>
        <p:grpSpPr>
          <a:xfrm>
            <a:off x="4519440" y="3594240"/>
            <a:ext cx="1706400" cy="1501560"/>
            <a:chOff x="4519440" y="3594240"/>
            <a:chExt cx="1706400" cy="1501560"/>
          </a:xfrm>
        </p:grpSpPr>
        <p:sp>
          <p:nvSpPr>
            <p:cNvPr id="121" name="Freeform 6"/>
            <p:cNvSpPr/>
            <p:nvPr/>
          </p:nvSpPr>
          <p:spPr>
            <a:xfrm>
              <a:off x="4519440" y="3594240"/>
              <a:ext cx="702360" cy="704880"/>
            </a:xfrm>
            <a:custGeom>
              <a:avLst/>
              <a:gdLst/>
              <a:ahLst/>
              <a:rect l="l" t="t" r="r" b="b"/>
              <a:pathLst>
                <a:path w="553" h="555">
                  <a:moveTo>
                    <a:pt x="314" y="555"/>
                  </a:moveTo>
                  <a:lnTo>
                    <a:pt x="0" y="0"/>
                  </a:lnTo>
                  <a:lnTo>
                    <a:pt x="242" y="0"/>
                  </a:lnTo>
                  <a:lnTo>
                    <a:pt x="553" y="555"/>
                  </a:lnTo>
                  <a:lnTo>
                    <a:pt x="314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5837400" y="4775760"/>
              <a:ext cx="349200" cy="3200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5144040" y="3820320"/>
              <a:ext cx="137880" cy="13824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47" y="109"/>
                  </a:moveTo>
                  <a:lnTo>
                    <a:pt x="0" y="47"/>
                  </a:lnTo>
                  <a:lnTo>
                    <a:pt x="16" y="49"/>
                  </a:lnTo>
                  <a:lnTo>
                    <a:pt x="19" y="30"/>
                  </a:lnTo>
                  <a:lnTo>
                    <a:pt x="38" y="33"/>
                  </a:lnTo>
                  <a:lnTo>
                    <a:pt x="40" y="14"/>
                  </a:lnTo>
                  <a:lnTo>
                    <a:pt x="57" y="16"/>
                  </a:lnTo>
                  <a:lnTo>
                    <a:pt x="59" y="0"/>
                  </a:lnTo>
                  <a:lnTo>
                    <a:pt x="109" y="59"/>
                  </a:lnTo>
                  <a:lnTo>
                    <a:pt x="47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216400" y="3910320"/>
              <a:ext cx="186480" cy="226080"/>
            </a:xfrm>
            <a:custGeom>
              <a:avLst/>
              <a:gdLst/>
              <a:ahLst/>
              <a:rect l="l" t="t" r="r" b="b"/>
              <a:pathLst>
                <a:path w="147" h="178">
                  <a:moveTo>
                    <a:pt x="59" y="0"/>
                  </a:moveTo>
                  <a:lnTo>
                    <a:pt x="0" y="47"/>
                  </a:lnTo>
                  <a:lnTo>
                    <a:pt x="130" y="178"/>
                  </a:lnTo>
                  <a:lnTo>
                    <a:pt x="147" y="14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5025960" y="3810240"/>
              <a:ext cx="90360" cy="694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5"/>
                  </a:moveTo>
                  <a:cubicBezTo>
                    <a:pt x="30" y="5"/>
                    <a:pt x="19" y="0"/>
                    <a:pt x="8" y="7"/>
                  </a:cubicBezTo>
                  <a:cubicBezTo>
                    <a:pt x="8" y="7"/>
                    <a:pt x="0" y="13"/>
                    <a:pt x="4" y="19"/>
                  </a:cubicBezTo>
                  <a:cubicBezTo>
                    <a:pt x="4" y="19"/>
                    <a:pt x="9" y="23"/>
                    <a:pt x="14" y="16"/>
                  </a:cubicBezTo>
                  <a:cubicBezTo>
                    <a:pt x="14" y="16"/>
                    <a:pt x="19" y="8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4540680" y="4145400"/>
              <a:ext cx="699480" cy="950040"/>
            </a:xfrm>
            <a:custGeom>
              <a:avLst/>
              <a:gdLst/>
              <a:ahLst/>
              <a:rect l="l" t="t" r="r" b="b"/>
              <a:pathLst>
                <a:path w="232" h="315">
                  <a:moveTo>
                    <a:pt x="78" y="61"/>
                  </a:moveTo>
                  <a:cubicBezTo>
                    <a:pt x="97" y="98"/>
                    <a:pt x="181" y="263"/>
                    <a:pt x="208" y="315"/>
                  </a:cubicBezTo>
                  <a:cubicBezTo>
                    <a:pt x="232" y="315"/>
                    <a:pt x="232" y="315"/>
                    <a:pt x="232" y="315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0" y="315"/>
                    <a:pt x="0" y="315"/>
                    <a:pt x="0" y="315"/>
                  </a:cubicBezTo>
                  <a:cubicBezTo>
                    <a:pt x="21" y="315"/>
                    <a:pt x="21" y="315"/>
                    <a:pt x="21" y="315"/>
                  </a:cubicBezTo>
                  <a:cubicBezTo>
                    <a:pt x="30" y="278"/>
                    <a:pt x="69" y="103"/>
                    <a:pt x="7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5400360" y="3864600"/>
              <a:ext cx="825480" cy="1230840"/>
            </a:xfrm>
            <a:custGeom>
              <a:avLst/>
              <a:gdLst/>
              <a:ahLst/>
              <a:rect l="l" t="t" r="r" b="b"/>
              <a:pathLst>
                <a:path w="274" h="408">
                  <a:moveTo>
                    <a:pt x="161" y="91"/>
                  </a:moveTo>
                  <a:cubicBezTo>
                    <a:pt x="168" y="211"/>
                    <a:pt x="168" y="211"/>
                    <a:pt x="168" y="211"/>
                  </a:cubicBezTo>
                  <a:cubicBezTo>
                    <a:pt x="41" y="235"/>
                    <a:pt x="41" y="235"/>
                    <a:pt x="41" y="235"/>
                  </a:cubicBezTo>
                  <a:cubicBezTo>
                    <a:pt x="1" y="408"/>
                    <a:pt x="1" y="408"/>
                    <a:pt x="1" y="408"/>
                  </a:cubicBezTo>
                  <a:cubicBezTo>
                    <a:pt x="39" y="408"/>
                    <a:pt x="39" y="408"/>
                    <a:pt x="39" y="408"/>
                  </a:cubicBezTo>
                  <a:cubicBezTo>
                    <a:pt x="78" y="281"/>
                    <a:pt x="78" y="281"/>
                    <a:pt x="78" y="281"/>
                  </a:cubicBezTo>
                  <a:cubicBezTo>
                    <a:pt x="78" y="281"/>
                    <a:pt x="184" y="282"/>
                    <a:pt x="209" y="280"/>
                  </a:cubicBezTo>
                  <a:cubicBezTo>
                    <a:pt x="253" y="277"/>
                    <a:pt x="274" y="260"/>
                    <a:pt x="272" y="186"/>
                  </a:cubicBezTo>
                  <a:cubicBezTo>
                    <a:pt x="271" y="143"/>
                    <a:pt x="268" y="61"/>
                    <a:pt x="253" y="33"/>
                  </a:cubicBezTo>
                  <a:cubicBezTo>
                    <a:pt x="234" y="0"/>
                    <a:pt x="189" y="1"/>
                    <a:pt x="154" y="30"/>
                  </a:cubicBezTo>
                  <a:cubicBezTo>
                    <a:pt x="126" y="53"/>
                    <a:pt x="89" y="80"/>
                    <a:pt x="89" y="80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8" y="85"/>
                    <a:pt x="8" y="85"/>
                    <a:pt x="8" y="85"/>
                  </a:cubicBezTo>
                  <a:cubicBezTo>
                    <a:pt x="2" y="98"/>
                    <a:pt x="2" y="98"/>
                    <a:pt x="2" y="98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95" y="114"/>
                    <a:pt x="95" y="114"/>
                    <a:pt x="95" y="114"/>
                  </a:cubicBezTo>
                  <a:lnTo>
                    <a:pt x="16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2"/>
          <p:cNvGrpSpPr/>
          <p:nvPr/>
        </p:nvGrpSpPr>
        <p:grpSpPr>
          <a:xfrm>
            <a:off x="2460240" y="5934240"/>
            <a:ext cx="8475840" cy="466560"/>
            <a:chOff x="2460240" y="5934240"/>
            <a:chExt cx="8475840" cy="466560"/>
          </a:xfrm>
        </p:grpSpPr>
        <p:sp>
          <p:nvSpPr>
            <p:cNvPr id="129" name="矩形 33"/>
            <p:cNvSpPr/>
            <p:nvPr/>
          </p:nvSpPr>
          <p:spPr>
            <a:xfrm rot="5400000">
              <a:off x="344916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4"/>
            <p:cNvSpPr/>
            <p:nvPr/>
          </p:nvSpPr>
          <p:spPr>
            <a:xfrm rot="5400000">
              <a:off x="225720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5"/>
            <p:cNvSpPr/>
            <p:nvPr/>
          </p:nvSpPr>
          <p:spPr>
            <a:xfrm rot="5400000">
              <a:off x="465048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6"/>
            <p:cNvSpPr/>
            <p:nvPr/>
          </p:nvSpPr>
          <p:spPr>
            <a:xfrm rot="5400000">
              <a:off x="585144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7"/>
            <p:cNvSpPr/>
            <p:nvPr/>
          </p:nvSpPr>
          <p:spPr>
            <a:xfrm rot="5400000">
              <a:off x="705240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8"/>
            <p:cNvSpPr/>
            <p:nvPr/>
          </p:nvSpPr>
          <p:spPr>
            <a:xfrm rot="5400000">
              <a:off x="825912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39"/>
            <p:cNvSpPr/>
            <p:nvPr/>
          </p:nvSpPr>
          <p:spPr>
            <a:xfrm rot="5400000">
              <a:off x="946548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40"/>
            <p:cNvSpPr/>
            <p:nvPr/>
          </p:nvSpPr>
          <p:spPr>
            <a:xfrm rot="5400000">
              <a:off x="1067220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4"/>
          <p:cNvGrpSpPr/>
          <p:nvPr/>
        </p:nvGrpSpPr>
        <p:grpSpPr>
          <a:xfrm>
            <a:off x="6894720" y="2858040"/>
            <a:ext cx="1042200" cy="1042200"/>
            <a:chOff x="6894720" y="2858040"/>
            <a:chExt cx="1042200" cy="1042200"/>
          </a:xfrm>
        </p:grpSpPr>
        <p:sp>
          <p:nvSpPr>
            <p:cNvPr id="138" name="Freeform 5"/>
            <p:cNvSpPr/>
            <p:nvPr/>
          </p:nvSpPr>
          <p:spPr>
            <a:xfrm rot="2035200">
              <a:off x="7337160" y="3242160"/>
              <a:ext cx="67320" cy="128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4" y="3"/>
                    <a:pt x="3" y="6"/>
                    <a:pt x="3" y="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6" y="6"/>
                    <a:pt x="6" y="3"/>
                    <a:pt x="5" y="0"/>
                  </a:cubicBezTo>
                </a:path>
              </a:pathLst>
            </a:custGeom>
            <a:solidFill>
              <a:srgbClr val="fd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 rot="2035200">
              <a:off x="7040160" y="3003480"/>
              <a:ext cx="750960" cy="75096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70" y="0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93"/>
                    <a:pt x="18" y="111"/>
                    <a:pt x="41" y="111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93" y="111"/>
                    <a:pt x="111" y="93"/>
                    <a:pt x="111" y="70"/>
                  </a:cubicBezTo>
                  <a:cubicBezTo>
                    <a:pt x="111" y="41"/>
                    <a:pt x="111" y="41"/>
                    <a:pt x="111" y="41"/>
                  </a:cubicBezTo>
                  <a:cubicBezTo>
                    <a:pt x="111" y="18"/>
                    <a:pt x="93" y="0"/>
                    <a:pt x="70" y="0"/>
                  </a:cubicBezTo>
                  <a:moveTo>
                    <a:pt x="54" y="80"/>
                  </a:moveTo>
                  <a:cubicBezTo>
                    <a:pt x="51" y="68"/>
                    <a:pt x="51" y="68"/>
                    <a:pt x="51" y="68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4" y="80"/>
                    <a:pt x="34" y="80"/>
                    <a:pt x="34" y="80"/>
                  </a:cubicBezTo>
                  <a:cubicBezTo>
                    <a:pt x="23" y="80"/>
                    <a:pt x="23" y="80"/>
                    <a:pt x="23" y="80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66" y="80"/>
                    <a:pt x="66" y="80"/>
                    <a:pt x="66" y="80"/>
                  </a:cubicBezTo>
                  <a:lnTo>
                    <a:pt x="54" y="80"/>
                  </a:lnTo>
                  <a:close/>
                  <a:moveTo>
                    <a:pt x="82" y="80"/>
                  </a:moveTo>
                  <a:cubicBezTo>
                    <a:pt x="71" y="80"/>
                    <a:pt x="71" y="80"/>
                    <a:pt x="71" y="80"/>
                  </a:cubicBezTo>
                  <a:cubicBezTo>
                    <a:pt x="71" y="46"/>
                    <a:pt x="71" y="46"/>
                    <a:pt x="71" y="46"/>
                  </a:cubicBezTo>
                  <a:cubicBezTo>
                    <a:pt x="82" y="46"/>
                    <a:pt x="82" y="46"/>
                    <a:pt x="82" y="46"/>
                  </a:cubicBezTo>
                  <a:lnTo>
                    <a:pt x="82" y="80"/>
                  </a:lnTo>
                  <a:close/>
                  <a:moveTo>
                    <a:pt x="76" y="42"/>
                  </a:moveTo>
                  <a:cubicBezTo>
                    <a:pt x="73" y="42"/>
                    <a:pt x="71" y="39"/>
                    <a:pt x="71" y="36"/>
                  </a:cubicBezTo>
                  <a:cubicBezTo>
                    <a:pt x="71" y="33"/>
                    <a:pt x="73" y="31"/>
                    <a:pt x="76" y="31"/>
                  </a:cubicBezTo>
                  <a:cubicBezTo>
                    <a:pt x="80" y="31"/>
                    <a:pt x="82" y="33"/>
                    <a:pt x="82" y="36"/>
                  </a:cubicBezTo>
                  <a:cubicBezTo>
                    <a:pt x="82" y="39"/>
                    <a:pt x="80" y="42"/>
                    <a:pt x="76" y="42"/>
                  </a:cubicBezTo>
                </a:path>
              </a:pathLst>
            </a:custGeom>
            <a:solidFill>
              <a:srgbClr val="fd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7900560" y="2363400"/>
            <a:ext cx="1589400" cy="1583640"/>
            <a:chOff x="7900560" y="2363400"/>
            <a:chExt cx="1589400" cy="1583640"/>
          </a:xfrm>
        </p:grpSpPr>
        <p:sp>
          <p:nvSpPr>
            <p:cNvPr id="141" name="Freeform 10"/>
            <p:cNvSpPr/>
            <p:nvPr/>
          </p:nvSpPr>
          <p:spPr>
            <a:xfrm rot="20421600">
              <a:off x="8472600" y="3033000"/>
              <a:ext cx="133200" cy="166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5"/>
                    <a:pt x="2" y="15"/>
                    <a:pt x="3" y="15"/>
                  </a:cubicBezTo>
                  <a:cubicBezTo>
                    <a:pt x="9" y="15"/>
                    <a:pt x="12" y="12"/>
                    <a:pt x="12" y="7"/>
                  </a:cubicBezTo>
                  <a:cubicBezTo>
                    <a:pt x="12" y="3"/>
                    <a:pt x="9" y="0"/>
                    <a:pt x="4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 rot="20421600">
              <a:off x="8071920" y="2536560"/>
              <a:ext cx="1246320" cy="12366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71" y="0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9" y="0"/>
                    <a:pt x="0" y="18"/>
                    <a:pt x="0" y="4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93"/>
                    <a:pt x="19" y="111"/>
                    <a:pt x="41" y="111"/>
                  </a:cubicBezTo>
                  <a:cubicBezTo>
                    <a:pt x="71" y="111"/>
                    <a:pt x="71" y="111"/>
                    <a:pt x="71" y="111"/>
                  </a:cubicBezTo>
                  <a:cubicBezTo>
                    <a:pt x="93" y="111"/>
                    <a:pt x="112" y="93"/>
                    <a:pt x="112" y="70"/>
                  </a:cubicBezTo>
                  <a:cubicBezTo>
                    <a:pt x="112" y="41"/>
                    <a:pt x="112" y="41"/>
                    <a:pt x="112" y="41"/>
                  </a:cubicBezTo>
                  <a:cubicBezTo>
                    <a:pt x="112" y="18"/>
                    <a:pt x="93" y="0"/>
                    <a:pt x="71" y="0"/>
                  </a:cubicBezTo>
                  <a:moveTo>
                    <a:pt x="56" y="58"/>
                  </a:moveTo>
                  <a:cubicBezTo>
                    <a:pt x="53" y="61"/>
                    <a:pt x="48" y="63"/>
                    <a:pt x="42" y="63"/>
                  </a:cubicBezTo>
                  <a:cubicBezTo>
                    <a:pt x="40" y="63"/>
                    <a:pt x="39" y="62"/>
                    <a:pt x="38" y="62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28" y="79"/>
                    <a:pt x="28" y="79"/>
                    <a:pt x="28" y="79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31" y="33"/>
                    <a:pt x="35" y="33"/>
                    <a:pt x="42" y="33"/>
                  </a:cubicBezTo>
                  <a:cubicBezTo>
                    <a:pt x="48" y="33"/>
                    <a:pt x="53" y="34"/>
                    <a:pt x="56" y="36"/>
                  </a:cubicBezTo>
                  <a:cubicBezTo>
                    <a:pt x="59" y="39"/>
                    <a:pt x="61" y="42"/>
                    <a:pt x="61" y="47"/>
                  </a:cubicBezTo>
                  <a:cubicBezTo>
                    <a:pt x="61" y="51"/>
                    <a:pt x="59" y="55"/>
                    <a:pt x="56" y="58"/>
                  </a:cubicBezTo>
                  <a:moveTo>
                    <a:pt x="74" y="79"/>
                  </a:moveTo>
                  <a:cubicBezTo>
                    <a:pt x="70" y="79"/>
                    <a:pt x="66" y="78"/>
                    <a:pt x="64" y="77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67" y="71"/>
                    <a:pt x="71" y="72"/>
                    <a:pt x="74" y="72"/>
                  </a:cubicBezTo>
                  <a:cubicBezTo>
                    <a:pt x="77" y="72"/>
                    <a:pt x="79" y="71"/>
                    <a:pt x="79" y="69"/>
                  </a:cubicBezTo>
                  <a:cubicBezTo>
                    <a:pt x="79" y="68"/>
                    <a:pt x="78" y="67"/>
                    <a:pt x="74" y="66"/>
                  </a:cubicBezTo>
                  <a:cubicBezTo>
                    <a:pt x="67" y="63"/>
                    <a:pt x="64" y="60"/>
                    <a:pt x="64" y="56"/>
                  </a:cubicBezTo>
                  <a:cubicBezTo>
                    <a:pt x="64" y="49"/>
                    <a:pt x="70" y="45"/>
                    <a:pt x="78" y="45"/>
                  </a:cubicBezTo>
                  <a:cubicBezTo>
                    <a:pt x="82" y="45"/>
                    <a:pt x="85" y="46"/>
                    <a:pt x="87" y="47"/>
                  </a:cubicBezTo>
                  <a:cubicBezTo>
                    <a:pt x="86" y="54"/>
                    <a:pt x="86" y="54"/>
                    <a:pt x="86" y="54"/>
                  </a:cubicBezTo>
                  <a:cubicBezTo>
                    <a:pt x="84" y="53"/>
                    <a:pt x="81" y="52"/>
                    <a:pt x="78" y="52"/>
                  </a:cubicBezTo>
                  <a:cubicBezTo>
                    <a:pt x="76" y="52"/>
                    <a:pt x="74" y="53"/>
                    <a:pt x="74" y="55"/>
                  </a:cubicBezTo>
                  <a:cubicBezTo>
                    <a:pt x="74" y="56"/>
                    <a:pt x="76" y="57"/>
                    <a:pt x="80" y="58"/>
                  </a:cubicBezTo>
                  <a:cubicBezTo>
                    <a:pt x="86" y="61"/>
                    <a:pt x="89" y="64"/>
                    <a:pt x="89" y="69"/>
                  </a:cubicBezTo>
                  <a:cubicBezTo>
                    <a:pt x="89" y="75"/>
                    <a:pt x="84" y="79"/>
                    <a:pt x="74" y="79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4"/>
          <p:cNvGrpSpPr/>
          <p:nvPr/>
        </p:nvGrpSpPr>
        <p:grpSpPr>
          <a:xfrm>
            <a:off x="5118120" y="2079720"/>
            <a:ext cx="1658880" cy="1741320"/>
            <a:chOff x="5118120" y="2079720"/>
            <a:chExt cx="1658880" cy="1741320"/>
          </a:xfrm>
        </p:grpSpPr>
        <p:sp>
          <p:nvSpPr>
            <p:cNvPr id="144" name="椭圆 45"/>
            <p:cNvSpPr/>
            <p:nvPr/>
          </p:nvSpPr>
          <p:spPr>
            <a:xfrm>
              <a:off x="5335200" y="2524320"/>
              <a:ext cx="1297080" cy="129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5118120" y="2308320"/>
              <a:ext cx="1658880" cy="95148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47"/>
            <p:cNvSpPr/>
            <p:nvPr/>
          </p:nvSpPr>
          <p:spPr>
            <a:xfrm>
              <a:off x="550404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48"/>
            <p:cNvSpPr/>
            <p:nvPr/>
          </p:nvSpPr>
          <p:spPr>
            <a:xfrm>
              <a:off x="606420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5220360" y="2079720"/>
              <a:ext cx="1426320" cy="1119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54"/>
            <p:cNvSpPr/>
            <p:nvPr/>
          </p:nvSpPr>
          <p:spPr>
            <a:xfrm>
              <a:off x="568224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55"/>
            <p:cNvSpPr/>
            <p:nvPr/>
          </p:nvSpPr>
          <p:spPr>
            <a:xfrm>
              <a:off x="620820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15"/>
          <p:cNvSpPr/>
          <p:nvPr/>
        </p:nvSpPr>
        <p:spPr>
          <a:xfrm rot="16200000">
            <a:off x="4002120" y="2401560"/>
            <a:ext cx="498600" cy="1012680"/>
          </a:xfrm>
          <a:custGeom>
            <a:avLst/>
            <a:gdLst/>
            <a:ahLst/>
            <a:rect l="l" t="t" r="r" b="b"/>
            <a:pathLst>
              <a:path w="142" h="293">
                <a:moveTo>
                  <a:pt x="133" y="6"/>
                </a:moveTo>
                <a:cubicBezTo>
                  <a:pt x="133" y="0"/>
                  <a:pt x="133" y="0"/>
                  <a:pt x="133" y="0"/>
                </a:cubicBezTo>
                <a:cubicBezTo>
                  <a:pt x="129" y="4"/>
                  <a:pt x="129" y="4"/>
                  <a:pt x="129" y="4"/>
                </a:cubicBezTo>
                <a:cubicBezTo>
                  <a:pt x="119" y="14"/>
                  <a:pt x="111" y="18"/>
                  <a:pt x="105" y="21"/>
                </a:cubicBezTo>
                <a:cubicBezTo>
                  <a:pt x="97" y="25"/>
                  <a:pt x="91" y="28"/>
                  <a:pt x="86" y="39"/>
                </a:cubicBezTo>
                <a:cubicBezTo>
                  <a:pt x="82" y="52"/>
                  <a:pt x="83" y="65"/>
                  <a:pt x="83" y="70"/>
                </a:cubicBezTo>
                <a:cubicBezTo>
                  <a:pt x="82" y="70"/>
                  <a:pt x="82" y="70"/>
                  <a:pt x="82" y="70"/>
                </a:cubicBezTo>
                <a:cubicBezTo>
                  <a:pt x="77" y="72"/>
                  <a:pt x="73" y="75"/>
                  <a:pt x="71" y="81"/>
                </a:cubicBezTo>
                <a:cubicBezTo>
                  <a:pt x="64" y="98"/>
                  <a:pt x="9" y="260"/>
                  <a:pt x="7" y="267"/>
                </a:cubicBezTo>
                <a:cubicBezTo>
                  <a:pt x="7" y="268"/>
                  <a:pt x="0" y="285"/>
                  <a:pt x="11" y="289"/>
                </a:cubicBezTo>
                <a:cubicBezTo>
                  <a:pt x="20" y="293"/>
                  <a:pt x="29" y="278"/>
                  <a:pt x="30" y="276"/>
                </a:cubicBezTo>
                <a:cubicBezTo>
                  <a:pt x="33" y="270"/>
                  <a:pt x="111" y="118"/>
                  <a:pt x="118" y="100"/>
                </a:cubicBezTo>
                <a:cubicBezTo>
                  <a:pt x="119" y="98"/>
                  <a:pt x="120" y="95"/>
                  <a:pt x="120" y="92"/>
                </a:cubicBezTo>
                <a:cubicBezTo>
                  <a:pt x="120" y="90"/>
                  <a:pt x="119" y="88"/>
                  <a:pt x="118" y="86"/>
                </a:cubicBezTo>
                <a:cubicBezTo>
                  <a:pt x="118" y="85"/>
                  <a:pt x="118" y="85"/>
                  <a:pt x="118" y="85"/>
                </a:cubicBezTo>
                <a:cubicBezTo>
                  <a:pt x="121" y="82"/>
                  <a:pt x="130" y="73"/>
                  <a:pt x="137" y="60"/>
                </a:cubicBezTo>
                <a:cubicBezTo>
                  <a:pt x="142" y="49"/>
                  <a:pt x="140" y="43"/>
                  <a:pt x="138" y="35"/>
                </a:cubicBezTo>
                <a:cubicBezTo>
                  <a:pt x="135" y="28"/>
                  <a:pt x="133" y="20"/>
                  <a:pt x="133" y="6"/>
                </a:cubicBezTo>
                <a:close/>
                <a:moveTo>
                  <a:pt x="104" y="110"/>
                </a:moveTo>
                <a:cubicBezTo>
                  <a:pt x="95" y="129"/>
                  <a:pt x="46" y="227"/>
                  <a:pt x="46" y="227"/>
                </a:cubicBezTo>
                <a:cubicBezTo>
                  <a:pt x="46" y="227"/>
                  <a:pt x="93" y="118"/>
                  <a:pt x="97" y="108"/>
                </a:cubicBezTo>
                <a:cubicBezTo>
                  <a:pt x="100" y="101"/>
                  <a:pt x="105" y="94"/>
                  <a:pt x="101" y="84"/>
                </a:cubicBezTo>
                <a:cubicBezTo>
                  <a:pt x="101" y="84"/>
                  <a:pt x="115" y="88"/>
                  <a:pt x="104" y="110"/>
                </a:cubicBezTo>
                <a:close/>
                <a:moveTo>
                  <a:pt x="133" y="58"/>
                </a:moveTo>
                <a:cubicBezTo>
                  <a:pt x="127" y="69"/>
                  <a:pt x="118" y="78"/>
                  <a:pt x="115" y="81"/>
                </a:cubicBezTo>
                <a:cubicBezTo>
                  <a:pt x="110" y="75"/>
                  <a:pt x="103" y="72"/>
                  <a:pt x="102" y="72"/>
                </a:cubicBezTo>
                <a:cubicBezTo>
                  <a:pt x="101" y="72"/>
                  <a:pt x="95" y="69"/>
                  <a:pt x="88" y="69"/>
                </a:cubicBezTo>
                <a:cubicBezTo>
                  <a:pt x="88" y="68"/>
                  <a:pt x="87" y="66"/>
                  <a:pt x="87" y="64"/>
                </a:cubicBezTo>
                <a:cubicBezTo>
                  <a:pt x="87" y="58"/>
                  <a:pt x="88" y="49"/>
                  <a:pt x="91" y="41"/>
                </a:cubicBezTo>
                <a:cubicBezTo>
                  <a:pt x="94" y="31"/>
                  <a:pt x="99" y="29"/>
                  <a:pt x="107" y="25"/>
                </a:cubicBezTo>
                <a:cubicBezTo>
                  <a:pt x="111" y="23"/>
                  <a:pt x="117" y="20"/>
                  <a:pt x="124" y="15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0" y="39"/>
                  <a:pt x="106" y="41"/>
                  <a:pt x="105" y="45"/>
                </a:cubicBezTo>
                <a:cubicBezTo>
                  <a:pt x="103" y="49"/>
                  <a:pt x="105" y="54"/>
                  <a:pt x="109" y="55"/>
                </a:cubicBezTo>
                <a:cubicBezTo>
                  <a:pt x="113" y="57"/>
                  <a:pt x="118" y="55"/>
                  <a:pt x="120" y="51"/>
                </a:cubicBezTo>
                <a:cubicBezTo>
                  <a:pt x="121" y="48"/>
                  <a:pt x="120" y="44"/>
                  <a:pt x="118" y="42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25"/>
                  <a:pt x="131" y="31"/>
                  <a:pt x="133" y="36"/>
                </a:cubicBezTo>
                <a:cubicBezTo>
                  <a:pt x="135" y="40"/>
                  <a:pt x="136" y="44"/>
                  <a:pt x="136" y="47"/>
                </a:cubicBezTo>
                <a:cubicBezTo>
                  <a:pt x="136" y="50"/>
                  <a:pt x="135" y="54"/>
                  <a:pt x="133" y="58"/>
                </a:cubicBezTo>
                <a:close/>
              </a:path>
            </a:pathLst>
          </a:custGeom>
          <a:solidFill>
            <a:srgbClr val="f39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7"/>
          <p:cNvSpPr/>
          <p:nvPr/>
        </p:nvSpPr>
        <p:spPr>
          <a:xfrm rot="963600">
            <a:off x="3263760" y="3882960"/>
            <a:ext cx="11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cc0e"/>
                </a:solidFill>
                <a:latin typeface="微软雅黑"/>
              </a:rPr>
              <a:t>BIG</a:t>
            </a:r>
            <a:r>
              <a:rPr b="1" lang="en-US" sz="3200" spc="-1" strike="noStrike">
                <a:solidFill>
                  <a:srgbClr val="fdcc0e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cc0e"/>
                </a:solidFill>
                <a:latin typeface="微软雅黑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5"/>
          <p:cNvSpPr/>
          <p:nvPr/>
        </p:nvSpPr>
        <p:spPr>
          <a:xfrm rot="1791000">
            <a:off x="6705720" y="3673080"/>
            <a:ext cx="317520" cy="644400"/>
          </a:xfrm>
          <a:custGeom>
            <a:avLst/>
            <a:gdLst/>
            <a:ahLst/>
            <a:rect l="l" t="t" r="r" b="b"/>
            <a:pathLst>
              <a:path w="142" h="293">
                <a:moveTo>
                  <a:pt x="133" y="6"/>
                </a:moveTo>
                <a:cubicBezTo>
                  <a:pt x="133" y="0"/>
                  <a:pt x="133" y="0"/>
                  <a:pt x="133" y="0"/>
                </a:cubicBezTo>
                <a:cubicBezTo>
                  <a:pt x="129" y="4"/>
                  <a:pt x="129" y="4"/>
                  <a:pt x="129" y="4"/>
                </a:cubicBezTo>
                <a:cubicBezTo>
                  <a:pt x="119" y="14"/>
                  <a:pt x="111" y="18"/>
                  <a:pt x="105" y="21"/>
                </a:cubicBezTo>
                <a:cubicBezTo>
                  <a:pt x="97" y="25"/>
                  <a:pt x="91" y="28"/>
                  <a:pt x="86" y="39"/>
                </a:cubicBezTo>
                <a:cubicBezTo>
                  <a:pt x="82" y="52"/>
                  <a:pt x="83" y="65"/>
                  <a:pt x="83" y="70"/>
                </a:cubicBezTo>
                <a:cubicBezTo>
                  <a:pt x="82" y="70"/>
                  <a:pt x="82" y="70"/>
                  <a:pt x="82" y="70"/>
                </a:cubicBezTo>
                <a:cubicBezTo>
                  <a:pt x="77" y="72"/>
                  <a:pt x="73" y="75"/>
                  <a:pt x="71" y="81"/>
                </a:cubicBezTo>
                <a:cubicBezTo>
                  <a:pt x="64" y="98"/>
                  <a:pt x="9" y="260"/>
                  <a:pt x="7" y="267"/>
                </a:cubicBezTo>
                <a:cubicBezTo>
                  <a:pt x="7" y="268"/>
                  <a:pt x="0" y="285"/>
                  <a:pt x="11" y="289"/>
                </a:cubicBezTo>
                <a:cubicBezTo>
                  <a:pt x="20" y="293"/>
                  <a:pt x="29" y="278"/>
                  <a:pt x="30" y="276"/>
                </a:cubicBezTo>
                <a:cubicBezTo>
                  <a:pt x="33" y="270"/>
                  <a:pt x="111" y="118"/>
                  <a:pt x="118" y="100"/>
                </a:cubicBezTo>
                <a:cubicBezTo>
                  <a:pt x="119" y="98"/>
                  <a:pt x="120" y="95"/>
                  <a:pt x="120" y="92"/>
                </a:cubicBezTo>
                <a:cubicBezTo>
                  <a:pt x="120" y="90"/>
                  <a:pt x="119" y="88"/>
                  <a:pt x="118" y="86"/>
                </a:cubicBezTo>
                <a:cubicBezTo>
                  <a:pt x="118" y="85"/>
                  <a:pt x="118" y="85"/>
                  <a:pt x="118" y="85"/>
                </a:cubicBezTo>
                <a:cubicBezTo>
                  <a:pt x="121" y="82"/>
                  <a:pt x="130" y="73"/>
                  <a:pt x="137" y="60"/>
                </a:cubicBezTo>
                <a:cubicBezTo>
                  <a:pt x="142" y="49"/>
                  <a:pt x="140" y="43"/>
                  <a:pt x="138" y="35"/>
                </a:cubicBezTo>
                <a:cubicBezTo>
                  <a:pt x="135" y="28"/>
                  <a:pt x="133" y="20"/>
                  <a:pt x="133" y="6"/>
                </a:cubicBezTo>
                <a:close/>
                <a:moveTo>
                  <a:pt x="104" y="110"/>
                </a:moveTo>
                <a:cubicBezTo>
                  <a:pt x="95" y="129"/>
                  <a:pt x="46" y="227"/>
                  <a:pt x="46" y="227"/>
                </a:cubicBezTo>
                <a:cubicBezTo>
                  <a:pt x="46" y="227"/>
                  <a:pt x="93" y="118"/>
                  <a:pt x="97" y="108"/>
                </a:cubicBezTo>
                <a:cubicBezTo>
                  <a:pt x="100" y="101"/>
                  <a:pt x="105" y="94"/>
                  <a:pt x="101" y="84"/>
                </a:cubicBezTo>
                <a:cubicBezTo>
                  <a:pt x="101" y="84"/>
                  <a:pt x="115" y="88"/>
                  <a:pt x="104" y="110"/>
                </a:cubicBezTo>
                <a:close/>
                <a:moveTo>
                  <a:pt x="133" y="58"/>
                </a:moveTo>
                <a:cubicBezTo>
                  <a:pt x="127" y="69"/>
                  <a:pt x="118" y="78"/>
                  <a:pt x="115" y="81"/>
                </a:cubicBezTo>
                <a:cubicBezTo>
                  <a:pt x="110" y="75"/>
                  <a:pt x="103" y="72"/>
                  <a:pt x="102" y="72"/>
                </a:cubicBezTo>
                <a:cubicBezTo>
                  <a:pt x="101" y="72"/>
                  <a:pt x="95" y="69"/>
                  <a:pt x="88" y="69"/>
                </a:cubicBezTo>
                <a:cubicBezTo>
                  <a:pt x="88" y="68"/>
                  <a:pt x="87" y="66"/>
                  <a:pt x="87" y="64"/>
                </a:cubicBezTo>
                <a:cubicBezTo>
                  <a:pt x="87" y="58"/>
                  <a:pt x="88" y="49"/>
                  <a:pt x="91" y="41"/>
                </a:cubicBezTo>
                <a:cubicBezTo>
                  <a:pt x="94" y="31"/>
                  <a:pt x="99" y="29"/>
                  <a:pt x="107" y="25"/>
                </a:cubicBezTo>
                <a:cubicBezTo>
                  <a:pt x="111" y="23"/>
                  <a:pt x="117" y="20"/>
                  <a:pt x="124" y="15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0" y="39"/>
                  <a:pt x="106" y="41"/>
                  <a:pt x="105" y="45"/>
                </a:cubicBezTo>
                <a:cubicBezTo>
                  <a:pt x="103" y="49"/>
                  <a:pt x="105" y="54"/>
                  <a:pt x="109" y="55"/>
                </a:cubicBezTo>
                <a:cubicBezTo>
                  <a:pt x="113" y="57"/>
                  <a:pt x="118" y="55"/>
                  <a:pt x="120" y="51"/>
                </a:cubicBezTo>
                <a:cubicBezTo>
                  <a:pt x="121" y="48"/>
                  <a:pt x="120" y="44"/>
                  <a:pt x="118" y="42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25"/>
                  <a:pt x="131" y="31"/>
                  <a:pt x="133" y="36"/>
                </a:cubicBezTo>
                <a:cubicBezTo>
                  <a:pt x="135" y="40"/>
                  <a:pt x="136" y="44"/>
                  <a:pt x="136" y="47"/>
                </a:cubicBezTo>
                <a:cubicBezTo>
                  <a:pt x="136" y="50"/>
                  <a:pt x="135" y="54"/>
                  <a:pt x="133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5"/>
          <p:cNvSpPr/>
          <p:nvPr/>
        </p:nvSpPr>
        <p:spPr>
          <a:xfrm rot="3991800">
            <a:off x="7657560" y="3624120"/>
            <a:ext cx="317520" cy="644760"/>
          </a:xfrm>
          <a:custGeom>
            <a:avLst/>
            <a:gdLst/>
            <a:ahLst/>
            <a:rect l="l" t="t" r="r" b="b"/>
            <a:pathLst>
              <a:path w="142" h="293">
                <a:moveTo>
                  <a:pt x="133" y="6"/>
                </a:moveTo>
                <a:cubicBezTo>
                  <a:pt x="133" y="0"/>
                  <a:pt x="133" y="0"/>
                  <a:pt x="133" y="0"/>
                </a:cubicBezTo>
                <a:cubicBezTo>
                  <a:pt x="129" y="4"/>
                  <a:pt x="129" y="4"/>
                  <a:pt x="129" y="4"/>
                </a:cubicBezTo>
                <a:cubicBezTo>
                  <a:pt x="119" y="14"/>
                  <a:pt x="111" y="18"/>
                  <a:pt x="105" y="21"/>
                </a:cubicBezTo>
                <a:cubicBezTo>
                  <a:pt x="97" y="25"/>
                  <a:pt x="91" y="28"/>
                  <a:pt x="86" y="39"/>
                </a:cubicBezTo>
                <a:cubicBezTo>
                  <a:pt x="82" y="52"/>
                  <a:pt x="83" y="65"/>
                  <a:pt x="83" y="70"/>
                </a:cubicBezTo>
                <a:cubicBezTo>
                  <a:pt x="82" y="70"/>
                  <a:pt x="82" y="70"/>
                  <a:pt x="82" y="70"/>
                </a:cubicBezTo>
                <a:cubicBezTo>
                  <a:pt x="77" y="72"/>
                  <a:pt x="73" y="75"/>
                  <a:pt x="71" y="81"/>
                </a:cubicBezTo>
                <a:cubicBezTo>
                  <a:pt x="64" y="98"/>
                  <a:pt x="9" y="260"/>
                  <a:pt x="7" y="267"/>
                </a:cubicBezTo>
                <a:cubicBezTo>
                  <a:pt x="7" y="268"/>
                  <a:pt x="0" y="285"/>
                  <a:pt x="11" y="289"/>
                </a:cubicBezTo>
                <a:cubicBezTo>
                  <a:pt x="20" y="293"/>
                  <a:pt x="29" y="278"/>
                  <a:pt x="30" y="276"/>
                </a:cubicBezTo>
                <a:cubicBezTo>
                  <a:pt x="33" y="270"/>
                  <a:pt x="111" y="118"/>
                  <a:pt x="118" y="100"/>
                </a:cubicBezTo>
                <a:cubicBezTo>
                  <a:pt x="119" y="98"/>
                  <a:pt x="120" y="95"/>
                  <a:pt x="120" y="92"/>
                </a:cubicBezTo>
                <a:cubicBezTo>
                  <a:pt x="120" y="90"/>
                  <a:pt x="119" y="88"/>
                  <a:pt x="118" y="86"/>
                </a:cubicBezTo>
                <a:cubicBezTo>
                  <a:pt x="118" y="85"/>
                  <a:pt x="118" y="85"/>
                  <a:pt x="118" y="85"/>
                </a:cubicBezTo>
                <a:cubicBezTo>
                  <a:pt x="121" y="82"/>
                  <a:pt x="130" y="73"/>
                  <a:pt x="137" y="60"/>
                </a:cubicBezTo>
                <a:cubicBezTo>
                  <a:pt x="142" y="49"/>
                  <a:pt x="140" y="43"/>
                  <a:pt x="138" y="35"/>
                </a:cubicBezTo>
                <a:cubicBezTo>
                  <a:pt x="135" y="28"/>
                  <a:pt x="133" y="20"/>
                  <a:pt x="133" y="6"/>
                </a:cubicBezTo>
                <a:close/>
                <a:moveTo>
                  <a:pt x="104" y="110"/>
                </a:moveTo>
                <a:cubicBezTo>
                  <a:pt x="95" y="129"/>
                  <a:pt x="46" y="227"/>
                  <a:pt x="46" y="227"/>
                </a:cubicBezTo>
                <a:cubicBezTo>
                  <a:pt x="46" y="227"/>
                  <a:pt x="93" y="118"/>
                  <a:pt x="97" y="108"/>
                </a:cubicBezTo>
                <a:cubicBezTo>
                  <a:pt x="100" y="101"/>
                  <a:pt x="105" y="94"/>
                  <a:pt x="101" y="84"/>
                </a:cubicBezTo>
                <a:cubicBezTo>
                  <a:pt x="101" y="84"/>
                  <a:pt x="115" y="88"/>
                  <a:pt x="104" y="110"/>
                </a:cubicBezTo>
                <a:close/>
                <a:moveTo>
                  <a:pt x="133" y="58"/>
                </a:moveTo>
                <a:cubicBezTo>
                  <a:pt x="127" y="69"/>
                  <a:pt x="118" y="78"/>
                  <a:pt x="115" y="81"/>
                </a:cubicBezTo>
                <a:cubicBezTo>
                  <a:pt x="110" y="75"/>
                  <a:pt x="103" y="72"/>
                  <a:pt x="102" y="72"/>
                </a:cubicBezTo>
                <a:cubicBezTo>
                  <a:pt x="101" y="72"/>
                  <a:pt x="95" y="69"/>
                  <a:pt x="88" y="69"/>
                </a:cubicBezTo>
                <a:cubicBezTo>
                  <a:pt x="88" y="68"/>
                  <a:pt x="87" y="66"/>
                  <a:pt x="87" y="64"/>
                </a:cubicBezTo>
                <a:cubicBezTo>
                  <a:pt x="87" y="58"/>
                  <a:pt x="88" y="49"/>
                  <a:pt x="91" y="41"/>
                </a:cubicBezTo>
                <a:cubicBezTo>
                  <a:pt x="94" y="31"/>
                  <a:pt x="99" y="29"/>
                  <a:pt x="107" y="25"/>
                </a:cubicBezTo>
                <a:cubicBezTo>
                  <a:pt x="111" y="23"/>
                  <a:pt x="117" y="20"/>
                  <a:pt x="124" y="15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0" y="39"/>
                  <a:pt x="106" y="41"/>
                  <a:pt x="105" y="45"/>
                </a:cubicBezTo>
                <a:cubicBezTo>
                  <a:pt x="103" y="49"/>
                  <a:pt x="105" y="54"/>
                  <a:pt x="109" y="55"/>
                </a:cubicBezTo>
                <a:cubicBezTo>
                  <a:pt x="113" y="57"/>
                  <a:pt x="118" y="55"/>
                  <a:pt x="120" y="51"/>
                </a:cubicBezTo>
                <a:cubicBezTo>
                  <a:pt x="121" y="48"/>
                  <a:pt x="120" y="44"/>
                  <a:pt x="118" y="42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25"/>
                  <a:pt x="131" y="31"/>
                  <a:pt x="133" y="36"/>
                </a:cubicBezTo>
                <a:cubicBezTo>
                  <a:pt x="135" y="40"/>
                  <a:pt x="136" y="44"/>
                  <a:pt x="136" y="47"/>
                </a:cubicBezTo>
                <a:cubicBezTo>
                  <a:pt x="136" y="50"/>
                  <a:pt x="135" y="54"/>
                  <a:pt x="133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6430680" y="4356720"/>
            <a:ext cx="613800" cy="610200"/>
            <a:chOff x="6430680" y="4356720"/>
            <a:chExt cx="613800" cy="610200"/>
          </a:xfrm>
        </p:grpSpPr>
        <p:sp>
          <p:nvSpPr>
            <p:cNvPr id="156" name="Freeform 19"/>
            <p:cNvSpPr/>
            <p:nvPr/>
          </p:nvSpPr>
          <p:spPr>
            <a:xfrm rot="8370600">
              <a:off x="6512040" y="4452840"/>
              <a:ext cx="450720" cy="417600"/>
            </a:xfrm>
            <a:custGeom>
              <a:avLst/>
              <a:gdLst/>
              <a:ahLst/>
              <a:rect l="l" t="t" r="r" b="b"/>
              <a:pathLst>
                <a:path w="345" h="320">
                  <a:moveTo>
                    <a:pt x="270" y="98"/>
                  </a:moveTo>
                  <a:cubicBezTo>
                    <a:pt x="270" y="98"/>
                    <a:pt x="270" y="98"/>
                    <a:pt x="270" y="98"/>
                  </a:cubicBezTo>
                  <a:cubicBezTo>
                    <a:pt x="269" y="98"/>
                    <a:pt x="269" y="98"/>
                    <a:pt x="269" y="98"/>
                  </a:cubicBezTo>
                  <a:cubicBezTo>
                    <a:pt x="208" y="39"/>
                    <a:pt x="208" y="39"/>
                    <a:pt x="208" y="39"/>
                  </a:cubicBezTo>
                  <a:cubicBezTo>
                    <a:pt x="204" y="40"/>
                    <a:pt x="204" y="40"/>
                    <a:pt x="204" y="40"/>
                  </a:cubicBezTo>
                  <a:cubicBezTo>
                    <a:pt x="198" y="43"/>
                    <a:pt x="198" y="43"/>
                    <a:pt x="198" y="43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50" y="1"/>
                    <a:pt x="150" y="1"/>
                    <a:pt x="150" y="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73"/>
                    <a:pt x="38" y="173"/>
                    <a:pt x="38" y="173"/>
                  </a:cubicBezTo>
                  <a:cubicBezTo>
                    <a:pt x="38" y="189"/>
                    <a:pt x="38" y="189"/>
                    <a:pt x="38" y="189"/>
                  </a:cubicBezTo>
                  <a:cubicBezTo>
                    <a:pt x="176" y="320"/>
                    <a:pt x="176" y="320"/>
                    <a:pt x="176" y="320"/>
                  </a:cubicBezTo>
                  <a:cubicBezTo>
                    <a:pt x="345" y="253"/>
                    <a:pt x="345" y="253"/>
                    <a:pt x="345" y="253"/>
                  </a:cubicBezTo>
                  <a:cubicBezTo>
                    <a:pt x="345" y="170"/>
                    <a:pt x="345" y="170"/>
                    <a:pt x="345" y="170"/>
                  </a:cubicBezTo>
                  <a:lnTo>
                    <a:pt x="270" y="98"/>
                  </a:lnTo>
                  <a:close/>
                  <a:moveTo>
                    <a:pt x="151" y="12"/>
                  </a:moveTo>
                  <a:cubicBezTo>
                    <a:pt x="152" y="14"/>
                    <a:pt x="168" y="29"/>
                    <a:pt x="187" y="47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36" y="87"/>
                    <a:pt x="23" y="74"/>
                    <a:pt x="15" y="67"/>
                  </a:cubicBezTo>
                  <a:cubicBezTo>
                    <a:pt x="39" y="57"/>
                    <a:pt x="145" y="15"/>
                    <a:pt x="151" y="12"/>
                  </a:cubicBezTo>
                  <a:close/>
                  <a:moveTo>
                    <a:pt x="38" y="107"/>
                  </a:moveTo>
                  <a:cubicBezTo>
                    <a:pt x="38" y="112"/>
                    <a:pt x="38" y="112"/>
                    <a:pt x="38" y="112"/>
                  </a:cubicBezTo>
                  <a:cubicBezTo>
                    <a:pt x="38" y="112"/>
                    <a:pt x="38" y="112"/>
                    <a:pt x="37" y="112"/>
                  </a:cubicBezTo>
                  <a:cubicBezTo>
                    <a:pt x="36" y="113"/>
                    <a:pt x="36" y="115"/>
                    <a:pt x="37" y="115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23"/>
                    <a:pt x="38" y="123"/>
                    <a:pt x="38" y="123"/>
                  </a:cubicBezTo>
                  <a:cubicBezTo>
                    <a:pt x="38" y="123"/>
                    <a:pt x="38" y="123"/>
                    <a:pt x="37" y="123"/>
                  </a:cubicBezTo>
                  <a:cubicBezTo>
                    <a:pt x="36" y="124"/>
                    <a:pt x="36" y="125"/>
                    <a:pt x="37" y="126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4"/>
                    <a:pt x="38" y="134"/>
                    <a:pt x="37" y="134"/>
                  </a:cubicBezTo>
                  <a:cubicBezTo>
                    <a:pt x="36" y="135"/>
                    <a:pt x="36" y="136"/>
                    <a:pt x="37" y="137"/>
                  </a:cubicBezTo>
                  <a:cubicBezTo>
                    <a:pt x="38" y="137"/>
                    <a:pt x="38" y="138"/>
                    <a:pt x="38" y="138"/>
                  </a:cubicBezTo>
                  <a:cubicBezTo>
                    <a:pt x="38" y="145"/>
                    <a:pt x="38" y="145"/>
                    <a:pt x="38" y="145"/>
                  </a:cubicBezTo>
                  <a:cubicBezTo>
                    <a:pt x="38" y="145"/>
                    <a:pt x="38" y="145"/>
                    <a:pt x="37" y="145"/>
                  </a:cubicBezTo>
                  <a:cubicBezTo>
                    <a:pt x="36" y="146"/>
                    <a:pt x="36" y="147"/>
                    <a:pt x="37" y="148"/>
                  </a:cubicBezTo>
                  <a:cubicBezTo>
                    <a:pt x="38" y="148"/>
                    <a:pt x="38" y="148"/>
                    <a:pt x="38" y="149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38" y="156"/>
                    <a:pt x="38" y="156"/>
                    <a:pt x="37" y="15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36" y="156"/>
                    <a:pt x="35" y="155"/>
                    <a:pt x="34" y="154"/>
                  </a:cubicBezTo>
                  <a:cubicBezTo>
                    <a:pt x="34" y="154"/>
                    <a:pt x="35" y="154"/>
                    <a:pt x="35" y="153"/>
                  </a:cubicBezTo>
                  <a:cubicBezTo>
                    <a:pt x="36" y="153"/>
                    <a:pt x="36" y="151"/>
                    <a:pt x="35" y="150"/>
                  </a:cubicBezTo>
                  <a:cubicBezTo>
                    <a:pt x="34" y="150"/>
                    <a:pt x="33" y="150"/>
                    <a:pt x="32" y="150"/>
                  </a:cubicBezTo>
                  <a:cubicBezTo>
                    <a:pt x="32" y="151"/>
                    <a:pt x="31" y="151"/>
                    <a:pt x="31" y="151"/>
                  </a:cubicBezTo>
                  <a:cubicBezTo>
                    <a:pt x="30" y="150"/>
                    <a:pt x="29" y="149"/>
                    <a:pt x="29" y="148"/>
                  </a:cubicBezTo>
                  <a:cubicBezTo>
                    <a:pt x="29" y="148"/>
                    <a:pt x="29" y="148"/>
                    <a:pt x="29" y="148"/>
                  </a:cubicBezTo>
                  <a:cubicBezTo>
                    <a:pt x="30" y="147"/>
                    <a:pt x="30" y="146"/>
                    <a:pt x="29" y="145"/>
                  </a:cubicBezTo>
                  <a:cubicBezTo>
                    <a:pt x="28" y="144"/>
                    <a:pt x="27" y="144"/>
                    <a:pt x="26" y="145"/>
                  </a:cubicBezTo>
                  <a:cubicBezTo>
                    <a:pt x="26" y="145"/>
                    <a:pt x="26" y="145"/>
                    <a:pt x="26" y="146"/>
                  </a:cubicBezTo>
                  <a:cubicBezTo>
                    <a:pt x="25" y="145"/>
                    <a:pt x="24" y="144"/>
                    <a:pt x="23" y="143"/>
                  </a:cubicBezTo>
                  <a:cubicBezTo>
                    <a:pt x="23" y="143"/>
                    <a:pt x="23" y="143"/>
                    <a:pt x="23" y="143"/>
                  </a:cubicBezTo>
                  <a:cubicBezTo>
                    <a:pt x="24" y="142"/>
                    <a:pt x="24" y="140"/>
                    <a:pt x="23" y="140"/>
                  </a:cubicBezTo>
                  <a:cubicBezTo>
                    <a:pt x="23" y="139"/>
                    <a:pt x="21" y="139"/>
                    <a:pt x="20" y="140"/>
                  </a:cubicBezTo>
                  <a:cubicBezTo>
                    <a:pt x="20" y="140"/>
                    <a:pt x="20" y="140"/>
                    <a:pt x="20" y="140"/>
                  </a:cubicBezTo>
                  <a:cubicBezTo>
                    <a:pt x="19" y="139"/>
                    <a:pt x="18" y="138"/>
                    <a:pt x="17" y="138"/>
                  </a:cubicBezTo>
                  <a:cubicBezTo>
                    <a:pt x="17" y="137"/>
                    <a:pt x="18" y="137"/>
                    <a:pt x="18" y="137"/>
                  </a:cubicBezTo>
                  <a:cubicBezTo>
                    <a:pt x="19" y="136"/>
                    <a:pt x="19" y="135"/>
                    <a:pt x="18" y="134"/>
                  </a:cubicBezTo>
                  <a:cubicBezTo>
                    <a:pt x="17" y="133"/>
                    <a:pt x="15" y="133"/>
                    <a:pt x="15" y="134"/>
                  </a:cubicBezTo>
                  <a:cubicBezTo>
                    <a:pt x="14" y="134"/>
                    <a:pt x="14" y="135"/>
                    <a:pt x="14" y="135"/>
                  </a:cubicBezTo>
                  <a:cubicBezTo>
                    <a:pt x="13" y="134"/>
                    <a:pt x="12" y="133"/>
                    <a:pt x="11" y="132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1"/>
                    <a:pt x="13" y="130"/>
                    <a:pt x="12" y="129"/>
                  </a:cubicBezTo>
                  <a:cubicBezTo>
                    <a:pt x="12" y="128"/>
                    <a:pt x="11" y="128"/>
                    <a:pt x="11" y="128"/>
                  </a:cubicBezTo>
                  <a:cubicBezTo>
                    <a:pt x="11" y="126"/>
                    <a:pt x="11" y="124"/>
                    <a:pt x="11" y="121"/>
                  </a:cubicBezTo>
                  <a:cubicBezTo>
                    <a:pt x="11" y="121"/>
                    <a:pt x="12" y="121"/>
                    <a:pt x="12" y="121"/>
                  </a:cubicBezTo>
                  <a:cubicBezTo>
                    <a:pt x="13" y="120"/>
                    <a:pt x="13" y="119"/>
                    <a:pt x="12" y="118"/>
                  </a:cubicBezTo>
                  <a:cubicBezTo>
                    <a:pt x="12" y="117"/>
                    <a:pt x="11" y="117"/>
                    <a:pt x="11" y="117"/>
                  </a:cubicBezTo>
                  <a:cubicBezTo>
                    <a:pt x="11" y="115"/>
                    <a:pt x="11" y="113"/>
                    <a:pt x="11" y="110"/>
                  </a:cubicBezTo>
                  <a:cubicBezTo>
                    <a:pt x="11" y="110"/>
                    <a:pt x="12" y="110"/>
                    <a:pt x="12" y="110"/>
                  </a:cubicBezTo>
                  <a:cubicBezTo>
                    <a:pt x="13" y="109"/>
                    <a:pt x="13" y="108"/>
                    <a:pt x="12" y="107"/>
                  </a:cubicBezTo>
                  <a:cubicBezTo>
                    <a:pt x="12" y="107"/>
                    <a:pt x="11" y="106"/>
                    <a:pt x="11" y="106"/>
                  </a:cubicBezTo>
                  <a:cubicBezTo>
                    <a:pt x="11" y="104"/>
                    <a:pt x="11" y="102"/>
                    <a:pt x="11" y="100"/>
                  </a:cubicBezTo>
                  <a:cubicBezTo>
                    <a:pt x="11" y="99"/>
                    <a:pt x="12" y="99"/>
                    <a:pt x="12" y="99"/>
                  </a:cubicBezTo>
                  <a:cubicBezTo>
                    <a:pt x="13" y="98"/>
                    <a:pt x="13" y="97"/>
                    <a:pt x="12" y="96"/>
                  </a:cubicBezTo>
                  <a:cubicBezTo>
                    <a:pt x="12" y="96"/>
                    <a:pt x="11" y="96"/>
                    <a:pt x="11" y="95"/>
                  </a:cubicBezTo>
                  <a:cubicBezTo>
                    <a:pt x="11" y="93"/>
                    <a:pt x="11" y="91"/>
                    <a:pt x="11" y="89"/>
                  </a:cubicBezTo>
                  <a:cubicBezTo>
                    <a:pt x="11" y="89"/>
                    <a:pt x="12" y="88"/>
                    <a:pt x="12" y="88"/>
                  </a:cubicBezTo>
                  <a:cubicBezTo>
                    <a:pt x="13" y="87"/>
                    <a:pt x="13" y="86"/>
                    <a:pt x="12" y="85"/>
                  </a:cubicBezTo>
                  <a:cubicBezTo>
                    <a:pt x="12" y="85"/>
                    <a:pt x="11" y="85"/>
                    <a:pt x="11" y="85"/>
                  </a:cubicBezTo>
                  <a:cubicBezTo>
                    <a:pt x="11" y="82"/>
                    <a:pt x="11" y="80"/>
                    <a:pt x="11" y="78"/>
                  </a:cubicBezTo>
                  <a:cubicBezTo>
                    <a:pt x="11" y="78"/>
                    <a:pt x="11" y="78"/>
                    <a:pt x="11" y="78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4" y="81"/>
                    <a:pt x="14" y="82"/>
                    <a:pt x="15" y="83"/>
                  </a:cubicBezTo>
                  <a:cubicBezTo>
                    <a:pt x="15" y="83"/>
                    <a:pt x="16" y="83"/>
                    <a:pt x="17" y="83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8"/>
                    <a:pt x="20" y="88"/>
                  </a:cubicBezTo>
                  <a:cubicBezTo>
                    <a:pt x="21" y="89"/>
                    <a:pt x="22" y="89"/>
                    <a:pt x="23" y="89"/>
                  </a:cubicBezTo>
                  <a:cubicBezTo>
                    <a:pt x="25" y="91"/>
                    <a:pt x="25" y="91"/>
                    <a:pt x="25" y="91"/>
                  </a:cubicBezTo>
                  <a:cubicBezTo>
                    <a:pt x="25" y="92"/>
                    <a:pt x="25" y="93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31" y="97"/>
                    <a:pt x="31" y="97"/>
                    <a:pt x="31" y="97"/>
                  </a:cubicBezTo>
                  <a:cubicBezTo>
                    <a:pt x="31" y="98"/>
                    <a:pt x="31" y="98"/>
                    <a:pt x="32" y="99"/>
                  </a:cubicBezTo>
                  <a:cubicBezTo>
                    <a:pt x="32" y="100"/>
                    <a:pt x="33" y="100"/>
                    <a:pt x="34" y="100"/>
                  </a:cubicBezTo>
                  <a:cubicBezTo>
                    <a:pt x="37" y="102"/>
                    <a:pt x="37" y="102"/>
                    <a:pt x="37" y="102"/>
                  </a:cubicBezTo>
                  <a:cubicBezTo>
                    <a:pt x="37" y="103"/>
                    <a:pt x="37" y="104"/>
                    <a:pt x="37" y="104"/>
                  </a:cubicBezTo>
                  <a:cubicBezTo>
                    <a:pt x="38" y="105"/>
                    <a:pt x="39" y="105"/>
                    <a:pt x="40" y="105"/>
                  </a:cubicBezTo>
                  <a:cubicBezTo>
                    <a:pt x="40" y="106"/>
                    <a:pt x="40" y="106"/>
                    <a:pt x="40" y="106"/>
                  </a:cubicBezTo>
                  <a:lnTo>
                    <a:pt x="38" y="107"/>
                  </a:lnTo>
                  <a:close/>
                  <a:moveTo>
                    <a:pt x="171" y="249"/>
                  </a:moveTo>
                  <a:cubicBezTo>
                    <a:pt x="170" y="248"/>
                    <a:pt x="169" y="248"/>
                    <a:pt x="168" y="249"/>
                  </a:cubicBezTo>
                  <a:cubicBezTo>
                    <a:pt x="167" y="249"/>
                    <a:pt x="167" y="251"/>
                    <a:pt x="168" y="252"/>
                  </a:cubicBezTo>
                  <a:cubicBezTo>
                    <a:pt x="169" y="252"/>
                    <a:pt x="170" y="252"/>
                    <a:pt x="171" y="252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70" y="259"/>
                    <a:pt x="169" y="259"/>
                    <a:pt x="168" y="259"/>
                  </a:cubicBezTo>
                  <a:cubicBezTo>
                    <a:pt x="167" y="260"/>
                    <a:pt x="167" y="262"/>
                    <a:pt x="168" y="262"/>
                  </a:cubicBezTo>
                  <a:cubicBezTo>
                    <a:pt x="169" y="263"/>
                    <a:pt x="170" y="263"/>
                    <a:pt x="171" y="263"/>
                  </a:cubicBezTo>
                  <a:cubicBezTo>
                    <a:pt x="171" y="270"/>
                    <a:pt x="171" y="270"/>
                    <a:pt x="171" y="270"/>
                  </a:cubicBezTo>
                  <a:cubicBezTo>
                    <a:pt x="170" y="270"/>
                    <a:pt x="169" y="270"/>
                    <a:pt x="168" y="270"/>
                  </a:cubicBezTo>
                  <a:cubicBezTo>
                    <a:pt x="167" y="271"/>
                    <a:pt x="167" y="273"/>
                    <a:pt x="168" y="273"/>
                  </a:cubicBezTo>
                  <a:cubicBezTo>
                    <a:pt x="169" y="274"/>
                    <a:pt x="170" y="274"/>
                    <a:pt x="171" y="273"/>
                  </a:cubicBezTo>
                  <a:cubicBezTo>
                    <a:pt x="171" y="281"/>
                    <a:pt x="171" y="281"/>
                    <a:pt x="171" y="281"/>
                  </a:cubicBezTo>
                  <a:cubicBezTo>
                    <a:pt x="170" y="280"/>
                    <a:pt x="169" y="280"/>
                    <a:pt x="168" y="281"/>
                  </a:cubicBezTo>
                  <a:cubicBezTo>
                    <a:pt x="167" y="282"/>
                    <a:pt x="167" y="283"/>
                    <a:pt x="168" y="284"/>
                  </a:cubicBezTo>
                  <a:cubicBezTo>
                    <a:pt x="169" y="285"/>
                    <a:pt x="170" y="285"/>
                    <a:pt x="171" y="284"/>
                  </a:cubicBezTo>
                  <a:cubicBezTo>
                    <a:pt x="171" y="292"/>
                    <a:pt x="171" y="292"/>
                    <a:pt x="171" y="292"/>
                  </a:cubicBezTo>
                  <a:cubicBezTo>
                    <a:pt x="170" y="291"/>
                    <a:pt x="169" y="291"/>
                    <a:pt x="168" y="292"/>
                  </a:cubicBezTo>
                  <a:cubicBezTo>
                    <a:pt x="167" y="293"/>
                    <a:pt x="167" y="294"/>
                    <a:pt x="168" y="295"/>
                  </a:cubicBezTo>
                  <a:cubicBezTo>
                    <a:pt x="169" y="296"/>
                    <a:pt x="170" y="296"/>
                    <a:pt x="171" y="295"/>
                  </a:cubicBezTo>
                  <a:cubicBezTo>
                    <a:pt x="171" y="301"/>
                    <a:pt x="171" y="301"/>
                    <a:pt x="171" y="301"/>
                  </a:cubicBezTo>
                  <a:cubicBezTo>
                    <a:pt x="145" y="276"/>
                    <a:pt x="52" y="187"/>
                    <a:pt x="49" y="185"/>
                  </a:cubicBezTo>
                  <a:cubicBezTo>
                    <a:pt x="49" y="184"/>
                    <a:pt x="49" y="183"/>
                    <a:pt x="49" y="181"/>
                  </a:cubicBezTo>
                  <a:cubicBezTo>
                    <a:pt x="50" y="182"/>
                    <a:pt x="51" y="181"/>
                    <a:pt x="52" y="181"/>
                  </a:cubicBezTo>
                  <a:cubicBezTo>
                    <a:pt x="53" y="180"/>
                    <a:pt x="53" y="179"/>
                    <a:pt x="52" y="178"/>
                  </a:cubicBezTo>
                  <a:cubicBezTo>
                    <a:pt x="51" y="177"/>
                    <a:pt x="50" y="177"/>
                    <a:pt x="49" y="177"/>
                  </a:cubicBezTo>
                  <a:cubicBezTo>
                    <a:pt x="49" y="175"/>
                    <a:pt x="49" y="173"/>
                    <a:pt x="49" y="170"/>
                  </a:cubicBezTo>
                  <a:cubicBezTo>
                    <a:pt x="50" y="171"/>
                    <a:pt x="51" y="170"/>
                    <a:pt x="52" y="170"/>
                  </a:cubicBezTo>
                  <a:cubicBezTo>
                    <a:pt x="53" y="169"/>
                    <a:pt x="53" y="168"/>
                    <a:pt x="52" y="167"/>
                  </a:cubicBezTo>
                  <a:cubicBezTo>
                    <a:pt x="51" y="166"/>
                    <a:pt x="50" y="166"/>
                    <a:pt x="49" y="166"/>
                  </a:cubicBezTo>
                  <a:cubicBezTo>
                    <a:pt x="49" y="164"/>
                    <a:pt x="49" y="162"/>
                    <a:pt x="49" y="159"/>
                  </a:cubicBezTo>
                  <a:cubicBezTo>
                    <a:pt x="50" y="160"/>
                    <a:pt x="51" y="160"/>
                    <a:pt x="52" y="159"/>
                  </a:cubicBezTo>
                  <a:cubicBezTo>
                    <a:pt x="53" y="158"/>
                    <a:pt x="53" y="157"/>
                    <a:pt x="52" y="156"/>
                  </a:cubicBezTo>
                  <a:cubicBezTo>
                    <a:pt x="51" y="155"/>
                    <a:pt x="50" y="155"/>
                    <a:pt x="49" y="156"/>
                  </a:cubicBezTo>
                  <a:cubicBezTo>
                    <a:pt x="49" y="153"/>
                    <a:pt x="49" y="151"/>
                    <a:pt x="49" y="148"/>
                  </a:cubicBezTo>
                  <a:cubicBezTo>
                    <a:pt x="50" y="149"/>
                    <a:pt x="51" y="149"/>
                    <a:pt x="52" y="148"/>
                  </a:cubicBezTo>
                  <a:cubicBezTo>
                    <a:pt x="53" y="147"/>
                    <a:pt x="53" y="146"/>
                    <a:pt x="52" y="145"/>
                  </a:cubicBezTo>
                  <a:cubicBezTo>
                    <a:pt x="51" y="144"/>
                    <a:pt x="50" y="144"/>
                    <a:pt x="49" y="145"/>
                  </a:cubicBezTo>
                  <a:cubicBezTo>
                    <a:pt x="49" y="142"/>
                    <a:pt x="49" y="140"/>
                    <a:pt x="49" y="138"/>
                  </a:cubicBezTo>
                  <a:cubicBezTo>
                    <a:pt x="50" y="138"/>
                    <a:pt x="51" y="138"/>
                    <a:pt x="52" y="137"/>
                  </a:cubicBezTo>
                  <a:cubicBezTo>
                    <a:pt x="53" y="136"/>
                    <a:pt x="53" y="135"/>
                    <a:pt x="52" y="134"/>
                  </a:cubicBezTo>
                  <a:cubicBezTo>
                    <a:pt x="51" y="133"/>
                    <a:pt x="50" y="133"/>
                    <a:pt x="49" y="134"/>
                  </a:cubicBezTo>
                  <a:cubicBezTo>
                    <a:pt x="49" y="131"/>
                    <a:pt x="49" y="129"/>
                    <a:pt x="49" y="127"/>
                  </a:cubicBezTo>
                  <a:cubicBezTo>
                    <a:pt x="50" y="127"/>
                    <a:pt x="51" y="127"/>
                    <a:pt x="52" y="126"/>
                  </a:cubicBezTo>
                  <a:cubicBezTo>
                    <a:pt x="52" y="126"/>
                    <a:pt x="52" y="126"/>
                    <a:pt x="52" y="126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5" y="128"/>
                    <a:pt x="55" y="129"/>
                    <a:pt x="54" y="129"/>
                  </a:cubicBezTo>
                  <a:cubicBezTo>
                    <a:pt x="54" y="130"/>
                    <a:pt x="54" y="131"/>
                    <a:pt x="54" y="132"/>
                  </a:cubicBezTo>
                  <a:cubicBezTo>
                    <a:pt x="55" y="133"/>
                    <a:pt x="57" y="133"/>
                    <a:pt x="58" y="132"/>
                  </a:cubicBezTo>
                  <a:cubicBezTo>
                    <a:pt x="58" y="132"/>
                    <a:pt x="58" y="131"/>
                    <a:pt x="58" y="131"/>
                  </a:cubicBezTo>
                  <a:cubicBezTo>
                    <a:pt x="61" y="134"/>
                    <a:pt x="61" y="134"/>
                    <a:pt x="61" y="134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59" y="135"/>
                    <a:pt x="59" y="136"/>
                    <a:pt x="60" y="137"/>
                  </a:cubicBezTo>
                  <a:cubicBezTo>
                    <a:pt x="61" y="138"/>
                    <a:pt x="62" y="138"/>
                    <a:pt x="63" y="137"/>
                  </a:cubicBezTo>
                  <a:cubicBezTo>
                    <a:pt x="63" y="137"/>
                    <a:pt x="63" y="137"/>
                    <a:pt x="64" y="137"/>
                  </a:cubicBezTo>
                  <a:cubicBezTo>
                    <a:pt x="66" y="139"/>
                    <a:pt x="66" y="139"/>
                    <a:pt x="66" y="139"/>
                  </a:cubicBezTo>
                  <a:cubicBezTo>
                    <a:pt x="66" y="139"/>
                    <a:pt x="66" y="139"/>
                    <a:pt x="66" y="140"/>
                  </a:cubicBezTo>
                  <a:cubicBezTo>
                    <a:pt x="65" y="140"/>
                    <a:pt x="65" y="142"/>
                    <a:pt x="66" y="143"/>
                  </a:cubicBezTo>
                  <a:cubicBezTo>
                    <a:pt x="67" y="143"/>
                    <a:pt x="68" y="143"/>
                    <a:pt x="69" y="143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72" y="145"/>
                    <a:pt x="72" y="145"/>
                    <a:pt x="72" y="145"/>
                  </a:cubicBezTo>
                  <a:cubicBezTo>
                    <a:pt x="72" y="145"/>
                    <a:pt x="72" y="145"/>
                    <a:pt x="71" y="145"/>
                  </a:cubicBezTo>
                  <a:cubicBezTo>
                    <a:pt x="71" y="146"/>
                    <a:pt x="71" y="147"/>
                    <a:pt x="71" y="148"/>
                  </a:cubicBezTo>
                  <a:cubicBezTo>
                    <a:pt x="72" y="149"/>
                    <a:pt x="74" y="149"/>
                    <a:pt x="75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8" y="150"/>
                    <a:pt x="78" y="150"/>
                    <a:pt x="78" y="150"/>
                  </a:cubicBezTo>
                  <a:cubicBezTo>
                    <a:pt x="77" y="150"/>
                    <a:pt x="77" y="150"/>
                    <a:pt x="77" y="150"/>
                  </a:cubicBezTo>
                  <a:cubicBezTo>
                    <a:pt x="76" y="151"/>
                    <a:pt x="76" y="153"/>
                    <a:pt x="77" y="153"/>
                  </a:cubicBezTo>
                  <a:cubicBezTo>
                    <a:pt x="78" y="154"/>
                    <a:pt x="79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2" y="157"/>
                    <a:pt x="82" y="158"/>
                    <a:pt x="83" y="159"/>
                  </a:cubicBezTo>
                  <a:cubicBezTo>
                    <a:pt x="84" y="160"/>
                    <a:pt x="85" y="160"/>
                    <a:pt x="86" y="159"/>
                  </a:cubicBezTo>
                  <a:cubicBezTo>
                    <a:pt x="86" y="159"/>
                    <a:pt x="86" y="159"/>
                    <a:pt x="86" y="158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8" y="162"/>
                    <a:pt x="88" y="164"/>
                    <a:pt x="89" y="164"/>
                  </a:cubicBezTo>
                  <a:cubicBezTo>
                    <a:pt x="89" y="165"/>
                    <a:pt x="91" y="165"/>
                    <a:pt x="92" y="164"/>
                  </a:cubicBezTo>
                  <a:cubicBezTo>
                    <a:pt x="92" y="164"/>
                    <a:pt x="92" y="164"/>
                    <a:pt x="92" y="164"/>
                  </a:cubicBezTo>
                  <a:cubicBezTo>
                    <a:pt x="95" y="166"/>
                    <a:pt x="95" y="166"/>
                    <a:pt x="95" y="166"/>
                  </a:cubicBezTo>
                  <a:cubicBezTo>
                    <a:pt x="95" y="167"/>
                    <a:pt x="94" y="167"/>
                    <a:pt x="94" y="167"/>
                  </a:cubicBezTo>
                  <a:cubicBezTo>
                    <a:pt x="93" y="168"/>
                    <a:pt x="93" y="169"/>
                    <a:pt x="94" y="170"/>
                  </a:cubicBezTo>
                  <a:cubicBezTo>
                    <a:pt x="95" y="171"/>
                    <a:pt x="97" y="171"/>
                    <a:pt x="97" y="170"/>
                  </a:cubicBezTo>
                  <a:cubicBezTo>
                    <a:pt x="98" y="170"/>
                    <a:pt x="98" y="170"/>
                    <a:pt x="98" y="169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99" y="173"/>
                    <a:pt x="99" y="174"/>
                    <a:pt x="100" y="175"/>
                  </a:cubicBezTo>
                  <a:cubicBezTo>
                    <a:pt x="101" y="176"/>
                    <a:pt x="102" y="176"/>
                    <a:pt x="103" y="175"/>
                  </a:cubicBezTo>
                  <a:cubicBezTo>
                    <a:pt x="103" y="175"/>
                    <a:pt x="103" y="175"/>
                    <a:pt x="103" y="175"/>
                  </a:cubicBezTo>
                  <a:cubicBezTo>
                    <a:pt x="106" y="177"/>
                    <a:pt x="106" y="177"/>
                    <a:pt x="106" y="177"/>
                  </a:cubicBezTo>
                  <a:cubicBezTo>
                    <a:pt x="106" y="177"/>
                    <a:pt x="106" y="178"/>
                    <a:pt x="106" y="178"/>
                  </a:cubicBezTo>
                  <a:cubicBezTo>
                    <a:pt x="105" y="179"/>
                    <a:pt x="105" y="180"/>
                    <a:pt x="106" y="181"/>
                  </a:cubicBezTo>
                  <a:cubicBezTo>
                    <a:pt x="106" y="182"/>
                    <a:pt x="108" y="182"/>
                    <a:pt x="109" y="181"/>
                  </a:cubicBezTo>
                  <a:cubicBezTo>
                    <a:pt x="109" y="181"/>
                    <a:pt x="109" y="180"/>
                    <a:pt x="109" y="180"/>
                  </a:cubicBezTo>
                  <a:cubicBezTo>
                    <a:pt x="112" y="183"/>
                    <a:pt x="112" y="183"/>
                    <a:pt x="112" y="183"/>
                  </a:cubicBezTo>
                  <a:cubicBezTo>
                    <a:pt x="112" y="183"/>
                    <a:pt x="111" y="183"/>
                    <a:pt x="111" y="183"/>
                  </a:cubicBezTo>
                  <a:cubicBezTo>
                    <a:pt x="110" y="184"/>
                    <a:pt x="110" y="185"/>
                    <a:pt x="111" y="186"/>
                  </a:cubicBezTo>
                  <a:cubicBezTo>
                    <a:pt x="112" y="187"/>
                    <a:pt x="114" y="187"/>
                    <a:pt x="114" y="186"/>
                  </a:cubicBezTo>
                  <a:cubicBezTo>
                    <a:pt x="115" y="186"/>
                    <a:pt x="115" y="186"/>
                    <a:pt x="115" y="186"/>
                  </a:cubicBezTo>
                  <a:cubicBezTo>
                    <a:pt x="118" y="188"/>
                    <a:pt x="118" y="188"/>
                    <a:pt x="118" y="188"/>
                  </a:cubicBezTo>
                  <a:cubicBezTo>
                    <a:pt x="117" y="188"/>
                    <a:pt x="117" y="188"/>
                    <a:pt x="117" y="189"/>
                  </a:cubicBezTo>
                  <a:cubicBezTo>
                    <a:pt x="116" y="189"/>
                    <a:pt x="116" y="191"/>
                    <a:pt x="117" y="192"/>
                  </a:cubicBezTo>
                  <a:cubicBezTo>
                    <a:pt x="118" y="192"/>
                    <a:pt x="119" y="192"/>
                    <a:pt x="120" y="192"/>
                  </a:cubicBezTo>
                  <a:cubicBezTo>
                    <a:pt x="120" y="191"/>
                    <a:pt x="120" y="191"/>
                    <a:pt x="121" y="191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2" y="195"/>
                    <a:pt x="122" y="196"/>
                    <a:pt x="123" y="197"/>
                  </a:cubicBezTo>
                  <a:cubicBezTo>
                    <a:pt x="124" y="198"/>
                    <a:pt x="125" y="198"/>
                    <a:pt x="126" y="197"/>
                  </a:cubicBezTo>
                  <a:cubicBezTo>
                    <a:pt x="126" y="197"/>
                    <a:pt x="126" y="197"/>
                    <a:pt x="126" y="197"/>
                  </a:cubicBezTo>
                  <a:cubicBezTo>
                    <a:pt x="129" y="199"/>
                    <a:pt x="129" y="199"/>
                    <a:pt x="129" y="199"/>
                  </a:cubicBezTo>
                  <a:cubicBezTo>
                    <a:pt x="129" y="199"/>
                    <a:pt x="129" y="199"/>
                    <a:pt x="128" y="200"/>
                  </a:cubicBezTo>
                  <a:cubicBezTo>
                    <a:pt x="127" y="200"/>
                    <a:pt x="127" y="202"/>
                    <a:pt x="128" y="203"/>
                  </a:cubicBezTo>
                  <a:cubicBezTo>
                    <a:pt x="129" y="203"/>
                    <a:pt x="131" y="203"/>
                    <a:pt x="131" y="203"/>
                  </a:cubicBezTo>
                  <a:cubicBezTo>
                    <a:pt x="132" y="202"/>
                    <a:pt x="132" y="202"/>
                    <a:pt x="132" y="202"/>
                  </a:cubicBezTo>
                  <a:cubicBezTo>
                    <a:pt x="135" y="205"/>
                    <a:pt x="135" y="205"/>
                    <a:pt x="135" y="205"/>
                  </a:cubicBezTo>
                  <a:cubicBezTo>
                    <a:pt x="134" y="205"/>
                    <a:pt x="134" y="205"/>
                    <a:pt x="134" y="205"/>
                  </a:cubicBezTo>
                  <a:cubicBezTo>
                    <a:pt x="133" y="206"/>
                    <a:pt x="133" y="207"/>
                    <a:pt x="134" y="208"/>
                  </a:cubicBezTo>
                  <a:cubicBezTo>
                    <a:pt x="135" y="209"/>
                    <a:pt x="136" y="209"/>
                    <a:pt x="137" y="208"/>
                  </a:cubicBezTo>
                  <a:cubicBezTo>
                    <a:pt x="137" y="208"/>
                    <a:pt x="137" y="208"/>
                    <a:pt x="138" y="207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39" y="211"/>
                    <a:pt x="139" y="213"/>
                    <a:pt x="140" y="213"/>
                  </a:cubicBezTo>
                  <a:cubicBezTo>
                    <a:pt x="141" y="214"/>
                    <a:pt x="142" y="214"/>
                    <a:pt x="143" y="213"/>
                  </a:cubicBezTo>
                  <a:cubicBezTo>
                    <a:pt x="143" y="213"/>
                    <a:pt x="143" y="213"/>
                    <a:pt x="143" y="213"/>
                  </a:cubicBezTo>
                  <a:cubicBezTo>
                    <a:pt x="146" y="215"/>
                    <a:pt x="146" y="215"/>
                    <a:pt x="146" y="215"/>
                  </a:cubicBezTo>
                  <a:cubicBezTo>
                    <a:pt x="146" y="216"/>
                    <a:pt x="146" y="216"/>
                    <a:pt x="145" y="216"/>
                  </a:cubicBezTo>
                  <a:cubicBezTo>
                    <a:pt x="145" y="217"/>
                    <a:pt x="145" y="218"/>
                    <a:pt x="145" y="219"/>
                  </a:cubicBezTo>
                  <a:cubicBezTo>
                    <a:pt x="146" y="220"/>
                    <a:pt x="148" y="220"/>
                    <a:pt x="149" y="219"/>
                  </a:cubicBezTo>
                  <a:cubicBezTo>
                    <a:pt x="149" y="219"/>
                    <a:pt x="149" y="219"/>
                    <a:pt x="149" y="218"/>
                  </a:cubicBezTo>
                  <a:cubicBezTo>
                    <a:pt x="152" y="221"/>
                    <a:pt x="152" y="221"/>
                    <a:pt x="152" y="221"/>
                  </a:cubicBezTo>
                  <a:cubicBezTo>
                    <a:pt x="151" y="221"/>
                    <a:pt x="151" y="221"/>
                    <a:pt x="151" y="221"/>
                  </a:cubicBezTo>
                  <a:cubicBezTo>
                    <a:pt x="150" y="222"/>
                    <a:pt x="150" y="224"/>
                    <a:pt x="151" y="224"/>
                  </a:cubicBezTo>
                  <a:cubicBezTo>
                    <a:pt x="152" y="225"/>
                    <a:pt x="153" y="225"/>
                    <a:pt x="154" y="224"/>
                  </a:cubicBezTo>
                  <a:cubicBezTo>
                    <a:pt x="154" y="224"/>
                    <a:pt x="155" y="224"/>
                    <a:pt x="155" y="224"/>
                  </a:cubicBezTo>
                  <a:cubicBezTo>
                    <a:pt x="157" y="226"/>
                    <a:pt x="157" y="226"/>
                    <a:pt x="157" y="226"/>
                  </a:cubicBezTo>
                  <a:cubicBezTo>
                    <a:pt x="157" y="226"/>
                    <a:pt x="157" y="227"/>
                    <a:pt x="157" y="227"/>
                  </a:cubicBezTo>
                  <a:cubicBezTo>
                    <a:pt x="156" y="228"/>
                    <a:pt x="156" y="229"/>
                    <a:pt x="157" y="230"/>
                  </a:cubicBezTo>
                  <a:cubicBezTo>
                    <a:pt x="158" y="231"/>
                    <a:pt x="159" y="231"/>
                    <a:pt x="160" y="230"/>
                  </a:cubicBezTo>
                  <a:cubicBezTo>
                    <a:pt x="160" y="230"/>
                    <a:pt x="160" y="229"/>
                    <a:pt x="160" y="229"/>
                  </a:cubicBezTo>
                  <a:cubicBezTo>
                    <a:pt x="163" y="232"/>
                    <a:pt x="163" y="232"/>
                    <a:pt x="163" y="232"/>
                  </a:cubicBezTo>
                  <a:cubicBezTo>
                    <a:pt x="163" y="232"/>
                    <a:pt x="163" y="232"/>
                    <a:pt x="162" y="232"/>
                  </a:cubicBezTo>
                  <a:cubicBezTo>
                    <a:pt x="162" y="233"/>
                    <a:pt x="162" y="234"/>
                    <a:pt x="162" y="235"/>
                  </a:cubicBezTo>
                  <a:cubicBezTo>
                    <a:pt x="163" y="236"/>
                    <a:pt x="165" y="236"/>
                    <a:pt x="166" y="235"/>
                  </a:cubicBezTo>
                  <a:cubicBezTo>
                    <a:pt x="166" y="235"/>
                    <a:pt x="166" y="235"/>
                    <a:pt x="166" y="235"/>
                  </a:cubicBezTo>
                  <a:cubicBezTo>
                    <a:pt x="169" y="237"/>
                    <a:pt x="169" y="237"/>
                    <a:pt x="169" y="237"/>
                  </a:cubicBezTo>
                  <a:cubicBezTo>
                    <a:pt x="169" y="237"/>
                    <a:pt x="168" y="237"/>
                    <a:pt x="168" y="238"/>
                  </a:cubicBezTo>
                  <a:cubicBezTo>
                    <a:pt x="167" y="239"/>
                    <a:pt x="167" y="240"/>
                    <a:pt x="168" y="241"/>
                  </a:cubicBezTo>
                  <a:cubicBezTo>
                    <a:pt x="169" y="242"/>
                    <a:pt x="170" y="242"/>
                    <a:pt x="171" y="241"/>
                  </a:cubicBezTo>
                  <a:lnTo>
                    <a:pt x="171" y="249"/>
                  </a:lnTo>
                  <a:close/>
                  <a:moveTo>
                    <a:pt x="54" y="112"/>
                  </a:moveTo>
                  <a:cubicBezTo>
                    <a:pt x="79" y="102"/>
                    <a:pt x="199" y="54"/>
                    <a:pt x="205" y="52"/>
                  </a:cubicBezTo>
                  <a:cubicBezTo>
                    <a:pt x="209" y="56"/>
                    <a:pt x="307" y="149"/>
                    <a:pt x="329" y="170"/>
                  </a:cubicBezTo>
                  <a:cubicBezTo>
                    <a:pt x="298" y="183"/>
                    <a:pt x="183" y="229"/>
                    <a:pt x="178" y="231"/>
                  </a:cubicBezTo>
                  <a:cubicBezTo>
                    <a:pt x="174" y="227"/>
                    <a:pt x="79" y="136"/>
                    <a:pt x="54" y="112"/>
                  </a:cubicBezTo>
                  <a:close/>
                  <a:moveTo>
                    <a:pt x="334" y="245"/>
                  </a:moveTo>
                  <a:cubicBezTo>
                    <a:pt x="328" y="248"/>
                    <a:pt x="207" y="296"/>
                    <a:pt x="182" y="306"/>
                  </a:cubicBezTo>
                  <a:cubicBezTo>
                    <a:pt x="182" y="241"/>
                    <a:pt x="182" y="241"/>
                    <a:pt x="182" y="241"/>
                  </a:cubicBezTo>
                  <a:cubicBezTo>
                    <a:pt x="334" y="180"/>
                    <a:pt x="334" y="180"/>
                    <a:pt x="334" y="180"/>
                  </a:cubicBezTo>
                  <a:cubicBezTo>
                    <a:pt x="334" y="197"/>
                    <a:pt x="334" y="240"/>
                    <a:pt x="334" y="2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 rot="8370600">
              <a:off x="6639120" y="4658040"/>
              <a:ext cx="131400" cy="102600"/>
            </a:xfrm>
            <a:custGeom>
              <a:avLst/>
              <a:gdLst/>
              <a:ahLst/>
              <a:rect l="l" t="t" r="r" b="b"/>
              <a:pathLst>
                <a:path w="240" h="188">
                  <a:moveTo>
                    <a:pt x="0" y="36"/>
                  </a:moveTo>
                  <a:lnTo>
                    <a:pt x="159" y="188"/>
                  </a:lnTo>
                  <a:lnTo>
                    <a:pt x="240" y="155"/>
                  </a:lnTo>
                  <a:lnTo>
                    <a:pt x="8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 rot="8370600">
              <a:off x="6676920" y="4577400"/>
              <a:ext cx="167040" cy="138240"/>
            </a:xfrm>
            <a:custGeom>
              <a:avLst/>
              <a:gdLst/>
              <a:ahLst/>
              <a:rect l="l" t="t" r="r" b="b"/>
              <a:pathLst>
                <a:path w="305" h="253">
                  <a:moveTo>
                    <a:pt x="0" y="36"/>
                  </a:moveTo>
                  <a:lnTo>
                    <a:pt x="224" y="253"/>
                  </a:lnTo>
                  <a:lnTo>
                    <a:pt x="305" y="217"/>
                  </a:lnTo>
                  <a:lnTo>
                    <a:pt x="81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 rot="8370600">
              <a:off x="6947280" y="45943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 rot="8370600">
              <a:off x="6937920" y="458280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4"/>
            <p:cNvSpPr/>
            <p:nvPr/>
          </p:nvSpPr>
          <p:spPr>
            <a:xfrm rot="8370600">
              <a:off x="6937200" y="4591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 rot="8370600">
              <a:off x="6928920" y="457200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 rot="8370600">
              <a:off x="6928200" y="4581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7"/>
            <p:cNvSpPr/>
            <p:nvPr/>
          </p:nvSpPr>
          <p:spPr>
            <a:xfrm rot="8370600">
              <a:off x="6926760" y="45918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rot="8370600">
              <a:off x="6919920" y="456084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 rot="8370600">
              <a:off x="6918840" y="4569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 rot="8370600">
              <a:off x="6917760" y="45810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 rot="8370600">
              <a:off x="6916320" y="4591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 rot="8370600">
              <a:off x="6909480" y="4559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 rot="8370600">
              <a:off x="6908760" y="4569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 rot="8370600">
              <a:off x="6906960" y="4579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8370600">
              <a:off x="6899400" y="4559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 rot="8370600">
              <a:off x="6897960" y="4569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 rot="8370600">
              <a:off x="6888600" y="45597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 rot="8370600">
              <a:off x="6867000" y="457884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9"/>
            <p:cNvSpPr/>
            <p:nvPr/>
          </p:nvSpPr>
          <p:spPr>
            <a:xfrm rot="8370600">
              <a:off x="6857640" y="456804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0"/>
            <p:cNvSpPr/>
            <p:nvPr/>
          </p:nvSpPr>
          <p:spPr>
            <a:xfrm rot="8370600">
              <a:off x="6855840" y="4576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"/>
            <p:cNvSpPr/>
            <p:nvPr/>
          </p:nvSpPr>
          <p:spPr>
            <a:xfrm rot="8370600">
              <a:off x="6848280" y="455652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 rot="8370600">
              <a:off x="6846840" y="4566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 rot="8370600">
              <a:off x="6845400" y="45777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4"/>
            <p:cNvSpPr/>
            <p:nvPr/>
          </p:nvSpPr>
          <p:spPr>
            <a:xfrm rot="8370600">
              <a:off x="6839280" y="454572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5"/>
            <p:cNvSpPr/>
            <p:nvPr/>
          </p:nvSpPr>
          <p:spPr>
            <a:xfrm rot="8370600">
              <a:off x="6837480" y="4555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6"/>
            <p:cNvSpPr/>
            <p:nvPr/>
          </p:nvSpPr>
          <p:spPr>
            <a:xfrm rot="8370600">
              <a:off x="6836400" y="45662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7"/>
            <p:cNvSpPr/>
            <p:nvPr/>
          </p:nvSpPr>
          <p:spPr>
            <a:xfrm rot="8370600">
              <a:off x="6836040" y="45759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8"/>
            <p:cNvSpPr/>
            <p:nvPr/>
          </p:nvSpPr>
          <p:spPr>
            <a:xfrm rot="8370600">
              <a:off x="6829920" y="453492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 rot="8370600">
              <a:off x="6828120" y="4544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 rot="8370600">
              <a:off x="6827400" y="4555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1"/>
            <p:cNvSpPr/>
            <p:nvPr/>
          </p:nvSpPr>
          <p:spPr>
            <a:xfrm rot="8370600">
              <a:off x="6826680" y="45651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2"/>
            <p:cNvSpPr/>
            <p:nvPr/>
          </p:nvSpPr>
          <p:spPr>
            <a:xfrm rot="8370600">
              <a:off x="6825240" y="45759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3"/>
            <p:cNvSpPr/>
            <p:nvPr/>
          </p:nvSpPr>
          <p:spPr>
            <a:xfrm rot="8370600">
              <a:off x="6819480" y="45345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4"/>
            <p:cNvSpPr/>
            <p:nvPr/>
          </p:nvSpPr>
          <p:spPr>
            <a:xfrm rot="8370600">
              <a:off x="6818040" y="4544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5"/>
            <p:cNvSpPr/>
            <p:nvPr/>
          </p:nvSpPr>
          <p:spPr>
            <a:xfrm rot="8370600">
              <a:off x="6817680" y="45543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 rot="8370600">
              <a:off x="6816240" y="4564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 rot="8370600">
              <a:off x="6814440" y="4574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 rot="8370600">
              <a:off x="6809040" y="4533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 rot="8370600">
              <a:off x="6808680" y="4544640"/>
              <a:ext cx="468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 rot="8370600">
              <a:off x="6806880" y="45536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rot="8370600">
              <a:off x="6805440" y="4564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 rot="8370600">
              <a:off x="6804360" y="4574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3"/>
            <p:cNvSpPr/>
            <p:nvPr/>
          </p:nvSpPr>
          <p:spPr>
            <a:xfrm rot="8370600">
              <a:off x="6799320" y="453348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4"/>
            <p:cNvSpPr/>
            <p:nvPr/>
          </p:nvSpPr>
          <p:spPr>
            <a:xfrm rot="8370600">
              <a:off x="6797880" y="45432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5"/>
            <p:cNvSpPr/>
            <p:nvPr/>
          </p:nvSpPr>
          <p:spPr>
            <a:xfrm rot="8370600">
              <a:off x="6796440" y="45543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6"/>
            <p:cNvSpPr/>
            <p:nvPr/>
          </p:nvSpPr>
          <p:spPr>
            <a:xfrm rot="8370600">
              <a:off x="6795000" y="4563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 rot="8370600">
              <a:off x="6795000" y="457308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8"/>
            <p:cNvSpPr/>
            <p:nvPr/>
          </p:nvSpPr>
          <p:spPr>
            <a:xfrm rot="8370600">
              <a:off x="6788160" y="453240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9"/>
            <p:cNvSpPr/>
            <p:nvPr/>
          </p:nvSpPr>
          <p:spPr>
            <a:xfrm rot="8370600">
              <a:off x="6786720" y="45435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 rot="8370600">
              <a:off x="6786000" y="4553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1"/>
            <p:cNvSpPr/>
            <p:nvPr/>
          </p:nvSpPr>
          <p:spPr>
            <a:xfrm rot="8370600">
              <a:off x="6786000" y="456336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2"/>
            <p:cNvSpPr/>
            <p:nvPr/>
          </p:nvSpPr>
          <p:spPr>
            <a:xfrm rot="8370600">
              <a:off x="6784200" y="4573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3"/>
            <p:cNvSpPr/>
            <p:nvPr/>
          </p:nvSpPr>
          <p:spPr>
            <a:xfrm rot="8370600">
              <a:off x="6777720" y="45331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 rot="8370600">
              <a:off x="6776280" y="45424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 rot="8370600">
              <a:off x="6776280" y="45529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 rot="8370600">
              <a:off x="6775200" y="4562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 rot="8370600">
              <a:off x="6773760" y="45734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8"/>
            <p:cNvSpPr/>
            <p:nvPr/>
          </p:nvSpPr>
          <p:spPr>
            <a:xfrm rot="8370600">
              <a:off x="6766920" y="4530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9"/>
            <p:cNvSpPr/>
            <p:nvPr/>
          </p:nvSpPr>
          <p:spPr>
            <a:xfrm rot="8370600">
              <a:off x="6767280" y="45421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0"/>
            <p:cNvSpPr/>
            <p:nvPr/>
          </p:nvSpPr>
          <p:spPr>
            <a:xfrm rot="8370600">
              <a:off x="6765480" y="455184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1"/>
            <p:cNvSpPr/>
            <p:nvPr/>
          </p:nvSpPr>
          <p:spPr>
            <a:xfrm rot="8370600">
              <a:off x="6764040" y="45630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2"/>
            <p:cNvSpPr/>
            <p:nvPr/>
          </p:nvSpPr>
          <p:spPr>
            <a:xfrm rot="8370600">
              <a:off x="6763680" y="4572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3"/>
            <p:cNvSpPr/>
            <p:nvPr/>
          </p:nvSpPr>
          <p:spPr>
            <a:xfrm rot="8370600">
              <a:off x="6758280" y="453024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4"/>
            <p:cNvSpPr/>
            <p:nvPr/>
          </p:nvSpPr>
          <p:spPr>
            <a:xfrm rot="8370600">
              <a:off x="6756120" y="4540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5"/>
            <p:cNvSpPr/>
            <p:nvPr/>
          </p:nvSpPr>
          <p:spPr>
            <a:xfrm rot="8370600">
              <a:off x="6755040" y="45525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6"/>
            <p:cNvSpPr/>
            <p:nvPr/>
          </p:nvSpPr>
          <p:spPr>
            <a:xfrm rot="8370600">
              <a:off x="6754320" y="456156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"/>
            <p:cNvSpPr/>
            <p:nvPr/>
          </p:nvSpPr>
          <p:spPr>
            <a:xfrm rot="8370600">
              <a:off x="6752880" y="45723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8"/>
            <p:cNvSpPr/>
            <p:nvPr/>
          </p:nvSpPr>
          <p:spPr>
            <a:xfrm rot="8370600">
              <a:off x="6747120" y="4529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9"/>
            <p:cNvSpPr/>
            <p:nvPr/>
          </p:nvSpPr>
          <p:spPr>
            <a:xfrm rot="8370600">
              <a:off x="6746040" y="4540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0"/>
            <p:cNvSpPr/>
            <p:nvPr/>
          </p:nvSpPr>
          <p:spPr>
            <a:xfrm rot="8370600">
              <a:off x="6744960" y="4550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91"/>
            <p:cNvSpPr/>
            <p:nvPr/>
          </p:nvSpPr>
          <p:spPr>
            <a:xfrm rot="8370600">
              <a:off x="6743880" y="45619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2"/>
            <p:cNvSpPr/>
            <p:nvPr/>
          </p:nvSpPr>
          <p:spPr>
            <a:xfrm rot="8370600">
              <a:off x="6742800" y="45712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93"/>
            <p:cNvSpPr/>
            <p:nvPr/>
          </p:nvSpPr>
          <p:spPr>
            <a:xfrm rot="8370600">
              <a:off x="6736680" y="4529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4"/>
            <p:cNvSpPr/>
            <p:nvPr/>
          </p:nvSpPr>
          <p:spPr>
            <a:xfrm rot="8370600">
              <a:off x="6735600" y="4539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5"/>
            <p:cNvSpPr/>
            <p:nvPr/>
          </p:nvSpPr>
          <p:spPr>
            <a:xfrm rot="8370600">
              <a:off x="6734880" y="4549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6"/>
            <p:cNvSpPr/>
            <p:nvPr/>
          </p:nvSpPr>
          <p:spPr>
            <a:xfrm rot="8370600">
              <a:off x="6733440" y="45597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7"/>
            <p:cNvSpPr/>
            <p:nvPr/>
          </p:nvSpPr>
          <p:spPr>
            <a:xfrm rot="8370600">
              <a:off x="6733080" y="457128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98"/>
            <p:cNvSpPr/>
            <p:nvPr/>
          </p:nvSpPr>
          <p:spPr>
            <a:xfrm rot="8370600">
              <a:off x="6726240" y="4528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9"/>
            <p:cNvSpPr/>
            <p:nvPr/>
          </p:nvSpPr>
          <p:spPr>
            <a:xfrm rot="8370600">
              <a:off x="6725520" y="4538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0"/>
            <p:cNvSpPr/>
            <p:nvPr/>
          </p:nvSpPr>
          <p:spPr>
            <a:xfrm rot="8370600">
              <a:off x="6724440" y="4548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1"/>
            <p:cNvSpPr/>
            <p:nvPr/>
          </p:nvSpPr>
          <p:spPr>
            <a:xfrm rot="8370600">
              <a:off x="6724080" y="4559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2"/>
            <p:cNvSpPr/>
            <p:nvPr/>
          </p:nvSpPr>
          <p:spPr>
            <a:xfrm rot="8370600">
              <a:off x="6722280" y="4569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3"/>
            <p:cNvSpPr/>
            <p:nvPr/>
          </p:nvSpPr>
          <p:spPr>
            <a:xfrm rot="8370600">
              <a:off x="6716520" y="4528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4"/>
            <p:cNvSpPr/>
            <p:nvPr/>
          </p:nvSpPr>
          <p:spPr>
            <a:xfrm rot="8370600">
              <a:off x="6715080" y="4538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5"/>
            <p:cNvSpPr/>
            <p:nvPr/>
          </p:nvSpPr>
          <p:spPr>
            <a:xfrm rot="8370600">
              <a:off x="6714720" y="4548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6"/>
            <p:cNvSpPr/>
            <p:nvPr/>
          </p:nvSpPr>
          <p:spPr>
            <a:xfrm rot="8370600">
              <a:off x="6713280" y="4558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7"/>
            <p:cNvSpPr/>
            <p:nvPr/>
          </p:nvSpPr>
          <p:spPr>
            <a:xfrm rot="8370600">
              <a:off x="6711840" y="4569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8"/>
            <p:cNvSpPr/>
            <p:nvPr/>
          </p:nvSpPr>
          <p:spPr>
            <a:xfrm rot="8370600">
              <a:off x="6706080" y="45284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9"/>
            <p:cNvSpPr/>
            <p:nvPr/>
          </p:nvSpPr>
          <p:spPr>
            <a:xfrm rot="8370600">
              <a:off x="6705360" y="4537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10"/>
            <p:cNvSpPr/>
            <p:nvPr/>
          </p:nvSpPr>
          <p:spPr>
            <a:xfrm rot="8370600">
              <a:off x="6703920" y="4547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1"/>
            <p:cNvSpPr/>
            <p:nvPr/>
          </p:nvSpPr>
          <p:spPr>
            <a:xfrm rot="8370600">
              <a:off x="6702480" y="4558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2"/>
            <p:cNvSpPr/>
            <p:nvPr/>
          </p:nvSpPr>
          <p:spPr>
            <a:xfrm rot="8370600">
              <a:off x="6702120" y="456876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3"/>
            <p:cNvSpPr/>
            <p:nvPr/>
          </p:nvSpPr>
          <p:spPr>
            <a:xfrm rot="8370600">
              <a:off x="6696000" y="45266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4"/>
            <p:cNvSpPr/>
            <p:nvPr/>
          </p:nvSpPr>
          <p:spPr>
            <a:xfrm rot="8370600">
              <a:off x="6695280" y="45378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5"/>
            <p:cNvSpPr/>
            <p:nvPr/>
          </p:nvSpPr>
          <p:spPr>
            <a:xfrm rot="8370600">
              <a:off x="6693480" y="4547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6"/>
            <p:cNvSpPr/>
            <p:nvPr/>
          </p:nvSpPr>
          <p:spPr>
            <a:xfrm rot="8370600">
              <a:off x="6692760" y="45576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7"/>
            <p:cNvSpPr/>
            <p:nvPr/>
          </p:nvSpPr>
          <p:spPr>
            <a:xfrm rot="8370600">
              <a:off x="6692040" y="4567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8"/>
            <p:cNvSpPr/>
            <p:nvPr/>
          </p:nvSpPr>
          <p:spPr>
            <a:xfrm rot="8370600">
              <a:off x="6685560" y="45273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9"/>
            <p:cNvSpPr/>
            <p:nvPr/>
          </p:nvSpPr>
          <p:spPr>
            <a:xfrm rot="8370600">
              <a:off x="6684120" y="4536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0"/>
            <p:cNvSpPr/>
            <p:nvPr/>
          </p:nvSpPr>
          <p:spPr>
            <a:xfrm rot="8370600">
              <a:off x="6683760" y="454788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1"/>
            <p:cNvSpPr/>
            <p:nvPr/>
          </p:nvSpPr>
          <p:spPr>
            <a:xfrm rot="8370600">
              <a:off x="6682680" y="4556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2"/>
            <p:cNvSpPr/>
            <p:nvPr/>
          </p:nvSpPr>
          <p:spPr>
            <a:xfrm rot="8370600">
              <a:off x="6680880" y="4566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3"/>
            <p:cNvSpPr/>
            <p:nvPr/>
          </p:nvSpPr>
          <p:spPr>
            <a:xfrm rot="8370600">
              <a:off x="6674400" y="45262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24"/>
            <p:cNvSpPr/>
            <p:nvPr/>
          </p:nvSpPr>
          <p:spPr>
            <a:xfrm rot="8370600">
              <a:off x="6674760" y="453708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25"/>
            <p:cNvSpPr/>
            <p:nvPr/>
          </p:nvSpPr>
          <p:spPr>
            <a:xfrm rot="8370600">
              <a:off x="6673320" y="4546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26"/>
            <p:cNvSpPr/>
            <p:nvPr/>
          </p:nvSpPr>
          <p:spPr>
            <a:xfrm rot="8370600">
              <a:off x="6672240" y="45576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27"/>
            <p:cNvSpPr/>
            <p:nvPr/>
          </p:nvSpPr>
          <p:spPr>
            <a:xfrm rot="8370600">
              <a:off x="6671880" y="45669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8"/>
            <p:cNvSpPr/>
            <p:nvPr/>
          </p:nvSpPr>
          <p:spPr>
            <a:xfrm rot="8370600">
              <a:off x="6665400" y="452628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9"/>
            <p:cNvSpPr/>
            <p:nvPr/>
          </p:nvSpPr>
          <p:spPr>
            <a:xfrm rot="8370600">
              <a:off x="6663960" y="453564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0"/>
            <p:cNvSpPr/>
            <p:nvPr/>
          </p:nvSpPr>
          <p:spPr>
            <a:xfrm rot="8370600">
              <a:off x="6662520" y="45468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1"/>
            <p:cNvSpPr/>
            <p:nvPr/>
          </p:nvSpPr>
          <p:spPr>
            <a:xfrm rot="8370600">
              <a:off x="6662520" y="45561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2"/>
            <p:cNvSpPr/>
            <p:nvPr/>
          </p:nvSpPr>
          <p:spPr>
            <a:xfrm rot="8370600">
              <a:off x="6654600" y="4524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33"/>
            <p:cNvSpPr/>
            <p:nvPr/>
          </p:nvSpPr>
          <p:spPr>
            <a:xfrm rot="8370600">
              <a:off x="6653160" y="45360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4"/>
            <p:cNvSpPr/>
            <p:nvPr/>
          </p:nvSpPr>
          <p:spPr>
            <a:xfrm rot="8370600">
              <a:off x="6653160" y="4545720"/>
              <a:ext cx="4680" cy="5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5"/>
            <p:cNvSpPr/>
            <p:nvPr/>
          </p:nvSpPr>
          <p:spPr>
            <a:xfrm rot="8370600">
              <a:off x="6644160" y="4524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36"/>
            <p:cNvSpPr/>
            <p:nvPr/>
          </p:nvSpPr>
          <p:spPr>
            <a:xfrm rot="8370600">
              <a:off x="6643800" y="453420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7"/>
            <p:cNvSpPr/>
            <p:nvPr/>
          </p:nvSpPr>
          <p:spPr>
            <a:xfrm rot="8370600">
              <a:off x="6634440" y="452340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38"/>
            <p:cNvSpPr/>
            <p:nvPr/>
          </p:nvSpPr>
          <p:spPr>
            <a:xfrm rot="8370600">
              <a:off x="6635520" y="4699080"/>
              <a:ext cx="137160" cy="123480"/>
            </a:xfrm>
            <a:custGeom>
              <a:avLst/>
              <a:gdLst/>
              <a:ahLst/>
              <a:rect l="l" t="t" r="r" b="b"/>
              <a:pathLst>
                <a:path w="250" h="226">
                  <a:moveTo>
                    <a:pt x="26" y="0"/>
                  </a:moveTo>
                  <a:lnTo>
                    <a:pt x="0" y="12"/>
                  </a:lnTo>
                  <a:lnTo>
                    <a:pt x="224" y="226"/>
                  </a:lnTo>
                  <a:lnTo>
                    <a:pt x="250" y="2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"/>
          <p:cNvGrpSpPr/>
          <p:nvPr/>
        </p:nvGrpSpPr>
        <p:grpSpPr>
          <a:xfrm>
            <a:off x="3747600" y="3199320"/>
            <a:ext cx="613800" cy="609840"/>
            <a:chOff x="3747600" y="3199320"/>
            <a:chExt cx="613800" cy="609840"/>
          </a:xfrm>
        </p:grpSpPr>
        <p:sp>
          <p:nvSpPr>
            <p:cNvPr id="277" name="Freeform 19"/>
            <p:cNvSpPr/>
            <p:nvPr/>
          </p:nvSpPr>
          <p:spPr>
            <a:xfrm rot="19194600">
              <a:off x="3828600" y="3295440"/>
              <a:ext cx="451080" cy="417240"/>
            </a:xfrm>
            <a:custGeom>
              <a:avLst/>
              <a:gdLst/>
              <a:ahLst/>
              <a:rect l="l" t="t" r="r" b="b"/>
              <a:pathLst>
                <a:path w="345" h="320">
                  <a:moveTo>
                    <a:pt x="270" y="98"/>
                  </a:moveTo>
                  <a:cubicBezTo>
                    <a:pt x="270" y="98"/>
                    <a:pt x="270" y="98"/>
                    <a:pt x="270" y="98"/>
                  </a:cubicBezTo>
                  <a:cubicBezTo>
                    <a:pt x="269" y="98"/>
                    <a:pt x="269" y="98"/>
                    <a:pt x="269" y="98"/>
                  </a:cubicBezTo>
                  <a:cubicBezTo>
                    <a:pt x="208" y="39"/>
                    <a:pt x="208" y="39"/>
                    <a:pt x="208" y="39"/>
                  </a:cubicBezTo>
                  <a:cubicBezTo>
                    <a:pt x="204" y="40"/>
                    <a:pt x="204" y="40"/>
                    <a:pt x="204" y="40"/>
                  </a:cubicBezTo>
                  <a:cubicBezTo>
                    <a:pt x="198" y="43"/>
                    <a:pt x="198" y="43"/>
                    <a:pt x="198" y="43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50" y="1"/>
                    <a:pt x="150" y="1"/>
                    <a:pt x="150" y="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73"/>
                    <a:pt x="38" y="173"/>
                    <a:pt x="38" y="173"/>
                  </a:cubicBezTo>
                  <a:cubicBezTo>
                    <a:pt x="38" y="189"/>
                    <a:pt x="38" y="189"/>
                    <a:pt x="38" y="189"/>
                  </a:cubicBezTo>
                  <a:cubicBezTo>
                    <a:pt x="176" y="320"/>
                    <a:pt x="176" y="320"/>
                    <a:pt x="176" y="320"/>
                  </a:cubicBezTo>
                  <a:cubicBezTo>
                    <a:pt x="345" y="253"/>
                    <a:pt x="345" y="253"/>
                    <a:pt x="345" y="253"/>
                  </a:cubicBezTo>
                  <a:cubicBezTo>
                    <a:pt x="345" y="170"/>
                    <a:pt x="345" y="170"/>
                    <a:pt x="345" y="170"/>
                  </a:cubicBezTo>
                  <a:lnTo>
                    <a:pt x="270" y="98"/>
                  </a:lnTo>
                  <a:close/>
                  <a:moveTo>
                    <a:pt x="151" y="12"/>
                  </a:moveTo>
                  <a:cubicBezTo>
                    <a:pt x="152" y="14"/>
                    <a:pt x="168" y="29"/>
                    <a:pt x="187" y="47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36" y="87"/>
                    <a:pt x="23" y="74"/>
                    <a:pt x="15" y="67"/>
                  </a:cubicBezTo>
                  <a:cubicBezTo>
                    <a:pt x="39" y="57"/>
                    <a:pt x="145" y="15"/>
                    <a:pt x="151" y="12"/>
                  </a:cubicBezTo>
                  <a:close/>
                  <a:moveTo>
                    <a:pt x="38" y="107"/>
                  </a:moveTo>
                  <a:cubicBezTo>
                    <a:pt x="38" y="112"/>
                    <a:pt x="38" y="112"/>
                    <a:pt x="38" y="112"/>
                  </a:cubicBezTo>
                  <a:cubicBezTo>
                    <a:pt x="38" y="112"/>
                    <a:pt x="38" y="112"/>
                    <a:pt x="37" y="112"/>
                  </a:cubicBezTo>
                  <a:cubicBezTo>
                    <a:pt x="36" y="113"/>
                    <a:pt x="36" y="115"/>
                    <a:pt x="37" y="115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23"/>
                    <a:pt x="38" y="123"/>
                    <a:pt x="38" y="123"/>
                  </a:cubicBezTo>
                  <a:cubicBezTo>
                    <a:pt x="38" y="123"/>
                    <a:pt x="38" y="123"/>
                    <a:pt x="37" y="123"/>
                  </a:cubicBezTo>
                  <a:cubicBezTo>
                    <a:pt x="36" y="124"/>
                    <a:pt x="36" y="125"/>
                    <a:pt x="37" y="126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4"/>
                    <a:pt x="38" y="134"/>
                    <a:pt x="37" y="134"/>
                  </a:cubicBezTo>
                  <a:cubicBezTo>
                    <a:pt x="36" y="135"/>
                    <a:pt x="36" y="136"/>
                    <a:pt x="37" y="137"/>
                  </a:cubicBezTo>
                  <a:cubicBezTo>
                    <a:pt x="38" y="137"/>
                    <a:pt x="38" y="138"/>
                    <a:pt x="38" y="138"/>
                  </a:cubicBezTo>
                  <a:cubicBezTo>
                    <a:pt x="38" y="145"/>
                    <a:pt x="38" y="145"/>
                    <a:pt x="38" y="145"/>
                  </a:cubicBezTo>
                  <a:cubicBezTo>
                    <a:pt x="38" y="145"/>
                    <a:pt x="38" y="145"/>
                    <a:pt x="37" y="145"/>
                  </a:cubicBezTo>
                  <a:cubicBezTo>
                    <a:pt x="36" y="146"/>
                    <a:pt x="36" y="147"/>
                    <a:pt x="37" y="148"/>
                  </a:cubicBezTo>
                  <a:cubicBezTo>
                    <a:pt x="38" y="148"/>
                    <a:pt x="38" y="148"/>
                    <a:pt x="38" y="149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38" y="156"/>
                    <a:pt x="38" y="156"/>
                    <a:pt x="37" y="15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36" y="156"/>
                    <a:pt x="35" y="155"/>
                    <a:pt x="34" y="154"/>
                  </a:cubicBezTo>
                  <a:cubicBezTo>
                    <a:pt x="34" y="154"/>
                    <a:pt x="35" y="154"/>
                    <a:pt x="35" y="153"/>
                  </a:cubicBezTo>
                  <a:cubicBezTo>
                    <a:pt x="36" y="153"/>
                    <a:pt x="36" y="151"/>
                    <a:pt x="35" y="150"/>
                  </a:cubicBezTo>
                  <a:cubicBezTo>
                    <a:pt x="34" y="150"/>
                    <a:pt x="33" y="150"/>
                    <a:pt x="32" y="150"/>
                  </a:cubicBezTo>
                  <a:cubicBezTo>
                    <a:pt x="32" y="151"/>
                    <a:pt x="31" y="151"/>
                    <a:pt x="31" y="151"/>
                  </a:cubicBezTo>
                  <a:cubicBezTo>
                    <a:pt x="30" y="150"/>
                    <a:pt x="29" y="149"/>
                    <a:pt x="29" y="148"/>
                  </a:cubicBezTo>
                  <a:cubicBezTo>
                    <a:pt x="29" y="148"/>
                    <a:pt x="29" y="148"/>
                    <a:pt x="29" y="148"/>
                  </a:cubicBezTo>
                  <a:cubicBezTo>
                    <a:pt x="30" y="147"/>
                    <a:pt x="30" y="146"/>
                    <a:pt x="29" y="145"/>
                  </a:cubicBezTo>
                  <a:cubicBezTo>
                    <a:pt x="28" y="144"/>
                    <a:pt x="27" y="144"/>
                    <a:pt x="26" y="145"/>
                  </a:cubicBezTo>
                  <a:cubicBezTo>
                    <a:pt x="26" y="145"/>
                    <a:pt x="26" y="145"/>
                    <a:pt x="26" y="146"/>
                  </a:cubicBezTo>
                  <a:cubicBezTo>
                    <a:pt x="25" y="145"/>
                    <a:pt x="24" y="144"/>
                    <a:pt x="23" y="143"/>
                  </a:cubicBezTo>
                  <a:cubicBezTo>
                    <a:pt x="23" y="143"/>
                    <a:pt x="23" y="143"/>
                    <a:pt x="23" y="143"/>
                  </a:cubicBezTo>
                  <a:cubicBezTo>
                    <a:pt x="24" y="142"/>
                    <a:pt x="24" y="140"/>
                    <a:pt x="23" y="140"/>
                  </a:cubicBezTo>
                  <a:cubicBezTo>
                    <a:pt x="23" y="139"/>
                    <a:pt x="21" y="139"/>
                    <a:pt x="20" y="140"/>
                  </a:cubicBezTo>
                  <a:cubicBezTo>
                    <a:pt x="20" y="140"/>
                    <a:pt x="20" y="140"/>
                    <a:pt x="20" y="140"/>
                  </a:cubicBezTo>
                  <a:cubicBezTo>
                    <a:pt x="19" y="139"/>
                    <a:pt x="18" y="138"/>
                    <a:pt x="17" y="138"/>
                  </a:cubicBezTo>
                  <a:cubicBezTo>
                    <a:pt x="17" y="137"/>
                    <a:pt x="18" y="137"/>
                    <a:pt x="18" y="137"/>
                  </a:cubicBezTo>
                  <a:cubicBezTo>
                    <a:pt x="19" y="136"/>
                    <a:pt x="19" y="135"/>
                    <a:pt x="18" y="134"/>
                  </a:cubicBezTo>
                  <a:cubicBezTo>
                    <a:pt x="17" y="133"/>
                    <a:pt x="15" y="133"/>
                    <a:pt x="15" y="134"/>
                  </a:cubicBezTo>
                  <a:cubicBezTo>
                    <a:pt x="14" y="134"/>
                    <a:pt x="14" y="135"/>
                    <a:pt x="14" y="135"/>
                  </a:cubicBezTo>
                  <a:cubicBezTo>
                    <a:pt x="13" y="134"/>
                    <a:pt x="12" y="133"/>
                    <a:pt x="11" y="132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1"/>
                    <a:pt x="13" y="130"/>
                    <a:pt x="12" y="129"/>
                  </a:cubicBezTo>
                  <a:cubicBezTo>
                    <a:pt x="12" y="128"/>
                    <a:pt x="11" y="128"/>
                    <a:pt x="11" y="128"/>
                  </a:cubicBezTo>
                  <a:cubicBezTo>
                    <a:pt x="11" y="126"/>
                    <a:pt x="11" y="124"/>
                    <a:pt x="11" y="121"/>
                  </a:cubicBezTo>
                  <a:cubicBezTo>
                    <a:pt x="11" y="121"/>
                    <a:pt x="12" y="121"/>
                    <a:pt x="12" y="121"/>
                  </a:cubicBezTo>
                  <a:cubicBezTo>
                    <a:pt x="13" y="120"/>
                    <a:pt x="13" y="119"/>
                    <a:pt x="12" y="118"/>
                  </a:cubicBezTo>
                  <a:cubicBezTo>
                    <a:pt x="12" y="117"/>
                    <a:pt x="11" y="117"/>
                    <a:pt x="11" y="117"/>
                  </a:cubicBezTo>
                  <a:cubicBezTo>
                    <a:pt x="11" y="115"/>
                    <a:pt x="11" y="113"/>
                    <a:pt x="11" y="110"/>
                  </a:cubicBezTo>
                  <a:cubicBezTo>
                    <a:pt x="11" y="110"/>
                    <a:pt x="12" y="110"/>
                    <a:pt x="12" y="110"/>
                  </a:cubicBezTo>
                  <a:cubicBezTo>
                    <a:pt x="13" y="109"/>
                    <a:pt x="13" y="108"/>
                    <a:pt x="12" y="107"/>
                  </a:cubicBezTo>
                  <a:cubicBezTo>
                    <a:pt x="12" y="107"/>
                    <a:pt x="11" y="106"/>
                    <a:pt x="11" y="106"/>
                  </a:cubicBezTo>
                  <a:cubicBezTo>
                    <a:pt x="11" y="104"/>
                    <a:pt x="11" y="102"/>
                    <a:pt x="11" y="100"/>
                  </a:cubicBezTo>
                  <a:cubicBezTo>
                    <a:pt x="11" y="99"/>
                    <a:pt x="12" y="99"/>
                    <a:pt x="12" y="99"/>
                  </a:cubicBezTo>
                  <a:cubicBezTo>
                    <a:pt x="13" y="98"/>
                    <a:pt x="13" y="97"/>
                    <a:pt x="12" y="96"/>
                  </a:cubicBezTo>
                  <a:cubicBezTo>
                    <a:pt x="12" y="96"/>
                    <a:pt x="11" y="96"/>
                    <a:pt x="11" y="95"/>
                  </a:cubicBezTo>
                  <a:cubicBezTo>
                    <a:pt x="11" y="93"/>
                    <a:pt x="11" y="91"/>
                    <a:pt x="11" y="89"/>
                  </a:cubicBezTo>
                  <a:cubicBezTo>
                    <a:pt x="11" y="89"/>
                    <a:pt x="12" y="88"/>
                    <a:pt x="12" y="88"/>
                  </a:cubicBezTo>
                  <a:cubicBezTo>
                    <a:pt x="13" y="87"/>
                    <a:pt x="13" y="86"/>
                    <a:pt x="12" y="85"/>
                  </a:cubicBezTo>
                  <a:cubicBezTo>
                    <a:pt x="12" y="85"/>
                    <a:pt x="11" y="85"/>
                    <a:pt x="11" y="85"/>
                  </a:cubicBezTo>
                  <a:cubicBezTo>
                    <a:pt x="11" y="82"/>
                    <a:pt x="11" y="80"/>
                    <a:pt x="11" y="78"/>
                  </a:cubicBezTo>
                  <a:cubicBezTo>
                    <a:pt x="11" y="78"/>
                    <a:pt x="11" y="78"/>
                    <a:pt x="11" y="78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4" y="81"/>
                    <a:pt x="14" y="82"/>
                    <a:pt x="15" y="83"/>
                  </a:cubicBezTo>
                  <a:cubicBezTo>
                    <a:pt x="15" y="83"/>
                    <a:pt x="16" y="83"/>
                    <a:pt x="17" y="83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8"/>
                    <a:pt x="20" y="88"/>
                  </a:cubicBezTo>
                  <a:cubicBezTo>
                    <a:pt x="21" y="89"/>
                    <a:pt x="22" y="89"/>
                    <a:pt x="23" y="89"/>
                  </a:cubicBezTo>
                  <a:cubicBezTo>
                    <a:pt x="25" y="91"/>
                    <a:pt x="25" y="91"/>
                    <a:pt x="25" y="91"/>
                  </a:cubicBezTo>
                  <a:cubicBezTo>
                    <a:pt x="25" y="92"/>
                    <a:pt x="25" y="93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31" y="97"/>
                    <a:pt x="31" y="97"/>
                    <a:pt x="31" y="97"/>
                  </a:cubicBezTo>
                  <a:cubicBezTo>
                    <a:pt x="31" y="98"/>
                    <a:pt x="31" y="98"/>
                    <a:pt x="32" y="99"/>
                  </a:cubicBezTo>
                  <a:cubicBezTo>
                    <a:pt x="32" y="100"/>
                    <a:pt x="33" y="100"/>
                    <a:pt x="34" y="100"/>
                  </a:cubicBezTo>
                  <a:cubicBezTo>
                    <a:pt x="37" y="102"/>
                    <a:pt x="37" y="102"/>
                    <a:pt x="37" y="102"/>
                  </a:cubicBezTo>
                  <a:cubicBezTo>
                    <a:pt x="37" y="103"/>
                    <a:pt x="37" y="104"/>
                    <a:pt x="37" y="104"/>
                  </a:cubicBezTo>
                  <a:cubicBezTo>
                    <a:pt x="38" y="105"/>
                    <a:pt x="39" y="105"/>
                    <a:pt x="40" y="105"/>
                  </a:cubicBezTo>
                  <a:cubicBezTo>
                    <a:pt x="40" y="106"/>
                    <a:pt x="40" y="106"/>
                    <a:pt x="40" y="106"/>
                  </a:cubicBezTo>
                  <a:lnTo>
                    <a:pt x="38" y="107"/>
                  </a:lnTo>
                  <a:close/>
                  <a:moveTo>
                    <a:pt x="171" y="249"/>
                  </a:moveTo>
                  <a:cubicBezTo>
                    <a:pt x="170" y="248"/>
                    <a:pt x="169" y="248"/>
                    <a:pt x="168" y="249"/>
                  </a:cubicBezTo>
                  <a:cubicBezTo>
                    <a:pt x="167" y="249"/>
                    <a:pt x="167" y="251"/>
                    <a:pt x="168" y="252"/>
                  </a:cubicBezTo>
                  <a:cubicBezTo>
                    <a:pt x="169" y="252"/>
                    <a:pt x="170" y="252"/>
                    <a:pt x="171" y="252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70" y="259"/>
                    <a:pt x="169" y="259"/>
                    <a:pt x="168" y="259"/>
                  </a:cubicBezTo>
                  <a:cubicBezTo>
                    <a:pt x="167" y="260"/>
                    <a:pt x="167" y="262"/>
                    <a:pt x="168" y="262"/>
                  </a:cubicBezTo>
                  <a:cubicBezTo>
                    <a:pt x="169" y="263"/>
                    <a:pt x="170" y="263"/>
                    <a:pt x="171" y="263"/>
                  </a:cubicBezTo>
                  <a:cubicBezTo>
                    <a:pt x="171" y="270"/>
                    <a:pt x="171" y="270"/>
                    <a:pt x="171" y="270"/>
                  </a:cubicBezTo>
                  <a:cubicBezTo>
                    <a:pt x="170" y="270"/>
                    <a:pt x="169" y="270"/>
                    <a:pt x="168" y="270"/>
                  </a:cubicBezTo>
                  <a:cubicBezTo>
                    <a:pt x="167" y="271"/>
                    <a:pt x="167" y="273"/>
                    <a:pt x="168" y="273"/>
                  </a:cubicBezTo>
                  <a:cubicBezTo>
                    <a:pt x="169" y="274"/>
                    <a:pt x="170" y="274"/>
                    <a:pt x="171" y="273"/>
                  </a:cubicBezTo>
                  <a:cubicBezTo>
                    <a:pt x="171" y="281"/>
                    <a:pt x="171" y="281"/>
                    <a:pt x="171" y="281"/>
                  </a:cubicBezTo>
                  <a:cubicBezTo>
                    <a:pt x="170" y="280"/>
                    <a:pt x="169" y="280"/>
                    <a:pt x="168" y="281"/>
                  </a:cubicBezTo>
                  <a:cubicBezTo>
                    <a:pt x="167" y="282"/>
                    <a:pt x="167" y="283"/>
                    <a:pt x="168" y="284"/>
                  </a:cubicBezTo>
                  <a:cubicBezTo>
                    <a:pt x="169" y="285"/>
                    <a:pt x="170" y="285"/>
                    <a:pt x="171" y="284"/>
                  </a:cubicBezTo>
                  <a:cubicBezTo>
                    <a:pt x="171" y="292"/>
                    <a:pt x="171" y="292"/>
                    <a:pt x="171" y="292"/>
                  </a:cubicBezTo>
                  <a:cubicBezTo>
                    <a:pt x="170" y="291"/>
                    <a:pt x="169" y="291"/>
                    <a:pt x="168" y="292"/>
                  </a:cubicBezTo>
                  <a:cubicBezTo>
                    <a:pt x="167" y="293"/>
                    <a:pt x="167" y="294"/>
                    <a:pt x="168" y="295"/>
                  </a:cubicBezTo>
                  <a:cubicBezTo>
                    <a:pt x="169" y="296"/>
                    <a:pt x="170" y="296"/>
                    <a:pt x="171" y="295"/>
                  </a:cubicBezTo>
                  <a:cubicBezTo>
                    <a:pt x="171" y="301"/>
                    <a:pt x="171" y="301"/>
                    <a:pt x="171" y="301"/>
                  </a:cubicBezTo>
                  <a:cubicBezTo>
                    <a:pt x="145" y="276"/>
                    <a:pt x="52" y="187"/>
                    <a:pt x="49" y="185"/>
                  </a:cubicBezTo>
                  <a:cubicBezTo>
                    <a:pt x="49" y="184"/>
                    <a:pt x="49" y="183"/>
                    <a:pt x="49" y="181"/>
                  </a:cubicBezTo>
                  <a:cubicBezTo>
                    <a:pt x="50" y="182"/>
                    <a:pt x="51" y="181"/>
                    <a:pt x="52" y="181"/>
                  </a:cubicBezTo>
                  <a:cubicBezTo>
                    <a:pt x="53" y="180"/>
                    <a:pt x="53" y="179"/>
                    <a:pt x="52" y="178"/>
                  </a:cubicBezTo>
                  <a:cubicBezTo>
                    <a:pt x="51" y="177"/>
                    <a:pt x="50" y="177"/>
                    <a:pt x="49" y="177"/>
                  </a:cubicBezTo>
                  <a:cubicBezTo>
                    <a:pt x="49" y="175"/>
                    <a:pt x="49" y="173"/>
                    <a:pt x="49" y="170"/>
                  </a:cubicBezTo>
                  <a:cubicBezTo>
                    <a:pt x="50" y="171"/>
                    <a:pt x="51" y="170"/>
                    <a:pt x="52" y="170"/>
                  </a:cubicBezTo>
                  <a:cubicBezTo>
                    <a:pt x="53" y="169"/>
                    <a:pt x="53" y="168"/>
                    <a:pt x="52" y="167"/>
                  </a:cubicBezTo>
                  <a:cubicBezTo>
                    <a:pt x="51" y="166"/>
                    <a:pt x="50" y="166"/>
                    <a:pt x="49" y="166"/>
                  </a:cubicBezTo>
                  <a:cubicBezTo>
                    <a:pt x="49" y="164"/>
                    <a:pt x="49" y="162"/>
                    <a:pt x="49" y="159"/>
                  </a:cubicBezTo>
                  <a:cubicBezTo>
                    <a:pt x="50" y="160"/>
                    <a:pt x="51" y="160"/>
                    <a:pt x="52" y="159"/>
                  </a:cubicBezTo>
                  <a:cubicBezTo>
                    <a:pt x="53" y="158"/>
                    <a:pt x="53" y="157"/>
                    <a:pt x="52" y="156"/>
                  </a:cubicBezTo>
                  <a:cubicBezTo>
                    <a:pt x="51" y="155"/>
                    <a:pt x="50" y="155"/>
                    <a:pt x="49" y="156"/>
                  </a:cubicBezTo>
                  <a:cubicBezTo>
                    <a:pt x="49" y="153"/>
                    <a:pt x="49" y="151"/>
                    <a:pt x="49" y="148"/>
                  </a:cubicBezTo>
                  <a:cubicBezTo>
                    <a:pt x="50" y="149"/>
                    <a:pt x="51" y="149"/>
                    <a:pt x="52" y="148"/>
                  </a:cubicBezTo>
                  <a:cubicBezTo>
                    <a:pt x="53" y="147"/>
                    <a:pt x="53" y="146"/>
                    <a:pt x="52" y="145"/>
                  </a:cubicBezTo>
                  <a:cubicBezTo>
                    <a:pt x="51" y="144"/>
                    <a:pt x="50" y="144"/>
                    <a:pt x="49" y="145"/>
                  </a:cubicBezTo>
                  <a:cubicBezTo>
                    <a:pt x="49" y="142"/>
                    <a:pt x="49" y="140"/>
                    <a:pt x="49" y="138"/>
                  </a:cubicBezTo>
                  <a:cubicBezTo>
                    <a:pt x="50" y="138"/>
                    <a:pt x="51" y="138"/>
                    <a:pt x="52" y="137"/>
                  </a:cubicBezTo>
                  <a:cubicBezTo>
                    <a:pt x="53" y="136"/>
                    <a:pt x="53" y="135"/>
                    <a:pt x="52" y="134"/>
                  </a:cubicBezTo>
                  <a:cubicBezTo>
                    <a:pt x="51" y="133"/>
                    <a:pt x="50" y="133"/>
                    <a:pt x="49" y="134"/>
                  </a:cubicBezTo>
                  <a:cubicBezTo>
                    <a:pt x="49" y="131"/>
                    <a:pt x="49" y="129"/>
                    <a:pt x="49" y="127"/>
                  </a:cubicBezTo>
                  <a:cubicBezTo>
                    <a:pt x="50" y="127"/>
                    <a:pt x="51" y="127"/>
                    <a:pt x="52" y="126"/>
                  </a:cubicBezTo>
                  <a:cubicBezTo>
                    <a:pt x="52" y="126"/>
                    <a:pt x="52" y="126"/>
                    <a:pt x="52" y="126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5" y="128"/>
                    <a:pt x="55" y="129"/>
                    <a:pt x="54" y="129"/>
                  </a:cubicBezTo>
                  <a:cubicBezTo>
                    <a:pt x="54" y="130"/>
                    <a:pt x="54" y="131"/>
                    <a:pt x="54" y="132"/>
                  </a:cubicBezTo>
                  <a:cubicBezTo>
                    <a:pt x="55" y="133"/>
                    <a:pt x="57" y="133"/>
                    <a:pt x="58" y="132"/>
                  </a:cubicBezTo>
                  <a:cubicBezTo>
                    <a:pt x="58" y="132"/>
                    <a:pt x="58" y="131"/>
                    <a:pt x="58" y="131"/>
                  </a:cubicBezTo>
                  <a:cubicBezTo>
                    <a:pt x="61" y="134"/>
                    <a:pt x="61" y="134"/>
                    <a:pt x="61" y="134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59" y="135"/>
                    <a:pt x="59" y="136"/>
                    <a:pt x="60" y="137"/>
                  </a:cubicBezTo>
                  <a:cubicBezTo>
                    <a:pt x="61" y="138"/>
                    <a:pt x="62" y="138"/>
                    <a:pt x="63" y="137"/>
                  </a:cubicBezTo>
                  <a:cubicBezTo>
                    <a:pt x="63" y="137"/>
                    <a:pt x="63" y="137"/>
                    <a:pt x="64" y="137"/>
                  </a:cubicBezTo>
                  <a:cubicBezTo>
                    <a:pt x="66" y="139"/>
                    <a:pt x="66" y="139"/>
                    <a:pt x="66" y="139"/>
                  </a:cubicBezTo>
                  <a:cubicBezTo>
                    <a:pt x="66" y="139"/>
                    <a:pt x="66" y="139"/>
                    <a:pt x="66" y="140"/>
                  </a:cubicBezTo>
                  <a:cubicBezTo>
                    <a:pt x="65" y="140"/>
                    <a:pt x="65" y="142"/>
                    <a:pt x="66" y="143"/>
                  </a:cubicBezTo>
                  <a:cubicBezTo>
                    <a:pt x="67" y="143"/>
                    <a:pt x="68" y="143"/>
                    <a:pt x="69" y="143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72" y="145"/>
                    <a:pt x="72" y="145"/>
                    <a:pt x="72" y="145"/>
                  </a:cubicBezTo>
                  <a:cubicBezTo>
                    <a:pt x="72" y="145"/>
                    <a:pt x="72" y="145"/>
                    <a:pt x="71" y="145"/>
                  </a:cubicBezTo>
                  <a:cubicBezTo>
                    <a:pt x="71" y="146"/>
                    <a:pt x="71" y="147"/>
                    <a:pt x="71" y="148"/>
                  </a:cubicBezTo>
                  <a:cubicBezTo>
                    <a:pt x="72" y="149"/>
                    <a:pt x="74" y="149"/>
                    <a:pt x="75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8" y="150"/>
                    <a:pt x="78" y="150"/>
                    <a:pt x="78" y="150"/>
                  </a:cubicBezTo>
                  <a:cubicBezTo>
                    <a:pt x="77" y="150"/>
                    <a:pt x="77" y="150"/>
                    <a:pt x="77" y="150"/>
                  </a:cubicBezTo>
                  <a:cubicBezTo>
                    <a:pt x="76" y="151"/>
                    <a:pt x="76" y="153"/>
                    <a:pt x="77" y="153"/>
                  </a:cubicBezTo>
                  <a:cubicBezTo>
                    <a:pt x="78" y="154"/>
                    <a:pt x="79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2" y="157"/>
                    <a:pt x="82" y="158"/>
                    <a:pt x="83" y="159"/>
                  </a:cubicBezTo>
                  <a:cubicBezTo>
                    <a:pt x="84" y="160"/>
                    <a:pt x="85" y="160"/>
                    <a:pt x="86" y="159"/>
                  </a:cubicBezTo>
                  <a:cubicBezTo>
                    <a:pt x="86" y="159"/>
                    <a:pt x="86" y="159"/>
                    <a:pt x="86" y="158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8" y="162"/>
                    <a:pt x="88" y="164"/>
                    <a:pt x="89" y="164"/>
                  </a:cubicBezTo>
                  <a:cubicBezTo>
                    <a:pt x="89" y="165"/>
                    <a:pt x="91" y="165"/>
                    <a:pt x="92" y="164"/>
                  </a:cubicBezTo>
                  <a:cubicBezTo>
                    <a:pt x="92" y="164"/>
                    <a:pt x="92" y="164"/>
                    <a:pt x="92" y="164"/>
                  </a:cubicBezTo>
                  <a:cubicBezTo>
                    <a:pt x="95" y="166"/>
                    <a:pt x="95" y="166"/>
                    <a:pt x="95" y="166"/>
                  </a:cubicBezTo>
                  <a:cubicBezTo>
                    <a:pt x="95" y="167"/>
                    <a:pt x="94" y="167"/>
                    <a:pt x="94" y="167"/>
                  </a:cubicBezTo>
                  <a:cubicBezTo>
                    <a:pt x="93" y="168"/>
                    <a:pt x="93" y="169"/>
                    <a:pt x="94" y="170"/>
                  </a:cubicBezTo>
                  <a:cubicBezTo>
                    <a:pt x="95" y="171"/>
                    <a:pt x="97" y="171"/>
                    <a:pt x="97" y="170"/>
                  </a:cubicBezTo>
                  <a:cubicBezTo>
                    <a:pt x="98" y="170"/>
                    <a:pt x="98" y="170"/>
                    <a:pt x="98" y="169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99" y="173"/>
                    <a:pt x="99" y="174"/>
                    <a:pt x="100" y="175"/>
                  </a:cubicBezTo>
                  <a:cubicBezTo>
                    <a:pt x="101" y="176"/>
                    <a:pt x="102" y="176"/>
                    <a:pt x="103" y="175"/>
                  </a:cubicBezTo>
                  <a:cubicBezTo>
                    <a:pt x="103" y="175"/>
                    <a:pt x="103" y="175"/>
                    <a:pt x="103" y="175"/>
                  </a:cubicBezTo>
                  <a:cubicBezTo>
                    <a:pt x="106" y="177"/>
                    <a:pt x="106" y="177"/>
                    <a:pt x="106" y="177"/>
                  </a:cubicBezTo>
                  <a:cubicBezTo>
                    <a:pt x="106" y="177"/>
                    <a:pt x="106" y="178"/>
                    <a:pt x="106" y="178"/>
                  </a:cubicBezTo>
                  <a:cubicBezTo>
                    <a:pt x="105" y="179"/>
                    <a:pt x="105" y="180"/>
                    <a:pt x="106" y="181"/>
                  </a:cubicBezTo>
                  <a:cubicBezTo>
                    <a:pt x="106" y="182"/>
                    <a:pt x="108" y="182"/>
                    <a:pt x="109" y="181"/>
                  </a:cubicBezTo>
                  <a:cubicBezTo>
                    <a:pt x="109" y="181"/>
                    <a:pt x="109" y="180"/>
                    <a:pt x="109" y="180"/>
                  </a:cubicBezTo>
                  <a:cubicBezTo>
                    <a:pt x="112" y="183"/>
                    <a:pt x="112" y="183"/>
                    <a:pt x="112" y="183"/>
                  </a:cubicBezTo>
                  <a:cubicBezTo>
                    <a:pt x="112" y="183"/>
                    <a:pt x="111" y="183"/>
                    <a:pt x="111" y="183"/>
                  </a:cubicBezTo>
                  <a:cubicBezTo>
                    <a:pt x="110" y="184"/>
                    <a:pt x="110" y="185"/>
                    <a:pt x="111" y="186"/>
                  </a:cubicBezTo>
                  <a:cubicBezTo>
                    <a:pt x="112" y="187"/>
                    <a:pt x="114" y="187"/>
                    <a:pt x="114" y="186"/>
                  </a:cubicBezTo>
                  <a:cubicBezTo>
                    <a:pt x="115" y="186"/>
                    <a:pt x="115" y="186"/>
                    <a:pt x="115" y="186"/>
                  </a:cubicBezTo>
                  <a:cubicBezTo>
                    <a:pt x="118" y="188"/>
                    <a:pt x="118" y="188"/>
                    <a:pt x="118" y="188"/>
                  </a:cubicBezTo>
                  <a:cubicBezTo>
                    <a:pt x="117" y="188"/>
                    <a:pt x="117" y="188"/>
                    <a:pt x="117" y="189"/>
                  </a:cubicBezTo>
                  <a:cubicBezTo>
                    <a:pt x="116" y="189"/>
                    <a:pt x="116" y="191"/>
                    <a:pt x="117" y="192"/>
                  </a:cubicBezTo>
                  <a:cubicBezTo>
                    <a:pt x="118" y="192"/>
                    <a:pt x="119" y="192"/>
                    <a:pt x="120" y="192"/>
                  </a:cubicBezTo>
                  <a:cubicBezTo>
                    <a:pt x="120" y="191"/>
                    <a:pt x="120" y="191"/>
                    <a:pt x="121" y="191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2" y="195"/>
                    <a:pt x="122" y="196"/>
                    <a:pt x="123" y="197"/>
                  </a:cubicBezTo>
                  <a:cubicBezTo>
                    <a:pt x="124" y="198"/>
                    <a:pt x="125" y="198"/>
                    <a:pt x="126" y="197"/>
                  </a:cubicBezTo>
                  <a:cubicBezTo>
                    <a:pt x="126" y="197"/>
                    <a:pt x="126" y="197"/>
                    <a:pt x="126" y="197"/>
                  </a:cubicBezTo>
                  <a:cubicBezTo>
                    <a:pt x="129" y="199"/>
                    <a:pt x="129" y="199"/>
                    <a:pt x="129" y="199"/>
                  </a:cubicBezTo>
                  <a:cubicBezTo>
                    <a:pt x="129" y="199"/>
                    <a:pt x="129" y="199"/>
                    <a:pt x="128" y="200"/>
                  </a:cubicBezTo>
                  <a:cubicBezTo>
                    <a:pt x="127" y="200"/>
                    <a:pt x="127" y="202"/>
                    <a:pt x="128" y="203"/>
                  </a:cubicBezTo>
                  <a:cubicBezTo>
                    <a:pt x="129" y="203"/>
                    <a:pt x="131" y="203"/>
                    <a:pt x="131" y="203"/>
                  </a:cubicBezTo>
                  <a:cubicBezTo>
                    <a:pt x="132" y="202"/>
                    <a:pt x="132" y="202"/>
                    <a:pt x="132" y="202"/>
                  </a:cubicBezTo>
                  <a:cubicBezTo>
                    <a:pt x="135" y="205"/>
                    <a:pt x="135" y="205"/>
                    <a:pt x="135" y="205"/>
                  </a:cubicBezTo>
                  <a:cubicBezTo>
                    <a:pt x="134" y="205"/>
                    <a:pt x="134" y="205"/>
                    <a:pt x="134" y="205"/>
                  </a:cubicBezTo>
                  <a:cubicBezTo>
                    <a:pt x="133" y="206"/>
                    <a:pt x="133" y="207"/>
                    <a:pt x="134" y="208"/>
                  </a:cubicBezTo>
                  <a:cubicBezTo>
                    <a:pt x="135" y="209"/>
                    <a:pt x="136" y="209"/>
                    <a:pt x="137" y="208"/>
                  </a:cubicBezTo>
                  <a:cubicBezTo>
                    <a:pt x="137" y="208"/>
                    <a:pt x="137" y="208"/>
                    <a:pt x="138" y="207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39" y="211"/>
                    <a:pt x="139" y="213"/>
                    <a:pt x="140" y="213"/>
                  </a:cubicBezTo>
                  <a:cubicBezTo>
                    <a:pt x="141" y="214"/>
                    <a:pt x="142" y="214"/>
                    <a:pt x="143" y="213"/>
                  </a:cubicBezTo>
                  <a:cubicBezTo>
                    <a:pt x="143" y="213"/>
                    <a:pt x="143" y="213"/>
                    <a:pt x="143" y="213"/>
                  </a:cubicBezTo>
                  <a:cubicBezTo>
                    <a:pt x="146" y="215"/>
                    <a:pt x="146" y="215"/>
                    <a:pt x="146" y="215"/>
                  </a:cubicBezTo>
                  <a:cubicBezTo>
                    <a:pt x="146" y="216"/>
                    <a:pt x="146" y="216"/>
                    <a:pt x="145" y="216"/>
                  </a:cubicBezTo>
                  <a:cubicBezTo>
                    <a:pt x="145" y="217"/>
                    <a:pt x="145" y="218"/>
                    <a:pt x="145" y="219"/>
                  </a:cubicBezTo>
                  <a:cubicBezTo>
                    <a:pt x="146" y="220"/>
                    <a:pt x="148" y="220"/>
                    <a:pt x="149" y="219"/>
                  </a:cubicBezTo>
                  <a:cubicBezTo>
                    <a:pt x="149" y="219"/>
                    <a:pt x="149" y="219"/>
                    <a:pt x="149" y="218"/>
                  </a:cubicBezTo>
                  <a:cubicBezTo>
                    <a:pt x="152" y="221"/>
                    <a:pt x="152" y="221"/>
                    <a:pt x="152" y="221"/>
                  </a:cubicBezTo>
                  <a:cubicBezTo>
                    <a:pt x="151" y="221"/>
                    <a:pt x="151" y="221"/>
                    <a:pt x="151" y="221"/>
                  </a:cubicBezTo>
                  <a:cubicBezTo>
                    <a:pt x="150" y="222"/>
                    <a:pt x="150" y="224"/>
                    <a:pt x="151" y="224"/>
                  </a:cubicBezTo>
                  <a:cubicBezTo>
                    <a:pt x="152" y="225"/>
                    <a:pt x="153" y="225"/>
                    <a:pt x="154" y="224"/>
                  </a:cubicBezTo>
                  <a:cubicBezTo>
                    <a:pt x="154" y="224"/>
                    <a:pt x="155" y="224"/>
                    <a:pt x="155" y="224"/>
                  </a:cubicBezTo>
                  <a:cubicBezTo>
                    <a:pt x="157" y="226"/>
                    <a:pt x="157" y="226"/>
                    <a:pt x="157" y="226"/>
                  </a:cubicBezTo>
                  <a:cubicBezTo>
                    <a:pt x="157" y="226"/>
                    <a:pt x="157" y="227"/>
                    <a:pt x="157" y="227"/>
                  </a:cubicBezTo>
                  <a:cubicBezTo>
                    <a:pt x="156" y="228"/>
                    <a:pt x="156" y="229"/>
                    <a:pt x="157" y="230"/>
                  </a:cubicBezTo>
                  <a:cubicBezTo>
                    <a:pt x="158" y="231"/>
                    <a:pt x="159" y="231"/>
                    <a:pt x="160" y="230"/>
                  </a:cubicBezTo>
                  <a:cubicBezTo>
                    <a:pt x="160" y="230"/>
                    <a:pt x="160" y="229"/>
                    <a:pt x="160" y="229"/>
                  </a:cubicBezTo>
                  <a:cubicBezTo>
                    <a:pt x="163" y="232"/>
                    <a:pt x="163" y="232"/>
                    <a:pt x="163" y="232"/>
                  </a:cubicBezTo>
                  <a:cubicBezTo>
                    <a:pt x="163" y="232"/>
                    <a:pt x="163" y="232"/>
                    <a:pt x="162" y="232"/>
                  </a:cubicBezTo>
                  <a:cubicBezTo>
                    <a:pt x="162" y="233"/>
                    <a:pt x="162" y="234"/>
                    <a:pt x="162" y="235"/>
                  </a:cubicBezTo>
                  <a:cubicBezTo>
                    <a:pt x="163" y="236"/>
                    <a:pt x="165" y="236"/>
                    <a:pt x="166" y="235"/>
                  </a:cubicBezTo>
                  <a:cubicBezTo>
                    <a:pt x="166" y="235"/>
                    <a:pt x="166" y="235"/>
                    <a:pt x="166" y="235"/>
                  </a:cubicBezTo>
                  <a:cubicBezTo>
                    <a:pt x="169" y="237"/>
                    <a:pt x="169" y="237"/>
                    <a:pt x="169" y="237"/>
                  </a:cubicBezTo>
                  <a:cubicBezTo>
                    <a:pt x="169" y="237"/>
                    <a:pt x="168" y="237"/>
                    <a:pt x="168" y="238"/>
                  </a:cubicBezTo>
                  <a:cubicBezTo>
                    <a:pt x="167" y="239"/>
                    <a:pt x="167" y="240"/>
                    <a:pt x="168" y="241"/>
                  </a:cubicBezTo>
                  <a:cubicBezTo>
                    <a:pt x="169" y="242"/>
                    <a:pt x="170" y="242"/>
                    <a:pt x="171" y="241"/>
                  </a:cubicBezTo>
                  <a:lnTo>
                    <a:pt x="171" y="249"/>
                  </a:lnTo>
                  <a:close/>
                  <a:moveTo>
                    <a:pt x="54" y="112"/>
                  </a:moveTo>
                  <a:cubicBezTo>
                    <a:pt x="79" y="102"/>
                    <a:pt x="199" y="54"/>
                    <a:pt x="205" y="52"/>
                  </a:cubicBezTo>
                  <a:cubicBezTo>
                    <a:pt x="209" y="56"/>
                    <a:pt x="307" y="149"/>
                    <a:pt x="329" y="170"/>
                  </a:cubicBezTo>
                  <a:cubicBezTo>
                    <a:pt x="298" y="183"/>
                    <a:pt x="183" y="229"/>
                    <a:pt x="178" y="231"/>
                  </a:cubicBezTo>
                  <a:cubicBezTo>
                    <a:pt x="174" y="227"/>
                    <a:pt x="79" y="136"/>
                    <a:pt x="54" y="112"/>
                  </a:cubicBezTo>
                  <a:close/>
                  <a:moveTo>
                    <a:pt x="334" y="245"/>
                  </a:moveTo>
                  <a:cubicBezTo>
                    <a:pt x="328" y="248"/>
                    <a:pt x="207" y="296"/>
                    <a:pt x="182" y="306"/>
                  </a:cubicBezTo>
                  <a:cubicBezTo>
                    <a:pt x="182" y="241"/>
                    <a:pt x="182" y="241"/>
                    <a:pt x="182" y="241"/>
                  </a:cubicBezTo>
                  <a:cubicBezTo>
                    <a:pt x="334" y="180"/>
                    <a:pt x="334" y="180"/>
                    <a:pt x="334" y="180"/>
                  </a:cubicBezTo>
                  <a:cubicBezTo>
                    <a:pt x="334" y="197"/>
                    <a:pt x="334" y="240"/>
                    <a:pt x="334" y="2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0"/>
            <p:cNvSpPr/>
            <p:nvPr/>
          </p:nvSpPr>
          <p:spPr>
            <a:xfrm rot="19194600">
              <a:off x="4021560" y="3405240"/>
              <a:ext cx="131400" cy="102600"/>
            </a:xfrm>
            <a:custGeom>
              <a:avLst/>
              <a:gdLst/>
              <a:ahLst/>
              <a:rect l="l" t="t" r="r" b="b"/>
              <a:pathLst>
                <a:path w="240" h="188">
                  <a:moveTo>
                    <a:pt x="0" y="36"/>
                  </a:moveTo>
                  <a:lnTo>
                    <a:pt x="159" y="188"/>
                  </a:lnTo>
                  <a:lnTo>
                    <a:pt x="240" y="155"/>
                  </a:lnTo>
                  <a:lnTo>
                    <a:pt x="8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"/>
            <p:cNvSpPr/>
            <p:nvPr/>
          </p:nvSpPr>
          <p:spPr>
            <a:xfrm rot="19194600">
              <a:off x="3947400" y="3449880"/>
              <a:ext cx="167400" cy="138240"/>
            </a:xfrm>
            <a:custGeom>
              <a:avLst/>
              <a:gdLst/>
              <a:ahLst/>
              <a:rect l="l" t="t" r="r" b="b"/>
              <a:pathLst>
                <a:path w="305" h="253">
                  <a:moveTo>
                    <a:pt x="0" y="36"/>
                  </a:moveTo>
                  <a:lnTo>
                    <a:pt x="224" y="253"/>
                  </a:lnTo>
                  <a:lnTo>
                    <a:pt x="305" y="217"/>
                  </a:lnTo>
                  <a:lnTo>
                    <a:pt x="81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 rot="19194600">
              <a:off x="3837600" y="356508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"/>
            <p:cNvSpPr/>
            <p:nvPr/>
          </p:nvSpPr>
          <p:spPr>
            <a:xfrm rot="19194600">
              <a:off x="3846960" y="357624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"/>
            <p:cNvSpPr/>
            <p:nvPr/>
          </p:nvSpPr>
          <p:spPr>
            <a:xfrm rot="19194600">
              <a:off x="3847320" y="3566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5"/>
            <p:cNvSpPr/>
            <p:nvPr/>
          </p:nvSpPr>
          <p:spPr>
            <a:xfrm rot="19194600">
              <a:off x="3855960" y="358704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6"/>
            <p:cNvSpPr/>
            <p:nvPr/>
          </p:nvSpPr>
          <p:spPr>
            <a:xfrm rot="19194600">
              <a:off x="3856680" y="3576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7"/>
            <p:cNvSpPr/>
            <p:nvPr/>
          </p:nvSpPr>
          <p:spPr>
            <a:xfrm rot="19194600">
              <a:off x="3857760" y="35672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8"/>
            <p:cNvSpPr/>
            <p:nvPr/>
          </p:nvSpPr>
          <p:spPr>
            <a:xfrm rot="19194600">
              <a:off x="3864960" y="359712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9"/>
            <p:cNvSpPr/>
            <p:nvPr/>
          </p:nvSpPr>
          <p:spPr>
            <a:xfrm rot="19194600">
              <a:off x="3865680" y="35877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0"/>
            <p:cNvSpPr/>
            <p:nvPr/>
          </p:nvSpPr>
          <p:spPr>
            <a:xfrm rot="19194600">
              <a:off x="3866760" y="35780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"/>
            <p:cNvSpPr/>
            <p:nvPr/>
          </p:nvSpPr>
          <p:spPr>
            <a:xfrm rot="19194600">
              <a:off x="3868200" y="3566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"/>
            <p:cNvSpPr/>
            <p:nvPr/>
          </p:nvSpPr>
          <p:spPr>
            <a:xfrm rot="19194600">
              <a:off x="3874680" y="3598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3"/>
            <p:cNvSpPr/>
            <p:nvPr/>
          </p:nvSpPr>
          <p:spPr>
            <a:xfrm rot="19194600">
              <a:off x="3875760" y="3588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4"/>
            <p:cNvSpPr/>
            <p:nvPr/>
          </p:nvSpPr>
          <p:spPr>
            <a:xfrm rot="19194600">
              <a:off x="3877560" y="3577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5"/>
            <p:cNvSpPr/>
            <p:nvPr/>
          </p:nvSpPr>
          <p:spPr>
            <a:xfrm rot="19194600">
              <a:off x="3884760" y="3598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6"/>
            <p:cNvSpPr/>
            <p:nvPr/>
          </p:nvSpPr>
          <p:spPr>
            <a:xfrm rot="19194600">
              <a:off x="3886560" y="3588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7"/>
            <p:cNvSpPr/>
            <p:nvPr/>
          </p:nvSpPr>
          <p:spPr>
            <a:xfrm rot="19194600">
              <a:off x="3895920" y="36000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8"/>
            <p:cNvSpPr/>
            <p:nvPr/>
          </p:nvSpPr>
          <p:spPr>
            <a:xfrm rot="19194600">
              <a:off x="3918960" y="358092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9"/>
            <p:cNvSpPr/>
            <p:nvPr/>
          </p:nvSpPr>
          <p:spPr>
            <a:xfrm rot="19194600">
              <a:off x="3928320" y="359208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0"/>
            <p:cNvSpPr/>
            <p:nvPr/>
          </p:nvSpPr>
          <p:spPr>
            <a:xfrm rot="19194600">
              <a:off x="3928320" y="3581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1"/>
            <p:cNvSpPr/>
            <p:nvPr/>
          </p:nvSpPr>
          <p:spPr>
            <a:xfrm rot="19194600">
              <a:off x="3937680" y="360288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2"/>
            <p:cNvSpPr/>
            <p:nvPr/>
          </p:nvSpPr>
          <p:spPr>
            <a:xfrm rot="19194600">
              <a:off x="3937680" y="3592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3"/>
            <p:cNvSpPr/>
            <p:nvPr/>
          </p:nvSpPr>
          <p:spPr>
            <a:xfrm rot="19194600">
              <a:off x="3939120" y="35827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4"/>
            <p:cNvSpPr/>
            <p:nvPr/>
          </p:nvSpPr>
          <p:spPr>
            <a:xfrm rot="19194600">
              <a:off x="3946320" y="36126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5"/>
            <p:cNvSpPr/>
            <p:nvPr/>
          </p:nvSpPr>
          <p:spPr>
            <a:xfrm rot="19194600">
              <a:off x="3946680" y="3603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6"/>
            <p:cNvSpPr/>
            <p:nvPr/>
          </p:nvSpPr>
          <p:spPr>
            <a:xfrm rot="19194600">
              <a:off x="3948120" y="359352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7"/>
            <p:cNvSpPr/>
            <p:nvPr/>
          </p:nvSpPr>
          <p:spPr>
            <a:xfrm rot="19194600">
              <a:off x="3950280" y="358272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8"/>
            <p:cNvSpPr/>
            <p:nvPr/>
          </p:nvSpPr>
          <p:spPr>
            <a:xfrm rot="19194600">
              <a:off x="3955680" y="362376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9"/>
            <p:cNvSpPr/>
            <p:nvPr/>
          </p:nvSpPr>
          <p:spPr>
            <a:xfrm rot="19194600">
              <a:off x="3956040" y="3614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0"/>
            <p:cNvSpPr/>
            <p:nvPr/>
          </p:nvSpPr>
          <p:spPr>
            <a:xfrm rot="19194600">
              <a:off x="3956760" y="3603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1"/>
            <p:cNvSpPr/>
            <p:nvPr/>
          </p:nvSpPr>
          <p:spPr>
            <a:xfrm rot="19194600">
              <a:off x="3959280" y="35931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2"/>
            <p:cNvSpPr/>
            <p:nvPr/>
          </p:nvSpPr>
          <p:spPr>
            <a:xfrm rot="19194600">
              <a:off x="3959280" y="35838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3"/>
            <p:cNvSpPr/>
            <p:nvPr/>
          </p:nvSpPr>
          <p:spPr>
            <a:xfrm rot="19194600">
              <a:off x="3964680" y="36248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4"/>
            <p:cNvSpPr/>
            <p:nvPr/>
          </p:nvSpPr>
          <p:spPr>
            <a:xfrm rot="19194600">
              <a:off x="3966120" y="3614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5"/>
            <p:cNvSpPr/>
            <p:nvPr/>
          </p:nvSpPr>
          <p:spPr>
            <a:xfrm rot="19194600">
              <a:off x="3968640" y="360432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 rot="19194600">
              <a:off x="3967920" y="3593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7"/>
            <p:cNvSpPr/>
            <p:nvPr/>
          </p:nvSpPr>
          <p:spPr>
            <a:xfrm rot="19194600">
              <a:off x="3969720" y="3583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 rot="19194600">
              <a:off x="3975120" y="3624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 rot="19194600">
              <a:off x="3977280" y="3615480"/>
              <a:ext cx="468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 rot="19194600">
              <a:off x="3977280" y="3604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"/>
            <p:cNvSpPr/>
            <p:nvPr/>
          </p:nvSpPr>
          <p:spPr>
            <a:xfrm rot="19194600">
              <a:off x="3979080" y="35946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 rot="19194600">
              <a:off x="3979800" y="3583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 rot="19194600">
              <a:off x="3986280" y="362664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4"/>
            <p:cNvSpPr/>
            <p:nvPr/>
          </p:nvSpPr>
          <p:spPr>
            <a:xfrm rot="19194600">
              <a:off x="3986280" y="3615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 rot="19194600">
              <a:off x="3987720" y="36054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 rot="19194600">
              <a:off x="3989160" y="3594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7"/>
            <p:cNvSpPr/>
            <p:nvPr/>
          </p:nvSpPr>
          <p:spPr>
            <a:xfrm rot="19194600">
              <a:off x="3990240" y="358560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8"/>
            <p:cNvSpPr/>
            <p:nvPr/>
          </p:nvSpPr>
          <p:spPr>
            <a:xfrm rot="19194600">
              <a:off x="3996000" y="362700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9"/>
            <p:cNvSpPr/>
            <p:nvPr/>
          </p:nvSpPr>
          <p:spPr>
            <a:xfrm rot="19194600">
              <a:off x="3997440" y="36169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0"/>
            <p:cNvSpPr/>
            <p:nvPr/>
          </p:nvSpPr>
          <p:spPr>
            <a:xfrm rot="19194600">
              <a:off x="3998160" y="3605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1"/>
            <p:cNvSpPr/>
            <p:nvPr/>
          </p:nvSpPr>
          <p:spPr>
            <a:xfrm rot="19194600">
              <a:off x="3998880" y="359604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2"/>
            <p:cNvSpPr/>
            <p:nvPr/>
          </p:nvSpPr>
          <p:spPr>
            <a:xfrm rot="19194600">
              <a:off x="3999960" y="35856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3"/>
            <p:cNvSpPr/>
            <p:nvPr/>
          </p:nvSpPr>
          <p:spPr>
            <a:xfrm rot="19194600">
              <a:off x="4006800" y="36277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4"/>
            <p:cNvSpPr/>
            <p:nvPr/>
          </p:nvSpPr>
          <p:spPr>
            <a:xfrm rot="19194600">
              <a:off x="4007880" y="36172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5"/>
            <p:cNvSpPr/>
            <p:nvPr/>
          </p:nvSpPr>
          <p:spPr>
            <a:xfrm rot="19194600">
              <a:off x="4008240" y="360756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6"/>
            <p:cNvSpPr/>
            <p:nvPr/>
          </p:nvSpPr>
          <p:spPr>
            <a:xfrm rot="19194600">
              <a:off x="4009320" y="3596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7"/>
            <p:cNvSpPr/>
            <p:nvPr/>
          </p:nvSpPr>
          <p:spPr>
            <a:xfrm rot="19194600">
              <a:off x="4011120" y="35859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8"/>
            <p:cNvSpPr/>
            <p:nvPr/>
          </p:nvSpPr>
          <p:spPr>
            <a:xfrm rot="19194600">
              <a:off x="4016880" y="3627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9"/>
            <p:cNvSpPr/>
            <p:nvPr/>
          </p:nvSpPr>
          <p:spPr>
            <a:xfrm rot="19194600">
              <a:off x="4017600" y="361836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0"/>
            <p:cNvSpPr/>
            <p:nvPr/>
          </p:nvSpPr>
          <p:spPr>
            <a:xfrm rot="19194600">
              <a:off x="4019040" y="360792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1"/>
            <p:cNvSpPr/>
            <p:nvPr/>
          </p:nvSpPr>
          <p:spPr>
            <a:xfrm rot="19194600">
              <a:off x="4020480" y="35971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2"/>
            <p:cNvSpPr/>
            <p:nvPr/>
          </p:nvSpPr>
          <p:spPr>
            <a:xfrm rot="19194600">
              <a:off x="4020480" y="3586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3"/>
            <p:cNvSpPr/>
            <p:nvPr/>
          </p:nvSpPr>
          <p:spPr>
            <a:xfrm rot="19194600">
              <a:off x="4026240" y="362844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4"/>
            <p:cNvSpPr/>
            <p:nvPr/>
          </p:nvSpPr>
          <p:spPr>
            <a:xfrm rot="19194600">
              <a:off x="4028040" y="3618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85"/>
            <p:cNvSpPr/>
            <p:nvPr/>
          </p:nvSpPr>
          <p:spPr>
            <a:xfrm rot="19194600">
              <a:off x="4029840" y="360828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6"/>
            <p:cNvSpPr/>
            <p:nvPr/>
          </p:nvSpPr>
          <p:spPr>
            <a:xfrm rot="19194600">
              <a:off x="4030200" y="359820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7"/>
            <p:cNvSpPr/>
            <p:nvPr/>
          </p:nvSpPr>
          <p:spPr>
            <a:xfrm rot="19194600">
              <a:off x="4031280" y="35881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88"/>
            <p:cNvSpPr/>
            <p:nvPr/>
          </p:nvSpPr>
          <p:spPr>
            <a:xfrm rot="19194600">
              <a:off x="4037400" y="3629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9"/>
            <p:cNvSpPr/>
            <p:nvPr/>
          </p:nvSpPr>
          <p:spPr>
            <a:xfrm rot="19194600">
              <a:off x="4038480" y="36183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0"/>
            <p:cNvSpPr/>
            <p:nvPr/>
          </p:nvSpPr>
          <p:spPr>
            <a:xfrm rot="19194600">
              <a:off x="4039200" y="3609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1"/>
            <p:cNvSpPr/>
            <p:nvPr/>
          </p:nvSpPr>
          <p:spPr>
            <a:xfrm rot="19194600">
              <a:off x="4040640" y="359928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2"/>
            <p:cNvSpPr/>
            <p:nvPr/>
          </p:nvSpPr>
          <p:spPr>
            <a:xfrm rot="19194600">
              <a:off x="4042080" y="35884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3"/>
            <p:cNvSpPr/>
            <p:nvPr/>
          </p:nvSpPr>
          <p:spPr>
            <a:xfrm rot="19194600">
              <a:off x="4047840" y="3629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94"/>
            <p:cNvSpPr/>
            <p:nvPr/>
          </p:nvSpPr>
          <p:spPr>
            <a:xfrm rot="19194600">
              <a:off x="4048560" y="3620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95"/>
            <p:cNvSpPr/>
            <p:nvPr/>
          </p:nvSpPr>
          <p:spPr>
            <a:xfrm rot="19194600">
              <a:off x="4049280" y="3609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96"/>
            <p:cNvSpPr/>
            <p:nvPr/>
          </p:nvSpPr>
          <p:spPr>
            <a:xfrm rot="19194600">
              <a:off x="4051080" y="3599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7"/>
            <p:cNvSpPr/>
            <p:nvPr/>
          </p:nvSpPr>
          <p:spPr>
            <a:xfrm rot="19194600">
              <a:off x="4051440" y="35899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8"/>
            <p:cNvSpPr/>
            <p:nvPr/>
          </p:nvSpPr>
          <p:spPr>
            <a:xfrm rot="19194600">
              <a:off x="4057560" y="3630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9"/>
            <p:cNvSpPr/>
            <p:nvPr/>
          </p:nvSpPr>
          <p:spPr>
            <a:xfrm rot="19194600">
              <a:off x="4058640" y="3620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0"/>
            <p:cNvSpPr/>
            <p:nvPr/>
          </p:nvSpPr>
          <p:spPr>
            <a:xfrm rot="19194600">
              <a:off x="4060440" y="3610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1"/>
            <p:cNvSpPr/>
            <p:nvPr/>
          </p:nvSpPr>
          <p:spPr>
            <a:xfrm rot="19194600">
              <a:off x="4060080" y="3600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2"/>
            <p:cNvSpPr/>
            <p:nvPr/>
          </p:nvSpPr>
          <p:spPr>
            <a:xfrm rot="19194600">
              <a:off x="4061880" y="3589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3"/>
            <p:cNvSpPr/>
            <p:nvPr/>
          </p:nvSpPr>
          <p:spPr>
            <a:xfrm rot="19194600">
              <a:off x="4067640" y="3630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4"/>
            <p:cNvSpPr/>
            <p:nvPr/>
          </p:nvSpPr>
          <p:spPr>
            <a:xfrm rot="19194600">
              <a:off x="4069440" y="3620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5"/>
            <p:cNvSpPr/>
            <p:nvPr/>
          </p:nvSpPr>
          <p:spPr>
            <a:xfrm rot="19194600">
              <a:off x="4069440" y="3610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06"/>
            <p:cNvSpPr/>
            <p:nvPr/>
          </p:nvSpPr>
          <p:spPr>
            <a:xfrm rot="19194600">
              <a:off x="4071240" y="3601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7"/>
            <p:cNvSpPr/>
            <p:nvPr/>
          </p:nvSpPr>
          <p:spPr>
            <a:xfrm rot="19194600">
              <a:off x="4072320" y="35895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8"/>
            <p:cNvSpPr/>
            <p:nvPr/>
          </p:nvSpPr>
          <p:spPr>
            <a:xfrm rot="19194600">
              <a:off x="4078440" y="36320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9"/>
            <p:cNvSpPr/>
            <p:nvPr/>
          </p:nvSpPr>
          <p:spPr>
            <a:xfrm rot="19194600">
              <a:off x="4078440" y="36216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0"/>
            <p:cNvSpPr/>
            <p:nvPr/>
          </p:nvSpPr>
          <p:spPr>
            <a:xfrm rot="19194600">
              <a:off x="4080240" y="3611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1"/>
            <p:cNvSpPr/>
            <p:nvPr/>
          </p:nvSpPr>
          <p:spPr>
            <a:xfrm rot="19194600">
              <a:off x="4081680" y="3600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2"/>
            <p:cNvSpPr/>
            <p:nvPr/>
          </p:nvSpPr>
          <p:spPr>
            <a:xfrm rot="19194600">
              <a:off x="4083840" y="35910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3"/>
            <p:cNvSpPr/>
            <p:nvPr/>
          </p:nvSpPr>
          <p:spPr>
            <a:xfrm rot="19194600">
              <a:off x="4087800" y="36327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4"/>
            <p:cNvSpPr/>
            <p:nvPr/>
          </p:nvSpPr>
          <p:spPr>
            <a:xfrm rot="19194600">
              <a:off x="4089240" y="362268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5"/>
            <p:cNvSpPr/>
            <p:nvPr/>
          </p:nvSpPr>
          <p:spPr>
            <a:xfrm rot="19194600">
              <a:off x="4090680" y="3611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6"/>
            <p:cNvSpPr/>
            <p:nvPr/>
          </p:nvSpPr>
          <p:spPr>
            <a:xfrm rot="19194600">
              <a:off x="4092840" y="36018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7"/>
            <p:cNvSpPr/>
            <p:nvPr/>
          </p:nvSpPr>
          <p:spPr>
            <a:xfrm rot="19194600">
              <a:off x="4092480" y="35913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8"/>
            <p:cNvSpPr/>
            <p:nvPr/>
          </p:nvSpPr>
          <p:spPr>
            <a:xfrm rot="19194600">
              <a:off x="4098600" y="36342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9"/>
            <p:cNvSpPr/>
            <p:nvPr/>
          </p:nvSpPr>
          <p:spPr>
            <a:xfrm rot="19194600">
              <a:off x="4100040" y="3622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0"/>
            <p:cNvSpPr/>
            <p:nvPr/>
          </p:nvSpPr>
          <p:spPr>
            <a:xfrm rot="19194600">
              <a:off x="4101840" y="361260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1"/>
            <p:cNvSpPr/>
            <p:nvPr/>
          </p:nvSpPr>
          <p:spPr>
            <a:xfrm rot="19194600">
              <a:off x="4101840" y="3602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2"/>
            <p:cNvSpPr/>
            <p:nvPr/>
          </p:nvSpPr>
          <p:spPr>
            <a:xfrm rot="19194600">
              <a:off x="4103280" y="3592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3"/>
            <p:cNvSpPr/>
            <p:nvPr/>
          </p:nvSpPr>
          <p:spPr>
            <a:xfrm rot="19194600">
              <a:off x="4109400" y="363384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4"/>
            <p:cNvSpPr/>
            <p:nvPr/>
          </p:nvSpPr>
          <p:spPr>
            <a:xfrm rot="19194600">
              <a:off x="4110840" y="362412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5"/>
            <p:cNvSpPr/>
            <p:nvPr/>
          </p:nvSpPr>
          <p:spPr>
            <a:xfrm rot="19194600">
              <a:off x="4110840" y="3613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26"/>
            <p:cNvSpPr/>
            <p:nvPr/>
          </p:nvSpPr>
          <p:spPr>
            <a:xfrm rot="19194600">
              <a:off x="4112280" y="36032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7"/>
            <p:cNvSpPr/>
            <p:nvPr/>
          </p:nvSpPr>
          <p:spPr>
            <a:xfrm rot="19194600">
              <a:off x="4114080" y="359244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8"/>
            <p:cNvSpPr/>
            <p:nvPr/>
          </p:nvSpPr>
          <p:spPr>
            <a:xfrm rot="19194600">
              <a:off x="4119840" y="363492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29"/>
            <p:cNvSpPr/>
            <p:nvPr/>
          </p:nvSpPr>
          <p:spPr>
            <a:xfrm rot="19194600">
              <a:off x="4120560" y="36244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0"/>
            <p:cNvSpPr/>
            <p:nvPr/>
          </p:nvSpPr>
          <p:spPr>
            <a:xfrm rot="19194600">
              <a:off x="4121640" y="36147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1"/>
            <p:cNvSpPr/>
            <p:nvPr/>
          </p:nvSpPr>
          <p:spPr>
            <a:xfrm rot="19194600">
              <a:off x="4123440" y="360324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2"/>
            <p:cNvSpPr/>
            <p:nvPr/>
          </p:nvSpPr>
          <p:spPr>
            <a:xfrm rot="19194600">
              <a:off x="4129560" y="3635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3"/>
            <p:cNvSpPr/>
            <p:nvPr/>
          </p:nvSpPr>
          <p:spPr>
            <a:xfrm rot="19194600">
              <a:off x="4130640" y="36255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34"/>
            <p:cNvSpPr/>
            <p:nvPr/>
          </p:nvSpPr>
          <p:spPr>
            <a:xfrm rot="19194600">
              <a:off x="4132440" y="3614760"/>
              <a:ext cx="4680" cy="5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35"/>
            <p:cNvSpPr/>
            <p:nvPr/>
          </p:nvSpPr>
          <p:spPr>
            <a:xfrm rot="19194600">
              <a:off x="4139640" y="36356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6"/>
            <p:cNvSpPr/>
            <p:nvPr/>
          </p:nvSpPr>
          <p:spPr>
            <a:xfrm rot="19194600">
              <a:off x="4141800" y="362520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7"/>
            <p:cNvSpPr/>
            <p:nvPr/>
          </p:nvSpPr>
          <p:spPr>
            <a:xfrm rot="19194600">
              <a:off x="4151160" y="36363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8"/>
            <p:cNvSpPr/>
            <p:nvPr/>
          </p:nvSpPr>
          <p:spPr>
            <a:xfrm rot="19194600">
              <a:off x="4019760" y="3343320"/>
              <a:ext cx="137160" cy="123480"/>
            </a:xfrm>
            <a:custGeom>
              <a:avLst/>
              <a:gdLst/>
              <a:ahLst/>
              <a:rect l="l" t="t" r="r" b="b"/>
              <a:pathLst>
                <a:path w="250" h="226">
                  <a:moveTo>
                    <a:pt x="26" y="0"/>
                  </a:moveTo>
                  <a:lnTo>
                    <a:pt x="0" y="12"/>
                  </a:lnTo>
                  <a:lnTo>
                    <a:pt x="224" y="226"/>
                  </a:lnTo>
                  <a:lnTo>
                    <a:pt x="250" y="2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Freeform 142"/>
          <p:cNvSpPr/>
          <p:nvPr/>
        </p:nvSpPr>
        <p:spPr>
          <a:xfrm rot="20379000">
            <a:off x="3390480" y="2990520"/>
            <a:ext cx="292320" cy="428760"/>
          </a:xfrm>
          <a:custGeom>
            <a:avLst/>
            <a:gdLst/>
            <a:ahLst/>
            <a:rect l="l" t="t" r="r" b="b"/>
            <a:pathLst>
              <a:path w="136" h="200">
                <a:moveTo>
                  <a:pt x="80" y="38"/>
                </a:moveTo>
                <a:cubicBezTo>
                  <a:pt x="80" y="57"/>
                  <a:pt x="80" y="57"/>
                  <a:pt x="80" y="57"/>
                </a:cubicBezTo>
                <a:cubicBezTo>
                  <a:pt x="80" y="64"/>
                  <a:pt x="76" y="69"/>
                  <a:pt x="69" y="69"/>
                </a:cubicBezTo>
                <a:cubicBezTo>
                  <a:pt x="62" y="69"/>
                  <a:pt x="56" y="64"/>
                  <a:pt x="56" y="57"/>
                </a:cubicBezTo>
                <a:cubicBezTo>
                  <a:pt x="56" y="38"/>
                  <a:pt x="56" y="38"/>
                  <a:pt x="56" y="38"/>
                </a:cubicBezTo>
                <a:cubicBezTo>
                  <a:pt x="56" y="31"/>
                  <a:pt x="62" y="25"/>
                  <a:pt x="69" y="25"/>
                </a:cubicBezTo>
                <a:cubicBezTo>
                  <a:pt x="76" y="25"/>
                  <a:pt x="80" y="31"/>
                  <a:pt x="80" y="38"/>
                </a:cubicBezTo>
                <a:close/>
                <a:moveTo>
                  <a:pt x="94" y="200"/>
                </a:moveTo>
                <a:cubicBezTo>
                  <a:pt x="44" y="200"/>
                  <a:pt x="44" y="200"/>
                  <a:pt x="44" y="200"/>
                </a:cubicBezTo>
                <a:cubicBezTo>
                  <a:pt x="20" y="200"/>
                  <a:pt x="0" y="181"/>
                  <a:pt x="0" y="157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20"/>
                  <a:pt x="20" y="0"/>
                  <a:pt x="44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0" y="20"/>
                  <a:pt x="60" y="20"/>
                  <a:pt x="60" y="20"/>
                </a:cubicBezTo>
                <a:cubicBezTo>
                  <a:pt x="53" y="23"/>
                  <a:pt x="48" y="30"/>
                  <a:pt x="48" y="38"/>
                </a:cubicBez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53" y="72"/>
                  <a:pt x="60" y="74"/>
                </a:cubicBezTo>
                <a:cubicBezTo>
                  <a:pt x="60" y="88"/>
                  <a:pt x="60" y="88"/>
                  <a:pt x="60" y="88"/>
                </a:cubicBezTo>
                <a:cubicBezTo>
                  <a:pt x="76" y="88"/>
                  <a:pt x="76" y="88"/>
                  <a:pt x="76" y="88"/>
                </a:cubicBezTo>
                <a:cubicBezTo>
                  <a:pt x="76" y="74"/>
                  <a:pt x="76" y="74"/>
                  <a:pt x="76" y="74"/>
                </a:cubicBezTo>
                <a:cubicBezTo>
                  <a:pt x="83" y="72"/>
                  <a:pt x="88" y="65"/>
                  <a:pt x="88" y="57"/>
                </a:cubicBezTo>
                <a:cubicBezTo>
                  <a:pt x="88" y="38"/>
                  <a:pt x="88" y="38"/>
                  <a:pt x="88" y="38"/>
                </a:cubicBezTo>
                <a:cubicBezTo>
                  <a:pt x="88" y="30"/>
                  <a:pt x="83" y="23"/>
                  <a:pt x="76" y="20"/>
                </a:cubicBezTo>
                <a:cubicBezTo>
                  <a:pt x="76" y="0"/>
                  <a:pt x="76" y="0"/>
                  <a:pt x="76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118" y="0"/>
                  <a:pt x="136" y="20"/>
                  <a:pt x="136" y="44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6" y="181"/>
                  <a:pt x="118" y="200"/>
                  <a:pt x="94" y="20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307"/>
          <p:cNvSpPr/>
          <p:nvPr/>
        </p:nvSpPr>
        <p:spPr>
          <a:xfrm rot="18882000">
            <a:off x="7080480" y="413820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BIG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46"/>
          <p:cNvSpPr/>
          <p:nvPr/>
        </p:nvSpPr>
        <p:spPr>
          <a:xfrm>
            <a:off x="7993080" y="416880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58" y="422"/>
                </a:moveTo>
                <a:lnTo>
                  <a:pt x="58" y="329"/>
                </a:lnTo>
                <a:lnTo>
                  <a:pt x="58" y="0"/>
                </a:lnTo>
                <a:lnTo>
                  <a:pt x="153" y="0"/>
                </a:lnTo>
                <a:lnTo>
                  <a:pt x="153" y="329"/>
                </a:lnTo>
                <a:lnTo>
                  <a:pt x="480" y="329"/>
                </a:lnTo>
                <a:lnTo>
                  <a:pt x="480" y="422"/>
                </a:lnTo>
                <a:lnTo>
                  <a:pt x="58" y="422"/>
                </a:lnTo>
                <a:close/>
                <a:moveTo>
                  <a:pt x="326" y="154"/>
                </a:moveTo>
                <a:lnTo>
                  <a:pt x="163" y="154"/>
                </a:lnTo>
                <a:lnTo>
                  <a:pt x="163" y="60"/>
                </a:lnTo>
                <a:lnTo>
                  <a:pt x="422" y="60"/>
                </a:lnTo>
                <a:lnTo>
                  <a:pt x="422" y="319"/>
                </a:lnTo>
                <a:lnTo>
                  <a:pt x="326" y="319"/>
                </a:lnTo>
                <a:lnTo>
                  <a:pt x="326" y="154"/>
                </a:lnTo>
                <a:close/>
                <a:moveTo>
                  <a:pt x="0" y="60"/>
                </a:moveTo>
                <a:lnTo>
                  <a:pt x="48" y="60"/>
                </a:lnTo>
                <a:lnTo>
                  <a:pt x="48" y="154"/>
                </a:lnTo>
                <a:lnTo>
                  <a:pt x="0" y="154"/>
                </a:lnTo>
                <a:lnTo>
                  <a:pt x="0" y="60"/>
                </a:lnTo>
                <a:close/>
                <a:moveTo>
                  <a:pt x="422" y="480"/>
                </a:moveTo>
                <a:lnTo>
                  <a:pt x="326" y="480"/>
                </a:lnTo>
                <a:lnTo>
                  <a:pt x="326" y="432"/>
                </a:lnTo>
                <a:lnTo>
                  <a:pt x="422" y="432"/>
                </a:lnTo>
                <a:lnTo>
                  <a:pt x="422" y="480"/>
                </a:lnTo>
                <a:close/>
              </a:path>
            </a:pathLst>
          </a:cu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50"/>
          <p:cNvSpPr/>
          <p:nvPr/>
        </p:nvSpPr>
        <p:spPr>
          <a:xfrm rot="4208400">
            <a:off x="2046960" y="2837520"/>
            <a:ext cx="1149480" cy="1147680"/>
          </a:xfrm>
          <a:custGeom>
            <a:avLst/>
            <a:gdLst/>
            <a:ahLst/>
            <a:rect l="l" t="t" r="r" b="b"/>
            <a:pathLst>
              <a:path w="208" h="208">
                <a:moveTo>
                  <a:pt x="173" y="68"/>
                </a:moveTo>
                <a:cubicBezTo>
                  <a:pt x="195" y="57"/>
                  <a:pt x="195" y="57"/>
                  <a:pt x="195" y="57"/>
                </a:cubicBezTo>
                <a:cubicBezTo>
                  <a:pt x="208" y="45"/>
                  <a:pt x="208" y="25"/>
                  <a:pt x="195" y="13"/>
                </a:cubicBezTo>
                <a:cubicBezTo>
                  <a:pt x="183" y="0"/>
                  <a:pt x="163" y="0"/>
                  <a:pt x="150" y="13"/>
                </a:cubicBezTo>
                <a:cubicBezTo>
                  <a:pt x="140" y="36"/>
                  <a:pt x="140" y="36"/>
                  <a:pt x="140" y="36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7" y="13"/>
                  <a:pt x="111" y="7"/>
                  <a:pt x="106" y="13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0" y="18"/>
                  <a:pt x="96" y="25"/>
                  <a:pt x="100" y="29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8" y="157"/>
                  <a:pt x="18" y="157"/>
                  <a:pt x="18" y="157"/>
                </a:cubicBezTo>
                <a:cubicBezTo>
                  <a:pt x="18" y="157"/>
                  <a:pt x="17" y="161"/>
                  <a:pt x="20" y="167"/>
                </a:cubicBezTo>
                <a:cubicBezTo>
                  <a:pt x="12" y="174"/>
                  <a:pt x="12" y="174"/>
                  <a:pt x="12" y="174"/>
                </a:cubicBezTo>
                <a:cubicBezTo>
                  <a:pt x="12" y="174"/>
                  <a:pt x="0" y="185"/>
                  <a:pt x="11" y="196"/>
                </a:cubicBezTo>
                <a:cubicBezTo>
                  <a:pt x="11" y="196"/>
                  <a:pt x="22" y="208"/>
                  <a:pt x="34" y="196"/>
                </a:cubicBezTo>
                <a:cubicBezTo>
                  <a:pt x="42" y="188"/>
                  <a:pt x="42" y="188"/>
                  <a:pt x="42" y="188"/>
                </a:cubicBezTo>
                <a:cubicBezTo>
                  <a:pt x="44" y="189"/>
                  <a:pt x="47" y="190"/>
                  <a:pt x="51" y="191"/>
                </a:cubicBezTo>
                <a:cubicBezTo>
                  <a:pt x="156" y="85"/>
                  <a:pt x="156" y="85"/>
                  <a:pt x="156" y="85"/>
                </a:cubicBezTo>
                <a:cubicBezTo>
                  <a:pt x="178" y="108"/>
                  <a:pt x="178" y="108"/>
                  <a:pt x="178" y="108"/>
                </a:cubicBezTo>
                <a:cubicBezTo>
                  <a:pt x="178" y="108"/>
                  <a:pt x="184" y="113"/>
                  <a:pt x="189" y="108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2"/>
                  <a:pt x="201" y="96"/>
                  <a:pt x="195" y="91"/>
                </a:cubicBezTo>
                <a:lnTo>
                  <a:pt x="173" y="68"/>
                </a:lnTo>
                <a:close/>
                <a:moveTo>
                  <a:pt x="28" y="191"/>
                </a:moveTo>
                <a:cubicBezTo>
                  <a:pt x="23" y="196"/>
                  <a:pt x="17" y="190"/>
                  <a:pt x="17" y="190"/>
                </a:cubicBezTo>
                <a:cubicBezTo>
                  <a:pt x="12" y="185"/>
                  <a:pt x="17" y="179"/>
                  <a:pt x="17" y="179"/>
                </a:cubicBezTo>
                <a:cubicBezTo>
                  <a:pt x="23" y="173"/>
                  <a:pt x="23" y="173"/>
                  <a:pt x="23" y="173"/>
                </a:cubicBezTo>
                <a:cubicBezTo>
                  <a:pt x="23" y="173"/>
                  <a:pt x="26" y="177"/>
                  <a:pt x="28" y="180"/>
                </a:cubicBezTo>
                <a:cubicBezTo>
                  <a:pt x="28" y="180"/>
                  <a:pt x="30" y="181"/>
                  <a:pt x="34" y="184"/>
                </a:cubicBezTo>
                <a:lnTo>
                  <a:pt x="28" y="191"/>
                </a:lnTo>
                <a:close/>
                <a:moveTo>
                  <a:pt x="56" y="174"/>
                </a:moveTo>
                <a:cubicBezTo>
                  <a:pt x="46" y="184"/>
                  <a:pt x="43" y="183"/>
                  <a:pt x="34" y="174"/>
                </a:cubicBezTo>
                <a:cubicBezTo>
                  <a:pt x="25" y="165"/>
                  <a:pt x="24" y="161"/>
                  <a:pt x="34" y="151"/>
                </a:cubicBezTo>
                <a:cubicBezTo>
                  <a:pt x="128" y="57"/>
                  <a:pt x="128" y="57"/>
                  <a:pt x="128" y="57"/>
                </a:cubicBezTo>
                <a:cubicBezTo>
                  <a:pt x="150" y="80"/>
                  <a:pt x="150" y="80"/>
                  <a:pt x="150" y="80"/>
                </a:cubicBezTo>
                <a:lnTo>
                  <a:pt x="56" y="174"/>
                </a:ln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b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5"/>
          <p:cNvGrpSpPr/>
          <p:nvPr/>
        </p:nvGrpSpPr>
        <p:grpSpPr>
          <a:xfrm>
            <a:off x="2084040" y="601560"/>
            <a:ext cx="9098280" cy="762120"/>
            <a:chOff x="2084040" y="601560"/>
            <a:chExt cx="9098280" cy="762120"/>
          </a:xfrm>
        </p:grpSpPr>
        <p:sp>
          <p:nvSpPr>
            <p:cNvPr id="402" name="矩形 6"/>
            <p:cNvSpPr/>
            <p:nvPr/>
          </p:nvSpPr>
          <p:spPr>
            <a:xfrm>
              <a:off x="2459880" y="601560"/>
              <a:ext cx="87224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角三角形 7"/>
            <p:cNvSpPr/>
            <p:nvPr/>
          </p:nvSpPr>
          <p:spPr>
            <a:xfrm flipH="1" rot="15412800">
              <a:off x="2229480" y="653040"/>
              <a:ext cx="311040" cy="546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文本框 3"/>
          <p:cNvSpPr/>
          <p:nvPr/>
        </p:nvSpPr>
        <p:spPr>
          <a:xfrm>
            <a:off x="5417640" y="75240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最后，却阴差阳错的成为了一名数据分析师 </a:t>
            </a:r>
            <a:r>
              <a:rPr b="0" lang="en-US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圆角右箭头 4"/>
          <p:cNvSpPr/>
          <p:nvPr/>
        </p:nvSpPr>
        <p:spPr>
          <a:xfrm flipH="1" rot="10800000">
            <a:off x="1488960" y="-120960"/>
            <a:ext cx="8375760" cy="668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右箭头 8"/>
          <p:cNvSpPr/>
          <p:nvPr/>
        </p:nvSpPr>
        <p:spPr>
          <a:xfrm flipV="1" rot="10800000">
            <a:off x="2943000" y="5684760"/>
            <a:ext cx="89247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922"/>
                </a:lnTo>
                <a:lnTo>
                  <a:pt x="12427" y="4922"/>
                </a:lnTo>
                <a:cubicBezTo>
                  <a:pt x="5564" y="4922"/>
                  <a:pt x="0" y="8162"/>
                  <a:pt x="0" y="12158"/>
                </a:cubicBezTo>
                <a:lnTo>
                  <a:pt x="0" y="21600"/>
                </a:lnTo>
                <a:lnTo>
                  <a:pt x="2365" y="21600"/>
                </a:lnTo>
                <a:lnTo>
                  <a:pt x="2365" y="12158"/>
                </a:lnTo>
                <a:cubicBezTo>
                  <a:pt x="2365" y="9440"/>
                  <a:pt x="6870" y="7236"/>
                  <a:pt x="12427" y="7236"/>
                </a:cubicBezTo>
                <a:lnTo>
                  <a:pt x="21600" y="7236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31"/>
          <p:cNvGrpSpPr/>
          <p:nvPr/>
        </p:nvGrpSpPr>
        <p:grpSpPr>
          <a:xfrm>
            <a:off x="1430280" y="601560"/>
            <a:ext cx="514440" cy="4830840"/>
            <a:chOff x="1430280" y="601560"/>
            <a:chExt cx="514440" cy="4830840"/>
          </a:xfrm>
        </p:grpSpPr>
        <p:sp>
          <p:nvSpPr>
            <p:cNvPr id="408" name="矩形 32"/>
            <p:cNvSpPr/>
            <p:nvPr/>
          </p:nvSpPr>
          <p:spPr>
            <a:xfrm>
              <a:off x="1430280" y="60156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33"/>
            <p:cNvSpPr/>
            <p:nvPr/>
          </p:nvSpPr>
          <p:spPr>
            <a:xfrm>
              <a:off x="1430280" y="179388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34"/>
            <p:cNvSpPr/>
            <p:nvPr/>
          </p:nvSpPr>
          <p:spPr>
            <a:xfrm>
              <a:off x="1430280" y="298656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35"/>
            <p:cNvSpPr/>
            <p:nvPr/>
          </p:nvSpPr>
          <p:spPr>
            <a:xfrm>
              <a:off x="1430280" y="417888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36"/>
            <p:cNvSpPr/>
            <p:nvPr/>
          </p:nvSpPr>
          <p:spPr>
            <a:xfrm>
              <a:off x="1430280" y="537156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13"/>
          <p:cNvGrpSpPr/>
          <p:nvPr/>
        </p:nvGrpSpPr>
        <p:grpSpPr>
          <a:xfrm>
            <a:off x="2460240" y="5899320"/>
            <a:ext cx="8475840" cy="466560"/>
            <a:chOff x="2460240" y="5899320"/>
            <a:chExt cx="8475840" cy="466560"/>
          </a:xfrm>
        </p:grpSpPr>
        <p:sp>
          <p:nvSpPr>
            <p:cNvPr id="414" name="矩形 14"/>
            <p:cNvSpPr/>
            <p:nvPr/>
          </p:nvSpPr>
          <p:spPr>
            <a:xfrm rot="5400000">
              <a:off x="344916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5"/>
            <p:cNvSpPr/>
            <p:nvPr/>
          </p:nvSpPr>
          <p:spPr>
            <a:xfrm rot="5400000">
              <a:off x="225720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6"/>
            <p:cNvSpPr/>
            <p:nvPr/>
          </p:nvSpPr>
          <p:spPr>
            <a:xfrm rot="5400000">
              <a:off x="465048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7"/>
            <p:cNvSpPr/>
            <p:nvPr/>
          </p:nvSpPr>
          <p:spPr>
            <a:xfrm rot="5400000">
              <a:off x="585144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8"/>
            <p:cNvSpPr/>
            <p:nvPr/>
          </p:nvSpPr>
          <p:spPr>
            <a:xfrm rot="5400000">
              <a:off x="705240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9"/>
            <p:cNvSpPr/>
            <p:nvPr/>
          </p:nvSpPr>
          <p:spPr>
            <a:xfrm rot="5400000">
              <a:off x="825912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20"/>
            <p:cNvSpPr/>
            <p:nvPr/>
          </p:nvSpPr>
          <p:spPr>
            <a:xfrm rot="5400000">
              <a:off x="946548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21"/>
            <p:cNvSpPr/>
            <p:nvPr/>
          </p:nvSpPr>
          <p:spPr>
            <a:xfrm rot="5400000">
              <a:off x="1067220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"/>
          <p:cNvGrpSpPr/>
          <p:nvPr/>
        </p:nvGrpSpPr>
        <p:grpSpPr>
          <a:xfrm>
            <a:off x="6054840" y="3743280"/>
            <a:ext cx="1659960" cy="1456920"/>
            <a:chOff x="6054840" y="3743280"/>
            <a:chExt cx="1659960" cy="1456920"/>
          </a:xfrm>
        </p:grpSpPr>
        <p:sp>
          <p:nvSpPr>
            <p:cNvPr id="423" name="Freeform 5"/>
            <p:cNvSpPr/>
            <p:nvPr/>
          </p:nvSpPr>
          <p:spPr>
            <a:xfrm>
              <a:off x="6054840" y="3743280"/>
              <a:ext cx="502200" cy="50076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6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04"/>
                    <a:pt x="3" y="106"/>
                    <a:pt x="6" y="106"/>
                  </a:cubicBezTo>
                  <a:cubicBezTo>
                    <a:pt x="100" y="106"/>
                    <a:pt x="100" y="106"/>
                    <a:pt x="100" y="106"/>
                  </a:cubicBezTo>
                  <a:cubicBezTo>
                    <a:pt x="104" y="106"/>
                    <a:pt x="106" y="104"/>
                    <a:pt x="106" y="100"/>
                  </a:cubicBezTo>
                  <a:cubicBezTo>
                    <a:pt x="106" y="97"/>
                    <a:pt x="104" y="94"/>
                    <a:pt x="100" y="94"/>
                  </a:cubicBezTo>
                  <a:cubicBezTo>
                    <a:pt x="100" y="94"/>
                    <a:pt x="22" y="94"/>
                    <a:pt x="12" y="94"/>
                  </a:cubicBezTo>
                  <a:cubicBezTo>
                    <a:pt x="12" y="84"/>
                    <a:pt x="12" y="6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7005600" y="4183200"/>
              <a:ext cx="709200" cy="1017000"/>
            </a:xfrm>
            <a:custGeom>
              <a:avLst/>
              <a:gdLst/>
              <a:ahLst/>
              <a:rect l="l" t="t" r="r" b="b"/>
              <a:pathLst>
                <a:path w="150" h="215">
                  <a:moveTo>
                    <a:pt x="0" y="215"/>
                  </a:moveTo>
                  <a:cubicBezTo>
                    <a:pt x="0" y="122"/>
                    <a:pt x="0" y="122"/>
                    <a:pt x="0" y="122"/>
                  </a:cubicBezTo>
                  <a:cubicBezTo>
                    <a:pt x="67" y="122"/>
                    <a:pt x="67" y="122"/>
                    <a:pt x="67" y="122"/>
                  </a:cubicBezTo>
                  <a:cubicBezTo>
                    <a:pt x="67" y="122"/>
                    <a:pt x="109" y="122"/>
                    <a:pt x="109" y="81"/>
                  </a:cubicBezTo>
                  <a:cubicBezTo>
                    <a:pt x="109" y="41"/>
                    <a:pt x="109" y="0"/>
                    <a:pt x="109" y="0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150" y="215"/>
                    <a:pt x="150" y="215"/>
                    <a:pt x="150" y="215"/>
                  </a:cubicBezTo>
                  <a:lnTo>
                    <a:pt x="0" y="21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6054840" y="3847320"/>
              <a:ext cx="1401120" cy="135288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68" y="0"/>
                  </a:moveTo>
                  <a:cubicBezTo>
                    <a:pt x="260" y="0"/>
                    <a:pt x="253" y="4"/>
                    <a:pt x="248" y="9"/>
                  </a:cubicBezTo>
                  <a:cubicBezTo>
                    <a:pt x="248" y="9"/>
                    <a:pt x="248" y="9"/>
                    <a:pt x="248" y="9"/>
                  </a:cubicBezTo>
                  <a:cubicBezTo>
                    <a:pt x="248" y="9"/>
                    <a:pt x="202" y="53"/>
                    <a:pt x="196" y="57"/>
                  </a:cubicBezTo>
                  <a:cubicBezTo>
                    <a:pt x="189" y="57"/>
                    <a:pt x="140" y="57"/>
                    <a:pt x="140" y="57"/>
                  </a:cubicBezTo>
                  <a:cubicBezTo>
                    <a:pt x="133" y="57"/>
                    <a:pt x="127" y="63"/>
                    <a:pt x="127" y="71"/>
                  </a:cubicBezTo>
                  <a:cubicBezTo>
                    <a:pt x="127" y="78"/>
                    <a:pt x="133" y="84"/>
                    <a:pt x="140" y="84"/>
                  </a:cubicBezTo>
                  <a:cubicBezTo>
                    <a:pt x="201" y="84"/>
                    <a:pt x="201" y="84"/>
                    <a:pt x="201" y="84"/>
                  </a:cubicBezTo>
                  <a:cubicBezTo>
                    <a:pt x="204" y="84"/>
                    <a:pt x="206" y="83"/>
                    <a:pt x="209" y="82"/>
                  </a:cubicBezTo>
                  <a:cubicBezTo>
                    <a:pt x="240" y="53"/>
                    <a:pt x="240" y="53"/>
                    <a:pt x="240" y="53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188" y="139"/>
                    <a:pt x="188" y="139"/>
                    <a:pt x="188" y="139"/>
                  </a:cubicBezTo>
                  <a:cubicBezTo>
                    <a:pt x="188" y="98"/>
                    <a:pt x="188" y="98"/>
                    <a:pt x="188" y="98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88" y="286"/>
                    <a:pt x="188" y="286"/>
                    <a:pt x="188" y="286"/>
                  </a:cubicBezTo>
                  <a:cubicBezTo>
                    <a:pt x="188" y="179"/>
                    <a:pt x="188" y="179"/>
                    <a:pt x="188" y="179"/>
                  </a:cubicBezTo>
                  <a:cubicBezTo>
                    <a:pt x="268" y="179"/>
                    <a:pt x="268" y="179"/>
                    <a:pt x="268" y="179"/>
                  </a:cubicBezTo>
                  <a:cubicBezTo>
                    <a:pt x="284" y="179"/>
                    <a:pt x="296" y="167"/>
                    <a:pt x="296" y="151"/>
                  </a:cubicBezTo>
                  <a:cubicBezTo>
                    <a:pt x="296" y="29"/>
                    <a:pt x="296" y="29"/>
                    <a:pt x="296" y="29"/>
                  </a:cubicBezTo>
                  <a:cubicBezTo>
                    <a:pt x="296" y="13"/>
                    <a:pt x="284" y="0"/>
                    <a:pt x="26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30"/>
          <p:cNvGrpSpPr/>
          <p:nvPr/>
        </p:nvGrpSpPr>
        <p:grpSpPr>
          <a:xfrm>
            <a:off x="6281640" y="2079720"/>
            <a:ext cx="1658880" cy="1741320"/>
            <a:chOff x="6281640" y="2079720"/>
            <a:chExt cx="1658880" cy="1741320"/>
          </a:xfrm>
        </p:grpSpPr>
        <p:sp>
          <p:nvSpPr>
            <p:cNvPr id="427" name="椭圆 37"/>
            <p:cNvSpPr/>
            <p:nvPr/>
          </p:nvSpPr>
          <p:spPr>
            <a:xfrm>
              <a:off x="6498720" y="2524320"/>
              <a:ext cx="1297080" cy="129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6281640" y="2308320"/>
              <a:ext cx="1658880" cy="95148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39"/>
            <p:cNvSpPr/>
            <p:nvPr/>
          </p:nvSpPr>
          <p:spPr>
            <a:xfrm>
              <a:off x="666756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40"/>
            <p:cNvSpPr/>
            <p:nvPr/>
          </p:nvSpPr>
          <p:spPr>
            <a:xfrm>
              <a:off x="722772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"/>
            <p:cNvSpPr/>
            <p:nvPr/>
          </p:nvSpPr>
          <p:spPr>
            <a:xfrm>
              <a:off x="6383880" y="2079720"/>
              <a:ext cx="1426320" cy="1119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42"/>
            <p:cNvSpPr/>
            <p:nvPr/>
          </p:nvSpPr>
          <p:spPr>
            <a:xfrm>
              <a:off x="684576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椭圆 43"/>
            <p:cNvSpPr/>
            <p:nvPr/>
          </p:nvSpPr>
          <p:spPr>
            <a:xfrm>
              <a:off x="737172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文本框 44"/>
          <p:cNvSpPr/>
          <p:nvPr/>
        </p:nvSpPr>
        <p:spPr>
          <a:xfrm>
            <a:off x="4069080" y="1943280"/>
            <a:ext cx="138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cc0e"/>
                </a:solidFill>
                <a:latin typeface="微软雅黑"/>
              </a:rPr>
              <a:t>BIG</a:t>
            </a:r>
            <a:r>
              <a:rPr b="1" lang="en-US" sz="4000" spc="-1" strike="noStrike">
                <a:solidFill>
                  <a:srgbClr val="fdcc0e"/>
                </a:solidFill>
                <a:latin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c0e"/>
                </a:solidFill>
                <a:latin typeface="微软雅黑"/>
              </a:rPr>
              <a:t>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5"/>
          <p:cNvSpPr/>
          <p:nvPr/>
        </p:nvSpPr>
        <p:spPr>
          <a:xfrm>
            <a:off x="4061520" y="395280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BIG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右箭头 24"/>
          <p:cNvSpPr/>
          <p:nvPr/>
        </p:nvSpPr>
        <p:spPr>
          <a:xfrm rot="5400000">
            <a:off x="4350600" y="3320280"/>
            <a:ext cx="606240" cy="5443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2"/>
          <p:cNvSpPr/>
          <p:nvPr/>
        </p:nvSpPr>
        <p:spPr>
          <a:xfrm>
            <a:off x="8238960" y="3994200"/>
            <a:ext cx="771840" cy="768240"/>
          </a:xfrm>
          <a:custGeom>
            <a:avLst/>
            <a:gdLst/>
            <a:ahLst/>
            <a:rect l="l" t="t" r="r" b="b"/>
            <a:pathLst>
              <a:path w="191" h="190">
                <a:moveTo>
                  <a:pt x="96" y="190"/>
                </a:moveTo>
                <a:cubicBezTo>
                  <a:pt x="43" y="190"/>
                  <a:pt x="0" y="147"/>
                  <a:pt x="0" y="95"/>
                </a:cubicBezTo>
                <a:cubicBezTo>
                  <a:pt x="0" y="90"/>
                  <a:pt x="1" y="85"/>
                  <a:pt x="2" y="80"/>
                </a:cubicBezTo>
                <a:cubicBezTo>
                  <a:pt x="2" y="78"/>
                  <a:pt x="2" y="78"/>
                  <a:pt x="2" y="78"/>
                </a:cubicBezTo>
                <a:cubicBezTo>
                  <a:pt x="2" y="78"/>
                  <a:pt x="2" y="78"/>
                  <a:pt x="2" y="78"/>
                </a:cubicBezTo>
                <a:cubicBezTo>
                  <a:pt x="10" y="34"/>
                  <a:pt x="49" y="0"/>
                  <a:pt x="96" y="0"/>
                </a:cubicBezTo>
                <a:cubicBezTo>
                  <a:pt x="148" y="0"/>
                  <a:pt x="191" y="42"/>
                  <a:pt x="191" y="95"/>
                </a:cubicBezTo>
                <a:cubicBezTo>
                  <a:pt x="191" y="147"/>
                  <a:pt x="148" y="190"/>
                  <a:pt x="96" y="190"/>
                </a:cubicBezTo>
                <a:close/>
                <a:moveTo>
                  <a:pt x="145" y="75"/>
                </a:moveTo>
                <a:cubicBezTo>
                  <a:pt x="145" y="74"/>
                  <a:pt x="146" y="73"/>
                  <a:pt x="146" y="72"/>
                </a:cubicBezTo>
                <a:cubicBezTo>
                  <a:pt x="146" y="70"/>
                  <a:pt x="145" y="68"/>
                  <a:pt x="145" y="67"/>
                </a:cubicBezTo>
                <a:cubicBezTo>
                  <a:pt x="154" y="66"/>
                  <a:pt x="164" y="65"/>
                  <a:pt x="175" y="66"/>
                </a:cubicBezTo>
                <a:cubicBezTo>
                  <a:pt x="172" y="56"/>
                  <a:pt x="167" y="47"/>
                  <a:pt x="160" y="40"/>
                </a:cubicBezTo>
                <a:cubicBezTo>
                  <a:pt x="155" y="42"/>
                  <a:pt x="147" y="47"/>
                  <a:pt x="139" y="55"/>
                </a:cubicBezTo>
                <a:cubicBezTo>
                  <a:pt x="138" y="53"/>
                  <a:pt x="136" y="52"/>
                  <a:pt x="134" y="50"/>
                </a:cubicBezTo>
                <a:cubicBezTo>
                  <a:pt x="142" y="42"/>
                  <a:pt x="150" y="36"/>
                  <a:pt x="154" y="34"/>
                </a:cubicBezTo>
                <a:cubicBezTo>
                  <a:pt x="147" y="27"/>
                  <a:pt x="139" y="22"/>
                  <a:pt x="131" y="18"/>
                </a:cubicBezTo>
                <a:cubicBezTo>
                  <a:pt x="123" y="19"/>
                  <a:pt x="103" y="22"/>
                  <a:pt x="82" y="34"/>
                </a:cubicBezTo>
                <a:cubicBezTo>
                  <a:pt x="82" y="35"/>
                  <a:pt x="82" y="36"/>
                  <a:pt x="82" y="37"/>
                </a:cubicBezTo>
                <a:cubicBezTo>
                  <a:pt x="90" y="40"/>
                  <a:pt x="99" y="45"/>
                  <a:pt x="106" y="51"/>
                </a:cubicBezTo>
                <a:cubicBezTo>
                  <a:pt x="105" y="52"/>
                  <a:pt x="103" y="53"/>
                  <a:pt x="102" y="55"/>
                </a:cubicBezTo>
                <a:cubicBezTo>
                  <a:pt x="96" y="51"/>
                  <a:pt x="89" y="46"/>
                  <a:pt x="81" y="43"/>
                </a:cubicBezTo>
                <a:cubicBezTo>
                  <a:pt x="79" y="45"/>
                  <a:pt x="76" y="47"/>
                  <a:pt x="72" y="47"/>
                </a:cubicBezTo>
                <a:cubicBezTo>
                  <a:pt x="70" y="47"/>
                  <a:pt x="68" y="46"/>
                  <a:pt x="66" y="45"/>
                </a:cubicBezTo>
                <a:cubicBezTo>
                  <a:pt x="54" y="55"/>
                  <a:pt x="42" y="69"/>
                  <a:pt x="33" y="89"/>
                </a:cubicBezTo>
                <a:cubicBezTo>
                  <a:pt x="35" y="91"/>
                  <a:pt x="36" y="93"/>
                  <a:pt x="36" y="96"/>
                </a:cubicBezTo>
                <a:cubicBezTo>
                  <a:pt x="36" y="98"/>
                  <a:pt x="36" y="100"/>
                  <a:pt x="35" y="101"/>
                </a:cubicBezTo>
                <a:cubicBezTo>
                  <a:pt x="39" y="103"/>
                  <a:pt x="43" y="105"/>
                  <a:pt x="47" y="107"/>
                </a:cubicBezTo>
                <a:cubicBezTo>
                  <a:pt x="49" y="105"/>
                  <a:pt x="52" y="103"/>
                  <a:pt x="56" y="103"/>
                </a:cubicBezTo>
                <a:cubicBezTo>
                  <a:pt x="57" y="103"/>
                  <a:pt x="58" y="103"/>
                  <a:pt x="59" y="104"/>
                </a:cubicBezTo>
                <a:cubicBezTo>
                  <a:pt x="69" y="95"/>
                  <a:pt x="81" y="86"/>
                  <a:pt x="97" y="79"/>
                </a:cubicBezTo>
                <a:cubicBezTo>
                  <a:pt x="98" y="82"/>
                  <a:pt x="99" y="85"/>
                  <a:pt x="101" y="87"/>
                </a:cubicBezTo>
                <a:cubicBezTo>
                  <a:pt x="89" y="92"/>
                  <a:pt x="77" y="99"/>
                  <a:pt x="66" y="108"/>
                </a:cubicBezTo>
                <a:cubicBezTo>
                  <a:pt x="67" y="110"/>
                  <a:pt x="68" y="113"/>
                  <a:pt x="69" y="115"/>
                </a:cubicBezTo>
                <a:cubicBezTo>
                  <a:pt x="79" y="119"/>
                  <a:pt x="90" y="121"/>
                  <a:pt x="103" y="123"/>
                </a:cubicBezTo>
                <a:cubicBezTo>
                  <a:pt x="103" y="112"/>
                  <a:pt x="105" y="102"/>
                  <a:pt x="108" y="93"/>
                </a:cubicBezTo>
                <a:cubicBezTo>
                  <a:pt x="110" y="95"/>
                  <a:pt x="112" y="96"/>
                  <a:pt x="115" y="96"/>
                </a:cubicBezTo>
                <a:cubicBezTo>
                  <a:pt x="112" y="104"/>
                  <a:pt x="111" y="114"/>
                  <a:pt x="110" y="124"/>
                </a:cubicBezTo>
                <a:cubicBezTo>
                  <a:pt x="118" y="125"/>
                  <a:pt x="126" y="125"/>
                  <a:pt x="134" y="125"/>
                </a:cubicBezTo>
                <a:cubicBezTo>
                  <a:pt x="136" y="122"/>
                  <a:pt x="138" y="119"/>
                  <a:pt x="141" y="117"/>
                </a:cubicBezTo>
                <a:cubicBezTo>
                  <a:pt x="140" y="109"/>
                  <a:pt x="137" y="101"/>
                  <a:pt x="134" y="93"/>
                </a:cubicBezTo>
                <a:cubicBezTo>
                  <a:pt x="136" y="91"/>
                  <a:pt x="138" y="90"/>
                  <a:pt x="140" y="87"/>
                </a:cubicBezTo>
                <a:cubicBezTo>
                  <a:pt x="145" y="96"/>
                  <a:pt x="148" y="106"/>
                  <a:pt x="150" y="117"/>
                </a:cubicBezTo>
                <a:cubicBezTo>
                  <a:pt x="153" y="118"/>
                  <a:pt x="156" y="120"/>
                  <a:pt x="157" y="123"/>
                </a:cubicBezTo>
                <a:cubicBezTo>
                  <a:pt x="164" y="122"/>
                  <a:pt x="170" y="120"/>
                  <a:pt x="177" y="119"/>
                </a:cubicBezTo>
                <a:cubicBezTo>
                  <a:pt x="179" y="111"/>
                  <a:pt x="181" y="103"/>
                  <a:pt x="181" y="95"/>
                </a:cubicBezTo>
                <a:cubicBezTo>
                  <a:pt x="181" y="87"/>
                  <a:pt x="179" y="80"/>
                  <a:pt x="177" y="73"/>
                </a:cubicBezTo>
                <a:cubicBezTo>
                  <a:pt x="172" y="73"/>
                  <a:pt x="160" y="73"/>
                  <a:pt x="145" y="75"/>
                </a:cubicBezTo>
                <a:close/>
                <a:moveTo>
                  <a:pt x="43" y="113"/>
                </a:moveTo>
                <a:cubicBezTo>
                  <a:pt x="39" y="111"/>
                  <a:pt x="34" y="108"/>
                  <a:pt x="30" y="106"/>
                </a:cubicBezTo>
                <a:cubicBezTo>
                  <a:pt x="29" y="106"/>
                  <a:pt x="28" y="107"/>
                  <a:pt x="26" y="107"/>
                </a:cubicBezTo>
                <a:cubicBezTo>
                  <a:pt x="26" y="107"/>
                  <a:pt x="26" y="107"/>
                  <a:pt x="26" y="107"/>
                </a:cubicBezTo>
                <a:cubicBezTo>
                  <a:pt x="24" y="115"/>
                  <a:pt x="22" y="124"/>
                  <a:pt x="20" y="134"/>
                </a:cubicBezTo>
                <a:cubicBezTo>
                  <a:pt x="22" y="138"/>
                  <a:pt x="25" y="142"/>
                  <a:pt x="28" y="146"/>
                </a:cubicBezTo>
                <a:cubicBezTo>
                  <a:pt x="30" y="141"/>
                  <a:pt x="35" y="131"/>
                  <a:pt x="44" y="120"/>
                </a:cubicBezTo>
                <a:cubicBezTo>
                  <a:pt x="43" y="119"/>
                  <a:pt x="43" y="117"/>
                  <a:pt x="43" y="116"/>
                </a:cubicBezTo>
                <a:cubicBezTo>
                  <a:pt x="43" y="115"/>
                  <a:pt x="43" y="114"/>
                  <a:pt x="43" y="113"/>
                </a:cubicBezTo>
                <a:close/>
                <a:moveTo>
                  <a:pt x="119" y="166"/>
                </a:moveTo>
                <a:cubicBezTo>
                  <a:pt x="119" y="167"/>
                  <a:pt x="117" y="171"/>
                  <a:pt x="116" y="172"/>
                </a:cubicBezTo>
                <a:cubicBezTo>
                  <a:pt x="117" y="174"/>
                  <a:pt x="117" y="174"/>
                  <a:pt x="118" y="177"/>
                </a:cubicBezTo>
                <a:cubicBezTo>
                  <a:pt x="126" y="175"/>
                  <a:pt x="133" y="172"/>
                  <a:pt x="139" y="168"/>
                </a:cubicBezTo>
                <a:cubicBezTo>
                  <a:pt x="141" y="162"/>
                  <a:pt x="143" y="153"/>
                  <a:pt x="143" y="142"/>
                </a:cubicBezTo>
                <a:cubicBezTo>
                  <a:pt x="138" y="140"/>
                  <a:pt x="135" y="136"/>
                  <a:pt x="134" y="132"/>
                </a:cubicBezTo>
                <a:cubicBezTo>
                  <a:pt x="126" y="132"/>
                  <a:pt x="118" y="132"/>
                  <a:pt x="110" y="131"/>
                </a:cubicBezTo>
                <a:cubicBezTo>
                  <a:pt x="110" y="140"/>
                  <a:pt x="112" y="149"/>
                  <a:pt x="114" y="160"/>
                </a:cubicBezTo>
                <a:cubicBezTo>
                  <a:pt x="116" y="161"/>
                  <a:pt x="119" y="163"/>
                  <a:pt x="119" y="166"/>
                </a:cubicBezTo>
                <a:close/>
                <a:moveTo>
                  <a:pt x="175" y="126"/>
                </a:moveTo>
                <a:cubicBezTo>
                  <a:pt x="169" y="127"/>
                  <a:pt x="164" y="128"/>
                  <a:pt x="159" y="129"/>
                </a:cubicBezTo>
                <a:cubicBezTo>
                  <a:pt x="159" y="129"/>
                  <a:pt x="159" y="129"/>
                  <a:pt x="159" y="129"/>
                </a:cubicBezTo>
                <a:cubicBezTo>
                  <a:pt x="159" y="135"/>
                  <a:pt x="156" y="140"/>
                  <a:pt x="151" y="141"/>
                </a:cubicBezTo>
                <a:cubicBezTo>
                  <a:pt x="150" y="148"/>
                  <a:pt x="149" y="155"/>
                  <a:pt x="147" y="162"/>
                </a:cubicBezTo>
                <a:cubicBezTo>
                  <a:pt x="159" y="153"/>
                  <a:pt x="169" y="140"/>
                  <a:pt x="175" y="126"/>
                </a:cubicBezTo>
                <a:close/>
                <a:moveTo>
                  <a:pt x="96" y="180"/>
                </a:moveTo>
                <a:cubicBezTo>
                  <a:pt x="101" y="180"/>
                  <a:pt x="106" y="179"/>
                  <a:pt x="112" y="178"/>
                </a:cubicBezTo>
                <a:cubicBezTo>
                  <a:pt x="111" y="177"/>
                  <a:pt x="111" y="175"/>
                  <a:pt x="110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06" y="173"/>
                  <a:pt x="103" y="170"/>
                  <a:pt x="103" y="166"/>
                </a:cubicBezTo>
                <a:cubicBezTo>
                  <a:pt x="103" y="164"/>
                  <a:pt x="104" y="162"/>
                  <a:pt x="107" y="160"/>
                </a:cubicBezTo>
                <a:cubicBezTo>
                  <a:pt x="104" y="150"/>
                  <a:pt x="103" y="140"/>
                  <a:pt x="103" y="131"/>
                </a:cubicBezTo>
                <a:cubicBezTo>
                  <a:pt x="90" y="129"/>
                  <a:pt x="78" y="126"/>
                  <a:pt x="67" y="123"/>
                </a:cubicBezTo>
                <a:cubicBezTo>
                  <a:pt x="65" y="126"/>
                  <a:pt x="61" y="129"/>
                  <a:pt x="56" y="129"/>
                </a:cubicBezTo>
                <a:cubicBezTo>
                  <a:pt x="53" y="129"/>
                  <a:pt x="51" y="128"/>
                  <a:pt x="48" y="127"/>
                </a:cubicBezTo>
                <a:cubicBezTo>
                  <a:pt x="43" y="134"/>
                  <a:pt x="38" y="143"/>
                  <a:pt x="34" y="154"/>
                </a:cubicBezTo>
                <a:cubicBezTo>
                  <a:pt x="50" y="170"/>
                  <a:pt x="71" y="180"/>
                  <a:pt x="96" y="180"/>
                </a:cubicBezTo>
                <a:close/>
                <a:moveTo>
                  <a:pt x="15" y="121"/>
                </a:moveTo>
                <a:cubicBezTo>
                  <a:pt x="16" y="117"/>
                  <a:pt x="17" y="111"/>
                  <a:pt x="19" y="104"/>
                </a:cubicBezTo>
                <a:cubicBezTo>
                  <a:pt x="17" y="102"/>
                  <a:pt x="16" y="99"/>
                  <a:pt x="16" y="97"/>
                </a:cubicBezTo>
                <a:cubicBezTo>
                  <a:pt x="14" y="95"/>
                  <a:pt x="12" y="94"/>
                  <a:pt x="11" y="92"/>
                </a:cubicBezTo>
                <a:cubicBezTo>
                  <a:pt x="11" y="93"/>
                  <a:pt x="11" y="94"/>
                  <a:pt x="11" y="95"/>
                </a:cubicBezTo>
                <a:cubicBezTo>
                  <a:pt x="11" y="104"/>
                  <a:pt x="12" y="113"/>
                  <a:pt x="15" y="121"/>
                </a:cubicBezTo>
                <a:close/>
                <a:moveTo>
                  <a:pt x="11" y="86"/>
                </a:moveTo>
                <a:cubicBezTo>
                  <a:pt x="13" y="87"/>
                  <a:pt x="15" y="89"/>
                  <a:pt x="18" y="90"/>
                </a:cubicBezTo>
                <a:cubicBezTo>
                  <a:pt x="20" y="88"/>
                  <a:pt x="23" y="86"/>
                  <a:pt x="26" y="86"/>
                </a:cubicBezTo>
                <a:cubicBezTo>
                  <a:pt x="26" y="86"/>
                  <a:pt x="26" y="86"/>
                  <a:pt x="26" y="86"/>
                </a:cubicBezTo>
                <a:cubicBezTo>
                  <a:pt x="34" y="71"/>
                  <a:pt x="45" y="54"/>
                  <a:pt x="62" y="40"/>
                </a:cubicBezTo>
                <a:cubicBezTo>
                  <a:pt x="62" y="39"/>
                  <a:pt x="62" y="38"/>
                  <a:pt x="62" y="37"/>
                </a:cubicBezTo>
                <a:cubicBezTo>
                  <a:pt x="62" y="36"/>
                  <a:pt x="62" y="36"/>
                  <a:pt x="62" y="35"/>
                </a:cubicBezTo>
                <a:cubicBezTo>
                  <a:pt x="56" y="33"/>
                  <a:pt x="49" y="31"/>
                  <a:pt x="42" y="29"/>
                </a:cubicBezTo>
                <a:cubicBezTo>
                  <a:pt x="25" y="43"/>
                  <a:pt x="14" y="63"/>
                  <a:pt x="11" y="86"/>
                </a:cubicBezTo>
                <a:close/>
                <a:moveTo>
                  <a:pt x="49" y="24"/>
                </a:moveTo>
                <a:cubicBezTo>
                  <a:pt x="52" y="25"/>
                  <a:pt x="58" y="27"/>
                  <a:pt x="66" y="29"/>
                </a:cubicBezTo>
                <a:cubicBezTo>
                  <a:pt x="67" y="28"/>
                  <a:pt x="70" y="27"/>
                  <a:pt x="72" y="27"/>
                </a:cubicBezTo>
                <a:cubicBezTo>
                  <a:pt x="75" y="27"/>
                  <a:pt x="77" y="28"/>
                  <a:pt x="78" y="29"/>
                </a:cubicBezTo>
                <a:cubicBezTo>
                  <a:pt x="90" y="22"/>
                  <a:pt x="104" y="17"/>
                  <a:pt x="121" y="14"/>
                </a:cubicBezTo>
                <a:cubicBezTo>
                  <a:pt x="113" y="11"/>
                  <a:pt x="104" y="10"/>
                  <a:pt x="96" y="10"/>
                </a:cubicBezTo>
                <a:cubicBezTo>
                  <a:pt x="78" y="10"/>
                  <a:pt x="62" y="15"/>
                  <a:pt x="49" y="24"/>
                </a:cubicBezTo>
                <a:close/>
                <a:moveTo>
                  <a:pt x="120" y="89"/>
                </a:moveTo>
                <a:cubicBezTo>
                  <a:pt x="110" y="89"/>
                  <a:pt x="102" y="81"/>
                  <a:pt x="102" y="71"/>
                </a:cubicBezTo>
                <a:cubicBezTo>
                  <a:pt x="102" y="62"/>
                  <a:pt x="110" y="54"/>
                  <a:pt x="120" y="54"/>
                </a:cubicBezTo>
                <a:cubicBezTo>
                  <a:pt x="130" y="54"/>
                  <a:pt x="138" y="62"/>
                  <a:pt x="138" y="71"/>
                </a:cubicBezTo>
                <a:cubicBezTo>
                  <a:pt x="138" y="81"/>
                  <a:pt x="130" y="89"/>
                  <a:pt x="120" y="89"/>
                </a:cubicBezTo>
                <a:close/>
                <a:moveTo>
                  <a:pt x="120" y="60"/>
                </a:moveTo>
                <a:cubicBezTo>
                  <a:pt x="114" y="60"/>
                  <a:pt x="109" y="65"/>
                  <a:pt x="109" y="71"/>
                </a:cubicBezTo>
                <a:cubicBezTo>
                  <a:pt x="109" y="78"/>
                  <a:pt x="114" y="83"/>
                  <a:pt x="120" y="83"/>
                </a:cubicBezTo>
                <a:cubicBezTo>
                  <a:pt x="127" y="83"/>
                  <a:pt x="132" y="78"/>
                  <a:pt x="132" y="71"/>
                </a:cubicBezTo>
                <a:cubicBezTo>
                  <a:pt x="132" y="65"/>
                  <a:pt x="127" y="60"/>
                  <a:pt x="120" y="60"/>
                </a:cubicBezTo>
                <a:close/>
                <a:moveTo>
                  <a:pt x="120" y="76"/>
                </a:moveTo>
                <a:cubicBezTo>
                  <a:pt x="117" y="76"/>
                  <a:pt x="115" y="74"/>
                  <a:pt x="115" y="71"/>
                </a:cubicBezTo>
                <a:cubicBezTo>
                  <a:pt x="115" y="67"/>
                  <a:pt x="117" y="65"/>
                  <a:pt x="120" y="65"/>
                </a:cubicBezTo>
                <a:cubicBezTo>
                  <a:pt x="123" y="65"/>
                  <a:pt x="126" y="67"/>
                  <a:pt x="126" y="71"/>
                </a:cubicBezTo>
                <a:cubicBezTo>
                  <a:pt x="126" y="74"/>
                  <a:pt x="123" y="76"/>
                  <a:pt x="120" y="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6"/>
          <p:cNvSpPr/>
          <p:nvPr/>
        </p:nvSpPr>
        <p:spPr>
          <a:xfrm rot="2758800">
            <a:off x="8332920" y="3013920"/>
            <a:ext cx="762120" cy="717840"/>
          </a:xfrm>
          <a:custGeom>
            <a:avLst/>
            <a:gdLst/>
            <a:ahLst/>
            <a:rect l="l" t="t" r="r" b="b"/>
            <a:pathLst>
              <a:path w="200" h="188">
                <a:moveTo>
                  <a:pt x="180" y="144"/>
                </a:moveTo>
                <a:cubicBezTo>
                  <a:pt x="20" y="144"/>
                  <a:pt x="20" y="144"/>
                  <a:pt x="20" y="144"/>
                </a:cubicBezTo>
                <a:cubicBezTo>
                  <a:pt x="9" y="144"/>
                  <a:pt x="0" y="135"/>
                  <a:pt x="0" y="124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180" y="0"/>
                  <a:pt x="180" y="0"/>
                  <a:pt x="180" y="0"/>
                </a:cubicBezTo>
                <a:cubicBezTo>
                  <a:pt x="191" y="0"/>
                  <a:pt x="200" y="9"/>
                  <a:pt x="200" y="20"/>
                </a:cubicBezTo>
                <a:cubicBezTo>
                  <a:pt x="200" y="124"/>
                  <a:pt x="200" y="124"/>
                  <a:pt x="200" y="124"/>
                </a:cubicBezTo>
                <a:cubicBezTo>
                  <a:pt x="200" y="135"/>
                  <a:pt x="191" y="144"/>
                  <a:pt x="180" y="144"/>
                </a:cubicBezTo>
                <a:close/>
                <a:moveTo>
                  <a:pt x="192" y="20"/>
                </a:moveTo>
                <a:cubicBezTo>
                  <a:pt x="192" y="13"/>
                  <a:pt x="186" y="8"/>
                  <a:pt x="18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13" y="8"/>
                  <a:pt x="8" y="13"/>
                  <a:pt x="8" y="20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31"/>
                  <a:pt x="13" y="136"/>
                  <a:pt x="20" y="136"/>
                </a:cubicBezTo>
                <a:cubicBezTo>
                  <a:pt x="180" y="136"/>
                  <a:pt x="180" y="136"/>
                  <a:pt x="180" y="136"/>
                </a:cubicBezTo>
                <a:cubicBezTo>
                  <a:pt x="186" y="136"/>
                  <a:pt x="192" y="131"/>
                  <a:pt x="192" y="124"/>
                </a:cubicBezTo>
                <a:lnTo>
                  <a:pt x="192" y="20"/>
                </a:lnTo>
                <a:close/>
                <a:moveTo>
                  <a:pt x="166" y="103"/>
                </a:moveTo>
                <a:cubicBezTo>
                  <a:pt x="159" y="108"/>
                  <a:pt x="159" y="108"/>
                  <a:pt x="159" y="108"/>
                </a:cubicBezTo>
                <a:cubicBezTo>
                  <a:pt x="149" y="93"/>
                  <a:pt x="149" y="93"/>
                  <a:pt x="149" y="93"/>
                </a:cubicBezTo>
                <a:cubicBezTo>
                  <a:pt x="139" y="100"/>
                  <a:pt x="139" y="100"/>
                  <a:pt x="139" y="100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66" y="83"/>
                  <a:pt x="166" y="83"/>
                  <a:pt x="166" y="83"/>
                </a:cubicBezTo>
                <a:cubicBezTo>
                  <a:pt x="155" y="89"/>
                  <a:pt x="155" y="89"/>
                  <a:pt x="155" y="89"/>
                </a:cubicBezTo>
                <a:lnTo>
                  <a:pt x="166" y="103"/>
                </a:lnTo>
                <a:close/>
                <a:moveTo>
                  <a:pt x="124" y="48"/>
                </a:moveTo>
                <a:cubicBezTo>
                  <a:pt x="123" y="48"/>
                  <a:pt x="123" y="48"/>
                  <a:pt x="123" y="48"/>
                </a:cubicBezTo>
                <a:cubicBezTo>
                  <a:pt x="101" y="88"/>
                  <a:pt x="101" y="88"/>
                  <a:pt x="101" y="88"/>
                </a:cubicBezTo>
                <a:cubicBezTo>
                  <a:pt x="100" y="88"/>
                  <a:pt x="100" y="88"/>
                  <a:pt x="100" y="88"/>
                </a:cubicBezTo>
                <a:cubicBezTo>
                  <a:pt x="89" y="88"/>
                  <a:pt x="89" y="88"/>
                  <a:pt x="89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44" y="48"/>
                  <a:pt x="44" y="48"/>
                  <a:pt x="44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4" y="47"/>
                  <a:pt x="44" y="47"/>
                  <a:pt x="44" y="47"/>
                </a:cubicBezTo>
                <a:cubicBezTo>
                  <a:pt x="41" y="36"/>
                  <a:pt x="41" y="36"/>
                  <a:pt x="41" y="3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24"/>
                  <a:pt x="24" y="24"/>
                  <a:pt x="24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6" y="36"/>
                  <a:pt x="56" y="36"/>
                  <a:pt x="56" y="36"/>
                </a:cubicBezTo>
                <a:cubicBezTo>
                  <a:pt x="117" y="36"/>
                  <a:pt x="117" y="36"/>
                  <a:pt x="117" y="36"/>
                </a:cubicBezTo>
                <a:cubicBezTo>
                  <a:pt x="124" y="36"/>
                  <a:pt x="124" y="36"/>
                  <a:pt x="124" y="36"/>
                </a:cubicBezTo>
                <a:cubicBezTo>
                  <a:pt x="129" y="36"/>
                  <a:pt x="129" y="36"/>
                  <a:pt x="129" y="36"/>
                </a:cubicBezTo>
                <a:cubicBezTo>
                  <a:pt x="124" y="47"/>
                  <a:pt x="124" y="47"/>
                  <a:pt x="124" y="47"/>
                </a:cubicBezTo>
                <a:lnTo>
                  <a:pt x="124" y="48"/>
                </a:lnTo>
                <a:close/>
                <a:moveTo>
                  <a:pt x="61" y="76"/>
                </a:moveTo>
                <a:cubicBezTo>
                  <a:pt x="96" y="76"/>
                  <a:pt x="96" y="76"/>
                  <a:pt x="96" y="76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60" y="68"/>
                  <a:pt x="60" y="68"/>
                  <a:pt x="60" y="68"/>
                </a:cubicBezTo>
                <a:lnTo>
                  <a:pt x="61" y="76"/>
                </a:lnTo>
                <a:close/>
                <a:moveTo>
                  <a:pt x="56" y="48"/>
                </a:moveTo>
                <a:cubicBezTo>
                  <a:pt x="57" y="56"/>
                  <a:pt x="57" y="56"/>
                  <a:pt x="57" y="56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11" y="48"/>
                  <a:pt x="111" y="48"/>
                  <a:pt x="111" y="48"/>
                </a:cubicBezTo>
                <a:lnTo>
                  <a:pt x="56" y="48"/>
                </a:lnTo>
                <a:close/>
                <a:moveTo>
                  <a:pt x="59" y="93"/>
                </a:moveTo>
                <a:cubicBezTo>
                  <a:pt x="65" y="93"/>
                  <a:pt x="69" y="97"/>
                  <a:pt x="69" y="103"/>
                </a:cubicBezTo>
                <a:cubicBezTo>
                  <a:pt x="69" y="109"/>
                  <a:pt x="65" y="113"/>
                  <a:pt x="59" y="113"/>
                </a:cubicBezTo>
                <a:cubicBezTo>
                  <a:pt x="53" y="113"/>
                  <a:pt x="49" y="109"/>
                  <a:pt x="49" y="103"/>
                </a:cubicBezTo>
                <a:cubicBezTo>
                  <a:pt x="49" y="97"/>
                  <a:pt x="53" y="93"/>
                  <a:pt x="59" y="93"/>
                </a:cubicBezTo>
                <a:close/>
                <a:moveTo>
                  <a:pt x="95" y="93"/>
                </a:moveTo>
                <a:cubicBezTo>
                  <a:pt x="101" y="93"/>
                  <a:pt x="105" y="97"/>
                  <a:pt x="105" y="103"/>
                </a:cubicBezTo>
                <a:cubicBezTo>
                  <a:pt x="105" y="109"/>
                  <a:pt x="101" y="113"/>
                  <a:pt x="95" y="113"/>
                </a:cubicBezTo>
                <a:cubicBezTo>
                  <a:pt x="89" y="113"/>
                  <a:pt x="85" y="109"/>
                  <a:pt x="85" y="103"/>
                </a:cubicBezTo>
                <a:cubicBezTo>
                  <a:pt x="85" y="97"/>
                  <a:pt x="89" y="93"/>
                  <a:pt x="95" y="93"/>
                </a:cubicBezTo>
                <a:close/>
                <a:moveTo>
                  <a:pt x="6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52"/>
                  <a:pt x="72" y="152"/>
                  <a:pt x="72" y="152"/>
                </a:cubicBezTo>
                <a:cubicBezTo>
                  <a:pt x="128" y="152"/>
                  <a:pt x="128" y="152"/>
                  <a:pt x="128" y="152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36" y="168"/>
                  <a:pt x="136" y="168"/>
                  <a:pt x="136" y="168"/>
                </a:cubicBezTo>
                <a:cubicBezTo>
                  <a:pt x="147" y="168"/>
                  <a:pt x="156" y="177"/>
                  <a:pt x="156" y="188"/>
                </a:cubicBezTo>
                <a:cubicBezTo>
                  <a:pt x="44" y="188"/>
                  <a:pt x="44" y="188"/>
                  <a:pt x="44" y="188"/>
                </a:cubicBezTo>
                <a:cubicBezTo>
                  <a:pt x="44" y="177"/>
                  <a:pt x="53" y="168"/>
                  <a:pt x="64" y="168"/>
                </a:cubicBez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0"/>
          <p:cNvSpPr/>
          <p:nvPr/>
        </p:nvSpPr>
        <p:spPr>
          <a:xfrm rot="1759800">
            <a:off x="9226080" y="3652560"/>
            <a:ext cx="493920" cy="646200"/>
          </a:xfrm>
          <a:custGeom>
            <a:avLst/>
            <a:gdLst/>
            <a:ahLst/>
            <a:rect l="l" t="t" r="r" b="b"/>
            <a:pathLst>
              <a:path w="152" h="200">
                <a:moveTo>
                  <a:pt x="143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0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6"/>
                  <a:pt x="5" y="200"/>
                  <a:pt x="10" y="200"/>
                </a:cubicBezTo>
                <a:cubicBezTo>
                  <a:pt x="143" y="200"/>
                  <a:pt x="143" y="200"/>
                  <a:pt x="143" y="200"/>
                </a:cubicBezTo>
                <a:cubicBezTo>
                  <a:pt x="148" y="200"/>
                  <a:pt x="152" y="196"/>
                  <a:pt x="152" y="191"/>
                </a:cubicBezTo>
                <a:cubicBezTo>
                  <a:pt x="152" y="10"/>
                  <a:pt x="152" y="10"/>
                  <a:pt x="152" y="10"/>
                </a:cubicBezTo>
                <a:cubicBezTo>
                  <a:pt x="152" y="5"/>
                  <a:pt x="148" y="0"/>
                  <a:pt x="143" y="0"/>
                </a:cubicBezTo>
                <a:close/>
                <a:moveTo>
                  <a:pt x="51" y="161"/>
                </a:moveTo>
                <a:cubicBezTo>
                  <a:pt x="51" y="163"/>
                  <a:pt x="49" y="165"/>
                  <a:pt x="46" y="165"/>
                </a:cubicBezTo>
                <a:cubicBezTo>
                  <a:pt x="29" y="165"/>
                  <a:pt x="29" y="165"/>
                  <a:pt x="29" y="165"/>
                </a:cubicBezTo>
                <a:cubicBezTo>
                  <a:pt x="27" y="165"/>
                  <a:pt x="25" y="163"/>
                  <a:pt x="25" y="161"/>
                </a:cubicBezTo>
                <a:cubicBezTo>
                  <a:pt x="25" y="152"/>
                  <a:pt x="25" y="152"/>
                  <a:pt x="25" y="152"/>
                </a:cubicBezTo>
                <a:cubicBezTo>
                  <a:pt x="25" y="150"/>
                  <a:pt x="27" y="148"/>
                  <a:pt x="29" y="148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9" y="148"/>
                  <a:pt x="51" y="150"/>
                  <a:pt x="51" y="152"/>
                </a:cubicBezTo>
                <a:lnTo>
                  <a:pt x="51" y="161"/>
                </a:lnTo>
                <a:close/>
                <a:moveTo>
                  <a:pt x="51" y="133"/>
                </a:moveTo>
                <a:cubicBezTo>
                  <a:pt x="51" y="135"/>
                  <a:pt x="49" y="137"/>
                  <a:pt x="46" y="137"/>
                </a:cubicBezTo>
                <a:cubicBezTo>
                  <a:pt x="29" y="137"/>
                  <a:pt x="29" y="137"/>
                  <a:pt x="29" y="137"/>
                </a:cubicBezTo>
                <a:cubicBezTo>
                  <a:pt x="27" y="137"/>
                  <a:pt x="25" y="135"/>
                  <a:pt x="25" y="133"/>
                </a:cubicBezTo>
                <a:cubicBezTo>
                  <a:pt x="25" y="124"/>
                  <a:pt x="25" y="124"/>
                  <a:pt x="25" y="124"/>
                </a:cubicBezTo>
                <a:cubicBezTo>
                  <a:pt x="25" y="122"/>
                  <a:pt x="27" y="121"/>
                  <a:pt x="29" y="121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9" y="121"/>
                  <a:pt x="51" y="122"/>
                  <a:pt x="51" y="124"/>
                </a:cubicBezTo>
                <a:lnTo>
                  <a:pt x="51" y="133"/>
                </a:lnTo>
                <a:close/>
                <a:moveTo>
                  <a:pt x="51" y="105"/>
                </a:moveTo>
                <a:cubicBezTo>
                  <a:pt x="51" y="107"/>
                  <a:pt x="49" y="109"/>
                  <a:pt x="46" y="109"/>
                </a:cubicBezTo>
                <a:cubicBezTo>
                  <a:pt x="29" y="109"/>
                  <a:pt x="29" y="109"/>
                  <a:pt x="29" y="109"/>
                </a:cubicBezTo>
                <a:cubicBezTo>
                  <a:pt x="27" y="109"/>
                  <a:pt x="25" y="107"/>
                  <a:pt x="25" y="105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4"/>
                  <a:pt x="27" y="92"/>
                  <a:pt x="29" y="92"/>
                </a:cubicBezTo>
                <a:cubicBezTo>
                  <a:pt x="46" y="92"/>
                  <a:pt x="46" y="92"/>
                  <a:pt x="46" y="92"/>
                </a:cubicBezTo>
                <a:cubicBezTo>
                  <a:pt x="49" y="92"/>
                  <a:pt x="51" y="94"/>
                  <a:pt x="51" y="96"/>
                </a:cubicBezTo>
                <a:lnTo>
                  <a:pt x="51" y="105"/>
                </a:lnTo>
                <a:close/>
                <a:moveTo>
                  <a:pt x="89" y="161"/>
                </a:moveTo>
                <a:cubicBezTo>
                  <a:pt x="89" y="163"/>
                  <a:pt x="86" y="165"/>
                  <a:pt x="84" y="165"/>
                </a:cubicBezTo>
                <a:cubicBezTo>
                  <a:pt x="68" y="165"/>
                  <a:pt x="68" y="165"/>
                  <a:pt x="68" y="165"/>
                </a:cubicBezTo>
                <a:cubicBezTo>
                  <a:pt x="66" y="165"/>
                  <a:pt x="63" y="163"/>
                  <a:pt x="63" y="161"/>
                </a:cubicBezTo>
                <a:cubicBezTo>
                  <a:pt x="63" y="152"/>
                  <a:pt x="63" y="152"/>
                  <a:pt x="63" y="152"/>
                </a:cubicBezTo>
                <a:cubicBezTo>
                  <a:pt x="63" y="150"/>
                  <a:pt x="66" y="148"/>
                  <a:pt x="68" y="148"/>
                </a:cubicBezTo>
                <a:cubicBezTo>
                  <a:pt x="84" y="148"/>
                  <a:pt x="84" y="148"/>
                  <a:pt x="84" y="148"/>
                </a:cubicBezTo>
                <a:cubicBezTo>
                  <a:pt x="86" y="148"/>
                  <a:pt x="89" y="150"/>
                  <a:pt x="89" y="152"/>
                </a:cubicBezTo>
                <a:lnTo>
                  <a:pt x="89" y="161"/>
                </a:lnTo>
                <a:close/>
                <a:moveTo>
                  <a:pt x="89" y="133"/>
                </a:moveTo>
                <a:cubicBezTo>
                  <a:pt x="89" y="135"/>
                  <a:pt x="86" y="137"/>
                  <a:pt x="84" y="137"/>
                </a:cubicBezTo>
                <a:cubicBezTo>
                  <a:pt x="68" y="137"/>
                  <a:pt x="68" y="137"/>
                  <a:pt x="68" y="137"/>
                </a:cubicBezTo>
                <a:cubicBezTo>
                  <a:pt x="66" y="137"/>
                  <a:pt x="63" y="135"/>
                  <a:pt x="63" y="133"/>
                </a:cubicBezTo>
                <a:cubicBezTo>
                  <a:pt x="63" y="124"/>
                  <a:pt x="63" y="124"/>
                  <a:pt x="63" y="124"/>
                </a:cubicBezTo>
                <a:cubicBezTo>
                  <a:pt x="63" y="122"/>
                  <a:pt x="66" y="121"/>
                  <a:pt x="68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9" y="122"/>
                  <a:pt x="89" y="124"/>
                </a:cubicBezTo>
                <a:lnTo>
                  <a:pt x="89" y="133"/>
                </a:lnTo>
                <a:close/>
                <a:moveTo>
                  <a:pt x="89" y="105"/>
                </a:moveTo>
                <a:cubicBezTo>
                  <a:pt x="89" y="107"/>
                  <a:pt x="86" y="109"/>
                  <a:pt x="84" y="109"/>
                </a:cubicBezTo>
                <a:cubicBezTo>
                  <a:pt x="68" y="109"/>
                  <a:pt x="68" y="109"/>
                  <a:pt x="68" y="109"/>
                </a:cubicBezTo>
                <a:cubicBezTo>
                  <a:pt x="66" y="109"/>
                  <a:pt x="63" y="107"/>
                  <a:pt x="63" y="105"/>
                </a:cubicBezTo>
                <a:cubicBezTo>
                  <a:pt x="63" y="96"/>
                  <a:pt x="63" y="96"/>
                  <a:pt x="63" y="96"/>
                </a:cubicBezTo>
                <a:cubicBezTo>
                  <a:pt x="63" y="94"/>
                  <a:pt x="66" y="92"/>
                  <a:pt x="68" y="92"/>
                </a:cubicBezTo>
                <a:cubicBezTo>
                  <a:pt x="84" y="92"/>
                  <a:pt x="84" y="92"/>
                  <a:pt x="84" y="92"/>
                </a:cubicBezTo>
                <a:cubicBezTo>
                  <a:pt x="86" y="92"/>
                  <a:pt x="89" y="94"/>
                  <a:pt x="89" y="96"/>
                </a:cubicBezTo>
                <a:lnTo>
                  <a:pt x="89" y="105"/>
                </a:lnTo>
                <a:close/>
                <a:moveTo>
                  <a:pt x="128" y="161"/>
                </a:moveTo>
                <a:cubicBezTo>
                  <a:pt x="128" y="163"/>
                  <a:pt x="126" y="165"/>
                  <a:pt x="124" y="165"/>
                </a:cubicBezTo>
                <a:cubicBezTo>
                  <a:pt x="105" y="165"/>
                  <a:pt x="105" y="165"/>
                  <a:pt x="105" y="165"/>
                </a:cubicBezTo>
                <a:cubicBezTo>
                  <a:pt x="102" y="165"/>
                  <a:pt x="100" y="163"/>
                  <a:pt x="100" y="161"/>
                </a:cubicBezTo>
                <a:cubicBezTo>
                  <a:pt x="100" y="152"/>
                  <a:pt x="100" y="152"/>
                  <a:pt x="100" y="152"/>
                </a:cubicBezTo>
                <a:cubicBezTo>
                  <a:pt x="100" y="150"/>
                  <a:pt x="102" y="148"/>
                  <a:pt x="105" y="148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6" y="148"/>
                  <a:pt x="128" y="150"/>
                  <a:pt x="128" y="152"/>
                </a:cubicBezTo>
                <a:lnTo>
                  <a:pt x="128" y="161"/>
                </a:lnTo>
                <a:close/>
                <a:moveTo>
                  <a:pt x="128" y="133"/>
                </a:moveTo>
                <a:cubicBezTo>
                  <a:pt x="128" y="135"/>
                  <a:pt x="126" y="137"/>
                  <a:pt x="124" y="137"/>
                </a:cubicBezTo>
                <a:cubicBezTo>
                  <a:pt x="105" y="137"/>
                  <a:pt x="105" y="137"/>
                  <a:pt x="105" y="137"/>
                </a:cubicBezTo>
                <a:cubicBezTo>
                  <a:pt x="102" y="137"/>
                  <a:pt x="100" y="135"/>
                  <a:pt x="100" y="133"/>
                </a:cubicBezTo>
                <a:cubicBezTo>
                  <a:pt x="100" y="124"/>
                  <a:pt x="100" y="124"/>
                  <a:pt x="100" y="124"/>
                </a:cubicBezTo>
                <a:cubicBezTo>
                  <a:pt x="100" y="122"/>
                  <a:pt x="102" y="120"/>
                  <a:pt x="105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6" y="120"/>
                  <a:pt x="128" y="122"/>
                  <a:pt x="128" y="124"/>
                </a:cubicBezTo>
                <a:lnTo>
                  <a:pt x="128" y="133"/>
                </a:lnTo>
                <a:close/>
                <a:moveTo>
                  <a:pt x="128" y="105"/>
                </a:moveTo>
                <a:cubicBezTo>
                  <a:pt x="128" y="107"/>
                  <a:pt x="126" y="109"/>
                  <a:pt x="124" y="109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2" y="109"/>
                  <a:pt x="100" y="107"/>
                  <a:pt x="100" y="105"/>
                </a:cubicBezTo>
                <a:cubicBezTo>
                  <a:pt x="100" y="96"/>
                  <a:pt x="100" y="96"/>
                  <a:pt x="100" y="96"/>
                </a:cubicBezTo>
                <a:cubicBezTo>
                  <a:pt x="100" y="94"/>
                  <a:pt x="102" y="92"/>
                  <a:pt x="105" y="92"/>
                </a:cubicBezTo>
                <a:cubicBezTo>
                  <a:pt x="124" y="92"/>
                  <a:pt x="124" y="92"/>
                  <a:pt x="124" y="92"/>
                </a:cubicBezTo>
                <a:cubicBezTo>
                  <a:pt x="126" y="92"/>
                  <a:pt x="128" y="94"/>
                  <a:pt x="128" y="96"/>
                </a:cubicBezTo>
                <a:lnTo>
                  <a:pt x="128" y="105"/>
                </a:lnTo>
                <a:close/>
                <a:moveTo>
                  <a:pt x="127" y="72"/>
                </a:moveTo>
                <a:cubicBezTo>
                  <a:pt x="104" y="72"/>
                  <a:pt x="104" y="72"/>
                  <a:pt x="104" y="72"/>
                </a:cubicBezTo>
                <a:cubicBezTo>
                  <a:pt x="101" y="72"/>
                  <a:pt x="99" y="67"/>
                  <a:pt x="99" y="63"/>
                </a:cubicBezTo>
                <a:cubicBezTo>
                  <a:pt x="99" y="60"/>
                  <a:pt x="101" y="57"/>
                  <a:pt x="104" y="57"/>
                </a:cubicBezTo>
                <a:cubicBezTo>
                  <a:pt x="127" y="57"/>
                  <a:pt x="127" y="57"/>
                  <a:pt x="127" y="57"/>
                </a:cubicBezTo>
                <a:cubicBezTo>
                  <a:pt x="129" y="57"/>
                  <a:pt x="131" y="60"/>
                  <a:pt x="131" y="63"/>
                </a:cubicBezTo>
                <a:cubicBezTo>
                  <a:pt x="131" y="67"/>
                  <a:pt x="129" y="72"/>
                  <a:pt x="127" y="72"/>
                </a:cubicBezTo>
                <a:close/>
                <a:moveTo>
                  <a:pt x="136" y="42"/>
                </a:moveTo>
                <a:cubicBezTo>
                  <a:pt x="136" y="45"/>
                  <a:pt x="133" y="48"/>
                  <a:pt x="129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19" y="48"/>
                  <a:pt x="16" y="45"/>
                  <a:pt x="16" y="42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19"/>
                  <a:pt x="19" y="16"/>
                  <a:pt x="23" y="16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33" y="16"/>
                  <a:pt x="136" y="19"/>
                  <a:pt x="136" y="23"/>
                </a:cubicBezTo>
                <a:lnTo>
                  <a:pt x="136" y="42"/>
                </a:lnTo>
                <a:close/>
                <a:moveTo>
                  <a:pt x="124" y="20"/>
                </a:moveTo>
                <a:cubicBezTo>
                  <a:pt x="123" y="20"/>
                  <a:pt x="121" y="21"/>
                  <a:pt x="121" y="2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4"/>
                  <a:pt x="123" y="45"/>
                  <a:pt x="124" y="45"/>
                </a:cubicBezTo>
                <a:cubicBezTo>
                  <a:pt x="126" y="45"/>
                  <a:pt x="128" y="44"/>
                  <a:pt x="128" y="42"/>
                </a:cubicBezTo>
                <a:cubicBezTo>
                  <a:pt x="128" y="23"/>
                  <a:pt x="128" y="23"/>
                  <a:pt x="128" y="23"/>
                </a:cubicBezTo>
                <a:cubicBezTo>
                  <a:pt x="128" y="21"/>
                  <a:pt x="126" y="20"/>
                  <a:pt x="124" y="20"/>
                </a:cubicBezTo>
                <a:close/>
              </a:path>
            </a:pathLst>
          </a:custGeom>
          <a:solidFill>
            <a:srgbClr val="0c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53"/>
          <p:cNvSpPr/>
          <p:nvPr/>
        </p:nvSpPr>
        <p:spPr>
          <a:xfrm rot="2280600">
            <a:off x="8922600" y="4444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54"/>
          <p:cNvSpPr/>
          <p:nvPr/>
        </p:nvSpPr>
        <p:spPr>
          <a:xfrm rot="20669400">
            <a:off x="9492480" y="4574880"/>
            <a:ext cx="398520" cy="581400"/>
          </a:xfrm>
          <a:prstGeom prst="rect">
            <a:avLst/>
          </a:pr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55"/>
          <p:cNvSpPr/>
          <p:nvPr/>
        </p:nvSpPr>
        <p:spPr>
          <a:xfrm rot="20669400">
            <a:off x="9077040" y="25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56"/>
          <p:cNvSpPr/>
          <p:nvPr/>
        </p:nvSpPr>
        <p:spPr>
          <a:xfrm rot="20669400">
            <a:off x="9705960" y="34707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3"/>
          <p:cNvGrpSpPr/>
          <p:nvPr/>
        </p:nvGrpSpPr>
        <p:grpSpPr>
          <a:xfrm>
            <a:off x="9802800" y="2986200"/>
            <a:ext cx="774360" cy="502920"/>
            <a:chOff x="9802800" y="2986200"/>
            <a:chExt cx="774360" cy="502920"/>
          </a:xfrm>
        </p:grpSpPr>
        <p:sp>
          <p:nvSpPr>
            <p:cNvPr id="445" name="Freeform 24"/>
            <p:cNvSpPr/>
            <p:nvPr/>
          </p:nvSpPr>
          <p:spPr>
            <a:xfrm>
              <a:off x="9802800" y="2986200"/>
              <a:ext cx="774360" cy="502920"/>
            </a:xfrm>
            <a:custGeom>
              <a:avLst/>
              <a:gdLst/>
              <a:ahLst/>
              <a:rect l="l" t="t" r="r" b="b"/>
              <a:pathLst>
                <a:path w="125" h="80">
                  <a:moveTo>
                    <a:pt x="95" y="21"/>
                  </a:moveTo>
                  <a:cubicBezTo>
                    <a:pt x="93" y="21"/>
                    <a:pt x="90" y="22"/>
                    <a:pt x="88" y="22"/>
                  </a:cubicBezTo>
                  <a:cubicBezTo>
                    <a:pt x="84" y="9"/>
                    <a:pt x="73" y="0"/>
                    <a:pt x="59" y="0"/>
                  </a:cubicBezTo>
                  <a:cubicBezTo>
                    <a:pt x="46" y="0"/>
                    <a:pt x="34" y="9"/>
                    <a:pt x="31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14" y="21"/>
                    <a:pt x="0" y="34"/>
                    <a:pt x="0" y="51"/>
                  </a:cubicBezTo>
                  <a:cubicBezTo>
                    <a:pt x="0" y="67"/>
                    <a:pt x="14" y="80"/>
                    <a:pt x="30" y="80"/>
                  </a:cubicBezTo>
                  <a:cubicBezTo>
                    <a:pt x="95" y="80"/>
                    <a:pt x="95" y="80"/>
                    <a:pt x="95" y="80"/>
                  </a:cubicBezTo>
                  <a:cubicBezTo>
                    <a:pt x="112" y="80"/>
                    <a:pt x="125" y="67"/>
                    <a:pt x="125" y="51"/>
                  </a:cubicBezTo>
                  <a:cubicBezTo>
                    <a:pt x="125" y="34"/>
                    <a:pt x="112" y="21"/>
                    <a:pt x="95" y="21"/>
                  </a:cubicBezTo>
                  <a:moveTo>
                    <a:pt x="95" y="76"/>
                  </a:moveTo>
                  <a:cubicBezTo>
                    <a:pt x="30" y="76"/>
                    <a:pt x="30" y="76"/>
                    <a:pt x="30" y="76"/>
                  </a:cubicBezTo>
                  <a:cubicBezTo>
                    <a:pt x="16" y="76"/>
                    <a:pt x="4" y="65"/>
                    <a:pt x="4" y="51"/>
                  </a:cubicBezTo>
                  <a:cubicBezTo>
                    <a:pt x="4" y="37"/>
                    <a:pt x="16" y="25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7" y="12"/>
                    <a:pt x="47" y="4"/>
                    <a:pt x="59" y="4"/>
                  </a:cubicBezTo>
                  <a:cubicBezTo>
                    <a:pt x="72" y="4"/>
                    <a:pt x="82" y="13"/>
                    <a:pt x="84" y="25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7" y="27"/>
                    <a:pt x="87" y="27"/>
                    <a:pt x="87" y="27"/>
                  </a:cubicBezTo>
                  <a:cubicBezTo>
                    <a:pt x="90" y="26"/>
                    <a:pt x="92" y="25"/>
                    <a:pt x="95" y="25"/>
                  </a:cubicBezTo>
                  <a:cubicBezTo>
                    <a:pt x="109" y="25"/>
                    <a:pt x="121" y="37"/>
                    <a:pt x="121" y="51"/>
                  </a:cubicBezTo>
                  <a:cubicBezTo>
                    <a:pt x="121" y="65"/>
                    <a:pt x="109" y="76"/>
                    <a:pt x="95" y="7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5"/>
            <p:cNvSpPr/>
            <p:nvPr/>
          </p:nvSpPr>
          <p:spPr>
            <a:xfrm>
              <a:off x="10130400" y="3124440"/>
              <a:ext cx="192240" cy="25668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27" y="14"/>
                  </a:moveTo>
                  <a:cubicBezTo>
                    <a:pt x="22" y="4"/>
                    <a:pt x="10" y="0"/>
                    <a:pt x="0" y="5"/>
                  </a:cubicBezTo>
                  <a:cubicBezTo>
                    <a:pt x="1" y="7"/>
                    <a:pt x="2" y="10"/>
                    <a:pt x="2" y="10"/>
                  </a:cubicBezTo>
                  <a:cubicBezTo>
                    <a:pt x="9" y="6"/>
                    <a:pt x="18" y="9"/>
                    <a:pt x="22" y="17"/>
                  </a:cubicBezTo>
                  <a:cubicBezTo>
                    <a:pt x="25" y="22"/>
                    <a:pt x="23" y="29"/>
                    <a:pt x="20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9" y="32"/>
                    <a:pt x="31" y="23"/>
                    <a:pt x="27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"/>
            <p:cNvSpPr/>
            <p:nvPr/>
          </p:nvSpPr>
          <p:spPr>
            <a:xfrm>
              <a:off x="10013040" y="3173400"/>
              <a:ext cx="196920" cy="2588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10" y="25"/>
                  </a:moveTo>
                  <a:cubicBezTo>
                    <a:pt x="7" y="19"/>
                    <a:pt x="8" y="12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3" y="9"/>
                    <a:pt x="0" y="19"/>
                    <a:pt x="5" y="27"/>
                  </a:cubicBezTo>
                  <a:cubicBezTo>
                    <a:pt x="10" y="37"/>
                    <a:pt x="22" y="41"/>
                    <a:pt x="32" y="36"/>
                  </a:cubicBezTo>
                  <a:cubicBezTo>
                    <a:pt x="31" y="34"/>
                    <a:pt x="29" y="31"/>
                    <a:pt x="29" y="31"/>
                  </a:cubicBezTo>
                  <a:cubicBezTo>
                    <a:pt x="22" y="35"/>
                    <a:pt x="13" y="32"/>
                    <a:pt x="1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文本框 63"/>
          <p:cNvSpPr/>
          <p:nvPr/>
        </p:nvSpPr>
        <p:spPr>
          <a:xfrm rot="3487800">
            <a:off x="10456200" y="3194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cc0e"/>
                </a:solidFill>
                <a:latin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4"/>
          <p:cNvSpPr/>
          <p:nvPr/>
        </p:nvSpPr>
        <p:spPr>
          <a:xfrm rot="17010000">
            <a:off x="9738360" y="2002320"/>
            <a:ext cx="616680" cy="1008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5"/>
          <p:cNvSpPr/>
          <p:nvPr/>
        </p:nvSpPr>
        <p:spPr>
          <a:xfrm rot="3101400">
            <a:off x="8487720" y="1987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组合 1"/>
          <p:cNvGrpSpPr/>
          <p:nvPr/>
        </p:nvGrpSpPr>
        <p:grpSpPr>
          <a:xfrm>
            <a:off x="7143840" y="4187880"/>
            <a:ext cx="401400" cy="2428920"/>
            <a:chOff x="7143840" y="4187880"/>
            <a:chExt cx="401400" cy="2428920"/>
          </a:xfrm>
        </p:grpSpPr>
        <p:sp>
          <p:nvSpPr>
            <p:cNvPr id="452" name="流程图: 延期 2"/>
            <p:cNvSpPr/>
            <p:nvPr/>
          </p:nvSpPr>
          <p:spPr>
            <a:xfrm rot="16200000">
              <a:off x="7126200" y="4205160"/>
              <a:ext cx="436320" cy="401400"/>
            </a:xfrm>
            <a:prstGeom prst="flowChartDelay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3"/>
            <p:cNvSpPr/>
            <p:nvPr/>
          </p:nvSpPr>
          <p:spPr>
            <a:xfrm>
              <a:off x="7143840" y="4616640"/>
              <a:ext cx="401400" cy="10040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4"/>
            <p:cNvSpPr/>
            <p:nvPr/>
          </p:nvSpPr>
          <p:spPr>
            <a:xfrm>
              <a:off x="7246440" y="5612760"/>
              <a:ext cx="298800" cy="10040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5"/>
          <p:cNvGrpSpPr/>
          <p:nvPr/>
        </p:nvGrpSpPr>
        <p:grpSpPr>
          <a:xfrm>
            <a:off x="3359160" y="4489560"/>
            <a:ext cx="1492200" cy="2195280"/>
            <a:chOff x="3359160" y="4489560"/>
            <a:chExt cx="1492200" cy="2195280"/>
          </a:xfrm>
        </p:grpSpPr>
        <p:sp>
          <p:nvSpPr>
            <p:cNvPr id="456" name="流程图: 延期 6"/>
            <p:cNvSpPr/>
            <p:nvPr/>
          </p:nvSpPr>
          <p:spPr>
            <a:xfrm rot="16200000">
              <a:off x="3007440" y="4840920"/>
              <a:ext cx="2195280" cy="1492200"/>
            </a:xfrm>
            <a:prstGeom prst="flowChartDelay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8"/>
            <p:cNvSpPr/>
            <p:nvPr/>
          </p:nvSpPr>
          <p:spPr>
            <a:xfrm>
              <a:off x="3633840" y="4964040"/>
              <a:ext cx="104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Oval 7"/>
          <p:cNvSpPr/>
          <p:nvPr/>
        </p:nvSpPr>
        <p:spPr>
          <a:xfrm>
            <a:off x="6838920" y="3608280"/>
            <a:ext cx="574560" cy="576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10"/>
          <p:cNvGrpSpPr/>
          <p:nvPr/>
        </p:nvGrpSpPr>
        <p:grpSpPr>
          <a:xfrm>
            <a:off x="-136440" y="6373800"/>
            <a:ext cx="12617280" cy="500040"/>
            <a:chOff x="-136440" y="6373800"/>
            <a:chExt cx="12617280" cy="500040"/>
          </a:xfrm>
        </p:grpSpPr>
        <p:sp>
          <p:nvSpPr>
            <p:cNvPr id="460" name="Freeform 9"/>
            <p:cNvSpPr/>
            <p:nvPr/>
          </p:nvSpPr>
          <p:spPr>
            <a:xfrm>
              <a:off x="372960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"/>
            <p:cNvSpPr/>
            <p:nvPr/>
          </p:nvSpPr>
          <p:spPr>
            <a:xfrm flipH="1">
              <a:off x="236952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 flipH="1">
              <a:off x="110628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>
              <a:off x="-1364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483336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609948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73076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9"/>
            <p:cNvSpPr/>
            <p:nvPr/>
          </p:nvSpPr>
          <p:spPr>
            <a:xfrm>
              <a:off x="84920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>
              <a:off x="96764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1081692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1111572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圆角右箭头 22"/>
          <p:cNvSpPr/>
          <p:nvPr/>
        </p:nvSpPr>
        <p:spPr>
          <a:xfrm rot="10800000">
            <a:off x="4834080" y="-2698920"/>
            <a:ext cx="70293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792"/>
                </a:lnTo>
                <a:lnTo>
                  <a:pt x="12427" y="4792"/>
                </a:lnTo>
                <a:cubicBezTo>
                  <a:pt x="5564" y="4792"/>
                  <a:pt x="0" y="8090"/>
                  <a:pt x="0" y="12158"/>
                </a:cubicBezTo>
                <a:lnTo>
                  <a:pt x="0" y="21600"/>
                </a:lnTo>
                <a:lnTo>
                  <a:pt x="2631" y="21600"/>
                </a:lnTo>
                <a:lnTo>
                  <a:pt x="2631" y="12158"/>
                </a:lnTo>
                <a:cubicBezTo>
                  <a:pt x="2631" y="9511"/>
                  <a:pt x="7017" y="7366"/>
                  <a:pt x="12427" y="7366"/>
                </a:cubicBezTo>
                <a:lnTo>
                  <a:pt x="21600" y="7366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右箭头 23"/>
          <p:cNvSpPr/>
          <p:nvPr/>
        </p:nvSpPr>
        <p:spPr>
          <a:xfrm flipH="1" flipV="1" rot="10800000">
            <a:off x="3881520" y="-2698920"/>
            <a:ext cx="70293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792"/>
                </a:lnTo>
                <a:lnTo>
                  <a:pt x="12427" y="4792"/>
                </a:lnTo>
                <a:cubicBezTo>
                  <a:pt x="5564" y="4792"/>
                  <a:pt x="0" y="8090"/>
                  <a:pt x="0" y="12158"/>
                </a:cubicBezTo>
                <a:lnTo>
                  <a:pt x="0" y="21600"/>
                </a:lnTo>
                <a:lnTo>
                  <a:pt x="2631" y="21600"/>
                </a:lnTo>
                <a:lnTo>
                  <a:pt x="2631" y="12158"/>
                </a:lnTo>
                <a:cubicBezTo>
                  <a:pt x="2631" y="9511"/>
                  <a:pt x="7017" y="7366"/>
                  <a:pt x="12427" y="7366"/>
                </a:cubicBezTo>
                <a:lnTo>
                  <a:pt x="21600" y="7366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24"/>
          <p:cNvSpPr/>
          <p:nvPr/>
        </p:nvSpPr>
        <p:spPr>
          <a:xfrm>
            <a:off x="3635280" y="3247920"/>
            <a:ext cx="893880" cy="77004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5"/>
          <p:cNvSpPr/>
          <p:nvPr/>
        </p:nvSpPr>
        <p:spPr>
          <a:xfrm>
            <a:off x="8416080" y="2135160"/>
            <a:ext cx="2009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无奈地，我埋葬了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方正兰亭黑简体"/>
              </a:rPr>
              <a:t>我的广告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26"/>
          <p:cNvGrpSpPr/>
          <p:nvPr/>
        </p:nvGrpSpPr>
        <p:grpSpPr>
          <a:xfrm>
            <a:off x="4770360" y="390600"/>
            <a:ext cx="5965920" cy="496800"/>
            <a:chOff x="4770360" y="390600"/>
            <a:chExt cx="5965920" cy="496800"/>
          </a:xfrm>
        </p:grpSpPr>
        <p:sp>
          <p:nvSpPr>
            <p:cNvPr id="476" name="矩形 27"/>
            <p:cNvSpPr/>
            <p:nvPr/>
          </p:nvSpPr>
          <p:spPr>
            <a:xfrm rot="5400000">
              <a:off x="1045728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28"/>
            <p:cNvSpPr/>
            <p:nvPr/>
          </p:nvSpPr>
          <p:spPr>
            <a:xfrm rot="5400000">
              <a:off x="926460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29"/>
            <p:cNvSpPr/>
            <p:nvPr/>
          </p:nvSpPr>
          <p:spPr>
            <a:xfrm rot="5400000">
              <a:off x="807264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30"/>
            <p:cNvSpPr/>
            <p:nvPr/>
          </p:nvSpPr>
          <p:spPr>
            <a:xfrm rot="5400000">
              <a:off x="688032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1"/>
            <p:cNvSpPr/>
            <p:nvPr/>
          </p:nvSpPr>
          <p:spPr>
            <a:xfrm rot="5400000">
              <a:off x="568800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2"/>
            <p:cNvSpPr/>
            <p:nvPr/>
          </p:nvSpPr>
          <p:spPr>
            <a:xfrm rot="5400000">
              <a:off x="455220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41"/>
          <p:cNvGrpSpPr/>
          <p:nvPr/>
        </p:nvGrpSpPr>
        <p:grpSpPr>
          <a:xfrm>
            <a:off x="3833280" y="1162080"/>
            <a:ext cx="497160" cy="2387520"/>
            <a:chOff x="3833280" y="1162080"/>
            <a:chExt cx="497160" cy="2387520"/>
          </a:xfrm>
        </p:grpSpPr>
        <p:sp>
          <p:nvSpPr>
            <p:cNvPr id="483" name="矩形 45"/>
            <p:cNvSpPr/>
            <p:nvPr/>
          </p:nvSpPr>
          <p:spPr>
            <a:xfrm rot="10800000">
              <a:off x="3833280" y="3488760"/>
              <a:ext cx="4971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46"/>
            <p:cNvSpPr/>
            <p:nvPr/>
          </p:nvSpPr>
          <p:spPr>
            <a:xfrm rot="10800000">
              <a:off x="3833280" y="2297160"/>
              <a:ext cx="4971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47"/>
            <p:cNvSpPr/>
            <p:nvPr/>
          </p:nvSpPr>
          <p:spPr>
            <a:xfrm rot="10800000">
              <a:off x="3833280" y="1162080"/>
              <a:ext cx="4971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直接连接符 36"/>
          <p:cNvSpPr/>
          <p:nvPr/>
        </p:nvSpPr>
        <p:spPr>
          <a:xfrm flipH="1">
            <a:off x="3468240" y="4067280"/>
            <a:ext cx="306360" cy="46512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48"/>
          <p:cNvSpPr/>
          <p:nvPr/>
        </p:nvSpPr>
        <p:spPr>
          <a:xfrm>
            <a:off x="4435560" y="4079880"/>
            <a:ext cx="276120" cy="47628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49"/>
          <p:cNvSpPr/>
          <p:nvPr/>
        </p:nvSpPr>
        <p:spPr>
          <a:xfrm flipH="1">
            <a:off x="3727080" y="4068720"/>
            <a:ext cx="142920" cy="3366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50"/>
          <p:cNvSpPr/>
          <p:nvPr/>
        </p:nvSpPr>
        <p:spPr>
          <a:xfrm>
            <a:off x="4340160" y="4083120"/>
            <a:ext cx="115920" cy="3348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53"/>
          <p:cNvSpPr/>
          <p:nvPr/>
        </p:nvSpPr>
        <p:spPr>
          <a:xfrm flipH="1">
            <a:off x="3904920" y="4091040"/>
            <a:ext cx="50760" cy="195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55"/>
          <p:cNvSpPr/>
          <p:nvPr/>
        </p:nvSpPr>
        <p:spPr>
          <a:xfrm>
            <a:off x="4260960" y="4083120"/>
            <a:ext cx="52200" cy="2347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7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5"/>
          <p:cNvSpPr/>
          <p:nvPr/>
        </p:nvSpPr>
        <p:spPr>
          <a:xfrm flipH="1" rot="7716000">
            <a:off x="5186880" y="-860040"/>
            <a:ext cx="1841400" cy="4281480"/>
          </a:xfrm>
          <a:custGeom>
            <a:avLst/>
            <a:gdLst/>
            <a:ahLst/>
            <a:rect l="l" t="t" r="r" b="b"/>
            <a:pathLst>
              <a:path w="2893" h="6400">
                <a:moveTo>
                  <a:pt x="1293" y="48"/>
                </a:moveTo>
                <a:cubicBezTo>
                  <a:pt x="1264" y="97"/>
                  <a:pt x="1204" y="177"/>
                  <a:pt x="1199" y="219"/>
                </a:cubicBezTo>
                <a:cubicBezTo>
                  <a:pt x="1193" y="233"/>
                  <a:pt x="1170" y="268"/>
                  <a:pt x="1140" y="308"/>
                </a:cubicBezTo>
                <a:cubicBezTo>
                  <a:pt x="1140" y="268"/>
                  <a:pt x="1149" y="148"/>
                  <a:pt x="1143" y="108"/>
                </a:cubicBezTo>
                <a:cubicBezTo>
                  <a:pt x="1123" y="89"/>
                  <a:pt x="1142" y="33"/>
                  <a:pt x="1159" y="0"/>
                </a:cubicBezTo>
                <a:cubicBezTo>
                  <a:pt x="1149" y="0"/>
                  <a:pt x="1149" y="0"/>
                  <a:pt x="1149" y="0"/>
                </a:cubicBezTo>
                <a:cubicBezTo>
                  <a:pt x="1125" y="42"/>
                  <a:pt x="1109" y="108"/>
                  <a:pt x="1127" y="127"/>
                </a:cubicBezTo>
                <a:cubicBezTo>
                  <a:pt x="1129" y="154"/>
                  <a:pt x="1118" y="293"/>
                  <a:pt x="1105" y="352"/>
                </a:cubicBezTo>
                <a:cubicBezTo>
                  <a:pt x="1071" y="393"/>
                  <a:pt x="1034" y="433"/>
                  <a:pt x="1005" y="456"/>
                </a:cubicBezTo>
                <a:cubicBezTo>
                  <a:pt x="1007" y="327"/>
                  <a:pt x="996" y="217"/>
                  <a:pt x="1006" y="121"/>
                </a:cubicBezTo>
                <a:cubicBezTo>
                  <a:pt x="1009" y="76"/>
                  <a:pt x="1018" y="35"/>
                  <a:pt x="1029" y="0"/>
                </a:cubicBezTo>
                <a:cubicBezTo>
                  <a:pt x="1021" y="0"/>
                  <a:pt x="1021" y="0"/>
                  <a:pt x="1021" y="0"/>
                </a:cubicBezTo>
                <a:cubicBezTo>
                  <a:pt x="1013" y="23"/>
                  <a:pt x="1005" y="50"/>
                  <a:pt x="999" y="79"/>
                </a:cubicBezTo>
                <a:cubicBezTo>
                  <a:pt x="983" y="148"/>
                  <a:pt x="978" y="227"/>
                  <a:pt x="974" y="315"/>
                </a:cubicBezTo>
                <a:cubicBezTo>
                  <a:pt x="949" y="295"/>
                  <a:pt x="879" y="217"/>
                  <a:pt x="856" y="194"/>
                </a:cubicBezTo>
                <a:cubicBezTo>
                  <a:pt x="820" y="196"/>
                  <a:pt x="824" y="132"/>
                  <a:pt x="832" y="106"/>
                </a:cubicBezTo>
                <a:cubicBezTo>
                  <a:pt x="836" y="83"/>
                  <a:pt x="830" y="32"/>
                  <a:pt x="830" y="28"/>
                </a:cubicBezTo>
                <a:cubicBezTo>
                  <a:pt x="829" y="31"/>
                  <a:pt x="823" y="74"/>
                  <a:pt x="823" y="107"/>
                </a:cubicBezTo>
                <a:cubicBezTo>
                  <a:pt x="805" y="146"/>
                  <a:pt x="815" y="216"/>
                  <a:pt x="850" y="214"/>
                </a:cubicBezTo>
                <a:cubicBezTo>
                  <a:pt x="862" y="231"/>
                  <a:pt x="940" y="316"/>
                  <a:pt x="972" y="357"/>
                </a:cubicBezTo>
                <a:cubicBezTo>
                  <a:pt x="970" y="409"/>
                  <a:pt x="967" y="463"/>
                  <a:pt x="961" y="521"/>
                </a:cubicBezTo>
                <a:cubicBezTo>
                  <a:pt x="952" y="609"/>
                  <a:pt x="935" y="705"/>
                  <a:pt x="899" y="807"/>
                </a:cubicBezTo>
                <a:cubicBezTo>
                  <a:pt x="888" y="841"/>
                  <a:pt x="872" y="876"/>
                  <a:pt x="855" y="912"/>
                </a:cubicBezTo>
                <a:cubicBezTo>
                  <a:pt x="830" y="870"/>
                  <a:pt x="774" y="765"/>
                  <a:pt x="730" y="692"/>
                </a:cubicBezTo>
                <a:cubicBezTo>
                  <a:pt x="730" y="692"/>
                  <a:pt x="730" y="692"/>
                  <a:pt x="730" y="692"/>
                </a:cubicBezTo>
                <a:cubicBezTo>
                  <a:pt x="728" y="687"/>
                  <a:pt x="865" y="485"/>
                  <a:pt x="852" y="421"/>
                </a:cubicBezTo>
                <a:cubicBezTo>
                  <a:pt x="835" y="395"/>
                  <a:pt x="849" y="329"/>
                  <a:pt x="840" y="298"/>
                </a:cubicBezTo>
                <a:cubicBezTo>
                  <a:pt x="836" y="267"/>
                  <a:pt x="779" y="242"/>
                  <a:pt x="780" y="242"/>
                </a:cubicBezTo>
                <a:cubicBezTo>
                  <a:pt x="779" y="243"/>
                  <a:pt x="816" y="268"/>
                  <a:pt x="830" y="302"/>
                </a:cubicBezTo>
                <a:cubicBezTo>
                  <a:pt x="836" y="344"/>
                  <a:pt x="823" y="412"/>
                  <a:pt x="835" y="440"/>
                </a:cubicBezTo>
                <a:cubicBezTo>
                  <a:pt x="841" y="470"/>
                  <a:pt x="764" y="610"/>
                  <a:pt x="717" y="671"/>
                </a:cubicBezTo>
                <a:cubicBezTo>
                  <a:pt x="705" y="653"/>
                  <a:pt x="695" y="638"/>
                  <a:pt x="687" y="628"/>
                </a:cubicBezTo>
                <a:cubicBezTo>
                  <a:pt x="634" y="616"/>
                  <a:pt x="627" y="508"/>
                  <a:pt x="628" y="459"/>
                </a:cubicBezTo>
                <a:cubicBezTo>
                  <a:pt x="623" y="419"/>
                  <a:pt x="598" y="333"/>
                  <a:pt x="598" y="322"/>
                </a:cubicBezTo>
                <a:cubicBezTo>
                  <a:pt x="597" y="332"/>
                  <a:pt x="600" y="408"/>
                  <a:pt x="615" y="463"/>
                </a:cubicBezTo>
                <a:cubicBezTo>
                  <a:pt x="605" y="532"/>
                  <a:pt x="628" y="649"/>
                  <a:pt x="679" y="661"/>
                </a:cubicBezTo>
                <a:cubicBezTo>
                  <a:pt x="691" y="680"/>
                  <a:pt x="725" y="739"/>
                  <a:pt x="759" y="802"/>
                </a:cubicBezTo>
                <a:cubicBezTo>
                  <a:pt x="739" y="800"/>
                  <a:pt x="711" y="796"/>
                  <a:pt x="683" y="784"/>
                </a:cubicBezTo>
                <a:cubicBezTo>
                  <a:pt x="631" y="766"/>
                  <a:pt x="581" y="733"/>
                  <a:pt x="556" y="723"/>
                </a:cubicBezTo>
                <a:cubicBezTo>
                  <a:pt x="513" y="729"/>
                  <a:pt x="484" y="668"/>
                  <a:pt x="473" y="639"/>
                </a:cubicBezTo>
                <a:cubicBezTo>
                  <a:pt x="459" y="617"/>
                  <a:pt x="421" y="575"/>
                  <a:pt x="418" y="567"/>
                </a:cubicBezTo>
                <a:cubicBezTo>
                  <a:pt x="420" y="574"/>
                  <a:pt x="440" y="617"/>
                  <a:pt x="463" y="645"/>
                </a:cubicBezTo>
                <a:cubicBezTo>
                  <a:pt x="472" y="687"/>
                  <a:pt x="516" y="751"/>
                  <a:pt x="558" y="744"/>
                </a:cubicBezTo>
                <a:cubicBezTo>
                  <a:pt x="581" y="762"/>
                  <a:pt x="707" y="829"/>
                  <a:pt x="774" y="832"/>
                </a:cubicBezTo>
                <a:cubicBezTo>
                  <a:pt x="799" y="880"/>
                  <a:pt x="822" y="929"/>
                  <a:pt x="830" y="961"/>
                </a:cubicBezTo>
                <a:cubicBezTo>
                  <a:pt x="832" y="960"/>
                  <a:pt x="833" y="958"/>
                  <a:pt x="835" y="957"/>
                </a:cubicBezTo>
                <a:cubicBezTo>
                  <a:pt x="811" y="1012"/>
                  <a:pt x="789" y="1069"/>
                  <a:pt x="786" y="1125"/>
                </a:cubicBezTo>
                <a:cubicBezTo>
                  <a:pt x="768" y="1317"/>
                  <a:pt x="817" y="1483"/>
                  <a:pt x="852" y="1649"/>
                </a:cubicBezTo>
                <a:cubicBezTo>
                  <a:pt x="804" y="1613"/>
                  <a:pt x="743" y="1557"/>
                  <a:pt x="688" y="1484"/>
                </a:cubicBezTo>
                <a:cubicBezTo>
                  <a:pt x="586" y="1361"/>
                  <a:pt x="478" y="1217"/>
                  <a:pt x="400" y="1153"/>
                </a:cubicBezTo>
                <a:cubicBezTo>
                  <a:pt x="406" y="1114"/>
                  <a:pt x="411" y="1056"/>
                  <a:pt x="392" y="1005"/>
                </a:cubicBezTo>
                <a:cubicBezTo>
                  <a:pt x="388" y="990"/>
                  <a:pt x="383" y="976"/>
                  <a:pt x="378" y="962"/>
                </a:cubicBezTo>
                <a:cubicBezTo>
                  <a:pt x="391" y="929"/>
                  <a:pt x="419" y="856"/>
                  <a:pt x="418" y="803"/>
                </a:cubicBezTo>
                <a:cubicBezTo>
                  <a:pt x="422" y="734"/>
                  <a:pt x="406" y="665"/>
                  <a:pt x="392" y="641"/>
                </a:cubicBezTo>
                <a:cubicBezTo>
                  <a:pt x="360" y="625"/>
                  <a:pt x="357" y="550"/>
                  <a:pt x="348" y="517"/>
                </a:cubicBezTo>
                <a:cubicBezTo>
                  <a:pt x="342" y="483"/>
                  <a:pt x="283" y="448"/>
                  <a:pt x="283" y="450"/>
                </a:cubicBezTo>
                <a:cubicBezTo>
                  <a:pt x="283" y="450"/>
                  <a:pt x="321" y="482"/>
                  <a:pt x="338" y="522"/>
                </a:cubicBezTo>
                <a:cubicBezTo>
                  <a:pt x="344" y="567"/>
                  <a:pt x="353" y="647"/>
                  <a:pt x="383" y="665"/>
                </a:cubicBezTo>
                <a:cubicBezTo>
                  <a:pt x="399" y="686"/>
                  <a:pt x="418" y="860"/>
                  <a:pt x="361" y="923"/>
                </a:cubicBezTo>
                <a:cubicBezTo>
                  <a:pt x="335" y="870"/>
                  <a:pt x="302" y="829"/>
                  <a:pt x="279" y="812"/>
                </a:cubicBezTo>
                <a:cubicBezTo>
                  <a:pt x="276" y="812"/>
                  <a:pt x="273" y="811"/>
                  <a:pt x="269" y="810"/>
                </a:cubicBezTo>
                <a:cubicBezTo>
                  <a:pt x="261" y="755"/>
                  <a:pt x="232" y="597"/>
                  <a:pt x="199" y="570"/>
                </a:cubicBezTo>
                <a:cubicBezTo>
                  <a:pt x="165" y="563"/>
                  <a:pt x="158" y="499"/>
                  <a:pt x="148" y="472"/>
                </a:cubicBezTo>
                <a:cubicBezTo>
                  <a:pt x="140" y="444"/>
                  <a:pt x="82" y="422"/>
                  <a:pt x="81" y="426"/>
                </a:cubicBezTo>
                <a:cubicBezTo>
                  <a:pt x="82" y="424"/>
                  <a:pt x="120" y="446"/>
                  <a:pt x="139" y="478"/>
                </a:cubicBezTo>
                <a:cubicBezTo>
                  <a:pt x="146" y="516"/>
                  <a:pt x="160" y="584"/>
                  <a:pt x="192" y="592"/>
                </a:cubicBezTo>
                <a:cubicBezTo>
                  <a:pt x="208" y="610"/>
                  <a:pt x="243" y="726"/>
                  <a:pt x="237" y="792"/>
                </a:cubicBezTo>
                <a:cubicBezTo>
                  <a:pt x="202" y="762"/>
                  <a:pt x="172" y="708"/>
                  <a:pt x="148" y="684"/>
                </a:cubicBezTo>
                <a:cubicBezTo>
                  <a:pt x="119" y="648"/>
                  <a:pt x="7" y="641"/>
                  <a:pt x="8" y="643"/>
                </a:cubicBezTo>
                <a:cubicBezTo>
                  <a:pt x="7" y="643"/>
                  <a:pt x="87" y="657"/>
                  <a:pt x="136" y="694"/>
                </a:cubicBezTo>
                <a:cubicBezTo>
                  <a:pt x="171" y="744"/>
                  <a:pt x="224" y="837"/>
                  <a:pt x="277" y="846"/>
                </a:cubicBezTo>
                <a:cubicBezTo>
                  <a:pt x="293" y="861"/>
                  <a:pt x="332" y="916"/>
                  <a:pt x="356" y="987"/>
                </a:cubicBezTo>
                <a:cubicBezTo>
                  <a:pt x="374" y="1032"/>
                  <a:pt x="379" y="1087"/>
                  <a:pt x="373" y="1133"/>
                </a:cubicBezTo>
                <a:cubicBezTo>
                  <a:pt x="372" y="1133"/>
                  <a:pt x="372" y="1132"/>
                  <a:pt x="372" y="1132"/>
                </a:cubicBezTo>
                <a:cubicBezTo>
                  <a:pt x="307" y="1130"/>
                  <a:pt x="257" y="1076"/>
                  <a:pt x="191" y="1040"/>
                </a:cubicBezTo>
                <a:cubicBezTo>
                  <a:pt x="141" y="1012"/>
                  <a:pt x="85" y="989"/>
                  <a:pt x="39" y="973"/>
                </a:cubicBezTo>
                <a:cubicBezTo>
                  <a:pt x="38" y="960"/>
                  <a:pt x="43" y="926"/>
                  <a:pt x="36" y="892"/>
                </a:cubicBezTo>
                <a:cubicBezTo>
                  <a:pt x="31" y="863"/>
                  <a:pt x="16" y="837"/>
                  <a:pt x="0" y="822"/>
                </a:cubicBezTo>
                <a:cubicBezTo>
                  <a:pt x="0" y="853"/>
                  <a:pt x="0" y="853"/>
                  <a:pt x="0" y="853"/>
                </a:cubicBezTo>
                <a:cubicBezTo>
                  <a:pt x="15" y="882"/>
                  <a:pt x="25" y="930"/>
                  <a:pt x="18" y="966"/>
                </a:cubicBezTo>
                <a:cubicBezTo>
                  <a:pt x="11" y="964"/>
                  <a:pt x="5" y="962"/>
                  <a:pt x="0" y="960"/>
                </a:cubicBezTo>
                <a:cubicBezTo>
                  <a:pt x="0" y="997"/>
                  <a:pt x="0" y="997"/>
                  <a:pt x="0" y="997"/>
                </a:cubicBezTo>
                <a:cubicBezTo>
                  <a:pt x="58" y="1023"/>
                  <a:pt x="135" y="1054"/>
                  <a:pt x="191" y="1094"/>
                </a:cubicBezTo>
                <a:cubicBezTo>
                  <a:pt x="201" y="1101"/>
                  <a:pt x="211" y="1108"/>
                  <a:pt x="220" y="1115"/>
                </a:cubicBezTo>
                <a:cubicBezTo>
                  <a:pt x="170" y="1138"/>
                  <a:pt x="68" y="1176"/>
                  <a:pt x="3" y="1198"/>
                </a:cubicBezTo>
                <a:cubicBezTo>
                  <a:pt x="2" y="1196"/>
                  <a:pt x="1" y="1194"/>
                  <a:pt x="0" y="1193"/>
                </a:cubicBezTo>
                <a:cubicBezTo>
                  <a:pt x="0" y="1218"/>
                  <a:pt x="0" y="1218"/>
                  <a:pt x="0" y="1218"/>
                </a:cubicBezTo>
                <a:cubicBezTo>
                  <a:pt x="19" y="1249"/>
                  <a:pt x="43" y="1284"/>
                  <a:pt x="70" y="1287"/>
                </a:cubicBezTo>
                <a:cubicBezTo>
                  <a:pt x="93" y="1302"/>
                  <a:pt x="154" y="1416"/>
                  <a:pt x="169" y="1477"/>
                </a:cubicBezTo>
                <a:cubicBezTo>
                  <a:pt x="121" y="1484"/>
                  <a:pt x="80" y="1488"/>
                  <a:pt x="54" y="1489"/>
                </a:cubicBezTo>
                <a:cubicBezTo>
                  <a:pt x="37" y="1498"/>
                  <a:pt x="19" y="1501"/>
                  <a:pt x="0" y="1501"/>
                </a:cubicBezTo>
                <a:cubicBezTo>
                  <a:pt x="0" y="1523"/>
                  <a:pt x="0" y="1523"/>
                  <a:pt x="0" y="1523"/>
                </a:cubicBezTo>
                <a:cubicBezTo>
                  <a:pt x="29" y="1525"/>
                  <a:pt x="56" y="1522"/>
                  <a:pt x="78" y="1510"/>
                </a:cubicBezTo>
                <a:cubicBezTo>
                  <a:pt x="104" y="1509"/>
                  <a:pt x="174" y="1505"/>
                  <a:pt x="256" y="1487"/>
                </a:cubicBezTo>
                <a:cubicBezTo>
                  <a:pt x="242" y="1508"/>
                  <a:pt x="212" y="1545"/>
                  <a:pt x="169" y="1577"/>
                </a:cubicBezTo>
                <a:cubicBezTo>
                  <a:pt x="108" y="1627"/>
                  <a:pt x="33" y="1663"/>
                  <a:pt x="0" y="1682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8" y="1699"/>
                  <a:pt x="14" y="1693"/>
                  <a:pt x="20" y="1687"/>
                </a:cubicBezTo>
                <a:cubicBezTo>
                  <a:pt x="58" y="1674"/>
                  <a:pt x="241" y="1563"/>
                  <a:pt x="288" y="1480"/>
                </a:cubicBezTo>
                <a:cubicBezTo>
                  <a:pt x="293" y="1478"/>
                  <a:pt x="299" y="1477"/>
                  <a:pt x="304" y="1476"/>
                </a:cubicBezTo>
                <a:cubicBezTo>
                  <a:pt x="388" y="1455"/>
                  <a:pt x="477" y="1423"/>
                  <a:pt x="539" y="1402"/>
                </a:cubicBezTo>
                <a:cubicBezTo>
                  <a:pt x="642" y="1536"/>
                  <a:pt x="767" y="1699"/>
                  <a:pt x="864" y="1768"/>
                </a:cubicBezTo>
                <a:cubicBezTo>
                  <a:pt x="868" y="1943"/>
                  <a:pt x="869" y="2165"/>
                  <a:pt x="750" y="2364"/>
                </a:cubicBezTo>
                <a:cubicBezTo>
                  <a:pt x="740" y="2380"/>
                  <a:pt x="729" y="2395"/>
                  <a:pt x="718" y="2411"/>
                </a:cubicBezTo>
                <a:cubicBezTo>
                  <a:pt x="650" y="2379"/>
                  <a:pt x="543" y="2321"/>
                  <a:pt x="442" y="2269"/>
                </a:cubicBezTo>
                <a:cubicBezTo>
                  <a:pt x="454" y="2236"/>
                  <a:pt x="469" y="2186"/>
                  <a:pt x="470" y="2135"/>
                </a:cubicBezTo>
                <a:cubicBezTo>
                  <a:pt x="471" y="2117"/>
                  <a:pt x="470" y="2100"/>
                  <a:pt x="469" y="2083"/>
                </a:cubicBezTo>
                <a:cubicBezTo>
                  <a:pt x="489" y="2036"/>
                  <a:pt x="533" y="1867"/>
                  <a:pt x="513" y="1823"/>
                </a:cubicBezTo>
                <a:cubicBezTo>
                  <a:pt x="489" y="1803"/>
                  <a:pt x="502" y="1735"/>
                  <a:pt x="497" y="1704"/>
                </a:cubicBezTo>
                <a:cubicBezTo>
                  <a:pt x="496" y="1671"/>
                  <a:pt x="441" y="1644"/>
                  <a:pt x="442" y="1646"/>
                </a:cubicBezTo>
                <a:cubicBezTo>
                  <a:pt x="441" y="1646"/>
                  <a:pt x="478" y="1670"/>
                  <a:pt x="488" y="1708"/>
                </a:cubicBezTo>
                <a:cubicBezTo>
                  <a:pt x="488" y="1749"/>
                  <a:pt x="477" y="1823"/>
                  <a:pt x="499" y="1844"/>
                </a:cubicBezTo>
                <a:cubicBezTo>
                  <a:pt x="505" y="1864"/>
                  <a:pt x="491" y="1976"/>
                  <a:pt x="462" y="2044"/>
                </a:cubicBezTo>
                <a:cubicBezTo>
                  <a:pt x="450" y="1995"/>
                  <a:pt x="428" y="1958"/>
                  <a:pt x="408" y="1946"/>
                </a:cubicBezTo>
                <a:cubicBezTo>
                  <a:pt x="346" y="1953"/>
                  <a:pt x="327" y="1869"/>
                  <a:pt x="297" y="1839"/>
                </a:cubicBezTo>
                <a:cubicBezTo>
                  <a:pt x="273" y="1807"/>
                  <a:pt x="168" y="1824"/>
                  <a:pt x="170" y="1823"/>
                </a:cubicBezTo>
                <a:cubicBezTo>
                  <a:pt x="169" y="1825"/>
                  <a:pt x="238" y="1829"/>
                  <a:pt x="282" y="1855"/>
                </a:cubicBezTo>
                <a:cubicBezTo>
                  <a:pt x="299" y="1887"/>
                  <a:pt x="316" y="1933"/>
                  <a:pt x="342" y="1960"/>
                </a:cubicBezTo>
                <a:cubicBezTo>
                  <a:pt x="291" y="1962"/>
                  <a:pt x="207" y="1955"/>
                  <a:pt x="177" y="1949"/>
                </a:cubicBezTo>
                <a:cubicBezTo>
                  <a:pt x="141" y="1968"/>
                  <a:pt x="105" y="1929"/>
                  <a:pt x="91" y="1912"/>
                </a:cubicBezTo>
                <a:cubicBezTo>
                  <a:pt x="76" y="1898"/>
                  <a:pt x="29" y="1885"/>
                  <a:pt x="25" y="1881"/>
                </a:cubicBezTo>
                <a:cubicBezTo>
                  <a:pt x="28" y="1885"/>
                  <a:pt x="58" y="1906"/>
                  <a:pt x="83" y="1920"/>
                </a:cubicBezTo>
                <a:cubicBezTo>
                  <a:pt x="98" y="1948"/>
                  <a:pt x="146" y="1985"/>
                  <a:pt x="182" y="1966"/>
                </a:cubicBezTo>
                <a:cubicBezTo>
                  <a:pt x="206" y="1971"/>
                  <a:pt x="321" y="1990"/>
                  <a:pt x="377" y="1982"/>
                </a:cubicBezTo>
                <a:cubicBezTo>
                  <a:pt x="382" y="1983"/>
                  <a:pt x="387" y="1984"/>
                  <a:pt x="393" y="1984"/>
                </a:cubicBezTo>
                <a:cubicBezTo>
                  <a:pt x="407" y="1995"/>
                  <a:pt x="433" y="2047"/>
                  <a:pt x="433" y="2116"/>
                </a:cubicBezTo>
                <a:cubicBezTo>
                  <a:pt x="434" y="2161"/>
                  <a:pt x="422" y="2212"/>
                  <a:pt x="406" y="2251"/>
                </a:cubicBezTo>
                <a:cubicBezTo>
                  <a:pt x="337" y="2216"/>
                  <a:pt x="274" y="2187"/>
                  <a:pt x="235" y="2176"/>
                </a:cubicBezTo>
                <a:cubicBezTo>
                  <a:pt x="121" y="2213"/>
                  <a:pt x="39" y="2067"/>
                  <a:pt x="1" y="2004"/>
                </a:cubicBezTo>
                <a:cubicBezTo>
                  <a:pt x="1" y="2003"/>
                  <a:pt x="0" y="2002"/>
                  <a:pt x="0" y="2002"/>
                </a:cubicBezTo>
                <a:cubicBezTo>
                  <a:pt x="0" y="2078"/>
                  <a:pt x="0" y="2078"/>
                  <a:pt x="0" y="2078"/>
                </a:cubicBezTo>
                <a:cubicBezTo>
                  <a:pt x="42" y="2154"/>
                  <a:pt x="119" y="2234"/>
                  <a:pt x="197" y="2239"/>
                </a:cubicBezTo>
                <a:cubicBezTo>
                  <a:pt x="173" y="2252"/>
                  <a:pt x="139" y="2265"/>
                  <a:pt x="99" y="2268"/>
                </a:cubicBezTo>
                <a:cubicBezTo>
                  <a:pt x="65" y="2273"/>
                  <a:pt x="31" y="2274"/>
                  <a:pt x="0" y="2273"/>
                </a:cubicBezTo>
                <a:cubicBezTo>
                  <a:pt x="0" y="2298"/>
                  <a:pt x="0" y="2298"/>
                  <a:pt x="0" y="2298"/>
                </a:cubicBezTo>
                <a:cubicBezTo>
                  <a:pt x="78" y="2300"/>
                  <a:pt x="188" y="2293"/>
                  <a:pt x="251" y="2242"/>
                </a:cubicBezTo>
                <a:cubicBezTo>
                  <a:pt x="250" y="2241"/>
                  <a:pt x="249" y="2240"/>
                  <a:pt x="249" y="2239"/>
                </a:cubicBezTo>
                <a:cubicBezTo>
                  <a:pt x="321" y="2271"/>
                  <a:pt x="539" y="2392"/>
                  <a:pt x="669" y="2476"/>
                </a:cubicBezTo>
                <a:cubicBezTo>
                  <a:pt x="652" y="2499"/>
                  <a:pt x="635" y="2523"/>
                  <a:pt x="620" y="2547"/>
                </a:cubicBezTo>
                <a:cubicBezTo>
                  <a:pt x="573" y="2620"/>
                  <a:pt x="535" y="2695"/>
                  <a:pt x="502" y="2770"/>
                </a:cubicBezTo>
                <a:cubicBezTo>
                  <a:pt x="437" y="2920"/>
                  <a:pt x="392" y="3070"/>
                  <a:pt x="360" y="3214"/>
                </a:cubicBezTo>
                <a:cubicBezTo>
                  <a:pt x="295" y="3504"/>
                  <a:pt x="276" y="3774"/>
                  <a:pt x="285" y="4003"/>
                </a:cubicBezTo>
                <a:cubicBezTo>
                  <a:pt x="287" y="4031"/>
                  <a:pt x="288" y="4059"/>
                  <a:pt x="291" y="4087"/>
                </a:cubicBezTo>
                <a:cubicBezTo>
                  <a:pt x="293" y="4115"/>
                  <a:pt x="293" y="4115"/>
                  <a:pt x="293" y="4115"/>
                </a:cubicBezTo>
                <a:cubicBezTo>
                  <a:pt x="270" y="4169"/>
                  <a:pt x="252" y="4222"/>
                  <a:pt x="237" y="4272"/>
                </a:cubicBezTo>
                <a:cubicBezTo>
                  <a:pt x="231" y="4295"/>
                  <a:pt x="225" y="4317"/>
                  <a:pt x="220" y="4339"/>
                </a:cubicBezTo>
                <a:cubicBezTo>
                  <a:pt x="196" y="4313"/>
                  <a:pt x="171" y="4277"/>
                  <a:pt x="153" y="4231"/>
                </a:cubicBezTo>
                <a:cubicBezTo>
                  <a:pt x="114" y="4147"/>
                  <a:pt x="88" y="4043"/>
                  <a:pt x="62" y="3974"/>
                </a:cubicBezTo>
                <a:cubicBezTo>
                  <a:pt x="73" y="3956"/>
                  <a:pt x="114" y="3896"/>
                  <a:pt x="112" y="3836"/>
                </a:cubicBezTo>
                <a:cubicBezTo>
                  <a:pt x="116" y="3765"/>
                  <a:pt x="100" y="3700"/>
                  <a:pt x="87" y="3675"/>
                </a:cubicBezTo>
                <a:cubicBezTo>
                  <a:pt x="46" y="3662"/>
                  <a:pt x="63" y="3579"/>
                  <a:pt x="70" y="3542"/>
                </a:cubicBezTo>
                <a:cubicBezTo>
                  <a:pt x="73" y="3509"/>
                  <a:pt x="51" y="3442"/>
                  <a:pt x="54" y="3440"/>
                </a:cubicBezTo>
                <a:cubicBezTo>
                  <a:pt x="52" y="3441"/>
                  <a:pt x="52" y="3500"/>
                  <a:pt x="57" y="3545"/>
                </a:cubicBezTo>
                <a:cubicBezTo>
                  <a:pt x="39" y="3597"/>
                  <a:pt x="33" y="3688"/>
                  <a:pt x="71" y="3701"/>
                </a:cubicBezTo>
                <a:cubicBezTo>
                  <a:pt x="84" y="3721"/>
                  <a:pt x="105" y="3882"/>
                  <a:pt x="50" y="3943"/>
                </a:cubicBezTo>
                <a:cubicBezTo>
                  <a:pt x="45" y="3933"/>
                  <a:pt x="41" y="3924"/>
                  <a:pt x="36" y="3917"/>
                </a:cubicBezTo>
                <a:cubicBezTo>
                  <a:pt x="21" y="3913"/>
                  <a:pt x="9" y="3904"/>
                  <a:pt x="0" y="3893"/>
                </a:cubicBezTo>
                <a:cubicBezTo>
                  <a:pt x="0" y="3974"/>
                  <a:pt x="0" y="3974"/>
                  <a:pt x="0" y="3974"/>
                </a:cubicBezTo>
                <a:cubicBezTo>
                  <a:pt x="1" y="3975"/>
                  <a:pt x="3" y="3976"/>
                  <a:pt x="4" y="3976"/>
                </a:cubicBezTo>
                <a:cubicBezTo>
                  <a:pt x="18" y="4003"/>
                  <a:pt x="37" y="4083"/>
                  <a:pt x="65" y="4173"/>
                </a:cubicBezTo>
                <a:cubicBezTo>
                  <a:pt x="47" y="4173"/>
                  <a:pt x="24" y="4171"/>
                  <a:pt x="0" y="4167"/>
                </a:cubicBezTo>
                <a:cubicBezTo>
                  <a:pt x="0" y="4198"/>
                  <a:pt x="0" y="4198"/>
                  <a:pt x="0" y="4198"/>
                </a:cubicBezTo>
                <a:cubicBezTo>
                  <a:pt x="28" y="4204"/>
                  <a:pt x="55" y="4208"/>
                  <a:pt x="77" y="4210"/>
                </a:cubicBezTo>
                <a:cubicBezTo>
                  <a:pt x="78" y="4214"/>
                  <a:pt x="80" y="4217"/>
                  <a:pt x="81" y="4221"/>
                </a:cubicBezTo>
                <a:cubicBezTo>
                  <a:pt x="108" y="4309"/>
                  <a:pt x="157" y="4389"/>
                  <a:pt x="201" y="4440"/>
                </a:cubicBezTo>
                <a:cubicBezTo>
                  <a:pt x="196" y="4480"/>
                  <a:pt x="194" y="4517"/>
                  <a:pt x="196" y="4550"/>
                </a:cubicBezTo>
                <a:cubicBezTo>
                  <a:pt x="157" y="4709"/>
                  <a:pt x="117" y="5027"/>
                  <a:pt x="198" y="5368"/>
                </a:cubicBezTo>
                <a:cubicBezTo>
                  <a:pt x="234" y="5540"/>
                  <a:pt x="293" y="5719"/>
                  <a:pt x="341" y="5915"/>
                </a:cubicBezTo>
                <a:cubicBezTo>
                  <a:pt x="375" y="6062"/>
                  <a:pt x="403" y="6224"/>
                  <a:pt x="390" y="6400"/>
                </a:cubicBezTo>
                <a:cubicBezTo>
                  <a:pt x="533" y="6400"/>
                  <a:pt x="533" y="6400"/>
                  <a:pt x="533" y="6400"/>
                </a:cubicBezTo>
                <a:cubicBezTo>
                  <a:pt x="542" y="6300"/>
                  <a:pt x="540" y="6205"/>
                  <a:pt x="531" y="6116"/>
                </a:cubicBezTo>
                <a:cubicBezTo>
                  <a:pt x="509" y="5929"/>
                  <a:pt x="463" y="5764"/>
                  <a:pt x="418" y="5610"/>
                </a:cubicBezTo>
                <a:cubicBezTo>
                  <a:pt x="456" y="5527"/>
                  <a:pt x="608" y="5277"/>
                  <a:pt x="682" y="5106"/>
                </a:cubicBezTo>
                <a:cubicBezTo>
                  <a:pt x="694" y="5092"/>
                  <a:pt x="762" y="5040"/>
                  <a:pt x="826" y="4970"/>
                </a:cubicBezTo>
                <a:cubicBezTo>
                  <a:pt x="900" y="4894"/>
                  <a:pt x="972" y="4797"/>
                  <a:pt x="988" y="4750"/>
                </a:cubicBezTo>
                <a:cubicBezTo>
                  <a:pt x="980" y="4688"/>
                  <a:pt x="1066" y="4605"/>
                  <a:pt x="1094" y="4550"/>
                </a:cubicBezTo>
                <a:cubicBezTo>
                  <a:pt x="1129" y="4494"/>
                  <a:pt x="1087" y="4403"/>
                  <a:pt x="1085" y="4408"/>
                </a:cubicBezTo>
                <a:cubicBezTo>
                  <a:pt x="1084" y="4407"/>
                  <a:pt x="1106" y="4476"/>
                  <a:pt x="1078" y="4546"/>
                </a:cubicBezTo>
                <a:cubicBezTo>
                  <a:pt x="1032" y="4610"/>
                  <a:pt x="947" y="4702"/>
                  <a:pt x="952" y="4763"/>
                </a:cubicBezTo>
                <a:cubicBezTo>
                  <a:pt x="937" y="4805"/>
                  <a:pt x="806" y="4958"/>
                  <a:pt x="711" y="5031"/>
                </a:cubicBezTo>
                <a:cubicBezTo>
                  <a:pt x="717" y="5012"/>
                  <a:pt x="721" y="4996"/>
                  <a:pt x="723" y="4982"/>
                </a:cubicBezTo>
                <a:cubicBezTo>
                  <a:pt x="671" y="4889"/>
                  <a:pt x="817" y="4737"/>
                  <a:pt x="867" y="4652"/>
                </a:cubicBezTo>
                <a:cubicBezTo>
                  <a:pt x="891" y="4613"/>
                  <a:pt x="898" y="4545"/>
                  <a:pt x="888" y="4495"/>
                </a:cubicBezTo>
                <a:cubicBezTo>
                  <a:pt x="878" y="4444"/>
                  <a:pt x="846" y="4432"/>
                  <a:pt x="844" y="4431"/>
                </a:cubicBezTo>
                <a:cubicBezTo>
                  <a:pt x="842" y="4432"/>
                  <a:pt x="861" y="4443"/>
                  <a:pt x="862" y="4487"/>
                </a:cubicBezTo>
                <a:cubicBezTo>
                  <a:pt x="865" y="4529"/>
                  <a:pt x="855" y="4591"/>
                  <a:pt x="835" y="4645"/>
                </a:cubicBezTo>
                <a:cubicBezTo>
                  <a:pt x="748" y="4747"/>
                  <a:pt x="611" y="4921"/>
                  <a:pt x="655" y="5014"/>
                </a:cubicBezTo>
                <a:cubicBezTo>
                  <a:pt x="648" y="5048"/>
                  <a:pt x="609" y="5128"/>
                  <a:pt x="558" y="5222"/>
                </a:cubicBezTo>
                <a:cubicBezTo>
                  <a:pt x="554" y="5127"/>
                  <a:pt x="558" y="4951"/>
                  <a:pt x="543" y="4895"/>
                </a:cubicBezTo>
                <a:cubicBezTo>
                  <a:pt x="483" y="4866"/>
                  <a:pt x="544" y="4743"/>
                  <a:pt x="569" y="4692"/>
                </a:cubicBezTo>
                <a:cubicBezTo>
                  <a:pt x="586" y="4647"/>
                  <a:pt x="582" y="4544"/>
                  <a:pt x="587" y="4534"/>
                </a:cubicBezTo>
                <a:cubicBezTo>
                  <a:pt x="582" y="4542"/>
                  <a:pt x="558" y="4627"/>
                  <a:pt x="548" y="4692"/>
                </a:cubicBezTo>
                <a:cubicBezTo>
                  <a:pt x="500" y="4762"/>
                  <a:pt x="452" y="4902"/>
                  <a:pt x="509" y="4931"/>
                </a:cubicBezTo>
                <a:cubicBezTo>
                  <a:pt x="514" y="4973"/>
                  <a:pt x="506" y="5212"/>
                  <a:pt x="494" y="5334"/>
                </a:cubicBezTo>
                <a:cubicBezTo>
                  <a:pt x="459" y="5394"/>
                  <a:pt x="422" y="5454"/>
                  <a:pt x="388" y="5507"/>
                </a:cubicBezTo>
                <a:cubicBezTo>
                  <a:pt x="375" y="5464"/>
                  <a:pt x="364" y="5421"/>
                  <a:pt x="353" y="5379"/>
                </a:cubicBezTo>
                <a:cubicBezTo>
                  <a:pt x="295" y="5158"/>
                  <a:pt x="270" y="4943"/>
                  <a:pt x="290" y="4744"/>
                </a:cubicBezTo>
                <a:cubicBezTo>
                  <a:pt x="301" y="4625"/>
                  <a:pt x="326" y="4512"/>
                  <a:pt x="354" y="4412"/>
                </a:cubicBezTo>
                <a:cubicBezTo>
                  <a:pt x="431" y="4308"/>
                  <a:pt x="594" y="4117"/>
                  <a:pt x="811" y="3948"/>
                </a:cubicBezTo>
                <a:cubicBezTo>
                  <a:pt x="816" y="3945"/>
                  <a:pt x="820" y="3942"/>
                  <a:pt x="824" y="3938"/>
                </a:cubicBezTo>
                <a:cubicBezTo>
                  <a:pt x="846" y="3937"/>
                  <a:pt x="876" y="3940"/>
                  <a:pt x="907" y="3949"/>
                </a:cubicBezTo>
                <a:cubicBezTo>
                  <a:pt x="970" y="3965"/>
                  <a:pt x="1043" y="3988"/>
                  <a:pt x="1085" y="3977"/>
                </a:cubicBezTo>
                <a:cubicBezTo>
                  <a:pt x="1149" y="3922"/>
                  <a:pt x="1202" y="3980"/>
                  <a:pt x="1249" y="3982"/>
                </a:cubicBezTo>
                <a:cubicBezTo>
                  <a:pt x="1297" y="3991"/>
                  <a:pt x="1381" y="3891"/>
                  <a:pt x="1376" y="3894"/>
                </a:cubicBezTo>
                <a:cubicBezTo>
                  <a:pt x="1377" y="3891"/>
                  <a:pt x="1314" y="3950"/>
                  <a:pt x="1256" y="3960"/>
                </a:cubicBezTo>
                <a:cubicBezTo>
                  <a:pt x="1206" y="3939"/>
                  <a:pt x="1147" y="3890"/>
                  <a:pt x="1083" y="3940"/>
                </a:cubicBezTo>
                <a:cubicBezTo>
                  <a:pt x="1051" y="3945"/>
                  <a:pt x="965" y="3910"/>
                  <a:pt x="886" y="3890"/>
                </a:cubicBezTo>
                <a:cubicBezTo>
                  <a:pt x="1048" y="3766"/>
                  <a:pt x="1226" y="3642"/>
                  <a:pt x="1372" y="3525"/>
                </a:cubicBezTo>
                <a:cubicBezTo>
                  <a:pt x="1450" y="3498"/>
                  <a:pt x="1597" y="3451"/>
                  <a:pt x="1716" y="3396"/>
                </a:cubicBezTo>
                <a:cubicBezTo>
                  <a:pt x="1777" y="3369"/>
                  <a:pt x="1840" y="3337"/>
                  <a:pt x="1899" y="3304"/>
                </a:cubicBezTo>
                <a:cubicBezTo>
                  <a:pt x="1923" y="3324"/>
                  <a:pt x="1972" y="3366"/>
                  <a:pt x="2051" y="3375"/>
                </a:cubicBezTo>
                <a:cubicBezTo>
                  <a:pt x="2071" y="3379"/>
                  <a:pt x="2093" y="3380"/>
                  <a:pt x="2115" y="3381"/>
                </a:cubicBezTo>
                <a:cubicBezTo>
                  <a:pt x="2144" y="3417"/>
                  <a:pt x="2253" y="3517"/>
                  <a:pt x="2312" y="3514"/>
                </a:cubicBezTo>
                <a:cubicBezTo>
                  <a:pt x="2354" y="3501"/>
                  <a:pt x="2406" y="3535"/>
                  <a:pt x="2441" y="3541"/>
                </a:cubicBezTo>
                <a:cubicBezTo>
                  <a:pt x="2473" y="3551"/>
                  <a:pt x="2554" y="3509"/>
                  <a:pt x="2553" y="3509"/>
                </a:cubicBezTo>
                <a:cubicBezTo>
                  <a:pt x="2553" y="3508"/>
                  <a:pt x="2492" y="3535"/>
                  <a:pt x="2446" y="3531"/>
                </a:cubicBezTo>
                <a:cubicBezTo>
                  <a:pt x="2406" y="3519"/>
                  <a:pt x="2346" y="3483"/>
                  <a:pt x="2305" y="3495"/>
                </a:cubicBezTo>
                <a:cubicBezTo>
                  <a:pt x="2275" y="3493"/>
                  <a:pt x="2175" y="3436"/>
                  <a:pt x="2148" y="3380"/>
                </a:cubicBezTo>
                <a:cubicBezTo>
                  <a:pt x="2226" y="3377"/>
                  <a:pt x="2303" y="3358"/>
                  <a:pt x="2341" y="3343"/>
                </a:cubicBezTo>
                <a:cubicBezTo>
                  <a:pt x="2403" y="3295"/>
                  <a:pt x="2529" y="3285"/>
                  <a:pt x="2591" y="3273"/>
                </a:cubicBezTo>
                <a:cubicBezTo>
                  <a:pt x="2649" y="3261"/>
                  <a:pt x="2780" y="3193"/>
                  <a:pt x="2780" y="3195"/>
                </a:cubicBezTo>
                <a:cubicBezTo>
                  <a:pt x="2781" y="3193"/>
                  <a:pt x="2678" y="3231"/>
                  <a:pt x="2595" y="3259"/>
                </a:cubicBezTo>
                <a:cubicBezTo>
                  <a:pt x="2517" y="3266"/>
                  <a:pt x="2374" y="3287"/>
                  <a:pt x="2313" y="3331"/>
                </a:cubicBezTo>
                <a:cubicBezTo>
                  <a:pt x="2312" y="3331"/>
                  <a:pt x="2312" y="3331"/>
                  <a:pt x="2311" y="3331"/>
                </a:cubicBezTo>
                <a:cubicBezTo>
                  <a:pt x="2338" y="3274"/>
                  <a:pt x="2430" y="3127"/>
                  <a:pt x="2462" y="3080"/>
                </a:cubicBezTo>
                <a:cubicBezTo>
                  <a:pt x="2467" y="3038"/>
                  <a:pt x="2536" y="2982"/>
                  <a:pt x="2567" y="2960"/>
                </a:cubicBezTo>
                <a:cubicBezTo>
                  <a:pt x="2592" y="2937"/>
                  <a:pt x="2646" y="2884"/>
                  <a:pt x="2657" y="2880"/>
                </a:cubicBezTo>
                <a:cubicBezTo>
                  <a:pt x="2648" y="2883"/>
                  <a:pt x="2598" y="2916"/>
                  <a:pt x="2564" y="2953"/>
                </a:cubicBezTo>
                <a:cubicBezTo>
                  <a:pt x="2520" y="2978"/>
                  <a:pt x="2445" y="3050"/>
                  <a:pt x="2440" y="3091"/>
                </a:cubicBezTo>
                <a:cubicBezTo>
                  <a:pt x="2419" y="3122"/>
                  <a:pt x="2323" y="3264"/>
                  <a:pt x="2285" y="3338"/>
                </a:cubicBezTo>
                <a:cubicBezTo>
                  <a:pt x="2244" y="3347"/>
                  <a:pt x="2172" y="3358"/>
                  <a:pt x="2103" y="3353"/>
                </a:cubicBezTo>
                <a:cubicBezTo>
                  <a:pt x="2029" y="3350"/>
                  <a:pt x="1968" y="3317"/>
                  <a:pt x="1936" y="3283"/>
                </a:cubicBezTo>
                <a:cubicBezTo>
                  <a:pt x="2030" y="3228"/>
                  <a:pt x="2110" y="3171"/>
                  <a:pt x="2152" y="3130"/>
                </a:cubicBezTo>
                <a:cubicBezTo>
                  <a:pt x="2201" y="3033"/>
                  <a:pt x="2344" y="2953"/>
                  <a:pt x="2441" y="2882"/>
                </a:cubicBezTo>
                <a:cubicBezTo>
                  <a:pt x="2440" y="2884"/>
                  <a:pt x="2439" y="2886"/>
                  <a:pt x="2438" y="2888"/>
                </a:cubicBezTo>
                <a:cubicBezTo>
                  <a:pt x="2436" y="2889"/>
                  <a:pt x="2637" y="2901"/>
                  <a:pt x="2700" y="2855"/>
                </a:cubicBezTo>
                <a:cubicBezTo>
                  <a:pt x="2731" y="2821"/>
                  <a:pt x="2797" y="2810"/>
                  <a:pt x="2832" y="2784"/>
                </a:cubicBezTo>
                <a:cubicBezTo>
                  <a:pt x="2871" y="2762"/>
                  <a:pt x="2893" y="2681"/>
                  <a:pt x="2889" y="2685"/>
                </a:cubicBezTo>
                <a:cubicBezTo>
                  <a:pt x="2890" y="2683"/>
                  <a:pt x="2872" y="2742"/>
                  <a:pt x="2830" y="2776"/>
                </a:cubicBezTo>
                <a:cubicBezTo>
                  <a:pt x="2786" y="2800"/>
                  <a:pt x="2716" y="2816"/>
                  <a:pt x="2684" y="2847"/>
                </a:cubicBezTo>
                <a:cubicBezTo>
                  <a:pt x="2654" y="2866"/>
                  <a:pt x="2522" y="2879"/>
                  <a:pt x="2466" y="2863"/>
                </a:cubicBezTo>
                <a:cubicBezTo>
                  <a:pt x="2475" y="2856"/>
                  <a:pt x="2484" y="2849"/>
                  <a:pt x="2491" y="2841"/>
                </a:cubicBezTo>
                <a:cubicBezTo>
                  <a:pt x="2533" y="2807"/>
                  <a:pt x="2582" y="2730"/>
                  <a:pt x="2606" y="2665"/>
                </a:cubicBezTo>
                <a:cubicBezTo>
                  <a:pt x="2627" y="2612"/>
                  <a:pt x="2632" y="2569"/>
                  <a:pt x="2634" y="2555"/>
                </a:cubicBezTo>
                <a:cubicBezTo>
                  <a:pt x="2626" y="2583"/>
                  <a:pt x="2575" y="2722"/>
                  <a:pt x="2480" y="2820"/>
                </a:cubicBezTo>
                <a:cubicBezTo>
                  <a:pt x="2362" y="2906"/>
                  <a:pt x="2156" y="3016"/>
                  <a:pt x="2094" y="3127"/>
                </a:cubicBezTo>
                <a:cubicBezTo>
                  <a:pt x="2082" y="3137"/>
                  <a:pt x="2065" y="3150"/>
                  <a:pt x="2042" y="3165"/>
                </a:cubicBezTo>
                <a:cubicBezTo>
                  <a:pt x="2050" y="3128"/>
                  <a:pt x="2070" y="3067"/>
                  <a:pt x="2103" y="3000"/>
                </a:cubicBezTo>
                <a:cubicBezTo>
                  <a:pt x="2155" y="2893"/>
                  <a:pt x="2228" y="2776"/>
                  <a:pt x="2257" y="2719"/>
                </a:cubicBezTo>
                <a:cubicBezTo>
                  <a:pt x="2257" y="2722"/>
                  <a:pt x="2257" y="2724"/>
                  <a:pt x="2256" y="2727"/>
                </a:cubicBezTo>
                <a:cubicBezTo>
                  <a:pt x="2254" y="2726"/>
                  <a:pt x="2444" y="2679"/>
                  <a:pt x="2489" y="2622"/>
                </a:cubicBezTo>
                <a:cubicBezTo>
                  <a:pt x="2507" y="2586"/>
                  <a:pt x="2564" y="2556"/>
                  <a:pt x="2590" y="2529"/>
                </a:cubicBezTo>
                <a:cubicBezTo>
                  <a:pt x="2618" y="2504"/>
                  <a:pt x="2628" y="2437"/>
                  <a:pt x="2627" y="2438"/>
                </a:cubicBezTo>
                <a:cubicBezTo>
                  <a:pt x="2627" y="2438"/>
                  <a:pt x="2613" y="2487"/>
                  <a:pt x="2585" y="2523"/>
                </a:cubicBezTo>
                <a:cubicBezTo>
                  <a:pt x="2550" y="2553"/>
                  <a:pt x="2490" y="2586"/>
                  <a:pt x="2472" y="2620"/>
                </a:cubicBezTo>
                <a:cubicBezTo>
                  <a:pt x="2448" y="2646"/>
                  <a:pt x="2315" y="2698"/>
                  <a:pt x="2264" y="2697"/>
                </a:cubicBezTo>
                <a:cubicBezTo>
                  <a:pt x="2271" y="2674"/>
                  <a:pt x="2287" y="2646"/>
                  <a:pt x="2308" y="2619"/>
                </a:cubicBezTo>
                <a:cubicBezTo>
                  <a:pt x="2348" y="2594"/>
                  <a:pt x="2381" y="2570"/>
                  <a:pt x="2399" y="2550"/>
                </a:cubicBezTo>
                <a:cubicBezTo>
                  <a:pt x="2432" y="2477"/>
                  <a:pt x="2547" y="2425"/>
                  <a:pt x="2599" y="2371"/>
                </a:cubicBezTo>
                <a:cubicBezTo>
                  <a:pt x="2623" y="2350"/>
                  <a:pt x="2648" y="2300"/>
                  <a:pt x="2655" y="2261"/>
                </a:cubicBezTo>
                <a:cubicBezTo>
                  <a:pt x="2661" y="2230"/>
                  <a:pt x="2658" y="2208"/>
                  <a:pt x="2657" y="2200"/>
                </a:cubicBezTo>
                <a:cubicBezTo>
                  <a:pt x="2655" y="2217"/>
                  <a:pt x="2643" y="2297"/>
                  <a:pt x="2589" y="2359"/>
                </a:cubicBezTo>
                <a:cubicBezTo>
                  <a:pt x="2552" y="2388"/>
                  <a:pt x="2502" y="2419"/>
                  <a:pt x="2457" y="2452"/>
                </a:cubicBezTo>
                <a:cubicBezTo>
                  <a:pt x="2501" y="2398"/>
                  <a:pt x="2556" y="2323"/>
                  <a:pt x="2564" y="2317"/>
                </a:cubicBezTo>
                <a:cubicBezTo>
                  <a:pt x="2555" y="2323"/>
                  <a:pt x="2479" y="2405"/>
                  <a:pt x="2423" y="2476"/>
                </a:cubicBezTo>
                <a:cubicBezTo>
                  <a:pt x="2393" y="2500"/>
                  <a:pt x="2356" y="2538"/>
                  <a:pt x="2321" y="2578"/>
                </a:cubicBezTo>
                <a:cubicBezTo>
                  <a:pt x="2243" y="2627"/>
                  <a:pt x="2090" y="2694"/>
                  <a:pt x="2003" y="2699"/>
                </a:cubicBezTo>
                <a:cubicBezTo>
                  <a:pt x="2069" y="2635"/>
                  <a:pt x="2133" y="2579"/>
                  <a:pt x="2179" y="2536"/>
                </a:cubicBezTo>
                <a:cubicBezTo>
                  <a:pt x="2257" y="2463"/>
                  <a:pt x="2368" y="2328"/>
                  <a:pt x="2452" y="2206"/>
                </a:cubicBezTo>
                <a:cubicBezTo>
                  <a:pt x="2543" y="2081"/>
                  <a:pt x="2563" y="1978"/>
                  <a:pt x="2560" y="1983"/>
                </a:cubicBezTo>
                <a:cubicBezTo>
                  <a:pt x="2559" y="1981"/>
                  <a:pt x="2543" y="2055"/>
                  <a:pt x="2460" y="2161"/>
                </a:cubicBezTo>
                <a:cubicBezTo>
                  <a:pt x="2384" y="2265"/>
                  <a:pt x="2270" y="2392"/>
                  <a:pt x="2168" y="2504"/>
                </a:cubicBezTo>
                <a:cubicBezTo>
                  <a:pt x="2164" y="2507"/>
                  <a:pt x="2160" y="2510"/>
                  <a:pt x="2156" y="2513"/>
                </a:cubicBezTo>
                <a:cubicBezTo>
                  <a:pt x="2180" y="2450"/>
                  <a:pt x="2237" y="2327"/>
                  <a:pt x="2250" y="2284"/>
                </a:cubicBezTo>
                <a:cubicBezTo>
                  <a:pt x="2236" y="2244"/>
                  <a:pt x="2299" y="2182"/>
                  <a:pt x="2326" y="2155"/>
                </a:cubicBezTo>
                <a:cubicBezTo>
                  <a:pt x="2349" y="2129"/>
                  <a:pt x="2378" y="2053"/>
                  <a:pt x="2380" y="2053"/>
                </a:cubicBezTo>
                <a:cubicBezTo>
                  <a:pt x="2379" y="2052"/>
                  <a:pt x="2344" y="2106"/>
                  <a:pt x="2317" y="2148"/>
                </a:cubicBezTo>
                <a:cubicBezTo>
                  <a:pt x="2276" y="2181"/>
                  <a:pt x="2212" y="2258"/>
                  <a:pt x="2225" y="2296"/>
                </a:cubicBezTo>
                <a:cubicBezTo>
                  <a:pt x="2213" y="2330"/>
                  <a:pt x="2140" y="2480"/>
                  <a:pt x="2111" y="2550"/>
                </a:cubicBezTo>
                <a:cubicBezTo>
                  <a:pt x="2005" y="2638"/>
                  <a:pt x="1875" y="2758"/>
                  <a:pt x="1767" y="2898"/>
                </a:cubicBezTo>
                <a:cubicBezTo>
                  <a:pt x="1706" y="2975"/>
                  <a:pt x="1648" y="3083"/>
                  <a:pt x="1621" y="3138"/>
                </a:cubicBezTo>
                <a:cubicBezTo>
                  <a:pt x="1598" y="3181"/>
                  <a:pt x="1573" y="3222"/>
                  <a:pt x="1552" y="3260"/>
                </a:cubicBezTo>
                <a:cubicBezTo>
                  <a:pt x="1536" y="3219"/>
                  <a:pt x="1520" y="3152"/>
                  <a:pt x="1524" y="3070"/>
                </a:cubicBezTo>
                <a:cubicBezTo>
                  <a:pt x="1524" y="2997"/>
                  <a:pt x="1539" y="2916"/>
                  <a:pt x="1556" y="2845"/>
                </a:cubicBezTo>
                <a:cubicBezTo>
                  <a:pt x="1596" y="2828"/>
                  <a:pt x="1679" y="2791"/>
                  <a:pt x="1760" y="2725"/>
                </a:cubicBezTo>
                <a:cubicBezTo>
                  <a:pt x="1874" y="2638"/>
                  <a:pt x="1987" y="2520"/>
                  <a:pt x="2026" y="2462"/>
                </a:cubicBezTo>
                <a:cubicBezTo>
                  <a:pt x="2053" y="2389"/>
                  <a:pt x="2167" y="2276"/>
                  <a:pt x="2210" y="2208"/>
                </a:cubicBezTo>
                <a:cubicBezTo>
                  <a:pt x="2263" y="2143"/>
                  <a:pt x="2266" y="1997"/>
                  <a:pt x="2260" y="2003"/>
                </a:cubicBezTo>
                <a:cubicBezTo>
                  <a:pt x="2261" y="2001"/>
                  <a:pt x="2258" y="2109"/>
                  <a:pt x="2202" y="2200"/>
                </a:cubicBezTo>
                <a:cubicBezTo>
                  <a:pt x="2142" y="2281"/>
                  <a:pt x="2018" y="2410"/>
                  <a:pt x="1988" y="2481"/>
                </a:cubicBezTo>
                <a:cubicBezTo>
                  <a:pt x="1981" y="2493"/>
                  <a:pt x="1964" y="2512"/>
                  <a:pt x="1941" y="2536"/>
                </a:cubicBezTo>
                <a:cubicBezTo>
                  <a:pt x="1935" y="2499"/>
                  <a:pt x="1931" y="2387"/>
                  <a:pt x="1933" y="2351"/>
                </a:cubicBezTo>
                <a:cubicBezTo>
                  <a:pt x="1911" y="2330"/>
                  <a:pt x="1945" y="2270"/>
                  <a:pt x="1962" y="2245"/>
                </a:cubicBezTo>
                <a:cubicBezTo>
                  <a:pt x="1974" y="2223"/>
                  <a:pt x="1985" y="2168"/>
                  <a:pt x="1987" y="2163"/>
                </a:cubicBezTo>
                <a:cubicBezTo>
                  <a:pt x="1985" y="2167"/>
                  <a:pt x="1966" y="2209"/>
                  <a:pt x="1955" y="2243"/>
                </a:cubicBezTo>
                <a:cubicBezTo>
                  <a:pt x="1926" y="2275"/>
                  <a:pt x="1897" y="2347"/>
                  <a:pt x="1917" y="2367"/>
                </a:cubicBezTo>
                <a:cubicBezTo>
                  <a:pt x="1915" y="2393"/>
                  <a:pt x="1916" y="2512"/>
                  <a:pt x="1917" y="2560"/>
                </a:cubicBezTo>
                <a:cubicBezTo>
                  <a:pt x="1823" y="2652"/>
                  <a:pt x="1661" y="2783"/>
                  <a:pt x="1565" y="2809"/>
                </a:cubicBezTo>
                <a:cubicBezTo>
                  <a:pt x="1580" y="2755"/>
                  <a:pt x="1594" y="2709"/>
                  <a:pt x="1601" y="2679"/>
                </a:cubicBezTo>
                <a:cubicBezTo>
                  <a:pt x="1585" y="2592"/>
                  <a:pt x="1718" y="2419"/>
                  <a:pt x="1781" y="2349"/>
                </a:cubicBezTo>
                <a:cubicBezTo>
                  <a:pt x="1833" y="2281"/>
                  <a:pt x="1932" y="2114"/>
                  <a:pt x="1941" y="2102"/>
                </a:cubicBezTo>
                <a:cubicBezTo>
                  <a:pt x="1933" y="2112"/>
                  <a:pt x="1839" y="2234"/>
                  <a:pt x="1771" y="2337"/>
                </a:cubicBezTo>
                <a:cubicBezTo>
                  <a:pt x="1726" y="2380"/>
                  <a:pt x="1669" y="2453"/>
                  <a:pt x="1625" y="2526"/>
                </a:cubicBezTo>
                <a:cubicBezTo>
                  <a:pt x="1619" y="2485"/>
                  <a:pt x="1614" y="2371"/>
                  <a:pt x="1615" y="2334"/>
                </a:cubicBezTo>
                <a:cubicBezTo>
                  <a:pt x="1590" y="2313"/>
                  <a:pt x="1631" y="2248"/>
                  <a:pt x="1649" y="2225"/>
                </a:cubicBezTo>
                <a:cubicBezTo>
                  <a:pt x="1663" y="2203"/>
                  <a:pt x="1687" y="2148"/>
                  <a:pt x="1692" y="2141"/>
                </a:cubicBezTo>
                <a:cubicBezTo>
                  <a:pt x="1687" y="2146"/>
                  <a:pt x="1660" y="2187"/>
                  <a:pt x="1642" y="2221"/>
                </a:cubicBezTo>
                <a:cubicBezTo>
                  <a:pt x="1610" y="2252"/>
                  <a:pt x="1577" y="2331"/>
                  <a:pt x="1599" y="2351"/>
                </a:cubicBezTo>
                <a:cubicBezTo>
                  <a:pt x="1597" y="2375"/>
                  <a:pt x="1600" y="2508"/>
                  <a:pt x="1600" y="2571"/>
                </a:cubicBezTo>
                <a:cubicBezTo>
                  <a:pt x="1570" y="2630"/>
                  <a:pt x="1552" y="2686"/>
                  <a:pt x="1559" y="2720"/>
                </a:cubicBezTo>
                <a:cubicBezTo>
                  <a:pt x="1549" y="2763"/>
                  <a:pt x="1504" y="2890"/>
                  <a:pt x="1490" y="3023"/>
                </a:cubicBezTo>
                <a:cubicBezTo>
                  <a:pt x="1488" y="3036"/>
                  <a:pt x="1487" y="3048"/>
                  <a:pt x="1486" y="3061"/>
                </a:cubicBezTo>
                <a:cubicBezTo>
                  <a:pt x="1450" y="3012"/>
                  <a:pt x="1391" y="2928"/>
                  <a:pt x="1346" y="2865"/>
                </a:cubicBezTo>
                <a:cubicBezTo>
                  <a:pt x="1374" y="2803"/>
                  <a:pt x="1455" y="2598"/>
                  <a:pt x="1450" y="2543"/>
                </a:cubicBezTo>
                <a:cubicBezTo>
                  <a:pt x="1435" y="2511"/>
                  <a:pt x="1469" y="2433"/>
                  <a:pt x="1477" y="2394"/>
                </a:cubicBezTo>
                <a:cubicBezTo>
                  <a:pt x="1490" y="2355"/>
                  <a:pt x="1454" y="2294"/>
                  <a:pt x="1451" y="2301"/>
                </a:cubicBezTo>
                <a:cubicBezTo>
                  <a:pt x="1452" y="2298"/>
                  <a:pt x="1475" y="2343"/>
                  <a:pt x="1468" y="2394"/>
                </a:cubicBezTo>
                <a:cubicBezTo>
                  <a:pt x="1451" y="2443"/>
                  <a:pt x="1419" y="2530"/>
                  <a:pt x="1433" y="2563"/>
                </a:cubicBezTo>
                <a:cubicBezTo>
                  <a:pt x="1431" y="2596"/>
                  <a:pt x="1374" y="2773"/>
                  <a:pt x="1325" y="2836"/>
                </a:cubicBezTo>
                <a:cubicBezTo>
                  <a:pt x="1313" y="2820"/>
                  <a:pt x="1303" y="2806"/>
                  <a:pt x="1295" y="2797"/>
                </a:cubicBezTo>
                <a:cubicBezTo>
                  <a:pt x="1240" y="2784"/>
                  <a:pt x="1227" y="2669"/>
                  <a:pt x="1231" y="2615"/>
                </a:cubicBezTo>
                <a:cubicBezTo>
                  <a:pt x="1222" y="2575"/>
                  <a:pt x="1225" y="2476"/>
                  <a:pt x="1231" y="2455"/>
                </a:cubicBezTo>
                <a:cubicBezTo>
                  <a:pt x="1224" y="2474"/>
                  <a:pt x="1203" y="2559"/>
                  <a:pt x="1218" y="2618"/>
                </a:cubicBezTo>
                <a:cubicBezTo>
                  <a:pt x="1203" y="2694"/>
                  <a:pt x="1236" y="2819"/>
                  <a:pt x="1290" y="2832"/>
                </a:cubicBezTo>
                <a:cubicBezTo>
                  <a:pt x="1315" y="2871"/>
                  <a:pt x="1447" y="3056"/>
                  <a:pt x="1485" y="3134"/>
                </a:cubicBezTo>
                <a:cubicBezTo>
                  <a:pt x="1485" y="3134"/>
                  <a:pt x="1485" y="3134"/>
                  <a:pt x="1485" y="3134"/>
                </a:cubicBezTo>
                <a:cubicBezTo>
                  <a:pt x="1487" y="3209"/>
                  <a:pt x="1500" y="3277"/>
                  <a:pt x="1515" y="3324"/>
                </a:cubicBezTo>
                <a:cubicBezTo>
                  <a:pt x="1434" y="3418"/>
                  <a:pt x="1180" y="3600"/>
                  <a:pt x="908" y="3794"/>
                </a:cubicBezTo>
                <a:cubicBezTo>
                  <a:pt x="871" y="3820"/>
                  <a:pt x="834" y="3848"/>
                  <a:pt x="798" y="3876"/>
                </a:cubicBezTo>
                <a:cubicBezTo>
                  <a:pt x="797" y="3876"/>
                  <a:pt x="797" y="3876"/>
                  <a:pt x="796" y="3876"/>
                </a:cubicBezTo>
                <a:cubicBezTo>
                  <a:pt x="796" y="3877"/>
                  <a:pt x="796" y="3877"/>
                  <a:pt x="796" y="3878"/>
                </a:cubicBezTo>
                <a:cubicBezTo>
                  <a:pt x="719" y="3938"/>
                  <a:pt x="644" y="4003"/>
                  <a:pt x="573" y="4067"/>
                </a:cubicBezTo>
                <a:cubicBezTo>
                  <a:pt x="592" y="4019"/>
                  <a:pt x="615" y="3963"/>
                  <a:pt x="637" y="3908"/>
                </a:cubicBezTo>
                <a:cubicBezTo>
                  <a:pt x="657" y="3898"/>
                  <a:pt x="708" y="3873"/>
                  <a:pt x="758" y="3829"/>
                </a:cubicBezTo>
                <a:cubicBezTo>
                  <a:pt x="823" y="3773"/>
                  <a:pt x="880" y="3697"/>
                  <a:pt x="895" y="3661"/>
                </a:cubicBezTo>
                <a:cubicBezTo>
                  <a:pt x="893" y="3614"/>
                  <a:pt x="963" y="3548"/>
                  <a:pt x="991" y="3512"/>
                </a:cubicBezTo>
                <a:cubicBezTo>
                  <a:pt x="1019" y="3478"/>
                  <a:pt x="1037" y="3391"/>
                  <a:pt x="1038" y="3392"/>
                </a:cubicBezTo>
                <a:cubicBezTo>
                  <a:pt x="1037" y="3391"/>
                  <a:pt x="1011" y="3456"/>
                  <a:pt x="982" y="3506"/>
                </a:cubicBezTo>
                <a:cubicBezTo>
                  <a:pt x="939" y="3549"/>
                  <a:pt x="869" y="3625"/>
                  <a:pt x="868" y="3671"/>
                </a:cubicBezTo>
                <a:cubicBezTo>
                  <a:pt x="857" y="3708"/>
                  <a:pt x="729" y="3842"/>
                  <a:pt x="652" y="3870"/>
                </a:cubicBezTo>
                <a:cubicBezTo>
                  <a:pt x="676" y="3807"/>
                  <a:pt x="697" y="3750"/>
                  <a:pt x="704" y="3718"/>
                </a:cubicBezTo>
                <a:cubicBezTo>
                  <a:pt x="675" y="3654"/>
                  <a:pt x="782" y="3539"/>
                  <a:pt x="828" y="3494"/>
                </a:cubicBezTo>
                <a:cubicBezTo>
                  <a:pt x="850" y="3471"/>
                  <a:pt x="870" y="3430"/>
                  <a:pt x="894" y="3394"/>
                </a:cubicBezTo>
                <a:cubicBezTo>
                  <a:pt x="916" y="3358"/>
                  <a:pt x="951" y="3332"/>
                  <a:pt x="951" y="3333"/>
                </a:cubicBezTo>
                <a:cubicBezTo>
                  <a:pt x="945" y="3326"/>
                  <a:pt x="856" y="3406"/>
                  <a:pt x="814" y="3482"/>
                </a:cubicBezTo>
                <a:cubicBezTo>
                  <a:pt x="740" y="3538"/>
                  <a:pt x="635" y="3680"/>
                  <a:pt x="662" y="3743"/>
                </a:cubicBezTo>
                <a:cubicBezTo>
                  <a:pt x="645" y="3795"/>
                  <a:pt x="551" y="4019"/>
                  <a:pt x="490" y="4146"/>
                </a:cubicBezTo>
                <a:cubicBezTo>
                  <a:pt x="464" y="4172"/>
                  <a:pt x="438" y="4198"/>
                  <a:pt x="414" y="4223"/>
                </a:cubicBezTo>
                <a:cubicBezTo>
                  <a:pt x="418" y="4188"/>
                  <a:pt x="428" y="4151"/>
                  <a:pt x="439" y="4111"/>
                </a:cubicBezTo>
                <a:cubicBezTo>
                  <a:pt x="441" y="4103"/>
                  <a:pt x="441" y="4103"/>
                  <a:pt x="441" y="4103"/>
                </a:cubicBezTo>
                <a:cubicBezTo>
                  <a:pt x="441" y="4101"/>
                  <a:pt x="441" y="4101"/>
                  <a:pt x="441" y="4101"/>
                </a:cubicBezTo>
                <a:cubicBezTo>
                  <a:pt x="438" y="4114"/>
                  <a:pt x="448" y="4074"/>
                  <a:pt x="447" y="4078"/>
                </a:cubicBezTo>
                <a:cubicBezTo>
                  <a:pt x="446" y="4075"/>
                  <a:pt x="446" y="4075"/>
                  <a:pt x="446" y="4075"/>
                </a:cubicBezTo>
                <a:cubicBezTo>
                  <a:pt x="442" y="4061"/>
                  <a:pt x="442" y="4061"/>
                  <a:pt x="442" y="4061"/>
                </a:cubicBezTo>
                <a:cubicBezTo>
                  <a:pt x="435" y="4032"/>
                  <a:pt x="435" y="4032"/>
                  <a:pt x="435" y="4032"/>
                </a:cubicBezTo>
                <a:cubicBezTo>
                  <a:pt x="431" y="4013"/>
                  <a:pt x="427" y="3993"/>
                  <a:pt x="423" y="3971"/>
                </a:cubicBezTo>
                <a:cubicBezTo>
                  <a:pt x="410" y="3887"/>
                  <a:pt x="404" y="3791"/>
                  <a:pt x="405" y="3687"/>
                </a:cubicBezTo>
                <a:cubicBezTo>
                  <a:pt x="408" y="3479"/>
                  <a:pt x="440" y="3238"/>
                  <a:pt x="515" y="2992"/>
                </a:cubicBezTo>
                <a:cubicBezTo>
                  <a:pt x="552" y="2870"/>
                  <a:pt x="602" y="2745"/>
                  <a:pt x="667" y="2630"/>
                </a:cubicBezTo>
                <a:cubicBezTo>
                  <a:pt x="717" y="2536"/>
                  <a:pt x="795" y="2454"/>
                  <a:pt x="846" y="2361"/>
                </a:cubicBezTo>
                <a:cubicBezTo>
                  <a:pt x="910" y="2330"/>
                  <a:pt x="1028" y="2264"/>
                  <a:pt x="1142" y="2168"/>
                </a:cubicBezTo>
                <a:cubicBezTo>
                  <a:pt x="1270" y="2067"/>
                  <a:pt x="1399" y="1939"/>
                  <a:pt x="1476" y="1845"/>
                </a:cubicBezTo>
                <a:cubicBezTo>
                  <a:pt x="1476" y="1847"/>
                  <a:pt x="1476" y="1849"/>
                  <a:pt x="1476" y="1850"/>
                </a:cubicBezTo>
                <a:cubicBezTo>
                  <a:pt x="1473" y="1845"/>
                  <a:pt x="1647" y="1789"/>
                  <a:pt x="1778" y="1727"/>
                </a:cubicBezTo>
                <a:cubicBezTo>
                  <a:pt x="1775" y="1731"/>
                  <a:pt x="1773" y="1736"/>
                  <a:pt x="1769" y="1743"/>
                </a:cubicBezTo>
                <a:cubicBezTo>
                  <a:pt x="1769" y="1739"/>
                  <a:pt x="1924" y="1785"/>
                  <a:pt x="1981" y="1755"/>
                </a:cubicBezTo>
                <a:cubicBezTo>
                  <a:pt x="2012" y="1726"/>
                  <a:pt x="2065" y="1735"/>
                  <a:pt x="2095" y="1723"/>
                </a:cubicBezTo>
                <a:cubicBezTo>
                  <a:pt x="2124" y="1719"/>
                  <a:pt x="2171" y="1663"/>
                  <a:pt x="2174" y="1661"/>
                </a:cubicBezTo>
                <a:cubicBezTo>
                  <a:pt x="2172" y="1660"/>
                  <a:pt x="2133" y="1699"/>
                  <a:pt x="2096" y="1714"/>
                </a:cubicBezTo>
                <a:cubicBezTo>
                  <a:pt x="2058" y="1721"/>
                  <a:pt x="2002" y="1716"/>
                  <a:pt x="1971" y="1743"/>
                </a:cubicBezTo>
                <a:cubicBezTo>
                  <a:pt x="1944" y="1754"/>
                  <a:pt x="1837" y="1742"/>
                  <a:pt x="1795" y="1719"/>
                </a:cubicBezTo>
                <a:cubicBezTo>
                  <a:pt x="1840" y="1696"/>
                  <a:pt x="1879" y="1673"/>
                  <a:pt x="1901" y="1652"/>
                </a:cubicBezTo>
                <a:cubicBezTo>
                  <a:pt x="1939" y="1595"/>
                  <a:pt x="2045" y="1543"/>
                  <a:pt x="2089" y="1489"/>
                </a:cubicBezTo>
                <a:cubicBezTo>
                  <a:pt x="2143" y="1438"/>
                  <a:pt x="2141" y="1320"/>
                  <a:pt x="2138" y="1325"/>
                </a:cubicBezTo>
                <a:cubicBezTo>
                  <a:pt x="2136" y="1323"/>
                  <a:pt x="2138" y="1412"/>
                  <a:pt x="2083" y="1480"/>
                </a:cubicBezTo>
                <a:cubicBezTo>
                  <a:pt x="2024" y="1539"/>
                  <a:pt x="1911" y="1597"/>
                  <a:pt x="1870" y="1651"/>
                </a:cubicBezTo>
                <a:cubicBezTo>
                  <a:pt x="1828" y="1689"/>
                  <a:pt x="1619" y="1773"/>
                  <a:pt x="1509" y="1803"/>
                </a:cubicBezTo>
                <a:cubicBezTo>
                  <a:pt x="1517" y="1791"/>
                  <a:pt x="1525" y="1780"/>
                  <a:pt x="1531" y="1771"/>
                </a:cubicBezTo>
                <a:cubicBezTo>
                  <a:pt x="1548" y="1682"/>
                  <a:pt x="1652" y="1573"/>
                  <a:pt x="1731" y="1480"/>
                </a:cubicBezTo>
                <a:cubicBezTo>
                  <a:pt x="1731" y="1483"/>
                  <a:pt x="1730" y="1486"/>
                  <a:pt x="1730" y="1490"/>
                </a:cubicBezTo>
                <a:cubicBezTo>
                  <a:pt x="1730" y="1485"/>
                  <a:pt x="1782" y="1474"/>
                  <a:pt x="1839" y="1439"/>
                </a:cubicBezTo>
                <a:cubicBezTo>
                  <a:pt x="1897" y="1407"/>
                  <a:pt x="1956" y="1353"/>
                  <a:pt x="1973" y="1323"/>
                </a:cubicBezTo>
                <a:cubicBezTo>
                  <a:pt x="1980" y="1285"/>
                  <a:pt x="2038" y="1235"/>
                  <a:pt x="2057" y="1202"/>
                </a:cubicBezTo>
                <a:cubicBezTo>
                  <a:pt x="2082" y="1171"/>
                  <a:pt x="2081" y="1102"/>
                  <a:pt x="2083" y="1103"/>
                </a:cubicBezTo>
                <a:cubicBezTo>
                  <a:pt x="2080" y="1103"/>
                  <a:pt x="2075" y="1155"/>
                  <a:pt x="2050" y="1197"/>
                </a:cubicBezTo>
                <a:cubicBezTo>
                  <a:pt x="2021" y="1237"/>
                  <a:pt x="1961" y="1291"/>
                  <a:pt x="1952" y="1330"/>
                </a:cubicBezTo>
                <a:cubicBezTo>
                  <a:pt x="1936" y="1361"/>
                  <a:pt x="1812" y="1448"/>
                  <a:pt x="1748" y="1460"/>
                </a:cubicBezTo>
                <a:cubicBezTo>
                  <a:pt x="1769" y="1435"/>
                  <a:pt x="1787" y="1411"/>
                  <a:pt x="1801" y="1390"/>
                </a:cubicBezTo>
                <a:cubicBezTo>
                  <a:pt x="1833" y="1344"/>
                  <a:pt x="1859" y="1259"/>
                  <a:pt x="1861" y="1195"/>
                </a:cubicBezTo>
                <a:cubicBezTo>
                  <a:pt x="1863" y="1143"/>
                  <a:pt x="1852" y="1106"/>
                  <a:pt x="1849" y="1093"/>
                </a:cubicBezTo>
                <a:cubicBezTo>
                  <a:pt x="1851" y="1121"/>
                  <a:pt x="1850" y="1257"/>
                  <a:pt x="1781" y="1377"/>
                </a:cubicBezTo>
                <a:cubicBezTo>
                  <a:pt x="1745" y="1421"/>
                  <a:pt x="1698" y="1473"/>
                  <a:pt x="1650" y="1527"/>
                </a:cubicBezTo>
                <a:cubicBezTo>
                  <a:pt x="1651" y="1473"/>
                  <a:pt x="1658" y="1379"/>
                  <a:pt x="1661" y="1346"/>
                </a:cubicBezTo>
                <a:cubicBezTo>
                  <a:pt x="1641" y="1321"/>
                  <a:pt x="1682" y="1259"/>
                  <a:pt x="1699" y="1232"/>
                </a:cubicBezTo>
                <a:cubicBezTo>
                  <a:pt x="1714" y="1206"/>
                  <a:pt x="1725" y="1144"/>
                  <a:pt x="1725" y="1143"/>
                </a:cubicBezTo>
                <a:cubicBezTo>
                  <a:pt x="1725" y="1143"/>
                  <a:pt x="1707" y="1191"/>
                  <a:pt x="1692" y="1229"/>
                </a:cubicBezTo>
                <a:cubicBezTo>
                  <a:pt x="1663" y="1263"/>
                  <a:pt x="1626" y="1338"/>
                  <a:pt x="1645" y="1362"/>
                </a:cubicBezTo>
                <a:cubicBezTo>
                  <a:pt x="1640" y="1387"/>
                  <a:pt x="1632" y="1493"/>
                  <a:pt x="1626" y="1554"/>
                </a:cubicBezTo>
                <a:cubicBezTo>
                  <a:pt x="1552" y="1639"/>
                  <a:pt x="1484" y="1725"/>
                  <a:pt x="1466" y="1792"/>
                </a:cubicBezTo>
                <a:cubicBezTo>
                  <a:pt x="1442" y="1827"/>
                  <a:pt x="1370" y="1907"/>
                  <a:pt x="1277" y="1992"/>
                </a:cubicBezTo>
                <a:cubicBezTo>
                  <a:pt x="1273" y="1961"/>
                  <a:pt x="1270" y="1900"/>
                  <a:pt x="1273" y="1830"/>
                </a:cubicBezTo>
                <a:cubicBezTo>
                  <a:pt x="1274" y="1763"/>
                  <a:pt x="1285" y="1689"/>
                  <a:pt x="1295" y="1632"/>
                </a:cubicBezTo>
                <a:cubicBezTo>
                  <a:pt x="1318" y="1611"/>
                  <a:pt x="1489" y="1501"/>
                  <a:pt x="1527" y="1446"/>
                </a:cubicBezTo>
                <a:cubicBezTo>
                  <a:pt x="1540" y="1407"/>
                  <a:pt x="1602" y="1364"/>
                  <a:pt x="1626" y="1331"/>
                </a:cubicBezTo>
                <a:cubicBezTo>
                  <a:pt x="1657" y="1297"/>
                  <a:pt x="1643" y="1229"/>
                  <a:pt x="1640" y="1234"/>
                </a:cubicBezTo>
                <a:cubicBezTo>
                  <a:pt x="1640" y="1232"/>
                  <a:pt x="1649" y="1282"/>
                  <a:pt x="1620" y="1326"/>
                </a:cubicBezTo>
                <a:cubicBezTo>
                  <a:pt x="1586" y="1363"/>
                  <a:pt x="1521" y="1411"/>
                  <a:pt x="1506" y="1450"/>
                </a:cubicBezTo>
                <a:cubicBezTo>
                  <a:pt x="1485" y="1477"/>
                  <a:pt x="1365" y="1565"/>
                  <a:pt x="1300" y="1602"/>
                </a:cubicBezTo>
                <a:cubicBezTo>
                  <a:pt x="1302" y="1586"/>
                  <a:pt x="1305" y="1573"/>
                  <a:pt x="1306" y="1563"/>
                </a:cubicBezTo>
                <a:cubicBezTo>
                  <a:pt x="1286" y="1508"/>
                  <a:pt x="1368" y="1383"/>
                  <a:pt x="1409" y="1334"/>
                </a:cubicBezTo>
                <a:cubicBezTo>
                  <a:pt x="1442" y="1287"/>
                  <a:pt x="1506" y="1174"/>
                  <a:pt x="1514" y="1164"/>
                </a:cubicBezTo>
                <a:cubicBezTo>
                  <a:pt x="1507" y="1172"/>
                  <a:pt x="1444" y="1255"/>
                  <a:pt x="1402" y="1326"/>
                </a:cubicBezTo>
                <a:cubicBezTo>
                  <a:pt x="1339" y="1388"/>
                  <a:pt x="1258" y="1540"/>
                  <a:pt x="1279" y="1594"/>
                </a:cubicBezTo>
                <a:cubicBezTo>
                  <a:pt x="1272" y="1616"/>
                  <a:pt x="1264" y="1669"/>
                  <a:pt x="1257" y="1732"/>
                </a:cubicBezTo>
                <a:cubicBezTo>
                  <a:pt x="1230" y="1693"/>
                  <a:pt x="1179" y="1622"/>
                  <a:pt x="1153" y="1607"/>
                </a:cubicBezTo>
                <a:cubicBezTo>
                  <a:pt x="1117" y="1609"/>
                  <a:pt x="1110" y="1547"/>
                  <a:pt x="1115" y="1519"/>
                </a:cubicBezTo>
                <a:cubicBezTo>
                  <a:pt x="1113" y="1499"/>
                  <a:pt x="1112" y="1447"/>
                  <a:pt x="1115" y="1437"/>
                </a:cubicBezTo>
                <a:cubicBezTo>
                  <a:pt x="1112" y="1446"/>
                  <a:pt x="1100" y="1491"/>
                  <a:pt x="1106" y="1522"/>
                </a:cubicBezTo>
                <a:cubicBezTo>
                  <a:pt x="1093" y="1564"/>
                  <a:pt x="1114" y="1629"/>
                  <a:pt x="1148" y="1627"/>
                </a:cubicBezTo>
                <a:cubicBezTo>
                  <a:pt x="1165" y="1643"/>
                  <a:pt x="1239" y="1733"/>
                  <a:pt x="1249" y="1779"/>
                </a:cubicBezTo>
                <a:cubicBezTo>
                  <a:pt x="1250" y="1778"/>
                  <a:pt x="1251" y="1777"/>
                  <a:pt x="1253" y="1776"/>
                </a:cubicBezTo>
                <a:cubicBezTo>
                  <a:pt x="1244" y="1868"/>
                  <a:pt x="1239" y="1970"/>
                  <a:pt x="1240" y="2025"/>
                </a:cubicBezTo>
                <a:cubicBezTo>
                  <a:pt x="1221" y="2042"/>
                  <a:pt x="1202" y="2059"/>
                  <a:pt x="1182" y="2075"/>
                </a:cubicBezTo>
                <a:cubicBezTo>
                  <a:pt x="1085" y="2157"/>
                  <a:pt x="970" y="2235"/>
                  <a:pt x="887" y="2272"/>
                </a:cubicBezTo>
                <a:cubicBezTo>
                  <a:pt x="974" y="2042"/>
                  <a:pt x="953" y="1849"/>
                  <a:pt x="943" y="1709"/>
                </a:cubicBezTo>
                <a:cubicBezTo>
                  <a:pt x="933" y="1584"/>
                  <a:pt x="891" y="1442"/>
                  <a:pt x="868" y="1287"/>
                </a:cubicBezTo>
                <a:cubicBezTo>
                  <a:pt x="904" y="1259"/>
                  <a:pt x="978" y="1201"/>
                  <a:pt x="1053" y="1124"/>
                </a:cubicBezTo>
                <a:cubicBezTo>
                  <a:pt x="1052" y="1127"/>
                  <a:pt x="1051" y="1129"/>
                  <a:pt x="1050" y="1132"/>
                </a:cubicBezTo>
                <a:cubicBezTo>
                  <a:pt x="1051" y="1126"/>
                  <a:pt x="1128" y="1131"/>
                  <a:pt x="1221" y="1108"/>
                </a:cubicBezTo>
                <a:cubicBezTo>
                  <a:pt x="1275" y="1098"/>
                  <a:pt x="1334" y="1076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417" y="1037"/>
                  <a:pt x="1445" y="1020"/>
                  <a:pt x="1462" y="1006"/>
                </a:cubicBezTo>
                <a:cubicBezTo>
                  <a:pt x="1501" y="952"/>
                  <a:pt x="1602" y="904"/>
                  <a:pt x="1646" y="854"/>
                </a:cubicBezTo>
                <a:cubicBezTo>
                  <a:pt x="1697" y="808"/>
                  <a:pt x="1706" y="692"/>
                  <a:pt x="1703" y="696"/>
                </a:cubicBezTo>
                <a:cubicBezTo>
                  <a:pt x="1702" y="695"/>
                  <a:pt x="1693" y="781"/>
                  <a:pt x="1639" y="845"/>
                </a:cubicBezTo>
                <a:cubicBezTo>
                  <a:pt x="1581" y="900"/>
                  <a:pt x="1474" y="952"/>
                  <a:pt x="1433" y="1003"/>
                </a:cubicBezTo>
                <a:cubicBezTo>
                  <a:pt x="1425" y="1011"/>
                  <a:pt x="1409" y="1020"/>
                  <a:pt x="1388" y="1029"/>
                </a:cubicBezTo>
                <a:cubicBezTo>
                  <a:pt x="1396" y="988"/>
                  <a:pt x="1409" y="905"/>
                  <a:pt x="1419" y="876"/>
                </a:cubicBezTo>
                <a:cubicBezTo>
                  <a:pt x="1407" y="848"/>
                  <a:pt x="1458" y="806"/>
                  <a:pt x="1479" y="793"/>
                </a:cubicBezTo>
                <a:cubicBezTo>
                  <a:pt x="1498" y="778"/>
                  <a:pt x="1529" y="727"/>
                  <a:pt x="1530" y="727"/>
                </a:cubicBezTo>
                <a:cubicBezTo>
                  <a:pt x="1530" y="727"/>
                  <a:pt x="1499" y="760"/>
                  <a:pt x="1474" y="786"/>
                </a:cubicBezTo>
                <a:cubicBezTo>
                  <a:pt x="1443" y="800"/>
                  <a:pt x="1389" y="859"/>
                  <a:pt x="1402" y="886"/>
                </a:cubicBezTo>
                <a:cubicBezTo>
                  <a:pt x="1390" y="906"/>
                  <a:pt x="1376" y="992"/>
                  <a:pt x="1356" y="1042"/>
                </a:cubicBezTo>
                <a:cubicBezTo>
                  <a:pt x="1271" y="1074"/>
                  <a:pt x="1145" y="1103"/>
                  <a:pt x="1082" y="1093"/>
                </a:cubicBezTo>
                <a:cubicBezTo>
                  <a:pt x="1083" y="1092"/>
                  <a:pt x="1084" y="1091"/>
                  <a:pt x="1085" y="1090"/>
                </a:cubicBezTo>
                <a:cubicBezTo>
                  <a:pt x="1204" y="966"/>
                  <a:pt x="1315" y="808"/>
                  <a:pt x="1347" y="735"/>
                </a:cubicBezTo>
                <a:cubicBezTo>
                  <a:pt x="1347" y="729"/>
                  <a:pt x="1349" y="723"/>
                  <a:pt x="1350" y="717"/>
                </a:cubicBezTo>
                <a:cubicBezTo>
                  <a:pt x="1373" y="711"/>
                  <a:pt x="1550" y="645"/>
                  <a:pt x="1588" y="585"/>
                </a:cubicBezTo>
                <a:cubicBezTo>
                  <a:pt x="1602" y="547"/>
                  <a:pt x="1659" y="508"/>
                  <a:pt x="1683" y="478"/>
                </a:cubicBezTo>
                <a:cubicBezTo>
                  <a:pt x="1710" y="450"/>
                  <a:pt x="1714" y="382"/>
                  <a:pt x="1714" y="383"/>
                </a:cubicBezTo>
                <a:cubicBezTo>
                  <a:pt x="1713" y="383"/>
                  <a:pt x="1704" y="433"/>
                  <a:pt x="1677" y="473"/>
                </a:cubicBezTo>
                <a:cubicBezTo>
                  <a:pt x="1644" y="507"/>
                  <a:pt x="1584" y="550"/>
                  <a:pt x="1568" y="586"/>
                </a:cubicBezTo>
                <a:cubicBezTo>
                  <a:pt x="1548" y="615"/>
                  <a:pt x="1415" y="685"/>
                  <a:pt x="1359" y="688"/>
                </a:cubicBezTo>
                <a:cubicBezTo>
                  <a:pt x="1391" y="601"/>
                  <a:pt x="1478" y="484"/>
                  <a:pt x="1510" y="413"/>
                </a:cubicBezTo>
                <a:cubicBezTo>
                  <a:pt x="1557" y="331"/>
                  <a:pt x="1534" y="170"/>
                  <a:pt x="1533" y="174"/>
                </a:cubicBezTo>
                <a:cubicBezTo>
                  <a:pt x="1532" y="173"/>
                  <a:pt x="1538" y="297"/>
                  <a:pt x="1495" y="407"/>
                </a:cubicBezTo>
                <a:cubicBezTo>
                  <a:pt x="1447" y="492"/>
                  <a:pt x="1355" y="620"/>
                  <a:pt x="1317" y="711"/>
                </a:cubicBezTo>
                <a:cubicBezTo>
                  <a:pt x="1317" y="653"/>
                  <a:pt x="1320" y="562"/>
                  <a:pt x="1317" y="529"/>
                </a:cubicBezTo>
                <a:cubicBezTo>
                  <a:pt x="1294" y="508"/>
                  <a:pt x="1326" y="439"/>
                  <a:pt x="1340" y="410"/>
                </a:cubicBezTo>
                <a:cubicBezTo>
                  <a:pt x="1349" y="385"/>
                  <a:pt x="1362" y="327"/>
                  <a:pt x="1367" y="318"/>
                </a:cubicBezTo>
                <a:cubicBezTo>
                  <a:pt x="1362" y="326"/>
                  <a:pt x="1341" y="371"/>
                  <a:pt x="1332" y="408"/>
                </a:cubicBezTo>
                <a:cubicBezTo>
                  <a:pt x="1306" y="447"/>
                  <a:pt x="1280" y="527"/>
                  <a:pt x="1303" y="548"/>
                </a:cubicBezTo>
                <a:cubicBezTo>
                  <a:pt x="1302" y="575"/>
                  <a:pt x="1295" y="724"/>
                  <a:pt x="1288" y="789"/>
                </a:cubicBezTo>
                <a:cubicBezTo>
                  <a:pt x="1228" y="891"/>
                  <a:pt x="1000" y="1158"/>
                  <a:pt x="862" y="1241"/>
                </a:cubicBezTo>
                <a:cubicBezTo>
                  <a:pt x="861" y="1237"/>
                  <a:pt x="861" y="1234"/>
                  <a:pt x="860" y="1230"/>
                </a:cubicBezTo>
                <a:cubicBezTo>
                  <a:pt x="852" y="1142"/>
                  <a:pt x="855" y="1049"/>
                  <a:pt x="896" y="959"/>
                </a:cubicBezTo>
                <a:cubicBezTo>
                  <a:pt x="930" y="886"/>
                  <a:pt x="955" y="813"/>
                  <a:pt x="972" y="743"/>
                </a:cubicBezTo>
                <a:cubicBezTo>
                  <a:pt x="999" y="730"/>
                  <a:pt x="1045" y="707"/>
                  <a:pt x="1091" y="669"/>
                </a:cubicBezTo>
                <a:cubicBezTo>
                  <a:pt x="1168" y="611"/>
                  <a:pt x="1227" y="516"/>
                  <a:pt x="1237" y="476"/>
                </a:cubicBezTo>
                <a:cubicBezTo>
                  <a:pt x="1229" y="430"/>
                  <a:pt x="1286" y="346"/>
                  <a:pt x="1306" y="300"/>
                </a:cubicBezTo>
                <a:cubicBezTo>
                  <a:pt x="1327" y="257"/>
                  <a:pt x="1315" y="171"/>
                  <a:pt x="1316" y="172"/>
                </a:cubicBezTo>
                <a:cubicBezTo>
                  <a:pt x="1314" y="171"/>
                  <a:pt x="1311" y="240"/>
                  <a:pt x="1295" y="298"/>
                </a:cubicBezTo>
                <a:cubicBezTo>
                  <a:pt x="1262" y="356"/>
                  <a:pt x="1205" y="448"/>
                  <a:pt x="1209" y="493"/>
                </a:cubicBezTo>
                <a:cubicBezTo>
                  <a:pt x="1202" y="514"/>
                  <a:pt x="1164" y="577"/>
                  <a:pt x="1107" y="627"/>
                </a:cubicBezTo>
                <a:cubicBezTo>
                  <a:pt x="1066" y="666"/>
                  <a:pt x="1017" y="692"/>
                  <a:pt x="980" y="706"/>
                </a:cubicBezTo>
                <a:cubicBezTo>
                  <a:pt x="986" y="679"/>
                  <a:pt x="990" y="652"/>
                  <a:pt x="993" y="626"/>
                </a:cubicBezTo>
                <a:cubicBezTo>
                  <a:pt x="1000" y="577"/>
                  <a:pt x="1003" y="531"/>
                  <a:pt x="1004" y="487"/>
                </a:cubicBezTo>
                <a:cubicBezTo>
                  <a:pt x="1038" y="457"/>
                  <a:pt x="1200" y="273"/>
                  <a:pt x="1222" y="205"/>
                </a:cubicBezTo>
                <a:cubicBezTo>
                  <a:pt x="1224" y="162"/>
                  <a:pt x="1282" y="91"/>
                  <a:pt x="1301" y="51"/>
                </a:cubicBezTo>
                <a:cubicBezTo>
                  <a:pt x="1310" y="36"/>
                  <a:pt x="1313" y="17"/>
                  <a:pt x="1312" y="0"/>
                </a:cubicBezTo>
                <a:cubicBezTo>
                  <a:pt x="1305" y="0"/>
                  <a:pt x="1305" y="0"/>
                  <a:pt x="1305" y="0"/>
                </a:cubicBezTo>
                <a:cubicBezTo>
                  <a:pt x="1304" y="15"/>
                  <a:pt x="1300" y="31"/>
                  <a:pt x="1293" y="48"/>
                </a:cubicBezTo>
                <a:close/>
                <a:moveTo>
                  <a:pt x="353" y="1437"/>
                </a:moveTo>
                <a:cubicBezTo>
                  <a:pt x="299" y="1454"/>
                  <a:pt x="242" y="1466"/>
                  <a:pt x="192" y="1474"/>
                </a:cubicBezTo>
                <a:cubicBezTo>
                  <a:pt x="195" y="1472"/>
                  <a:pt x="197" y="1471"/>
                  <a:pt x="199" y="1469"/>
                </a:cubicBezTo>
                <a:cubicBezTo>
                  <a:pt x="195" y="1474"/>
                  <a:pt x="122" y="1290"/>
                  <a:pt x="73" y="1264"/>
                </a:cubicBezTo>
                <a:cubicBezTo>
                  <a:pt x="47" y="1263"/>
                  <a:pt x="28" y="1235"/>
                  <a:pt x="12" y="1211"/>
                </a:cubicBezTo>
                <a:cubicBezTo>
                  <a:pt x="72" y="1192"/>
                  <a:pt x="182" y="1153"/>
                  <a:pt x="240" y="1131"/>
                </a:cubicBezTo>
                <a:cubicBezTo>
                  <a:pt x="284" y="1167"/>
                  <a:pt x="326" y="1202"/>
                  <a:pt x="371" y="1204"/>
                </a:cubicBezTo>
                <a:cubicBezTo>
                  <a:pt x="402" y="1225"/>
                  <a:pt x="455" y="1293"/>
                  <a:pt x="520" y="1377"/>
                </a:cubicBezTo>
                <a:cubicBezTo>
                  <a:pt x="478" y="1394"/>
                  <a:pt x="418" y="1417"/>
                  <a:pt x="353" y="1437"/>
                </a:cubicBezTo>
                <a:close/>
                <a:moveTo>
                  <a:pt x="1637" y="3255"/>
                </a:moveTo>
                <a:cubicBezTo>
                  <a:pt x="1678" y="3146"/>
                  <a:pt x="1731" y="2997"/>
                  <a:pt x="1851" y="2861"/>
                </a:cubicBezTo>
                <a:cubicBezTo>
                  <a:pt x="1883" y="2822"/>
                  <a:pt x="1917" y="2786"/>
                  <a:pt x="1951" y="2751"/>
                </a:cubicBezTo>
                <a:cubicBezTo>
                  <a:pt x="1980" y="2746"/>
                  <a:pt x="2055" y="2738"/>
                  <a:pt x="2137" y="2704"/>
                </a:cubicBezTo>
                <a:cubicBezTo>
                  <a:pt x="2183" y="2687"/>
                  <a:pt x="2231" y="2663"/>
                  <a:pt x="2274" y="2639"/>
                </a:cubicBezTo>
                <a:cubicBezTo>
                  <a:pt x="2248" y="2676"/>
                  <a:pt x="2229" y="2711"/>
                  <a:pt x="2225" y="2737"/>
                </a:cubicBezTo>
                <a:cubicBezTo>
                  <a:pt x="2191" y="2793"/>
                  <a:pt x="2032" y="3059"/>
                  <a:pt x="2000" y="3192"/>
                </a:cubicBezTo>
                <a:cubicBezTo>
                  <a:pt x="1940" y="3230"/>
                  <a:pt x="1861" y="3275"/>
                  <a:pt x="1777" y="3313"/>
                </a:cubicBezTo>
                <a:cubicBezTo>
                  <a:pt x="1671" y="3363"/>
                  <a:pt x="1569" y="3404"/>
                  <a:pt x="1491" y="3423"/>
                </a:cubicBezTo>
                <a:cubicBezTo>
                  <a:pt x="1555" y="3364"/>
                  <a:pt x="1606" y="3308"/>
                  <a:pt x="1637" y="3255"/>
                </a:cubicBezTo>
                <a:close/>
              </a:path>
            </a:pathLst>
          </a:custGeom>
          <a:solidFill>
            <a:srgbClr val="ffd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83"/>
          <p:cNvSpPr/>
          <p:nvPr/>
        </p:nvSpPr>
        <p:spPr>
          <a:xfrm rot="6687600">
            <a:off x="3828240" y="1069200"/>
            <a:ext cx="1241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d49d"/>
                </a:solidFill>
                <a:latin typeface="Microsoft JhengHei"/>
                <a:ea typeface="微软雅黑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5"/>
          <p:cNvSpPr/>
          <p:nvPr/>
        </p:nvSpPr>
        <p:spPr>
          <a:xfrm rot="10800000">
            <a:off x="835200" y="-2034000"/>
            <a:ext cx="3552480" cy="7854840"/>
          </a:xfrm>
          <a:custGeom>
            <a:avLst/>
            <a:gdLst/>
            <a:ahLst/>
            <a:rect l="l" t="t" r="r" b="b"/>
            <a:pathLst>
              <a:path w="2893" h="6400">
                <a:moveTo>
                  <a:pt x="1293" y="48"/>
                </a:moveTo>
                <a:cubicBezTo>
                  <a:pt x="1264" y="97"/>
                  <a:pt x="1204" y="177"/>
                  <a:pt x="1199" y="219"/>
                </a:cubicBezTo>
                <a:cubicBezTo>
                  <a:pt x="1193" y="233"/>
                  <a:pt x="1170" y="268"/>
                  <a:pt x="1140" y="308"/>
                </a:cubicBezTo>
                <a:cubicBezTo>
                  <a:pt x="1140" y="268"/>
                  <a:pt x="1149" y="148"/>
                  <a:pt x="1143" y="108"/>
                </a:cubicBezTo>
                <a:cubicBezTo>
                  <a:pt x="1123" y="89"/>
                  <a:pt x="1142" y="33"/>
                  <a:pt x="1159" y="0"/>
                </a:cubicBezTo>
                <a:cubicBezTo>
                  <a:pt x="1149" y="0"/>
                  <a:pt x="1149" y="0"/>
                  <a:pt x="1149" y="0"/>
                </a:cubicBezTo>
                <a:cubicBezTo>
                  <a:pt x="1125" y="42"/>
                  <a:pt x="1109" y="108"/>
                  <a:pt x="1127" y="127"/>
                </a:cubicBezTo>
                <a:cubicBezTo>
                  <a:pt x="1129" y="154"/>
                  <a:pt x="1118" y="293"/>
                  <a:pt x="1105" y="352"/>
                </a:cubicBezTo>
                <a:cubicBezTo>
                  <a:pt x="1071" y="393"/>
                  <a:pt x="1034" y="433"/>
                  <a:pt x="1005" y="456"/>
                </a:cubicBezTo>
                <a:cubicBezTo>
                  <a:pt x="1007" y="327"/>
                  <a:pt x="996" y="217"/>
                  <a:pt x="1006" y="121"/>
                </a:cubicBezTo>
                <a:cubicBezTo>
                  <a:pt x="1009" y="76"/>
                  <a:pt x="1018" y="35"/>
                  <a:pt x="1029" y="0"/>
                </a:cubicBezTo>
                <a:cubicBezTo>
                  <a:pt x="1021" y="0"/>
                  <a:pt x="1021" y="0"/>
                  <a:pt x="1021" y="0"/>
                </a:cubicBezTo>
                <a:cubicBezTo>
                  <a:pt x="1013" y="23"/>
                  <a:pt x="1005" y="50"/>
                  <a:pt x="999" y="79"/>
                </a:cubicBezTo>
                <a:cubicBezTo>
                  <a:pt x="983" y="148"/>
                  <a:pt x="978" y="227"/>
                  <a:pt x="974" y="315"/>
                </a:cubicBezTo>
                <a:cubicBezTo>
                  <a:pt x="949" y="295"/>
                  <a:pt x="879" y="217"/>
                  <a:pt x="856" y="194"/>
                </a:cubicBezTo>
                <a:cubicBezTo>
                  <a:pt x="820" y="196"/>
                  <a:pt x="824" y="132"/>
                  <a:pt x="832" y="106"/>
                </a:cubicBezTo>
                <a:cubicBezTo>
                  <a:pt x="836" y="83"/>
                  <a:pt x="830" y="32"/>
                  <a:pt x="830" y="28"/>
                </a:cubicBezTo>
                <a:cubicBezTo>
                  <a:pt x="829" y="31"/>
                  <a:pt x="823" y="74"/>
                  <a:pt x="823" y="107"/>
                </a:cubicBezTo>
                <a:cubicBezTo>
                  <a:pt x="805" y="146"/>
                  <a:pt x="815" y="216"/>
                  <a:pt x="850" y="214"/>
                </a:cubicBezTo>
                <a:cubicBezTo>
                  <a:pt x="862" y="231"/>
                  <a:pt x="940" y="316"/>
                  <a:pt x="972" y="357"/>
                </a:cubicBezTo>
                <a:cubicBezTo>
                  <a:pt x="970" y="409"/>
                  <a:pt x="967" y="463"/>
                  <a:pt x="961" y="521"/>
                </a:cubicBezTo>
                <a:cubicBezTo>
                  <a:pt x="952" y="609"/>
                  <a:pt x="935" y="705"/>
                  <a:pt x="899" y="807"/>
                </a:cubicBezTo>
                <a:cubicBezTo>
                  <a:pt x="888" y="841"/>
                  <a:pt x="872" y="876"/>
                  <a:pt x="855" y="912"/>
                </a:cubicBezTo>
                <a:cubicBezTo>
                  <a:pt x="830" y="870"/>
                  <a:pt x="774" y="765"/>
                  <a:pt x="730" y="692"/>
                </a:cubicBezTo>
                <a:cubicBezTo>
                  <a:pt x="730" y="692"/>
                  <a:pt x="730" y="692"/>
                  <a:pt x="730" y="692"/>
                </a:cubicBezTo>
                <a:cubicBezTo>
                  <a:pt x="728" y="687"/>
                  <a:pt x="865" y="485"/>
                  <a:pt x="852" y="421"/>
                </a:cubicBezTo>
                <a:cubicBezTo>
                  <a:pt x="835" y="395"/>
                  <a:pt x="849" y="329"/>
                  <a:pt x="840" y="298"/>
                </a:cubicBezTo>
                <a:cubicBezTo>
                  <a:pt x="836" y="267"/>
                  <a:pt x="779" y="242"/>
                  <a:pt x="780" y="242"/>
                </a:cubicBezTo>
                <a:cubicBezTo>
                  <a:pt x="779" y="243"/>
                  <a:pt x="816" y="268"/>
                  <a:pt x="830" y="302"/>
                </a:cubicBezTo>
                <a:cubicBezTo>
                  <a:pt x="836" y="344"/>
                  <a:pt x="823" y="412"/>
                  <a:pt x="835" y="440"/>
                </a:cubicBezTo>
                <a:cubicBezTo>
                  <a:pt x="841" y="470"/>
                  <a:pt x="764" y="610"/>
                  <a:pt x="717" y="671"/>
                </a:cubicBezTo>
                <a:cubicBezTo>
                  <a:pt x="705" y="653"/>
                  <a:pt x="695" y="638"/>
                  <a:pt x="687" y="628"/>
                </a:cubicBezTo>
                <a:cubicBezTo>
                  <a:pt x="634" y="616"/>
                  <a:pt x="627" y="508"/>
                  <a:pt x="628" y="459"/>
                </a:cubicBezTo>
                <a:cubicBezTo>
                  <a:pt x="623" y="419"/>
                  <a:pt x="598" y="333"/>
                  <a:pt x="598" y="322"/>
                </a:cubicBezTo>
                <a:cubicBezTo>
                  <a:pt x="597" y="332"/>
                  <a:pt x="600" y="408"/>
                  <a:pt x="615" y="463"/>
                </a:cubicBezTo>
                <a:cubicBezTo>
                  <a:pt x="605" y="532"/>
                  <a:pt x="628" y="649"/>
                  <a:pt x="679" y="661"/>
                </a:cubicBezTo>
                <a:cubicBezTo>
                  <a:pt x="691" y="680"/>
                  <a:pt x="725" y="739"/>
                  <a:pt x="759" y="802"/>
                </a:cubicBezTo>
                <a:cubicBezTo>
                  <a:pt x="739" y="800"/>
                  <a:pt x="711" y="796"/>
                  <a:pt x="683" y="784"/>
                </a:cubicBezTo>
                <a:cubicBezTo>
                  <a:pt x="631" y="766"/>
                  <a:pt x="581" y="733"/>
                  <a:pt x="556" y="723"/>
                </a:cubicBezTo>
                <a:cubicBezTo>
                  <a:pt x="513" y="729"/>
                  <a:pt x="484" y="668"/>
                  <a:pt x="473" y="639"/>
                </a:cubicBezTo>
                <a:cubicBezTo>
                  <a:pt x="459" y="617"/>
                  <a:pt x="421" y="575"/>
                  <a:pt x="418" y="567"/>
                </a:cubicBezTo>
                <a:cubicBezTo>
                  <a:pt x="420" y="574"/>
                  <a:pt x="440" y="617"/>
                  <a:pt x="463" y="645"/>
                </a:cubicBezTo>
                <a:cubicBezTo>
                  <a:pt x="472" y="687"/>
                  <a:pt x="516" y="751"/>
                  <a:pt x="558" y="744"/>
                </a:cubicBezTo>
                <a:cubicBezTo>
                  <a:pt x="581" y="762"/>
                  <a:pt x="707" y="829"/>
                  <a:pt x="774" y="832"/>
                </a:cubicBezTo>
                <a:cubicBezTo>
                  <a:pt x="799" y="880"/>
                  <a:pt x="822" y="929"/>
                  <a:pt x="830" y="961"/>
                </a:cubicBezTo>
                <a:cubicBezTo>
                  <a:pt x="832" y="960"/>
                  <a:pt x="833" y="958"/>
                  <a:pt x="835" y="957"/>
                </a:cubicBezTo>
                <a:cubicBezTo>
                  <a:pt x="811" y="1012"/>
                  <a:pt x="789" y="1069"/>
                  <a:pt x="786" y="1125"/>
                </a:cubicBezTo>
                <a:cubicBezTo>
                  <a:pt x="768" y="1317"/>
                  <a:pt x="817" y="1483"/>
                  <a:pt x="852" y="1649"/>
                </a:cubicBezTo>
                <a:cubicBezTo>
                  <a:pt x="804" y="1613"/>
                  <a:pt x="743" y="1557"/>
                  <a:pt x="688" y="1484"/>
                </a:cubicBezTo>
                <a:cubicBezTo>
                  <a:pt x="586" y="1361"/>
                  <a:pt x="478" y="1217"/>
                  <a:pt x="400" y="1153"/>
                </a:cubicBezTo>
                <a:cubicBezTo>
                  <a:pt x="406" y="1114"/>
                  <a:pt x="411" y="1056"/>
                  <a:pt x="392" y="1005"/>
                </a:cubicBezTo>
                <a:cubicBezTo>
                  <a:pt x="388" y="990"/>
                  <a:pt x="383" y="976"/>
                  <a:pt x="378" y="962"/>
                </a:cubicBezTo>
                <a:cubicBezTo>
                  <a:pt x="391" y="929"/>
                  <a:pt x="419" y="856"/>
                  <a:pt x="418" y="803"/>
                </a:cubicBezTo>
                <a:cubicBezTo>
                  <a:pt x="422" y="734"/>
                  <a:pt x="406" y="665"/>
                  <a:pt x="392" y="641"/>
                </a:cubicBezTo>
                <a:cubicBezTo>
                  <a:pt x="360" y="625"/>
                  <a:pt x="357" y="550"/>
                  <a:pt x="348" y="517"/>
                </a:cubicBezTo>
                <a:cubicBezTo>
                  <a:pt x="342" y="483"/>
                  <a:pt x="283" y="448"/>
                  <a:pt x="283" y="450"/>
                </a:cubicBezTo>
                <a:cubicBezTo>
                  <a:pt x="283" y="450"/>
                  <a:pt x="321" y="482"/>
                  <a:pt x="338" y="522"/>
                </a:cubicBezTo>
                <a:cubicBezTo>
                  <a:pt x="344" y="567"/>
                  <a:pt x="353" y="647"/>
                  <a:pt x="383" y="665"/>
                </a:cubicBezTo>
                <a:cubicBezTo>
                  <a:pt x="399" y="686"/>
                  <a:pt x="418" y="860"/>
                  <a:pt x="361" y="923"/>
                </a:cubicBezTo>
                <a:cubicBezTo>
                  <a:pt x="335" y="870"/>
                  <a:pt x="302" y="829"/>
                  <a:pt x="279" y="812"/>
                </a:cubicBezTo>
                <a:cubicBezTo>
                  <a:pt x="276" y="812"/>
                  <a:pt x="273" y="811"/>
                  <a:pt x="269" y="810"/>
                </a:cubicBezTo>
                <a:cubicBezTo>
                  <a:pt x="261" y="755"/>
                  <a:pt x="232" y="597"/>
                  <a:pt x="199" y="570"/>
                </a:cubicBezTo>
                <a:cubicBezTo>
                  <a:pt x="165" y="563"/>
                  <a:pt x="158" y="499"/>
                  <a:pt x="148" y="472"/>
                </a:cubicBezTo>
                <a:cubicBezTo>
                  <a:pt x="140" y="444"/>
                  <a:pt x="82" y="422"/>
                  <a:pt x="81" y="426"/>
                </a:cubicBezTo>
                <a:cubicBezTo>
                  <a:pt x="82" y="424"/>
                  <a:pt x="120" y="446"/>
                  <a:pt x="139" y="478"/>
                </a:cubicBezTo>
                <a:cubicBezTo>
                  <a:pt x="146" y="516"/>
                  <a:pt x="160" y="584"/>
                  <a:pt x="192" y="592"/>
                </a:cubicBezTo>
                <a:cubicBezTo>
                  <a:pt x="208" y="610"/>
                  <a:pt x="243" y="726"/>
                  <a:pt x="237" y="792"/>
                </a:cubicBezTo>
                <a:cubicBezTo>
                  <a:pt x="202" y="762"/>
                  <a:pt x="172" y="708"/>
                  <a:pt x="148" y="684"/>
                </a:cubicBezTo>
                <a:cubicBezTo>
                  <a:pt x="119" y="648"/>
                  <a:pt x="7" y="641"/>
                  <a:pt x="8" y="643"/>
                </a:cubicBezTo>
                <a:cubicBezTo>
                  <a:pt x="7" y="643"/>
                  <a:pt x="87" y="657"/>
                  <a:pt x="136" y="694"/>
                </a:cubicBezTo>
                <a:cubicBezTo>
                  <a:pt x="171" y="744"/>
                  <a:pt x="224" y="837"/>
                  <a:pt x="277" y="846"/>
                </a:cubicBezTo>
                <a:cubicBezTo>
                  <a:pt x="293" y="861"/>
                  <a:pt x="332" y="916"/>
                  <a:pt x="356" y="987"/>
                </a:cubicBezTo>
                <a:cubicBezTo>
                  <a:pt x="374" y="1032"/>
                  <a:pt x="379" y="1087"/>
                  <a:pt x="373" y="1133"/>
                </a:cubicBezTo>
                <a:cubicBezTo>
                  <a:pt x="372" y="1133"/>
                  <a:pt x="372" y="1132"/>
                  <a:pt x="372" y="1132"/>
                </a:cubicBezTo>
                <a:cubicBezTo>
                  <a:pt x="307" y="1130"/>
                  <a:pt x="257" y="1076"/>
                  <a:pt x="191" y="1040"/>
                </a:cubicBezTo>
                <a:cubicBezTo>
                  <a:pt x="141" y="1012"/>
                  <a:pt x="85" y="989"/>
                  <a:pt x="39" y="973"/>
                </a:cubicBezTo>
                <a:cubicBezTo>
                  <a:pt x="38" y="960"/>
                  <a:pt x="43" y="926"/>
                  <a:pt x="36" y="892"/>
                </a:cubicBezTo>
                <a:cubicBezTo>
                  <a:pt x="31" y="863"/>
                  <a:pt x="16" y="837"/>
                  <a:pt x="0" y="822"/>
                </a:cubicBezTo>
                <a:cubicBezTo>
                  <a:pt x="0" y="853"/>
                  <a:pt x="0" y="853"/>
                  <a:pt x="0" y="853"/>
                </a:cubicBezTo>
                <a:cubicBezTo>
                  <a:pt x="15" y="882"/>
                  <a:pt x="25" y="930"/>
                  <a:pt x="18" y="966"/>
                </a:cubicBezTo>
                <a:cubicBezTo>
                  <a:pt x="11" y="964"/>
                  <a:pt x="5" y="962"/>
                  <a:pt x="0" y="960"/>
                </a:cubicBezTo>
                <a:cubicBezTo>
                  <a:pt x="0" y="997"/>
                  <a:pt x="0" y="997"/>
                  <a:pt x="0" y="997"/>
                </a:cubicBezTo>
                <a:cubicBezTo>
                  <a:pt x="58" y="1023"/>
                  <a:pt x="135" y="1054"/>
                  <a:pt x="191" y="1094"/>
                </a:cubicBezTo>
                <a:cubicBezTo>
                  <a:pt x="201" y="1101"/>
                  <a:pt x="211" y="1108"/>
                  <a:pt x="220" y="1115"/>
                </a:cubicBezTo>
                <a:cubicBezTo>
                  <a:pt x="170" y="1138"/>
                  <a:pt x="68" y="1176"/>
                  <a:pt x="3" y="1198"/>
                </a:cubicBezTo>
                <a:cubicBezTo>
                  <a:pt x="2" y="1196"/>
                  <a:pt x="1" y="1194"/>
                  <a:pt x="0" y="1193"/>
                </a:cubicBezTo>
                <a:cubicBezTo>
                  <a:pt x="0" y="1218"/>
                  <a:pt x="0" y="1218"/>
                  <a:pt x="0" y="1218"/>
                </a:cubicBezTo>
                <a:cubicBezTo>
                  <a:pt x="19" y="1249"/>
                  <a:pt x="43" y="1284"/>
                  <a:pt x="70" y="1287"/>
                </a:cubicBezTo>
                <a:cubicBezTo>
                  <a:pt x="93" y="1302"/>
                  <a:pt x="154" y="1416"/>
                  <a:pt x="169" y="1477"/>
                </a:cubicBezTo>
                <a:cubicBezTo>
                  <a:pt x="121" y="1484"/>
                  <a:pt x="80" y="1488"/>
                  <a:pt x="54" y="1489"/>
                </a:cubicBezTo>
                <a:cubicBezTo>
                  <a:pt x="37" y="1498"/>
                  <a:pt x="19" y="1501"/>
                  <a:pt x="0" y="1501"/>
                </a:cubicBezTo>
                <a:cubicBezTo>
                  <a:pt x="0" y="1523"/>
                  <a:pt x="0" y="1523"/>
                  <a:pt x="0" y="1523"/>
                </a:cubicBezTo>
                <a:cubicBezTo>
                  <a:pt x="29" y="1525"/>
                  <a:pt x="56" y="1522"/>
                  <a:pt x="78" y="1510"/>
                </a:cubicBezTo>
                <a:cubicBezTo>
                  <a:pt x="104" y="1509"/>
                  <a:pt x="174" y="1505"/>
                  <a:pt x="256" y="1487"/>
                </a:cubicBezTo>
                <a:cubicBezTo>
                  <a:pt x="242" y="1508"/>
                  <a:pt x="212" y="1545"/>
                  <a:pt x="169" y="1577"/>
                </a:cubicBezTo>
                <a:cubicBezTo>
                  <a:pt x="108" y="1627"/>
                  <a:pt x="33" y="1663"/>
                  <a:pt x="0" y="1682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8" y="1699"/>
                  <a:pt x="14" y="1693"/>
                  <a:pt x="20" y="1687"/>
                </a:cubicBezTo>
                <a:cubicBezTo>
                  <a:pt x="58" y="1674"/>
                  <a:pt x="241" y="1563"/>
                  <a:pt x="288" y="1480"/>
                </a:cubicBezTo>
                <a:cubicBezTo>
                  <a:pt x="293" y="1478"/>
                  <a:pt x="299" y="1477"/>
                  <a:pt x="304" y="1476"/>
                </a:cubicBezTo>
                <a:cubicBezTo>
                  <a:pt x="388" y="1455"/>
                  <a:pt x="477" y="1423"/>
                  <a:pt x="539" y="1402"/>
                </a:cubicBezTo>
                <a:cubicBezTo>
                  <a:pt x="642" y="1536"/>
                  <a:pt x="767" y="1699"/>
                  <a:pt x="864" y="1768"/>
                </a:cubicBezTo>
                <a:cubicBezTo>
                  <a:pt x="868" y="1943"/>
                  <a:pt x="869" y="2165"/>
                  <a:pt x="750" y="2364"/>
                </a:cubicBezTo>
                <a:cubicBezTo>
                  <a:pt x="740" y="2380"/>
                  <a:pt x="729" y="2395"/>
                  <a:pt x="718" y="2411"/>
                </a:cubicBezTo>
                <a:cubicBezTo>
                  <a:pt x="650" y="2379"/>
                  <a:pt x="543" y="2321"/>
                  <a:pt x="442" y="2269"/>
                </a:cubicBezTo>
                <a:cubicBezTo>
                  <a:pt x="454" y="2236"/>
                  <a:pt x="469" y="2186"/>
                  <a:pt x="470" y="2135"/>
                </a:cubicBezTo>
                <a:cubicBezTo>
                  <a:pt x="471" y="2117"/>
                  <a:pt x="470" y="2100"/>
                  <a:pt x="469" y="2083"/>
                </a:cubicBezTo>
                <a:cubicBezTo>
                  <a:pt x="489" y="2036"/>
                  <a:pt x="533" y="1867"/>
                  <a:pt x="513" y="1823"/>
                </a:cubicBezTo>
                <a:cubicBezTo>
                  <a:pt x="489" y="1803"/>
                  <a:pt x="502" y="1735"/>
                  <a:pt x="497" y="1704"/>
                </a:cubicBezTo>
                <a:cubicBezTo>
                  <a:pt x="496" y="1671"/>
                  <a:pt x="441" y="1644"/>
                  <a:pt x="442" y="1646"/>
                </a:cubicBezTo>
                <a:cubicBezTo>
                  <a:pt x="441" y="1646"/>
                  <a:pt x="478" y="1670"/>
                  <a:pt x="488" y="1708"/>
                </a:cubicBezTo>
                <a:cubicBezTo>
                  <a:pt x="488" y="1749"/>
                  <a:pt x="477" y="1823"/>
                  <a:pt x="499" y="1844"/>
                </a:cubicBezTo>
                <a:cubicBezTo>
                  <a:pt x="505" y="1864"/>
                  <a:pt x="491" y="1976"/>
                  <a:pt x="462" y="2044"/>
                </a:cubicBezTo>
                <a:cubicBezTo>
                  <a:pt x="450" y="1995"/>
                  <a:pt x="428" y="1958"/>
                  <a:pt x="408" y="1946"/>
                </a:cubicBezTo>
                <a:cubicBezTo>
                  <a:pt x="346" y="1953"/>
                  <a:pt x="327" y="1869"/>
                  <a:pt x="297" y="1839"/>
                </a:cubicBezTo>
                <a:cubicBezTo>
                  <a:pt x="273" y="1807"/>
                  <a:pt x="168" y="1824"/>
                  <a:pt x="170" y="1823"/>
                </a:cubicBezTo>
                <a:cubicBezTo>
                  <a:pt x="169" y="1825"/>
                  <a:pt x="238" y="1829"/>
                  <a:pt x="282" y="1855"/>
                </a:cubicBezTo>
                <a:cubicBezTo>
                  <a:pt x="299" y="1887"/>
                  <a:pt x="316" y="1933"/>
                  <a:pt x="342" y="1960"/>
                </a:cubicBezTo>
                <a:cubicBezTo>
                  <a:pt x="291" y="1962"/>
                  <a:pt x="207" y="1955"/>
                  <a:pt x="177" y="1949"/>
                </a:cubicBezTo>
                <a:cubicBezTo>
                  <a:pt x="141" y="1968"/>
                  <a:pt x="105" y="1929"/>
                  <a:pt x="91" y="1912"/>
                </a:cubicBezTo>
                <a:cubicBezTo>
                  <a:pt x="76" y="1898"/>
                  <a:pt x="29" y="1885"/>
                  <a:pt x="25" y="1881"/>
                </a:cubicBezTo>
                <a:cubicBezTo>
                  <a:pt x="28" y="1885"/>
                  <a:pt x="58" y="1906"/>
                  <a:pt x="83" y="1920"/>
                </a:cubicBezTo>
                <a:cubicBezTo>
                  <a:pt x="98" y="1948"/>
                  <a:pt x="146" y="1985"/>
                  <a:pt x="182" y="1966"/>
                </a:cubicBezTo>
                <a:cubicBezTo>
                  <a:pt x="206" y="1971"/>
                  <a:pt x="321" y="1990"/>
                  <a:pt x="377" y="1982"/>
                </a:cubicBezTo>
                <a:cubicBezTo>
                  <a:pt x="382" y="1983"/>
                  <a:pt x="387" y="1984"/>
                  <a:pt x="393" y="1984"/>
                </a:cubicBezTo>
                <a:cubicBezTo>
                  <a:pt x="407" y="1995"/>
                  <a:pt x="433" y="2047"/>
                  <a:pt x="433" y="2116"/>
                </a:cubicBezTo>
                <a:cubicBezTo>
                  <a:pt x="434" y="2161"/>
                  <a:pt x="422" y="2212"/>
                  <a:pt x="406" y="2251"/>
                </a:cubicBezTo>
                <a:cubicBezTo>
                  <a:pt x="337" y="2216"/>
                  <a:pt x="274" y="2187"/>
                  <a:pt x="235" y="2176"/>
                </a:cubicBezTo>
                <a:cubicBezTo>
                  <a:pt x="121" y="2213"/>
                  <a:pt x="39" y="2067"/>
                  <a:pt x="1" y="2004"/>
                </a:cubicBezTo>
                <a:cubicBezTo>
                  <a:pt x="1" y="2003"/>
                  <a:pt x="0" y="2002"/>
                  <a:pt x="0" y="2002"/>
                </a:cubicBezTo>
                <a:cubicBezTo>
                  <a:pt x="0" y="2078"/>
                  <a:pt x="0" y="2078"/>
                  <a:pt x="0" y="2078"/>
                </a:cubicBezTo>
                <a:cubicBezTo>
                  <a:pt x="42" y="2154"/>
                  <a:pt x="119" y="2234"/>
                  <a:pt x="197" y="2239"/>
                </a:cubicBezTo>
                <a:cubicBezTo>
                  <a:pt x="173" y="2252"/>
                  <a:pt x="139" y="2265"/>
                  <a:pt x="99" y="2268"/>
                </a:cubicBezTo>
                <a:cubicBezTo>
                  <a:pt x="65" y="2273"/>
                  <a:pt x="31" y="2274"/>
                  <a:pt x="0" y="2273"/>
                </a:cubicBezTo>
                <a:cubicBezTo>
                  <a:pt x="0" y="2298"/>
                  <a:pt x="0" y="2298"/>
                  <a:pt x="0" y="2298"/>
                </a:cubicBezTo>
                <a:cubicBezTo>
                  <a:pt x="78" y="2300"/>
                  <a:pt x="188" y="2293"/>
                  <a:pt x="251" y="2242"/>
                </a:cubicBezTo>
                <a:cubicBezTo>
                  <a:pt x="250" y="2241"/>
                  <a:pt x="249" y="2240"/>
                  <a:pt x="249" y="2239"/>
                </a:cubicBezTo>
                <a:cubicBezTo>
                  <a:pt x="321" y="2271"/>
                  <a:pt x="539" y="2392"/>
                  <a:pt x="669" y="2476"/>
                </a:cubicBezTo>
                <a:cubicBezTo>
                  <a:pt x="652" y="2499"/>
                  <a:pt x="635" y="2523"/>
                  <a:pt x="620" y="2547"/>
                </a:cubicBezTo>
                <a:cubicBezTo>
                  <a:pt x="573" y="2620"/>
                  <a:pt x="535" y="2695"/>
                  <a:pt x="502" y="2770"/>
                </a:cubicBezTo>
                <a:cubicBezTo>
                  <a:pt x="437" y="2920"/>
                  <a:pt x="392" y="3070"/>
                  <a:pt x="360" y="3214"/>
                </a:cubicBezTo>
                <a:cubicBezTo>
                  <a:pt x="295" y="3504"/>
                  <a:pt x="276" y="3774"/>
                  <a:pt x="285" y="4003"/>
                </a:cubicBezTo>
                <a:cubicBezTo>
                  <a:pt x="287" y="4031"/>
                  <a:pt x="288" y="4059"/>
                  <a:pt x="291" y="4087"/>
                </a:cubicBezTo>
                <a:cubicBezTo>
                  <a:pt x="293" y="4115"/>
                  <a:pt x="293" y="4115"/>
                  <a:pt x="293" y="4115"/>
                </a:cubicBezTo>
                <a:cubicBezTo>
                  <a:pt x="270" y="4169"/>
                  <a:pt x="252" y="4222"/>
                  <a:pt x="237" y="4272"/>
                </a:cubicBezTo>
                <a:cubicBezTo>
                  <a:pt x="231" y="4295"/>
                  <a:pt x="225" y="4317"/>
                  <a:pt x="220" y="4339"/>
                </a:cubicBezTo>
                <a:cubicBezTo>
                  <a:pt x="196" y="4313"/>
                  <a:pt x="171" y="4277"/>
                  <a:pt x="153" y="4231"/>
                </a:cubicBezTo>
                <a:cubicBezTo>
                  <a:pt x="114" y="4147"/>
                  <a:pt x="88" y="4043"/>
                  <a:pt x="62" y="3974"/>
                </a:cubicBezTo>
                <a:cubicBezTo>
                  <a:pt x="73" y="3956"/>
                  <a:pt x="114" y="3896"/>
                  <a:pt x="112" y="3836"/>
                </a:cubicBezTo>
                <a:cubicBezTo>
                  <a:pt x="116" y="3765"/>
                  <a:pt x="100" y="3700"/>
                  <a:pt x="87" y="3675"/>
                </a:cubicBezTo>
                <a:cubicBezTo>
                  <a:pt x="46" y="3662"/>
                  <a:pt x="63" y="3579"/>
                  <a:pt x="70" y="3542"/>
                </a:cubicBezTo>
                <a:cubicBezTo>
                  <a:pt x="73" y="3509"/>
                  <a:pt x="51" y="3442"/>
                  <a:pt x="54" y="3440"/>
                </a:cubicBezTo>
                <a:cubicBezTo>
                  <a:pt x="52" y="3441"/>
                  <a:pt x="52" y="3500"/>
                  <a:pt x="57" y="3545"/>
                </a:cubicBezTo>
                <a:cubicBezTo>
                  <a:pt x="39" y="3597"/>
                  <a:pt x="33" y="3688"/>
                  <a:pt x="71" y="3701"/>
                </a:cubicBezTo>
                <a:cubicBezTo>
                  <a:pt x="84" y="3721"/>
                  <a:pt x="105" y="3882"/>
                  <a:pt x="50" y="3943"/>
                </a:cubicBezTo>
                <a:cubicBezTo>
                  <a:pt x="45" y="3933"/>
                  <a:pt x="41" y="3924"/>
                  <a:pt x="36" y="3917"/>
                </a:cubicBezTo>
                <a:cubicBezTo>
                  <a:pt x="21" y="3913"/>
                  <a:pt x="9" y="3904"/>
                  <a:pt x="0" y="3893"/>
                </a:cubicBezTo>
                <a:cubicBezTo>
                  <a:pt x="0" y="3974"/>
                  <a:pt x="0" y="3974"/>
                  <a:pt x="0" y="3974"/>
                </a:cubicBezTo>
                <a:cubicBezTo>
                  <a:pt x="1" y="3975"/>
                  <a:pt x="3" y="3976"/>
                  <a:pt x="4" y="3976"/>
                </a:cubicBezTo>
                <a:cubicBezTo>
                  <a:pt x="18" y="4003"/>
                  <a:pt x="37" y="4083"/>
                  <a:pt x="65" y="4173"/>
                </a:cubicBezTo>
                <a:cubicBezTo>
                  <a:pt x="47" y="4173"/>
                  <a:pt x="24" y="4171"/>
                  <a:pt x="0" y="4167"/>
                </a:cubicBezTo>
                <a:cubicBezTo>
                  <a:pt x="0" y="4198"/>
                  <a:pt x="0" y="4198"/>
                  <a:pt x="0" y="4198"/>
                </a:cubicBezTo>
                <a:cubicBezTo>
                  <a:pt x="28" y="4204"/>
                  <a:pt x="55" y="4208"/>
                  <a:pt x="77" y="4210"/>
                </a:cubicBezTo>
                <a:cubicBezTo>
                  <a:pt x="78" y="4214"/>
                  <a:pt x="80" y="4217"/>
                  <a:pt x="81" y="4221"/>
                </a:cubicBezTo>
                <a:cubicBezTo>
                  <a:pt x="108" y="4309"/>
                  <a:pt x="157" y="4389"/>
                  <a:pt x="201" y="4440"/>
                </a:cubicBezTo>
                <a:cubicBezTo>
                  <a:pt x="196" y="4480"/>
                  <a:pt x="194" y="4517"/>
                  <a:pt x="196" y="4550"/>
                </a:cubicBezTo>
                <a:cubicBezTo>
                  <a:pt x="157" y="4709"/>
                  <a:pt x="117" y="5027"/>
                  <a:pt x="198" y="5368"/>
                </a:cubicBezTo>
                <a:cubicBezTo>
                  <a:pt x="234" y="5540"/>
                  <a:pt x="293" y="5719"/>
                  <a:pt x="341" y="5915"/>
                </a:cubicBezTo>
                <a:cubicBezTo>
                  <a:pt x="375" y="6062"/>
                  <a:pt x="403" y="6224"/>
                  <a:pt x="390" y="6400"/>
                </a:cubicBezTo>
                <a:cubicBezTo>
                  <a:pt x="533" y="6400"/>
                  <a:pt x="533" y="6400"/>
                  <a:pt x="533" y="6400"/>
                </a:cubicBezTo>
                <a:cubicBezTo>
                  <a:pt x="542" y="6300"/>
                  <a:pt x="540" y="6205"/>
                  <a:pt x="531" y="6116"/>
                </a:cubicBezTo>
                <a:cubicBezTo>
                  <a:pt x="509" y="5929"/>
                  <a:pt x="463" y="5764"/>
                  <a:pt x="418" y="5610"/>
                </a:cubicBezTo>
                <a:cubicBezTo>
                  <a:pt x="456" y="5527"/>
                  <a:pt x="608" y="5277"/>
                  <a:pt x="682" y="5106"/>
                </a:cubicBezTo>
                <a:cubicBezTo>
                  <a:pt x="694" y="5092"/>
                  <a:pt x="762" y="5040"/>
                  <a:pt x="826" y="4970"/>
                </a:cubicBezTo>
                <a:cubicBezTo>
                  <a:pt x="900" y="4894"/>
                  <a:pt x="972" y="4797"/>
                  <a:pt x="988" y="4750"/>
                </a:cubicBezTo>
                <a:cubicBezTo>
                  <a:pt x="980" y="4688"/>
                  <a:pt x="1066" y="4605"/>
                  <a:pt x="1094" y="4550"/>
                </a:cubicBezTo>
                <a:cubicBezTo>
                  <a:pt x="1129" y="4494"/>
                  <a:pt x="1087" y="4403"/>
                  <a:pt x="1085" y="4408"/>
                </a:cubicBezTo>
                <a:cubicBezTo>
                  <a:pt x="1084" y="4407"/>
                  <a:pt x="1106" y="4476"/>
                  <a:pt x="1078" y="4546"/>
                </a:cubicBezTo>
                <a:cubicBezTo>
                  <a:pt x="1032" y="4610"/>
                  <a:pt x="947" y="4702"/>
                  <a:pt x="952" y="4763"/>
                </a:cubicBezTo>
                <a:cubicBezTo>
                  <a:pt x="937" y="4805"/>
                  <a:pt x="806" y="4958"/>
                  <a:pt x="711" y="5031"/>
                </a:cubicBezTo>
                <a:cubicBezTo>
                  <a:pt x="717" y="5012"/>
                  <a:pt x="721" y="4996"/>
                  <a:pt x="723" y="4982"/>
                </a:cubicBezTo>
                <a:cubicBezTo>
                  <a:pt x="671" y="4889"/>
                  <a:pt x="817" y="4737"/>
                  <a:pt x="867" y="4652"/>
                </a:cubicBezTo>
                <a:cubicBezTo>
                  <a:pt x="891" y="4613"/>
                  <a:pt x="898" y="4545"/>
                  <a:pt x="888" y="4495"/>
                </a:cubicBezTo>
                <a:cubicBezTo>
                  <a:pt x="878" y="4444"/>
                  <a:pt x="846" y="4432"/>
                  <a:pt x="844" y="4431"/>
                </a:cubicBezTo>
                <a:cubicBezTo>
                  <a:pt x="842" y="4432"/>
                  <a:pt x="861" y="4443"/>
                  <a:pt x="862" y="4487"/>
                </a:cubicBezTo>
                <a:cubicBezTo>
                  <a:pt x="865" y="4529"/>
                  <a:pt x="855" y="4591"/>
                  <a:pt x="835" y="4645"/>
                </a:cubicBezTo>
                <a:cubicBezTo>
                  <a:pt x="748" y="4747"/>
                  <a:pt x="611" y="4921"/>
                  <a:pt x="655" y="5014"/>
                </a:cubicBezTo>
                <a:cubicBezTo>
                  <a:pt x="648" y="5048"/>
                  <a:pt x="609" y="5128"/>
                  <a:pt x="558" y="5222"/>
                </a:cubicBezTo>
                <a:cubicBezTo>
                  <a:pt x="554" y="5127"/>
                  <a:pt x="558" y="4951"/>
                  <a:pt x="543" y="4895"/>
                </a:cubicBezTo>
                <a:cubicBezTo>
                  <a:pt x="483" y="4866"/>
                  <a:pt x="544" y="4743"/>
                  <a:pt x="569" y="4692"/>
                </a:cubicBezTo>
                <a:cubicBezTo>
                  <a:pt x="586" y="4647"/>
                  <a:pt x="582" y="4544"/>
                  <a:pt x="587" y="4534"/>
                </a:cubicBezTo>
                <a:cubicBezTo>
                  <a:pt x="582" y="4542"/>
                  <a:pt x="558" y="4627"/>
                  <a:pt x="548" y="4692"/>
                </a:cubicBezTo>
                <a:cubicBezTo>
                  <a:pt x="500" y="4762"/>
                  <a:pt x="452" y="4902"/>
                  <a:pt x="509" y="4931"/>
                </a:cubicBezTo>
                <a:cubicBezTo>
                  <a:pt x="514" y="4973"/>
                  <a:pt x="506" y="5212"/>
                  <a:pt x="494" y="5334"/>
                </a:cubicBezTo>
                <a:cubicBezTo>
                  <a:pt x="459" y="5394"/>
                  <a:pt x="422" y="5454"/>
                  <a:pt x="388" y="5507"/>
                </a:cubicBezTo>
                <a:cubicBezTo>
                  <a:pt x="375" y="5464"/>
                  <a:pt x="364" y="5421"/>
                  <a:pt x="353" y="5379"/>
                </a:cubicBezTo>
                <a:cubicBezTo>
                  <a:pt x="295" y="5158"/>
                  <a:pt x="270" y="4943"/>
                  <a:pt x="290" y="4744"/>
                </a:cubicBezTo>
                <a:cubicBezTo>
                  <a:pt x="301" y="4625"/>
                  <a:pt x="326" y="4512"/>
                  <a:pt x="354" y="4412"/>
                </a:cubicBezTo>
                <a:cubicBezTo>
                  <a:pt x="431" y="4308"/>
                  <a:pt x="594" y="4117"/>
                  <a:pt x="811" y="3948"/>
                </a:cubicBezTo>
                <a:cubicBezTo>
                  <a:pt x="816" y="3945"/>
                  <a:pt x="820" y="3942"/>
                  <a:pt x="824" y="3938"/>
                </a:cubicBezTo>
                <a:cubicBezTo>
                  <a:pt x="846" y="3937"/>
                  <a:pt x="876" y="3940"/>
                  <a:pt x="907" y="3949"/>
                </a:cubicBezTo>
                <a:cubicBezTo>
                  <a:pt x="970" y="3965"/>
                  <a:pt x="1043" y="3988"/>
                  <a:pt x="1085" y="3977"/>
                </a:cubicBezTo>
                <a:cubicBezTo>
                  <a:pt x="1149" y="3922"/>
                  <a:pt x="1202" y="3980"/>
                  <a:pt x="1249" y="3982"/>
                </a:cubicBezTo>
                <a:cubicBezTo>
                  <a:pt x="1297" y="3991"/>
                  <a:pt x="1381" y="3891"/>
                  <a:pt x="1376" y="3894"/>
                </a:cubicBezTo>
                <a:cubicBezTo>
                  <a:pt x="1377" y="3891"/>
                  <a:pt x="1314" y="3950"/>
                  <a:pt x="1256" y="3960"/>
                </a:cubicBezTo>
                <a:cubicBezTo>
                  <a:pt x="1206" y="3939"/>
                  <a:pt x="1147" y="3890"/>
                  <a:pt x="1083" y="3940"/>
                </a:cubicBezTo>
                <a:cubicBezTo>
                  <a:pt x="1051" y="3945"/>
                  <a:pt x="965" y="3910"/>
                  <a:pt x="886" y="3890"/>
                </a:cubicBezTo>
                <a:cubicBezTo>
                  <a:pt x="1048" y="3766"/>
                  <a:pt x="1226" y="3642"/>
                  <a:pt x="1372" y="3525"/>
                </a:cubicBezTo>
                <a:cubicBezTo>
                  <a:pt x="1450" y="3498"/>
                  <a:pt x="1597" y="3451"/>
                  <a:pt x="1716" y="3396"/>
                </a:cubicBezTo>
                <a:cubicBezTo>
                  <a:pt x="1777" y="3369"/>
                  <a:pt x="1840" y="3337"/>
                  <a:pt x="1899" y="3304"/>
                </a:cubicBezTo>
                <a:cubicBezTo>
                  <a:pt x="1923" y="3324"/>
                  <a:pt x="1972" y="3366"/>
                  <a:pt x="2051" y="3375"/>
                </a:cubicBezTo>
                <a:cubicBezTo>
                  <a:pt x="2071" y="3379"/>
                  <a:pt x="2093" y="3380"/>
                  <a:pt x="2115" y="3381"/>
                </a:cubicBezTo>
                <a:cubicBezTo>
                  <a:pt x="2144" y="3417"/>
                  <a:pt x="2253" y="3517"/>
                  <a:pt x="2312" y="3514"/>
                </a:cubicBezTo>
                <a:cubicBezTo>
                  <a:pt x="2354" y="3501"/>
                  <a:pt x="2406" y="3535"/>
                  <a:pt x="2441" y="3541"/>
                </a:cubicBezTo>
                <a:cubicBezTo>
                  <a:pt x="2473" y="3551"/>
                  <a:pt x="2554" y="3509"/>
                  <a:pt x="2553" y="3509"/>
                </a:cubicBezTo>
                <a:cubicBezTo>
                  <a:pt x="2553" y="3508"/>
                  <a:pt x="2492" y="3535"/>
                  <a:pt x="2446" y="3531"/>
                </a:cubicBezTo>
                <a:cubicBezTo>
                  <a:pt x="2406" y="3519"/>
                  <a:pt x="2346" y="3483"/>
                  <a:pt x="2305" y="3495"/>
                </a:cubicBezTo>
                <a:cubicBezTo>
                  <a:pt x="2275" y="3493"/>
                  <a:pt x="2175" y="3436"/>
                  <a:pt x="2148" y="3380"/>
                </a:cubicBezTo>
                <a:cubicBezTo>
                  <a:pt x="2226" y="3377"/>
                  <a:pt x="2303" y="3358"/>
                  <a:pt x="2341" y="3343"/>
                </a:cubicBezTo>
                <a:cubicBezTo>
                  <a:pt x="2403" y="3295"/>
                  <a:pt x="2529" y="3285"/>
                  <a:pt x="2591" y="3273"/>
                </a:cubicBezTo>
                <a:cubicBezTo>
                  <a:pt x="2649" y="3261"/>
                  <a:pt x="2780" y="3193"/>
                  <a:pt x="2780" y="3195"/>
                </a:cubicBezTo>
                <a:cubicBezTo>
                  <a:pt x="2781" y="3193"/>
                  <a:pt x="2678" y="3231"/>
                  <a:pt x="2595" y="3259"/>
                </a:cubicBezTo>
                <a:cubicBezTo>
                  <a:pt x="2517" y="3266"/>
                  <a:pt x="2374" y="3287"/>
                  <a:pt x="2313" y="3331"/>
                </a:cubicBezTo>
                <a:cubicBezTo>
                  <a:pt x="2312" y="3331"/>
                  <a:pt x="2312" y="3331"/>
                  <a:pt x="2311" y="3331"/>
                </a:cubicBezTo>
                <a:cubicBezTo>
                  <a:pt x="2338" y="3274"/>
                  <a:pt x="2430" y="3127"/>
                  <a:pt x="2462" y="3080"/>
                </a:cubicBezTo>
                <a:cubicBezTo>
                  <a:pt x="2467" y="3038"/>
                  <a:pt x="2536" y="2982"/>
                  <a:pt x="2567" y="2960"/>
                </a:cubicBezTo>
                <a:cubicBezTo>
                  <a:pt x="2592" y="2937"/>
                  <a:pt x="2646" y="2884"/>
                  <a:pt x="2657" y="2880"/>
                </a:cubicBezTo>
                <a:cubicBezTo>
                  <a:pt x="2648" y="2883"/>
                  <a:pt x="2598" y="2916"/>
                  <a:pt x="2564" y="2953"/>
                </a:cubicBezTo>
                <a:cubicBezTo>
                  <a:pt x="2520" y="2978"/>
                  <a:pt x="2445" y="3050"/>
                  <a:pt x="2440" y="3091"/>
                </a:cubicBezTo>
                <a:cubicBezTo>
                  <a:pt x="2419" y="3122"/>
                  <a:pt x="2323" y="3264"/>
                  <a:pt x="2285" y="3338"/>
                </a:cubicBezTo>
                <a:cubicBezTo>
                  <a:pt x="2244" y="3347"/>
                  <a:pt x="2172" y="3358"/>
                  <a:pt x="2103" y="3353"/>
                </a:cubicBezTo>
                <a:cubicBezTo>
                  <a:pt x="2029" y="3350"/>
                  <a:pt x="1968" y="3317"/>
                  <a:pt x="1936" y="3283"/>
                </a:cubicBezTo>
                <a:cubicBezTo>
                  <a:pt x="2030" y="3228"/>
                  <a:pt x="2110" y="3171"/>
                  <a:pt x="2152" y="3130"/>
                </a:cubicBezTo>
                <a:cubicBezTo>
                  <a:pt x="2201" y="3033"/>
                  <a:pt x="2344" y="2953"/>
                  <a:pt x="2441" y="2882"/>
                </a:cubicBezTo>
                <a:cubicBezTo>
                  <a:pt x="2440" y="2884"/>
                  <a:pt x="2439" y="2886"/>
                  <a:pt x="2438" y="2888"/>
                </a:cubicBezTo>
                <a:cubicBezTo>
                  <a:pt x="2436" y="2889"/>
                  <a:pt x="2637" y="2901"/>
                  <a:pt x="2700" y="2855"/>
                </a:cubicBezTo>
                <a:cubicBezTo>
                  <a:pt x="2731" y="2821"/>
                  <a:pt x="2797" y="2810"/>
                  <a:pt x="2832" y="2784"/>
                </a:cubicBezTo>
                <a:cubicBezTo>
                  <a:pt x="2871" y="2762"/>
                  <a:pt x="2893" y="2681"/>
                  <a:pt x="2889" y="2685"/>
                </a:cubicBezTo>
                <a:cubicBezTo>
                  <a:pt x="2890" y="2683"/>
                  <a:pt x="2872" y="2742"/>
                  <a:pt x="2830" y="2776"/>
                </a:cubicBezTo>
                <a:cubicBezTo>
                  <a:pt x="2786" y="2800"/>
                  <a:pt x="2716" y="2816"/>
                  <a:pt x="2684" y="2847"/>
                </a:cubicBezTo>
                <a:cubicBezTo>
                  <a:pt x="2654" y="2866"/>
                  <a:pt x="2522" y="2879"/>
                  <a:pt x="2466" y="2863"/>
                </a:cubicBezTo>
                <a:cubicBezTo>
                  <a:pt x="2475" y="2856"/>
                  <a:pt x="2484" y="2849"/>
                  <a:pt x="2491" y="2841"/>
                </a:cubicBezTo>
                <a:cubicBezTo>
                  <a:pt x="2533" y="2807"/>
                  <a:pt x="2582" y="2730"/>
                  <a:pt x="2606" y="2665"/>
                </a:cubicBezTo>
                <a:cubicBezTo>
                  <a:pt x="2627" y="2612"/>
                  <a:pt x="2632" y="2569"/>
                  <a:pt x="2634" y="2555"/>
                </a:cubicBezTo>
                <a:cubicBezTo>
                  <a:pt x="2626" y="2583"/>
                  <a:pt x="2575" y="2722"/>
                  <a:pt x="2480" y="2820"/>
                </a:cubicBezTo>
                <a:cubicBezTo>
                  <a:pt x="2362" y="2906"/>
                  <a:pt x="2156" y="3016"/>
                  <a:pt x="2094" y="3127"/>
                </a:cubicBezTo>
                <a:cubicBezTo>
                  <a:pt x="2082" y="3137"/>
                  <a:pt x="2065" y="3150"/>
                  <a:pt x="2042" y="3165"/>
                </a:cubicBezTo>
                <a:cubicBezTo>
                  <a:pt x="2050" y="3128"/>
                  <a:pt x="2070" y="3067"/>
                  <a:pt x="2103" y="3000"/>
                </a:cubicBezTo>
                <a:cubicBezTo>
                  <a:pt x="2155" y="2893"/>
                  <a:pt x="2228" y="2776"/>
                  <a:pt x="2257" y="2719"/>
                </a:cubicBezTo>
                <a:cubicBezTo>
                  <a:pt x="2257" y="2722"/>
                  <a:pt x="2257" y="2724"/>
                  <a:pt x="2256" y="2727"/>
                </a:cubicBezTo>
                <a:cubicBezTo>
                  <a:pt x="2254" y="2726"/>
                  <a:pt x="2444" y="2679"/>
                  <a:pt x="2489" y="2622"/>
                </a:cubicBezTo>
                <a:cubicBezTo>
                  <a:pt x="2507" y="2586"/>
                  <a:pt x="2564" y="2556"/>
                  <a:pt x="2590" y="2529"/>
                </a:cubicBezTo>
                <a:cubicBezTo>
                  <a:pt x="2618" y="2504"/>
                  <a:pt x="2628" y="2437"/>
                  <a:pt x="2627" y="2438"/>
                </a:cubicBezTo>
                <a:cubicBezTo>
                  <a:pt x="2627" y="2438"/>
                  <a:pt x="2613" y="2487"/>
                  <a:pt x="2585" y="2523"/>
                </a:cubicBezTo>
                <a:cubicBezTo>
                  <a:pt x="2550" y="2553"/>
                  <a:pt x="2490" y="2586"/>
                  <a:pt x="2472" y="2620"/>
                </a:cubicBezTo>
                <a:cubicBezTo>
                  <a:pt x="2448" y="2646"/>
                  <a:pt x="2315" y="2698"/>
                  <a:pt x="2264" y="2697"/>
                </a:cubicBezTo>
                <a:cubicBezTo>
                  <a:pt x="2271" y="2674"/>
                  <a:pt x="2287" y="2646"/>
                  <a:pt x="2308" y="2619"/>
                </a:cubicBezTo>
                <a:cubicBezTo>
                  <a:pt x="2348" y="2594"/>
                  <a:pt x="2381" y="2570"/>
                  <a:pt x="2399" y="2550"/>
                </a:cubicBezTo>
                <a:cubicBezTo>
                  <a:pt x="2432" y="2477"/>
                  <a:pt x="2547" y="2425"/>
                  <a:pt x="2599" y="2371"/>
                </a:cubicBezTo>
                <a:cubicBezTo>
                  <a:pt x="2623" y="2350"/>
                  <a:pt x="2648" y="2300"/>
                  <a:pt x="2655" y="2261"/>
                </a:cubicBezTo>
                <a:cubicBezTo>
                  <a:pt x="2661" y="2230"/>
                  <a:pt x="2658" y="2208"/>
                  <a:pt x="2657" y="2200"/>
                </a:cubicBezTo>
                <a:cubicBezTo>
                  <a:pt x="2655" y="2217"/>
                  <a:pt x="2643" y="2297"/>
                  <a:pt x="2589" y="2359"/>
                </a:cubicBezTo>
                <a:cubicBezTo>
                  <a:pt x="2552" y="2388"/>
                  <a:pt x="2502" y="2419"/>
                  <a:pt x="2457" y="2452"/>
                </a:cubicBezTo>
                <a:cubicBezTo>
                  <a:pt x="2501" y="2398"/>
                  <a:pt x="2556" y="2323"/>
                  <a:pt x="2564" y="2317"/>
                </a:cubicBezTo>
                <a:cubicBezTo>
                  <a:pt x="2555" y="2323"/>
                  <a:pt x="2479" y="2405"/>
                  <a:pt x="2423" y="2476"/>
                </a:cubicBezTo>
                <a:cubicBezTo>
                  <a:pt x="2393" y="2500"/>
                  <a:pt x="2356" y="2538"/>
                  <a:pt x="2321" y="2578"/>
                </a:cubicBezTo>
                <a:cubicBezTo>
                  <a:pt x="2243" y="2627"/>
                  <a:pt x="2090" y="2694"/>
                  <a:pt x="2003" y="2699"/>
                </a:cubicBezTo>
                <a:cubicBezTo>
                  <a:pt x="2069" y="2635"/>
                  <a:pt x="2133" y="2579"/>
                  <a:pt x="2179" y="2536"/>
                </a:cubicBezTo>
                <a:cubicBezTo>
                  <a:pt x="2257" y="2463"/>
                  <a:pt x="2368" y="2328"/>
                  <a:pt x="2452" y="2206"/>
                </a:cubicBezTo>
                <a:cubicBezTo>
                  <a:pt x="2543" y="2081"/>
                  <a:pt x="2563" y="1978"/>
                  <a:pt x="2560" y="1983"/>
                </a:cubicBezTo>
                <a:cubicBezTo>
                  <a:pt x="2559" y="1981"/>
                  <a:pt x="2543" y="2055"/>
                  <a:pt x="2460" y="2161"/>
                </a:cubicBezTo>
                <a:cubicBezTo>
                  <a:pt x="2384" y="2265"/>
                  <a:pt x="2270" y="2392"/>
                  <a:pt x="2168" y="2504"/>
                </a:cubicBezTo>
                <a:cubicBezTo>
                  <a:pt x="2164" y="2507"/>
                  <a:pt x="2160" y="2510"/>
                  <a:pt x="2156" y="2513"/>
                </a:cubicBezTo>
                <a:cubicBezTo>
                  <a:pt x="2180" y="2450"/>
                  <a:pt x="2237" y="2327"/>
                  <a:pt x="2250" y="2284"/>
                </a:cubicBezTo>
                <a:cubicBezTo>
                  <a:pt x="2236" y="2244"/>
                  <a:pt x="2299" y="2182"/>
                  <a:pt x="2326" y="2155"/>
                </a:cubicBezTo>
                <a:cubicBezTo>
                  <a:pt x="2349" y="2129"/>
                  <a:pt x="2378" y="2053"/>
                  <a:pt x="2380" y="2053"/>
                </a:cubicBezTo>
                <a:cubicBezTo>
                  <a:pt x="2379" y="2052"/>
                  <a:pt x="2344" y="2106"/>
                  <a:pt x="2317" y="2148"/>
                </a:cubicBezTo>
                <a:cubicBezTo>
                  <a:pt x="2276" y="2181"/>
                  <a:pt x="2212" y="2258"/>
                  <a:pt x="2225" y="2296"/>
                </a:cubicBezTo>
                <a:cubicBezTo>
                  <a:pt x="2213" y="2330"/>
                  <a:pt x="2140" y="2480"/>
                  <a:pt x="2111" y="2550"/>
                </a:cubicBezTo>
                <a:cubicBezTo>
                  <a:pt x="2005" y="2638"/>
                  <a:pt x="1875" y="2758"/>
                  <a:pt x="1767" y="2898"/>
                </a:cubicBezTo>
                <a:cubicBezTo>
                  <a:pt x="1706" y="2975"/>
                  <a:pt x="1648" y="3083"/>
                  <a:pt x="1621" y="3138"/>
                </a:cubicBezTo>
                <a:cubicBezTo>
                  <a:pt x="1598" y="3181"/>
                  <a:pt x="1573" y="3222"/>
                  <a:pt x="1552" y="3260"/>
                </a:cubicBezTo>
                <a:cubicBezTo>
                  <a:pt x="1536" y="3219"/>
                  <a:pt x="1520" y="3152"/>
                  <a:pt x="1524" y="3070"/>
                </a:cubicBezTo>
                <a:cubicBezTo>
                  <a:pt x="1524" y="2997"/>
                  <a:pt x="1539" y="2916"/>
                  <a:pt x="1556" y="2845"/>
                </a:cubicBezTo>
                <a:cubicBezTo>
                  <a:pt x="1596" y="2828"/>
                  <a:pt x="1679" y="2791"/>
                  <a:pt x="1760" y="2725"/>
                </a:cubicBezTo>
                <a:cubicBezTo>
                  <a:pt x="1874" y="2638"/>
                  <a:pt x="1987" y="2520"/>
                  <a:pt x="2026" y="2462"/>
                </a:cubicBezTo>
                <a:cubicBezTo>
                  <a:pt x="2053" y="2389"/>
                  <a:pt x="2167" y="2276"/>
                  <a:pt x="2210" y="2208"/>
                </a:cubicBezTo>
                <a:cubicBezTo>
                  <a:pt x="2263" y="2143"/>
                  <a:pt x="2266" y="1997"/>
                  <a:pt x="2260" y="2003"/>
                </a:cubicBezTo>
                <a:cubicBezTo>
                  <a:pt x="2261" y="2001"/>
                  <a:pt x="2258" y="2109"/>
                  <a:pt x="2202" y="2200"/>
                </a:cubicBezTo>
                <a:cubicBezTo>
                  <a:pt x="2142" y="2281"/>
                  <a:pt x="2018" y="2410"/>
                  <a:pt x="1988" y="2481"/>
                </a:cubicBezTo>
                <a:cubicBezTo>
                  <a:pt x="1981" y="2493"/>
                  <a:pt x="1964" y="2512"/>
                  <a:pt x="1941" y="2536"/>
                </a:cubicBezTo>
                <a:cubicBezTo>
                  <a:pt x="1935" y="2499"/>
                  <a:pt x="1931" y="2387"/>
                  <a:pt x="1933" y="2351"/>
                </a:cubicBezTo>
                <a:cubicBezTo>
                  <a:pt x="1911" y="2330"/>
                  <a:pt x="1945" y="2270"/>
                  <a:pt x="1962" y="2245"/>
                </a:cubicBezTo>
                <a:cubicBezTo>
                  <a:pt x="1974" y="2223"/>
                  <a:pt x="1985" y="2168"/>
                  <a:pt x="1987" y="2163"/>
                </a:cubicBezTo>
                <a:cubicBezTo>
                  <a:pt x="1985" y="2167"/>
                  <a:pt x="1966" y="2209"/>
                  <a:pt x="1955" y="2243"/>
                </a:cubicBezTo>
                <a:cubicBezTo>
                  <a:pt x="1926" y="2275"/>
                  <a:pt x="1897" y="2347"/>
                  <a:pt x="1917" y="2367"/>
                </a:cubicBezTo>
                <a:cubicBezTo>
                  <a:pt x="1915" y="2393"/>
                  <a:pt x="1916" y="2512"/>
                  <a:pt x="1917" y="2560"/>
                </a:cubicBezTo>
                <a:cubicBezTo>
                  <a:pt x="1823" y="2652"/>
                  <a:pt x="1661" y="2783"/>
                  <a:pt x="1565" y="2809"/>
                </a:cubicBezTo>
                <a:cubicBezTo>
                  <a:pt x="1580" y="2755"/>
                  <a:pt x="1594" y="2709"/>
                  <a:pt x="1601" y="2679"/>
                </a:cubicBezTo>
                <a:cubicBezTo>
                  <a:pt x="1585" y="2592"/>
                  <a:pt x="1718" y="2419"/>
                  <a:pt x="1781" y="2349"/>
                </a:cubicBezTo>
                <a:cubicBezTo>
                  <a:pt x="1833" y="2281"/>
                  <a:pt x="1932" y="2114"/>
                  <a:pt x="1941" y="2102"/>
                </a:cubicBezTo>
                <a:cubicBezTo>
                  <a:pt x="1933" y="2112"/>
                  <a:pt x="1839" y="2234"/>
                  <a:pt x="1771" y="2337"/>
                </a:cubicBezTo>
                <a:cubicBezTo>
                  <a:pt x="1726" y="2380"/>
                  <a:pt x="1669" y="2453"/>
                  <a:pt x="1625" y="2526"/>
                </a:cubicBezTo>
                <a:cubicBezTo>
                  <a:pt x="1619" y="2485"/>
                  <a:pt x="1614" y="2371"/>
                  <a:pt x="1615" y="2334"/>
                </a:cubicBezTo>
                <a:cubicBezTo>
                  <a:pt x="1590" y="2313"/>
                  <a:pt x="1631" y="2248"/>
                  <a:pt x="1649" y="2225"/>
                </a:cubicBezTo>
                <a:cubicBezTo>
                  <a:pt x="1663" y="2203"/>
                  <a:pt x="1687" y="2148"/>
                  <a:pt x="1692" y="2141"/>
                </a:cubicBezTo>
                <a:cubicBezTo>
                  <a:pt x="1687" y="2146"/>
                  <a:pt x="1660" y="2187"/>
                  <a:pt x="1642" y="2221"/>
                </a:cubicBezTo>
                <a:cubicBezTo>
                  <a:pt x="1610" y="2252"/>
                  <a:pt x="1577" y="2331"/>
                  <a:pt x="1599" y="2351"/>
                </a:cubicBezTo>
                <a:cubicBezTo>
                  <a:pt x="1597" y="2375"/>
                  <a:pt x="1600" y="2508"/>
                  <a:pt x="1600" y="2571"/>
                </a:cubicBezTo>
                <a:cubicBezTo>
                  <a:pt x="1570" y="2630"/>
                  <a:pt x="1552" y="2686"/>
                  <a:pt x="1559" y="2720"/>
                </a:cubicBezTo>
                <a:cubicBezTo>
                  <a:pt x="1549" y="2763"/>
                  <a:pt x="1504" y="2890"/>
                  <a:pt x="1490" y="3023"/>
                </a:cubicBezTo>
                <a:cubicBezTo>
                  <a:pt x="1488" y="3036"/>
                  <a:pt x="1487" y="3048"/>
                  <a:pt x="1486" y="3061"/>
                </a:cubicBezTo>
                <a:cubicBezTo>
                  <a:pt x="1450" y="3012"/>
                  <a:pt x="1391" y="2928"/>
                  <a:pt x="1346" y="2865"/>
                </a:cubicBezTo>
                <a:cubicBezTo>
                  <a:pt x="1374" y="2803"/>
                  <a:pt x="1455" y="2598"/>
                  <a:pt x="1450" y="2543"/>
                </a:cubicBezTo>
                <a:cubicBezTo>
                  <a:pt x="1435" y="2511"/>
                  <a:pt x="1469" y="2433"/>
                  <a:pt x="1477" y="2394"/>
                </a:cubicBezTo>
                <a:cubicBezTo>
                  <a:pt x="1490" y="2355"/>
                  <a:pt x="1454" y="2294"/>
                  <a:pt x="1451" y="2301"/>
                </a:cubicBezTo>
                <a:cubicBezTo>
                  <a:pt x="1452" y="2298"/>
                  <a:pt x="1475" y="2343"/>
                  <a:pt x="1468" y="2394"/>
                </a:cubicBezTo>
                <a:cubicBezTo>
                  <a:pt x="1451" y="2443"/>
                  <a:pt x="1419" y="2530"/>
                  <a:pt x="1433" y="2563"/>
                </a:cubicBezTo>
                <a:cubicBezTo>
                  <a:pt x="1431" y="2596"/>
                  <a:pt x="1374" y="2773"/>
                  <a:pt x="1325" y="2836"/>
                </a:cubicBezTo>
                <a:cubicBezTo>
                  <a:pt x="1313" y="2820"/>
                  <a:pt x="1303" y="2806"/>
                  <a:pt x="1295" y="2797"/>
                </a:cubicBezTo>
                <a:cubicBezTo>
                  <a:pt x="1240" y="2784"/>
                  <a:pt x="1227" y="2669"/>
                  <a:pt x="1231" y="2615"/>
                </a:cubicBezTo>
                <a:cubicBezTo>
                  <a:pt x="1222" y="2575"/>
                  <a:pt x="1225" y="2476"/>
                  <a:pt x="1231" y="2455"/>
                </a:cubicBezTo>
                <a:cubicBezTo>
                  <a:pt x="1224" y="2474"/>
                  <a:pt x="1203" y="2559"/>
                  <a:pt x="1218" y="2618"/>
                </a:cubicBezTo>
                <a:cubicBezTo>
                  <a:pt x="1203" y="2694"/>
                  <a:pt x="1236" y="2819"/>
                  <a:pt x="1290" y="2832"/>
                </a:cubicBezTo>
                <a:cubicBezTo>
                  <a:pt x="1315" y="2871"/>
                  <a:pt x="1447" y="3056"/>
                  <a:pt x="1485" y="3134"/>
                </a:cubicBezTo>
                <a:cubicBezTo>
                  <a:pt x="1485" y="3134"/>
                  <a:pt x="1485" y="3134"/>
                  <a:pt x="1485" y="3134"/>
                </a:cubicBezTo>
                <a:cubicBezTo>
                  <a:pt x="1487" y="3209"/>
                  <a:pt x="1500" y="3277"/>
                  <a:pt x="1515" y="3324"/>
                </a:cubicBezTo>
                <a:cubicBezTo>
                  <a:pt x="1434" y="3418"/>
                  <a:pt x="1180" y="3600"/>
                  <a:pt x="908" y="3794"/>
                </a:cubicBezTo>
                <a:cubicBezTo>
                  <a:pt x="871" y="3820"/>
                  <a:pt x="834" y="3848"/>
                  <a:pt x="798" y="3876"/>
                </a:cubicBezTo>
                <a:cubicBezTo>
                  <a:pt x="797" y="3876"/>
                  <a:pt x="797" y="3876"/>
                  <a:pt x="796" y="3876"/>
                </a:cubicBezTo>
                <a:cubicBezTo>
                  <a:pt x="796" y="3877"/>
                  <a:pt x="796" y="3877"/>
                  <a:pt x="796" y="3878"/>
                </a:cubicBezTo>
                <a:cubicBezTo>
                  <a:pt x="719" y="3938"/>
                  <a:pt x="644" y="4003"/>
                  <a:pt x="573" y="4067"/>
                </a:cubicBezTo>
                <a:cubicBezTo>
                  <a:pt x="592" y="4019"/>
                  <a:pt x="615" y="3963"/>
                  <a:pt x="637" y="3908"/>
                </a:cubicBezTo>
                <a:cubicBezTo>
                  <a:pt x="657" y="3898"/>
                  <a:pt x="708" y="3873"/>
                  <a:pt x="758" y="3829"/>
                </a:cubicBezTo>
                <a:cubicBezTo>
                  <a:pt x="823" y="3773"/>
                  <a:pt x="880" y="3697"/>
                  <a:pt x="895" y="3661"/>
                </a:cubicBezTo>
                <a:cubicBezTo>
                  <a:pt x="893" y="3614"/>
                  <a:pt x="963" y="3548"/>
                  <a:pt x="991" y="3512"/>
                </a:cubicBezTo>
                <a:cubicBezTo>
                  <a:pt x="1019" y="3478"/>
                  <a:pt x="1037" y="3391"/>
                  <a:pt x="1038" y="3392"/>
                </a:cubicBezTo>
                <a:cubicBezTo>
                  <a:pt x="1037" y="3391"/>
                  <a:pt x="1011" y="3456"/>
                  <a:pt x="982" y="3506"/>
                </a:cubicBezTo>
                <a:cubicBezTo>
                  <a:pt x="939" y="3549"/>
                  <a:pt x="869" y="3625"/>
                  <a:pt x="868" y="3671"/>
                </a:cubicBezTo>
                <a:cubicBezTo>
                  <a:pt x="857" y="3708"/>
                  <a:pt x="729" y="3842"/>
                  <a:pt x="652" y="3870"/>
                </a:cubicBezTo>
                <a:cubicBezTo>
                  <a:pt x="676" y="3807"/>
                  <a:pt x="697" y="3750"/>
                  <a:pt x="704" y="3718"/>
                </a:cubicBezTo>
                <a:cubicBezTo>
                  <a:pt x="675" y="3654"/>
                  <a:pt x="782" y="3539"/>
                  <a:pt x="828" y="3494"/>
                </a:cubicBezTo>
                <a:cubicBezTo>
                  <a:pt x="850" y="3471"/>
                  <a:pt x="870" y="3430"/>
                  <a:pt x="894" y="3394"/>
                </a:cubicBezTo>
                <a:cubicBezTo>
                  <a:pt x="916" y="3358"/>
                  <a:pt x="951" y="3332"/>
                  <a:pt x="951" y="3333"/>
                </a:cubicBezTo>
                <a:cubicBezTo>
                  <a:pt x="945" y="3326"/>
                  <a:pt x="856" y="3406"/>
                  <a:pt x="814" y="3482"/>
                </a:cubicBezTo>
                <a:cubicBezTo>
                  <a:pt x="740" y="3538"/>
                  <a:pt x="635" y="3680"/>
                  <a:pt x="662" y="3743"/>
                </a:cubicBezTo>
                <a:cubicBezTo>
                  <a:pt x="645" y="3795"/>
                  <a:pt x="551" y="4019"/>
                  <a:pt x="490" y="4146"/>
                </a:cubicBezTo>
                <a:cubicBezTo>
                  <a:pt x="464" y="4172"/>
                  <a:pt x="438" y="4198"/>
                  <a:pt x="414" y="4223"/>
                </a:cubicBezTo>
                <a:cubicBezTo>
                  <a:pt x="418" y="4188"/>
                  <a:pt x="428" y="4151"/>
                  <a:pt x="439" y="4111"/>
                </a:cubicBezTo>
                <a:cubicBezTo>
                  <a:pt x="441" y="4103"/>
                  <a:pt x="441" y="4103"/>
                  <a:pt x="441" y="4103"/>
                </a:cubicBezTo>
                <a:cubicBezTo>
                  <a:pt x="441" y="4101"/>
                  <a:pt x="441" y="4101"/>
                  <a:pt x="441" y="4101"/>
                </a:cubicBezTo>
                <a:cubicBezTo>
                  <a:pt x="438" y="4114"/>
                  <a:pt x="448" y="4074"/>
                  <a:pt x="447" y="4078"/>
                </a:cubicBezTo>
                <a:cubicBezTo>
                  <a:pt x="446" y="4075"/>
                  <a:pt x="446" y="4075"/>
                  <a:pt x="446" y="4075"/>
                </a:cubicBezTo>
                <a:cubicBezTo>
                  <a:pt x="442" y="4061"/>
                  <a:pt x="442" y="4061"/>
                  <a:pt x="442" y="4061"/>
                </a:cubicBezTo>
                <a:cubicBezTo>
                  <a:pt x="435" y="4032"/>
                  <a:pt x="435" y="4032"/>
                  <a:pt x="435" y="4032"/>
                </a:cubicBezTo>
                <a:cubicBezTo>
                  <a:pt x="431" y="4013"/>
                  <a:pt x="427" y="3993"/>
                  <a:pt x="423" y="3971"/>
                </a:cubicBezTo>
                <a:cubicBezTo>
                  <a:pt x="410" y="3887"/>
                  <a:pt x="404" y="3791"/>
                  <a:pt x="405" y="3687"/>
                </a:cubicBezTo>
                <a:cubicBezTo>
                  <a:pt x="408" y="3479"/>
                  <a:pt x="440" y="3238"/>
                  <a:pt x="515" y="2992"/>
                </a:cubicBezTo>
                <a:cubicBezTo>
                  <a:pt x="552" y="2870"/>
                  <a:pt x="602" y="2745"/>
                  <a:pt x="667" y="2630"/>
                </a:cubicBezTo>
                <a:cubicBezTo>
                  <a:pt x="717" y="2536"/>
                  <a:pt x="795" y="2454"/>
                  <a:pt x="846" y="2361"/>
                </a:cubicBezTo>
                <a:cubicBezTo>
                  <a:pt x="910" y="2330"/>
                  <a:pt x="1028" y="2264"/>
                  <a:pt x="1142" y="2168"/>
                </a:cubicBezTo>
                <a:cubicBezTo>
                  <a:pt x="1270" y="2067"/>
                  <a:pt x="1399" y="1939"/>
                  <a:pt x="1476" y="1845"/>
                </a:cubicBezTo>
                <a:cubicBezTo>
                  <a:pt x="1476" y="1847"/>
                  <a:pt x="1476" y="1849"/>
                  <a:pt x="1476" y="1850"/>
                </a:cubicBezTo>
                <a:cubicBezTo>
                  <a:pt x="1473" y="1845"/>
                  <a:pt x="1647" y="1789"/>
                  <a:pt x="1778" y="1727"/>
                </a:cubicBezTo>
                <a:cubicBezTo>
                  <a:pt x="1775" y="1731"/>
                  <a:pt x="1773" y="1736"/>
                  <a:pt x="1769" y="1743"/>
                </a:cubicBezTo>
                <a:cubicBezTo>
                  <a:pt x="1769" y="1739"/>
                  <a:pt x="1924" y="1785"/>
                  <a:pt x="1981" y="1755"/>
                </a:cubicBezTo>
                <a:cubicBezTo>
                  <a:pt x="2012" y="1726"/>
                  <a:pt x="2065" y="1735"/>
                  <a:pt x="2095" y="1723"/>
                </a:cubicBezTo>
                <a:cubicBezTo>
                  <a:pt x="2124" y="1719"/>
                  <a:pt x="2171" y="1663"/>
                  <a:pt x="2174" y="1661"/>
                </a:cubicBezTo>
                <a:cubicBezTo>
                  <a:pt x="2172" y="1660"/>
                  <a:pt x="2133" y="1699"/>
                  <a:pt x="2096" y="1714"/>
                </a:cubicBezTo>
                <a:cubicBezTo>
                  <a:pt x="2058" y="1721"/>
                  <a:pt x="2002" y="1716"/>
                  <a:pt x="1971" y="1743"/>
                </a:cubicBezTo>
                <a:cubicBezTo>
                  <a:pt x="1944" y="1754"/>
                  <a:pt x="1837" y="1742"/>
                  <a:pt x="1795" y="1719"/>
                </a:cubicBezTo>
                <a:cubicBezTo>
                  <a:pt x="1840" y="1696"/>
                  <a:pt x="1879" y="1673"/>
                  <a:pt x="1901" y="1652"/>
                </a:cubicBezTo>
                <a:cubicBezTo>
                  <a:pt x="1939" y="1595"/>
                  <a:pt x="2045" y="1543"/>
                  <a:pt x="2089" y="1489"/>
                </a:cubicBezTo>
                <a:cubicBezTo>
                  <a:pt x="2143" y="1438"/>
                  <a:pt x="2141" y="1320"/>
                  <a:pt x="2138" y="1325"/>
                </a:cubicBezTo>
                <a:cubicBezTo>
                  <a:pt x="2136" y="1323"/>
                  <a:pt x="2138" y="1412"/>
                  <a:pt x="2083" y="1480"/>
                </a:cubicBezTo>
                <a:cubicBezTo>
                  <a:pt x="2024" y="1539"/>
                  <a:pt x="1911" y="1597"/>
                  <a:pt x="1870" y="1651"/>
                </a:cubicBezTo>
                <a:cubicBezTo>
                  <a:pt x="1828" y="1689"/>
                  <a:pt x="1619" y="1773"/>
                  <a:pt x="1509" y="1803"/>
                </a:cubicBezTo>
                <a:cubicBezTo>
                  <a:pt x="1517" y="1791"/>
                  <a:pt x="1525" y="1780"/>
                  <a:pt x="1531" y="1771"/>
                </a:cubicBezTo>
                <a:cubicBezTo>
                  <a:pt x="1548" y="1682"/>
                  <a:pt x="1652" y="1573"/>
                  <a:pt x="1731" y="1480"/>
                </a:cubicBezTo>
                <a:cubicBezTo>
                  <a:pt x="1731" y="1483"/>
                  <a:pt x="1730" y="1486"/>
                  <a:pt x="1730" y="1490"/>
                </a:cubicBezTo>
                <a:cubicBezTo>
                  <a:pt x="1730" y="1485"/>
                  <a:pt x="1782" y="1474"/>
                  <a:pt x="1839" y="1439"/>
                </a:cubicBezTo>
                <a:cubicBezTo>
                  <a:pt x="1897" y="1407"/>
                  <a:pt x="1956" y="1353"/>
                  <a:pt x="1973" y="1323"/>
                </a:cubicBezTo>
                <a:cubicBezTo>
                  <a:pt x="1980" y="1285"/>
                  <a:pt x="2038" y="1235"/>
                  <a:pt x="2057" y="1202"/>
                </a:cubicBezTo>
                <a:cubicBezTo>
                  <a:pt x="2082" y="1171"/>
                  <a:pt x="2081" y="1102"/>
                  <a:pt x="2083" y="1103"/>
                </a:cubicBezTo>
                <a:cubicBezTo>
                  <a:pt x="2080" y="1103"/>
                  <a:pt x="2075" y="1155"/>
                  <a:pt x="2050" y="1197"/>
                </a:cubicBezTo>
                <a:cubicBezTo>
                  <a:pt x="2021" y="1237"/>
                  <a:pt x="1961" y="1291"/>
                  <a:pt x="1952" y="1330"/>
                </a:cubicBezTo>
                <a:cubicBezTo>
                  <a:pt x="1936" y="1361"/>
                  <a:pt x="1812" y="1448"/>
                  <a:pt x="1748" y="1460"/>
                </a:cubicBezTo>
                <a:cubicBezTo>
                  <a:pt x="1769" y="1435"/>
                  <a:pt x="1787" y="1411"/>
                  <a:pt x="1801" y="1390"/>
                </a:cubicBezTo>
                <a:cubicBezTo>
                  <a:pt x="1833" y="1344"/>
                  <a:pt x="1859" y="1259"/>
                  <a:pt x="1861" y="1195"/>
                </a:cubicBezTo>
                <a:cubicBezTo>
                  <a:pt x="1863" y="1143"/>
                  <a:pt x="1852" y="1106"/>
                  <a:pt x="1849" y="1093"/>
                </a:cubicBezTo>
                <a:cubicBezTo>
                  <a:pt x="1851" y="1121"/>
                  <a:pt x="1850" y="1257"/>
                  <a:pt x="1781" y="1377"/>
                </a:cubicBezTo>
                <a:cubicBezTo>
                  <a:pt x="1745" y="1421"/>
                  <a:pt x="1698" y="1473"/>
                  <a:pt x="1650" y="1527"/>
                </a:cubicBezTo>
                <a:cubicBezTo>
                  <a:pt x="1651" y="1473"/>
                  <a:pt x="1658" y="1379"/>
                  <a:pt x="1661" y="1346"/>
                </a:cubicBezTo>
                <a:cubicBezTo>
                  <a:pt x="1641" y="1321"/>
                  <a:pt x="1682" y="1259"/>
                  <a:pt x="1699" y="1232"/>
                </a:cubicBezTo>
                <a:cubicBezTo>
                  <a:pt x="1714" y="1206"/>
                  <a:pt x="1725" y="1144"/>
                  <a:pt x="1725" y="1143"/>
                </a:cubicBezTo>
                <a:cubicBezTo>
                  <a:pt x="1725" y="1143"/>
                  <a:pt x="1707" y="1191"/>
                  <a:pt x="1692" y="1229"/>
                </a:cubicBezTo>
                <a:cubicBezTo>
                  <a:pt x="1663" y="1263"/>
                  <a:pt x="1626" y="1338"/>
                  <a:pt x="1645" y="1362"/>
                </a:cubicBezTo>
                <a:cubicBezTo>
                  <a:pt x="1640" y="1387"/>
                  <a:pt x="1632" y="1493"/>
                  <a:pt x="1626" y="1554"/>
                </a:cubicBezTo>
                <a:cubicBezTo>
                  <a:pt x="1552" y="1639"/>
                  <a:pt x="1484" y="1725"/>
                  <a:pt x="1466" y="1792"/>
                </a:cubicBezTo>
                <a:cubicBezTo>
                  <a:pt x="1442" y="1827"/>
                  <a:pt x="1370" y="1907"/>
                  <a:pt x="1277" y="1992"/>
                </a:cubicBezTo>
                <a:cubicBezTo>
                  <a:pt x="1273" y="1961"/>
                  <a:pt x="1270" y="1900"/>
                  <a:pt x="1273" y="1830"/>
                </a:cubicBezTo>
                <a:cubicBezTo>
                  <a:pt x="1274" y="1763"/>
                  <a:pt x="1285" y="1689"/>
                  <a:pt x="1295" y="1632"/>
                </a:cubicBezTo>
                <a:cubicBezTo>
                  <a:pt x="1318" y="1611"/>
                  <a:pt x="1489" y="1501"/>
                  <a:pt x="1527" y="1446"/>
                </a:cubicBezTo>
                <a:cubicBezTo>
                  <a:pt x="1540" y="1407"/>
                  <a:pt x="1602" y="1364"/>
                  <a:pt x="1626" y="1331"/>
                </a:cubicBezTo>
                <a:cubicBezTo>
                  <a:pt x="1657" y="1297"/>
                  <a:pt x="1643" y="1229"/>
                  <a:pt x="1640" y="1234"/>
                </a:cubicBezTo>
                <a:cubicBezTo>
                  <a:pt x="1640" y="1232"/>
                  <a:pt x="1649" y="1282"/>
                  <a:pt x="1620" y="1326"/>
                </a:cubicBezTo>
                <a:cubicBezTo>
                  <a:pt x="1586" y="1363"/>
                  <a:pt x="1521" y="1411"/>
                  <a:pt x="1506" y="1450"/>
                </a:cubicBezTo>
                <a:cubicBezTo>
                  <a:pt x="1485" y="1477"/>
                  <a:pt x="1365" y="1565"/>
                  <a:pt x="1300" y="1602"/>
                </a:cubicBezTo>
                <a:cubicBezTo>
                  <a:pt x="1302" y="1586"/>
                  <a:pt x="1305" y="1573"/>
                  <a:pt x="1306" y="1563"/>
                </a:cubicBezTo>
                <a:cubicBezTo>
                  <a:pt x="1286" y="1508"/>
                  <a:pt x="1368" y="1383"/>
                  <a:pt x="1409" y="1334"/>
                </a:cubicBezTo>
                <a:cubicBezTo>
                  <a:pt x="1442" y="1287"/>
                  <a:pt x="1506" y="1174"/>
                  <a:pt x="1514" y="1164"/>
                </a:cubicBezTo>
                <a:cubicBezTo>
                  <a:pt x="1507" y="1172"/>
                  <a:pt x="1444" y="1255"/>
                  <a:pt x="1402" y="1326"/>
                </a:cubicBezTo>
                <a:cubicBezTo>
                  <a:pt x="1339" y="1388"/>
                  <a:pt x="1258" y="1540"/>
                  <a:pt x="1279" y="1594"/>
                </a:cubicBezTo>
                <a:cubicBezTo>
                  <a:pt x="1272" y="1616"/>
                  <a:pt x="1264" y="1669"/>
                  <a:pt x="1257" y="1732"/>
                </a:cubicBezTo>
                <a:cubicBezTo>
                  <a:pt x="1230" y="1693"/>
                  <a:pt x="1179" y="1622"/>
                  <a:pt x="1153" y="1607"/>
                </a:cubicBezTo>
                <a:cubicBezTo>
                  <a:pt x="1117" y="1609"/>
                  <a:pt x="1110" y="1547"/>
                  <a:pt x="1115" y="1519"/>
                </a:cubicBezTo>
                <a:cubicBezTo>
                  <a:pt x="1113" y="1499"/>
                  <a:pt x="1112" y="1447"/>
                  <a:pt x="1115" y="1437"/>
                </a:cubicBezTo>
                <a:cubicBezTo>
                  <a:pt x="1112" y="1446"/>
                  <a:pt x="1100" y="1491"/>
                  <a:pt x="1106" y="1522"/>
                </a:cubicBezTo>
                <a:cubicBezTo>
                  <a:pt x="1093" y="1564"/>
                  <a:pt x="1114" y="1629"/>
                  <a:pt x="1148" y="1627"/>
                </a:cubicBezTo>
                <a:cubicBezTo>
                  <a:pt x="1165" y="1643"/>
                  <a:pt x="1239" y="1733"/>
                  <a:pt x="1249" y="1779"/>
                </a:cubicBezTo>
                <a:cubicBezTo>
                  <a:pt x="1250" y="1778"/>
                  <a:pt x="1251" y="1777"/>
                  <a:pt x="1253" y="1776"/>
                </a:cubicBezTo>
                <a:cubicBezTo>
                  <a:pt x="1244" y="1868"/>
                  <a:pt x="1239" y="1970"/>
                  <a:pt x="1240" y="2025"/>
                </a:cubicBezTo>
                <a:cubicBezTo>
                  <a:pt x="1221" y="2042"/>
                  <a:pt x="1202" y="2059"/>
                  <a:pt x="1182" y="2075"/>
                </a:cubicBezTo>
                <a:cubicBezTo>
                  <a:pt x="1085" y="2157"/>
                  <a:pt x="970" y="2235"/>
                  <a:pt x="887" y="2272"/>
                </a:cubicBezTo>
                <a:cubicBezTo>
                  <a:pt x="974" y="2042"/>
                  <a:pt x="953" y="1849"/>
                  <a:pt x="943" y="1709"/>
                </a:cubicBezTo>
                <a:cubicBezTo>
                  <a:pt x="933" y="1584"/>
                  <a:pt x="891" y="1442"/>
                  <a:pt x="868" y="1287"/>
                </a:cubicBezTo>
                <a:cubicBezTo>
                  <a:pt x="904" y="1259"/>
                  <a:pt x="978" y="1201"/>
                  <a:pt x="1053" y="1124"/>
                </a:cubicBezTo>
                <a:cubicBezTo>
                  <a:pt x="1052" y="1127"/>
                  <a:pt x="1051" y="1129"/>
                  <a:pt x="1050" y="1132"/>
                </a:cubicBezTo>
                <a:cubicBezTo>
                  <a:pt x="1051" y="1126"/>
                  <a:pt x="1128" y="1131"/>
                  <a:pt x="1221" y="1108"/>
                </a:cubicBezTo>
                <a:cubicBezTo>
                  <a:pt x="1275" y="1098"/>
                  <a:pt x="1334" y="1076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417" y="1037"/>
                  <a:pt x="1445" y="1020"/>
                  <a:pt x="1462" y="1006"/>
                </a:cubicBezTo>
                <a:cubicBezTo>
                  <a:pt x="1501" y="952"/>
                  <a:pt x="1602" y="904"/>
                  <a:pt x="1646" y="854"/>
                </a:cubicBezTo>
                <a:cubicBezTo>
                  <a:pt x="1697" y="808"/>
                  <a:pt x="1706" y="692"/>
                  <a:pt x="1703" y="696"/>
                </a:cubicBezTo>
                <a:cubicBezTo>
                  <a:pt x="1702" y="695"/>
                  <a:pt x="1693" y="781"/>
                  <a:pt x="1639" y="845"/>
                </a:cubicBezTo>
                <a:cubicBezTo>
                  <a:pt x="1581" y="900"/>
                  <a:pt x="1474" y="952"/>
                  <a:pt x="1433" y="1003"/>
                </a:cubicBezTo>
                <a:cubicBezTo>
                  <a:pt x="1425" y="1011"/>
                  <a:pt x="1409" y="1020"/>
                  <a:pt x="1388" y="1029"/>
                </a:cubicBezTo>
                <a:cubicBezTo>
                  <a:pt x="1396" y="988"/>
                  <a:pt x="1409" y="905"/>
                  <a:pt x="1419" y="876"/>
                </a:cubicBezTo>
                <a:cubicBezTo>
                  <a:pt x="1407" y="848"/>
                  <a:pt x="1458" y="806"/>
                  <a:pt x="1479" y="793"/>
                </a:cubicBezTo>
                <a:cubicBezTo>
                  <a:pt x="1498" y="778"/>
                  <a:pt x="1529" y="727"/>
                  <a:pt x="1530" y="727"/>
                </a:cubicBezTo>
                <a:cubicBezTo>
                  <a:pt x="1530" y="727"/>
                  <a:pt x="1499" y="760"/>
                  <a:pt x="1474" y="786"/>
                </a:cubicBezTo>
                <a:cubicBezTo>
                  <a:pt x="1443" y="800"/>
                  <a:pt x="1389" y="859"/>
                  <a:pt x="1402" y="886"/>
                </a:cubicBezTo>
                <a:cubicBezTo>
                  <a:pt x="1390" y="906"/>
                  <a:pt x="1376" y="992"/>
                  <a:pt x="1356" y="1042"/>
                </a:cubicBezTo>
                <a:cubicBezTo>
                  <a:pt x="1271" y="1074"/>
                  <a:pt x="1145" y="1103"/>
                  <a:pt x="1082" y="1093"/>
                </a:cubicBezTo>
                <a:cubicBezTo>
                  <a:pt x="1083" y="1092"/>
                  <a:pt x="1084" y="1091"/>
                  <a:pt x="1085" y="1090"/>
                </a:cubicBezTo>
                <a:cubicBezTo>
                  <a:pt x="1204" y="966"/>
                  <a:pt x="1315" y="808"/>
                  <a:pt x="1347" y="735"/>
                </a:cubicBezTo>
                <a:cubicBezTo>
                  <a:pt x="1347" y="729"/>
                  <a:pt x="1349" y="723"/>
                  <a:pt x="1350" y="717"/>
                </a:cubicBezTo>
                <a:cubicBezTo>
                  <a:pt x="1373" y="711"/>
                  <a:pt x="1550" y="645"/>
                  <a:pt x="1588" y="585"/>
                </a:cubicBezTo>
                <a:cubicBezTo>
                  <a:pt x="1602" y="547"/>
                  <a:pt x="1659" y="508"/>
                  <a:pt x="1683" y="478"/>
                </a:cubicBezTo>
                <a:cubicBezTo>
                  <a:pt x="1710" y="450"/>
                  <a:pt x="1714" y="382"/>
                  <a:pt x="1714" y="383"/>
                </a:cubicBezTo>
                <a:cubicBezTo>
                  <a:pt x="1713" y="383"/>
                  <a:pt x="1704" y="433"/>
                  <a:pt x="1677" y="473"/>
                </a:cubicBezTo>
                <a:cubicBezTo>
                  <a:pt x="1644" y="507"/>
                  <a:pt x="1584" y="550"/>
                  <a:pt x="1568" y="586"/>
                </a:cubicBezTo>
                <a:cubicBezTo>
                  <a:pt x="1548" y="615"/>
                  <a:pt x="1415" y="685"/>
                  <a:pt x="1359" y="688"/>
                </a:cubicBezTo>
                <a:cubicBezTo>
                  <a:pt x="1391" y="601"/>
                  <a:pt x="1478" y="484"/>
                  <a:pt x="1510" y="413"/>
                </a:cubicBezTo>
                <a:cubicBezTo>
                  <a:pt x="1557" y="331"/>
                  <a:pt x="1534" y="170"/>
                  <a:pt x="1533" y="174"/>
                </a:cubicBezTo>
                <a:cubicBezTo>
                  <a:pt x="1532" y="173"/>
                  <a:pt x="1538" y="297"/>
                  <a:pt x="1495" y="407"/>
                </a:cubicBezTo>
                <a:cubicBezTo>
                  <a:pt x="1447" y="492"/>
                  <a:pt x="1355" y="620"/>
                  <a:pt x="1317" y="711"/>
                </a:cubicBezTo>
                <a:cubicBezTo>
                  <a:pt x="1317" y="653"/>
                  <a:pt x="1320" y="562"/>
                  <a:pt x="1317" y="529"/>
                </a:cubicBezTo>
                <a:cubicBezTo>
                  <a:pt x="1294" y="508"/>
                  <a:pt x="1326" y="439"/>
                  <a:pt x="1340" y="410"/>
                </a:cubicBezTo>
                <a:cubicBezTo>
                  <a:pt x="1349" y="385"/>
                  <a:pt x="1362" y="327"/>
                  <a:pt x="1367" y="318"/>
                </a:cubicBezTo>
                <a:cubicBezTo>
                  <a:pt x="1362" y="326"/>
                  <a:pt x="1341" y="371"/>
                  <a:pt x="1332" y="408"/>
                </a:cubicBezTo>
                <a:cubicBezTo>
                  <a:pt x="1306" y="447"/>
                  <a:pt x="1280" y="527"/>
                  <a:pt x="1303" y="548"/>
                </a:cubicBezTo>
                <a:cubicBezTo>
                  <a:pt x="1302" y="575"/>
                  <a:pt x="1295" y="724"/>
                  <a:pt x="1288" y="789"/>
                </a:cubicBezTo>
                <a:cubicBezTo>
                  <a:pt x="1228" y="891"/>
                  <a:pt x="1000" y="1158"/>
                  <a:pt x="862" y="1241"/>
                </a:cubicBezTo>
                <a:cubicBezTo>
                  <a:pt x="861" y="1237"/>
                  <a:pt x="861" y="1234"/>
                  <a:pt x="860" y="1230"/>
                </a:cubicBezTo>
                <a:cubicBezTo>
                  <a:pt x="852" y="1142"/>
                  <a:pt x="855" y="1049"/>
                  <a:pt x="896" y="959"/>
                </a:cubicBezTo>
                <a:cubicBezTo>
                  <a:pt x="930" y="886"/>
                  <a:pt x="955" y="813"/>
                  <a:pt x="972" y="743"/>
                </a:cubicBezTo>
                <a:cubicBezTo>
                  <a:pt x="999" y="730"/>
                  <a:pt x="1045" y="707"/>
                  <a:pt x="1091" y="669"/>
                </a:cubicBezTo>
                <a:cubicBezTo>
                  <a:pt x="1168" y="611"/>
                  <a:pt x="1227" y="516"/>
                  <a:pt x="1237" y="476"/>
                </a:cubicBezTo>
                <a:cubicBezTo>
                  <a:pt x="1229" y="430"/>
                  <a:pt x="1286" y="346"/>
                  <a:pt x="1306" y="300"/>
                </a:cubicBezTo>
                <a:cubicBezTo>
                  <a:pt x="1327" y="257"/>
                  <a:pt x="1315" y="171"/>
                  <a:pt x="1316" y="172"/>
                </a:cubicBezTo>
                <a:cubicBezTo>
                  <a:pt x="1314" y="171"/>
                  <a:pt x="1311" y="240"/>
                  <a:pt x="1295" y="298"/>
                </a:cubicBezTo>
                <a:cubicBezTo>
                  <a:pt x="1262" y="356"/>
                  <a:pt x="1205" y="448"/>
                  <a:pt x="1209" y="493"/>
                </a:cubicBezTo>
                <a:cubicBezTo>
                  <a:pt x="1202" y="514"/>
                  <a:pt x="1164" y="577"/>
                  <a:pt x="1107" y="627"/>
                </a:cubicBezTo>
                <a:cubicBezTo>
                  <a:pt x="1066" y="666"/>
                  <a:pt x="1017" y="692"/>
                  <a:pt x="980" y="706"/>
                </a:cubicBezTo>
                <a:cubicBezTo>
                  <a:pt x="986" y="679"/>
                  <a:pt x="990" y="652"/>
                  <a:pt x="993" y="626"/>
                </a:cubicBezTo>
                <a:cubicBezTo>
                  <a:pt x="1000" y="577"/>
                  <a:pt x="1003" y="531"/>
                  <a:pt x="1004" y="487"/>
                </a:cubicBezTo>
                <a:cubicBezTo>
                  <a:pt x="1038" y="457"/>
                  <a:pt x="1200" y="273"/>
                  <a:pt x="1222" y="205"/>
                </a:cubicBezTo>
                <a:cubicBezTo>
                  <a:pt x="1224" y="162"/>
                  <a:pt x="1282" y="91"/>
                  <a:pt x="1301" y="51"/>
                </a:cubicBezTo>
                <a:cubicBezTo>
                  <a:pt x="1310" y="36"/>
                  <a:pt x="1313" y="17"/>
                  <a:pt x="1312" y="0"/>
                </a:cubicBezTo>
                <a:cubicBezTo>
                  <a:pt x="1305" y="0"/>
                  <a:pt x="1305" y="0"/>
                  <a:pt x="1305" y="0"/>
                </a:cubicBezTo>
                <a:cubicBezTo>
                  <a:pt x="1304" y="15"/>
                  <a:pt x="1300" y="31"/>
                  <a:pt x="1293" y="48"/>
                </a:cubicBezTo>
                <a:close/>
                <a:moveTo>
                  <a:pt x="353" y="1437"/>
                </a:moveTo>
                <a:cubicBezTo>
                  <a:pt x="299" y="1454"/>
                  <a:pt x="242" y="1466"/>
                  <a:pt x="192" y="1474"/>
                </a:cubicBezTo>
                <a:cubicBezTo>
                  <a:pt x="195" y="1472"/>
                  <a:pt x="197" y="1471"/>
                  <a:pt x="199" y="1469"/>
                </a:cubicBezTo>
                <a:cubicBezTo>
                  <a:pt x="195" y="1474"/>
                  <a:pt x="122" y="1290"/>
                  <a:pt x="73" y="1264"/>
                </a:cubicBezTo>
                <a:cubicBezTo>
                  <a:pt x="47" y="1263"/>
                  <a:pt x="28" y="1235"/>
                  <a:pt x="12" y="1211"/>
                </a:cubicBezTo>
                <a:cubicBezTo>
                  <a:pt x="72" y="1192"/>
                  <a:pt x="182" y="1153"/>
                  <a:pt x="240" y="1131"/>
                </a:cubicBezTo>
                <a:cubicBezTo>
                  <a:pt x="284" y="1167"/>
                  <a:pt x="326" y="1202"/>
                  <a:pt x="371" y="1204"/>
                </a:cubicBezTo>
                <a:cubicBezTo>
                  <a:pt x="402" y="1225"/>
                  <a:pt x="455" y="1293"/>
                  <a:pt x="520" y="1377"/>
                </a:cubicBezTo>
                <a:cubicBezTo>
                  <a:pt x="478" y="1394"/>
                  <a:pt x="418" y="1417"/>
                  <a:pt x="353" y="1437"/>
                </a:cubicBezTo>
                <a:close/>
                <a:moveTo>
                  <a:pt x="1637" y="3255"/>
                </a:moveTo>
                <a:cubicBezTo>
                  <a:pt x="1678" y="3146"/>
                  <a:pt x="1731" y="2997"/>
                  <a:pt x="1851" y="2861"/>
                </a:cubicBezTo>
                <a:cubicBezTo>
                  <a:pt x="1883" y="2822"/>
                  <a:pt x="1917" y="2786"/>
                  <a:pt x="1951" y="2751"/>
                </a:cubicBezTo>
                <a:cubicBezTo>
                  <a:pt x="1980" y="2746"/>
                  <a:pt x="2055" y="2738"/>
                  <a:pt x="2137" y="2704"/>
                </a:cubicBezTo>
                <a:cubicBezTo>
                  <a:pt x="2183" y="2687"/>
                  <a:pt x="2231" y="2663"/>
                  <a:pt x="2274" y="2639"/>
                </a:cubicBezTo>
                <a:cubicBezTo>
                  <a:pt x="2248" y="2676"/>
                  <a:pt x="2229" y="2711"/>
                  <a:pt x="2225" y="2737"/>
                </a:cubicBezTo>
                <a:cubicBezTo>
                  <a:pt x="2191" y="2793"/>
                  <a:pt x="2032" y="3059"/>
                  <a:pt x="2000" y="3192"/>
                </a:cubicBezTo>
                <a:cubicBezTo>
                  <a:pt x="1940" y="3230"/>
                  <a:pt x="1861" y="3275"/>
                  <a:pt x="1777" y="3313"/>
                </a:cubicBezTo>
                <a:cubicBezTo>
                  <a:pt x="1671" y="3363"/>
                  <a:pt x="1569" y="3404"/>
                  <a:pt x="1491" y="3423"/>
                </a:cubicBezTo>
                <a:cubicBezTo>
                  <a:pt x="1555" y="3364"/>
                  <a:pt x="1606" y="3308"/>
                  <a:pt x="1637" y="3255"/>
                </a:cubicBezTo>
                <a:close/>
              </a:path>
            </a:pathLst>
          </a:custGeom>
          <a:solidFill>
            <a:srgbClr val="ffd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"/>
          <p:cNvGrpSpPr/>
          <p:nvPr/>
        </p:nvGrpSpPr>
        <p:grpSpPr>
          <a:xfrm>
            <a:off x="-152640" y="-14760"/>
            <a:ext cx="12619080" cy="500040"/>
            <a:chOff x="-152640" y="-14760"/>
            <a:chExt cx="12619080" cy="500040"/>
          </a:xfrm>
        </p:grpSpPr>
        <p:sp>
          <p:nvSpPr>
            <p:cNvPr id="496" name="Freeform 9"/>
            <p:cNvSpPr/>
            <p:nvPr/>
          </p:nvSpPr>
          <p:spPr>
            <a:xfrm rot="10800000">
              <a:off x="723456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 flipH="1" rot="10800000">
              <a:off x="8595000" y="-144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 flipH="1" rot="10800000">
              <a:off x="9858240" y="-144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 flipH="1" rot="10800000">
              <a:off x="11101320" y="-144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 rot="10800000">
              <a:off x="613080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"/>
            <p:cNvSpPr/>
            <p:nvPr/>
          </p:nvSpPr>
          <p:spPr>
            <a:xfrm rot="10800000">
              <a:off x="486432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"/>
            <p:cNvSpPr/>
            <p:nvPr/>
          </p:nvSpPr>
          <p:spPr>
            <a:xfrm rot="10800000">
              <a:off x="365616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 rot="10800000">
              <a:off x="247140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"/>
            <p:cNvSpPr/>
            <p:nvPr/>
          </p:nvSpPr>
          <p:spPr>
            <a:xfrm rot="10800000">
              <a:off x="128700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0800000">
              <a:off x="14652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 rot="10800000">
              <a:off x="-15264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文本框 2"/>
          <p:cNvSpPr/>
          <p:nvPr/>
        </p:nvSpPr>
        <p:spPr>
          <a:xfrm>
            <a:off x="7452000" y="3333600"/>
            <a:ext cx="167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JhengHei"/>
                <a:ea typeface="方正兰亭黑简体"/>
              </a:rPr>
              <a:t>却万万没想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方正兰亭黑简体"/>
              </a:rPr>
              <a:t>它以另一种形式苏醒了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386"/>
          <p:cNvGrpSpPr/>
          <p:nvPr/>
        </p:nvGrpSpPr>
        <p:grpSpPr>
          <a:xfrm>
            <a:off x="3358800" y="-2199960"/>
            <a:ext cx="1290960" cy="2193840"/>
            <a:chOff x="3358800" y="-2199960"/>
            <a:chExt cx="1290960" cy="2193840"/>
          </a:xfrm>
        </p:grpSpPr>
        <p:sp>
          <p:nvSpPr>
            <p:cNvPr id="509" name="流程图: 延期 387"/>
            <p:cNvSpPr/>
            <p:nvPr/>
          </p:nvSpPr>
          <p:spPr>
            <a:xfrm rot="16200000">
              <a:off x="2901600" y="-1742760"/>
              <a:ext cx="2193840" cy="1279800"/>
            </a:xfrm>
            <a:prstGeom prst="flowChartDelay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文本框 389"/>
            <p:cNvSpPr/>
            <p:nvPr/>
          </p:nvSpPr>
          <p:spPr>
            <a:xfrm>
              <a:off x="3600360" y="-1725840"/>
              <a:ext cx="104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文本框 390"/>
          <p:cNvSpPr/>
          <p:nvPr/>
        </p:nvSpPr>
        <p:spPr>
          <a:xfrm rot="4350600">
            <a:off x="4116960" y="256356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d49d"/>
                </a:solidFill>
                <a:latin typeface="Microsoft JhengHei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91"/>
          <p:cNvSpPr/>
          <p:nvPr/>
        </p:nvSpPr>
        <p:spPr>
          <a:xfrm rot="7720800">
            <a:off x="4101480" y="35888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49d"/>
                </a:solidFill>
                <a:latin typeface="Microsoft JhengHei"/>
                <a:ea typeface="微软雅黑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5"/>
          <p:cNvSpPr/>
          <p:nvPr/>
        </p:nvSpPr>
        <p:spPr>
          <a:xfrm rot="8904600">
            <a:off x="5303520" y="1753920"/>
            <a:ext cx="777960" cy="1485720"/>
          </a:xfrm>
          <a:custGeom>
            <a:avLst/>
            <a:gdLst/>
            <a:ahLst/>
            <a:rect l="l" t="t" r="r" b="b"/>
            <a:pathLst>
              <a:path w="2893" h="6400">
                <a:moveTo>
                  <a:pt x="1293" y="48"/>
                </a:moveTo>
                <a:cubicBezTo>
                  <a:pt x="1264" y="97"/>
                  <a:pt x="1204" y="177"/>
                  <a:pt x="1199" y="219"/>
                </a:cubicBezTo>
                <a:cubicBezTo>
                  <a:pt x="1193" y="233"/>
                  <a:pt x="1170" y="268"/>
                  <a:pt x="1140" y="308"/>
                </a:cubicBezTo>
                <a:cubicBezTo>
                  <a:pt x="1140" y="268"/>
                  <a:pt x="1149" y="148"/>
                  <a:pt x="1143" y="108"/>
                </a:cubicBezTo>
                <a:cubicBezTo>
                  <a:pt x="1123" y="89"/>
                  <a:pt x="1142" y="33"/>
                  <a:pt x="1159" y="0"/>
                </a:cubicBezTo>
                <a:cubicBezTo>
                  <a:pt x="1149" y="0"/>
                  <a:pt x="1149" y="0"/>
                  <a:pt x="1149" y="0"/>
                </a:cubicBezTo>
                <a:cubicBezTo>
                  <a:pt x="1125" y="42"/>
                  <a:pt x="1109" y="108"/>
                  <a:pt x="1127" y="127"/>
                </a:cubicBezTo>
                <a:cubicBezTo>
                  <a:pt x="1129" y="154"/>
                  <a:pt x="1118" y="293"/>
                  <a:pt x="1105" y="352"/>
                </a:cubicBezTo>
                <a:cubicBezTo>
                  <a:pt x="1071" y="393"/>
                  <a:pt x="1034" y="433"/>
                  <a:pt x="1005" y="456"/>
                </a:cubicBezTo>
                <a:cubicBezTo>
                  <a:pt x="1007" y="327"/>
                  <a:pt x="996" y="217"/>
                  <a:pt x="1006" y="121"/>
                </a:cubicBezTo>
                <a:cubicBezTo>
                  <a:pt x="1009" y="76"/>
                  <a:pt x="1018" y="35"/>
                  <a:pt x="1029" y="0"/>
                </a:cubicBezTo>
                <a:cubicBezTo>
                  <a:pt x="1021" y="0"/>
                  <a:pt x="1021" y="0"/>
                  <a:pt x="1021" y="0"/>
                </a:cubicBezTo>
                <a:cubicBezTo>
                  <a:pt x="1013" y="23"/>
                  <a:pt x="1005" y="50"/>
                  <a:pt x="999" y="79"/>
                </a:cubicBezTo>
                <a:cubicBezTo>
                  <a:pt x="983" y="148"/>
                  <a:pt x="978" y="227"/>
                  <a:pt x="974" y="315"/>
                </a:cubicBezTo>
                <a:cubicBezTo>
                  <a:pt x="949" y="295"/>
                  <a:pt x="879" y="217"/>
                  <a:pt x="856" y="194"/>
                </a:cubicBezTo>
                <a:cubicBezTo>
                  <a:pt x="820" y="196"/>
                  <a:pt x="824" y="132"/>
                  <a:pt x="832" y="106"/>
                </a:cubicBezTo>
                <a:cubicBezTo>
                  <a:pt x="836" y="83"/>
                  <a:pt x="830" y="32"/>
                  <a:pt x="830" y="28"/>
                </a:cubicBezTo>
                <a:cubicBezTo>
                  <a:pt x="829" y="31"/>
                  <a:pt x="823" y="74"/>
                  <a:pt x="823" y="107"/>
                </a:cubicBezTo>
                <a:cubicBezTo>
                  <a:pt x="805" y="146"/>
                  <a:pt x="815" y="216"/>
                  <a:pt x="850" y="214"/>
                </a:cubicBezTo>
                <a:cubicBezTo>
                  <a:pt x="862" y="231"/>
                  <a:pt x="940" y="316"/>
                  <a:pt x="972" y="357"/>
                </a:cubicBezTo>
                <a:cubicBezTo>
                  <a:pt x="970" y="409"/>
                  <a:pt x="967" y="463"/>
                  <a:pt x="961" y="521"/>
                </a:cubicBezTo>
                <a:cubicBezTo>
                  <a:pt x="952" y="609"/>
                  <a:pt x="935" y="705"/>
                  <a:pt x="899" y="807"/>
                </a:cubicBezTo>
                <a:cubicBezTo>
                  <a:pt x="888" y="841"/>
                  <a:pt x="872" y="876"/>
                  <a:pt x="855" y="912"/>
                </a:cubicBezTo>
                <a:cubicBezTo>
                  <a:pt x="830" y="870"/>
                  <a:pt x="774" y="765"/>
                  <a:pt x="730" y="692"/>
                </a:cubicBezTo>
                <a:cubicBezTo>
                  <a:pt x="730" y="692"/>
                  <a:pt x="730" y="692"/>
                  <a:pt x="730" y="692"/>
                </a:cubicBezTo>
                <a:cubicBezTo>
                  <a:pt x="728" y="687"/>
                  <a:pt x="865" y="485"/>
                  <a:pt x="852" y="421"/>
                </a:cubicBezTo>
                <a:cubicBezTo>
                  <a:pt x="835" y="395"/>
                  <a:pt x="849" y="329"/>
                  <a:pt x="840" y="298"/>
                </a:cubicBezTo>
                <a:cubicBezTo>
                  <a:pt x="836" y="267"/>
                  <a:pt x="779" y="242"/>
                  <a:pt x="780" y="242"/>
                </a:cubicBezTo>
                <a:cubicBezTo>
                  <a:pt x="779" y="243"/>
                  <a:pt x="816" y="268"/>
                  <a:pt x="830" y="302"/>
                </a:cubicBezTo>
                <a:cubicBezTo>
                  <a:pt x="836" y="344"/>
                  <a:pt x="823" y="412"/>
                  <a:pt x="835" y="440"/>
                </a:cubicBezTo>
                <a:cubicBezTo>
                  <a:pt x="841" y="470"/>
                  <a:pt x="764" y="610"/>
                  <a:pt x="717" y="671"/>
                </a:cubicBezTo>
                <a:cubicBezTo>
                  <a:pt x="705" y="653"/>
                  <a:pt x="695" y="638"/>
                  <a:pt x="687" y="628"/>
                </a:cubicBezTo>
                <a:cubicBezTo>
                  <a:pt x="634" y="616"/>
                  <a:pt x="627" y="508"/>
                  <a:pt x="628" y="459"/>
                </a:cubicBezTo>
                <a:cubicBezTo>
                  <a:pt x="623" y="419"/>
                  <a:pt x="598" y="333"/>
                  <a:pt x="598" y="322"/>
                </a:cubicBezTo>
                <a:cubicBezTo>
                  <a:pt x="597" y="332"/>
                  <a:pt x="600" y="408"/>
                  <a:pt x="615" y="463"/>
                </a:cubicBezTo>
                <a:cubicBezTo>
                  <a:pt x="605" y="532"/>
                  <a:pt x="628" y="649"/>
                  <a:pt x="679" y="661"/>
                </a:cubicBezTo>
                <a:cubicBezTo>
                  <a:pt x="691" y="680"/>
                  <a:pt x="725" y="739"/>
                  <a:pt x="759" y="802"/>
                </a:cubicBezTo>
                <a:cubicBezTo>
                  <a:pt x="739" y="800"/>
                  <a:pt x="711" y="796"/>
                  <a:pt x="683" y="784"/>
                </a:cubicBezTo>
                <a:cubicBezTo>
                  <a:pt x="631" y="766"/>
                  <a:pt x="581" y="733"/>
                  <a:pt x="556" y="723"/>
                </a:cubicBezTo>
                <a:cubicBezTo>
                  <a:pt x="513" y="729"/>
                  <a:pt x="484" y="668"/>
                  <a:pt x="473" y="639"/>
                </a:cubicBezTo>
                <a:cubicBezTo>
                  <a:pt x="459" y="617"/>
                  <a:pt x="421" y="575"/>
                  <a:pt x="418" y="567"/>
                </a:cubicBezTo>
                <a:cubicBezTo>
                  <a:pt x="420" y="574"/>
                  <a:pt x="440" y="617"/>
                  <a:pt x="463" y="645"/>
                </a:cubicBezTo>
                <a:cubicBezTo>
                  <a:pt x="472" y="687"/>
                  <a:pt x="516" y="751"/>
                  <a:pt x="558" y="744"/>
                </a:cubicBezTo>
                <a:cubicBezTo>
                  <a:pt x="581" y="762"/>
                  <a:pt x="707" y="829"/>
                  <a:pt x="774" y="832"/>
                </a:cubicBezTo>
                <a:cubicBezTo>
                  <a:pt x="799" y="880"/>
                  <a:pt x="822" y="929"/>
                  <a:pt x="830" y="961"/>
                </a:cubicBezTo>
                <a:cubicBezTo>
                  <a:pt x="832" y="960"/>
                  <a:pt x="833" y="958"/>
                  <a:pt x="835" y="957"/>
                </a:cubicBezTo>
                <a:cubicBezTo>
                  <a:pt x="811" y="1012"/>
                  <a:pt x="789" y="1069"/>
                  <a:pt x="786" y="1125"/>
                </a:cubicBezTo>
                <a:cubicBezTo>
                  <a:pt x="768" y="1317"/>
                  <a:pt x="817" y="1483"/>
                  <a:pt x="852" y="1649"/>
                </a:cubicBezTo>
                <a:cubicBezTo>
                  <a:pt x="804" y="1613"/>
                  <a:pt x="743" y="1557"/>
                  <a:pt x="688" y="1484"/>
                </a:cubicBezTo>
                <a:cubicBezTo>
                  <a:pt x="586" y="1361"/>
                  <a:pt x="478" y="1217"/>
                  <a:pt x="400" y="1153"/>
                </a:cubicBezTo>
                <a:cubicBezTo>
                  <a:pt x="406" y="1114"/>
                  <a:pt x="411" y="1056"/>
                  <a:pt x="392" y="1005"/>
                </a:cubicBezTo>
                <a:cubicBezTo>
                  <a:pt x="388" y="990"/>
                  <a:pt x="383" y="976"/>
                  <a:pt x="378" y="962"/>
                </a:cubicBezTo>
                <a:cubicBezTo>
                  <a:pt x="391" y="929"/>
                  <a:pt x="419" y="856"/>
                  <a:pt x="418" y="803"/>
                </a:cubicBezTo>
                <a:cubicBezTo>
                  <a:pt x="422" y="734"/>
                  <a:pt x="406" y="665"/>
                  <a:pt x="392" y="641"/>
                </a:cubicBezTo>
                <a:cubicBezTo>
                  <a:pt x="360" y="625"/>
                  <a:pt x="357" y="550"/>
                  <a:pt x="348" y="517"/>
                </a:cubicBezTo>
                <a:cubicBezTo>
                  <a:pt x="342" y="483"/>
                  <a:pt x="283" y="448"/>
                  <a:pt x="283" y="450"/>
                </a:cubicBezTo>
                <a:cubicBezTo>
                  <a:pt x="283" y="450"/>
                  <a:pt x="321" y="482"/>
                  <a:pt x="338" y="522"/>
                </a:cubicBezTo>
                <a:cubicBezTo>
                  <a:pt x="344" y="567"/>
                  <a:pt x="353" y="647"/>
                  <a:pt x="383" y="665"/>
                </a:cubicBezTo>
                <a:cubicBezTo>
                  <a:pt x="399" y="686"/>
                  <a:pt x="418" y="860"/>
                  <a:pt x="361" y="923"/>
                </a:cubicBezTo>
                <a:cubicBezTo>
                  <a:pt x="335" y="870"/>
                  <a:pt x="302" y="829"/>
                  <a:pt x="279" y="812"/>
                </a:cubicBezTo>
                <a:cubicBezTo>
                  <a:pt x="276" y="812"/>
                  <a:pt x="273" y="811"/>
                  <a:pt x="269" y="810"/>
                </a:cubicBezTo>
                <a:cubicBezTo>
                  <a:pt x="261" y="755"/>
                  <a:pt x="232" y="597"/>
                  <a:pt x="199" y="570"/>
                </a:cubicBezTo>
                <a:cubicBezTo>
                  <a:pt x="165" y="563"/>
                  <a:pt x="158" y="499"/>
                  <a:pt x="148" y="472"/>
                </a:cubicBezTo>
                <a:cubicBezTo>
                  <a:pt x="140" y="444"/>
                  <a:pt x="82" y="422"/>
                  <a:pt x="81" y="426"/>
                </a:cubicBezTo>
                <a:cubicBezTo>
                  <a:pt x="82" y="424"/>
                  <a:pt x="120" y="446"/>
                  <a:pt x="139" y="478"/>
                </a:cubicBezTo>
                <a:cubicBezTo>
                  <a:pt x="146" y="516"/>
                  <a:pt x="160" y="584"/>
                  <a:pt x="192" y="592"/>
                </a:cubicBezTo>
                <a:cubicBezTo>
                  <a:pt x="208" y="610"/>
                  <a:pt x="243" y="726"/>
                  <a:pt x="237" y="792"/>
                </a:cubicBezTo>
                <a:cubicBezTo>
                  <a:pt x="202" y="762"/>
                  <a:pt x="172" y="708"/>
                  <a:pt x="148" y="684"/>
                </a:cubicBezTo>
                <a:cubicBezTo>
                  <a:pt x="119" y="648"/>
                  <a:pt x="7" y="641"/>
                  <a:pt x="8" y="643"/>
                </a:cubicBezTo>
                <a:cubicBezTo>
                  <a:pt x="7" y="643"/>
                  <a:pt x="87" y="657"/>
                  <a:pt x="136" y="694"/>
                </a:cubicBezTo>
                <a:cubicBezTo>
                  <a:pt x="171" y="744"/>
                  <a:pt x="224" y="837"/>
                  <a:pt x="277" y="846"/>
                </a:cubicBezTo>
                <a:cubicBezTo>
                  <a:pt x="293" y="861"/>
                  <a:pt x="332" y="916"/>
                  <a:pt x="356" y="987"/>
                </a:cubicBezTo>
                <a:cubicBezTo>
                  <a:pt x="374" y="1032"/>
                  <a:pt x="379" y="1087"/>
                  <a:pt x="373" y="1133"/>
                </a:cubicBezTo>
                <a:cubicBezTo>
                  <a:pt x="372" y="1133"/>
                  <a:pt x="372" y="1132"/>
                  <a:pt x="372" y="1132"/>
                </a:cubicBezTo>
                <a:cubicBezTo>
                  <a:pt x="307" y="1130"/>
                  <a:pt x="257" y="1076"/>
                  <a:pt x="191" y="1040"/>
                </a:cubicBezTo>
                <a:cubicBezTo>
                  <a:pt x="141" y="1012"/>
                  <a:pt x="85" y="989"/>
                  <a:pt x="39" y="973"/>
                </a:cubicBezTo>
                <a:cubicBezTo>
                  <a:pt x="38" y="960"/>
                  <a:pt x="43" y="926"/>
                  <a:pt x="36" y="892"/>
                </a:cubicBezTo>
                <a:cubicBezTo>
                  <a:pt x="31" y="863"/>
                  <a:pt x="16" y="837"/>
                  <a:pt x="0" y="822"/>
                </a:cubicBezTo>
                <a:cubicBezTo>
                  <a:pt x="0" y="853"/>
                  <a:pt x="0" y="853"/>
                  <a:pt x="0" y="853"/>
                </a:cubicBezTo>
                <a:cubicBezTo>
                  <a:pt x="15" y="882"/>
                  <a:pt x="25" y="930"/>
                  <a:pt x="18" y="966"/>
                </a:cubicBezTo>
                <a:cubicBezTo>
                  <a:pt x="11" y="964"/>
                  <a:pt x="5" y="962"/>
                  <a:pt x="0" y="960"/>
                </a:cubicBezTo>
                <a:cubicBezTo>
                  <a:pt x="0" y="997"/>
                  <a:pt x="0" y="997"/>
                  <a:pt x="0" y="997"/>
                </a:cubicBezTo>
                <a:cubicBezTo>
                  <a:pt x="58" y="1023"/>
                  <a:pt x="135" y="1054"/>
                  <a:pt x="191" y="1094"/>
                </a:cubicBezTo>
                <a:cubicBezTo>
                  <a:pt x="201" y="1101"/>
                  <a:pt x="211" y="1108"/>
                  <a:pt x="220" y="1115"/>
                </a:cubicBezTo>
                <a:cubicBezTo>
                  <a:pt x="170" y="1138"/>
                  <a:pt x="68" y="1176"/>
                  <a:pt x="3" y="1198"/>
                </a:cubicBezTo>
                <a:cubicBezTo>
                  <a:pt x="2" y="1196"/>
                  <a:pt x="1" y="1194"/>
                  <a:pt x="0" y="1193"/>
                </a:cubicBezTo>
                <a:cubicBezTo>
                  <a:pt x="0" y="1218"/>
                  <a:pt x="0" y="1218"/>
                  <a:pt x="0" y="1218"/>
                </a:cubicBezTo>
                <a:cubicBezTo>
                  <a:pt x="19" y="1249"/>
                  <a:pt x="43" y="1284"/>
                  <a:pt x="70" y="1287"/>
                </a:cubicBezTo>
                <a:cubicBezTo>
                  <a:pt x="93" y="1302"/>
                  <a:pt x="154" y="1416"/>
                  <a:pt x="169" y="1477"/>
                </a:cubicBezTo>
                <a:cubicBezTo>
                  <a:pt x="121" y="1484"/>
                  <a:pt x="80" y="1488"/>
                  <a:pt x="54" y="1489"/>
                </a:cubicBezTo>
                <a:cubicBezTo>
                  <a:pt x="37" y="1498"/>
                  <a:pt x="19" y="1501"/>
                  <a:pt x="0" y="1501"/>
                </a:cubicBezTo>
                <a:cubicBezTo>
                  <a:pt x="0" y="1523"/>
                  <a:pt x="0" y="1523"/>
                  <a:pt x="0" y="1523"/>
                </a:cubicBezTo>
                <a:cubicBezTo>
                  <a:pt x="29" y="1525"/>
                  <a:pt x="56" y="1522"/>
                  <a:pt x="78" y="1510"/>
                </a:cubicBezTo>
                <a:cubicBezTo>
                  <a:pt x="104" y="1509"/>
                  <a:pt x="174" y="1505"/>
                  <a:pt x="256" y="1487"/>
                </a:cubicBezTo>
                <a:cubicBezTo>
                  <a:pt x="242" y="1508"/>
                  <a:pt x="212" y="1545"/>
                  <a:pt x="169" y="1577"/>
                </a:cubicBezTo>
                <a:cubicBezTo>
                  <a:pt x="108" y="1627"/>
                  <a:pt x="33" y="1663"/>
                  <a:pt x="0" y="1682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8" y="1699"/>
                  <a:pt x="14" y="1693"/>
                  <a:pt x="20" y="1687"/>
                </a:cubicBezTo>
                <a:cubicBezTo>
                  <a:pt x="58" y="1674"/>
                  <a:pt x="241" y="1563"/>
                  <a:pt x="288" y="1480"/>
                </a:cubicBezTo>
                <a:cubicBezTo>
                  <a:pt x="293" y="1478"/>
                  <a:pt x="299" y="1477"/>
                  <a:pt x="304" y="1476"/>
                </a:cubicBezTo>
                <a:cubicBezTo>
                  <a:pt x="388" y="1455"/>
                  <a:pt x="477" y="1423"/>
                  <a:pt x="539" y="1402"/>
                </a:cubicBezTo>
                <a:cubicBezTo>
                  <a:pt x="642" y="1536"/>
                  <a:pt x="767" y="1699"/>
                  <a:pt x="864" y="1768"/>
                </a:cubicBezTo>
                <a:cubicBezTo>
                  <a:pt x="868" y="1943"/>
                  <a:pt x="869" y="2165"/>
                  <a:pt x="750" y="2364"/>
                </a:cubicBezTo>
                <a:cubicBezTo>
                  <a:pt x="740" y="2380"/>
                  <a:pt x="729" y="2395"/>
                  <a:pt x="718" y="2411"/>
                </a:cubicBezTo>
                <a:cubicBezTo>
                  <a:pt x="650" y="2379"/>
                  <a:pt x="543" y="2321"/>
                  <a:pt x="442" y="2269"/>
                </a:cubicBezTo>
                <a:cubicBezTo>
                  <a:pt x="454" y="2236"/>
                  <a:pt x="469" y="2186"/>
                  <a:pt x="470" y="2135"/>
                </a:cubicBezTo>
                <a:cubicBezTo>
                  <a:pt x="471" y="2117"/>
                  <a:pt x="470" y="2100"/>
                  <a:pt x="469" y="2083"/>
                </a:cubicBezTo>
                <a:cubicBezTo>
                  <a:pt x="489" y="2036"/>
                  <a:pt x="533" y="1867"/>
                  <a:pt x="513" y="1823"/>
                </a:cubicBezTo>
                <a:cubicBezTo>
                  <a:pt x="489" y="1803"/>
                  <a:pt x="502" y="1735"/>
                  <a:pt x="497" y="1704"/>
                </a:cubicBezTo>
                <a:cubicBezTo>
                  <a:pt x="496" y="1671"/>
                  <a:pt x="441" y="1644"/>
                  <a:pt x="442" y="1646"/>
                </a:cubicBezTo>
                <a:cubicBezTo>
                  <a:pt x="441" y="1646"/>
                  <a:pt x="478" y="1670"/>
                  <a:pt x="488" y="1708"/>
                </a:cubicBezTo>
                <a:cubicBezTo>
                  <a:pt x="488" y="1749"/>
                  <a:pt x="477" y="1823"/>
                  <a:pt x="499" y="1844"/>
                </a:cubicBezTo>
                <a:cubicBezTo>
                  <a:pt x="505" y="1864"/>
                  <a:pt x="491" y="1976"/>
                  <a:pt x="462" y="2044"/>
                </a:cubicBezTo>
                <a:cubicBezTo>
                  <a:pt x="450" y="1995"/>
                  <a:pt x="428" y="1958"/>
                  <a:pt x="408" y="1946"/>
                </a:cubicBezTo>
                <a:cubicBezTo>
                  <a:pt x="346" y="1953"/>
                  <a:pt x="327" y="1869"/>
                  <a:pt x="297" y="1839"/>
                </a:cubicBezTo>
                <a:cubicBezTo>
                  <a:pt x="273" y="1807"/>
                  <a:pt x="168" y="1824"/>
                  <a:pt x="170" y="1823"/>
                </a:cubicBezTo>
                <a:cubicBezTo>
                  <a:pt x="169" y="1825"/>
                  <a:pt x="238" y="1829"/>
                  <a:pt x="282" y="1855"/>
                </a:cubicBezTo>
                <a:cubicBezTo>
                  <a:pt x="299" y="1887"/>
                  <a:pt x="316" y="1933"/>
                  <a:pt x="342" y="1960"/>
                </a:cubicBezTo>
                <a:cubicBezTo>
                  <a:pt x="291" y="1962"/>
                  <a:pt x="207" y="1955"/>
                  <a:pt x="177" y="1949"/>
                </a:cubicBezTo>
                <a:cubicBezTo>
                  <a:pt x="141" y="1968"/>
                  <a:pt x="105" y="1929"/>
                  <a:pt x="91" y="1912"/>
                </a:cubicBezTo>
                <a:cubicBezTo>
                  <a:pt x="76" y="1898"/>
                  <a:pt x="29" y="1885"/>
                  <a:pt x="25" y="1881"/>
                </a:cubicBezTo>
                <a:cubicBezTo>
                  <a:pt x="28" y="1885"/>
                  <a:pt x="58" y="1906"/>
                  <a:pt x="83" y="1920"/>
                </a:cubicBezTo>
                <a:cubicBezTo>
                  <a:pt x="98" y="1948"/>
                  <a:pt x="146" y="1985"/>
                  <a:pt x="182" y="1966"/>
                </a:cubicBezTo>
                <a:cubicBezTo>
                  <a:pt x="206" y="1971"/>
                  <a:pt x="321" y="1990"/>
                  <a:pt x="377" y="1982"/>
                </a:cubicBezTo>
                <a:cubicBezTo>
                  <a:pt x="382" y="1983"/>
                  <a:pt x="387" y="1984"/>
                  <a:pt x="393" y="1984"/>
                </a:cubicBezTo>
                <a:cubicBezTo>
                  <a:pt x="407" y="1995"/>
                  <a:pt x="433" y="2047"/>
                  <a:pt x="433" y="2116"/>
                </a:cubicBezTo>
                <a:cubicBezTo>
                  <a:pt x="434" y="2161"/>
                  <a:pt x="422" y="2212"/>
                  <a:pt x="406" y="2251"/>
                </a:cubicBezTo>
                <a:cubicBezTo>
                  <a:pt x="337" y="2216"/>
                  <a:pt x="274" y="2187"/>
                  <a:pt x="235" y="2176"/>
                </a:cubicBezTo>
                <a:cubicBezTo>
                  <a:pt x="121" y="2213"/>
                  <a:pt x="39" y="2067"/>
                  <a:pt x="1" y="2004"/>
                </a:cubicBezTo>
                <a:cubicBezTo>
                  <a:pt x="1" y="2003"/>
                  <a:pt x="0" y="2002"/>
                  <a:pt x="0" y="2002"/>
                </a:cubicBezTo>
                <a:cubicBezTo>
                  <a:pt x="0" y="2078"/>
                  <a:pt x="0" y="2078"/>
                  <a:pt x="0" y="2078"/>
                </a:cubicBezTo>
                <a:cubicBezTo>
                  <a:pt x="42" y="2154"/>
                  <a:pt x="119" y="2234"/>
                  <a:pt x="197" y="2239"/>
                </a:cubicBezTo>
                <a:cubicBezTo>
                  <a:pt x="173" y="2252"/>
                  <a:pt x="139" y="2265"/>
                  <a:pt x="99" y="2268"/>
                </a:cubicBezTo>
                <a:cubicBezTo>
                  <a:pt x="65" y="2273"/>
                  <a:pt x="31" y="2274"/>
                  <a:pt x="0" y="2273"/>
                </a:cubicBezTo>
                <a:cubicBezTo>
                  <a:pt x="0" y="2298"/>
                  <a:pt x="0" y="2298"/>
                  <a:pt x="0" y="2298"/>
                </a:cubicBezTo>
                <a:cubicBezTo>
                  <a:pt x="78" y="2300"/>
                  <a:pt x="188" y="2293"/>
                  <a:pt x="251" y="2242"/>
                </a:cubicBezTo>
                <a:cubicBezTo>
                  <a:pt x="250" y="2241"/>
                  <a:pt x="249" y="2240"/>
                  <a:pt x="249" y="2239"/>
                </a:cubicBezTo>
                <a:cubicBezTo>
                  <a:pt x="321" y="2271"/>
                  <a:pt x="539" y="2392"/>
                  <a:pt x="669" y="2476"/>
                </a:cubicBezTo>
                <a:cubicBezTo>
                  <a:pt x="652" y="2499"/>
                  <a:pt x="635" y="2523"/>
                  <a:pt x="620" y="2547"/>
                </a:cubicBezTo>
                <a:cubicBezTo>
                  <a:pt x="573" y="2620"/>
                  <a:pt x="535" y="2695"/>
                  <a:pt x="502" y="2770"/>
                </a:cubicBezTo>
                <a:cubicBezTo>
                  <a:pt x="437" y="2920"/>
                  <a:pt x="392" y="3070"/>
                  <a:pt x="360" y="3214"/>
                </a:cubicBezTo>
                <a:cubicBezTo>
                  <a:pt x="295" y="3504"/>
                  <a:pt x="276" y="3774"/>
                  <a:pt x="285" y="4003"/>
                </a:cubicBezTo>
                <a:cubicBezTo>
                  <a:pt x="287" y="4031"/>
                  <a:pt x="288" y="4059"/>
                  <a:pt x="291" y="4087"/>
                </a:cubicBezTo>
                <a:cubicBezTo>
                  <a:pt x="293" y="4115"/>
                  <a:pt x="293" y="4115"/>
                  <a:pt x="293" y="4115"/>
                </a:cubicBezTo>
                <a:cubicBezTo>
                  <a:pt x="270" y="4169"/>
                  <a:pt x="252" y="4222"/>
                  <a:pt x="237" y="4272"/>
                </a:cubicBezTo>
                <a:cubicBezTo>
                  <a:pt x="231" y="4295"/>
                  <a:pt x="225" y="4317"/>
                  <a:pt x="220" y="4339"/>
                </a:cubicBezTo>
                <a:cubicBezTo>
                  <a:pt x="196" y="4313"/>
                  <a:pt x="171" y="4277"/>
                  <a:pt x="153" y="4231"/>
                </a:cubicBezTo>
                <a:cubicBezTo>
                  <a:pt x="114" y="4147"/>
                  <a:pt x="88" y="4043"/>
                  <a:pt x="62" y="3974"/>
                </a:cubicBezTo>
                <a:cubicBezTo>
                  <a:pt x="73" y="3956"/>
                  <a:pt x="114" y="3896"/>
                  <a:pt x="112" y="3836"/>
                </a:cubicBezTo>
                <a:cubicBezTo>
                  <a:pt x="116" y="3765"/>
                  <a:pt x="100" y="3700"/>
                  <a:pt x="87" y="3675"/>
                </a:cubicBezTo>
                <a:cubicBezTo>
                  <a:pt x="46" y="3662"/>
                  <a:pt x="63" y="3579"/>
                  <a:pt x="70" y="3542"/>
                </a:cubicBezTo>
                <a:cubicBezTo>
                  <a:pt x="73" y="3509"/>
                  <a:pt x="51" y="3442"/>
                  <a:pt x="54" y="3440"/>
                </a:cubicBezTo>
                <a:cubicBezTo>
                  <a:pt x="52" y="3441"/>
                  <a:pt x="52" y="3500"/>
                  <a:pt x="57" y="3545"/>
                </a:cubicBezTo>
                <a:cubicBezTo>
                  <a:pt x="39" y="3597"/>
                  <a:pt x="33" y="3688"/>
                  <a:pt x="71" y="3701"/>
                </a:cubicBezTo>
                <a:cubicBezTo>
                  <a:pt x="84" y="3721"/>
                  <a:pt x="105" y="3882"/>
                  <a:pt x="50" y="3943"/>
                </a:cubicBezTo>
                <a:cubicBezTo>
                  <a:pt x="45" y="3933"/>
                  <a:pt x="41" y="3924"/>
                  <a:pt x="36" y="3917"/>
                </a:cubicBezTo>
                <a:cubicBezTo>
                  <a:pt x="21" y="3913"/>
                  <a:pt x="9" y="3904"/>
                  <a:pt x="0" y="3893"/>
                </a:cubicBezTo>
                <a:cubicBezTo>
                  <a:pt x="0" y="3974"/>
                  <a:pt x="0" y="3974"/>
                  <a:pt x="0" y="3974"/>
                </a:cubicBezTo>
                <a:cubicBezTo>
                  <a:pt x="1" y="3975"/>
                  <a:pt x="3" y="3976"/>
                  <a:pt x="4" y="3976"/>
                </a:cubicBezTo>
                <a:cubicBezTo>
                  <a:pt x="18" y="4003"/>
                  <a:pt x="37" y="4083"/>
                  <a:pt x="65" y="4173"/>
                </a:cubicBezTo>
                <a:cubicBezTo>
                  <a:pt x="47" y="4173"/>
                  <a:pt x="24" y="4171"/>
                  <a:pt x="0" y="4167"/>
                </a:cubicBezTo>
                <a:cubicBezTo>
                  <a:pt x="0" y="4198"/>
                  <a:pt x="0" y="4198"/>
                  <a:pt x="0" y="4198"/>
                </a:cubicBezTo>
                <a:cubicBezTo>
                  <a:pt x="28" y="4204"/>
                  <a:pt x="55" y="4208"/>
                  <a:pt x="77" y="4210"/>
                </a:cubicBezTo>
                <a:cubicBezTo>
                  <a:pt x="78" y="4214"/>
                  <a:pt x="80" y="4217"/>
                  <a:pt x="81" y="4221"/>
                </a:cubicBezTo>
                <a:cubicBezTo>
                  <a:pt x="108" y="4309"/>
                  <a:pt x="157" y="4389"/>
                  <a:pt x="201" y="4440"/>
                </a:cubicBezTo>
                <a:cubicBezTo>
                  <a:pt x="196" y="4480"/>
                  <a:pt x="194" y="4517"/>
                  <a:pt x="196" y="4550"/>
                </a:cubicBezTo>
                <a:cubicBezTo>
                  <a:pt x="157" y="4709"/>
                  <a:pt x="117" y="5027"/>
                  <a:pt x="198" y="5368"/>
                </a:cubicBezTo>
                <a:cubicBezTo>
                  <a:pt x="234" y="5540"/>
                  <a:pt x="293" y="5719"/>
                  <a:pt x="341" y="5915"/>
                </a:cubicBezTo>
                <a:cubicBezTo>
                  <a:pt x="375" y="6062"/>
                  <a:pt x="403" y="6224"/>
                  <a:pt x="390" y="6400"/>
                </a:cubicBezTo>
                <a:cubicBezTo>
                  <a:pt x="533" y="6400"/>
                  <a:pt x="533" y="6400"/>
                  <a:pt x="533" y="6400"/>
                </a:cubicBezTo>
                <a:cubicBezTo>
                  <a:pt x="542" y="6300"/>
                  <a:pt x="540" y="6205"/>
                  <a:pt x="531" y="6116"/>
                </a:cubicBezTo>
                <a:cubicBezTo>
                  <a:pt x="509" y="5929"/>
                  <a:pt x="463" y="5764"/>
                  <a:pt x="418" y="5610"/>
                </a:cubicBezTo>
                <a:cubicBezTo>
                  <a:pt x="456" y="5527"/>
                  <a:pt x="608" y="5277"/>
                  <a:pt x="682" y="5106"/>
                </a:cubicBezTo>
                <a:cubicBezTo>
                  <a:pt x="694" y="5092"/>
                  <a:pt x="762" y="5040"/>
                  <a:pt x="826" y="4970"/>
                </a:cubicBezTo>
                <a:cubicBezTo>
                  <a:pt x="900" y="4894"/>
                  <a:pt x="972" y="4797"/>
                  <a:pt x="988" y="4750"/>
                </a:cubicBezTo>
                <a:cubicBezTo>
                  <a:pt x="980" y="4688"/>
                  <a:pt x="1066" y="4605"/>
                  <a:pt x="1094" y="4550"/>
                </a:cubicBezTo>
                <a:cubicBezTo>
                  <a:pt x="1129" y="4494"/>
                  <a:pt x="1087" y="4403"/>
                  <a:pt x="1085" y="4408"/>
                </a:cubicBezTo>
                <a:cubicBezTo>
                  <a:pt x="1084" y="4407"/>
                  <a:pt x="1106" y="4476"/>
                  <a:pt x="1078" y="4546"/>
                </a:cubicBezTo>
                <a:cubicBezTo>
                  <a:pt x="1032" y="4610"/>
                  <a:pt x="947" y="4702"/>
                  <a:pt x="952" y="4763"/>
                </a:cubicBezTo>
                <a:cubicBezTo>
                  <a:pt x="937" y="4805"/>
                  <a:pt x="806" y="4958"/>
                  <a:pt x="711" y="5031"/>
                </a:cubicBezTo>
                <a:cubicBezTo>
                  <a:pt x="717" y="5012"/>
                  <a:pt x="721" y="4996"/>
                  <a:pt x="723" y="4982"/>
                </a:cubicBezTo>
                <a:cubicBezTo>
                  <a:pt x="671" y="4889"/>
                  <a:pt x="817" y="4737"/>
                  <a:pt x="867" y="4652"/>
                </a:cubicBezTo>
                <a:cubicBezTo>
                  <a:pt x="891" y="4613"/>
                  <a:pt x="898" y="4545"/>
                  <a:pt x="888" y="4495"/>
                </a:cubicBezTo>
                <a:cubicBezTo>
                  <a:pt x="878" y="4444"/>
                  <a:pt x="846" y="4432"/>
                  <a:pt x="844" y="4431"/>
                </a:cubicBezTo>
                <a:cubicBezTo>
                  <a:pt x="842" y="4432"/>
                  <a:pt x="861" y="4443"/>
                  <a:pt x="862" y="4487"/>
                </a:cubicBezTo>
                <a:cubicBezTo>
                  <a:pt x="865" y="4529"/>
                  <a:pt x="855" y="4591"/>
                  <a:pt x="835" y="4645"/>
                </a:cubicBezTo>
                <a:cubicBezTo>
                  <a:pt x="748" y="4747"/>
                  <a:pt x="611" y="4921"/>
                  <a:pt x="655" y="5014"/>
                </a:cubicBezTo>
                <a:cubicBezTo>
                  <a:pt x="648" y="5048"/>
                  <a:pt x="609" y="5128"/>
                  <a:pt x="558" y="5222"/>
                </a:cubicBezTo>
                <a:cubicBezTo>
                  <a:pt x="554" y="5127"/>
                  <a:pt x="558" y="4951"/>
                  <a:pt x="543" y="4895"/>
                </a:cubicBezTo>
                <a:cubicBezTo>
                  <a:pt x="483" y="4866"/>
                  <a:pt x="544" y="4743"/>
                  <a:pt x="569" y="4692"/>
                </a:cubicBezTo>
                <a:cubicBezTo>
                  <a:pt x="586" y="4647"/>
                  <a:pt x="582" y="4544"/>
                  <a:pt x="587" y="4534"/>
                </a:cubicBezTo>
                <a:cubicBezTo>
                  <a:pt x="582" y="4542"/>
                  <a:pt x="558" y="4627"/>
                  <a:pt x="548" y="4692"/>
                </a:cubicBezTo>
                <a:cubicBezTo>
                  <a:pt x="500" y="4762"/>
                  <a:pt x="452" y="4902"/>
                  <a:pt x="509" y="4931"/>
                </a:cubicBezTo>
                <a:cubicBezTo>
                  <a:pt x="514" y="4973"/>
                  <a:pt x="506" y="5212"/>
                  <a:pt x="494" y="5334"/>
                </a:cubicBezTo>
                <a:cubicBezTo>
                  <a:pt x="459" y="5394"/>
                  <a:pt x="422" y="5454"/>
                  <a:pt x="388" y="5507"/>
                </a:cubicBezTo>
                <a:cubicBezTo>
                  <a:pt x="375" y="5464"/>
                  <a:pt x="364" y="5421"/>
                  <a:pt x="353" y="5379"/>
                </a:cubicBezTo>
                <a:cubicBezTo>
                  <a:pt x="295" y="5158"/>
                  <a:pt x="270" y="4943"/>
                  <a:pt x="290" y="4744"/>
                </a:cubicBezTo>
                <a:cubicBezTo>
                  <a:pt x="301" y="4625"/>
                  <a:pt x="326" y="4512"/>
                  <a:pt x="354" y="4412"/>
                </a:cubicBezTo>
                <a:cubicBezTo>
                  <a:pt x="431" y="4308"/>
                  <a:pt x="594" y="4117"/>
                  <a:pt x="811" y="3948"/>
                </a:cubicBezTo>
                <a:cubicBezTo>
                  <a:pt x="816" y="3945"/>
                  <a:pt x="820" y="3942"/>
                  <a:pt x="824" y="3938"/>
                </a:cubicBezTo>
                <a:cubicBezTo>
                  <a:pt x="846" y="3937"/>
                  <a:pt x="876" y="3940"/>
                  <a:pt x="907" y="3949"/>
                </a:cubicBezTo>
                <a:cubicBezTo>
                  <a:pt x="970" y="3965"/>
                  <a:pt x="1043" y="3988"/>
                  <a:pt x="1085" y="3977"/>
                </a:cubicBezTo>
                <a:cubicBezTo>
                  <a:pt x="1149" y="3922"/>
                  <a:pt x="1202" y="3980"/>
                  <a:pt x="1249" y="3982"/>
                </a:cubicBezTo>
                <a:cubicBezTo>
                  <a:pt x="1297" y="3991"/>
                  <a:pt x="1381" y="3891"/>
                  <a:pt x="1376" y="3894"/>
                </a:cubicBezTo>
                <a:cubicBezTo>
                  <a:pt x="1377" y="3891"/>
                  <a:pt x="1314" y="3950"/>
                  <a:pt x="1256" y="3960"/>
                </a:cubicBezTo>
                <a:cubicBezTo>
                  <a:pt x="1206" y="3939"/>
                  <a:pt x="1147" y="3890"/>
                  <a:pt x="1083" y="3940"/>
                </a:cubicBezTo>
                <a:cubicBezTo>
                  <a:pt x="1051" y="3945"/>
                  <a:pt x="965" y="3910"/>
                  <a:pt x="886" y="3890"/>
                </a:cubicBezTo>
                <a:cubicBezTo>
                  <a:pt x="1048" y="3766"/>
                  <a:pt x="1226" y="3642"/>
                  <a:pt x="1372" y="3525"/>
                </a:cubicBezTo>
                <a:cubicBezTo>
                  <a:pt x="1450" y="3498"/>
                  <a:pt x="1597" y="3451"/>
                  <a:pt x="1716" y="3396"/>
                </a:cubicBezTo>
                <a:cubicBezTo>
                  <a:pt x="1777" y="3369"/>
                  <a:pt x="1840" y="3337"/>
                  <a:pt x="1899" y="3304"/>
                </a:cubicBezTo>
                <a:cubicBezTo>
                  <a:pt x="1923" y="3324"/>
                  <a:pt x="1972" y="3366"/>
                  <a:pt x="2051" y="3375"/>
                </a:cubicBezTo>
                <a:cubicBezTo>
                  <a:pt x="2071" y="3379"/>
                  <a:pt x="2093" y="3380"/>
                  <a:pt x="2115" y="3381"/>
                </a:cubicBezTo>
                <a:cubicBezTo>
                  <a:pt x="2144" y="3417"/>
                  <a:pt x="2253" y="3517"/>
                  <a:pt x="2312" y="3514"/>
                </a:cubicBezTo>
                <a:cubicBezTo>
                  <a:pt x="2354" y="3501"/>
                  <a:pt x="2406" y="3535"/>
                  <a:pt x="2441" y="3541"/>
                </a:cubicBezTo>
                <a:cubicBezTo>
                  <a:pt x="2473" y="3551"/>
                  <a:pt x="2554" y="3509"/>
                  <a:pt x="2553" y="3509"/>
                </a:cubicBezTo>
                <a:cubicBezTo>
                  <a:pt x="2553" y="3508"/>
                  <a:pt x="2492" y="3535"/>
                  <a:pt x="2446" y="3531"/>
                </a:cubicBezTo>
                <a:cubicBezTo>
                  <a:pt x="2406" y="3519"/>
                  <a:pt x="2346" y="3483"/>
                  <a:pt x="2305" y="3495"/>
                </a:cubicBezTo>
                <a:cubicBezTo>
                  <a:pt x="2275" y="3493"/>
                  <a:pt x="2175" y="3436"/>
                  <a:pt x="2148" y="3380"/>
                </a:cubicBezTo>
                <a:cubicBezTo>
                  <a:pt x="2226" y="3377"/>
                  <a:pt x="2303" y="3358"/>
                  <a:pt x="2341" y="3343"/>
                </a:cubicBezTo>
                <a:cubicBezTo>
                  <a:pt x="2403" y="3295"/>
                  <a:pt x="2529" y="3285"/>
                  <a:pt x="2591" y="3273"/>
                </a:cubicBezTo>
                <a:cubicBezTo>
                  <a:pt x="2649" y="3261"/>
                  <a:pt x="2780" y="3193"/>
                  <a:pt x="2780" y="3195"/>
                </a:cubicBezTo>
                <a:cubicBezTo>
                  <a:pt x="2781" y="3193"/>
                  <a:pt x="2678" y="3231"/>
                  <a:pt x="2595" y="3259"/>
                </a:cubicBezTo>
                <a:cubicBezTo>
                  <a:pt x="2517" y="3266"/>
                  <a:pt x="2374" y="3287"/>
                  <a:pt x="2313" y="3331"/>
                </a:cubicBezTo>
                <a:cubicBezTo>
                  <a:pt x="2312" y="3331"/>
                  <a:pt x="2312" y="3331"/>
                  <a:pt x="2311" y="3331"/>
                </a:cubicBezTo>
                <a:cubicBezTo>
                  <a:pt x="2338" y="3274"/>
                  <a:pt x="2430" y="3127"/>
                  <a:pt x="2462" y="3080"/>
                </a:cubicBezTo>
                <a:cubicBezTo>
                  <a:pt x="2467" y="3038"/>
                  <a:pt x="2536" y="2982"/>
                  <a:pt x="2567" y="2960"/>
                </a:cubicBezTo>
                <a:cubicBezTo>
                  <a:pt x="2592" y="2937"/>
                  <a:pt x="2646" y="2884"/>
                  <a:pt x="2657" y="2880"/>
                </a:cubicBezTo>
                <a:cubicBezTo>
                  <a:pt x="2648" y="2883"/>
                  <a:pt x="2598" y="2916"/>
                  <a:pt x="2564" y="2953"/>
                </a:cubicBezTo>
                <a:cubicBezTo>
                  <a:pt x="2520" y="2978"/>
                  <a:pt x="2445" y="3050"/>
                  <a:pt x="2440" y="3091"/>
                </a:cubicBezTo>
                <a:cubicBezTo>
                  <a:pt x="2419" y="3122"/>
                  <a:pt x="2323" y="3264"/>
                  <a:pt x="2285" y="3338"/>
                </a:cubicBezTo>
                <a:cubicBezTo>
                  <a:pt x="2244" y="3347"/>
                  <a:pt x="2172" y="3358"/>
                  <a:pt x="2103" y="3353"/>
                </a:cubicBezTo>
                <a:cubicBezTo>
                  <a:pt x="2029" y="3350"/>
                  <a:pt x="1968" y="3317"/>
                  <a:pt x="1936" y="3283"/>
                </a:cubicBezTo>
                <a:cubicBezTo>
                  <a:pt x="2030" y="3228"/>
                  <a:pt x="2110" y="3171"/>
                  <a:pt x="2152" y="3130"/>
                </a:cubicBezTo>
                <a:cubicBezTo>
                  <a:pt x="2201" y="3033"/>
                  <a:pt x="2344" y="2953"/>
                  <a:pt x="2441" y="2882"/>
                </a:cubicBezTo>
                <a:cubicBezTo>
                  <a:pt x="2440" y="2884"/>
                  <a:pt x="2439" y="2886"/>
                  <a:pt x="2438" y="2888"/>
                </a:cubicBezTo>
                <a:cubicBezTo>
                  <a:pt x="2436" y="2889"/>
                  <a:pt x="2637" y="2901"/>
                  <a:pt x="2700" y="2855"/>
                </a:cubicBezTo>
                <a:cubicBezTo>
                  <a:pt x="2731" y="2821"/>
                  <a:pt x="2797" y="2810"/>
                  <a:pt x="2832" y="2784"/>
                </a:cubicBezTo>
                <a:cubicBezTo>
                  <a:pt x="2871" y="2762"/>
                  <a:pt x="2893" y="2681"/>
                  <a:pt x="2889" y="2685"/>
                </a:cubicBezTo>
                <a:cubicBezTo>
                  <a:pt x="2890" y="2683"/>
                  <a:pt x="2872" y="2742"/>
                  <a:pt x="2830" y="2776"/>
                </a:cubicBezTo>
                <a:cubicBezTo>
                  <a:pt x="2786" y="2800"/>
                  <a:pt x="2716" y="2816"/>
                  <a:pt x="2684" y="2847"/>
                </a:cubicBezTo>
                <a:cubicBezTo>
                  <a:pt x="2654" y="2866"/>
                  <a:pt x="2522" y="2879"/>
                  <a:pt x="2466" y="2863"/>
                </a:cubicBezTo>
                <a:cubicBezTo>
                  <a:pt x="2475" y="2856"/>
                  <a:pt x="2484" y="2849"/>
                  <a:pt x="2491" y="2841"/>
                </a:cubicBezTo>
                <a:cubicBezTo>
                  <a:pt x="2533" y="2807"/>
                  <a:pt x="2582" y="2730"/>
                  <a:pt x="2606" y="2665"/>
                </a:cubicBezTo>
                <a:cubicBezTo>
                  <a:pt x="2627" y="2612"/>
                  <a:pt x="2632" y="2569"/>
                  <a:pt x="2634" y="2555"/>
                </a:cubicBezTo>
                <a:cubicBezTo>
                  <a:pt x="2626" y="2583"/>
                  <a:pt x="2575" y="2722"/>
                  <a:pt x="2480" y="2820"/>
                </a:cubicBezTo>
                <a:cubicBezTo>
                  <a:pt x="2362" y="2906"/>
                  <a:pt x="2156" y="3016"/>
                  <a:pt x="2094" y="3127"/>
                </a:cubicBezTo>
                <a:cubicBezTo>
                  <a:pt x="2082" y="3137"/>
                  <a:pt x="2065" y="3150"/>
                  <a:pt x="2042" y="3165"/>
                </a:cubicBezTo>
                <a:cubicBezTo>
                  <a:pt x="2050" y="3128"/>
                  <a:pt x="2070" y="3067"/>
                  <a:pt x="2103" y="3000"/>
                </a:cubicBezTo>
                <a:cubicBezTo>
                  <a:pt x="2155" y="2893"/>
                  <a:pt x="2228" y="2776"/>
                  <a:pt x="2257" y="2719"/>
                </a:cubicBezTo>
                <a:cubicBezTo>
                  <a:pt x="2257" y="2722"/>
                  <a:pt x="2257" y="2724"/>
                  <a:pt x="2256" y="2727"/>
                </a:cubicBezTo>
                <a:cubicBezTo>
                  <a:pt x="2254" y="2726"/>
                  <a:pt x="2444" y="2679"/>
                  <a:pt x="2489" y="2622"/>
                </a:cubicBezTo>
                <a:cubicBezTo>
                  <a:pt x="2507" y="2586"/>
                  <a:pt x="2564" y="2556"/>
                  <a:pt x="2590" y="2529"/>
                </a:cubicBezTo>
                <a:cubicBezTo>
                  <a:pt x="2618" y="2504"/>
                  <a:pt x="2628" y="2437"/>
                  <a:pt x="2627" y="2438"/>
                </a:cubicBezTo>
                <a:cubicBezTo>
                  <a:pt x="2627" y="2438"/>
                  <a:pt x="2613" y="2487"/>
                  <a:pt x="2585" y="2523"/>
                </a:cubicBezTo>
                <a:cubicBezTo>
                  <a:pt x="2550" y="2553"/>
                  <a:pt x="2490" y="2586"/>
                  <a:pt x="2472" y="2620"/>
                </a:cubicBezTo>
                <a:cubicBezTo>
                  <a:pt x="2448" y="2646"/>
                  <a:pt x="2315" y="2698"/>
                  <a:pt x="2264" y="2697"/>
                </a:cubicBezTo>
                <a:cubicBezTo>
                  <a:pt x="2271" y="2674"/>
                  <a:pt x="2287" y="2646"/>
                  <a:pt x="2308" y="2619"/>
                </a:cubicBezTo>
                <a:cubicBezTo>
                  <a:pt x="2348" y="2594"/>
                  <a:pt x="2381" y="2570"/>
                  <a:pt x="2399" y="2550"/>
                </a:cubicBezTo>
                <a:cubicBezTo>
                  <a:pt x="2432" y="2477"/>
                  <a:pt x="2547" y="2425"/>
                  <a:pt x="2599" y="2371"/>
                </a:cubicBezTo>
                <a:cubicBezTo>
                  <a:pt x="2623" y="2350"/>
                  <a:pt x="2648" y="2300"/>
                  <a:pt x="2655" y="2261"/>
                </a:cubicBezTo>
                <a:cubicBezTo>
                  <a:pt x="2661" y="2230"/>
                  <a:pt x="2658" y="2208"/>
                  <a:pt x="2657" y="2200"/>
                </a:cubicBezTo>
                <a:cubicBezTo>
                  <a:pt x="2655" y="2217"/>
                  <a:pt x="2643" y="2297"/>
                  <a:pt x="2589" y="2359"/>
                </a:cubicBezTo>
                <a:cubicBezTo>
                  <a:pt x="2552" y="2388"/>
                  <a:pt x="2502" y="2419"/>
                  <a:pt x="2457" y="2452"/>
                </a:cubicBezTo>
                <a:cubicBezTo>
                  <a:pt x="2501" y="2398"/>
                  <a:pt x="2556" y="2323"/>
                  <a:pt x="2564" y="2317"/>
                </a:cubicBezTo>
                <a:cubicBezTo>
                  <a:pt x="2555" y="2323"/>
                  <a:pt x="2479" y="2405"/>
                  <a:pt x="2423" y="2476"/>
                </a:cubicBezTo>
                <a:cubicBezTo>
                  <a:pt x="2393" y="2500"/>
                  <a:pt x="2356" y="2538"/>
                  <a:pt x="2321" y="2578"/>
                </a:cubicBezTo>
                <a:cubicBezTo>
                  <a:pt x="2243" y="2627"/>
                  <a:pt x="2090" y="2694"/>
                  <a:pt x="2003" y="2699"/>
                </a:cubicBezTo>
                <a:cubicBezTo>
                  <a:pt x="2069" y="2635"/>
                  <a:pt x="2133" y="2579"/>
                  <a:pt x="2179" y="2536"/>
                </a:cubicBezTo>
                <a:cubicBezTo>
                  <a:pt x="2257" y="2463"/>
                  <a:pt x="2368" y="2328"/>
                  <a:pt x="2452" y="2206"/>
                </a:cubicBezTo>
                <a:cubicBezTo>
                  <a:pt x="2543" y="2081"/>
                  <a:pt x="2563" y="1978"/>
                  <a:pt x="2560" y="1983"/>
                </a:cubicBezTo>
                <a:cubicBezTo>
                  <a:pt x="2559" y="1981"/>
                  <a:pt x="2543" y="2055"/>
                  <a:pt x="2460" y="2161"/>
                </a:cubicBezTo>
                <a:cubicBezTo>
                  <a:pt x="2384" y="2265"/>
                  <a:pt x="2270" y="2392"/>
                  <a:pt x="2168" y="2504"/>
                </a:cubicBezTo>
                <a:cubicBezTo>
                  <a:pt x="2164" y="2507"/>
                  <a:pt x="2160" y="2510"/>
                  <a:pt x="2156" y="2513"/>
                </a:cubicBezTo>
                <a:cubicBezTo>
                  <a:pt x="2180" y="2450"/>
                  <a:pt x="2237" y="2327"/>
                  <a:pt x="2250" y="2284"/>
                </a:cubicBezTo>
                <a:cubicBezTo>
                  <a:pt x="2236" y="2244"/>
                  <a:pt x="2299" y="2182"/>
                  <a:pt x="2326" y="2155"/>
                </a:cubicBezTo>
                <a:cubicBezTo>
                  <a:pt x="2349" y="2129"/>
                  <a:pt x="2378" y="2053"/>
                  <a:pt x="2380" y="2053"/>
                </a:cubicBezTo>
                <a:cubicBezTo>
                  <a:pt x="2379" y="2052"/>
                  <a:pt x="2344" y="2106"/>
                  <a:pt x="2317" y="2148"/>
                </a:cubicBezTo>
                <a:cubicBezTo>
                  <a:pt x="2276" y="2181"/>
                  <a:pt x="2212" y="2258"/>
                  <a:pt x="2225" y="2296"/>
                </a:cubicBezTo>
                <a:cubicBezTo>
                  <a:pt x="2213" y="2330"/>
                  <a:pt x="2140" y="2480"/>
                  <a:pt x="2111" y="2550"/>
                </a:cubicBezTo>
                <a:cubicBezTo>
                  <a:pt x="2005" y="2638"/>
                  <a:pt x="1875" y="2758"/>
                  <a:pt x="1767" y="2898"/>
                </a:cubicBezTo>
                <a:cubicBezTo>
                  <a:pt x="1706" y="2975"/>
                  <a:pt x="1648" y="3083"/>
                  <a:pt x="1621" y="3138"/>
                </a:cubicBezTo>
                <a:cubicBezTo>
                  <a:pt x="1598" y="3181"/>
                  <a:pt x="1573" y="3222"/>
                  <a:pt x="1552" y="3260"/>
                </a:cubicBezTo>
                <a:cubicBezTo>
                  <a:pt x="1536" y="3219"/>
                  <a:pt x="1520" y="3152"/>
                  <a:pt x="1524" y="3070"/>
                </a:cubicBezTo>
                <a:cubicBezTo>
                  <a:pt x="1524" y="2997"/>
                  <a:pt x="1539" y="2916"/>
                  <a:pt x="1556" y="2845"/>
                </a:cubicBezTo>
                <a:cubicBezTo>
                  <a:pt x="1596" y="2828"/>
                  <a:pt x="1679" y="2791"/>
                  <a:pt x="1760" y="2725"/>
                </a:cubicBezTo>
                <a:cubicBezTo>
                  <a:pt x="1874" y="2638"/>
                  <a:pt x="1987" y="2520"/>
                  <a:pt x="2026" y="2462"/>
                </a:cubicBezTo>
                <a:cubicBezTo>
                  <a:pt x="2053" y="2389"/>
                  <a:pt x="2167" y="2276"/>
                  <a:pt x="2210" y="2208"/>
                </a:cubicBezTo>
                <a:cubicBezTo>
                  <a:pt x="2263" y="2143"/>
                  <a:pt x="2266" y="1997"/>
                  <a:pt x="2260" y="2003"/>
                </a:cubicBezTo>
                <a:cubicBezTo>
                  <a:pt x="2261" y="2001"/>
                  <a:pt x="2258" y="2109"/>
                  <a:pt x="2202" y="2200"/>
                </a:cubicBezTo>
                <a:cubicBezTo>
                  <a:pt x="2142" y="2281"/>
                  <a:pt x="2018" y="2410"/>
                  <a:pt x="1988" y="2481"/>
                </a:cubicBezTo>
                <a:cubicBezTo>
                  <a:pt x="1981" y="2493"/>
                  <a:pt x="1964" y="2512"/>
                  <a:pt x="1941" y="2536"/>
                </a:cubicBezTo>
                <a:cubicBezTo>
                  <a:pt x="1935" y="2499"/>
                  <a:pt x="1931" y="2387"/>
                  <a:pt x="1933" y="2351"/>
                </a:cubicBezTo>
                <a:cubicBezTo>
                  <a:pt x="1911" y="2330"/>
                  <a:pt x="1945" y="2270"/>
                  <a:pt x="1962" y="2245"/>
                </a:cubicBezTo>
                <a:cubicBezTo>
                  <a:pt x="1974" y="2223"/>
                  <a:pt x="1985" y="2168"/>
                  <a:pt x="1987" y="2163"/>
                </a:cubicBezTo>
                <a:cubicBezTo>
                  <a:pt x="1985" y="2167"/>
                  <a:pt x="1966" y="2209"/>
                  <a:pt x="1955" y="2243"/>
                </a:cubicBezTo>
                <a:cubicBezTo>
                  <a:pt x="1926" y="2275"/>
                  <a:pt x="1897" y="2347"/>
                  <a:pt x="1917" y="2367"/>
                </a:cubicBezTo>
                <a:cubicBezTo>
                  <a:pt x="1915" y="2393"/>
                  <a:pt x="1916" y="2512"/>
                  <a:pt x="1917" y="2560"/>
                </a:cubicBezTo>
                <a:cubicBezTo>
                  <a:pt x="1823" y="2652"/>
                  <a:pt x="1661" y="2783"/>
                  <a:pt x="1565" y="2809"/>
                </a:cubicBezTo>
                <a:cubicBezTo>
                  <a:pt x="1580" y="2755"/>
                  <a:pt x="1594" y="2709"/>
                  <a:pt x="1601" y="2679"/>
                </a:cubicBezTo>
                <a:cubicBezTo>
                  <a:pt x="1585" y="2592"/>
                  <a:pt x="1718" y="2419"/>
                  <a:pt x="1781" y="2349"/>
                </a:cubicBezTo>
                <a:cubicBezTo>
                  <a:pt x="1833" y="2281"/>
                  <a:pt x="1932" y="2114"/>
                  <a:pt x="1941" y="2102"/>
                </a:cubicBezTo>
                <a:cubicBezTo>
                  <a:pt x="1933" y="2112"/>
                  <a:pt x="1839" y="2234"/>
                  <a:pt x="1771" y="2337"/>
                </a:cubicBezTo>
                <a:cubicBezTo>
                  <a:pt x="1726" y="2380"/>
                  <a:pt x="1669" y="2453"/>
                  <a:pt x="1625" y="2526"/>
                </a:cubicBezTo>
                <a:cubicBezTo>
                  <a:pt x="1619" y="2485"/>
                  <a:pt x="1614" y="2371"/>
                  <a:pt x="1615" y="2334"/>
                </a:cubicBezTo>
                <a:cubicBezTo>
                  <a:pt x="1590" y="2313"/>
                  <a:pt x="1631" y="2248"/>
                  <a:pt x="1649" y="2225"/>
                </a:cubicBezTo>
                <a:cubicBezTo>
                  <a:pt x="1663" y="2203"/>
                  <a:pt x="1687" y="2148"/>
                  <a:pt x="1692" y="2141"/>
                </a:cubicBezTo>
                <a:cubicBezTo>
                  <a:pt x="1687" y="2146"/>
                  <a:pt x="1660" y="2187"/>
                  <a:pt x="1642" y="2221"/>
                </a:cubicBezTo>
                <a:cubicBezTo>
                  <a:pt x="1610" y="2252"/>
                  <a:pt x="1577" y="2331"/>
                  <a:pt x="1599" y="2351"/>
                </a:cubicBezTo>
                <a:cubicBezTo>
                  <a:pt x="1597" y="2375"/>
                  <a:pt x="1600" y="2508"/>
                  <a:pt x="1600" y="2571"/>
                </a:cubicBezTo>
                <a:cubicBezTo>
                  <a:pt x="1570" y="2630"/>
                  <a:pt x="1552" y="2686"/>
                  <a:pt x="1559" y="2720"/>
                </a:cubicBezTo>
                <a:cubicBezTo>
                  <a:pt x="1549" y="2763"/>
                  <a:pt x="1504" y="2890"/>
                  <a:pt x="1490" y="3023"/>
                </a:cubicBezTo>
                <a:cubicBezTo>
                  <a:pt x="1488" y="3036"/>
                  <a:pt x="1487" y="3048"/>
                  <a:pt x="1486" y="3061"/>
                </a:cubicBezTo>
                <a:cubicBezTo>
                  <a:pt x="1450" y="3012"/>
                  <a:pt x="1391" y="2928"/>
                  <a:pt x="1346" y="2865"/>
                </a:cubicBezTo>
                <a:cubicBezTo>
                  <a:pt x="1374" y="2803"/>
                  <a:pt x="1455" y="2598"/>
                  <a:pt x="1450" y="2543"/>
                </a:cubicBezTo>
                <a:cubicBezTo>
                  <a:pt x="1435" y="2511"/>
                  <a:pt x="1469" y="2433"/>
                  <a:pt x="1477" y="2394"/>
                </a:cubicBezTo>
                <a:cubicBezTo>
                  <a:pt x="1490" y="2355"/>
                  <a:pt x="1454" y="2294"/>
                  <a:pt x="1451" y="2301"/>
                </a:cubicBezTo>
                <a:cubicBezTo>
                  <a:pt x="1452" y="2298"/>
                  <a:pt x="1475" y="2343"/>
                  <a:pt x="1468" y="2394"/>
                </a:cubicBezTo>
                <a:cubicBezTo>
                  <a:pt x="1451" y="2443"/>
                  <a:pt x="1419" y="2530"/>
                  <a:pt x="1433" y="2563"/>
                </a:cubicBezTo>
                <a:cubicBezTo>
                  <a:pt x="1431" y="2596"/>
                  <a:pt x="1374" y="2773"/>
                  <a:pt x="1325" y="2836"/>
                </a:cubicBezTo>
                <a:cubicBezTo>
                  <a:pt x="1313" y="2820"/>
                  <a:pt x="1303" y="2806"/>
                  <a:pt x="1295" y="2797"/>
                </a:cubicBezTo>
                <a:cubicBezTo>
                  <a:pt x="1240" y="2784"/>
                  <a:pt x="1227" y="2669"/>
                  <a:pt x="1231" y="2615"/>
                </a:cubicBezTo>
                <a:cubicBezTo>
                  <a:pt x="1222" y="2575"/>
                  <a:pt x="1225" y="2476"/>
                  <a:pt x="1231" y="2455"/>
                </a:cubicBezTo>
                <a:cubicBezTo>
                  <a:pt x="1224" y="2474"/>
                  <a:pt x="1203" y="2559"/>
                  <a:pt x="1218" y="2618"/>
                </a:cubicBezTo>
                <a:cubicBezTo>
                  <a:pt x="1203" y="2694"/>
                  <a:pt x="1236" y="2819"/>
                  <a:pt x="1290" y="2832"/>
                </a:cubicBezTo>
                <a:cubicBezTo>
                  <a:pt x="1315" y="2871"/>
                  <a:pt x="1447" y="3056"/>
                  <a:pt x="1485" y="3134"/>
                </a:cubicBezTo>
                <a:cubicBezTo>
                  <a:pt x="1485" y="3134"/>
                  <a:pt x="1485" y="3134"/>
                  <a:pt x="1485" y="3134"/>
                </a:cubicBezTo>
                <a:cubicBezTo>
                  <a:pt x="1487" y="3209"/>
                  <a:pt x="1500" y="3277"/>
                  <a:pt x="1515" y="3324"/>
                </a:cubicBezTo>
                <a:cubicBezTo>
                  <a:pt x="1434" y="3418"/>
                  <a:pt x="1180" y="3600"/>
                  <a:pt x="908" y="3794"/>
                </a:cubicBezTo>
                <a:cubicBezTo>
                  <a:pt x="871" y="3820"/>
                  <a:pt x="834" y="3848"/>
                  <a:pt x="798" y="3876"/>
                </a:cubicBezTo>
                <a:cubicBezTo>
                  <a:pt x="797" y="3876"/>
                  <a:pt x="797" y="3876"/>
                  <a:pt x="796" y="3876"/>
                </a:cubicBezTo>
                <a:cubicBezTo>
                  <a:pt x="796" y="3877"/>
                  <a:pt x="796" y="3877"/>
                  <a:pt x="796" y="3878"/>
                </a:cubicBezTo>
                <a:cubicBezTo>
                  <a:pt x="719" y="3938"/>
                  <a:pt x="644" y="4003"/>
                  <a:pt x="573" y="4067"/>
                </a:cubicBezTo>
                <a:cubicBezTo>
                  <a:pt x="592" y="4019"/>
                  <a:pt x="615" y="3963"/>
                  <a:pt x="637" y="3908"/>
                </a:cubicBezTo>
                <a:cubicBezTo>
                  <a:pt x="657" y="3898"/>
                  <a:pt x="708" y="3873"/>
                  <a:pt x="758" y="3829"/>
                </a:cubicBezTo>
                <a:cubicBezTo>
                  <a:pt x="823" y="3773"/>
                  <a:pt x="880" y="3697"/>
                  <a:pt x="895" y="3661"/>
                </a:cubicBezTo>
                <a:cubicBezTo>
                  <a:pt x="893" y="3614"/>
                  <a:pt x="963" y="3548"/>
                  <a:pt x="991" y="3512"/>
                </a:cubicBezTo>
                <a:cubicBezTo>
                  <a:pt x="1019" y="3478"/>
                  <a:pt x="1037" y="3391"/>
                  <a:pt x="1038" y="3392"/>
                </a:cubicBezTo>
                <a:cubicBezTo>
                  <a:pt x="1037" y="3391"/>
                  <a:pt x="1011" y="3456"/>
                  <a:pt x="982" y="3506"/>
                </a:cubicBezTo>
                <a:cubicBezTo>
                  <a:pt x="939" y="3549"/>
                  <a:pt x="869" y="3625"/>
                  <a:pt x="868" y="3671"/>
                </a:cubicBezTo>
                <a:cubicBezTo>
                  <a:pt x="857" y="3708"/>
                  <a:pt x="729" y="3842"/>
                  <a:pt x="652" y="3870"/>
                </a:cubicBezTo>
                <a:cubicBezTo>
                  <a:pt x="676" y="3807"/>
                  <a:pt x="697" y="3750"/>
                  <a:pt x="704" y="3718"/>
                </a:cubicBezTo>
                <a:cubicBezTo>
                  <a:pt x="675" y="3654"/>
                  <a:pt x="782" y="3539"/>
                  <a:pt x="828" y="3494"/>
                </a:cubicBezTo>
                <a:cubicBezTo>
                  <a:pt x="850" y="3471"/>
                  <a:pt x="870" y="3430"/>
                  <a:pt x="894" y="3394"/>
                </a:cubicBezTo>
                <a:cubicBezTo>
                  <a:pt x="916" y="3358"/>
                  <a:pt x="951" y="3332"/>
                  <a:pt x="951" y="3333"/>
                </a:cubicBezTo>
                <a:cubicBezTo>
                  <a:pt x="945" y="3326"/>
                  <a:pt x="856" y="3406"/>
                  <a:pt x="814" y="3482"/>
                </a:cubicBezTo>
                <a:cubicBezTo>
                  <a:pt x="740" y="3538"/>
                  <a:pt x="635" y="3680"/>
                  <a:pt x="662" y="3743"/>
                </a:cubicBezTo>
                <a:cubicBezTo>
                  <a:pt x="645" y="3795"/>
                  <a:pt x="551" y="4019"/>
                  <a:pt x="490" y="4146"/>
                </a:cubicBezTo>
                <a:cubicBezTo>
                  <a:pt x="464" y="4172"/>
                  <a:pt x="438" y="4198"/>
                  <a:pt x="414" y="4223"/>
                </a:cubicBezTo>
                <a:cubicBezTo>
                  <a:pt x="418" y="4188"/>
                  <a:pt x="428" y="4151"/>
                  <a:pt x="439" y="4111"/>
                </a:cubicBezTo>
                <a:cubicBezTo>
                  <a:pt x="441" y="4103"/>
                  <a:pt x="441" y="4103"/>
                  <a:pt x="441" y="4103"/>
                </a:cubicBezTo>
                <a:cubicBezTo>
                  <a:pt x="441" y="4101"/>
                  <a:pt x="441" y="4101"/>
                  <a:pt x="441" y="4101"/>
                </a:cubicBezTo>
                <a:cubicBezTo>
                  <a:pt x="438" y="4114"/>
                  <a:pt x="448" y="4074"/>
                  <a:pt x="447" y="4078"/>
                </a:cubicBezTo>
                <a:cubicBezTo>
                  <a:pt x="446" y="4075"/>
                  <a:pt x="446" y="4075"/>
                  <a:pt x="446" y="4075"/>
                </a:cubicBezTo>
                <a:cubicBezTo>
                  <a:pt x="442" y="4061"/>
                  <a:pt x="442" y="4061"/>
                  <a:pt x="442" y="4061"/>
                </a:cubicBezTo>
                <a:cubicBezTo>
                  <a:pt x="435" y="4032"/>
                  <a:pt x="435" y="4032"/>
                  <a:pt x="435" y="4032"/>
                </a:cubicBezTo>
                <a:cubicBezTo>
                  <a:pt x="431" y="4013"/>
                  <a:pt x="427" y="3993"/>
                  <a:pt x="423" y="3971"/>
                </a:cubicBezTo>
                <a:cubicBezTo>
                  <a:pt x="410" y="3887"/>
                  <a:pt x="404" y="3791"/>
                  <a:pt x="405" y="3687"/>
                </a:cubicBezTo>
                <a:cubicBezTo>
                  <a:pt x="408" y="3479"/>
                  <a:pt x="440" y="3238"/>
                  <a:pt x="515" y="2992"/>
                </a:cubicBezTo>
                <a:cubicBezTo>
                  <a:pt x="552" y="2870"/>
                  <a:pt x="602" y="2745"/>
                  <a:pt x="667" y="2630"/>
                </a:cubicBezTo>
                <a:cubicBezTo>
                  <a:pt x="717" y="2536"/>
                  <a:pt x="795" y="2454"/>
                  <a:pt x="846" y="2361"/>
                </a:cubicBezTo>
                <a:cubicBezTo>
                  <a:pt x="910" y="2330"/>
                  <a:pt x="1028" y="2264"/>
                  <a:pt x="1142" y="2168"/>
                </a:cubicBezTo>
                <a:cubicBezTo>
                  <a:pt x="1270" y="2067"/>
                  <a:pt x="1399" y="1939"/>
                  <a:pt x="1476" y="1845"/>
                </a:cubicBezTo>
                <a:cubicBezTo>
                  <a:pt x="1476" y="1847"/>
                  <a:pt x="1476" y="1849"/>
                  <a:pt x="1476" y="1850"/>
                </a:cubicBezTo>
                <a:cubicBezTo>
                  <a:pt x="1473" y="1845"/>
                  <a:pt x="1647" y="1789"/>
                  <a:pt x="1778" y="1727"/>
                </a:cubicBezTo>
                <a:cubicBezTo>
                  <a:pt x="1775" y="1731"/>
                  <a:pt x="1773" y="1736"/>
                  <a:pt x="1769" y="1743"/>
                </a:cubicBezTo>
                <a:cubicBezTo>
                  <a:pt x="1769" y="1739"/>
                  <a:pt x="1924" y="1785"/>
                  <a:pt x="1981" y="1755"/>
                </a:cubicBezTo>
                <a:cubicBezTo>
                  <a:pt x="2012" y="1726"/>
                  <a:pt x="2065" y="1735"/>
                  <a:pt x="2095" y="1723"/>
                </a:cubicBezTo>
                <a:cubicBezTo>
                  <a:pt x="2124" y="1719"/>
                  <a:pt x="2171" y="1663"/>
                  <a:pt x="2174" y="1661"/>
                </a:cubicBezTo>
                <a:cubicBezTo>
                  <a:pt x="2172" y="1660"/>
                  <a:pt x="2133" y="1699"/>
                  <a:pt x="2096" y="1714"/>
                </a:cubicBezTo>
                <a:cubicBezTo>
                  <a:pt x="2058" y="1721"/>
                  <a:pt x="2002" y="1716"/>
                  <a:pt x="1971" y="1743"/>
                </a:cubicBezTo>
                <a:cubicBezTo>
                  <a:pt x="1944" y="1754"/>
                  <a:pt x="1837" y="1742"/>
                  <a:pt x="1795" y="1719"/>
                </a:cubicBezTo>
                <a:cubicBezTo>
                  <a:pt x="1840" y="1696"/>
                  <a:pt x="1879" y="1673"/>
                  <a:pt x="1901" y="1652"/>
                </a:cubicBezTo>
                <a:cubicBezTo>
                  <a:pt x="1939" y="1595"/>
                  <a:pt x="2045" y="1543"/>
                  <a:pt x="2089" y="1489"/>
                </a:cubicBezTo>
                <a:cubicBezTo>
                  <a:pt x="2143" y="1438"/>
                  <a:pt x="2141" y="1320"/>
                  <a:pt x="2138" y="1325"/>
                </a:cubicBezTo>
                <a:cubicBezTo>
                  <a:pt x="2136" y="1323"/>
                  <a:pt x="2138" y="1412"/>
                  <a:pt x="2083" y="1480"/>
                </a:cubicBezTo>
                <a:cubicBezTo>
                  <a:pt x="2024" y="1539"/>
                  <a:pt x="1911" y="1597"/>
                  <a:pt x="1870" y="1651"/>
                </a:cubicBezTo>
                <a:cubicBezTo>
                  <a:pt x="1828" y="1689"/>
                  <a:pt x="1619" y="1773"/>
                  <a:pt x="1509" y="1803"/>
                </a:cubicBezTo>
                <a:cubicBezTo>
                  <a:pt x="1517" y="1791"/>
                  <a:pt x="1525" y="1780"/>
                  <a:pt x="1531" y="1771"/>
                </a:cubicBezTo>
                <a:cubicBezTo>
                  <a:pt x="1548" y="1682"/>
                  <a:pt x="1652" y="1573"/>
                  <a:pt x="1731" y="1480"/>
                </a:cubicBezTo>
                <a:cubicBezTo>
                  <a:pt x="1731" y="1483"/>
                  <a:pt x="1730" y="1486"/>
                  <a:pt x="1730" y="1490"/>
                </a:cubicBezTo>
                <a:cubicBezTo>
                  <a:pt x="1730" y="1485"/>
                  <a:pt x="1782" y="1474"/>
                  <a:pt x="1839" y="1439"/>
                </a:cubicBezTo>
                <a:cubicBezTo>
                  <a:pt x="1897" y="1407"/>
                  <a:pt x="1956" y="1353"/>
                  <a:pt x="1973" y="1323"/>
                </a:cubicBezTo>
                <a:cubicBezTo>
                  <a:pt x="1980" y="1285"/>
                  <a:pt x="2038" y="1235"/>
                  <a:pt x="2057" y="1202"/>
                </a:cubicBezTo>
                <a:cubicBezTo>
                  <a:pt x="2082" y="1171"/>
                  <a:pt x="2081" y="1102"/>
                  <a:pt x="2083" y="1103"/>
                </a:cubicBezTo>
                <a:cubicBezTo>
                  <a:pt x="2080" y="1103"/>
                  <a:pt x="2075" y="1155"/>
                  <a:pt x="2050" y="1197"/>
                </a:cubicBezTo>
                <a:cubicBezTo>
                  <a:pt x="2021" y="1237"/>
                  <a:pt x="1961" y="1291"/>
                  <a:pt x="1952" y="1330"/>
                </a:cubicBezTo>
                <a:cubicBezTo>
                  <a:pt x="1936" y="1361"/>
                  <a:pt x="1812" y="1448"/>
                  <a:pt x="1748" y="1460"/>
                </a:cubicBezTo>
                <a:cubicBezTo>
                  <a:pt x="1769" y="1435"/>
                  <a:pt x="1787" y="1411"/>
                  <a:pt x="1801" y="1390"/>
                </a:cubicBezTo>
                <a:cubicBezTo>
                  <a:pt x="1833" y="1344"/>
                  <a:pt x="1859" y="1259"/>
                  <a:pt x="1861" y="1195"/>
                </a:cubicBezTo>
                <a:cubicBezTo>
                  <a:pt x="1863" y="1143"/>
                  <a:pt x="1852" y="1106"/>
                  <a:pt x="1849" y="1093"/>
                </a:cubicBezTo>
                <a:cubicBezTo>
                  <a:pt x="1851" y="1121"/>
                  <a:pt x="1850" y="1257"/>
                  <a:pt x="1781" y="1377"/>
                </a:cubicBezTo>
                <a:cubicBezTo>
                  <a:pt x="1745" y="1421"/>
                  <a:pt x="1698" y="1473"/>
                  <a:pt x="1650" y="1527"/>
                </a:cubicBezTo>
                <a:cubicBezTo>
                  <a:pt x="1651" y="1473"/>
                  <a:pt x="1658" y="1379"/>
                  <a:pt x="1661" y="1346"/>
                </a:cubicBezTo>
                <a:cubicBezTo>
                  <a:pt x="1641" y="1321"/>
                  <a:pt x="1682" y="1259"/>
                  <a:pt x="1699" y="1232"/>
                </a:cubicBezTo>
                <a:cubicBezTo>
                  <a:pt x="1714" y="1206"/>
                  <a:pt x="1725" y="1144"/>
                  <a:pt x="1725" y="1143"/>
                </a:cubicBezTo>
                <a:cubicBezTo>
                  <a:pt x="1725" y="1143"/>
                  <a:pt x="1707" y="1191"/>
                  <a:pt x="1692" y="1229"/>
                </a:cubicBezTo>
                <a:cubicBezTo>
                  <a:pt x="1663" y="1263"/>
                  <a:pt x="1626" y="1338"/>
                  <a:pt x="1645" y="1362"/>
                </a:cubicBezTo>
                <a:cubicBezTo>
                  <a:pt x="1640" y="1387"/>
                  <a:pt x="1632" y="1493"/>
                  <a:pt x="1626" y="1554"/>
                </a:cubicBezTo>
                <a:cubicBezTo>
                  <a:pt x="1552" y="1639"/>
                  <a:pt x="1484" y="1725"/>
                  <a:pt x="1466" y="1792"/>
                </a:cubicBezTo>
                <a:cubicBezTo>
                  <a:pt x="1442" y="1827"/>
                  <a:pt x="1370" y="1907"/>
                  <a:pt x="1277" y="1992"/>
                </a:cubicBezTo>
                <a:cubicBezTo>
                  <a:pt x="1273" y="1961"/>
                  <a:pt x="1270" y="1900"/>
                  <a:pt x="1273" y="1830"/>
                </a:cubicBezTo>
                <a:cubicBezTo>
                  <a:pt x="1274" y="1763"/>
                  <a:pt x="1285" y="1689"/>
                  <a:pt x="1295" y="1632"/>
                </a:cubicBezTo>
                <a:cubicBezTo>
                  <a:pt x="1318" y="1611"/>
                  <a:pt x="1489" y="1501"/>
                  <a:pt x="1527" y="1446"/>
                </a:cubicBezTo>
                <a:cubicBezTo>
                  <a:pt x="1540" y="1407"/>
                  <a:pt x="1602" y="1364"/>
                  <a:pt x="1626" y="1331"/>
                </a:cubicBezTo>
                <a:cubicBezTo>
                  <a:pt x="1657" y="1297"/>
                  <a:pt x="1643" y="1229"/>
                  <a:pt x="1640" y="1234"/>
                </a:cubicBezTo>
                <a:cubicBezTo>
                  <a:pt x="1640" y="1232"/>
                  <a:pt x="1649" y="1282"/>
                  <a:pt x="1620" y="1326"/>
                </a:cubicBezTo>
                <a:cubicBezTo>
                  <a:pt x="1586" y="1363"/>
                  <a:pt x="1521" y="1411"/>
                  <a:pt x="1506" y="1450"/>
                </a:cubicBezTo>
                <a:cubicBezTo>
                  <a:pt x="1485" y="1477"/>
                  <a:pt x="1365" y="1565"/>
                  <a:pt x="1300" y="1602"/>
                </a:cubicBezTo>
                <a:cubicBezTo>
                  <a:pt x="1302" y="1586"/>
                  <a:pt x="1305" y="1573"/>
                  <a:pt x="1306" y="1563"/>
                </a:cubicBezTo>
                <a:cubicBezTo>
                  <a:pt x="1286" y="1508"/>
                  <a:pt x="1368" y="1383"/>
                  <a:pt x="1409" y="1334"/>
                </a:cubicBezTo>
                <a:cubicBezTo>
                  <a:pt x="1442" y="1287"/>
                  <a:pt x="1506" y="1174"/>
                  <a:pt x="1514" y="1164"/>
                </a:cubicBezTo>
                <a:cubicBezTo>
                  <a:pt x="1507" y="1172"/>
                  <a:pt x="1444" y="1255"/>
                  <a:pt x="1402" y="1326"/>
                </a:cubicBezTo>
                <a:cubicBezTo>
                  <a:pt x="1339" y="1388"/>
                  <a:pt x="1258" y="1540"/>
                  <a:pt x="1279" y="1594"/>
                </a:cubicBezTo>
                <a:cubicBezTo>
                  <a:pt x="1272" y="1616"/>
                  <a:pt x="1264" y="1669"/>
                  <a:pt x="1257" y="1732"/>
                </a:cubicBezTo>
                <a:cubicBezTo>
                  <a:pt x="1230" y="1693"/>
                  <a:pt x="1179" y="1622"/>
                  <a:pt x="1153" y="1607"/>
                </a:cubicBezTo>
                <a:cubicBezTo>
                  <a:pt x="1117" y="1609"/>
                  <a:pt x="1110" y="1547"/>
                  <a:pt x="1115" y="1519"/>
                </a:cubicBezTo>
                <a:cubicBezTo>
                  <a:pt x="1113" y="1499"/>
                  <a:pt x="1112" y="1447"/>
                  <a:pt x="1115" y="1437"/>
                </a:cubicBezTo>
                <a:cubicBezTo>
                  <a:pt x="1112" y="1446"/>
                  <a:pt x="1100" y="1491"/>
                  <a:pt x="1106" y="1522"/>
                </a:cubicBezTo>
                <a:cubicBezTo>
                  <a:pt x="1093" y="1564"/>
                  <a:pt x="1114" y="1629"/>
                  <a:pt x="1148" y="1627"/>
                </a:cubicBezTo>
                <a:cubicBezTo>
                  <a:pt x="1165" y="1643"/>
                  <a:pt x="1239" y="1733"/>
                  <a:pt x="1249" y="1779"/>
                </a:cubicBezTo>
                <a:cubicBezTo>
                  <a:pt x="1250" y="1778"/>
                  <a:pt x="1251" y="1777"/>
                  <a:pt x="1253" y="1776"/>
                </a:cubicBezTo>
                <a:cubicBezTo>
                  <a:pt x="1244" y="1868"/>
                  <a:pt x="1239" y="1970"/>
                  <a:pt x="1240" y="2025"/>
                </a:cubicBezTo>
                <a:cubicBezTo>
                  <a:pt x="1221" y="2042"/>
                  <a:pt x="1202" y="2059"/>
                  <a:pt x="1182" y="2075"/>
                </a:cubicBezTo>
                <a:cubicBezTo>
                  <a:pt x="1085" y="2157"/>
                  <a:pt x="970" y="2235"/>
                  <a:pt x="887" y="2272"/>
                </a:cubicBezTo>
                <a:cubicBezTo>
                  <a:pt x="974" y="2042"/>
                  <a:pt x="953" y="1849"/>
                  <a:pt x="943" y="1709"/>
                </a:cubicBezTo>
                <a:cubicBezTo>
                  <a:pt x="933" y="1584"/>
                  <a:pt x="891" y="1442"/>
                  <a:pt x="868" y="1287"/>
                </a:cubicBezTo>
                <a:cubicBezTo>
                  <a:pt x="904" y="1259"/>
                  <a:pt x="978" y="1201"/>
                  <a:pt x="1053" y="1124"/>
                </a:cubicBezTo>
                <a:cubicBezTo>
                  <a:pt x="1052" y="1127"/>
                  <a:pt x="1051" y="1129"/>
                  <a:pt x="1050" y="1132"/>
                </a:cubicBezTo>
                <a:cubicBezTo>
                  <a:pt x="1051" y="1126"/>
                  <a:pt x="1128" y="1131"/>
                  <a:pt x="1221" y="1108"/>
                </a:cubicBezTo>
                <a:cubicBezTo>
                  <a:pt x="1275" y="1098"/>
                  <a:pt x="1334" y="1076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417" y="1037"/>
                  <a:pt x="1445" y="1020"/>
                  <a:pt x="1462" y="1006"/>
                </a:cubicBezTo>
                <a:cubicBezTo>
                  <a:pt x="1501" y="952"/>
                  <a:pt x="1602" y="904"/>
                  <a:pt x="1646" y="854"/>
                </a:cubicBezTo>
                <a:cubicBezTo>
                  <a:pt x="1697" y="808"/>
                  <a:pt x="1706" y="692"/>
                  <a:pt x="1703" y="696"/>
                </a:cubicBezTo>
                <a:cubicBezTo>
                  <a:pt x="1702" y="695"/>
                  <a:pt x="1693" y="781"/>
                  <a:pt x="1639" y="845"/>
                </a:cubicBezTo>
                <a:cubicBezTo>
                  <a:pt x="1581" y="900"/>
                  <a:pt x="1474" y="952"/>
                  <a:pt x="1433" y="1003"/>
                </a:cubicBezTo>
                <a:cubicBezTo>
                  <a:pt x="1425" y="1011"/>
                  <a:pt x="1409" y="1020"/>
                  <a:pt x="1388" y="1029"/>
                </a:cubicBezTo>
                <a:cubicBezTo>
                  <a:pt x="1396" y="988"/>
                  <a:pt x="1409" y="905"/>
                  <a:pt x="1419" y="876"/>
                </a:cubicBezTo>
                <a:cubicBezTo>
                  <a:pt x="1407" y="848"/>
                  <a:pt x="1458" y="806"/>
                  <a:pt x="1479" y="793"/>
                </a:cubicBezTo>
                <a:cubicBezTo>
                  <a:pt x="1498" y="778"/>
                  <a:pt x="1529" y="727"/>
                  <a:pt x="1530" y="727"/>
                </a:cubicBezTo>
                <a:cubicBezTo>
                  <a:pt x="1530" y="727"/>
                  <a:pt x="1499" y="760"/>
                  <a:pt x="1474" y="786"/>
                </a:cubicBezTo>
                <a:cubicBezTo>
                  <a:pt x="1443" y="800"/>
                  <a:pt x="1389" y="859"/>
                  <a:pt x="1402" y="886"/>
                </a:cubicBezTo>
                <a:cubicBezTo>
                  <a:pt x="1390" y="906"/>
                  <a:pt x="1376" y="992"/>
                  <a:pt x="1356" y="1042"/>
                </a:cubicBezTo>
                <a:cubicBezTo>
                  <a:pt x="1271" y="1074"/>
                  <a:pt x="1145" y="1103"/>
                  <a:pt x="1082" y="1093"/>
                </a:cubicBezTo>
                <a:cubicBezTo>
                  <a:pt x="1083" y="1092"/>
                  <a:pt x="1084" y="1091"/>
                  <a:pt x="1085" y="1090"/>
                </a:cubicBezTo>
                <a:cubicBezTo>
                  <a:pt x="1204" y="966"/>
                  <a:pt x="1315" y="808"/>
                  <a:pt x="1347" y="735"/>
                </a:cubicBezTo>
                <a:cubicBezTo>
                  <a:pt x="1347" y="729"/>
                  <a:pt x="1349" y="723"/>
                  <a:pt x="1350" y="717"/>
                </a:cubicBezTo>
                <a:cubicBezTo>
                  <a:pt x="1373" y="711"/>
                  <a:pt x="1550" y="645"/>
                  <a:pt x="1588" y="585"/>
                </a:cubicBezTo>
                <a:cubicBezTo>
                  <a:pt x="1602" y="547"/>
                  <a:pt x="1659" y="508"/>
                  <a:pt x="1683" y="478"/>
                </a:cubicBezTo>
                <a:cubicBezTo>
                  <a:pt x="1710" y="450"/>
                  <a:pt x="1714" y="382"/>
                  <a:pt x="1714" y="383"/>
                </a:cubicBezTo>
                <a:cubicBezTo>
                  <a:pt x="1713" y="383"/>
                  <a:pt x="1704" y="433"/>
                  <a:pt x="1677" y="473"/>
                </a:cubicBezTo>
                <a:cubicBezTo>
                  <a:pt x="1644" y="507"/>
                  <a:pt x="1584" y="550"/>
                  <a:pt x="1568" y="586"/>
                </a:cubicBezTo>
                <a:cubicBezTo>
                  <a:pt x="1548" y="615"/>
                  <a:pt x="1415" y="685"/>
                  <a:pt x="1359" y="688"/>
                </a:cubicBezTo>
                <a:cubicBezTo>
                  <a:pt x="1391" y="601"/>
                  <a:pt x="1478" y="484"/>
                  <a:pt x="1510" y="413"/>
                </a:cubicBezTo>
                <a:cubicBezTo>
                  <a:pt x="1557" y="331"/>
                  <a:pt x="1534" y="170"/>
                  <a:pt x="1533" y="174"/>
                </a:cubicBezTo>
                <a:cubicBezTo>
                  <a:pt x="1532" y="173"/>
                  <a:pt x="1538" y="297"/>
                  <a:pt x="1495" y="407"/>
                </a:cubicBezTo>
                <a:cubicBezTo>
                  <a:pt x="1447" y="492"/>
                  <a:pt x="1355" y="620"/>
                  <a:pt x="1317" y="711"/>
                </a:cubicBezTo>
                <a:cubicBezTo>
                  <a:pt x="1317" y="653"/>
                  <a:pt x="1320" y="562"/>
                  <a:pt x="1317" y="529"/>
                </a:cubicBezTo>
                <a:cubicBezTo>
                  <a:pt x="1294" y="508"/>
                  <a:pt x="1326" y="439"/>
                  <a:pt x="1340" y="410"/>
                </a:cubicBezTo>
                <a:cubicBezTo>
                  <a:pt x="1349" y="385"/>
                  <a:pt x="1362" y="327"/>
                  <a:pt x="1367" y="318"/>
                </a:cubicBezTo>
                <a:cubicBezTo>
                  <a:pt x="1362" y="326"/>
                  <a:pt x="1341" y="371"/>
                  <a:pt x="1332" y="408"/>
                </a:cubicBezTo>
                <a:cubicBezTo>
                  <a:pt x="1306" y="447"/>
                  <a:pt x="1280" y="527"/>
                  <a:pt x="1303" y="548"/>
                </a:cubicBezTo>
                <a:cubicBezTo>
                  <a:pt x="1302" y="575"/>
                  <a:pt x="1295" y="724"/>
                  <a:pt x="1288" y="789"/>
                </a:cubicBezTo>
                <a:cubicBezTo>
                  <a:pt x="1228" y="891"/>
                  <a:pt x="1000" y="1158"/>
                  <a:pt x="862" y="1241"/>
                </a:cubicBezTo>
                <a:cubicBezTo>
                  <a:pt x="861" y="1237"/>
                  <a:pt x="861" y="1234"/>
                  <a:pt x="860" y="1230"/>
                </a:cubicBezTo>
                <a:cubicBezTo>
                  <a:pt x="852" y="1142"/>
                  <a:pt x="855" y="1049"/>
                  <a:pt x="896" y="959"/>
                </a:cubicBezTo>
                <a:cubicBezTo>
                  <a:pt x="930" y="886"/>
                  <a:pt x="955" y="813"/>
                  <a:pt x="972" y="743"/>
                </a:cubicBezTo>
                <a:cubicBezTo>
                  <a:pt x="999" y="730"/>
                  <a:pt x="1045" y="707"/>
                  <a:pt x="1091" y="669"/>
                </a:cubicBezTo>
                <a:cubicBezTo>
                  <a:pt x="1168" y="611"/>
                  <a:pt x="1227" y="516"/>
                  <a:pt x="1237" y="476"/>
                </a:cubicBezTo>
                <a:cubicBezTo>
                  <a:pt x="1229" y="430"/>
                  <a:pt x="1286" y="346"/>
                  <a:pt x="1306" y="300"/>
                </a:cubicBezTo>
                <a:cubicBezTo>
                  <a:pt x="1327" y="257"/>
                  <a:pt x="1315" y="171"/>
                  <a:pt x="1316" y="172"/>
                </a:cubicBezTo>
                <a:cubicBezTo>
                  <a:pt x="1314" y="171"/>
                  <a:pt x="1311" y="240"/>
                  <a:pt x="1295" y="298"/>
                </a:cubicBezTo>
                <a:cubicBezTo>
                  <a:pt x="1262" y="356"/>
                  <a:pt x="1205" y="448"/>
                  <a:pt x="1209" y="493"/>
                </a:cubicBezTo>
                <a:cubicBezTo>
                  <a:pt x="1202" y="514"/>
                  <a:pt x="1164" y="577"/>
                  <a:pt x="1107" y="627"/>
                </a:cubicBezTo>
                <a:cubicBezTo>
                  <a:pt x="1066" y="666"/>
                  <a:pt x="1017" y="692"/>
                  <a:pt x="980" y="706"/>
                </a:cubicBezTo>
                <a:cubicBezTo>
                  <a:pt x="986" y="679"/>
                  <a:pt x="990" y="652"/>
                  <a:pt x="993" y="626"/>
                </a:cubicBezTo>
                <a:cubicBezTo>
                  <a:pt x="1000" y="577"/>
                  <a:pt x="1003" y="531"/>
                  <a:pt x="1004" y="487"/>
                </a:cubicBezTo>
                <a:cubicBezTo>
                  <a:pt x="1038" y="457"/>
                  <a:pt x="1200" y="273"/>
                  <a:pt x="1222" y="205"/>
                </a:cubicBezTo>
                <a:cubicBezTo>
                  <a:pt x="1224" y="162"/>
                  <a:pt x="1282" y="91"/>
                  <a:pt x="1301" y="51"/>
                </a:cubicBezTo>
                <a:cubicBezTo>
                  <a:pt x="1310" y="36"/>
                  <a:pt x="1313" y="17"/>
                  <a:pt x="1312" y="0"/>
                </a:cubicBezTo>
                <a:cubicBezTo>
                  <a:pt x="1305" y="0"/>
                  <a:pt x="1305" y="0"/>
                  <a:pt x="1305" y="0"/>
                </a:cubicBezTo>
                <a:cubicBezTo>
                  <a:pt x="1304" y="15"/>
                  <a:pt x="1300" y="31"/>
                  <a:pt x="1293" y="48"/>
                </a:cubicBezTo>
                <a:close/>
                <a:moveTo>
                  <a:pt x="353" y="1437"/>
                </a:moveTo>
                <a:cubicBezTo>
                  <a:pt x="299" y="1454"/>
                  <a:pt x="242" y="1466"/>
                  <a:pt x="192" y="1474"/>
                </a:cubicBezTo>
                <a:cubicBezTo>
                  <a:pt x="195" y="1472"/>
                  <a:pt x="197" y="1471"/>
                  <a:pt x="199" y="1469"/>
                </a:cubicBezTo>
                <a:cubicBezTo>
                  <a:pt x="195" y="1474"/>
                  <a:pt x="122" y="1290"/>
                  <a:pt x="73" y="1264"/>
                </a:cubicBezTo>
                <a:cubicBezTo>
                  <a:pt x="47" y="1263"/>
                  <a:pt x="28" y="1235"/>
                  <a:pt x="12" y="1211"/>
                </a:cubicBezTo>
                <a:cubicBezTo>
                  <a:pt x="72" y="1192"/>
                  <a:pt x="182" y="1153"/>
                  <a:pt x="240" y="1131"/>
                </a:cubicBezTo>
                <a:cubicBezTo>
                  <a:pt x="284" y="1167"/>
                  <a:pt x="326" y="1202"/>
                  <a:pt x="371" y="1204"/>
                </a:cubicBezTo>
                <a:cubicBezTo>
                  <a:pt x="402" y="1225"/>
                  <a:pt x="455" y="1293"/>
                  <a:pt x="520" y="1377"/>
                </a:cubicBezTo>
                <a:cubicBezTo>
                  <a:pt x="478" y="1394"/>
                  <a:pt x="418" y="1417"/>
                  <a:pt x="353" y="1437"/>
                </a:cubicBezTo>
                <a:close/>
                <a:moveTo>
                  <a:pt x="1637" y="3255"/>
                </a:moveTo>
                <a:cubicBezTo>
                  <a:pt x="1678" y="3146"/>
                  <a:pt x="1731" y="2997"/>
                  <a:pt x="1851" y="2861"/>
                </a:cubicBezTo>
                <a:cubicBezTo>
                  <a:pt x="1883" y="2822"/>
                  <a:pt x="1917" y="2786"/>
                  <a:pt x="1951" y="2751"/>
                </a:cubicBezTo>
                <a:cubicBezTo>
                  <a:pt x="1980" y="2746"/>
                  <a:pt x="2055" y="2738"/>
                  <a:pt x="2137" y="2704"/>
                </a:cubicBezTo>
                <a:cubicBezTo>
                  <a:pt x="2183" y="2687"/>
                  <a:pt x="2231" y="2663"/>
                  <a:pt x="2274" y="2639"/>
                </a:cubicBezTo>
                <a:cubicBezTo>
                  <a:pt x="2248" y="2676"/>
                  <a:pt x="2229" y="2711"/>
                  <a:pt x="2225" y="2737"/>
                </a:cubicBezTo>
                <a:cubicBezTo>
                  <a:pt x="2191" y="2793"/>
                  <a:pt x="2032" y="3059"/>
                  <a:pt x="2000" y="3192"/>
                </a:cubicBezTo>
                <a:cubicBezTo>
                  <a:pt x="1940" y="3230"/>
                  <a:pt x="1861" y="3275"/>
                  <a:pt x="1777" y="3313"/>
                </a:cubicBezTo>
                <a:cubicBezTo>
                  <a:pt x="1671" y="3363"/>
                  <a:pt x="1569" y="3404"/>
                  <a:pt x="1491" y="3423"/>
                </a:cubicBezTo>
                <a:cubicBezTo>
                  <a:pt x="1555" y="3364"/>
                  <a:pt x="1606" y="3308"/>
                  <a:pt x="1637" y="3255"/>
                </a:cubicBezTo>
                <a:close/>
              </a:path>
            </a:pathLst>
          </a:custGeom>
          <a:solidFill>
            <a:srgbClr val="ffd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2"/>
          <p:cNvSpPr/>
          <p:nvPr/>
        </p:nvSpPr>
        <p:spPr>
          <a:xfrm>
            <a:off x="2773800" y="1708200"/>
            <a:ext cx="68695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ffffff"/>
                </a:solidFill>
                <a:latin typeface="微软雅黑"/>
              </a:rPr>
              <a:t>PP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"/>
          <p:cNvSpPr/>
          <p:nvPr/>
        </p:nvSpPr>
        <p:spPr>
          <a:xfrm>
            <a:off x="3208320" y="1708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的，它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等腰三角形 3"/>
          <p:cNvSpPr/>
          <p:nvPr/>
        </p:nvSpPr>
        <p:spPr>
          <a:xfrm rot="10800000">
            <a:off x="4833720" y="-149400"/>
            <a:ext cx="2525400" cy="1052640"/>
          </a:xfrm>
          <a:prstGeom prst="triangle">
            <a:avLst>
              <a:gd name="adj" fmla="val 50000"/>
            </a:avLst>
          </a:pr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8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"/>
          <p:cNvSpPr/>
          <p:nvPr/>
        </p:nvSpPr>
        <p:spPr>
          <a:xfrm>
            <a:off x="3956400" y="104760"/>
            <a:ext cx="50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认识了各路英熊好汉，以下我最爱的四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"/>
          <p:cNvSpPr/>
          <p:nvPr/>
        </p:nvSpPr>
        <p:spPr>
          <a:xfrm>
            <a:off x="1458000" y="180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秋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3"/>
          <p:cNvSpPr/>
          <p:nvPr/>
        </p:nvSpPr>
        <p:spPr>
          <a:xfrm>
            <a:off x="3242880" y="581652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艹将</a:t>
            </a: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PPT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"/>
          <p:cNvSpPr/>
          <p:nvPr/>
        </p:nvSpPr>
        <p:spPr>
          <a:xfrm>
            <a:off x="6238080" y="145404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无忧</a:t>
            </a: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"/>
          <p:cNvSpPr/>
          <p:nvPr/>
        </p:nvSpPr>
        <p:spPr>
          <a:xfrm>
            <a:off x="8805240" y="543564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我爱</a:t>
            </a: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7"/>
          <p:cNvSpPr/>
          <p:nvPr/>
        </p:nvSpPr>
        <p:spPr>
          <a:xfrm flipV="1">
            <a:off x="0" y="3044520"/>
            <a:ext cx="1909800" cy="136188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直接连接符 10"/>
          <p:cNvSpPr/>
          <p:nvPr/>
        </p:nvSpPr>
        <p:spPr>
          <a:xfrm>
            <a:off x="2106720" y="3059280"/>
            <a:ext cx="2128680" cy="201132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直接连接符 14"/>
          <p:cNvSpPr/>
          <p:nvPr/>
        </p:nvSpPr>
        <p:spPr>
          <a:xfrm flipH="1">
            <a:off x="4535280" y="2711520"/>
            <a:ext cx="2525400" cy="23270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20"/>
          <p:cNvSpPr/>
          <p:nvPr/>
        </p:nvSpPr>
        <p:spPr>
          <a:xfrm>
            <a:off x="7321680" y="2711520"/>
            <a:ext cx="2265120" cy="19382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21"/>
          <p:cNvSpPr/>
          <p:nvPr/>
        </p:nvSpPr>
        <p:spPr>
          <a:xfrm flipH="1">
            <a:off x="9715680" y="2806560"/>
            <a:ext cx="2466720" cy="187488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4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角三角形 25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28"/>
          <p:cNvGrpSpPr/>
          <p:nvPr/>
        </p:nvGrpSpPr>
        <p:grpSpPr>
          <a:xfrm>
            <a:off x="1841400" y="2878200"/>
            <a:ext cx="333360" cy="331560"/>
            <a:chOff x="1841400" y="2878200"/>
            <a:chExt cx="333360" cy="331560"/>
          </a:xfrm>
        </p:grpSpPr>
        <p:sp>
          <p:nvSpPr>
            <p:cNvPr id="531" name="椭圆 26"/>
            <p:cNvSpPr/>
            <p:nvPr/>
          </p:nvSpPr>
          <p:spPr>
            <a:xfrm>
              <a:off x="1841400" y="2878200"/>
              <a:ext cx="333360" cy="33156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27"/>
            <p:cNvSpPr/>
            <p:nvPr/>
          </p:nvSpPr>
          <p:spPr>
            <a:xfrm>
              <a:off x="1913400" y="2948760"/>
              <a:ext cx="19116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29"/>
          <p:cNvGrpSpPr/>
          <p:nvPr/>
        </p:nvGrpSpPr>
        <p:grpSpPr>
          <a:xfrm>
            <a:off x="4187880" y="4905360"/>
            <a:ext cx="331560" cy="331920"/>
            <a:chOff x="4187880" y="4905360"/>
            <a:chExt cx="331560" cy="331920"/>
          </a:xfrm>
        </p:grpSpPr>
        <p:sp>
          <p:nvSpPr>
            <p:cNvPr id="534" name="椭圆 30"/>
            <p:cNvSpPr/>
            <p:nvPr/>
          </p:nvSpPr>
          <p:spPr>
            <a:xfrm>
              <a:off x="4187880" y="4905360"/>
              <a:ext cx="331560" cy="33192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31"/>
            <p:cNvSpPr/>
            <p:nvPr/>
          </p:nvSpPr>
          <p:spPr>
            <a:xfrm>
              <a:off x="4259520" y="4976280"/>
              <a:ext cx="19008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2"/>
          <p:cNvGrpSpPr/>
          <p:nvPr/>
        </p:nvGrpSpPr>
        <p:grpSpPr>
          <a:xfrm>
            <a:off x="6989760" y="2546280"/>
            <a:ext cx="331920" cy="331920"/>
            <a:chOff x="6989760" y="2546280"/>
            <a:chExt cx="331920" cy="331920"/>
          </a:xfrm>
        </p:grpSpPr>
        <p:sp>
          <p:nvSpPr>
            <p:cNvPr id="537" name="椭圆 33"/>
            <p:cNvSpPr/>
            <p:nvPr/>
          </p:nvSpPr>
          <p:spPr>
            <a:xfrm>
              <a:off x="6989760" y="2546280"/>
              <a:ext cx="331920" cy="33192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34"/>
            <p:cNvSpPr/>
            <p:nvPr/>
          </p:nvSpPr>
          <p:spPr>
            <a:xfrm>
              <a:off x="7061760" y="2617200"/>
              <a:ext cx="19008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37"/>
          <p:cNvGrpSpPr/>
          <p:nvPr/>
        </p:nvGrpSpPr>
        <p:grpSpPr>
          <a:xfrm>
            <a:off x="9515520" y="4510080"/>
            <a:ext cx="331920" cy="331920"/>
            <a:chOff x="9515520" y="4510080"/>
            <a:chExt cx="331920" cy="331920"/>
          </a:xfrm>
        </p:grpSpPr>
        <p:sp>
          <p:nvSpPr>
            <p:cNvPr id="540" name="椭圆 38"/>
            <p:cNvSpPr/>
            <p:nvPr/>
          </p:nvSpPr>
          <p:spPr>
            <a:xfrm>
              <a:off x="9515520" y="4510080"/>
              <a:ext cx="331920" cy="33192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39"/>
            <p:cNvSpPr/>
            <p:nvPr/>
          </p:nvSpPr>
          <p:spPr>
            <a:xfrm>
              <a:off x="9587520" y="4581000"/>
              <a:ext cx="19008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1"/>
          <p:cNvGrpSpPr/>
          <p:nvPr/>
        </p:nvGrpSpPr>
        <p:grpSpPr>
          <a:xfrm>
            <a:off x="1393920" y="2303640"/>
            <a:ext cx="1226880" cy="523800"/>
            <a:chOff x="1393920" y="2303640"/>
            <a:chExt cx="1226880" cy="523800"/>
          </a:xfrm>
        </p:grpSpPr>
        <p:sp>
          <p:nvSpPr>
            <p:cNvPr id="543" name="矩形 6"/>
            <p:cNvSpPr/>
            <p:nvPr/>
          </p:nvSpPr>
          <p:spPr>
            <a:xfrm>
              <a:off x="1393920" y="2303640"/>
              <a:ext cx="1226880" cy="41616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恩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等腰三角形 9"/>
            <p:cNvSpPr/>
            <p:nvPr/>
          </p:nvSpPr>
          <p:spPr>
            <a:xfrm rot="10800000">
              <a:off x="1927440" y="2694960"/>
              <a:ext cx="159840" cy="13248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1"/>
          <p:cNvGrpSpPr/>
          <p:nvPr/>
        </p:nvGrpSpPr>
        <p:grpSpPr>
          <a:xfrm>
            <a:off x="6326280" y="1951200"/>
            <a:ext cx="1677960" cy="522000"/>
            <a:chOff x="6326280" y="1951200"/>
            <a:chExt cx="1677960" cy="522000"/>
          </a:xfrm>
        </p:grpSpPr>
        <p:sp>
          <p:nvSpPr>
            <p:cNvPr id="546" name="矩形 52"/>
            <p:cNvSpPr/>
            <p:nvPr/>
          </p:nvSpPr>
          <p:spPr>
            <a:xfrm>
              <a:off x="6326280" y="1951200"/>
              <a:ext cx="1677960" cy="41472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财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等腰三角形 53"/>
            <p:cNvSpPr/>
            <p:nvPr/>
          </p:nvSpPr>
          <p:spPr>
            <a:xfrm rot="10800000">
              <a:off x="7075080" y="2341440"/>
              <a:ext cx="159480" cy="13176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54"/>
          <p:cNvGrpSpPr/>
          <p:nvPr/>
        </p:nvGrpSpPr>
        <p:grpSpPr>
          <a:xfrm>
            <a:off x="3332160" y="5308560"/>
            <a:ext cx="2043000" cy="528840"/>
            <a:chOff x="3332160" y="5308560"/>
            <a:chExt cx="2043000" cy="528840"/>
          </a:xfrm>
        </p:grpSpPr>
        <p:sp>
          <p:nvSpPr>
            <p:cNvPr id="549" name="矩形 55"/>
            <p:cNvSpPr/>
            <p:nvPr/>
          </p:nvSpPr>
          <p:spPr>
            <a:xfrm>
              <a:off x="3332160" y="5414040"/>
              <a:ext cx="2043000" cy="42336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基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56"/>
            <p:cNvSpPr/>
            <p:nvPr/>
          </p:nvSpPr>
          <p:spPr>
            <a:xfrm>
              <a:off x="4273920" y="5308560"/>
              <a:ext cx="159840" cy="13464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57"/>
          <p:cNvGrpSpPr/>
          <p:nvPr/>
        </p:nvGrpSpPr>
        <p:grpSpPr>
          <a:xfrm>
            <a:off x="8848800" y="4906800"/>
            <a:ext cx="1679400" cy="528840"/>
            <a:chOff x="8848800" y="4906800"/>
            <a:chExt cx="1679400" cy="528840"/>
          </a:xfrm>
        </p:grpSpPr>
        <p:sp>
          <p:nvSpPr>
            <p:cNvPr id="552" name="矩形 58"/>
            <p:cNvSpPr/>
            <p:nvPr/>
          </p:nvSpPr>
          <p:spPr>
            <a:xfrm>
              <a:off x="8848800" y="5012280"/>
              <a:ext cx="1679400" cy="42336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榜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59"/>
            <p:cNvSpPr/>
            <p:nvPr/>
          </p:nvSpPr>
          <p:spPr>
            <a:xfrm>
              <a:off x="9598320" y="4906800"/>
              <a:ext cx="159840" cy="13464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08:31:00Z</dcterms:created>
  <dc:creator>LEE SIMON</dc:creator>
  <dc:description/>
  <dc:language>en-US</dc:language>
  <cp:lastModifiedBy>Administrator</cp:lastModifiedBy>
  <dcterms:modified xsi:type="dcterms:W3CDTF">2016-08-02T05:56:39Z</dcterms:modified>
  <cp:revision>1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