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0D50-543A-4FE8-90DB-C2426EAF8E56}"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0FA2-81B1-4FB8-89BD-653A603BE67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DCB2-6E64-4EF7-A998-34C391CDEEA4}"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1CA7-D2B7-487C-97AC-EACD2A4223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7D7F-8C87-418B-911B-8EF6256D0943}"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F46A-6C5F-4B7D-A504-4597EEB2509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9363-2CE9-44CC-9531-3DC3DDDE2FC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D049-4274-4EA9-BAEE-37C7679DD58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3D9D-8295-41CB-A818-B8EB677944B1}"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2DA4-EC78-4245-BD9B-6ACADCAB4B3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3FBD-1C33-445E-9222-A6086751D0A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69A3-264E-48BD-A44E-6849864F588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6A6F-6D5F-4707-A609-98CA7BD709C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D7B1-60A9-40B5-9E07-3314E1ED523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9B00-AF3A-47DE-8133-78BB0A0C08D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DA3D-6E09-435B-B993-018779E85C4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29EE-64A5-46F8-9205-CF61638A386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1DFB-6D3B-4D46-8891-50C69C73C63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FFCC-7C46-41D2-9F5B-D99A3B4DFB9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9B4B-4A4B-44E8-B5DE-E9DA6995DB5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161E-4B90-4F4F-B187-E8BD2D4AA314}"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C92E-3345-45F3-BA24-8FAD48F9F74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B29-B821-4E15-AFD7-A9F7D6767C5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9353-8878-4A32-8443-14684BC2914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0F2C-3092-460C-A18A-5A01EFE3FE01}"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CABF-AEB2-49C7-82C8-296C4E4D74B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F430-7E4D-4648-9810-3E8DDA22ACA6}"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A3F3-31A1-4983-87E1-0D2B897B253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B2E0-5BD2-4CF5-B753-DB196B9DB56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E9B4-384F-4FEF-9ACF-7E4B7DCA283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D03E-F535-4A14-B19B-80699FE2B632}"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E833-74A4-4BB4-913F-BB7344C3550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40C8-B8F8-4459-9BC2-1556FFABBCC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5809-8C3A-45F0-8081-2E7159EBE18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FA2F-5CA4-438C-9539-E12D2BA7377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8FCA-810C-41DE-9599-E729E2B8FE9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EB9F-6F02-4CFD-BE4B-89B8B80C65E3}"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4996-5BD8-4F08-A50A-B13DB73FA84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0EA6-7291-4F53-884E-C4194977D858}"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7BD-9021-4674-8E05-D573D09EC27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49A6-88D1-4711-B927-785C60EFB7B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A6C1-A6AC-478D-88D3-4515AF717AB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5463-022B-43C5-94B4-C3F97C51613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8FE3-B506-46E1-B097-341F4B9344E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41CA-519D-4A59-9156-A27999CFF39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99A7-9878-449B-9FBA-D71FCAC407F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BF74-8549-420E-A68C-453ECA3B0069}"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A515-B110-409C-90D5-3802E71C8A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F4AA-F32A-4ACA-B0F1-CBC52AB853D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2195-E06E-4A63-98B9-D44C43FA3D2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FC42-F3A3-44F6-B093-3A3231D5E00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F16A-FAE8-4A41-A0F5-4DD6D6B40C4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0226-A94C-4C11-A57D-E86B2F47D6B9}"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FE2D-B297-4440-BC14-FBD0FC2BC58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800F-7743-45A1-B1C9-D75BB58445E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F3F3-70B7-4218-AD2E-17F98B5B5BD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A2EF-C49F-490B-B606-7D84F3C4042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BC96-589B-43E8-8E23-3103F7AE4EC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477C-FA50-4B8E-A53C-B8369CC9BBE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7FAC-F59E-4C72-A436-6AFA397234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EA79-DDAC-4828-B22D-19C4247CA1E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A184-9468-4012-9126-EE28C209000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956D-6635-482B-A107-13E4F38DCF8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5F33-3B25-49BE-A4E0-E18F7EE3F71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F211-00B6-447D-B0EE-0C9507C04D9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B389-6700-4210-8DFC-7BF0B53E23B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7424-1ECB-41B2-BD6C-431877561F3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0124-EEB0-41CF-BB8D-346E707A4F2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B6FE-0875-48A9-959B-A6B78B34B4A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6B58-A194-486E-87A2-5B7382B2302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0340-25FA-42FC-9999-12E864A01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4C35-6662-4B4D-B4F5-E617E7320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69ADE-0CCF-4A76-AD6A-E005CB81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7354F-5A16-4C1A-8F92-04F396B90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37FE-9A40-4C05-A1B0-17B015EBF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0CC1E-0281-47B7-8675-55968A9B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E1638-99C2-4AC4-866E-73A5D8D1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73EC-612D-4E37-AA68-4734603C4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4CF97-40AF-4C15-8289-8CF76887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C75B-FFB8-4EFE-BDD1-539BC348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331B-2C51-4B17-AD36-B49142A4F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65A6-7244-4B0E-8285-5F68522B3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79A6-4B55-4FE3-ADA3-8F657C0190FD}" type="datetime">
              <a:rPr b="0" lang="zh-CN" sz="1200" spc="-1" strike="noStrike">
                <a:solidFill>
                  <a:srgbClr val="898989"/>
                </a:solidFill>
                <a:latin typeface="Calibri"/>
                <a:ea typeface="微软雅黑"/>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7427-C0BD-4632-97F1-14DAC996C37B}"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