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400-E5BB-419E-926E-2D8E2500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C8D-B6DF-4C42-85D0-8901FA75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944-5035-412F-B9A1-C7644B98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1DB-05E3-4DDB-89F8-4E4733C7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AE4-1CBD-44EF-AD6F-2794A03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7090-E610-45B2-A4B1-6A1B46A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F15-A916-4862-84DD-2A76E822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B73-7EBE-470F-A0FA-3456045D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318-C133-4F45-9900-BF900B40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AD9-C797-4D9E-AD21-29FFF51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F35-F817-443D-A9E0-9BF490E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0D4-D735-4791-B973-B307E29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1DDB-F40E-4347-9D82-EC7290DC35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25F5-6094-4C76-A34C-06E714435B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prstGeom prst="pie">
            <a:avLst/>
          </a:pr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7993800" y="43322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6"/>
          <p:cNvSpPr/>
          <p:nvPr/>
        </p:nvSpPr>
        <p:spPr>
          <a:xfrm>
            <a:off x="5627880" y="5435640"/>
            <a:ext cx="38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微信公众号：</a:t>
            </a:r>
            <a:r>
              <a:rPr b="0" lang="en-US" sz="2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iaoshouweix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51"/>
          <p:cNvSpPr/>
          <p:nvPr/>
        </p:nvSpPr>
        <p:spPr>
          <a:xfrm>
            <a:off x="3805200" y="432432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2"/>
          <p:cNvSpPr/>
          <p:nvPr/>
        </p:nvSpPr>
        <p:spPr>
          <a:xfrm>
            <a:off x="3768840" y="23479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3"/>
          <p:cNvSpPr/>
          <p:nvPr/>
        </p:nvSpPr>
        <p:spPr>
          <a:xfrm>
            <a:off x="3747960" y="3024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4"/>
          <p:cNvSpPr/>
          <p:nvPr/>
        </p:nvSpPr>
        <p:spPr>
          <a:xfrm>
            <a:off x="3786120" y="36511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5"/>
          <p:cNvSpPr/>
          <p:nvPr/>
        </p:nvSpPr>
        <p:spPr>
          <a:xfrm>
            <a:off x="3801960" y="43052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57"/>
          <p:cNvSpPr/>
          <p:nvPr/>
        </p:nvSpPr>
        <p:spPr>
          <a:xfrm>
            <a:off x="2806560" y="2311560"/>
            <a:ext cx="965520" cy="339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en-US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Dandoliya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7560" y="2763000"/>
            <a:ext cx="7160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2040 w 146160"/>
                <a:gd name="textAreaRight" fmla="*/ 114120 w 14616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6880" y="334224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prstGeom prst="blockArc">
              <a:avLst>
                <a:gd name="adj1" fmla="val 12095814"/>
                <a:gd name="adj2" fmla="val 9504186"/>
                <a:gd name="adj3" fmla="val 19222"/>
              </a:avLst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prstGeom prst="blockArc">
              <a:avLst>
                <a:gd name="adj1" fmla="val 12601074"/>
                <a:gd name="adj2" fmla="val 8998926"/>
                <a:gd name="adj3" fmla="val 1915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prstGeom prst="blockArc">
              <a:avLst>
                <a:gd name="adj1" fmla="val 5835486"/>
                <a:gd name="adj2" fmla="val 4964514"/>
                <a:gd name="adj3" fmla="val 19171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7760" y="335016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“字不如图”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prstGeom prst="pie">
            <a:avLst/>
          </a:pr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“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prstGeom prst="blockArc">
                <a:avLst>
                  <a:gd name="adj1" fmla="val 14089355"/>
                  <a:gd name="adj2" fmla="val 7510645"/>
                  <a:gd name="adj3" fmla="val 6824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5480 w 70920"/>
                  <a:gd name="textAreaRight" fmla="*/ 55440 w 70920"/>
                  <a:gd name="textAreaTop" fmla="*/ 32040 h 146520"/>
                  <a:gd name="textAreaBottom" fmla="*/ 11448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prstGeom prst="pie">
              <a:avLst/>
            </a:pr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prstGeom prst="pie">
                <a:avLst/>
              </a:pr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7400" y="3369240"/>
            <a:ext cx="733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7760" y="337860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张卫东</dc:creator>
  <dc:description/>
  <dc:language>en-US</dc:language>
  <cp:lastModifiedBy>张卫东</cp:lastModifiedBy>
  <dcterms:modified xsi:type="dcterms:W3CDTF">2015-01-06T18:09:58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