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159-8035-4106-B237-E27F3EBC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822-E91A-4E65-A0C6-05EA99AB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CBBC6-79B0-4252-AE94-F2EDDB52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6A779-903F-4666-B80D-5E922C6F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1B590-AA42-4B0A-B284-2B102B9E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2B438-2D17-472F-8283-1BD5DC90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DDB50-D1EE-4EC9-A1C1-091F266E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24B75-50C0-4966-8494-90867E3E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EFC02-05C6-4812-99A0-A7FDC020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7917D-B1F0-46D1-A908-805A7A5C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61636-2919-4678-A443-9260CFC9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64D29-4A2A-4626-A9D5-4D5B86F0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20B-77B0-4AD3-AF8C-C2F9A0A2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046F1-1163-4FEB-B6BB-E2B26868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7CC83-4B0E-4190-B843-60DEA9D3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25248-625E-401B-B30C-3BDC52E3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45DF2-21BC-4482-9BFF-480BE7A2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1B820-9C94-41D5-85A0-6785D033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14F2A-EFDC-41EC-8FD0-60D9118E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9B824-D4E7-46D8-B975-F887C115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AA4FB-8362-4BE0-938F-CCF10772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C9987-DC21-4448-8076-166A8641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14A23-A05E-40C2-A093-2FEF11C7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E41-DE22-4B0B-88E2-4D60C340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3A52C-7A83-4CF7-8119-D2B80943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B976A-8A83-4732-9C35-E010219F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CD8C7-599B-4862-AE08-C89F8857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7D3DB-BAEA-4553-9F80-CB0774E1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F7363-52FB-45A4-8927-65C0DBC4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C1D20-A68E-426B-AE73-2129131D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DD81C-67DD-4EB4-BEB7-6FB7F64F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9474D-2577-419D-8B7C-75569DD8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DC32D-772B-42D0-87DB-DAF0118C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FF252-1B0E-4602-BCCB-1884AC8C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8E48-714A-4E87-A6DD-05218A30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3F24C-51B8-41AD-9E2D-65BCB945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84A5F-C130-412E-85E2-F0B64C5D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4296A-857C-4096-8FDD-04C5B924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F9BEF-2102-43A6-A90D-41FC959C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F3BC4-FCE1-4EE7-B48E-01573193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A6C2D-EF45-440C-A355-9AF2CCB4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61A71-489C-4496-8787-B24B9EB0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8FC74-6895-4B30-AAB1-A9143950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EA712-189A-4FED-A31F-4D19DCA8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7D4A2-3E29-4E6E-95E2-BF4F6FCF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B182-C76E-4ADB-922D-3CDA72EA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CDEF1-71F4-45D4-BE20-5AAF3BCF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9F308-40F1-4538-9A72-13F5A5C3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74CCA-D977-40E5-ABAB-75D786D6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2F631-F535-40EB-AB21-5D153FD7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3AFF5-FF50-4D40-9DF8-CD68E9E1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A4307-DCD3-4DF3-AA46-0EB5A4A9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B190E-2E99-4434-8EF0-9DAC8162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4F237-75F3-4CBA-A7C2-6A750233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B58507-F948-4BCC-BC0B-F4262BE2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27C50-4F6B-408D-9291-78FBBD00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3BC5-19DE-431C-8F19-83FDE793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3B2D0-49B8-447A-A192-51574207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12C31-EF6B-4D5B-9FEF-1C9DC196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13B80-9EAD-496D-A4FB-8DBB212E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27FE2-B009-4F12-A1E9-D8FA7F66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2E7FC3-9D68-4229-9FAB-95FDA286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5E517-2D74-4C0C-B508-2798A53B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193EA-3DFB-4813-A262-3CF20DAF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0268-23A8-421B-B987-1BA06EC2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1681-5B14-41A1-B81C-C1E449B9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01D6-1D91-4409-898F-DDDCD2B7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4F56-FCCB-4EC1-869C-61DBF031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BB31-D6B0-4346-8764-8F1A39DB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E74B-A437-4A42-A906-8A99D9DC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3A43-0532-4921-ACC1-150CFE71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BAEC-AFE8-4FEA-A857-31BDCB53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FA91-055B-4463-B781-0C51387B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9CD4-7279-4766-9657-DAB1F463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4F86C-4540-4D1A-9B3F-D1E63DD0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AE953-00DF-42D1-8848-B6219895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8AB5A-13D5-4E1F-9595-2D4E07CF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09227-60F5-47AE-9957-070925B8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16BA0-4BB0-4FE5-BA03-6DABA4A4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887C-0028-4076-A187-E3C94811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11CE9-B0FA-4E19-BD86-24663EC1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1CBBD-D847-4F48-A87E-04FF48FC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12692-DE11-4038-A7B0-E97AB5DF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A3A1F-1E09-4D01-89C6-9E5E25CE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60EE1-8C66-4315-AA0A-6DB84911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6FDE5-A3D5-4357-B24F-6BB3A8D4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FBFE8-7E8E-402C-9E07-A36646E0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06EED-3D60-454B-889F-7CB749B0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59BB0-F2C0-4375-859C-BED3C21C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802FA-8DFE-4471-8C5E-AAD47D88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8CFE-2C01-42D3-AF56-3A929F76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AD8A2-5DF6-4AD1-8731-138CA13D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98204-1131-4AF0-9584-62A46C62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C272B-8E6C-4B01-9C7D-18512383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39B47-73ED-40E3-9154-DE68C17F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215CD-A2A7-44AC-A22D-2FCF70BD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AFEA4-0DB7-449A-8292-D4FC0768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D9BBA-95E6-42AF-92F5-E100B0A5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C015B-D375-401E-A8C1-A4EE147B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5999D-A595-4D94-AD43-25D338CA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A0714-1B9F-465D-B232-A6DF336A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DC6-56B1-4202-908A-F8FC7C5A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66A4C-26BA-4995-9244-8E614366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09073-6C11-44EF-A973-5EDE598E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3D3F2-EB6E-448C-956F-4C3DC37A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28205-0EAF-4CA8-8148-71E16F8E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C1190-3F73-4496-BE41-31366292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7913F-816B-4139-B3A5-CDC08F34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485D9-D6CA-465D-9390-0C429D57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0DBE8-F5C8-4101-BE1F-DE8B6598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EA999-850E-497B-BDCC-F93BD6C4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2090B-F09A-4467-80B2-2C73E911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743-C14B-4123-9F27-33BEFAEB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40085-B13A-444B-8CEA-6548B25D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03A56-1C95-4424-8577-438074B4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C2357-72E1-49C2-8218-93DD66A4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CBBDE-EBAA-463D-B0E5-6B376254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FA5B1-8252-4E33-A9A2-183F8B85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60F61-3E6C-4A66-A2B5-E3280B71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C6156-DEF8-4F2D-994C-A6250520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6B851-ABA6-4B26-9DFB-94098292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A9944-BE0D-4C61-88F6-4E34DF58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5AF15-9B86-4F10-AE34-2407DBB8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3C6-E482-49D7-AA22-0FD88B40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974AD-7F1A-460E-B5EF-B5789CFC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21ACD-21B7-47DC-9C75-D8F13225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7BF57-67FF-42CB-BE20-0DFA5BE6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69EF6-C1F7-4A78-B58F-842A5AE7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1CC04-5097-42AB-821A-F2E8A45F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DE4CC-E23A-4099-8802-C1BBF1BE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38B6F-6E56-4F90-A50C-031EFD01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DA341-F7C2-4DAB-9792-31A13D14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DE979-0965-40DC-99BF-58DF2AFF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DBC57-D128-47DC-8850-6D8E0F8D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95F-1F72-4A60-92D9-67E6967D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7EDBB-DB44-4CB9-A1C5-942C7976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8205B-B13F-4A76-AB8B-50D78B53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75FA0-6F60-4A36-BCED-A6AC3543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A9F15-6827-4DA1-9A1F-7B448863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6170A-A0C2-4F5A-AADB-4B0AC9EB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7685C-07B4-41F2-87C9-E0FA8375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C97CC-D31E-4675-ABC9-7C05DBD7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32124-C999-4289-B800-7919EF96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74FD5-6DED-464F-8612-34B36556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D98C9-6786-4560-9EE3-8254BF69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882-C91D-4E85-B962-2E505408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8AA91-A133-4663-8BB3-EA7C5A4B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47DD9-DC80-48E5-982E-1F5A9973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60337-6EB3-4323-9061-EA58FCBD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66FB9-F015-4680-BA44-B2E4CA0D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01753-6925-494A-B282-7FA74744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BD63E-7FFE-4AB1-879E-BF7613E1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792EC-FF82-4D5E-AA62-2E140C41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E9E62-58F5-4947-A683-62052EE5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72488-E8E7-4628-9963-C957EB22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4DCCA-0C66-452A-9BCC-273C68B6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AB7C-8974-4515-BA06-0FC97253D8C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A907-A09F-457F-B195-63082A301C2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E56D-AA97-495C-A43E-4CE32620F9B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F9DA-4BC0-4538-BE75-13AA2A8ED14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C8A2-E69F-46FB-B4D5-9D906DBF335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39C3-3CC3-412E-A6AD-DBABD95445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034C-45EE-42C6-BD7B-2EA1F675670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99B4-EC5A-48ED-AD4D-01E9D12F5F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7836-35E6-4E3E-B6BF-B3E5BC1D776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25EB-F036-41BD-99AC-33B8E76DF04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2CB9-D400-4AC2-AAC5-FEE3D03E69A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B4EA-4F93-4F6B-B7BE-F42E16F96F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88A4-3FA2-4E3A-A947-F279D90BE94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0A18-3AB3-49D4-9B1D-5770F5B293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582C-110A-4684-A2FB-97CF4B43F42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F3D3-4D13-4C73-94D8-27949C0117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D393-49FE-40BD-9054-622A6968419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17C6-981B-41F0-902A-000B31638DC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C61B-88B8-4DB2-A691-90007168C0B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C010-8EF8-45AE-AA97-70F8499A0BE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7EB8-C37F-470F-8419-E844F1E9E9F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801D-06A4-41B0-9170-22EE6E8CF86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75AB-AD8B-42FE-8A5F-69D62A8EAEF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E2E2-C658-47B8-8B35-5C714CF6BB4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3D02-1FDC-4E80-88CF-1E61AA03DBB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902C-5D4C-48DB-8EEA-DEB22DEAF1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3"/>
          <p:cNvSpPr/>
          <p:nvPr/>
        </p:nvSpPr>
        <p:spPr>
          <a:xfrm>
            <a:off x="695160" y="0"/>
            <a:ext cx="2448000" cy="43657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椭圆 4"/>
          <p:cNvSpPr/>
          <p:nvPr/>
        </p:nvSpPr>
        <p:spPr>
          <a:xfrm>
            <a:off x="1019160" y="2182680"/>
            <a:ext cx="1800360" cy="1800360"/>
          </a:xfrm>
          <a:prstGeom prst="ellipse">
            <a:avLst/>
          </a:prstGeom>
          <a:solidFill>
            <a:srgbClr val="5db3b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5"/>
          <p:cNvSpPr/>
          <p:nvPr/>
        </p:nvSpPr>
        <p:spPr>
          <a:xfrm>
            <a:off x="623880" y="2708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6"/>
          <p:cNvSpPr/>
          <p:nvPr/>
        </p:nvSpPr>
        <p:spPr>
          <a:xfrm>
            <a:off x="3863880" y="234936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37373"/>
                </a:solidFill>
                <a:latin typeface="微软雅黑"/>
                <a:ea typeface="造字工房悦黑体验版纤细体"/>
              </a:rPr>
              <a:t>The 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7"/>
          <p:cNvSpPr/>
          <p:nvPr/>
        </p:nvSpPr>
        <p:spPr>
          <a:xfrm>
            <a:off x="3935520" y="36162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微软雅黑"/>
                <a:ea typeface="造字工房悦黑体验版纤细体"/>
              </a:rPr>
              <a:t>Presenter: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http://pic19.nipic.com/20120227/5183444_155554647000_2.jpg"/>
          <p:cNvPicPr/>
          <p:nvPr/>
        </p:nvPicPr>
        <p:blipFill>
          <a:blip r:embed="rId1"/>
          <a:srcRect l="0" t="29266" r="0" b="29390"/>
          <a:stretch/>
        </p:blipFill>
        <p:spPr>
          <a:xfrm>
            <a:off x="0" y="0"/>
            <a:ext cx="12173040" cy="3357720"/>
          </a:xfrm>
          <a:prstGeom prst="rect">
            <a:avLst/>
          </a:prstGeom>
          <a:ln w="0">
            <a:noFill/>
          </a:ln>
        </p:spPr>
      </p:pic>
      <p:sp>
        <p:nvSpPr>
          <p:cNvPr id="743" name="椭圆 1"/>
          <p:cNvSpPr/>
          <p:nvPr/>
        </p:nvSpPr>
        <p:spPr>
          <a:xfrm>
            <a:off x="984240" y="1557360"/>
            <a:ext cx="3598920" cy="3598920"/>
          </a:xfrm>
          <a:prstGeom prst="ellipse">
            <a:avLst/>
          </a:prstGeom>
          <a:solidFill>
            <a:srgbClr val="5db3b0"/>
          </a:solidFill>
          <a:ln w="76320">
            <a:solidFill>
              <a:srgbClr val="4797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2"/>
          <p:cNvSpPr/>
          <p:nvPr/>
        </p:nvSpPr>
        <p:spPr>
          <a:xfrm>
            <a:off x="1262520" y="2695680"/>
            <a:ext cx="304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图片 3" descr=""/>
          <p:cNvPicPr/>
          <p:nvPr/>
        </p:nvPicPr>
        <p:blipFill>
          <a:blip r:embed="rId2"/>
          <a:stretch/>
        </p:blipFill>
        <p:spPr>
          <a:xfrm>
            <a:off x="595152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4" descr=""/>
          <p:cNvPicPr/>
          <p:nvPr/>
        </p:nvPicPr>
        <p:blipFill>
          <a:blip r:embed="rId3"/>
          <a:stretch/>
        </p:blipFill>
        <p:spPr>
          <a:xfrm>
            <a:off x="5951520" y="47322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5" descr=""/>
          <p:cNvPicPr/>
          <p:nvPr/>
        </p:nvPicPr>
        <p:blipFill>
          <a:blip r:embed="rId4"/>
          <a:stretch/>
        </p:blipFill>
        <p:spPr>
          <a:xfrm>
            <a:off x="5951520" y="5746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6" descr=""/>
          <p:cNvPicPr/>
          <p:nvPr/>
        </p:nvPicPr>
        <p:blipFill>
          <a:blip r:embed="rId5"/>
          <a:stretch/>
        </p:blipFill>
        <p:spPr>
          <a:xfrm>
            <a:off x="897588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7" descr=""/>
          <p:cNvPicPr/>
          <p:nvPr/>
        </p:nvPicPr>
        <p:blipFill>
          <a:blip r:embed="rId6"/>
          <a:stretch/>
        </p:blipFill>
        <p:spPr>
          <a:xfrm>
            <a:off x="8975880" y="473220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750" name="文本框 8"/>
          <p:cNvSpPr/>
          <p:nvPr/>
        </p:nvSpPr>
        <p:spPr>
          <a:xfrm>
            <a:off x="6672240" y="3846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10"/>
          <p:cNvSpPr/>
          <p:nvPr/>
        </p:nvSpPr>
        <p:spPr>
          <a:xfrm>
            <a:off x="6672240" y="49258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11"/>
          <p:cNvSpPr/>
          <p:nvPr/>
        </p:nvSpPr>
        <p:spPr>
          <a:xfrm>
            <a:off x="6672240" y="5940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12"/>
          <p:cNvSpPr/>
          <p:nvPr/>
        </p:nvSpPr>
        <p:spPr>
          <a:xfrm>
            <a:off x="9696600" y="3795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13"/>
          <p:cNvSpPr/>
          <p:nvPr/>
        </p:nvSpPr>
        <p:spPr>
          <a:xfrm>
            <a:off x="9696600" y="4911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微软雅黑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14"/>
          <p:cNvGrpSpPr/>
          <p:nvPr/>
        </p:nvGrpSpPr>
        <p:grpSpPr>
          <a:xfrm>
            <a:off x="4656240" y="1700280"/>
            <a:ext cx="934920" cy="3997080"/>
            <a:chOff x="4656240" y="1700280"/>
            <a:chExt cx="934920" cy="3997080"/>
          </a:xfrm>
        </p:grpSpPr>
        <p:sp>
          <p:nvSpPr>
            <p:cNvPr id="543" name="任意多边形 9"/>
            <p:cNvSpPr/>
            <p:nvPr/>
          </p:nvSpPr>
          <p:spPr>
            <a:xfrm>
              <a:off x="4656240" y="1700280"/>
              <a:ext cx="934920" cy="3997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11"/>
            <p:cNvSpPr/>
            <p:nvPr/>
          </p:nvSpPr>
          <p:spPr>
            <a:xfrm>
              <a:off x="4763880" y="3369240"/>
              <a:ext cx="719280" cy="222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任意多边形 16"/>
          <p:cNvSpPr/>
          <p:nvPr/>
        </p:nvSpPr>
        <p:spPr>
          <a:xfrm>
            <a:off x="6743880" y="1700280"/>
            <a:ext cx="936360" cy="3997080"/>
          </a:xfrm>
          <a:prstGeom prst="pie">
            <a:avLst/>
          </a:prstGeom>
          <a:solidFill>
            <a:srgbClr val="5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22"/>
          <p:cNvSpPr/>
          <p:nvPr/>
        </p:nvSpPr>
        <p:spPr>
          <a:xfrm>
            <a:off x="6851520" y="2637000"/>
            <a:ext cx="720720" cy="29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24"/>
          <p:cNvSpPr/>
          <p:nvPr/>
        </p:nvSpPr>
        <p:spPr>
          <a:xfrm>
            <a:off x="1401840" y="3368520"/>
            <a:ext cx="3598920" cy="180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直接连接符 26"/>
          <p:cNvSpPr/>
          <p:nvPr/>
        </p:nvSpPr>
        <p:spPr>
          <a:xfrm>
            <a:off x="7464600" y="2668680"/>
            <a:ext cx="3600360" cy="144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7"/>
          <p:cNvSpPr/>
          <p:nvPr/>
        </p:nvSpPr>
        <p:spPr>
          <a:xfrm>
            <a:off x="1774800" y="26496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8"/>
          <p:cNvSpPr/>
          <p:nvPr/>
        </p:nvSpPr>
        <p:spPr>
          <a:xfrm>
            <a:off x="7751880" y="19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9"/>
          <p:cNvSpPr/>
          <p:nvPr/>
        </p:nvSpPr>
        <p:spPr>
          <a:xfrm>
            <a:off x="1271520" y="3471840"/>
            <a:ext cx="3598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30"/>
          <p:cNvSpPr/>
          <p:nvPr/>
        </p:nvSpPr>
        <p:spPr>
          <a:xfrm>
            <a:off x="7607160" y="2762280"/>
            <a:ext cx="360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任意多边形 18"/>
          <p:cNvSpPr/>
          <p:nvPr/>
        </p:nvSpPr>
        <p:spPr>
          <a:xfrm>
            <a:off x="1703520" y="1623960"/>
            <a:ext cx="9245520" cy="4397400"/>
          </a:xfrm>
          <a:prstGeom prst="pie">
            <a:avLst/>
          </a:prstGeom>
          <a:solidFill>
            <a:srgbClr val="ffffff"/>
          </a:solidFill>
          <a:ln w="5724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9"/>
          <p:cNvSpPr/>
          <p:nvPr/>
        </p:nvSpPr>
        <p:spPr>
          <a:xfrm>
            <a:off x="2206800" y="191772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0"/>
          <p:cNvSpPr/>
          <p:nvPr/>
        </p:nvSpPr>
        <p:spPr>
          <a:xfrm>
            <a:off x="7756560" y="213516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4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21"/>
          <p:cNvSpPr/>
          <p:nvPr/>
        </p:nvSpPr>
        <p:spPr>
          <a:xfrm>
            <a:off x="5530680" y="1790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78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23"/>
          <p:cNvSpPr/>
          <p:nvPr/>
        </p:nvSpPr>
        <p:spPr>
          <a:xfrm>
            <a:off x="4743360" y="3757680"/>
            <a:ext cx="16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25"/>
          <p:cNvSpPr/>
          <p:nvPr/>
        </p:nvSpPr>
        <p:spPr>
          <a:xfrm>
            <a:off x="2162160" y="2852640"/>
            <a:ext cx="2390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31"/>
          <p:cNvSpPr/>
          <p:nvPr/>
        </p:nvSpPr>
        <p:spPr>
          <a:xfrm>
            <a:off x="7543800" y="3213000"/>
            <a:ext cx="28004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 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"/>
          <p:cNvSpPr/>
          <p:nvPr/>
        </p:nvSpPr>
        <p:spPr>
          <a:xfrm>
            <a:off x="5375160" y="2259000"/>
            <a:ext cx="175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/>
          <p:cNvSpPr/>
          <p:nvPr/>
        </p:nvSpPr>
        <p:spPr>
          <a:xfrm>
            <a:off x="4653000" y="4532400"/>
            <a:ext cx="18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表 19" descr=""/>
          <p:cNvPicPr/>
          <p:nvPr/>
        </p:nvPicPr>
        <p:blipFill>
          <a:blip r:embed="rId1"/>
          <a:stretch/>
        </p:blipFill>
        <p:spPr>
          <a:xfrm>
            <a:off x="3287880" y="2278080"/>
            <a:ext cx="5327640" cy="3384360"/>
          </a:xfrm>
          <a:prstGeom prst="rect">
            <a:avLst/>
          </a:prstGeom>
          <a:ln w="0">
            <a:noFill/>
          </a:ln>
        </p:spPr>
      </p:pic>
      <p:grpSp>
        <p:nvGrpSpPr>
          <p:cNvPr id="567" name="组合 71"/>
          <p:cNvGrpSpPr/>
          <p:nvPr/>
        </p:nvGrpSpPr>
        <p:grpSpPr>
          <a:xfrm>
            <a:off x="3562200" y="4486320"/>
            <a:ext cx="1036800" cy="315720"/>
            <a:chOff x="3562200" y="4486320"/>
            <a:chExt cx="1036800" cy="315720"/>
          </a:xfrm>
        </p:grpSpPr>
        <p:sp>
          <p:nvSpPr>
            <p:cNvPr id="568" name="直接连接符 72"/>
            <p:cNvSpPr/>
            <p:nvPr/>
          </p:nvSpPr>
          <p:spPr>
            <a:xfrm flipH="1">
              <a:off x="4414680" y="4486320"/>
              <a:ext cx="184320" cy="31572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73"/>
            <p:cNvSpPr/>
            <p:nvPr/>
          </p:nvSpPr>
          <p:spPr>
            <a:xfrm flipH="1">
              <a:off x="3562200" y="4801680"/>
              <a:ext cx="852480" cy="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68"/>
          <p:cNvGrpSpPr/>
          <p:nvPr/>
        </p:nvGrpSpPr>
        <p:grpSpPr>
          <a:xfrm>
            <a:off x="3866760" y="2205000"/>
            <a:ext cx="1274760" cy="504720"/>
            <a:chOff x="3866760" y="2205000"/>
            <a:chExt cx="1274760" cy="504720"/>
          </a:xfrm>
        </p:grpSpPr>
        <p:sp>
          <p:nvSpPr>
            <p:cNvPr id="571" name="直接连接符 69"/>
            <p:cNvSpPr/>
            <p:nvPr/>
          </p:nvSpPr>
          <p:spPr>
            <a:xfrm flipH="1" flipV="1">
              <a:off x="4915080" y="2205000"/>
              <a:ext cx="226440" cy="50472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70"/>
            <p:cNvSpPr/>
            <p:nvPr/>
          </p:nvSpPr>
          <p:spPr>
            <a:xfrm flipH="1">
              <a:off x="3866760" y="2205000"/>
              <a:ext cx="1048320" cy="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组合 28"/>
          <p:cNvGrpSpPr/>
          <p:nvPr/>
        </p:nvGrpSpPr>
        <p:grpSpPr>
          <a:xfrm>
            <a:off x="6743880" y="2206440"/>
            <a:ext cx="1618920" cy="502920"/>
            <a:chOff x="6743880" y="2206440"/>
            <a:chExt cx="1618920" cy="502920"/>
          </a:xfrm>
        </p:grpSpPr>
        <p:sp>
          <p:nvSpPr>
            <p:cNvPr id="574" name="直接连接符 25"/>
            <p:cNvSpPr/>
            <p:nvPr/>
          </p:nvSpPr>
          <p:spPr>
            <a:xfrm flipV="1">
              <a:off x="6743880" y="2206440"/>
              <a:ext cx="287640" cy="50292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直接连接符 27"/>
            <p:cNvSpPr/>
            <p:nvPr/>
          </p:nvSpPr>
          <p:spPr>
            <a:xfrm>
              <a:off x="7031520" y="2206800"/>
              <a:ext cx="1331280" cy="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组合 47"/>
          <p:cNvGrpSpPr/>
          <p:nvPr/>
        </p:nvGrpSpPr>
        <p:grpSpPr>
          <a:xfrm>
            <a:off x="8413920" y="1526040"/>
            <a:ext cx="1492200" cy="1255320"/>
            <a:chOff x="8413920" y="1526040"/>
            <a:chExt cx="1492200" cy="1255320"/>
          </a:xfrm>
        </p:grpSpPr>
        <p:grpSp>
          <p:nvGrpSpPr>
            <p:cNvPr id="581" name="组合 46"/>
            <p:cNvGrpSpPr/>
            <p:nvPr/>
          </p:nvGrpSpPr>
          <p:grpSpPr>
            <a:xfrm>
              <a:off x="8413920" y="1825200"/>
              <a:ext cx="1492200" cy="956160"/>
              <a:chOff x="8413920" y="1825200"/>
              <a:chExt cx="1492200" cy="956160"/>
            </a:xfrm>
          </p:grpSpPr>
          <p:sp>
            <p:nvSpPr>
              <p:cNvPr id="582" name="矩形 29"/>
              <p:cNvSpPr/>
              <p:nvPr/>
            </p:nvSpPr>
            <p:spPr>
              <a:xfrm>
                <a:off x="8413920" y="1825200"/>
                <a:ext cx="1492200" cy="956160"/>
              </a:xfrm>
              <a:prstGeom prst="rect">
                <a:avLst/>
              </a:prstGeom>
              <a:noFill/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矩形 34"/>
              <p:cNvSpPr/>
              <p:nvPr/>
            </p:nvSpPr>
            <p:spPr>
              <a:xfrm>
                <a:off x="8413920" y="2622240"/>
                <a:ext cx="1492200" cy="15912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直接连接符 36"/>
              <p:cNvSpPr/>
              <p:nvPr/>
            </p:nvSpPr>
            <p:spPr>
              <a:xfrm>
                <a:off x="9004320" y="2728440"/>
                <a:ext cx="2649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组合 42"/>
            <p:cNvGrpSpPr/>
            <p:nvPr/>
          </p:nvGrpSpPr>
          <p:grpSpPr>
            <a:xfrm>
              <a:off x="8820360" y="1559520"/>
              <a:ext cx="316800" cy="265680"/>
              <a:chOff x="8820360" y="1559520"/>
              <a:chExt cx="316800" cy="265680"/>
            </a:xfrm>
          </p:grpSpPr>
          <p:sp>
            <p:nvSpPr>
              <p:cNvPr id="586" name="直接连接符 38"/>
              <p:cNvSpPr/>
              <p:nvPr/>
            </p:nvSpPr>
            <p:spPr>
              <a:xfrm>
                <a:off x="8871840" y="1612440"/>
                <a:ext cx="265320" cy="21276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椭圆 39"/>
              <p:cNvSpPr/>
              <p:nvPr/>
            </p:nvSpPr>
            <p:spPr>
              <a:xfrm>
                <a:off x="8820360" y="1559520"/>
                <a:ext cx="105840" cy="10620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组合 43"/>
            <p:cNvGrpSpPr/>
            <p:nvPr/>
          </p:nvGrpSpPr>
          <p:grpSpPr>
            <a:xfrm>
              <a:off x="9188640" y="1526040"/>
              <a:ext cx="305280" cy="293040"/>
              <a:chOff x="9188640" y="1526040"/>
              <a:chExt cx="305280" cy="293040"/>
            </a:xfrm>
          </p:grpSpPr>
          <p:sp>
            <p:nvSpPr>
              <p:cNvPr id="589" name="直接连接符 44"/>
              <p:cNvSpPr/>
              <p:nvPr/>
            </p:nvSpPr>
            <p:spPr>
              <a:xfrm flipH="1">
                <a:off x="9188640" y="1584000"/>
                <a:ext cx="245880" cy="23508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椭圆 45"/>
              <p:cNvSpPr/>
              <p:nvPr/>
            </p:nvSpPr>
            <p:spPr>
              <a:xfrm rot="5861400">
                <a:off x="9381240" y="1532520"/>
                <a:ext cx="106200" cy="1058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组合 54"/>
          <p:cNvGrpSpPr/>
          <p:nvPr/>
        </p:nvGrpSpPr>
        <p:grpSpPr>
          <a:xfrm>
            <a:off x="8413920" y="4216320"/>
            <a:ext cx="790560" cy="1368360"/>
            <a:chOff x="8413920" y="4216320"/>
            <a:chExt cx="790560" cy="1368360"/>
          </a:xfrm>
        </p:grpSpPr>
        <p:grpSp>
          <p:nvGrpSpPr>
            <p:cNvPr id="592" name="组合 51"/>
            <p:cNvGrpSpPr/>
            <p:nvPr/>
          </p:nvGrpSpPr>
          <p:grpSpPr>
            <a:xfrm>
              <a:off x="8413920" y="4216320"/>
              <a:ext cx="790560" cy="1368360"/>
              <a:chOff x="8413920" y="4216320"/>
              <a:chExt cx="790560" cy="1368360"/>
            </a:xfrm>
          </p:grpSpPr>
          <p:sp>
            <p:nvSpPr>
              <p:cNvPr id="593" name="矩形 48"/>
              <p:cNvSpPr/>
              <p:nvPr/>
            </p:nvSpPr>
            <p:spPr>
              <a:xfrm>
                <a:off x="8413920" y="4216320"/>
                <a:ext cx="790560" cy="13683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矩形 49"/>
              <p:cNvSpPr/>
              <p:nvPr/>
            </p:nvSpPr>
            <p:spPr>
              <a:xfrm>
                <a:off x="8413920" y="5368680"/>
                <a:ext cx="790560" cy="2160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50"/>
              <p:cNvSpPr/>
              <p:nvPr/>
            </p:nvSpPr>
            <p:spPr>
              <a:xfrm>
                <a:off x="8737200" y="5440680"/>
                <a:ext cx="143640" cy="144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矩形 52"/>
            <p:cNvSpPr/>
            <p:nvPr/>
          </p:nvSpPr>
          <p:spPr>
            <a:xfrm>
              <a:off x="8413920" y="4216320"/>
              <a:ext cx="790560" cy="1296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直接连接符 53"/>
            <p:cNvSpPr/>
            <p:nvPr/>
          </p:nvSpPr>
          <p:spPr>
            <a:xfrm>
              <a:off x="8737200" y="4288320"/>
              <a:ext cx="143640" cy="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组合 58"/>
          <p:cNvGrpSpPr/>
          <p:nvPr/>
        </p:nvGrpSpPr>
        <p:grpSpPr>
          <a:xfrm>
            <a:off x="2239560" y="4403880"/>
            <a:ext cx="1662120" cy="824760"/>
            <a:chOff x="2239560" y="4403880"/>
            <a:chExt cx="1662120" cy="824760"/>
          </a:xfrm>
        </p:grpSpPr>
        <p:sp>
          <p:nvSpPr>
            <p:cNvPr id="599" name="矩形 55"/>
            <p:cNvSpPr/>
            <p:nvPr/>
          </p:nvSpPr>
          <p:spPr>
            <a:xfrm>
              <a:off x="2462400" y="4403880"/>
              <a:ext cx="1187640" cy="704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梯形 56"/>
            <p:cNvSpPr/>
            <p:nvPr/>
          </p:nvSpPr>
          <p:spPr>
            <a:xfrm flipV="1" rot="10800000">
              <a:off x="2239560" y="5178240"/>
              <a:ext cx="1662120" cy="500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梯形 57"/>
            <p:cNvSpPr/>
            <p:nvPr/>
          </p:nvSpPr>
          <p:spPr>
            <a:xfrm flipV="1" rot="10800000">
              <a:off x="2944800" y="5182200"/>
              <a:ext cx="1868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67"/>
          <p:cNvGrpSpPr/>
          <p:nvPr/>
        </p:nvGrpSpPr>
        <p:grpSpPr>
          <a:xfrm>
            <a:off x="2908440" y="1795320"/>
            <a:ext cx="993600" cy="979560"/>
            <a:chOff x="2908440" y="1795320"/>
            <a:chExt cx="993600" cy="979560"/>
          </a:xfrm>
        </p:grpSpPr>
        <p:grpSp>
          <p:nvGrpSpPr>
            <p:cNvPr id="603" name="组合 60"/>
            <p:cNvGrpSpPr/>
            <p:nvPr/>
          </p:nvGrpSpPr>
          <p:grpSpPr>
            <a:xfrm>
              <a:off x="2908440" y="1795320"/>
              <a:ext cx="921960" cy="979560"/>
              <a:chOff x="2908440" y="1795320"/>
              <a:chExt cx="921960" cy="979560"/>
            </a:xfrm>
          </p:grpSpPr>
          <p:sp>
            <p:nvSpPr>
              <p:cNvPr id="604" name="矩形 63"/>
              <p:cNvSpPr/>
              <p:nvPr/>
            </p:nvSpPr>
            <p:spPr>
              <a:xfrm>
                <a:off x="2908440" y="1795320"/>
                <a:ext cx="921960" cy="9795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矩形 64"/>
              <p:cNvSpPr/>
              <p:nvPr/>
            </p:nvSpPr>
            <p:spPr>
              <a:xfrm>
                <a:off x="2908440" y="2620440"/>
                <a:ext cx="921960" cy="15444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65"/>
              <p:cNvSpPr/>
              <p:nvPr/>
            </p:nvSpPr>
            <p:spPr>
              <a:xfrm>
                <a:off x="3285720" y="2671920"/>
                <a:ext cx="167400" cy="10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矩形 66"/>
            <p:cNvSpPr/>
            <p:nvPr/>
          </p:nvSpPr>
          <p:spPr>
            <a:xfrm>
              <a:off x="3830400" y="1939320"/>
              <a:ext cx="71640" cy="2160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75"/>
          <p:cNvGrpSpPr/>
          <p:nvPr/>
        </p:nvGrpSpPr>
        <p:grpSpPr>
          <a:xfrm>
            <a:off x="7175520" y="4626000"/>
            <a:ext cx="1238400" cy="420840"/>
            <a:chOff x="7175520" y="4626000"/>
            <a:chExt cx="1238400" cy="420840"/>
          </a:xfrm>
        </p:grpSpPr>
        <p:sp>
          <p:nvSpPr>
            <p:cNvPr id="609" name="直接连接符 76"/>
            <p:cNvSpPr/>
            <p:nvPr/>
          </p:nvSpPr>
          <p:spPr>
            <a:xfrm>
              <a:off x="7175520" y="4626000"/>
              <a:ext cx="219960" cy="42084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77"/>
            <p:cNvSpPr/>
            <p:nvPr/>
          </p:nvSpPr>
          <p:spPr>
            <a:xfrm>
              <a:off x="7395480" y="5046480"/>
              <a:ext cx="1018440" cy="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文本框 78"/>
          <p:cNvSpPr/>
          <p:nvPr/>
        </p:nvSpPr>
        <p:spPr>
          <a:xfrm>
            <a:off x="1004580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6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79"/>
          <p:cNvSpPr/>
          <p:nvPr/>
        </p:nvSpPr>
        <p:spPr>
          <a:xfrm>
            <a:off x="9244080" y="429084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8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80"/>
          <p:cNvSpPr/>
          <p:nvPr/>
        </p:nvSpPr>
        <p:spPr>
          <a:xfrm>
            <a:off x="101124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2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81"/>
          <p:cNvSpPr/>
          <p:nvPr/>
        </p:nvSpPr>
        <p:spPr>
          <a:xfrm>
            <a:off x="539640" y="422100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图表 14" descr=""/>
          <p:cNvPicPr/>
          <p:nvPr/>
        </p:nvPicPr>
        <p:blipFill>
          <a:blip r:embed="rId1"/>
          <a:stretch/>
        </p:blipFill>
        <p:spPr>
          <a:xfrm>
            <a:off x="1919160" y="1700280"/>
            <a:ext cx="8929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4440240" y="2041560"/>
            <a:ext cx="1247760" cy="35481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6707160" y="2041560"/>
            <a:ext cx="1620720" cy="3548160"/>
          </a:xfrm>
          <a:prstGeom prst="rect">
            <a:avLst/>
          </a:prstGeom>
          <a:ln w="0">
            <a:noFill/>
          </a:ln>
        </p:spPr>
      </p:pic>
      <p:grpSp>
        <p:nvGrpSpPr>
          <p:cNvPr id="626" name="组合 33"/>
          <p:cNvGrpSpPr/>
          <p:nvPr/>
        </p:nvGrpSpPr>
        <p:grpSpPr>
          <a:xfrm>
            <a:off x="1968480" y="1628640"/>
            <a:ext cx="3156120" cy="1459080"/>
            <a:chOff x="1968480" y="1628640"/>
            <a:chExt cx="3156120" cy="1459080"/>
          </a:xfrm>
        </p:grpSpPr>
        <p:grpSp>
          <p:nvGrpSpPr>
            <p:cNvPr id="627" name="组合 20"/>
            <p:cNvGrpSpPr/>
            <p:nvPr/>
          </p:nvGrpSpPr>
          <p:grpSpPr>
            <a:xfrm>
              <a:off x="1968480" y="1628640"/>
              <a:ext cx="1608840" cy="1440000"/>
              <a:chOff x="1968480" y="1628640"/>
              <a:chExt cx="1608840" cy="1440000"/>
            </a:xfrm>
          </p:grpSpPr>
          <p:sp>
            <p:nvSpPr>
              <p:cNvPr id="628" name="椭圆 18"/>
              <p:cNvSpPr/>
              <p:nvPr/>
            </p:nvSpPr>
            <p:spPr>
              <a:xfrm>
                <a:off x="2052360" y="1628640"/>
                <a:ext cx="144108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矩形 32"/>
              <p:cNvSpPr/>
              <p:nvPr/>
            </p:nvSpPr>
            <p:spPr>
              <a:xfrm>
                <a:off x="1968480" y="220644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文本框 19"/>
              <p:cNvSpPr/>
              <p:nvPr/>
            </p:nvSpPr>
            <p:spPr>
              <a:xfrm>
                <a:off x="2124360" y="176688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46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直接连接符 23"/>
            <p:cNvSpPr/>
            <p:nvPr/>
          </p:nvSpPr>
          <p:spPr>
            <a:xfrm>
              <a:off x="3421440" y="2708640"/>
              <a:ext cx="1523160" cy="2577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椭圆 25"/>
            <p:cNvSpPr/>
            <p:nvPr/>
          </p:nvSpPr>
          <p:spPr>
            <a:xfrm>
              <a:off x="4944600" y="29077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36"/>
          <p:cNvGrpSpPr/>
          <p:nvPr/>
        </p:nvGrpSpPr>
        <p:grpSpPr>
          <a:xfrm>
            <a:off x="1023840" y="3144960"/>
            <a:ext cx="4023000" cy="1439640"/>
            <a:chOff x="1023840" y="3144960"/>
            <a:chExt cx="4023000" cy="1439640"/>
          </a:xfrm>
        </p:grpSpPr>
        <p:grpSp>
          <p:nvGrpSpPr>
            <p:cNvPr id="634" name="组合 37"/>
            <p:cNvGrpSpPr/>
            <p:nvPr/>
          </p:nvGrpSpPr>
          <p:grpSpPr>
            <a:xfrm>
              <a:off x="1023840" y="3144960"/>
              <a:ext cx="1608120" cy="1439640"/>
              <a:chOff x="1023840" y="3144960"/>
              <a:chExt cx="1608120" cy="1439640"/>
            </a:xfrm>
          </p:grpSpPr>
          <p:sp>
            <p:nvSpPr>
              <p:cNvPr id="635" name="椭圆 40"/>
              <p:cNvSpPr/>
              <p:nvPr/>
            </p:nvSpPr>
            <p:spPr>
              <a:xfrm>
                <a:off x="1107720" y="3144960"/>
                <a:ext cx="1440360" cy="143964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矩形 41"/>
              <p:cNvSpPr/>
              <p:nvPr/>
            </p:nvSpPr>
            <p:spPr>
              <a:xfrm>
                <a:off x="1023840" y="3718440"/>
                <a:ext cx="1608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文本框 42"/>
              <p:cNvSpPr/>
              <p:nvPr/>
            </p:nvSpPr>
            <p:spPr>
              <a:xfrm>
                <a:off x="1179720" y="3265560"/>
                <a:ext cx="129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94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直接连接符 38"/>
            <p:cNvSpPr/>
            <p:nvPr/>
          </p:nvSpPr>
          <p:spPr>
            <a:xfrm flipV="1">
              <a:off x="2548080" y="3672360"/>
              <a:ext cx="2396520" cy="19224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椭圆 39"/>
            <p:cNvSpPr/>
            <p:nvPr/>
          </p:nvSpPr>
          <p:spPr>
            <a:xfrm>
              <a:off x="4866840" y="3572640"/>
              <a:ext cx="180000" cy="17964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组合 52"/>
          <p:cNvGrpSpPr/>
          <p:nvPr/>
        </p:nvGrpSpPr>
        <p:grpSpPr>
          <a:xfrm>
            <a:off x="2343240" y="4502160"/>
            <a:ext cx="2631960" cy="1587600"/>
            <a:chOff x="2343240" y="4502160"/>
            <a:chExt cx="2631960" cy="1587600"/>
          </a:xfrm>
        </p:grpSpPr>
        <p:grpSp>
          <p:nvGrpSpPr>
            <p:cNvPr id="641" name="组合 53"/>
            <p:cNvGrpSpPr/>
            <p:nvPr/>
          </p:nvGrpSpPr>
          <p:grpSpPr>
            <a:xfrm>
              <a:off x="2343240" y="4649400"/>
              <a:ext cx="1607400" cy="1440360"/>
              <a:chOff x="2343240" y="4649400"/>
              <a:chExt cx="1607400" cy="1440360"/>
            </a:xfrm>
          </p:grpSpPr>
          <p:sp>
            <p:nvSpPr>
              <p:cNvPr id="642" name="椭圆 56"/>
              <p:cNvSpPr/>
              <p:nvPr/>
            </p:nvSpPr>
            <p:spPr>
              <a:xfrm>
                <a:off x="2427120" y="4649400"/>
                <a:ext cx="143964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矩形 57"/>
              <p:cNvSpPr/>
              <p:nvPr/>
            </p:nvSpPr>
            <p:spPr>
              <a:xfrm>
                <a:off x="2343240" y="5227200"/>
                <a:ext cx="160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文本框 58"/>
              <p:cNvSpPr/>
              <p:nvPr/>
            </p:nvSpPr>
            <p:spPr>
              <a:xfrm>
                <a:off x="2499120" y="478764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3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直接连接符 54"/>
            <p:cNvSpPr/>
            <p:nvPr/>
          </p:nvSpPr>
          <p:spPr>
            <a:xfrm flipV="1">
              <a:off x="3866760" y="4584960"/>
              <a:ext cx="998640" cy="5860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椭圆 55"/>
            <p:cNvSpPr/>
            <p:nvPr/>
          </p:nvSpPr>
          <p:spPr>
            <a:xfrm>
              <a:off x="4795560" y="4502160"/>
              <a:ext cx="17964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62"/>
          <p:cNvGrpSpPr/>
          <p:nvPr/>
        </p:nvGrpSpPr>
        <p:grpSpPr>
          <a:xfrm>
            <a:off x="7416720" y="1773360"/>
            <a:ext cx="2855880" cy="1555560"/>
            <a:chOff x="7416720" y="1773360"/>
            <a:chExt cx="2855880" cy="1555560"/>
          </a:xfrm>
        </p:grpSpPr>
        <p:grpSp>
          <p:nvGrpSpPr>
            <p:cNvPr id="648" name="组合 63"/>
            <p:cNvGrpSpPr/>
            <p:nvPr/>
          </p:nvGrpSpPr>
          <p:grpSpPr>
            <a:xfrm>
              <a:off x="8664120" y="1773360"/>
              <a:ext cx="1608480" cy="1440000"/>
              <a:chOff x="8664120" y="1773360"/>
              <a:chExt cx="1608480" cy="1440000"/>
            </a:xfrm>
          </p:grpSpPr>
          <p:sp>
            <p:nvSpPr>
              <p:cNvPr id="649" name="椭圆 66"/>
              <p:cNvSpPr/>
              <p:nvPr/>
            </p:nvSpPr>
            <p:spPr>
              <a:xfrm>
                <a:off x="8748000" y="177336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矩形 67"/>
              <p:cNvSpPr/>
              <p:nvPr/>
            </p:nvSpPr>
            <p:spPr>
              <a:xfrm>
                <a:off x="8664120" y="235116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文本框 68"/>
              <p:cNvSpPr/>
              <p:nvPr/>
            </p:nvSpPr>
            <p:spPr>
              <a:xfrm>
                <a:off x="8820000" y="191160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23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直接连接符 64"/>
            <p:cNvSpPr/>
            <p:nvPr/>
          </p:nvSpPr>
          <p:spPr>
            <a:xfrm flipV="1">
              <a:off x="7506720" y="2811240"/>
              <a:ext cx="1313280" cy="4276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65"/>
            <p:cNvSpPr/>
            <p:nvPr/>
          </p:nvSpPr>
          <p:spPr>
            <a:xfrm>
              <a:off x="7416720" y="31489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71"/>
          <p:cNvGrpSpPr/>
          <p:nvPr/>
        </p:nvGrpSpPr>
        <p:grpSpPr>
          <a:xfrm>
            <a:off x="7496280" y="3517920"/>
            <a:ext cx="4076640" cy="1440000"/>
            <a:chOff x="7496280" y="3517920"/>
            <a:chExt cx="4076640" cy="1440000"/>
          </a:xfrm>
        </p:grpSpPr>
        <p:grpSp>
          <p:nvGrpSpPr>
            <p:cNvPr id="655" name="组合 72"/>
            <p:cNvGrpSpPr/>
            <p:nvPr/>
          </p:nvGrpSpPr>
          <p:grpSpPr>
            <a:xfrm>
              <a:off x="9964440" y="3517920"/>
              <a:ext cx="1608480" cy="1440000"/>
              <a:chOff x="9964440" y="3517920"/>
              <a:chExt cx="1608480" cy="1440000"/>
            </a:xfrm>
          </p:grpSpPr>
          <p:sp>
            <p:nvSpPr>
              <p:cNvPr id="656" name="椭圆 75"/>
              <p:cNvSpPr/>
              <p:nvPr/>
            </p:nvSpPr>
            <p:spPr>
              <a:xfrm>
                <a:off x="10048320" y="351792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矩形 76"/>
              <p:cNvSpPr/>
              <p:nvPr/>
            </p:nvSpPr>
            <p:spPr>
              <a:xfrm>
                <a:off x="9964440" y="409572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文本框 77"/>
              <p:cNvSpPr/>
              <p:nvPr/>
            </p:nvSpPr>
            <p:spPr>
              <a:xfrm>
                <a:off x="10120320" y="365616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82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直接连接符 73"/>
            <p:cNvSpPr/>
            <p:nvPr/>
          </p:nvSpPr>
          <p:spPr>
            <a:xfrm>
              <a:off x="7650000" y="3971880"/>
              <a:ext cx="2387880" cy="2649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椭圆 74"/>
            <p:cNvSpPr/>
            <p:nvPr/>
          </p:nvSpPr>
          <p:spPr>
            <a:xfrm>
              <a:off x="7496280" y="386244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82"/>
          <p:cNvGrpSpPr/>
          <p:nvPr/>
        </p:nvGrpSpPr>
        <p:grpSpPr>
          <a:xfrm>
            <a:off x="7661160" y="4672080"/>
            <a:ext cx="2635200" cy="1511280"/>
            <a:chOff x="7661160" y="4672080"/>
            <a:chExt cx="2635200" cy="1511280"/>
          </a:xfrm>
        </p:grpSpPr>
        <p:grpSp>
          <p:nvGrpSpPr>
            <p:cNvPr id="662" name="组合 83"/>
            <p:cNvGrpSpPr/>
            <p:nvPr/>
          </p:nvGrpSpPr>
          <p:grpSpPr>
            <a:xfrm>
              <a:off x="8687520" y="4743000"/>
              <a:ext cx="1608840" cy="1440360"/>
              <a:chOff x="8687520" y="4743000"/>
              <a:chExt cx="1608840" cy="1440360"/>
            </a:xfrm>
          </p:grpSpPr>
          <p:sp>
            <p:nvSpPr>
              <p:cNvPr id="663" name="椭圆 86"/>
              <p:cNvSpPr/>
              <p:nvPr/>
            </p:nvSpPr>
            <p:spPr>
              <a:xfrm>
                <a:off x="8771400" y="4743000"/>
                <a:ext cx="144108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矩形 87"/>
              <p:cNvSpPr/>
              <p:nvPr/>
            </p:nvSpPr>
            <p:spPr>
              <a:xfrm>
                <a:off x="8687520" y="532080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文本框 88"/>
              <p:cNvSpPr/>
              <p:nvPr/>
            </p:nvSpPr>
            <p:spPr>
              <a:xfrm>
                <a:off x="8843400" y="488124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6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直接连接符 84"/>
            <p:cNvSpPr/>
            <p:nvPr/>
          </p:nvSpPr>
          <p:spPr>
            <a:xfrm>
              <a:off x="7751160" y="4762080"/>
              <a:ext cx="1020600" cy="7012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85"/>
            <p:cNvSpPr/>
            <p:nvPr/>
          </p:nvSpPr>
          <p:spPr>
            <a:xfrm>
              <a:off x="7661160" y="467208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232092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23223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http://image.zcool.com.cn/img3/56/55/1370567145327.jpg"/>
          <p:cNvPicPr/>
          <p:nvPr/>
        </p:nvPicPr>
        <p:blipFill>
          <a:blip r:embed="rId3"/>
          <a:stretch/>
        </p:blipFill>
        <p:spPr>
          <a:xfrm>
            <a:off x="298944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http://image.zcool.com.cn/img3/56/55/1370567145327.jpg"/>
          <p:cNvPicPr/>
          <p:nvPr/>
        </p:nvPicPr>
        <p:blipFill>
          <a:blip r:embed="rId4"/>
          <a:stretch/>
        </p:blipFill>
        <p:spPr>
          <a:xfrm>
            <a:off x="365616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http://image.zcool.com.cn/img3/56/55/1370567145327.jpg"/>
          <p:cNvPicPr/>
          <p:nvPr/>
        </p:nvPicPr>
        <p:blipFill>
          <a:blip r:embed="rId5"/>
          <a:stretch/>
        </p:blipFill>
        <p:spPr>
          <a:xfrm>
            <a:off x="43228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4" descr="http://image.zcool.com.cn/img3/56/55/1370567145327.jpg"/>
          <p:cNvPicPr/>
          <p:nvPr/>
        </p:nvPicPr>
        <p:blipFill>
          <a:blip r:embed="rId6"/>
          <a:stretch/>
        </p:blipFill>
        <p:spPr>
          <a:xfrm>
            <a:off x="498960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http://image.zcool.com.cn/img3/56/55/1370567145327.jpg"/>
          <p:cNvPicPr/>
          <p:nvPr/>
        </p:nvPicPr>
        <p:blipFill>
          <a:blip r:embed="rId7"/>
          <a:stretch/>
        </p:blipFill>
        <p:spPr>
          <a:xfrm>
            <a:off x="565776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http://image.zcool.com.cn/img3/56/55/1370567145327.jpg"/>
          <p:cNvPicPr/>
          <p:nvPr/>
        </p:nvPicPr>
        <p:blipFill>
          <a:blip r:embed="rId8"/>
          <a:stretch/>
        </p:blipFill>
        <p:spPr>
          <a:xfrm>
            <a:off x="632448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http://image.zcool.com.cn/img3/56/55/1370567145327.jpg"/>
          <p:cNvPicPr/>
          <p:nvPr/>
        </p:nvPicPr>
        <p:blipFill>
          <a:blip r:embed="rId9"/>
          <a:stretch/>
        </p:blipFill>
        <p:spPr>
          <a:xfrm>
            <a:off x="832500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" descr="http://image.zcool.com.cn/img3/56/55/1370567145327.jpg"/>
          <p:cNvPicPr/>
          <p:nvPr/>
        </p:nvPicPr>
        <p:blipFill>
          <a:blip r:embed="rId10"/>
          <a:stretch/>
        </p:blipFill>
        <p:spPr>
          <a:xfrm>
            <a:off x="699120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http://image.zcool.com.cn/img3/56/55/1370567145327.jpg"/>
          <p:cNvPicPr/>
          <p:nvPr/>
        </p:nvPicPr>
        <p:blipFill>
          <a:blip r:embed="rId11"/>
          <a:stretch/>
        </p:blipFill>
        <p:spPr>
          <a:xfrm>
            <a:off x="76582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" descr="http://image.zcool.com.cn/img3/56/55/1370567145327.jpg"/>
          <p:cNvPicPr/>
          <p:nvPr/>
        </p:nvPicPr>
        <p:blipFill>
          <a:blip r:embed="rId12"/>
          <a:stretch/>
        </p:blipFill>
        <p:spPr>
          <a:xfrm>
            <a:off x="29732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http://image.zcool.com.cn/img3/56/55/1370567145327.jpg"/>
          <p:cNvPicPr/>
          <p:nvPr/>
        </p:nvPicPr>
        <p:blipFill>
          <a:blip r:embed="rId13"/>
          <a:stretch/>
        </p:blipFill>
        <p:spPr>
          <a:xfrm>
            <a:off x="362268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" descr="http://image.zcool.com.cn/img3/56/55/1370567145327.jpg"/>
          <p:cNvPicPr/>
          <p:nvPr/>
        </p:nvPicPr>
        <p:blipFill>
          <a:blip r:embed="rId14"/>
          <a:stretch/>
        </p:blipFill>
        <p:spPr>
          <a:xfrm>
            <a:off x="427356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http://image.zcool.com.cn/img3/56/55/1370567145327.jpg"/>
          <p:cNvPicPr/>
          <p:nvPr/>
        </p:nvPicPr>
        <p:blipFill>
          <a:blip r:embed="rId15"/>
          <a:stretch/>
        </p:blipFill>
        <p:spPr>
          <a:xfrm>
            <a:off x="49244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4" descr="http://image.zcool.com.cn/img3/56/55/1370567145327.jpg"/>
          <p:cNvPicPr/>
          <p:nvPr/>
        </p:nvPicPr>
        <p:blipFill>
          <a:blip r:embed="rId16"/>
          <a:stretch/>
        </p:blipFill>
        <p:spPr>
          <a:xfrm>
            <a:off x="5573880" y="4005360"/>
            <a:ext cx="657000" cy="14396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http://image.zcool.com.cn/img3/56/55/1370567145327.jpg"/>
          <p:cNvPicPr/>
          <p:nvPr/>
        </p:nvPicPr>
        <p:blipFill>
          <a:blip r:embed="rId17"/>
          <a:stretch/>
        </p:blipFill>
        <p:spPr>
          <a:xfrm>
            <a:off x="62229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http://image.zcool.com.cn/img3/56/55/1370567145327.jpg"/>
          <p:cNvPicPr/>
          <p:nvPr/>
        </p:nvPicPr>
        <p:blipFill>
          <a:blip r:embed="rId18"/>
          <a:stretch/>
        </p:blipFill>
        <p:spPr>
          <a:xfrm>
            <a:off x="68738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4" descr="http://image.zcool.com.cn/img3/56/55/1370567145327.jpg"/>
          <p:cNvPicPr/>
          <p:nvPr/>
        </p:nvPicPr>
        <p:blipFill>
          <a:blip r:embed="rId19"/>
          <a:stretch/>
        </p:blipFill>
        <p:spPr>
          <a:xfrm>
            <a:off x="752472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http://image.zcool.com.cn/img3/56/55/1370567145327.jpg"/>
          <p:cNvPicPr/>
          <p:nvPr/>
        </p:nvPicPr>
        <p:blipFill>
          <a:blip r:embed="rId20"/>
          <a:stretch/>
        </p:blipFill>
        <p:spPr>
          <a:xfrm>
            <a:off x="8174160" y="4005360"/>
            <a:ext cx="658800" cy="1439640"/>
          </a:xfrm>
          <a:prstGeom prst="rect">
            <a:avLst/>
          </a:prstGeom>
          <a:ln w="0">
            <a:noFill/>
          </a:ln>
        </p:spPr>
      </p:pic>
      <p:sp>
        <p:nvSpPr>
          <p:cNvPr id="692" name="直接连接符 6"/>
          <p:cNvSpPr/>
          <p:nvPr/>
        </p:nvSpPr>
        <p:spPr>
          <a:xfrm>
            <a:off x="2063880" y="3797280"/>
            <a:ext cx="9145440" cy="0"/>
          </a:xfrm>
          <a:prstGeom prst="line">
            <a:avLst/>
          </a:prstGeom>
          <a:ln w="1908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95"/>
          <p:cNvSpPr/>
          <p:nvPr/>
        </p:nvSpPr>
        <p:spPr>
          <a:xfrm>
            <a:off x="2320920" y="17254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96"/>
          <p:cNvSpPr/>
          <p:nvPr/>
        </p:nvSpPr>
        <p:spPr>
          <a:xfrm>
            <a:off x="2320920" y="5464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9"/>
          <p:cNvSpPr/>
          <p:nvPr/>
        </p:nvSpPr>
        <p:spPr>
          <a:xfrm>
            <a:off x="9264600" y="2130480"/>
            <a:ext cx="223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6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97"/>
          <p:cNvSpPr/>
          <p:nvPr/>
        </p:nvSpPr>
        <p:spPr>
          <a:xfrm>
            <a:off x="9264600" y="3909960"/>
            <a:ext cx="252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组合 10"/>
          <p:cNvGrpSpPr/>
          <p:nvPr/>
        </p:nvGrpSpPr>
        <p:grpSpPr>
          <a:xfrm>
            <a:off x="2784600" y="1844640"/>
            <a:ext cx="1452600" cy="3505320"/>
            <a:chOff x="2784600" y="1844640"/>
            <a:chExt cx="1452600" cy="3505320"/>
          </a:xfrm>
        </p:grpSpPr>
        <p:sp>
          <p:nvSpPr>
            <p:cNvPr id="702" name="任意多边形 40"/>
            <p:cNvSpPr/>
            <p:nvPr/>
          </p:nvSpPr>
          <p:spPr>
            <a:xfrm>
              <a:off x="2784600" y="5051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 43"/>
            <p:cNvSpPr/>
            <p:nvPr/>
          </p:nvSpPr>
          <p:spPr>
            <a:xfrm>
              <a:off x="2784600" y="4695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 44"/>
            <p:cNvSpPr/>
            <p:nvPr/>
          </p:nvSpPr>
          <p:spPr>
            <a:xfrm>
              <a:off x="2784600" y="43390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 45"/>
            <p:cNvSpPr/>
            <p:nvPr/>
          </p:nvSpPr>
          <p:spPr>
            <a:xfrm>
              <a:off x="2784600" y="39826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46"/>
            <p:cNvSpPr/>
            <p:nvPr/>
          </p:nvSpPr>
          <p:spPr>
            <a:xfrm>
              <a:off x="2784600" y="36262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任意多边形 47"/>
            <p:cNvSpPr/>
            <p:nvPr/>
          </p:nvSpPr>
          <p:spPr>
            <a:xfrm>
              <a:off x="2784600" y="3269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任意多边形 48"/>
            <p:cNvSpPr/>
            <p:nvPr/>
          </p:nvSpPr>
          <p:spPr>
            <a:xfrm>
              <a:off x="2784600" y="2913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52"/>
            <p:cNvSpPr/>
            <p:nvPr/>
          </p:nvSpPr>
          <p:spPr>
            <a:xfrm>
              <a:off x="2784600" y="25570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 53"/>
            <p:cNvSpPr/>
            <p:nvPr/>
          </p:nvSpPr>
          <p:spPr>
            <a:xfrm>
              <a:off x="2784600" y="22006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任意多边形 54"/>
            <p:cNvSpPr/>
            <p:nvPr/>
          </p:nvSpPr>
          <p:spPr>
            <a:xfrm>
              <a:off x="2784600" y="18446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组合 11"/>
          <p:cNvGrpSpPr/>
          <p:nvPr/>
        </p:nvGrpSpPr>
        <p:grpSpPr>
          <a:xfrm>
            <a:off x="4656240" y="2914560"/>
            <a:ext cx="1452600" cy="2435400"/>
            <a:chOff x="4656240" y="2914560"/>
            <a:chExt cx="1452600" cy="2435400"/>
          </a:xfrm>
        </p:grpSpPr>
        <p:sp>
          <p:nvSpPr>
            <p:cNvPr id="713" name="任意多边形 56"/>
            <p:cNvSpPr/>
            <p:nvPr/>
          </p:nvSpPr>
          <p:spPr>
            <a:xfrm>
              <a:off x="4656240" y="5051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任意多边形 57"/>
            <p:cNvSpPr/>
            <p:nvPr/>
          </p:nvSpPr>
          <p:spPr>
            <a:xfrm>
              <a:off x="4656240" y="4695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任意多边形 58"/>
            <p:cNvSpPr/>
            <p:nvPr/>
          </p:nvSpPr>
          <p:spPr>
            <a:xfrm>
              <a:off x="4656240" y="43394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62"/>
            <p:cNvSpPr/>
            <p:nvPr/>
          </p:nvSpPr>
          <p:spPr>
            <a:xfrm>
              <a:off x="4656240" y="39830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63"/>
            <p:cNvSpPr/>
            <p:nvPr/>
          </p:nvSpPr>
          <p:spPr>
            <a:xfrm>
              <a:off x="4656240" y="362700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64"/>
            <p:cNvSpPr/>
            <p:nvPr/>
          </p:nvSpPr>
          <p:spPr>
            <a:xfrm>
              <a:off x="4656240" y="327060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65"/>
            <p:cNvSpPr/>
            <p:nvPr/>
          </p:nvSpPr>
          <p:spPr>
            <a:xfrm>
              <a:off x="4656240" y="291456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组合 12"/>
          <p:cNvGrpSpPr/>
          <p:nvPr/>
        </p:nvGrpSpPr>
        <p:grpSpPr>
          <a:xfrm>
            <a:off x="6527880" y="3625920"/>
            <a:ext cx="1454040" cy="1724040"/>
            <a:chOff x="6527880" y="3625920"/>
            <a:chExt cx="1454040" cy="1724040"/>
          </a:xfrm>
        </p:grpSpPr>
        <p:sp>
          <p:nvSpPr>
            <p:cNvPr id="721" name="任意多边形 66"/>
            <p:cNvSpPr/>
            <p:nvPr/>
          </p:nvSpPr>
          <p:spPr>
            <a:xfrm>
              <a:off x="6527880" y="50515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任意多边形 67"/>
            <p:cNvSpPr/>
            <p:nvPr/>
          </p:nvSpPr>
          <p:spPr>
            <a:xfrm>
              <a:off x="6527880" y="46951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任意多边形 68"/>
            <p:cNvSpPr/>
            <p:nvPr/>
          </p:nvSpPr>
          <p:spPr>
            <a:xfrm>
              <a:off x="6527880" y="43387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6527880" y="39823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6527880" y="36259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文本框 13"/>
          <p:cNvSpPr/>
          <p:nvPr/>
        </p:nvSpPr>
        <p:spPr>
          <a:xfrm>
            <a:off x="1919160" y="1844640"/>
            <a:ext cx="11937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15"/>
          <p:cNvSpPr/>
          <p:nvPr/>
        </p:nvSpPr>
        <p:spPr>
          <a:xfrm>
            <a:off x="264636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73"/>
          <p:cNvSpPr/>
          <p:nvPr/>
        </p:nvSpPr>
        <p:spPr>
          <a:xfrm>
            <a:off x="451800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74"/>
          <p:cNvSpPr/>
          <p:nvPr/>
        </p:nvSpPr>
        <p:spPr>
          <a:xfrm>
            <a:off x="6391440" y="5518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75"/>
          <p:cNvSpPr/>
          <p:nvPr/>
        </p:nvSpPr>
        <p:spPr>
          <a:xfrm>
            <a:off x="8256600" y="3495600"/>
            <a:ext cx="316872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表 7" descr=""/>
          <p:cNvPicPr/>
          <p:nvPr/>
        </p:nvPicPr>
        <p:blipFill>
          <a:blip r:embed="rId1"/>
          <a:stretch/>
        </p:blipFill>
        <p:spPr>
          <a:xfrm>
            <a:off x="2031840" y="1440000"/>
            <a:ext cx="8128080" cy="4797360"/>
          </a:xfrm>
          <a:prstGeom prst="rect">
            <a:avLst/>
          </a:prstGeom>
          <a:ln w="0">
            <a:noFill/>
          </a:ln>
        </p:spPr>
      </p:pic>
      <p:sp>
        <p:nvSpPr>
          <p:cNvPr id="736" name="直接连接符 9"/>
          <p:cNvSpPr/>
          <p:nvPr/>
        </p:nvSpPr>
        <p:spPr>
          <a:xfrm>
            <a:off x="3755880" y="2808360"/>
            <a:ext cx="9003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下箭头 16"/>
          <p:cNvSpPr/>
          <p:nvPr/>
        </p:nvSpPr>
        <p:spPr>
          <a:xfrm>
            <a:off x="3765600" y="2808360"/>
            <a:ext cx="898560" cy="16556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55"/>
          <p:cNvSpPr/>
          <p:nvPr/>
        </p:nvSpPr>
        <p:spPr>
          <a:xfrm>
            <a:off x="6276960" y="3551400"/>
            <a:ext cx="8985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59"/>
          <p:cNvSpPr/>
          <p:nvPr/>
        </p:nvSpPr>
        <p:spPr>
          <a:xfrm>
            <a:off x="8796240" y="2492280"/>
            <a:ext cx="900360" cy="180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下箭头 60"/>
          <p:cNvSpPr/>
          <p:nvPr/>
        </p:nvSpPr>
        <p:spPr>
          <a:xfrm>
            <a:off x="6289560" y="3551400"/>
            <a:ext cx="900360" cy="156348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下箭头 61"/>
          <p:cNvSpPr/>
          <p:nvPr/>
        </p:nvSpPr>
        <p:spPr>
          <a:xfrm>
            <a:off x="8796240" y="2492280"/>
            <a:ext cx="900360" cy="1800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01:07:00Z</dcterms:created>
  <dc:creator>Administrator</dc:creator>
  <dc:description/>
  <cp:keywords/>
  <dc:language>en-US</dc:language>
  <cp:lastModifiedBy>Administrator</cp:lastModifiedBy>
  <dcterms:modified xsi:type="dcterms:W3CDTF">2016-03-08T15:53:51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