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39F-5747-424D-BFA2-54DD0E2C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1C4-2D56-4DF9-9873-A18BAA2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649-3C48-4958-A172-9DD04F12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1AA-0E42-481A-830D-FEA2D4B7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1F2-D8BE-431F-B3F5-D2946E84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9C5-3792-4A66-80E4-5CFAEB4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EB2-9490-43DB-8960-B0F982A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69B-A4BE-4BC9-9A2E-0DFAC1B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39B-9F3A-4F66-92AD-6B0EFCC2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753-155C-4DD5-A876-AD73F26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63C-20F8-47B7-ABDC-B41C8CC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181-D1F3-49FB-9F4F-29582F7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256A-A69A-4DD8-9FF5-DFCBE92560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1EC-78BB-4700-B3C8-125D2EFC175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089520" y="29289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80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68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90520" y="33908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700000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60000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700000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60000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8"/>
          <p:cNvSpPr/>
          <p:nvPr/>
        </p:nvSpPr>
        <p:spPr>
          <a:xfrm>
            <a:off x="6006960" y="-739800"/>
            <a:ext cx="716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5649840" y="-739800"/>
            <a:ext cx="28584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5649840" y="-739800"/>
            <a:ext cx="2858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006960" y="-739800"/>
            <a:ext cx="7164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305400" y="-739800"/>
            <a:ext cx="14292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6519960" y="-739800"/>
            <a:ext cx="21420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6864480" y="-739800"/>
            <a:ext cx="7128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649840" y="2259000"/>
            <a:ext cx="2858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1"/>
          <p:cNvSpPr/>
          <p:nvPr/>
        </p:nvSpPr>
        <p:spPr>
          <a:xfrm>
            <a:off x="601020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6307200" y="2259000"/>
            <a:ext cx="14292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521400" y="2259000"/>
            <a:ext cx="21420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6867360" y="2259000"/>
            <a:ext cx="71640" cy="366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5340240" y="13478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151680" y="255420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9"/>
          <p:cNvSpPr/>
          <p:nvPr/>
        </p:nvSpPr>
        <p:spPr>
          <a:xfrm>
            <a:off x="6305400" y="-739800"/>
            <a:ext cx="14292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6519960" y="-739800"/>
            <a:ext cx="21420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6864480" y="-739800"/>
            <a:ext cx="71280" cy="278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28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8400" y="5160960"/>
            <a:ext cx="3348000" cy="144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0960"/>
            <a:ext cx="3349800" cy="144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5892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25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7B48-B5F6-4D84-A02C-AF659851AEE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4"/>
          <p:cNvSpPr/>
          <p:nvPr/>
        </p:nvSpPr>
        <p:spPr>
          <a:xfrm>
            <a:off x="-68400" y="5160960"/>
            <a:ext cx="104004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"/>
          <p:cNvSpPr/>
          <p:nvPr/>
        </p:nvSpPr>
        <p:spPr>
          <a:xfrm flipV="1">
            <a:off x="971640" y="2641680"/>
            <a:ext cx="1800000" cy="2519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2"/>
          <p:cNvSpPr/>
          <p:nvPr/>
        </p:nvSpPr>
        <p:spPr>
          <a:xfrm>
            <a:off x="6732720" y="2658960"/>
            <a:ext cx="934920" cy="250200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7667640" y="5160960"/>
            <a:ext cx="1584360" cy="14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2"/>
          <p:cNvSpPr/>
          <p:nvPr/>
        </p:nvSpPr>
        <p:spPr>
          <a:xfrm rot="19164600">
            <a:off x="-845640" y="318600"/>
            <a:ext cx="35985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1" name="椭圆​​ 24"/>
            <p:cNvSpPr/>
            <p:nvPr/>
          </p:nvSpPr>
          <p:spPr>
            <a:xfrm>
              <a:off x="717984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​​ 25"/>
            <p:cNvSpPr/>
            <p:nvPr/>
          </p:nvSpPr>
          <p:spPr>
            <a:xfrm>
              <a:off x="846468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​​ 26"/>
            <p:cNvSpPr/>
            <p:nvPr/>
          </p:nvSpPr>
          <p:spPr>
            <a:xfrm>
              <a:off x="695628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2"/>
            <p:cNvSpPr/>
            <p:nvPr/>
          </p:nvSpPr>
          <p:spPr>
            <a:xfrm flipV="1">
              <a:off x="728964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​​ 23"/>
            <p:cNvSpPr/>
            <p:nvPr/>
          </p:nvSpPr>
          <p:spPr>
            <a:xfrm flipV="1">
              <a:off x="8574120" y="-1766880"/>
              <a:ext cx="28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9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2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5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2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10" name="椭圆​​ 24"/>
            <p:cNvSpPr/>
            <p:nvPr/>
          </p:nvSpPr>
          <p:spPr>
            <a:xfrm>
              <a:off x="7173720" y="-10364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​​ 25"/>
            <p:cNvSpPr/>
            <p:nvPr/>
          </p:nvSpPr>
          <p:spPr>
            <a:xfrm>
              <a:off x="8458560" y="-10364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​​ 26"/>
            <p:cNvSpPr/>
            <p:nvPr/>
          </p:nvSpPr>
          <p:spPr>
            <a:xfrm>
              <a:off x="6950160" y="-904680"/>
              <a:ext cx="193068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2"/>
            <p:cNvSpPr/>
            <p:nvPr/>
          </p:nvSpPr>
          <p:spPr>
            <a:xfrm flipV="1">
              <a:off x="7283520" y="-1766880"/>
              <a:ext cx="936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​​ 23"/>
            <p:cNvSpPr/>
            <p:nvPr/>
          </p:nvSpPr>
          <p:spPr>
            <a:xfrm flipV="1">
              <a:off x="8566200" y="-1766880"/>
              <a:ext cx="46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2309760" y="256860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 rot="2700000">
            <a:off x="6354000" y="540360"/>
            <a:ext cx="359892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9" name="椭圆​​ 24"/>
            <p:cNvSpPr/>
            <p:nvPr/>
          </p:nvSpPr>
          <p:spPr>
            <a:xfrm>
              <a:off x="1428480" y="-1034640"/>
              <a:ext cx="21888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​​ 25"/>
            <p:cNvSpPr/>
            <p:nvPr/>
          </p:nvSpPr>
          <p:spPr>
            <a:xfrm>
              <a:off x="2712960" y="-1034640"/>
              <a:ext cx="217440" cy="21888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圆角矩形​​ 26"/>
            <p:cNvSpPr/>
            <p:nvPr/>
          </p:nvSpPr>
          <p:spPr>
            <a:xfrm>
              <a:off x="1204920" y="-902880"/>
              <a:ext cx="1930320" cy="59544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2"/>
            <p:cNvSpPr/>
            <p:nvPr/>
          </p:nvSpPr>
          <p:spPr>
            <a:xfrm flipV="1">
              <a:off x="1538280" y="-1765800"/>
              <a:ext cx="936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​​ 23"/>
            <p:cNvSpPr/>
            <p:nvPr/>
          </p:nvSpPr>
          <p:spPr>
            <a:xfrm flipV="1">
              <a:off x="2822760" y="-1765800"/>
              <a:ext cx="28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35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8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39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3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2071800" y="26575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-106200" y="534960"/>
            <a:ext cx="470664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2106720" y="23954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14"/>
          <p:cNvSpPr/>
          <p:nvPr/>
        </p:nvSpPr>
        <p:spPr>
          <a:xfrm>
            <a:off x="-147492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43"/>
          <p:cNvSpPr/>
          <p:nvPr/>
        </p:nvSpPr>
        <p:spPr>
          <a:xfrm>
            <a:off x="-1062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2"/>
          <p:cNvSpPr/>
          <p:nvPr/>
        </p:nvSpPr>
        <p:spPr>
          <a:xfrm>
            <a:off x="488484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3" y="0"/>
                </a:lnTo>
                <a:lnTo>
                  <a:pt x="21600" y="10800"/>
                </a:lnTo>
                <a:lnTo>
                  <a:pt x="17813" y="21600"/>
                </a:lnTo>
                <a:lnTo>
                  <a:pt x="0" y="21600"/>
                </a:lnTo>
                <a:lnTo>
                  <a:pt x="3787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3"/>
          <p:cNvSpPr/>
          <p:nvPr/>
        </p:nvSpPr>
        <p:spPr>
          <a:xfrm>
            <a:off x="6875640" y="4906800"/>
            <a:ext cx="1441440" cy="5050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燕尾形 54"/>
          <p:cNvSpPr/>
          <p:nvPr/>
        </p:nvSpPr>
        <p:spPr>
          <a:xfrm>
            <a:off x="488484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8" y="0"/>
                </a:lnTo>
                <a:lnTo>
                  <a:pt x="21600" y="10800"/>
                </a:lnTo>
                <a:lnTo>
                  <a:pt x="17818" y="21600"/>
                </a:lnTo>
                <a:lnTo>
                  <a:pt x="0" y="21600"/>
                </a:lnTo>
                <a:lnTo>
                  <a:pt x="3782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085840" y="228132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美乐辰旗舰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1"/>
          <p:cNvSpPr/>
          <p:nvPr/>
        </p:nvSpPr>
        <p:spPr>
          <a:xfrm>
            <a:off x="729252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/>
  <cp:keywords/>
  <dc:language>en-US</dc:language>
  <cp:lastModifiedBy>Administrator</cp:lastModifiedBy>
  <cp:lastPrinted>1899-12-30T00:00:00Z</cp:lastPrinted>
  <dcterms:modified xsi:type="dcterms:W3CDTF">2016-07-25T03:17:46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