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21C-9608-4D09-9AAE-CB14DBB3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87F2-FAD8-4C55-83CB-25147F69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833B-B028-41C8-9F92-D1770D40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96EF-A0AD-4B8F-87F0-73567E7F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B4A-E340-482E-A42D-BC2E09AB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B30-DA2B-4178-8715-17513F33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6BF-B688-4376-AC40-CD106991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4CB5-D6A5-4A60-8C7B-F2C86424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D7E-25A3-4B64-84BF-AE4C9769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9EDC-C7F3-4076-9627-E6AF1ACD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180-B487-40F0-B2FF-0D672A99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98B-0B81-4599-8DFA-03CCB919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059A-2707-4870-AE58-6E38FB3807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651320" y="1214280"/>
            <a:ext cx="12776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918800" y="3399120"/>
            <a:ext cx="911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226600" y="1071720"/>
            <a:ext cx="91044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及其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14486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1928880" y="5500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635508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4283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214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2120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4283640" y="564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1926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62125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116280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3854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26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1997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137700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429000" y="2857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3854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3783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214720" y="4500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3854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57121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1497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12340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85776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421200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15199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3286080" y="4071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3569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3569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3569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13770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2286000" y="4643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6498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4140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5426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1568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13057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48549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385488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3497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4854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2-14T06:03:35Z</dcterms:modified>
  <cp:revision>29</cp:revision>
  <dc:subject/>
  <dc:title>幻灯片 1</dc:title>
</cp:coreProperties>
</file>