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2079720" y="325764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矩形 8"/>
          <p:cNvSpPr/>
          <p:nvPr/>
        </p:nvSpPr>
        <p:spPr>
          <a:xfrm>
            <a:off x="1687680" y="3336840"/>
            <a:ext cx="75960" cy="277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矩形 9"/>
          <p:cNvSpPr/>
          <p:nvPr/>
        </p:nvSpPr>
        <p:spPr>
          <a:xfrm>
            <a:off x="1792440" y="3336840"/>
            <a:ext cx="77760" cy="277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矩形 10"/>
          <p:cNvSpPr/>
          <p:nvPr/>
        </p:nvSpPr>
        <p:spPr>
          <a:xfrm>
            <a:off x="1897200" y="3336840"/>
            <a:ext cx="77760" cy="277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矩形 11"/>
          <p:cNvSpPr/>
          <p:nvPr/>
        </p:nvSpPr>
        <p:spPr>
          <a:xfrm>
            <a:off x="2003400" y="333684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Box 12"/>
          <p:cNvSpPr/>
          <p:nvPr/>
        </p:nvSpPr>
        <p:spPr>
          <a:xfrm>
            <a:off x="2463840" y="3571920"/>
            <a:ext cx="10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3522600" y="2738520"/>
            <a:ext cx="133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历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3419640" y="393696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su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5919840" y="795240"/>
            <a:ext cx="2135160" cy="213516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037200" y="912960"/>
            <a:ext cx="1898640" cy="1898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组合 22"/>
          <p:cNvGrpSpPr/>
          <p:nvPr/>
        </p:nvGrpSpPr>
        <p:grpSpPr>
          <a:xfrm>
            <a:off x="2556000" y="-1389240"/>
            <a:ext cx="2662920" cy="3999240"/>
            <a:chOff x="2556000" y="-1389240"/>
            <a:chExt cx="2662920" cy="3999240"/>
          </a:xfrm>
        </p:grpSpPr>
        <p:sp>
          <p:nvSpPr>
            <p:cNvPr id="47" name="直接连接符 12"/>
            <p:cNvSpPr/>
            <p:nvPr/>
          </p:nvSpPr>
          <p:spPr>
            <a:xfrm flipH="1">
              <a:off x="2556000" y="-36360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直接连接符 13"/>
            <p:cNvSpPr/>
            <p:nvPr/>
          </p:nvSpPr>
          <p:spPr>
            <a:xfrm flipH="1">
              <a:off x="3059640" y="-1065240"/>
              <a:ext cx="1440000" cy="251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直接连接符 14"/>
            <p:cNvSpPr/>
            <p:nvPr/>
          </p:nvSpPr>
          <p:spPr>
            <a:xfrm flipH="1">
              <a:off x="2556000" y="9756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直接连接符 15"/>
            <p:cNvSpPr/>
            <p:nvPr/>
          </p:nvSpPr>
          <p:spPr>
            <a:xfrm flipH="1">
              <a:off x="3059640" y="-68364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直接连接符 16"/>
            <p:cNvSpPr/>
            <p:nvPr/>
          </p:nvSpPr>
          <p:spPr>
            <a:xfrm flipH="1">
              <a:off x="2915640" y="-209160"/>
              <a:ext cx="1440000" cy="251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直接连接符 17"/>
            <p:cNvSpPr/>
            <p:nvPr/>
          </p:nvSpPr>
          <p:spPr>
            <a:xfrm flipH="1">
              <a:off x="3779280" y="-1389240"/>
              <a:ext cx="143964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Line 19"/>
          <p:cNvSpPr/>
          <p:nvPr/>
        </p:nvSpPr>
        <p:spPr>
          <a:xfrm>
            <a:off x="6986520" y="2930400"/>
            <a:ext cx="0" cy="2806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599939">
                                      <p:cBhvr>
                                        <p:cTn id="18" dur="27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7"/>
          <p:cNvSpPr/>
          <p:nvPr/>
        </p:nvSpPr>
        <p:spPr>
          <a:xfrm>
            <a:off x="2079720" y="325764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观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1687680" y="3336840"/>
            <a:ext cx="75960" cy="277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1792440" y="3336840"/>
            <a:ext cx="77760" cy="277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1897200" y="3336840"/>
            <a:ext cx="77760" cy="277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11"/>
          <p:cNvSpPr/>
          <p:nvPr/>
        </p:nvSpPr>
        <p:spPr>
          <a:xfrm>
            <a:off x="2003400" y="333684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2463840" y="3571920"/>
            <a:ext cx="10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522600" y="2738520"/>
            <a:ext cx="133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3419640" y="393696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5919840" y="795240"/>
            <a:ext cx="2135160" cy="213516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6037200" y="912960"/>
            <a:ext cx="1898640" cy="1898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组合 22"/>
          <p:cNvGrpSpPr/>
          <p:nvPr/>
        </p:nvGrpSpPr>
        <p:grpSpPr>
          <a:xfrm>
            <a:off x="2556000" y="-1389240"/>
            <a:ext cx="2662920" cy="3999240"/>
            <a:chOff x="2556000" y="-1389240"/>
            <a:chExt cx="2662920" cy="3999240"/>
          </a:xfrm>
        </p:grpSpPr>
        <p:sp>
          <p:nvSpPr>
            <p:cNvPr id="234" name="直接连接符 12"/>
            <p:cNvSpPr/>
            <p:nvPr/>
          </p:nvSpPr>
          <p:spPr>
            <a:xfrm flipH="1">
              <a:off x="2556000" y="-36360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直接连接符 13"/>
            <p:cNvSpPr/>
            <p:nvPr/>
          </p:nvSpPr>
          <p:spPr>
            <a:xfrm flipH="1">
              <a:off x="3059640" y="-1065240"/>
              <a:ext cx="1440000" cy="251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直接连接符 14"/>
            <p:cNvSpPr/>
            <p:nvPr/>
          </p:nvSpPr>
          <p:spPr>
            <a:xfrm flipH="1">
              <a:off x="2556000" y="9756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直接连接符 15"/>
            <p:cNvSpPr/>
            <p:nvPr/>
          </p:nvSpPr>
          <p:spPr>
            <a:xfrm flipH="1">
              <a:off x="3059640" y="-683640"/>
              <a:ext cx="144000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直接连接符 16"/>
            <p:cNvSpPr/>
            <p:nvPr/>
          </p:nvSpPr>
          <p:spPr>
            <a:xfrm flipH="1">
              <a:off x="2915640" y="-209160"/>
              <a:ext cx="1440000" cy="251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直接连接符 17"/>
            <p:cNvSpPr/>
            <p:nvPr/>
          </p:nvSpPr>
          <p:spPr>
            <a:xfrm flipH="1">
              <a:off x="3779280" y="-1389240"/>
              <a:ext cx="1439640" cy="251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599939">
                                      <p:cBhvr>
                                        <p:cTn id="741" dur="27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220760" y="7142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基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826920" y="793800"/>
            <a:ext cx="781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933480" y="793800"/>
            <a:ext cx="763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03824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14300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595520" y="98568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603520" y="336600"/>
            <a:ext cx="139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料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427120" y="1495440"/>
            <a:ext cx="24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basic 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直接连接符 11"/>
          <p:cNvSpPr/>
          <p:nvPr/>
        </p:nvSpPr>
        <p:spPr>
          <a:xfrm>
            <a:off x="1301760" y="2352600"/>
            <a:ext cx="5070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组合 22"/>
          <p:cNvGrpSpPr/>
          <p:nvPr/>
        </p:nvGrpSpPr>
        <p:grpSpPr>
          <a:xfrm>
            <a:off x="5292720" y="625320"/>
            <a:ext cx="2664000" cy="4000680"/>
            <a:chOff x="5292720" y="625320"/>
            <a:chExt cx="2664000" cy="4000680"/>
          </a:xfrm>
        </p:grpSpPr>
        <p:sp>
          <p:nvSpPr>
            <p:cNvPr id="64" name="直接连接符 12"/>
            <p:cNvSpPr/>
            <p:nvPr/>
          </p:nvSpPr>
          <p:spPr>
            <a:xfrm flipH="1">
              <a:off x="5292720" y="165096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直接连接符 13"/>
            <p:cNvSpPr/>
            <p:nvPr/>
          </p:nvSpPr>
          <p:spPr>
            <a:xfrm flipH="1">
              <a:off x="5796720" y="948960"/>
              <a:ext cx="1440000" cy="251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直接连接符 14"/>
            <p:cNvSpPr/>
            <p:nvPr/>
          </p:nvSpPr>
          <p:spPr>
            <a:xfrm flipH="1">
              <a:off x="5292720" y="211284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直接连接符 15"/>
            <p:cNvSpPr/>
            <p:nvPr/>
          </p:nvSpPr>
          <p:spPr>
            <a:xfrm flipH="1">
              <a:off x="5796720" y="133092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直接连接符 16"/>
            <p:cNvSpPr/>
            <p:nvPr/>
          </p:nvSpPr>
          <p:spPr>
            <a:xfrm flipH="1">
              <a:off x="5652720" y="1805400"/>
              <a:ext cx="1440000" cy="251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直接连接符 17"/>
            <p:cNvSpPr/>
            <p:nvPr/>
          </p:nvSpPr>
          <p:spPr>
            <a:xfrm flipH="1">
              <a:off x="6516720" y="62532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6948360" y="2352600"/>
            <a:ext cx="21956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1220760" y="2637000"/>
            <a:ext cx="410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图三多      姓别：女      年龄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高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2cm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重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k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族：汉      籍贯：江西       婚姻：未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江西省赣州市沙河商贸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>
            <a:off x="1015920" y="2212920"/>
            <a:ext cx="289080" cy="292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椭圆 21"/>
          <p:cNvSpPr/>
          <p:nvPr/>
        </p:nvSpPr>
        <p:spPr>
          <a:xfrm>
            <a:off x="1087560" y="228600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162080" y="-92160"/>
            <a:ext cx="0" cy="230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4389480" y="7142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求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399564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102200" y="793800"/>
            <a:ext cx="75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20696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431172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764240" y="98568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5772240" y="33660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595840" y="1495440"/>
            <a:ext cx="28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ob search in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直接连接符 11"/>
          <p:cNvSpPr/>
          <p:nvPr/>
        </p:nvSpPr>
        <p:spPr>
          <a:xfrm>
            <a:off x="1316160" y="2352600"/>
            <a:ext cx="888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12"/>
          <p:cNvGrpSpPr/>
          <p:nvPr/>
        </p:nvGrpSpPr>
        <p:grpSpPr>
          <a:xfrm>
            <a:off x="1486080" y="624960"/>
            <a:ext cx="2662920" cy="4000680"/>
            <a:chOff x="1486080" y="624960"/>
            <a:chExt cx="2662920" cy="4000680"/>
          </a:xfrm>
        </p:grpSpPr>
        <p:sp>
          <p:nvSpPr>
            <p:cNvPr id="85" name="直接连接符 13"/>
            <p:cNvSpPr/>
            <p:nvPr/>
          </p:nvSpPr>
          <p:spPr>
            <a:xfrm flipH="1" flipV="1">
              <a:off x="1486080" y="108684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直接连接符 14"/>
            <p:cNvSpPr/>
            <p:nvPr/>
          </p:nvSpPr>
          <p:spPr>
            <a:xfrm flipH="1" flipV="1">
              <a:off x="1989720" y="1788840"/>
              <a:ext cx="1440000" cy="251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直接连接符 15"/>
            <p:cNvSpPr/>
            <p:nvPr/>
          </p:nvSpPr>
          <p:spPr>
            <a:xfrm flipH="1" flipV="1">
              <a:off x="1486080" y="62496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直接连接符 16"/>
            <p:cNvSpPr/>
            <p:nvPr/>
          </p:nvSpPr>
          <p:spPr>
            <a:xfrm flipH="1" flipV="1">
              <a:off x="1989720" y="1406880"/>
              <a:ext cx="144000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直接连接符 17"/>
            <p:cNvSpPr/>
            <p:nvPr/>
          </p:nvSpPr>
          <p:spPr>
            <a:xfrm flipH="1" flipV="1">
              <a:off x="1845720" y="932400"/>
              <a:ext cx="1440000" cy="251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直接连接符 18"/>
            <p:cNvSpPr/>
            <p:nvPr/>
          </p:nvSpPr>
          <p:spPr>
            <a:xfrm flipH="1" flipV="1">
              <a:off x="2709360" y="2112480"/>
              <a:ext cx="1439640" cy="251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直接连接符 19"/>
          <p:cNvSpPr/>
          <p:nvPr/>
        </p:nvSpPr>
        <p:spPr>
          <a:xfrm>
            <a:off x="2843280" y="2352600"/>
            <a:ext cx="63007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椭圆 20"/>
          <p:cNvSpPr/>
          <p:nvPr/>
        </p:nvSpPr>
        <p:spPr>
          <a:xfrm>
            <a:off x="1015920" y="2212920"/>
            <a:ext cx="289080" cy="292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椭圆 21"/>
          <p:cNvSpPr/>
          <p:nvPr/>
        </p:nvSpPr>
        <p:spPr>
          <a:xfrm>
            <a:off x="1087560" y="228600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直接连接符 24"/>
          <p:cNvSpPr/>
          <p:nvPr/>
        </p:nvSpPr>
        <p:spPr>
          <a:xfrm>
            <a:off x="-19080" y="2352600"/>
            <a:ext cx="1022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4389480" y="2637000"/>
            <a:ext cx="410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聘职位：平面设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淘宝美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页设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年限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         职称：设计总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类型：全职       到职日期：两星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薪要求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0-12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希望工作地：江西省赣州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9"/>
          <p:cNvSpPr/>
          <p:nvPr/>
        </p:nvSpPr>
        <p:spPr>
          <a:xfrm>
            <a:off x="3976560" y="3767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3583080" y="38466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3689280" y="3846600"/>
            <a:ext cx="7632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3794040" y="38466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3898800" y="38466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4351320" y="403848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5359320" y="339084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育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5183280" y="45496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ducation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椭圆 27"/>
          <p:cNvSpPr/>
          <p:nvPr/>
        </p:nvSpPr>
        <p:spPr>
          <a:xfrm>
            <a:off x="1685880" y="1488960"/>
            <a:ext cx="9290160" cy="928872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椭圆 36"/>
          <p:cNvSpPr/>
          <p:nvPr/>
        </p:nvSpPr>
        <p:spPr>
          <a:xfrm>
            <a:off x="1547640" y="3970440"/>
            <a:ext cx="1041480" cy="1039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539640" y="356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小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-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椭圆 39"/>
          <p:cNvSpPr/>
          <p:nvPr/>
        </p:nvSpPr>
        <p:spPr>
          <a:xfrm>
            <a:off x="2593800" y="2173320"/>
            <a:ext cx="1200240" cy="1200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初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1447920" y="18414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中学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-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椭圆 41"/>
          <p:cNvSpPr/>
          <p:nvPr/>
        </p:nvSpPr>
        <p:spPr>
          <a:xfrm>
            <a:off x="4549680" y="1012680"/>
            <a:ext cx="1324080" cy="132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2"/>
          <p:cNvSpPr/>
          <p:nvPr/>
        </p:nvSpPr>
        <p:spPr>
          <a:xfrm>
            <a:off x="3419640" y="7603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中学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-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椭圆 43"/>
          <p:cNvSpPr/>
          <p:nvPr/>
        </p:nvSpPr>
        <p:spPr>
          <a:xfrm>
            <a:off x="6931080" y="938160"/>
            <a:ext cx="1501560" cy="150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44"/>
          <p:cNvSpPr/>
          <p:nvPr/>
        </p:nvSpPr>
        <p:spPr>
          <a:xfrm>
            <a:off x="5954760" y="42876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科技大学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-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历：本科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220760" y="7142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826920" y="793800"/>
            <a:ext cx="781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933480" y="793800"/>
            <a:ext cx="763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03824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1143000" y="79380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595520" y="98568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603520" y="33660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2427120" y="149544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-1036800" y="-4406760"/>
            <a:ext cx="9280800" cy="92804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椭圆 12"/>
          <p:cNvSpPr/>
          <p:nvPr/>
        </p:nvSpPr>
        <p:spPr>
          <a:xfrm>
            <a:off x="3060720" y="4232160"/>
            <a:ext cx="1224000" cy="122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椭圆 13"/>
          <p:cNvSpPr/>
          <p:nvPr/>
        </p:nvSpPr>
        <p:spPr>
          <a:xfrm>
            <a:off x="977760" y="3803760"/>
            <a:ext cx="857520" cy="857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5796000" y="3649680"/>
            <a:ext cx="858960" cy="857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椭圆 15"/>
          <p:cNvSpPr/>
          <p:nvPr/>
        </p:nvSpPr>
        <p:spPr>
          <a:xfrm>
            <a:off x="7302600" y="907920"/>
            <a:ext cx="1446120" cy="1446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2700360" y="3505320"/>
            <a:ext cx="331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科技集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.12.10-2.15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：设计总监  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职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4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4572000" y="269568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集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.12.10-2.15.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：部长  在职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539640" y="2786040"/>
            <a:ext cx="280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科技集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.12.10-2.15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：设计总监  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职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4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4572000" y="1285920"/>
            <a:ext cx="26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三多科技集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.12.10-2.15.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：总监    在职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1"/>
          <p:cNvSpPr/>
          <p:nvPr/>
        </p:nvSpPr>
        <p:spPr>
          <a:xfrm>
            <a:off x="5253120" y="14367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专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4859280" y="151596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4964040" y="151596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070600" y="151596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5175360" y="1515960"/>
            <a:ext cx="7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5627520" y="1706400"/>
            <a:ext cx="103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6635880" y="1058760"/>
            <a:ext cx="97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6459480" y="22176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fessional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1835280" y="698400"/>
            <a:ext cx="2449440" cy="2448000"/>
            <a:chOff x="1835280" y="698400"/>
            <a:chExt cx="2449440" cy="2448000"/>
          </a:xfrm>
        </p:grpSpPr>
        <p:sp>
          <p:nvSpPr>
            <p:cNvPr id="139" name="AutoShape 11"/>
            <p:cNvSpPr/>
            <p:nvPr/>
          </p:nvSpPr>
          <p:spPr>
            <a:xfrm>
              <a:off x="1835280" y="698400"/>
              <a:ext cx="2449440" cy="2448000"/>
            </a:xfrm>
            <a:custGeom>
              <a:avLst/>
              <a:gdLst>
                <a:gd name="textAreaLeft" fmla="*/ 358920 w 2449440"/>
                <a:gd name="textAreaRight" fmla="*/ 2090520 w 2449440"/>
                <a:gd name="textAreaTop" fmla="*/ 358560 h 2448000"/>
                <a:gd name="textAreaBottom" fmla="*/ 208944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66" y="10800"/>
                  </a:moveTo>
                  <a:cubicBezTo>
                    <a:pt x="1266" y="16065"/>
                    <a:pt x="5535" y="20334"/>
                    <a:pt x="10800" y="20334"/>
                  </a:cubicBezTo>
                  <a:cubicBezTo>
                    <a:pt x="16065" y="20334"/>
                    <a:pt x="20334" y="16065"/>
                    <a:pt x="20334" y="10800"/>
                  </a:cubicBezTo>
                  <a:cubicBezTo>
                    <a:pt x="20334" y="5535"/>
                    <a:pt x="16065" y="1266"/>
                    <a:pt x="10800" y="1266"/>
                  </a:cubicBezTo>
                  <a:cubicBezTo>
                    <a:pt x="5535" y="1266"/>
                    <a:pt x="1266" y="5535"/>
                    <a:pt x="1266" y="1080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2"/>
            <p:cNvSpPr/>
            <p:nvPr/>
          </p:nvSpPr>
          <p:spPr>
            <a:xfrm>
              <a:off x="2068200" y="931320"/>
              <a:ext cx="1982520" cy="198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97" y="4063"/>
                  </a:moveTo>
                  <a:cubicBezTo>
                    <a:pt x="15584" y="4841"/>
                    <a:pt x="17747" y="7617"/>
                    <a:pt x="17747" y="10800"/>
                  </a:cubicBezTo>
                  <a:cubicBezTo>
                    <a:pt x="17747" y="14636"/>
                    <a:pt x="14636" y="17747"/>
                    <a:pt x="10800" y="17747"/>
                  </a:cubicBezTo>
                  <a:cubicBezTo>
                    <a:pt x="6963" y="17747"/>
                    <a:pt x="3853" y="14636"/>
                    <a:pt x="3853" y="10800"/>
                  </a:cubicBezTo>
                  <a:cubicBezTo>
                    <a:pt x="3852" y="7617"/>
                    <a:pt x="6015" y="4841"/>
                    <a:pt x="9102" y="4063"/>
                  </a:cubicBezTo>
                  <a:lnTo>
                    <a:pt x="8160" y="327"/>
                  </a:lnTo>
                  <a:cubicBezTo>
                    <a:pt x="3362" y="1536"/>
                    <a:pt x="-1" y="5851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5851"/>
                    <a:pt x="18237" y="1536"/>
                    <a:pt x="13439" y="327"/>
                  </a:cubicBezTo>
                  <a:lnTo>
                    <a:pt x="12497" y="40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2295360" y="1538280"/>
            <a:ext cx="15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95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539640" y="2930400"/>
            <a:ext cx="1889280" cy="1887840"/>
            <a:chOff x="539640" y="2930400"/>
            <a:chExt cx="1889280" cy="1887840"/>
          </a:xfrm>
        </p:grpSpPr>
        <p:sp>
          <p:nvSpPr>
            <p:cNvPr id="143" name="AutoShape 15"/>
            <p:cNvSpPr/>
            <p:nvPr/>
          </p:nvSpPr>
          <p:spPr>
            <a:xfrm>
              <a:off x="539640" y="2930400"/>
              <a:ext cx="1889280" cy="1887840"/>
            </a:xfrm>
            <a:custGeom>
              <a:avLst/>
              <a:gdLst>
                <a:gd name="textAreaLeft" fmla="*/ 276840 w 1889280"/>
                <a:gd name="textAreaRight" fmla="*/ 1612440 w 1889280"/>
                <a:gd name="textAreaTop" fmla="*/ 276480 h 1887840"/>
                <a:gd name="textAreaBottom" fmla="*/ 1611360 h 18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66" y="10800"/>
                  </a:moveTo>
                  <a:cubicBezTo>
                    <a:pt x="1266" y="16065"/>
                    <a:pt x="5535" y="20334"/>
                    <a:pt x="10800" y="20334"/>
                  </a:cubicBezTo>
                  <a:cubicBezTo>
                    <a:pt x="16065" y="20334"/>
                    <a:pt x="20334" y="16065"/>
                    <a:pt x="20334" y="10800"/>
                  </a:cubicBezTo>
                  <a:cubicBezTo>
                    <a:pt x="20334" y="5535"/>
                    <a:pt x="16065" y="1266"/>
                    <a:pt x="10800" y="1266"/>
                  </a:cubicBezTo>
                  <a:cubicBezTo>
                    <a:pt x="5535" y="1266"/>
                    <a:pt x="1266" y="5535"/>
                    <a:pt x="1266" y="1080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6"/>
            <p:cNvSpPr/>
            <p:nvPr/>
          </p:nvSpPr>
          <p:spPr>
            <a:xfrm>
              <a:off x="719280" y="3109680"/>
              <a:ext cx="1529280" cy="152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795" y="4458"/>
                  </a:moveTo>
                  <a:cubicBezTo>
                    <a:pt x="16249" y="5616"/>
                    <a:pt x="17814" y="8086"/>
                    <a:pt x="17814" y="10800"/>
                  </a:cubicBezTo>
                  <a:cubicBezTo>
                    <a:pt x="17814" y="14673"/>
                    <a:pt x="14673" y="17814"/>
                    <a:pt x="10800" y="17814"/>
                  </a:cubicBezTo>
                  <a:cubicBezTo>
                    <a:pt x="6926" y="17814"/>
                    <a:pt x="3786" y="14673"/>
                    <a:pt x="3786" y="10800"/>
                  </a:cubicBezTo>
                  <a:cubicBezTo>
                    <a:pt x="3785" y="8086"/>
                    <a:pt x="5350" y="5616"/>
                    <a:pt x="7804" y="4458"/>
                  </a:cubicBezTo>
                  <a:lnTo>
                    <a:pt x="6186" y="1034"/>
                  </a:lnTo>
                  <a:cubicBezTo>
                    <a:pt x="2409" y="2819"/>
                    <a:pt x="-1" y="6622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6622"/>
                    <a:pt x="19190" y="2819"/>
                    <a:pt x="15413" y="1034"/>
                  </a:cubicBezTo>
                  <a:lnTo>
                    <a:pt x="13795" y="445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17"/>
          <p:cNvSpPr/>
          <p:nvPr/>
        </p:nvSpPr>
        <p:spPr>
          <a:xfrm>
            <a:off x="887400" y="36100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3924360" y="3289320"/>
            <a:ext cx="1544400" cy="1544760"/>
            <a:chOff x="3924360" y="3289320"/>
            <a:chExt cx="1544400" cy="1544760"/>
          </a:xfrm>
        </p:grpSpPr>
        <p:sp>
          <p:nvSpPr>
            <p:cNvPr id="147" name="AutoShape 19"/>
            <p:cNvSpPr/>
            <p:nvPr/>
          </p:nvSpPr>
          <p:spPr>
            <a:xfrm>
              <a:off x="3924360" y="3289320"/>
              <a:ext cx="1544400" cy="1544760"/>
            </a:xfrm>
            <a:custGeom>
              <a:avLst/>
              <a:gdLst>
                <a:gd name="textAreaLeft" fmla="*/ 226080 w 1544400"/>
                <a:gd name="textAreaRight" fmla="*/ 1318320 w 1544400"/>
                <a:gd name="textAreaTop" fmla="*/ 226080 h 1544760"/>
                <a:gd name="textAreaBottom" fmla="*/ 1318680 h 154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66" y="10800"/>
                  </a:moveTo>
                  <a:cubicBezTo>
                    <a:pt x="1266" y="16065"/>
                    <a:pt x="5535" y="20334"/>
                    <a:pt x="10800" y="20334"/>
                  </a:cubicBezTo>
                  <a:cubicBezTo>
                    <a:pt x="16065" y="20334"/>
                    <a:pt x="20334" y="16065"/>
                    <a:pt x="20334" y="10800"/>
                  </a:cubicBezTo>
                  <a:cubicBezTo>
                    <a:pt x="20334" y="5535"/>
                    <a:pt x="16065" y="1266"/>
                    <a:pt x="10800" y="1266"/>
                  </a:cubicBezTo>
                  <a:cubicBezTo>
                    <a:pt x="5535" y="1266"/>
                    <a:pt x="1266" y="5535"/>
                    <a:pt x="1266" y="1080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0"/>
            <p:cNvSpPr/>
            <p:nvPr/>
          </p:nvSpPr>
          <p:spPr>
            <a:xfrm>
              <a:off x="4070880" y="3435840"/>
              <a:ext cx="1250280" cy="12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57" y="5639"/>
                  </a:moveTo>
                  <a:cubicBezTo>
                    <a:pt x="16837" y="6946"/>
                    <a:pt x="17685" y="8825"/>
                    <a:pt x="17685" y="10800"/>
                  </a:cubicBezTo>
                  <a:cubicBezTo>
                    <a:pt x="17685" y="14602"/>
                    <a:pt x="14602" y="17685"/>
                    <a:pt x="10800" y="17685"/>
                  </a:cubicBezTo>
                  <a:cubicBezTo>
                    <a:pt x="6997" y="17685"/>
                    <a:pt x="3915" y="14602"/>
                    <a:pt x="3915" y="10800"/>
                  </a:cubicBezTo>
                  <a:cubicBezTo>
                    <a:pt x="3914" y="8825"/>
                    <a:pt x="4762" y="6946"/>
                    <a:pt x="6242" y="5639"/>
                  </a:cubicBezTo>
                  <a:lnTo>
                    <a:pt x="3650" y="2705"/>
                  </a:lnTo>
                  <a:cubicBezTo>
                    <a:pt x="1329" y="4755"/>
                    <a:pt x="-1" y="7703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7703"/>
                    <a:pt x="20270" y="4755"/>
                    <a:pt x="17949" y="2705"/>
                  </a:cubicBezTo>
                  <a:lnTo>
                    <a:pt x="15357" y="563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 Box 21"/>
          <p:cNvSpPr/>
          <p:nvPr/>
        </p:nvSpPr>
        <p:spPr>
          <a:xfrm>
            <a:off x="4218120" y="3828960"/>
            <a:ext cx="10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5940360" y="2786040"/>
            <a:ext cx="1154160" cy="1154160"/>
            <a:chOff x="5940360" y="2786040"/>
            <a:chExt cx="1154160" cy="1154160"/>
          </a:xfrm>
        </p:grpSpPr>
        <p:sp>
          <p:nvSpPr>
            <p:cNvPr id="151" name="AutoShape 23"/>
            <p:cNvSpPr/>
            <p:nvPr/>
          </p:nvSpPr>
          <p:spPr>
            <a:xfrm>
              <a:off x="5940360" y="2786040"/>
              <a:ext cx="1154160" cy="1154160"/>
            </a:xfrm>
            <a:custGeom>
              <a:avLst/>
              <a:gdLst>
                <a:gd name="textAreaLeft" fmla="*/ 168840 w 1154160"/>
                <a:gd name="textAreaRight" fmla="*/ 985320 w 1154160"/>
                <a:gd name="textAreaTop" fmla="*/ 168840 h 1154160"/>
                <a:gd name="textAreaBottom" fmla="*/ 985320 h 11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66" y="10800"/>
                  </a:moveTo>
                  <a:cubicBezTo>
                    <a:pt x="1266" y="16065"/>
                    <a:pt x="5535" y="20334"/>
                    <a:pt x="10800" y="20334"/>
                  </a:cubicBezTo>
                  <a:cubicBezTo>
                    <a:pt x="16065" y="20334"/>
                    <a:pt x="20334" y="16065"/>
                    <a:pt x="20334" y="10800"/>
                  </a:cubicBezTo>
                  <a:cubicBezTo>
                    <a:pt x="20334" y="5535"/>
                    <a:pt x="16065" y="1266"/>
                    <a:pt x="10800" y="1266"/>
                  </a:cubicBezTo>
                  <a:cubicBezTo>
                    <a:pt x="5535" y="1266"/>
                    <a:pt x="1266" y="5535"/>
                    <a:pt x="1266" y="1080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6050160" y="2895840"/>
              <a:ext cx="933840" cy="93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97" y="4063"/>
                  </a:moveTo>
                  <a:cubicBezTo>
                    <a:pt x="15584" y="4841"/>
                    <a:pt x="17747" y="7617"/>
                    <a:pt x="17747" y="10800"/>
                  </a:cubicBezTo>
                  <a:cubicBezTo>
                    <a:pt x="17747" y="14636"/>
                    <a:pt x="14636" y="17747"/>
                    <a:pt x="10800" y="17747"/>
                  </a:cubicBezTo>
                  <a:cubicBezTo>
                    <a:pt x="6963" y="17747"/>
                    <a:pt x="3853" y="14636"/>
                    <a:pt x="3853" y="10800"/>
                  </a:cubicBezTo>
                  <a:cubicBezTo>
                    <a:pt x="3852" y="7617"/>
                    <a:pt x="6015" y="4841"/>
                    <a:pt x="9102" y="4063"/>
                  </a:cubicBezTo>
                  <a:lnTo>
                    <a:pt x="8160" y="327"/>
                  </a:lnTo>
                  <a:cubicBezTo>
                    <a:pt x="3362" y="1536"/>
                    <a:pt x="-1" y="5851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5851"/>
                    <a:pt x="18237" y="1536"/>
                    <a:pt x="13439" y="327"/>
                  </a:cubicBezTo>
                  <a:lnTo>
                    <a:pt x="12497" y="40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25"/>
          <p:cNvSpPr/>
          <p:nvPr/>
        </p:nvSpPr>
        <p:spPr>
          <a:xfrm>
            <a:off x="6153120" y="31654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2448000" y="3200400"/>
            <a:ext cx="14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sh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14440" y="4832280"/>
            <a:ext cx="19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llustrator CS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741840" y="486900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orelDR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565600" y="3997440"/>
            <a:ext cx="19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reamwea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220760" y="22924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所获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826920" y="2371680"/>
            <a:ext cx="781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933480" y="2371680"/>
            <a:ext cx="7632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038240" y="237168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1143000" y="2371680"/>
            <a:ext cx="77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595520" y="256536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603520" y="191448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428920" y="30733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The 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3900600" y="487440"/>
            <a:ext cx="3432240" cy="2820960"/>
            <a:chOff x="3900600" y="487440"/>
            <a:chExt cx="3432240" cy="2820960"/>
          </a:xfrm>
        </p:grpSpPr>
        <p:sp>
          <p:nvSpPr>
            <p:cNvPr id="167" name="Rectangle 11"/>
            <p:cNvSpPr/>
            <p:nvPr/>
          </p:nvSpPr>
          <p:spPr>
            <a:xfrm rot="20460000">
              <a:off x="4140360" y="914400"/>
              <a:ext cx="2952720" cy="1967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 rot="20460000">
              <a:off x="4263120" y="1077840"/>
              <a:ext cx="2624400" cy="139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证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在这里输入相关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说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 rot="20460000">
              <a:off x="4574880" y="2476080"/>
              <a:ext cx="25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这里输入证书名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3953880" y="3297240"/>
            <a:ext cx="1994040" cy="1405080"/>
            <a:chOff x="3953880" y="3297240"/>
            <a:chExt cx="1994040" cy="1405080"/>
          </a:xfrm>
        </p:grpSpPr>
        <p:sp>
          <p:nvSpPr>
            <p:cNvPr id="171" name="Rectangle 15"/>
            <p:cNvSpPr/>
            <p:nvPr/>
          </p:nvSpPr>
          <p:spPr>
            <a:xfrm rot="240000">
              <a:off x="3996000" y="3362040"/>
              <a:ext cx="1909800" cy="1272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 rot="240000">
              <a:off x="4107240" y="3463200"/>
              <a:ext cx="1697400" cy="90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证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在这里输入相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说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 rot="240000">
              <a:off x="4080240" y="4398120"/>
              <a:ext cx="166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这里输入证书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8"/>
          <p:cNvGrpSpPr/>
          <p:nvPr/>
        </p:nvGrpSpPr>
        <p:grpSpPr>
          <a:xfrm>
            <a:off x="6139800" y="1947240"/>
            <a:ext cx="2339640" cy="2830680"/>
            <a:chOff x="6139800" y="1947240"/>
            <a:chExt cx="2339640" cy="2830680"/>
          </a:xfrm>
        </p:grpSpPr>
        <p:sp>
          <p:nvSpPr>
            <p:cNvPr id="175" name="Rectangle 19"/>
            <p:cNvSpPr/>
            <p:nvPr/>
          </p:nvSpPr>
          <p:spPr>
            <a:xfrm rot="960000">
              <a:off x="6443280" y="2138400"/>
              <a:ext cx="1731960" cy="24480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 rot="960000">
              <a:off x="6568560" y="2234520"/>
              <a:ext cx="1539360" cy="2057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证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在这里输入相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荣誉说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 rot="960000">
              <a:off x="6252120" y="4285080"/>
              <a:ext cx="1510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在这里输入证书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1"/>
          <p:cNvSpPr/>
          <p:nvPr/>
        </p:nvSpPr>
        <p:spPr>
          <a:xfrm>
            <a:off x="2876400" y="24145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兴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2482920" y="249408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2589120" y="249408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2693880" y="249408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2800440" y="2494080"/>
            <a:ext cx="759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3251160" y="2685960"/>
            <a:ext cx="10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4259160" y="2038320"/>
            <a:ext cx="97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4083120" y="319716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rest h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976320" y="912960"/>
            <a:ext cx="17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音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3130560" y="1190520"/>
            <a:ext cx="17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画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23"/>
          <p:cNvSpPr/>
          <p:nvPr/>
        </p:nvSpPr>
        <p:spPr>
          <a:xfrm>
            <a:off x="5651640" y="51264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电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249120" y="4084560"/>
            <a:ext cx="28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5"/>
          <p:cNvSpPr/>
          <p:nvPr/>
        </p:nvSpPr>
        <p:spPr>
          <a:xfrm>
            <a:off x="5148360" y="3605040"/>
            <a:ext cx="179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篮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6"/>
          <p:cNvSpPr/>
          <p:nvPr/>
        </p:nvSpPr>
        <p:spPr>
          <a:xfrm>
            <a:off x="6924600" y="414648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书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27"/>
          <p:cNvSpPr/>
          <p:nvPr/>
        </p:nvSpPr>
        <p:spPr>
          <a:xfrm>
            <a:off x="682560" y="2757600"/>
            <a:ext cx="17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8"/>
          <p:cNvSpPr/>
          <p:nvPr/>
        </p:nvSpPr>
        <p:spPr>
          <a:xfrm>
            <a:off x="6124680" y="2160720"/>
            <a:ext cx="17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跑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124000" y="2811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3683160" y="4475160"/>
            <a:ext cx="32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小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8" dur="4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4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3" dur="4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4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4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4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4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4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4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3" dur="4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4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4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4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4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8" dur="4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4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4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1542960" y="23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您与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1149480" y="24084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1254240" y="24084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1360440" y="24084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1465200" y="2408400"/>
            <a:ext cx="777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917720" y="2600280"/>
            <a:ext cx="10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2925720" y="195120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2749680" y="3110040"/>
            <a:ext cx="22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act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组合 32"/>
          <p:cNvGrpSpPr/>
          <p:nvPr/>
        </p:nvGrpSpPr>
        <p:grpSpPr>
          <a:xfrm>
            <a:off x="5354640" y="3586320"/>
            <a:ext cx="1403280" cy="337320"/>
            <a:chOff x="5354640" y="3586320"/>
            <a:chExt cx="1403280" cy="337320"/>
          </a:xfrm>
        </p:grpSpPr>
        <p:sp>
          <p:nvSpPr>
            <p:cNvPr id="205" name="Rectangle 30"/>
            <p:cNvSpPr/>
            <p:nvPr/>
          </p:nvSpPr>
          <p:spPr>
            <a:xfrm>
              <a:off x="5670360" y="358632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mpan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32" descr=""/>
            <p:cNvPicPr/>
            <p:nvPr/>
          </p:nvPicPr>
          <p:blipFill>
            <a:blip r:embed="rId1"/>
            <a:stretch/>
          </p:blipFill>
          <p:spPr>
            <a:xfrm>
              <a:off x="5354640" y="3625920"/>
              <a:ext cx="252000" cy="2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31"/>
          <p:cNvGrpSpPr/>
          <p:nvPr/>
        </p:nvGrpSpPr>
        <p:grpSpPr>
          <a:xfrm>
            <a:off x="5354640" y="3271680"/>
            <a:ext cx="2041200" cy="337320"/>
            <a:chOff x="5354640" y="3271680"/>
            <a:chExt cx="2041200" cy="337320"/>
          </a:xfrm>
        </p:grpSpPr>
        <p:sp>
          <p:nvSpPr>
            <p:cNvPr id="208" name="Rectangle 29"/>
            <p:cNvSpPr/>
            <p:nvPr/>
          </p:nvSpPr>
          <p:spPr>
            <a:xfrm>
              <a:off x="5683320" y="3271680"/>
              <a:ext cx="17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ame Compan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35" descr=""/>
            <p:cNvPicPr/>
            <p:nvPr/>
          </p:nvPicPr>
          <p:blipFill>
            <a:blip r:embed="rId2"/>
            <a:stretch/>
          </p:blipFill>
          <p:spPr>
            <a:xfrm>
              <a:off x="5354640" y="3322080"/>
              <a:ext cx="252360" cy="25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组合 30"/>
          <p:cNvGrpSpPr/>
          <p:nvPr/>
        </p:nvGrpSpPr>
        <p:grpSpPr>
          <a:xfrm>
            <a:off x="5354640" y="2955960"/>
            <a:ext cx="1469160" cy="337320"/>
            <a:chOff x="5354640" y="2955960"/>
            <a:chExt cx="1469160" cy="337320"/>
          </a:xfrm>
        </p:grpSpPr>
        <p:sp>
          <p:nvSpPr>
            <p:cNvPr id="211" name="Rectangle 28"/>
            <p:cNvSpPr/>
            <p:nvPr/>
          </p:nvSpPr>
          <p:spPr>
            <a:xfrm>
              <a:off x="5655600" y="2955960"/>
              <a:ext cx="11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n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Picture 36" descr=""/>
            <p:cNvPicPr/>
            <p:nvPr/>
          </p:nvPicPr>
          <p:blipFill>
            <a:blip r:embed="rId3"/>
            <a:stretch/>
          </p:blipFill>
          <p:spPr>
            <a:xfrm>
              <a:off x="5354640" y="3018600"/>
              <a:ext cx="252360" cy="2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27"/>
          <p:cNvGrpSpPr/>
          <p:nvPr/>
        </p:nvGrpSpPr>
        <p:grpSpPr>
          <a:xfrm>
            <a:off x="5345280" y="2009880"/>
            <a:ext cx="2449080" cy="337320"/>
            <a:chOff x="5345280" y="2009880"/>
            <a:chExt cx="2449080" cy="337320"/>
          </a:xfrm>
        </p:grpSpPr>
        <p:sp>
          <p:nvSpPr>
            <p:cNvPr id="214" name="Rectangle 25"/>
            <p:cNvSpPr/>
            <p:nvPr/>
          </p:nvSpPr>
          <p:spPr>
            <a:xfrm>
              <a:off x="5716080" y="2009880"/>
              <a:ext cx="20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+555 123 998 2232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47" descr=""/>
            <p:cNvPicPr/>
            <p:nvPr/>
          </p:nvPicPr>
          <p:blipFill>
            <a:blip r:embed="rId4"/>
            <a:stretch/>
          </p:blipFill>
          <p:spPr>
            <a:xfrm>
              <a:off x="5345280" y="2045880"/>
              <a:ext cx="272520" cy="27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组合 28"/>
          <p:cNvGrpSpPr/>
          <p:nvPr/>
        </p:nvGrpSpPr>
        <p:grpSpPr>
          <a:xfrm>
            <a:off x="5345280" y="2324160"/>
            <a:ext cx="2814120" cy="337320"/>
            <a:chOff x="5345280" y="2324160"/>
            <a:chExt cx="2814120" cy="337320"/>
          </a:xfrm>
        </p:grpSpPr>
        <p:sp>
          <p:nvSpPr>
            <p:cNvPr id="217" name="Rectangle 26"/>
            <p:cNvSpPr/>
            <p:nvPr/>
          </p:nvSpPr>
          <p:spPr>
            <a:xfrm>
              <a:off x="5666760" y="2324160"/>
              <a:ext cx="24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yoursitename.c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49" descr=""/>
            <p:cNvPicPr/>
            <p:nvPr/>
          </p:nvPicPr>
          <p:blipFill>
            <a:blip r:embed="rId5"/>
            <a:stretch/>
          </p:blipFill>
          <p:spPr>
            <a:xfrm>
              <a:off x="5345280" y="2369880"/>
              <a:ext cx="272160" cy="27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组合 29"/>
          <p:cNvGrpSpPr/>
          <p:nvPr/>
        </p:nvGrpSpPr>
        <p:grpSpPr>
          <a:xfrm>
            <a:off x="5345280" y="2639880"/>
            <a:ext cx="2575800" cy="337320"/>
            <a:chOff x="5345280" y="2639880"/>
            <a:chExt cx="2575800" cy="337320"/>
          </a:xfrm>
        </p:grpSpPr>
        <p:sp>
          <p:nvSpPr>
            <p:cNvPr id="220" name="Rectangle 27"/>
            <p:cNvSpPr/>
            <p:nvPr/>
          </p:nvSpPr>
          <p:spPr>
            <a:xfrm>
              <a:off x="5689080" y="263988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ffice@sitename.c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Picture 48" descr=""/>
            <p:cNvPicPr/>
            <p:nvPr/>
          </p:nvPicPr>
          <p:blipFill>
            <a:blip r:embed="rId6"/>
            <a:stretch/>
          </p:blipFill>
          <p:spPr>
            <a:xfrm>
              <a:off x="5345280" y="2694240"/>
              <a:ext cx="27252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椭圆 27"/>
          <p:cNvSpPr/>
          <p:nvPr/>
        </p:nvSpPr>
        <p:spPr>
          <a:xfrm>
            <a:off x="-4497480" y="-1790640"/>
            <a:ext cx="9286920" cy="92836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0:43:00Z</dcterms:created>
  <dc:creator>Windows 用户</dc:creator>
  <dc:description/>
  <cp:keywords/>
  <dc:language>en-US</dc:language>
  <cp:lastModifiedBy>Sky123.Org</cp:lastModifiedBy>
  <dcterms:modified xsi:type="dcterms:W3CDTF">2016-03-05T12:24:43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  <property fmtid="{D5CDD505-2E9C-101B-9397-08002B2CF9AE}" pid="3" name="fileid">
    <vt:lpwstr>514705</vt:lpwstr>
  </property>
  <property fmtid="{D5CDD505-2E9C-101B-9397-08002B2CF9AE}" pid="4" name="name">
    <vt:lpwstr>KOy58EXWQV23884.ppt</vt:lpwstr>
  </property>
</Properties>
</file>