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9045-9D29-4330-8B6A-428E9856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AB3-D280-4721-B927-448D656A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EB9-DBD5-44D3-838E-AE852C82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3E0-C203-453B-A372-CEAAA1EE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902-BE12-4A4B-ACBF-2DC0291E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7A2-778A-49C7-AB6F-7215A13E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297-1AD5-4D41-9A83-2C666294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6A3-8A01-43DF-8586-47102D23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BFB-600E-4EE7-B5E7-3063C65D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ED1-BF74-4536-AB49-46316DB7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8DB-7D2F-4A20-A4FC-7DFDCBB1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6C8-C76A-4109-B3AE-24784109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C320-63A1-4540-8C70-E5A644170B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57680" y="180180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269244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表彰大会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4140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406908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4069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402012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192600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997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5997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997960" y="92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4020120" y="59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997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"/>
          <p:cNvSpPr/>
          <p:nvPr/>
        </p:nvSpPr>
        <p:spPr>
          <a:xfrm>
            <a:off x="3926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1"/>
          <p:cNvSpPr/>
          <p:nvPr/>
        </p:nvSpPr>
        <p:spPr>
          <a:xfrm>
            <a:off x="2997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3948840" y="6000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1997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783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6283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9"/>
          <p:cNvSpPr/>
          <p:nvPr/>
        </p:nvSpPr>
        <p:spPr>
          <a:xfrm>
            <a:off x="5426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4020120" y="59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500280" y="2928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1711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212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3948840" y="607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642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1783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7-19T14:10:51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