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BAFF6-90F0-4815-ABB5-B3DB699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0DC7D-706B-4BAA-B74D-42A161C9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7720-04E6-4CC5-8016-8C1BC18A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12AAE-C9C3-4A30-854A-F5BBD48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5FBA3-50BD-4992-BE1A-E975FD6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D374-01D5-411C-931B-18C8D49D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FD740-D701-412A-A80A-5299F542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732A5-710E-4673-8D53-443B0A30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C81A1-77C1-4E00-B3EF-1C320E5D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97DD7-7F51-4B0E-A8C4-17E9522E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8B94E-3014-4D57-97E9-F90CE6F0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37B17-6DCC-4432-8483-6CAA2E2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1C3D-2ADF-4148-B428-77A71A9F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BBBD8-B907-4C76-A505-605A30E4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B3D32-C10D-46D8-AA29-9AE8A133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094D3-211A-4558-836C-620511F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AF351-5C26-4F46-9F0F-9C8B9B4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7B873-7794-4296-AD9E-CD21699C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9862B-6458-4D3E-8E5C-6B28129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ACCC2-B135-4035-B82D-3DB17F5B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A202C-4B39-4932-9A5E-D7D80F55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6F6FF-CE47-4A69-A798-97EEAB94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D2B3B-5790-4E98-8568-3A1CD7B7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2BBF2-1003-4AFF-B4EB-0398FC60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598D-C716-4F26-BC38-18A3AE2C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E4EF5-E809-4631-A8F4-AE504B5B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9BF97-1127-4901-8B5E-696EE7E2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6AD01-2955-4B95-A22A-9AAADEF2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1B8CE-699E-42D6-8BB4-8F03AE5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4B28B-5A44-464B-A53A-5671011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B13-508F-4CDD-A251-87351CF1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8DCC6-9672-4AEB-94BF-47DE61F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420B2-0A45-4D56-90CE-E77C2D27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1810C-0C61-4C62-B881-C82B4FE9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5808-E93A-4D05-8AF0-11E7BA10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0C5E-42A6-44AE-853E-ECF715A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BDB7D-35BD-4DC0-B510-F9B63A8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A0392-6BCD-483D-9063-06BD6CD3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DED38-C82F-426A-A9A7-A772D8A8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24DC-F4CF-418C-B997-9AF5A13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310CA-E190-41E6-A09D-01A74154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73A-7726-4286-B56C-977A37A0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81AE-8C33-4774-8E00-AA91481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BFDB5-6B54-44E4-90DA-7ED44FF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550B3-0772-4E39-8990-7E8ADB1F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227D-DE19-494A-B7C8-5D9599CD3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196D4-A30E-44E7-9025-5FEF8AC5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5CC-9BAC-4F45-A73F-32E8B207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1D7-E13A-4613-BA2A-EA2B0F77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41F-92EC-4EE8-B273-DFF8D478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855-0868-4B50-8E06-FC6D688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389-110C-40B8-8C8F-562FF55C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647-0AB9-4EF0-91D6-D0A7B02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021-2955-4AF2-98BA-66F73944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439-26D7-4092-8A81-61F0496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F59-1132-4EFE-9098-D562FF46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5CB-A798-4BBA-8D73-29EDAB61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A6E-A2DA-4BA7-B403-43661230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7B36-74E4-48B4-822F-6AAF9F1C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BDF8-A2AC-42AE-AC9C-4C6B74AA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4A79-69AB-4DC4-972E-A000C613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4CD0-E1EA-4B4F-922A-BE31D7BA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FD4A-B5F8-49A4-9510-59156AB2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0036-121A-44D4-8CE6-DB4C72A7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29DA-9997-49D5-834A-4443F26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0B62-F7B2-4989-983D-FB0C5AC4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0BED-B093-4F25-9E1D-9378ECA9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8E9A-128E-46ED-9D29-101BE601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57A-B1BC-4546-9DBD-EBDE311A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8135-5D52-4788-B063-EBF6BD51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C909-0A2A-4C6C-930B-9631CD65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EA26-BB8C-49B7-AE78-CFDD0F81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ED351-DC79-43C0-9A1B-69F095C3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9F78-DCB7-40A3-B4B3-ED988384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B39F-AEF9-44F7-AE83-7D68BAB0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55AA-6899-46A1-8F94-7EB8BD6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0932-A4CD-4691-B837-BDAB9656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868C-EC3A-4E70-91A5-E517277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BACB3-ECFD-4CFE-BA9A-4360B047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8E4A-3591-4FEB-B935-D873804F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1E2A-74D0-4923-A5F5-BC243E0D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4A593-9AFD-4C3A-83CC-E76F51CA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24DE-5AE6-4CD5-9C4A-DDBA5241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F76A-0207-4E1E-88C6-626085C5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4BEB-C126-49E7-B3FF-98A52DBA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5B4A-7236-4A8C-ABB2-055B4EB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0471-FE6C-4425-B046-5D51CF05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BCC0C-7C1B-4EBC-B648-A2DD1869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904C-2B38-40EF-9825-ABEA7E2C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0F75-9118-41D6-87BE-BFCA8F3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F5E0-FEFF-4097-8AC6-07B9EFB0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780E8-FA0F-434B-A4CC-5C0590A9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0ACA5-7E60-46B2-B465-61254785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B75C-9711-4EC2-8B7B-AE6A3178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8FC21-35D5-42E2-87E3-CCCC9DA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F227-F88E-4DAB-80D5-9B2CF407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9D5E-203F-4B73-A971-419F1F2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C2D2-F949-46F9-857A-CD26B6DE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B189-3D1E-4150-B151-690ADBC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7989-6367-45CB-836B-CA31391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E7B5-E932-4EFE-A6E0-7C684100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FA79-7060-4839-B3E8-38563BFD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DE6DD-BC26-4B1E-B546-350C184F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D3744-518C-4EFD-A4C9-C5E89BDB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2FA05-6009-44E2-95A6-49A4542C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F1665-FF17-4EF9-8EDE-C446C439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9290-42FF-4005-ADA6-76B7DCE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2394-7D6D-41B9-A8BE-BB0DBCBD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D0B11-5DDE-4419-B746-66C1BFDC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66F6-75D5-44E2-9776-0EB57AD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64644-906C-4BEB-B1F1-F5AB1169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7CAA4-3A3B-4490-AC75-EFF95D6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DBA91-B39C-4016-828C-5F76166C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8E0A0-0408-4A2A-852A-E00D0F1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D97B-6719-471F-91AB-82EECB9A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00ABF-AAAE-40AC-B9E5-A6A6318A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7475-7C9F-4EFE-AEBC-D44DB7D4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C0667-E4BB-40B1-B75E-0E5CEDBD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0577-C250-4E1E-A1FA-08F42C88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BB31-67B7-466E-8D32-3053CB7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F0112-63EB-498C-9C14-405A905A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38FA-D048-4111-9672-AA5143E1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3268-460B-4077-A488-060584B3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0DF7E-ED55-41BD-9E4B-FBEF3864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DA20-1191-4EEE-A6AA-590CEC6F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E9C5-CEFF-446F-BF53-979AE23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C118-A19B-457F-956F-894AD254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8BFB-884D-4EAD-9355-B016A74E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59D41-C85F-44EA-B7BC-399C50C5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3C3FD-8186-40B6-ADA2-BE888391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671B-D40E-4BDD-AFE9-3A856F2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EC63-E8DF-47A1-ACBF-CC1360B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0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6251-B980-4D53-A85C-E35FB24B925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5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EE3-8214-4D02-8B15-205F4ABB67B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9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E3D5-2CE9-4DEA-ADF0-BB1E7747334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A06E-79AF-4E93-AA42-9227E8FC8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182D-09E5-4A2E-928D-3F8DD20BFD35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38A5-4D52-4A40-9C1F-A4BB77F085C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18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2149-E86F-41DD-82FA-13CB8D6DDCB3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2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551-B27B-4AA1-A537-19383D5551E2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27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B74-ABE0-4445-9C52-D8AB0F9F43E1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17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9D3C-3A81-490E-9C4C-9023F1717827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圆角矩形 15"/>
          <p:cNvSpPr/>
          <p:nvPr/>
        </p:nvSpPr>
        <p:spPr>
          <a:xfrm>
            <a:off x="71280" y="115920"/>
            <a:ext cx="9001440" cy="6669000"/>
          </a:xfrm>
          <a:prstGeom prst="roundRect">
            <a:avLst>
              <a:gd name="adj" fmla="val 456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直接连接符 8"/>
          <p:cNvSpPr/>
          <p:nvPr/>
        </p:nvSpPr>
        <p:spPr>
          <a:xfrm>
            <a:off x="428760" y="6357960"/>
            <a:ext cx="8286480" cy="1440"/>
          </a:xfrm>
          <a:prstGeom prst="line">
            <a:avLst/>
          </a:prstGeom>
          <a:ln w="936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6572160" y="641664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静思笃行   持中秉正  　　　　　　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图片 5" descr="江西师大.png"/>
          <p:cNvPicPr/>
          <p:nvPr/>
        </p:nvPicPr>
        <p:blipFill>
          <a:blip r:embed="rId2"/>
          <a:stretch/>
        </p:blipFill>
        <p:spPr>
          <a:xfrm>
            <a:off x="500040" y="6383160"/>
            <a:ext cx="1144440" cy="397080"/>
          </a:xfrm>
          <a:prstGeom prst="rect">
            <a:avLst/>
          </a:prstGeom>
          <a:ln w="0">
            <a:noFill/>
          </a:ln>
        </p:spPr>
      </p:pic>
      <p:sp>
        <p:nvSpPr>
          <p:cNvPr id="362" name="直接连接符 2"/>
          <p:cNvSpPr/>
          <p:nvPr/>
        </p:nvSpPr>
        <p:spPr>
          <a:xfrm>
            <a:off x="1692360" y="6416640"/>
            <a:ext cx="0" cy="3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1984320" y="6434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秋记与你分享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053-957F-41D7-8F0D-AB8575867DC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image" Target="../media/image11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1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矩形 5" descr=""/>
          <p:cNvPicPr/>
          <p:nvPr/>
        </p:nvPicPr>
        <p:blipFill>
          <a:blip r:embed="rId1"/>
          <a:stretch/>
        </p:blipFill>
        <p:spPr>
          <a:xfrm>
            <a:off x="0" y="4071960"/>
            <a:ext cx="9144000" cy="73080"/>
          </a:xfrm>
          <a:prstGeom prst="rect">
            <a:avLst/>
          </a:prstGeom>
          <a:ln w="0">
            <a:noFill/>
          </a:ln>
        </p:spPr>
      </p:pic>
      <p:pic>
        <p:nvPicPr>
          <p:cNvPr id="539" name="矩形 3" descr=""/>
          <p:cNvPicPr/>
          <p:nvPr/>
        </p:nvPicPr>
        <p:blipFill>
          <a:blip r:embed="rId2"/>
          <a:stretch/>
        </p:blipFill>
        <p:spPr>
          <a:xfrm>
            <a:off x="0" y="1646280"/>
            <a:ext cx="9144000" cy="2286000"/>
          </a:xfrm>
          <a:prstGeom prst="rect">
            <a:avLst/>
          </a:prstGeom>
          <a:ln w="0">
            <a:noFill/>
          </a:ln>
        </p:spPr>
      </p:pic>
      <p:pic>
        <p:nvPicPr>
          <p:cNvPr id="540" name="TextBox 8" descr=""/>
          <p:cNvPicPr/>
          <p:nvPr/>
        </p:nvPicPr>
        <p:blipFill>
          <a:blip r:embed="rId3"/>
          <a:stretch/>
        </p:blipFill>
        <p:spPr>
          <a:xfrm>
            <a:off x="444600" y="2408400"/>
            <a:ext cx="8424720" cy="1346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600360" y="48574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答辩人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导   师：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图片 6" descr="江西师大.png"/>
          <p:cNvPicPr/>
          <p:nvPr/>
        </p:nvPicPr>
        <p:blipFill>
          <a:blip r:embed="rId4"/>
          <a:stretch/>
        </p:blipFill>
        <p:spPr>
          <a:xfrm>
            <a:off x="142920" y="142920"/>
            <a:ext cx="2879640" cy="100008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2805"/>
          <p:cNvGrpSpPr/>
          <p:nvPr/>
        </p:nvGrpSpPr>
        <p:grpSpPr>
          <a:xfrm>
            <a:off x="571680" y="4143240"/>
            <a:ext cx="3642840" cy="500040"/>
            <a:chOff x="571680" y="4143240"/>
            <a:chExt cx="3642840" cy="500040"/>
          </a:xfrm>
        </p:grpSpPr>
        <p:sp>
          <p:nvSpPr>
            <p:cNvPr id="544" name="AutoShape 2788"/>
            <p:cNvSpPr/>
            <p:nvPr/>
          </p:nvSpPr>
          <p:spPr>
            <a:xfrm>
              <a:off x="571680" y="4143240"/>
              <a:ext cx="950400" cy="500040"/>
            </a:xfrm>
            <a:custGeom>
              <a:avLst/>
              <a:gdLst>
                <a:gd name="textAreaLeft" fmla="*/ 0 w 950400"/>
                <a:gd name="textAreaRight" fmla="*/ 950760 w 9504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5" name="AutoShape 2792"/>
            <p:cNvSpPr/>
            <p:nvPr/>
          </p:nvSpPr>
          <p:spPr>
            <a:xfrm>
              <a:off x="1473120" y="4143240"/>
              <a:ext cx="946800" cy="50004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6" name="AutoShape 2793"/>
            <p:cNvSpPr/>
            <p:nvPr/>
          </p:nvSpPr>
          <p:spPr>
            <a:xfrm>
              <a:off x="2353680" y="4143240"/>
              <a:ext cx="947160" cy="500040"/>
            </a:xfrm>
            <a:custGeom>
              <a:avLst/>
              <a:gdLst>
                <a:gd name="textAreaLeft" fmla="*/ 0 w 947160"/>
                <a:gd name="textAreaRight" fmla="*/ 947520 w 94716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182" y="0"/>
                  </a:lnTo>
                  <a:lnTo>
                    <a:pt x="21600" y="10800"/>
                  </a:lnTo>
                  <a:lnTo>
                    <a:pt x="16182" y="21600"/>
                  </a:lnTo>
                  <a:lnTo>
                    <a:pt x="0" y="21600"/>
                  </a:lnTo>
                  <a:lnTo>
                    <a:pt x="5418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7" name="AutoShape 2794"/>
            <p:cNvSpPr/>
            <p:nvPr/>
          </p:nvSpPr>
          <p:spPr>
            <a:xfrm>
              <a:off x="3264480" y="4143240"/>
              <a:ext cx="950040" cy="500040"/>
            </a:xfrm>
            <a:custGeom>
              <a:avLst/>
              <a:gdLst>
                <a:gd name="textAreaLeft" fmla="*/ 0 w 950040"/>
                <a:gd name="textAreaRight" fmla="*/ 950400 w 9500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7f7f7f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21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23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24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5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26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7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28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29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0" name="组合 20"/>
          <p:cNvGrpSpPr/>
          <p:nvPr/>
        </p:nvGrpSpPr>
        <p:grpSpPr>
          <a:xfrm>
            <a:off x="971640" y="3357720"/>
            <a:ext cx="1758960" cy="2057400"/>
            <a:chOff x="971640" y="3357720"/>
            <a:chExt cx="1758960" cy="2057400"/>
          </a:xfrm>
        </p:grpSpPr>
        <p:sp>
          <p:nvSpPr>
            <p:cNvPr id="731" name="矩形标注 21"/>
            <p:cNvSpPr/>
            <p:nvPr/>
          </p:nvSpPr>
          <p:spPr>
            <a:xfrm>
              <a:off x="97164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2" name="矩形 23"/>
            <p:cNvSpPr/>
            <p:nvPr/>
          </p:nvSpPr>
          <p:spPr>
            <a:xfrm>
              <a:off x="1096920" y="4008600"/>
              <a:ext cx="151308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3" name="矩形 9"/>
            <p:cNvSpPr/>
            <p:nvPr/>
          </p:nvSpPr>
          <p:spPr>
            <a:xfrm>
              <a:off x="10738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34" name="组合 21"/>
          <p:cNvGrpSpPr/>
          <p:nvPr/>
        </p:nvGrpSpPr>
        <p:grpSpPr>
          <a:xfrm>
            <a:off x="3738600" y="3357720"/>
            <a:ext cx="1760400" cy="2057400"/>
            <a:chOff x="3738600" y="3357720"/>
            <a:chExt cx="1760400" cy="2057400"/>
          </a:xfrm>
        </p:grpSpPr>
        <p:sp>
          <p:nvSpPr>
            <p:cNvPr id="735" name="矩形标注 29"/>
            <p:cNvSpPr/>
            <p:nvPr/>
          </p:nvSpPr>
          <p:spPr>
            <a:xfrm>
              <a:off x="3738600" y="3357720"/>
              <a:ext cx="176040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6" name="矩形 30"/>
            <p:cNvSpPr/>
            <p:nvPr/>
          </p:nvSpPr>
          <p:spPr>
            <a:xfrm>
              <a:off x="3863880" y="4008600"/>
              <a:ext cx="1514520" cy="1287360"/>
            </a:xfrm>
            <a:prstGeom prst="rect">
              <a:avLst/>
            </a:prstGeom>
            <a:solidFill>
              <a:srgbClr val="c5f3ff"/>
            </a:solidFill>
            <a:ln w="25560">
              <a:solidFill>
                <a:srgbClr val="bfbfb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7" name="矩形 14"/>
            <p:cNvSpPr/>
            <p:nvPr/>
          </p:nvSpPr>
          <p:spPr>
            <a:xfrm>
              <a:off x="413928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d13b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38" name="TextBox 33"/>
          <p:cNvSpPr/>
          <p:nvPr/>
        </p:nvSpPr>
        <p:spPr>
          <a:xfrm>
            <a:off x="2874960" y="39751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TextBox 34"/>
          <p:cNvSpPr/>
          <p:nvPr/>
        </p:nvSpPr>
        <p:spPr>
          <a:xfrm>
            <a:off x="5611680" y="398772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38ac8"/>
                </a:solidFill>
                <a:latin typeface="Verdana"/>
                <a:ea typeface="微软雅黑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0" name="组合 22"/>
          <p:cNvGrpSpPr/>
          <p:nvPr/>
        </p:nvGrpSpPr>
        <p:grpSpPr>
          <a:xfrm>
            <a:off x="6475320" y="3357720"/>
            <a:ext cx="1758960" cy="2057400"/>
            <a:chOff x="6475320" y="3357720"/>
            <a:chExt cx="1758960" cy="2057400"/>
          </a:xfrm>
        </p:grpSpPr>
        <p:sp>
          <p:nvSpPr>
            <p:cNvPr id="741" name="矩形标注 37"/>
            <p:cNvSpPr/>
            <p:nvPr/>
          </p:nvSpPr>
          <p:spPr>
            <a:xfrm>
              <a:off x="6475320" y="3357720"/>
              <a:ext cx="1758960" cy="2057400"/>
            </a:xfrm>
            <a:prstGeom prst="wedgeRectCallout">
              <a:avLst>
                <a:gd name="adj1" fmla="val 8143"/>
                <a:gd name="adj2" fmla="val 60379"/>
              </a:avLst>
            </a:prstGeom>
            <a:solidFill>
              <a:srgbClr val="007eea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2" name="矩形 18"/>
            <p:cNvGrpSpPr/>
            <p:nvPr/>
          </p:nvGrpSpPr>
          <p:grpSpPr>
            <a:xfrm>
              <a:off x="6594840" y="4002120"/>
              <a:ext cx="1521720" cy="1297080"/>
              <a:chOff x="6594840" y="4002120"/>
              <a:chExt cx="1521720" cy="1297080"/>
            </a:xfrm>
          </p:grpSpPr>
          <p:pic>
            <p:nvPicPr>
              <p:cNvPr id="743" name="矩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6594840" y="4002120"/>
                <a:ext cx="152172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11"/>
              <p:cNvSpPr/>
              <p:nvPr/>
            </p:nvSpPr>
            <p:spPr>
              <a:xfrm>
                <a:off x="6601320" y="4007520"/>
                <a:ext cx="1512000" cy="128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nstantia"/>
                    <a:ea typeface="微软雅黑"/>
                  </a:rPr>
                  <a:t>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5" name="矩形 19"/>
            <p:cNvSpPr/>
            <p:nvPr/>
          </p:nvSpPr>
          <p:spPr>
            <a:xfrm>
              <a:off x="6571440" y="35204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8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5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5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52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5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6" name="图示 13" descr=""/>
          <p:cNvPicPr/>
          <p:nvPr/>
        </p:nvPicPr>
        <p:blipFill>
          <a:blip r:embed="rId5"/>
          <a:stretch/>
        </p:blipFill>
        <p:spPr>
          <a:xfrm>
            <a:off x="1932120" y="2786040"/>
            <a:ext cx="51638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6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6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6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6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21" descr=""/>
          <p:cNvPicPr/>
          <p:nvPr/>
        </p:nvPicPr>
        <p:blipFill>
          <a:blip r:embed="rId5"/>
          <a:stretch/>
        </p:blipFill>
        <p:spPr>
          <a:xfrm>
            <a:off x="566640" y="431640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768" name="组合 36"/>
          <p:cNvGrpSpPr/>
          <p:nvPr/>
        </p:nvGrpSpPr>
        <p:grpSpPr>
          <a:xfrm>
            <a:off x="1000080" y="3929040"/>
            <a:ext cx="2086200" cy="1589040"/>
            <a:chOff x="1000080" y="3929040"/>
            <a:chExt cx="2086200" cy="1589040"/>
          </a:xfrm>
        </p:grpSpPr>
        <p:grpSp>
          <p:nvGrpSpPr>
            <p:cNvPr id="769" name="组合 11"/>
            <p:cNvGrpSpPr/>
            <p:nvPr/>
          </p:nvGrpSpPr>
          <p:grpSpPr>
            <a:xfrm>
              <a:off x="1000080" y="3929040"/>
              <a:ext cx="2086200" cy="1589040"/>
              <a:chOff x="1000080" y="3929040"/>
              <a:chExt cx="2086200" cy="1589040"/>
            </a:xfrm>
          </p:grpSpPr>
          <p:sp>
            <p:nvSpPr>
              <p:cNvPr id="770" name="椭圆形标注 64"/>
              <p:cNvSpPr/>
              <p:nvPr/>
            </p:nvSpPr>
            <p:spPr>
              <a:xfrm>
                <a:off x="100008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1" name="椭圆形标注 65"/>
              <p:cNvSpPr/>
              <p:nvPr/>
            </p:nvSpPr>
            <p:spPr>
              <a:xfrm>
                <a:off x="106488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2" name="TextBox 63"/>
            <p:cNvSpPr/>
            <p:nvPr/>
          </p:nvSpPr>
          <p:spPr>
            <a:xfrm>
              <a:off x="1444680" y="4368600"/>
              <a:ext cx="15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3" name="TextBox 66"/>
          <p:cNvSpPr/>
          <p:nvPr/>
        </p:nvSpPr>
        <p:spPr>
          <a:xfrm>
            <a:off x="-500040" y="27082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XXXXXXXXXXXXXXXXXXXXXXXXXX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74" name="组合 36"/>
          <p:cNvGrpSpPr/>
          <p:nvPr/>
        </p:nvGrpSpPr>
        <p:grpSpPr>
          <a:xfrm>
            <a:off x="3643200" y="3929040"/>
            <a:ext cx="2086200" cy="1589040"/>
            <a:chOff x="3643200" y="3929040"/>
            <a:chExt cx="2086200" cy="1589040"/>
          </a:xfrm>
        </p:grpSpPr>
        <p:grpSp>
          <p:nvGrpSpPr>
            <p:cNvPr id="775" name="组合 11"/>
            <p:cNvGrpSpPr/>
            <p:nvPr/>
          </p:nvGrpSpPr>
          <p:grpSpPr>
            <a:xfrm>
              <a:off x="3643200" y="3929040"/>
              <a:ext cx="2086200" cy="1589040"/>
              <a:chOff x="3643200" y="3929040"/>
              <a:chExt cx="2086200" cy="1589040"/>
            </a:xfrm>
          </p:grpSpPr>
          <p:sp>
            <p:nvSpPr>
              <p:cNvPr id="776" name="椭圆形标注 21"/>
              <p:cNvSpPr/>
              <p:nvPr/>
            </p:nvSpPr>
            <p:spPr>
              <a:xfrm>
                <a:off x="3643200" y="392904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7" name="椭圆形标注 23"/>
              <p:cNvSpPr/>
              <p:nvPr/>
            </p:nvSpPr>
            <p:spPr>
              <a:xfrm>
                <a:off x="3708000" y="398124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8" name="TextBox 20"/>
            <p:cNvSpPr/>
            <p:nvPr/>
          </p:nvSpPr>
          <p:spPr>
            <a:xfrm>
              <a:off x="3857400" y="4435200"/>
              <a:ext cx="171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79" name="组合 36"/>
          <p:cNvGrpSpPr/>
          <p:nvPr/>
        </p:nvGrpSpPr>
        <p:grpSpPr>
          <a:xfrm>
            <a:off x="6072120" y="4000680"/>
            <a:ext cx="2143080" cy="1589040"/>
            <a:chOff x="6072120" y="4000680"/>
            <a:chExt cx="2143080" cy="1589040"/>
          </a:xfrm>
        </p:grpSpPr>
        <p:grpSp>
          <p:nvGrpSpPr>
            <p:cNvPr id="780" name="组合 11"/>
            <p:cNvGrpSpPr/>
            <p:nvPr/>
          </p:nvGrpSpPr>
          <p:grpSpPr>
            <a:xfrm>
              <a:off x="6129000" y="4000680"/>
              <a:ext cx="2086200" cy="1589040"/>
              <a:chOff x="6129000" y="4000680"/>
              <a:chExt cx="2086200" cy="1589040"/>
            </a:xfrm>
          </p:grpSpPr>
          <p:sp>
            <p:nvSpPr>
              <p:cNvPr id="781" name="椭圆形标注 30"/>
              <p:cNvSpPr/>
              <p:nvPr/>
            </p:nvSpPr>
            <p:spPr>
              <a:xfrm>
                <a:off x="6129000" y="4000680"/>
                <a:ext cx="2086200" cy="158904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2" name="椭圆形标注 31"/>
              <p:cNvSpPr/>
              <p:nvPr/>
            </p:nvSpPr>
            <p:spPr>
              <a:xfrm>
                <a:off x="6193800" y="4052880"/>
                <a:ext cx="1930680" cy="1471680"/>
              </a:xfrm>
              <a:prstGeom prst="wedgeEllipseCallout">
                <a:avLst>
                  <a:gd name="adj1" fmla="val -36208"/>
                  <a:gd name="adj2" fmla="val 58513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83" name="TextBox 29"/>
            <p:cNvSpPr/>
            <p:nvPr/>
          </p:nvSpPr>
          <p:spPr>
            <a:xfrm>
              <a:off x="6072120" y="450684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7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88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89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0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91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3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94" name="组合 25"/>
          <p:cNvGrpSpPr/>
          <p:nvPr/>
        </p:nvGrpSpPr>
        <p:grpSpPr>
          <a:xfrm>
            <a:off x="826920" y="2840040"/>
            <a:ext cx="3311640" cy="2664000"/>
            <a:chOff x="826920" y="2840040"/>
            <a:chExt cx="3311640" cy="2664000"/>
          </a:xfrm>
        </p:grpSpPr>
        <p:sp>
          <p:nvSpPr>
            <p:cNvPr id="795" name="圆角矩形 28"/>
            <p:cNvSpPr/>
            <p:nvPr/>
          </p:nvSpPr>
          <p:spPr>
            <a:xfrm>
              <a:off x="82692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96" name="对角圆角矩形 29"/>
            <p:cNvGrpSpPr/>
            <p:nvPr/>
          </p:nvGrpSpPr>
          <p:grpSpPr>
            <a:xfrm>
              <a:off x="3334680" y="4297680"/>
              <a:ext cx="761760" cy="1182600"/>
              <a:chOff x="3334680" y="4297680"/>
              <a:chExt cx="761760" cy="1182600"/>
            </a:xfrm>
          </p:grpSpPr>
          <p:pic>
            <p:nvPicPr>
              <p:cNvPr id="797" name="对角圆角矩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333468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>
                <a:off x="337104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799" name="组合 6"/>
          <p:cNvGrpSpPr/>
          <p:nvPr/>
        </p:nvGrpSpPr>
        <p:grpSpPr>
          <a:xfrm>
            <a:off x="5173560" y="2840040"/>
            <a:ext cx="3311640" cy="2664000"/>
            <a:chOff x="5173560" y="2840040"/>
            <a:chExt cx="3311640" cy="2664000"/>
          </a:xfrm>
        </p:grpSpPr>
        <p:sp>
          <p:nvSpPr>
            <p:cNvPr id="800" name="圆角矩形 31"/>
            <p:cNvSpPr/>
            <p:nvPr/>
          </p:nvSpPr>
          <p:spPr>
            <a:xfrm>
              <a:off x="5173560" y="2840040"/>
              <a:ext cx="3311640" cy="2664000"/>
            </a:xfrm>
            <a:prstGeom prst="roundRect">
              <a:avLst>
                <a:gd name="adj" fmla="val 7093"/>
              </a:avLst>
            </a:prstGeom>
            <a:solidFill>
              <a:srgbClr val="ffff99">
                <a:alpha val="83000"/>
              </a:srgbClr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90000" tIns="2520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X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01" name="对角圆角矩形 32"/>
            <p:cNvGrpSpPr/>
            <p:nvPr/>
          </p:nvGrpSpPr>
          <p:grpSpPr>
            <a:xfrm>
              <a:off x="7693200" y="4297680"/>
              <a:ext cx="761760" cy="1182600"/>
              <a:chOff x="7693200" y="4297680"/>
              <a:chExt cx="761760" cy="1182600"/>
            </a:xfrm>
          </p:grpSpPr>
          <p:pic>
            <p:nvPicPr>
              <p:cNvPr id="802" name="对角圆角矩形 3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93200" y="4297680"/>
                <a:ext cx="761760" cy="11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" name=""/>
              <p:cNvSpPr/>
              <p:nvPr/>
            </p:nvSpPr>
            <p:spPr>
              <a:xfrm>
                <a:off x="7731720" y="4333320"/>
                <a:ext cx="687240" cy="11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2520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804" name="矩形 33"/>
          <p:cNvSpPr/>
          <p:nvPr/>
        </p:nvSpPr>
        <p:spPr>
          <a:xfrm rot="19674000">
            <a:off x="6430680" y="49003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矩形 34"/>
          <p:cNvSpPr/>
          <p:nvPr/>
        </p:nvSpPr>
        <p:spPr>
          <a:xfrm rot="19674000">
            <a:off x="2300040" y="4887720"/>
            <a:ext cx="2500200" cy="571320"/>
          </a:xfrm>
          <a:prstGeom prst="rect">
            <a:avLst/>
          </a:prstGeom>
          <a:solidFill>
            <a:srgbClr val="ffc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stral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7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08" name="组合 27"/>
          <p:cNvGrpSpPr/>
          <p:nvPr/>
        </p:nvGrpSpPr>
        <p:grpSpPr>
          <a:xfrm>
            <a:off x="554040" y="928800"/>
            <a:ext cx="1916280" cy="1349280"/>
            <a:chOff x="554040" y="928800"/>
            <a:chExt cx="1916280" cy="1349280"/>
          </a:xfrm>
        </p:grpSpPr>
        <p:sp>
          <p:nvSpPr>
            <p:cNvPr id="809" name="圆角矩形标注 22"/>
            <p:cNvSpPr/>
            <p:nvPr/>
          </p:nvSpPr>
          <p:spPr>
            <a:xfrm>
              <a:off x="554040" y="92880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0" name="同侧圆角矩形 19"/>
            <p:cNvGrpSpPr/>
            <p:nvPr/>
          </p:nvGrpSpPr>
          <p:grpSpPr>
            <a:xfrm>
              <a:off x="785520" y="1000440"/>
              <a:ext cx="1142640" cy="499320"/>
              <a:chOff x="785520" y="1000440"/>
              <a:chExt cx="1142640" cy="499320"/>
            </a:xfrm>
          </p:grpSpPr>
          <p:pic>
            <p:nvPicPr>
              <p:cNvPr id="811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5720" y="1046520"/>
                <a:ext cx="107244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2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520" y="1000440"/>
                <a:ext cx="107424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3" name="TextBox 20"/>
            <p:cNvSpPr/>
            <p:nvPr/>
          </p:nvSpPr>
          <p:spPr>
            <a:xfrm>
              <a:off x="755640" y="173268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5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pic>
        <p:nvPicPr>
          <p:cNvPr id="816" name="TextBox 21" descr=""/>
          <p:cNvPicPr/>
          <p:nvPr/>
        </p:nvPicPr>
        <p:blipFill>
          <a:blip r:embed="rId5"/>
          <a:stretch/>
        </p:blipFill>
        <p:spPr>
          <a:xfrm>
            <a:off x="566640" y="4743360"/>
            <a:ext cx="2505240" cy="712800"/>
          </a:xfrm>
          <a:prstGeom prst="rect">
            <a:avLst/>
          </a:prstGeom>
          <a:ln w="0">
            <a:noFill/>
          </a:ln>
        </p:spPr>
      </p:pic>
      <p:grpSp>
        <p:nvGrpSpPr>
          <p:cNvPr id="817" name="组合 26"/>
          <p:cNvGrpSpPr/>
          <p:nvPr/>
        </p:nvGrpSpPr>
        <p:grpSpPr>
          <a:xfrm>
            <a:off x="108000" y="2924280"/>
            <a:ext cx="9144000" cy="1439640"/>
            <a:chOff x="108000" y="2924280"/>
            <a:chExt cx="9144000" cy="1439640"/>
          </a:xfrm>
        </p:grpSpPr>
        <p:sp>
          <p:nvSpPr>
            <p:cNvPr id="818" name="椭圆 16"/>
            <p:cNvSpPr/>
            <p:nvPr/>
          </p:nvSpPr>
          <p:spPr>
            <a:xfrm>
              <a:off x="108000" y="407664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19" name="组合 7"/>
            <p:cNvGrpSpPr/>
            <p:nvPr/>
          </p:nvGrpSpPr>
          <p:grpSpPr>
            <a:xfrm>
              <a:off x="647280" y="2924280"/>
              <a:ext cx="8065080" cy="1224360"/>
              <a:chOff x="647280" y="2924280"/>
              <a:chExt cx="8065080" cy="1224360"/>
            </a:xfrm>
          </p:grpSpPr>
          <p:grpSp>
            <p:nvGrpSpPr>
              <p:cNvPr id="820" name="组合 8"/>
              <p:cNvGrpSpPr/>
              <p:nvPr/>
            </p:nvGrpSpPr>
            <p:grpSpPr>
              <a:xfrm>
                <a:off x="647280" y="2924280"/>
                <a:ext cx="8065080" cy="1224360"/>
                <a:chOff x="647280" y="2924280"/>
                <a:chExt cx="8065080" cy="1224360"/>
              </a:xfrm>
            </p:grpSpPr>
            <p:sp>
              <p:nvSpPr>
                <p:cNvPr id="821" name="圆角矩形 21"/>
                <p:cNvSpPr/>
                <p:nvPr/>
              </p:nvSpPr>
              <p:spPr>
                <a:xfrm>
                  <a:off x="647280" y="292428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22" name="对角圆角矩形 23"/>
                <p:cNvGrpSpPr/>
                <p:nvPr/>
              </p:nvGrpSpPr>
              <p:grpSpPr>
                <a:xfrm>
                  <a:off x="7937280" y="3456720"/>
                  <a:ext cx="761760" cy="676800"/>
                  <a:chOff x="7937280" y="3456720"/>
                  <a:chExt cx="761760" cy="676800"/>
                </a:xfrm>
              </p:grpSpPr>
              <p:pic>
                <p:nvPicPr>
                  <p:cNvPr id="823" name="对角圆角矩形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37280" y="3456720"/>
                    <a:ext cx="761760" cy="6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4" name=""/>
                  <p:cNvSpPr/>
                  <p:nvPr/>
                </p:nvSpPr>
                <p:spPr>
                  <a:xfrm>
                    <a:off x="7957440" y="347868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25" name="TextBox 19"/>
              <p:cNvSpPr/>
              <p:nvPr/>
            </p:nvSpPr>
            <p:spPr>
              <a:xfrm>
                <a:off x="791640" y="292428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6" name="矩形 20"/>
              <p:cNvSpPr/>
              <p:nvPr/>
            </p:nvSpPr>
            <p:spPr>
              <a:xfrm>
                <a:off x="3213000" y="301140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27" name="组合 25"/>
          <p:cNvGrpSpPr/>
          <p:nvPr/>
        </p:nvGrpSpPr>
        <p:grpSpPr>
          <a:xfrm>
            <a:off x="108000" y="4292640"/>
            <a:ext cx="9144000" cy="1440000"/>
            <a:chOff x="108000" y="4292640"/>
            <a:chExt cx="9144000" cy="1440000"/>
          </a:xfrm>
        </p:grpSpPr>
        <p:sp>
          <p:nvSpPr>
            <p:cNvPr id="828" name="椭圆 28"/>
            <p:cNvSpPr/>
            <p:nvPr/>
          </p:nvSpPr>
          <p:spPr>
            <a:xfrm>
              <a:off x="108000" y="5445360"/>
              <a:ext cx="9144000" cy="287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7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29" name="组合 19"/>
            <p:cNvGrpSpPr/>
            <p:nvPr/>
          </p:nvGrpSpPr>
          <p:grpSpPr>
            <a:xfrm>
              <a:off x="647280" y="4292640"/>
              <a:ext cx="8065080" cy="1224360"/>
              <a:chOff x="647280" y="4292640"/>
              <a:chExt cx="8065080" cy="1224360"/>
            </a:xfrm>
          </p:grpSpPr>
          <p:grpSp>
            <p:nvGrpSpPr>
              <p:cNvPr id="830" name="组合 20"/>
              <p:cNvGrpSpPr/>
              <p:nvPr/>
            </p:nvGrpSpPr>
            <p:grpSpPr>
              <a:xfrm>
                <a:off x="647280" y="4292640"/>
                <a:ext cx="8065080" cy="1224360"/>
                <a:chOff x="647280" y="4292640"/>
                <a:chExt cx="8065080" cy="1224360"/>
              </a:xfrm>
            </p:grpSpPr>
            <p:sp>
              <p:nvSpPr>
                <p:cNvPr id="831" name="圆角矩形 33"/>
                <p:cNvSpPr/>
                <p:nvPr/>
              </p:nvSpPr>
              <p:spPr>
                <a:xfrm>
                  <a:off x="647280" y="4292640"/>
                  <a:ext cx="8065080" cy="1224360"/>
                </a:xfrm>
                <a:prstGeom prst="roundRect">
                  <a:avLst>
                    <a:gd name="adj" fmla="val 7319"/>
                  </a:avLst>
                </a:prstGeom>
                <a:solidFill>
                  <a:srgbClr val="ffffff"/>
                </a:solidFill>
                <a:ln w="324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832" name="对角圆角矩形 34"/>
                <p:cNvGrpSpPr/>
                <p:nvPr/>
              </p:nvGrpSpPr>
              <p:grpSpPr>
                <a:xfrm>
                  <a:off x="7937280" y="4828320"/>
                  <a:ext cx="761760" cy="670680"/>
                  <a:chOff x="7937280" y="4828320"/>
                  <a:chExt cx="761760" cy="670680"/>
                </a:xfrm>
              </p:grpSpPr>
              <p:pic>
                <p:nvPicPr>
                  <p:cNvPr id="833" name="对角圆角矩形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37280" y="4828320"/>
                    <a:ext cx="761760" cy="6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4" name=""/>
                  <p:cNvSpPr/>
                  <p:nvPr/>
                </p:nvSpPr>
                <p:spPr>
                  <a:xfrm>
                    <a:off x="7957440" y="4847040"/>
                    <a:ext cx="721080" cy="63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35" name="TextBox 31"/>
              <p:cNvSpPr/>
              <p:nvPr/>
            </p:nvSpPr>
            <p:spPr>
              <a:xfrm>
                <a:off x="791640" y="4292640"/>
                <a:ext cx="266400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微软雅黑"/>
                    <a:ea typeface="微软雅黑"/>
                  </a:rPr>
                  <a:t>XXXX</a:t>
                </a:r>
                <a:r>
                  <a:rPr b="0" lang="zh-CN" sz="2400" spc="-1" strike="noStrike">
                    <a:solidFill>
                      <a:srgbClr val="262626"/>
                    </a:solidFill>
                    <a:latin typeface="Mistral"/>
                    <a:ea typeface="微软雅黑"/>
                  </a:rPr>
                  <a:t>：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6" name="矩形 32"/>
              <p:cNvSpPr/>
              <p:nvPr/>
            </p:nvSpPr>
            <p:spPr>
              <a:xfrm>
                <a:off x="3213000" y="4379760"/>
                <a:ext cx="5472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XXXXXXXXXXXXXXXXXXXXXXXXXXX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8" name="圆角矩形 14" descr=""/>
          <p:cNvPicPr/>
          <p:nvPr/>
        </p:nvPicPr>
        <p:blipFill>
          <a:blip r:embed="rId1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839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840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41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842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3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44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5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6" name="Picture 12" descr="图片1"/>
          <p:cNvPicPr/>
          <p:nvPr/>
        </p:nvPicPr>
        <p:blipFill>
          <a:blip r:embed="rId4"/>
          <a:stretch/>
        </p:blipFill>
        <p:spPr>
          <a:xfrm>
            <a:off x="428760" y="2357280"/>
            <a:ext cx="8485200" cy="3515040"/>
          </a:xfrm>
          <a:prstGeom prst="rect">
            <a:avLst/>
          </a:prstGeom>
          <a:ln w="0">
            <a:noFill/>
          </a:ln>
        </p:spPr>
      </p:pic>
      <p:grpSp>
        <p:nvGrpSpPr>
          <p:cNvPr id="847" name="组合 13"/>
          <p:cNvGrpSpPr/>
          <p:nvPr/>
        </p:nvGrpSpPr>
        <p:grpSpPr>
          <a:xfrm>
            <a:off x="636480" y="2714760"/>
            <a:ext cx="8007120" cy="438840"/>
            <a:chOff x="636480" y="2714760"/>
            <a:chExt cx="8007120" cy="438840"/>
          </a:xfrm>
        </p:grpSpPr>
        <p:grpSp>
          <p:nvGrpSpPr>
            <p:cNvPr id="848" name="组合 64"/>
            <p:cNvGrpSpPr/>
            <p:nvPr/>
          </p:nvGrpSpPr>
          <p:grpSpPr>
            <a:xfrm>
              <a:off x="636480" y="2714760"/>
              <a:ext cx="2519640" cy="421920"/>
              <a:chOff x="636480" y="2714760"/>
              <a:chExt cx="2519640" cy="421920"/>
            </a:xfrm>
          </p:grpSpPr>
          <p:sp>
            <p:nvSpPr>
              <p:cNvPr id="849" name="同侧圆角矩形 23"/>
              <p:cNvSpPr/>
              <p:nvPr/>
            </p:nvSpPr>
            <p:spPr>
              <a:xfrm rot="16200000">
                <a:off x="1500480" y="1850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55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55"/>
                    </a:lnTo>
                    <a:lnTo>
                      <a:pt x="793417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50" name="TextBox 11"/>
              <p:cNvSpPr/>
              <p:nvPr/>
            </p:nvSpPr>
            <p:spPr>
              <a:xfrm>
                <a:off x="852120" y="2736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51" name="组合 69"/>
            <p:cNvGrpSpPr/>
            <p:nvPr/>
          </p:nvGrpSpPr>
          <p:grpSpPr>
            <a:xfrm>
              <a:off x="2714400" y="2718360"/>
              <a:ext cx="5929200" cy="435240"/>
              <a:chOff x="2714400" y="2718360"/>
              <a:chExt cx="5929200" cy="435240"/>
            </a:xfrm>
          </p:grpSpPr>
          <p:sp>
            <p:nvSpPr>
              <p:cNvPr id="852" name="同侧圆角矩形 17"/>
              <p:cNvSpPr/>
              <p:nvPr/>
            </p:nvSpPr>
            <p:spPr>
              <a:xfrm flipV="1" rot="16200000">
                <a:off x="5503680" y="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0659" h="5858029">
                    <a:moveTo>
                      <a:pt x="131779" y="0"/>
                    </a:moveTo>
                    <a:lnTo>
                      <a:pt x="658880" y="0"/>
                    </a:lnTo>
                    <a:cubicBezTo>
                      <a:pt x="731660" y="0"/>
                      <a:pt x="790659" y="58999"/>
                      <a:pt x="790659" y="131779"/>
                    </a:cubicBezTo>
                    <a:lnTo>
                      <a:pt x="790659" y="5858029"/>
                    </a:lnTo>
                    <a:lnTo>
                      <a:pt x="79065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53" name="对角圆角矩形 18"/>
              <p:cNvGrpSpPr/>
              <p:nvPr/>
            </p:nvGrpSpPr>
            <p:grpSpPr>
              <a:xfrm>
                <a:off x="7925040" y="2876760"/>
                <a:ext cx="670320" cy="268920"/>
                <a:chOff x="7925040" y="2876760"/>
                <a:chExt cx="670320" cy="268920"/>
              </a:xfrm>
            </p:grpSpPr>
            <p:pic>
              <p:nvPicPr>
                <p:cNvPr id="854" name="对角圆角矩形 18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925040" y="28767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"/>
                <p:cNvSpPr/>
                <p:nvPr/>
              </p:nvSpPr>
              <p:spPr>
                <a:xfrm>
                  <a:off x="7941600" y="289584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56" name="TextBox 12"/>
              <p:cNvSpPr/>
              <p:nvPr/>
            </p:nvSpPr>
            <p:spPr>
              <a:xfrm>
                <a:off x="2714400" y="2785320"/>
                <a:ext cx="426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57" name="组合 28"/>
          <p:cNvGrpSpPr/>
          <p:nvPr/>
        </p:nvGrpSpPr>
        <p:grpSpPr>
          <a:xfrm>
            <a:off x="636480" y="3071880"/>
            <a:ext cx="8007480" cy="642960"/>
            <a:chOff x="636480" y="3071880"/>
            <a:chExt cx="8007480" cy="642960"/>
          </a:xfrm>
        </p:grpSpPr>
        <p:grpSp>
          <p:nvGrpSpPr>
            <p:cNvPr id="858" name="组合 64"/>
            <p:cNvGrpSpPr/>
            <p:nvPr/>
          </p:nvGrpSpPr>
          <p:grpSpPr>
            <a:xfrm>
              <a:off x="636480" y="3071880"/>
              <a:ext cx="2519640" cy="642960"/>
              <a:chOff x="636480" y="3071880"/>
              <a:chExt cx="2519640" cy="642960"/>
            </a:xfrm>
          </p:grpSpPr>
          <p:sp>
            <p:nvSpPr>
              <p:cNvPr id="859" name="同侧圆角矩形 34"/>
              <p:cNvSpPr/>
              <p:nvPr/>
            </p:nvSpPr>
            <p:spPr>
              <a:xfrm rot="16200000">
                <a:off x="1389960" y="231840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55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55"/>
                    </a:lnTo>
                    <a:lnTo>
                      <a:pt x="120954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0" name="TextBox 11"/>
              <p:cNvSpPr/>
              <p:nvPr/>
            </p:nvSpPr>
            <p:spPr>
              <a:xfrm>
                <a:off x="852120" y="318132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61" name="组合 69"/>
            <p:cNvGrpSpPr/>
            <p:nvPr/>
          </p:nvGrpSpPr>
          <p:grpSpPr>
            <a:xfrm>
              <a:off x="2786040" y="3162960"/>
              <a:ext cx="5857920" cy="429120"/>
              <a:chOff x="2786040" y="3162960"/>
              <a:chExt cx="5857920" cy="429120"/>
            </a:xfrm>
          </p:grpSpPr>
          <p:sp>
            <p:nvSpPr>
              <p:cNvPr id="862" name="同侧圆角矩形 31"/>
              <p:cNvSpPr/>
              <p:nvPr/>
            </p:nvSpPr>
            <p:spPr>
              <a:xfrm flipV="1" rot="16200000">
                <a:off x="5503320" y="444960"/>
                <a:ext cx="423000" cy="5857920"/>
              </a:xfrm>
              <a:custGeom>
                <a:avLst/>
                <a:gdLst/>
                <a:ahLst/>
                <a:rect l="l" t="t" r="r" b="b"/>
                <a:pathLst>
                  <a:path w="791660" h="5858030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30"/>
                    </a:lnTo>
                    <a:lnTo>
                      <a:pt x="791660" y="5858030"/>
                    </a:lnTo>
                    <a:lnTo>
                      <a:pt x="0" y="5858030"/>
                    </a:lnTo>
                    <a:lnTo>
                      <a:pt x="0" y="5858030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63" name="对角圆角矩形 32"/>
              <p:cNvGrpSpPr/>
              <p:nvPr/>
            </p:nvGrpSpPr>
            <p:grpSpPr>
              <a:xfrm>
                <a:off x="7925040" y="3322440"/>
                <a:ext cx="670320" cy="269640"/>
                <a:chOff x="7925040" y="3322440"/>
                <a:chExt cx="670320" cy="269640"/>
              </a:xfrm>
            </p:grpSpPr>
            <p:pic>
              <p:nvPicPr>
                <p:cNvPr id="864" name="对角圆角矩形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25040" y="3322440"/>
                  <a:ext cx="67032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5" name=""/>
                <p:cNvSpPr/>
                <p:nvPr/>
              </p:nvSpPr>
              <p:spPr>
                <a:xfrm>
                  <a:off x="7941600" y="3341160"/>
                  <a:ext cx="63756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66" name="TextBox 12"/>
              <p:cNvSpPr/>
              <p:nvPr/>
            </p:nvSpPr>
            <p:spPr>
              <a:xfrm>
                <a:off x="3357360" y="3214080"/>
                <a:ext cx="426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Verdana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67" name="组合 36"/>
          <p:cNvGrpSpPr/>
          <p:nvPr/>
        </p:nvGrpSpPr>
        <p:grpSpPr>
          <a:xfrm>
            <a:off x="636480" y="3571920"/>
            <a:ext cx="8007480" cy="433440"/>
            <a:chOff x="636480" y="3571920"/>
            <a:chExt cx="8007480" cy="433440"/>
          </a:xfrm>
        </p:grpSpPr>
        <p:grpSp>
          <p:nvGrpSpPr>
            <p:cNvPr id="868" name="组合 64"/>
            <p:cNvGrpSpPr/>
            <p:nvPr/>
          </p:nvGrpSpPr>
          <p:grpSpPr>
            <a:xfrm>
              <a:off x="636480" y="3571920"/>
              <a:ext cx="2519640" cy="421920"/>
              <a:chOff x="636480" y="3571920"/>
              <a:chExt cx="2519640" cy="421920"/>
            </a:xfrm>
          </p:grpSpPr>
          <p:sp>
            <p:nvSpPr>
              <p:cNvPr id="869" name="同侧圆角矩形 43"/>
              <p:cNvSpPr/>
              <p:nvPr/>
            </p:nvSpPr>
            <p:spPr>
              <a:xfrm rot="16200000">
                <a:off x="1500480" y="270792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55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55"/>
                    </a:lnTo>
                    <a:lnTo>
                      <a:pt x="793325" y="2149855"/>
                    </a:lnTo>
                    <a:lnTo>
                      <a:pt x="0" y="2149855"/>
                    </a:lnTo>
                    <a:lnTo>
                      <a:pt x="0" y="2149855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0" name="TextBox 11"/>
              <p:cNvSpPr/>
              <p:nvPr/>
            </p:nvSpPr>
            <p:spPr>
              <a:xfrm>
                <a:off x="852120" y="359388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1" name="组合 69"/>
            <p:cNvGrpSpPr/>
            <p:nvPr/>
          </p:nvGrpSpPr>
          <p:grpSpPr>
            <a:xfrm>
              <a:off x="2786040" y="3575880"/>
              <a:ext cx="5857920" cy="429480"/>
              <a:chOff x="2786040" y="3575880"/>
              <a:chExt cx="5857920" cy="429480"/>
            </a:xfrm>
          </p:grpSpPr>
          <p:sp>
            <p:nvSpPr>
              <p:cNvPr id="872" name="同侧圆角矩形 40"/>
              <p:cNvSpPr/>
              <p:nvPr/>
            </p:nvSpPr>
            <p:spPr>
              <a:xfrm flipV="1" rot="16200000">
                <a:off x="5504040" y="857880"/>
                <a:ext cx="421920" cy="5857920"/>
              </a:xfrm>
              <a:custGeom>
                <a:avLst/>
                <a:gdLst/>
                <a:ahLst/>
                <a:rect l="l" t="t" r="r" b="b"/>
                <a:pathLst>
                  <a:path w="790569" h="5858029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029"/>
                    </a:lnTo>
                    <a:lnTo>
                      <a:pt x="790569" y="5858029"/>
                    </a:lnTo>
                    <a:lnTo>
                      <a:pt x="0" y="5858029"/>
                    </a:lnTo>
                    <a:lnTo>
                      <a:pt x="0" y="5858029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73" name="对角圆角矩形 41"/>
              <p:cNvGrpSpPr/>
              <p:nvPr/>
            </p:nvGrpSpPr>
            <p:grpSpPr>
              <a:xfrm>
                <a:off x="7925040" y="3736440"/>
                <a:ext cx="670320" cy="268920"/>
                <a:chOff x="7925040" y="3736440"/>
                <a:chExt cx="670320" cy="268920"/>
              </a:xfrm>
            </p:grpSpPr>
            <p:pic>
              <p:nvPicPr>
                <p:cNvPr id="874" name="对角圆角矩形 4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925040" y="373644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>
                  <a:off x="7941600" y="375336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76" name="TextBox 12"/>
              <p:cNvSpPr/>
              <p:nvPr/>
            </p:nvSpPr>
            <p:spPr>
              <a:xfrm>
                <a:off x="3428640" y="3630960"/>
                <a:ext cx="519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877" name="TextBox 21" descr=""/>
          <p:cNvPicPr/>
          <p:nvPr/>
        </p:nvPicPr>
        <p:blipFill>
          <a:blip r:embed="rId8"/>
          <a:stretch/>
        </p:blipFill>
        <p:spPr>
          <a:xfrm>
            <a:off x="841320" y="2981160"/>
            <a:ext cx="1871640" cy="1030320"/>
          </a:xfrm>
          <a:prstGeom prst="rect">
            <a:avLst/>
          </a:prstGeom>
          <a:ln w="0">
            <a:noFill/>
          </a:ln>
        </p:spPr>
      </p:pic>
      <p:grpSp>
        <p:nvGrpSpPr>
          <p:cNvPr id="878" name="组合 69"/>
          <p:cNvGrpSpPr/>
          <p:nvPr/>
        </p:nvGrpSpPr>
        <p:grpSpPr>
          <a:xfrm>
            <a:off x="642960" y="4352760"/>
            <a:ext cx="8143920" cy="438840"/>
            <a:chOff x="642960" y="4352760"/>
            <a:chExt cx="8143920" cy="438840"/>
          </a:xfrm>
        </p:grpSpPr>
        <p:grpSp>
          <p:nvGrpSpPr>
            <p:cNvPr id="879" name="组合 64"/>
            <p:cNvGrpSpPr/>
            <p:nvPr/>
          </p:nvGrpSpPr>
          <p:grpSpPr>
            <a:xfrm>
              <a:off x="642960" y="4352760"/>
              <a:ext cx="2519640" cy="421920"/>
              <a:chOff x="642960" y="4352760"/>
              <a:chExt cx="2519640" cy="421920"/>
            </a:xfrm>
          </p:grpSpPr>
          <p:sp>
            <p:nvSpPr>
              <p:cNvPr id="880" name="同侧圆角矩形 75"/>
              <p:cNvSpPr/>
              <p:nvPr/>
            </p:nvSpPr>
            <p:spPr>
              <a:xfrm rot="16200000">
                <a:off x="1506960" y="348876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417" h="2149872">
                    <a:moveTo>
                      <a:pt x="132239" y="0"/>
                    </a:moveTo>
                    <a:lnTo>
                      <a:pt x="661178" y="0"/>
                    </a:lnTo>
                    <a:cubicBezTo>
                      <a:pt x="734212" y="0"/>
                      <a:pt x="793417" y="59205"/>
                      <a:pt x="793417" y="132239"/>
                    </a:cubicBezTo>
                    <a:lnTo>
                      <a:pt x="793417" y="2149872"/>
                    </a:lnTo>
                    <a:lnTo>
                      <a:pt x="793417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132239"/>
                    </a:lnTo>
                    <a:cubicBezTo>
                      <a:pt x="0" y="59205"/>
                      <a:pt x="59205" y="0"/>
                      <a:pt x="132239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1" name="TextBox 11"/>
              <p:cNvSpPr/>
              <p:nvPr/>
            </p:nvSpPr>
            <p:spPr>
              <a:xfrm>
                <a:off x="858600" y="437472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82" name="组合 69"/>
            <p:cNvGrpSpPr/>
            <p:nvPr/>
          </p:nvGrpSpPr>
          <p:grpSpPr>
            <a:xfrm>
              <a:off x="2649600" y="4356360"/>
              <a:ext cx="6137280" cy="435240"/>
              <a:chOff x="2649600" y="4356360"/>
              <a:chExt cx="6137280" cy="435240"/>
            </a:xfrm>
          </p:grpSpPr>
          <p:sp>
            <p:nvSpPr>
              <p:cNvPr id="883" name="同侧圆角矩形 72"/>
              <p:cNvSpPr/>
              <p:nvPr/>
            </p:nvSpPr>
            <p:spPr>
              <a:xfrm flipV="1" rot="16200000">
                <a:off x="5510160" y="1637640"/>
                <a:ext cx="421560" cy="5857920"/>
              </a:xfrm>
              <a:custGeom>
                <a:avLst/>
                <a:gdLst/>
                <a:ahLst/>
                <a:rect l="l" t="t" r="r" b="b"/>
                <a:pathLst>
                  <a:path w="790657" h="5858073">
                    <a:moveTo>
                      <a:pt x="131779" y="0"/>
                    </a:moveTo>
                    <a:lnTo>
                      <a:pt x="658878" y="0"/>
                    </a:lnTo>
                    <a:cubicBezTo>
                      <a:pt x="731658" y="0"/>
                      <a:pt x="790657" y="58999"/>
                      <a:pt x="790657" y="131779"/>
                    </a:cubicBezTo>
                    <a:lnTo>
                      <a:pt x="790657" y="5858073"/>
                    </a:lnTo>
                    <a:lnTo>
                      <a:pt x="790657" y="5858073"/>
                    </a:lnTo>
                    <a:lnTo>
                      <a:pt x="0" y="5858073"/>
                    </a:lnTo>
                    <a:lnTo>
                      <a:pt x="0" y="5858073"/>
                    </a:lnTo>
                    <a:lnTo>
                      <a:pt x="0" y="131779"/>
                    </a:lnTo>
                    <a:cubicBezTo>
                      <a:pt x="0" y="58999"/>
                      <a:pt x="58999" y="0"/>
                      <a:pt x="13177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84" name="对角圆角矩形 73"/>
              <p:cNvGrpSpPr/>
              <p:nvPr/>
            </p:nvGrpSpPr>
            <p:grpSpPr>
              <a:xfrm>
                <a:off x="7931160" y="4516560"/>
                <a:ext cx="670320" cy="268920"/>
                <a:chOff x="7931160" y="4516560"/>
                <a:chExt cx="670320" cy="268920"/>
              </a:xfrm>
            </p:grpSpPr>
            <p:pic>
              <p:nvPicPr>
                <p:cNvPr id="885" name="对角圆角矩形 7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31160" y="4516560"/>
                  <a:ext cx="670320" cy="26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6" name=""/>
                <p:cNvSpPr/>
                <p:nvPr/>
              </p:nvSpPr>
              <p:spPr>
                <a:xfrm>
                  <a:off x="7947720" y="4534200"/>
                  <a:ext cx="63756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7" name="TextBox 12"/>
              <p:cNvSpPr/>
              <p:nvPr/>
            </p:nvSpPr>
            <p:spPr>
              <a:xfrm>
                <a:off x="2649600" y="4423320"/>
                <a:ext cx="613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88" name="组合 77"/>
          <p:cNvGrpSpPr/>
          <p:nvPr/>
        </p:nvGrpSpPr>
        <p:grpSpPr>
          <a:xfrm>
            <a:off x="642960" y="4710240"/>
            <a:ext cx="8143920" cy="642960"/>
            <a:chOff x="642960" y="4710240"/>
            <a:chExt cx="8143920" cy="642960"/>
          </a:xfrm>
        </p:grpSpPr>
        <p:grpSp>
          <p:nvGrpSpPr>
            <p:cNvPr id="889" name="组合 64"/>
            <p:cNvGrpSpPr/>
            <p:nvPr/>
          </p:nvGrpSpPr>
          <p:grpSpPr>
            <a:xfrm>
              <a:off x="642960" y="4710240"/>
              <a:ext cx="2519640" cy="642960"/>
              <a:chOff x="642960" y="4710240"/>
              <a:chExt cx="2519640" cy="642960"/>
            </a:xfrm>
          </p:grpSpPr>
          <p:sp>
            <p:nvSpPr>
              <p:cNvPr id="890" name="同侧圆角矩形 83"/>
              <p:cNvSpPr/>
              <p:nvPr/>
            </p:nvSpPr>
            <p:spPr>
              <a:xfrm rot="16200000">
                <a:off x="1396440" y="3956760"/>
                <a:ext cx="642960" cy="2149920"/>
              </a:xfrm>
              <a:custGeom>
                <a:avLst/>
                <a:gdLst/>
                <a:ahLst/>
                <a:rect l="l" t="t" r="r" b="b"/>
                <a:pathLst>
                  <a:path w="1209545" h="2149872">
                    <a:moveTo>
                      <a:pt x="201595" y="0"/>
                    </a:moveTo>
                    <a:lnTo>
                      <a:pt x="1007950" y="0"/>
                    </a:lnTo>
                    <a:cubicBezTo>
                      <a:pt x="1119288" y="0"/>
                      <a:pt x="1209545" y="90257"/>
                      <a:pt x="1209545" y="201595"/>
                    </a:cubicBezTo>
                    <a:lnTo>
                      <a:pt x="1209545" y="2149872"/>
                    </a:lnTo>
                    <a:lnTo>
                      <a:pt x="1209545" y="2149872"/>
                    </a:lnTo>
                    <a:lnTo>
                      <a:pt x="0" y="2149872"/>
                    </a:lnTo>
                    <a:lnTo>
                      <a:pt x="0" y="2149872"/>
                    </a:lnTo>
                    <a:lnTo>
                      <a:pt x="0" y="201595"/>
                    </a:lnTo>
                    <a:cubicBezTo>
                      <a:pt x="0" y="90257"/>
                      <a:pt x="90257" y="0"/>
                      <a:pt x="201595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TextBox 11"/>
              <p:cNvSpPr/>
              <p:nvPr/>
            </p:nvSpPr>
            <p:spPr>
              <a:xfrm>
                <a:off x="858600" y="4819680"/>
                <a:ext cx="23040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92" name="组合 69"/>
            <p:cNvGrpSpPr/>
            <p:nvPr/>
          </p:nvGrpSpPr>
          <p:grpSpPr>
            <a:xfrm>
              <a:off x="2714400" y="4801320"/>
              <a:ext cx="6072480" cy="429120"/>
              <a:chOff x="2714400" y="4801320"/>
              <a:chExt cx="6072480" cy="429120"/>
            </a:xfrm>
          </p:grpSpPr>
          <p:sp>
            <p:nvSpPr>
              <p:cNvPr id="893" name="同侧圆角矩形 80"/>
              <p:cNvSpPr/>
              <p:nvPr/>
            </p:nvSpPr>
            <p:spPr>
              <a:xfrm flipV="1" rot="16200000">
                <a:off x="5510160" y="2082600"/>
                <a:ext cx="421560" cy="5858280"/>
              </a:xfrm>
              <a:custGeom>
                <a:avLst/>
                <a:gdLst/>
                <a:ahLst/>
                <a:rect l="l" t="t" r="r" b="b"/>
                <a:pathLst>
                  <a:path w="791660" h="5858072">
                    <a:moveTo>
                      <a:pt x="131946" y="0"/>
                    </a:moveTo>
                    <a:lnTo>
                      <a:pt x="659714" y="0"/>
                    </a:lnTo>
                    <a:cubicBezTo>
                      <a:pt x="732586" y="0"/>
                      <a:pt x="791660" y="59074"/>
                      <a:pt x="791660" y="131946"/>
                    </a:cubicBezTo>
                    <a:lnTo>
                      <a:pt x="791660" y="5858072"/>
                    </a:lnTo>
                    <a:lnTo>
                      <a:pt x="791660" y="5858072"/>
                    </a:lnTo>
                    <a:lnTo>
                      <a:pt x="0" y="5858072"/>
                    </a:lnTo>
                    <a:lnTo>
                      <a:pt x="0" y="5858072"/>
                    </a:lnTo>
                    <a:lnTo>
                      <a:pt x="0" y="131946"/>
                    </a:lnTo>
                    <a:cubicBezTo>
                      <a:pt x="0" y="59074"/>
                      <a:pt x="59074" y="0"/>
                      <a:pt x="131946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894" name="对角圆角矩形 81"/>
              <p:cNvGrpSpPr/>
              <p:nvPr/>
            </p:nvGrpSpPr>
            <p:grpSpPr>
              <a:xfrm>
                <a:off x="7931160" y="4961880"/>
                <a:ext cx="670320" cy="268560"/>
                <a:chOff x="7931160" y="4961880"/>
                <a:chExt cx="670320" cy="268560"/>
              </a:xfrm>
            </p:grpSpPr>
            <p:pic>
              <p:nvPicPr>
                <p:cNvPr id="895" name="对角圆角矩形 8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31160" y="4961880"/>
                  <a:ext cx="670320" cy="268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>
                  <a:off x="7947720" y="4978800"/>
                  <a:ext cx="637560" cy="23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97" name="TextBox 12"/>
              <p:cNvSpPr/>
              <p:nvPr/>
            </p:nvSpPr>
            <p:spPr>
              <a:xfrm>
                <a:off x="2714400" y="4852440"/>
                <a:ext cx="6072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Verdana"/>
                  </a:rPr>
                  <a:t>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898" name="组合 85"/>
          <p:cNvGrpSpPr/>
          <p:nvPr/>
        </p:nvGrpSpPr>
        <p:grpSpPr>
          <a:xfrm>
            <a:off x="642960" y="5210280"/>
            <a:ext cx="8137440" cy="433440"/>
            <a:chOff x="642960" y="5210280"/>
            <a:chExt cx="8137440" cy="433440"/>
          </a:xfrm>
        </p:grpSpPr>
        <p:grpSp>
          <p:nvGrpSpPr>
            <p:cNvPr id="899" name="组合 64"/>
            <p:cNvGrpSpPr/>
            <p:nvPr/>
          </p:nvGrpSpPr>
          <p:grpSpPr>
            <a:xfrm>
              <a:off x="642960" y="5210280"/>
              <a:ext cx="2519640" cy="421920"/>
              <a:chOff x="642960" y="5210280"/>
              <a:chExt cx="2519640" cy="421920"/>
            </a:xfrm>
          </p:grpSpPr>
          <p:sp>
            <p:nvSpPr>
              <p:cNvPr id="900" name="同侧圆角矩形 91"/>
              <p:cNvSpPr/>
              <p:nvPr/>
            </p:nvSpPr>
            <p:spPr>
              <a:xfrm rot="16200000">
                <a:off x="1506960" y="4346280"/>
                <a:ext cx="421920" cy="2149920"/>
              </a:xfrm>
              <a:custGeom>
                <a:avLst/>
                <a:gdLst/>
                <a:ahLst/>
                <a:rect l="l" t="t" r="r" b="b"/>
                <a:pathLst>
                  <a:path w="793325" h="2149886">
                    <a:moveTo>
                      <a:pt x="132223" y="0"/>
                    </a:moveTo>
                    <a:lnTo>
                      <a:pt x="661102" y="0"/>
                    </a:lnTo>
                    <a:cubicBezTo>
                      <a:pt x="734127" y="0"/>
                      <a:pt x="793325" y="59198"/>
                      <a:pt x="793325" y="132223"/>
                    </a:cubicBezTo>
                    <a:lnTo>
                      <a:pt x="793325" y="2149886"/>
                    </a:lnTo>
                    <a:lnTo>
                      <a:pt x="793325" y="2149886"/>
                    </a:lnTo>
                    <a:lnTo>
                      <a:pt x="0" y="2149886"/>
                    </a:lnTo>
                    <a:lnTo>
                      <a:pt x="0" y="2149886"/>
                    </a:lnTo>
                    <a:lnTo>
                      <a:pt x="0" y="132223"/>
                    </a:lnTo>
                    <a:cubicBezTo>
                      <a:pt x="0" y="59198"/>
                      <a:pt x="59198" y="0"/>
                      <a:pt x="132223" y="0"/>
                    </a:cubicBezTo>
                    <a:close/>
                  </a:path>
                </a:pathLst>
              </a:custGeom>
              <a:solidFill>
                <a:srgbClr val="1d77c9"/>
              </a:soli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1" name="TextBox 11"/>
              <p:cNvSpPr/>
              <p:nvPr/>
            </p:nvSpPr>
            <p:spPr>
              <a:xfrm>
                <a:off x="858600" y="5232240"/>
                <a:ext cx="2304000" cy="36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2" name="组合 69"/>
            <p:cNvGrpSpPr/>
            <p:nvPr/>
          </p:nvGrpSpPr>
          <p:grpSpPr>
            <a:xfrm>
              <a:off x="2786040" y="5214240"/>
              <a:ext cx="5994360" cy="429480"/>
              <a:chOff x="2786040" y="5214240"/>
              <a:chExt cx="5994360" cy="429480"/>
            </a:xfrm>
          </p:grpSpPr>
          <p:sp>
            <p:nvSpPr>
              <p:cNvPr id="903" name="同侧圆角矩形 88"/>
              <p:cNvSpPr/>
              <p:nvPr/>
            </p:nvSpPr>
            <p:spPr>
              <a:xfrm flipV="1" rot="16200000">
                <a:off x="5510880" y="2495520"/>
                <a:ext cx="420480" cy="5857920"/>
              </a:xfrm>
              <a:custGeom>
                <a:avLst/>
                <a:gdLst/>
                <a:ahLst/>
                <a:rect l="l" t="t" r="r" b="b"/>
                <a:pathLst>
                  <a:path w="790569" h="5858114">
                    <a:moveTo>
                      <a:pt x="131764" y="0"/>
                    </a:moveTo>
                    <a:lnTo>
                      <a:pt x="658805" y="0"/>
                    </a:lnTo>
                    <a:cubicBezTo>
                      <a:pt x="731576" y="0"/>
                      <a:pt x="790569" y="58993"/>
                      <a:pt x="790569" y="131764"/>
                    </a:cubicBezTo>
                    <a:lnTo>
                      <a:pt x="790569" y="5858114"/>
                    </a:lnTo>
                    <a:lnTo>
                      <a:pt x="790569" y="5858114"/>
                    </a:lnTo>
                    <a:lnTo>
                      <a:pt x="0" y="5858114"/>
                    </a:lnTo>
                    <a:lnTo>
                      <a:pt x="0" y="5858114"/>
                    </a:lnTo>
                    <a:lnTo>
                      <a:pt x="0" y="131764"/>
                    </a:lnTo>
                    <a:cubicBezTo>
                      <a:pt x="0" y="58993"/>
                      <a:pt x="58993" y="0"/>
                      <a:pt x="13176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18900000"/>
              </a:gradFill>
              <a:ln w="0">
                <a:noFill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04" name="对角圆角矩形 89"/>
              <p:cNvGrpSpPr/>
              <p:nvPr/>
            </p:nvGrpSpPr>
            <p:grpSpPr>
              <a:xfrm>
                <a:off x="7930800" y="5375880"/>
                <a:ext cx="670320" cy="267840"/>
                <a:chOff x="7930800" y="5375880"/>
                <a:chExt cx="670320" cy="267840"/>
              </a:xfrm>
            </p:grpSpPr>
            <p:pic>
              <p:nvPicPr>
                <p:cNvPr id="905" name="对角圆角矩形 8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7930800" y="5375880"/>
                  <a:ext cx="670320" cy="267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7947360" y="5391360"/>
                  <a:ext cx="63756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907" name="TextBox 12"/>
              <p:cNvSpPr/>
              <p:nvPr/>
            </p:nvSpPr>
            <p:spPr>
              <a:xfrm>
                <a:off x="2786040" y="5268960"/>
                <a:ext cx="599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908" name="TextBox 21" descr=""/>
          <p:cNvPicPr/>
          <p:nvPr/>
        </p:nvPicPr>
        <p:blipFill>
          <a:blip r:embed="rId12"/>
          <a:stretch/>
        </p:blipFill>
        <p:spPr>
          <a:xfrm>
            <a:off x="646200" y="4705200"/>
            <a:ext cx="24256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图片 2" descr="方形立体小人锐普PPT论坛-098.JPG"/>
          <p:cNvPicPr/>
          <p:nvPr/>
        </p:nvPicPr>
        <p:blipFill>
          <a:blip r:embed="rId1"/>
          <a:srcRect l="31305" t="31522" r="32176" b="21725"/>
          <a:stretch/>
        </p:blipFill>
        <p:spPr>
          <a:xfrm rot="2522400">
            <a:off x="5581440" y="3257640"/>
            <a:ext cx="30970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910" name="组合 19"/>
          <p:cNvGrpSpPr/>
          <p:nvPr/>
        </p:nvGrpSpPr>
        <p:grpSpPr>
          <a:xfrm>
            <a:off x="500040" y="1943280"/>
            <a:ext cx="5926320" cy="1008000"/>
            <a:chOff x="500040" y="1943280"/>
            <a:chExt cx="5926320" cy="1008000"/>
          </a:xfrm>
        </p:grpSpPr>
        <p:sp>
          <p:nvSpPr>
            <p:cNvPr id="911" name="矩形标注 4"/>
            <p:cNvSpPr/>
            <p:nvPr/>
          </p:nvSpPr>
          <p:spPr>
            <a:xfrm>
              <a:off x="500040" y="1943280"/>
              <a:ext cx="5926320" cy="1008000"/>
            </a:xfrm>
            <a:prstGeom prst="wedgeRectCallout">
              <a:avLst>
                <a:gd name="adj1" fmla="val 34037"/>
                <a:gd name="adj2" fmla="val 82365"/>
              </a:avLst>
            </a:prstGeom>
            <a:solidFill>
              <a:srgbClr val="ff3c37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2" name="矩形 24"/>
            <p:cNvGrpSpPr/>
            <p:nvPr/>
          </p:nvGrpSpPr>
          <p:grpSpPr>
            <a:xfrm>
              <a:off x="657360" y="2054520"/>
              <a:ext cx="5632920" cy="798480"/>
              <a:chOff x="657360" y="2054520"/>
              <a:chExt cx="5632920" cy="798480"/>
            </a:xfrm>
          </p:grpSpPr>
          <p:pic>
            <p:nvPicPr>
              <p:cNvPr id="913" name="矩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657360" y="2054520"/>
                <a:ext cx="5632920" cy="79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Text Box 14"/>
              <p:cNvSpPr/>
              <p:nvPr/>
            </p:nvSpPr>
            <p:spPr>
              <a:xfrm>
                <a:off x="665280" y="2057400"/>
                <a:ext cx="5617080" cy="79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敬请各位专家领导批评指正！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0" name="组合 27"/>
          <p:cNvGrpSpPr/>
          <p:nvPr/>
        </p:nvGrpSpPr>
        <p:grpSpPr>
          <a:xfrm>
            <a:off x="770040" y="2181240"/>
            <a:ext cx="1724040" cy="1349280"/>
            <a:chOff x="770040" y="2181240"/>
            <a:chExt cx="1724040" cy="1349280"/>
          </a:xfrm>
        </p:grpSpPr>
        <p:sp>
          <p:nvSpPr>
            <p:cNvPr id="551" name="圆角矩形标注 40"/>
            <p:cNvSpPr/>
            <p:nvPr/>
          </p:nvSpPr>
          <p:spPr>
            <a:xfrm>
              <a:off x="895320" y="2181240"/>
              <a:ext cx="159876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52" name="同侧圆角矩形 19"/>
            <p:cNvGrpSpPr/>
            <p:nvPr/>
          </p:nvGrpSpPr>
          <p:grpSpPr>
            <a:xfrm>
              <a:off x="1126800" y="2252880"/>
              <a:ext cx="1141920" cy="499680"/>
              <a:chOff x="1126800" y="2252880"/>
              <a:chExt cx="1141920" cy="499680"/>
            </a:xfrm>
          </p:grpSpPr>
          <p:pic>
            <p:nvPicPr>
              <p:cNvPr id="553" name="同侧圆角矩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2296080"/>
                <a:ext cx="1071720" cy="4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6800" y="2252880"/>
                <a:ext cx="1073520" cy="499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TextBox 20"/>
            <p:cNvSpPr/>
            <p:nvPr/>
          </p:nvSpPr>
          <p:spPr>
            <a:xfrm>
              <a:off x="770040" y="28242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56" name="组合 54"/>
          <p:cNvGrpSpPr/>
          <p:nvPr/>
        </p:nvGrpSpPr>
        <p:grpSpPr>
          <a:xfrm>
            <a:off x="954000" y="4076640"/>
            <a:ext cx="1560600" cy="1096920"/>
            <a:chOff x="954000" y="4076640"/>
            <a:chExt cx="1560600" cy="1096920"/>
          </a:xfrm>
        </p:grpSpPr>
        <p:sp>
          <p:nvSpPr>
            <p:cNvPr id="557" name="圆角矩形标注 57"/>
            <p:cNvSpPr/>
            <p:nvPr/>
          </p:nvSpPr>
          <p:spPr>
            <a:xfrm>
              <a:off x="954000" y="4076640"/>
              <a:ext cx="1560600" cy="95724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ffc0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Text Box 32" descr=""/>
            <p:cNvPicPr/>
            <p:nvPr/>
          </p:nvPicPr>
          <p:blipFill>
            <a:blip r:embed="rId4"/>
            <a:stretch/>
          </p:blipFill>
          <p:spPr>
            <a:xfrm>
              <a:off x="1096920" y="4386240"/>
              <a:ext cx="114012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圆角矩形标注 59"/>
          <p:cNvSpPr/>
          <p:nvPr/>
        </p:nvSpPr>
        <p:spPr>
          <a:xfrm>
            <a:off x="3276720" y="2824200"/>
            <a:ext cx="5182920" cy="1612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Box 1"/>
          <p:cNvSpPr/>
          <p:nvPr/>
        </p:nvSpPr>
        <p:spPr>
          <a:xfrm>
            <a:off x="3276720" y="3133800"/>
            <a:ext cx="53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根据内容层级数选择左边的标题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层级较多的选择上边的，层级较少选择下边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请自行替换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2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圆角矩形标注 59"/>
          <p:cNvSpPr/>
          <p:nvPr/>
        </p:nvSpPr>
        <p:spPr>
          <a:xfrm>
            <a:off x="1258920" y="2997360"/>
            <a:ext cx="669780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1352520" y="3300480"/>
            <a:ext cx="638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母版里请自行更换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、校训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矩形 52" descr=""/>
          <p:cNvPicPr/>
          <p:nvPr/>
        </p:nvPicPr>
        <p:blipFill>
          <a:blip r:embed="rId1"/>
          <a:stretch/>
        </p:blipFill>
        <p:spPr>
          <a:xfrm>
            <a:off x="1835280" y="768240"/>
            <a:ext cx="4505040" cy="1005120"/>
          </a:xfrm>
          <a:prstGeom prst="rect">
            <a:avLst/>
          </a:prstGeom>
          <a:ln w="0">
            <a:noFill/>
          </a:ln>
        </p:spPr>
      </p:pic>
      <p:sp>
        <p:nvSpPr>
          <p:cNvPr id="566" name="TextBox 53"/>
          <p:cNvSpPr/>
          <p:nvPr/>
        </p:nvSpPr>
        <p:spPr>
          <a:xfrm>
            <a:off x="3259440" y="949320"/>
            <a:ext cx="17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小贴士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圆角矩形标注 59"/>
          <p:cNvSpPr/>
          <p:nvPr/>
        </p:nvSpPr>
        <p:spPr>
          <a:xfrm>
            <a:off x="826920" y="2997360"/>
            <a:ext cx="7561440" cy="15318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Box 1"/>
          <p:cNvSpPr/>
          <p:nvPr/>
        </p:nvSpPr>
        <p:spPr>
          <a:xfrm>
            <a:off x="900000" y="3141720"/>
            <a:ext cx="7488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请根据自己的需求对内容进行增删与修改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微软雅黑"/>
              </a:rPr>
              <a:t>秋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矩形 52" descr=""/>
          <p:cNvPicPr/>
          <p:nvPr/>
        </p:nvPicPr>
        <p:blipFill>
          <a:blip r:embed="rId1"/>
          <a:stretch/>
        </p:blipFill>
        <p:spPr>
          <a:xfrm>
            <a:off x="-85680" y="500040"/>
            <a:ext cx="9388440" cy="1000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53"/>
          <p:cNvSpPr/>
          <p:nvPr/>
        </p:nvSpPr>
        <p:spPr>
          <a:xfrm>
            <a:off x="215640" y="773280"/>
            <a:ext cx="24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☞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主要内容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1" name="组合 43"/>
          <p:cNvGrpSpPr/>
          <p:nvPr/>
        </p:nvGrpSpPr>
        <p:grpSpPr>
          <a:xfrm>
            <a:off x="357120" y="3071880"/>
            <a:ext cx="2214720" cy="1361880"/>
            <a:chOff x="357120" y="3071880"/>
            <a:chExt cx="2214720" cy="1361880"/>
          </a:xfrm>
        </p:grpSpPr>
        <p:sp>
          <p:nvSpPr>
            <p:cNvPr id="572" name="椭圆 44"/>
            <p:cNvSpPr/>
            <p:nvPr/>
          </p:nvSpPr>
          <p:spPr>
            <a:xfrm>
              <a:off x="3571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73" name="组合 7"/>
            <p:cNvGrpSpPr/>
            <p:nvPr/>
          </p:nvGrpSpPr>
          <p:grpSpPr>
            <a:xfrm>
              <a:off x="614160" y="3116520"/>
              <a:ext cx="1957680" cy="1317240"/>
              <a:chOff x="614160" y="3116520"/>
              <a:chExt cx="1957680" cy="1317240"/>
            </a:xfrm>
          </p:grpSpPr>
          <p:sp>
            <p:nvSpPr>
              <p:cNvPr id="574" name="圆角矩形 48"/>
              <p:cNvSpPr/>
              <p:nvPr/>
            </p:nvSpPr>
            <p:spPr>
              <a:xfrm>
                <a:off x="61416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75" name="对角圆角矩形 53"/>
              <p:cNvGrpSpPr/>
              <p:nvPr/>
            </p:nvGrpSpPr>
            <p:grpSpPr>
              <a:xfrm>
                <a:off x="2214720" y="3486960"/>
                <a:ext cx="357120" cy="946800"/>
                <a:chOff x="2214720" y="3486960"/>
                <a:chExt cx="357120" cy="946800"/>
              </a:xfrm>
            </p:grpSpPr>
            <p:pic>
              <p:nvPicPr>
                <p:cNvPr id="576" name="对角圆角矩形 5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7" name="Text Box 16"/>
                <p:cNvSpPr/>
                <p:nvPr/>
              </p:nvSpPr>
              <p:spPr>
                <a:xfrm>
                  <a:off x="223056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78" name="椭圆 46"/>
            <p:cNvSpPr/>
            <p:nvPr/>
          </p:nvSpPr>
          <p:spPr>
            <a:xfrm>
              <a:off x="4284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椭圆 47"/>
            <p:cNvSpPr/>
            <p:nvPr/>
          </p:nvSpPr>
          <p:spPr>
            <a:xfrm>
              <a:off x="4284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0" name="组合 15"/>
          <p:cNvGrpSpPr/>
          <p:nvPr/>
        </p:nvGrpSpPr>
        <p:grpSpPr>
          <a:xfrm>
            <a:off x="2428920" y="3071880"/>
            <a:ext cx="2214360" cy="1361880"/>
            <a:chOff x="2428920" y="3071880"/>
            <a:chExt cx="2214360" cy="1361880"/>
          </a:xfrm>
        </p:grpSpPr>
        <p:sp>
          <p:nvSpPr>
            <p:cNvPr id="581" name="椭圆 4"/>
            <p:cNvSpPr/>
            <p:nvPr/>
          </p:nvSpPr>
          <p:spPr>
            <a:xfrm>
              <a:off x="24289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82" name="组合 7"/>
            <p:cNvGrpSpPr/>
            <p:nvPr/>
          </p:nvGrpSpPr>
          <p:grpSpPr>
            <a:xfrm>
              <a:off x="2685960" y="3116520"/>
              <a:ext cx="1957320" cy="1317240"/>
              <a:chOff x="2685960" y="3116520"/>
              <a:chExt cx="1957320" cy="1317240"/>
            </a:xfrm>
          </p:grpSpPr>
          <p:sp>
            <p:nvSpPr>
              <p:cNvPr id="583" name="圆角矩形 9"/>
              <p:cNvSpPr/>
              <p:nvPr/>
            </p:nvSpPr>
            <p:spPr>
              <a:xfrm>
                <a:off x="26859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84" name="对角圆角矩形 53"/>
              <p:cNvGrpSpPr/>
              <p:nvPr/>
            </p:nvGrpSpPr>
            <p:grpSpPr>
              <a:xfrm>
                <a:off x="4286160" y="3486960"/>
                <a:ext cx="357120" cy="946800"/>
                <a:chOff x="4286160" y="3486960"/>
                <a:chExt cx="357120" cy="946800"/>
              </a:xfrm>
            </p:grpSpPr>
            <p:pic>
              <p:nvPicPr>
                <p:cNvPr id="585" name="对角圆角矩形 5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861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6" name="Text Box 16"/>
                <p:cNvSpPr/>
                <p:nvPr/>
              </p:nvSpPr>
              <p:spPr>
                <a:xfrm>
                  <a:off x="43020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87" name="椭圆 6"/>
            <p:cNvSpPr/>
            <p:nvPr/>
          </p:nvSpPr>
          <p:spPr>
            <a:xfrm>
              <a:off x="25002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8" name="椭圆 7"/>
            <p:cNvSpPr/>
            <p:nvPr/>
          </p:nvSpPr>
          <p:spPr>
            <a:xfrm>
              <a:off x="25002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9" name="组合 16"/>
          <p:cNvGrpSpPr/>
          <p:nvPr/>
        </p:nvGrpSpPr>
        <p:grpSpPr>
          <a:xfrm>
            <a:off x="4500720" y="3071880"/>
            <a:ext cx="2214360" cy="1361880"/>
            <a:chOff x="4500720" y="3071880"/>
            <a:chExt cx="2214360" cy="1361880"/>
          </a:xfrm>
        </p:grpSpPr>
        <p:sp>
          <p:nvSpPr>
            <p:cNvPr id="590" name="椭圆 17"/>
            <p:cNvSpPr/>
            <p:nvPr/>
          </p:nvSpPr>
          <p:spPr>
            <a:xfrm>
              <a:off x="450072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91" name="组合 7"/>
            <p:cNvGrpSpPr/>
            <p:nvPr/>
          </p:nvGrpSpPr>
          <p:grpSpPr>
            <a:xfrm>
              <a:off x="4757760" y="3116520"/>
              <a:ext cx="1957320" cy="1317240"/>
              <a:chOff x="4757760" y="3116520"/>
              <a:chExt cx="1957320" cy="1317240"/>
            </a:xfrm>
          </p:grpSpPr>
          <p:sp>
            <p:nvSpPr>
              <p:cNvPr id="592" name="圆角矩形 21"/>
              <p:cNvSpPr/>
              <p:nvPr/>
            </p:nvSpPr>
            <p:spPr>
              <a:xfrm>
                <a:off x="4757760" y="3116520"/>
                <a:ext cx="195732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93" name="对角圆角矩形 53"/>
              <p:cNvGrpSpPr/>
              <p:nvPr/>
            </p:nvGrpSpPr>
            <p:grpSpPr>
              <a:xfrm>
                <a:off x="6357960" y="3486960"/>
                <a:ext cx="357120" cy="946800"/>
                <a:chOff x="6357960" y="3486960"/>
                <a:chExt cx="357120" cy="946800"/>
              </a:xfrm>
            </p:grpSpPr>
            <p:pic>
              <p:nvPicPr>
                <p:cNvPr id="594" name="对角圆角矩形 5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579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5" name="Text Box 16"/>
                <p:cNvSpPr/>
                <p:nvPr/>
              </p:nvSpPr>
              <p:spPr>
                <a:xfrm>
                  <a:off x="63738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96" name="椭圆 19"/>
            <p:cNvSpPr/>
            <p:nvPr/>
          </p:nvSpPr>
          <p:spPr>
            <a:xfrm>
              <a:off x="457200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7" name="椭圆 20"/>
            <p:cNvSpPr/>
            <p:nvPr/>
          </p:nvSpPr>
          <p:spPr>
            <a:xfrm>
              <a:off x="457200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8" name="组合 25"/>
          <p:cNvGrpSpPr/>
          <p:nvPr/>
        </p:nvGrpSpPr>
        <p:grpSpPr>
          <a:xfrm>
            <a:off x="6572160" y="3071880"/>
            <a:ext cx="2214720" cy="1361880"/>
            <a:chOff x="6572160" y="3071880"/>
            <a:chExt cx="2214720" cy="1361880"/>
          </a:xfrm>
        </p:grpSpPr>
        <p:sp>
          <p:nvSpPr>
            <p:cNvPr id="599" name="椭圆 26"/>
            <p:cNvSpPr/>
            <p:nvPr/>
          </p:nvSpPr>
          <p:spPr>
            <a:xfrm>
              <a:off x="6572160" y="3071880"/>
              <a:ext cx="585720" cy="5713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00" name="组合 7"/>
            <p:cNvGrpSpPr/>
            <p:nvPr/>
          </p:nvGrpSpPr>
          <p:grpSpPr>
            <a:xfrm>
              <a:off x="6829200" y="3116520"/>
              <a:ext cx="1957680" cy="1317240"/>
              <a:chOff x="6829200" y="3116520"/>
              <a:chExt cx="1957680" cy="1317240"/>
            </a:xfrm>
          </p:grpSpPr>
          <p:sp>
            <p:nvSpPr>
              <p:cNvPr id="601" name="圆角矩形 30"/>
              <p:cNvSpPr/>
              <p:nvPr/>
            </p:nvSpPr>
            <p:spPr>
              <a:xfrm>
                <a:off x="6829200" y="3116520"/>
                <a:ext cx="1957680" cy="1312560"/>
              </a:xfrm>
              <a:prstGeom prst="roundRect">
                <a:avLst>
                  <a:gd name="adj" fmla="val 7319"/>
                </a:avLst>
              </a:prstGeom>
              <a:solidFill>
                <a:srgbClr val="ffffff"/>
              </a:solidFill>
              <a:ln w="3240">
                <a:solidFill>
                  <a:srgbClr val="d9d9d9"/>
                </a:solidFill>
                <a:miter/>
              </a:ln>
              <a:effectLst>
                <a:outerShdw dist="38160" dir="54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602" name="对角圆角矩形 53"/>
              <p:cNvGrpSpPr/>
              <p:nvPr/>
            </p:nvGrpSpPr>
            <p:grpSpPr>
              <a:xfrm>
                <a:off x="8429760" y="3486960"/>
                <a:ext cx="357120" cy="946800"/>
                <a:chOff x="8429760" y="3486960"/>
                <a:chExt cx="357120" cy="946800"/>
              </a:xfrm>
            </p:grpSpPr>
            <p:pic>
              <p:nvPicPr>
                <p:cNvPr id="603" name="对角圆角矩形 5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29760" y="3714480"/>
                  <a:ext cx="357120" cy="7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04" name="Text Box 16"/>
                <p:cNvSpPr/>
                <p:nvPr/>
              </p:nvSpPr>
              <p:spPr>
                <a:xfrm>
                  <a:off x="8445600" y="3486960"/>
                  <a:ext cx="341280" cy="94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05" name="椭圆 28"/>
            <p:cNvSpPr/>
            <p:nvPr/>
          </p:nvSpPr>
          <p:spPr>
            <a:xfrm>
              <a:off x="6643440" y="3071880"/>
              <a:ext cx="5000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6" name="椭圆 29"/>
            <p:cNvSpPr/>
            <p:nvPr/>
          </p:nvSpPr>
          <p:spPr>
            <a:xfrm>
              <a:off x="6643440" y="3143160"/>
              <a:ext cx="500040" cy="500040"/>
            </a:xfrm>
            <a:prstGeom prst="ellipse">
              <a:avLst/>
            </a:prstGeom>
            <a:solidFill>
              <a:srgbClr val="ea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1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1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1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17" name="组合 4"/>
          <p:cNvGrpSpPr/>
          <p:nvPr/>
        </p:nvGrpSpPr>
        <p:grpSpPr>
          <a:xfrm>
            <a:off x="2340000" y="3286080"/>
            <a:ext cx="1919160" cy="1346400"/>
            <a:chOff x="2340000" y="3286080"/>
            <a:chExt cx="1919160" cy="1346400"/>
          </a:xfrm>
        </p:grpSpPr>
        <p:sp>
          <p:nvSpPr>
            <p:cNvPr id="618" name="椭圆 34"/>
            <p:cNvSpPr/>
            <p:nvPr/>
          </p:nvSpPr>
          <p:spPr>
            <a:xfrm>
              <a:off x="2340000" y="4137120"/>
              <a:ext cx="191916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椭圆形标注 35"/>
            <p:cNvSpPr/>
            <p:nvPr/>
          </p:nvSpPr>
          <p:spPr>
            <a:xfrm>
              <a:off x="2624040" y="3286080"/>
              <a:ext cx="1238400" cy="9892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椭圆 36"/>
            <p:cNvSpPr/>
            <p:nvPr/>
          </p:nvSpPr>
          <p:spPr>
            <a:xfrm>
              <a:off x="2714400" y="332568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1" name="TextBox 8"/>
            <p:cNvSpPr/>
            <p:nvPr/>
          </p:nvSpPr>
          <p:spPr>
            <a:xfrm>
              <a:off x="2727720" y="350352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2" name="组合 10"/>
          <p:cNvGrpSpPr/>
          <p:nvPr/>
        </p:nvGrpSpPr>
        <p:grpSpPr>
          <a:xfrm>
            <a:off x="3635280" y="2709720"/>
            <a:ext cx="2257560" cy="1584360"/>
            <a:chOff x="3635280" y="2709720"/>
            <a:chExt cx="2257560" cy="1584360"/>
          </a:xfrm>
        </p:grpSpPr>
        <p:sp>
          <p:nvSpPr>
            <p:cNvPr id="623" name="椭圆 39"/>
            <p:cNvSpPr/>
            <p:nvPr/>
          </p:nvSpPr>
          <p:spPr>
            <a:xfrm>
              <a:off x="3635280" y="3711600"/>
              <a:ext cx="2257560" cy="582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4" name="椭圆形标注 40"/>
            <p:cNvSpPr/>
            <p:nvPr/>
          </p:nvSpPr>
          <p:spPr>
            <a:xfrm>
              <a:off x="3968640" y="2709720"/>
              <a:ext cx="1457640" cy="11653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5" name="椭圆 41"/>
            <p:cNvSpPr/>
            <p:nvPr/>
          </p:nvSpPr>
          <p:spPr>
            <a:xfrm>
              <a:off x="4076640" y="2757240"/>
              <a:ext cx="1238400" cy="9460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6" name="TextBox 14"/>
            <p:cNvSpPr/>
            <p:nvPr/>
          </p:nvSpPr>
          <p:spPr>
            <a:xfrm>
              <a:off x="4070880" y="2977200"/>
              <a:ext cx="123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27" name="组合 15"/>
          <p:cNvGrpSpPr/>
          <p:nvPr/>
        </p:nvGrpSpPr>
        <p:grpSpPr>
          <a:xfrm>
            <a:off x="1908000" y="4365720"/>
            <a:ext cx="2087640" cy="1492200"/>
            <a:chOff x="1908000" y="4365720"/>
            <a:chExt cx="2087640" cy="1492200"/>
          </a:xfrm>
        </p:grpSpPr>
        <p:sp>
          <p:nvSpPr>
            <p:cNvPr id="628" name="椭圆 44"/>
            <p:cNvSpPr/>
            <p:nvPr/>
          </p:nvSpPr>
          <p:spPr>
            <a:xfrm>
              <a:off x="1908000" y="5308560"/>
              <a:ext cx="2087640" cy="549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9" name="椭圆形标注 45"/>
            <p:cNvSpPr/>
            <p:nvPr/>
          </p:nvSpPr>
          <p:spPr>
            <a:xfrm>
              <a:off x="2217600" y="4365720"/>
              <a:ext cx="1346400" cy="10969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0" name="椭圆 46"/>
            <p:cNvSpPr/>
            <p:nvPr/>
          </p:nvSpPr>
          <p:spPr>
            <a:xfrm>
              <a:off x="2315880" y="4410000"/>
              <a:ext cx="1144800" cy="89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1" name="TextBox 19"/>
            <p:cNvSpPr/>
            <p:nvPr/>
          </p:nvSpPr>
          <p:spPr>
            <a:xfrm>
              <a:off x="2299680" y="4606920"/>
              <a:ext cx="11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2" name="组合 35"/>
          <p:cNvGrpSpPr/>
          <p:nvPr/>
        </p:nvGrpSpPr>
        <p:grpSpPr>
          <a:xfrm>
            <a:off x="5219640" y="3429000"/>
            <a:ext cx="1919520" cy="1347840"/>
            <a:chOff x="5219640" y="3429000"/>
            <a:chExt cx="1919520" cy="1347840"/>
          </a:xfrm>
        </p:grpSpPr>
        <p:sp>
          <p:nvSpPr>
            <p:cNvPr id="633" name="椭圆 49"/>
            <p:cNvSpPr/>
            <p:nvPr/>
          </p:nvSpPr>
          <p:spPr>
            <a:xfrm>
              <a:off x="5219640" y="4281480"/>
              <a:ext cx="1919520" cy="495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4" name="椭圆形标注 50"/>
            <p:cNvSpPr/>
            <p:nvPr/>
          </p:nvSpPr>
          <p:spPr>
            <a:xfrm>
              <a:off x="5503680" y="3429000"/>
              <a:ext cx="1238400" cy="99072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5" name="椭圆 51"/>
            <p:cNvSpPr/>
            <p:nvPr/>
          </p:nvSpPr>
          <p:spPr>
            <a:xfrm>
              <a:off x="5594400" y="3468600"/>
              <a:ext cx="1052640" cy="804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6" name="TextBox 39"/>
            <p:cNvSpPr/>
            <p:nvPr/>
          </p:nvSpPr>
          <p:spPr>
            <a:xfrm>
              <a:off x="5607720" y="3645000"/>
              <a:ext cx="105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37" name="组合 30"/>
          <p:cNvGrpSpPr/>
          <p:nvPr/>
        </p:nvGrpSpPr>
        <p:grpSpPr>
          <a:xfrm>
            <a:off x="3276720" y="4294080"/>
            <a:ext cx="2460600" cy="1727280"/>
            <a:chOff x="3276720" y="4294080"/>
            <a:chExt cx="2460600" cy="1727280"/>
          </a:xfrm>
        </p:grpSpPr>
        <p:sp>
          <p:nvSpPr>
            <p:cNvPr id="638" name="椭圆 54"/>
            <p:cNvSpPr/>
            <p:nvPr/>
          </p:nvSpPr>
          <p:spPr>
            <a:xfrm>
              <a:off x="3276720" y="5386320"/>
              <a:ext cx="2460600" cy="635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椭圆形标注 55"/>
            <p:cNvSpPr/>
            <p:nvPr/>
          </p:nvSpPr>
          <p:spPr>
            <a:xfrm>
              <a:off x="3639960" y="4294080"/>
              <a:ext cx="1587600" cy="127008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椭圆 56"/>
            <p:cNvSpPr/>
            <p:nvPr/>
          </p:nvSpPr>
          <p:spPr>
            <a:xfrm>
              <a:off x="3757680" y="4344840"/>
              <a:ext cx="1349280" cy="1032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TextBox 57"/>
            <p:cNvSpPr/>
            <p:nvPr/>
          </p:nvSpPr>
          <p:spPr>
            <a:xfrm>
              <a:off x="3719520" y="4770360"/>
              <a:ext cx="13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42" name="组合 20"/>
          <p:cNvGrpSpPr/>
          <p:nvPr/>
        </p:nvGrpSpPr>
        <p:grpSpPr>
          <a:xfrm>
            <a:off x="4964040" y="4470480"/>
            <a:ext cx="2428920" cy="1704960"/>
            <a:chOff x="4964040" y="4470480"/>
            <a:chExt cx="2428920" cy="1704960"/>
          </a:xfrm>
        </p:grpSpPr>
        <p:sp>
          <p:nvSpPr>
            <p:cNvPr id="643" name="椭圆 59"/>
            <p:cNvSpPr/>
            <p:nvPr/>
          </p:nvSpPr>
          <p:spPr>
            <a:xfrm>
              <a:off x="4964040" y="5548320"/>
              <a:ext cx="2428920" cy="627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7058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椭圆形标注 60"/>
            <p:cNvSpPr/>
            <p:nvPr/>
          </p:nvSpPr>
          <p:spPr>
            <a:xfrm>
              <a:off x="5322600" y="4470480"/>
              <a:ext cx="1568520" cy="1254240"/>
            </a:xfrm>
            <a:prstGeom prst="wedgeEllipseCallout">
              <a:avLst>
                <a:gd name="adj1" fmla="val -37587"/>
                <a:gd name="adj2" fmla="val 59194"/>
              </a:avLst>
            </a:prstGeom>
            <a:solidFill>
              <a:srgbClr val="1ab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椭圆 61"/>
            <p:cNvSpPr/>
            <p:nvPr/>
          </p:nvSpPr>
          <p:spPr>
            <a:xfrm>
              <a:off x="5438520" y="4521240"/>
              <a:ext cx="1332000" cy="10177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TextBox 24"/>
            <p:cNvSpPr/>
            <p:nvPr/>
          </p:nvSpPr>
          <p:spPr>
            <a:xfrm>
              <a:off x="5471280" y="49320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48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0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51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52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3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54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5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6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57" name="组合 71"/>
          <p:cNvGrpSpPr/>
          <p:nvPr/>
        </p:nvGrpSpPr>
        <p:grpSpPr>
          <a:xfrm>
            <a:off x="1042920" y="2944800"/>
            <a:ext cx="3060720" cy="2787840"/>
            <a:chOff x="1042920" y="2944800"/>
            <a:chExt cx="3060720" cy="2787840"/>
          </a:xfrm>
        </p:grpSpPr>
        <p:pic>
          <p:nvPicPr>
            <p:cNvPr id="658" name="Picture 9" descr=""/>
            <p:cNvPicPr/>
            <p:nvPr/>
          </p:nvPicPr>
          <p:blipFill>
            <a:blip r:embed="rId5"/>
            <a:stretch/>
          </p:blipFill>
          <p:spPr>
            <a:xfrm>
              <a:off x="104292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9" name="组合 26"/>
            <p:cNvGrpSpPr/>
            <p:nvPr/>
          </p:nvGrpSpPr>
          <p:grpSpPr>
            <a:xfrm>
              <a:off x="1731960" y="3022560"/>
              <a:ext cx="2371680" cy="1625760"/>
              <a:chOff x="1731960" y="3022560"/>
              <a:chExt cx="2371680" cy="1625760"/>
            </a:xfrm>
          </p:grpSpPr>
          <p:sp>
            <p:nvSpPr>
              <p:cNvPr id="660" name="圆角矩形标注 75"/>
              <p:cNvSpPr/>
              <p:nvPr/>
            </p:nvSpPr>
            <p:spPr>
              <a:xfrm>
                <a:off x="1731960" y="3022560"/>
                <a:ext cx="237168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矩形 76"/>
              <p:cNvSpPr/>
              <p:nvPr/>
            </p:nvSpPr>
            <p:spPr>
              <a:xfrm>
                <a:off x="1957320" y="3514680"/>
                <a:ext cx="201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2" name="椭圆 74"/>
            <p:cNvSpPr/>
            <p:nvPr/>
          </p:nvSpPr>
          <p:spPr>
            <a:xfrm>
              <a:off x="1674720" y="29448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63" name="组合 77"/>
          <p:cNvGrpSpPr/>
          <p:nvPr/>
        </p:nvGrpSpPr>
        <p:grpSpPr>
          <a:xfrm>
            <a:off x="4960800" y="2874960"/>
            <a:ext cx="3214800" cy="2857680"/>
            <a:chOff x="4960800" y="2874960"/>
            <a:chExt cx="3214800" cy="2857680"/>
          </a:xfrm>
        </p:grpSpPr>
        <p:pic>
          <p:nvPicPr>
            <p:cNvPr id="664" name="Picture 9" descr=""/>
            <p:cNvPicPr/>
            <p:nvPr/>
          </p:nvPicPr>
          <p:blipFill>
            <a:blip r:embed="rId6"/>
            <a:stretch/>
          </p:blipFill>
          <p:spPr>
            <a:xfrm>
              <a:off x="4960800" y="4570560"/>
              <a:ext cx="1000080" cy="116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组合 27"/>
            <p:cNvGrpSpPr/>
            <p:nvPr/>
          </p:nvGrpSpPr>
          <p:grpSpPr>
            <a:xfrm>
              <a:off x="5675040" y="2963520"/>
              <a:ext cx="2500560" cy="1625760"/>
              <a:chOff x="5675040" y="2963520"/>
              <a:chExt cx="2500560" cy="1625760"/>
            </a:xfrm>
          </p:grpSpPr>
          <p:sp>
            <p:nvSpPr>
              <p:cNvPr id="666" name="椭圆形标注 16"/>
              <p:cNvSpPr/>
              <p:nvPr/>
            </p:nvSpPr>
            <p:spPr>
              <a:xfrm>
                <a:off x="5675040" y="2963520"/>
                <a:ext cx="2372040" cy="1625760"/>
              </a:xfrm>
              <a:prstGeom prst="wedgeRoundRectCallout">
                <a:avLst>
                  <a:gd name="adj1" fmla="val -20833"/>
                  <a:gd name="adj2" fmla="val 62500"/>
                  <a:gd name="adj3" fmla="val 16667"/>
                </a:avLst>
              </a:prstGeom>
              <a:noFill/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7" name="矩形 17"/>
              <p:cNvSpPr/>
              <p:nvPr/>
            </p:nvSpPr>
            <p:spPr>
              <a:xfrm>
                <a:off x="5746320" y="3499920"/>
                <a:ext cx="2429280" cy="397080"/>
              </a:xfrm>
              <a:prstGeom prst="wedgeRoundRectCallout">
                <a:avLst>
                  <a:gd name="adj1" fmla="val -20842"/>
                  <a:gd name="adj2" fmla="val 65486"/>
                  <a:gd name="adj3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XXXXXXXXXX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8" name="椭圆 80"/>
            <p:cNvSpPr/>
            <p:nvPr/>
          </p:nvSpPr>
          <p:spPr>
            <a:xfrm>
              <a:off x="595944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9" name="椭圆 81"/>
            <p:cNvSpPr/>
            <p:nvPr/>
          </p:nvSpPr>
          <p:spPr>
            <a:xfrm>
              <a:off x="5601960" y="28749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671" name="TextBox 3"/>
          <p:cNvSpPr/>
          <p:nvPr/>
        </p:nvSpPr>
        <p:spPr>
          <a:xfrm>
            <a:off x="3094200" y="1333440"/>
            <a:ext cx="61927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67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67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67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TextBox 20"/>
            <p:cNvSpPr/>
            <p:nvPr/>
          </p:nvSpPr>
          <p:spPr>
            <a:xfrm>
              <a:off x="428760" y="157176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80" name="组合 18"/>
          <p:cNvGrpSpPr/>
          <p:nvPr/>
        </p:nvGrpSpPr>
        <p:grpSpPr>
          <a:xfrm>
            <a:off x="1824120" y="2852640"/>
            <a:ext cx="1019160" cy="1433880"/>
            <a:chOff x="1824120" y="2852640"/>
            <a:chExt cx="1019160" cy="1433880"/>
          </a:xfrm>
        </p:grpSpPr>
        <p:pic>
          <p:nvPicPr>
            <p:cNvPr id="681" name="图片 6" descr="user.png"/>
            <p:cNvPicPr/>
            <p:nvPr/>
          </p:nvPicPr>
          <p:blipFill>
            <a:blip r:embed="rId5"/>
            <a:stretch/>
          </p:blipFill>
          <p:spPr>
            <a:xfrm>
              <a:off x="1824120" y="2852640"/>
              <a:ext cx="1019160" cy="10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>
              <a:off x="2011680" y="388764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3" name="TextBox 16"/>
          <p:cNvSpPr/>
          <p:nvPr/>
        </p:nvSpPr>
        <p:spPr>
          <a:xfrm>
            <a:off x="826920" y="4915080"/>
            <a:ext cx="381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4" name="组合 21"/>
          <p:cNvGrpSpPr/>
          <p:nvPr/>
        </p:nvGrpSpPr>
        <p:grpSpPr>
          <a:xfrm>
            <a:off x="828720" y="4386240"/>
            <a:ext cx="3095640" cy="432000"/>
            <a:chOff x="828720" y="4386240"/>
            <a:chExt cx="3095640" cy="432000"/>
          </a:xfrm>
        </p:grpSpPr>
        <p:grpSp>
          <p:nvGrpSpPr>
            <p:cNvPr id="685" name="矩形 18"/>
            <p:cNvGrpSpPr/>
            <p:nvPr/>
          </p:nvGrpSpPr>
          <p:grpSpPr>
            <a:xfrm>
              <a:off x="828720" y="4386240"/>
              <a:ext cx="3095640" cy="432000"/>
              <a:chOff x="828720" y="4386240"/>
              <a:chExt cx="3095640" cy="432000"/>
            </a:xfrm>
          </p:grpSpPr>
          <p:pic>
            <p:nvPicPr>
              <p:cNvPr id="686" name="矩形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080" y="4388760"/>
                <a:ext cx="309528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82872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8" name="矩形 13"/>
            <p:cNvGrpSpPr/>
            <p:nvPr/>
          </p:nvGrpSpPr>
          <p:grpSpPr>
            <a:xfrm>
              <a:off x="968760" y="4416840"/>
              <a:ext cx="1303920" cy="370440"/>
              <a:chOff x="968760" y="4416840"/>
              <a:chExt cx="1303920" cy="370440"/>
            </a:xfrm>
          </p:grpSpPr>
          <p:pic>
            <p:nvPicPr>
              <p:cNvPr id="689" name="矩形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971640" y="4418640"/>
                <a:ext cx="1301040" cy="36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968760" y="4416840"/>
                <a:ext cx="1303200" cy="37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XXXXXX</a:t>
                </a:r>
                <a:r>
                  <a:rPr b="0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：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91" name="TextBox 20"/>
          <p:cNvSpPr/>
          <p:nvPr/>
        </p:nvSpPr>
        <p:spPr>
          <a:xfrm>
            <a:off x="5364000" y="4915080"/>
            <a:ext cx="324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2398"/>
              </a:lnSpc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2" name="组合 22"/>
          <p:cNvGrpSpPr/>
          <p:nvPr/>
        </p:nvGrpSpPr>
        <p:grpSpPr>
          <a:xfrm>
            <a:off x="5364000" y="4386240"/>
            <a:ext cx="3095640" cy="432000"/>
            <a:chOff x="5364000" y="4386240"/>
            <a:chExt cx="3095640" cy="432000"/>
          </a:xfrm>
        </p:grpSpPr>
        <p:grpSp>
          <p:nvGrpSpPr>
            <p:cNvPr id="693" name="矩形 23"/>
            <p:cNvGrpSpPr/>
            <p:nvPr/>
          </p:nvGrpSpPr>
          <p:grpSpPr>
            <a:xfrm>
              <a:off x="5364000" y="4386240"/>
              <a:ext cx="3095640" cy="432000"/>
              <a:chOff x="5364000" y="4386240"/>
              <a:chExt cx="3095640" cy="432000"/>
            </a:xfrm>
          </p:grpSpPr>
          <p:pic>
            <p:nvPicPr>
              <p:cNvPr id="694" name="矩形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5364000" y="4388760"/>
                <a:ext cx="3095640" cy="4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5364000" y="4386240"/>
                <a:ext cx="309420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96" name="矩形 17"/>
            <p:cNvSpPr/>
            <p:nvPr/>
          </p:nvSpPr>
          <p:spPr>
            <a:xfrm>
              <a:off x="5473080" y="441504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XXXXX</a:t>
              </a:r>
              <a:r>
                <a:rPr b="1" lang="zh-CN" sz="18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7" name="直接连接符 29"/>
          <p:cNvSpPr/>
          <p:nvPr/>
        </p:nvSpPr>
        <p:spPr>
          <a:xfrm flipV="1">
            <a:off x="755640" y="4287600"/>
            <a:ext cx="7704000" cy="4680"/>
          </a:xfrm>
          <a:prstGeom prst="line">
            <a:avLst/>
          </a:prstGeom>
          <a:ln w="12600">
            <a:solidFill>
              <a:srgbClr val="007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98" name="组合 18"/>
          <p:cNvGrpSpPr/>
          <p:nvPr/>
        </p:nvGrpSpPr>
        <p:grpSpPr>
          <a:xfrm>
            <a:off x="6288120" y="2892600"/>
            <a:ext cx="1019160" cy="1433880"/>
            <a:chOff x="6288120" y="2892600"/>
            <a:chExt cx="1019160" cy="1433880"/>
          </a:xfrm>
        </p:grpSpPr>
        <p:pic>
          <p:nvPicPr>
            <p:cNvPr id="699" name="图片 6" descr="user.png"/>
            <p:cNvPicPr/>
            <p:nvPr/>
          </p:nvPicPr>
          <p:blipFill>
            <a:blip r:embed="rId9"/>
            <a:stretch/>
          </p:blipFill>
          <p:spPr>
            <a:xfrm>
              <a:off x="6288120" y="2892600"/>
              <a:ext cx="1019160" cy="10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Box 7"/>
            <p:cNvSpPr/>
            <p:nvPr/>
          </p:nvSpPr>
          <p:spPr>
            <a:xfrm>
              <a:off x="6475680" y="392760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12" descr="图片1"/>
          <p:cNvPicPr/>
          <p:nvPr/>
        </p:nvPicPr>
        <p:blipFill>
          <a:blip r:embed="rId1"/>
          <a:stretch/>
        </p:blipFill>
        <p:spPr>
          <a:xfrm>
            <a:off x="395280" y="2357280"/>
            <a:ext cx="8485200" cy="3515040"/>
          </a:xfrm>
          <a:prstGeom prst="rect">
            <a:avLst/>
          </a:prstGeom>
          <a:ln w="0">
            <a:noFill/>
          </a:ln>
        </p:spPr>
      </p:pic>
      <p:sp>
        <p:nvSpPr>
          <p:cNvPr id="702" name="直接连接符 5"/>
          <p:cNvSpPr/>
          <p:nvPr/>
        </p:nvSpPr>
        <p:spPr>
          <a:xfrm>
            <a:off x="2786040" y="917640"/>
            <a:ext cx="0" cy="1368360"/>
          </a:xfrm>
          <a:prstGeom prst="line">
            <a:avLst/>
          </a:prstGeom>
          <a:ln w="936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3" name="圆角矩形 14" descr=""/>
          <p:cNvPicPr/>
          <p:nvPr/>
        </p:nvPicPr>
        <p:blipFill>
          <a:blip r:embed="rId2"/>
          <a:stretch/>
        </p:blipFill>
        <p:spPr>
          <a:xfrm>
            <a:off x="-298440" y="73080"/>
            <a:ext cx="9813960" cy="420480"/>
          </a:xfrm>
          <a:prstGeom prst="rect">
            <a:avLst/>
          </a:prstGeom>
          <a:ln w="0">
            <a:noFill/>
          </a:ln>
        </p:spPr>
      </p:pic>
      <p:grpSp>
        <p:nvGrpSpPr>
          <p:cNvPr id="704" name="组合 27"/>
          <p:cNvGrpSpPr/>
          <p:nvPr/>
        </p:nvGrpSpPr>
        <p:grpSpPr>
          <a:xfrm>
            <a:off x="428760" y="928800"/>
            <a:ext cx="1725480" cy="1349280"/>
            <a:chOff x="428760" y="928800"/>
            <a:chExt cx="1725480" cy="1349280"/>
          </a:xfrm>
        </p:grpSpPr>
        <p:sp>
          <p:nvSpPr>
            <p:cNvPr id="705" name="圆角矩形标注 22"/>
            <p:cNvSpPr/>
            <p:nvPr/>
          </p:nvSpPr>
          <p:spPr>
            <a:xfrm>
              <a:off x="554040" y="928800"/>
              <a:ext cx="1600200" cy="13492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eab2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同侧圆角矩形 19"/>
            <p:cNvGrpSpPr/>
            <p:nvPr/>
          </p:nvGrpSpPr>
          <p:grpSpPr>
            <a:xfrm>
              <a:off x="785880" y="1000440"/>
              <a:ext cx="1143360" cy="499320"/>
              <a:chOff x="785880" y="1000440"/>
              <a:chExt cx="1143360" cy="499320"/>
            </a:xfrm>
          </p:grpSpPr>
          <p:pic>
            <p:nvPicPr>
              <p:cNvPr id="707" name="同侧圆角矩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856440" y="1046520"/>
                <a:ext cx="1072800" cy="45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Text Box 5" descr=""/>
              <p:cNvPicPr/>
              <p:nvPr/>
            </p:nvPicPr>
            <p:blipFill>
              <a:blip r:embed="rId4"/>
              <a:stretch/>
            </p:blipFill>
            <p:spPr>
              <a:xfrm>
                <a:off x="785880" y="1000440"/>
                <a:ext cx="1073880" cy="49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9" name="TextBox 20"/>
            <p:cNvSpPr/>
            <p:nvPr/>
          </p:nvSpPr>
          <p:spPr>
            <a:xfrm>
              <a:off x="428760" y="1714680"/>
              <a:ext cx="171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onstantia"/>
                  <a:ea typeface="微软雅黑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XXXXXX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0" name="TextBox 39"/>
          <p:cNvSpPr/>
          <p:nvPr/>
        </p:nvSpPr>
        <p:spPr>
          <a:xfrm>
            <a:off x="3094200" y="1677960"/>
            <a:ext cx="6192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1" name="组合 20"/>
          <p:cNvGrpSpPr/>
          <p:nvPr/>
        </p:nvGrpSpPr>
        <p:grpSpPr>
          <a:xfrm>
            <a:off x="714240" y="3335400"/>
            <a:ext cx="2446560" cy="1950840"/>
            <a:chOff x="714240" y="3335400"/>
            <a:chExt cx="2446560" cy="1950840"/>
          </a:xfrm>
        </p:grpSpPr>
        <p:sp>
          <p:nvSpPr>
            <p:cNvPr id="712" name="矩形标注 35"/>
            <p:cNvSpPr/>
            <p:nvPr/>
          </p:nvSpPr>
          <p:spPr>
            <a:xfrm>
              <a:off x="714240" y="3335400"/>
              <a:ext cx="2446560" cy="1950840"/>
            </a:xfrm>
            <a:prstGeom prst="wedgeRectCallout">
              <a:avLst>
                <a:gd name="adj1" fmla="val 26148"/>
                <a:gd name="adj2" fmla="val -62296"/>
              </a:avLst>
            </a:prstGeom>
            <a:solidFill>
              <a:srgbClr val="0070c0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圆角矩形 12"/>
            <p:cNvSpPr/>
            <p:nvPr/>
          </p:nvSpPr>
          <p:spPr>
            <a:xfrm>
              <a:off x="836280" y="3998880"/>
              <a:ext cx="2194200" cy="1152360"/>
            </a:xfrm>
            <a:prstGeom prst="wedgeRect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4" name="组合 20"/>
          <p:cNvGrpSpPr/>
          <p:nvPr/>
        </p:nvGrpSpPr>
        <p:grpSpPr>
          <a:xfrm>
            <a:off x="3411360" y="3357720"/>
            <a:ext cx="2446560" cy="1950840"/>
            <a:chOff x="3411360" y="3357720"/>
            <a:chExt cx="2446560" cy="1950840"/>
          </a:xfrm>
        </p:grpSpPr>
        <p:sp>
          <p:nvSpPr>
            <p:cNvPr id="715" name="矩形标注 41"/>
            <p:cNvSpPr/>
            <p:nvPr/>
          </p:nvSpPr>
          <p:spPr>
            <a:xfrm>
              <a:off x="3411360" y="3357720"/>
              <a:ext cx="2446560" cy="1950840"/>
            </a:xfrm>
            <a:prstGeom prst="wedgeRectCallout">
              <a:avLst>
                <a:gd name="adj1" fmla="val -21754"/>
                <a:gd name="adj2" fmla="val -64416"/>
              </a:avLst>
            </a:prstGeom>
            <a:solidFill>
              <a:srgbClr val="c58d01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6" name="圆角矩形 42"/>
            <p:cNvSpPr/>
            <p:nvPr/>
          </p:nvSpPr>
          <p:spPr>
            <a:xfrm>
              <a:off x="3533400" y="4021200"/>
              <a:ext cx="219420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17" name="组合 20"/>
          <p:cNvGrpSpPr/>
          <p:nvPr/>
        </p:nvGrpSpPr>
        <p:grpSpPr>
          <a:xfrm>
            <a:off x="6054840" y="3357720"/>
            <a:ext cx="2446200" cy="1950840"/>
            <a:chOff x="6054840" y="3357720"/>
            <a:chExt cx="2446200" cy="1950840"/>
          </a:xfrm>
        </p:grpSpPr>
        <p:sp>
          <p:nvSpPr>
            <p:cNvPr id="718" name="矩形标注 44"/>
            <p:cNvSpPr/>
            <p:nvPr/>
          </p:nvSpPr>
          <p:spPr>
            <a:xfrm>
              <a:off x="6054840" y="3357720"/>
              <a:ext cx="2446200" cy="1950840"/>
            </a:xfrm>
            <a:prstGeom prst="wedgeRectCallout">
              <a:avLst>
                <a:gd name="adj1" fmla="val -29078"/>
                <a:gd name="adj2" fmla="val -61564"/>
              </a:avLst>
            </a:prstGeom>
            <a:solidFill>
              <a:srgbClr val="b0105c"/>
            </a:solidFill>
            <a:ln w="3240">
              <a:solidFill>
                <a:srgbClr val="d9d9d9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9" name="圆角矩形 45"/>
            <p:cNvSpPr/>
            <p:nvPr/>
          </p:nvSpPr>
          <p:spPr>
            <a:xfrm>
              <a:off x="6176880" y="4021200"/>
              <a:ext cx="2193840" cy="1152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5-29T11:27:07Z</dcterms:modified>
  <cp:revision>74</cp:revision>
  <dc:subject/>
  <dc:title>幻灯片 1</dc:title>
</cp:coreProperties>
</file>