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2F6-3194-4B13-B2BC-DF2C14A5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B94-7F62-4252-BCEA-2C2C2B45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609-3DCF-45F1-9EBF-D3EA9DDC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31E-C6B6-4717-8A22-4AA698B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467-CF18-4DEF-9E62-D5DC0FD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747-662D-488E-915D-2A0D1826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9B-BC69-4A39-A386-2AF33767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D2D-C008-42DF-8722-53228437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711-F5DE-4F99-99F5-2AF1AA4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CA8-6DFA-4466-867B-32DD8C0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B42-27A5-417F-8608-5C345D8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C38-9FF2-4975-893E-3B5BB3F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611-7DEB-4DBD-B1AA-9138C17A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46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矩形 1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48" name="矩形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3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矩形 15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55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-379440" y="-379440"/>
            <a:ext cx="13701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8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矩形 10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6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6"/>
          <p:cNvGrpSpPr/>
          <p:nvPr/>
        </p:nvGrpSpPr>
        <p:grpSpPr>
          <a:xfrm>
            <a:off x="0" y="166680"/>
            <a:ext cx="9153360" cy="1368360"/>
            <a:chOff x="0" y="166680"/>
            <a:chExt cx="9153360" cy="1368360"/>
          </a:xfrm>
        </p:grpSpPr>
        <p:pic>
          <p:nvPicPr>
            <p:cNvPr id="69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204120"/>
              <a:ext cx="9153360" cy="12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矩形 8"/>
            <p:cNvGrpSpPr/>
            <p:nvPr/>
          </p:nvGrpSpPr>
          <p:grpSpPr>
            <a:xfrm>
              <a:off x="2359080" y="166680"/>
              <a:ext cx="6791040" cy="1368360"/>
              <a:chOff x="2359080" y="166680"/>
              <a:chExt cx="6791040" cy="1368360"/>
            </a:xfrm>
          </p:grpSpPr>
          <p:pic>
            <p:nvPicPr>
              <p:cNvPr id="71" name="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9080" y="166680"/>
                <a:ext cx="67910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6"/>
              <p:cNvSpPr/>
              <p:nvPr/>
            </p:nvSpPr>
            <p:spPr>
              <a:xfrm>
                <a:off x="2361960" y="174600"/>
                <a:ext cx="6782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-379440" y="-379440"/>
            <a:ext cx="1141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1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7920" y="1828800"/>
            <a:ext cx="9151920" cy="1933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035080"/>
            <a:ext cx="6019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 !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椭圆 1"/>
          <p:cNvSpPr/>
          <p:nvPr/>
        </p:nvSpPr>
        <p:spPr>
          <a:xfrm>
            <a:off x="6248520" y="1343160"/>
            <a:ext cx="2895480" cy="2895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miling Sun"/>
          <p:cNvPicPr/>
          <p:nvPr/>
        </p:nvPicPr>
        <p:blipFill>
          <a:blip r:embed="rId2"/>
          <a:stretch/>
        </p:blipFill>
        <p:spPr>
          <a:xfrm>
            <a:off x="6539040" y="1662120"/>
            <a:ext cx="2295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5:35:27Z</dcterms:created>
  <dc:creator>Administrator</dc:creator>
  <dc:description/>
  <dc:language>en-US</dc:language>
  <cp:lastModifiedBy>Administrator</cp:lastModifiedBy>
  <dcterms:modified xsi:type="dcterms:W3CDTF">2016-03-24T09:47:13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Version">
    <vt:r8>1</vt:r8>
  </property>
</Properties>
</file>