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CC4-2328-4C5F-A966-44289DF3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0BF-521D-4330-AC08-2BE5157C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C2A-C8D0-4188-955F-14C3F1E4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FE7-D589-46D4-A4AB-D66C43F4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354-9E73-48FF-9AA9-446FEEF3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CA0-CE43-4975-8E9D-5A5695CD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491-0F9E-4619-870F-AD6873E2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B62-7D98-4C42-8206-2C1DC359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F27-E92F-4B9D-9683-E0A89717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46B-4D41-42E0-A72D-A55E6F4F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BBD-58AF-4DFF-9010-56C000A6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FC1-38A7-4D9B-9212-CB801254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0E08-E265-4D61-BE6F-9756423C2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7920" y="1828800"/>
            <a:ext cx="9151920" cy="193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4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矩形 1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48" name="矩形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3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矩形 15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55" name="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-379440" y="-379440"/>
            <a:ext cx="13701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8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6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矩形 10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63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-379440" y="-379440"/>
            <a:ext cx="1141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6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6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矩形 8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71" name="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-379440" y="-379440"/>
            <a:ext cx="1141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7920" y="1828800"/>
            <a:ext cx="9151920" cy="1933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203508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 !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5:35:27Z</dcterms:created>
  <dc:creator>Administrator</dc:creator>
  <dc:description/>
  <dc:language>en-US</dc:language>
  <cp:lastModifiedBy>Administrator</cp:lastModifiedBy>
  <dcterms:modified xsi:type="dcterms:W3CDTF">2016-03-24T09:47:13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  <property fmtid="{D5CDD505-2E9C-101B-9397-08002B2CF9AE}" pid="3" name="Version">
    <vt:r8>1</vt:r8>
  </property>
</Properties>
</file>